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133-3105-4180-AC8D-650E1767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01E-FDA9-4DDF-9736-061161C4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2B2-075E-4A12-80C0-AA1FAECB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AB0-6B17-427F-9ED9-00532008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5BF-1C30-4FED-A9C9-FFB2615D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FC7-9398-4717-BA3E-D5B53DED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632-1786-4183-9E7C-41851378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CF4-DE95-4D78-BFA2-4BE900EF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12F-E5D2-4C3D-8155-E96F344A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46A-0B8A-405D-A7FA-C19B5E5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D56-2873-4ED0-A42A-B576697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512-6BBE-40A1-A054-FB9574A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B866-0583-4A60-A4EA-AEC25C84A68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760320"/>
            <a:ext cx="1729080" cy="86364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6728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2703600"/>
            <a:ext cx="2230200" cy="3384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 and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ctice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1" idx="2"/>
            <a:endCxn id="45" idx="0"/>
          </p:cNvCxnSpPr>
          <p:nvPr/>
        </p:nvCxnSpPr>
        <p:spPr>
          <a:xfrm flipH="1" rot="16200000">
            <a:off x="4104360" y="1875960"/>
            <a:ext cx="1080000" cy="5752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1" idx="2"/>
            <a:endCxn id="43" idx="0"/>
          </p:cNvCxnSpPr>
          <p:nvPr/>
        </p:nvCxnSpPr>
        <p:spPr>
          <a:xfrm flipH="1" rot="16200000">
            <a:off x="5562360" y="417960"/>
            <a:ext cx="1080000" cy="34912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250920" y="2703600"/>
            <a:ext cx="2952720" cy="3384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O IM Project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Warehouse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L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L Develo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 Product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 Product Develo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Quality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Quality Prof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Requirements Analy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7" idx="0"/>
          </p:cNvCxnSpPr>
          <p:nvPr/>
        </p:nvCxnSpPr>
        <p:spPr>
          <a:xfrm rot="5400000">
            <a:off x="2502000" y="848880"/>
            <a:ext cx="1080000" cy="26298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" name=""/>
          <p:cNvSpPr/>
          <p:nvPr/>
        </p:nvSpPr>
        <p:spPr>
          <a:xfrm>
            <a:off x="3564000" y="2703600"/>
            <a:ext cx="2735280" cy="3384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 Product 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 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56120" y="861840"/>
            <a:ext cx="1498680" cy="5803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84880" y="5511960"/>
            <a:ext cx="1409760" cy="139680"/>
          </a:xfrm>
          <a:prstGeom prst="leftRightArrow">
            <a:avLst>
              <a:gd name="adj1" fmla="val 46491"/>
              <a:gd name="adj2" fmla="val 54576"/>
            </a:avLst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851040"/>
            <a:ext cx="1498680" cy="5803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54560" y="5773680"/>
            <a:ext cx="3365280" cy="119160"/>
          </a:xfrm>
          <a:prstGeom prst="leftRightArrow">
            <a:avLst>
              <a:gd name="adj1" fmla="val 52000"/>
              <a:gd name="adj2" fmla="val 88517"/>
            </a:avLst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Manag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-busin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66840"/>
            <a:ext cx="1152720" cy="101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848040"/>
            <a:ext cx="1152720" cy="100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2"/>
            <a:endCxn id="55" idx="0"/>
          </p:cNvCxnSpPr>
          <p:nvPr/>
        </p:nvCxnSpPr>
        <p:spPr>
          <a:xfrm flipV="1" rot="10800000">
            <a:off x="1115280" y="1379160"/>
            <a:ext cx="1080" cy="246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4" idx="2"/>
            <a:endCxn id="58" idx="0"/>
          </p:cNvCxnSpPr>
          <p:nvPr/>
        </p:nvCxnSpPr>
        <p:spPr>
          <a:xfrm flipH="1" rot="16200000">
            <a:off x="1670040" y="825120"/>
            <a:ext cx="675360" cy="1783440"/>
          </a:xfrm>
          <a:prstGeom prst="bentConnector3">
            <a:avLst>
              <a:gd name="adj1" fmla="val 498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4" idx="2"/>
            <a:endCxn id="60" idx="0"/>
          </p:cNvCxnSpPr>
          <p:nvPr/>
        </p:nvCxnSpPr>
        <p:spPr>
          <a:xfrm flipH="1" rot="16200000">
            <a:off x="2608200" y="-113760"/>
            <a:ext cx="675360" cy="3661560"/>
          </a:xfrm>
          <a:prstGeom prst="bentConnector3">
            <a:avLst>
              <a:gd name="adj1" fmla="val 498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2322360" y="465300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00480" y="465300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61" idx="0"/>
          </p:cNvCxnSpPr>
          <p:nvPr/>
        </p:nvCxnSpPr>
        <p:spPr>
          <a:xfrm>
            <a:off x="1692000" y="4349880"/>
            <a:ext cx="1207080" cy="30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322360" y="205416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00480" y="205416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3800" y="303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149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56040" y="3362400"/>
            <a:ext cx="144360" cy="216000"/>
            <a:chOff x="3056040" y="3362400"/>
            <a:chExt cx="144360" cy="216000"/>
          </a:xfrm>
        </p:grpSpPr>
        <p:sp>
          <p:nvSpPr>
            <p:cNvPr id="67" name=""/>
            <p:cNvSpPr/>
            <p:nvPr/>
          </p:nvSpPr>
          <p:spPr>
            <a:xfrm>
              <a:off x="3080160" y="33624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8040" y="34347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056040" y="35128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6240" y="35157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56040" y="3465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754360" y="2771640"/>
            <a:ext cx="144360" cy="216000"/>
            <a:chOff x="2754360" y="2771640"/>
            <a:chExt cx="144360" cy="216000"/>
          </a:xfrm>
        </p:grpSpPr>
        <p:sp>
          <p:nvSpPr>
            <p:cNvPr id="73" name=""/>
            <p:cNvSpPr/>
            <p:nvPr/>
          </p:nvSpPr>
          <p:spPr>
            <a:xfrm>
              <a:off x="2778480" y="277164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26360" y="284400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754360" y="29221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24560" y="29250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54360" y="28749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816280" y="2743200"/>
            <a:ext cx="144360" cy="216000"/>
            <a:chOff x="2816280" y="2743200"/>
            <a:chExt cx="144360" cy="216000"/>
          </a:xfrm>
        </p:grpSpPr>
        <p:sp>
          <p:nvSpPr>
            <p:cNvPr id="79" name=""/>
            <p:cNvSpPr/>
            <p:nvPr/>
          </p:nvSpPr>
          <p:spPr>
            <a:xfrm>
              <a:off x="2840400" y="27432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8280" y="28155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816280" y="28936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86480" y="28965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16280" y="2846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90800" y="2765520"/>
            <a:ext cx="144360" cy="215640"/>
            <a:chOff x="2890800" y="2765520"/>
            <a:chExt cx="144360" cy="215640"/>
          </a:xfrm>
        </p:grpSpPr>
        <p:sp>
          <p:nvSpPr>
            <p:cNvPr id="85" name=""/>
            <p:cNvSpPr/>
            <p:nvPr/>
          </p:nvSpPr>
          <p:spPr>
            <a:xfrm>
              <a:off x="2914920" y="27655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62800" y="283788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890800" y="29156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1000" y="29185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0800" y="2868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98240" y="3276720"/>
            <a:ext cx="69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8920" y="202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1640" y="2268360"/>
            <a:ext cx="144360" cy="216000"/>
            <a:chOff x="3041640" y="2268360"/>
            <a:chExt cx="144360" cy="216000"/>
          </a:xfrm>
        </p:grpSpPr>
        <p:sp>
          <p:nvSpPr>
            <p:cNvPr id="93" name=""/>
            <p:cNvSpPr/>
            <p:nvPr/>
          </p:nvSpPr>
          <p:spPr>
            <a:xfrm>
              <a:off x="3065760" y="226836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13640" y="2340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041640" y="24188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11840" y="24217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1640" y="23716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395440" y="219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55840" y="4869000"/>
            <a:ext cx="996840" cy="1441440"/>
            <a:chOff x="2355840" y="4869000"/>
            <a:chExt cx="996840" cy="1441440"/>
          </a:xfrm>
        </p:grpSpPr>
        <p:sp>
          <p:nvSpPr>
            <p:cNvPr id="100" name=""/>
            <p:cNvSpPr/>
            <p:nvPr/>
          </p:nvSpPr>
          <p:spPr>
            <a:xfrm>
              <a:off x="2411640" y="5919840"/>
              <a:ext cx="94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Analy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720" y="6064200"/>
              <a:ext cx="87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55840" y="4869000"/>
              <a:ext cx="79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count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219480" y="4973760"/>
              <a:ext cx="111240" cy="215640"/>
              <a:chOff x="3219480" y="4973760"/>
              <a:chExt cx="111240" cy="215640"/>
            </a:xfrm>
          </p:grpSpPr>
          <p:sp>
            <p:nvSpPr>
              <p:cNvPr id="104" name=""/>
              <p:cNvSpPr/>
              <p:nvPr/>
            </p:nvSpPr>
            <p:spPr>
              <a:xfrm>
                <a:off x="3238200" y="4973760"/>
                <a:ext cx="6948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74920" y="504612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3219480" y="5123880"/>
                <a:ext cx="5544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73840" y="5126760"/>
                <a:ext cx="5544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19480" y="5077080"/>
                <a:ext cx="11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763720" y="5626080"/>
              <a:ext cx="144720" cy="216000"/>
              <a:chOff x="2763720" y="5626080"/>
              <a:chExt cx="144720" cy="216000"/>
            </a:xfrm>
          </p:grpSpPr>
          <p:sp>
            <p:nvSpPr>
              <p:cNvPr id="110" name=""/>
              <p:cNvSpPr/>
              <p:nvPr/>
            </p:nvSpPr>
            <p:spPr>
              <a:xfrm>
                <a:off x="2787840" y="562608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35720" y="569844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763720" y="577656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34280" y="577944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63720" y="57294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900520" y="5619600"/>
              <a:ext cx="144360" cy="216000"/>
              <a:chOff x="2900520" y="5619600"/>
              <a:chExt cx="144360" cy="216000"/>
            </a:xfrm>
          </p:grpSpPr>
          <p:sp>
            <p:nvSpPr>
              <p:cNvPr id="116" name=""/>
              <p:cNvSpPr/>
              <p:nvPr/>
            </p:nvSpPr>
            <p:spPr>
              <a:xfrm>
                <a:off x="2924640" y="561960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72520" y="569196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900520" y="577008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70720" y="577296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00520" y="5722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1035000" y="977760"/>
            <a:ext cx="144360" cy="274680"/>
            <a:chOff x="1035000" y="977760"/>
            <a:chExt cx="144360" cy="274680"/>
          </a:xfrm>
        </p:grpSpPr>
        <p:grpSp>
          <p:nvGrpSpPr>
            <p:cNvPr id="122" name=""/>
            <p:cNvGrpSpPr/>
            <p:nvPr/>
          </p:nvGrpSpPr>
          <p:grpSpPr>
            <a:xfrm>
              <a:off x="1035000" y="1036440"/>
              <a:ext cx="144360" cy="216000"/>
              <a:chOff x="1035000" y="1036440"/>
              <a:chExt cx="144360" cy="216000"/>
            </a:xfrm>
          </p:grpSpPr>
          <p:sp>
            <p:nvSpPr>
              <p:cNvPr id="123" name=""/>
              <p:cNvSpPr/>
              <p:nvPr/>
            </p:nvSpPr>
            <p:spPr>
              <a:xfrm>
                <a:off x="1059120" y="103644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107000" y="110880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35000" y="118692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5200" y="118980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35000" y="11397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54080" y="1015920"/>
              <a:ext cx="10332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6400" y="977760"/>
              <a:ext cx="69840" cy="50760"/>
            </a:xfrm>
            <a:prstGeom prst="parallelogram">
              <a:avLst>
                <a:gd name="adj" fmla="val 3439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65240" y="4554360"/>
            <a:ext cx="111240" cy="216000"/>
            <a:chOff x="1065240" y="4554360"/>
            <a:chExt cx="111240" cy="216000"/>
          </a:xfrm>
        </p:grpSpPr>
        <p:sp>
          <p:nvSpPr>
            <p:cNvPr id="131" name=""/>
            <p:cNvSpPr/>
            <p:nvPr/>
          </p:nvSpPr>
          <p:spPr>
            <a:xfrm>
              <a:off x="1083960" y="4554360"/>
              <a:ext cx="6948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4626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065240" y="470484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9600" y="470772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5240" y="4657680"/>
              <a:ext cx="1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6" name=""/>
          <p:cNvCxnSpPr>
            <a:stCxn id="55" idx="3"/>
            <a:endCxn id="62" idx="0"/>
          </p:cNvCxnSpPr>
          <p:nvPr/>
        </p:nvCxnSpPr>
        <p:spPr>
          <a:xfrm>
            <a:off x="1692360" y="4349880"/>
            <a:ext cx="3085200" cy="30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653000" y="300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6480" y="312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114880" y="3333600"/>
            <a:ext cx="144360" cy="216000"/>
            <a:chOff x="5114880" y="3333600"/>
            <a:chExt cx="144360" cy="216000"/>
          </a:xfrm>
        </p:grpSpPr>
        <p:sp>
          <p:nvSpPr>
            <p:cNvPr id="140" name=""/>
            <p:cNvSpPr/>
            <p:nvPr/>
          </p:nvSpPr>
          <p:spPr>
            <a:xfrm>
              <a:off x="5139000" y="33336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6880" y="34059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114880" y="34840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5080" y="34869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14880" y="3436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10240" y="2743200"/>
            <a:ext cx="144360" cy="216000"/>
            <a:chOff x="4710240" y="2743200"/>
            <a:chExt cx="144360" cy="216000"/>
          </a:xfrm>
        </p:grpSpPr>
        <p:sp>
          <p:nvSpPr>
            <p:cNvPr id="146" name=""/>
            <p:cNvSpPr/>
            <p:nvPr/>
          </p:nvSpPr>
          <p:spPr>
            <a:xfrm>
              <a:off x="4734360" y="27432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2240" y="28155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10240" y="28936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0440" y="28965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0240" y="2846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772160" y="2714760"/>
            <a:ext cx="144360" cy="215640"/>
            <a:chOff x="4772160" y="2714760"/>
            <a:chExt cx="144360" cy="215640"/>
          </a:xfrm>
        </p:grpSpPr>
        <p:sp>
          <p:nvSpPr>
            <p:cNvPr id="152" name=""/>
            <p:cNvSpPr/>
            <p:nvPr/>
          </p:nvSpPr>
          <p:spPr>
            <a:xfrm>
              <a:off x="4796280" y="271476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4160" y="278712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772160" y="28648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42360" y="28677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72160" y="2818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46680" y="2736720"/>
            <a:ext cx="144360" cy="216000"/>
            <a:chOff x="4846680" y="2736720"/>
            <a:chExt cx="144360" cy="216000"/>
          </a:xfrm>
        </p:grpSpPr>
        <p:sp>
          <p:nvSpPr>
            <p:cNvPr id="158" name=""/>
            <p:cNvSpPr/>
            <p:nvPr/>
          </p:nvSpPr>
          <p:spPr>
            <a:xfrm>
              <a:off x="4870800" y="27367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8680" y="280908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846680" y="28872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6880" y="28900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6680" y="28400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357080" y="3247920"/>
            <a:ext cx="69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100480" y="2239920"/>
            <a:ext cx="144720" cy="216000"/>
            <a:chOff x="5100480" y="2239920"/>
            <a:chExt cx="144720" cy="216000"/>
          </a:xfrm>
        </p:grpSpPr>
        <p:sp>
          <p:nvSpPr>
            <p:cNvPr id="165" name=""/>
            <p:cNvSpPr/>
            <p:nvPr/>
          </p:nvSpPr>
          <p:spPr>
            <a:xfrm>
              <a:off x="5124600" y="22399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72480" y="231228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100480" y="23904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71040" y="23932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480" y="23432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454640" y="21668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27560" y="59198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9000" y="6064200"/>
            <a:ext cx="87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2120" y="4869000"/>
            <a:ext cx="7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135400" y="4973760"/>
            <a:ext cx="111240" cy="215640"/>
            <a:chOff x="5135400" y="4973760"/>
            <a:chExt cx="111240" cy="215640"/>
          </a:xfrm>
        </p:grpSpPr>
        <p:sp>
          <p:nvSpPr>
            <p:cNvPr id="175" name=""/>
            <p:cNvSpPr/>
            <p:nvPr/>
          </p:nvSpPr>
          <p:spPr>
            <a:xfrm>
              <a:off x="5154120" y="4973760"/>
              <a:ext cx="6948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0840" y="504612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135400" y="512388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89760" y="512676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5400" y="5077080"/>
              <a:ext cx="1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80000" y="5626080"/>
            <a:ext cx="144360" cy="216000"/>
            <a:chOff x="4680000" y="5626080"/>
            <a:chExt cx="144360" cy="216000"/>
          </a:xfrm>
        </p:grpSpPr>
        <p:sp>
          <p:nvSpPr>
            <p:cNvPr id="181" name=""/>
            <p:cNvSpPr/>
            <p:nvPr/>
          </p:nvSpPr>
          <p:spPr>
            <a:xfrm>
              <a:off x="4704120" y="562608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000" y="569844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680000" y="57765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50200" y="57794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0000" y="57294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816440" y="5619600"/>
            <a:ext cx="144360" cy="216000"/>
            <a:chOff x="4816440" y="5619600"/>
            <a:chExt cx="144360" cy="216000"/>
          </a:xfrm>
        </p:grpSpPr>
        <p:sp>
          <p:nvSpPr>
            <p:cNvPr id="187" name=""/>
            <p:cNvSpPr/>
            <p:nvPr/>
          </p:nvSpPr>
          <p:spPr>
            <a:xfrm>
              <a:off x="4840560" y="56196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88440" y="56919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816440" y="57700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86640" y="57729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6440" y="5722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17880" y="5613480"/>
            <a:ext cx="144360" cy="234360"/>
            <a:chOff x="3017880" y="5613480"/>
            <a:chExt cx="144360" cy="234360"/>
          </a:xfrm>
        </p:grpSpPr>
        <p:sp>
          <p:nvSpPr>
            <p:cNvPr id="193" name=""/>
            <p:cNvSpPr/>
            <p:nvPr/>
          </p:nvSpPr>
          <p:spPr>
            <a:xfrm>
              <a:off x="3089160" y="5705280"/>
              <a:ext cx="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017880" y="5783040"/>
              <a:ext cx="7128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7360" y="5784480"/>
              <a:ext cx="7272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17880" y="5735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3080" y="5613480"/>
              <a:ext cx="88560" cy="885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819840" y="4419720"/>
            <a:ext cx="1562040" cy="2133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5040" y="171468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434340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9360" y="2894040"/>
            <a:ext cx="1152720" cy="87300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24720" y="3365640"/>
            <a:ext cx="144360" cy="273960"/>
            <a:chOff x="7524720" y="3365640"/>
            <a:chExt cx="144360" cy="273960"/>
          </a:xfrm>
        </p:grpSpPr>
        <p:grpSp>
          <p:nvGrpSpPr>
            <p:cNvPr id="203" name=""/>
            <p:cNvGrpSpPr/>
            <p:nvPr/>
          </p:nvGrpSpPr>
          <p:grpSpPr>
            <a:xfrm>
              <a:off x="7524720" y="3423960"/>
              <a:ext cx="144360" cy="215640"/>
              <a:chOff x="7524720" y="3423960"/>
              <a:chExt cx="144360" cy="21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7548840" y="342396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96720" y="349632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7524720" y="357408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594920" y="357696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524720" y="3527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543800" y="3403440"/>
              <a:ext cx="10332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6120" y="3365640"/>
              <a:ext cx="69840" cy="50400"/>
            </a:xfrm>
            <a:prstGeom prst="parallelogram">
              <a:avLst>
                <a:gd name="adj" fmla="val 3464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201" idx="2"/>
            <a:endCxn id="198" idx="0"/>
          </p:cNvCxnSpPr>
          <p:nvPr/>
        </p:nvCxnSpPr>
        <p:spPr>
          <a:xfrm flipH="1">
            <a:off x="7600320" y="3766680"/>
            <a:ext cx="540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997680" y="5168880"/>
            <a:ext cx="1282680" cy="77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080120" y="6134040"/>
            <a:ext cx="144720" cy="216000"/>
            <a:chOff x="7080120" y="6134040"/>
            <a:chExt cx="144720" cy="216000"/>
          </a:xfrm>
        </p:grpSpPr>
        <p:sp>
          <p:nvSpPr>
            <p:cNvPr id="214" name=""/>
            <p:cNvSpPr/>
            <p:nvPr/>
          </p:nvSpPr>
          <p:spPr>
            <a:xfrm>
              <a:off x="7104240" y="613404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52120" y="620640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080120" y="62845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50680" y="62874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80120" y="6237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216920" y="6127920"/>
            <a:ext cx="144360" cy="215640"/>
            <a:chOff x="7216920" y="6127920"/>
            <a:chExt cx="144360" cy="215640"/>
          </a:xfrm>
        </p:grpSpPr>
        <p:sp>
          <p:nvSpPr>
            <p:cNvPr id="220" name=""/>
            <p:cNvSpPr/>
            <p:nvPr/>
          </p:nvSpPr>
          <p:spPr>
            <a:xfrm>
              <a:off x="7241040" y="61279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88920" y="620028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216920" y="62780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87120" y="62809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16920" y="6231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441920" y="611496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3632040"/>
            <a:ext cx="243000" cy="1257480"/>
          </a:xfrm>
          <a:custGeom>
            <a:avLst/>
            <a:gdLst/>
            <a:ahLst/>
            <a:rect l="l" t="t" r="r" b="b"/>
            <a:pathLst>
              <a:path w="153" h="792">
                <a:moveTo>
                  <a:pt x="0" y="0"/>
                </a:moveTo>
                <a:cubicBezTo>
                  <a:pt x="59" y="90"/>
                  <a:pt x="119" y="180"/>
                  <a:pt x="136" y="312"/>
                </a:cubicBezTo>
                <a:cubicBezTo>
                  <a:pt x="153" y="444"/>
                  <a:pt x="128" y="618"/>
                  <a:pt x="104" y="79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6280" y="3594240"/>
            <a:ext cx="185760" cy="1295280"/>
          </a:xfrm>
          <a:custGeom>
            <a:avLst/>
            <a:gdLst/>
            <a:ahLst/>
            <a:rect l="l" t="t" r="r" b="b"/>
            <a:pathLst>
              <a:path w="117" h="816">
                <a:moveTo>
                  <a:pt x="0" y="0"/>
                </a:moveTo>
                <a:cubicBezTo>
                  <a:pt x="53" y="152"/>
                  <a:pt x="107" y="304"/>
                  <a:pt x="112" y="440"/>
                </a:cubicBezTo>
                <a:cubicBezTo>
                  <a:pt x="117" y="576"/>
                  <a:pt x="74" y="696"/>
                  <a:pt x="32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64 E">
                                      <p:cBhvr>
                                        <p:cTn id="6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2:16:38Z</dcterms:created>
  <dc:creator>David Spence</dc:creator>
  <dc:description/>
  <dc:language>en-US</dc:language>
  <cp:lastModifiedBy>Martin Gregory</cp:lastModifiedBy>
  <dcterms:modified xsi:type="dcterms:W3CDTF">2004-07-16T07:28:31Z</dcterms:modified>
  <cp:revision>29</cp:revision>
  <dc:subject/>
  <dc:title>Slide 1</dc:title>
</cp:coreProperties>
</file>