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4BD0-49D8-4BFD-A2B6-8E34B4746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6968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6667-4D12-42B4-B87A-7496BBA85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5F4B-D94F-4A70-AB5A-37D0CE2AD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BAF9-37D6-4A47-BA77-F9964FCD9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238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3A7B-3A8C-497B-8584-8052F824A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04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880" y="36968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04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88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516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944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0506-68BE-4C38-A74B-7A2C7B15D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7246-DBEB-4326-9252-09FD27461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57AC-0AC5-40A6-9534-8E7B424F7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238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0880-0DD3-400E-8197-70FC2AAA7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2965-B8F4-440F-A878-3B7965306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FC56-DBBF-4A20-877D-5FB5C1995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F329-51B6-4E30-AF7D-C46DF0F45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0b7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66ce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6938-D7CA-438B-8625-DECB317F5878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552720"/>
            <a:ext cx="167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Responsys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6934320" cy="7596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86600" y="762120"/>
            <a:ext cx="2057400" cy="75960"/>
          </a:xfrm>
          <a:prstGeom prst="rect">
            <a:avLst/>
          </a:prstGeom>
          <a:solidFill>
            <a:srgbClr val="e0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25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14400"/>
            <a:ext cx="9144000" cy="25909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5320"/>
            <a:ext cx="9144000" cy="2895480"/>
          </a:xfrm>
          <a:prstGeom prst="rect">
            <a:avLst/>
          </a:prstGeom>
          <a:gradFill rotWithShape="0">
            <a:gsLst>
              <a:gs pos="0">
                <a:srgbClr val="007fa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762120"/>
            <a:ext cx="7086600" cy="7596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62120"/>
            <a:ext cx="1981080" cy="75960"/>
          </a:xfrm>
          <a:prstGeom prst="rect">
            <a:avLst/>
          </a:prstGeom>
          <a:solidFill>
            <a:srgbClr val="e0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9144000" cy="763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07800"/>
            <a:ext cx="1600200" cy="301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e0b752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66cee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just purchased the “Data Gateway” and I want to get started.  What do I do nex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81080"/>
            <a:ext cx="9144000" cy="7621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743200"/>
            <a:ext cx="9144000" cy="2895480"/>
          </a:xfrm>
          <a:prstGeom prst="rect">
            <a:avLst/>
          </a:prstGeom>
          <a:gradFill rotWithShape="0">
            <a:gsLst>
              <a:gs pos="0">
                <a:srgbClr val="007fa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up ste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Public / Private SSH2 Key Pa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Generate your data f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Package &amp; transfer your data f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Create your datasource &amp; coordinate with Respons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28800"/>
            <a:ext cx="7086600" cy="763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1828800"/>
            <a:ext cx="1981080" cy="76320"/>
          </a:xfrm>
          <a:prstGeom prst="rect">
            <a:avLst/>
          </a:prstGeom>
          <a:solidFill>
            <a:srgbClr val="e0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5200" y="1371600"/>
            <a:ext cx="1600200" cy="301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724280"/>
            <a:ext cx="9144000" cy="763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3FE6-B0CC-42F4-A78D-664E919434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1 – Public / Private SSH2 Key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need to generate a public/private SSH2 key pair for secure access to our fil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Data Gateway account server is files.responsys.net (12.130.140.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blic/private SSH2 key pair must be RSA or DSK 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blic/private SSH2 key pair must be at least 1024 bits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purposes of automation, the public/private SSH2 key pair must be created without a pass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vate SSH2 key must be on the Customer's machine initiating the SFTP/SCP connection to files.responsy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with Responsys Support to get the public key installed on the files.responsy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0A1C-EE60-4539-A7F9-BAE91B4C0A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2 – Generate your dat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data you want to send (only the data you really ne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your delimiter and field enclosur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you want a header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the data into a fla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file, no header, pipe delimited, enclosed in qu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1000"|"CustomerTest"|""|"editor2@customer.com"|"23-JUN-2007"|"0"|""|"0"|"0"|"0"|"0"|""|""|""|""|""|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|"0"|""|""|""|""|""|""|""|""|""|"1"|"1"|"1"|"1"|"0"|"g8"|"d65f35f78b96fdf86e6234a7d8e41192"|"85b8d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7b637848c2a588115db5bb3b"|"6ebdd4b1374bf32dae82528aed41599c"|"016c4590d80b64d554cd428eadb2e129"|"b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f44af1bc6143be2fd355ce166c99"|"74678284e8576b4510184b4ebcb0ebdb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1001"|"CustomerTest"|""|"editor1@customer.com"|"23-JUN-2007"|"0"|""|"0"|"0"|"0"|"0"|""|""|""|""|""|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|"0"|""|""|""|""|""|""|""|""|""|"1"|"1"|"1"|"1"|"0"|"g9"|"9eed38c13fc14374be78547a3d166858"|"4b654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4e36f9a4e91c36835a5cabd6"|"f9c73e32875c29d1b0b3fbf78e3072b4"|"6a553306049158c012c6ebe21501c562"|"3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ab9582d54a784ee07873879dd2d"|"7382e9c46732b826de10ef9f35a3bc95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3131-D24C-4AA0-8195-F6CBFC595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3 – Package and transfer your dat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your data file with an intuitiv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Year, Month, and Day in the file name in this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Customer_20080527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a count file that has the number of records in the data file named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Customer_20080527.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the count and data file in a zip file named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Customer_20080527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 empty “ready” file named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Customer_20080527.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ZIP file to our server (files.responsys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ZIP file has been transferred, push the RDY file to ou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ADD1-2011-4CC3-8B54-5040CAF896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 4 – Create your datasource and coordinate with Respon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datasource for your file in Responsys Inte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ten this goes in a MasterData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datasource with an intuitiv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source structure should match the file structure as closel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types for each column should meet or exceed sizes of the columns in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datasource is created, add indexes on columns used in filters, or in joins in SQL data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with Responsys with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naming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ource folder an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intend us to replace, append or merge new data into the exis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3E98-973A-4B4C-A25A-BE5A837CE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2:46:38Z</dcterms:created>
  <dc:creator>Matthew Pham</dc:creator>
  <dc:description/>
  <dc:language>en-US</dc:language>
  <cp:lastModifiedBy>IT</cp:lastModifiedBy>
  <dcterms:modified xsi:type="dcterms:W3CDTF">2008-08-12T18:34:07Z</dcterms:modified>
  <cp:revision>9</cp:revision>
  <dc:subject/>
  <dc:title>PowerPoint Presentation</dc:title>
</cp:coreProperties>
</file>