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420-9830-4B05-A2E9-23C53097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B95-547E-4E02-B827-2754E7D4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9D5-4ECE-41FB-9C49-3281957D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2CE-D28D-42E2-AE74-25860DD3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747-42C7-4B8B-9C80-2162208E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03E-F6ED-4C76-A601-0E5EF5F1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356-7F69-413F-8750-355A4352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160-7D33-482A-B600-339C1C1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222-4610-4C50-BFE2-4EDEDF0E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95B-2C54-4F18-8ADA-3AA3127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055-C05B-4A09-933B-C04F21A9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294-CD03-49FE-A816-1CA19E6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59FD-CD59-443F-93FC-F83F85384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24360" y="2924280"/>
            <a:ext cx="137160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24360" y="4143240"/>
            <a:ext cx="1371600" cy="6098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49840" y="36100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. . . . .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1"/>
            <a:endCxn id="41" idx="2"/>
          </p:cNvCxnSpPr>
          <p:nvPr/>
        </p:nvCxnSpPr>
        <p:spPr>
          <a:xfrm flipV="1">
            <a:off x="2011320" y="3305160"/>
            <a:ext cx="3713400" cy="1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6" name=""/>
          <p:cNvCxnSpPr>
            <a:stCxn id="45" idx="1"/>
            <a:endCxn id="43" idx="1"/>
          </p:cNvCxnSpPr>
          <p:nvPr/>
        </p:nvCxnSpPr>
        <p:spPr>
          <a:xfrm>
            <a:off x="2011320" y="3317760"/>
            <a:ext cx="3638880" cy="522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7" name=""/>
          <p:cNvCxnSpPr>
            <a:stCxn id="45" idx="1"/>
            <a:endCxn id="42" idx="2"/>
          </p:cNvCxnSpPr>
          <p:nvPr/>
        </p:nvCxnSpPr>
        <p:spPr>
          <a:xfrm>
            <a:off x="2011320" y="3317760"/>
            <a:ext cx="3713400" cy="1207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2011320" y="2860560"/>
            <a:ext cx="1600200" cy="91440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70480" y="1949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67680" y="2025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5840" y="304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052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2:39:58Z</dcterms:created>
  <dc:creator>Martin Damboldt</dc:creator>
  <dc:description/>
  <dc:language>en-US</dc:language>
  <cp:lastModifiedBy>Martin Damboldt</cp:lastModifiedBy>
  <dcterms:modified xsi:type="dcterms:W3CDTF">2007-10-15T12:40:21Z</dcterms:modified>
  <cp:revision>1</cp:revision>
  <dc:subject/>
  <dc:title>Slide 1</dc:title>
</cp:coreProperties>
</file>