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2FE-7D43-4AF0-A663-4DD83808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1DE-C2FC-4AAF-9FF6-BFEB3C2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5B5-524C-48F0-B4AF-8D247A0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DA7-0D6C-4C6A-A300-5956F419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4A5-9706-4EEC-A718-CF525A8B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FB1-68C7-46D4-A984-309C9B62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731-97CD-4E8D-91F3-01A04D3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927-ABF8-4BAD-B91C-C53DDB3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6D5-19E8-4724-8ECC-3D5E1084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072-1544-453B-807E-720B984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C65-63AF-4088-A8DC-EC8310E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48F-3CE3-4B28-AD20-94DC662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451-5C61-4876-A336-3718787EB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9800" y="344520"/>
          <a:ext cx="7665840" cy="61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344520"/>
                    <a:ext cx="766584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5800" y="258840"/>
          <a:ext cx="723420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258840"/>
                    <a:ext cx="7234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7680" y="19080"/>
          <a:ext cx="864864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9080"/>
                    <a:ext cx="8648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285840"/>
            <a:ext cx="8153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03:52:02Z</dcterms:created>
  <dc:creator>Charles H. Bennett</dc:creator>
  <dc:description/>
  <dc:language>en-US</dc:language>
  <cp:lastModifiedBy>Charles H. Bennett</cp:lastModifiedBy>
  <dcterms:modified xsi:type="dcterms:W3CDTF">2001-04-21T01:35:14Z</dcterms:modified>
  <cp:revision>5</cp:revision>
  <dc:subject/>
  <dc:title>PowerPoint Presentation</dc:title>
</cp:coreProperties>
</file>