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2470150"/>
  <p:notesSz cx="201295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0167-5916-4A25-BC75-0B44F48E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-78480"/>
            <a:ext cx="9051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77440"/>
            <a:ext cx="905184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1428480"/>
            <a:ext cx="905184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F0B7-C980-4EFD-A9EF-0A9EF999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-78480"/>
            <a:ext cx="9051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577440"/>
            <a:ext cx="441720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577440"/>
            <a:ext cx="441720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1428480"/>
            <a:ext cx="441720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1428480"/>
            <a:ext cx="441720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3C3F-2197-4E24-8D76-A96821C1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-78480"/>
            <a:ext cx="9051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577440"/>
            <a:ext cx="291456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577440"/>
            <a:ext cx="291456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577440"/>
            <a:ext cx="291456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1428480"/>
            <a:ext cx="291456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1428480"/>
            <a:ext cx="291456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1428480"/>
            <a:ext cx="291456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D2A-183A-4D59-A395-EFB0213A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-78480"/>
            <a:ext cx="9051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577440"/>
            <a:ext cx="905184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B260-DA02-452A-9603-2546A06B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-78480"/>
            <a:ext cx="9051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577440"/>
            <a:ext cx="9051840" cy="16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AD71-4E9D-4906-A482-CB76F4E6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-78480"/>
            <a:ext cx="9051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577440"/>
            <a:ext cx="4417200" cy="16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577440"/>
            <a:ext cx="4417200" cy="16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B9EA-CCB9-437E-8C09-F9DC6924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-78480"/>
            <a:ext cx="9051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C1FC-77ED-4F48-9C2E-2B0C092F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97920"/>
            <a:ext cx="9051840" cy="19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3BB8-CCB5-4578-A838-C64E05C1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-78480"/>
            <a:ext cx="9051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577440"/>
            <a:ext cx="441720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577440"/>
            <a:ext cx="4417200" cy="16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1428480"/>
            <a:ext cx="441720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D2D1-9346-4D62-B94F-7889F113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-78480"/>
            <a:ext cx="9051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77440"/>
            <a:ext cx="4417200" cy="16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577440"/>
            <a:ext cx="441720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1428480"/>
            <a:ext cx="441720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ABFE-9280-4BD9-980E-EED316F1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-78480"/>
            <a:ext cx="9051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77440"/>
            <a:ext cx="441720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577440"/>
            <a:ext cx="441720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1428480"/>
            <a:ext cx="905184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4035-928F-4D1E-99C9-45FCFFF7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97920"/>
            <a:ext cx="9051840" cy="4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577440"/>
            <a:ext cx="9051840" cy="16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34160" indent="-86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608040" indent="-86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781560" indent="-86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781560" indent="-86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781560" indent="-86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2249640"/>
            <a:ext cx="23461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2249640"/>
            <a:ext cx="318456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2249640"/>
            <a:ext cx="23461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A1FF-26A1-420F-B2B4-F8E479553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1080" y="152280"/>
            <a:ext cx="7333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52280"/>
            <a:ext cx="73368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95680" y="1782720"/>
            <a:ext cx="72864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1" idx="4"/>
            <a:endCxn id="43" idx="0"/>
          </p:cNvCxnSpPr>
          <p:nvPr/>
        </p:nvCxnSpPr>
        <p:spPr>
          <a:xfrm>
            <a:off x="547920" y="685800"/>
            <a:ext cx="4312440" cy="109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4"/>
            <a:endCxn id="43" idx="0"/>
          </p:cNvCxnSpPr>
          <p:nvPr/>
        </p:nvCxnSpPr>
        <p:spPr>
          <a:xfrm>
            <a:off x="1433520" y="685800"/>
            <a:ext cx="3426840" cy="109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3581280" y="152280"/>
            <a:ext cx="7621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pr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19720" y="152280"/>
            <a:ext cx="7617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152280"/>
            <a:ext cx="7617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52280"/>
            <a:ext cx="7621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dr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152280"/>
            <a:ext cx="7621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152280"/>
            <a:ext cx="7621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48440" y="152280"/>
            <a:ext cx="8175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m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39160" y="152280"/>
            <a:ext cx="7621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52" idx="6"/>
            <a:endCxn id="53" idx="2"/>
          </p:cNvCxnSpPr>
          <p:nvPr/>
        </p:nvCxnSpPr>
        <p:spPr>
          <a:xfrm>
            <a:off x="7866000" y="419040"/>
            <a:ext cx="1735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8953560" y="152280"/>
            <a:ext cx="7621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di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8" idx="4"/>
            <a:endCxn id="43" idx="0"/>
          </p:cNvCxnSpPr>
          <p:nvPr/>
        </p:nvCxnSpPr>
        <p:spPr>
          <a:xfrm>
            <a:off x="2286000" y="685800"/>
            <a:ext cx="2574360" cy="109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4"/>
            <a:endCxn id="43" idx="0"/>
          </p:cNvCxnSpPr>
          <p:nvPr/>
        </p:nvCxnSpPr>
        <p:spPr>
          <a:xfrm>
            <a:off x="3124440" y="685800"/>
            <a:ext cx="1735920" cy="109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6" idx="4"/>
            <a:endCxn id="43" idx="0"/>
          </p:cNvCxnSpPr>
          <p:nvPr/>
        </p:nvCxnSpPr>
        <p:spPr>
          <a:xfrm>
            <a:off x="3962520" y="685800"/>
            <a:ext cx="897840" cy="109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7" idx="4"/>
            <a:endCxn id="43" idx="0"/>
          </p:cNvCxnSpPr>
          <p:nvPr/>
        </p:nvCxnSpPr>
        <p:spPr>
          <a:xfrm>
            <a:off x="4800600" y="685800"/>
            <a:ext cx="59760" cy="109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0" idx="4"/>
            <a:endCxn id="43" idx="0"/>
          </p:cNvCxnSpPr>
          <p:nvPr/>
        </p:nvCxnSpPr>
        <p:spPr>
          <a:xfrm flipH="1">
            <a:off x="4860000" y="685800"/>
            <a:ext cx="779400" cy="109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43" idx="0"/>
          </p:cNvCxnSpPr>
          <p:nvPr/>
        </p:nvCxnSpPr>
        <p:spPr>
          <a:xfrm flipH="1">
            <a:off x="4860000" y="685800"/>
            <a:ext cx="1693800" cy="109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4"/>
            <a:endCxn id="43" idx="0"/>
          </p:cNvCxnSpPr>
          <p:nvPr/>
        </p:nvCxnSpPr>
        <p:spPr>
          <a:xfrm flipH="1">
            <a:off x="4860000" y="685800"/>
            <a:ext cx="2597760" cy="109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3" idx="4"/>
            <a:endCxn id="43" idx="0"/>
          </p:cNvCxnSpPr>
          <p:nvPr/>
        </p:nvCxnSpPr>
        <p:spPr>
          <a:xfrm flipH="1">
            <a:off x="4860000" y="685800"/>
            <a:ext cx="3560760" cy="109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5" idx="3"/>
            <a:endCxn id="43" idx="0"/>
          </p:cNvCxnSpPr>
          <p:nvPr/>
        </p:nvCxnSpPr>
        <p:spPr>
          <a:xfrm flipH="1">
            <a:off x="4860000" y="607680"/>
            <a:ext cx="4205520" cy="117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6:01:03Z</dcterms:created>
  <dc:creator>Blaise Thomson</dc:creator>
  <dc:description/>
  <dc:language>en-US</dc:language>
  <cp:lastModifiedBy>Blaise Thomson</cp:lastModifiedBy>
  <dcterms:modified xsi:type="dcterms:W3CDTF">2009-10-29T16:23:13Z</dcterms:modified>
  <cp:revision>2</cp:revision>
  <dc:subject/>
  <dc:title>Slide 1</dc:title>
</cp:coreProperties>
</file>