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71C-5E92-4743-8174-6157CA66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8FD-5A43-4E5A-A7DE-7B704593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72A-DFC2-4D40-AC5B-8745764A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CF0-3A91-4A25-8FEF-B78271EF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60F-E923-47B3-8E49-6DC669C0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2D6-88FF-4BE0-8274-2F2E93A7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884-BE4B-40AA-B1C2-A8EE70F1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301-4976-4544-AAA2-21477F3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F6B-3012-4FD2-BC71-4359C18A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261-4A8A-49BA-A3D2-EAAA018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86A-6D7D-419A-B51D-252BDED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92C-55FE-4F8B-8E77-5B2A045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83DC-0481-432F-8B9D-2C3E9CA3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13.WAV" TargetMode="External"/><Relationship Id="rId2" Type="http://schemas.microsoft.com/office/2007/relationships/media" Target="file:///tmp/home/.config/libreoffice/4/user/gallery/~PP261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 note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word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7T08:55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