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712D-64AD-488C-9106-CC1B99F4E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33A5E-5037-4F9B-BC9E-38DC112E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CD47-DD1E-4526-909A-C515A3BD1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6FFF0-F271-4AB9-BCA2-1BEDC52C2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6B16B-190C-4EA3-92B4-371B7A8DF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EBFC8-23DC-4FA6-8F5E-69CFB69F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261AB-A8B9-48ED-A4FB-4C087086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1A90-BF8D-4B57-AB98-BF911499D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B8D6A-22F2-4A27-9A17-E3C3D9692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516D-E5FD-4FBF-9BB2-BDA3F90F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4FF6-F39C-46E6-B523-A3F4A3B5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40C5-60B7-4E8C-B35F-CAC13AEE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30A0-3CC3-46B5-9125-3E7D525D1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F2B1-EC91-4334-8255-14EDC1467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 </a:t>
            </a:r>
            <a:r>
              <a:rPr b="1" lang="en-US" sz="3200" spc="-1" strike="noStrike">
                <a:solidFill>
                  <a:srgbClr val="990000"/>
                </a:solidFill>
                <a:latin typeface="Times New Roman"/>
              </a:rPr>
              <a:t>SAAT MENGHAMPIRI TAHTAMU “</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228240" y="1143000"/>
            <a:ext cx="89154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aat kuhampiri tahtaM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Ditengah BaitMU yang suci</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emuliaan hadiratMU, penuhi tempat ini</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aat kudatang memandangM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ekudusan melingkupik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luruh umat sujud bertelu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Menyerukan NamaMU</a:t>
            </a:r>
            <a:endParaRPr b="0" lang="en-US" sz="3600" spc="-1" strike="noStrike">
              <a:solidFill>
                <a:srgbClr val="000000"/>
              </a:solidFill>
              <a:latin typeface="Times New Roman"/>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uhanmu Memberkatimu “</a:t>
            </a:r>
            <a:br>
              <a:rPr sz="4400"/>
            </a:br>
            <a:br>
              <a:rPr sz="4400"/>
            </a:br>
            <a:r>
              <a:rPr b="1" lang="en-US" sz="4400" spc="-1" strike="noStrike">
                <a:solidFill>
                  <a:srgbClr val="000000"/>
                </a:solidFill>
                <a:latin typeface="Times New Roman"/>
              </a:rPr>
              <a:t>NP : 363</a:t>
            </a:r>
            <a:endParaRPr b="0" lang="en-US" sz="4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19320" y="304920"/>
            <a:ext cx="6791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zooka"/>
              </a:rPr>
              <a:t>Bagaimana Sambutan Kita ?</a:t>
            </a:r>
            <a:endParaRPr b="0" lang="en-US" sz="4000" spc="-1" strike="noStrike">
              <a:solidFill>
                <a:srgbClr val="000000"/>
              </a:solidFill>
              <a:latin typeface="Times New Roman"/>
            </a:endParaRPr>
          </a:p>
        </p:txBody>
      </p:sp>
      <p:sp>
        <p:nvSpPr>
          <p:cNvPr id="62" name=""/>
          <p:cNvSpPr/>
          <p:nvPr/>
        </p:nvSpPr>
        <p:spPr>
          <a:xfrm>
            <a:off x="380880" y="5943600"/>
            <a:ext cx="8518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13 Mei 2001 </a:t>
            </a:r>
            <a:endParaRPr b="0" lang="en-US" sz="2400" spc="-1" strike="noStrike">
              <a:solidFill>
                <a:srgbClr val="000000"/>
              </a:solidFill>
              <a:latin typeface="Times New Roman"/>
            </a:endParaRPr>
          </a:p>
        </p:txBody>
      </p:sp>
      <p:sp>
        <p:nvSpPr>
          <p:cNvPr id="63"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azooka"/>
              </a:rPr>
              <a:t>Bagaimana Sambutan Kita ?</a:t>
            </a:r>
            <a:endParaRPr b="0" lang="en-US" sz="3600" spc="-1" strike="noStrike">
              <a:solidFill>
                <a:srgbClr val="000000"/>
              </a:solidFill>
              <a:latin typeface="Times New Roman"/>
            </a:endParaRPr>
          </a:p>
        </p:txBody>
      </p:sp>
      <p:sp>
        <p:nvSpPr>
          <p:cNvPr id="68" name=""/>
          <p:cNvSpPr/>
          <p:nvPr/>
        </p:nvSpPr>
        <p:spPr>
          <a:xfrm>
            <a:off x="380880" y="2286000"/>
            <a:ext cx="8518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ENDAHULUAN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man itu Allah, Yesus adalah Firman yang menjadi manusia, jika demikian, bagaimana respon kita akan Firman Tuhan itu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
          <p:cNvSpPr/>
          <p:nvPr/>
        </p:nvSpPr>
        <p:spPr>
          <a:xfrm>
            <a:off x="304920" y="304920"/>
            <a:ext cx="8518320" cy="6066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ri Matius 13 : 18-23, kita melihat ada 4 macam hati manusia dalam menanggapi Firman Tuha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u="sng">
                <a:solidFill>
                  <a:srgbClr val="000000"/>
                </a:solidFill>
                <a:uFillTx/>
                <a:latin typeface="Times New Roman"/>
              </a:rPr>
              <a:t>HATI YANG KERA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4</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19</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
          <p:cNvSpPr/>
          <p:nvPr/>
        </p:nvSpPr>
        <p:spPr>
          <a:xfrm>
            <a:off x="457200" y="228600"/>
            <a:ext cx="830592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TIDAK SUNGGUH-SUNGGUH MAU MENERIMA FIRMAN TUHA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5 – 6</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0 – 21</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da orang Kristen yang sudah mengerti banyak akan Firman Tuhan, tetapi tidak berani menerapkan didalam kehidupannya, sehingga Firman Tuhan itu tidak berakar, dan orang Kristen ini tidak mempunyai pengalaman pribadi akan kebenaran Firman Tuhan itu. Dengan demikian mudah ragu-ragu, mudah bimbang ketika menghadapi penganiayaan, penindasan dan pencobaan, bahkan sampai akhirnya murtad.</a:t>
            </a:r>
            <a:endParaRPr b="0" lang="en-US" sz="28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 name=""/>
          <p:cNvSpPr/>
          <p:nvPr/>
        </p:nvSpPr>
        <p:spPr>
          <a:xfrm>
            <a:off x="228600" y="22860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LEBIH PERCAYA AKAN HAL-HAL DUNIA DARIPADA FIRMAN TUHAN</a:t>
            </a:r>
            <a:r>
              <a:rPr b="1" i="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7</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2</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isadari atau tidak, seringkali ada banyak orang Kristen yang lebih percaya akan hal-hal dunia daripada Firman Tuhan, sehingga orang-orang Kristen seperti ini sulit untuk bisa percaya sepenuhnya kepada Firman Tuhan, dan dengan demikian, Firman Tuhan itu tidak bertumbuh didalam hidupny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
          <p:cNvSpPr/>
          <p:nvPr/>
        </p:nvSpPr>
        <p:spPr>
          <a:xfrm>
            <a:off x="380880" y="228600"/>
            <a:ext cx="851868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PEKA TERHADAP FIRMAN TUHA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a:solidFill>
                  <a:srgbClr val="000000"/>
                </a:solidFill>
                <a:latin typeface="Times New Roman"/>
              </a:rPr>
              <a:t>Matius 13 : 8</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3</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da banyak juga orang Kristen yang sangat peka, sangat sensitif terhadap Firman Tuhan yang dibacanya, yang didengarnya, selalu mau diperhatikan, mau ditanggapi, bahkan mau dilakukannya, sehingga orang Kristen seperti ini akan punya banyak pengalaman akan kebenaran Firman Tuhan, dan dengan demikian, Firman Tuhan itu akan bertumbuh dan menghasilkan buah-buah rohani didalam kehidupannya.</a:t>
            </a:r>
            <a:endParaRPr b="0" lang="en-US" sz="2800" spc="-1" strike="noStrike">
              <a:solidFill>
                <a:srgbClr val="000000"/>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
          <p:cNvSpPr/>
          <p:nvPr/>
        </p:nvSpPr>
        <p:spPr>
          <a:xfrm>
            <a:off x="304920" y="457200"/>
            <a:ext cx="8518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KESIMPUL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eadaan hati kita ditentukan oleh diri kita sendiri, jika kita mau dengar-dengaran Firman Tuhan, mau percaya akan Firman Tuhan, maka Firman Tuhan itu pasti akan bertumbuh dan berbuah.</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Siapa bertelinga, hendaklah ia mendengar “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atius 2 : 9</a:t>
            </a:r>
            <a:endParaRPr b="0" lang="en-US" sz="28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400"/>
            <a:ext cx="8305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 Tuhan Allah Mulia</a:t>
            </a:r>
            <a:br>
              <a:rPr sz="3600"/>
            </a:br>
            <a:r>
              <a:rPr b="1" lang="en-US" sz="3600" spc="-1" strike="noStrike">
                <a:solidFill>
                  <a:srgbClr val="990000"/>
                </a:solidFill>
                <a:latin typeface="Times New Roman"/>
              </a:rPr>
              <a:t>Seisi dunia sujud menyembah Engkau</a:t>
            </a:r>
            <a:br>
              <a:rPr sz="3600"/>
            </a:br>
            <a:r>
              <a:rPr b="1" lang="en-US" sz="3600" spc="-1" strike="noStrike">
                <a:solidFill>
                  <a:srgbClr val="990000"/>
                </a:solidFill>
                <a:latin typeface="Times New Roman"/>
              </a:rPr>
              <a:t>Yesus Anak Domba yang duduk ditahta</a:t>
            </a:r>
            <a:br>
              <a:rPr sz="3600"/>
            </a:br>
            <a:r>
              <a:rPr b="1" lang="en-US" sz="3600" spc="-1" strike="noStrike">
                <a:solidFill>
                  <a:srgbClr val="990000"/>
                </a:solidFill>
                <a:latin typeface="Times New Roman"/>
              </a:rPr>
              <a:t>Mem’rintah s’lamanya atas manusia.</a:t>
            </a:r>
            <a:endParaRPr b="0" lang="en-US" sz="3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lah Tuhan Allah, Yang Mahakuasa, yang sudah ada dan yang ada dan yang akan datang.  Kudus, kudus, kuduslah Tuhan semesta alam, seluruh bumi penuh kemuliaan-Nya</a:t>
            </a:r>
            <a:br>
              <a:rPr sz="3600"/>
            </a:br>
            <a:br>
              <a:rPr sz="3600"/>
            </a:b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2800" spc="-1" strike="noStrike">
                <a:solidFill>
                  <a:srgbClr val="990000"/>
                </a:solidFill>
                <a:latin typeface="Times New Roman"/>
              </a:rPr>
              <a:t>Wahyu 4:8b &amp; Yesaya 6:3B</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09320"/>
            <a:ext cx="861084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 Tuhan Allah Mulia</a:t>
            </a:r>
            <a:br>
              <a:rPr sz="3600"/>
            </a:br>
            <a:r>
              <a:rPr b="1" lang="en-US" sz="3600" spc="-1" strike="noStrike">
                <a:solidFill>
                  <a:srgbClr val="990000"/>
                </a:solidFill>
                <a:latin typeface="Times New Roman"/>
              </a:rPr>
              <a:t>Seisi dunia sujud menyembah Engkau</a:t>
            </a:r>
            <a:br>
              <a:rPr sz="3600"/>
            </a:br>
            <a:r>
              <a:rPr b="1" lang="en-US" sz="3600" spc="-1" strike="noStrike">
                <a:solidFill>
                  <a:srgbClr val="990000"/>
                </a:solidFill>
                <a:latin typeface="Times New Roman"/>
              </a:rPr>
              <a:t>Yesus Anak Domba yang duduk ditahta</a:t>
            </a:r>
            <a:br>
              <a:rPr sz="3600"/>
            </a:br>
            <a:r>
              <a:rPr b="1" lang="en-US" sz="3600" spc="-1" strike="noStrike">
                <a:solidFill>
                  <a:srgbClr val="990000"/>
                </a:solidFill>
                <a:latin typeface="Times New Roman"/>
              </a:rPr>
              <a:t>Mem’rintah s’lamanya atas manusia.</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 </a:t>
            </a:r>
            <a:r>
              <a:rPr b="0" lang="en-US" sz="4400" spc="-1" strike="noStrike">
                <a:solidFill>
                  <a:srgbClr val="990000"/>
                </a:solidFill>
                <a:latin typeface="Times New Roman"/>
              </a:rPr>
              <a:t>Puji Tuhan, Isi Surga “</a:t>
            </a:r>
            <a:br>
              <a:rPr sz="4400"/>
            </a:br>
            <a:br>
              <a:rPr sz="4400"/>
            </a:br>
            <a:r>
              <a:rPr b="0" lang="en-US" sz="4400" spc="-1" strike="noStrike">
                <a:solidFill>
                  <a:srgbClr val="990000"/>
                </a:solidFill>
                <a:latin typeface="Times New Roman"/>
              </a:rPr>
              <a:t>NP : 14</a:t>
            </a:r>
            <a:br>
              <a:rPr sz="4400"/>
            </a:br>
            <a:br>
              <a:rPr sz="4400"/>
            </a:b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 </a:t>
            </a:r>
            <a:r>
              <a:rPr b="0" lang="en-US" sz="4400" spc="-1" strike="noStrike">
                <a:solidFill>
                  <a:srgbClr val="990000"/>
                </a:solidFill>
                <a:latin typeface="Times New Roman"/>
              </a:rPr>
              <a:t>B’ritakanlah Firman Hidup “</a:t>
            </a:r>
            <a:br>
              <a:rPr sz="4400"/>
            </a:br>
            <a:br>
              <a:rPr sz="4400"/>
            </a:br>
            <a:r>
              <a:rPr b="0" lang="en-US" sz="4400" spc="-1" strike="noStrike">
                <a:solidFill>
                  <a:srgbClr val="990000"/>
                </a:solidFill>
                <a:latin typeface="Times New Roman"/>
              </a:rPr>
              <a:t>NP : 101</a:t>
            </a:r>
            <a:br>
              <a:rPr sz="4400"/>
            </a:br>
            <a:endParaRPr b="0" lang="en-US" sz="4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Matius  13 : 18 – 23</a:t>
            </a:r>
            <a:br>
              <a:rPr sz="4400"/>
            </a:br>
            <a:endParaRPr b="0" lang="en-US" sz="4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676160"/>
            <a:ext cx="7924680" cy="33526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Jangan bersusah payah untuk menjadi kaya, tinggalkan niatmu ini. Muliakanlah TUHAN dengan hartamu dan dengan segala penghasilanmu, maka lumbung-lumbungmu akan diisi penuh sampai melimpah-limpah, dan bejana pemerahanmu akan meluap dengan air buah anggurmu.</a:t>
            </a:r>
            <a:br>
              <a:rPr sz="3600"/>
            </a:br>
            <a:br>
              <a:rPr sz="3600"/>
            </a:b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2800" spc="-1" strike="noStrike">
                <a:solidFill>
                  <a:srgbClr val="990000"/>
                </a:solidFill>
                <a:latin typeface="Times New Roman"/>
              </a:rPr>
              <a:t>Amsal </a:t>
            </a:r>
            <a:r>
              <a:rPr b="1" lang="en-US" sz="2800" spc="-1" strike="noStrike">
                <a:solidFill>
                  <a:srgbClr val="990000"/>
                </a:solidFill>
                <a:latin typeface="Times New Roman"/>
              </a:rPr>
              <a:t>	</a:t>
            </a:r>
            <a:r>
              <a:rPr b="1" lang="en-US" sz="2800" spc="-1" strike="noStrike">
                <a:solidFill>
                  <a:srgbClr val="990000"/>
                </a:solidFill>
                <a:latin typeface="Times New Roman"/>
              </a:rPr>
              <a:t>23:4 , 3:9-10</a:t>
            </a:r>
            <a:endParaRPr b="0" lang="en-US" sz="2800" spc="-1" strike="noStrike">
              <a:solidFill>
                <a:srgbClr val="000000"/>
              </a:solidFill>
              <a:latin typeface="Times New Roman"/>
            </a:endParaRPr>
          </a:p>
        </p:txBody>
      </p:sp>
      <p:sp>
        <p:nvSpPr>
          <p:cNvPr id="57" name="PlaceHolder 2"/>
          <p:cNvSpPr>
            <a:spLocks noGrp="1"/>
          </p:cNvSpPr>
          <p:nvPr>
            <p:ph/>
          </p:nvPr>
        </p:nvSpPr>
        <p:spPr>
          <a:xfrm>
            <a:off x="762120" y="6858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819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Sungguh Lembut Suara Yesus “</a:t>
            </a:r>
            <a:br>
              <a:rPr sz="4400"/>
            </a:br>
            <a:br>
              <a:rPr sz="4400"/>
            </a:br>
            <a:r>
              <a:rPr b="1" lang="en-US" sz="4400" spc="-1" strike="noStrike">
                <a:solidFill>
                  <a:srgbClr val="000000"/>
                </a:solidFill>
                <a:latin typeface="Times New Roman"/>
              </a:rPr>
              <a:t>NP : 138</a:t>
            </a:r>
            <a:endParaRPr b="0" lang="en-US" sz="4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2T09:42:55Z</dcterms:created>
  <dc:creator>Windows 98</dc:creator>
  <dc:description/>
  <dc:language>en-US</dc:language>
  <cp:lastModifiedBy>Windows 98</cp:lastModifiedBy>
  <dcterms:modified xsi:type="dcterms:W3CDTF">2001-05-13T03:42:46Z</dcterms:modified>
  <cp:revision>6</cp:revision>
  <dc:subject/>
  <dc:title>“ SAAT MENGHAMPIRI TAHTAMU “</dc:title>
</cp:coreProperties>
</file>