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411-48DA-4ADB-AA81-F9331E60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BC1-C33B-4E6E-8598-49DE9072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829-F27F-4A76-901E-0A62C50C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666-D024-4F6B-A32B-8D7DE44B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A5C-791E-4310-97AB-50AFAE69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A69-4C0F-4F64-977A-5D5596B0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CFE-B1A1-4121-85E5-A302C53A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E98-FB41-45C1-B350-68A49793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AAC-C404-4655-A89C-E56AA576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A55-D20D-44C6-8F87-BAD7E9C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E2F-9AF8-404B-A665-633B6043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B58-A25A-49C2-BE26-6C544D9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00CC-50D2-401B-9ABD-316D039AC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3880" y="2209680"/>
            <a:ext cx="3124440" cy="1981440"/>
            <a:chOff x="1523880" y="2209680"/>
            <a:chExt cx="3124440" cy="1981440"/>
          </a:xfrm>
        </p:grpSpPr>
        <p:sp>
          <p:nvSpPr>
            <p:cNvPr id="42" name=""/>
            <p:cNvSpPr/>
            <p:nvPr/>
          </p:nvSpPr>
          <p:spPr>
            <a:xfrm>
              <a:off x="1523880" y="2209680"/>
              <a:ext cx="1524240" cy="15242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0" y="0"/>
                  </a:lnTo>
                  <a:lnTo>
                    <a:pt x="21600" y="10800"/>
                  </a:lnTo>
                  <a:lnTo>
                    <a:pt x="19800" y="21600"/>
                  </a:lnTo>
                  <a:lnTo>
                    <a:pt x="0" y="21600"/>
                  </a:lnTo>
                  <a:lnTo>
                    <a:pt x="1800" y="10800"/>
                  </a:lnTo>
                  <a:close/>
                </a:path>
              </a:pathLst>
            </a:custGeom>
            <a:solidFill>
              <a:srgbClr val="bbe0e3"/>
            </a:solidFill>
            <a:ln w="120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657600" y="2514600"/>
              <a:ext cx="990720" cy="167652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headEnd len="lg" type="oval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7:42:56Z</dcterms:created>
  <dc:creator>Yolanda</dc:creator>
  <dc:description/>
  <dc:language>en-US</dc:language>
  <cp:lastModifiedBy>dujing</cp:lastModifiedBy>
  <dcterms:modified xsi:type="dcterms:W3CDTF">2012-05-29T06:20:45Z</dcterms:modified>
  <cp:revision>3</cp:revision>
  <dc:subject/>
  <dc:title>Below are the test focus   FFC30FFCSD_CustomShape_Group_WithDrawingObjects_0015.ppt Check Points:    1. Grouped/Ungrouped;2. Line Properties;3. Handle Points.</dc:title>
</cp:coreProperties>
</file>