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869-54C4-4D12-9AFD-3A40C9E4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D7F-0071-4745-B3FD-D8CA4CCA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2677-9D3A-4D86-953C-FE696F4A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F79-F326-4C26-AC94-A4BDA583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50A4-D2F1-4FEE-8FE7-78CC5601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886C-7B2E-4A36-B38B-B2459623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DD11-57EE-46C9-9158-341FCED1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630C-D667-4AA7-B647-A70131AB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6411-C9CD-4D0F-9EB9-60847268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2282-E69B-4D29-8F39-88EC0FA5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1D98-6FCC-465E-99BB-74D4B3CF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39D-C2E2-452E-92A5-B001E194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2BD3-1DD5-4AF6-BE96-947D5ACE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EBCA-314D-4883-96E4-0AB66C98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0443-16D6-4F3C-AD11-9AE97580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B489-EAE1-4D2C-8C57-43024E82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74D0-E9B8-4545-BC88-C9F907A6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F20-5554-4BD8-9188-EB1F0EC2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2D2B-0395-4F34-AD67-59DFDB31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02F-1F8A-48EE-9163-0C3582A0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5D9-C1FA-4D6E-A2F3-22EA2F3C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09F-F098-4C01-8D0D-3DDD13F4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3E76-3E69-4408-AC41-992E6A0C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3929-8596-4781-BF6A-DE4C2D9B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3D7C-70A3-4B76-AFBE-BAC90EEE6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6FD0-7428-4BC2-AFA5-9876834CA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99"/>
                </a:solidFill>
                <a:latin typeface="Times New Roman"/>
              </a:rPr>
              <a:t>בעיות נבחרות במדעי המחשב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המחלקה להוראת הטכנולוגיה והמדעים, הטכניו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סמסטר ב’, תשס"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life cycle –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Coding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5238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981080"/>
            <a:ext cx="815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מה קורה כאשר פרוייקט תוכנה נמצא בפיגור ומתווספים מתכנתים חדשים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7432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3733920"/>
            <a:ext cx="6781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תוספת כוח אדם זו עלולה לגרום לעיכוב גדול עוד יותר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4876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</a:rPr>
              <a:t>מדוע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life cycle –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Coding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5238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7432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2133720"/>
            <a:ext cx="815328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* יש לאמן את ה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ff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החד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* אופייה של עבודת התכנות מחייבת תקשורת במהלך העבודה, ולכן, המתכנתים מתקשרים זה עם זה. אבל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oup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eople can mee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(n-1)/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ifferent pairs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ubling a group from 3 programmers to 6, increases the number of meetings they can hold by a factor of 5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2800" spc="-1" strike="noStrike">
                <a:solidFill>
                  <a:srgbClr val="ffffff"/>
                </a:solidFill>
                <a:latin typeface="Times New Roman"/>
              </a:rPr>
              <a:t>מדוע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תוספת כוח זו עלולה להגדיל את העיכוב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life cycle –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1066680"/>
            <a:ext cx="807696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</a:rPr>
              <a:t>מטרו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מציאת בגים בתוכנית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בחינת “קבלה”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nce testing</a:t>
            </a:r>
            <a:r>
              <a:rPr b="0" i="1" lang="he-IL" sz="2800" spc="-1" strike="noStrike">
                <a:solidFill>
                  <a:srgbClr val="ffffff"/>
                </a:solidFill>
                <a:latin typeface="Times New Roman"/>
              </a:rPr>
              <a:t>)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        האם התוכנית עונה על דרישות המזמין/המשתמ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life cycle–</a:t>
            </a:r>
            <a:br>
              <a:rPr sz="44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Maintenance &amp; Evolution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2514600"/>
            <a:ext cx="838188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יחידים וארגונים מעדיפים בדרך-כלל לערוך שינויים במערכת קיימת במקום רכישה של מערכת חדשה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הפתעה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לפעמים </a:t>
            </a:r>
            <a:r>
              <a:rPr b="0" lang="he-IL" sz="2800" spc="-1" strike="noStrike" u="sng">
                <a:solidFill>
                  <a:srgbClr val="ffffff"/>
                </a:solidFill>
                <a:uFillTx/>
                <a:latin typeface="Times New Roman"/>
              </a:rPr>
              <a:t>עלות התחזוקה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של מערכת תוכנה יכולה להיות גבוהה עד פי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2-4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מעלותה המקורית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תובנה של תופעה זו היוותה את אחד הגורמים בפיתוח התחום של הנדסת תוכנה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engineering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828800"/>
            <a:ext cx="81532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cience of the development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200" spc="-1" strike="noStrike">
                <a:solidFill>
                  <a:srgbClr val="ffffff"/>
                </a:solidFill>
                <a:latin typeface="Times New Roman"/>
              </a:rPr>
              <a:t> פיתוח מערכות תוכנה הוא בדרך כלל תהליך ארוך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200" spc="-1" strike="noStrike">
                <a:solidFill>
                  <a:srgbClr val="ffffff"/>
                </a:solidFill>
                <a:latin typeface="Times New Roman"/>
              </a:rPr>
              <a:t> תהליך זה נקרא מחזור חיי תוכנה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life cycle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200" spc="-1" strike="noStrike">
                <a:solidFill>
                  <a:srgbClr val="ffffff"/>
                </a:solidFill>
                <a:latin typeface="Times New Roman"/>
              </a:rPr>
              <a:t>ראינו שתי גישות לבחינת המושג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ocess vs. product oriented perspective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life cycle – main phases</a:t>
            </a:r>
            <a:br>
              <a:rPr sz="4400"/>
            </a:b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urce: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h! Pascal! By Cooper and Clancy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2133720"/>
            <a:ext cx="81532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pecific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software’s 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Softwa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or co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completed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intena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evolution of the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life cycle –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2133720"/>
            <a:ext cx="815328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בשלב זה מנסים לענות על השאלה "מה התוכנה צריכה לעשות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?"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התשובה לשאלה צריכה להיות מנוסחת בצורה כזו שתהיה מובנת למעצב התוכנה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בשלב זה צריך להתייחס לשאלות כמו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life cycle –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cont.)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523880"/>
            <a:ext cx="8153280" cy="44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4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מה יהיה הקלטים של התוכנה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איזה פלט התוכנה צריכה להפיק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מהו סוג האנשים שישתמשו במערכת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באיזה מהירות על המערכת לעבוד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(מקוונת או לא, וכו'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האם כיווני התפתחותה של המערכת בעתיד ידועים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אם כן- מהם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אם לא – אילו כיווני התפתחות אפשריים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life cycle</a:t>
            </a:r>
            <a:r>
              <a:rPr b="0" lang="he-IL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–</a:t>
            </a:r>
            <a:r>
              <a:rPr b="0" lang="he-IL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Requirements specification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200" y="2165400"/>
            <a:ext cx="8686800" cy="39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יכולות התוכנה (ומגבלותיה) מנוסחים באופן פורמלי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בעוד שבשלב הראשון (הניתוח) מטרת המערכת נוסחה באופן כללי, בשלב הזה (אפיון הדרישות) מנסחים באופן מפורט מה המערכת הגמורה תבצע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מסמך זה יהווה את ה”רפרנס” במהלך כל תהליך הפיתוח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מול מסמך זה תיבדק ותבחן המערכת הסופית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life cycle –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1676520"/>
            <a:ext cx="8839080" cy="25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two stages determin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hould be do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sign phase specifie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 should be do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goal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267080"/>
            <a:ext cx="746748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ambiguities located in the requirements specification should be found and clarifie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etailed guide for the next step – cod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life cycle –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Coding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8954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Times New Roman"/>
              </a:rPr>
              <a:t>שלב הקידוד מהווה כ- </a:t>
            </a:r>
            <a:r>
              <a:rPr b="0" lang="he-IL" sz="3200" spc="-1" strike="noStrike">
                <a:solidFill>
                  <a:srgbClr val="ffff00"/>
                </a:solidFill>
                <a:latin typeface="Times New Roman"/>
              </a:rPr>
              <a:t>20%</a:t>
            </a:r>
            <a:r>
              <a:rPr b="0" lang="he-IL" sz="3200" spc="-1" strike="noStrike">
                <a:solidFill>
                  <a:srgbClr val="ffff00"/>
                </a:solidFill>
                <a:latin typeface="Times New Roman"/>
              </a:rPr>
              <a:t> בלבד מזמן הפיתוח של מערכות תוכנ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life cycle –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Coding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828800"/>
            <a:ext cx="807732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מה ההבדל בין פעולת התכנות לבין פעילויות כמו עריכת דוחות כספיים או בניית בתים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886200"/>
            <a:ext cx="701028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בתחומים אלו: כמות העבודה שהושלמה פרופורציונלית בדרך-כלל לכמות המאמץ שהושקע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בתכנות: לפעמים המצב הוא הפוך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8T21:39:18Z</dcterms:created>
  <dc:creator>Orith</dc:creator>
  <dc:description/>
  <dc:language>en-US</dc:language>
  <cp:lastModifiedBy>Hazzan</cp:lastModifiedBy>
  <dcterms:modified xsi:type="dcterms:W3CDTF">2002-04-01T21:03:10Z</dcterms:modified>
  <cp:revision>432</cp:revision>
  <dc:subject/>
  <dc:title>בעיות נבחרות במדעי המחשב </dc:title>
</cp:coreProperties>
</file>