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907588" cy="6858000"/>
  <p:notesSz cx="685800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81000" y="473040"/>
            <a:ext cx="4896000" cy="32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333000" y="3857760"/>
            <a:ext cx="6335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937872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937872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0F67-DA4B-439F-BC75-5D4DF802E7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89000" y="473040"/>
            <a:ext cx="4680000" cy="3240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333000" y="3857760"/>
            <a:ext cx="63356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ots of 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F5A8-52DA-45F1-AE16-82E2BB6AF9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F128-71DC-498A-9190-0C323A0180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755640" y="741240"/>
            <a:ext cx="5346720" cy="3702240"/>
          </a:xfrm>
          <a:prstGeom prst="rect">
            <a:avLst/>
          </a:prstGeom>
          <a:ln w="0">
            <a:noFill/>
          </a:ln>
        </p:spPr>
      </p:sp>
      <p:sp>
        <p:nvSpPr>
          <p:cNvPr id="115" name="Text Box 2"/>
          <p:cNvSpPr/>
          <p:nvPr/>
        </p:nvSpPr>
        <p:spPr>
          <a:xfrm>
            <a:off x="685800" y="4691160"/>
            <a:ext cx="548640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Lots of Not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88476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DA0B-C051-4F94-8E7B-FBC956179B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AD2C-0C74-43F4-97A4-EF025D4F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29880" y="2017800"/>
            <a:ext cx="799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829880" y="4167360"/>
            <a:ext cx="799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A712-BA71-48EE-A596-F8C1DF1C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29880" y="201780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925960" y="201780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829880" y="416736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25960" y="416736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CC59-4D86-4E9A-9925-0E8086DE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29880" y="201780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32760" y="201780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235280" y="201780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829880" y="416736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532760" y="416736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235280" y="416736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42D2-32A5-4813-807F-69346EBAB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679B-61EA-4B81-9432-0FAD936D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829880" y="201780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17AC-321D-4F53-89AC-D47F086A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9880" y="201780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7F65-6C8B-4DE9-9FA0-4F9258FF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9880" y="2017800"/>
            <a:ext cx="39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25960" y="2017800"/>
            <a:ext cx="39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8E62-BB20-4F21-A8A7-1461BB25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37AC-481D-4A2D-8B3F-08C6E881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794960" y="214200"/>
            <a:ext cx="801540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F58C-B17A-4F9B-BB0F-D890E45A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29880" y="201780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25960" y="2017800"/>
            <a:ext cx="39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829880" y="416736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D373-FAC5-42EA-9E51-C861C68D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829880" y="201780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7C34-9863-49B5-BBFE-56AB1EF8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9880" y="2017800"/>
            <a:ext cx="39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25960" y="201780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5960" y="416736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2E3C-E421-429A-9644-11F5CAE3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9880" y="201780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925960" y="201780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9880" y="4167360"/>
            <a:ext cx="799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A27C-3B13-4573-B457-083E745C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29880" y="2017800"/>
            <a:ext cx="799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829880" y="4167360"/>
            <a:ext cx="799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AC93-020A-4372-A699-58611CEA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29880" y="201780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925960" y="201780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829880" y="416736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925960" y="416736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9362-3528-4F50-96F3-654BE791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29880" y="201780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32760" y="201780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235280" y="201780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829880" y="416736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4532760" y="416736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7235280" y="416736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213E-F8DF-411A-A00C-501FDF2E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9880" y="201780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F161-6FB8-4570-AA47-9E68FB92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29880" y="2017800"/>
            <a:ext cx="39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25960" y="2017800"/>
            <a:ext cx="39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A25D-CF20-4E47-8E01-A5DD3701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86F7-D32A-41EA-8F33-F9441AB7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794960" y="214200"/>
            <a:ext cx="801540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D87F-E346-4E6F-9029-4501125D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29880" y="201780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25960" y="2017800"/>
            <a:ext cx="39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829880" y="416736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40F7-BB0F-4159-A113-BE5B32E8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29880" y="2017800"/>
            <a:ext cx="39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25960" y="201780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25960" y="416736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1D31-A520-4D14-8235-5DD0C246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9880" y="201780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25960" y="201780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9880" y="4167360"/>
            <a:ext cx="799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CAC9-84BD-4E96-8EF1-81237667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001880" y="1098720"/>
            <a:ext cx="4507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15880" y="1098720"/>
            <a:ext cx="33840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1135080" y="1521000"/>
            <a:ext cx="4348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536840" y="1521000"/>
            <a:ext cx="37764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687240" y="1447920"/>
            <a:ext cx="5763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374840" y="990720"/>
            <a:ext cx="6984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028880" y="1781280"/>
            <a:ext cx="845964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829880" y="201780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807920" y="6243480"/>
            <a:ext cx="195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511160" y="6243480"/>
            <a:ext cx="297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178480" y="6243480"/>
            <a:ext cx="195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A179-91D8-4EF3-8C4E-43F9A25745A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792000" y="2438280"/>
            <a:ext cx="9129600" cy="1052640"/>
            <a:chOff x="792000" y="2438280"/>
            <a:chExt cx="91296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1089360" y="2546280"/>
              <a:ext cx="721800" cy="474840"/>
              <a:chOff x="1089360" y="2546280"/>
              <a:chExt cx="72180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1089360" y="2546280"/>
                <a:ext cx="44424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1478160" y="2546280"/>
                <a:ext cx="33300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1215000" y="2968560"/>
              <a:ext cx="749520" cy="474840"/>
              <a:chOff x="1215000" y="2968560"/>
              <a:chExt cx="74952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1215000" y="2968560"/>
                <a:ext cx="4269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1589760" y="2968560"/>
                <a:ext cx="37476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792000" y="2895480"/>
              <a:ext cx="5677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1435320" y="2438280"/>
              <a:ext cx="3996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1112040" y="3260520"/>
              <a:ext cx="880956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829880" y="201780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10728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71448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742968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DD86-C0C1-4312-9F91-1281C1DF602A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hows No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29880" y="201780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 Normal View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1795320" y="214200"/>
            <a:ext cx="8013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oesn’t Show Not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Content Placeholder 5"/>
          <p:cNvSpPr/>
          <p:nvPr/>
        </p:nvSpPr>
        <p:spPr>
          <a:xfrm>
            <a:off x="1830240" y="2017800"/>
            <a:ext cx="7993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 Normal View, but it does show them in Print Preview and View &gt; Notes 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8T21:27:09Z</dcterms:created>
  <dc:creator>Martin Taylor</dc:creator>
  <dc:description/>
  <dc:language>en-US</dc:language>
  <cp:lastModifiedBy>MT</cp:lastModifiedBy>
  <dcterms:modified xsi:type="dcterms:W3CDTF">2014-08-23T21:12:12Z</dcterms:modified>
  <cp:revision>175</cp:revision>
  <dc:subject>Sola Scriptura</dc:subject>
  <dc:title>God's Characteristics</dc:title>
</cp:coreProperties>
</file>