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AA7-426A-4A1B-837F-FF4F56C2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88D-579C-4CBE-9C35-E8EF30CF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54C-A1D3-4F89-8F43-5981D192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5E9-CF75-4279-96E7-34298380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E586-4CB3-423A-983E-09D979F1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B497-C092-4902-886D-58CA56DB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233F-8892-4BDC-9953-57D29668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326D-EABA-4953-BDB6-40B2CAB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4B2-ED1E-454D-8E8C-D114429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77CC-16E4-4812-9745-84110183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C926-859A-4C4C-AB97-FE67014E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589-CD6B-4C91-A149-870C5D40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EFF7-78C7-4ADC-8459-E197364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9093-5DAD-4710-B714-6084DE4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224F-90FB-4657-92DB-76BDD9C2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D274-AD04-4D15-BDDD-E494F102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A168-48B2-4C7B-B353-CA7F8ED3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002-C2D8-48B0-B94C-F5078BC0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6D2-CE68-47D3-A628-922AC564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7D8-23BE-4A69-B785-A50D79A3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AEE-37C6-42E7-BCE0-8520DAC9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6A0-9059-4527-BDA4-5F39B524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F01-3A4C-45A6-A0CC-2AD69A7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5E4-E06E-4907-97D4-569B03D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09F3-A85E-4BFB-BB4D-3CC229991A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242-9019-4B89-AA2B-80844CD3E4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038480"/>
                <a:ext cx="2441520" cy="248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9:52:48Z</dcterms:created>
  <dc:creator>Conrad</dc:creator>
  <dc:description/>
  <dc:language>en-US</dc:language>
  <cp:lastModifiedBy>Farzad Ghanei</cp:lastModifiedBy>
  <dcterms:modified xsi:type="dcterms:W3CDTF">2006-07-27T11:19:42Z</dcterms:modified>
  <cp:revision>41</cp:revision>
  <dc:subject/>
  <dc:title>مدیریت شبکه‌های رایانه‌ای بهم‌پیوست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