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0B1F-CE5E-4A18-9A41-9B77842E7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8BD0-8242-462B-8F48-1D291DC1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D825-AC49-4D4D-BDB5-AD85C890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DCC5-048D-4008-933D-8E117B8C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6607-3786-40EA-AA93-28CEE0CE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8097-8ADB-4F51-9064-E8DACE42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C212-498B-4ECE-9E91-1DAC9B86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6100-3829-478A-BF1D-FB15258E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73BA-246F-4A07-BD20-3CE8870B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B840-1869-4B87-A5F4-CEFCE66A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32BB-4120-4C8F-BC1A-22C533F0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BBC0-2196-453A-AC2F-57BEA237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A03C-635C-4274-B57C-80DF91A0D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2T06:30:14Z</dcterms:created>
  <dc:creator>virtusa</dc:creator>
  <dc:description/>
  <dc:language>en-US</dc:language>
  <cp:lastModifiedBy>virtusa</cp:lastModifiedBy>
  <dcterms:modified xsi:type="dcterms:W3CDTF">2004-12-02T06:30:28Z</dcterms:modified>
  <cp:revision>1</cp:revision>
  <dc:subject/>
  <dc:title>Slide 1</dc:title>
</cp:coreProperties>
</file>