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16E6-219F-415F-9B61-3D5B0A5C1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entered opened a new  Openoffice text document and I entered some text i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 tried to spell check the document so I pressed  the short cut key “Alt+W” to spell check the document. But it is shwoing the  “window”  menu bar option “window” as shown above.  But as per the definition of  “Alt+w” short cut key it does this change.(Alt+W  Spellchecker Dialog : call back the original unknown word into the text box). So please check it. It may be treated as defect or enhancem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9D8C-635F-43B9-B551-F66B10635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8FD6-5B12-4ADF-9C9C-ADE1EDCC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11D1-47A1-4304-A4EB-83FAF3DD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652D-A0EB-4908-9CE5-85872FBA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DF6E-5CD0-42F3-BD0F-4BF2C129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4DB3-B369-4EB1-92B8-3DE76190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B302-6612-460A-B6F9-3DC6AE2B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EC95-D319-4056-892C-1487423A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7381-F699-4CD1-8AFC-7EDEEB25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FA61-F4A6-4E3C-BEEA-0D74CA76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12DD-9320-4D1A-B1BF-D1F34C56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2D77-3340-4D1C-8029-2CE04F75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C216-7B0C-4B63-A3EA-82B2BC6E3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llchecker Tes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07:00:54Z</dcterms:created>
  <dc:creator>virtusa</dc:creator>
  <dc:description/>
  <dc:language>en-US</dc:language>
  <cp:lastModifiedBy>virtusa</cp:lastModifiedBy>
  <dcterms:modified xsi:type="dcterms:W3CDTF">2004-12-03T07:11:07Z</dcterms:modified>
  <cp:revision>3</cp:revision>
  <dc:subject/>
  <dc:title>Work Flow</dc:title>
</cp:coreProperties>
</file>