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D3D7-6753-44DF-9748-3E6023EF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1376-506B-4840-AEAB-75473F24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E37A-30DD-42BC-8406-F1D88F67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028B-2C86-4D1B-9CC9-B589C38BD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DEF6-7945-45E3-A3F3-4162E09E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5274-0FB0-4A86-A72F-00D92227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004D-895C-40AF-AA71-1B7E75E2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7F1D-5B20-4A52-AD0B-C4E0E3DB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82FA-7EF6-45B5-A7D3-FBFF033E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8EE5-31C5-4AA9-9CEE-B2823B86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E7AE-4538-4DF5-B622-39A359E9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148A-389B-432D-BCD3-4B514670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5272-1604-49C1-A163-8A428DE086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peg med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ACT60.MPG" descr=""/>
          <p:cNvPicPr/>
          <p:nvPr/>
        </p:nvPicPr>
        <p:blipFill>
          <a:blip r:embed="rId1"/>
          <a:stretch/>
        </p:blipFill>
        <p:spPr>
          <a:xfrm>
            <a:off x="3809880" y="2857680"/>
            <a:ext cx="15242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63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2:37:31Z</dcterms:created>
  <dc:creator>jaime</dc:creator>
  <dc:description/>
  <dc:language>en-US</dc:language>
  <cp:lastModifiedBy>jaime</cp:lastModifiedBy>
  <dcterms:modified xsi:type="dcterms:W3CDTF">2010-06-04T02:39:15Z</dcterms:modified>
  <cp:revision>2</cp:revision>
  <dc:subject/>
  <dc:title>Mpeg media</dc:title>
</cp:coreProperties>
</file>