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1BF9B-B001-4C71-A9AC-C32B3C39D8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B617B-FD11-4938-98D0-420333686D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2171E6-E91B-4405-9495-9945ABC605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76BACB-9648-4593-AB77-C16FF9E091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7AA1C-CE53-4713-BAE7-8618A48473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AEEEB1-C751-4B72-8230-DC5EAD3296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F4D32B-2485-480F-9AAF-E5EECC33558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256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461760"/>
            <a:ext cx="914256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4617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040" y="34617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320" y="-3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2640" y="-3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4617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320" y="34617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2640" y="34617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256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114300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4617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040" y="34617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461760"/>
            <a:ext cx="914256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914256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329040" indent="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1304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rev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brid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1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ive thanks to the Lord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ur God and Ki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1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He is good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 is above all things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2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a mighty hand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outstretched arm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2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the life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's been rebor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3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rom the rising to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etting sun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3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y the grace of God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will carry 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2:40:15Z</dcterms:created>
  <dc:creator>Dan Shepherd</dc:creator>
  <dc:description/>
  <dc:language>en-US</dc:language>
  <cp:lastModifiedBy>Glenn Rymer</cp:lastModifiedBy>
  <dcterms:modified xsi:type="dcterms:W3CDTF">2009-01-24T01:04:54Z</dcterms:modified>
  <cp:revision>20</cp:revision>
  <dc:subject/>
  <dc:title>Freely, Freely</dc:title>
</cp:coreProperties>
</file>