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must be balanc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418-1429-4132-A24C-850A78B5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0C8-2F88-4C9F-B9A9-526D782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37E-1CD5-425B-91BE-155A557F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7B0-1C9F-444F-982E-9E182D73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3038-77B7-47EC-A7BD-CAB7A62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9D87-EFC1-4807-99FC-187DC12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43BF-E917-4F21-931D-AAB6EFC0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DC60-58AB-4C22-88CD-29A2C83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7D9-4DC8-449A-9A4B-E90A3AB6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72920" y="42660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72F-5440-4F1B-9D01-0097B9BE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26A-BF29-4D95-BEC6-69BE219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C33-2251-4F54-B124-CE47CC8A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AD9-9250-4E63-B30B-B99942A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F30-4C8D-4641-A2D2-0F3CAF2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DF3-20B9-4756-9AF8-EB825898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3348-A145-4A9A-B526-0320DC22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7FC0-65BB-455A-A9C2-C2D6A858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EB5-9032-47F2-840C-FB2E143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E3A-3FA0-4683-B692-2335C819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6BA-030F-4B91-B477-DBB6549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2920" y="42660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131-CA47-4EFD-B24D-DA5EC76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4AA-A476-4B5C-B332-6E000B2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610-DBFC-48EB-8DF3-5C64F5A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7A7-9C9F-46F5-B1D2-4864BF7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8574840" y="-16560"/>
            <a:ext cx="128124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1EF12CC-44B5-4B0E-80C2-0F00129DAA0E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670960" y="26640"/>
            <a:ext cx="128412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633520" y="211680"/>
            <a:ext cx="1130400" cy="17319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"/>
            <p:cNvSpPr/>
            <p:nvPr/>
          </p:nvSpPr>
          <p:spPr>
            <a:xfrm>
              <a:off x="42480" y="6132960"/>
              <a:ext cx="1905480" cy="1135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88840" y="6267960"/>
              <a:ext cx="124200" cy="2250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80" y="6603480"/>
              <a:ext cx="1386000" cy="7171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26080" y="6662880"/>
              <a:ext cx="918360" cy="654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9240" y="6180120"/>
              <a:ext cx="235800" cy="2116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22120" y="7284240"/>
              <a:ext cx="132840" cy="195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" y="6311520"/>
              <a:ext cx="337680" cy="669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69640" y="6281640"/>
              <a:ext cx="636840" cy="3042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7680" y="6462000"/>
              <a:ext cx="272880" cy="117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873360" y="6276600"/>
                  <a:ext cx="274680" cy="151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756440" y="6232680"/>
                  <a:ext cx="75240" cy="2044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33200" y="6530040"/>
                <a:ext cx="1040760" cy="437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5400" y="6799320"/>
                <a:ext cx="426600" cy="258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88560" y="6439320"/>
                <a:ext cx="187200" cy="415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360" y="6522840"/>
                  <a:ext cx="1472760" cy="7696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85760" y="6596640"/>
                  <a:ext cx="139680" cy="291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74200" y="6351480"/>
                  <a:ext cx="340920" cy="236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"/>
            <p:cNvSpPr/>
            <p:nvPr/>
          </p:nvSpPr>
          <p:spPr>
            <a:xfrm flipH="1">
              <a:off x="9569520" y="4584240"/>
              <a:ext cx="358560" cy="2497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9636120" y="2332080"/>
              <a:ext cx="358560" cy="285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9502200" y="1899000"/>
                <a:ext cx="10836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20" y="14400"/>
            <a:ext cx="9807480" cy="74739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2720" y="1665000"/>
            <a:ext cx="7056720" cy="250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91545A1-18DB-413E-BA62-62DD403A7995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93" name=""/>
            <p:cNvSpPr/>
            <p:nvPr/>
          </p:nvSpPr>
          <p:spPr>
            <a:xfrm>
              <a:off x="310680" y="309600"/>
              <a:ext cx="3936240" cy="1779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240" y="456480"/>
              <a:ext cx="3925800" cy="176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601560"/>
              <a:ext cx="2603520" cy="1608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7" name=""/>
              <p:cNvSpPr/>
              <p:nvPr/>
            </p:nvSpPr>
            <p:spPr>
              <a:xfrm>
                <a:off x="3508560" y="1634400"/>
                <a:ext cx="370800" cy="374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6000" y="258840"/>
                <a:ext cx="4174200" cy="1891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7720" y="276120"/>
                <a:ext cx="2949480" cy="1074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400" y="438840"/>
                <a:ext cx="397080" cy="717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81040" y="937800"/>
                <a:ext cx="1208520" cy="636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103" name=""/>
            <p:cNvSpPr/>
            <p:nvPr/>
          </p:nvSpPr>
          <p:spPr>
            <a:xfrm rot="7320000">
              <a:off x="8591760" y="5137560"/>
              <a:ext cx="110016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8564760" y="5113440"/>
              <a:ext cx="10965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8749440" y="5096520"/>
              <a:ext cx="72792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8727480" y="55818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553240" y="5127120"/>
                <a:ext cx="116604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858520" y="5244120"/>
                <a:ext cx="82548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386640" y="5028120"/>
                <a:ext cx="10980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989200" y="5248800"/>
                <a:ext cx="33732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93600" y="5572080"/>
            <a:ext cx="7504200" cy="8031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4240" y="2127240"/>
            <a:ext cx="979560" cy="4208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813600"/>
            <a:ext cx="8609040" cy="74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Stoichiometry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41240" y="3390840"/>
            <a:ext cx="86090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apter 10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em I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r. Kupfer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2004 - 05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3 step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g of A ~&gt; mol of A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 of A ~&gt; mol of B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 of B ~&gt; g of B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grams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to mol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10 mol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mol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to mol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10 mol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mol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to grams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664 g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Chapter 10-1 Objectives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Apply a three step method to solve stoichiometry problem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Use mole ratios and molar masses to create conversion factors for solving stoichiometry problem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What is Stoichiometry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What can we do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Predict yield of a reaction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Determine how much a reactant you need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How do we do this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Compute mole ratio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Determine mass of chemica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2920" y="579240"/>
            <a:ext cx="7575480" cy="742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Reactant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417320"/>
            <a:ext cx="8485200" cy="463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hemists are not wastefu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 the correct reactant amoun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Reactant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4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+ 5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~&gt; 4NO + 6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re, 4 mol 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reacts with 5 mol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e ration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31248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4 mol N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:5 mol 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f I only have 2.4 mol 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 how much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do I need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3.0 mol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3995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soamyl acetate -- provides banana flavoring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+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H ~&gt;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f I have 450 g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&amp; an excess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H how much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will I get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21240" y="1341360"/>
            <a:ext cx="3710160" cy="2567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rganize what you know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soamyl alcoh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 = 450 g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olar mass = 88.17g/mol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cetic Acid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 = exces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olar mass = 60.06 g/mol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soamyl acetate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 = ? g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olar mass = 130.21 g/m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 = not given (doesn’t matter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olar mass = 18.02 g/m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o calculate yield, we use mole ratio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Ratio between C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H &amp; C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vard  Schools</cp:lastModifiedBy>
  <dcterms:modified xsi:type="dcterms:W3CDTF">2005-04-18T16:48:21Z</dcterms:modified>
  <cp:revision>5</cp:revision>
  <dc:subject/>
  <dc:title>Stoichiometry</dc:title>
</cp:coreProperties>
</file>