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763A-465A-4C3C-96C5-A712F2ECE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44FC-6641-40E5-9B2F-BBCA76E9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EA0C-0075-4598-83B9-1C8CBB2DA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EA51-0E11-4BB1-A2FE-01C437C7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BE96-24A2-4CB4-ABFD-BC8EE471B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6BAB-0C29-4E40-A89E-7CEF871B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6893-79E5-4C34-9FDA-E7342E29B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462120"/>
            <a:ext cx="91440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46212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46212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46212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46212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46212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114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46212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46212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462120"/>
            <a:ext cx="91440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6120"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4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5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6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re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brid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1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ive thanks to the Lord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ur God and Ki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He is good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 is above all things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2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a mighty hand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outstretched arm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2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the life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's been rebor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3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rom the rising to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etting sun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3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y the grace of God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will carry o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22:40:15Z</dcterms:created>
  <dc:creator>Dan Shepherd</dc:creator>
  <dc:description/>
  <dc:language>en-US</dc:language>
  <cp:lastModifiedBy>Glenn Rymer</cp:lastModifiedBy>
  <dcterms:modified xsi:type="dcterms:W3CDTF">2009-01-24T01:04:54Z</dcterms:modified>
  <cp:revision>20</cp:revision>
  <dc:subject/>
  <dc:title>Freely, Freely</dc:title>
</cp:coreProperties>
</file>