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39C-1143-42DE-BCEE-2F33D272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409536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6BF-3576-4416-907D-4AE8BE64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DDA-05B1-4EA7-85A9-D119F49B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38F-E5E3-4200-9900-6D6374FE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AF01-F4C8-4F83-AFD8-44D087AB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4306-A5D2-4C3E-A3C8-23AAE53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741C-72E4-45F6-A335-A8EDDFF8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D7F7-78AC-4B80-B326-7A4D5B42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CFBE-7E9C-4280-89E3-502AA0A7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360" y="304920"/>
            <a:ext cx="70992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D0FE-86A6-4E0B-82F8-9B1BFFD3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2212-1003-4944-A98D-94516DE1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09A-510A-46BE-9F2C-A6319C06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3B12-A415-44E3-80FB-A078A7F8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3A2F-2FA0-4CF5-920E-E50FAEE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409536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E166-BCFA-4600-8E59-84102D47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47B2-49F9-4544-ADB1-8CA475A7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8FF8-7F2C-41DC-8566-13238347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357-1791-4A34-9C44-E31AADC2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D97-D26B-4AD8-B085-201F1A11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59D-B119-4B6A-B630-6E37B3A6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304920"/>
            <a:ext cx="70992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7CC-A2C4-4A6B-9B7E-220BF566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FED-DF5F-4BEC-BA9C-BDA2B9ED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BBE-2360-4286-A3C1-6189BD35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151-7EE4-49D8-BCC5-991605D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3748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817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453000"/>
            <a:ext cx="19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9C31-62B8-4D41-AC6A-5921C5444A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ABDE-C7CB-4B41-A1E3-FC87CEC760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x-y coordinate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718080" y="1692360"/>
          <a:ext cx="516096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8080" y="1692360"/>
                    <a:ext cx="516096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718080" y="2700360"/>
          <a:ext cx="2871720" cy="15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8080" y="2700360"/>
                    <a:ext cx="287172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07000" y="4581360"/>
          <a:ext cx="1293480" cy="7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7000" y="4581360"/>
                    <a:ext cx="12934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773680" y="4581360"/>
          <a:ext cx="1316160" cy="75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3680" y="4581360"/>
                    <a:ext cx="131616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2760" y="5516640"/>
            <a:ext cx="293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Earth system/traj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(X horizontal, y verti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7000" y="5440320"/>
          <a:ext cx="1101600" cy="75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7000" y="5440320"/>
                    <a:ext cx="1101600" cy="752400"/>
                  </a:xfrm>
                  <a:prstGeom prst="rect">
                    <a:avLst/>
                  </a:prstGeom>
                  <a:ln w="158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773680" y="5440320"/>
          <a:ext cx="1532160" cy="75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3680" y="5440320"/>
                    <a:ext cx="1532160" cy="752400"/>
                  </a:xfrm>
                  <a:prstGeom prst="rect">
                    <a:avLst/>
                  </a:prstGeom>
                  <a:ln w="158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92400" y="5594400"/>
            <a:ext cx="360360" cy="431640"/>
          </a:xfrm>
          <a:prstGeom prst="rightArrow">
            <a:avLst>
              <a:gd name="adj1" fmla="val 38972"/>
              <a:gd name="adj2" fmla="val 418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C55-1ACA-4E8D-BE1F-52BC7D214D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22:20:31Z</dcterms:created>
  <dc:creator>Dr. Waluyo Adi Siswanto</dc:creator>
  <dc:description/>
  <dc:language>en-US</dc:language>
  <cp:lastModifiedBy>user</cp:lastModifiedBy>
  <dcterms:modified xsi:type="dcterms:W3CDTF">2009-02-09T14:45:26Z</dcterms:modified>
  <cp:revision>182</cp:revision>
  <dc:subject>Lecture Presentation</dc:subject>
  <dc:title>Dynamics</dc:title>
</cp:coreProperties>
</file>