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984000" cy="927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3"/>
          </p:nvPr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74320" y="695160"/>
            <a:ext cx="4635720" cy="347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929880" y="4403880"/>
            <a:ext cx="512460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4"/>
          </p:nvPr>
        </p:nvSpPr>
        <p:spPr>
          <a:xfrm>
            <a:off x="-360" y="880740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5"/>
          </p:nvPr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5B6B3F0C-1DF7-4DAA-9122-6D3958EF4F99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32AC16E7-82C2-4632-A9CD-CB85B42168D8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-360" y="880740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-36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79360" y="695160"/>
            <a:ext cx="4626000" cy="347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body"/>
          </p:nvPr>
        </p:nvSpPr>
        <p:spPr>
          <a:xfrm>
            <a:off x="932040" y="4403520"/>
            <a:ext cx="5122800" cy="41734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y the way, IBM is not the only company discussing this with customers. In fact, when I first joined the team, I was told to go to Microsoft’s licensing web page and there, I found a webcast discussing licensing by the author of the Gartner Best Practices docu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CD2FDB-37FF-4CD9-8E55-257C15C42E5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71440" y="1994040"/>
            <a:ext cx="77724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271440" y="4100400"/>
            <a:ext cx="77724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8FCDFF-9EBC-4562-813B-AC7E2E480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71440" y="1994040"/>
            <a:ext cx="37926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54120" y="1994040"/>
            <a:ext cx="37926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271440" y="4100400"/>
            <a:ext cx="37926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54120" y="4100400"/>
            <a:ext cx="37926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256A2C-89C2-4094-8D00-DDCBF7E69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71440" y="1994040"/>
            <a:ext cx="250236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899440" y="1994040"/>
            <a:ext cx="250236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27080" y="1994040"/>
            <a:ext cx="250236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271440" y="4100400"/>
            <a:ext cx="250236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899440" y="4100400"/>
            <a:ext cx="250236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27080" y="4100400"/>
            <a:ext cx="250236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E6BD61-7604-474B-ACF9-E343AF93B8A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271440" y="1994040"/>
            <a:ext cx="7772400" cy="40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90CBE9-5ED1-47D5-816E-7757624C3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71440" y="1994040"/>
            <a:ext cx="777240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329B54-FFB1-4662-934D-9F9790159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71440" y="1994040"/>
            <a:ext cx="379260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54120" y="1994040"/>
            <a:ext cx="379260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7ECBAD-6CBD-417E-B048-853AC900D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F2CEB4-94E7-4A16-B247-D3E5F7293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B171F0-047E-4F35-872F-F6A343B1C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71440" y="1994040"/>
            <a:ext cx="37926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54120" y="1994040"/>
            <a:ext cx="379260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271440" y="4100400"/>
            <a:ext cx="37926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0378D5-9867-4F0C-B84D-AB2E4385C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71440" y="1994040"/>
            <a:ext cx="379260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54120" y="1994040"/>
            <a:ext cx="37926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54120" y="4100400"/>
            <a:ext cx="37926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830331-269F-4721-BD2C-8D5BA878D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71440" y="1994040"/>
            <a:ext cx="37926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54120" y="1994040"/>
            <a:ext cx="37926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71440" y="4100400"/>
            <a:ext cx="77724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122796-02A2-47FF-9751-B26FA872E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524640"/>
            <a:ext cx="9144000" cy="333360"/>
          </a:xfrm>
          <a:prstGeom prst="rect">
            <a:avLst/>
          </a:prstGeom>
          <a:solidFill>
            <a:srgbClr val="005d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271440" y="1994040"/>
            <a:ext cx="777240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5da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5da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5da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5da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685800" y="6305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2"/>
          </p:nvPr>
        </p:nvSpPr>
        <p:spPr>
          <a:xfrm>
            <a:off x="7238520" y="652608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D3A3B-44C7-4925-BB1B-3177F0187E2C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8086680" y="357120"/>
            <a:ext cx="706320" cy="2682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5670720" y="125280"/>
            <a:ext cx="717480" cy="71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3.xml"/><Relationship Id="rId11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2040" y="907560"/>
            <a:ext cx="8393040" cy="104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12920" y="1942920"/>
            <a:ext cx="8229600" cy="42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07800" indent="-307800">
              <a:lnSpc>
                <a:spcPct val="92000"/>
              </a:lnSpc>
              <a:spcBef>
                <a:spcPts val="224"/>
              </a:spcBef>
              <a:buSzPct val="100000"/>
              <a:buBlip>
                <a:blip r:embed="rId1"/>
              </a:buBlip>
              <a:tabLst>
                <a:tab algn="l" pos="307800"/>
                <a:tab algn="l" pos="420840"/>
                <a:tab algn="l" pos="878040"/>
                <a:tab algn="l" pos="1335240"/>
                <a:tab algn="l" pos="1792440"/>
                <a:tab algn="l" pos="2249640"/>
                <a:tab algn="l" pos="2706840"/>
                <a:tab algn="l" pos="3164040"/>
                <a:tab algn="l" pos="3621240"/>
                <a:tab algn="l" pos="4078440"/>
                <a:tab algn="l" pos="4535640"/>
                <a:tab algn="l" pos="4992840"/>
                <a:tab algn="l" pos="5450040"/>
                <a:tab algn="l" pos="5907240"/>
                <a:tab algn="l" pos="6364440"/>
                <a:tab algn="l" pos="6821640"/>
                <a:tab algn="l" pos="7278840"/>
                <a:tab algn="l" pos="7736040"/>
                <a:tab algn="l" pos="8193240"/>
                <a:tab algn="l" pos="8650440"/>
                <a:tab algn="l" pos="9107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est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50920">
              <a:lnSpc>
                <a:spcPct val="82000"/>
              </a:lnSpc>
              <a:spcBef>
                <a:spcPts val="201"/>
              </a:spcBef>
              <a:buSzPct val="100000"/>
              <a:buBlip>
                <a:blip r:embed="rId2"/>
              </a:buBlip>
              <a:tabLst>
                <a:tab algn="l" pos="307800"/>
                <a:tab algn="l" pos="420840"/>
                <a:tab algn="l" pos="878040"/>
                <a:tab algn="l" pos="1335240"/>
                <a:tab algn="l" pos="1792440"/>
                <a:tab algn="l" pos="2249640"/>
                <a:tab algn="l" pos="2706840"/>
                <a:tab algn="l" pos="3164040"/>
                <a:tab algn="l" pos="3621240"/>
                <a:tab algn="l" pos="4078440"/>
                <a:tab algn="l" pos="4535640"/>
                <a:tab algn="l" pos="4992840"/>
                <a:tab algn="l" pos="5450040"/>
                <a:tab algn="l" pos="5907240"/>
                <a:tab algn="l" pos="6364440"/>
                <a:tab algn="l" pos="6821640"/>
                <a:tab algn="l" pos="7278840"/>
                <a:tab algn="l" pos="7736040"/>
                <a:tab algn="l" pos="8193240"/>
                <a:tab algn="l" pos="8650440"/>
                <a:tab algn="l" pos="9107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test1_sub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7800" indent="0">
              <a:lnSpc>
                <a:spcPct val="84000"/>
              </a:lnSpc>
              <a:spcBef>
                <a:spcPts val="201"/>
              </a:spcBef>
              <a:buNone/>
              <a:tabLst>
                <a:tab algn="l" pos="307800"/>
                <a:tab algn="l" pos="420840"/>
                <a:tab algn="l" pos="878040"/>
                <a:tab algn="l" pos="1335240"/>
                <a:tab algn="l" pos="1792440"/>
                <a:tab algn="l" pos="2249640"/>
                <a:tab algn="l" pos="2706840"/>
                <a:tab algn="l" pos="3164040"/>
                <a:tab algn="l" pos="3621240"/>
                <a:tab algn="l" pos="4078440"/>
                <a:tab algn="l" pos="4535640"/>
                <a:tab algn="l" pos="4992840"/>
                <a:tab algn="l" pos="5450040"/>
                <a:tab algn="l" pos="5907240"/>
                <a:tab algn="l" pos="6364440"/>
                <a:tab algn="l" pos="6821640"/>
                <a:tab algn="l" pos="7278840"/>
                <a:tab algn="l" pos="7736040"/>
                <a:tab algn="l" pos="8193240"/>
                <a:tab algn="l" pos="8650440"/>
                <a:tab algn="l" pos="910764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07800" indent="-307800">
              <a:lnSpc>
                <a:spcPct val="92000"/>
              </a:lnSpc>
              <a:spcBef>
                <a:spcPts val="224"/>
              </a:spcBef>
              <a:buSzPct val="100000"/>
              <a:buBlip>
                <a:blip r:embed="rId3"/>
              </a:buBlip>
              <a:tabLst>
                <a:tab algn="l" pos="307800"/>
                <a:tab algn="l" pos="420840"/>
                <a:tab algn="l" pos="878040"/>
                <a:tab algn="l" pos="1335240"/>
                <a:tab algn="l" pos="1792440"/>
                <a:tab algn="l" pos="2249640"/>
                <a:tab algn="l" pos="2706840"/>
                <a:tab algn="l" pos="3164040"/>
                <a:tab algn="l" pos="3621240"/>
                <a:tab algn="l" pos="4078440"/>
                <a:tab algn="l" pos="4535640"/>
                <a:tab algn="l" pos="4992840"/>
                <a:tab algn="l" pos="5450040"/>
                <a:tab algn="l" pos="5907240"/>
                <a:tab algn="l" pos="6364440"/>
                <a:tab algn="l" pos="6821640"/>
                <a:tab algn="l" pos="7278840"/>
                <a:tab algn="l" pos="7736040"/>
                <a:tab algn="l" pos="8193240"/>
                <a:tab algn="l" pos="8650440"/>
                <a:tab algn="l" pos="9107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est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50920">
              <a:lnSpc>
                <a:spcPct val="82000"/>
              </a:lnSpc>
              <a:spcBef>
                <a:spcPts val="201"/>
              </a:spcBef>
              <a:buSzPct val="100000"/>
              <a:buBlip>
                <a:blip r:embed="rId4"/>
              </a:buBlip>
              <a:tabLst>
                <a:tab algn="l" pos="307800"/>
                <a:tab algn="l" pos="420840"/>
                <a:tab algn="l" pos="878040"/>
                <a:tab algn="l" pos="1335240"/>
                <a:tab algn="l" pos="1792440"/>
                <a:tab algn="l" pos="2249640"/>
                <a:tab algn="l" pos="2706840"/>
                <a:tab algn="l" pos="3164040"/>
                <a:tab algn="l" pos="3621240"/>
                <a:tab algn="l" pos="4078440"/>
                <a:tab algn="l" pos="4535640"/>
                <a:tab algn="l" pos="4992840"/>
                <a:tab algn="l" pos="5450040"/>
                <a:tab algn="l" pos="5907240"/>
                <a:tab algn="l" pos="6364440"/>
                <a:tab algn="l" pos="6821640"/>
                <a:tab algn="l" pos="7278840"/>
                <a:tab algn="l" pos="7736040"/>
                <a:tab algn="l" pos="8193240"/>
                <a:tab algn="l" pos="8650440"/>
                <a:tab algn="l" pos="9107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Test2-sub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7800" indent="0">
              <a:lnSpc>
                <a:spcPct val="84000"/>
              </a:lnSpc>
              <a:spcBef>
                <a:spcPts val="201"/>
              </a:spcBef>
              <a:buNone/>
              <a:tabLst>
                <a:tab algn="l" pos="307800"/>
                <a:tab algn="l" pos="420840"/>
                <a:tab algn="l" pos="878040"/>
                <a:tab algn="l" pos="1335240"/>
                <a:tab algn="l" pos="1792440"/>
                <a:tab algn="l" pos="2249640"/>
                <a:tab algn="l" pos="2706840"/>
                <a:tab algn="l" pos="3164040"/>
                <a:tab algn="l" pos="3621240"/>
                <a:tab algn="l" pos="4078440"/>
                <a:tab algn="l" pos="4535640"/>
                <a:tab algn="l" pos="4992840"/>
                <a:tab algn="l" pos="5450040"/>
                <a:tab algn="l" pos="5907240"/>
                <a:tab algn="l" pos="6364440"/>
                <a:tab algn="l" pos="6821640"/>
                <a:tab algn="l" pos="7278840"/>
                <a:tab algn="l" pos="7736040"/>
                <a:tab algn="l" pos="8193240"/>
                <a:tab algn="l" pos="8650440"/>
                <a:tab algn="l" pos="910764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07800" indent="-307800">
              <a:lnSpc>
                <a:spcPct val="92000"/>
              </a:lnSpc>
              <a:spcBef>
                <a:spcPts val="224"/>
              </a:spcBef>
              <a:buSzPct val="100000"/>
              <a:buBlip>
                <a:blip r:embed="rId5"/>
              </a:buBlip>
              <a:tabLst>
                <a:tab algn="l" pos="307800"/>
                <a:tab algn="l" pos="420840"/>
                <a:tab algn="l" pos="878040"/>
                <a:tab algn="l" pos="1335240"/>
                <a:tab algn="l" pos="1792440"/>
                <a:tab algn="l" pos="2249640"/>
                <a:tab algn="l" pos="2706840"/>
                <a:tab algn="l" pos="3164040"/>
                <a:tab algn="l" pos="3621240"/>
                <a:tab algn="l" pos="4078440"/>
                <a:tab algn="l" pos="4535640"/>
                <a:tab algn="l" pos="4992840"/>
                <a:tab algn="l" pos="5450040"/>
                <a:tab algn="l" pos="5907240"/>
                <a:tab algn="l" pos="6364440"/>
                <a:tab algn="l" pos="6821640"/>
                <a:tab algn="l" pos="7278840"/>
                <a:tab algn="l" pos="7736040"/>
                <a:tab algn="l" pos="8193240"/>
                <a:tab algn="l" pos="8650440"/>
                <a:tab algn="l" pos="9107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est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50920">
              <a:lnSpc>
                <a:spcPct val="82000"/>
              </a:lnSpc>
              <a:spcBef>
                <a:spcPts val="201"/>
              </a:spcBef>
              <a:buSzPct val="100000"/>
              <a:buBlip>
                <a:blip r:embed="rId6"/>
              </a:buBlip>
              <a:tabLst>
                <a:tab algn="l" pos="307800"/>
                <a:tab algn="l" pos="420840"/>
                <a:tab algn="l" pos="878040"/>
                <a:tab algn="l" pos="1335240"/>
                <a:tab algn="l" pos="1792440"/>
                <a:tab algn="l" pos="2249640"/>
                <a:tab algn="l" pos="2706840"/>
                <a:tab algn="l" pos="3164040"/>
                <a:tab algn="l" pos="3621240"/>
                <a:tab algn="l" pos="4078440"/>
                <a:tab algn="l" pos="4535640"/>
                <a:tab algn="l" pos="4992840"/>
                <a:tab algn="l" pos="5450040"/>
                <a:tab algn="l" pos="5907240"/>
                <a:tab algn="l" pos="6364440"/>
                <a:tab algn="l" pos="6821640"/>
                <a:tab algn="l" pos="7278840"/>
                <a:tab algn="l" pos="7736040"/>
                <a:tab algn="l" pos="8193240"/>
                <a:tab algn="l" pos="8650440"/>
                <a:tab algn="l" pos="9107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Test3_1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50920">
              <a:lnSpc>
                <a:spcPct val="82000"/>
              </a:lnSpc>
              <a:spcBef>
                <a:spcPts val="201"/>
              </a:spcBef>
              <a:buSzPct val="100000"/>
              <a:buBlip>
                <a:blip r:embed="rId7"/>
              </a:buBlip>
              <a:tabLst>
                <a:tab algn="l" pos="307800"/>
                <a:tab algn="l" pos="420840"/>
                <a:tab algn="l" pos="878040"/>
                <a:tab algn="l" pos="1335240"/>
                <a:tab algn="l" pos="1792440"/>
                <a:tab algn="l" pos="2249640"/>
                <a:tab algn="l" pos="2706840"/>
                <a:tab algn="l" pos="3164040"/>
                <a:tab algn="l" pos="3621240"/>
                <a:tab algn="l" pos="4078440"/>
                <a:tab algn="l" pos="4535640"/>
                <a:tab algn="l" pos="4992840"/>
                <a:tab algn="l" pos="5450040"/>
                <a:tab algn="l" pos="5907240"/>
                <a:tab algn="l" pos="6364440"/>
                <a:tab algn="l" pos="6821640"/>
                <a:tab algn="l" pos="7278840"/>
                <a:tab algn="l" pos="7736040"/>
                <a:tab algn="l" pos="8193240"/>
                <a:tab algn="l" pos="8650440"/>
                <a:tab algn="l" pos="9107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Test3_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2000"/>
              </a:lnSpc>
              <a:spcBef>
                <a:spcPts val="201"/>
              </a:spcBef>
              <a:buSzPct val="100000"/>
              <a:buBlip>
                <a:blip r:embed="rId8"/>
              </a:buBlip>
              <a:tabLst>
                <a:tab algn="l" pos="307800"/>
                <a:tab algn="l" pos="420840"/>
                <a:tab algn="l" pos="878040"/>
                <a:tab algn="l" pos="1335240"/>
                <a:tab algn="l" pos="1792440"/>
                <a:tab algn="l" pos="2249640"/>
                <a:tab algn="l" pos="2706840"/>
                <a:tab algn="l" pos="3164040"/>
                <a:tab algn="l" pos="3621240"/>
                <a:tab algn="l" pos="4078440"/>
                <a:tab algn="l" pos="4535640"/>
                <a:tab algn="l" pos="4992840"/>
                <a:tab algn="l" pos="5450040"/>
                <a:tab algn="l" pos="5907240"/>
                <a:tab algn="l" pos="6364440"/>
                <a:tab algn="l" pos="6821640"/>
                <a:tab algn="l" pos="7278840"/>
                <a:tab algn="l" pos="7736040"/>
                <a:tab algn="l" pos="8193240"/>
                <a:tab algn="l" pos="8650440"/>
                <a:tab algn="l" pos="9107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Test3_2_1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2000"/>
              </a:lnSpc>
              <a:spcBef>
                <a:spcPts val="201"/>
              </a:spcBef>
              <a:buSzPct val="100000"/>
              <a:buBlip>
                <a:blip r:embed="rId9"/>
              </a:buBlip>
              <a:tabLst>
                <a:tab algn="l" pos="307800"/>
                <a:tab algn="l" pos="420840"/>
                <a:tab algn="l" pos="878040"/>
                <a:tab algn="l" pos="1335240"/>
                <a:tab algn="l" pos="1792440"/>
                <a:tab algn="l" pos="2249640"/>
                <a:tab algn="l" pos="2706840"/>
                <a:tab algn="l" pos="3164040"/>
                <a:tab algn="l" pos="3621240"/>
                <a:tab algn="l" pos="4078440"/>
                <a:tab algn="l" pos="4535640"/>
                <a:tab algn="l" pos="4992840"/>
                <a:tab algn="l" pos="5450040"/>
                <a:tab algn="l" pos="5907240"/>
                <a:tab algn="l" pos="6364440"/>
                <a:tab algn="l" pos="6821640"/>
                <a:tab algn="l" pos="7278840"/>
                <a:tab algn="l" pos="7736040"/>
                <a:tab algn="l" pos="8193240"/>
                <a:tab algn="l" pos="8650440"/>
                <a:tab algn="l" pos="9107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Test3_2_2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9T13:52:53Z</dcterms:created>
  <dc:creator>Terry Quinn</dc:creator>
  <dc:description/>
  <dc:language>en-US</dc:language>
  <cp:lastModifiedBy>sunying</cp:lastModifiedBy>
  <dcterms:modified xsi:type="dcterms:W3CDTF">2012-07-04T02:02:10Z</dcterms:modified>
  <cp:revision>178</cp:revision>
  <dc:subject/>
  <dc:title>PowerPoint Presentation</dc:title>
</cp:coreProperties>
</file>