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C9D8-2F4B-4137-98D8-07D2D4378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512A-2F85-4291-BAEC-10D859D16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86FF-AE4F-4E9E-9DBA-57DB46E2F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1AB5-2575-4728-906C-813CA8F7F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EA59-7CEA-4D05-AE4A-A2FDC261A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CDAF-B2A0-4D36-9E27-EDEE4CE83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D5AC-D992-4C08-9618-FB848919D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0D22-A908-44DA-95B4-31E357CF7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E226-9AAF-47DA-85CE-F511F1DFB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B538-4371-41A0-BFFA-7521968ED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FBD4-C574-44FF-810D-3C691637D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7002-69F1-46AD-8F36-F0A161950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BA8C2-5F9D-4303-A1E7-7052BD9980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19:58:52Z</dcterms:created>
  <dc:creator>Peter Thomas Kupfer</dc:creator>
  <dc:description/>
  <dc:language>en-US</dc:language>
  <cp:lastModifiedBy>Peter Thomas Kupfer</cp:lastModifiedBy>
  <dcterms:modified xsi:type="dcterms:W3CDTF">2005-02-06T20:00:11Z</dcterms:modified>
  <cp:revision>2</cp:revision>
  <dc:subject/>
  <dc:title>Slide 1</dc:title>
</cp:coreProperties>
</file>