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41E-BDE3-4894-802C-E8E3FBD9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347-2360-4BC6-B7DB-DAC5331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F01-D98E-4E71-9638-58A53C64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95A-0AEE-4D4D-8244-F9B06E0A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902-814C-4EEB-BF1D-0FA38AE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9D7-9F62-4A27-853A-563DFC41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27B-AEC2-4040-8711-DD6B230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4CC-6D5A-4B24-BEF6-E5FAAD20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FE8-44F3-43EF-9A2E-A16403A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486-B748-4ED5-B993-F9ED59C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7C2-E075-44F6-907E-3E6CDBF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A5A-DC97-49DD-8F70-1ACF029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AAEEF-2C2C-40DB-B234-1D9A966E38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ll 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p, 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7:48:23Z</dcterms:created>
  <dc:creator/>
  <dc:description/>
  <dc:language>en-US</dc:language>
  <cp:lastModifiedBy/>
  <cp:revision>0</cp:revision>
  <dc:subject/>
  <dc:title/>
</cp:coreProperties>
</file>