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CD47-A1A8-4834-BBE4-80BEE495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0B03-60A2-4AB8-BAC3-606C0A7E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EC0C-D94A-4C75-8462-358C98DC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4400-8389-4702-98E8-35B0B3EC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ED20-89FD-43E7-BD5F-D88092E7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D5A3-B7FE-45A8-BDFF-2CD64DFB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F24F-8031-4367-9CE8-1908AA29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347A-6610-40BC-9E05-340EA936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9C6A-BC3E-4167-8992-AAAA3F98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E6AE-0B02-42FB-99FC-A7B9BC11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77CD-8C16-4C08-9D94-E7CF2319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6C3F-2171-402A-8C7A-58201132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2D1C-C097-4668-A5D4-354B1C3F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C77B-87FF-4009-85AA-A9684BD1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1DFB-35D4-4E56-B63C-20E96733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1D6E-E265-4548-A384-118B5481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F359-01BE-45D7-954B-07E74E62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3E2FA-C428-40FC-9AA0-C36C028A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B6416-A4E6-4293-B0AE-D21C61C5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67BDA-BA68-4722-9854-6DA8EC0F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451DB-DBD2-4487-AD04-19340A73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84B1D-6F0E-45A3-B9E4-4B2D3DE8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5CA0-9D1B-4531-96F3-200BFBB1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A34D1-6C72-48B7-98D7-9F43BACE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69B8C-3A5D-48B6-B38E-323FEF18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B6CAE-07B0-46DF-A704-FFE7EC24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50265-0C30-4548-9D54-2FB97182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276F1-8FCA-4836-8FCE-6B63BC2F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2403D-9675-483A-982B-9C539C75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ADB6D-1D12-4B7B-90A0-7F9C90FC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BD42-22A7-413C-89E6-8405C3B3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C5AB-CC0C-43FF-8E40-F3C439E7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18F7B-62A9-486A-9DDE-F16B2AF1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5C1F-B8F5-4277-B5DE-B93436ED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AFC5-4865-481A-AB4F-97194BCF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C812-2992-4951-9742-3D55F942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1240" y="1550880"/>
            <a:ext cx="9574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03120" y="604800"/>
            <a:ext cx="94741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201600" y="7205760"/>
            <a:ext cx="403200" cy="2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F20542-B3DC-453A-A88C-B561BAC9589F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2"/>
          </p:nvPr>
        </p:nvSpPr>
        <p:spPr>
          <a:xfrm>
            <a:off x="604800" y="7205760"/>
            <a:ext cx="1106640" cy="28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201240" y="653760"/>
            <a:ext cx="95742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75185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75185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24480" y="7634160"/>
            <a:ext cx="302256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6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6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93D1C-1D66-42AD-A1EE-31500F8CB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7360" y="2022120"/>
            <a:ext cx="858348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506600" y="3959280"/>
            <a:ext cx="7066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rmAutofit fontScale="44000"/>
          </a:bodyPr>
          <a:p>
            <a:pPr marL="1508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794B9-DB80-4D41-AC9E-941A7455E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png"/><Relationship Id="rId12" Type="http://schemas.openxmlformats.org/officeDocument/2006/relationships/image" Target="../media/image4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854600" y="957240"/>
            <a:ext cx="1440" cy="5875200"/>
          </a:xfrm>
          <a:prstGeom prst="line">
            <a:avLst/>
          </a:prstGeom>
          <a:ln w="9360">
            <a:solidFill>
              <a:srgbClr val="666666"/>
            </a:solidFill>
            <a:prstDash val="sys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84520" y="1251000"/>
            <a:ext cx="6159240" cy="4964040"/>
          </a:xfrm>
          <a:prstGeom prst="ellipse">
            <a:avLst/>
          </a:prstGeom>
          <a:noFill/>
          <a:ln w="6408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 rot="18900000">
            <a:off x="3069720" y="1817280"/>
            <a:ext cx="586080" cy="120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 rot="16200000">
            <a:off x="2584440" y="2960280"/>
            <a:ext cx="584280" cy="1428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 rot="2700000">
            <a:off x="5952600" y="1814760"/>
            <a:ext cx="584280" cy="1201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245280" y="1174680"/>
            <a:ext cx="1487520" cy="1290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 rot="8100000">
            <a:off x="6004800" y="4717800"/>
            <a:ext cx="584280" cy="1422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6338880" y="5450040"/>
            <a:ext cx="1143000" cy="901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 rot="5400000">
            <a:off x="6473520" y="2962080"/>
            <a:ext cx="583920" cy="1428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838080" y="1360440"/>
            <a:ext cx="2389320" cy="966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63600" y="1539720"/>
            <a:ext cx="15238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68400" y="3182760"/>
            <a:ext cx="2388960" cy="966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39760" y="3363840"/>
            <a:ext cx="2030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3701880" y="2610000"/>
            <a:ext cx="2351160" cy="2350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 rot="5400000">
            <a:off x="4698720" y="-793800"/>
            <a:ext cx="335160" cy="3383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 rot="13500000">
            <a:off x="3229560" y="4719600"/>
            <a:ext cx="585720" cy="1422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556320" y="773280"/>
            <a:ext cx="561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Arial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31960" y="773280"/>
            <a:ext cx="561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Arial"/>
                <a:ea typeface="SimSu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2"/>
          <a:stretch/>
        </p:blipFill>
        <p:spPr>
          <a:xfrm>
            <a:off x="1122480" y="5321160"/>
            <a:ext cx="2388960" cy="966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306440" y="5499000"/>
            <a:ext cx="2030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7346880" y="3328920"/>
            <a:ext cx="981000" cy="7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1:10:52Z</dcterms:created>
  <dc:creator>lawrencs</dc:creator>
  <dc:description/>
  <dc:language>en-US</dc:language>
  <cp:lastModifiedBy/>
  <cp:lastPrinted>2010-05-13T07:15:02Z</cp:lastPrinted>
  <dcterms:modified xsi:type="dcterms:W3CDTF">2013-05-23T10:45:52Z</dcterms:modified>
  <cp:revision>145</cp:revision>
  <dc:subject/>
  <dc:title/>
</cp:coreProperties>
</file>