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9BC-2C40-4DC8-9308-821F05A1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CA7-E25E-4823-96EE-12E0AE1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455-879C-45EA-95C3-EA5E1695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CC0-3CF2-4A88-B5D7-7D16218A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AF6-238D-481E-BF73-8C886EE4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A16-8764-4834-B0B0-25CF8002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1B5-85DE-42E2-BEFA-606C1272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3F1-C5FE-4BDD-84FE-61232542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2D9-B286-4E2B-BFA6-98CEBFC6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20A-1EBC-4128-9D43-438F9F0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3C4-B632-4D06-AFC7-536CDFC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5B6-0C84-4ED0-AC5C-B60011A5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7E6B-1D4E-405A-B584-BCAD523977A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aždý budoucí inženýr se učí matematický zápis sumy dvou racionálních čísel, například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819520" y="4191120"/>
                <a:ext cx="33861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ze takto jednoduše napsat. Tato forma je špatná pro svoji banalitu a svědčí o nedostatcích ve vzdělání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ff"/>
                </a:solidFill>
                <a:latin typeface="Times New Roman"/>
              </a:rPr>
              <a:t>První matematická lek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33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V prvních semestrech se učí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005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505320" y="1295280"/>
                <a:ext cx="2050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dá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90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286000" y="2819520"/>
                <a:ext cx="48006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3886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 všichni ví, že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19520" y="4724280"/>
                <a:ext cx="342900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tedy rovn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76720" y="1295280"/>
                <a:ext cx="2590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2514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ůžeme jednoduše napsat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5800" y="3276720"/>
                <a:ext cx="77342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5486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ám(a) musíš uznat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adá to podstatně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rozumitelněji a vědečtěji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oučasně je samozřejmé, že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2057400"/>
                <a:ext cx="6019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také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13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95480" y="4648320"/>
                <a:ext cx="292896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z toho vyplývá, ž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057400" y="1295280"/>
                <a:ext cx="53341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2819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rovnice se dá napsat jednoduchým a samozřejmým způsobem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38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4920" y="4343400"/>
                <a:ext cx="83818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usíme ještě zohlednit, ž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666880"/>
            <a:ext cx="93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86200" y="990720"/>
                <a:ext cx="1233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1905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opačná mocnina mocniny převrácené se rovná převrácené mocnině mocniny opačné; za předpokladu jednorozměrného prostoru a při použití vektoru 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zřetelem na to, ž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819520" y="4876920"/>
                <a:ext cx="3886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01000" y="2857680"/>
                <a:ext cx="457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stli tedy potvrdíme, ž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62520" y="1143000"/>
                <a:ext cx="1157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1828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také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74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2590920"/>
                <a:ext cx="3124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80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ak logicky dostaneme 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00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0" y="4800600"/>
                <a:ext cx="480060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použití předcházejících výrazů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 rot="10800000">
                <a:off x="685800" y="1142640"/>
                <a:ext cx="7924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236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ak dostaneme výraz v elegantní a čitelné podobě, současně jednoduché a pro každého srozumitelné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336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8600" y="3581280"/>
                <a:ext cx="86104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p>
                                              <m:e>
                                                <m:bar>
                                                  <m:barPr>
                                                    <m:pos m:val="top"/>
                                                  </m:bar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bar>
                                              </m:e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p>
                                              <m:e>
                                                <m:bar>
                                                  <m:barPr>
                                                    <m:pos m:val="top"/>
                                                  </m:bar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bar>
                                              </m:e>
                                              <m:sup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!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4724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V tomto okamžiku je samozřejmé, ž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ato rovnice je podstatně srozumitelnější než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581280" y="6019920"/>
                <a:ext cx="1905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Bylo by možné ještě ukázat hodně jiných možností zápisu výraz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971800" y="1295280"/>
                <a:ext cx="31575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řistoupíme k nim v okamžiku, kdy začneme přesně chápat jednoduché principy předcházející metody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ElPeplo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9528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šli tento e-mail chytrému , inteligentnímu inženýrov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kud takového neznáš, pošli ho svému známému nebo příteli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37:43Z</dcterms:created>
  <dc:creator>Earl Gray</dc:creator>
  <dc:description/>
  <dc:language>en-US</dc:language>
  <cp:lastModifiedBy>.</cp:lastModifiedBy>
  <dcterms:modified xsi:type="dcterms:W3CDTF">2002-12-06T09:29:41Z</dcterms:modified>
  <cp:revision>31</cp:revision>
  <dc:subject/>
  <dc:title>PowerPoint-Präsentation</dc:title>
</cp:coreProperties>
</file>