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5A1D-37CC-4F9B-A3CC-8D37D4008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3711-9D18-47E5-8825-D6C89A2B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9805-625D-4A97-8312-A4F1F54CB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570F-E415-4D03-B8AE-FF307583C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19C6-B710-41BA-888D-6F3ECF24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8D34-D003-434B-A57C-3637BA6D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AFCB-C256-45B7-B135-DAD55B51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EDAC-5200-4391-B453-DC8A2CF7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9302-B729-4A85-B23E-02AABEA5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B1D7-7495-48E0-9C7A-008DE493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D2B3-6AAF-48D6-B208-206D1E30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6874-61E8-4A98-BF32-8D932E17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731D7-B986-4AAE-AC1A-E29A0A2CBE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P to P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this exporting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18:35:58Z</dcterms:created>
  <dc:creator/>
  <dc:description/>
  <dc:language>en-US</dc:language>
  <cp:lastModifiedBy/>
  <dcterms:modified xsi:type="dcterms:W3CDTF">2011-09-27T19:17:22Z</dcterms:modified>
  <cp:revision>2</cp:revision>
  <dc:subject/>
  <dc:title/>
</cp:coreProperties>
</file>