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219F-6203-4AE7-8079-2C1ECBC3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AFC8-3A52-4A23-992F-1579EFF4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769-E5CA-42E8-966A-6F5533E3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6B20-8057-4071-B87D-D678D99B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54CD-3B68-45BA-B275-893FDB7C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65E1-41BE-4299-8E62-81D24C75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E06C-2728-45DB-8A2A-556AC6EE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3621-0719-4E54-B6B9-CE56C471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852D-1A50-4B2E-9EE2-5980DE71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9BBA-A480-492F-A2FC-4225254C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3941-5226-45F3-A370-EFEE0B95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5D09-3A25-476C-B04E-1B34AAFF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E0D9-4AD2-40AC-83EF-57D442AE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CEDD-D6EA-4B19-9D83-81F96EE9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971F-EB73-45C7-A6EF-845AAFA5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1B08-5CD1-45E2-A11B-9DFEAF0F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8901-900A-43B2-B30E-5840E325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6B3B-A23F-415D-AB07-2ADEEA02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99AE-9125-4C21-9321-48F61F0F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ABD4-CC21-41AF-A44C-A66BCA8D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C6B7-21DF-45AF-B81C-BA020888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A159-141A-4BA3-A517-04D4549C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8789-5986-460B-93C0-564FB974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0E81-2CF1-4D9F-AF11-86897B26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9DF5-F91B-494F-A35F-EF06D6DBF2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12081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69EA-B430-434B-80E3-17E7FBD6E9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 rtl="1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-1380960"/>
            <a:ext cx="7772400" cy="40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he-IL" sz="4800" spc="-1" strike="noStrike">
                <a:solidFill>
                  <a:srgbClr val="ccffff"/>
                </a:solidFill>
                <a:latin typeface="Arial"/>
                <a:cs typeface="Arial"/>
              </a:rPr>
              <a:t>הצלחת תלמידי הכוון</a:t>
            </a:r>
            <a:r>
              <a:rPr b="1" lang="en-US" sz="4800" spc="-1" strike="noStrike">
                <a:solidFill>
                  <a:srgbClr val="ccffff"/>
                </a:solidFill>
                <a:latin typeface="Arial"/>
                <a:ea typeface="Arial"/>
              </a:rPr>
              <a:t> </a:t>
            </a:r>
            <a:r>
              <a:rPr b="1" lang="he-IL" sz="4800" spc="-1" strike="noStrike">
                <a:solidFill>
                  <a:srgbClr val="ccffff"/>
                </a:solidFill>
                <a:latin typeface="Arial"/>
                <a:cs typeface="Arial"/>
              </a:rPr>
              <a:t>בלימודי המתמטיקה</a:t>
            </a:r>
            <a:r>
              <a:rPr b="1" lang="en-US" sz="4800" spc="-1" strike="noStrike">
                <a:solidFill>
                  <a:srgbClr val="ccffff"/>
                </a:solidFill>
                <a:latin typeface="Arial"/>
                <a:ea typeface="Arial"/>
              </a:rPr>
              <a:t> </a:t>
            </a:r>
            <a:r>
              <a:rPr b="1" lang="he-IL" sz="4800" spc="-1" strike="noStrike">
                <a:solidFill>
                  <a:srgbClr val="ccffff"/>
                </a:solidFill>
                <a:latin typeface="Arial"/>
                <a:ea typeface="Arial"/>
              </a:rPr>
              <a:t>( </a:t>
            </a:r>
            <a:r>
              <a:rPr b="1" lang="he-IL" sz="4800" spc="-1" strike="noStrike">
                <a:solidFill>
                  <a:srgbClr val="ccffff"/>
                </a:solidFill>
                <a:latin typeface="Arial"/>
                <a:ea typeface="Arial"/>
              </a:rPr>
              <a:t>1</a:t>
            </a:r>
            <a:r>
              <a:rPr b="1" lang="he-IL" sz="4800" spc="-1" strike="noStrike">
                <a:solidFill>
                  <a:srgbClr val="ccffff"/>
                </a:solidFill>
                <a:latin typeface="Arial"/>
                <a:ea typeface="Arial"/>
              </a:rPr>
              <a:t> יח"ל)</a:t>
            </a:r>
            <a:br>
              <a:rPr sz="4800"/>
            </a:b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  <a:p>
            <a:pPr indent="0" algn="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ff"/>
                </a:solidFill>
                <a:latin typeface="Arial"/>
                <a:cs typeface="Arial"/>
              </a:rPr>
              <a:t>תיכון בית ירח, עמק הירדן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A809-DFB6-4B44-9EC9-E7A240DFAD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750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ffff"/>
                </a:solidFill>
                <a:latin typeface="Arial"/>
                <a:cs typeface="Arial"/>
              </a:rPr>
              <a:t>פעילויות חיוניות להצלחה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ffffff"/>
                </a:solidFill>
                <a:uFillTx/>
                <a:latin typeface="Arial"/>
                <a:cs typeface="Arial"/>
              </a:rPr>
              <a:t>דרכי הוראה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ניתנו משובים תכופים, חיוביים ככל האפשר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בפני התלמידים הוצגו שאלות ברמה שמאפשרת להם להצליח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כל נושא פורק לסעיפים קטנים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Arial"/>
              </a:rPr>
              <a:t> כל סעיף הוסבר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כל נושא לא ידוע מהעבר מטופל במסגרת העשייה הרלוונטית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D05A-D6E4-4C3D-945B-1F936D0A1D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750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ffff"/>
                </a:solidFill>
                <a:latin typeface="Arial Black"/>
                <a:cs typeface="Arial"/>
              </a:rPr>
              <a:t>פעילויות חיוניות (המשך)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ffffff"/>
                </a:solidFill>
                <a:uFillTx/>
                <a:latin typeface="Arial"/>
                <a:cs typeface="Arial"/>
              </a:rPr>
              <a:t>מבחנים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במבחנים אין שאלות מפתיעות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לתלמידים ניתנו תמיד שאלות מתוך מבחני הבגרות - מותאמות לשלב הלמידה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כל בחינה מודפסת ברור ללא עומס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הבחינה מותאמת לרמת הידיעות של התלמיד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בכל בחינה שולבה שאלת בונוס - מהנושא הקודם שנלמד.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3EA1-5501-4D21-8A34-63694EAD65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750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ffff"/>
                </a:solidFill>
                <a:latin typeface="Arial"/>
                <a:cs typeface="Arial"/>
              </a:rPr>
              <a:t>פעילויות חיוניות (המשך)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ffffff"/>
                </a:solidFill>
                <a:uFillTx/>
                <a:latin typeface="Arial"/>
                <a:cs typeface="Arial"/>
              </a:rPr>
              <a:t>יחסי מורה/תלמיד/מחנכת/הורה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המורה מקיימת קשר יומיומי עם מחנכת הכיתה (יש דיווח אחרי כל שיעור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המורה מקיימת קשר רצוף עם ההורים – כל בעיה שעלתה בשיעור דווחה להורה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המורה זמינה בטלפון לתלמיד ולהורה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המורה מקיימת קשר של שיחות עם כל תלמיד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6FDC-520E-4636-96BF-F4D10480B5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750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ffff"/>
                </a:solidFill>
                <a:latin typeface="Arial"/>
                <a:cs typeface="Arial"/>
              </a:rPr>
              <a:t>פעילויות חיוניות (המשך)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ffffff"/>
                </a:solidFill>
                <a:uFillTx/>
                <a:latin typeface="Arial"/>
                <a:cs typeface="Arial"/>
              </a:rPr>
              <a:t>פיתוח אחריות אישית/כיתתית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המורה אינה מוציאה ילדים מהכיתה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התלמידים שוחררו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Arial"/>
              </a:rPr>
              <a:t> דקות לפני סוף השיעור במידה שהשיעור התקיים ללא הפרעות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תלמידים בעלי יכולת אימצו תלמידים חלשים יותר עד לבחינות הבגרות, כולל עבודה בזוגות גם בבית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5E03-F35B-4E97-B86E-256178B222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750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ffff"/>
                </a:solidFill>
                <a:latin typeface="Arial"/>
                <a:cs typeface="Arial"/>
              </a:rPr>
              <a:t>פעילויות חיוניות (המשך)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ffffff"/>
                </a:solidFill>
                <a:uFillTx/>
                <a:latin typeface="Arial"/>
                <a:cs typeface="Arial"/>
              </a:rPr>
              <a:t>הוראה מותאמת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התלמידים עובדים עם כרטיסי ניווט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המורה מגמישה את תכנית הלימודים בהתאם ליכולת תלמידיה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המורה מלמדת באופן מגוון לאורך כל השנה – פרטני, זוגות וקבוצות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המורה עבדה על פיתוח תפיסה ויזואלית לפתרון שאלות מילוליות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726-EC5D-4AD0-94AE-0F5A1967ED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750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ffff"/>
                </a:solidFill>
                <a:latin typeface="Arial Black"/>
              </a:rPr>
              <a:t>תוצאות לוואי בלתי צפויות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Arial"/>
              </a:rPr>
              <a:t>חיוביות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rial"/>
              </a:rPr>
              <a:t>התקיימה עבודה בזוגות בין התלמידים החלשים לחלשים פחות, גם בבית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rial"/>
              </a:rPr>
              <a:t>נוצר קשר רציף אישי של המורה עם ההורים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Arial"/>
              </a:rPr>
              <a:t>שלילית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 Black"/>
                <a:cs typeface="Arial"/>
              </a:rPr>
              <a:t>נוצרה אווירה תחרותית בכיתה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BD4C-204F-403E-B163-C0BAE859B3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750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ffff"/>
                </a:solidFill>
                <a:latin typeface="Arial Black"/>
                <a:cs typeface="Arial"/>
              </a:rPr>
              <a:t>עקרונות פעולה נגזרים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  <a:cs typeface="Arial"/>
              </a:rPr>
              <a:t>על מנת להצליח בהוראת מתמטיקה בכיתת הכוון, נדרש ממורה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  <a:cs typeface="Arial"/>
              </a:rPr>
              <a:t>להכיר היטב את מאפייני קבוצת התלמידים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  <a:cs typeface="Arial"/>
              </a:rPr>
              <a:t>לזהות את נקודות החולשה והחוזק של כל תלמיד ותלמיד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  <a:cs typeface="Arial"/>
              </a:rPr>
              <a:t>לתת תשובות עוקפות לנקודות חולשה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  <a:cs typeface="Arial"/>
              </a:rPr>
              <a:t>להתחבר לנקודות חוזק ולבנות עליהן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  <a:cs typeface="Arial"/>
              </a:rPr>
              <a:t>ליזום קשר ישיר ומתמשך עם המחנך,ההורים, והתלמיד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  <a:cs typeface="Arial"/>
              </a:rPr>
              <a:t>לתת לתלמידים משובים חיוביים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6AB7-06F0-4302-9652-F20F922A0B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750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ffff"/>
                </a:solidFill>
                <a:latin typeface="Arial Black"/>
                <a:cs typeface="Arial"/>
              </a:rPr>
              <a:t>סוגיות בלתי פתורות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ffff"/>
                </a:solidFill>
                <a:latin typeface="Arial"/>
                <a:cs typeface="Arial"/>
              </a:rPr>
              <a:t>תלמידים רבים מבקשים ללמוד בקבוצה זו, דבר שיוצר קבוצה גדולה מדי המקשה על עבודה בגישה זו.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2ACA-181B-4F5D-BD37-A8466D8399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750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ffff"/>
                </a:solidFill>
                <a:latin typeface="Arial Black"/>
                <a:cs typeface="Arial"/>
              </a:rPr>
              <a:t>כתובת למידע נוסף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ffffff"/>
                </a:solidFill>
                <a:latin typeface="Arial Black"/>
                <a:cs typeface="Arial"/>
              </a:rPr>
              <a:t>סיגלית דדון – בית-הספר – בית ירח.</a:t>
            </a:r>
            <a:r>
              <a:rPr b="0" lang="he-IL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ADB5-CF89-4BA6-A294-AC64B299F8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750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 u="sng">
                <a:solidFill>
                  <a:srgbClr val="ffffff"/>
                </a:solidFill>
                <a:uFillTx/>
                <a:latin typeface="Arial"/>
                <a:cs typeface="Arial"/>
              </a:rPr>
              <a:t>מאפייני בית ספר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2590920"/>
            <a:ext cx="8381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בית-ספר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Arial"/>
              </a:rPr>
              <a:t> שנתי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תלמידי בית-הספר: מקיבוץ כנרת ומהיישובים מסבי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בית-הספר פותח את שעריו לאוכלוסייה מגוונ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בית-הספר מפעיל כיתות של חינוך מיוחד, כיתות הכוון  ומב"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בבית-הספר יש דגש על הישגיות בצד פעילות חברתית/ערכי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1012-9F0D-4756-BBB8-9E8F99792B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ffff"/>
                </a:solidFill>
                <a:latin typeface="Arial Black"/>
                <a:cs typeface="Arial"/>
              </a:rPr>
              <a:t>מאפייני המעורבים בהצלחה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rial"/>
              </a:rPr>
              <a:t>התלמידים - תלמידי כיתת הכוון - תלמידים תת- משיגים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rial"/>
              </a:rPr>
              <a:t>המורה למתמטיקה – בעלת מומחיות בהוראת מתמטיקה לתלמידים בעלי מאפיינים אלה.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B54A-0A65-494D-9B10-AF953E09FE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ffff"/>
                </a:solidFill>
                <a:latin typeface="Arial Black"/>
                <a:cs typeface="Arial"/>
              </a:rPr>
              <a:t>הקשרים ארגוניים והיסטוריים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 Black"/>
                <a:ea typeface="Arial"/>
              </a:rPr>
              <a:t> של ההצלחה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rial"/>
              </a:rPr>
              <a:t>זו שנה ראשונה בה מתקיימת כיתת הכוון המכוונת להצלחת התלמידים במקצועות הגרעין, לצד מקצועות המגמה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rial"/>
              </a:rPr>
              <a:t>המורה למתמטיקה בתוקף ניסיונה כמורה בבית-הספר היסודי מודעת ליסודות המתמטיים שהונחו בעבר.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D960-74C0-4F30-BD6D-27DCE1A596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952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ccffff"/>
                </a:solidFill>
                <a:latin typeface="Arial Black"/>
                <a:cs typeface="Arial"/>
              </a:rPr>
              <a:t>תוצרים חיוביים</a:t>
            </a:r>
            <a:r>
              <a:rPr b="1" lang="en-US" sz="4800" spc="-1" strike="noStrike">
                <a:solidFill>
                  <a:srgbClr val="ccffff"/>
                </a:solidFill>
                <a:latin typeface="Arial Black"/>
                <a:ea typeface="Arial"/>
              </a:rPr>
              <a:t> </a:t>
            </a:r>
            <a:r>
              <a:rPr b="1" lang="he-IL" sz="4800" spc="-1" strike="noStrike">
                <a:solidFill>
                  <a:srgbClr val="ccffff"/>
                </a:solidFill>
                <a:latin typeface="Arial Black"/>
                <a:ea typeface="Arial"/>
              </a:rPr>
              <a:t>- אובייקטיביים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כל התלמידים עברו בהצלחה את המבחנים לאורך השנה ואת בחינות הבגרות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התלמידים גילו רמה גבוהה של עשייה לימודית - נוכחות מלאה, הכנת שיעורי בית, נוכחות בשיעורי עזר ובימים מרוכזים, היעדר בעיות משמעת, תלמידים חזקים מסייעים למתקשים.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462C-7B49-4802-B932-B47E96C73C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ffff"/>
                </a:solidFill>
                <a:latin typeface="Arial Black"/>
                <a:cs typeface="Arial"/>
              </a:rPr>
              <a:t>תוצרים חיוביים - סובייקטיביים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ffff"/>
                </a:solidFill>
                <a:latin typeface="Arial"/>
                <a:cs typeface="Arial"/>
              </a:rPr>
              <a:t>נוצר קשר חיובי הבנוי על מחויבות רגשית בין התלמיד והוריו למורה המקצועית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-318960" algn="r" rtl="1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ffff"/>
                </a:solidFill>
                <a:latin typeface="Arial"/>
                <a:cs typeface="Arial"/>
              </a:rPr>
              <a:t>התלמידים מבטאים רמה גבוהה של מוטיבציה לימודית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-318960" algn="r" rtl="1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ffff"/>
                </a:solidFill>
                <a:latin typeface="Arial"/>
                <a:cs typeface="Arial"/>
              </a:rPr>
              <a:t>התלמידים מבטאים רצון להמשיך הלאה  לקראת השגת </a:t>
            </a:r>
            <a:r>
              <a:rPr b="0" lang="he-IL" sz="3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e-IL" sz="3600" spc="-1" strike="noStrike">
                <a:solidFill>
                  <a:srgbClr val="ffffff"/>
                </a:solidFill>
                <a:latin typeface="Arial"/>
                <a:ea typeface="Arial"/>
              </a:rPr>
              <a:t> יחידות לימוד נוספות. 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5A90-E8B9-4698-B556-460429AE05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73044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ffff"/>
                </a:solidFill>
                <a:latin typeface="Arial Black"/>
                <a:cs typeface="Arial"/>
              </a:rPr>
              <a:t>מחירים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התלמידים השקיעו שעות רבות בלמידה על חשבון זמנם הפנוי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חלק מהתלמידים טענו כי במקום לבצע מטלות של שעות פנאי שהם אוהבים לעשות, הם  נאלצו להשקיע בלימודים.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7417-2753-457C-AD8D-A7F53DC030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ffff"/>
                </a:solidFill>
                <a:latin typeface="Book Antiqua"/>
                <a:cs typeface="Arial"/>
              </a:rPr>
              <a:t>תיאור המצב בנקודת ההתחלה</a:t>
            </a:r>
            <a:r>
              <a:rPr b="1" lang="en-US" sz="4400" spc="-1" strike="noStrike">
                <a:solidFill>
                  <a:srgbClr val="ccffff"/>
                </a:solidFill>
                <a:latin typeface="Arial Black"/>
                <a:ea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תלמידי הכיתה הרגישו שהם אינם בעלי יכולת להצליח במתמטיקה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תלמידי הכיתה היו חסרי מוטיבציה ללמוד מתמטיקה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ריבוי בעיות משמעת בכיתה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לתלמידי הכיתה היה פער לימודי גדול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6813-73B0-41D8-B5B2-2A0B4A139B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ffff"/>
                </a:solidFill>
                <a:latin typeface="Arial Black"/>
                <a:cs typeface="Arial"/>
              </a:rPr>
              <a:t>נקודות מפנה בדרך להצלחה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 Black"/>
                <a:cs typeface="Arial"/>
              </a:rPr>
              <a:t>הפעם הראשונה בה מרבית תלמידי הכיתה קיבלו ציון חיובי במבחן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 Black"/>
                <a:cs typeface="Arial"/>
              </a:rPr>
              <a:t>התלמידים ביטאו צורך בעזרה פרטנית מעבר לנלמד בכיתה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 Black"/>
                <a:cs typeface="Arial"/>
              </a:rPr>
              <a:t>המורה התחילה לתת עזרה פרטנית לתלמידיה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87F8-3F03-4FCC-B110-813B903660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8:13:00Z</dcterms:created>
  <dc:creator>***</dc:creator>
  <dc:description/>
  <dc:language>en-US</dc:language>
  <cp:lastModifiedBy>user</cp:lastModifiedBy>
  <dcterms:modified xsi:type="dcterms:W3CDTF">2003-06-09T21:14:15Z</dcterms:modified>
  <cp:revision>15</cp:revision>
  <dc:subject/>
  <dc:title>שם ותיאור תמציתי של ההצלחה </dc:title>
</cp:coreProperties>
</file>