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98B-0B32-4082-9B1F-616FC763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D0A-5562-427B-B20A-6840B51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672-0842-4E2C-A55E-61D2A0A3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930-CD0F-45D5-B47D-8CBCA4D7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AA5-C904-41E8-A147-F168E002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D6C-AD65-446B-AC9C-23E763E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084-C8D6-4C7F-B8AE-485E4C0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901-1CCF-40D1-9635-B90B8CCB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C82-82B5-40C3-BF27-3A738B1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1EF-2D70-4C31-8136-6CE0271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764-6A3E-416E-864A-1A579C0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FE9-DF77-478A-83F3-50172AF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FB86-2D97-46B8-ACA8-6C3A764A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47920"/>
          <a:ext cx="807696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9:26:26Z</dcterms:created>
  <dc:creator>ningma</dc:creator>
  <dc:description/>
  <dc:language>en-US</dc:language>
  <cp:lastModifiedBy>ningma</cp:lastModifiedBy>
  <dcterms:modified xsi:type="dcterms:W3CDTF">2004-06-17T19:31:43Z</dcterms:modified>
  <cp:revision>1</cp:revision>
  <dc:subject/>
  <dc:title>Slide 1</dc:title>
</cp:coreProperties>
</file>