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5AF-E1BD-4676-AB71-16725795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719-57A6-41D4-BB93-486AE0C0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36C-EF57-4A22-B420-3160140E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8428-2727-405D-B9A1-7154AD32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7C9E-0D15-44E5-B0DB-E34F348B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C546-23D4-4238-A153-70DBC72A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8088-8AF3-4BCB-B913-A114DF31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1703-459B-4CFB-A3A8-A27EF0A2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D687-74FA-40B1-9AF7-73C14161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E845-5A1F-48F4-897C-9CB72979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D0E7-BDF4-4FC1-A170-35B465B8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3DF-EB34-40E9-8B2C-CE5EC0C5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169B-B740-4C5E-8D2D-ABB4407C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D157-7BCF-4046-BC90-2FDADA94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9AF1-1664-41DA-B32E-5CD4BA0F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9775-0401-4576-97EE-0C4C2403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9C4B-EBFA-49C9-8DB3-7FCF3FB4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424B-1207-49DF-9589-FF640AA9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4A9-4EC2-460F-BB31-832BAD97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D09-947A-45E1-B10F-C68669C9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9C8-38CC-48C2-BEAF-ACE8288D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948-BACF-4A19-9D2C-EDBFDFAA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369-E2F0-4DE7-A14B-71799849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D99-39D7-4902-BC66-39206B98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Garamond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Garamond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1626-7544-4F95-BE8B-60EC1C0E35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Garamond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Garamond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D3C2-2844-4BDF-A95F-CA99011DAD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tcouncil.org/Merchant2/merchant.mv?Screen=CTGY&amp;Category_Code=a201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Initial Hospital Assessment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basic tool for rapid assessment of structural saf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inspectors may take 6-12 hours to arr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C-20-1 </a:t>
            </a:r>
            <a:r>
              <a:rPr b="0" lang="en-US" sz="2800" spc="-1" strike="noStrike" u="sng">
                <a:solidFill>
                  <a:srgbClr val="00ff99"/>
                </a:solidFill>
                <a:uFillTx/>
                <a:latin typeface="Arial"/>
                <a:hlinkClick r:id="rId2"/>
              </a:rPr>
              <a:t>http://www.atcouncil.org/Merchant2/merchant.mv?Screen=CTGY&amp;Category_Code=a2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not-structural components (plumbing, heating/air conditioning, generators, water supply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Initial Regional Assessment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f these measure qualif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do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Instrumental intens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ak ground velocity and peak ground acceleration are plotted as Shakema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vailable within minutes of an earthquak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downloaded by anyone from the inter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sily interpreted by non-seismologi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23:57:18Z</dcterms:created>
  <dc:creator>schultzc</dc:creator>
  <dc:description/>
  <dc:language>en-US</dc:language>
  <cp:lastModifiedBy>ooo</cp:lastModifiedBy>
  <dcterms:modified xsi:type="dcterms:W3CDTF">2007-08-19T06:57:35Z</dcterms:modified>
  <cp:revision>49</cp:revision>
  <dc:subject/>
  <dc:title>The Hospital Response After an Earthquak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