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EE9-DA70-4C31-A4C5-ED93C7AD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40E-56DC-4107-B83B-87A82C40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2D2-D596-4E07-B6FF-11FB5519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B0B-B2AD-4AFC-8948-BAB5AA2B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7B96-1FEF-4697-9967-D4C39246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93FF-56D7-4B34-BA60-3AE3E313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B78B-88CA-49D2-9D30-2E12FAE7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7717-3ECF-405C-9E4D-2216202A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FE2C-EE96-4123-81E7-3D44A466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57DF-24EE-4081-B1AE-70F745D4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97CE-C25B-4C31-93F6-95989DC5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ECB-E088-406E-959B-70BB7581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84F2-0859-4ED7-850B-394A33BE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C5CA-17CE-412F-AB36-8EC72294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4A27-C859-4ABA-B559-68479C1F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5FBC-D908-44D2-B3F9-8DDACFB6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A8EB-F91C-4330-AAF2-A2BE72F1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AEC-F8C4-4138-AFC5-381876A9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376-B41B-4EBD-9F95-2648B3DF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4A8-B808-4061-B164-9D9B4CF7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F1E-7D74-4C61-A702-1850ABF0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155-2A00-47F6-8E88-77659CF2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D43-F716-44FD-A0F4-2893A345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728-37DF-4C01-93D1-28F8EEDF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C82B-A7D7-4378-AA04-66EE9F2ADD19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5FD9-94AA-4411-9C72-86818150BEF2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3179-C1EC-42D6-860B-1015DF3EEC61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F891-6314-4757-A30A-BD20F71B8013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w Power Modes: HOLD M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Alma Sobol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BA0D-8D4A-4C41-ABCA-02D911C016C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9E48845-21A3-41F9-80D1-66D56F69D18F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velr</cp:lastModifiedBy>
  <dcterms:modified xsi:type="dcterms:W3CDTF">2004-03-16T11:12:02Z</dcterms:modified>
  <cp:revision>66</cp:revision>
  <dc:subject/>
  <dc:title>PowerPoint Presentation</dc:title>
</cp:coreProperties>
</file>