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2C5-0BA6-44C7-8F82-B2ADD7EA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A9E-A795-48C8-A33A-2D5319E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600-00B8-4790-BD55-9F0147DB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89E-205B-4F42-9EB6-0159A38C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98FD-6896-48F5-B4E0-1F373323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9AA3-67E3-4793-99B5-EBA56E13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3AB6-D5C4-49CC-978B-426EF755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D60-051F-4E37-9D27-85DEC0C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16F3-024D-4C2B-B9A0-90EC202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536C-EA84-4665-8074-D08DC55C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443E-BFF3-41CD-AA87-BB7F471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6C7-B291-4F4F-BDF4-039C24FD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1C7B-478A-4BCD-B31A-639446F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9974-BF55-473F-ADD2-E4270FE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DA3C-FF58-4488-9D3F-334DFB5B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8EBB-6507-4965-A109-EEE3A1AA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FB8C-0517-44F0-A487-A0AC4E7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3A0-C1FF-4027-9565-93B234D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464-DF82-4BDD-A57E-9EF5594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58E-17BE-4329-A521-6BEB23FC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536-9799-479A-A7C4-A660B429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9CC-5EC2-4218-ACD6-5D659D52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C86-16AA-43D0-9565-EA750D5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224-4073-4C58-95ED-6A790DC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642-FCD5-4FCD-89CC-5974F9792F68}" type="datetime">
              <a:rPr b="0" lang="en-US" sz="1200" spc="-1" strike="noStrike">
                <a:solidFill>
                  <a:srgbClr val="f8f8f8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8017-321E-46B9-B8A9-8C9B31B65756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0F1-2ECC-492C-8594-BA18A955F50B}" type="datetime">
              <a:rPr b="0" lang="en-US" sz="1200" spc="-1" strike="noStrike">
                <a:solidFill>
                  <a:srgbClr val="f8f8f8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43F-4AFF-4A96-B64E-9E4F11539AD0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heffield"/>
              </a:rPr>
              <a:t>Tit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4680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1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2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3 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4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5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11640" y="3645000"/>
            <a:ext cx="256212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6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7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8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9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BC6-8B4A-454C-923B-BA25E183C1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FE6E6-C117-4EFE-BD8A-29BD54BB348B}" type="datetime1">
              <a:rPr lang="en-US"/>
              <a:t>07/31/26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.</cp:lastModifiedBy>
  <dcterms:modified xsi:type="dcterms:W3CDTF">2005-05-19T20:16:28Z</dcterms:modified>
  <cp:revision>27</cp:revision>
  <dc:subject/>
  <dc:title>Carlos Santana </dc:title>
</cp:coreProperties>
</file>