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CD18C-1669-4EC5-B36D-BC66A33D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36888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3613E-3AC0-4364-A67A-02BA4113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81200" y="1219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36888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81200" y="336888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B8A3E-A933-4307-B071-63085984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72600" y="1219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11680" y="1219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36888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72600" y="336888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11680" y="336888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2BA9F-E5F0-4D47-B93C-E45B89B8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6F71F-07D1-4E76-9875-16BE5052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21932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75D65-8E45-4FAA-B074-C3213881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BB6CD-76EE-4BC8-8423-1BD538FF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81200" y="121932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5E06C-6A63-4BC2-8D4B-64E00380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BAD5A-EFEC-4290-9DC4-35B20A26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19320" y="147600"/>
            <a:ext cx="723888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5E311-6E02-4823-8E97-41B32EA3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81200" y="121932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36888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A9087-0EC7-41DD-B2B0-5A766393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21932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10A47-CCA2-4DB6-AB15-94381672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81200" y="1219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81200" y="336888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6A338-D7E7-47CD-98D6-C71DBD29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81200" y="1219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36888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DCEA0-7517-49DE-A3D2-6E882BF3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36888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FFF86-AD1E-455B-95B1-2031F722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81200" y="1219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36888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81200" y="336888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4AE45-8843-4ACF-86C3-0B03EBB1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72600" y="1219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11680" y="1219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36888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72600" y="336888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11680" y="336888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E2CD0-CA01-4FE5-A63C-5049B458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EDAA6-8B6C-453D-9D9E-49408D9C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81200" y="121932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1F94F-4CFE-4BF4-B781-A17A204E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322DC-126A-431B-962C-9A6A6196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147600"/>
            <a:ext cx="723888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5F316-AE9E-4188-9523-23C505BA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81200" y="121932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36888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064FD-9FBB-44D3-BCC5-AA56A3C2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81200" y="1219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81200" y="336888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0CA87-E4EB-4813-99E3-D8EDAD3B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81200" y="1219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36888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FB802-D38D-4EE6-B288-E90754E1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219320"/>
            <a:ext cx="75088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 algn="r" rtl="1">
              <a:spcBef>
                <a:spcPts val="7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 algn="r" rtl="1">
              <a:spcBef>
                <a:spcPts val="700"/>
              </a:spcBef>
              <a:buClr>
                <a:srgbClr val="cc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 algn="r" rtl="1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09120" y="6508440"/>
            <a:ext cx="7402680" cy="304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-360" y="6562800"/>
            <a:ext cx="1335240" cy="2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 anchorCtr="1">
            <a:noAutofit/>
          </a:bodyPr>
          <a:lstStyle>
            <a:lvl1pPr lvl="1" marL="457200"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lvl="1" marL="457200"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B55B-5952-4323-A0DA-B1AC8B62A4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5400000">
            <a:off x="5644440" y="3131640"/>
            <a:ext cx="64008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900" spc="-1" strike="noStrike">
                <a:solidFill>
                  <a:srgbClr val="000000"/>
                </a:solidFill>
                <a:latin typeface="Arial"/>
                <a:cs typeface="Arial (Hebrew)"/>
              </a:rPr>
              <a:t>דר אמנון גונן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 rot="5400000">
            <a:off x="7231680" y="5534280"/>
            <a:ext cx="2360880" cy="2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ftr" idx="4"/>
          </p:nvPr>
        </p:nvSpPr>
        <p:spPr>
          <a:xfrm>
            <a:off x="837720" y="6508440"/>
            <a:ext cx="7402680" cy="304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5"/>
          </p:nvPr>
        </p:nvSpPr>
        <p:spPr>
          <a:xfrm>
            <a:off x="-360" y="6562800"/>
            <a:ext cx="1335240" cy="2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 anchorCtr="1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097F-C040-4D8D-813A-85CD67D56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5757120" y="3244320"/>
            <a:ext cx="640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  <a:cs typeface="Arial (Hebrew)"/>
              </a:rPr>
              <a:t>קורס בשיטות כמותיות  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1418760" y="1219320"/>
            <a:ext cx="5745240" cy="1039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6"/>
          </p:nvPr>
        </p:nvSpPr>
        <p:spPr>
          <a:xfrm rot="5400000">
            <a:off x="7155360" y="5534280"/>
            <a:ext cx="2360880" cy="2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90920" y="147240"/>
            <a:ext cx="5867280" cy="6145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תרגיל - חברת יאכטושית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82440"/>
            <a:ext cx="8229600" cy="563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חברת יכטושית מייצרת סירות מירוץ לאורך כל השנה אך מארגנת את ההזמנות לפי רבעונים. יש לה הזמנות לשנה הבאה: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ברבעון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ב-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ב-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ב-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בהתחלה יש לה כבר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סירו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החברה צריכה להחליט בראשית כל רבעון כמה לייצ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החברה יכולה לייצר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סירות בעלות של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400$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לסירה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באמצעות שעות נוספות יכולה החברה לייצר עוד סירות במחיר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450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בסוף הרבעון, נוספת הוצאה ממוצעת של, אחזקה וטיפול על כל סירה שבמלאי (לאחר הוצאת הסירות שנמכרו) של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20$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לסירה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נסח את הבעיה כבעיית תכנון תחבורה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013E1-96B3-488C-8B37-2C83A503D7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ניסוח בעיית יכטושית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508880" cy="563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נגדיר נקודות יצור (מקורות)  ויעדים כדלקמן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1454040"/>
            <a:ext cx="7128000" cy="5195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64600" y="6399720"/>
            <a:ext cx="68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(Hebrew)"/>
              </a:rPr>
              <a:t>RT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Arial (Hebrew)"/>
              </a:rPr>
              <a:t> משמעו זמן עבודה רגיל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(Hebrew)"/>
              </a:rPr>
              <a:t>OT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Arial (Hebrew)"/>
              </a:rPr>
              <a:t> משמעו שעות נוספו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4837F-B8CA-4AE1-96C0-AF1DF63255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מחירי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229600" cy="5257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“משלוח” סחורה מרבעון אחד לרבעון שלוש משמעו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400$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בסיסיים +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דולר על כל רבעון בו נמצאת הסירה במפעל כלומר המחיר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 שהם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440$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מנתוני הבעיה, אין צורך לייצר יותר מ-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19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סירות (למה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מאחר ש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סירות ייצורו כי העובדים קיימים, לכן בזמן השעות הנוספות לא נייצר יותר מ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190-4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סה”כ היצור במקורות -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77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פחות סה”כ הביקוש -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נותן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57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סירות ביעד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MMY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פתור את הבעיה בדרך ידנית  או במחש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BD722-363B-477D-9DC4-04657EF54F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פתרו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880" y="1100160"/>
          <a:ext cx="8077320" cy="549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00160"/>
                    <a:ext cx="8077320" cy="54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31374-7F3C-49DA-B8AF-B38C98C174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8T10:31:48Z</dcterms:created>
  <dc:creator>Amnon Gonen</dc:creator>
  <dc:description/>
  <dc:language>en-US</dc:language>
  <cp:lastModifiedBy>Amnon Gonen</cp:lastModifiedBy>
  <cp:lastPrinted>1997-11-29T16:26:26Z</cp:lastPrinted>
  <dcterms:modified xsi:type="dcterms:W3CDTF">2003-05-01T21:50:27Z</dcterms:modified>
  <cp:revision>72</cp:revision>
  <dc:subject/>
  <dc:title>סקירה ארגונית</dc:title>
</cp:coreProperties>
</file>