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77709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14475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720" y="14475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387468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720" y="387468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09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77709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09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09480" y="1219320"/>
            <a:ext cx="4977000" cy="71280"/>
            <a:chOff x="609480" y="1219320"/>
            <a:chExt cx="4977000" cy="71280"/>
          </a:xfrm>
        </p:grpSpPr>
        <p:sp>
          <p:nvSpPr>
            <p:cNvPr id="5" name=""/>
            <p:cNvSpPr/>
            <p:nvPr/>
          </p:nvSpPr>
          <p:spPr>
            <a:xfrm>
              <a:off x="609480" y="1219320"/>
              <a:ext cx="3525840" cy="144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992240" y="1289160"/>
              <a:ext cx="3594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culate temperature profile in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0360" y="13748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rmal diffusion equation assuming          on the faces and T(r,z)=T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rim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tical solution ex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675480" y="1225440"/>
                <a:ext cx="868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62240" y="2273400"/>
                <a:ext cx="47163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69840" y="3618000"/>
                <a:ext cx="7989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α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exp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'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r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d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6840" y="4738680"/>
                <a:ext cx="6908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R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α</m:t>
                                            </m:r>
                                          </m:e>
                                        </m:d>
                                        <m:r>
                                          <m:t xml:space="preserve">L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L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R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R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α</m:t>
                                            </m:r>
                                          </m:e>
                                        </m:d>
                                        <m:r>
                                          <m:t xml:space="preserve">L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L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R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30200" y="6445080"/>
            <a:ext cx="4118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* Substrate mounted in heat sin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ing the effects of th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of optical path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28640" y="4773600"/>
                <a:ext cx="3543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ro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530440" y="5629320"/>
                <a:ext cx="12049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OPL</m:t>
                        </m:r>
                        <m:r>
                          <m:t xml:space="preserve">'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20720" y="3106800"/>
                <a:ext cx="64738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rob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k</m:t>
                            </m:r>
                            <m:r>
                              <m:t xml:space="preserve">OP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rob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PL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OPL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O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12800" y="1782720"/>
                <a:ext cx="4322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P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Δ</m:t>
                        </m:r>
                      </m:e>
                    </m:nary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621480" y="1978200"/>
            <a:ext cx="1312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N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671920"/>
            <a:ext cx="7772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agate a Gaussian beam with this O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363920"/>
            <a:ext cx="7772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e with propagation through a thin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00280" y="5799240"/>
            <a:ext cx="39906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      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al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