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8DF-123A-4053-9ACB-AA948F48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115-C6DB-42A3-A1CB-F1B83AB5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4B2-1237-4BB6-B948-4CF7BC1C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212-7B24-45EE-B35E-86C79B86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165-5E3E-48A3-82B2-A9A09D02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03F-B4DF-4C4C-8DCF-E47695D0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220-AE50-4BBC-ADD3-06E700EF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E12-B815-4B27-99FA-9FAEE3F4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5EC-635A-4082-AB23-F1385C28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1A1-FD14-40ED-BFAD-F0F191BD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BA1-DF4E-4A65-9D5A-F2172712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F8D-03B9-4116-A8D6-AFEF9227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065D-D7A8-4BCE-B49E-777B89699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4494240" y="1192320"/>
            <a:ext cx="1009800" cy="8856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446880" y="1182600"/>
            <a:ext cx="1133280" cy="809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550800" y="2144880"/>
            <a:ext cx="933480" cy="1295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2608200" y="2039760"/>
            <a:ext cx="1123920" cy="134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4865760" y="2173320"/>
            <a:ext cx="1504800" cy="1162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7332840" y="2567160"/>
            <a:ext cx="771480" cy="1123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5"/>
          <p:cNvSpPr/>
          <p:nvPr/>
        </p:nvSpPr>
        <p:spPr>
          <a:xfrm>
            <a:off x="4227480" y="3938760"/>
            <a:ext cx="1514520" cy="904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8:11:29Z</dcterms:created>
  <dc:creator>user</dc:creator>
  <dc:description/>
  <dc:language>en-US</dc:language>
  <cp:lastModifiedBy>user</cp:lastModifiedBy>
  <dcterms:modified xsi:type="dcterms:W3CDTF">2011-11-08T08:11:36Z</dcterms:modified>
  <cp:revision>1</cp:revision>
  <dc:subject/>
  <dc:title>Slide 1</dc:title>
</cp:coreProperties>
</file>