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082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2080"/>
              <a:gd name="textAreaBottom" fmla="*/ 9081720 h 9082080"/>
            </a:gdLst>
            <a:ahLst/>
            <a:rect l="textAreaLeft" t="textAreaTop" r="textAreaRight" b="textAreaBottom"/>
            <a:pathLst>
              <a:path w="21600" h="28605">
                <a:moveTo>
                  <a:pt x="5" y="0"/>
                </a:moveTo>
                <a:arcTo wR="5" hR="5" stAng="16200000" swAng="-5400000"/>
                <a:lnTo>
                  <a:pt x="0" y="28600"/>
                </a:lnTo>
                <a:arcTo wR="5" hR="5" stAng="10800000" swAng="-5400000"/>
                <a:lnTo>
                  <a:pt x="21595" y="2860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082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2080"/>
              <a:gd name="textAreaBottom" fmla="*/ 9081720 h 9082080"/>
            </a:gdLst>
            <a:ahLst/>
            <a:rect l="textAreaLeft" t="textAreaTop" r="textAreaRight" b="textAreaBottom"/>
            <a:pathLst>
              <a:path w="21600" h="28605">
                <a:moveTo>
                  <a:pt x="5" y="0"/>
                </a:moveTo>
                <a:arcTo wR="5" hR="5" stAng="16200000" swAng="-5400000"/>
                <a:lnTo>
                  <a:pt x="0" y="28600"/>
                </a:lnTo>
                <a:arcTo wR="5" hR="5" stAng="10800000" swAng="-5400000"/>
                <a:lnTo>
                  <a:pt x="21595" y="2860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082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2080"/>
              <a:gd name="textAreaBottom" fmla="*/ 9081720 h 9082080"/>
            </a:gdLst>
            <a:ahLst/>
            <a:rect l="textAreaLeft" t="textAreaTop" r="textAreaRight" b="textAreaBottom"/>
            <a:pathLst>
              <a:path w="21600" h="28605">
                <a:moveTo>
                  <a:pt x="5" y="0"/>
                </a:moveTo>
                <a:arcTo wR="5" hR="5" stAng="16200000" swAng="-5400000"/>
                <a:lnTo>
                  <a:pt x="0" y="28600"/>
                </a:lnTo>
                <a:arcTo wR="5" hR="5" stAng="10800000" swAng="-5400000"/>
                <a:lnTo>
                  <a:pt x="21595" y="2860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476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528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1720" cy="4081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3884400" y="8628120"/>
            <a:ext cx="2966760" cy="449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D4E25-4FE7-47DE-B58F-14F4BDE1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rive and validate Integration, performance and scalability goals for Cloud Solution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eliver certified CSP solution s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Establish structured Integration, Migration &amp; Performance strategy partnership with key clients i,e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T&amp;T, Ford, 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 best practices, tooling, and utilities that facilitate cloud deploy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everage material produced during services enga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aintain representative customer cloud stacks to support migration testing, client acceptance testing, and performance assess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rive Cloud PMRs and APARs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2249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524760"/>
            <a:ext cx="82249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68544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68544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52476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52476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52476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22492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2249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224920" cy="22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524760"/>
            <a:ext cx="82249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685440"/>
            <a:ext cx="82249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457200" y="609480"/>
            <a:ext cx="830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762120" y="6489720"/>
            <a:ext cx="1440" cy="291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60240" y="6591240"/>
            <a:ext cx="4572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9CC29-8D07-4EA1-A24D-6C8D2744443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6"/>
          <p:cNvSpPr/>
          <p:nvPr/>
        </p:nvSpPr>
        <p:spPr>
          <a:xfrm>
            <a:off x="1442880" y="6753240"/>
            <a:ext cx="160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240" y="60660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160200" y="3147840"/>
            <a:ext cx="8839440" cy="334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27080" y="104760"/>
            <a:ext cx="8766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XXXX: XXXX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1413000"/>
            <a:ext cx="86169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3:42:20Z</dcterms:created>
  <dc:creator>abdula</dc:creator>
  <dc:description/>
  <dc:language>en-US</dc:language>
  <cp:lastModifiedBy>yinbing</cp:lastModifiedBy>
  <dcterms:modified xsi:type="dcterms:W3CDTF">2012-11-26T07:19:04Z</dcterms:modified>
  <cp:revision>564</cp:revision>
  <dc:subject/>
  <dc:title>Private Cloud</dc:title>
</cp:coreProperties>
</file>