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548-45E7-4AF2-8C98-B57C77AD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DDB-568C-4478-9479-E56B90CC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155-B53F-4EA3-8770-0C773940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AB4-AA52-4867-B4E3-55D10903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25317-F1FF-4BB1-92B8-807C3A06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138B2-86A8-484E-BB98-334E37FC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AB00F-8392-4608-AAE1-C55B1EC3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AE39E-5665-40A3-AA83-38CDF43C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CF26D-9FDF-4CAE-87FB-F0E7EF1B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17A1A-0562-4C83-84B4-64C17BE8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96E7E-D7F7-4D82-A0A4-20A2F08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654-E289-431C-9A61-6F4CE4E5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E1940-85C7-4D2D-937E-614A311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42642-AD02-4549-B4C3-03DE62B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683E0-2F74-4C3C-8CCF-BDC5F58A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BCBA8-9D4B-411C-9CF1-E7D92771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CDDFE-349E-4391-B451-0ACF72E6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E9F-79A5-499B-BE1E-FA580625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45F-A1DE-456D-A8C0-61AC4BB2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08E-2B42-4313-96D7-DE623C0E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310-3180-428E-8655-A44C0133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249-3E2A-4EFA-9A40-FA36A38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14E-BD57-40D1-B270-A8FFE65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5C8-CCA6-4088-A93C-510C7CFD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8EB3-90D1-4930-90EA-6A2006721C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984E-95A6-4EE0-AD93-6FAB912B10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Welc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[Company 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7:42:38Z</dcterms:created>
  <dc:creator>wangxiul</dc:creator>
  <dc:description/>
  <dc:language>en-US</dc:language>
  <cp:lastModifiedBy>wangxiul</cp:lastModifiedBy>
  <dcterms:modified xsi:type="dcterms:W3CDTF">2009-08-06T07:42:59Z</dcterms:modified>
  <cp:revision>1</cp:revision>
  <dc:subject/>
  <dc:title>Welcom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