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569-7BBB-4A94-9A7F-16AC6481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8FC-D7E0-4292-A45B-23615780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3D2-1AB7-4AE8-874C-86BA2E09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DAE-7F77-4083-985A-E4D7EC63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24C-12D5-4064-8C5F-4E080C28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AB6-5609-434F-B98D-F6CFDD84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E4E-7D98-46AC-A12A-DA43DE24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8E3-B119-4DB4-8B06-B8D4F5AF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122-BC04-4DC8-B16E-AAC5C9D4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70B-4301-4E97-A4F7-EE90A7E4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A2A-0882-4FD9-9F96-045CBCC2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B32-D9D1-4CAB-84F6-FC11CBBF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EE10F-CF1B-42B9-B865-438EEF2449BC}" type="slidenum">
              <a:rPr b="0" lang="en-I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6760"/>
            <a:ext cx="9072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Avoid Mental Sub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6840" y="1233360"/>
            <a:ext cx="9264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Mean Change in Supine Blood Pressure Following MK and Placebo (</a:t>
            </a:r>
            <a:r>
              <a:rPr b="0" lang="en-IN" sz="2000" spc="-1" strike="noStrike">
                <a:solidFill>
                  <a:srgbClr val="00ccff"/>
                </a:solidFill>
                <a:latin typeface="Arial"/>
              </a:rPr>
              <a:t>left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) and Difference Between MK and Placebo Mean Change (</a:t>
            </a:r>
            <a:r>
              <a:rPr b="0" lang="en-IN" sz="2000" spc="-1" strike="noStrike">
                <a:solidFill>
                  <a:srgbClr val="00ccff"/>
                </a:solidFill>
                <a:latin typeface="Arial"/>
              </a:rPr>
              <a:t>right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) at Each Tim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3818" t="20238" r="5635" b="6470"/>
          <a:stretch/>
        </p:blipFill>
        <p:spPr>
          <a:xfrm>
            <a:off x="603360" y="197172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02:42:40Z</dcterms:created>
  <dc:creator/>
  <dc:description/>
  <dc:language>en-US</dc:language>
  <cp:lastModifiedBy>svege</cp:lastModifiedBy>
  <dcterms:modified xsi:type="dcterms:W3CDTF">2010-07-16T05:51:07Z</dcterms:modified>
  <cp:revision>2</cp:revision>
  <dc:subject/>
  <dc:title>Avoid Mental Subtraction</dc:title>
</cp:coreProperties>
</file>