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1AEE-C85B-4FB8-83D1-A5A870BC2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0E1F-48CE-41F7-8896-016B9B012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9ED5-A656-412B-8CA7-3E4BFBFEF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4E88-2748-4560-9001-749C83D8A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DA9D-867A-4B06-AF01-2809E8929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397D-46D7-432B-9CD9-A4FA37A1A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DCA2-8653-455A-B3FD-2596696D0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8558-CC52-40CD-A56E-1153BB15F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8D22-05F0-4E33-923B-752BD017B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B44D-CF48-4923-945A-E21BEDE8C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4D75-999D-48AB-A71E-A63BCB228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A33E-EA08-4550-87F8-D38B547A8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85509-8626-4C74-B99B-8E0FEFC7A54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Paragraph Test 1: „Numbering“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Calibri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 u="sng">
                <a:solidFill>
                  <a:srgbClr val="000000"/>
                </a:solidFill>
                <a:uFillTx/>
                <a:latin typeface="Calibri"/>
              </a:rPr>
              <a:t>Level 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Level 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Paragraph Test 2: „Spacing and Indentation“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79640" indent="-34308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This Text is indented (3cm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079640" indent="-343080">
              <a:spcBef>
                <a:spcPts val="2837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This text has spacing before (1cm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079640" indent="-343080">
              <a:spcBef>
                <a:spcPts val="451"/>
              </a:spcBef>
              <a:spcAft>
                <a:spcPts val="2837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This text has spacing after (1cm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079640" indent="-343080">
              <a:lnSpc>
                <a:spcPct val="2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This line has double line spac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079640" indent="-343080">
              <a:lnSpc>
                <a:spcPct val="2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&gt;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&lt;5cm tab charact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079640" indent="-343080" algn="just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Paragraph Test 3: „Text Alignment“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This Text is aligne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This text is aligned ri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This text is aligned le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3"/>
          <p:cNvSpPr/>
          <p:nvPr/>
        </p:nvSpPr>
        <p:spPr>
          <a:xfrm>
            <a:off x="785880" y="3500280"/>
            <a:ext cx="2643120" cy="18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This text is aligned bott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5"/>
          <p:cNvSpPr/>
          <p:nvPr/>
        </p:nvSpPr>
        <p:spPr>
          <a:xfrm>
            <a:off x="3786120" y="3429000"/>
            <a:ext cx="228600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This text is aligned to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6500880" y="3071880"/>
            <a:ext cx="2500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This text is rotated 90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ime</cp:lastModifiedBy>
  <dcterms:modified xsi:type="dcterms:W3CDTF">2010-03-30T22:10:37Z</dcterms:modified>
  <cp:revision>4</cp:revision>
  <dc:subject/>
  <dc:title>Paragraph Test 1: „Numbering“</dc:title>
</cp:coreProperties>
</file>