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8B1-A31C-4599-8E2B-7E4E656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6A2-F13C-4A27-93D9-BCDCF5B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42A-AF51-491A-9916-1C03AF12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4A9-D4B5-4FAC-9611-35918206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CFF-2505-4881-8059-9F623C2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F76-4A62-4F83-9647-E7D12F08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CE9-7DB3-46C0-A4DE-BD67C65C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B90-C89A-409F-9797-B64F57C7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304-30AA-480A-8792-903C22E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434-0189-4465-897A-F60B355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275-FFDD-473D-8E6B-7D32A1B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D0B-1383-41A6-A532-46EEC15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D0F6A-1B27-47B7-A511-5994950E1E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Bug 1156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animation be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ine fli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line fli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2:35:32Z</dcterms:created>
  <dc:creator/>
  <dc:description/>
  <dc:language>en-US</dc:language>
  <cp:lastModifiedBy/>
  <cp:revision>1</cp:revision>
  <dc:subject/>
  <dc:title/>
</cp:coreProperties>
</file>