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9A9-0B03-470F-84EE-39A5FA71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7FD-8F3A-4B36-96CA-19E34F35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66C-47A0-42FE-886F-AF336E7B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019-1A18-4B40-AB97-89649C44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DEC-EEF9-480F-A37A-2CA4C6AB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4D1-5C35-4632-8010-A7DD6E44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C36-04FE-4C2A-936A-C479E956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180-F2C2-421E-A0D9-3B71BA88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5EA-E7EA-407F-903A-2045E616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035-3FB2-4998-B8ED-AF4FF8E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C29-590E-4176-B510-1C4630FC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00B-4B99-4FE3-B907-6FB6FB6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05FF-A8BC-4660-A095-5926148BB3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5:39:59Z</dcterms:created>
  <dc:creator>lenovo</dc:creator>
  <dc:description/>
  <dc:language>en-US</dc:language>
  <cp:lastModifiedBy>lenovo</cp:lastModifiedBy>
  <dcterms:modified xsi:type="dcterms:W3CDTF">2009-08-31T05:45:59Z</dcterms:modified>
  <cp:revision>2</cp:revision>
  <dc:subject/>
  <dc:title>幻灯片 1</dc:title>
</cp:coreProperties>
</file>