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36C-83CC-4BD0-A280-6A73E28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B22-79C6-487D-81B1-EB7BF0CE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0DB-47C6-424C-A2FD-27469D72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E75-3A4B-4D10-ADD8-204D6C31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9DB-315F-4A1F-8A9A-6EB26AAC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131-969A-47D5-A366-B5A48F08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A05-C8FA-4DA6-8E71-CA68A6A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07F-4F8A-4237-A359-5CF0C44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EF0-2E18-457C-B6D6-BF8DC216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274-4A4A-45C3-831F-4743D23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171-950E-41B9-951C-66268E6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2B6-C3CE-4676-AC94-19C58BA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CF9-AFBE-4029-9D15-AA746AC8E85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739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993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4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1089000" y="4367160"/>
            <a:ext cx="2727360" cy="161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60480" y="1771560"/>
            <a:ext cx="208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Futura Hv"/>
              </a:rPr>
              <a:t>Inquir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2920" y="2384280"/>
            <a:ext cx="2908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s about asking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understanding </a:t>
            </a: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w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other people 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the views they do</a:t>
            </a: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4560" y="3857760"/>
            <a:ext cx="2368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Futura Hv"/>
              </a:rPr>
              <a:t>Advocac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97520" y="4506840"/>
            <a:ext cx="22035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s about trying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convince 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nto </a:t>
            </a: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your way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thinking</a:t>
            </a: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quiry vs. Advocac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flipH="1">
            <a:off x="5800320" y="1585080"/>
            <a:ext cx="3127320" cy="19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6:31:05Z</dcterms:created>
  <dc:creator>Brett Conrad</dc:creator>
  <dc:description/>
  <dc:language>en-US</dc:language>
  <cp:lastModifiedBy>Dave Formanek</cp:lastModifiedBy>
  <dcterms:modified xsi:type="dcterms:W3CDTF">2005-07-15T00:29:16Z</dcterms:modified>
  <cp:revision>57</cp:revision>
  <dc:subject/>
  <dc:title>PowerPoint Presentation</dc:title>
</cp:coreProperties>
</file>