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C96-6E06-4626-8C56-66F14884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5E2-6804-447B-AF8F-6EB8D4F1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3A6-DC4A-4B51-A980-95CE1541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1B6-14BD-4AD7-ACFA-96BDB899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CB2-B5EB-45F4-B704-C739DDB2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2A7-90FC-4AAE-BE49-06152E26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825-F332-44BF-8C4C-578A4103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ADE-724A-4E3A-A187-CD49D33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6E6-7EE1-464C-9A0D-752AD9E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9B8-6D34-4408-9595-C012376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87F-5E41-4AA1-B801-369FFC1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6EA-F0F7-4A33-89ED-5FD4257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4B3-457D-44AD-AD2F-83788387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3300"/>
                </a:solidFill>
                <a:latin typeface="Times New Roman"/>
              </a:rPr>
              <a:t>More Mobility</a:t>
            </a:r>
            <a:r>
              <a:rPr b="1" lang="en-GB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rovided by online busin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773360"/>
            <a:ext cx="47516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415"/>
                </a:moveTo>
                <a:arcTo wR="21600" hR="147954" stAng="-5689079" swAng="159554"/>
                <a:lnTo>
                  <a:pt x="5400" y="4698"/>
                </a:lnTo>
                <a:arcTo wR="21600" hR="147954" stAng="-5529524" swAng="259048"/>
                <a:lnTo>
                  <a:pt x="16200" y="5291"/>
                </a:lnTo>
                <a:arcTo wR="21600" hR="147954" stAng="-5270476" swAng="159554"/>
                <a:lnTo>
                  <a:pt x="18900" y="11981"/>
                </a:lnTo>
                <a:lnTo>
                  <a:pt x="21600" y="21600"/>
                </a:lnTo>
                <a:lnTo>
                  <a:pt x="21600" y="21600"/>
                </a:lnTo>
                <a:arcTo wR="21600" hR="147954" stAng="-5110921" swAng="-225855"/>
                <a:lnTo>
                  <a:pt x="13500" y="2345"/>
                </a:lnTo>
                <a:arcTo wR="21600" hR="147954" stAng="-5336776" swAng="-126448"/>
                <a:lnTo>
                  <a:pt x="8100" y="2938"/>
                </a:lnTo>
                <a:arcTo wR="21600" hR="147954" stAng="-5463224" swAng="-225855"/>
                <a:lnTo>
                  <a:pt x="2700" y="11981"/>
                </a:lnTo>
                <a:close/>
              </a:path>
              <a:path fill="none" w="21600" h="21600">
                <a:moveTo>
                  <a:pt x="8100" y="2345"/>
                </a:moveTo>
                <a:arcTo wR="21600" hR="147954" stAng="-5463224" swAng="-66300"/>
                <a:lnTo>
                  <a:pt x="8100" y="2938"/>
                </a:lnTo>
              </a:path>
              <a:path fill="none" w="21600" h="21600">
                <a:moveTo>
                  <a:pt x="13500" y="2345"/>
                </a:moveTo>
                <a:arcTo wR="21600" hR="147954" stAng="-5336776" swAng="66300"/>
                <a:lnTo>
                  <a:pt x="13500" y="2938"/>
                </a:lnTo>
              </a:path>
              <a:path fill="none" w="21600" h="21600">
                <a:moveTo>
                  <a:pt x="5400" y="5291"/>
                </a:moveTo>
                <a:lnTo>
                  <a:pt x="5400" y="5883"/>
                </a:lnTo>
              </a:path>
              <a:path fill="none" w="21600" h="21600">
                <a:moveTo>
                  <a:pt x="16200" y="5291"/>
                </a:moveTo>
                <a:lnTo>
                  <a:pt x="16200" y="5883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58920" y="3068640"/>
            <a:ext cx="647640" cy="1297080"/>
            <a:chOff x="1258920" y="3068640"/>
            <a:chExt cx="647640" cy="1297080"/>
          </a:xfrm>
        </p:grpSpPr>
        <p:sp>
          <p:nvSpPr>
            <p:cNvPr id="44" name=""/>
            <p:cNvSpPr/>
            <p:nvPr/>
          </p:nvSpPr>
          <p:spPr>
            <a:xfrm>
              <a:off x="1258920" y="3068640"/>
              <a:ext cx="647640" cy="129708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Verdan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Verdana"/>
                </a:rPr>
                <a:t>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258920" y="3310200"/>
              <a:ext cx="486720" cy="136080"/>
              <a:chOff x="1258920" y="3310200"/>
              <a:chExt cx="486720" cy="136080"/>
            </a:xfrm>
          </p:grpSpPr>
          <p:sp>
            <p:nvSpPr>
              <p:cNvPr id="46" name=""/>
              <p:cNvSpPr/>
              <p:nvPr/>
            </p:nvSpPr>
            <p:spPr>
              <a:xfrm>
                <a:off x="1258920" y="3310200"/>
                <a:ext cx="486720" cy="30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258920" y="3416760"/>
                <a:ext cx="486720" cy="295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1291320" y="3859920"/>
              <a:ext cx="410760" cy="4701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83640" y="3213000"/>
            <a:ext cx="504720" cy="6256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659640" y="3284640"/>
            <a:ext cx="1008000" cy="720720"/>
            <a:chOff x="6659640" y="3284640"/>
            <a:chExt cx="1008000" cy="720720"/>
          </a:xfrm>
        </p:grpSpPr>
        <p:sp>
          <p:nvSpPr>
            <p:cNvPr id="52" name=""/>
            <p:cNvSpPr/>
            <p:nvPr/>
          </p:nvSpPr>
          <p:spPr>
            <a:xfrm>
              <a:off x="6672240" y="3284640"/>
              <a:ext cx="734400" cy="482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Verdana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659640" y="3783240"/>
              <a:ext cx="1008000" cy="222120"/>
            </a:xfrm>
            <a:prstGeom prst="parallelogram">
              <a:avLst>
                <a:gd name="adj" fmla="val 11345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" name=""/>
          <p:cNvCxnSpPr>
            <a:stCxn id="50" idx="2"/>
            <a:endCxn id="52" idx="3"/>
          </p:cNvCxnSpPr>
          <p:nvPr/>
        </p:nvCxnSpPr>
        <p:spPr>
          <a:xfrm flipH="1">
            <a:off x="7406640" y="3525840"/>
            <a:ext cx="477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13:31:30Z</dcterms:created>
  <dc:creator>Gil</dc:creator>
  <dc:description/>
  <dc:language>en-US</dc:language>
  <cp:lastModifiedBy>Gil</cp:lastModifiedBy>
  <dcterms:modified xsi:type="dcterms:W3CDTF">2004-09-12T13:31:48Z</dcterms:modified>
  <cp:revision>1</cp:revision>
  <dc:subject/>
  <dc:title>No Slide Title</dc:title>
</cp:coreProperties>
</file>