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15F5-21BB-4324-9CD9-F1BC2FEC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F51-684A-4E15-8AA1-98140376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3A11-1EE6-4DA1-BE35-51D60418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1190-8157-4A5D-9CFF-48AF814C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37C-5313-4607-A98D-B2D9424B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132-6DAF-49AD-A018-64F21808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5043-0D63-42C4-A56F-0B5DC44E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B04-5A7A-427A-81BC-D41BB1F9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D5A-C8AC-47AC-9531-AF241487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FF47-3792-4A4E-81CB-0832A814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8F88-E632-4422-93BE-5E61009C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CB9-CAA9-4C32-B127-D3F78E59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FAC8-6FB1-4E69-86D9-77476F347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2338560"/>
          <a:ext cx="6675480" cy="16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38560"/>
                    <a:ext cx="6675480" cy="168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10:06:47Z</dcterms:created>
  <dc:creator>Caolan McNamara</dc:creator>
  <dc:description/>
  <dc:language>en-US</dc:language>
  <cp:lastModifiedBy>Caolan McNamara</cp:lastModifiedBy>
  <dcterms:modified xsi:type="dcterms:W3CDTF">2004-02-19T10:06:53Z</dcterms:modified>
  <cp:revision>1</cp:revision>
  <dc:subject/>
  <dc:title>Slide 1</dc:title>
</cp:coreProperties>
</file>