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2"/>
          </p:nvPr>
        </p:nvSpPr>
        <p:spPr>
          <a:xfrm>
            <a:off x="3886200" y="-360"/>
            <a:ext cx="2936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7080" cy="33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9428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3"/>
          </p:nvPr>
        </p:nvSpPr>
        <p:spPr>
          <a:xfrm>
            <a:off x="0" y="8686440"/>
            <a:ext cx="2936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4"/>
          </p:nvPr>
        </p:nvSpPr>
        <p:spPr>
          <a:xfrm>
            <a:off x="3886200" y="8686440"/>
            <a:ext cx="2936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9D6D6-EEE4-47A7-9D68-603A7E699E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957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BE7F-022D-482E-AA58-DC61D5672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374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11920"/>
            <a:ext cx="77374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B37B-F5BD-4FAC-AF22-4E55B337D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119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120" y="41119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5B99-42B1-497E-91AD-94602B510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1560" y="19807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680" y="19807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119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1560" y="41119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680" y="41119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C341-C041-4499-8ACA-5E9061F31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37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85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74F3-E034-4B00-89EB-5FD77C2B4C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374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9CF7-6F3F-463C-AC69-DA5FCC8C7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E188-5CF0-4A72-AB2D-A1C21C527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B876-1335-4187-94D9-6BF8705FC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181080"/>
            <a:ext cx="7737480" cy="71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85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6DF8-9867-4E7C-80FB-DC2E177A3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119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A4C9-6B75-4CB8-B711-26BB9E5D3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120" y="41119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24C3-0F94-4920-9BB3-289F50238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11920"/>
            <a:ext cx="77374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AC37-56BB-45BD-B3C1-430EFC6C1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374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07800" indent="-3078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7640" y="6322680"/>
            <a:ext cx="18702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3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3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E9023-98D3-4D21-9696-9C1A07FE86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8353440" cy="15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C676-AE3F-4892-B2B9-7EB92D35FA6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son Hsue</dc:creator>
  <dc:description/>
  <dc:language>en-US</dc:language>
  <cp:lastModifiedBy>Zhong Qiyao</cp:lastModifiedBy>
  <cp:revision>0</cp:revision>
  <dc:subject/>
  <dc:title>32 Team SW Weekly Report</dc:title>
</cp:coreProperties>
</file>