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59D-2930-41E6-A5DB-4B3A1065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A35-A173-4E1B-92CD-ECD15DBB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080-EADF-4CE7-96EE-BBFA49D1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DB6-BC3C-490D-9B36-ACA025D3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FFD-01A8-40A2-B39C-703D4D90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AAD-B11E-4292-89DE-BE717DAD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8BC-D077-45B0-8783-83D7440C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29E-FE82-4747-96AA-4F73D4F1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357-8FA7-4071-96DD-9796BB97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411-ADD2-4F54-A0AB-DA4E6CB4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9D8-8334-4F34-B929-B964E792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9B0-6ACE-4002-93C4-A582DBF0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00E21-B0DB-4760-AF62-2CA3C1AAA4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440000"/>
            <a:ext cx="540072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SzPct val="11721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bullete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1721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ht some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SzPct val="139933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d some 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iffer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Here is the 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SzPct val="139933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con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1721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one last firs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er Brendel</dc:creator>
  <dc:description/>
  <dc:language>en-US</dc:language>
  <cp:lastModifiedBy>Oliver Brendel</cp:lastModifiedBy>
  <cp:revision>0</cp:revision>
  <dc:subject/>
  <dc:title/>
</cp:coreProperties>
</file>