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59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6660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6659640" cy="9871200"/>
          </a:xfrm>
          <a:custGeom>
            <a:avLst/>
            <a:gdLst>
              <a:gd name="textAreaLeft" fmla="*/ 360 w 6659640"/>
              <a:gd name="textAreaRight" fmla="*/ 6659280 w 665964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2016">
                <a:moveTo>
                  <a:pt x="5" y="0"/>
                </a:moveTo>
                <a:arcTo wR="5" hR="5" stAng="16200000" swAng="-5400000"/>
                <a:lnTo>
                  <a:pt x="0" y="32011"/>
                </a:lnTo>
                <a:arcTo wR="5" hR="5" stAng="10800000" swAng="-5400000"/>
                <a:lnTo>
                  <a:pt x="21595" y="3201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"/>
          </p:nvPr>
        </p:nvSpPr>
        <p:spPr>
          <a:xfrm>
            <a:off x="3773160" y="-360"/>
            <a:ext cx="288612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Img"/>
          </p:nvPr>
        </p:nvSpPr>
        <p:spPr>
          <a:xfrm>
            <a:off x="866520" y="742680"/>
            <a:ext cx="4925880" cy="369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body"/>
          </p:nvPr>
        </p:nvSpPr>
        <p:spPr>
          <a:xfrm>
            <a:off x="888840" y="4689360"/>
            <a:ext cx="488160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2"/>
          </p:nvPr>
        </p:nvSpPr>
        <p:spPr>
          <a:xfrm>
            <a:off x="-360" y="9379080"/>
            <a:ext cx="288612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 type="sldNum" idx="3"/>
          </p:nvPr>
        </p:nvSpPr>
        <p:spPr>
          <a:xfrm>
            <a:off x="3773160" y="9379080"/>
            <a:ext cx="288612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6A3E2B-A88B-4A23-88EC-FC77F8F426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74800" y="746280"/>
            <a:ext cx="4924440" cy="369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888480" y="4689360"/>
            <a:ext cx="48834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773520" y="937908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657C43-FB28-4CB4-A2AF-99FFC35975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937908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73520" y="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7480" y="84240"/>
            <a:ext cx="6794280" cy="509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888480" y="4689360"/>
            <a:ext cx="48834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096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14040"/>
            <a:ext cx="777096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4050000"/>
            <a:ext cx="777096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096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14040"/>
            <a:ext cx="379188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760" y="1814040"/>
            <a:ext cx="379188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050000"/>
            <a:ext cx="379188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7760" y="4050000"/>
            <a:ext cx="379188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096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14040"/>
            <a:ext cx="250200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3440" y="1814040"/>
            <a:ext cx="250200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40720" y="1814040"/>
            <a:ext cx="250200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4050000"/>
            <a:ext cx="250200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3440" y="4050000"/>
            <a:ext cx="250200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40720" y="4050000"/>
            <a:ext cx="250200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096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814040"/>
            <a:ext cx="7770960" cy="42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096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14040"/>
            <a:ext cx="7770960" cy="42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096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14040"/>
            <a:ext cx="3791880" cy="42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7760" y="1814040"/>
            <a:ext cx="3791880" cy="42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096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5800" y="239760"/>
            <a:ext cx="777096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096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14040"/>
            <a:ext cx="379188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7760" y="1814040"/>
            <a:ext cx="3791880" cy="42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050000"/>
            <a:ext cx="379188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096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14040"/>
            <a:ext cx="3791880" cy="42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7760" y="1814040"/>
            <a:ext cx="379188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7760" y="4050000"/>
            <a:ext cx="379188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096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14040"/>
            <a:ext cx="379188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7760" y="1814040"/>
            <a:ext cx="379188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050000"/>
            <a:ext cx="777096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520" y="7560"/>
            <a:ext cx="9118800" cy="6845760"/>
            <a:chOff x="20520" y="7560"/>
            <a:chExt cx="9118800" cy="6845760"/>
          </a:xfrm>
        </p:grpSpPr>
        <p:sp>
          <p:nvSpPr>
            <p:cNvPr id="1" name=""/>
            <p:cNvSpPr/>
            <p:nvPr/>
          </p:nvSpPr>
          <p:spPr>
            <a:xfrm flipV="1">
              <a:off x="20520" y="11160"/>
              <a:ext cx="196920" cy="4046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9600" y="22320"/>
              <a:ext cx="563760" cy="11858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>
              <a:off x="27000" y="9000"/>
              <a:ext cx="892080" cy="19782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3480" y="22320"/>
              <a:ext cx="1201680" cy="303516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22320" y="42480"/>
              <a:ext cx="1538280" cy="426708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52560" y="22320"/>
              <a:ext cx="1854000" cy="5878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301680" y="7560"/>
              <a:ext cx="1925640" cy="6832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949320" y="22320"/>
              <a:ext cx="1625760" cy="68310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1512720" y="7560"/>
              <a:ext cx="1352880" cy="6832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109960" y="58680"/>
              <a:ext cx="1131840" cy="67946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2714760" y="7560"/>
              <a:ext cx="819000" cy="6832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3328560" y="58680"/>
              <a:ext cx="520920" cy="67946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3933720" y="7560"/>
              <a:ext cx="235080" cy="6832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4544640" y="22320"/>
              <a:ext cx="4680" cy="68310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 flipV="1">
              <a:off x="4857840" y="7560"/>
              <a:ext cx="285840" cy="6832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207040" y="58680"/>
              <a:ext cx="517320" cy="67946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flipV="1">
              <a:off x="5527800" y="7560"/>
              <a:ext cx="815760" cy="6832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878440" y="22320"/>
              <a:ext cx="1084320" cy="68310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flipV="1">
              <a:off x="6200640" y="7560"/>
              <a:ext cx="1363680" cy="6832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510240" y="58680"/>
              <a:ext cx="1681200" cy="67946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flipV="1">
              <a:off x="6869160" y="43920"/>
              <a:ext cx="1874880" cy="679788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182000" y="58680"/>
              <a:ext cx="1933560" cy="608652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7472520" y="47160"/>
              <a:ext cx="1645920" cy="456732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853400" y="58680"/>
              <a:ext cx="1274760" cy="328788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8173800" y="47160"/>
              <a:ext cx="957240" cy="221148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456760" y="58680"/>
              <a:ext cx="682560" cy="142236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 flipV="1">
              <a:off x="8772120" y="7560"/>
              <a:ext cx="353880" cy="67932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160" y="168120"/>
              <a:ext cx="9101160" cy="18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8160" y="358920"/>
              <a:ext cx="910116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160" y="534960"/>
              <a:ext cx="910116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8160" y="722160"/>
              <a:ext cx="9101160" cy="18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6360" y="933480"/>
              <a:ext cx="910116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8160" y="1160640"/>
              <a:ext cx="910116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6360" y="1371600"/>
              <a:ext cx="910116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6360" y="1582560"/>
              <a:ext cx="9101160" cy="18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8160" y="1849320"/>
              <a:ext cx="9101160" cy="18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36360" y="2098800"/>
              <a:ext cx="910116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36360" y="2365200"/>
              <a:ext cx="9101160" cy="18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34920" y="2654280"/>
              <a:ext cx="909972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4920" y="2938320"/>
              <a:ext cx="9099720" cy="18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6360" y="3263760"/>
              <a:ext cx="9101160" cy="18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4920" y="3587760"/>
              <a:ext cx="909972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4920" y="3970440"/>
              <a:ext cx="909972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4920" y="4334040"/>
              <a:ext cx="909972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400" y="4732200"/>
              <a:ext cx="9096120" cy="18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60" y="5164200"/>
              <a:ext cx="909648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1400" y="5619600"/>
              <a:ext cx="9096120" cy="18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400" y="6100920"/>
              <a:ext cx="909612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400" y="6605640"/>
              <a:ext cx="909612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55600" y="147600"/>
            <a:ext cx="8386920" cy="2733840"/>
            <a:chOff x="255600" y="147600"/>
            <a:chExt cx="8386920" cy="2733840"/>
          </a:xfrm>
        </p:grpSpPr>
        <p:sp>
          <p:nvSpPr>
            <p:cNvPr id="51" name=""/>
            <p:cNvSpPr/>
            <p:nvPr/>
          </p:nvSpPr>
          <p:spPr>
            <a:xfrm>
              <a:off x="257040" y="522360"/>
              <a:ext cx="2544840" cy="12128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7040" y="522360"/>
              <a:ext cx="2544840" cy="121284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720" y="1468440"/>
              <a:ext cx="217440" cy="604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33720" y="1468440"/>
              <a:ext cx="217440" cy="604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46480" y="1527120"/>
              <a:ext cx="120600" cy="334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46480" y="1527120"/>
              <a:ext cx="120600" cy="334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90840" y="1550880"/>
              <a:ext cx="31680" cy="97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90840" y="1550880"/>
              <a:ext cx="31680" cy="97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44800" y="1581120"/>
              <a:ext cx="1042920" cy="13003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44800" y="1581120"/>
              <a:ext cx="1042920" cy="1300320"/>
            </a:xfrm>
            <a:solidFill>
              <a:srgbClr val="3030c0"/>
            </a:solidFill>
            <a:ln w="12600">
              <a:solidFill>
                <a:srgbClr val="303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6560" y="1965240"/>
              <a:ext cx="1106280" cy="5176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56560" y="1965240"/>
              <a:ext cx="1106280" cy="51768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46840" y="2517840"/>
              <a:ext cx="88920" cy="730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46840" y="2517840"/>
              <a:ext cx="88920" cy="7308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323200" y="2538360"/>
              <a:ext cx="206280" cy="1555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23200" y="2538360"/>
              <a:ext cx="206280" cy="15552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88440" y="2389320"/>
              <a:ext cx="154080" cy="1695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88440" y="2389320"/>
              <a:ext cx="154080" cy="16956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99040" y="455760"/>
              <a:ext cx="3138480" cy="13554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99040" y="455760"/>
              <a:ext cx="3138480" cy="135540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81440" y="639720"/>
              <a:ext cx="1558800" cy="7365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81440" y="639720"/>
              <a:ext cx="1558800" cy="73656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46440" y="1198440"/>
              <a:ext cx="1870200" cy="12002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46440" y="1198440"/>
              <a:ext cx="1870200" cy="120024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78200" y="841320"/>
              <a:ext cx="158760" cy="730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78200" y="841320"/>
              <a:ext cx="158760" cy="7308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57480" y="787320"/>
              <a:ext cx="30240" cy="129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57480" y="787320"/>
              <a:ext cx="30240" cy="129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57480" y="801720"/>
              <a:ext cx="14400" cy="144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57480" y="801720"/>
              <a:ext cx="14400" cy="144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1280" y="798480"/>
              <a:ext cx="222120" cy="1936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51280" y="798480"/>
              <a:ext cx="222120" cy="1936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25840" y="692280"/>
              <a:ext cx="268200" cy="1080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5840" y="692280"/>
              <a:ext cx="268200" cy="10800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12880" y="287280"/>
              <a:ext cx="1168560" cy="5558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12880" y="287280"/>
              <a:ext cx="1168560" cy="55584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92400" y="420840"/>
              <a:ext cx="260280" cy="997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92400" y="420840"/>
              <a:ext cx="260280" cy="9972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55840" y="428760"/>
              <a:ext cx="423720" cy="1378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55840" y="428760"/>
              <a:ext cx="423720" cy="1378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90800" y="264960"/>
              <a:ext cx="749160" cy="2034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90800" y="264960"/>
              <a:ext cx="749160" cy="20340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43160" y="482760"/>
              <a:ext cx="604800" cy="3506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43160" y="482760"/>
              <a:ext cx="604800" cy="35064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75360" y="1920960"/>
              <a:ext cx="176040" cy="29520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53120" y="1292400"/>
              <a:ext cx="57240" cy="237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53120" y="1292400"/>
              <a:ext cx="57240" cy="2376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81920" y="1222200"/>
              <a:ext cx="269640" cy="730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81920" y="1222200"/>
              <a:ext cx="269640" cy="7308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12160" y="1287360"/>
              <a:ext cx="61920" cy="158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12160" y="1287360"/>
              <a:ext cx="61920" cy="1584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94680" y="1182600"/>
              <a:ext cx="139680" cy="414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94680" y="1182600"/>
              <a:ext cx="139680" cy="4140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35720" y="1092240"/>
              <a:ext cx="76320" cy="871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35720" y="1092240"/>
              <a:ext cx="76320" cy="871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3000" y="1684440"/>
              <a:ext cx="254160" cy="2332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23000" y="1684440"/>
              <a:ext cx="254160" cy="23328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9440" y="1487520"/>
              <a:ext cx="162000" cy="968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59440" y="1487520"/>
              <a:ext cx="162000" cy="9684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7080" y="1566720"/>
              <a:ext cx="44280" cy="241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77080" y="1566720"/>
              <a:ext cx="44280" cy="241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35760" y="1590840"/>
              <a:ext cx="49320" cy="270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5760" y="1590840"/>
              <a:ext cx="49320" cy="270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42240" y="1623960"/>
              <a:ext cx="168120" cy="666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42240" y="1623960"/>
              <a:ext cx="168120" cy="6660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58080" y="1608120"/>
              <a:ext cx="44280" cy="255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58080" y="1608120"/>
              <a:ext cx="44280" cy="255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7800" y="1778040"/>
              <a:ext cx="495360" cy="2095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27800" y="1778040"/>
              <a:ext cx="495360" cy="20952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89040" y="1433520"/>
              <a:ext cx="32040" cy="111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89040" y="1433520"/>
              <a:ext cx="32040" cy="111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5600" y="404640"/>
              <a:ext cx="2544840" cy="12160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5600" y="404640"/>
              <a:ext cx="2544840" cy="12160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1351080"/>
              <a:ext cx="215640" cy="619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33720" y="1351080"/>
              <a:ext cx="215640" cy="619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44680" y="1411200"/>
              <a:ext cx="122400" cy="334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44680" y="1411200"/>
              <a:ext cx="122400" cy="334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41560" y="1463760"/>
              <a:ext cx="1041480" cy="12999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41560" y="1463760"/>
              <a:ext cx="1041480" cy="12999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56560" y="1849320"/>
              <a:ext cx="1104840" cy="5158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56560" y="1849320"/>
              <a:ext cx="1104840" cy="5158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45400" y="2400480"/>
              <a:ext cx="88920" cy="727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45400" y="2400480"/>
              <a:ext cx="88920" cy="727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19960" y="2421000"/>
              <a:ext cx="208080" cy="1555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19960" y="2421000"/>
              <a:ext cx="208080" cy="1555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85200" y="2271600"/>
              <a:ext cx="157320" cy="1699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85200" y="2271600"/>
              <a:ext cx="157320" cy="1699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99040" y="339840"/>
              <a:ext cx="3137040" cy="13539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99040" y="339840"/>
              <a:ext cx="3137040" cy="13539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80000" y="522360"/>
              <a:ext cx="1558800" cy="7398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80000" y="522360"/>
              <a:ext cx="1558800" cy="7398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41760" y="1081080"/>
              <a:ext cx="1874880" cy="11984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41760" y="1081080"/>
              <a:ext cx="1874880" cy="11984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74960" y="723960"/>
              <a:ext cx="158760" cy="730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74960" y="723960"/>
              <a:ext cx="158760" cy="730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57480" y="669960"/>
              <a:ext cx="27000" cy="93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57480" y="669960"/>
              <a:ext cx="27000" cy="93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57480" y="685800"/>
              <a:ext cx="14400" cy="126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57480" y="685800"/>
              <a:ext cx="14400" cy="126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51280" y="679320"/>
              <a:ext cx="222120" cy="1969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51280" y="679320"/>
              <a:ext cx="222120" cy="1969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21160" y="574560"/>
              <a:ext cx="272880" cy="1065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21160" y="574560"/>
              <a:ext cx="272880" cy="1065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12880" y="169920"/>
              <a:ext cx="1168560" cy="5554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12880" y="169920"/>
              <a:ext cx="1168560" cy="5554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89160" y="303120"/>
              <a:ext cx="261720" cy="986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89160" y="303120"/>
              <a:ext cx="261720" cy="986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800" y="314280"/>
              <a:ext cx="425520" cy="1364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50800" y="314280"/>
              <a:ext cx="425520" cy="1364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89000" y="147600"/>
              <a:ext cx="750960" cy="2034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89000" y="147600"/>
              <a:ext cx="750960" cy="2034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41720" y="366840"/>
              <a:ext cx="606240" cy="3506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41720" y="366840"/>
              <a:ext cx="606240" cy="3506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73560" y="1806480"/>
              <a:ext cx="174600" cy="2905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73560" y="1806480"/>
              <a:ext cx="174600" cy="2905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50240" y="1174680"/>
              <a:ext cx="60120" cy="255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50240" y="1174680"/>
              <a:ext cx="60120" cy="255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81920" y="1104840"/>
              <a:ext cx="263520" cy="745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81920" y="1104840"/>
              <a:ext cx="263520" cy="745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10360" y="1170000"/>
              <a:ext cx="58680" cy="144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10360" y="1170000"/>
              <a:ext cx="58680" cy="144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94680" y="1066680"/>
              <a:ext cx="139680" cy="399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94680" y="1066680"/>
              <a:ext cx="139680" cy="399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32840" y="974880"/>
              <a:ext cx="75960" cy="889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32840" y="974880"/>
              <a:ext cx="75960" cy="889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19760" y="1565280"/>
              <a:ext cx="257400" cy="2318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19760" y="1565280"/>
              <a:ext cx="257400" cy="2318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59440" y="1370160"/>
              <a:ext cx="162000" cy="968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59440" y="1370160"/>
              <a:ext cx="162000" cy="968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75640" y="1449360"/>
              <a:ext cx="44280" cy="205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75640" y="1449360"/>
              <a:ext cx="44280" cy="205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35760" y="1474920"/>
              <a:ext cx="44640" cy="252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35760" y="1474920"/>
              <a:ext cx="44640" cy="252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39000" y="1509840"/>
              <a:ext cx="168120" cy="619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39000" y="1509840"/>
              <a:ext cx="168120" cy="619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58080" y="1490760"/>
              <a:ext cx="38160" cy="284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58080" y="1490760"/>
              <a:ext cx="38160" cy="284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26360" y="1662120"/>
              <a:ext cx="495360" cy="2095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26360" y="1662120"/>
              <a:ext cx="495360" cy="2095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0280" y="674640"/>
              <a:ext cx="411120" cy="5922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40280" y="674640"/>
              <a:ext cx="411120" cy="5922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096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14040"/>
            <a:ext cx="7770960" cy="42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ffff00"/>
              </a:buClr>
              <a:buSzPct val="62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2781360" y="1539720"/>
            <a:ext cx="3581280" cy="2295720"/>
            <a:chOff x="2781360" y="1539720"/>
            <a:chExt cx="3581280" cy="229572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3975120" y="1539720"/>
              <a:ext cx="1193760" cy="11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168880" y="1539720"/>
              <a:ext cx="1193760" cy="11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3"/>
            <a:stretch/>
          </p:blipFill>
          <p:spPr>
            <a:xfrm>
              <a:off x="3975120" y="2641680"/>
              <a:ext cx="1193760" cy="11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4"/>
            <a:stretch/>
          </p:blipFill>
          <p:spPr>
            <a:xfrm>
              <a:off x="5168880" y="2641680"/>
              <a:ext cx="1193760" cy="11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5"/>
            <a:stretch/>
          </p:blipFill>
          <p:spPr>
            <a:xfrm>
              <a:off x="2781360" y="1539720"/>
              <a:ext cx="1193760" cy="11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6"/>
            <a:stretch/>
          </p:blipFill>
          <p:spPr>
            <a:xfrm>
              <a:off x="2781360" y="2641680"/>
              <a:ext cx="1193760" cy="119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4240" y="1933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ahoma"/>
              </a:rPr>
              <a:t>Dieses ist ein Testslide</a:t>
            </a: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71600" y="1228320"/>
            <a:ext cx="8431200" cy="46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dflsddsgf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dhösdgdsfgdsfg jsdfglj gljsdbfgjsdb jbsdgbf klsgb sgb lsfdgb klsfd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62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dfgsdf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2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fgsdfgsdf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2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fgsdgsdf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2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dfgdsfgsdf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2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dfgsdgsdf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ergen Gromer</dc:creator>
  <dc:description/>
  <dc:language>en-US</dc:language>
  <cp:lastModifiedBy>Volker Hoppe</cp:lastModifiedBy>
  <cp:revision>0</cp:revision>
  <dc:subject/>
  <dc:title>Overview Presentation</dc:title>
</cp:coreProperties>
</file>