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BFD6-9335-47DF-AB4F-6003D9110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0CDB-CAFD-4885-8EB8-FA4546B26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D239-7338-412C-997F-3968B1208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DEC1-7FB5-4E73-ACCD-7AF44F8A0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9513-77F4-423C-89A8-DD340A70C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2C5D-93ED-4DA0-A8B0-A7F31807E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412F-8D80-4B2F-894E-0CB204356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1256-2FC5-4AF6-90DE-1FF23D308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8990-4A64-406E-91E5-988523F63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C814-0F1A-4F8A-83D5-1A07B03BF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72C8-438F-4AB2-BB2A-449B5AEE9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39A9-2226-4AC2-A0E3-401E37EED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D2878-6F68-4379-B474-CA560BD275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1600200"/>
          <a:ext cx="4876920" cy="1676520"/>
        </p:xfrm>
        <a:graphic>
          <a:graphicData uri="http://schemas.openxmlformats.org/drawingml/2006/table">
            <a:tbl>
              <a:tblPr/>
              <a:tblGrid>
                <a:gridCol w="1625400"/>
                <a:gridCol w="1625760"/>
                <a:gridCol w="1625760"/>
              </a:tblGrid>
              <a:tr h="8384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5T08:32:52Z</dcterms:created>
  <dc:creator>joker_p</dc:creator>
  <dc:description/>
  <dc:language>en-US</dc:language>
  <cp:lastModifiedBy>joker_p</cp:lastModifiedBy>
  <dcterms:modified xsi:type="dcterms:W3CDTF">2012-06-05T08:33:09Z</dcterms:modified>
  <cp:revision>1</cp:revision>
  <dc:subject/>
  <dc:title>Slide 1</dc:title>
</cp:coreProperties>
</file>