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27A9-FAB6-4939-8D37-27B1C12B0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2B43-9591-4D88-A1A7-6E843679E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087D-5BE4-4166-BF1D-3D715B581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A08F-A421-4324-9AF4-EA7FF4075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05F55-9C22-4F9D-A54A-6C149EBD13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52206-B011-43DC-B02B-72A66DBD57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1576A-C0DC-411F-B018-EE40C36FE1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A7621-D2F4-4BFB-9D6D-5F1F9BE0C2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48016-096E-4AF7-978F-6282BC4084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6BA58-30E5-43A0-B51B-536A6BA32C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61C11-3D88-4FAA-AB3F-1FDED2A2D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E4B7-1692-4C80-B51E-43367018D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5A22B-1852-4AC8-A6A6-FF9C3084A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3658F-7262-4F79-83C2-1A5B9A9CD5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5636A-2734-4291-8702-A548C69B6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E389C-A4E5-4059-9169-B701450EA8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E3E3D-FAC1-4BE0-97EF-AF21E56E26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1F9A-220D-45DE-AF8F-6C01311FA8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8060-3DBF-4508-82E3-14E141CE0E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126-64C6-4108-898B-5EBC447A1E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B9A5-BABF-4B54-8211-529E046DE9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72E-7228-43E4-9B21-7F0931341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612F-DF0D-4191-B8C8-C8E47EB33D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A64-B121-4923-BEE8-79F6AD8C56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0EE0-30F0-4C95-A28C-1C6283A3FA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16DE-BB0F-4A4B-A8C1-3FAA1D5283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B4DE-969A-46C7-B7EC-7457A5A20B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B3F8-20B8-4B3E-B014-7C192D86EE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EDB-C448-462B-A7CF-C6D3992C96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3E7F-054D-4A70-AF97-D01A64F741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10E90-D87B-474B-ACFE-A13843359D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8069D-B178-4CE0-8D03-73BF2A276F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6E454-0A0B-482E-99B8-222A60DFA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782E-A64C-418C-90A6-50B4EC20E7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B402A-8F29-425F-B42D-58B479E474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ACE18-CAA9-4FEE-B6D2-2B493F94E9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10AA5-9526-4D43-B1F7-9D2B7FF6D5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BD623-31DD-4159-ACA6-337EFF5903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CE0A6-675A-45E7-A891-BD39CE3F39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44E68-B17B-4C6C-95C9-1BB0F8CBFB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0D793-0A8B-4773-83BB-2E6F163657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74EDF-AE23-4BDA-9C19-769404D2CA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58B49-FED0-4AA8-9F28-CED5F52D64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A0CEE-7CE3-4E29-8D94-0703BBDB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69E8-9B9A-484F-ADDD-B1F60F8C8C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0F7B0-4CBB-4C81-B153-27C45EA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DBC97-C78A-4CA8-90F3-FDD79BBE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EEFFC-482D-4E1C-802A-9156C114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456CC-953B-4F24-9414-83BC04D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C0ABE-1273-4744-873E-22CFB325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F3A89-5A5E-402D-B7C5-6B580F24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1B6A4-DC90-49FB-9B9F-9F1F1D2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52531-3BF2-4175-BD60-CDC3AE5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4E3B1-D87B-41B4-8770-6E343670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F5907-CEF2-46BD-BB22-A6CBD9C7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1216-13B6-449B-A96B-99DD709D92F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B3E48-F7E8-4C38-958E-7534CF26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DEFE-FE91-4D30-AA4A-529F971A8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17A3-FA85-43DA-9DB5-318EBE8CB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6410-7EC7-4478-BF3D-C957A9150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FF7F-9747-4762-BCB5-53BCE2C3E3F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312C-8049-43AF-A2BF-1EB51A6EE6FA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10360" y="6111720"/>
            <a:ext cx="1895400" cy="746280"/>
            <a:chOff x="8010360" y="6111720"/>
            <a:chExt cx="1895400" cy="7462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8312760" y="638964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010360" y="6111720"/>
              <a:ext cx="18954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5936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192240" y="6518160"/>
            <a:ext cx="40464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E40D-232C-4BF3-AA3F-6D7EF5F4520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132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2962440"/>
            <a:ext cx="1895040" cy="745920"/>
            <a:chOff x="8001000" y="2962440"/>
            <a:chExt cx="1895040" cy="745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8305560" y="324000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001000" y="2962440"/>
              <a:ext cx="189504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 type="ftr" idx="7"/>
          </p:nvPr>
        </p:nvSpPr>
        <p:spPr>
          <a:xfrm>
            <a:off x="6350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8"/>
          </p:nvPr>
        </p:nvSpPr>
        <p:spPr>
          <a:xfrm>
            <a:off x="232920" y="6518160"/>
            <a:ext cx="4050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2EDD-5B6D-4E76-8BF6-3D28C4122D73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EEA1-52D6-429F-B75C-67F7D67E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 bul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9:15:55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7T09:25:34Z</dcterms:modified>
  <cp:revision>1</cp:revision>
  <dc:subject/>
  <dc:title>Color bullets</dc:title>
</cp:coreProperties>
</file>