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D80-392F-44DA-8F22-5B69B231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2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F71B-9E08-419D-B80B-EC3CB008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02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2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02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27B-2081-4B7C-B2D9-3E0F0888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55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68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2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55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68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E7B-7F5E-43D3-B917-834FA91F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6E3-48E3-4084-B9B5-D8236FAA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4C6-CC19-4E4D-99C2-B2E77563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02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1BA5-FFC0-4A6C-A8D3-F7F14730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1B8B-AE27-4EFA-A8FF-81D914F9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563640" y="53640"/>
            <a:ext cx="556236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530-EBC6-4F8D-9750-17586899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2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2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77A-5821-452E-AC55-7B40175D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2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02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7C6-88BD-4339-9BA2-AA77D85A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02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B6FE-66A4-45AB-AB8E-B68AC130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238200" y="60357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he-I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369B86-BB03-45DF-8948-9619812831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0" y="1371600"/>
            <a:ext cx="90662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1142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600" indent="-226080" algn="r" rtl="1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14440" indent="-226080" algn="r" rtl="1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53560" indent="-226080" algn="r" rtl="1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53560" indent="-226080" algn="r" rtl="1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53560" indent="-226080" algn="r" rtl="1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4280" y="190440"/>
            <a:ext cx="24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</a:rPr>
              <a:t>מדינת ישרא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משרד התקשור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464840" y="1295280"/>
            <a:ext cx="7148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415440" indent="-415440" algn="r" rtl="1">
              <a:spcBef>
                <a:spcPts val="1400"/>
              </a:spcBef>
              <a:buClr>
                <a:srgbClr val="ffff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</a:rPr>
              <a:t>תחרות בשירותי תקשורת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661920" y="313920"/>
            <a:ext cx="5289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ff00"/>
                </a:solidFill>
                <a:latin typeface="Times New Roman"/>
              </a:rPr>
              <a:t>תחרות - מרכיב מרכזי</a:t>
            </a:r>
            <a:br>
              <a:rPr sz="4800"/>
            </a:br>
            <a:r>
              <a:rPr b="1" lang="he-IL" sz="4800" spc="-1" strike="noStrike">
                <a:solidFill>
                  <a:srgbClr val="ffff00"/>
                </a:solidFill>
                <a:latin typeface="Times New Roman"/>
              </a:rPr>
              <a:t>במדיניות התקשורת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4419720"/>
            <a:ext cx="8458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313200" indent="-313200" algn="r" rtl="1">
              <a:spcBef>
                <a:spcPts val="2001"/>
              </a:spcBef>
              <a:buClr>
                <a:srgbClr val="ffff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  <a:ea typeface="David"/>
              </a:rPr>
              <a:t>“שמיים פתוחים” - תחרות בשידורים לציבור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66080" indent="-310680" algn="r" rtl="1"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  <a:cs typeface="David"/>
              </a:rPr>
              <a:t>שידור לוויני ישיר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66080" indent="-310680" algn="r" rtl="1"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  <a:cs typeface="David"/>
              </a:rPr>
              <a:t>ערוץ טלוויזיה מסחרי נוסף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66080" indent="-310680" algn="r" rtl="1"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  <a:cs typeface="David"/>
              </a:rPr>
              <a:t>ערוצי רדיו מסחריים ארציי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66080" indent="-310680" algn="r" rtl="1"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  <a:cs typeface="David"/>
              </a:rPr>
              <a:t>ערוצי טלוויזיה ייעודיים בטלוויזיה בכבלי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75248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364680" indent="-364680" algn="r" rtl="1">
              <a:spcBef>
                <a:spcPts val="1400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  <a:cs typeface="David"/>
              </a:rPr>
              <a:t>התנעת התחרות בתקשורת בין-לאומית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4680" indent="-364680" algn="r" rtl="1"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  <a:cs typeface="David"/>
              </a:rPr>
              <a:t>מפעיל רט”ן שלישי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4680" indent="-364680" algn="r" rtl="1"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  <a:cs typeface="David"/>
              </a:rPr>
              <a:t>הפרטת חברת בזק - בשלבים מבוקרי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4680" indent="-364680" algn="r" rtl="1"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  <a:cs typeface="David"/>
              </a:rPr>
              <a:t>פתיחת שוק התקשורת הפנים-ארצית לתחרו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4680" indent="-364680" algn="r" rtl="1"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  <a:cs typeface="David"/>
              </a:rPr>
              <a:t>הרחבת התחרות  ברט”ן ותקשורת אישית נייד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305920" y="1828800"/>
            <a:ext cx="228600" cy="1295280"/>
            <a:chOff x="8305920" y="1828800"/>
            <a:chExt cx="228600" cy="1295280"/>
          </a:xfrm>
        </p:grpSpPr>
        <p:sp>
          <p:nvSpPr>
            <p:cNvPr id="48" name=""/>
            <p:cNvSpPr/>
            <p:nvPr/>
          </p:nvSpPr>
          <p:spPr>
            <a:xfrm>
              <a:off x="8305920" y="1828800"/>
              <a:ext cx="228600" cy="30492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96"/>
                  </a:moveTo>
                  <a:lnTo>
                    <a:pt x="48" y="192"/>
                  </a:lnTo>
                  <a:lnTo>
                    <a:pt x="144" y="0"/>
                  </a:ln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05920" y="2324160"/>
              <a:ext cx="228600" cy="30492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96"/>
                  </a:moveTo>
                  <a:lnTo>
                    <a:pt x="48" y="192"/>
                  </a:lnTo>
                  <a:lnTo>
                    <a:pt x="144" y="0"/>
                  </a:ln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305920" y="2819520"/>
              <a:ext cx="228600" cy="30456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96"/>
                  </a:moveTo>
                  <a:lnTo>
                    <a:pt x="48" y="192"/>
                  </a:lnTo>
                  <a:lnTo>
                    <a:pt x="144" y="0"/>
                  </a:ln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09T17:01:58Z</dcterms:created>
  <dc:creator>Daniel Rosenne</dc:creator>
  <dc:description/>
  <dc:language>en-US</dc:language>
  <cp:lastModifiedBy>ooo</cp:lastModifiedBy>
  <cp:lastPrinted>1999-11-14T18:38:35Z</cp:lastPrinted>
  <dcterms:modified xsi:type="dcterms:W3CDTF">2007-08-19T10:48:34Z</dcterms:modified>
  <cp:revision>841</cp:revision>
  <dc:subject>ספטמבר 1998</dc:subject>
  <dc:title>התקשורת בישראל בתחילת שנות ה- 2000</dc:title>
</cp:coreProperties>
</file>