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91C9-1D66-47BF-B3A3-EFAA7E984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E95C-E5F4-44E8-92D0-0A1446838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F11E-F092-4836-A8ED-26550A75B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C23D-7954-40B2-B63C-FCE7A7966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6B46-7A48-4C14-8346-AACF80994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78E3-9282-492C-B456-893875C118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D21F-CAD6-42F2-8B95-3F2E4B3F54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A626-26E0-411B-B0E8-EE2FD7CEEB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55E8-F0F3-4BA2-8336-49F89A05A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657B-CC13-448B-A1E5-E42BF05BA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7310-6428-46A2-8930-C40883922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1B78-BD37-47FB-8ED9-B5D3D31E7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E9AB-82D2-455B-985C-D1DFFAFC9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DF28-3668-47E3-8F01-02000CDA9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8940-6863-4C5D-8278-03847A3DE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2374-BB6A-482E-A32A-AA0870799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CD60-DD27-434B-8296-F9843D9E5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9D9C-475E-4B9B-A161-1BA26CF7D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7B0-AC52-4A74-BD09-838669171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D3DF-EFF8-41E0-BE73-4EFD93823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5E56-D58F-46F1-B399-BC81F7111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5522-7B19-47BA-AFF7-79D67F98E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27D2-7DAC-44FE-AD0C-56E209DA6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3D05-A54E-43C6-9BF3-AFC6B949E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A83F0A-B239-4788-9CB1-C365C397C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A533A5-EA80-4B44-9228-4D4B1CDA6E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2692440"/>
            <a:ext cx="76579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新細明體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新細明體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man_hsu</dc:creator>
  <dc:description/>
  <dc:language>en-US</dc:language>
  <cp:lastModifiedBy>user</cp:lastModifiedBy>
  <cp:revision>0</cp:revision>
  <dc:subject/>
  <dc:title>PowerPoint 簡報</dc:title>
</cp:coreProperties>
</file>