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680-9EFE-4364-B461-E0EF1F14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592-8BA4-421D-983B-60E30B1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724-D099-4D3B-81B3-AF1AEFA8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BE0-DA7E-4302-95D6-64D85E6A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D58-BB23-4136-A57D-27FF5FD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239-8A00-4C05-8115-3442CD0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2C7-471E-4A2B-981D-D70BEA1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9F0-A819-4E92-A763-5A7C57A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A10-C76A-49BC-9AF8-88D16FE1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142-D770-4BF1-8706-7936B2B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D74-CF4F-44E0-A175-83B9CC8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B09-55CB-48FB-9981-C9F7A7B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31B-467B-416A-96EC-3EEA33D2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71680"/>
            <a:ext cx="73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3:15:50Z</dcterms:created>
  <dc:creator>Terri Incollingo</dc:creator>
  <dc:description/>
  <dc:language>en-US</dc:language>
  <cp:lastModifiedBy>Terri Incollingo</cp:lastModifiedBy>
  <dcterms:modified xsi:type="dcterms:W3CDTF">2002-01-06T03:16:13Z</dcterms:modified>
  <cp:revision>1</cp:revision>
  <dc:subject/>
  <dc:title>PowerPoint Presentation</dc:title>
</cp:coreProperties>
</file>