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B82C-599E-41DF-966A-A6244EB1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EC37-101F-47F9-B91C-69206390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B081-E19A-4899-9583-F26ED1B5F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34F0-FC9B-4F5D-855D-FD9F01C97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934D-556F-45D2-8909-C28580AD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A109-1C53-4D47-A307-890EB4EF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C91C-94BC-4205-AE5E-2417328E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7074-EA3F-4D7D-AD78-55DD1F65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BFA7-C9FB-4EE7-9CBC-E3BF13C5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57CA-EA38-4F33-A7CC-6FBC29B1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3C3F-27B7-4092-BF56-703EE008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ECCA-68EA-475D-963C-21FF9C1D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15BC-1FB5-4D9B-8549-92D6CF9B5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43320" y="1714680"/>
            <a:ext cx="1214280" cy="914400"/>
          </a:xfrm>
          <a:prstGeom prst="parallelogram">
            <a:avLst>
              <a:gd name="adj" fmla="val 331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66920" y="2838600"/>
            <a:ext cx="1214640" cy="914400"/>
          </a:xfrm>
          <a:prstGeom prst="parallelogram">
            <a:avLst>
              <a:gd name="adj" fmla="val 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76360" y="3933720"/>
            <a:ext cx="1214280" cy="914400"/>
          </a:xfrm>
          <a:prstGeom prst="parallelogram">
            <a:avLst>
              <a:gd name="adj" fmla="val 921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6495480" y="2809800"/>
            <a:ext cx="1228680" cy="1000080"/>
          </a:xfrm>
          <a:prstGeom prst="parallelogram">
            <a:avLst>
              <a:gd name="adj" fmla="val 307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6462000" y="3990960"/>
            <a:ext cx="1343160" cy="1085760"/>
          </a:xfrm>
          <a:prstGeom prst="parallelogram">
            <a:avLst>
              <a:gd name="adj" fmla="val 309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5043600" y="4014720"/>
            <a:ext cx="942840" cy="1085760"/>
          </a:xfrm>
          <a:prstGeom prst="parallelogram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76720" y="2747880"/>
            <a:ext cx="971640" cy="1100160"/>
          </a:xfrm>
          <a:prstGeom prst="parallelogram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043080" y="3957480"/>
            <a:ext cx="1128960" cy="914400"/>
          </a:xfrm>
          <a:prstGeom prst="parallelogram">
            <a:avLst>
              <a:gd name="adj" fmla="val 85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rot="14012400">
            <a:off x="5676840" y="1519200"/>
            <a:ext cx="1228680" cy="1000080"/>
          </a:xfrm>
          <a:prstGeom prst="parallelogram">
            <a:avLst>
              <a:gd name="adj" fmla="val 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13:36:03Z</dcterms:created>
  <dc:creator>user</dc:creator>
  <dc:description/>
  <dc:language>en-US</dc:language>
  <cp:lastModifiedBy>user</cp:lastModifiedBy>
  <dcterms:modified xsi:type="dcterms:W3CDTF">2011-05-04T13:36:14Z</dcterms:modified>
  <cp:revision>1</cp:revision>
  <dc:subject/>
  <dc:title>Slide 1</dc:title>
</cp:coreProperties>
</file>