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43C-2A90-471A-9848-7DB6A63C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87A-2B79-4096-8FA3-A645A501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475-47F6-4C16-A19C-015B80D7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EF5-6E86-4D46-BBC6-9DCBD494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D69-0866-49FD-B418-ADAD3A25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DB5-8149-4514-902D-322B85F8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F9F-E972-4F53-8246-FAB03AB3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353-4E2E-4383-8AD9-08957EE5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A4A-36D3-4085-ACB0-1431F63E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EB7-452F-4DC5-BF34-45D902C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134-FA84-4F69-81C8-6DA17285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020-E6B6-420C-8451-F06CF6A8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ED7-100E-42C8-B9F1-283CC7B6A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1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0:03:02Z</dcterms:created>
  <dc:creator>Ученик</dc:creator>
  <dc:description/>
  <dc:language>en-US</dc:language>
  <cp:lastModifiedBy>Ученик</cp:lastModifiedBy>
  <dcterms:modified xsi:type="dcterms:W3CDTF">2011-05-18T10:03:22Z</dcterms:modified>
  <cp:revision>1</cp:revision>
  <dc:subject/>
  <dc:title>Слайд 1</dc:title>
</cp:coreProperties>
</file>