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E71-D678-4349-8C00-CB08C96C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A4E-B033-4772-826C-F06DEDE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33B-0B6D-41B9-8AF8-2EDD88BE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94F-7FF6-4A9C-A750-52DD4CAD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61-C64B-4F86-8B9B-DE3392D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A99-52A0-490E-B067-B9168817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A87-AFCC-42D7-969C-0C51454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31C-A829-44CB-B3D7-68AEF43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89E-BA1F-4BF1-8A15-3AD87E0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BF9-CD73-40FD-87FB-A3DB8C3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B81-9BA0-4946-B199-6A606AA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4CC-0155-455B-8B50-D2F257A5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764-323B-4AC6-9085-55A1C058A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91440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78604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465768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29280" y="1828800"/>
            <a:ext cx="14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29280" y="3700440"/>
            <a:ext cx="1440" cy="95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335320" y="1371600"/>
            <a:ext cx="180720" cy="3745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43600" y="1371600"/>
            <a:ext cx="18108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78040" y="118908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78040" y="307980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78040" y="491508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gashree</cp:lastModifiedBy>
  <dcterms:modified xsi:type="dcterms:W3CDTF">2004-11-23T05:21:39Z</dcterms:modified>
  <cp:revision>1</cp:revision>
  <dc:subject/>
  <dc:title>Slide 1</dc:title>
</cp:coreProperties>
</file>