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0BDF-80BD-4980-9ED2-0EE31D716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written some text in a new openoffice text document and selected that text as shown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 have choosen “Outline” option from the above pop up menu “style\Outline”.by right clicking the mouse on the selected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 didn’t notice any change in the selected text (Outline Outlines the selected text, or if the cursor is in word, the entire word). So please check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4C5F-B564-410B-90A4-414602C8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B991-EA23-4669-A9B9-1431E70A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6C73-7EE0-48F7-BC17-FBB1198DA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D1AA-E4DA-456A-97AE-96D1B800D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2F85-D022-42D9-82D9-6463FA78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2075-2B23-4992-9E8A-416A6D78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D2FE-3702-4D24-A969-E57ADD15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3161-0635-47E8-A557-6420BCAC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EC85-D4BF-4F55-8BA1-CACF0B4F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DDA7-5734-449E-B9B5-41E2B7E6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61A4-2808-4016-B4A3-A0A91AFF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3A76-831F-46F2-8A9D-4D876ED2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1297-7E64-48A8-817A-97E869608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14:04:26Z</dcterms:created>
  <dc:creator>virtusa</dc:creator>
  <dc:description/>
  <dc:language>en-US</dc:language>
  <cp:lastModifiedBy>virtusa</cp:lastModifiedBy>
  <dcterms:modified xsi:type="dcterms:W3CDTF">2004-12-08T14:08:50Z</dcterms:modified>
  <cp:revision>4</cp:revision>
  <dc:subject/>
  <dc:title>Work Flow</dc:title>
</cp:coreProperties>
</file>