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gif" ContentType="image/gi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AC3A7-AEA8-4AC3-B09E-26C2378F07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E01C9-6376-48C0-8784-348E9AB139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83B37-1760-4B3E-99F9-54DA288731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5AE6B-8DAE-4BDD-BFA5-F8BF6BC006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767EB4-F041-4F4C-AA03-F5FA3652F4F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5430B7-9E58-455D-9390-B83484BCC74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1436D4-E0B8-47A1-8E29-07AE9F1A6D3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0FE8B5-009A-4048-BD55-74FD81B57BF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BEBE95-AC93-4822-BCB1-1655DAEE6DE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573A2B-3E21-403F-A503-395564C3A90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66827F-15E8-40E2-AF9D-B756B659D6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9649C-C440-4054-88AA-DB6B5ED514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39E068-7AE5-4861-90CF-2A06FFE5680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693BA7-A4D6-40E5-8642-A7A47359827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34E543-B23B-4098-8B10-53868F5E2CB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770164-05B0-47E2-BB89-BA84D152B3C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7EFA35-DDA9-42C1-B5B2-9C0E754B35C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82A0D1-3F0D-4CC0-A72F-43003B564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5A4BCF-31FB-42E7-9C96-9225DC5CA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C99DD8-8AC3-4632-A870-500D35090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63CD30-E463-4457-ACE6-869BF93CD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1C514A-2C9F-4B9B-A54E-474949E60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77580-9102-4C19-99B7-863AD66779A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7ABEE3-4FD6-4CBE-9341-379F1D26E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3CDE5E-6DD8-49EB-9310-8E561DE8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E34E18-9838-44FB-9FC0-D786BA47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FD37F5-632B-4B02-85BC-5A55F146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85EE42-FF15-4E1F-9186-AA1BAB13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48D650-2785-4449-BEDE-3644EE8BF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464C95-E23C-4EFB-A0C8-738E652A3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2F980-96A1-4C85-BB87-05ACADF727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EA8F1-6717-4B1A-93F9-05C55A5AED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8D85D-F383-416C-ABEF-1F82E98CA5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94E16-4538-4F77-AF82-2CC38DE8B8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069F3-FF41-4746-92B6-F0825EFFA9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3759E-85D9-4405-8A3D-7350C2C52C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40477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4720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14200" y="627372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8156520" y="6111720"/>
            <a:ext cx="1749600" cy="746280"/>
            <a:chOff x="8156520" y="6111720"/>
            <a:chExt cx="1749600" cy="74628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8435880" y="638964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8156520" y="6111720"/>
              <a:ext cx="174960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17DC9-2B51-49B4-B382-EB4F57BADCF8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574640"/>
            <a:ext cx="70992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60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3"/>
          </p:nvPr>
        </p:nvSpPr>
        <p:spPr>
          <a:xfrm>
            <a:off x="5853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sz="8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4200" y="627372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8156520" y="2962440"/>
            <a:ext cx="1749600" cy="745920"/>
            <a:chOff x="8156520" y="2962440"/>
            <a:chExt cx="1749600" cy="745920"/>
          </a:xfrm>
        </p:grpSpPr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8437680" y="324000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8156520" y="2962440"/>
              <a:ext cx="1749600" cy="74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3"/>
          <p:cNvSpPr>
            <a:spLocks noGrp="1"/>
          </p:cNvSpPr>
          <p:nvPr>
            <p:ph type="sldNum" idx="4"/>
          </p:nvPr>
        </p:nvSpPr>
        <p:spPr>
          <a:xfrm>
            <a:off x="21600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6DF88-A590-4272-8898-C92FC77068C2}" type="slidenum">
              <a:rPr b="0" lang="en-GB" sz="8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5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6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7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988A6-4F9C-4EF1-BD40-F3F4494FE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ert Spreadshe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04840" y="2004840"/>
            <a:ext cx="7696440" cy="3714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ert P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666880" y="214776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ert W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378240" y="1600200"/>
            <a:ext cx="3149640" cy="4525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ert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932120" y="25750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899480" y="2679840"/>
            <a:ext cx="676080" cy="1000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13:05:01Z</dcterms:created>
  <dc:creator>Gujjari Achala</dc:creator>
  <dc:description/>
  <cp:keywords/>
  <dc:language>en-US</dc:language>
  <cp:lastModifiedBy>Gujjari Achala</cp:lastModifiedBy>
  <cp:lastPrinted>1998-09-04T08:04:32Z</cp:lastPrinted>
  <dcterms:modified xsi:type="dcterms:W3CDTF">2010-10-05T13:34:17Z</dcterms:modified>
  <cp:revision>2</cp:revision>
  <dc:subject/>
  <dc:title>Insert Spreadsheet</dc:title>
</cp:coreProperties>
</file>