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463B-8E48-49BD-A0DE-6DE45DF8C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B826-F712-4A58-8C28-958D088FC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0793-DE0A-4CDA-AB8B-9D51EBDEA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8E62-0654-40C3-970D-9E321E5AD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09AA-BD96-4114-AD7C-E6BF0B3E6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45ED-A655-40B9-9CEC-6FE79D7A7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1E7C-BDEA-41D3-B13C-EAFDB45FB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6409-25E4-48D3-8B57-D40FD2E20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6B06-62E3-4CC8-AE3A-BF12B8958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33B6-CCB1-4BBF-B772-4C5B62B0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945F-46B9-4AC1-91ED-E2666B7C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9F1B-34D6-45D7-863E-1EB5D2E2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452A8-445F-44DC-A5D7-40B35EBBA6A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72"/>
          <p:cNvGrpSpPr/>
          <p:nvPr/>
        </p:nvGrpSpPr>
        <p:grpSpPr>
          <a:xfrm>
            <a:off x="1295280" y="1600200"/>
            <a:ext cx="330480" cy="282600"/>
            <a:chOff x="1295280" y="1600200"/>
            <a:chExt cx="330480" cy="282600"/>
          </a:xfrm>
        </p:grpSpPr>
        <p:grpSp>
          <p:nvGrpSpPr>
            <p:cNvPr id="42" name="Group 73"/>
            <p:cNvGrpSpPr/>
            <p:nvPr/>
          </p:nvGrpSpPr>
          <p:grpSpPr>
            <a:xfrm>
              <a:off x="1295280" y="1600200"/>
              <a:ext cx="330480" cy="282600"/>
              <a:chOff x="1295280" y="1600200"/>
              <a:chExt cx="330480" cy="282600"/>
            </a:xfrm>
          </p:grpSpPr>
          <p:sp>
            <p:nvSpPr>
              <p:cNvPr id="43" name="AutoShape 2"/>
              <p:cNvSpPr/>
              <p:nvPr/>
            </p:nvSpPr>
            <p:spPr>
              <a:xfrm>
                <a:off x="1337760" y="1663200"/>
                <a:ext cx="237600" cy="134640"/>
              </a:xfrm>
              <a:prstGeom prst="cloudCallout">
                <a:avLst>
                  <a:gd name="adj1" fmla="val -18282"/>
                  <a:gd name="adj2" fmla="val -5689"/>
                </a:avLst>
              </a:prstGeom>
              <a:solidFill>
                <a:srgbClr val="99ccff"/>
              </a:solidFill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887400"/>
                    <a:tab algn="l" pos="1774800"/>
                    <a:tab algn="l" pos="2662200"/>
                    <a:tab algn="l" pos="3549600"/>
                    <a:tab algn="l" pos="4437000"/>
                    <a:tab algn="l" pos="5324400"/>
                    <a:tab algn="l" pos="6211800"/>
                    <a:tab algn="l" pos="7099200"/>
                    <a:tab algn="l" pos="7986600"/>
                    <a:tab algn="l" pos="8874000"/>
                    <a:tab algn="l" pos="9761400"/>
                    <a:tab algn="l" pos="106488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887400"/>
                    <a:tab algn="l" pos="1774800"/>
                    <a:tab algn="l" pos="2662200"/>
                    <a:tab algn="l" pos="3549600"/>
                    <a:tab algn="l" pos="4437000"/>
                    <a:tab algn="l" pos="5324400"/>
                    <a:tab algn="l" pos="6211800"/>
                    <a:tab algn="l" pos="7099200"/>
                    <a:tab algn="l" pos="7986600"/>
                    <a:tab algn="l" pos="8874000"/>
                    <a:tab algn="l" pos="9761400"/>
                    <a:tab algn="l" pos="106488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887400"/>
                    <a:tab algn="l" pos="1774800"/>
                    <a:tab algn="l" pos="2662200"/>
                    <a:tab algn="l" pos="3549600"/>
                    <a:tab algn="l" pos="4437000"/>
                    <a:tab algn="l" pos="5324400"/>
                    <a:tab algn="l" pos="6211800"/>
                    <a:tab algn="l" pos="7099200"/>
                    <a:tab algn="l" pos="7986600"/>
                    <a:tab algn="l" pos="8874000"/>
                    <a:tab algn="l" pos="9761400"/>
                    <a:tab algn="l" pos="106488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887400"/>
                    <a:tab algn="l" pos="1774800"/>
                    <a:tab algn="l" pos="2662200"/>
                    <a:tab algn="l" pos="3549600"/>
                    <a:tab algn="l" pos="4437000"/>
                    <a:tab algn="l" pos="5324400"/>
                    <a:tab algn="l" pos="6211800"/>
                    <a:tab algn="l" pos="7099200"/>
                    <a:tab algn="l" pos="7986600"/>
                    <a:tab algn="l" pos="8874000"/>
                    <a:tab algn="l" pos="9761400"/>
                    <a:tab algn="l" pos="106488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" name="Rectangle 19"/>
              <p:cNvSpPr/>
              <p:nvPr/>
            </p:nvSpPr>
            <p:spPr>
              <a:xfrm>
                <a:off x="1441440" y="1600200"/>
                <a:ext cx="184320" cy="2448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eeece1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" name="Text Box 11"/>
              <p:cNvSpPr/>
              <p:nvPr/>
            </p:nvSpPr>
            <p:spPr>
              <a:xfrm>
                <a:off x="1295280" y="1684440"/>
                <a:ext cx="1843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87400"/>
                    <a:tab algn="l" pos="1774800"/>
                    <a:tab algn="l" pos="2662200"/>
                    <a:tab algn="l" pos="3549600"/>
                    <a:tab algn="l" pos="4437000"/>
                    <a:tab algn="l" pos="5324400"/>
                    <a:tab algn="l" pos="6211800"/>
                    <a:tab algn="l" pos="7099200"/>
                    <a:tab algn="l" pos="7986600"/>
                    <a:tab algn="l" pos="8874000"/>
                    <a:tab algn="l" pos="9761400"/>
                    <a:tab algn="l" pos="106488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" name="Rectangle 19"/>
              <p:cNvSpPr/>
              <p:nvPr/>
            </p:nvSpPr>
            <p:spPr>
              <a:xfrm>
                <a:off x="1431720" y="1603080"/>
                <a:ext cx="184320" cy="2448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eeece1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Rectangle 78"/>
              <p:cNvSpPr/>
              <p:nvPr/>
            </p:nvSpPr>
            <p:spPr>
              <a:xfrm>
                <a:off x="1360080" y="1693080"/>
                <a:ext cx="67680" cy="4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" name="Rectangle 79"/>
              <p:cNvSpPr/>
              <p:nvPr/>
            </p:nvSpPr>
            <p:spPr>
              <a:xfrm>
                <a:off x="1359360" y="1697400"/>
                <a:ext cx="63720" cy="3456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" name="Rectangle 80"/>
              <p:cNvSpPr/>
              <p:nvPr/>
            </p:nvSpPr>
            <p:spPr>
              <a:xfrm>
                <a:off x="1342440" y="1711440"/>
                <a:ext cx="63720" cy="151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50" name="Picture 81" descr=""/>
            <p:cNvPicPr/>
            <p:nvPr/>
          </p:nvPicPr>
          <p:blipFill>
            <a:blip r:embed="rId1"/>
            <a:stretch/>
          </p:blipFill>
          <p:spPr>
            <a:xfrm>
              <a:off x="1373760" y="1696680"/>
              <a:ext cx="164880" cy="64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82"/>
          <p:cNvGrpSpPr/>
          <p:nvPr/>
        </p:nvGrpSpPr>
        <p:grpSpPr>
          <a:xfrm>
            <a:off x="762120" y="1828800"/>
            <a:ext cx="329760" cy="282600"/>
            <a:chOff x="762120" y="1828800"/>
            <a:chExt cx="329760" cy="282600"/>
          </a:xfrm>
        </p:grpSpPr>
        <p:grpSp>
          <p:nvGrpSpPr>
            <p:cNvPr id="52" name="Group 83"/>
            <p:cNvGrpSpPr/>
            <p:nvPr/>
          </p:nvGrpSpPr>
          <p:grpSpPr>
            <a:xfrm>
              <a:off x="762120" y="1828800"/>
              <a:ext cx="329760" cy="282600"/>
              <a:chOff x="762120" y="1828800"/>
              <a:chExt cx="329760" cy="282600"/>
            </a:xfrm>
          </p:grpSpPr>
          <p:sp>
            <p:nvSpPr>
              <p:cNvPr id="53" name="AutoShape 2"/>
              <p:cNvSpPr/>
              <p:nvPr/>
            </p:nvSpPr>
            <p:spPr>
              <a:xfrm>
                <a:off x="804240" y="1891800"/>
                <a:ext cx="237240" cy="134640"/>
              </a:xfrm>
              <a:prstGeom prst="cloudCallout">
                <a:avLst>
                  <a:gd name="adj1" fmla="val -18282"/>
                  <a:gd name="adj2" fmla="val -5689"/>
                </a:avLst>
              </a:prstGeom>
              <a:solidFill>
                <a:srgbClr val="99ccff"/>
              </a:solidFill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887400"/>
                    <a:tab algn="l" pos="1774800"/>
                    <a:tab algn="l" pos="2662200"/>
                    <a:tab algn="l" pos="3549600"/>
                    <a:tab algn="l" pos="4437000"/>
                    <a:tab algn="l" pos="5324400"/>
                    <a:tab algn="l" pos="6211800"/>
                    <a:tab algn="l" pos="7099200"/>
                    <a:tab algn="l" pos="7986600"/>
                    <a:tab algn="l" pos="8874000"/>
                    <a:tab algn="l" pos="9761400"/>
                    <a:tab algn="l" pos="106488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887400"/>
                    <a:tab algn="l" pos="1774800"/>
                    <a:tab algn="l" pos="2662200"/>
                    <a:tab algn="l" pos="3549600"/>
                    <a:tab algn="l" pos="4437000"/>
                    <a:tab algn="l" pos="5324400"/>
                    <a:tab algn="l" pos="6211800"/>
                    <a:tab algn="l" pos="7099200"/>
                    <a:tab algn="l" pos="7986600"/>
                    <a:tab algn="l" pos="8874000"/>
                    <a:tab algn="l" pos="9761400"/>
                    <a:tab algn="l" pos="106488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887400"/>
                    <a:tab algn="l" pos="1774800"/>
                    <a:tab algn="l" pos="2662200"/>
                    <a:tab algn="l" pos="3549600"/>
                    <a:tab algn="l" pos="4437000"/>
                    <a:tab algn="l" pos="5324400"/>
                    <a:tab algn="l" pos="6211800"/>
                    <a:tab algn="l" pos="7099200"/>
                    <a:tab algn="l" pos="7986600"/>
                    <a:tab algn="l" pos="8874000"/>
                    <a:tab algn="l" pos="9761400"/>
                    <a:tab algn="l" pos="106488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887400"/>
                    <a:tab algn="l" pos="1774800"/>
                    <a:tab algn="l" pos="2662200"/>
                    <a:tab algn="l" pos="3549600"/>
                    <a:tab algn="l" pos="4437000"/>
                    <a:tab algn="l" pos="5324400"/>
                    <a:tab algn="l" pos="6211800"/>
                    <a:tab algn="l" pos="7099200"/>
                    <a:tab algn="l" pos="7986600"/>
                    <a:tab algn="l" pos="8874000"/>
                    <a:tab algn="l" pos="9761400"/>
                    <a:tab algn="l" pos="106488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" name="Rectangle 19"/>
              <p:cNvSpPr/>
              <p:nvPr/>
            </p:nvSpPr>
            <p:spPr>
              <a:xfrm>
                <a:off x="907920" y="1828800"/>
                <a:ext cx="183960" cy="2448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eeece1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" name="Text Box 11"/>
              <p:cNvSpPr/>
              <p:nvPr/>
            </p:nvSpPr>
            <p:spPr>
              <a:xfrm>
                <a:off x="762120" y="1913040"/>
                <a:ext cx="183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87400"/>
                    <a:tab algn="l" pos="1774800"/>
                    <a:tab algn="l" pos="2662200"/>
                    <a:tab algn="l" pos="3549600"/>
                    <a:tab algn="l" pos="4437000"/>
                    <a:tab algn="l" pos="5324400"/>
                    <a:tab algn="l" pos="6211800"/>
                    <a:tab algn="l" pos="7099200"/>
                    <a:tab algn="l" pos="7986600"/>
                    <a:tab algn="l" pos="8874000"/>
                    <a:tab algn="l" pos="9761400"/>
                    <a:tab algn="l" pos="106488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" name="Rectangle 19"/>
              <p:cNvSpPr/>
              <p:nvPr/>
            </p:nvSpPr>
            <p:spPr>
              <a:xfrm>
                <a:off x="898560" y="1831680"/>
                <a:ext cx="184320" cy="2448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eeece1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" name="Rectangle 88"/>
              <p:cNvSpPr/>
              <p:nvPr/>
            </p:nvSpPr>
            <p:spPr>
              <a:xfrm>
                <a:off x="826920" y="1921680"/>
                <a:ext cx="67680" cy="4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" name="Rectangle 89"/>
              <p:cNvSpPr/>
              <p:nvPr/>
            </p:nvSpPr>
            <p:spPr>
              <a:xfrm>
                <a:off x="826200" y="1926000"/>
                <a:ext cx="63720" cy="3456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" name="Rectangle 90"/>
              <p:cNvSpPr/>
              <p:nvPr/>
            </p:nvSpPr>
            <p:spPr>
              <a:xfrm>
                <a:off x="809280" y="1940040"/>
                <a:ext cx="63720" cy="151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60" name="Picture 91" descr=""/>
            <p:cNvPicPr/>
            <p:nvPr/>
          </p:nvPicPr>
          <p:blipFill>
            <a:blip r:embed="rId2"/>
            <a:stretch/>
          </p:blipFill>
          <p:spPr>
            <a:xfrm>
              <a:off x="840600" y="1925280"/>
              <a:ext cx="164880" cy="64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" name="Group 102"/>
          <p:cNvGrpSpPr/>
          <p:nvPr/>
        </p:nvGrpSpPr>
        <p:grpSpPr>
          <a:xfrm>
            <a:off x="235080" y="2057400"/>
            <a:ext cx="241200" cy="281160"/>
            <a:chOff x="235080" y="2057400"/>
            <a:chExt cx="241200" cy="281160"/>
          </a:xfrm>
        </p:grpSpPr>
        <p:grpSp>
          <p:nvGrpSpPr>
            <p:cNvPr id="62" name="Group 103"/>
            <p:cNvGrpSpPr/>
            <p:nvPr/>
          </p:nvGrpSpPr>
          <p:grpSpPr>
            <a:xfrm>
              <a:off x="235080" y="2057400"/>
              <a:ext cx="241200" cy="281160"/>
              <a:chOff x="235080" y="2057400"/>
              <a:chExt cx="241200" cy="281160"/>
            </a:xfrm>
          </p:grpSpPr>
          <p:sp>
            <p:nvSpPr>
              <p:cNvPr id="63" name="AutoShape 2"/>
              <p:cNvSpPr/>
              <p:nvPr/>
            </p:nvSpPr>
            <p:spPr>
              <a:xfrm>
                <a:off x="309240" y="2114640"/>
                <a:ext cx="91440" cy="152640"/>
              </a:xfrm>
              <a:prstGeom prst="cloudCallout">
                <a:avLst>
                  <a:gd name="adj1" fmla="val -18282"/>
                  <a:gd name="adj2" fmla="val -5689"/>
                </a:avLst>
              </a:prstGeom>
              <a:solidFill>
                <a:srgbClr val="99ccff"/>
              </a:solidFill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887400"/>
                    <a:tab algn="l" pos="1774800"/>
                    <a:tab algn="l" pos="2662200"/>
                    <a:tab algn="l" pos="3549600"/>
                    <a:tab algn="l" pos="4437000"/>
                    <a:tab algn="l" pos="5324400"/>
                    <a:tab algn="l" pos="6211800"/>
                    <a:tab algn="l" pos="7099200"/>
                    <a:tab algn="l" pos="7986600"/>
                    <a:tab algn="l" pos="8874000"/>
                    <a:tab algn="l" pos="9761400"/>
                    <a:tab algn="l" pos="106488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887400"/>
                    <a:tab algn="l" pos="1774800"/>
                    <a:tab algn="l" pos="2662200"/>
                    <a:tab algn="l" pos="3549600"/>
                    <a:tab algn="l" pos="4437000"/>
                    <a:tab algn="l" pos="5324400"/>
                    <a:tab algn="l" pos="6211800"/>
                    <a:tab algn="l" pos="7099200"/>
                    <a:tab algn="l" pos="7986600"/>
                    <a:tab algn="l" pos="8874000"/>
                    <a:tab algn="l" pos="9761400"/>
                    <a:tab algn="l" pos="106488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887400"/>
                    <a:tab algn="l" pos="1774800"/>
                    <a:tab algn="l" pos="2662200"/>
                    <a:tab algn="l" pos="3549600"/>
                    <a:tab algn="l" pos="4437000"/>
                    <a:tab algn="l" pos="5324400"/>
                    <a:tab algn="l" pos="6211800"/>
                    <a:tab algn="l" pos="7099200"/>
                    <a:tab algn="l" pos="7986600"/>
                    <a:tab algn="l" pos="8874000"/>
                    <a:tab algn="l" pos="9761400"/>
                    <a:tab algn="l" pos="106488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887400"/>
                    <a:tab algn="l" pos="1774800"/>
                    <a:tab algn="l" pos="2662200"/>
                    <a:tab algn="l" pos="3549600"/>
                    <a:tab algn="l" pos="4437000"/>
                    <a:tab algn="l" pos="5324400"/>
                    <a:tab algn="l" pos="6211800"/>
                    <a:tab algn="l" pos="7099200"/>
                    <a:tab algn="l" pos="7986600"/>
                    <a:tab algn="l" pos="8874000"/>
                    <a:tab algn="l" pos="9761400"/>
                    <a:tab algn="l" pos="106488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" name="Rectangle 19"/>
              <p:cNvSpPr/>
              <p:nvPr/>
            </p:nvSpPr>
            <p:spPr>
              <a:xfrm>
                <a:off x="291960" y="2057400"/>
                <a:ext cx="184320" cy="2448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eeece1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" name="Text Box 11"/>
              <p:cNvSpPr/>
              <p:nvPr/>
            </p:nvSpPr>
            <p:spPr>
              <a:xfrm>
                <a:off x="235080" y="2139840"/>
                <a:ext cx="184320" cy="19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87400"/>
                    <a:tab algn="l" pos="1774800"/>
                    <a:tab algn="l" pos="2662200"/>
                    <a:tab algn="l" pos="3549600"/>
                    <a:tab algn="l" pos="4437000"/>
                    <a:tab algn="l" pos="5324400"/>
                    <a:tab algn="l" pos="6211800"/>
                    <a:tab algn="l" pos="7099200"/>
                    <a:tab algn="l" pos="7986600"/>
                    <a:tab algn="l" pos="8874000"/>
                    <a:tab algn="l" pos="9761400"/>
                    <a:tab algn="l" pos="106488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" name="Rectangle 19"/>
              <p:cNvSpPr/>
              <p:nvPr/>
            </p:nvSpPr>
            <p:spPr>
              <a:xfrm>
                <a:off x="289080" y="2063520"/>
                <a:ext cx="184320" cy="2448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eeece1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" name="Rectangle 108"/>
              <p:cNvSpPr/>
              <p:nvPr/>
            </p:nvSpPr>
            <p:spPr>
              <a:xfrm>
                <a:off x="317880" y="2148480"/>
                <a:ext cx="25920" cy="4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" name="Rectangle 109"/>
              <p:cNvSpPr/>
              <p:nvPr/>
            </p:nvSpPr>
            <p:spPr>
              <a:xfrm>
                <a:off x="317520" y="2153520"/>
                <a:ext cx="24480" cy="3924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" name="Rectangle 110"/>
              <p:cNvSpPr/>
              <p:nvPr/>
            </p:nvSpPr>
            <p:spPr>
              <a:xfrm>
                <a:off x="311040" y="2169360"/>
                <a:ext cx="24480" cy="172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70" name="Picture 111" descr=""/>
            <p:cNvPicPr/>
            <p:nvPr/>
          </p:nvPicPr>
          <p:blipFill>
            <a:blip r:embed="rId3"/>
            <a:stretch/>
          </p:blipFill>
          <p:spPr>
            <a:xfrm>
              <a:off x="322920" y="2152800"/>
              <a:ext cx="63360" cy="73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" name="Group 112"/>
          <p:cNvGrpSpPr/>
          <p:nvPr/>
        </p:nvGrpSpPr>
        <p:grpSpPr>
          <a:xfrm>
            <a:off x="633240" y="2209680"/>
            <a:ext cx="282600" cy="268560"/>
            <a:chOff x="633240" y="2209680"/>
            <a:chExt cx="282600" cy="268560"/>
          </a:xfrm>
        </p:grpSpPr>
        <p:grpSp>
          <p:nvGrpSpPr>
            <p:cNvPr id="72" name="Group 113"/>
            <p:cNvGrpSpPr/>
            <p:nvPr/>
          </p:nvGrpSpPr>
          <p:grpSpPr>
            <a:xfrm>
              <a:off x="633240" y="2209680"/>
              <a:ext cx="282600" cy="268560"/>
              <a:chOff x="633240" y="2209680"/>
              <a:chExt cx="282600" cy="268560"/>
            </a:xfrm>
          </p:grpSpPr>
          <p:sp>
            <p:nvSpPr>
              <p:cNvPr id="73" name="AutoShape 2"/>
              <p:cNvSpPr/>
              <p:nvPr/>
            </p:nvSpPr>
            <p:spPr>
              <a:xfrm>
                <a:off x="693000" y="2233440"/>
                <a:ext cx="159120" cy="228960"/>
              </a:xfrm>
              <a:prstGeom prst="cloudCallout">
                <a:avLst>
                  <a:gd name="adj1" fmla="val -18282"/>
                  <a:gd name="adj2" fmla="val -5689"/>
                </a:avLst>
              </a:prstGeom>
              <a:solidFill>
                <a:srgbClr val="99ccff"/>
              </a:solidFill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887400"/>
                    <a:tab algn="l" pos="1774800"/>
                    <a:tab algn="l" pos="2662200"/>
                    <a:tab algn="l" pos="3549600"/>
                    <a:tab algn="l" pos="4437000"/>
                    <a:tab algn="l" pos="5324400"/>
                    <a:tab algn="l" pos="6211800"/>
                    <a:tab algn="l" pos="7099200"/>
                    <a:tab algn="l" pos="7986600"/>
                    <a:tab algn="l" pos="8874000"/>
                    <a:tab algn="l" pos="9761400"/>
                    <a:tab algn="l" pos="106488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887400"/>
                    <a:tab algn="l" pos="1774800"/>
                    <a:tab algn="l" pos="2662200"/>
                    <a:tab algn="l" pos="3549600"/>
                    <a:tab algn="l" pos="4437000"/>
                    <a:tab algn="l" pos="5324400"/>
                    <a:tab algn="l" pos="6211800"/>
                    <a:tab algn="l" pos="7099200"/>
                    <a:tab algn="l" pos="7986600"/>
                    <a:tab algn="l" pos="8874000"/>
                    <a:tab algn="l" pos="9761400"/>
                    <a:tab algn="l" pos="106488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887400"/>
                    <a:tab algn="l" pos="1774800"/>
                    <a:tab algn="l" pos="2662200"/>
                    <a:tab algn="l" pos="3549600"/>
                    <a:tab algn="l" pos="4437000"/>
                    <a:tab algn="l" pos="5324400"/>
                    <a:tab algn="l" pos="6211800"/>
                    <a:tab algn="l" pos="7099200"/>
                    <a:tab algn="l" pos="7986600"/>
                    <a:tab algn="l" pos="8874000"/>
                    <a:tab algn="l" pos="9761400"/>
                    <a:tab algn="l" pos="106488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887400"/>
                    <a:tab algn="l" pos="1774800"/>
                    <a:tab algn="l" pos="2662200"/>
                    <a:tab algn="l" pos="3549600"/>
                    <a:tab algn="l" pos="4437000"/>
                    <a:tab algn="l" pos="5324400"/>
                    <a:tab algn="l" pos="6211800"/>
                    <a:tab algn="l" pos="7099200"/>
                    <a:tab algn="l" pos="7986600"/>
                    <a:tab algn="l" pos="8874000"/>
                    <a:tab algn="l" pos="9761400"/>
                    <a:tab algn="l" pos="106488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" name="Rectangle 19"/>
              <p:cNvSpPr/>
              <p:nvPr/>
            </p:nvSpPr>
            <p:spPr>
              <a:xfrm>
                <a:off x="731520" y="2209680"/>
                <a:ext cx="184320" cy="2448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eeece1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" name="Text Box 11"/>
              <p:cNvSpPr/>
              <p:nvPr/>
            </p:nvSpPr>
            <p:spPr>
              <a:xfrm>
                <a:off x="633240" y="2279520"/>
                <a:ext cx="184320" cy="19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87400"/>
                    <a:tab algn="l" pos="1774800"/>
                    <a:tab algn="l" pos="2662200"/>
                    <a:tab algn="l" pos="3549600"/>
                    <a:tab algn="l" pos="4437000"/>
                    <a:tab algn="l" pos="5324400"/>
                    <a:tab algn="l" pos="6211800"/>
                    <a:tab algn="l" pos="7099200"/>
                    <a:tab algn="l" pos="7986600"/>
                    <a:tab algn="l" pos="8874000"/>
                    <a:tab algn="l" pos="9761400"/>
                    <a:tab algn="l" pos="106488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" name="Rectangle 19"/>
              <p:cNvSpPr/>
              <p:nvPr/>
            </p:nvSpPr>
            <p:spPr>
              <a:xfrm>
                <a:off x="725400" y="2217600"/>
                <a:ext cx="184320" cy="2448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eeece1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" name="Rectangle 118"/>
              <p:cNvSpPr/>
              <p:nvPr/>
            </p:nvSpPr>
            <p:spPr>
              <a:xfrm>
                <a:off x="708120" y="2284200"/>
                <a:ext cx="45360" cy="7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" name="Rectangle 119"/>
              <p:cNvSpPr/>
              <p:nvPr/>
            </p:nvSpPr>
            <p:spPr>
              <a:xfrm>
                <a:off x="707400" y="2291760"/>
                <a:ext cx="42840" cy="5904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" name="Rectangle 120"/>
              <p:cNvSpPr/>
              <p:nvPr/>
            </p:nvSpPr>
            <p:spPr>
              <a:xfrm>
                <a:off x="696240" y="2315880"/>
                <a:ext cx="42840" cy="259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80" name="Picture 121" descr=""/>
            <p:cNvPicPr/>
            <p:nvPr/>
          </p:nvPicPr>
          <p:blipFill>
            <a:blip r:embed="rId4"/>
            <a:stretch/>
          </p:blipFill>
          <p:spPr>
            <a:xfrm>
              <a:off x="717120" y="2290680"/>
              <a:ext cx="110520" cy="109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Line 125"/>
          <p:cNvSpPr/>
          <p:nvPr/>
        </p:nvSpPr>
        <p:spPr>
          <a:xfrm flipV="1">
            <a:off x="990720" y="1752480"/>
            <a:ext cx="380880" cy="15264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Line 126"/>
          <p:cNvSpPr/>
          <p:nvPr/>
        </p:nvSpPr>
        <p:spPr>
          <a:xfrm flipV="1">
            <a:off x="812880" y="2018880"/>
            <a:ext cx="75960" cy="22860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Line 127"/>
          <p:cNvSpPr/>
          <p:nvPr/>
        </p:nvSpPr>
        <p:spPr>
          <a:xfrm>
            <a:off x="380880" y="2209680"/>
            <a:ext cx="304920" cy="7632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Line 128"/>
          <p:cNvSpPr/>
          <p:nvPr/>
        </p:nvSpPr>
        <p:spPr>
          <a:xfrm flipV="1">
            <a:off x="380880" y="1980720"/>
            <a:ext cx="457200" cy="22860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ing Bing BB Ma</cp:lastModifiedBy>
  <dcterms:modified xsi:type="dcterms:W3CDTF">2012-08-02T08:07:39Z</dcterms:modified>
  <cp:revision>1</cp:revision>
  <dc:subject/>
  <dc:title>PowerPoint 演示文稿</dc:title>
</cp:coreProperties>
</file>