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408-379C-4928-912F-DB7AC2F5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CB6-50C6-4A86-B7DC-3DBA166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0C5-A3A4-4833-997A-76EF3DFF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2F3-8F0D-4936-84D8-24240D33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5BF-DB8A-415E-94D8-9104B19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5A8-D3AC-4AC5-BD1A-581F77AB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31F-3CDA-4092-B8FB-16F26E3D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3FF-0F92-4688-8761-91652DE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834-8B52-416A-9663-1640329A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A65-B0F2-4C68-87A7-F34AE0B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708-3B1F-4D3C-A354-44AA28C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525-AA5A-4653-959C-7E5AA36A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071A-5499-4A82-9E93-A60A4C785B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0d          12/19 ~1/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1/3     ~1/9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1/10   ~1/1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aaaaaaa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3d            1/17   ~1/2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1/22   ~1/28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3d            1/29   ~1/3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2/1     ~2/14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2/13  ~2/19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5d          1/29   ~2/18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2/1    ~2/2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d            2/19   ~2/19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2/22  ~2/22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d            2/20  ~2/21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 4/10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09:03:56Z</dcterms:created>
  <dc:creator>jerman_hsu</dc:creator>
  <dc:description/>
  <dc:language>en-US</dc:language>
  <cp:lastModifiedBy>Zhong Qiyao</cp:lastModifiedBy>
  <dcterms:modified xsi:type="dcterms:W3CDTF">2008-01-04T03:16:17Z</dcterms:modified>
  <cp:revision>1253</cp:revision>
  <dc:subject/>
  <dc:title>PowerPoint 簡報</dc:title>
</cp:coreProperties>
</file>