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29F1-6ABA-4DEA-AB69-F9ADF1119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754C-54DB-4606-B272-8E2A8E6F0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AEC1-CAE1-4A89-8928-028A7B5CD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E99C-E3D5-4BAC-A017-29C563308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A693-FAA1-4CE9-B682-53E73D835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45039-F11B-472A-A75C-2EDAE8B64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93E06-A392-4E44-9477-ED8C1F83CF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B276-3129-4432-B627-028DB67E08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BABEA-246D-4403-9EA7-0D14DD7A69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754BA-8139-412E-9A7D-5D8DA4E4F7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5ACB-E0A3-4A61-86CA-309E8E920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124E-4377-4CD6-AE60-7265C2226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6B36-1A7E-40B4-9825-CC9E5519B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E6BCF-1C21-4ECD-9248-117EBA2A30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6814-681B-44EE-9BB3-728A87CD4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FC6DB-91CA-491B-83AE-E0E2C723F4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C300E-EF79-40A9-A1C6-6AED0BCE3D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DAA37-F1F5-4C25-8C23-86978936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81CB4-7613-4FF5-9AAA-D3E2980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97F08-5FEF-466A-90CE-545B624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0D81E-717B-4150-AB50-8B16745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D2CD4-0992-476F-94EC-10DF4FFC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78E5-3717-412E-86F2-075C033D7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9A570-54C5-4846-AD25-134746C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33AA8-BCCB-49A4-A7F5-E6506E6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A8C9A-3626-4E41-9386-C7D87C6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6863E-B822-4E6E-8062-87EE593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1D51B-9C1F-4F2E-A46A-FD667FD0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31BFF-C39A-4723-B91A-154D4466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CB140-867C-4C88-8C72-44AB5672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64C2-D52A-4D3D-B645-94B7C3EC1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D7C2-F698-46A0-8DBF-091BE138D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89FD-785E-4658-85E9-1269FD6CF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F1E3-5870-42EC-94FE-A92905971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DA78-A581-49BB-880D-37B855211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EAA6-6CCC-47CB-B211-89A0E338F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3011-2166-429C-9BDD-B7CF202B054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FD13-6BD0-4F69-8527-3A4EF1D62A45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754-7B09-4472-BA5F-6C08D586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hapes with transparent fi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52640" y="3029040"/>
            <a:ext cx="2205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3640" y="1677960"/>
            <a:ext cx="2995560" cy="520560"/>
          </a:xfrm>
          <a:prstGeom prst="rect">
            <a:avLst/>
          </a:prstGeom>
          <a:solidFill>
            <a:srgbClr val="ffcc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02:08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3-17T07:23:21Z</dcterms:modified>
  <cp:revision>2</cp:revision>
  <dc:subject/>
  <dc:title>Slide 1</dc:title>
</cp:coreProperties>
</file>