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F14D-4CCE-4B26-A58B-0ACB11810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255E-BEFF-4C12-8EE2-6B3BD6601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B242-CD70-4080-8EF2-AF2AC5F9F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2738-EDFB-4DF1-B731-7B71E364F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166A0-2B50-4995-8ED8-EEAB904D1F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8FA4C-3E33-40A3-ACCB-1233715C3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D5EF0-05BE-4DA5-B38D-01FFD4F78A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818B9-AB9B-4A0F-8CB7-2ED766BE4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56E6B-BE32-48E2-A8AA-25752E2D2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43D65-F696-4C05-B29A-45EC655F52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05F3B-08F0-4F5D-82BB-E47C7A627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A729-2358-41EB-B2C2-A9923E093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1F36-1ED0-4C5A-B246-4C3031BB5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6D823-CBFB-4DED-A4E5-F67783C8C8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A9202-FCD3-4CD1-86FB-2A59998B55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C2157-EF3E-4770-BD0D-4DD0B4FB9E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9C86A-71BC-4166-B4CC-2487AB8AA4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71FC6-BA6B-4D13-875F-C63362D0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9B4792-6466-4507-8E67-56CF93D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C8BD1-73B7-4ED9-8CE3-C846477E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6C871-406D-47A5-BBB9-78B4425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CA986-DA48-44C6-B7AC-CCC1C21F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7919-BD77-4870-A382-BAC5B08648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9E458-95F8-4A43-A75C-7112E13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5A643-6F34-474B-9761-EBE18EC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91637-574B-43BC-A339-5595014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99705-D4DC-4175-B588-A177023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3E6A3-9259-4E2E-8B05-F5F3F509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62BB6-C84F-4618-8368-9667CE38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90D86-D1B2-4544-BE97-E9FA9334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3E52-710E-4CB5-8262-5AF06F67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FC20-88E2-4FAA-8231-CFCC81B13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D718-A57F-47E5-A11D-684CA6D3E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C21C-2FD6-4B8C-A16A-D6294A50C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7D65-D2D6-47FC-9640-D7E3EDEB1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5398-8C71-4342-90E2-8E0202F25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6950-E107-4D22-AD9B-6762A0F71893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2B5D-24EC-4DBD-8252-60C6F65BD26E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18F8-A1BE-43AB-8903-F55AB8E6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he text is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he text is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he text is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he text is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ze of the text is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ze of the text is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9:48:42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8T11:23:29Z</dcterms:modified>
  <cp:revision>2</cp:revision>
  <dc:subject/>
  <dc:title>Slide 1</dc:title>
</cp:coreProperties>
</file>