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272038" cy="42803763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0B49-1437-4216-89F2-6502D78CA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70160" y="3804840"/>
            <a:ext cx="2573352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70160" y="12366720"/>
            <a:ext cx="2573352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70160" y="25781400"/>
            <a:ext cx="2573352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4C99-C28F-4AF9-9B5C-6932873B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70160" y="3804840"/>
            <a:ext cx="2573352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70160" y="12366720"/>
            <a:ext cx="1255788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456240" y="12366720"/>
            <a:ext cx="1255788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70160" y="25781400"/>
            <a:ext cx="1255788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456240" y="25781400"/>
            <a:ext cx="1255788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F01B-8670-4203-B400-35166A288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70160" y="3804840"/>
            <a:ext cx="2573352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70160" y="12366720"/>
            <a:ext cx="828612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971000" y="12366720"/>
            <a:ext cx="828612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671840" y="12366720"/>
            <a:ext cx="828612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70160" y="25781400"/>
            <a:ext cx="828612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971000" y="25781400"/>
            <a:ext cx="828612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671840" y="25781400"/>
            <a:ext cx="828612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CA5A-820D-41B4-850C-7F19E9B95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70160" y="3804840"/>
            <a:ext cx="2573352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70160" y="12366720"/>
            <a:ext cx="25733520" cy="256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51"/>
              </a:spcBef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9EFB-EEAE-43D5-9365-A8AB6BCF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70160" y="3804840"/>
            <a:ext cx="2573352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70160" y="12366720"/>
            <a:ext cx="25733520" cy="25682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EA5B-F724-49CC-91E4-74CB850C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70160" y="3804840"/>
            <a:ext cx="2573352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70160" y="12366720"/>
            <a:ext cx="12557880" cy="25682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456240" y="12366720"/>
            <a:ext cx="12557880" cy="25682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0AC3-F96D-4CF1-BED0-4FD00D6B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70160" y="3804840"/>
            <a:ext cx="2573352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9D66-8A50-467E-AE02-DE228A2F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70160" y="3804840"/>
            <a:ext cx="25733520" cy="330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51"/>
              </a:spcBef>
              <a:tabLst>
                <a:tab algn="l" pos="0"/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CA8C-07F1-4584-9B1F-439AABB3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70160" y="3804840"/>
            <a:ext cx="2573352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70160" y="12366720"/>
            <a:ext cx="1255788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456240" y="12366720"/>
            <a:ext cx="12557880" cy="25682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70160" y="25781400"/>
            <a:ext cx="1255788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5E54-71B8-4D30-BEBD-F06460B6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70160" y="3804840"/>
            <a:ext cx="2573352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70160" y="12366720"/>
            <a:ext cx="12557880" cy="25682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456240" y="12366720"/>
            <a:ext cx="1255788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456240" y="25781400"/>
            <a:ext cx="1255788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80D4-4FA5-4F48-B10E-2AD495F1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70160" y="3804840"/>
            <a:ext cx="2573352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70160" y="12366720"/>
            <a:ext cx="1255788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456240" y="12366720"/>
            <a:ext cx="1255788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70160" y="25781400"/>
            <a:ext cx="2573352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99C7-D01E-41F3-9288-7FD467F3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70160" y="3804840"/>
            <a:ext cx="2573352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r>
              <a:rPr b="0" lang="en-US" sz="20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70160" y="12366720"/>
            <a:ext cx="25733520" cy="25682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1565280" indent="-1565280">
              <a:spcBef>
                <a:spcPts val="3651"/>
              </a:spcBef>
              <a:buClr>
                <a:srgbClr val="000000"/>
              </a:buClr>
              <a:buFont typeface="Times New Roman"/>
              <a:buChar char="•"/>
              <a:tabLst>
                <a:tab algn="l" pos="4175280"/>
                <a:tab algn="l" pos="83502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2640" indent="-1305000">
              <a:spcBef>
                <a:spcPts val="3651"/>
              </a:spcBef>
              <a:buClr>
                <a:srgbClr val="000000"/>
              </a:buClr>
              <a:buFont typeface="Times New Roman"/>
              <a:buChar char="–"/>
              <a:tabLst>
                <a:tab algn="l" pos="4175280"/>
                <a:tab algn="l" pos="83502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  <a:p>
            <a:pPr lvl="2" marL="5219640" indent="-1044360">
              <a:spcBef>
                <a:spcPts val="3651"/>
              </a:spcBef>
              <a:buClr>
                <a:srgbClr val="000000"/>
              </a:buClr>
              <a:buFont typeface="Times New Roman"/>
              <a:buChar char="•"/>
              <a:tabLst>
                <a:tab algn="l" pos="4175280"/>
                <a:tab algn="l" pos="83502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  <a:p>
            <a:pPr lvl="3" marL="7307280" indent="-1042920">
              <a:spcBef>
                <a:spcPts val="3651"/>
              </a:spcBef>
              <a:buClr>
                <a:srgbClr val="000000"/>
              </a:buClr>
              <a:buFont typeface="Times New Roman"/>
              <a:buChar char="–"/>
              <a:tabLst>
                <a:tab algn="l" pos="4175280"/>
                <a:tab algn="l" pos="83502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  <a:p>
            <a:pPr lvl="4" marL="9396360" indent="-1044360">
              <a:spcBef>
                <a:spcPts val="3651"/>
              </a:spcBef>
              <a:buClr>
                <a:srgbClr val="000000"/>
              </a:buClr>
              <a:buFont typeface="Times New Roman"/>
              <a:buChar char="»"/>
              <a:tabLst>
                <a:tab algn="l" pos="4175280"/>
                <a:tab algn="l" pos="83502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  <a:p>
            <a:pPr lvl="5" marL="9396360" indent="-1044360">
              <a:spcBef>
                <a:spcPts val="3651"/>
              </a:spcBef>
              <a:buClr>
                <a:srgbClr val="000000"/>
              </a:buClr>
              <a:buFont typeface="Times New Roman"/>
              <a:buChar char="»"/>
              <a:tabLst>
                <a:tab algn="l" pos="4175280"/>
                <a:tab algn="l" pos="83502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  <a:p>
            <a:pPr lvl="6" marL="9396360" indent="-1044360">
              <a:spcBef>
                <a:spcPts val="3651"/>
              </a:spcBef>
              <a:buClr>
                <a:srgbClr val="000000"/>
              </a:buClr>
              <a:buFont typeface="Times New Roman"/>
              <a:buChar char="»"/>
              <a:tabLst>
                <a:tab algn="l" pos="4175280"/>
                <a:tab algn="l" pos="83502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70160" y="39000240"/>
            <a:ext cx="6307200" cy="2854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Autofit/>
          </a:bodyPr>
          <a:lstStyle>
            <a:lvl1pPr indent="0">
              <a:buNone/>
              <a:tabLst>
                <a:tab algn="l" pos="0"/>
                <a:tab algn="l" pos="4175280"/>
                <a:tab algn="l" pos="8350200"/>
              </a:tabLst>
              <a:defRPr b="0" lang="en-US" sz="6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175280"/>
                <a:tab algn="l" pos="83502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344240" y="39000240"/>
            <a:ext cx="9585360" cy="2854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Autofit/>
          </a:bodyPr>
          <a:lstStyle>
            <a:lvl1pPr indent="0" algn="ctr">
              <a:buNone/>
              <a:tabLst>
                <a:tab algn="l" pos="0"/>
                <a:tab algn="l" pos="4175280"/>
                <a:tab algn="l" pos="8350200"/>
              </a:tabLst>
              <a:defRPr b="0" lang="en-US" sz="6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696480" y="39000240"/>
            <a:ext cx="6307200" cy="2854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Autofit/>
          </a:bodyPr>
          <a:lstStyle>
            <a:lvl1pPr indent="0" algn="r">
              <a:buNone/>
              <a:tabLst>
                <a:tab algn="l" pos="0"/>
                <a:tab algn="l" pos="4175280"/>
                <a:tab algn="l" pos="8350200"/>
              </a:tabLst>
              <a:defRPr b="0" lang="en-US" sz="6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175280"/>
                <a:tab algn="l" pos="8350200"/>
              </a:tabLst>
            </a:pPr>
            <a:fld id="{9A1200FE-36E1-4293-AFA0-1F7FE2D1FA2E}" type="slidenum"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8920" y="0"/>
            <a:ext cx="30095640" cy="428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3T23:15:30Z</dcterms:created>
  <dc:creator>Andrew Dent</dc:creator>
  <dc:description/>
  <dc:language>en-US</dc:language>
  <cp:lastModifiedBy>Andrew C.E. Dent</cp:lastModifiedBy>
  <dcterms:modified xsi:type="dcterms:W3CDTF">2006-06-26T21:19:47Z</dcterms:modified>
  <cp:revision>32</cp:revision>
  <dc:subject/>
  <dc:title>PowerPoint Presentation</dc:title>
</cp:coreProperties>
</file>