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39960" y="76176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5"/>
          </p:nvPr>
        </p:nvSpPr>
        <p:spPr>
          <a:xfrm>
            <a:off x="-360" y="93726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6"/>
          </p:nvPr>
        </p:nvSpPr>
        <p:spPr>
          <a:xfrm>
            <a:off x="3885840" y="93726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9B50-4A99-4BB6-943F-5E896B3DFEF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rchitettura dell’EPSS JUMP prevede la creazione di u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istema di Raccomandazione Centralizzat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che sia in grado d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omunicare con sistemi informativi tradizional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ERP, HRMS, DMS, LMS, …) e generici gestori di informazioni strutturate e/o destrutturate, sulla base di un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ntologia condivis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che rappresenti semanticamente le informazioni accessibili e le rend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utilizzabili in modo personalizzato e contestualizzat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l fine di rendere possibile la comunicazione tra il Sistema di Raccomandazione Centralizzato e i sistemi informativi periferici è necessario che tutte le parti possano scambiarsi informazioni, senza limiti dovuti a differenze nei modelli utilizzati dai singoli sistemi per descrivere la conoscenza di cui essi sono in possess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questo motivo verranno studiati, progettati e realizzati dei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moduli software in grado di esprimere e pubblicare la conoscenz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custodita da ciascun sistema informativo attraverso </a:t>
            </a:r>
            <a:r>
              <a:rPr b="1" i="1" lang="it-IT" sz="1000" spc="-1" strike="noStrike">
                <a:solidFill>
                  <a:srgbClr val="000000"/>
                </a:solidFill>
                <a:latin typeface="Times New Roman"/>
              </a:rPr>
              <a:t>frammenti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1000" spc="-1" strike="noStrike">
                <a:solidFill>
                  <a:srgbClr val="000000"/>
                </a:solidFill>
                <a:latin typeface="Times New Roman"/>
              </a:rPr>
              <a:t>ontologic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pecifici. Tale descrizione verrà realizzata attraverso l’uso di specifici linguaggi di formalizzazione come lo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RDF (Resource Description Framework) e l'OWL (Web Ontology Language)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in linea con le raccomandazioni del consorzio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W3C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ll'interno di ognuno dei sistemi informativi periferici, l'ontologia utilizzata deve essere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sufficiente ad esprimere il comportamento del sistema e a descrivere le entità da esso trattat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. L’uso di una formalizzazione ontologica standard consente di superare eventuali ostacoli allo scambio di informazioni, dovuti al fatto che nei sistemi informativi tradizionali la conoscenza è presente in forma poco strutturata o addirittura codificata nelle procedure del sistem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’EPSS JUMP disporrà di vari frammenti ontologici relativi ai diversi contesti applicativi, a partire dai quali sarà possibile, attraverso una specifica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ttività di ricerca nell’ambito dell’integrazione di ontologi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costruire una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ntologia condivis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che costituirà la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lingua franc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per la descrizione dei domini applicativi coperti dal complesso dei sistemi informativi (OR4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Tale obiettivo rappresenta l’obiettivo OR4 di cui UNIBA è teamLeader all’interno di JUMP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processo di distribuzione della conoscenza mediante l’approccio just-in-time ipotizzato all’interno di JUMP ha inizio con il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riconoscimento dell’utente destinatario delle raccomandazioni e del contesto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in cui si colloca il suo bisogno informativ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’EPSS JUMP, il cui intervento può essere richiesto in modo volontario o innescato automaticamente,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raccoglie tali informazioni e seleziona tra queste le caratteristiche cui applicare le regole di inferenz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e generare così l’insieme di raccomandazioni idonee per quello specifico soggetto nel contesto in cui sta operan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e raccomandazioni generate dal SRC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mprendono concetti appartenenti all’ontologia condivis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e potrebbero identificare entità informative generiche, in quanto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la descrizione ontologica potrebbe non raggiungere un livello di dettaglio sufficient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a causa della notevole variabilità delle entità informative stesse e della loro elevata molteplicità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Tale obiettivo rappresenta l’obiettivo OR5 di cui UNIBA è teamLeader all’interno di JU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noltre, ciascun sistema informativo potrà dunque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raffinare e personalizzar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ulteriormente la richiesta pervenutagli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utilizzando le logiche associative che gli sono propri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e/o “navigando” il frammento ontologico di propria pertinenza. Ad esempio, un ERP utilizzerà connessioni di tipo relazionale, essendo le informazioni da esso gestite legate da relazioni logiche rigorose; un sistema di Document Management potrà invece utilizzare logiche basate su keywords o su nessi di tipo semantico individuati in opportune ontologie di dominio; un sistema di Learning Management potrà utilizzare le informazioni relative alla frequenza dei corsi da parte del soggetto richiedente e/o all’efficacia di questi registrata da altri utenti (OR6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73520"/>
            <a:ext cx="822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839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839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735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735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735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2EB-D71E-4656-9551-1CB15B2C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76D-EE79-41DA-A730-2ACAB68E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D68-9C77-47B4-B186-8E96242A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FFB-ADFC-4A99-8224-71DE4FE6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6BD-FC73-4F87-8D83-A1A7797D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347400"/>
            <a:ext cx="8229600" cy="42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4C7-858D-4621-88AF-D8889648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6FC-3058-4E37-AC9F-8AB3AA95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115-9723-4D3D-81C6-74BD2DA4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773520"/>
            <a:ext cx="822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3E4-BB8F-4079-9C89-CA582EE4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773520"/>
            <a:ext cx="822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CDA-6575-48CB-AE68-E315C354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88E-9C77-476C-964B-2AF486D9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4839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4839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7735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7735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7735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BFC-028B-4DEC-9599-1259F55D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47400"/>
            <a:ext cx="8229600" cy="42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3520"/>
            <a:ext cx="822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95280" y="630864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39640" y="6381720"/>
            <a:ext cx="820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MP – UNIBA: kickoff meeting – 5 maggio 2006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fld id="{87B7747B-EDEE-4239-A010-CB0A16BF987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09FE-6A81-4DD5-ADC3-F1F9AB6C514A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600" y="18288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800" spc="-1" strike="noStrike">
                <a:solidFill>
                  <a:srgbClr val="ffffff"/>
                </a:solidFill>
                <a:latin typeface="Arial"/>
              </a:rPr>
              <a:t>JUMP</a:t>
            </a:r>
            <a:br>
              <a:rPr sz="3800"/>
            </a:b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Just-in-Time Performance Support System per organizzazioni dinami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042560" y="4266720"/>
            <a:ext cx="810108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partimento di Informa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iversità degli Studi di B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5 Maggio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347400"/>
            <a:ext cx="86868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stema di Raccomandazione Centralizz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40908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ntologia condivisa (OR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34876" t="22112" r="8133" b="22091"/>
          <a:stretch/>
        </p:blipFill>
        <p:spPr>
          <a:xfrm>
            <a:off x="1619280" y="1022400"/>
            <a:ext cx="5689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accomandazioni personalizzate (OR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3480" y="1104840"/>
            <a:ext cx="76536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riana</cp:lastModifiedBy>
  <dcterms:modified xsi:type="dcterms:W3CDTF">2006-04-27T15:33:17Z</dcterms:modified>
  <cp:revision>63</cp:revision>
  <dc:subject/>
  <dc:title>PowerPoint Presentation</dc:title>
</cp:coreProperties>
</file>