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BD1-5A6F-4F3F-880A-169B24BC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22C-BBDA-4C52-AAC0-0360F1FE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2B4-386F-4214-8E37-D7ACE22B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F3A-4A25-4CF2-A6A6-9C0A5BE0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FA5D-A8A7-4967-B731-14AF67D9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E9F6-E309-4F88-84DE-7CF8605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15AB-DFF9-4F94-A951-36220B9D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4CF4-A526-4646-84CC-203B224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733E-40A7-4DCE-80B2-35DD4E38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F862-DBDC-45E9-9F1B-383CE807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5A61-AC72-43BF-96E5-763E452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C39-FADB-4299-B99B-4D81A5B8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A08C-A521-4229-8FC3-295F1D1D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CA06-D31F-410A-9221-815B146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9EE-E9F0-433F-8F72-814915D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840F-7F6B-4526-9BBA-0F2CFC2E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C8BF-9A4C-4B66-B258-86A903E4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7D5-96CC-4A09-A45F-E9D392C7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907-6A01-49B6-8D6F-015C5F3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C67-EC93-4B9B-9F5F-F20F066F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FA2-A3CD-46FA-95F8-E08143A0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193-47EE-4045-8242-EEBC0E14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6C8-9DD1-4847-96C2-E1CB3F55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4D1-C13D-4186-971F-7DE5181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10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320" y="6324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52EE2-97BD-461F-AD0C-27B66838F1D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1080AF05-F39B-4924-B6FB-8B89DE9F7B35}" type="slidenum">
              <a:rPr b="1" lang="en-GB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2640" y="2968560"/>
                <a:ext cx="3697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5368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5914-77B9-4EE4-BC66-9FD1FF2EB5C2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ACC1DFA3-3471-4E15-A7B5-438C4813A690}" type="slidenum">
              <a:rPr b="1" lang="en-GB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49400"/>
            <a:ext cx="78483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CHAPTER 4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Financial Environment: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kets, Institutions, and Interest R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nancial mar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ypes of financial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terminants of interest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ield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mark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market is a venue where goods and services are exchang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financial market is a place where individuals and organizations wanting to borrow funds are brought together with those having a surplus of fu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792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is capital transferred between savers and borrowers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5120" y="2017800"/>
            <a:ext cx="361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rect trans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vestment banking 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ncial intermed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95560" y="2017800"/>
          <a:ext cx="3782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017800"/>
                    <a:ext cx="378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6122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Physical location stock exchanges vs. Electronic dealer-based marke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ction market vs. Dealer market (Exchanges vs. O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YSE vs. Nasda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ces are narrow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51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2600" y="2676600"/>
            <a:ext cx="3810240" cy="2797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47840"/>
            <a:ext cx="779292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What four factors affect the cost of money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duction opport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preferences fo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ed inf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47920" y="2819520"/>
            <a:ext cx="83808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90920" y="3124080"/>
            <a:ext cx="68580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792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actors that cause exchange rates to fluctu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nges in relative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nges in country r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Buzzard</dc:creator>
  <dc:description/>
  <dc:language>en-US</dc:language>
  <cp:lastModifiedBy>Joe W. Byers</cp:lastModifiedBy>
  <cp:revision>0</cp:revision>
  <dc:subject/>
  <dc:title>CHAPTER 4 The Financial Environment: Markets, Institutions, and</dc:title>
</cp:coreProperties>
</file>