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699250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F4FC-A41B-413D-8A83-B02D55A5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740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848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7312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3DF4-51EE-4BA7-AE22-572F5157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740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848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848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7312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7312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5B64-EC6D-4743-8F2D-805AB160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740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848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848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848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7312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7312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7312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4360-1F6E-42D5-A2C7-96D08F5A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740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848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54E3-81B9-4342-B3C1-1879A102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740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848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B2D5-1883-4715-8D68-F5F7CAD8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740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848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848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3E58-4A46-41F1-B6ED-8016776B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740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5C02-CCCD-44E4-844B-8A1EEE7F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740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D752-C64C-4EDE-8253-98E1A644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740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848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848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7312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26F4-C126-4577-8296-CF75FE10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740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848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848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7312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CD7A-88C6-4FBE-9A12-C1A87132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740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848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848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7312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4827-2391-4EBA-9F58-7271C318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740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848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7972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7680" indent="-23004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3" marL="1596960" indent="-23004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5960" indent="-2304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5960" indent="-2304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5960" indent="-2304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9880"/>
            <a:ext cx="1428840" cy="66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9880"/>
            <a:ext cx="2171520" cy="66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9880"/>
            <a:ext cx="1428480" cy="66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45B21A1-DDB4-42A5-839B-6B5785A73B7F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4705200"/>
            <a:ext cx="5943600" cy="4726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52600" y="187200"/>
            <a:ext cx="554328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08:47:25Z</dcterms:created>
  <dc:creator>Mathis Heydtmann</dc:creator>
  <dc:description/>
  <dc:language>en-US</dc:language>
  <cp:lastModifiedBy>Mathis Heydtmann</cp:lastModifiedBy>
  <dcterms:modified xsi:type="dcterms:W3CDTF">2004-07-21T14:38:58Z</dcterms:modified>
  <cp:revision>36</cp:revision>
  <dc:subject/>
  <dc:title>PowerPoint Presentation</dc:title>
</cp:coreProperties>
</file>