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CF0A-6FD5-4D57-9FBF-316400F3E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4D3E-CB76-43DA-B4C1-B2BC303C6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1DB8-544A-4187-848A-2D8C722F0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835C-0415-4323-9C56-83F488F33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32B9-217E-4C63-AFB8-2DC8C32D4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70AD-381E-4CB5-9AED-2CBD8179C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9FC8-3517-4074-B53E-94B8C0541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F2AE-E3A8-490A-BD95-01B211453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2F2B-C888-42F5-8CB8-E15CAB9CE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BFA5-CB4F-467B-8D21-1A5FB498D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CD85-A439-4772-8DFC-5C99BFDAF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1D52-3B40-4F08-83E0-1075C7F08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5ED1F-F56B-4D5C-95CF-6C377A5B10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708360" y="1268280"/>
            <a:ext cx="2914560" cy="43340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443640" y="4076640"/>
            <a:ext cx="1511280" cy="100800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OK.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にほん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JK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rot="16200000">
            <a:off x="2087280" y="2744640"/>
            <a:ext cx="1657440" cy="1152360"/>
          </a:xfrm>
          <a:prstGeom prst="wedgeRectCallout">
            <a:avLst>
              <a:gd name="adj1" fmla="val 10601"/>
              <a:gd name="adj2" fmla="val 8419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Rotating 270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にほん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JK prob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rot="5400000">
            <a:off x="6694920" y="1809000"/>
            <a:ext cx="1476360" cy="1258920"/>
          </a:xfrm>
          <a:prstGeom prst="wedgeRectCallout">
            <a:avLst>
              <a:gd name="adj1" fmla="val -44518"/>
              <a:gd name="adj2" fmla="val 7357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Rotating 90 °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にほん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JK prob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31T01:07:21Z</dcterms:created>
  <dc:creator>jlcheng</dc:creator>
  <dc:description/>
  <dc:language>en-US</dc:language>
  <cp:lastModifiedBy>a</cp:lastModifiedBy>
  <dcterms:modified xsi:type="dcterms:W3CDTF">2006-10-31T02:29:11Z</dcterms:modified>
  <cp:revision>5</cp:revision>
  <dc:subject/>
  <dc:title>幻灯片 1</dc:title>
</cp:coreProperties>
</file>