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63004-12B0-4888-BC5F-1239D08F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1857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80" y="1652760"/>
            <a:ext cx="90709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3108240"/>
            <a:ext cx="5578560" cy="3292560"/>
          </a:xfrm>
          <a:prstGeom prst="diamond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marL="214200" indent="-2142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trg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th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tjy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331-F27D-48D2-BD3D-0CB021FC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D0B-49AC-4807-A0EC-70738CB4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A2D-D539-4C01-8B0B-69634D72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C56-AB3A-4611-9853-D2BA1295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811-9B1B-4284-AE19-C62E1ED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C99-DF61-4468-B3E7-4DD1F5CF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4E7-7115-4E10-881A-B2FB6CF6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213-7AE0-4131-A907-79830DFC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1F8-15E1-4A0D-9FC3-98AE8207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C4F-59A9-440E-8D4D-AF45848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A5A-A3D5-47D1-B8A3-A4129BC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5F1-DCB3-4DAC-8615-4049B47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3F9C-99E6-4F43-B8E9-98F1B186BE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06560" y="1189080"/>
          <a:ext cx="7588080" cy="3566160"/>
        </p:xfrm>
        <a:graphic>
          <a:graphicData uri="http://schemas.openxmlformats.org/drawingml/2006/table">
            <a:tbl>
              <a:tblPr/>
              <a:tblGrid>
                <a:gridCol w="1501560"/>
                <a:gridCol w="1014480"/>
                <a:gridCol w="1014480"/>
                <a:gridCol w="1014480"/>
                <a:gridCol w="1014480"/>
                <a:gridCol w="2028600"/>
              </a:tblGrid>
              <a:tr h="2411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rhrtg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944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06960" y="2685960"/>
          <a:ext cx="7588080" cy="3529800"/>
        </p:xfrm>
        <a:graphic>
          <a:graphicData uri="http://schemas.openxmlformats.org/drawingml/2006/table">
            <a:tbl>
              <a:tblPr/>
              <a:tblGrid>
                <a:gridCol w="1501560"/>
                <a:gridCol w="1014480"/>
                <a:gridCol w="1014480"/>
                <a:gridCol w="1014480"/>
                <a:gridCol w="1014480"/>
                <a:gridCol w="2028600"/>
              </a:tblGrid>
              <a:tr h="23720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rhrtg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944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1:00:00Z</dcterms:created>
  <dc:creator/>
  <dc:description/>
  <dc:language>en-US</dc:language>
  <cp:lastModifiedBy/>
  <dcterms:modified xsi:type="dcterms:W3CDTF">2014-03-31T01:05:07Z</dcterms:modified>
  <cp:revision>2</cp:revision>
  <dc:subject/>
  <dc:title/>
</cp:coreProperties>
</file>