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F17-9F4E-43E5-A760-CF8F380F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CBE-2F09-459D-8C5B-CACE0533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953-866F-45B9-99C4-08F1121A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E82-C92F-41CA-BF4B-E5E7D6FD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97C-A1D6-4EE2-A9CD-6F56BED7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EED-2AAF-473E-B45E-4C93DA60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577-F551-4AD6-93CE-EA3FD453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4B0-3BE4-4D5E-9E7D-04B72209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6F1-BF3E-4212-A906-1A61F1C4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BCB-BCEF-4A37-9EC0-ECAEF395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489-918E-4E2E-8A9A-B8F0561F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750-611A-40BB-8706-F9FBEA1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8D0D-6F87-4100-A622-CFD2D2AD9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1224720" y="1263240"/>
            <a:ext cx="4612320" cy="3236760"/>
            <a:chOff x="1224720" y="1263240"/>
            <a:chExt cx="4612320" cy="3236760"/>
          </a:xfrm>
        </p:grpSpPr>
        <p:sp>
          <p:nvSpPr>
            <p:cNvPr id="42" name="AutoShape 3"/>
            <p:cNvSpPr/>
            <p:nvPr/>
          </p:nvSpPr>
          <p:spPr>
            <a:xfrm>
              <a:off x="3279960" y="1263240"/>
              <a:ext cx="2557080" cy="3236760"/>
            </a:xfrm>
            <a:prstGeom prst="cube">
              <a:avLst>
                <a:gd name="adj" fmla="val 54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rv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 3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t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ft4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c32vt6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1224720" y="2138040"/>
              <a:ext cx="1960920" cy="146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581" y="12784"/>
                  </a:moveTo>
                  <a:lnTo>
                    <a:pt x="-835" y="1674"/>
                  </a:lnTo>
                </a:path>
                <a:path w="21600" h="21600">
                  <a:moveTo>
                    <a:pt x="-835" y="0"/>
                  </a:moveTo>
                  <a:lnTo>
                    <a:pt x="-835" y="21600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yrui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iu290hfs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sfrf tr4f5fsdfet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frwe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7:42:33Z</dcterms:created>
  <dc:creator>Yolanda</dc:creator>
  <dc:description/>
  <dc:language>en-US</dc:language>
  <cp:lastModifiedBy>IBM_USER</cp:lastModifiedBy>
  <dcterms:modified xsi:type="dcterms:W3CDTF">2012-06-07T09:42:56Z</dcterms:modified>
  <cp:revision>3</cp:revision>
  <dc:subject/>
  <dc:title>Below are the test focus   FFC30FFCSD_CustomShape_Group_BetweenCustomShapes_0060.ppt Check Points:    1. Grouped/Ungrouped;2. Fit Shape To Text;3. 3D Properties;4. Handle Points.</dc:title>
</cp:coreProperties>
</file>