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168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40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692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40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692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168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1440" y="35244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168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16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168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68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000" y="41400"/>
            <a:ext cx="1581120" cy="1049040"/>
            <a:chOff x="27000" y="41400"/>
            <a:chExt cx="1581120" cy="1049040"/>
          </a:xfrm>
        </p:grpSpPr>
        <p:sp>
          <p:nvSpPr>
            <p:cNvPr id="1" name=""/>
            <p:cNvSpPr/>
            <p:nvPr/>
          </p:nvSpPr>
          <p:spPr>
            <a:xfrm>
              <a:off x="182520" y="311040"/>
              <a:ext cx="1282680" cy="614520"/>
            </a:xfrm>
            <a:prstGeom prst="ellipse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1120" y="339840"/>
              <a:ext cx="812880" cy="90360"/>
            </a:xfrm>
            <a:prstGeom prst="ellipse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7120" y="325440"/>
              <a:ext cx="380880" cy="19080"/>
            </a:xfrm>
            <a:prstGeom prst="ellipse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34800" y="325440"/>
              <a:ext cx="952560" cy="585720"/>
            </a:xfrm>
            <a:prstGeom prst="ellipse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20840" y="792000"/>
              <a:ext cx="812520" cy="90720"/>
            </a:xfrm>
            <a:prstGeom prst="ellipse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7120" y="892080"/>
              <a:ext cx="380880" cy="19080"/>
            </a:xfrm>
            <a:prstGeom prst="ellipse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87360" y="619200"/>
              <a:ext cx="1652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17480" y="328680"/>
              <a:ext cx="20268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7"/>
                  </a:moveTo>
                  <a:arcTo wR="10800" hR="10800" stAng="-10767104" swAng="53136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7"/>
                  </a:moveTo>
                  <a:arcTo wR="10800" hR="10800" stAng="-10767104" swAng="5313649"/>
                </a:path>
              </a:pathLst>
            </a:custGeom>
            <a:noFill/>
            <a:ln cap="rnd"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8920" y="326880"/>
              <a:ext cx="4312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1" y="0"/>
                  </a:moveTo>
                  <a:arcTo wR="10800" hR="10800" stAng="-5425146" swAng="53891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1" y="0"/>
                  </a:moveTo>
                  <a:arcTo wR="10800" hR="10800" stAng="-5425146" swAng="5389150"/>
                </a:path>
              </a:pathLst>
            </a:custGeom>
            <a:noFill/>
            <a:ln cap="rnd"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7480" y="326880"/>
              <a:ext cx="16488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"/>
                  </a:moveTo>
                  <a:arcTo wR="10800" hR="10800" stAng="-5465788" swAng="54328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"/>
                  </a:moveTo>
                  <a:arcTo wR="10800" hR="10800" stAng="-5465788" swAng="5432892"/>
                </a:path>
              </a:pathLst>
            </a:custGeom>
            <a:noFill/>
            <a:ln cap="rnd"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04880" y="597240"/>
              <a:ext cx="215640" cy="30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5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5996"/>
                </a:path>
              </a:pathLst>
            </a:custGeom>
            <a:noFill/>
            <a:ln cap="rnd"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9720" y="582840"/>
              <a:ext cx="431640" cy="30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7"/>
                  </a:moveTo>
                  <a:arcTo wR="10800" hR="10800" stAng="-35996" swAng="5435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7"/>
                  </a:moveTo>
                  <a:arcTo wR="10800" hR="10800" stAng="-35996" swAng="5435996"/>
                </a:path>
              </a:pathLst>
            </a:custGeom>
            <a:noFill/>
            <a:ln cap="rnd"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28280" y="608040"/>
              <a:ext cx="16524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75"/>
                  </a:moveTo>
                  <a:arcTo wR="10800" hR="10800" stAng="-39741" swAng="543974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75"/>
                  </a:moveTo>
                  <a:arcTo wR="10800" hR="10800" stAng="-39741" swAng="5439741"/>
                </a:path>
              </a:pathLst>
            </a:custGeom>
            <a:noFill/>
            <a:ln cap="rnd"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44360" y="619200"/>
              <a:ext cx="26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2600" y="597240"/>
              <a:ext cx="520200" cy="30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5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5996"/>
                </a:path>
              </a:pathLst>
            </a:custGeom>
            <a:noFill/>
            <a:ln cap="rnd"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03040" y="420840"/>
              <a:ext cx="2602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3" y="10421"/>
                  </a:moveTo>
                  <a:arcTo wR="10800" hR="10800" stAng="-120573" swAng="55205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3" y="10421"/>
                  </a:moveTo>
                  <a:arcTo wR="10800" hR="10800" stAng="-120573" swAng="5520573"/>
                </a:path>
              </a:pathLst>
            </a:custGeom>
            <a:noFill/>
            <a:ln cap="rnd"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166400" y="719280"/>
              <a:ext cx="222480" cy="9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6" y="1"/>
                  </a:moveTo>
                  <a:arcTo wR="10800" hR="10800" stAng="-5449107" swAng="54491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6" y="1"/>
                  </a:moveTo>
                  <a:arcTo wR="10800" hR="10800" stAng="-5449107" swAng="5449107"/>
                </a:path>
              </a:pathLst>
            </a:custGeom>
            <a:noFill/>
            <a:ln cap="rnd"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76120" y="424080"/>
              <a:ext cx="215640" cy="8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5296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529665"/>
                </a:path>
              </a:pathLst>
            </a:custGeom>
            <a:noFill/>
            <a:ln cap="rnd"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2880" y="709560"/>
              <a:ext cx="228600" cy="1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225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2256"/>
                </a:path>
              </a:pathLst>
            </a:custGeom>
            <a:noFill/>
            <a:ln cap="rnd"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7000" y="41400"/>
              <a:ext cx="1581120" cy="1049040"/>
            </a:xfrm>
            <a:prstGeom prst="rect">
              <a:avLst/>
            </a:prstGeom>
            <a:solidFill>
              <a:srgbClr val="c41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90160" y="376200"/>
              <a:ext cx="1088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R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2520" y="244440"/>
              <a:ext cx="1282680" cy="614520"/>
            </a:xfrm>
            <a:prstGeom prst="ellipse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92040" y="254160"/>
              <a:ext cx="851040" cy="1285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608040" y="239760"/>
              <a:ext cx="419040" cy="5724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16080" y="239760"/>
              <a:ext cx="990360" cy="62388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01760" y="706320"/>
              <a:ext cx="850680" cy="12888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08040" y="806400"/>
              <a:ext cx="419040" cy="5724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68280" y="552600"/>
              <a:ext cx="203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98400" y="243000"/>
              <a:ext cx="2408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7"/>
                  </a:moveTo>
                  <a:arcTo wR="10800" hR="10800" stAng="-10770493" swAng="532545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7"/>
                  </a:moveTo>
                  <a:arcTo wR="10800" hR="10800" stAng="-10770493" swAng="5325455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09840" y="241200"/>
              <a:ext cx="46944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7" y="0"/>
                  </a:moveTo>
                  <a:arcTo wR="10800" hR="10800" stAng="-5423120" swAng="5391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7" y="0"/>
                  </a:moveTo>
                  <a:arcTo wR="10800" hR="10800" stAng="-5423120" swAng="5391141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98400" y="241200"/>
              <a:ext cx="20304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32" y="1"/>
                  </a:moveTo>
                  <a:arcTo wR="10800" hR="10800" stAng="-5453481" swAng="54239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32" y="1"/>
                  </a:moveTo>
                  <a:arcTo wR="10800" hR="10800" stAng="-5453481" swAng="5423973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5800" y="507960"/>
              <a:ext cx="253800" cy="34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978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1000" y="493560"/>
              <a:ext cx="469080" cy="34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0"/>
                  </a:moveTo>
                  <a:arcTo wR="10800" hR="10800" stAng="-31978" swAng="543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0"/>
                  </a:moveTo>
                  <a:arcTo wR="10800" hR="10800" stAng="-31978" swAng="5431978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09200" y="525240"/>
              <a:ext cx="20340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90"/>
                  </a:moveTo>
                  <a:arcTo wR="10800" hR="10800" stAng="-34900" swAng="54349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90"/>
                  </a:moveTo>
                  <a:arcTo wR="10800" hR="10800" stAng="-34900" swAng="54349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63440" y="552600"/>
              <a:ext cx="2253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27040" y="241200"/>
              <a:ext cx="64764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31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3149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33520" y="507960"/>
              <a:ext cx="558360" cy="34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978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83960" y="334800"/>
              <a:ext cx="298440" cy="12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7" y="10533"/>
                  </a:moveTo>
                  <a:arcTo wR="10800" hR="10800" stAng="-84866" swAng="54848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7" y="10533"/>
                  </a:moveTo>
                  <a:arcTo wR="10800" hR="10800" stAng="-84866" swAng="5484866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49480" y="633240"/>
              <a:ext cx="2599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8" y="1"/>
                  </a:moveTo>
                  <a:arcTo wR="10800" hR="10800" stAng="-5441922" swAng="54419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8" y="1"/>
                  </a:moveTo>
                  <a:arcTo wR="10800" hR="10800" stAng="-5441922" swAng="5441922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7040" y="338040"/>
              <a:ext cx="253800" cy="12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89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89272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54160" y="623880"/>
              <a:ext cx="266040" cy="14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" name=""/>
          <p:cNvSpPr/>
          <p:nvPr/>
        </p:nvSpPr>
        <p:spPr>
          <a:xfrm>
            <a:off x="50760" y="6130800"/>
            <a:ext cx="915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7a5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338880"/>
            <a:ext cx="8928000" cy="291960"/>
          </a:xfrm>
          <a:prstGeom prst="rect">
            <a:avLst/>
          </a:prstGeom>
          <a:solidFill>
            <a:srgbClr val="063de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7a5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D E F E N S E    A D V A N C E D    R E S E A R C H    P R O J E C T S    A G E N C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41560" y="1112760"/>
            <a:ext cx="5699160" cy="0"/>
          </a:xfrm>
          <a:prstGeom prst="line">
            <a:avLst/>
          </a:prstGeom>
          <a:ln w="25560">
            <a:solidFill>
              <a:srgbClr val="c41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0e3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spcAft>
                <a:spcPts val="349"/>
              </a:spcAft>
              <a:buClr>
                <a:srgbClr val="00b7a5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cq.osd.mil/sadbu/sbir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cq.osd.mil/sadbu/sbir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cq.osd.mil/sadbu/sbir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edbizopps.gov/" TargetMode="External"/><Relationship Id="rId3" Type="http://schemas.openxmlformats.org/officeDocument/2006/relationships/hyperlink" Target="http://www.darpa.mil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cr.gov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28960" y="152280"/>
            <a:ext cx="703584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efense Advanced Research 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gency (DARP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4680" y="1738440"/>
            <a:ext cx="91407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M. Connie Jacob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4680" y="2413080"/>
            <a:ext cx="914076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gram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mall Business Innovation Research (SBIR)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mall Business Technology Transfer (STTR)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d Small Business Advo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5400" y="4295880"/>
            <a:ext cx="3585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ARPA/C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701 North Fairfax D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lington, VA  22203-17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94440" y="4295880"/>
            <a:ext cx="3941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ffice:     (703) 526-41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x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(703) 696-2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-Mail:    cjacobs@darpa.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4680" y="5878440"/>
            <a:ext cx="914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ARPA Home Page:  http://www.darpa.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83040" y="565200"/>
            <a:ext cx="4003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4192b"/>
                </a:solidFill>
                <a:latin typeface="Tahoma"/>
              </a:rPr>
              <a:t>Federal SBIR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47880" y="140004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ATA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The Small Business retains ALL rights to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BIR Technical Data Rights apply to ALL S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Awards: Phase I, Phase II and Phase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These Data Rights are Non-Negot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43200" y="175896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83040" y="565200"/>
            <a:ext cx="4003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4192b"/>
                </a:solidFill>
                <a:latin typeface="Tahoma"/>
              </a:rPr>
              <a:t>Federal SBIR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47880" y="140004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Open Solic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                  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Proposal Due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Nat’l Inst of Health-Grants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12/1/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Nat’l Inst of Health-Biodefense     12/1/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oD FY04.01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                      1/15/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ept of Energy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                   1/6/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ept of Commerce-NOAA            1/14/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43200" y="175896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83040" y="565200"/>
            <a:ext cx="4003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4192b"/>
                </a:solidFill>
                <a:latin typeface="Tahoma"/>
              </a:rPr>
              <a:t>Federal SBIR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47880" y="140004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Open Solic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                  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Proposal Due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ept of Commerce –NIST    1/15/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ept of Education               2/5/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oD STTR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                 4/15/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oD SBIR FY04-2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(new)       6/17/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oD SBIR FY04-3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         8/04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43200" y="175896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160" y="6043680"/>
            <a:ext cx="9036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9960" y="62881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7a5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19080" y="2241720"/>
            <a:ext cx="903600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7480" y="2371680"/>
            <a:ext cx="62841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Department of Defens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08400" y="2352600"/>
            <a:ext cx="62841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c4192b"/>
                </a:solidFill>
                <a:latin typeface="Times New Roman"/>
              </a:rPr>
              <a:t>Department of Defens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4520" y="3181320"/>
            <a:ext cx="39873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BIR Program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5440" y="3162240"/>
            <a:ext cx="39873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c4192b"/>
                </a:solidFill>
                <a:latin typeface="Times New Roman"/>
              </a:rPr>
              <a:t>SBIR Program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05280" y="544680"/>
            <a:ext cx="5605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192b"/>
                </a:solidFill>
                <a:latin typeface="Tahoma"/>
              </a:rPr>
              <a:t>DoD SBIR/STTR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0000ff"/>
              </a:buClr>
              <a:buSzPct val="60000"/>
              <a:buFont typeface="Monotype Sorts" charset="2"/>
              <a:buChar char=""/>
              <a:tabLst>
                <a:tab algn="l" pos="4170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2004: SBIR = $900M; STTR = $80M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ff"/>
              </a:buClr>
              <a:buSzPct val="60000"/>
              <a:buFont typeface="Monotype Sorts" charset="2"/>
              <a:buChar char=""/>
              <a:tabLst>
                <a:tab algn="l" pos="4170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9 Component SBIR Programs within DoD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4170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AIR FORCE </a:t>
            </a: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DARPA</a:t>
            </a: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4170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ARMY </a:t>
            </a: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OSD/DDR&amp;E </a:t>
            </a: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4170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NAVY</a:t>
            </a: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DTRA</a:t>
            </a: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4170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Missile Defense Agency </a:t>
            </a: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SOCOM</a:t>
            </a: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4170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National Geospatial Agency (was NIMA)</a:t>
            </a: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71800" y="558720"/>
            <a:ext cx="5181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4192b"/>
                </a:solidFill>
                <a:latin typeface="Tahoma"/>
              </a:rPr>
              <a:t>SBIR Points of Contac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914480"/>
            <a:ext cx="913140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63de8"/>
              </a:buClr>
              <a:buFont typeface="Times New Roman"/>
              <a:buChar char=" "/>
              <a:tabLst>
                <a:tab algn="l" pos="2862360"/>
                <a:tab algn="l" pos="589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DoD Program Manager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- Mr. Jeff Bond (703) 588-86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5000"/>
              </a:lnSpc>
              <a:spcBef>
                <a:spcPts val="524"/>
              </a:spcBef>
              <a:buClr>
                <a:srgbClr val="063de8"/>
              </a:buClr>
              <a:buFont typeface="Times New Roman"/>
              <a:buChar char=" "/>
              <a:tabLst>
                <a:tab algn="l" pos="2862360"/>
                <a:tab algn="l" pos="589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63de8"/>
              </a:buClr>
              <a:buFont typeface="Times New Roman"/>
              <a:buChar char=" "/>
              <a:tabLst>
                <a:tab algn="l" pos="2862360"/>
                <a:tab algn="l" pos="589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Air Force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Mr. Steve Guilfoos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(937) 656-90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Font typeface="Times New Roman"/>
              <a:buChar char=" "/>
              <a:tabLst>
                <a:tab algn="l" pos="2862360"/>
                <a:tab algn="l" pos="589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Navy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Mr. Vinny Schaper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(703) 696-85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Font typeface="Times New Roman"/>
              <a:buChar char=" "/>
              <a:tabLst>
                <a:tab algn="l" pos="2862360"/>
                <a:tab algn="l" pos="589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Army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Major Robert Miceli (703) 806-09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Font typeface="Times New Roman"/>
              <a:buChar char=" "/>
              <a:tabLst>
                <a:tab algn="l" pos="2862360"/>
                <a:tab algn="l" pos="589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DARPA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Ms. Connie Jacobs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(703) 526-41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Font typeface="Times New Roman"/>
              <a:buChar char=" "/>
              <a:tabLst>
                <a:tab algn="l" pos="2862360"/>
                <a:tab algn="l" pos="589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Missile Def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63de8"/>
              </a:buClr>
              <a:buFont typeface="Times New Roman"/>
              <a:buChar char=" "/>
              <a:tabLst>
                <a:tab algn="l" pos="2862360"/>
                <a:tab algn="l" pos="589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Agency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Mr. Frank Rucky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(703) 697-36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5000"/>
              </a:lnSpc>
              <a:spcBef>
                <a:spcPts val="700"/>
              </a:spcBef>
              <a:buClr>
                <a:srgbClr val="063de8"/>
              </a:buClr>
              <a:buFont typeface="Times New Roman"/>
              <a:buChar char=" "/>
              <a:tabLst>
                <a:tab algn="l" pos="2862360"/>
                <a:tab algn="l" pos="589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746600" y="1182600"/>
            <a:ext cx="4232160" cy="515520"/>
            <a:chOff x="4746600" y="1182600"/>
            <a:chExt cx="4232160" cy="515520"/>
          </a:xfrm>
        </p:grpSpPr>
        <p:sp>
          <p:nvSpPr>
            <p:cNvPr id="132" name=""/>
            <p:cNvSpPr/>
            <p:nvPr/>
          </p:nvSpPr>
          <p:spPr>
            <a:xfrm>
              <a:off x="4746600" y="1239840"/>
              <a:ext cx="4224240" cy="3747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2960" y="1182600"/>
              <a:ext cx="419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PARTMENT OF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FE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94200" y="584280"/>
            <a:ext cx="5743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192b"/>
                </a:solidFill>
                <a:latin typeface="Times New Roman"/>
              </a:rPr>
              <a:t>SBIR and STTR POCs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746600" y="1182600"/>
            <a:ext cx="4232160" cy="515520"/>
            <a:chOff x="4746600" y="1182600"/>
            <a:chExt cx="4232160" cy="515520"/>
          </a:xfrm>
        </p:grpSpPr>
        <p:sp>
          <p:nvSpPr>
            <p:cNvPr id="136" name=""/>
            <p:cNvSpPr/>
            <p:nvPr/>
          </p:nvSpPr>
          <p:spPr>
            <a:xfrm>
              <a:off x="4746600" y="1239840"/>
              <a:ext cx="4224240" cy="3747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82960" y="1182600"/>
              <a:ext cx="419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PARTMENT OF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FE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0" y="1824120"/>
            <a:ext cx="913140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76"/>
              </a:spcBef>
              <a:buClr>
                <a:srgbClr val="063de8"/>
              </a:buClr>
              <a:buFont typeface="Times New Roman"/>
              <a:buChar char=" "/>
              <a:tabLst>
                <a:tab algn="l" pos="3435480"/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DoD Program Manager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– Jeff Bond     (703) 588-86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spcAft>
                <a:spcPts val="1225"/>
              </a:spcAft>
              <a:buClr>
                <a:srgbClr val="063de8"/>
              </a:buClr>
              <a:buFont typeface="Times New Roman"/>
              <a:buChar char=" "/>
              <a:tabLst>
                <a:tab algn="l" pos="3435480"/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spcAft>
                <a:spcPts val="1225"/>
              </a:spcAft>
              <a:tabLst>
                <a:tab algn="l" pos="0"/>
                <a:tab algn="l" pos="3435480"/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OSD DDR&amp;E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eresa Puretz          (703) 681-54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63de8"/>
              </a:buClr>
              <a:buFont typeface="Times New Roman"/>
              <a:buChar char=" "/>
              <a:tabLst>
                <a:tab algn="l" pos="3435480"/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63de8"/>
              </a:buClr>
              <a:buFont typeface="Times New Roman"/>
              <a:buChar char=" "/>
              <a:tabLst>
                <a:tab algn="l" pos="3435480"/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Defense Th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700"/>
              </a:spcBef>
              <a:spcAft>
                <a:spcPts val="524"/>
              </a:spcAft>
              <a:buClr>
                <a:srgbClr val="063de8"/>
              </a:buClr>
              <a:buFont typeface="Times New Roman"/>
              <a:buChar char=" "/>
              <a:tabLst>
                <a:tab algn="l" pos="3435480"/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Reduction Agency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  Ron Yoho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 (703) 325-96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700"/>
              </a:spcBef>
              <a:spcAft>
                <a:spcPts val="524"/>
              </a:spcAft>
              <a:buClr>
                <a:srgbClr val="063de8"/>
              </a:buClr>
              <a:buFont typeface="Times New Roman"/>
              <a:buChar char=" "/>
              <a:tabLst>
                <a:tab algn="l" pos="3435480"/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700"/>
              </a:spcBef>
              <a:spcAft>
                <a:spcPts val="524"/>
              </a:spcAft>
              <a:buClr>
                <a:srgbClr val="063de8"/>
              </a:buClr>
              <a:buFont typeface="Times New Roman"/>
              <a:buChar char=" "/>
              <a:tabLst>
                <a:tab algn="l" pos="3435480"/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pecial Ops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  Karen Pera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 (813) 828-75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700"/>
              </a:spcBef>
              <a:spcAft>
                <a:spcPts val="524"/>
              </a:spcAft>
              <a:buClr>
                <a:srgbClr val="063de8"/>
              </a:buClr>
              <a:buFont typeface="Times New Roman"/>
              <a:buChar char=" "/>
              <a:tabLst>
                <a:tab algn="l" pos="3435480"/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700"/>
              </a:spcBef>
              <a:spcAft>
                <a:spcPts val="524"/>
              </a:spcAft>
              <a:buClr>
                <a:srgbClr val="063de8"/>
              </a:buClr>
              <a:buFont typeface="Times New Roman"/>
              <a:buChar char=" "/>
              <a:tabLst>
                <a:tab algn="l" pos="3435480"/>
                <a:tab algn="l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Nat Geospatial Agy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  Derrick Riddle   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 (301) 227-1792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0e30"/>
                </a:solidFill>
                <a:latin typeface="Tahoma"/>
              </a:rPr>
              <a:t>DOD SBIR FY 04.2 SBIR</a:t>
            </a: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      </a:t>
            </a:r>
            <a:r>
              <a:rPr b="1" i="1" lang="en-US" sz="2800" spc="-1" strike="noStrike" u="sng">
                <a:solidFill>
                  <a:srgbClr val="063de8"/>
                </a:solidFill>
                <a:uFillTx/>
                <a:latin typeface="Tahoma"/>
              </a:rPr>
              <a:t>NEW Solicitation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WEB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        OPENS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 CLOSE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March 04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   May 04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    Jun 17</a:t>
            </a:r>
            <a:r>
              <a:rPr b="1" lang="en-US" sz="2400" spc="-1" strike="noStrike" baseline="30000">
                <a:solidFill>
                  <a:srgbClr val="063de8"/>
                </a:solidFill>
                <a:latin typeface="Tahoma"/>
              </a:rPr>
              <a:t>th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 04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(6:00 AM)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acq.osd.mil/sadbu/sbir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http://www.dodsbir.net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0e30"/>
                </a:solidFill>
                <a:latin typeface="Tahoma"/>
              </a:rPr>
              <a:t>DOD SBIR FY 04.3 SBIR</a:t>
            </a: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ahoma"/>
              </a:rPr>
              <a:t>WEB</a:t>
            </a:r>
            <a:r>
              <a:rPr b="1" lang="en-US" sz="3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63de8"/>
                </a:solidFill>
                <a:latin typeface="Tahoma"/>
              </a:rPr>
              <a:t>          OPENS</a:t>
            </a:r>
            <a:r>
              <a:rPr b="1" lang="en-US" sz="3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63de8"/>
                </a:solidFill>
                <a:latin typeface="Tahoma"/>
              </a:rPr>
              <a:t>   CLOSES</a:t>
            </a:r>
            <a:endParaRPr b="0" lang="en-US" sz="32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May 04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       July 04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  August 04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(6:00 AM)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acq.osd.mil/sadbu/sbir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http://www.dodsbir.net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160" y="6146640"/>
            <a:ext cx="9190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240" y="6396120"/>
            <a:ext cx="165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b7a5"/>
                </a:solidFill>
                <a:latin typeface="Times New Roman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19080" y="1819440"/>
            <a:ext cx="919008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88920" y="1952640"/>
            <a:ext cx="5735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MALL BUSI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70200" y="1933560"/>
            <a:ext cx="5735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4192b"/>
                </a:solidFill>
                <a:latin typeface="Times New Roman"/>
              </a:rPr>
              <a:t>SMALL BUSI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5200" y="2776680"/>
            <a:ext cx="8364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ECHNOLOGY TRANSF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6120" y="2757600"/>
            <a:ext cx="8364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4192b"/>
                </a:solidFill>
                <a:latin typeface="Times New Roman"/>
              </a:rPr>
              <a:t>TECHNOLOGY TRANSF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9800" y="3619440"/>
            <a:ext cx="5697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TR) PROGRA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88920" y="3600360"/>
            <a:ext cx="5697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4192b"/>
                </a:solidFill>
                <a:latin typeface="Times New Roman"/>
              </a:rPr>
              <a:t>(STTR) PROGRA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83040" y="565200"/>
            <a:ext cx="4003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4192b"/>
                </a:solidFill>
                <a:latin typeface="Tahoma"/>
              </a:rPr>
              <a:t>Federal SBIR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47880" y="140004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1752480"/>
            <a:ext cx="6364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12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Housing and Urban Development FY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Homeland Security  FY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63de8"/>
                </a:solidFill>
                <a:latin typeface="Tahoma"/>
              </a:rPr>
              <a:t>Approx $2 Bill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Multiple Solicitation closing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51640" y="369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92520" y="185760"/>
            <a:ext cx="581796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192b"/>
                </a:solidFill>
                <a:latin typeface="Tahoma"/>
              </a:rPr>
              <a:t>Small Business Technology</a:t>
            </a:r>
            <a:br>
              <a:rPr sz="3600"/>
            </a:br>
            <a:r>
              <a:rPr b="0" lang="en-US" sz="3600" spc="-1" strike="noStrike">
                <a:solidFill>
                  <a:srgbClr val="c4192b"/>
                </a:solidFill>
                <a:latin typeface="Tahoma"/>
              </a:rPr>
              <a:t>Transfer (STTR)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PL 102-564 Signed October 28, 1992: Established STTR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Reauthorized to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FY2009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.30% of Extramural 2004-2009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Cooperative R&amp;D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mall Business and a University, FFRDC or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Non-Profit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95560" y="449280"/>
            <a:ext cx="3557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192b"/>
                </a:solidFill>
                <a:latin typeface="Tahoma"/>
              </a:rPr>
              <a:t>STTR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Mandatory partnership between a small business and a research institution (min.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40%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small business, min.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30%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research institution)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Five federal agencies participate (DoD, NIH, NASA, DOE, NSF).  FY2004 funding - $200M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Must have written agreement allocating intellectual property rights.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995560" y="449280"/>
            <a:ext cx="3557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192b"/>
                </a:solidFill>
                <a:latin typeface="Tahoma"/>
              </a:rPr>
              <a:t>STTR vs. SB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</a:t>
            </a:r>
            <a:r>
              <a:rPr b="0" lang="en-US" sz="2800" spc="-1" strike="noStrike" u="sng">
                <a:solidFill>
                  <a:srgbClr val="063de8"/>
                </a:solidFill>
                <a:uFillTx/>
                <a:latin typeface="Tahoma"/>
              </a:rPr>
              <a:t>STTR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</a:t>
            </a:r>
            <a:r>
              <a:rPr b="0" lang="en-US" sz="2800" spc="-1" strike="noStrike" u="sng">
                <a:solidFill>
                  <a:srgbClr val="063de8"/>
                </a:solidFill>
                <a:uFillTx/>
                <a:latin typeface="Tahoma"/>
              </a:rPr>
              <a:t>SBIR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</a:t>
            </a:r>
            <a:r>
              <a:rPr b="0" lang="en-US" sz="2800" spc="-1" strike="noStrike" u="sng">
                <a:solidFill>
                  <a:srgbClr val="063de8"/>
                </a:solidFill>
                <a:uFillTx/>
                <a:latin typeface="Tahoma"/>
              </a:rPr>
              <a:t>Phase I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Generally 1 year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Generally 6/8 month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B has to perform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B has to perform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40% of the research     70% of the research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MUST Collaborate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Collaboration NOT required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Phase II  $750K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Phase II $750K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0e30"/>
                </a:solidFill>
                <a:latin typeface="Tahoma"/>
              </a:rPr>
              <a:t>DOD SBIR FY 04 STTR</a:t>
            </a: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WEB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OPENS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CLOSE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STTR 2003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Jan 2, 04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Mar 1, 04    Apr 15, 04 </a:t>
            </a: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ahoma"/>
              </a:rPr>
              <a:t>Army, Air Force, Navy, MDA  and DARPA 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Approx. 90 topic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acq.osd.mil/sadbu/sbir</a:t>
            </a:r>
            <a:endParaRPr b="0" lang="en-US" sz="3200" spc="-1" strike="noStrike">
              <a:solidFill>
                <a:srgbClr val="063de8"/>
              </a:solidFill>
              <a:latin typeface="Tahoma"/>
            </a:endParaRPr>
          </a:p>
          <a:p>
            <a:pPr marL="325800" indent="-325800">
              <a:spcBef>
                <a:spcPts val="850"/>
              </a:spcBef>
              <a:spcAft>
                <a:spcPts val="425"/>
              </a:spcAft>
              <a:buClr>
                <a:srgbClr val="00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Tahoma"/>
              </a:rPr>
              <a:t>http://www.dodsbir.net</a:t>
            </a:r>
            <a:endParaRPr b="0" lang="en-US" sz="34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57520" y="6396120"/>
            <a:ext cx="22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b7a5"/>
                </a:solidFill>
                <a:latin typeface="Times New Roman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19080" y="1857240"/>
            <a:ext cx="919008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41280" y="1992240"/>
            <a:ext cx="70308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FENSE ADVANC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2560" y="1971720"/>
            <a:ext cx="70308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4192b"/>
                </a:solidFill>
                <a:latin typeface="Times New Roman"/>
              </a:rPr>
              <a:t>DEFENSE ADVANC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41280" y="2814480"/>
            <a:ext cx="70308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SEARCH PRO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2560" y="2795760"/>
            <a:ext cx="70308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4192b"/>
                </a:solidFill>
                <a:latin typeface="Times New Roman"/>
              </a:rPr>
              <a:t>RESEARCH PRO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51120" y="3638520"/>
            <a:ext cx="5811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GENCY (DARP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32040" y="3619440"/>
            <a:ext cx="5811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4192b"/>
                </a:solidFill>
                <a:latin typeface="Times New Roman"/>
              </a:rPr>
              <a:t>AGENCY (DARP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0e30"/>
                </a:solidFill>
                <a:latin typeface="Tahoma"/>
              </a:rPr>
              <a:t>DARPA’s MISSION</a:t>
            </a: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olve National Level Problem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High-Risk, High-Payoff Technologie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o Enable Operational Dominance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28960" y="152280"/>
            <a:ext cx="703584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efense Advanced Research 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gency (DARP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8240" y="1301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32080" y="1606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080" y="1828800"/>
            <a:ext cx="3338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dvanced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sured C3I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i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arly Entry/Special Fo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70360" y="1828800"/>
            <a:ext cx="3525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actical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ir/Space/Land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mann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ac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ase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ture Comba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38320" y="1219320"/>
            <a:ext cx="20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63de8"/>
                </a:solidFill>
                <a:uFillTx/>
                <a:latin typeface="Tahoma"/>
              </a:rPr>
              <a:t>Near Term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809880"/>
            <a:ext cx="379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ecial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em/Bio Def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unter Underground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ace Sensors/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vigation/Sensors/ Sig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028960" y="152280"/>
            <a:ext cx="703584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efense Advanced Research 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gency (DARP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08240" y="1301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32080" y="1606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60880" y="35877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063880"/>
            <a:ext cx="7285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formation Explo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loit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mand &amp;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nning / 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36880" y="129528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63de8"/>
                </a:solidFill>
                <a:uFillTx/>
                <a:latin typeface="Tahoma"/>
              </a:rPr>
              <a:t>Mid Term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9840" y="2063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028960" y="152280"/>
            <a:ext cx="703584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efense Advanced Research 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gency (DARP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08240" y="1301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32080" y="1606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60880" y="35877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480" y="2063880"/>
            <a:ext cx="2852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efense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o Warfare Defe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erials &amp;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9160" y="4425840"/>
            <a:ext cx="3465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Microsystems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pto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bined Micro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98960" y="1981080"/>
            <a:ext cx="471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formation Processing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gnitiv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utational -  Per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presentation &amp;   Reaso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tural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11494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63de8"/>
                </a:solidFill>
                <a:uFillTx/>
                <a:latin typeface="Tahoma"/>
              </a:rPr>
              <a:t>Far Term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ahoma"/>
              </a:rPr>
              <a:t>The OTHER 97.2% of the money</a:t>
            </a:r>
            <a:endParaRPr b="0" lang="en-US" sz="32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O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DoD Broad Agency Announcements (BAAs)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091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091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Contracts and Grants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091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091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O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Technical Dialogues, Short White Paper, Formal Proposal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091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091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O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Small Business Preferences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091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091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O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FedBizOpps    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fedbizopps.gov/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091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091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O  DARPA BAAs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darpa.mil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“Solicitations”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091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091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971800" y="500040"/>
            <a:ext cx="49705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192b"/>
                </a:solidFill>
                <a:latin typeface="Tahoma"/>
              </a:rPr>
              <a:t>SBIR Points of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778040"/>
            <a:ext cx="91314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 "/>
              <a:tabLst>
                <a:tab algn="l" pos="239544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NASA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Mr. Carl Ray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(202) 358-46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 "/>
              <a:tabLst>
                <a:tab algn="l" pos="239544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OD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Mr. Jeff Bond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(703) 588-85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 "/>
              <a:tabLst>
                <a:tab algn="l" pos="239544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NIH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Ms. Jo Anne Goodnight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(301) 435-26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 "/>
              <a:tabLst>
                <a:tab algn="l" pos="239544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NSF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r. Kesh Narayanan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(703) 292-70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 "/>
              <a:tabLst>
                <a:tab algn="l" pos="239544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EPA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Mr. Jim Gallup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(202) 564-68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ahoma"/>
              </a:rPr>
              <a:t>DARPA’s FY 04 CORE PROGRAMS</a:t>
            </a:r>
            <a:endParaRPr b="0" lang="en-US" sz="28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Defense Sciences Office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New material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Materials concept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Materials processing and device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Optical material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Self-healing, sensing and adapting material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Advanced mathematic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Computational geometry and topology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Electromagnetic modeling and simulation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Quantum information science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ahoma"/>
              </a:rPr>
              <a:t>DARPA’s FY 04 CORE PROGRAMS</a:t>
            </a:r>
            <a:endParaRPr b="0" lang="en-US" sz="28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Defense Sciences Office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Biological Warfare Defense –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Advanced medical diagnostic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External protection for soldier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Medical countermeasures against known &amp; unknown pathogen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Protection, decontamination of materials and equipment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Remote detection/characterization of biological substance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Self-decontamination concept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Sensor technology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5198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ahoma"/>
              </a:rPr>
              <a:t>DARPA’s FY 04 CORE PROGRAMS</a:t>
            </a:r>
            <a:endParaRPr b="0" lang="en-US" sz="28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Defense Sciences Office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Biology for Defense Application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Accelerated healing response of tissue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Controlling biological system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Enhancing human performance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Biodynamics and biological complexity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Bio-inspired system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Cell and tissue based biosensor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Human performance enhancement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Hybrid biotic/abiotic system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ahoma"/>
              </a:rPr>
              <a:t>DARPA’s FY 04 CORE PROGRAMS</a:t>
            </a:r>
            <a:endParaRPr b="0" lang="en-US" sz="28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Information Processing Technology Office areas of interest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Augmented Cognition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Bio-Computation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Data Intensive System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High Productivity Computing System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Mobile Autonomous Robot Software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Quantum Information Science and Technology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Software for Distributed Robotic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Network Modeling an Simulation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ahoma"/>
              </a:rPr>
              <a:t>DARPA’s FY 04 CORE PROGRAMS</a:t>
            </a:r>
            <a:endParaRPr b="0" lang="en-US" sz="28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lvl="1" marL="43092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63de8"/>
                </a:solidFill>
                <a:latin typeface="Tahoma"/>
              </a:rPr>
              <a:t>Information Exploitation Office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all-weather, wide area search for vehicles and dismounts in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all possible combat environments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precision identification of hostile, friendly, and neutral  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forces</a:t>
            </a:r>
            <a:br>
              <a:rPr sz="2400"/>
            </a:b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ahoma"/>
              </a:rPr>
              <a:t>DARPA’s FY 04 CORE PROGRAMS</a:t>
            </a:r>
            <a:endParaRPr b="0" lang="en-US" sz="28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Information Exploitation Office (Continued)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 accurate tracking of potential targets and noncombatant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near those target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 dynamic assignment and direction of weapons to engage target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 rapid and reliable assessment of engagements</a:t>
            </a:r>
            <a:br>
              <a:rPr sz="2000"/>
            </a:b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900" spc="-1" strike="noStrike">
                <a:solidFill>
                  <a:srgbClr val="063de8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all in the context of Joint forces support</a:t>
            </a:r>
            <a:r>
              <a:rPr b="0" lang="en-US" sz="9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63de8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63de8"/>
                </a:solidFill>
                <a:latin typeface="Tahoma"/>
              </a:rPr>
              <a:t>     </a:t>
            </a:r>
            <a:endParaRPr b="0" lang="en-US" sz="8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ahoma"/>
              </a:rPr>
              <a:t>DARPA’s FY 04 CORE PROGRAMS</a:t>
            </a:r>
            <a:endParaRPr b="0" lang="en-US" sz="28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lvl="1" marL="3862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Microsystems Technology Office areas of Interest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Automated design tools for integrated mixed signal microsystems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Steered agile beams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3-D imaging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Solar blind detectors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Advanced photonics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Acoustic microsensors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Distributed robotics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Advanced lithography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Micro power generation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Ultra wide band array antennas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MicroElectroMechanical Systems MEMS)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862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ahoma"/>
              </a:rPr>
              <a:t>DARPA’s FY 04 CORE PROGRAMS</a:t>
            </a:r>
            <a:endParaRPr b="0" lang="en-US" sz="28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Special Projects Office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-140040"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Tahoma"/>
              </a:rPr>
              <a:t>BAA03-14</a:t>
            </a: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 closes 15 April 2004 </a:t>
            </a: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-140040"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counter the emerging threat of underground facilities</a:t>
            </a: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-140040"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novel space technologies across the spectrum of space control applications including rapid access, space situational awareness, counterspace, and persistent tactical grade sensing approaches including extremely large space apertures and structures.  </a:t>
            </a: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-140040"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Closing Date: </a:t>
            </a:r>
            <a:r>
              <a:rPr b="1" lang="en-US" sz="2600" spc="-1" strike="noStrike">
                <a:solidFill>
                  <a:srgbClr val="063de8"/>
                </a:solidFill>
                <a:latin typeface="Tahoma"/>
              </a:rPr>
              <a:t>April 15, 2004</a:t>
            </a: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36396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ahoma"/>
              </a:rPr>
              <a:t>DARPA’s FY 04 CORE PROGRAMS</a:t>
            </a:r>
            <a:endParaRPr b="0" lang="en-US" sz="28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lvl="1" marL="401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Special Projects Office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-154080"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63de8"/>
                </a:solidFill>
                <a:latin typeface="Tahoma"/>
              </a:rPr>
              <a:t>BAA03-14</a:t>
            </a: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 (continued) closes 15 April 2004 </a:t>
            </a: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-154080"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provide full-scale protection systems against the threat of chemical and biological attack.   </a:t>
            </a: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-154080"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We are interested in efforts to defend against radiological weapons (so called - dirty bombs?) and is interested in concepts to defeat suicide bombers and to deal with urban threats. </a:t>
            </a: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-154080"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advanced sensor systems and guidance and navigation technologies. </a:t>
            </a: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0">
              <a:spcBef>
                <a:spcPts val="649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01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0e30"/>
                </a:solidFill>
                <a:latin typeface="Tahoma"/>
              </a:rPr>
              <a:t>DARPA’s FY 04 CORE PROGRAMS</a:t>
            </a:r>
            <a:endParaRPr b="0" lang="en-US" sz="28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Tactical Technology Office areas of interest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Aeronautic system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Space system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Land system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Supporting technologies such as autonomous &amp; semiautonomou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operations, control, communications, sensors, weapons, power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and propulsion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Systems capable of new classes of mission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Systems capable of robotic operations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71800" y="457200"/>
            <a:ext cx="601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192b"/>
                </a:solidFill>
                <a:latin typeface="Tahoma"/>
              </a:rPr>
              <a:t>SBIR Points of Contact </a:t>
            </a:r>
            <a:r>
              <a:rPr b="0" lang="en-US" sz="2800" spc="-1" strike="noStrike">
                <a:solidFill>
                  <a:srgbClr val="c4192b"/>
                </a:solidFill>
                <a:latin typeface="Tahom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1854360"/>
            <a:ext cx="91440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 "/>
              <a:tabLst>
                <a:tab algn="l" pos="194796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OC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Mr. Joseph Bishop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(301) 713-35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 "/>
              <a:tabLst>
                <a:tab algn="l" pos="194796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OE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r. Walter Warnick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(301) 903-14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 "/>
              <a:tabLst>
                <a:tab algn="l" pos="194796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OA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r. Charles Cleland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(202) 401-4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 "/>
              <a:tabLst>
                <a:tab algn="l" pos="194796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OEd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Info No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 "/>
              <a:tabLst>
                <a:tab algn="l" pos="194796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OT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r. Joe Henebury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(617) 494-20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0e30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cf0e30"/>
                </a:solidFill>
                <a:latin typeface="Tahoma"/>
              </a:rPr>
              <a:t>DARPA</a:t>
            </a: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ARPA’s  SBIR Program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Phase I and Phase II nuances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Phase I Gaps and Phase II Enhancements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O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Phase I and Phase II Adoptions      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0e30"/>
                </a:solidFill>
                <a:latin typeface="Tahoma"/>
              </a:rPr>
              <a:t>DARPA’s SBIR PROGRAM</a:t>
            </a: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Phase I proposals shall not exceed $99,000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o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Firm Fixed Price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o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Generally 6/8 months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Small businesses chosen for award are expected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to start work within 28 days after receiving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a contract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The Aviation &amp; Missile Command in Huntsville, AL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awards DARPA SBIR Phase I contracts within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30/45 days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0e30"/>
                </a:solidFill>
                <a:latin typeface="Tahoma"/>
              </a:rPr>
              <a:t>DARPA’s SBIR PROGRAM</a:t>
            </a: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1668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Phase II’s are generally Cost + Fixed Fee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Generally not to exceed $750K for a 2-year period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The Aviation &amp; Missile Command in Huntsville, AL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awards DARPA SBIR Phase II contracts within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approximately 3 months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You must have an “acceptable” accounting system, you will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undergo an audit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71440" y="35244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0e30"/>
                </a:solidFill>
                <a:latin typeface="Tahoma"/>
              </a:rPr>
              <a:t>DARPA’s SBIR PROGRAM</a:t>
            </a:r>
            <a:endParaRPr b="0" lang="en-US" sz="3600" spc="-1" strike="noStrike">
              <a:solidFill>
                <a:srgbClr val="cf0e3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O At the request of a DARPA Program Manager, DARPA will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fund a $50,000 Phase I gap effort to keep the small 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business working while we invite and review a Phase II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proposal.  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O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DARPA will match dollar for dollar up to $200K any 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third-party money invested in an SBIR Phase II.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O  At the request of a DARPA Program Manager, DARPA will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adopt a Phase I or Phase II from an other SBIR Federal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Agency, to help meet DARPA Program needs.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ahoma"/>
              </a:rPr>
              <a:t>        </a:t>
            </a:r>
            <a:endParaRPr b="0" lang="en-US" sz="22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160" y="6146640"/>
            <a:ext cx="9190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5400" y="6357960"/>
            <a:ext cx="8959680" cy="287280"/>
          </a:xfrm>
          <a:prstGeom prst="rect">
            <a:avLst/>
          </a:prstGeom>
          <a:solidFill>
            <a:srgbClr val="063de8"/>
          </a:solidFill>
          <a:ln w="1908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57520" y="6396120"/>
            <a:ext cx="22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b7a5"/>
                </a:solidFill>
                <a:latin typeface="Times New Roman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1040" y="6396120"/>
            <a:ext cx="788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ecece"/>
                </a:solidFill>
                <a:latin typeface="Times New Roman"/>
              </a:rPr>
              <a:t>D E F E N S E    A D V A N C E D    R E S E A R C H    P R O J E C T S    A G E N C 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19080" y="1800360"/>
            <a:ext cx="919008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91120" y="1933560"/>
            <a:ext cx="533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cf0e30"/>
                </a:solidFill>
                <a:latin typeface="Times New Roman"/>
              </a:rPr>
              <a:t>PROCESS F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99120" y="2757600"/>
            <a:ext cx="4496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GISTER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80040" y="2738520"/>
            <a:ext cx="4496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4192b"/>
                </a:solidFill>
                <a:latin typeface="Times New Roman"/>
              </a:rPr>
              <a:t>REGISTER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240" y="3581280"/>
            <a:ext cx="8841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PARTMENT OF DEFEN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8160" y="3562200"/>
            <a:ext cx="8841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4192b"/>
                </a:solidFill>
                <a:latin typeface="Times New Roman"/>
              </a:rPr>
              <a:t>DEPARTMENT OF DEFEN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34160" y="4403880"/>
            <a:ext cx="5029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TRACTO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13280" y="4384800"/>
            <a:ext cx="5029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4192b"/>
                </a:solidFill>
                <a:latin typeface="Times New Roman"/>
              </a:rPr>
              <a:t>CONTRACTO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340000" y="128520"/>
            <a:ext cx="670716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192b"/>
                </a:solidFill>
                <a:latin typeface="Tahoma"/>
              </a:rPr>
              <a:t>Centralized Contractor Registration Program (CC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9360" y="1633680"/>
            <a:ext cx="83660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ahoma"/>
              </a:rPr>
              <a:t>GET REGISTERED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24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WHAT YOU N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3280" indent="-287280">
              <a:lnSpc>
                <a:spcPct val="85000"/>
              </a:lnSpc>
              <a:spcBef>
                <a:spcPts val="64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Dunn and Bradstreet Num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3280" indent="-287280">
              <a:lnSpc>
                <a:spcPct val="85000"/>
              </a:lnSpc>
              <a:spcBef>
                <a:spcPts val="64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63de8"/>
                </a:solidFill>
                <a:latin typeface="Tahoma"/>
              </a:rPr>
              <a:t>Taxpayer Identification Number (TI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Register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cr.gov</a:t>
            </a:r>
            <a:r>
              <a:rPr b="0" lang="en-US" sz="2800" spc="-1" strike="noStrike" u="sng">
                <a:solidFill>
                  <a:srgbClr val="063de8"/>
                </a:solidFill>
                <a:uFillTx/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CCR Assistance Center  888-227-24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ALL Federal Agencies use CCR information to make electronic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71800" y="457200"/>
            <a:ext cx="601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192b"/>
                </a:solidFill>
                <a:latin typeface="Tahoma"/>
              </a:rPr>
              <a:t>SBIR Points of Contact </a:t>
            </a:r>
            <a:r>
              <a:rPr b="0" lang="en-US" sz="2800" spc="-1" strike="noStrike">
                <a:solidFill>
                  <a:srgbClr val="c4192b"/>
                </a:solidFill>
                <a:latin typeface="Tahom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1854360"/>
            <a:ext cx="91440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 "/>
              <a:tabLst>
                <a:tab algn="l" pos="194796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Housing and Urban Development     To be annou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 "/>
              <a:tabLst>
                <a:tab algn="l" pos="194796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 "/>
              <a:tabLst>
                <a:tab algn="l" pos="194796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Homeland Security     To be annou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83040" y="565200"/>
            <a:ext cx="4003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4192b"/>
                </a:solidFill>
                <a:latin typeface="Tahoma"/>
              </a:rPr>
              <a:t>Federal SBIR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7880" y="140004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BIR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mall Business (500 people or less) must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Located in the Unit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All work performed in the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51% owned and controlled by 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Citizens or Permanent Resident Ali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Organized for Profit (ask for f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43200" y="175896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83040" y="565200"/>
            <a:ext cx="4003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4192b"/>
                </a:solidFill>
                <a:latin typeface="Tahoma"/>
              </a:rPr>
              <a:t>Federal SBIR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47880" y="140004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BIR Phase I statistics </a:t>
            </a:r>
            <a:r>
              <a:rPr b="0" lang="en-US" sz="2800" spc="-1" strike="noStrike">
                <a:solidFill>
                  <a:srgbClr val="063de8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69.1% of Phase I winners w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companies with 20 people or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41% of Phase I winners w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companies with 10 people or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43200" y="175896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83040" y="565200"/>
            <a:ext cx="4003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4192b"/>
                </a:solidFill>
                <a:latin typeface="Tahoma"/>
              </a:rPr>
              <a:t>Federal SBIR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47880" y="140004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THREE Phas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Phase 1   Feasibility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GENERALLY 6 months and $10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Phase 2  Proof-of-Principle – Prototype De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GENERALLY 2 Years and $75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Phase 3  Products, Production, Servi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R/R&amp;D or any comb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43200" y="175896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83040" y="565200"/>
            <a:ext cx="4003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4192b"/>
                </a:solidFill>
                <a:latin typeface="Tahoma"/>
              </a:rPr>
              <a:t>Federal SBIR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47880" y="140004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Evaluation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oundness, Technical Merit &amp;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Qualifications of the PI and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Potential for Commercial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tabLst>
                <a:tab algn="l" pos="0"/>
                <a:tab algn="l" pos="457200"/>
                <a:tab algn="ctr" pos="2800440"/>
                <a:tab algn="ct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(The WARFIGHTER is the user in D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43200" y="175896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0T15:32:26Z</dcterms:created>
  <dc:creator>Asst Dir ARPA</dc:creator>
  <dc:description/>
  <dc:language>en-US</dc:language>
  <cp:lastModifiedBy>Sam Leiken</cp:lastModifiedBy>
  <cp:lastPrinted>2000-02-23T18:33:42Z</cp:lastPrinted>
  <dcterms:modified xsi:type="dcterms:W3CDTF">2004-03-08T18:51:14Z</dcterms:modified>
  <cp:revision>476</cp:revision>
  <dc:subject/>
  <dc:title>New SBIR Legis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08782309</vt:r8>
  </property>
  <property fmtid="{D5CDD505-2E9C-101B-9397-08002B2CF9AE}" pid="3" name="_AuthorEmail">
    <vt:lpwstr>SLeiken@NGA.ORG</vt:lpwstr>
  </property>
  <property fmtid="{D5CDD505-2E9C-101B-9397-08002B2CF9AE}" pid="4" name="_AuthorEmailDisplayName">
    <vt:lpwstr>Leiken, Sam</vt:lpwstr>
  </property>
  <property fmtid="{D5CDD505-2E9C-101B-9397-08002B2CF9AE}" pid="5" name="_EmailSubject">
    <vt:lpwstr>power point presentations to be loaded onto laptop.</vt:lpwstr>
  </property>
  <property fmtid="{D5CDD505-2E9C-101B-9397-08002B2CF9AE}" pid="6" name="_PreviousAdHocReviewCycleID">
    <vt:r8>654738261</vt:r8>
  </property>
</Properties>
</file>