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3D7A-BBB9-4FBB-8355-12B3EA95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8002-9805-44A4-B6D4-7C998B24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1880-FBAD-495D-9887-5B2F4349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FEF1-6B53-40AB-B6BB-053B6F78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0D97-E007-40DF-9AFA-AF848965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D19B-2797-4DF8-9E31-A0FF6598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77CF-BD2C-41FA-9046-134393CA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9F54-B7DF-45AD-93B2-03A66DBE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0CBB-D8E6-45FC-BC74-BE515658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54A7-62EC-4A05-9051-AF6B650D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298-2A9F-4BB8-93B1-7E2F13D8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ABE9-03F1-47DE-9B05-381F79CE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5C97-183E-417B-9ED8-008E58FD14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56000" y="404640"/>
          <a:ext cx="3263760" cy="6213600"/>
        </p:xfrm>
        <a:graphic>
          <a:graphicData uri="http://schemas.openxmlformats.org/drawingml/2006/table">
            <a:tbl>
              <a:tblPr/>
              <a:tblGrid>
                <a:gridCol w="360360"/>
                <a:gridCol w="790560"/>
                <a:gridCol w="360360"/>
                <a:gridCol w="182520"/>
                <a:gridCol w="182520"/>
                <a:gridCol w="355680"/>
                <a:gridCol w="288720"/>
                <a:gridCol w="743040"/>
              </a:tblGrid>
              <a:tr h="487440"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af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g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 a f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son</cp:lastModifiedBy>
  <dcterms:modified xsi:type="dcterms:W3CDTF">2005-04-14T08:11:43Z</dcterms:modified>
  <cp:revision>7</cp:revision>
  <dc:subject/>
  <dc:title>PowerPoint Presentation</dc:title>
</cp:coreProperties>
</file>