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E01-D251-4E56-9E19-6D771C7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53B-78F9-48E8-B7B7-7A9F615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115-FA8F-4ACA-AAFA-76AA1064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879-8217-4111-8371-E7833F67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8E2-0672-4729-B9EF-FC065261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7832-510F-49A2-B996-E55825EA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95E4-6200-4713-B3BD-A6A8E35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339F-0D87-4663-A1FF-3883EB64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BED-6908-478B-92D9-E705186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11F2-3F1F-41CC-9CC2-46165101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856D-0515-4D52-9DD0-C43E57B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C74-87CB-445C-8594-FD1C8D42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EE6A-0C7F-4059-9A67-D699C2A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1B4-054E-4C59-89F2-2F2D52B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5849-8C0C-4B8A-9B04-B77220F3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E89-D0A6-4BB2-A9D9-2B635ED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DD1-B7AA-4B9D-B259-7ABC1733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8FC-0792-4ACA-BDA6-D9B3EFD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E7F-5CE5-4279-A678-119C186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A2D-AC10-4816-9541-87E26FA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C1F-3552-4CD3-99C6-55BB6D80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888-3A24-45B8-B201-070B8E12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F68-C05E-467C-88C1-82F0E851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F42-907E-4CC5-A64E-BFBBA19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40B-CCF6-4954-A480-24AB3A23EB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B08-0566-4BF0-9922-5C409965E2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04:53Z</dcterms:created>
  <dc:creator>asw</dc:creator>
  <dc:description/>
  <dc:language>en-US</dc:language>
  <cp:lastModifiedBy>asw</cp:lastModifiedBy>
  <dcterms:modified xsi:type="dcterms:W3CDTF">2010-02-11T15:43:41Z</dcterms:modified>
  <cp:revision>2</cp:revision>
  <dc:subject/>
  <dc:title>Folie 1</dc:title>
</cp:coreProperties>
</file>