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C00-3840-4A76-9157-C734A868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67A-C593-43BD-B00A-45920BFA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2DE-F428-42C7-AD08-DB61C124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873-5A13-4456-984A-D9BEF0FB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D06-C49F-49C0-89D5-73B0C9D6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739-21C6-41CC-BBD0-FAA23191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E41-EE02-4AA2-B6FA-524C154F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023-8F3F-4EE2-9D91-83EA4FC7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AE6-69CA-4BDE-B34D-D8A3C9D3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BEB-425B-4D15-AA8C-6E41E54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240-0272-4B88-A004-6A1F0AE9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ACB-5014-493A-9DA5-8AB9AC24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0E59-A8D3-4C1F-954D-40C1383398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!  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nimati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7080"/>
            <a:ext cx="2539800" cy="2539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1778040"/>
            <a:ext cx="635040" cy="1270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3840" y="2540160"/>
            <a:ext cx="1270080" cy="2539800"/>
          </a:xfrm>
          <a:prstGeom prst="ellipse">
            <a:avLst/>
          </a:pr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064040"/>
            <a:ext cx="380880" cy="888840"/>
          </a:xfrm>
          <a:prstGeom prst="smileyFace">
            <a:avLst>
              <a:gd name="adj" fmla="val 9282"/>
            </a:avLst>
          </a:pr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715000"/>
            <a:ext cx="380880" cy="888840"/>
          </a:xfrm>
          <a:custGeom>
            <a:avLst/>
            <a:gdLst>
              <a:gd name="textAreaLeft" fmla="*/ 156960 w 380880"/>
              <a:gd name="textAreaRight" fmla="*/ 223920 w 380880"/>
              <a:gd name="textAreaTop" fmla="*/ 366120 h 888840"/>
              <a:gd name="textAreaBottom" fmla="*/ 52272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9440" y="5460840"/>
            <a:ext cx="761040" cy="177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!  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0120" y="3809880"/>
          <a:ext cx="126972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939960" y="2817720"/>
          <a:ext cx="914400" cy="7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817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" descr=""/>
          <p:cNvPicPr/>
          <p:nvPr/>
        </p:nvPicPr>
        <p:blipFill>
          <a:blip r:embed="rId3"/>
          <a:stretch/>
        </p:blipFill>
        <p:spPr>
          <a:xfrm>
            <a:off x="1270080" y="1270080"/>
            <a:ext cx="888840" cy="888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254480" y="552600"/>
            <a:ext cx="482760" cy="416880"/>
            <a:chOff x="4254480" y="552600"/>
            <a:chExt cx="482760" cy="416880"/>
          </a:xfrm>
        </p:grpSpPr>
        <p:sp>
          <p:nvSpPr>
            <p:cNvPr id="57" name="_s3093"/>
            <p:cNvSpPr/>
            <p:nvPr/>
          </p:nvSpPr>
          <p:spPr>
            <a:xfrm flipV="1">
              <a:off x="4375080" y="552600"/>
              <a:ext cx="241200" cy="209520"/>
            </a:xfrm>
            <a:custGeom>
              <a:avLst/>
              <a:gdLst>
                <a:gd name="textAreaLeft" fmla="*/ 86400 w 241200"/>
                <a:gd name="textAreaRight" fmla="*/ 154800 w 241200"/>
                <a:gd name="textAreaTop" fmla="*/ 75240 h 209520"/>
                <a:gd name="textAreaBottom" fmla="*/ 1342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2"/>
            <p:cNvSpPr/>
            <p:nvPr/>
          </p:nvSpPr>
          <p:spPr>
            <a:xfrm flipV="1">
              <a:off x="4254480" y="761400"/>
              <a:ext cx="482760" cy="207720"/>
            </a:xfrm>
            <a:custGeom>
              <a:avLst/>
              <a:gdLst>
                <a:gd name="textAreaLeft" fmla="*/ 106200 w 482760"/>
                <a:gd name="textAreaRight" fmla="*/ 376560 w 482760"/>
                <a:gd name="textAreaTop" fmla="*/ 45720 h 207720"/>
                <a:gd name="textAreaBottom" fmla="*/ 16200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40160" y="1270080"/>
            <a:ext cx="19047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-&gt;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9960" y="127008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on this slide have the effect -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3:20:46Z</dcterms:created>
  <dc:creator>FtpDown</dc:creator>
  <dc:description/>
  <dc:language>en-US</dc:language>
  <cp:lastModifiedBy>tester</cp:lastModifiedBy>
  <dcterms:modified xsi:type="dcterms:W3CDTF">2006-04-06T06:10:33Z</dcterms:modified>
  <cp:revision>3</cp:revision>
  <dc:subject/>
  <dc:title>Hi!  Page </dc:title>
</cp:coreProperties>
</file>