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CFA8-5569-471C-8CA3-D744FB41C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44E7-1ECE-45EE-99D9-470649A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4F7C-3229-4873-B4AA-B9E83082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9056-8EFB-4900-9927-1F273AA78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E27D-46AC-4121-9C83-0EBB71E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D146-3439-4977-B991-69FEDFB8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0919-8DAE-411C-A0E9-D97E93B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579C-69B5-4E4E-8FEF-952A2804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E147-0B58-481C-9FA8-E7EBC08B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AC71-9CA6-4D97-9D17-91E84CF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0D74-3C1F-484A-BE06-DAD469D5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C772-0FB2-4C6E-822B-A10FB10B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958E26-B28C-4DCD-9529-1E6D1E71105B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906640"/>
            <a:ext cx="8763120" cy="355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12880" y="41400"/>
            <a:ext cx="8331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bile CRM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162840" y="3363840"/>
            <a:ext cx="2790720" cy="2776680"/>
          </a:xfrm>
          <a:prstGeom prst="roundRect">
            <a:avLst>
              <a:gd name="adj" fmla="val 6273"/>
            </a:avLst>
          </a:prstGeom>
          <a:noFill/>
          <a:ln w="9360">
            <a:solidFill>
              <a:srgbClr val="71a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193920" y="3363840"/>
            <a:ext cx="2789280" cy="2776680"/>
          </a:xfrm>
          <a:prstGeom prst="roundRect">
            <a:avLst>
              <a:gd name="adj" fmla="val 6273"/>
            </a:avLst>
          </a:prstGeom>
          <a:noFill/>
          <a:ln w="9360">
            <a:solidFill>
              <a:srgbClr val="71a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03040" y="3365640"/>
            <a:ext cx="2791080" cy="2774880"/>
          </a:xfrm>
          <a:prstGeom prst="roundRect">
            <a:avLst>
              <a:gd name="adj" fmla="val 6273"/>
            </a:avLst>
          </a:prstGeom>
          <a:noFill/>
          <a:ln w="9360">
            <a:solidFill>
              <a:srgbClr val="71a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3181320"/>
            <a:ext cx="2932200" cy="615960"/>
            <a:chOff x="171360" y="3181320"/>
            <a:chExt cx="2932200" cy="6159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71360" y="3181320"/>
              <a:ext cx="2932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16000" y="3282840"/>
              <a:ext cx="27954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119160" indent="-11772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119160"/>
                  <a:tab algn="l" pos="1033560"/>
                  <a:tab algn="l" pos="1947960"/>
                  <a:tab algn="l" pos="2862360"/>
                  <a:tab algn="l" pos="3776760"/>
                  <a:tab algn="l" pos="4691160"/>
                  <a:tab algn="l" pos="5605560"/>
                  <a:tab algn="l" pos="6519960"/>
                  <a:tab algn="l" pos="7434360"/>
                  <a:tab algn="l" pos="8348760"/>
                  <a:tab algn="l" pos="9263160"/>
                  <a:tab algn="l" pos="101775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17440" y="3790800"/>
            <a:ext cx="27907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" tIns="46080" bIns="46080" anchor="t">
            <a:spAutoFit/>
          </a:bodyPr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AAAAA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BBBBBB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CCCC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DDDDD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164040" y="3176640"/>
            <a:ext cx="2931840" cy="620640"/>
            <a:chOff x="3164040" y="3176640"/>
            <a:chExt cx="2931840" cy="62064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164040" y="3176640"/>
              <a:ext cx="2931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06880" y="3281400"/>
              <a:ext cx="2795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119160" indent="-11772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119160"/>
                  <a:tab algn="l" pos="1033560"/>
                  <a:tab algn="l" pos="1947960"/>
                  <a:tab algn="l" pos="2862360"/>
                  <a:tab algn="l" pos="3776760"/>
                  <a:tab algn="l" pos="4691160"/>
                  <a:tab algn="l" pos="5605560"/>
                  <a:tab algn="l" pos="6519960"/>
                  <a:tab algn="l" pos="7434360"/>
                  <a:tab algn="l" pos="8348760"/>
                  <a:tab algn="l" pos="9263160"/>
                  <a:tab algn="l" pos="101775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YYYYY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126120" y="3181320"/>
            <a:ext cx="2932200" cy="615960"/>
            <a:chOff x="6126120" y="3181320"/>
            <a:chExt cx="2932200" cy="6159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6126120" y="3181320"/>
              <a:ext cx="2932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168960" y="3284640"/>
              <a:ext cx="2795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119160" indent="-11772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119160"/>
                  <a:tab algn="l" pos="1033560"/>
                  <a:tab algn="l" pos="1947960"/>
                  <a:tab algn="l" pos="2862360"/>
                  <a:tab algn="l" pos="3776760"/>
                  <a:tab algn="l" pos="4691160"/>
                  <a:tab algn="l" pos="5605560"/>
                  <a:tab algn="l" pos="6519960"/>
                  <a:tab algn="l" pos="7434360"/>
                  <a:tab algn="l" pos="8348760"/>
                  <a:tab algn="l" pos="9263160"/>
                  <a:tab algn="l" pos="101775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ZZZZZ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93920" y="3790800"/>
            <a:ext cx="27892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" tIns="46080" bIns="46080" anchor="t">
            <a:spAutoFit/>
          </a:bodyPr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EE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FFFFF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GGGG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168960" y="3790800"/>
            <a:ext cx="2790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lvl="1" marL="169920" indent="-169920">
              <a:lnSpc>
                <a:spcPct val="100000"/>
              </a:lnSpc>
              <a:spcBef>
                <a:spcPts val="300"/>
              </a:spcBef>
              <a:buClr>
                <a:srgbClr val="fd0000"/>
              </a:buClr>
              <a:buFont typeface="Arial"/>
              <a:buChar char="•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HHHHHHH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IIIIII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JJJJJJJJJ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19240" y="1133640"/>
            <a:ext cx="2730240" cy="18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635280" y="765000"/>
            <a:ext cx="1886040" cy="2152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372360" y="1114560"/>
            <a:ext cx="23032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07:01Z</dcterms:created>
  <dc:creator>Rob Knight</dc:creator>
  <dc:description/>
  <dc:language>en-US</dc:language>
  <cp:lastModifiedBy>Rob Knight</cp:lastModifiedBy>
  <dcterms:modified xsi:type="dcterms:W3CDTF">2010-12-14T14:13:38Z</dcterms:modified>
  <cp:revision>1</cp:revision>
  <dc:subject/>
  <dc:title>Mobile CRM Applications</dc:title>
</cp:coreProperties>
</file>