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0DD-B01B-4C18-948C-4E71E708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103-EECC-40FF-A2FD-3F5CDFF7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766-2846-48F8-9F00-9614577F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F81-6367-4348-AD0A-457E9460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5F8-DF9A-45F8-BDB9-0B4B8A31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BA7-28FC-43AD-81DE-381F1099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725-2417-4683-B4E8-AA1A2E3B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E95-5B7C-41C4-8AAB-C01F668A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081-A584-4075-A488-79493609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988-46E4-415A-9B2A-D6776F9E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4BE-38F7-436E-A3D6-F50F7A18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DD5-44EF-4CFA-ACBD-7235EA22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A2B9-C851-4C75-A4E9-EA605C45EB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,BoldItalic"/>
              </a:rPr>
              <a:t>11  Future Work</a:t>
            </a:r>
            <a:r>
              <a:rPr b="1" i="1" lang="zh-CN" sz="4400" spc="-1" strike="noStrike">
                <a:solidFill>
                  <a:srgbClr val="000000"/>
                </a:solidFill>
                <a:latin typeface="Arial,BoldItal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8108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133720"/>
            <a:ext cx="6781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eb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J2EE 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安全支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eb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eb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JAXB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支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eb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吞吐量的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X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另外的网格服务主机环境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7:32:04Z</dcterms:created>
  <dc:creator>weihongtao</dc:creator>
  <dc:description/>
  <dc:language>en-US</dc:language>
  <cp:lastModifiedBy>weihongtao</cp:lastModifiedBy>
  <dcterms:modified xsi:type="dcterms:W3CDTF">2004-10-19T07:29:11Z</dcterms:modified>
  <cp:revision>1</cp:revision>
  <dc:subject/>
  <dc:title>11  Future Work </dc:title>
</cp:coreProperties>
</file>