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454-8329-4D24-968A-069593AE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A29-A313-4EC7-B110-2AD5704E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6FB-EC9E-48FF-AFBE-C6AD32C9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CEE-4CB7-412D-B724-9F097C18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F0E-0B9E-470C-9AA5-4B5E9244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471-295E-4D06-A01C-21C9E8AB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AB6-C384-4465-BEAF-2BF984AD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7D7-86BD-4DBC-B99D-1FB7A0CC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692-9501-434F-B610-3B791201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908-6877-4ADD-B372-A55B5873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84E-B2B3-45F5-A13C-9CE6D2D9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063-B500-47BD-BC82-DAF6C814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B1FB-B22A-4B9C-B9CA-1894621F24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0960" y="13716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4840" y="2286000"/>
            <a:ext cx="2558880" cy="1752480"/>
          </a:xfrm>
          <a:prstGeom prst="line">
            <a:avLst/>
          </a:prstGeom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68520" y="3124080"/>
            <a:ext cx="330192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8240" y="2362320"/>
            <a:ext cx="297180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jfjujukklkljklkjhjkhjk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360" y="4495680"/>
            <a:ext cx="907920" cy="457200"/>
          </a:xfrm>
          <a:prstGeom prst="rightArrow">
            <a:avLst>
              <a:gd name="adj1" fmla="val 50000"/>
              <a:gd name="adj2" fmla="val 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/>
          <p:nvPr/>
        </p:nvCxnSpPr>
        <p:spPr>
          <a:xfrm>
            <a:off x="1676520" y="4495320"/>
            <a:ext cx="1296000" cy="686520"/>
          </a:xfrm>
          <a:prstGeom prst="bentConnector3">
            <a:avLst>
              <a:gd name="adj1" fmla="val 513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4210200" y="4648320"/>
            <a:ext cx="2146320" cy="380880"/>
          </a:xfrm>
          <a:prstGeom prst="flowChartPunchedCar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715000"/>
            <a:ext cx="1898640" cy="838080"/>
          </a:xfrm>
          <a:custGeom>
            <a:avLst/>
            <a:gdLst>
              <a:gd name="textAreaLeft" fmla="*/ 474480 w 1898640"/>
              <a:gd name="textAreaRight" fmla="*/ 1424160 w 1898640"/>
              <a:gd name="textAreaTop" fmla="*/ 209520 h 838080"/>
              <a:gd name="textAreaBottom" fmla="*/ 81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3480" y="5562720"/>
            <a:ext cx="2806560" cy="761760"/>
          </a:xfrm>
          <a:prstGeom prst="smileyFace">
            <a:avLst>
              <a:gd name="adj" fmla="val 9282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73720" y="1447920"/>
            <a:ext cx="1517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hr Tex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4127400" y="5257800"/>
            <a:ext cx="908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962520" y="1752480"/>
            <a:ext cx="577800" cy="533520"/>
          </a:xfrm>
          <a:custGeom>
            <a:avLst/>
            <a:gdLst>
              <a:gd name="textAreaLeft" fmla="*/ 34560 w 577800"/>
              <a:gd name="textAreaRight" fmla="*/ 543240 w 577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392" h="21600">
                <a:moveTo>
                  <a:pt x="0" y="0"/>
                </a:moveTo>
                <a:lnTo>
                  <a:pt x="23392" y="0"/>
                </a:lnTo>
                <a:lnTo>
                  <a:pt x="23392" y="21600"/>
                </a:lnTo>
                <a:lnTo>
                  <a:pt x="0" y="21600"/>
                </a:lnTo>
                <a:close/>
              </a:path>
              <a:path fill="lightenLess" w="23392" h="21600">
                <a:moveTo>
                  <a:pt x="0" y="0"/>
                </a:moveTo>
                <a:lnTo>
                  <a:pt x="23392" y="0"/>
                </a:lnTo>
                <a:lnTo>
                  <a:pt x="21992" y="1400"/>
                </a:lnTo>
                <a:lnTo>
                  <a:pt x="1400" y="1400"/>
                </a:lnTo>
                <a:close/>
              </a:path>
              <a:path fill="darken" w="23392" h="21600">
                <a:moveTo>
                  <a:pt x="23392" y="0"/>
                </a:moveTo>
                <a:lnTo>
                  <a:pt x="23392" y="21600"/>
                </a:lnTo>
                <a:lnTo>
                  <a:pt x="21992" y="20200"/>
                </a:lnTo>
                <a:lnTo>
                  <a:pt x="21992" y="1400"/>
                </a:lnTo>
                <a:close/>
              </a:path>
              <a:path fill="darkenLess" w="23392" h="21600">
                <a:moveTo>
                  <a:pt x="23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2" y="20200"/>
                </a:lnTo>
                <a:close/>
              </a:path>
              <a:path fill="lighten" w="23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2" h="21600">
                <a:moveTo>
                  <a:pt x="11696" y="3837"/>
                </a:moveTo>
                <a:lnTo>
                  <a:pt x="14272" y="6448"/>
                </a:lnTo>
                <a:lnTo>
                  <a:pt x="14272" y="4707"/>
                </a:lnTo>
                <a:lnTo>
                  <a:pt x="16048" y="4707"/>
                </a:lnTo>
                <a:lnTo>
                  <a:pt x="16048" y="8224"/>
                </a:lnTo>
                <a:lnTo>
                  <a:pt x="18659" y="10800"/>
                </a:lnTo>
                <a:lnTo>
                  <a:pt x="17005" y="10800"/>
                </a:lnTo>
                <a:lnTo>
                  <a:pt x="17005" y="17989"/>
                </a:lnTo>
                <a:lnTo>
                  <a:pt x="6386" y="17989"/>
                </a:lnTo>
                <a:lnTo>
                  <a:pt x="6386" y="10800"/>
                </a:lnTo>
                <a:lnTo>
                  <a:pt x="4733" y="10800"/>
                </a:lnTo>
                <a:close/>
              </a:path>
              <a:path fill="darkenLess" w="23392" h="21600">
                <a:moveTo>
                  <a:pt x="14272" y="6448"/>
                </a:moveTo>
                <a:lnTo>
                  <a:pt x="14272" y="4707"/>
                </a:lnTo>
                <a:lnTo>
                  <a:pt x="16048" y="4707"/>
                </a:lnTo>
                <a:lnTo>
                  <a:pt x="16048" y="8224"/>
                </a:lnTo>
                <a:close/>
              </a:path>
              <a:path fill="darkenLess" w="23392" h="21600">
                <a:moveTo>
                  <a:pt x="10773" y="14299"/>
                </a:moveTo>
                <a:lnTo>
                  <a:pt x="12618" y="14299"/>
                </a:lnTo>
                <a:lnTo>
                  <a:pt x="12618" y="17989"/>
                </a:lnTo>
                <a:lnTo>
                  <a:pt x="17005" y="17989"/>
                </a:lnTo>
                <a:lnTo>
                  <a:pt x="17005" y="10800"/>
                </a:lnTo>
                <a:lnTo>
                  <a:pt x="6386" y="10800"/>
                </a:lnTo>
                <a:lnTo>
                  <a:pt x="6386" y="17989"/>
                </a:lnTo>
                <a:lnTo>
                  <a:pt x="10773" y="17989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6760" y="3352680"/>
            <a:ext cx="214632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240" y="380880"/>
            <a:ext cx="1155600" cy="35913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Times New Roman"/>
              </a:rPr>
              <a:t>Text-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Times New Roman"/>
              </a:rPr>
              <a:t>Gelb mit rotem 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6080" y="-100080"/>
            <a:ext cx="58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-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Tes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Dokument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</a:rPr>
              <a:t>Powerpoint1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</a:t>
            </a:r>
            <a:r>
              <a:rPr b="0" lang="de-DE" sz="2400" spc="-1" strike="noStrike">
                <a:solidFill>
                  <a:srgbClr val="cc00ff"/>
                </a:solidFill>
                <a:latin typeface="Times New Roman"/>
              </a:rPr>
              <a:t>ThinPrint-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08:05:53Z</dcterms:created>
  <dc:creator>testserver</dc:creator>
  <dc:description/>
  <dc:language>en-US</dc:language>
  <cp:lastModifiedBy>Administrator</cp:lastModifiedBy>
  <cp:lastPrinted>2001-01-16T13:10:52Z</cp:lastPrinted>
  <dcterms:modified xsi:type="dcterms:W3CDTF">1999-02-19T08:17:49Z</dcterms:modified>
  <cp:revision>11</cp:revision>
  <dc:subject/>
  <dc:title>Kein Folientitel</dc:title>
</cp:coreProperties>
</file>