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ED8-3540-43E6-A813-3ADEAD29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s wor d we have around 30 “font work gallery” ty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penoffice we have only 15 “font work gallery”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68D-0FF9-4F92-BF04-033E9531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B59-DEDF-4D5A-BBBC-CB672E0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6B9-E2BB-44CE-A835-8E7E794C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235-385C-4420-BBF0-40135151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CA9-C7FC-470E-94E9-8C83BE7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898-9005-431C-8A16-C09B98B8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E57-F7D4-401B-B4DF-382A251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109-57B9-4D82-B9DE-B5E859A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D52-93E1-42FF-904F-EE017AA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477-8242-439B-9418-24A6A41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0AF-1311-44E5-9DEE-5C19FE2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22A-4AD3-44EA-9410-5A72412B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8A6-C084-477C-8A52-FDD83D326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 Work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3:55:50Z</dcterms:created>
  <dc:creator>virtusa</dc:creator>
  <dc:description/>
  <dc:language>en-US</dc:language>
  <cp:lastModifiedBy>virtusa</cp:lastModifiedBy>
  <dcterms:modified xsi:type="dcterms:W3CDTF">2004-12-15T04:04:06Z</dcterms:modified>
  <cp:revision>7</cp:revision>
  <dc:subject/>
  <dc:title>Work Flow</dc:title>
</cp:coreProperties>
</file>