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955F22-579C-420C-A209-3FE3F02FA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908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A7B-304F-4B2C-B1ED-33753B53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09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8960"/>
            <a:ext cx="77709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906-BA9E-4399-8F6C-6B78130D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1628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896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9896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574-D7C2-4E7A-804E-AF4C0FF6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250200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16280"/>
            <a:ext cx="250200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16280"/>
            <a:ext cx="250200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8960"/>
            <a:ext cx="250200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98960"/>
            <a:ext cx="250200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98960"/>
            <a:ext cx="250200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AFD-B367-4DCD-B6FA-1876AC25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16280"/>
            <a:ext cx="77709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B5E-C3DE-4189-B897-177F7157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0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784-F1F2-449A-A001-FF0B5E4C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18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16280"/>
            <a:ext cx="37918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8420-3FBC-48CE-BBF8-302BA7DF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F6F-2024-484A-ACA7-52D720DC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34800"/>
            <a:ext cx="77724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67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3DB-401F-4E94-94AF-F79A681A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16280"/>
            <a:ext cx="37918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896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6A4-99A4-424E-AE78-C0CB2894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18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1628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9896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A42-B656-4B03-A47A-1DE89792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1628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8960"/>
            <a:ext cx="77709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B83-6BFC-4CE2-A0DA-7F618A39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16280"/>
            <a:ext cx="7770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6120" indent="0">
              <a:spcBef>
                <a:spcPts val="901"/>
              </a:spcBef>
              <a:spcAft>
                <a:spcPts val="67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76120" indent="-276120">
              <a:spcBef>
                <a:spcPts val="901"/>
              </a:spcBef>
              <a:spcAft>
                <a:spcPts val="675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276120" indent="-276120">
              <a:spcBef>
                <a:spcPts val="901"/>
              </a:spcBef>
              <a:spcAft>
                <a:spcPts val="675"/>
              </a:spcAft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276120" indent="-276120">
              <a:spcBef>
                <a:spcPts val="901"/>
              </a:spcBef>
              <a:spcAft>
                <a:spcPts val="675"/>
              </a:spcAft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76120" indent="-276120">
              <a:spcBef>
                <a:spcPts val="901"/>
              </a:spcBef>
              <a:spcAft>
                <a:spcPts val="675"/>
              </a:spcAft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76120" indent="-276120"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76120" indent="-276120"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20/09/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EC72A2-A8A6-4A50-990E-867F139CA68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2485800"/>
            <a:ext cx="7772400" cy="36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Tw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wo three four five si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ven eight n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well</dc:creator>
  <dc:description/>
  <dc:language>en-US</dc:language>
  <cp:lastModifiedBy>ro</cp:lastModifiedBy>
  <cp:revision>0</cp:revision>
  <dc:subject/>
  <dc:title>PowerPoint Presentation</dc:title>
</cp:coreProperties>
</file>