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C17-B5E6-494C-A8F3-B48CD30A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283-7A3B-43DC-B0FB-21B3B20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27C-6B7C-4EC9-AF82-598BE405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3FF-E9C3-4576-B628-5222AF22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DB2B-0249-4420-BFA6-808F9E17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6EB6-814F-4C1E-8242-36C22118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D282-7229-4827-A219-9C7C0181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4F1-CAAC-422B-80B7-27DD56A5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7BE2-9D0B-4184-87E7-5AF593D6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54000"/>
            <a:ext cx="90518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7B6-D036-48A6-AE21-92DBCBF7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CEB4-3B7B-4156-B2E7-A166566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8A4-243B-4126-915C-3977FFBA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426D-49B1-4E95-877E-800BF01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AF7-8814-4D33-98BC-E037F176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6D5-5F5F-481D-BBA8-AA12447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A474-5EC7-4C61-BA96-FEF35D14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C3A9-10BF-4C50-85A6-9AE115BA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47B-231A-48A2-9473-39811562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A5B-BC25-406A-944A-5CDEDC90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CF2-C6AE-4A51-8C38-31E414B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4000"/>
            <a:ext cx="90518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B44-35E0-42F0-BE30-E0F4BCCC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949-9883-4C46-B5B2-EEA9AAA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28E-D0A1-43BA-A450-25F8CA1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9DC-6336-4526-A7DF-C364E65D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48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806480"/>
            <a:ext cx="9048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256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3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259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7AB88-30A6-485A-8C73-099B368695B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23382-B366-4459-BFFA-18345ED3E5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4360" y="1440000"/>
            <a:ext cx="2646360" cy="344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00680" y="3060720"/>
            <a:ext cx="1939680" cy="161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98280"/>
            <a:ext cx="9059760" cy="10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головок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85" name=""/>
          <p:cNvCxnSpPr>
            <a:stCxn id="82" idx="2"/>
            <a:endCxn id="83" idx="0"/>
          </p:cNvCxnSpPr>
          <p:nvPr/>
        </p:nvCxnSpPr>
        <p:spPr>
          <a:xfrm rot="5400000">
            <a:off x="4335480" y="2419200"/>
            <a:ext cx="1276560" cy="7200"/>
          </a:xfrm>
          <a:prstGeom prst="bentConnector3">
            <a:avLst>
              <a:gd name="adj1" fmla="val 5001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3:08:59Z</dcterms:created>
  <dc:creator>Алексей Колесников</dc:creator>
  <dc:description/>
  <dc:language>en-US</dc:language>
  <cp:lastModifiedBy/>
  <cp:revision>1</cp:revision>
  <dc:subject/>
  <dc:title/>
</cp:coreProperties>
</file>