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234-E1EC-4AAA-8C04-8271F08F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965-097A-4430-84E0-294805B3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4C0-8B5D-496D-9E80-64F48D90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92A-8672-4B6A-93B4-C7189BA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46D-0FA5-4991-8AB3-B7E44137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5C13-8086-4D8B-92FB-B150A3EA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A915-48D2-4BBA-A3E1-FA5B4661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A9A-69FA-4796-9580-ECC4734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BDE3-C067-44F3-9067-39C1A4B4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A795-9BEF-4852-A679-4FF4F4A4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9E42-E23E-41CF-9F58-C4B9FB1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C10-FDD4-4977-8DE0-2DDCB1BA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F80-05F2-4E68-9912-546006B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A7AF-27CB-444C-B595-392304D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9ED3-4E3F-41A2-AE0F-84AC7DC6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2BAF-A231-4EE5-8C7F-5FBE4CF9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FBBA-C8E5-4ADF-81A9-95854BD0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C67-4E97-4FBD-B568-AF057FD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3A7-4892-42F8-972B-7A36AE0D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EF3-B49D-47EA-95E5-B149929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6AF-A721-4E2F-BB75-706C6FC0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6D0-4811-4DC6-BE4F-1C7C6F3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1FC-F24B-4AAB-BD0A-52DDFC5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9EA-B5B0-4334-B7F9-7A92034D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57A-4530-456D-AB16-8A183707C1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7F9D27C6-304B-404A-AED3-6005224F215C}" type="slidenum">
              <a:rPr b="1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281-CA6A-42EA-B1D4-44F17EA68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5C20DC8A-61AD-43BD-9E73-B85FDC164176}" type="slidenum">
              <a:rPr b="1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HAPTER 4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Environment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rkets, Institutions, and Interest R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mar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financial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nts of interes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ield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mark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 is a venue where goods and services are exchang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nancial market is a place where individuals and organizations wanting to borrow funds are brought together with those having a surplus of fu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4:23:36Z</dcterms:created>
  <dc:creator>Christopher Buzzard</dc:creator>
  <dc:description/>
  <dc:language>en-US</dc:language>
  <cp:lastModifiedBy>University of Tulsa</cp:lastModifiedBy>
  <dcterms:modified xsi:type="dcterms:W3CDTF">2006-08-24T17:48:15Z</dcterms:modified>
  <cp:revision>25</cp:revision>
  <dc:subject/>
  <dc:title>CHAPTER 4 The Financial Environment: Markets, Institutions, and Interest Rates</dc:title>
</cp:coreProperties>
</file>