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5F6-91B7-465D-A6E6-02B47CB2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860-F0B5-4E9D-AEDC-E2D40663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72F-25BF-463B-933B-41758C55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C15-0E9F-4996-BDC8-EDA4C0E4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A7D-856B-4E9E-B1EE-9CBD7AC2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ACF-6A47-4E28-AD05-45CF208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898-3B81-44A0-9D6E-184C9D2A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369-3B36-47A0-ABC2-CF3310B6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65D-535E-4ABB-9C4C-D17006E2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327-A105-48A6-AB99-022AAE5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66C-CE98-4B82-9D02-1F1BAE3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5E5-32DD-4D85-B251-1D83D6D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9C7B-9389-4D6A-A519-5B01D7463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-As Waterm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6T06:17:35Z</dcterms:modified>
  <cp:revision>25</cp:revision>
  <dc:subject/>
  <dc:title>PowerPoint Presentation</dc:title>
</cp:coreProperties>
</file>