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287-04DE-49E8-8641-2C7DCFA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C40-7584-4CC8-8F6B-93DD2AC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1FB-E17F-4589-906D-CC980579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EA9-E23D-429C-B2DE-7E4627E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482-1AFE-4AE8-B5CB-EA63302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5FA-EF74-4C65-98E9-1F380C3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99C-C863-43BE-AFF2-E89576D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7BA-2583-4401-9824-F71B1C5B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952-F42B-478D-90EB-AF60C02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6F3-F984-4CE6-8E3E-47969D0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C85-DC42-46A9-8FC6-233BB2A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591-9EE4-4596-BD2E-CFBA1E2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AA3-38B4-4423-9F7A-808484173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קונפורמיות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מבוא לפסיכולוגיה חברתי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ניסויי קונפורמ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ניסוי של א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ציאות ברור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בוצת משתפי פעולה, נבדק אמיתי אח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ניסוי של שרי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ציאות לא ברור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כולם נבדקים אמיתי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סוגי קונפורמ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קונפורמיות אינפורמטיבית (הניסוי של שריף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אנשים האמינו בנכונות התשובות הקונפורמיות שנתנו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תוצאה: השפעה "עמוקה", שתתבטא גם בהתבטאות לא-פומבית, ותעבור הכללה למצב אח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Times New Roman"/>
              </a:rPr>
              <a:t>קונפורמיות מוטיבציוני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(מרבית נבדקי אש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נשים לא האמינו בתשובות הקונפורמיות שנתנו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תוצאה: השפעה "שטחית" שנעלמת בהתבטאות לא-פומבית ולא עוברת הכללה למצבים חדשים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קונפורמיות בהיבט התרבותי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תרבויו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קולקטיוויסטי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יש יותר קונפורמיות מאשר בתרבויו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אינדיוידואליסטי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אמפירית, הדבר הודגם הן בניסויים תפיסתיים מהסוג של אש, והן בניסויים שבדקו קונפורמיות בעמדות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תרבויות קולקטיויסטיות יש לקונפורמיות קונוטציה ערכית חיובית יותר מאשר בתרבויות אינדיוידואליסט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תנאים שמגבירים אפקטיביות של השפעת מיעו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החריג הם חברים לגיטימיים ובעלי סטטוס גבוה בקבוצה. אינם חריגים בקבוצה במימדים אחרי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מגובשים (אין ביניהם "בוגדים ועריקים"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מביעים את עמדתם החריגה בצורה עקבית, ברורה, בפשטות ובשכנוע פנימי, כך שלא ניתן יהיה להתעלם מעמדתם או לבטלה כלא חשובה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תוצאות של השפעת מיעו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שפעה "עמוקה" על עמדות: יוצרים שכנוע ולא ציות מתוך פחד מסנקציות (להבדיל מהשפעות רוב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תהליך התפשטות עמדת המיעו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עמדת המיעוט הופכת לפופולרית יות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טן הלחץ החברתי נגד עמדת המיע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טנה גם הלכידות הקבוצתית של מחזיקי עמדת המיע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פסיכולוגיה חברתי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התפלגות השוק המקסימלי שנתנו הנבדקים בניסוי המקור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63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8680" y="1941480"/>
          <a:ext cx="8208720" cy="41403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אחו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מספ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רמת השוק (וולט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</a:rPr>
              <a:t>שאינם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מין הנבד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גיל (ילדים, צעירים, מבוגרי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נתונים דומים התקבלו בארצות שונ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8680" y="1828440"/>
            <a:ext cx="8208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ffffff"/>
                </a:solidFill>
                <a:uFillTx/>
                <a:latin typeface="Times New Roman"/>
              </a:rPr>
              <a:t>סמכות נתפסת של הנסיי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נבדק אחר (למעשה, משתף פעולה) בתפקיד הנסיין  - 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ניסוי מועבר בבנין משרדים מוזנח במקום באוניברסיטת ייל –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48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ffffff"/>
                </a:solidFill>
                <a:uFillTx/>
                <a:latin typeface="Times New Roman"/>
              </a:rPr>
              <a:t>קרבה פיזית של הנסיי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נסיין אינו נוכח פיזית אלא נותן הוראות בטלפון  -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1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ffff"/>
                </a:solidFill>
                <a:uFillTx/>
                <a:latin typeface="Times New Roman"/>
              </a:rPr>
              <a:t>קרבה אל הקורב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קורבן נמצא באותו חדר כמו הנבדק ("המורה")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נבדק ("המורה") נדרש לגעת בקרבן על מנת לתת את השוק החשמלי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ffff"/>
                </a:solidFill>
                <a:uFillTx/>
                <a:latin typeface="Times New Roman"/>
              </a:rPr>
              <a:t>לחץ חברת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ניים מבין שלושה נבדקים בו זמניים (למעשה, משתפי פעולה) מסרבים לתת שוק 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ינטי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erif, 193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ישבו בחדר חשוך, וצפו בנקודת 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בפועל, נקודת האור לא זזה, אך אנשים נוטים לדווח על תנועה של נקודת ה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ישנם הבדלים בין-אישיים ניכרים בטווח התנועה הנתפס של נקודת ה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התבקשו להעריך את טווח התנועה של נקודת האור לבד, או בקבוצה (כאשר כל נבדק אומר בתורו את ההערכה שלו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דרגתיות של הפעולות (בכל צעד עליה של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וולט בלבד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מאפיינים אישיותיים של הנבדק (אוטוריטריזם מגביר  נכונות לציי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"כוחה של הסיטואציה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o not want to be rude or something, but this person might be dying there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ם תוצאות דומות היו מתקבלות היום?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us &amp; Raaijmakers, 1995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נבדקים התבקשו להפריע למועמד למשרה שעשה מבחן קבלה על ידי כך שקראו באזניו קריאות מלחיצות (כגון "אם תמשיך ככה בטוח תכשל")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נבדקים ידעו שהמבחן יקבע אם המועמד יקבל את המשרה או לא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נבדקים ידעו שהמשרה חשובה למועמד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מועמד (למעשה, משתף פעולה) התחנן שיפסיקו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הנבדקים צייתו לדרישת הנסיין להמשיך ולהלחיץ את המועמד. בהעדר נסיין שדרש שימשיכו אף נבדק לא השלים את הניסו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(כלומר – לא ציית עד הסוף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 לדמויות סמכות אחרות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אחיות בבית חולים קיבלו הוראה בטלפון מאדם לא ידוע שהזדהה כרופא לא ידוע לתת לאחד החולים במחלקה תרופה לא שגרתית במינון גבוה באופן מיוחד.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מהאחיות צייתו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fling wt al., 1966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ציות בצבא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 בצבא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לגיטימיות של הסמכות (המדינה, הצבא, המפקדים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יוקרה של הסמכ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סמכות “לוקחת אחריות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סמכות בעלת כוח תגמול ועניש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קרבה של הקורבנות (פיזית, פסיכולוגית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לחץ חברת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ינטי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erif, 193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2057400"/>
          <a:ext cx="76960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696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ונטי: קונפורמיות אינפורמטיבית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מציאות לא ברור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הערכות של האחרים נתפסות כמידע לגבי המציא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קונפורמיות היא תוצאה של אמונה בערכן האינפורמטיבי של ההערכות של האנשים האחרי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היו צריכים להגיד איזה מבין שלושה קווים הכי דומה באורכו ל"קו המבחן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קבוצה כללה שישה משתפי פעולה ונבדק אחד, שישב במקום הלפני-אחרון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בחלק מן הפעמים, כל משתפי הפעולה אמרו תשובה שהייתה בברור לא נכונ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שתנה התלוי: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</a:rPr>
              <a:t>קונפורמיות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האם הנבדק האמיתי יגיד את התשובה הלא-נכונה שהציעו יתר חברי הקבוצה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קונפורמיות הממוצע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7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נבדקים שאמרו תשובה קונפורמית לפחות במחצית מן המקרים הרלוונטיים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נבדקים שלא היו קונפורמיים באף אחד מן המקרים הרלוונטיים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למה נכנעת ללחץ? סוגי הסברים שהציעו הנבדק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השפעה נורמטיבית (סוג ההשפעה השכיח ביותר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ידעתי שאני אומר תשובה לא נכונה, אבל לא רציתי להיות שונה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הטלת ספק בשיפוט האיש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חשבתי שאולי אני טועה, לא ישנתי טוב, והראיה שלי נחלשה לאחרונה, קורה לי שאני לא רואה דברים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סוגסטיה תפיסתי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השתכנעתי שזוהי התשובה הנכונה. קו ג' באמת נראה לי הכי דומה לקו המבחן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כפונקציה של מספר משתפי הפעולה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2286000"/>
          <a:ext cx="73962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396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מתמתנת כשהקבוצה 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</a:rPr>
              <a:t>אינה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מאוחדת בדעתה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len &amp; Levine, 1969, 197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חזרו על הניסוי המקורי של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ch, 1955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ולם, אחד מארבעת משתפי הפעולה הביע שיפוט שונה מיתר חברי הקבוצה (להלן "השותף"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ניסויים שונים השותפים התנהגו באופן שונה. בכל מקרה, שיעור הקונפורמיות ירד באופן דרמטי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חרג מעמדת יתר משתפי הפעולה אך אמר תשובה לא נכונה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אמר את התשובה הנכונ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אמר את התשובה הנכונה אבל הרכיב משקפיים עבים והתלונן על כך שאינו רואה את מצגת הקווי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08:46:48Z</dcterms:created>
  <dc:creator>ד"ר נירה ליברמן </dc:creator>
  <dc:description/>
  <dc:language>en-US</dc:language>
  <cp:lastModifiedBy>maord</cp:lastModifiedBy>
  <dcterms:modified xsi:type="dcterms:W3CDTF">2002-12-30T09:08:20Z</dcterms:modified>
  <cp:revision>11</cp:revision>
  <dc:subject/>
  <dc:title>קונפורמיות </dc:title>
</cp:coreProperties>
</file>