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04A-4214-4E42-9BD9-4AD3CC83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C66-0984-4FE8-9DC7-225F6FFB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A2B-09E0-4A43-8129-68BBD789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A2A-6A9E-432F-9123-995A3666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6B40-2E96-4BAF-997B-A4F88C0D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D696-9D53-4506-BAFE-EAC11F48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9665-F0AC-4F8F-B4E6-2263F7A0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68C-29C0-48CD-BABC-3B870310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99A6-2A6F-42E6-B0D5-83FF3856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0B5D-1E31-452E-BC8C-C0FAB2CB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D001-E100-4888-8FCF-27CD3AC2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6DE-DD09-4B6C-9651-B10F8760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4809-29D4-413E-B91C-628F05C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42EA-75AF-454F-B07A-CD6D06D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F97-DCDF-45CC-84BA-8E001E88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E564-4B72-4500-96F1-FD167863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7F5C-5F78-49CA-A108-22F90655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90D-6A4C-4E01-86A8-36D2BF5D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030-DEB8-47A9-9EC8-B9D19461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DE4-AAE6-49BD-84C2-83CED4E6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B1B-5ADF-4DAB-94E2-A945A4B8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CC1-DA7B-4773-A441-7FEBD0B5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AE2-B738-41A6-B441-EFE7A11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5E9-0B51-4384-9B06-0820B4C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B75-68B0-42E4-85B9-E4DD9C07EC4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066680" y="1741320"/>
            <a:ext cx="7391520" cy="87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538760" y="10332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Texcom Information Technolog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www.texcom.com.t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091280" y="115920"/>
            <a:ext cx="50508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6A5F-B8A2-40AB-9684-E827EE1EBBA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69343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800" y="291960"/>
            <a:ext cx="195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Texcom Information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www.texcom.com.t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920" y="165240"/>
            <a:ext cx="826920" cy="59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0720" y="2924280"/>
            <a:ext cx="2280960" cy="457200"/>
          </a:xfrm>
          <a:prstGeom prst="rect">
            <a:avLst/>
          </a:prstGeom>
          <a:solidFill>
            <a:srgbClr val="ffa365">
              <a:alpha val="50000"/>
            </a:srgbClr>
          </a:solidFill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34527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石化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棉花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原紗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織布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染整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染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後加工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成衣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52760"/>
            <a:ext cx="99036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品牌業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52760"/>
            <a:ext cx="99036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零售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4527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消費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12000" y="1844640"/>
            <a:ext cx="36720" cy="473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81680" y="1916280"/>
            <a:ext cx="22320" cy="466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95680" y="1916280"/>
            <a:ext cx="5040" cy="458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989000"/>
            <a:ext cx="27000" cy="451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1916280"/>
            <a:ext cx="4680" cy="458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5101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5101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55101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55101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55101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91920" y="55101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全世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歐美國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4440" y="5510160"/>
            <a:ext cx="7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南美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度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0" y="5510160"/>
            <a:ext cx="86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台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韓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78320" y="5586480"/>
            <a:ext cx="607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台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美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3800" y="5586480"/>
            <a:ext cx="75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美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埃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日本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4595760"/>
            <a:ext cx="5410440" cy="533520"/>
          </a:xfrm>
          <a:prstGeom prst="leftRightArrow">
            <a:avLst>
              <a:gd name="adj1" fmla="val 44444"/>
              <a:gd name="adj2" fmla="val 72020"/>
            </a:avLst>
          </a:prstGeom>
          <a:solidFill>
            <a:srgbClr val="737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供應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595760"/>
            <a:ext cx="3047760" cy="533520"/>
          </a:xfrm>
          <a:prstGeom prst="leftRightArrow">
            <a:avLst>
              <a:gd name="adj1" fmla="val 45833"/>
              <a:gd name="adj2" fmla="val 77966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購買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291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02000" y="2462040"/>
            <a:ext cx="60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遠東集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新光紡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南亞實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台南紡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15800" y="2309760"/>
            <a:ext cx="668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潤泰國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宏遠興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佳和實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6160" y="2097000"/>
            <a:ext cx="66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強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台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興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怡華實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2492280"/>
            <a:ext cx="113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聯業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益大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新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台南企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聚陽實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680" y="2690640"/>
            <a:ext cx="9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ke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560" y="2698920"/>
            <a:ext cx="94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JcP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KM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Sears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紡織產業的價值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02:53Z</dcterms:created>
  <dc:creator>083836</dc:creator>
  <dc:description/>
  <dc:language>en-US</dc:language>
  <cp:lastModifiedBy>mwu</cp:lastModifiedBy>
  <dcterms:modified xsi:type="dcterms:W3CDTF">2007-03-29T04:19:58Z</dcterms:modified>
  <cp:revision>17</cp:revision>
  <dc:subject/>
  <dc:title>紡織產業生產管理特性與電子化策略思考</dc:title>
</cp:coreProperties>
</file>