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A3E-EACA-4D97-B804-D3324D24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E08-75BB-438A-89EB-B59D5DF4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5CA-0909-49CE-8418-BE74B506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83F-74C0-4C9E-987B-98E96F27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406-A2FB-4F62-88F0-99DF0144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1A5-2A6D-4011-814F-E9E6CFF7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957-32D7-42D2-B9B5-D451638C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37F-A63C-4BC8-8468-CC5EDDDA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9CE-B0CA-4612-BA84-7D491B9F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843-327D-4297-968B-C7DF994A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6F1-FD44-4612-99D1-08946E51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66C-B118-4D8A-9968-D55EB4CB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06EE-224D-4CD6-9E31-46F5EF369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2574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2720" y="1495440"/>
            <a:ext cx="1057320" cy="914400"/>
          </a:xfrm>
          <a:prstGeom prst="triangle">
            <a:avLst>
              <a:gd name="adj" fmla="val 148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33920" y="1461960"/>
            <a:ext cx="1057320" cy="914400"/>
          </a:xfrm>
          <a:prstGeom prst="triangle">
            <a:avLst>
              <a:gd name="adj" fmla="val 824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781200" y="2324160"/>
            <a:ext cx="1328760" cy="2100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862440" y="2590200"/>
            <a:ext cx="985680" cy="1042920"/>
          </a:xfrm>
          <a:prstGeom prst="triangle">
            <a:avLst>
              <a:gd name="adj" fmla="val 148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2442600" y="2585880"/>
            <a:ext cx="1014120" cy="1043280"/>
          </a:xfrm>
          <a:prstGeom prst="triangle">
            <a:avLst>
              <a:gd name="adj" fmla="val 148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390040" y="1476360"/>
            <a:ext cx="1214280" cy="914400"/>
          </a:xfrm>
          <a:prstGeom prst="triangle">
            <a:avLst>
              <a:gd name="adj" fmla="val 148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5320" y="1457280"/>
            <a:ext cx="1056960" cy="914400"/>
          </a:xfrm>
          <a:prstGeom prst="triangle">
            <a:avLst>
              <a:gd name="adj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996240" y="2509200"/>
            <a:ext cx="1057320" cy="1243080"/>
          </a:xfrm>
          <a:prstGeom prst="triangle">
            <a:avLst>
              <a:gd name="adj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224200" y="1481040"/>
            <a:ext cx="919080" cy="914400"/>
          </a:xfrm>
          <a:prstGeom prst="triangle">
            <a:avLst>
              <a:gd name="adj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8224200" y="2532960"/>
            <a:ext cx="919080" cy="1157400"/>
          </a:xfrm>
          <a:prstGeom prst="triangle">
            <a:avLst>
              <a:gd name="adj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600000">
            <a:off x="3243240" y="52862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4564400">
            <a:off x="4066560" y="48524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5:11:44Z</dcterms:created>
  <dc:creator>user</dc:creator>
  <dc:description/>
  <dc:language>en-US</dc:language>
  <cp:lastModifiedBy>user</cp:lastModifiedBy>
  <dcterms:modified xsi:type="dcterms:W3CDTF">2011-05-04T15:29:11Z</dcterms:modified>
  <cp:revision>1</cp:revision>
  <dc:subject/>
  <dc:title>Slide 1</dc:title>
</cp:coreProperties>
</file>