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E53-45C4-4C9F-A132-4546F599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161-6E1C-47FE-84A7-6E1DD88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743-B7DE-4F32-A105-5799C249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E7A-C5D5-4875-AA42-57E853EB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128-54F6-400B-AC9D-53B85851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70D-0C2A-4C10-9871-925F3B5C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D09-E90C-4041-8872-13A31CDE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C2A-EFB4-4FA6-8EE1-BA15BBF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4C5-018D-4308-BE08-EED4F6DF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B10-3E0D-4132-B866-6213184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040-CFBF-4ED0-8C99-49B91BC3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E0E-8DB2-4382-8B4D-19BB961B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FBF-794F-4EE1-BE46-11DD139F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are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Chart Placeholder 4"/>
          <p:cNvGraphicFramePr/>
          <p:nvPr/>
        </p:nvGraphicFramePr>
        <p:xfrm>
          <a:off x="1523880" y="1600200"/>
          <a:ext cx="632484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Char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3248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yovai</cp:lastModifiedBy>
  <dcterms:modified xsi:type="dcterms:W3CDTF">2010-06-18T12:14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