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4CC-4663-4D7A-B085-71CE2B3C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E3F-EFC0-421E-AA57-C1D9214D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2A3-DD1A-470C-8DEC-A36563FE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AAA-9CB1-44AB-AFF5-13D9CFA6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9E7-7F0B-4D8D-9DD0-67E0C1A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438-5582-428D-8D3E-AD197081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B38-94D7-4AC4-B4D5-731057A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523-8387-4F08-888B-2E78B7C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683-A049-41FE-A9E4-B4E296B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A0E-44F4-4E59-9181-AE9D06A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AC2-935B-432A-ABEC-00BCF06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6FB-47B7-4D6F-ADA8-E2D6C8E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CBB6-8B5D-4982-9CAC-F729AC301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3832200" cy="1476360"/>
          </a:xfrm>
          <a:custGeom>
            <a:avLst/>
            <a:gdLst/>
            <a:ahLst/>
            <a:rect l="l" t="t" r="r" b="b"/>
            <a:pathLst>
              <a:path w="2414" h="930">
                <a:moveTo>
                  <a:pt x="2414" y="10"/>
                </a:moveTo>
                <a:cubicBezTo>
                  <a:pt x="2079" y="5"/>
                  <a:pt x="1765" y="0"/>
                  <a:pt x="1429" y="4"/>
                </a:cubicBezTo>
                <a:cubicBezTo>
                  <a:pt x="1295" y="11"/>
                  <a:pt x="1164" y="19"/>
                  <a:pt x="1031" y="33"/>
                </a:cubicBezTo>
                <a:cubicBezTo>
                  <a:pt x="929" y="60"/>
                  <a:pt x="833" y="112"/>
                  <a:pt x="738" y="154"/>
                </a:cubicBezTo>
                <a:cubicBezTo>
                  <a:pt x="704" y="169"/>
                  <a:pt x="667" y="178"/>
                  <a:pt x="634" y="194"/>
                </a:cubicBezTo>
                <a:cubicBezTo>
                  <a:pt x="577" y="221"/>
                  <a:pt x="526" y="254"/>
                  <a:pt x="467" y="275"/>
                </a:cubicBezTo>
                <a:cubicBezTo>
                  <a:pt x="425" y="306"/>
                  <a:pt x="374" y="321"/>
                  <a:pt x="323" y="332"/>
                </a:cubicBezTo>
                <a:cubicBezTo>
                  <a:pt x="290" y="349"/>
                  <a:pt x="257" y="367"/>
                  <a:pt x="225" y="384"/>
                </a:cubicBezTo>
                <a:cubicBezTo>
                  <a:pt x="219" y="387"/>
                  <a:pt x="213" y="392"/>
                  <a:pt x="208" y="396"/>
                </a:cubicBezTo>
                <a:cubicBezTo>
                  <a:pt x="202" y="401"/>
                  <a:pt x="197" y="409"/>
                  <a:pt x="190" y="413"/>
                </a:cubicBezTo>
                <a:cubicBezTo>
                  <a:pt x="176" y="421"/>
                  <a:pt x="159" y="424"/>
                  <a:pt x="144" y="430"/>
                </a:cubicBezTo>
                <a:cubicBezTo>
                  <a:pt x="110" y="442"/>
                  <a:pt x="76" y="482"/>
                  <a:pt x="52" y="505"/>
                </a:cubicBezTo>
                <a:cubicBezTo>
                  <a:pt x="38" y="518"/>
                  <a:pt x="34" y="541"/>
                  <a:pt x="23" y="557"/>
                </a:cubicBezTo>
                <a:cubicBezTo>
                  <a:pt x="16" y="588"/>
                  <a:pt x="6" y="618"/>
                  <a:pt x="0" y="649"/>
                </a:cubicBezTo>
                <a:cubicBezTo>
                  <a:pt x="2" y="691"/>
                  <a:pt x="3" y="734"/>
                  <a:pt x="6" y="776"/>
                </a:cubicBezTo>
                <a:cubicBezTo>
                  <a:pt x="12" y="854"/>
                  <a:pt x="77" y="870"/>
                  <a:pt x="139" y="891"/>
                </a:cubicBezTo>
                <a:cubicBezTo>
                  <a:pt x="171" y="913"/>
                  <a:pt x="222" y="913"/>
                  <a:pt x="260" y="920"/>
                </a:cubicBezTo>
                <a:cubicBezTo>
                  <a:pt x="310" y="918"/>
                  <a:pt x="364" y="930"/>
                  <a:pt x="409" y="908"/>
                </a:cubicBezTo>
                <a:cubicBezTo>
                  <a:pt x="431" y="897"/>
                  <a:pt x="445" y="874"/>
                  <a:pt x="473" y="87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2:25:55Z</dcterms:created>
  <dc:creator>dmbr</dc:creator>
  <dc:description/>
  <dc:language>en-US</dc:language>
  <cp:lastModifiedBy>dmbr</cp:lastModifiedBy>
  <dcterms:modified xsi:type="dcterms:W3CDTF">2005-10-13T12:26:06Z</dcterms:modified>
  <cp:revision>1</cp:revision>
  <dc:subject/>
  <dc:title>PowerPoint Presentation</dc:title>
</cp:coreProperties>
</file>