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3C2-0837-4613-839F-5FAD29F4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475-8BA0-4F4E-B7AE-7EB6D9BC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517-EFD9-4EA7-86DD-C31C105D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FBE-A8A2-46A1-B17F-2C92138B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7A5-5032-4715-B196-8D301C6E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20C-EF46-44C3-9BCF-2003CFA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748-FBF1-4419-A8D9-169CBE91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20F-4391-435C-AD5F-C387685A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F19-F5FA-4933-A151-160F8C8A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95B-24BB-46D9-B2FB-8D2A582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2DB-A0A5-4334-B539-45AC3423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417-184E-4002-87F7-7BDC95C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65E4-945E-4626-8C4E-F88103C988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549360"/>
            <a:ext cx="3671640" cy="237636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: Gray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FC252FFCSD_Picture0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260280"/>
            <a:ext cx="3672000" cy="237672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lor: Black&amp;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FFC252FFCSD_Picture00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260280"/>
            <a:ext cx="3672000" cy="237672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: Was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FC252FFCSD_Picture00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60280"/>
            <a:ext cx="3672000" cy="237672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ghtness: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FC252FFCSD_Picture00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260280"/>
            <a:ext cx="3672000" cy="237672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st: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FC252FFCSD_Picture00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1:40:48Z</dcterms:created>
  <dc:creator>Administrator</dc:creator>
  <dc:description/>
  <dc:language>en-US</dc:language>
  <cp:lastModifiedBy>Administrator</cp:lastModifiedBy>
  <dcterms:modified xsi:type="dcterms:W3CDTF">2005-05-27T03:13:35Z</dcterms:modified>
  <cp:revision>6</cp:revision>
  <dc:subject/>
  <dc:title>Key Issues</dc:title>
</cp:coreProperties>
</file>