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3986-E661-4C51-B806-EE8D3FD40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EE2A-575D-4E14-9964-397BACA3C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9ADE-7114-40BB-9E20-C3794FDA1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1951-46DC-428B-AC05-A5801CA9C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818B-57C2-4595-915D-30F215EA5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F2C8-C442-4AEB-9B65-63E62D538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D44A-B297-4FC7-8026-1CD38777F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4810-F465-4206-A184-52DE0296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F92B-FDCC-4AB0-9715-2078DBC35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52EF-09CA-4A43-A4DB-E25B1B86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AFA9-2686-4150-8800-3CFBD481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ED5B-4DFE-49CC-B8F9-A7BFA891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9FA73C-7255-48E8-9BD9-485B9FE939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2244600" y="720720"/>
                <a:ext cx="531684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</m:e>
                    </m:rad>
                    <m:r>
                      <m:rPr>
                        <m:lit/>
                        <m:nor/>
                      </m:rPr>
                      <m:t xml:space="preserve">tanh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c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rad>
                        <m:r>
                          <m:t xml:space="preserve">t</m:t>
                        </m:r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