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070-EA0D-4F12-B09E-CF0E5F80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B09-24A9-414F-A980-ABC314F1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F00-E07D-49D8-8EF5-D9DFDA13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C83-07A6-49DD-9306-329B5671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F434-2E1D-4692-A236-9EAC1935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FF09-E2BF-4844-91E5-CCE9F1CF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EC80-0FA9-4CC0-96FF-45E5ABC3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2EF7-88C3-4764-92A6-24B14268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01E1-5421-4A0F-BF93-A77D3D1C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A189-6EC1-4823-8F30-3C8954FD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F7A7-BEB4-4E84-9968-23A28CF6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EC6-051D-4F5F-8DE2-1D1C6C0D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C1D5-BF50-4734-A9C7-F0168F1C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05AB-7953-45E3-A034-B809C31A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0AA1-6920-4463-A1A3-E820E6F3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48E0-FF0B-4CB2-B689-6267F52B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8288-BA3D-49D5-A621-237C80B4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E2FA-9412-433A-936C-70F0F83B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F2A-3549-4D6C-A625-A6323829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EB6-30DE-4D64-911E-3B49643E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778-4917-45E5-8974-4B3AE02E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B25-8627-4A0D-B5A6-D030B5D4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D39-65E1-4027-903B-61003B24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DE6-B74D-4299-B828-2A0FDB06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FB92-CECC-46C3-B80A-3D19F10509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4893-261E-4021-819B-70842EE1A5C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Instrumental Intensity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01960" y="3270240"/>
          <a:ext cx="5140080" cy="95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1960" y="3270240"/>
                    <a:ext cx="514008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0" y="2906640"/>
          <a:ext cx="9102600" cy="169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906640"/>
                    <a:ext cx="9102600" cy="16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23:57:18Z</dcterms:created>
  <dc:creator>schultzc</dc:creator>
  <dc:description/>
  <dc:language>en-US</dc:language>
  <cp:lastModifiedBy>ooo</cp:lastModifiedBy>
  <dcterms:modified xsi:type="dcterms:W3CDTF">2007-08-16T06:42:02Z</dcterms:modified>
  <cp:revision>49</cp:revision>
  <dc:subject/>
  <dc:title>The Hospital Response After an Earthquak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