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360" y="-6624720"/>
            <a:ext cx="360" cy="146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2EBE-531A-4900-B250-990BAA18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4CB7-E1C0-4B44-9B5D-D77A3DAE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63B9-9023-4FB9-AEF9-A045CC16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815E-7E4F-46A9-BA4E-C3BDE47B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1109-53B9-4A9A-B1CF-A37A4663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3120-2FA5-453F-86F4-1F60D14C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012-0C22-4350-AF9E-6C003723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22EB-180A-405F-9551-7F340AA8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06D-8854-40D7-A539-191228E5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767-81CB-4EA6-AA71-44B94A80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CA0-29E0-4F5B-8810-81502768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03D-45D2-4E5A-8FCE-A52AA53B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589C1F-077A-4FED-9380-6965790705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1"/>
          <p:cNvSpPr/>
          <p:nvPr/>
        </p:nvSpPr>
        <p:spPr>
          <a:xfrm>
            <a:off x="5477040" y="4572000"/>
            <a:ext cx="1371600" cy="609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2"/>
          <p:cNvSpPr/>
          <p:nvPr/>
        </p:nvSpPr>
        <p:spPr>
          <a:xfrm>
            <a:off x="5477040" y="5791320"/>
            <a:ext cx="1371600" cy="609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402160" y="52578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. . . . . . .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" name="AutoShape 4"/>
          <p:cNvCxnSpPr>
            <a:stCxn id="51" idx="1"/>
            <a:endCxn id="47" idx="2"/>
          </p:cNvCxnSpPr>
          <p:nvPr/>
        </p:nvCxnSpPr>
        <p:spPr>
          <a:xfrm flipV="1">
            <a:off x="1763640" y="4952880"/>
            <a:ext cx="3713760" cy="133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52" name="AutoShape 5"/>
          <p:cNvCxnSpPr>
            <a:stCxn id="51" idx="1"/>
            <a:endCxn id="49" idx="1"/>
          </p:cNvCxnSpPr>
          <p:nvPr/>
        </p:nvCxnSpPr>
        <p:spPr>
          <a:xfrm>
            <a:off x="1763640" y="4965840"/>
            <a:ext cx="3638880" cy="5220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53" name="AutoShape 6"/>
          <p:cNvCxnSpPr>
            <a:stCxn id="51" idx="1"/>
            <a:endCxn id="48" idx="2"/>
          </p:cNvCxnSpPr>
          <p:nvPr/>
        </p:nvCxnSpPr>
        <p:spPr>
          <a:xfrm>
            <a:off x="1763640" y="4965840"/>
            <a:ext cx="3713760" cy="12067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51" name="AutoShape 7"/>
          <p:cNvSpPr/>
          <p:nvPr/>
        </p:nvSpPr>
        <p:spPr>
          <a:xfrm>
            <a:off x="1763640" y="4508640"/>
            <a:ext cx="1600200" cy="91440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1753200" y="35971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4323240" y="36734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x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5888160" y="46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5888160" y="590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04920" y="1752480"/>
            <a:ext cx="83818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an</cp:lastModifiedBy>
  <dcterms:modified xsi:type="dcterms:W3CDTF">2007-07-30T09:39:28Z</dcterms:modified>
  <cp:revision>2</cp:revision>
  <dc:subject/>
  <dc:title>PowerPoint Presentation</dc:title>
</cp:coreProperties>
</file>