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14400" y="762120"/>
            <a:ext cx="1438200" cy="12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nnovation for a smarter planet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838080" y="14479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nnovation for a smarter planet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1066680" y="2590920"/>
            <a:ext cx="175284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nnovation for a smarter planet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143000" y="449568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nnovation for a smarter planet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038480" y="762120"/>
            <a:ext cx="312444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nnovation for a smarter planet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419720" y="1676520"/>
            <a:ext cx="22096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nnovation for a smarter planet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800600" y="3124080"/>
            <a:ext cx="32004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nnovation for a smarter planet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05520" y="4648320"/>
            <a:ext cx="2857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st norm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8:04:29Z</dcterms:created>
  <dc:creator>sunying</dc:creator>
  <dc:description/>
  <dc:language>en-US</dc:language>
  <cp:lastModifiedBy>sunying</cp:lastModifiedBy>
  <dcterms:modified xsi:type="dcterms:W3CDTF">2012-08-14T02:04:29Z</dcterms:modified>
  <cp:revision>8</cp:revision>
  <dc:subject/>
  <dc:title>Slide 1</dc:title>
</cp:coreProperties>
</file>