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3370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02080" y="0"/>
            <a:ext cx="3370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09680" y="753840"/>
            <a:ext cx="5143680" cy="37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22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673e"/>
                </a:solidFill>
                <a:latin typeface="Arial Black"/>
              </a:rPr>
              <a:t>Click to move the slide</a:t>
            </a:r>
            <a:endParaRPr b="0" lang="en-US" sz="30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77960" y="4778280"/>
            <a:ext cx="6207120" cy="451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9555120"/>
            <a:ext cx="3370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7"/>
          </p:nvPr>
        </p:nvSpPr>
        <p:spPr>
          <a:xfrm>
            <a:off x="4401720" y="9553320"/>
            <a:ext cx="3359160" cy="501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1AAB6-5565-483C-92F5-FD8C89824C2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09680" y="754200"/>
            <a:ext cx="5154480" cy="377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777960" y="477828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6695-8731-4251-BB80-C81724ECA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1760" y="169920"/>
            <a:ext cx="9664560" cy="11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2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2840" y="1492200"/>
            <a:ext cx="90615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2840" y="4102560"/>
            <a:ext cx="90615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3128-F5B4-4FDE-828D-A0B2A9A7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1760" y="169920"/>
            <a:ext cx="9664560" cy="11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2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2840" y="1492200"/>
            <a:ext cx="4421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6120" y="1492200"/>
            <a:ext cx="4421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2840" y="4102560"/>
            <a:ext cx="4421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6120" y="4102560"/>
            <a:ext cx="4421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1938-EA34-4ECF-9AC8-364B4F63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1760" y="169920"/>
            <a:ext cx="9664560" cy="11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2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2840" y="1492200"/>
            <a:ext cx="291744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440" y="1492200"/>
            <a:ext cx="291744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400" y="1492200"/>
            <a:ext cx="291744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2840" y="4102560"/>
            <a:ext cx="291744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440" y="4102560"/>
            <a:ext cx="291744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400" y="4102560"/>
            <a:ext cx="291744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A0C3-242E-4F24-946B-31E661A32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0516-367C-4819-9625-69DB658ED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1760" y="169920"/>
            <a:ext cx="9664560" cy="11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2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2840" y="1492200"/>
            <a:ext cx="906156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spcBef>
                <a:spcPts val="2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FBA1-1FA4-44FC-9B53-7ACFB910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1760" y="169920"/>
            <a:ext cx="9664560" cy="11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2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2840" y="1492200"/>
            <a:ext cx="90615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339E-89D0-4925-BF16-314AE1BE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1760" y="169920"/>
            <a:ext cx="9664560" cy="11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2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2840" y="1492200"/>
            <a:ext cx="4421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76120" y="1492200"/>
            <a:ext cx="4421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326F-977E-417C-A777-7D4CA0B3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1760" y="169920"/>
            <a:ext cx="9664560" cy="11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2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3BD1-F0B8-475A-BEBE-FC06D13B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1760" y="169920"/>
            <a:ext cx="966456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6BAB-725C-4614-A10C-37397D7E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1760" y="169920"/>
            <a:ext cx="9664560" cy="11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2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2840" y="1492200"/>
            <a:ext cx="4421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6120" y="1492200"/>
            <a:ext cx="4421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2840" y="4102560"/>
            <a:ext cx="4421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482D-785F-4BA8-883C-A161DF10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1760" y="169920"/>
            <a:ext cx="9664560" cy="11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2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2840" y="1492200"/>
            <a:ext cx="906156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spcBef>
                <a:spcPts val="2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66A6-C9E5-4671-89ED-C77A3F30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1760" y="169920"/>
            <a:ext cx="9664560" cy="11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2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2840" y="1492200"/>
            <a:ext cx="4421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76120" y="1492200"/>
            <a:ext cx="4421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76120" y="4102560"/>
            <a:ext cx="4421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6AAE-7359-4533-9F82-0E152195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1760" y="169920"/>
            <a:ext cx="9664560" cy="11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2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2840" y="1492200"/>
            <a:ext cx="4421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76120" y="1492200"/>
            <a:ext cx="4421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2840" y="4102560"/>
            <a:ext cx="90615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50CE-3972-4D6B-ACCD-0FF57F2B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1760" y="169920"/>
            <a:ext cx="9664560" cy="11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2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2840" y="1492200"/>
            <a:ext cx="90615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2840" y="4102560"/>
            <a:ext cx="90615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AB57-D87C-47B3-B8FF-D5749749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1760" y="169920"/>
            <a:ext cx="9664560" cy="11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2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2840" y="1492200"/>
            <a:ext cx="4421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76120" y="1492200"/>
            <a:ext cx="4421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2840" y="4102560"/>
            <a:ext cx="4421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76120" y="4102560"/>
            <a:ext cx="4421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87AA-88D7-4F50-A15A-E62AD6FC5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1760" y="169920"/>
            <a:ext cx="9664560" cy="11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2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2840" y="1492200"/>
            <a:ext cx="291744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6440" y="1492200"/>
            <a:ext cx="291744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60400" y="1492200"/>
            <a:ext cx="291744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2840" y="4102560"/>
            <a:ext cx="291744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6440" y="4102560"/>
            <a:ext cx="291744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60400" y="4102560"/>
            <a:ext cx="291744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E727-A247-48A8-89F7-781FE5F7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1760" y="169920"/>
            <a:ext cx="9664560" cy="11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2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2840" y="1492200"/>
            <a:ext cx="90615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2C25-7151-4E08-9DE9-97ECFC60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1760" y="169920"/>
            <a:ext cx="9664560" cy="11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2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840" y="1492200"/>
            <a:ext cx="4421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6120" y="1492200"/>
            <a:ext cx="4421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E38B-0B14-4EC9-9E21-A439172F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1760" y="169920"/>
            <a:ext cx="9664560" cy="11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2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B548-5580-4B7F-B3C8-FA38E1D9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1760" y="169920"/>
            <a:ext cx="966456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0B7B-4228-401C-8B39-051C00FE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1760" y="169920"/>
            <a:ext cx="9664560" cy="11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2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2840" y="1492200"/>
            <a:ext cx="4421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6120" y="1492200"/>
            <a:ext cx="4421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2840" y="4102560"/>
            <a:ext cx="4421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59FA-AD94-419E-BFF7-0BB77B59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1760" y="169920"/>
            <a:ext cx="9664560" cy="11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2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2840" y="1492200"/>
            <a:ext cx="4421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6120" y="1492200"/>
            <a:ext cx="4421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6120" y="4102560"/>
            <a:ext cx="4421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F3F5-F89F-404F-A196-B40E858E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1760" y="169920"/>
            <a:ext cx="9664560" cy="11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2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2840" y="1492200"/>
            <a:ext cx="4421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6120" y="1492200"/>
            <a:ext cx="4421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2840" y="4102560"/>
            <a:ext cx="90615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AC03-5B19-4A80-AF68-33742F0D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14D55-FA1D-45C8-8A43-AA87D862F8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760" y="6935760"/>
            <a:ext cx="1933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2000" indent="-162000">
              <a:lnSpc>
                <a:spcPct val="90000"/>
              </a:lnSpc>
              <a:tabLst>
                <a:tab algn="l" pos="0"/>
                <a:tab algn="l" pos="16200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fld id="{CEDC1CC6-CC72-4176-83F4-496722EF99E2}" type="slidenum">
              <a:rPr b="0" lang="en-GB" sz="900" spc="-1" strike="noStrike">
                <a:solidFill>
                  <a:srgbClr val="01673e"/>
                </a:solidFill>
                <a:latin typeface="Times New Roman"/>
                <a:ea typeface="Times New Roman"/>
              </a:rPr>
              <a:t>&lt;number&gt;</a:t>
            </a:fld>
            <a:r>
              <a:rPr b="0" lang="en-GB" sz="900" spc="-1" strike="noStrike">
                <a:solidFill>
                  <a:srgbClr val="01673e"/>
                </a:solidFill>
                <a:latin typeface="Times New Roman"/>
                <a:ea typeface="Times New Roman"/>
              </a:rPr>
              <a:t>	</a:t>
            </a:r>
            <a:r>
              <a:rPr b="0" lang="en-GB" sz="900" spc="-1" strike="noStrike">
                <a:solidFill>
                  <a:srgbClr val="01673e"/>
                </a:solidFill>
                <a:latin typeface="Times New Roman"/>
                <a:ea typeface="Times New Roman"/>
              </a:rPr>
              <a:t>Managed by UT-Battelle</a:t>
            </a:r>
            <a:br>
              <a:rPr sz="900"/>
            </a:br>
            <a:r>
              <a:rPr b="0" lang="en-GB" sz="900" spc="-1" strike="noStrike">
                <a:solidFill>
                  <a:srgbClr val="01673e"/>
                </a:solidFill>
                <a:latin typeface="Times New Roman"/>
                <a:ea typeface="Times New Roman"/>
              </a:rPr>
              <a:t>for the Department of Ener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796160" y="3975120"/>
            <a:ext cx="2284560" cy="3584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1673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132840" y="1492200"/>
            <a:ext cx="90615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70000"/>
              </a:lnSpc>
              <a:spcBef>
                <a:spcPts val="2100"/>
              </a:spcBef>
              <a:buClr>
                <a:srgbClr val="01673e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70000"/>
              </a:lnSpc>
              <a:spcBef>
                <a:spcPts val="2100"/>
              </a:spcBef>
              <a:buClr>
                <a:srgbClr val="01673e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2100"/>
              </a:spcBef>
              <a:buClr>
                <a:srgbClr val="01673e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2100"/>
              </a:spcBef>
              <a:buClr>
                <a:srgbClr val="01673e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70000"/>
              </a:lnSpc>
              <a:spcBef>
                <a:spcPts val="2100"/>
              </a:spcBef>
              <a:buClr>
                <a:srgbClr val="01673e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70000"/>
              </a:lnSpc>
              <a:spcBef>
                <a:spcPts val="2100"/>
              </a:spcBef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70000"/>
              </a:lnSpc>
              <a:spcBef>
                <a:spcPts val="2100"/>
              </a:spcBef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31760" y="169920"/>
            <a:ext cx="96645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2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673e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443040" y="7343640"/>
            <a:ext cx="3182760" cy="1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500" spc="-1" strike="noStrike">
                <a:solidFill>
                  <a:srgbClr val="01673e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" spc="-1" strike="noStrike">
                <a:solidFill>
                  <a:srgbClr val="01673e"/>
                </a:solidFill>
                <a:latin typeface="Times New Roman"/>
                <a:ea typeface="Times New Roman"/>
              </a:rPr>
              <a:t>Cherokee Schools  9/24/08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740720" y="3933720"/>
            <a:ext cx="2338200" cy="3625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4"/>
          <p:cNvSpPr>
            <a:spLocks noGrp="1"/>
          </p:cNvSpPr>
          <p:nvPr>
            <p:ph type="dt" idx="5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DA475-B495-485E-8ABB-BA88C9BA90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3200" y="169920"/>
            <a:ext cx="96742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673e"/>
                </a:solidFill>
                <a:latin typeface="Arial Black"/>
              </a:rPr>
              <a:t>Who are w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3200" y="1049400"/>
            <a:ext cx="9290160" cy="63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3360" indent="-333360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e represent three different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2100"/>
              </a:spcBef>
              <a:buClr>
                <a:srgbClr val="01673e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im Rome (ORNL)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1049"/>
              </a:spcBef>
              <a:buClr>
                <a:srgbClr val="01673e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behalf of the Neutron Science TeraGrid Gateway. Connects SNS to Tera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2100"/>
              </a:spcBef>
              <a:buClr>
                <a:srgbClr val="01673e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im Ferguson (UT Knoxville)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1049"/>
              </a:spcBef>
              <a:buClr>
                <a:srgbClr val="01673e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behalf of NICS − A UTK/ORNL petaflop TeraGrid 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2100"/>
              </a:spcBef>
              <a:buClr>
                <a:srgbClr val="01673e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thur Stewart (Oak Ridge Institute for Science and Engineering)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1049"/>
              </a:spcBef>
              <a:buClr>
                <a:srgbClr val="01673e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AU runs ORNL’s education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1049"/>
              </a:spcBef>
              <a:buClr>
                <a:srgbClr val="01673e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AU runs the ARC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43400" y="7345440"/>
            <a:ext cx="3192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2000" indent="-162000"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" spc="-1" strike="noStrike">
                <a:solidFill>
                  <a:srgbClr val="01673e"/>
                </a:solidFill>
                <a:latin typeface="Times New Roman"/>
                <a:ea typeface="Times New Roman"/>
              </a:rPr>
              <a:t>Cherokee School System 9/24/08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mes A</dc:creator>
  <dc:description/>
  <dc:language>en-US</dc:language>
  <cp:lastModifiedBy/>
  <cp:revision>0</cp:revision>
  <dc:subject/>
  <dc:title/>
</cp:coreProperties>
</file>