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47A7-C060-45BD-96D0-D27D302C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BE60-D92D-4312-9035-A0F8BDBF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8631-FE56-45F1-A111-317F63F0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9E6F-F4F7-41F4-895B-B7F06EC1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A78B-BACE-4B41-A84C-158062E1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9425-BBAF-434D-9FBE-7088B23C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4D6B-F050-4484-8EF7-62D5BCF3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4FC9-D609-489E-A3AD-1D2708BA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FAD6-BDE1-4F1D-8798-517387F6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37B6-B9E4-43AB-AD64-7F70A406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EE95-33FC-4769-B337-978B0E65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197B-0542-43ED-BF80-7B6CACA2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2563-50A9-494D-96CE-E3CE6E76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A638-5167-4E25-85C5-1AE8EFD3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FADC-DA21-46AA-9A76-59790785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ED3A-891B-4F65-8B87-54AA5947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AD3C-06E6-4B80-A98A-028ACA29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2A6C-0771-4DAD-A261-B54C4BFA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DCFD-94D4-42CF-8F74-37AA9FEB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876E-58F1-4772-B68C-C7BBB5CE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73EF-6633-4BF7-8DAF-7E95E837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1B8B-2740-421B-AC99-59C2A13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E005-FD94-47F1-9625-04EE719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A258-886D-41A7-8460-4F15181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1AA7-51D5-4001-B40A-56F295CDA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e8430"/>
                </a:solidFill>
                <a:latin typeface="Arial"/>
              </a:rPr>
              <a:t>Company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e8430"/>
                </a:solidFill>
                <a:latin typeface="Arial"/>
              </a:rPr>
              <a:t>Company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746B-A851-472E-9514-6721A7E53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687600" y="3409920"/>
            <a:ext cx="2207880" cy="781920"/>
            <a:chOff x="687600" y="3409920"/>
            <a:chExt cx="2207880" cy="781920"/>
          </a:xfrm>
        </p:grpSpPr>
        <p:sp>
          <p:nvSpPr>
            <p:cNvPr id="109" name="Rectangle 3"/>
            <p:cNvSpPr/>
            <p:nvPr/>
          </p:nvSpPr>
          <p:spPr>
            <a:xfrm>
              <a:off x="723960" y="3409920"/>
              <a:ext cx="2171520" cy="75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687600" y="342540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ctivity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1431720" y="3915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oto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6"/>
          <p:cNvSpPr/>
          <p:nvPr/>
        </p:nvSpPr>
        <p:spPr>
          <a:xfrm>
            <a:off x="1636560" y="1143000"/>
            <a:ext cx="5967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SCORM 1.2 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7"/>
          <p:cNvGrpSpPr/>
          <p:nvPr/>
        </p:nvGrpSpPr>
        <p:grpSpPr>
          <a:xfrm>
            <a:off x="687600" y="1927080"/>
            <a:ext cx="2207880" cy="1197000"/>
            <a:chOff x="687600" y="1927080"/>
            <a:chExt cx="2207880" cy="1197000"/>
          </a:xfrm>
        </p:grpSpPr>
        <p:sp>
          <p:nvSpPr>
            <p:cNvPr id="114" name="Rectangle 8"/>
            <p:cNvSpPr/>
            <p:nvPr/>
          </p:nvSpPr>
          <p:spPr>
            <a:xfrm>
              <a:off x="723960" y="1927080"/>
              <a:ext cx="2171520" cy="119700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687600" y="196704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ctivit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922320" y="2414520"/>
              <a:ext cx="1511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f status == “satisfied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hen goto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lse goto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1"/>
          <p:cNvGrpSpPr/>
          <p:nvPr/>
        </p:nvGrpSpPr>
        <p:grpSpPr>
          <a:xfrm>
            <a:off x="1828800" y="2743200"/>
            <a:ext cx="2742840" cy="2590560"/>
            <a:chOff x="1828800" y="2743200"/>
            <a:chExt cx="2742840" cy="2590560"/>
          </a:xfrm>
        </p:grpSpPr>
        <p:sp>
          <p:nvSpPr>
            <p:cNvPr id="118" name="Line 12"/>
            <p:cNvSpPr/>
            <p:nvPr/>
          </p:nvSpPr>
          <p:spPr>
            <a:xfrm>
              <a:off x="1828800" y="27432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4571640" y="274320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4"/>
            <p:cNvSpPr/>
            <p:nvPr/>
          </p:nvSpPr>
          <p:spPr>
            <a:xfrm flipH="1">
              <a:off x="3075120" y="5333760"/>
              <a:ext cx="149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5"/>
          <p:cNvGrpSpPr/>
          <p:nvPr/>
        </p:nvGrpSpPr>
        <p:grpSpPr>
          <a:xfrm>
            <a:off x="685800" y="4637160"/>
            <a:ext cx="2209680" cy="1182600"/>
            <a:chOff x="685800" y="4637160"/>
            <a:chExt cx="2209680" cy="1182600"/>
          </a:xfrm>
        </p:grpSpPr>
        <p:sp>
          <p:nvSpPr>
            <p:cNvPr id="122" name="Rectangle 16"/>
            <p:cNvSpPr/>
            <p:nvPr/>
          </p:nvSpPr>
          <p:spPr>
            <a:xfrm>
              <a:off x="723960" y="4637160"/>
              <a:ext cx="2171520" cy="118260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685800" y="4637160"/>
              <a:ext cx="16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ctivity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8"/>
            <p:cNvSpPr/>
            <p:nvPr/>
          </p:nvSpPr>
          <p:spPr>
            <a:xfrm>
              <a:off x="762120" y="5142240"/>
              <a:ext cx="1739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f status == “not satisfied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hen goto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lse goto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"/>
          <p:cNvGrpSpPr/>
          <p:nvPr/>
        </p:nvGrpSpPr>
        <p:grpSpPr>
          <a:xfrm>
            <a:off x="1219320" y="2209680"/>
            <a:ext cx="3557160" cy="3276720"/>
            <a:chOff x="1219320" y="2209680"/>
            <a:chExt cx="3557160" cy="3276720"/>
          </a:xfrm>
        </p:grpSpPr>
        <p:sp>
          <p:nvSpPr>
            <p:cNvPr id="126" name="Line 20"/>
            <p:cNvSpPr/>
            <p:nvPr/>
          </p:nvSpPr>
          <p:spPr>
            <a:xfrm>
              <a:off x="1219320" y="5486400"/>
              <a:ext cx="35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1"/>
            <p:cNvSpPr/>
            <p:nvPr/>
          </p:nvSpPr>
          <p:spPr>
            <a:xfrm>
              <a:off x="4776480" y="22096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2"/>
            <p:cNvSpPr/>
            <p:nvPr/>
          </p:nvSpPr>
          <p:spPr>
            <a:xfrm flipH="1">
              <a:off x="2536200" y="2209680"/>
              <a:ext cx="22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3"/>
          <p:cNvSpPr/>
          <p:nvPr/>
        </p:nvSpPr>
        <p:spPr>
          <a:xfrm>
            <a:off x="5689440" y="19051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ditional branching logic is built into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5715000" y="312408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’t easily reuse Resources, because of ‘hard wired’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5"/>
          <p:cNvGrpSpPr/>
          <p:nvPr/>
        </p:nvGrpSpPr>
        <p:grpSpPr>
          <a:xfrm>
            <a:off x="2895480" y="2919240"/>
            <a:ext cx="1552680" cy="842760"/>
            <a:chOff x="2895480" y="2919240"/>
            <a:chExt cx="1552680" cy="842760"/>
          </a:xfrm>
        </p:grpSpPr>
        <p:sp>
          <p:nvSpPr>
            <p:cNvPr id="132" name="Line 26"/>
            <p:cNvSpPr/>
            <p:nvPr/>
          </p:nvSpPr>
          <p:spPr>
            <a:xfrm>
              <a:off x="2895480" y="2919240"/>
              <a:ext cx="15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448160" y="2919240"/>
              <a:ext cx="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8"/>
            <p:cNvSpPr/>
            <p:nvPr/>
          </p:nvSpPr>
          <p:spPr>
            <a:xfrm flipH="1">
              <a:off x="3708360" y="3762000"/>
              <a:ext cx="7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2819520" y="1905120"/>
            <a:ext cx="2057400" cy="3962160"/>
            <a:chOff x="2819520" y="1905120"/>
            <a:chExt cx="2057400" cy="3962160"/>
          </a:xfrm>
        </p:grpSpPr>
        <p:sp>
          <p:nvSpPr>
            <p:cNvPr id="136" name="Line 30"/>
            <p:cNvSpPr/>
            <p:nvPr/>
          </p:nvSpPr>
          <p:spPr>
            <a:xfrm>
              <a:off x="2819520" y="58672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4876920" y="1905120"/>
              <a:ext cx="0" cy="396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 flipH="1">
              <a:off x="3580920" y="190512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33"/>
          <p:cNvSpPr/>
          <p:nvPr/>
        </p:nvSpPr>
        <p:spPr>
          <a:xfrm>
            <a:off x="647640" y="3305160"/>
            <a:ext cx="2362320" cy="10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4"/>
          <p:cNvSpPr/>
          <p:nvPr/>
        </p:nvSpPr>
        <p:spPr>
          <a:xfrm>
            <a:off x="685800" y="4521240"/>
            <a:ext cx="2324160" cy="13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5"/>
          <p:cNvGrpSpPr/>
          <p:nvPr/>
        </p:nvGrpSpPr>
        <p:grpSpPr>
          <a:xfrm>
            <a:off x="2133720" y="4087800"/>
            <a:ext cx="2260080" cy="866520"/>
            <a:chOff x="2133720" y="4087800"/>
            <a:chExt cx="2260080" cy="866520"/>
          </a:xfrm>
        </p:grpSpPr>
        <p:sp>
          <p:nvSpPr>
            <p:cNvPr id="142" name="Line 36"/>
            <p:cNvSpPr/>
            <p:nvPr/>
          </p:nvSpPr>
          <p:spPr>
            <a:xfrm>
              <a:off x="2133720" y="4087800"/>
              <a:ext cx="22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393800" y="4087800"/>
              <a:ext cx="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 flipH="1">
              <a:off x="3317400" y="495432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3:00:36Z</dcterms:created>
  <dc:creator>surasit</dc:creator>
  <dc:description/>
  <dc:language>en-US</dc:language>
  <cp:lastModifiedBy>svegesna</cp:lastModifiedBy>
  <dcterms:modified xsi:type="dcterms:W3CDTF">2011-11-09T10:33:35Z</dcterms:modified>
  <cp:revision>26</cp:revision>
  <dc:subject/>
  <dc:title>E-learning Stand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kiaConfidentiality">
    <vt:lpwstr>Company Confidential</vt:lpwstr>
  </property>
  <property fmtid="{D5CDD505-2E9C-101B-9397-08002B2CF9AE}" pid="3" name="TitusGUID">
    <vt:lpwstr>869f7984-72f7-43d3-a943-4e0459f6465c</vt:lpwstr>
  </property>
</Properties>
</file>