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8138-44F8-4BA9-B9DD-9C758B737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D4D0-C4A6-4EFC-8D1B-06DB3B8AC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CB2C-2AE0-4D8D-9C85-9A5D37503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064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3949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66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064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3949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CFD1-40BD-403C-9C82-0FB794C16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A0A71-EA7A-4DF3-90E6-E0AFD27A6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B4940-E699-4E2D-8EFD-9C21BFEC3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6C6DE-8881-4382-A350-32BA07E21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EDA65-4A02-4C8B-96FB-61D8E1F7E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AA16E-1AE7-4CDA-9924-160F5FB06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7A2B7-6C97-4F6D-AB87-3437DA0CD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7D46D-743F-4162-8348-33B9E7CE9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AEEB-5D13-4610-8C24-4B3C0D3D9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41723-CFE3-43C8-8E3B-D5D2D4A5A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B73EF-6FBF-48A8-8076-146CBBC17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C89F2-70D4-4412-900D-A5F573902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F9BBB-D252-4611-B759-84D3B16AC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064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3949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0666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064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3949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558DF-DC57-4BBE-9E2A-524D2AD59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8273-683A-4B86-AC19-C5BF33AD2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C0DE-3885-4C64-8B4D-9ED770B1D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C057-CCD9-4C4C-990C-212761085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E3D9-577B-42E0-B5FF-40DEFB20F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420B-83AA-41EE-A62A-147CD29FC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8F26-E21D-473B-A345-CB2D89B39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CD8D-D1F7-4793-9782-F044F30AC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0720"/>
            <a:ext cx="8542080" cy="1052280"/>
            <a:chOff x="457200" y="990720"/>
            <a:chExt cx="8542080" cy="1052280"/>
          </a:xfrm>
        </p:grpSpPr>
        <p:sp>
          <p:nvSpPr>
            <p:cNvPr id="1" name=""/>
            <p:cNvSpPr/>
            <p:nvPr/>
          </p:nvSpPr>
          <p:spPr>
            <a:xfrm flipH="1">
              <a:off x="8270280" y="109872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997760" y="1098720"/>
              <a:ext cx="32832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8162280" y="152100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7846560" y="152100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8439120" y="1447920"/>
              <a:ext cx="56016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>
              <a:off x="8332560" y="990720"/>
              <a:ext cx="3168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>
              <a:off x="456840" y="178128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61704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15228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2286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26668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095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D9921-4981-40AC-A18C-5F60290DA0F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24732-1D28-49E1-AD7A-244C2CB2FA0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457200" y="2452680"/>
            <a:ext cx="8542080" cy="1052280"/>
            <a:chOff x="457200" y="2452680"/>
            <a:chExt cx="8542080" cy="1052280"/>
          </a:xfrm>
        </p:grpSpPr>
        <p:sp>
          <p:nvSpPr>
            <p:cNvPr id="54" name=""/>
            <p:cNvSpPr/>
            <p:nvPr/>
          </p:nvSpPr>
          <p:spPr>
            <a:xfrm flipH="1">
              <a:off x="8270280" y="256068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7997760" y="2560680"/>
              <a:ext cx="32832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8162280" y="298296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846560" y="298296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8439120" y="2909880"/>
              <a:ext cx="56016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8332560" y="2452680"/>
              <a:ext cx="3168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456840" y="324324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333399"/>
                </a:solidFill>
                <a:latin typeface="Tahoma"/>
              </a:rPr>
              <a:t>איומים?</a:t>
            </a:r>
            <a:br>
              <a:rPr sz="4400"/>
            </a:br>
            <a:r>
              <a:rPr b="0" lang="he-IL" sz="4400" spc="-1" strike="noStrike">
                <a:solidFill>
                  <a:srgbClr val="333399"/>
                </a:solidFill>
                <a:latin typeface="Tahoma"/>
              </a:rPr>
              <a:t>על תשתיות?</a:t>
            </a:r>
            <a:br>
              <a:rPr sz="4400"/>
            </a:br>
            <a:r>
              <a:rPr b="0" lang="he-IL" sz="4400" spc="-1" strike="noStrike">
                <a:solidFill>
                  <a:srgbClr val="333399"/>
                </a:solidFill>
                <a:latin typeface="Tahoma"/>
              </a:rPr>
              <a:t>באינטרנט</a:t>
            </a:r>
            <a:r>
              <a:rPr b="0" lang="he-IL" sz="4400" spc="-1" strike="noStrike">
                <a:solidFill>
                  <a:srgbClr val="333399"/>
                </a:solidFill>
                <a:latin typeface="Tahoma"/>
              </a:rPr>
              <a:t>?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דורון שקמונ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הכינוס ה-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 של איגוד האינטרנט הישראל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Tahoma"/>
              </a:rPr>
              <a:t>17 </a:t>
            </a:r>
            <a:r>
              <a:rPr b="0" lang="he-IL" sz="1800" spc="-1" strike="noStrike">
                <a:solidFill>
                  <a:srgbClr val="000000"/>
                </a:solidFill>
                <a:latin typeface="Tahoma"/>
              </a:rPr>
              <a:t>פברואר  </a:t>
            </a:r>
            <a:r>
              <a:rPr b="0" lang="he-IL" sz="1800" spc="-1" strike="noStrike">
                <a:solidFill>
                  <a:srgbClr val="000000"/>
                </a:solidFill>
                <a:latin typeface="Tahoma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61704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333399"/>
                </a:solidFill>
                <a:latin typeface="Tahoma"/>
              </a:rPr>
              <a:t>תשתיות קריטיות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228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r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סיכון = איום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×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 סיכו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r" rtl="1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אין ספק כי הנזק, במקרה של פגיעה, עצו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r" rtl="1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הפגיעוּת, לעומת זאת, נמוכה ממה שמקובל לחשוב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r" rtl="1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האינטרנט מעט פחות רלבנטי כאמצעי גישה לתשתיות קריטיות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r" rtl="1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דרוש רצף אירועים משמעותי בכדי ליצור תוצאה אפוקליפטית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r" rtl="1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עם זאת, האיום אמיתי ומחייב התייחסות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61704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333399"/>
                </a:solidFill>
                <a:latin typeface="Tahoma"/>
              </a:rPr>
              <a:t>מה יכול להיות מותקף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228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r" rtl="1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כמעט הכ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 algn="r" rtl="1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חשמ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 algn="r" rtl="1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בתי זיקוק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 algn="r" rtl="1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טלקו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 algn="r" rtl="1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מערכות ממשלתיות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 algn="r" rtl="1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תשתיות מוניציפאליות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 algn="r" rtl="1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בנקאות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 algn="r" rtl="1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תחבורה, תעופ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 algn="r" rtl="1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תקשורת המוני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 algn="r" rtl="1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מערכת הרמזורים של לונדון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61704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333399"/>
                </a:solidFill>
                <a:latin typeface="Tahoma"/>
              </a:rPr>
              <a:t>התייחסויות בארה"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228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דו"ח</a:t>
            </a:r>
            <a:r>
              <a:rPr b="0" lang="he-IL" sz="2800" spc="-1" strike="noStrike">
                <a:solidFill>
                  <a:srgbClr val="000000"/>
                </a:solidFill>
                <a:latin typeface="Tahoma"/>
                <a:ea typeface="Times New Roman (Hebrew)"/>
              </a:rPr>
              <a:t> </a:t>
            </a: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הבית הלבן –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tional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 algn="r" rtl="1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דו"ח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l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 algn="r" rtl="1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ביקורת על עמדת דו"ח הממשל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הטלת כובד המשקל על הסקטור העסקי והפרטי, בלי למצות ריבונות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 algn="r" rtl="1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מגדיר יחס הדדי, דו-כיווני, בין פגיעות פיסיות לבין פגיעות דיגיטליות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 algn="r" rtl="1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דו"ח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 algn="r" rtl="1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תשתיות קריטיות ורשתות מחשב הן ישויות נפרדות ובלתי תלויות; האיום במדיה מוגז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 algn="r" rtl="1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ובינתיי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 algn="r" rtl="1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B, NIPC, DHS, NSA, ICANN DNSSA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61704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333399"/>
                </a:solidFill>
                <a:latin typeface="Tahoma"/>
              </a:rPr>
              <a:t>מה נדרש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228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מבט מרכזי על תקשוב מערכות תשתית קריטיות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בניית אסטרטגיה ללימוד(!) וטיפול באיומים אלה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תיאום ושיתוף מידע בין ישויות ורשויות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 algn="r" rtl="1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דוגמת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SPP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 באירופ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בהחלטת ממשלה, לאחר עיכוב ארוך, מוקם בימים אלה  גוף שתפקידו לעסוק בכ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צעד נכון וחשוב, אם גם מאוחר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חסרון עיקרי: משקל גבוה מדי לגופים בטחוניי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 algn="r" rtl="1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משפיע על שיקול דעת וכיוון מחשב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 algn="r" rtl="1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עשוי להשפיע על קבלת מרות ושת"פ, בגופים אזרחיי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61704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333399"/>
                </a:solidFill>
                <a:latin typeface="Tahoma"/>
              </a:rPr>
              <a:t>סיכום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228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ahoma"/>
              </a:rPr>
              <a:t>האיום על מערכות מידע קיים, קרוב ומיידי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ahoma"/>
              </a:rPr>
              <a:t>תשתיות קריטיות הן פגיעות, וחשופות לפגיעה מכוונ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ahoma"/>
              </a:rPr>
              <a:t>עדיין חסרה מודעות רוחבית, מערכתית, לאיומים מסוג זה, ותקציבים לטיפול בה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ahoma"/>
              </a:rPr>
              <a:t>כדי להצליח בהתמודדות, חשוב לשמור על גישה מאוזנת, רחבה, בטיפול בתשתיות אזרחיו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333399"/>
                </a:solidFill>
                <a:latin typeface="Tahoma"/>
              </a:rPr>
              <a:t>תודה רבה</a:t>
            </a:r>
            <a:r>
              <a:rPr b="0" lang="he-IL" sz="4400" spc="-1" strike="noStrike">
                <a:solidFill>
                  <a:srgbClr val="333399"/>
                </a:solidFill>
                <a:latin typeface="Tahoma"/>
              </a:rPr>
              <a:t>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61704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333399"/>
                </a:solidFill>
                <a:latin typeface="Tahoma"/>
              </a:rPr>
              <a:t>איומים על הרשת ומרכיביה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28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ahoma"/>
              </a:rPr>
              <a:t>רשת האינטרנט מהווה גורם משמעותי בזרימת המידע, הכלכלה והמסחר בעולם המערבי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 algn="r" rtl="1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פגיעה באתרי מידע מרכזיים (פברואר השחור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 algn="r" rtl="1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פגיעה בשדרת הרשת 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ammer</a:t>
            </a: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 algn="r" rtl="1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פגיעה בתשתיות הרשת 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ot/TLD DNS, BGP</a:t>
            </a: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 algn="r" rtl="1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ahoma"/>
              </a:rPr>
              <a:t>כיום, "עדרים" של מערכות פרוצות ממתינות לפקודה לבצע התקפות, כדוגמת הצפה מבוזרת 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DoS</a:t>
            </a:r>
            <a:r>
              <a:rPr b="0" lang="he-IL" sz="3200" spc="-1" strike="noStrike">
                <a:solidFill>
                  <a:srgbClr val="000000"/>
                </a:solidFill>
                <a:latin typeface="Tahoma"/>
              </a:rPr>
              <a:t>) או אחרו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61704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333399"/>
                </a:solidFill>
                <a:latin typeface="Tahoma"/>
              </a:rPr>
              <a:t>איומים על תשתיות קריטיות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228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ahoma"/>
              </a:rPr>
              <a:t>תקיפה, </a:t>
            </a:r>
            <a:r>
              <a:rPr b="0" lang="he-IL" sz="3200" spc="-1" strike="noStrike" u="sng">
                <a:solidFill>
                  <a:srgbClr val="000000"/>
                </a:solidFill>
                <a:uFillTx/>
                <a:latin typeface="Tahoma"/>
              </a:rPr>
              <a:t>דרך</a:t>
            </a:r>
            <a:r>
              <a:rPr b="0" lang="he-IL" sz="3200" spc="-1" strike="noStrike">
                <a:solidFill>
                  <a:srgbClr val="000000"/>
                </a:solidFill>
                <a:latin typeface="Tahoma"/>
              </a:rPr>
              <a:t> רשת האינטרנט, של מערכות תשתית קריטיות, כאלה שהחברה תלויה בה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תשתיות אנרגיה, תקשורת, תחבורה, כלכלה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ahoma"/>
              </a:rPr>
              <a:t>שימוש בטכניקות פריצה מהאינטרנט, תוך דילוג ממערכות מקושרות לרשת למערכות אחוריות וקריטיות יות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61704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333399"/>
                </a:solidFill>
                <a:latin typeface="Tahoma"/>
              </a:rPr>
              <a:t>איומים על תשתיות קריטיות (</a:t>
            </a:r>
            <a:r>
              <a:rPr b="0" lang="he-IL" sz="4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he-IL" sz="4400" spc="-1" strike="noStrike">
                <a:solidFill>
                  <a:srgbClr val="333399"/>
                </a:solidFill>
                <a:latin typeface="Tahoma"/>
              </a:rPr>
              <a:t>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28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r" rtl="1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תקיפה ישירה של מערכות תשתית קריטיות כנ"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 algn="r" rtl="1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גישה בחיוג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 algn="r" rtl="1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מערכות שירות חומרה/תוכנה של ספקי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 algn="r" rtl="1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סוסים טרויאניים רדומי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 algn="r" rtl="1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סיוע פנימ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r" rtl="1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איום משולב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 algn="r" rtl="1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לדוגמא, סוס טרויאני שהושתל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OB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, מופעל דרך הרשת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r" rtl="1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אפקטים מסדר שני כתוצאה מהתקיפות לעי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 algn="r" rtl="1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כאוס כלכלי, התערערות שלטונית, ניצול הזדמנויות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61704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333399"/>
                </a:solidFill>
                <a:latin typeface="Tahoma"/>
              </a:rPr>
              <a:t>איום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228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ahoma"/>
              </a:rPr>
              <a:t>כאשר הוא מקושר לאיומי הטרור הגלובאליים, ולתלות העצומה של העולם המתועש המודרני במערכות ורשתות מחשבים – פוטנציאל הפגיעה נראה מחריד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ahoma"/>
              </a:rPr>
              <a:t>ובאותה עת, מזכיר משהו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ahoma"/>
              </a:rPr>
              <a:t>שנת </a:t>
            </a:r>
            <a:r>
              <a:rPr b="0" lang="he-IL" sz="3200" spc="-1" strike="noStrike">
                <a:solidFill>
                  <a:srgbClr val="000000"/>
                </a:solidFill>
                <a:latin typeface="Tahoma"/>
              </a:rPr>
              <a:t>2000</a:t>
            </a:r>
            <a:r>
              <a:rPr b="0" lang="he-IL" sz="3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61704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333399"/>
                </a:solidFill>
                <a:latin typeface="Tahoma"/>
              </a:rPr>
              <a:t>גישות קוטביות בהתייחסות ציבורית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28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ahoma"/>
              </a:rPr>
              <a:t>"התקפה ע"י פורצי מחשב מחו"ל עשויה להיות קשה הרבה יותר מפרל-הרבור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 algn="r" rtl="1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chard Clarke,  Dec 1998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 algn="r" rtl="1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ahoma"/>
              </a:rPr>
              <a:t>תקיפות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DoS</a:t>
            </a:r>
            <a:r>
              <a:rPr b="0" lang="he-IL" sz="3200" spc="-1" strike="noStrike">
                <a:solidFill>
                  <a:srgbClr val="000000"/>
                </a:solidFill>
                <a:latin typeface="Tahoma"/>
              </a:rPr>
              <a:t> הן "ניסויים" של גורמים עוייני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 algn="r" rtl="1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ahoma"/>
              </a:rPr>
              <a:t>חורבן, השבתת החיים המודרניים המוכרים לנ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 algn="r" rtl="1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ahoma"/>
              </a:rPr>
              <a:t>השבתת אספקת חשמל, פריצת סכרים, ניתוק רשתות טלקומוניקציה, קריסת מערכות מונטריות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543800" y="5265720"/>
            <a:ext cx="160020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61704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333399"/>
                </a:solidFill>
                <a:latin typeface="Tahoma"/>
              </a:rPr>
              <a:t>גישות קוטביות בהתייחסות ציבורית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280" y="2017440"/>
            <a:ext cx="777240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בקונטקסט של </a:t>
            </a: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11/9</a:t>
            </a: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 ואיומי טרור פיזי מאסיבי, איומים על מחשבים הם, בסופו של דבר, רק איומים על מחשבים. מוירוס מחשב לא מתי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אלה המהלכים אימים פשוט מבקשים תקציבים או עבודה (יועצי האפוקליפסה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ההתקפות מתבצעות ע"י ילדים, לא מחבלי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הטרור הבינלאומי מוכוון להרג מיידי, לא עקיף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לפני שנים ספורות היינו בסרט הזה. איומי סוף החיים המודרניים התגלו כמוגזמים קמעה, לא לפני שחלק מהמוכיחים בשער התעשרו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620120" y="5464080"/>
            <a:ext cx="1525320" cy="13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61704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333399"/>
                </a:solidFill>
                <a:latin typeface="Tahoma"/>
              </a:rPr>
              <a:t>נו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228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ahoma"/>
              </a:rPr>
              <a:t>האם איום הטרור הקיברנטי קרוב ומיידי (לנוס להרים ולבנות מקלט אטומי)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ahoma"/>
              </a:rPr>
              <a:t>או, שכמו בהרבה נושאים דומים, זוהי פוליטיקה של סדרי עדיפויות וכוח, וניתן להתעלם מהאיומים ונבואות החורבן ופשוט להיזהר בכבישים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280" y="61704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333399"/>
                </a:solidFill>
                <a:latin typeface="Tahoma"/>
              </a:rPr>
              <a:t>איומים על רשת האינטרנט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ahoma"/>
              </a:rPr>
              <a:t>תקיפות על תשתית האינטרנט הן איום מעשי ומיידי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NS</a:t>
            </a: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(תשתיתית, ופגיעה במידע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תשתיות תקשורת – שדרה 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ammer? DDo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?</a:t>
            </a: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ahoma"/>
              </a:rPr>
              <a:t>סיכון כלכלי ועסקי, לעתים מצטב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ahoma"/>
              </a:rPr>
              <a:t>הסיכון הבטחוני – לא ברור, כנראה נמו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oron Shikmoni</dc:creator>
  <dc:description/>
  <dc:language>en-US</dc:language>
  <cp:lastModifiedBy>Doron Shikmoni</cp:lastModifiedBy>
  <dcterms:modified xsi:type="dcterms:W3CDTF">2003-02-16T18:45:07Z</dcterms:modified>
  <cp:revision>10</cp:revision>
  <dc:subject/>
  <dc:title>איומים? על תשתיות? באינטרנט??</dc:title>
</cp:coreProperties>
</file>