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3A4-6A60-4A38-8DEE-A4D73B7B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547B-BEE4-434D-99BE-2DA6C673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1B8-8D34-4D71-8810-AA4D0383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73A-883A-43E1-9C6D-4E87DB29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7CB77-9D05-4F74-A0D4-A23E2003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D25AE-E3A4-4CA9-8421-767B3139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D2FBE-912B-4076-B892-F73887DE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4276F-4B17-4104-9CFE-4E1E70E0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96FFE-692A-4967-8515-724B233D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DEBB0-7E6D-42B9-8145-806F9128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41319-66EE-43D1-A055-F7A0585E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3F7D-D1C9-467B-8B0A-C11525EA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ED6AC-AF02-4D22-86FA-E2D07CFB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531B4-AEE8-462C-842D-B5EEAFEC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21C9E-539E-44FD-9583-5589BF91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EBEFA-23D7-484C-BB6D-C04BBCF4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FD05E-9214-4250-A087-4DE2ED75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4F909-093D-4E7D-90E0-EC3FDA85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160EF-D3BB-4442-AFA2-AB9E4393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940FA-1CBA-4651-B18D-E74869B0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5B57C-A96D-42E5-8867-E41FE982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B1280-E87E-4A93-87B9-446DD20A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51A6-F1C3-4EB9-8761-1A809291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0FC53-C2BD-4B6A-AEA6-41805931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0F94A-16FD-4A13-964A-60662A71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AC2AB-4485-410B-B797-709E69B3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F2616-41A8-4E23-8946-1B67194E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30F49-2C61-47F2-BDBC-5E3053C0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F0A0B-4E15-4BF9-9AC3-62084FB7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73F00-03AC-4C70-8175-799CA4C0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0AB-883A-4EFA-A42A-CA0188F0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AD58-D3A5-4681-8B42-906B8AB3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F1B1-68E1-48FA-B680-236EBBD2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EA0D-3D31-4ED0-9E2B-C6441249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19A5-96AD-4CF7-97CF-4EECAE0C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A04-FF31-4A2B-B1C0-3F9AA302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8EBCE0-A569-41BC-9362-9501CB765386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5E613-F80C-4A78-A011-ECAF313846CD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A3519-0EF4-4A8D-BBAC-216C8BC8A883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46880" y="4149720"/>
            <a:ext cx="392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Volli K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4974"/>
                </a:solidFill>
                <a:latin typeface="Arial"/>
              </a:rPr>
              <a:t>Institute of Ecology &amp; Earth Sc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4974"/>
                </a:solidFill>
                <a:latin typeface="Arial"/>
              </a:rPr>
              <a:t>University of Tar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12680" y="858960"/>
            <a:ext cx="7823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4974"/>
                </a:solidFill>
                <a:latin typeface="Arial"/>
              </a:rPr>
              <a:t>Ice flow pattern and exten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4974"/>
                </a:solidFill>
                <a:latin typeface="Arial"/>
              </a:rPr>
              <a:t>the last Scandinavian ice she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4974"/>
                </a:solidFill>
                <a:latin typeface="Arial"/>
              </a:rPr>
              <a:t>southeast of the Baltic S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2:09:05Z</dcterms:created>
  <dc:creator>Peeter</dc:creator>
  <dc:description/>
  <dc:language>en-US</dc:language>
  <cp:lastModifiedBy>kasutaja</cp:lastModifiedBy>
  <dcterms:modified xsi:type="dcterms:W3CDTF">2009-09-12T18:32:47Z</dcterms:modified>
  <cp:revision>28</cp:revision>
  <dc:subject/>
  <dc:title>Pealkiri</dc:title>
</cp:coreProperties>
</file>