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11B-E42C-4AB9-B8FE-EABFE7F3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4F1-3A79-4989-A4C5-556D34FB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3C4-EFB0-462A-9097-FE83CEB4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2C4-F4E1-4A0D-82A8-0CB9ADBE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F3-F14F-4F76-AB7F-2687152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52F-A171-478C-A06F-260BCA8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655-AD4D-48B3-B86F-24F0A1F5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0C5-CC14-43BE-B964-351A708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B1A-42CD-45A0-91BB-3E18505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4A7-6207-4684-85C9-DDF06B3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C7C-500D-4C8F-A41E-BC0D6AC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85F-28A2-4969-9CA9-0B6BE1FC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D77-5D35-4DF6-A871-1098A0FB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21932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3:47:43Z</dcterms:created>
  <dc:creator>Augustus Saunders</dc:creator>
  <dc:description/>
  <dc:language>en-US</dc:language>
  <cp:lastModifiedBy>Augustus Saunders</cp:lastModifiedBy>
  <dcterms:modified xsi:type="dcterms:W3CDTF">2004-01-28T03:49:12Z</dcterms:modified>
  <cp:revision>2</cp:revision>
  <dc:subject/>
  <dc:title>Slide 1</dc:title>
</cp:coreProperties>
</file>