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904-C410-4226-83ED-B81052BD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246-FC43-4B7D-9724-6742126B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42B-8870-47CF-BD03-544A8FAB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152-980A-496B-B7ED-8BBBB666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918-6201-42A4-A375-E674B13A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6C5-0A04-4BD1-9E0E-9DD9F627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33C-BB8D-46B6-B8E4-9B636306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364-61E5-4AB8-8850-9F578E04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FD5-6D2C-4B30-A82B-07A301FD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FC8-5B4A-4AC2-84B6-16D44F88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571-FBE9-4C0C-B7D9-59C536CF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F61-EC31-4461-9637-78FE0B4B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7543C-3405-4472-800A-67CA23B22FF1}" type="slidenum">
              <a: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Public/Music/Sample Music/Maid with the Flaxen Hair.mp3" TargetMode="External"/><Relationship Id="rId2" Type="http://schemas.microsoft.com/office/2007/relationships/media" Target="file:///C:/Users/Public/Music/Sample Music/Maid with the Flaxen Hair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40360" y="28656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5T22:00:51Z</dcterms:created>
  <dc:creator/>
  <dc:description/>
  <dc:language>en-US</dc:language>
  <cp:lastModifiedBy/>
  <cp:revision>1</cp:revision>
  <dc:subject/>
  <dc:title/>
</cp:coreProperties>
</file>