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EC1-8CFE-44CC-9DF6-D2B39CBC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A59-4408-4E4E-9D24-D9381506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142-72D1-4F5B-BB86-D0B160A2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029-35F0-43AE-822E-6DB90DF0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A61-37CA-4008-A800-4B1E10CC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800-DD99-4A83-B29D-4D0CA3A6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A18-FFDD-40C4-BDE3-4172955E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407-27E2-4B50-AF9B-8EA1DF8C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1A3-EE0B-425C-B12D-A76294BC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6D5-38AE-4976-BA92-DF43E94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A69-713C-4128-97DD-27312512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683-5638-4B62-AA48-B8C91B46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9A43-0850-459E-9A65-CF5D13C200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276360" cy="32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3056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1:31:57Z</dcterms:created>
  <dc:creator>MC SYSTEM</dc:creator>
  <dc:description/>
  <dc:language>en-US</dc:language>
  <cp:lastModifiedBy>MC SYSTEM</cp:lastModifiedBy>
  <dcterms:modified xsi:type="dcterms:W3CDTF">2007-01-31T01:38:33Z</dcterms:modified>
  <cp:revision>2</cp:revision>
  <dc:subject/>
  <dc:title>aaaa</dc:title>
</cp:coreProperties>
</file>