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3A1-0B65-47CA-B7C9-37EFF9D8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44D1-843E-4968-B7AA-F445171F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3F5C-4D55-440A-9BC2-274BBCD4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CDF-C0A4-44D8-872F-8B825AC8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17E-813E-4506-9799-1799F2E5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C3E-3C7A-4F55-9A42-4FCA065C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0916-C055-404C-960B-7B7ACB7F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54D-D31C-4E33-B2C1-30E4836A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FA0-D4D6-433E-AA83-B0B6E142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3EA9-90A9-4190-ACC7-E571E0B5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F15-5822-44FA-8397-40A42A7E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BB52-A9D4-42B7-9EE8-18D620EC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1AFF-CF68-43CB-BD9F-0E31677E2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calc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hyperlink" Target="file:///tmp/home/.config/libreoffice/4/user/gallery/tada.wav" TargetMode="Externa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over -&gt; Hyperlink to Sli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228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click -&gt; Run program -&gt; cal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Environment (system) variable PATH includes needed 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24680" y="1219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S00580_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09480"/>
            <a:ext cx="190656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click -&gt; Hyperlink to U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2666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E01832_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67616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click -&gt; Show Obje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click -&gt; Play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 cl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4191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914400"/>
          <a:ext cx="2362320" cy="1370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236232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934320" y="12193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EN00349_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914400"/>
            <a:ext cx="22986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click -&gt; Run Macro -&gt; message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705720" y="5715000"/>
            <a:ext cx="18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End Sh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8:47:38Z</dcterms:created>
  <dc:creator>a</dc:creator>
  <dc:description/>
  <dc:language>en-US</dc:language>
  <cp:lastModifiedBy>a</cp:lastModifiedBy>
  <dcterms:modified xsi:type="dcterms:W3CDTF">2011-09-17T16:05:02Z</dcterms:modified>
  <cp:revision>8</cp:revision>
  <dc:subject/>
  <dc:title>1</dc:title>
</cp:coreProperties>
</file>