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542-7FC1-4962-B9EA-165DB25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DC9-7E88-448B-BEF5-E059061A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2FB-D334-425B-AF2C-9EB39424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D8C-358D-4810-9EBD-A270E9E5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FA9-3252-41D5-BEC6-A20102EC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3DF-0260-4256-AF8C-AB3F092D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32C-4C53-4B55-931E-6B40EE4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126-F5BF-4BC1-BD6F-5C163B4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920-8B71-4E3A-9A8B-11ABB65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5E-B784-4B13-AA76-524C798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AB0-1D44-452D-9D98-1CFE278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493-84C8-433A-A130-4CF569E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639-CB93-419B-B6B4-92663217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80200" cy="49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685800"/>
            <a:ext cx="5943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4:18:57Z</dcterms:created>
  <dc:creator>Bob Miller</dc:creator>
  <dc:description/>
  <dc:language>en-US</dc:language>
  <cp:lastModifiedBy>Bob Miller</cp:lastModifiedBy>
  <dcterms:modified xsi:type="dcterms:W3CDTF">2005-05-26T14:21:27Z</dcterms:modified>
  <cp:revision>1</cp:revision>
  <dc:subject/>
  <dc:title>PowerPoint Presentation</dc:title>
</cp:coreProperties>
</file>