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C3B-A5A7-410B-8926-CE484094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DB9-8706-4070-91EA-4485D3A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C9B-A13E-4133-AB19-F423BA30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239-69EC-4FF3-90F8-86619F2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BB2C-A41D-477F-BFA9-6DD243D7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279-B33B-48D3-BD21-783EB644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4814-73E7-410D-BDED-B53BCCE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128-1058-45D1-9F1B-7525B23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DC5-2516-4465-B9A8-1E9C1709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ECE2-BE0F-45CC-97D2-3F231EA7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C2B-8781-4099-8461-D152B5F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6BD-266F-49F5-ACD2-C28921D6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C74-D376-40E4-8C03-94777623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54BC-02A3-44AC-94F1-3FD0788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CF40-6F80-4846-96B9-AF08E4B2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F311-20E1-4370-A64A-8B46B8AC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8548-F627-417A-9A5B-CAD92769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F28-AC13-48C9-A960-2E1C283A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9A1-F893-4961-800F-5CC98A1F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783-EA73-4315-835A-026973C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608-C04E-486F-BE60-E0A7D066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E53-22A0-4F80-933D-68494B1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274-4747-48DA-B18D-98BA070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609-569D-46C3-98DE-DEB0CEE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B78-2233-4D43-B500-161560FE4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B8F-986E-466F-85D6-55762D505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549360"/>
            <a:ext cx="655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imulace, jak by to mohlo vypa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520" y="2914560"/>
            <a:ext cx="7859880" cy="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914560"/>
            <a:ext cx="1440" cy="3142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3228840"/>
            <a:ext cx="13698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080" y="1917720"/>
            <a:ext cx="124128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080" y="2133720"/>
            <a:ext cx="2476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9760" y="2133720"/>
            <a:ext cx="9936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240" y="1203480"/>
            <a:ext cx="43524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800" y="163188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888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6320" y="1917720"/>
            <a:ext cx="124164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6320" y="2133720"/>
            <a:ext cx="2476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133720"/>
            <a:ext cx="99396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9640" y="1203480"/>
            <a:ext cx="43308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540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7348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76680" y="1917720"/>
            <a:ext cx="124308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2133720"/>
            <a:ext cx="24912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2133720"/>
            <a:ext cx="99396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9640" y="1203480"/>
            <a:ext cx="43488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3540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7348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9520" y="3024360"/>
            <a:ext cx="75866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92080" y="2575080"/>
            <a:ext cx="180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08120" y="257508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8480" y="2575080"/>
            <a:ext cx="144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612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93960" y="20970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55840" y="2085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520" y="2109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51400" y="1917720"/>
            <a:ext cx="124308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1400" y="2133720"/>
            <a:ext cx="2494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0880" y="2133720"/>
            <a:ext cx="9936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1203480"/>
            <a:ext cx="43524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1012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4820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83200" y="2575080"/>
            <a:ext cx="180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8784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4000" y="20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92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0456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492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056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6200" y="3537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43480" y="209556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49640" y="20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88320" y="1917720"/>
            <a:ext cx="124272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8320" y="2133720"/>
            <a:ext cx="24912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7440" y="2133720"/>
            <a:ext cx="9936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61280" y="1203480"/>
            <a:ext cx="43488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704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8512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620120" y="2575080"/>
            <a:ext cx="144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712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80400" y="209556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86560" y="20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4221000"/>
          <a:ext cx="7345440" cy="237204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152720"/>
                <a:gridCol w="1224000"/>
                <a:gridCol w="1657080"/>
                <a:gridCol w="180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us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BusRd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usUp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acheFl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0800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39920" y="3192480"/>
            <a:ext cx="542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e zamkne v CS, ostatní se budou neúspěšně pokoušet o toté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349360"/>
            <a:ext cx="69840" cy="6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280" y="1341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500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1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10816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341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276640"/>
            <a:ext cx="69840" cy="6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5084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276640"/>
            <a:ext cx="69840" cy="6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200" y="3225960"/>
            <a:ext cx="1369800" cy="94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10492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73080" y="2089080"/>
            <a:ext cx="2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844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73080" y="2106720"/>
            <a:ext cx="2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2276640"/>
            <a:ext cx="69840" cy="698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5084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341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2276640"/>
            <a:ext cx="69840" cy="6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5516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276640"/>
            <a:ext cx="69840" cy="6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5084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1880" y="20890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9680" y="21160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0760" y="21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349360"/>
            <a:ext cx="69840" cy="698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49680" y="21160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20908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880" y="35002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ytek už je asi zřejm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587700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630864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587700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623736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551664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87700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5516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92 C -0.00174 0.01828 -0.00382 0.03472 -0.00469 0.05231 C -0.00434 0.06111 -0.00487 0.07013 -0.00365 0.0787 C -0.00296 0.0831 0.00573 0.08425 0.00573 0.08425 C 0.02638 0.0824 0.04965 0.07685 0.06927 0.08564 C 0.07048 0.09027 0.07222 0.09351 0.07343 0.09814 C 0.07378 0.10601 0.0717 0.13287 0.07968 0.13981 C 0.09132 0.1375 0.08472 0.13935 0.0901 0.1287 C 0.09045 0.12685 0.09079 0.125 0.09114 0.12314 C 0.09184 0.12037 0.09323 0.11481 0.09323 0.11481 C 0.09531 0.05717 0.09826 0.08425 0.16302 0.08287 C 0.17343 0.07824 0.15729 0.08541 0.17031 0.08009 C 0.17239 0.07916 0.17656 0.07731 0.17656 0.07731 C 0.17621 0.06898 0.17222 0.04282 0.17864 0.03564 C 0.18073 0.03333 0.18368 0.03217 0.18593 0.03009 C 0.1901 0.03379 0.18993 0.03611 0.19114 0.04259 C 0.19079 0.04953 0.19062 0.05648 0.1901 0.06342 C 0.18975 0.06805 0.18698 0.06875 0.1901 0.07453 C 0.19236 0.0787 0.19635 0.0787 0.19948 0.08009 C 0.20156 0.08101 0.20573 0.08287 0.20573 0.08287 C 0.24531 0.0824 0.28489 0.0824 0.32448 0.08148 C 0.34357 0.08101 0.38177 0.07731 0.38177 0.07731 C 0.38368 0.06944 0.38472 0.06458 0.38177 0.05648 C 0.3802 0.05231 0.3776 0.04398 0.3776 0.04398 C 0.37864 0.03981 0.37968 0.03564 0.38073 0.03148 C 0.38142 0.0287 0.38698 0.0287 0.38698 0.0287 C 0.39184 0.0331 0.39236 0.03634 0.39427 0.04398 C 0.39461 0.04537 0.39531 0.04814 0.39531 0.04814 C 0.39618 0.06018 0.3967 0.06643 0.39948 0.07731 C 0.39982 0.0787 0.39948 0.08101 0.40052 0.08148 C 0.40816 0.08495 0.40468 0.08356 0.41093 0.08564 C 0.45746 0.08263 0.49843 0.08078 0.54739 0.08009 C 0.55069 0.07337 0.55208 0.06898 0.55468 0.06203 C 0.55538 0.0574 0.55573 0.05254 0.55677 0.04814 C 0.55711 0.04675 0.55746 0.04537 0.55781 0.04398 C 0.55816 0.04166 0.55781 0.03888 0.55885 0.03703 C 0.55954 0.03587 0.56093 0.03611 0.56198 0.03564 C 0.56493 0.04375 0.5684 0.05115 0.57135 0.05925 C 0.57257 0.06736 0.57326 0.07569 0.5776 0.08148 C 0.62656 0.08055 0.67465 0.08032 0.72343 0.0787 C 0.73107 0.07615 0.7302 0.07129 0.73177 0.06203 C 0.73333 0.053 0.73524 0.04467 0.73906 0.03703 C 0.74948 0.04629 0.74253 0.06944 0.75781 0.07453 C 0.76423 0.08032 0.76736 0.07777 0.77448 0.07453 C 0.78402 0.07037 0.80468 0.07314 0.80468 0.07314 E">
                                      <p:cBhvr>
                                        <p:cTn id="3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C 0.00087 -0.01042 0.00278 -0.01898 0.0066 -0.02547 C 0.00799 -0.02685 0.00833 -0.0294 0.00938 -0.03056 C 0.01111 -0.03218 0.01476 -0.0338 0.01476 -0.03334 C 0.02188 -0.03148 0.01806 -0.0331 0.02535 -0.02871 C 0.02726 -0.02755 0.03073 -0.02547 0.03073 -0.02523 C 0.03472 -0.02593 0.03872 -0.02593 0.04323 -0.02709 C 0.04497 -0.02755 0.04827 -0.03056 0.04827 -0.03033 C 0.05122 -0.03588 0.05347 -0.03611 0.05556 -0.04213 C 0.05521 -0.05347 0.05816 -0.06806 0.05365 -0.0757 C 0.0441 -0.09422 0.02083 -0.08704 0.01198 -0.08773 C 0.00417 -0.08912 0.00365 -0.08704 0.00122 -0.09931 C 0.00295 -0.13982 0.00208 -0.11482 0.00208 -0.17292 E">
                                      <p:cBhvr>
                                        <p:cTn id="4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4.44444E-006 0.02871 E">
                                      <p:cBhvr>
                                        <p:cTn id="6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57 C -0.00746 0.01481 -0.01336 0.02222 -0.02083 0.02546 C -0.02569 0.03495 -0.02413 0.03055 -0.02604 0.03796 C -0.02639 0.05185 -0.02639 0.06574 -0.02708 0.07963 C -0.02708 0.07986 -0.02864 0.08842 -0.02916 0.08935 C -0.03194 0.09398 -0.03975 0.09583 -0.04375 0.09768 C -0.08264 0.09606 -0.10868 0.09444 -0.15104 0.09352 C -0.25833 0.0949 -0.22048 0.0949 -0.26458 0.0949 E">
                                      <p:cBhvr>
                                        <p:cTn id="9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00555 C -0.01458 0.00879 -0.01424 0.01273 -0.0158 0.01528 C -0.01649 0.01643 -0.01788 0.01597 -0.01892 0.01666 C -0.02726 0.02176 -0.03628 0.02453 -0.04288 0.03333 C -0.0467 0.04838 -0.05104 0.04143 -0.04496 0.06944 C -0.04496 0.06944 -0.03715 0.07639 -0.03559 0.07778 C -0.03368 0.0794 -0.02934 0.08055 -0.02934 0.08055 C -0.00538 0.07893 -0.00312 0.07801 0.02379 0.07916 C 0.02708 0.08125 0.02865 0.08125 0.03004 0.08611 C 0.03108 0.08958 0.03212 0.09722 0.03212 0.09722 C 0.03142 0.10856 0.02604 0.14028 0.03524 0.14444 C 0.04392 0.14051 0.04028 0.14421 0.04566 0.13333 C 0.04688 0.13078 0.04705 0.12778 0.04774 0.125 C 0.04809 0.12361 0.04879 0.12083 0.04879 0.12083 C 0.04913 0.11435 0.04861 0.10764 0.04983 0.10139 C 0.05017 0.1 0.05504 0.09722 0.05608 0.09722 C 0.07309 0.09629 0.0901 0.09629 0.10712 0.09583 C 0.12135 0.09421 0.11858 0.09352 0.12899 0.08889 C 0.13385 0.0794 0.13229 0.08379 0.1342 0.07639 C 0.1349 0.06528 0.13247 0.05301 0.13629 0.04305 C 0.13715 0.04097 0.13976 0.04398 0.14149 0.04444 C 0.14271 0.04907 0.14444 0.05231 0.14566 0.05694 C 0.1474 0.08842 0.14844 0.08518 0.17483 0.08611 C 0.19306 0.0868 0.21163 0.08703 0.23004 0.0875 C 0.25538 0.08703 0.28073 0.08703 0.30608 0.08611 C 0.31076 0.08588 0.31962 0.08055 0.31962 0.08055 C 0.32274 0.07453 0.3276 0.07037 0.33004 0.06389 C 0.33212 0.05833 0.33385 0.05301 0.33524 0.04722 C 0.33559 0.04583 0.33733 0.04653 0.33837 0.04583 C 0.33941 0.04514 0.34045 0.04398 0.34149 0.04305 C 0.34844 0.04907 0.34896 0.05949 0.35069 0.06944 C 0.35156 0.07268 0.35122 0.07662 0.35295 0.07916 C 0.3559 0.08356 0.35868 0.08449 0.36215 0.08611 C 0.40451 0.08518 0.44705 0.08472 0.48941 0.07916 C 0.49896 0.07268 0.49931 0.07338 0.50399 0.06111 C 0.50556 0.05671 0.51233 0.05139 0.51233 0.05139 C 0.51406 0.05231 0.51597 0.05254 0.51754 0.05416 C 0.51858 0.05555 0.51875 0.05787 0.51944 0.05972 C 0.52396 0.06967 0.52726 0.08403 0.5342 0.09166 C 0.53524 0.09282 0.54236 0.09444 0.54254 0.09444 C 0.55313 0.09328 0.56302 0.09004 0.57361 0.08889 C 0.60469 0.08541 0.63559 0.08449 0.66649 0.08333 C 0.67431 0.08194 0.6776 0.08102 0.68316 0.07361 C 0.68368 0.07176 0.68646 0.06227 0.68733 0.06111 C 0.68906 0.05879 0.69358 0.05555 0.69358 0.05555 C 0.69705 0.05602 0.70069 0.05555 0.70399 0.05694 C 0.70885 0.05903 0.70538 0.07315 0.7092 0.07639 C 0.71684 0.08333 0.71302 0.08125 0.72066 0.08333 C 0.73056 0.07893 0.74045 0.07916 0.75087 0.07916 E">
                                      <p:cBhvr>
                                        <p:cTn id="11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3.33333E-006 0.02871 E">
                                      <p:cBhvr>
                                        <p:cTn id="14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18519E-006 C -0.00486 0.01226 -0.00955 0.01874 -0.01997 0.02221 C -0.02361 0.02546 -0.02795 0.0287 -0.03229 0.03055 C -0.03455 0.03518 -0.03716 0.03772 -0.03854 0.04305 C -0.03716 0.05277 -0.03802 0.04768 -0.03542 0.05833 C -0.03473 0.0611 -0.03334 0.06666 -0.03334 0.06666 C -0.03403 0.07823 -0.03177 0.08564 -0.03854 0.09166 C -0.04115 0.10184 -0.05243 0.09606 -0.05834 0.09583 C -0.08889 0.0949 -0.11945 0.0949 -0.15 0.09444 C -0.19757 0.09513 -0.22795 0.09444 -0.26979 0.09444 E">
                                      <p:cBhvr>
                                        <p:cTn id="15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602 C -0.00503 0.01018 -0.0066 0.01227 -0.00816 0.01852 C -0.00972 0.04027 -0.01007 0.03981 -0.0092 0.06713 C -0.00972 0.07569 -0.00781 0.09004 -0.01545 0.09352 C -0.04167 0.09097 -0.06736 0.08889 -0.09358 0.09074 C -0.16806 0.08958 -0.24201 0.08796 -0.31649 0.09074 C -0.4158 0.08912 -0.37205 0.08935 -0.44774 0.08935 E">
                                      <p:cBhvr>
                                        <p:cTn id="19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C 0.00625 0.00278 0.00938 0.00856 0.01146 0.01666 C 0.01372 0.04097 0.01163 0.0169 0.01354 0.05972 C 0.01545 0.1044 0.02378 0.08518 0.07083 0.08611 C 0.09757 0.08657 0.12431 0.08703 0.15104 0.0875 C 0.16771 0.08703 0.18438 0.08819 0.20104 0.08611 C 0.20278 0.08588 0.20347 0.08264 0.20417 0.08055 C 0.20712 0.07176 0.20712 0.06065 0.20938 0.05139 C 0.22309 0.05509 0.21597 0.07037 0.22604 0.07639 C 0.23594 0.08217 0.24427 0.08009 0.25625 0.08055 C 0.26771 0.08102 0.27917 0.08148 0.29063 0.08194 C 0.3842 0.07986 0.47795 0.07847 0.57188 0.07778 C 0.62465 0.07916 0.60521 0.07916 0.63021 0.07916 E">
                                      <p:cBhvr>
                                        <p:cTn id="20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4.16667E-006 0.02871 E">
                                      <p:cBhvr>
                                        <p:cTn id="23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0648 C 0.00243 0.01157 0.00138 0.02407 -0.00365 0.02592 C -0.00643 0.02685 -0.00921 0.02685 -0.01198 0.02731 C -0.01389 0.03518 -0.0158 0.03865 -0.01927 0.04537 C -0.01893 0.05046 -0.01893 0.05555 -0.01823 0.06064 C -0.01789 0.06342 -0.01615 0.06898 -0.01615 0.06898 C -0.02014 0.08518 -0.0415 0.08356 -0.05052 0.08425 C -0.08212 0.0831 -0.11372 0.08125 -0.14532 0.08009 C -0.23056 0.08194 -0.31355 0.08356 -0.39948 0.08425 C -0.42292 0.08773 -0.42014 0.08842 -0.45365 0.08842 E">
                                      <p:cBhvr>
                                        <p:cTn id="242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9:54:30Z</dcterms:created>
  <dc:creator>Maxmilián Vomáčka</dc:creator>
  <dc:description/>
  <dc:language>en-US</dc:language>
  <cp:lastModifiedBy>Maxmilián Vomáčka</cp:lastModifiedBy>
  <dcterms:modified xsi:type="dcterms:W3CDTF">2007-07-15T11:39:01Z</dcterms:modified>
  <cp:revision>23</cp:revision>
  <dc:subject/>
  <dc:title>Snímek 1</dc:title>
</cp:coreProperties>
</file>