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E451-3EA5-42FF-ABC6-1E0BC979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282B-388D-4D7D-8357-E7DA906C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12D2-1CB5-447A-A7F0-95B8C9D4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6F03-B0FD-415B-9D18-068FF2B9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299F-A123-4D48-A42A-7BAB9496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019B-8AFF-4197-94DE-AD18AAB6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23FE-5BE6-4658-AE30-DFF33DF3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4304-8D76-4600-8CC9-96C5CCF0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C0C8-33A3-4444-B7E2-09B0CDCB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A943-5E2E-4753-AA09-BA6D786A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5346-0493-4C0D-8C97-2CFD0795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74EF-A262-4174-BAC0-3FB214D9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C73E-4F25-48CF-A3DF-3CC70B8FB1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sdfasfdasdfsa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sdfs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05:53:24Z</dcterms:created>
  <dc:creator>yolanda.wang</dc:creator>
  <dc:description/>
  <dc:language>en-US</dc:language>
  <cp:lastModifiedBy>yolanda.wang</cp:lastModifiedBy>
  <dcterms:modified xsi:type="dcterms:W3CDTF">2006-03-14T05:53:28Z</dcterms:modified>
  <cp:revision>1</cp:revision>
  <dc:subject/>
  <dc:title>幻灯片 1</dc:title>
</cp:coreProperties>
</file>