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2360" cy="4600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4022280" y="9723600"/>
            <a:ext cx="3071880" cy="506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A1F11-9823-4D9A-B4FE-5358890A549D}" type="slidenum">
              <a:rPr b="0" lang="tr-T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59E1-ACA0-45F7-9E5D-8EC3C5259AF8}" type="slidenum">
              <a:rPr b="0" lang="tr-TR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5120" y="388476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928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97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5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97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44280"/>
            <a:ext cx="791496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928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db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080" y="579132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6760" y="2146320"/>
            <a:ext cx="305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op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620640"/>
          <a:ext cx="544500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620640"/>
                    <a:ext cx="54450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81200" y="596880"/>
          <a:ext cx="801684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596880"/>
                    <a:ext cx="801684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81200" y="596880"/>
            <a:ext cx="80168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4:28:31Z</dcterms:created>
  <dc:creator/>
  <dc:description/>
  <dc:language>en-US</dc:language>
  <cp:lastModifiedBy>Gökcen ERASLAN (gokcene@uekae)</cp:lastModifiedBy>
  <dcterms:modified xsi:type="dcterms:W3CDTF">2011-03-21T08:38:06Z</dcterms:modified>
  <cp:revision>1157</cp:revision>
  <dc:subject/>
  <dc:title>Slide 1</dc:title>
</cp:coreProperties>
</file>