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221-5F01-44BE-98FC-30970125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0E2-69B7-4664-B107-0B11BD24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D7A-5DB0-43B7-8BE4-AE05F829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947-BF41-4E4D-859A-F6A67144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784-E6C8-427A-8BDF-DB9B7473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25C-39DC-49DD-81AB-5C70F978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FFF-13E4-471B-BB08-3E9E1D3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62A-E0D3-4159-8925-DA027D0A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F08-9E23-4D1C-AB65-FB0DCB19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09F-0B76-44C5-8942-4E4B5453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3EF-A5C7-43DE-A482-E265D1E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696-705A-48A2-8798-E5ABE03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5EB-5F74-4B32-9D7E-AEC169F5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401400">
            <a:off x="2895120" y="3504960"/>
            <a:ext cx="3429000" cy="1828800"/>
          </a:xfrm>
          <a:custGeom>
            <a:avLst/>
            <a:gdLst>
              <a:gd name="textAreaLeft" fmla="*/ 1285200 w 3429000"/>
              <a:gd name="textAreaRight" fmla="*/ 2143800 w 3429000"/>
              <a:gd name="textAreaTop" fmla="*/ 33120 h 1828800"/>
              <a:gd name="textAreaBottom" fmla="*/ 94824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400"/>
                </a:moveTo>
                <a:arcTo wR="21600" hR="49763" stAng="-6244122" swAng="656031"/>
                <a:lnTo>
                  <a:pt x="8096" y="391"/>
                </a:lnTo>
                <a:arcTo wR="21600" hR="49763" stAng="-5588091" swAng="376182"/>
                <a:lnTo>
                  <a:pt x="13504" y="4124"/>
                </a:lnTo>
                <a:arcTo wR="21600" hR="49763" stAng="-5211909" swAng="656031"/>
                <a:lnTo>
                  <a:pt x="18900" y="12964"/>
                </a:lnTo>
                <a:lnTo>
                  <a:pt x="21600" y="21600"/>
                </a:lnTo>
                <a:lnTo>
                  <a:pt x="21600" y="21600"/>
                </a:lnTo>
                <a:arcTo wR="21600" hR="49763" stAng="-4555878" swAng="-843846"/>
                <a:lnTo>
                  <a:pt x="10804" y="11200"/>
                </a:lnTo>
                <a:arcTo wR="21600" hR="49763" stAng="-5399724" swAng="-553"/>
                <a:lnTo>
                  <a:pt x="10796" y="14933"/>
                </a:lnTo>
                <a:arcTo wR="21600" hR="49763" stAng="-5400276" swAng="-843846"/>
                <a:lnTo>
                  <a:pt x="2700" y="12964"/>
                </a:lnTo>
                <a:close/>
              </a:path>
              <a:path fill="none" w="21600" h="21600">
                <a:moveTo>
                  <a:pt x="10796" y="11200"/>
                </a:moveTo>
                <a:arcTo wR="21600" hR="49763" stAng="-5400276" swAng="-187815"/>
                <a:lnTo>
                  <a:pt x="10796" y="14933"/>
                </a:lnTo>
              </a:path>
              <a:path fill="none" w="21600" h="21600">
                <a:moveTo>
                  <a:pt x="10804" y="11200"/>
                </a:moveTo>
                <a:arcTo wR="21600" hR="49763" stAng="-5399724" swAng="187815"/>
                <a:lnTo>
                  <a:pt x="10804" y="14933"/>
                </a:lnTo>
              </a:path>
              <a:path fill="none" w="21600" h="21600">
                <a:moveTo>
                  <a:pt x="8096" y="4124"/>
                </a:moveTo>
                <a:lnTo>
                  <a:pt x="8096" y="11591"/>
                </a:lnTo>
              </a:path>
              <a:path fill="none" w="21600" h="21600">
                <a:moveTo>
                  <a:pt x="13504" y="4124"/>
                </a:moveTo>
                <a:lnTo>
                  <a:pt x="13504" y="11591"/>
                </a:lnTo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380880"/>
            <a:ext cx="4496040" cy="2514600"/>
          </a:xfrm>
          <a:custGeom>
            <a:avLst/>
            <a:gdLst>
              <a:gd name="textAreaLeft" fmla="*/ 1685160 w 4496040"/>
              <a:gd name="textAreaRight" fmla="*/ 2810880 w 4496040"/>
              <a:gd name="textAreaTop" fmla="*/ 1047600 h 2514600"/>
              <a:gd name="textAreaBottom" fmla="*/ 24818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2600"/>
                </a:moveTo>
                <a:arcTo wR="21600" hR="35828" stAng="6551506" swAng="-890497"/>
                <a:lnTo>
                  <a:pt x="8096" y="21318"/>
                </a:lnTo>
                <a:arcTo wR="21600" hR="35828" stAng="5661009" swAng="-522018"/>
                <a:lnTo>
                  <a:pt x="13504" y="17118"/>
                </a:lnTo>
                <a:arcTo wR="21600" hR="35828" stAng="5138991" swAng="-890497"/>
                <a:lnTo>
                  <a:pt x="18900" y="8486"/>
                </a:lnTo>
                <a:lnTo>
                  <a:pt x="21600" y="0"/>
                </a:lnTo>
                <a:lnTo>
                  <a:pt x="21600" y="0"/>
                </a:lnTo>
                <a:arcTo wR="21600" hR="35828" stAng="4248494" swAng="1151122"/>
                <a:lnTo>
                  <a:pt x="10804" y="9000"/>
                </a:lnTo>
                <a:arcTo wR="21600" hR="35828" stAng="5399616" swAng="768"/>
                <a:lnTo>
                  <a:pt x="10796" y="4800"/>
                </a:lnTo>
                <a:arcTo wR="21600" hR="35828" stAng="5400384" swAng="1151122"/>
                <a:lnTo>
                  <a:pt x="2700" y="8486"/>
                </a:lnTo>
                <a:close/>
              </a:path>
              <a:path fill="none" w="21600" h="21600">
                <a:moveTo>
                  <a:pt x="10796" y="9000"/>
                </a:moveTo>
                <a:arcTo wR="21600" hR="35828" stAng="5400384" swAng="260625"/>
                <a:lnTo>
                  <a:pt x="10796" y="4800"/>
                </a:lnTo>
              </a:path>
              <a:path fill="none" w="21600" h="21600">
                <a:moveTo>
                  <a:pt x="10804" y="9000"/>
                </a:moveTo>
                <a:arcTo wR="21600" hR="35828" stAng="5399616" swAng="-260625"/>
                <a:lnTo>
                  <a:pt x="10804" y="4800"/>
                </a:lnTo>
              </a:path>
              <a:path fill="none" w="21600" h="21600">
                <a:moveTo>
                  <a:pt x="8096" y="17118"/>
                </a:moveTo>
                <a:lnTo>
                  <a:pt x="8096" y="8718"/>
                </a:lnTo>
              </a:path>
              <a:path fill="none" w="21600" h="21600">
                <a:moveTo>
                  <a:pt x="13504" y="17118"/>
                </a:moveTo>
                <a:lnTo>
                  <a:pt x="13504" y="8718"/>
                </a:lnTo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07:35Z</dcterms:created>
  <dc:creator>tester</dc:creator>
  <dc:description/>
  <dc:language>en-US</dc:language>
  <cp:lastModifiedBy>lijiany</cp:lastModifiedBy>
  <dcterms:modified xsi:type="dcterms:W3CDTF">2012-07-30T07:05:26Z</dcterms:modified>
  <cp:revision>7</cp:revision>
  <dc:subject/>
  <dc:title>Slide 1</dc:title>
</cp:coreProperties>
</file>