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E31-0684-4D45-9FFE-46F7D768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90F-F597-4825-B8A4-CF2B6A2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7E1-6981-48F0-A89B-8AE2D35F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5DD-ABFA-49EE-8E10-B505E475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340-2653-4050-838D-890F714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AD5-1BD8-4CD3-98A4-296CC2C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790-488E-4759-A814-F2F67B76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B4F-9B7D-4BCB-B44F-D66BB8A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5B3-B6CA-4E4D-9B28-619D862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F5E-F1DD-4C4F-B56C-9332612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6EB-4FBA-4A30-9ACB-33D8580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E04-A0DF-4EE7-9D57-D19476A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6AA-A8C1-496D-89B6-35FD6857152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916280"/>
            <a:ext cx="266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3860640"/>
            <a:ext cx="2448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3"/>
            <a:endCxn id="42" idx="1"/>
          </p:cNvCxnSpPr>
          <p:nvPr/>
        </p:nvCxnSpPr>
        <p:spPr>
          <a:xfrm>
            <a:off x="4211640" y="2600280"/>
            <a:ext cx="1726920" cy="150300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1" idx="3"/>
            <a:endCxn id="42" idx="2"/>
          </p:cNvCxnSpPr>
          <p:nvPr/>
        </p:nvCxnSpPr>
        <p:spPr>
          <a:xfrm>
            <a:off x="4211640" y="2600280"/>
            <a:ext cx="1368720" cy="2088720"/>
          </a:xfrm>
          <a:prstGeom prst="curvedConnector3">
            <a:avLst>
              <a:gd name="adj1" fmla="val 250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2" idx="0"/>
          </p:cNvCxnSpPr>
          <p:nvPr/>
        </p:nvCxnSpPr>
        <p:spPr>
          <a:xfrm>
            <a:off x="4211640" y="2600280"/>
            <a:ext cx="2592720" cy="126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116000" y="4005360"/>
            <a:ext cx="165564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7"/>
          </p:cNvCxnSpPr>
          <p:nvPr/>
        </p:nvCxnSpPr>
        <p:spPr>
          <a:xfrm rot="5400000">
            <a:off x="2206800" y="3606840"/>
            <a:ext cx="995040" cy="350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2"/>
            <a:endCxn id="46" idx="6"/>
          </p:cNvCxnSpPr>
          <p:nvPr/>
        </p:nvCxnSpPr>
        <p:spPr>
          <a:xfrm rot="5400000">
            <a:off x="1997280" y="4059000"/>
            <a:ext cx="1657080" cy="10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2"/>
            <a:endCxn id="46" idx="0"/>
          </p:cNvCxnSpPr>
          <p:nvPr/>
        </p:nvCxnSpPr>
        <p:spPr>
          <a:xfrm rot="5400000">
            <a:off x="2051280" y="3177360"/>
            <a:ext cx="721080" cy="93600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332000" y="587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gure is drawn as an “ov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661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gure is drawn as an “ov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1:50:04Z</dcterms:created>
  <dc:creator>tin</dc:creator>
  <dc:description/>
  <dc:language>en-US</dc:language>
  <cp:lastModifiedBy>tin</cp:lastModifiedBy>
  <dcterms:modified xsi:type="dcterms:W3CDTF">2007-04-01T01:57:51Z</dcterms:modified>
  <cp:revision>4</cp:revision>
  <dc:subject/>
  <dc:title>Slide 1</dc:title>
</cp:coreProperties>
</file>