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155700" cy="15557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8.03.2007 (Fixed handout 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55680" y="685440"/>
            <a:ext cx="2546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fld id="{8746EC34-F0B6-4BC1-8115-657248311FE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y fixed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fld id="{60F9F05C-180B-4C32-B258-60DDAF9EB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2155680" y="685800"/>
            <a:ext cx="254664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200" spc="-1" strike="noStrike">
                <a:solidFill>
                  <a:srgbClr val="000000"/>
                </a:solidFill>
                <a:latin typeface="Calibri"/>
              </a:rPr>
              <a:t>This is my Note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DD4-7A42-455D-91F5-C63A2806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104148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80" y="898920"/>
            <a:ext cx="104148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065-AB91-4CF5-BC69-AEDFA851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76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880" y="89892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760" y="89892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413-E399-48BF-B1D1-32E09D3E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" y="36324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400" y="36324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880" y="89892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" y="89892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61400" y="89892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1B7-21A2-4B8F-9A3B-B0DE1743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880" y="363240"/>
            <a:ext cx="104148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68A-DA37-44AD-A0E4-ABC45F88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104148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08C-0B73-4085-BAF7-E325C853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50796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760" y="363240"/>
            <a:ext cx="50796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818-E0DC-4BF8-8F21-2206AF81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CEB-BF65-4915-B14B-8786A3D5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880" y="61560"/>
            <a:ext cx="104148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73E-76D2-45E2-9D32-737E929D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760" y="363240"/>
            <a:ext cx="50796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880" y="89892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FF2-F2F8-4E25-AFC4-1882506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50796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76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760" y="89892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712-6CD0-4A2D-831E-C9885322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76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880" y="898920"/>
            <a:ext cx="104148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29A-F8D9-4F4F-AEAE-5EBA2189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880" y="363240"/>
            <a:ext cx="104148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marL="57240" indent="-572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125280" indent="-4752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92240" indent="-3816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3" marL="270000" indent="-3816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4" marL="347760" indent="-381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5" marL="347760" indent="-381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6" marL="347760" indent="-381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880" y="1441080"/>
            <a:ext cx="269640" cy="824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lstStyle>
            <a:lvl1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  <a:defRPr b="0" lang="en-US" sz="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5280" y="1441080"/>
            <a:ext cx="365040" cy="824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8720" y="1441080"/>
            <a:ext cx="270000" cy="824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lstStyle>
            <a:lvl1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  <a:defRPr b="0" lang="en-US" sz="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fld id="{18D02BC1-B16C-4B6A-B3D7-F9A4BC64343D}" type="slidenum">
              <a:rPr b="0" lang="en-US" sz="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880" y="61920"/>
            <a:ext cx="1041480" cy="14018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Cambria"/>
              </a:rPr>
              <a:t>Design&gt;Page Setup&gt;Custom</a:t>
            </a:r>
            <a:br>
              <a:rPr sz="500"/>
            </a:br>
            <a:r>
              <a:rPr b="0" lang="de-DE" sz="500" spc="-1" strike="noStrike">
                <a:solidFill>
                  <a:srgbClr val="000000"/>
                </a:solidFill>
                <a:latin typeface="Cambria"/>
              </a:rPr>
              <a:t>Width: 3,21cm</a:t>
            </a:r>
            <a:br>
              <a:rPr sz="500"/>
            </a:br>
            <a:r>
              <a:rPr b="0" lang="de-DE" sz="500" spc="-1" strike="noStrike">
                <a:solidFill>
                  <a:srgbClr val="000000"/>
                </a:solidFill>
                <a:latin typeface="Cambria"/>
              </a:rPr>
              <a:t>Height: 4,32cm</a:t>
            </a:r>
            <a:br>
              <a:rPr sz="500"/>
            </a:br>
            <a:r>
              <a:rPr b="0" lang="de-DE" sz="500" spc="-1" strike="noStrike">
                <a:solidFill>
                  <a:srgbClr val="000000"/>
                </a:solidFill>
                <a:latin typeface="Cambria"/>
              </a:rPr>
              <a:t>Portait / Porta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1" i="1" lang="de-DE" sz="500" spc="-1" strike="noStrike">
                <a:solidFill>
                  <a:srgbClr val="000000"/>
                </a:solidFill>
                <a:latin typeface="Calibri"/>
              </a:rPr>
              <a:t>Page Setup Test 1: </a:t>
            </a:r>
            <a:r>
              <a:rPr b="0" lang="de-DE" sz="700" spc="-1" strike="noStrike">
                <a:solidFill>
                  <a:srgbClr val="800080"/>
                </a:solidFill>
                <a:latin typeface="Calibri"/>
              </a:rPr>
              <a:t>Siz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104148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Sized for: Custo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Orientation: Landcap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Size: 20x20 c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&lt; line break (ente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7240" y="1441440"/>
            <a:ext cx="2696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480" rIns="15480" tIns="7920" bIns="7920" anchor="ctr">
            <a:noAutofit/>
          </a:bodyPr>
          <a:p>
            <a:pPr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fld id="{6A3E1B3E-CE61-443F-8B46-DD01BD5DE305}" type="datetime">
              <a:rPr b="0" lang="en-US" sz="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200" spc="-1" strike="noStrike">
                <a:solidFill>
                  <a:srgbClr val="898989"/>
                </a:solidFill>
                <a:latin typeface="Calibri"/>
              </a:rPr>
              <a:t> </a:t>
            </a:r>
            <a:fld id="{D85C18C3-C25E-47C1-A5A8-CC4304500CFB}" type="datetime12">
              <a:rPr b="0" lang="en-US" sz="200" spc="-1" strike="noStrike">
                <a:solidFill>
                  <a:srgbClr val="898989"/>
                </a:solidFill>
                <a:latin typeface="Calibri"/>
              </a:rPr>
              <a:t>05:30 AM</a:t>
            </a:fld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95280" y="1441440"/>
            <a:ext cx="3650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480" rIns="15480" tIns="7920" bIns="7920" anchor="ctr">
            <a:noAutofit/>
          </a:bodyPr>
          <a:p>
            <a:pPr algn="ctr"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200" spc="-1" strike="noStrike">
                <a:solidFill>
                  <a:srgbClr val="898989"/>
                </a:solidFill>
                <a:latin typeface="Calibri"/>
              </a:rPr>
              <a:t>This is a Testfooter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828720" y="1441440"/>
            <a:ext cx="2700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480" rIns="15480" tIns="7920" bIns="7920" anchor="ctr">
            <a:noAutofit/>
          </a:bodyPr>
          <a:p>
            <a:pPr algn="r"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fld id="{9BC1201A-8398-4EF1-873F-9E6412A4EC4E}" type="slidenum">
              <a:rPr b="0" lang="en-US" sz="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1" i="1" lang="de-DE" sz="500" spc="-1" strike="noStrike">
                <a:solidFill>
                  <a:srgbClr val="000000"/>
                </a:solidFill>
                <a:latin typeface="Calibri"/>
              </a:rPr>
              <a:t>Page Setup Test 2: </a:t>
            </a:r>
            <a:r>
              <a:rPr b="0" lang="de-DE" sz="800" spc="-1" strike="noStrike">
                <a:solidFill>
                  <a:srgbClr val="800080"/>
                </a:solidFill>
                <a:latin typeface="Calibri"/>
              </a:rPr>
              <a:t>Header/Foot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104148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This slide should have a Foote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It‘s notespage should have a header, footer and a tex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jaime</cp:lastModifiedBy>
  <dcterms:modified xsi:type="dcterms:W3CDTF">2010-03-30T22:09:55Z</dcterms:modified>
  <cp:revision>86</cp:revision>
  <dc:subject/>
  <dc:title>Slide 1</dc:title>
</cp:coreProperties>
</file>