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BC09-EC91-4BB6-9AF2-47933F3BEC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DBBE-CB81-44A0-8421-16B0CBB0719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8.03.2007 (Fixed handout 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Header Placeholder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3870-D8C2-464A-8610-7D49D91DD2B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8.03.2007 (Fixed handout 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Header Placeholder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2087-EDD3-4D80-965D-AAE0A41A8E9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8.03.2007 (Fixed handout 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Header Placeholder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CAAD-F17C-4693-8DFE-9A08D3842FC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8.03.2007 (Fixed handout 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Header Placeholder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BC3-EE49-451A-98D7-8AD26EB6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B20-4D77-427F-B60C-A961FAE6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721-B670-4F2E-AC18-8CD8F072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4F3-4D2E-4671-B36F-9890E565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4D3-5501-4EC4-ADF7-6A7FBF44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1DC-33B0-4695-8D31-E87B17AD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5B3-EDE2-4D02-BD08-666A8910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834-AB6A-4488-85FB-4A335A34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934-D655-4A4C-AE18-6D57C089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AFA-1898-4807-955E-2CB18943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B42-0654-4986-A57B-38DF263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4AD-62BF-4FF9-A1B7-DB1EE008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3345-779D-42EE-9BD9-1CBE87584D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Insert&gt;Text&gt;Header&amp;Footer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Date time (automatically updated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Foo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lide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50F7-7807-438B-8BF2-185BD49DBC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74BCAF-F23D-4595-B2A2-3B65F8DEE0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89E4-626F-47FD-B366-AC61CB8B9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s is a foo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Insert&gt;Text&gt;Header&amp;Footer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Date time (fixed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Foo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lide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28/2007 2:59:28 PM &lt;- F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7A01-455F-4E3B-BB57-4690DA433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nother footer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Title 44 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ntent 31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SECTION TITLE 4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Section text: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Box 3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915696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Insert&gt;Text&gt;Header&amp;Footer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Date time (automatically updated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Foo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lide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4181-F4E9-4C5D-ACDE-72DB40DF42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6F9B39-2B56-47AF-8931-1182A674B6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3044-3885-4A7F-855F-D210A7A7B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s is a footer!This is a footer!This is a footer!This is a footer!This is a footer!This is a footer!This is a footer!This is a footer!This is a footer!This is a footer!This is a footer!This is a footer!This is a footer!This is a footer!This is a foo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Insert&gt;Text&gt;Header&amp;Footer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Date time (fixed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Foo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lide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3/28/2007 2:59:28 PM &lt;- FIXED3/28/2007 2:59:28 PM &lt;- FIXED3/28/2007 2:59:28 PM &lt;- FIXED3/28/2007 2:59:28 PM &lt;- FIXED3/28/2007 2:59:28 PM &lt;- FIXED3/28/2007 2:59:28 PM &lt;- FIXED3/28/2007 2:59:28 PM &lt;- FIXED3/28/2007 2:59:28 PM &lt;- FIXED3/28/2007 2:59:28 PM &lt;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A0A2-2825-45F4-9716-C20CFAEC4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nother footer...Another footer...Another footer...Another footer...Another footer...Another footer...Another footer...Another footer...Another footer...Another footer...Another footer...Another footer...Another footer...Another footer...Another footer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ime</cp:lastModifiedBy>
  <dcterms:modified xsi:type="dcterms:W3CDTF">2010-03-30T22:10:30Z</dcterms:modified>
  <cp:revision>2</cp:revision>
  <dc:subject/>
  <dc:title>Insert&gt;Text&gt;Header&amp;Footer&gt; Date time (automatically updated) Footer Slide Number</dc:title>
</cp:coreProperties>
</file>