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406080"/>
            <a:ext cx="7770960" cy="71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406080"/>
            <a:ext cx="7770960" cy="71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7407360"/>
            <a:chOff x="0" y="0"/>
            <a:chExt cx="9144000" cy="7407360"/>
          </a:xfrm>
        </p:grpSpPr>
        <p:sp>
          <p:nvSpPr>
            <p:cNvPr id="1" name=""/>
            <p:cNvSpPr/>
            <p:nvPr/>
          </p:nvSpPr>
          <p:spPr>
            <a:xfrm>
              <a:off x="2590920" y="6480"/>
              <a:ext cx="2757240" cy="7375320"/>
            </a:xfrm>
            <a:custGeom>
              <a:avLst/>
              <a:gdLst/>
              <a:ahLst/>
              <a:rect l="l" t="t" r="r" b="b"/>
              <a:pathLst>
                <a:path w="7661" h="20487">
                  <a:moveTo>
                    <a:pt x="2178" y="20433"/>
                  </a:moveTo>
                  <a:lnTo>
                    <a:pt x="7660" y="20486"/>
                  </a:lnTo>
                  <a:lnTo>
                    <a:pt x="2310" y="0"/>
                  </a:lnTo>
                  <a:lnTo>
                    <a:pt x="0" y="32"/>
                  </a:lnTo>
                  <a:lnTo>
                    <a:pt x="2178" y="20433"/>
                  </a:lnTo>
                  <a:lnTo>
                    <a:pt x="2178" y="2043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40"/>
              <a:ext cx="2759040" cy="7369200"/>
            </a:xfrm>
            <a:custGeom>
              <a:avLst/>
              <a:gdLst/>
              <a:ahLst/>
              <a:rect l="l" t="t" r="r" b="b"/>
              <a:pathLst>
                <a:path w="7662" h="20468">
                  <a:moveTo>
                    <a:pt x="2178" y="20414"/>
                  </a:moveTo>
                  <a:lnTo>
                    <a:pt x="7661" y="20467"/>
                  </a:lnTo>
                  <a:lnTo>
                    <a:pt x="2311" y="0"/>
                  </a:lnTo>
                  <a:lnTo>
                    <a:pt x="0" y="32"/>
                  </a:lnTo>
                  <a:lnTo>
                    <a:pt x="2178" y="20414"/>
                  </a:lnTo>
                  <a:lnTo>
                    <a:pt x="2178" y="20414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920"/>
              <a:ext cx="2762280" cy="7369200"/>
            </a:xfrm>
            <a:custGeom>
              <a:avLst/>
              <a:gdLst/>
              <a:ahLst/>
              <a:rect l="l" t="t" r="r" b="b"/>
              <a:pathLst>
                <a:path w="7671" h="20472">
                  <a:moveTo>
                    <a:pt x="2178" y="20447"/>
                  </a:moveTo>
                  <a:lnTo>
                    <a:pt x="7670" y="20471"/>
                  </a:lnTo>
                  <a:lnTo>
                    <a:pt x="2311" y="0"/>
                  </a:lnTo>
                  <a:lnTo>
                    <a:pt x="0" y="32"/>
                  </a:lnTo>
                  <a:lnTo>
                    <a:pt x="2178" y="20447"/>
                  </a:lnTo>
                  <a:lnTo>
                    <a:pt x="2178" y="20447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7359480"/>
            </a:xfrm>
            <a:custGeom>
              <a:avLst/>
              <a:gdLst/>
              <a:ahLst/>
              <a:rect l="l" t="t" r="r" b="b"/>
              <a:pathLst>
                <a:path w="9174" h="20444">
                  <a:moveTo>
                    <a:pt x="0" y="32"/>
                  </a:moveTo>
                  <a:lnTo>
                    <a:pt x="8246" y="20443"/>
                  </a:lnTo>
                  <a:lnTo>
                    <a:pt x="9173" y="20443"/>
                  </a:lnTo>
                  <a:lnTo>
                    <a:pt x="4555" y="0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81080"/>
              <a:ext cx="5562720" cy="2614680"/>
            </a:xfrm>
            <a:custGeom>
              <a:avLst/>
              <a:gdLst/>
              <a:ahLst/>
              <a:rect l="l" t="t" r="r" b="b"/>
              <a:pathLst>
                <a:path w="15453" h="7263">
                  <a:moveTo>
                    <a:pt x="0" y="6998"/>
                  </a:moveTo>
                  <a:cubicBezTo>
                    <a:pt x="6699" y="3137"/>
                    <a:pt x="12789" y="1105"/>
                    <a:pt x="15384" y="0"/>
                  </a:cubicBezTo>
                  <a:lnTo>
                    <a:pt x="15452" y="165"/>
                  </a:lnTo>
                  <a:cubicBezTo>
                    <a:pt x="12899" y="1377"/>
                    <a:pt x="5937" y="3613"/>
                    <a:pt x="64" y="7262"/>
                  </a:cubicBezTo>
                  <a:cubicBezTo>
                    <a:pt x="64" y="7262"/>
                    <a:pt x="0" y="6998"/>
                    <a:pt x="0" y="6998"/>
                  </a:cubicBezTo>
                  <a:lnTo>
                    <a:pt x="0" y="699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03360" y="52560"/>
              <a:ext cx="1787760" cy="4251240"/>
            </a:xfrm>
            <a:custGeom>
              <a:avLst/>
              <a:gdLst/>
              <a:ahLst/>
              <a:rect l="l" t="t" r="r" b="b"/>
              <a:pathLst>
                <a:path w="4967" h="11808">
                  <a:moveTo>
                    <a:pt x="4966" y="11719"/>
                  </a:moveTo>
                  <a:cubicBezTo>
                    <a:pt x="3203" y="6238"/>
                    <a:pt x="959" y="1941"/>
                    <a:pt x="107" y="0"/>
                  </a:cubicBezTo>
                  <a:lnTo>
                    <a:pt x="0" y="37"/>
                  </a:lnTo>
                  <a:cubicBezTo>
                    <a:pt x="785" y="2007"/>
                    <a:pt x="3388" y="6879"/>
                    <a:pt x="4819" y="11807"/>
                  </a:cubicBezTo>
                  <a:cubicBezTo>
                    <a:pt x="4819" y="11807"/>
                    <a:pt x="4966" y="11719"/>
                    <a:pt x="4966" y="11719"/>
                  </a:cubicBezTo>
                  <a:lnTo>
                    <a:pt x="4966" y="11719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8280"/>
              <a:ext cx="5562720" cy="2614680"/>
            </a:xfrm>
            <a:custGeom>
              <a:avLst/>
              <a:gdLst/>
              <a:ahLst/>
              <a:rect l="l" t="t" r="r" b="b"/>
              <a:pathLst>
                <a:path w="15453" h="7264">
                  <a:moveTo>
                    <a:pt x="0" y="6999"/>
                  </a:moveTo>
                  <a:cubicBezTo>
                    <a:pt x="6699" y="3137"/>
                    <a:pt x="12789" y="1106"/>
                    <a:pt x="15384" y="0"/>
                  </a:cubicBezTo>
                  <a:lnTo>
                    <a:pt x="15452" y="166"/>
                  </a:lnTo>
                  <a:cubicBezTo>
                    <a:pt x="12899" y="1378"/>
                    <a:pt x="5937" y="3613"/>
                    <a:pt x="64" y="7263"/>
                  </a:cubicBezTo>
                  <a:cubicBezTo>
                    <a:pt x="64" y="7263"/>
                    <a:pt x="0" y="6999"/>
                    <a:pt x="0" y="6999"/>
                  </a:cubicBezTo>
                  <a:lnTo>
                    <a:pt x="0" y="6999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0960" y="19080"/>
              <a:ext cx="1990800" cy="6153120"/>
            </a:xfrm>
            <a:custGeom>
              <a:avLst/>
              <a:gdLst/>
              <a:ahLst/>
              <a:rect l="l" t="t" r="r" b="b"/>
              <a:pathLst>
                <a:path w="5530" h="17093">
                  <a:moveTo>
                    <a:pt x="0" y="16967"/>
                  </a:moveTo>
                  <a:cubicBezTo>
                    <a:pt x="1771" y="9037"/>
                    <a:pt x="4411" y="2813"/>
                    <a:pt x="5368" y="0"/>
                  </a:cubicBezTo>
                  <a:lnTo>
                    <a:pt x="5529" y="56"/>
                  </a:lnTo>
                  <a:cubicBezTo>
                    <a:pt x="4673" y="2906"/>
                    <a:pt x="1595" y="9963"/>
                    <a:pt x="226" y="17092"/>
                  </a:cubicBezTo>
                  <a:cubicBezTo>
                    <a:pt x="226" y="17092"/>
                    <a:pt x="0" y="16967"/>
                    <a:pt x="0" y="16967"/>
                  </a:cubicBezTo>
                  <a:lnTo>
                    <a:pt x="0" y="16967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0" y="4680"/>
              <a:ext cx="2860560" cy="6083280"/>
            </a:xfrm>
            <a:custGeom>
              <a:avLst/>
              <a:gdLst/>
              <a:ahLst/>
              <a:rect l="l" t="t" r="r" b="b"/>
              <a:pathLst>
                <a:path w="7945" h="16897">
                  <a:moveTo>
                    <a:pt x="0" y="16707"/>
                  </a:moveTo>
                  <a:cubicBezTo>
                    <a:pt x="2855" y="8712"/>
                    <a:pt x="6419" y="2753"/>
                    <a:pt x="7781" y="0"/>
                  </a:cubicBezTo>
                  <a:lnTo>
                    <a:pt x="7944" y="100"/>
                  </a:lnTo>
                  <a:cubicBezTo>
                    <a:pt x="6686" y="2917"/>
                    <a:pt x="2554" y="9654"/>
                    <a:pt x="224" y="16896"/>
                  </a:cubicBezTo>
                  <a:cubicBezTo>
                    <a:pt x="224" y="16896"/>
                    <a:pt x="0" y="16707"/>
                    <a:pt x="0" y="16707"/>
                  </a:cubicBezTo>
                  <a:lnTo>
                    <a:pt x="0" y="16707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1040" y="36360"/>
              <a:ext cx="3262320" cy="5518440"/>
            </a:xfrm>
            <a:custGeom>
              <a:avLst/>
              <a:gdLst/>
              <a:ahLst/>
              <a:rect l="l" t="t" r="r" b="b"/>
              <a:pathLst>
                <a:path w="9064" h="15329">
                  <a:moveTo>
                    <a:pt x="9063" y="15150"/>
                  </a:moveTo>
                  <a:cubicBezTo>
                    <a:pt x="5612" y="7884"/>
                    <a:pt x="1689" y="2493"/>
                    <a:pt x="144" y="0"/>
                  </a:cubicBezTo>
                  <a:lnTo>
                    <a:pt x="0" y="93"/>
                  </a:lnTo>
                  <a:cubicBezTo>
                    <a:pt x="1454" y="2650"/>
                    <a:pt x="5986" y="8741"/>
                    <a:pt x="8869" y="15328"/>
                  </a:cubicBezTo>
                  <a:cubicBezTo>
                    <a:pt x="8869" y="15328"/>
                    <a:pt x="9063" y="15150"/>
                    <a:pt x="9063" y="15150"/>
                  </a:cubicBezTo>
                  <a:lnTo>
                    <a:pt x="9063" y="1515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3240"/>
              <a:ext cx="1730520" cy="3889440"/>
            </a:xfrm>
            <a:custGeom>
              <a:avLst/>
              <a:gdLst/>
              <a:ahLst/>
              <a:rect l="l" t="t" r="r" b="b"/>
              <a:pathLst>
                <a:path w="4805" h="10804">
                  <a:moveTo>
                    <a:pt x="0" y="10708"/>
                  </a:moveTo>
                  <a:cubicBezTo>
                    <a:pt x="1932" y="4708"/>
                    <a:pt x="3815" y="1781"/>
                    <a:pt x="4543" y="0"/>
                  </a:cubicBezTo>
                  <a:cubicBezTo>
                    <a:pt x="4543" y="0"/>
                    <a:pt x="4671" y="0"/>
                    <a:pt x="4804" y="0"/>
                  </a:cubicBezTo>
                  <a:cubicBezTo>
                    <a:pt x="2492" y="3942"/>
                    <a:pt x="798" y="8760"/>
                    <a:pt x="163" y="10803"/>
                  </a:cubicBezTo>
                  <a:cubicBezTo>
                    <a:pt x="163" y="10803"/>
                    <a:pt x="0" y="10708"/>
                    <a:pt x="0" y="10708"/>
                  </a:cubicBezTo>
                  <a:lnTo>
                    <a:pt x="0" y="1070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670800"/>
              <a:ext cx="9144000" cy="734760"/>
            </a:xfrm>
            <a:prstGeom prst="roundRect">
              <a:avLst>
                <a:gd name="adj" fmla="val 213"/>
              </a:avLst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748560"/>
              <a:ext cx="2757240" cy="650880"/>
            </a:xfrm>
            <a:custGeom>
              <a:avLst/>
              <a:gdLst/>
              <a:ahLst/>
              <a:rect l="l" t="t" r="r" b="b"/>
              <a:pathLst>
                <a:path w="7661" h="1808">
                  <a:moveTo>
                    <a:pt x="2178" y="1801"/>
                  </a:moveTo>
                  <a:lnTo>
                    <a:pt x="7660" y="1807"/>
                  </a:lnTo>
                  <a:lnTo>
                    <a:pt x="2310" y="0"/>
                  </a:lnTo>
                  <a:lnTo>
                    <a:pt x="0" y="2"/>
                  </a:lnTo>
                  <a:lnTo>
                    <a:pt x="2178" y="1801"/>
                  </a:lnTo>
                  <a:lnTo>
                    <a:pt x="2178" y="1801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748560"/>
              <a:ext cx="2759040" cy="649080"/>
            </a:xfrm>
            <a:custGeom>
              <a:avLst/>
              <a:gdLst/>
              <a:ahLst/>
              <a:rect l="l" t="t" r="r" b="b"/>
              <a:pathLst>
                <a:path w="7662" h="1803">
                  <a:moveTo>
                    <a:pt x="2178" y="1797"/>
                  </a:moveTo>
                  <a:lnTo>
                    <a:pt x="7661" y="1802"/>
                  </a:lnTo>
                  <a:lnTo>
                    <a:pt x="2311" y="0"/>
                  </a:lnTo>
                  <a:lnTo>
                    <a:pt x="0" y="2"/>
                  </a:lnTo>
                  <a:lnTo>
                    <a:pt x="2178" y="1797"/>
                  </a:lnTo>
                  <a:lnTo>
                    <a:pt x="2178" y="1797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748560"/>
              <a:ext cx="2762280" cy="650880"/>
            </a:xfrm>
            <a:custGeom>
              <a:avLst/>
              <a:gdLst/>
              <a:ahLst/>
              <a:rect l="l" t="t" r="r" b="b"/>
              <a:pathLst>
                <a:path w="7671" h="1808">
                  <a:moveTo>
                    <a:pt x="2178" y="1805"/>
                  </a:moveTo>
                  <a:lnTo>
                    <a:pt x="7670" y="1807"/>
                  </a:lnTo>
                  <a:lnTo>
                    <a:pt x="2311" y="0"/>
                  </a:lnTo>
                  <a:lnTo>
                    <a:pt x="0" y="2"/>
                  </a:lnTo>
                  <a:lnTo>
                    <a:pt x="2178" y="1805"/>
                  </a:lnTo>
                  <a:lnTo>
                    <a:pt x="2178" y="18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748560"/>
              <a:ext cx="3301920" cy="649080"/>
            </a:xfrm>
            <a:custGeom>
              <a:avLst/>
              <a:gdLst/>
              <a:ahLst/>
              <a:rect l="l" t="t" r="r" b="b"/>
              <a:pathLst>
                <a:path w="9174" h="1803">
                  <a:moveTo>
                    <a:pt x="0" y="2"/>
                  </a:moveTo>
                  <a:lnTo>
                    <a:pt x="8246" y="1802"/>
                  </a:lnTo>
                  <a:lnTo>
                    <a:pt x="9173" y="1802"/>
                  </a:lnTo>
                  <a:lnTo>
                    <a:pt x="4555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661080"/>
              <a:ext cx="9144000" cy="735120"/>
            </a:xfrm>
            <a:prstGeom prst="roundRect">
              <a:avLst>
                <a:gd name="adj" fmla="val 213"/>
              </a:avLst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683400"/>
              <a:ext cx="1646280" cy="716040"/>
            </a:xfrm>
            <a:custGeom>
              <a:avLst/>
              <a:gdLst/>
              <a:ahLst/>
              <a:rect l="l" t="t" r="r" b="b"/>
              <a:pathLst>
                <a:path w="4571" h="1988">
                  <a:moveTo>
                    <a:pt x="4530" y="0"/>
                  </a:moveTo>
                  <a:cubicBezTo>
                    <a:pt x="2240" y="752"/>
                    <a:pt x="736" y="1640"/>
                    <a:pt x="0" y="1972"/>
                  </a:cubicBezTo>
                  <a:cubicBezTo>
                    <a:pt x="0" y="1972"/>
                    <a:pt x="52" y="1977"/>
                    <a:pt x="105" y="1987"/>
                  </a:cubicBezTo>
                  <a:cubicBezTo>
                    <a:pt x="1045" y="1518"/>
                    <a:pt x="3123" y="497"/>
                    <a:pt x="4570" y="75"/>
                  </a:cubicBezTo>
                  <a:cubicBezTo>
                    <a:pt x="4570" y="75"/>
                    <a:pt x="4530" y="0"/>
                    <a:pt x="4530" y="0"/>
                  </a:cubicBezTo>
                  <a:lnTo>
                    <a:pt x="453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341440" y="6667560"/>
              <a:ext cx="1719360" cy="733320"/>
            </a:xfrm>
            <a:custGeom>
              <a:avLst/>
              <a:gdLst/>
              <a:ahLst/>
              <a:rect l="l" t="t" r="r" b="b"/>
              <a:pathLst>
                <a:path w="4775" h="2039">
                  <a:moveTo>
                    <a:pt x="4733" y="0"/>
                  </a:moveTo>
                  <a:cubicBezTo>
                    <a:pt x="2504" y="685"/>
                    <a:pt x="784" y="1634"/>
                    <a:pt x="0" y="1987"/>
                  </a:cubicBezTo>
                  <a:lnTo>
                    <a:pt x="20" y="2038"/>
                  </a:lnTo>
                  <a:cubicBezTo>
                    <a:pt x="816" y="1720"/>
                    <a:pt x="2766" y="615"/>
                    <a:pt x="4774" y="73"/>
                  </a:cubicBezTo>
                  <a:cubicBezTo>
                    <a:pt x="4774" y="73"/>
                    <a:pt x="4733" y="0"/>
                    <a:pt x="4733" y="0"/>
                  </a:cubicBezTo>
                  <a:lnTo>
                    <a:pt x="4733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98440" y="6667560"/>
              <a:ext cx="1719360" cy="733320"/>
            </a:xfrm>
            <a:custGeom>
              <a:avLst/>
              <a:gdLst/>
              <a:ahLst/>
              <a:rect l="l" t="t" r="r" b="b"/>
              <a:pathLst>
                <a:path w="4775" h="2039">
                  <a:moveTo>
                    <a:pt x="4733" y="0"/>
                  </a:moveTo>
                  <a:cubicBezTo>
                    <a:pt x="2504" y="685"/>
                    <a:pt x="784" y="1634"/>
                    <a:pt x="0" y="1987"/>
                  </a:cubicBezTo>
                  <a:lnTo>
                    <a:pt x="20" y="2038"/>
                  </a:lnTo>
                  <a:cubicBezTo>
                    <a:pt x="816" y="1720"/>
                    <a:pt x="2766" y="615"/>
                    <a:pt x="4774" y="73"/>
                  </a:cubicBezTo>
                  <a:cubicBezTo>
                    <a:pt x="4774" y="73"/>
                    <a:pt x="4733" y="0"/>
                    <a:pt x="4733" y="0"/>
                  </a:cubicBezTo>
                  <a:lnTo>
                    <a:pt x="4733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520" y="6638760"/>
              <a:ext cx="1697040" cy="695520"/>
            </a:xfrm>
            <a:custGeom>
              <a:avLst/>
              <a:gdLst/>
              <a:ahLst/>
              <a:rect l="l" t="t" r="r" b="b"/>
              <a:pathLst>
                <a:path w="4715" h="1931">
                  <a:moveTo>
                    <a:pt x="4672" y="0"/>
                  </a:moveTo>
                  <a:cubicBezTo>
                    <a:pt x="2467" y="634"/>
                    <a:pt x="772" y="1544"/>
                    <a:pt x="0" y="1877"/>
                  </a:cubicBezTo>
                  <a:lnTo>
                    <a:pt x="19" y="1930"/>
                  </a:lnTo>
                  <a:cubicBezTo>
                    <a:pt x="806" y="1629"/>
                    <a:pt x="2726" y="571"/>
                    <a:pt x="4714" y="75"/>
                  </a:cubicBezTo>
                  <a:cubicBezTo>
                    <a:pt x="4714" y="75"/>
                    <a:pt x="4672" y="0"/>
                    <a:pt x="4672" y="0"/>
                  </a:cubicBezTo>
                  <a:lnTo>
                    <a:pt x="4672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14400" y="6670800"/>
              <a:ext cx="5638680" cy="736560"/>
            </a:xfrm>
            <a:custGeom>
              <a:avLst/>
              <a:gdLst/>
              <a:ahLst/>
              <a:rect l="l" t="t" r="r" b="b"/>
              <a:pathLst>
                <a:path w="15665" h="2044">
                  <a:moveTo>
                    <a:pt x="15664" y="75"/>
                  </a:moveTo>
                  <a:cubicBezTo>
                    <a:pt x="8873" y="1161"/>
                    <a:pt x="2701" y="1732"/>
                    <a:pt x="70" y="2043"/>
                  </a:cubicBezTo>
                  <a:lnTo>
                    <a:pt x="0" y="1997"/>
                  </a:lnTo>
                  <a:cubicBezTo>
                    <a:pt x="2589" y="1656"/>
                    <a:pt x="9646" y="1027"/>
                    <a:pt x="15599" y="0"/>
                  </a:cubicBezTo>
                  <a:cubicBezTo>
                    <a:pt x="15599" y="0"/>
                    <a:pt x="15664" y="75"/>
                    <a:pt x="15664" y="75"/>
                  </a:cubicBezTo>
                  <a:lnTo>
                    <a:pt x="15664" y="7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80880" y="6670800"/>
              <a:ext cx="2440080" cy="736560"/>
            </a:xfrm>
            <a:custGeom>
              <a:avLst/>
              <a:gdLst/>
              <a:ahLst/>
              <a:rect l="l" t="t" r="r" b="b"/>
              <a:pathLst>
                <a:path w="6776" h="2044">
                  <a:moveTo>
                    <a:pt x="6775" y="75"/>
                  </a:moveTo>
                  <a:cubicBezTo>
                    <a:pt x="3838" y="1161"/>
                    <a:pt x="1168" y="1732"/>
                    <a:pt x="30" y="2043"/>
                  </a:cubicBezTo>
                  <a:lnTo>
                    <a:pt x="0" y="1997"/>
                  </a:lnTo>
                  <a:cubicBezTo>
                    <a:pt x="1120" y="1656"/>
                    <a:pt x="4172" y="1027"/>
                    <a:pt x="6747" y="0"/>
                  </a:cubicBezTo>
                  <a:cubicBezTo>
                    <a:pt x="6747" y="0"/>
                    <a:pt x="6775" y="75"/>
                    <a:pt x="6775" y="75"/>
                  </a:cubicBezTo>
                  <a:lnTo>
                    <a:pt x="6775" y="7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19680" y="6751800"/>
              <a:ext cx="2116080" cy="652320"/>
            </a:xfrm>
            <a:custGeom>
              <a:avLst/>
              <a:gdLst/>
              <a:ahLst/>
              <a:rect l="l" t="t" r="r" b="b"/>
              <a:pathLst>
                <a:path w="5876" h="1813">
                  <a:moveTo>
                    <a:pt x="5875" y="66"/>
                  </a:moveTo>
                  <a:cubicBezTo>
                    <a:pt x="3328" y="1029"/>
                    <a:pt x="1013" y="1536"/>
                    <a:pt x="26" y="1812"/>
                  </a:cubicBezTo>
                  <a:lnTo>
                    <a:pt x="0" y="1771"/>
                  </a:lnTo>
                  <a:cubicBezTo>
                    <a:pt x="971" y="1469"/>
                    <a:pt x="3618" y="911"/>
                    <a:pt x="5851" y="0"/>
                  </a:cubicBezTo>
                  <a:cubicBezTo>
                    <a:pt x="5851" y="0"/>
                    <a:pt x="5875" y="66"/>
                    <a:pt x="5875" y="66"/>
                  </a:cubicBezTo>
                  <a:lnTo>
                    <a:pt x="5875" y="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324480" y="6670800"/>
              <a:ext cx="2440080" cy="736560"/>
            </a:xfrm>
            <a:custGeom>
              <a:avLst/>
              <a:gdLst/>
              <a:ahLst/>
              <a:rect l="l" t="t" r="r" b="b"/>
              <a:pathLst>
                <a:path w="6776" h="2044">
                  <a:moveTo>
                    <a:pt x="6775" y="75"/>
                  </a:moveTo>
                  <a:cubicBezTo>
                    <a:pt x="3838" y="1161"/>
                    <a:pt x="1168" y="1732"/>
                    <a:pt x="30" y="2043"/>
                  </a:cubicBezTo>
                  <a:lnTo>
                    <a:pt x="0" y="1997"/>
                  </a:lnTo>
                  <a:cubicBezTo>
                    <a:pt x="1120" y="1656"/>
                    <a:pt x="4172" y="1027"/>
                    <a:pt x="6747" y="0"/>
                  </a:cubicBezTo>
                  <a:cubicBezTo>
                    <a:pt x="6747" y="0"/>
                    <a:pt x="6775" y="75"/>
                    <a:pt x="6775" y="75"/>
                  </a:cubicBezTo>
                  <a:lnTo>
                    <a:pt x="6775" y="7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486400" y="6670800"/>
              <a:ext cx="3657600" cy="736560"/>
            </a:xfrm>
            <a:custGeom>
              <a:avLst/>
              <a:gdLst/>
              <a:ahLst/>
              <a:rect l="l" t="t" r="r" b="b"/>
              <a:pathLst>
                <a:path w="10162" h="2044">
                  <a:moveTo>
                    <a:pt x="10161" y="75"/>
                  </a:moveTo>
                  <a:cubicBezTo>
                    <a:pt x="5756" y="1161"/>
                    <a:pt x="1752" y="1732"/>
                    <a:pt x="45" y="2043"/>
                  </a:cubicBezTo>
                  <a:lnTo>
                    <a:pt x="0" y="1997"/>
                  </a:lnTo>
                  <a:cubicBezTo>
                    <a:pt x="1679" y="1656"/>
                    <a:pt x="6258" y="1027"/>
                    <a:pt x="10119" y="0"/>
                  </a:cubicBezTo>
                  <a:cubicBezTo>
                    <a:pt x="10119" y="0"/>
                    <a:pt x="10161" y="75"/>
                    <a:pt x="10161" y="75"/>
                  </a:cubicBezTo>
                  <a:lnTo>
                    <a:pt x="10161" y="7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705720"/>
              <a:ext cx="9144000" cy="23760"/>
            </a:xfrm>
            <a:prstGeom prst="roundRect">
              <a:avLst>
                <a:gd name="adj" fmla="val 7139"/>
              </a:avLst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"/>
          <p:cNvSpPr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096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-14400"/>
            <a:ext cx="9155160" cy="6885000"/>
            <a:chOff x="0" y="-14400"/>
            <a:chExt cx="9155160" cy="6885000"/>
          </a:xfrm>
        </p:grpSpPr>
        <p:sp>
          <p:nvSpPr>
            <p:cNvPr id="6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7661" h="19108">
                  <a:moveTo>
                    <a:pt x="2178" y="19058"/>
                  </a:moveTo>
                  <a:lnTo>
                    <a:pt x="7660" y="19107"/>
                  </a:lnTo>
                  <a:lnTo>
                    <a:pt x="2310" y="0"/>
                  </a:lnTo>
                  <a:lnTo>
                    <a:pt x="0" y="30"/>
                  </a:lnTo>
                  <a:lnTo>
                    <a:pt x="2178" y="19058"/>
                  </a:lnTo>
                  <a:lnTo>
                    <a:pt x="2178" y="19058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2759040" cy="6872400"/>
            </a:xfrm>
            <a:custGeom>
              <a:avLst/>
              <a:gdLst/>
              <a:ahLst/>
              <a:rect l="l" t="t" r="r" b="b"/>
              <a:pathLst>
                <a:path w="7662" h="19091">
                  <a:moveTo>
                    <a:pt x="2178" y="19041"/>
                  </a:moveTo>
                  <a:lnTo>
                    <a:pt x="7661" y="19090"/>
                  </a:lnTo>
                  <a:lnTo>
                    <a:pt x="2311" y="0"/>
                  </a:lnTo>
                  <a:lnTo>
                    <a:pt x="0" y="30"/>
                  </a:lnTo>
                  <a:lnTo>
                    <a:pt x="2178" y="19041"/>
                  </a:lnTo>
                  <a:lnTo>
                    <a:pt x="2178" y="19041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-6480"/>
              <a:ext cx="2762280" cy="6873840"/>
            </a:xfrm>
            <a:custGeom>
              <a:avLst/>
              <a:gdLst/>
              <a:ahLst/>
              <a:rect l="l" t="t" r="r" b="b"/>
              <a:pathLst>
                <a:path w="7671" h="19095">
                  <a:moveTo>
                    <a:pt x="2178" y="19072"/>
                  </a:moveTo>
                  <a:lnTo>
                    <a:pt x="7670" y="19094"/>
                  </a:lnTo>
                  <a:lnTo>
                    <a:pt x="2311" y="0"/>
                  </a:lnTo>
                  <a:lnTo>
                    <a:pt x="0" y="30"/>
                  </a:lnTo>
                  <a:lnTo>
                    <a:pt x="2178" y="19072"/>
                  </a:lnTo>
                  <a:lnTo>
                    <a:pt x="2178" y="19072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9174" h="19069">
                  <a:moveTo>
                    <a:pt x="0" y="30"/>
                  </a:moveTo>
                  <a:lnTo>
                    <a:pt x="8246" y="19068"/>
                  </a:lnTo>
                  <a:lnTo>
                    <a:pt x="9173" y="19068"/>
                  </a:lnTo>
                  <a:lnTo>
                    <a:pt x="4555" y="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15453" h="6775">
                  <a:moveTo>
                    <a:pt x="0" y="6528"/>
                  </a:moveTo>
                  <a:cubicBezTo>
                    <a:pt x="6699" y="2926"/>
                    <a:pt x="12789" y="1031"/>
                    <a:pt x="15384" y="0"/>
                  </a:cubicBezTo>
                  <a:lnTo>
                    <a:pt x="15452" y="154"/>
                  </a:lnTo>
                  <a:cubicBezTo>
                    <a:pt x="12899" y="1285"/>
                    <a:pt x="5937" y="3370"/>
                    <a:pt x="64" y="6774"/>
                  </a:cubicBezTo>
                  <a:cubicBezTo>
                    <a:pt x="64" y="6774"/>
                    <a:pt x="0" y="6528"/>
                    <a:pt x="0" y="6528"/>
                  </a:cubicBezTo>
                  <a:lnTo>
                    <a:pt x="0" y="652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03360" y="34920"/>
              <a:ext cx="1787760" cy="3963960"/>
            </a:xfrm>
            <a:custGeom>
              <a:avLst/>
              <a:gdLst/>
              <a:ahLst/>
              <a:rect l="l" t="t" r="r" b="b"/>
              <a:pathLst>
                <a:path w="4967" h="11013">
                  <a:moveTo>
                    <a:pt x="4966" y="10930"/>
                  </a:moveTo>
                  <a:cubicBezTo>
                    <a:pt x="3203" y="5819"/>
                    <a:pt x="959" y="1811"/>
                    <a:pt x="107" y="0"/>
                  </a:cubicBezTo>
                  <a:lnTo>
                    <a:pt x="0" y="35"/>
                  </a:lnTo>
                  <a:cubicBezTo>
                    <a:pt x="785" y="1872"/>
                    <a:pt x="3388" y="6417"/>
                    <a:pt x="4819" y="11012"/>
                  </a:cubicBezTo>
                  <a:cubicBezTo>
                    <a:pt x="4819" y="11012"/>
                    <a:pt x="4966" y="10930"/>
                    <a:pt x="4966" y="10930"/>
                  </a:cubicBezTo>
                  <a:lnTo>
                    <a:pt x="4966" y="1093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15453" h="6775">
                  <a:moveTo>
                    <a:pt x="0" y="6528"/>
                  </a:moveTo>
                  <a:cubicBezTo>
                    <a:pt x="6699" y="2926"/>
                    <a:pt x="12789" y="1031"/>
                    <a:pt x="15384" y="0"/>
                  </a:cubicBezTo>
                  <a:lnTo>
                    <a:pt x="15452" y="154"/>
                  </a:lnTo>
                  <a:cubicBezTo>
                    <a:pt x="12899" y="1285"/>
                    <a:pt x="5937" y="3370"/>
                    <a:pt x="64" y="6774"/>
                  </a:cubicBezTo>
                  <a:cubicBezTo>
                    <a:pt x="64" y="6774"/>
                    <a:pt x="0" y="6528"/>
                    <a:pt x="0" y="6528"/>
                  </a:cubicBezTo>
                  <a:lnTo>
                    <a:pt x="0" y="652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0960" y="3240"/>
              <a:ext cx="1990800" cy="5738760"/>
            </a:xfrm>
            <a:custGeom>
              <a:avLst/>
              <a:gdLst/>
              <a:ahLst/>
              <a:rect l="l" t="t" r="r" b="b"/>
              <a:pathLst>
                <a:path w="5530" h="15942">
                  <a:moveTo>
                    <a:pt x="0" y="15825"/>
                  </a:moveTo>
                  <a:cubicBezTo>
                    <a:pt x="1771" y="8429"/>
                    <a:pt x="4411" y="2623"/>
                    <a:pt x="5368" y="0"/>
                  </a:cubicBezTo>
                  <a:lnTo>
                    <a:pt x="5529" y="52"/>
                  </a:lnTo>
                  <a:cubicBezTo>
                    <a:pt x="4673" y="2710"/>
                    <a:pt x="1595" y="9293"/>
                    <a:pt x="226" y="15941"/>
                  </a:cubicBezTo>
                  <a:cubicBezTo>
                    <a:pt x="226" y="15941"/>
                    <a:pt x="0" y="15825"/>
                    <a:pt x="0" y="15825"/>
                  </a:cubicBezTo>
                  <a:lnTo>
                    <a:pt x="0" y="1582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4400" y="-9360"/>
              <a:ext cx="2860560" cy="5673600"/>
            </a:xfrm>
            <a:custGeom>
              <a:avLst/>
              <a:gdLst/>
              <a:ahLst/>
              <a:rect l="l" t="t" r="r" b="b"/>
              <a:pathLst>
                <a:path w="7945" h="15760">
                  <a:moveTo>
                    <a:pt x="0" y="15583"/>
                  </a:moveTo>
                  <a:cubicBezTo>
                    <a:pt x="2855" y="8126"/>
                    <a:pt x="6419" y="2568"/>
                    <a:pt x="7781" y="0"/>
                  </a:cubicBezTo>
                  <a:lnTo>
                    <a:pt x="7944" y="93"/>
                  </a:lnTo>
                  <a:cubicBezTo>
                    <a:pt x="6686" y="2721"/>
                    <a:pt x="2554" y="9005"/>
                    <a:pt x="224" y="15759"/>
                  </a:cubicBezTo>
                  <a:cubicBezTo>
                    <a:pt x="224" y="15759"/>
                    <a:pt x="0" y="15583"/>
                    <a:pt x="0" y="15583"/>
                  </a:cubicBezTo>
                  <a:lnTo>
                    <a:pt x="0" y="1558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91040" y="19080"/>
              <a:ext cx="3262320" cy="5146560"/>
            </a:xfrm>
            <a:custGeom>
              <a:avLst/>
              <a:gdLst/>
              <a:ahLst/>
              <a:rect l="l" t="t" r="r" b="b"/>
              <a:pathLst>
                <a:path w="9064" h="14298">
                  <a:moveTo>
                    <a:pt x="9063" y="14131"/>
                  </a:moveTo>
                  <a:cubicBezTo>
                    <a:pt x="5612" y="7354"/>
                    <a:pt x="1689" y="2326"/>
                    <a:pt x="144" y="0"/>
                  </a:cubicBezTo>
                  <a:lnTo>
                    <a:pt x="0" y="87"/>
                  </a:lnTo>
                  <a:cubicBezTo>
                    <a:pt x="1454" y="2472"/>
                    <a:pt x="5986" y="8154"/>
                    <a:pt x="8869" y="14297"/>
                  </a:cubicBezTo>
                  <a:cubicBezTo>
                    <a:pt x="8869" y="14297"/>
                    <a:pt x="9063" y="14131"/>
                    <a:pt x="9063" y="14131"/>
                  </a:cubicBezTo>
                  <a:lnTo>
                    <a:pt x="9063" y="14131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-11160"/>
              <a:ext cx="1730520" cy="3627360"/>
            </a:xfrm>
            <a:custGeom>
              <a:avLst/>
              <a:gdLst/>
              <a:ahLst/>
              <a:rect l="l" t="t" r="r" b="b"/>
              <a:pathLst>
                <a:path w="4805" h="10077">
                  <a:moveTo>
                    <a:pt x="0" y="9987"/>
                  </a:moveTo>
                  <a:cubicBezTo>
                    <a:pt x="1932" y="4392"/>
                    <a:pt x="3815" y="1662"/>
                    <a:pt x="4543" y="0"/>
                  </a:cubicBezTo>
                  <a:cubicBezTo>
                    <a:pt x="4543" y="0"/>
                    <a:pt x="4671" y="0"/>
                    <a:pt x="4804" y="0"/>
                  </a:cubicBezTo>
                  <a:cubicBezTo>
                    <a:pt x="2492" y="3677"/>
                    <a:pt x="798" y="8171"/>
                    <a:pt x="163" y="10076"/>
                  </a:cubicBezTo>
                  <a:cubicBezTo>
                    <a:pt x="163" y="10076"/>
                    <a:pt x="0" y="9987"/>
                    <a:pt x="0" y="9987"/>
                  </a:cubicBezTo>
                  <a:lnTo>
                    <a:pt x="0" y="9987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9144000" cy="685800"/>
            </a:xfrm>
            <a:prstGeom prst="roundRect">
              <a:avLst>
                <a:gd name="adj" fmla="val 231"/>
              </a:avLst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7661" h="1686">
                  <a:moveTo>
                    <a:pt x="2178" y="1680"/>
                  </a:moveTo>
                  <a:lnTo>
                    <a:pt x="7660" y="1685"/>
                  </a:lnTo>
                  <a:lnTo>
                    <a:pt x="2310" y="0"/>
                  </a:lnTo>
                  <a:lnTo>
                    <a:pt x="0" y="2"/>
                  </a:lnTo>
                  <a:lnTo>
                    <a:pt x="2178" y="1680"/>
                  </a:lnTo>
                  <a:lnTo>
                    <a:pt x="2178" y="168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2759040" cy="604800"/>
            </a:xfrm>
            <a:custGeom>
              <a:avLst/>
              <a:gdLst/>
              <a:ahLst/>
              <a:rect l="l" t="t" r="r" b="b"/>
              <a:pathLst>
                <a:path w="7662" h="1682">
                  <a:moveTo>
                    <a:pt x="2178" y="1676"/>
                  </a:moveTo>
                  <a:lnTo>
                    <a:pt x="7661" y="1681"/>
                  </a:lnTo>
                  <a:lnTo>
                    <a:pt x="2311" y="0"/>
                  </a:lnTo>
                  <a:lnTo>
                    <a:pt x="0" y="2"/>
                  </a:lnTo>
                  <a:lnTo>
                    <a:pt x="2178" y="1676"/>
                  </a:lnTo>
                  <a:lnTo>
                    <a:pt x="2178" y="167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3948120"/>
              <a:ext cx="2762280" cy="606240"/>
            </a:xfrm>
            <a:custGeom>
              <a:avLst/>
              <a:gdLst/>
              <a:ahLst/>
              <a:rect l="l" t="t" r="r" b="b"/>
              <a:pathLst>
                <a:path w="7671" h="1686">
                  <a:moveTo>
                    <a:pt x="2178" y="1683"/>
                  </a:moveTo>
                  <a:lnTo>
                    <a:pt x="7670" y="1685"/>
                  </a:lnTo>
                  <a:lnTo>
                    <a:pt x="2311" y="0"/>
                  </a:lnTo>
                  <a:lnTo>
                    <a:pt x="0" y="2"/>
                  </a:lnTo>
                  <a:lnTo>
                    <a:pt x="2178" y="1683"/>
                  </a:lnTo>
                  <a:lnTo>
                    <a:pt x="2178" y="168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9174" h="1682">
                  <a:moveTo>
                    <a:pt x="0" y="2"/>
                  </a:moveTo>
                  <a:lnTo>
                    <a:pt x="8246" y="1681"/>
                  </a:lnTo>
                  <a:lnTo>
                    <a:pt x="9173" y="1681"/>
                  </a:lnTo>
                  <a:lnTo>
                    <a:pt x="4555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3898800"/>
              <a:ext cx="9144000" cy="685800"/>
            </a:xfrm>
            <a:prstGeom prst="roundRect">
              <a:avLst>
                <a:gd name="adj" fmla="val 231"/>
              </a:avLst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3887640"/>
              <a:ext cx="1646280" cy="666720"/>
            </a:xfrm>
            <a:custGeom>
              <a:avLst/>
              <a:gdLst/>
              <a:ahLst/>
              <a:rect l="l" t="t" r="r" b="b"/>
              <a:pathLst>
                <a:path w="4571" h="1854">
                  <a:moveTo>
                    <a:pt x="4530" y="0"/>
                  </a:moveTo>
                  <a:cubicBezTo>
                    <a:pt x="2240" y="701"/>
                    <a:pt x="736" y="1530"/>
                    <a:pt x="0" y="1839"/>
                  </a:cubicBezTo>
                  <a:cubicBezTo>
                    <a:pt x="0" y="1839"/>
                    <a:pt x="52" y="1844"/>
                    <a:pt x="105" y="1853"/>
                  </a:cubicBezTo>
                  <a:cubicBezTo>
                    <a:pt x="1045" y="1416"/>
                    <a:pt x="3123" y="463"/>
                    <a:pt x="4570" y="70"/>
                  </a:cubicBezTo>
                  <a:cubicBezTo>
                    <a:pt x="4570" y="70"/>
                    <a:pt x="4530" y="0"/>
                    <a:pt x="4530" y="0"/>
                  </a:cubicBezTo>
                  <a:lnTo>
                    <a:pt x="453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41440" y="3871800"/>
              <a:ext cx="1719360" cy="684360"/>
            </a:xfrm>
            <a:custGeom>
              <a:avLst/>
              <a:gdLst/>
              <a:ahLst/>
              <a:rect l="l" t="t" r="r" b="b"/>
              <a:pathLst>
                <a:path w="4775" h="1902">
                  <a:moveTo>
                    <a:pt x="4733" y="0"/>
                  </a:moveTo>
                  <a:cubicBezTo>
                    <a:pt x="2504" y="639"/>
                    <a:pt x="784" y="1524"/>
                    <a:pt x="0" y="1853"/>
                  </a:cubicBezTo>
                  <a:lnTo>
                    <a:pt x="20" y="1901"/>
                  </a:lnTo>
                  <a:cubicBezTo>
                    <a:pt x="816" y="1604"/>
                    <a:pt x="2766" y="574"/>
                    <a:pt x="4774" y="68"/>
                  </a:cubicBezTo>
                  <a:cubicBezTo>
                    <a:pt x="4774" y="68"/>
                    <a:pt x="4733" y="0"/>
                    <a:pt x="4733" y="0"/>
                  </a:cubicBezTo>
                  <a:lnTo>
                    <a:pt x="4733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98440" y="3871800"/>
              <a:ext cx="1719360" cy="684360"/>
            </a:xfrm>
            <a:custGeom>
              <a:avLst/>
              <a:gdLst/>
              <a:ahLst/>
              <a:rect l="l" t="t" r="r" b="b"/>
              <a:pathLst>
                <a:path w="4775" h="1902">
                  <a:moveTo>
                    <a:pt x="4733" y="0"/>
                  </a:moveTo>
                  <a:cubicBezTo>
                    <a:pt x="2504" y="639"/>
                    <a:pt x="784" y="1524"/>
                    <a:pt x="0" y="1853"/>
                  </a:cubicBezTo>
                  <a:lnTo>
                    <a:pt x="20" y="1901"/>
                  </a:lnTo>
                  <a:cubicBezTo>
                    <a:pt x="816" y="1604"/>
                    <a:pt x="2766" y="574"/>
                    <a:pt x="4774" y="68"/>
                  </a:cubicBezTo>
                  <a:cubicBezTo>
                    <a:pt x="4774" y="68"/>
                    <a:pt x="4733" y="0"/>
                    <a:pt x="4733" y="0"/>
                  </a:cubicBezTo>
                  <a:lnTo>
                    <a:pt x="4733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20" y="3844800"/>
              <a:ext cx="1697040" cy="648000"/>
            </a:xfrm>
            <a:custGeom>
              <a:avLst/>
              <a:gdLst/>
              <a:ahLst/>
              <a:rect l="l" t="t" r="r" b="b"/>
              <a:pathLst>
                <a:path w="4715" h="1801">
                  <a:moveTo>
                    <a:pt x="4672" y="0"/>
                  </a:moveTo>
                  <a:cubicBezTo>
                    <a:pt x="2467" y="592"/>
                    <a:pt x="772" y="1440"/>
                    <a:pt x="0" y="1751"/>
                  </a:cubicBezTo>
                  <a:lnTo>
                    <a:pt x="19" y="1800"/>
                  </a:lnTo>
                  <a:cubicBezTo>
                    <a:pt x="806" y="1520"/>
                    <a:pt x="2726" y="533"/>
                    <a:pt x="4714" y="70"/>
                  </a:cubicBezTo>
                  <a:cubicBezTo>
                    <a:pt x="4714" y="70"/>
                    <a:pt x="4672" y="0"/>
                    <a:pt x="4672" y="0"/>
                  </a:cubicBezTo>
                  <a:lnTo>
                    <a:pt x="4672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3875040"/>
              <a:ext cx="5638680" cy="685800"/>
            </a:xfrm>
            <a:custGeom>
              <a:avLst/>
              <a:gdLst/>
              <a:ahLst/>
              <a:rect l="l" t="t" r="r" b="b"/>
              <a:pathLst>
                <a:path w="15665" h="1907">
                  <a:moveTo>
                    <a:pt x="15664" y="70"/>
                  </a:moveTo>
                  <a:cubicBezTo>
                    <a:pt x="8873" y="1083"/>
                    <a:pt x="2701" y="1616"/>
                    <a:pt x="70" y="1906"/>
                  </a:cubicBezTo>
                  <a:lnTo>
                    <a:pt x="0" y="1863"/>
                  </a:lnTo>
                  <a:cubicBezTo>
                    <a:pt x="2589" y="1545"/>
                    <a:pt x="9646" y="958"/>
                    <a:pt x="15599" y="0"/>
                  </a:cubicBezTo>
                  <a:cubicBezTo>
                    <a:pt x="15599" y="0"/>
                    <a:pt x="15664" y="70"/>
                    <a:pt x="15664" y="70"/>
                  </a:cubicBezTo>
                  <a:lnTo>
                    <a:pt x="15664" y="7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880" y="3875040"/>
              <a:ext cx="2440080" cy="685800"/>
            </a:xfrm>
            <a:custGeom>
              <a:avLst/>
              <a:gdLst/>
              <a:ahLst/>
              <a:rect l="l" t="t" r="r" b="b"/>
              <a:pathLst>
                <a:path w="6776" h="1907">
                  <a:moveTo>
                    <a:pt x="6775" y="70"/>
                  </a:moveTo>
                  <a:cubicBezTo>
                    <a:pt x="3838" y="1083"/>
                    <a:pt x="1168" y="1616"/>
                    <a:pt x="30" y="1906"/>
                  </a:cubicBezTo>
                  <a:lnTo>
                    <a:pt x="0" y="1863"/>
                  </a:lnTo>
                  <a:cubicBezTo>
                    <a:pt x="1120" y="1545"/>
                    <a:pt x="4172" y="958"/>
                    <a:pt x="6747" y="0"/>
                  </a:cubicBezTo>
                  <a:cubicBezTo>
                    <a:pt x="6747" y="0"/>
                    <a:pt x="6775" y="70"/>
                    <a:pt x="6775" y="70"/>
                  </a:cubicBezTo>
                  <a:lnTo>
                    <a:pt x="6775" y="7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9680" y="3951360"/>
              <a:ext cx="2116080" cy="608040"/>
            </a:xfrm>
            <a:custGeom>
              <a:avLst/>
              <a:gdLst/>
              <a:ahLst/>
              <a:rect l="l" t="t" r="r" b="b"/>
              <a:pathLst>
                <a:path w="5876" h="1691">
                  <a:moveTo>
                    <a:pt x="5875" y="62"/>
                  </a:moveTo>
                  <a:cubicBezTo>
                    <a:pt x="3328" y="960"/>
                    <a:pt x="1013" y="1433"/>
                    <a:pt x="26" y="1690"/>
                  </a:cubicBezTo>
                  <a:lnTo>
                    <a:pt x="0" y="1652"/>
                  </a:lnTo>
                  <a:cubicBezTo>
                    <a:pt x="971" y="1370"/>
                    <a:pt x="3618" y="850"/>
                    <a:pt x="5851" y="0"/>
                  </a:cubicBezTo>
                  <a:cubicBezTo>
                    <a:pt x="5851" y="0"/>
                    <a:pt x="5875" y="62"/>
                    <a:pt x="5875" y="62"/>
                  </a:cubicBezTo>
                  <a:lnTo>
                    <a:pt x="5875" y="6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3875040"/>
              <a:ext cx="2440080" cy="685800"/>
            </a:xfrm>
            <a:custGeom>
              <a:avLst/>
              <a:gdLst/>
              <a:ahLst/>
              <a:rect l="l" t="t" r="r" b="b"/>
              <a:pathLst>
                <a:path w="6776" h="1907">
                  <a:moveTo>
                    <a:pt x="6775" y="70"/>
                  </a:moveTo>
                  <a:cubicBezTo>
                    <a:pt x="3838" y="1083"/>
                    <a:pt x="1168" y="1616"/>
                    <a:pt x="30" y="1906"/>
                  </a:cubicBezTo>
                  <a:lnTo>
                    <a:pt x="0" y="1863"/>
                  </a:lnTo>
                  <a:cubicBezTo>
                    <a:pt x="1120" y="1545"/>
                    <a:pt x="4172" y="958"/>
                    <a:pt x="6747" y="0"/>
                  </a:cubicBezTo>
                  <a:cubicBezTo>
                    <a:pt x="6747" y="0"/>
                    <a:pt x="6775" y="70"/>
                    <a:pt x="6775" y="70"/>
                  </a:cubicBezTo>
                  <a:lnTo>
                    <a:pt x="6775" y="7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3875040"/>
              <a:ext cx="3657600" cy="685800"/>
            </a:xfrm>
            <a:custGeom>
              <a:avLst/>
              <a:gdLst/>
              <a:ahLst/>
              <a:rect l="l" t="t" r="r" b="b"/>
              <a:pathLst>
                <a:path w="10162" h="1907">
                  <a:moveTo>
                    <a:pt x="10161" y="70"/>
                  </a:moveTo>
                  <a:cubicBezTo>
                    <a:pt x="5756" y="1083"/>
                    <a:pt x="1752" y="1616"/>
                    <a:pt x="45" y="1906"/>
                  </a:cubicBezTo>
                  <a:lnTo>
                    <a:pt x="0" y="1863"/>
                  </a:lnTo>
                  <a:cubicBezTo>
                    <a:pt x="1679" y="1545"/>
                    <a:pt x="6258" y="958"/>
                    <a:pt x="10119" y="0"/>
                  </a:cubicBezTo>
                  <a:cubicBezTo>
                    <a:pt x="10119" y="0"/>
                    <a:pt x="10161" y="70"/>
                    <a:pt x="10161" y="70"/>
                  </a:cubicBezTo>
                  <a:lnTo>
                    <a:pt x="10161" y="7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9144000" cy="21960"/>
            </a:xfrm>
            <a:prstGeom prst="roundRect">
              <a:avLst>
                <a:gd name="adj" fmla="val 7139"/>
              </a:avLst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9144000" cy="914400"/>
            </a:xfrm>
            <a:prstGeom prst="roundRect">
              <a:avLst>
                <a:gd name="adj" fmla="val 171"/>
              </a:avLst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9144000" cy="1447920"/>
            </a:xfrm>
            <a:prstGeom prst="roundRect">
              <a:avLst>
                <a:gd name="adj" fmla="val 106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744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Tre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04920" y="1600200"/>
            <a:ext cx="3809880" cy="2666880"/>
            <a:chOff x="304920" y="1600200"/>
            <a:chExt cx="3809880" cy="2666880"/>
          </a:xfrm>
        </p:grpSpPr>
        <p:sp>
          <p:nvSpPr>
            <p:cNvPr id="141" name=""/>
            <p:cNvSpPr/>
            <p:nvPr/>
          </p:nvSpPr>
          <p:spPr>
            <a:xfrm>
              <a:off x="304920" y="1600200"/>
              <a:ext cx="3809880" cy="266688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2321640" y="2810520"/>
              <a:ext cx="225720" cy="897120"/>
            </a:xfrm>
            <a:prstGeom prst="bentConnector5">
              <a:avLst>
                <a:gd name="adj1" fmla="val 299361"/>
                <a:gd name="adj2" fmla="val 162986"/>
                <a:gd name="adj3" fmla="val -28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4" idx="2"/>
            </p:cNvCxnSpPr>
            <p:nvPr/>
          </p:nvCxnSpPr>
          <p:spPr>
            <a:xfrm rot="16200000">
              <a:off x="1873440" y="3259080"/>
              <a:ext cx="225720" cy="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"/>
            <p:cNvCxnSpPr>
              <a:stCxn id="148" idx="0"/>
              <a:endCxn id="144" idx="2"/>
            </p:cNvCxnSpPr>
            <p:nvPr/>
          </p:nvCxnSpPr>
          <p:spPr>
            <a:xfrm flipH="1" flipV="1" rot="5400000">
              <a:off x="1424160" y="2809800"/>
              <a:ext cx="225720" cy="898920"/>
            </a:xfrm>
            <a:prstGeom prst="bentConnector5">
              <a:avLst>
                <a:gd name="adj1" fmla="val 299361"/>
                <a:gd name="adj2" fmla="val 162900"/>
                <a:gd name="adj3" fmla="val -28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"/>
            <p:cNvCxnSpPr>
              <a:stCxn id="150" idx="0"/>
              <a:endCxn id="151" idx="2"/>
            </p:cNvCxnSpPr>
            <p:nvPr/>
          </p:nvCxnSpPr>
          <p:spPr>
            <a:xfrm flipV="1" rot="16200000">
              <a:off x="2995560" y="2143080"/>
              <a:ext cx="224280" cy="1348200"/>
            </a:xfrm>
            <a:prstGeom prst="bentConnector5">
              <a:avLst>
                <a:gd name="adj1" fmla="val 103536"/>
                <a:gd name="adj2" fmla="val 49973"/>
                <a:gd name="adj3" fmla="val -35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2" name=""/>
            <p:cNvCxnSpPr>
              <a:stCxn id="153" idx="0"/>
              <a:endCxn id="151" idx="2"/>
            </p:cNvCxnSpPr>
            <p:nvPr/>
          </p:nvCxnSpPr>
          <p:spPr>
            <a:xfrm flipV="1" rot="16200000">
              <a:off x="2546280" y="2592360"/>
              <a:ext cx="224280" cy="449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4" name=""/>
            <p:cNvCxnSpPr>
              <a:stCxn id="144" idx="0"/>
              <a:endCxn id="151" idx="2"/>
            </p:cNvCxnSpPr>
            <p:nvPr/>
          </p:nvCxnSpPr>
          <p:spPr>
            <a:xfrm flipH="1" flipV="1" rot="5400000">
              <a:off x="2097720" y="2593440"/>
              <a:ext cx="224280" cy="447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"/>
            <p:cNvCxnSpPr>
              <a:stCxn id="151" idx="0"/>
              <a:endCxn id="156" idx="2"/>
            </p:cNvCxnSpPr>
            <p:nvPr/>
          </p:nvCxnSpPr>
          <p:spPr>
            <a:xfrm flipV="1" rot="16200000">
              <a:off x="2208960" y="2262960"/>
              <a:ext cx="225720" cy="224280"/>
            </a:xfrm>
            <a:prstGeom prst="bentConnector3">
              <a:avLst>
                <a:gd name="adj1" fmla="val 4984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"/>
            <p:cNvCxnSpPr>
              <a:stCxn id="158" idx="0"/>
              <a:endCxn id="156" idx="2"/>
            </p:cNvCxnSpPr>
            <p:nvPr/>
          </p:nvCxnSpPr>
          <p:spPr>
            <a:xfrm flipH="1" flipV="1" rot="5400000">
              <a:off x="1760400" y="2038680"/>
              <a:ext cx="225720" cy="673200"/>
            </a:xfrm>
            <a:prstGeom prst="bentConnector5">
              <a:avLst>
                <a:gd name="adj1" fmla="val 102715"/>
                <a:gd name="adj2" fmla="val -83948"/>
                <a:gd name="adj3" fmla="val -199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"/>
            <p:cNvCxnSpPr>
              <a:stCxn id="160" idx="0"/>
              <a:endCxn id="156" idx="2"/>
            </p:cNvCxnSpPr>
            <p:nvPr/>
          </p:nvCxnSpPr>
          <p:spPr>
            <a:xfrm flipH="1" flipV="1" rot="5400000">
              <a:off x="1311120" y="1589400"/>
              <a:ext cx="225720" cy="1571760"/>
            </a:xfrm>
            <a:prstGeom prst="bentConnector5">
              <a:avLst>
                <a:gd name="adj1" fmla="val 102715"/>
                <a:gd name="adj2" fmla="val 50011"/>
                <a:gd name="adj3" fmla="val -28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61" name=""/>
            <p:cNvGrpSpPr/>
            <p:nvPr/>
          </p:nvGrpSpPr>
          <p:grpSpPr>
            <a:xfrm>
              <a:off x="1876320" y="2044800"/>
              <a:ext cx="666720" cy="217440"/>
              <a:chOff x="1876320" y="2044800"/>
              <a:chExt cx="666720" cy="217440"/>
            </a:xfrm>
          </p:grpSpPr>
          <p:sp>
            <p:nvSpPr>
              <p:cNvPr id="156" name=""/>
              <p:cNvSpPr/>
              <p:nvPr/>
            </p:nvSpPr>
            <p:spPr>
              <a:xfrm>
                <a:off x="1876320" y="2044800"/>
                <a:ext cx="666720" cy="217440"/>
              </a:xfrm>
              <a:prstGeom prst="roundRect">
                <a:avLst>
                  <a:gd name="adj" fmla="val 3529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87480" y="2055960"/>
                <a:ext cx="642960" cy="193680"/>
              </a:xfrm>
              <a:prstGeom prst="roundRect">
                <a:avLst>
                  <a:gd name="adj" fmla="val 8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04920" y="2487600"/>
              <a:ext cx="666720" cy="217440"/>
              <a:chOff x="304920" y="2487600"/>
              <a:chExt cx="666720" cy="217440"/>
            </a:xfrm>
          </p:grpSpPr>
          <p:sp>
            <p:nvSpPr>
              <p:cNvPr id="160" name=""/>
              <p:cNvSpPr/>
              <p:nvPr/>
            </p:nvSpPr>
            <p:spPr>
              <a:xfrm>
                <a:off x="304920" y="2487600"/>
                <a:ext cx="666720" cy="217440"/>
              </a:xfrm>
              <a:prstGeom prst="roundRect">
                <a:avLst>
                  <a:gd name="adj" fmla="val 3529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7520" y="2498760"/>
                <a:ext cx="642960" cy="193680"/>
              </a:xfrm>
              <a:prstGeom prst="roundRect">
                <a:avLst>
                  <a:gd name="adj" fmla="val 8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203480" y="2487600"/>
              <a:ext cx="666720" cy="217440"/>
              <a:chOff x="1203480" y="2487600"/>
              <a:chExt cx="666720" cy="217440"/>
            </a:xfrm>
          </p:grpSpPr>
          <p:sp>
            <p:nvSpPr>
              <p:cNvPr id="158" name=""/>
              <p:cNvSpPr/>
              <p:nvPr/>
            </p:nvSpPr>
            <p:spPr>
              <a:xfrm>
                <a:off x="1203480" y="2487600"/>
                <a:ext cx="666720" cy="217440"/>
              </a:xfrm>
              <a:prstGeom prst="roundRect">
                <a:avLst>
                  <a:gd name="adj" fmla="val 3529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14280" y="2498760"/>
                <a:ext cx="642960" cy="193680"/>
              </a:xfrm>
              <a:prstGeom prst="roundRect">
                <a:avLst>
                  <a:gd name="adj" fmla="val 8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100240" y="2487600"/>
              <a:ext cx="666720" cy="217440"/>
              <a:chOff x="2100240" y="2487600"/>
              <a:chExt cx="666720" cy="217440"/>
            </a:xfrm>
          </p:grpSpPr>
          <p:sp>
            <p:nvSpPr>
              <p:cNvPr id="151" name=""/>
              <p:cNvSpPr/>
              <p:nvPr/>
            </p:nvSpPr>
            <p:spPr>
              <a:xfrm>
                <a:off x="2100240" y="2487600"/>
                <a:ext cx="666720" cy="217440"/>
              </a:xfrm>
              <a:prstGeom prst="roundRect">
                <a:avLst>
                  <a:gd name="adj" fmla="val 3529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12840" y="2498760"/>
                <a:ext cx="642960" cy="193680"/>
              </a:xfrm>
              <a:prstGeom prst="roundRect">
                <a:avLst>
                  <a:gd name="adj" fmla="val 8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652760" y="2928960"/>
              <a:ext cx="666720" cy="217440"/>
              <a:chOff x="1652760" y="2928960"/>
              <a:chExt cx="666720" cy="217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52760" y="2928960"/>
                <a:ext cx="666720" cy="217440"/>
              </a:xfrm>
              <a:prstGeom prst="roundRect">
                <a:avLst>
                  <a:gd name="adj" fmla="val 3529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63560" y="2941560"/>
                <a:ext cx="642960" cy="193680"/>
              </a:xfrm>
              <a:prstGeom prst="roundRect">
                <a:avLst>
                  <a:gd name="adj" fmla="val 8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549520" y="2928960"/>
              <a:ext cx="666720" cy="217440"/>
              <a:chOff x="2549520" y="2928960"/>
              <a:chExt cx="666720" cy="217440"/>
            </a:xfrm>
          </p:grpSpPr>
          <p:sp>
            <p:nvSpPr>
              <p:cNvPr id="153" name=""/>
              <p:cNvSpPr/>
              <p:nvPr/>
            </p:nvSpPr>
            <p:spPr>
              <a:xfrm>
                <a:off x="2549520" y="2928960"/>
                <a:ext cx="666720" cy="217440"/>
              </a:xfrm>
              <a:prstGeom prst="roundRect">
                <a:avLst>
                  <a:gd name="adj" fmla="val 3529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562120" y="2941560"/>
                <a:ext cx="642960" cy="193680"/>
              </a:xfrm>
              <a:prstGeom prst="roundRect">
                <a:avLst>
                  <a:gd name="adj" fmla="val 8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448080" y="2928960"/>
              <a:ext cx="666720" cy="217440"/>
              <a:chOff x="3448080" y="2928960"/>
              <a:chExt cx="666720" cy="217440"/>
            </a:xfrm>
          </p:grpSpPr>
          <p:sp>
            <p:nvSpPr>
              <p:cNvPr id="150" name=""/>
              <p:cNvSpPr/>
              <p:nvPr/>
            </p:nvSpPr>
            <p:spPr>
              <a:xfrm>
                <a:off x="3448080" y="2928960"/>
                <a:ext cx="666720" cy="217440"/>
              </a:xfrm>
              <a:prstGeom prst="roundRect">
                <a:avLst>
                  <a:gd name="adj" fmla="val 3529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60680" y="2941560"/>
                <a:ext cx="642960" cy="193680"/>
              </a:xfrm>
              <a:prstGeom prst="roundRect">
                <a:avLst>
                  <a:gd name="adj" fmla="val 8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754200" y="3371760"/>
              <a:ext cx="666720" cy="217440"/>
              <a:chOff x="754200" y="3371760"/>
              <a:chExt cx="666720" cy="217440"/>
            </a:xfrm>
          </p:grpSpPr>
          <p:sp>
            <p:nvSpPr>
              <p:cNvPr id="148" name=""/>
              <p:cNvSpPr/>
              <p:nvPr/>
            </p:nvSpPr>
            <p:spPr>
              <a:xfrm>
                <a:off x="754200" y="3371760"/>
                <a:ext cx="666720" cy="217440"/>
              </a:xfrm>
              <a:prstGeom prst="roundRect">
                <a:avLst>
                  <a:gd name="adj" fmla="val 3529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6800" y="3384720"/>
                <a:ext cx="642960" cy="193680"/>
              </a:xfrm>
              <a:prstGeom prst="roundRect">
                <a:avLst>
                  <a:gd name="adj" fmla="val 8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52760" y="3371760"/>
              <a:ext cx="666720" cy="217440"/>
              <a:chOff x="1652760" y="3371760"/>
              <a:chExt cx="666720" cy="217440"/>
            </a:xfrm>
          </p:grpSpPr>
          <p:sp>
            <p:nvSpPr>
              <p:cNvPr id="146" name=""/>
              <p:cNvSpPr/>
              <p:nvPr/>
            </p:nvSpPr>
            <p:spPr>
              <a:xfrm>
                <a:off x="1652760" y="3371760"/>
                <a:ext cx="666720" cy="217440"/>
              </a:xfrm>
              <a:prstGeom prst="roundRect">
                <a:avLst>
                  <a:gd name="adj" fmla="val 3529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63560" y="3384720"/>
                <a:ext cx="642960" cy="193680"/>
              </a:xfrm>
              <a:prstGeom prst="roundRect">
                <a:avLst>
                  <a:gd name="adj" fmla="val 8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549520" y="3371760"/>
              <a:ext cx="666720" cy="217440"/>
              <a:chOff x="2549520" y="3371760"/>
              <a:chExt cx="666720" cy="217440"/>
            </a:xfrm>
          </p:grpSpPr>
          <p:sp>
            <p:nvSpPr>
              <p:cNvPr id="143" name=""/>
              <p:cNvSpPr/>
              <p:nvPr/>
            </p:nvSpPr>
            <p:spPr>
              <a:xfrm>
                <a:off x="2549520" y="3371760"/>
                <a:ext cx="666720" cy="217440"/>
              </a:xfrm>
              <a:prstGeom prst="roundRect">
                <a:avLst>
                  <a:gd name="adj" fmla="val 3529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62120" y="3384720"/>
                <a:ext cx="642960" cy="193680"/>
              </a:xfrm>
              <a:prstGeom prst="roundRect">
                <a:avLst>
                  <a:gd name="adj" fmla="val 8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4724280" y="838080"/>
            <a:ext cx="4038840" cy="1981440"/>
            <a:chOff x="4724280" y="838080"/>
            <a:chExt cx="4038840" cy="1981440"/>
          </a:xfrm>
        </p:grpSpPr>
        <p:sp>
          <p:nvSpPr>
            <p:cNvPr id="182" name=""/>
            <p:cNvSpPr/>
            <p:nvPr/>
          </p:nvSpPr>
          <p:spPr>
            <a:xfrm>
              <a:off x="4729320" y="838080"/>
              <a:ext cx="3806640" cy="174168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84" idx="0"/>
              <a:endCxn id="185" idx="2"/>
            </p:cNvCxnSpPr>
            <p:nvPr/>
          </p:nvCxnSpPr>
          <p:spPr>
            <a:xfrm flipV="1" rot="16200000">
              <a:off x="6720120" y="1890360"/>
              <a:ext cx="194040" cy="889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6" name=""/>
            <p:cNvCxnSpPr>
              <a:stCxn id="187" idx="0"/>
              <a:endCxn id="185" idx="2"/>
            </p:cNvCxnSpPr>
            <p:nvPr/>
          </p:nvCxnSpPr>
          <p:spPr>
            <a:xfrm flipH="1" flipV="1" rot="5400000">
              <a:off x="5832000" y="1891800"/>
              <a:ext cx="194040" cy="887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8" name=""/>
            <p:cNvCxnSpPr>
              <a:stCxn id="189" idx="0"/>
              <a:endCxn id="190" idx="2"/>
            </p:cNvCxnSpPr>
            <p:nvPr/>
          </p:nvCxnSpPr>
          <p:spPr>
            <a:xfrm flipV="1" rot="16200000">
              <a:off x="7164360" y="1163520"/>
              <a:ext cx="194040" cy="1270440"/>
            </a:xfrm>
            <a:prstGeom prst="bentConnector5">
              <a:avLst>
                <a:gd name="adj1" fmla="val 119702"/>
                <a:gd name="adj2" fmla="val -68253"/>
                <a:gd name="adj3" fmla="val -29665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1" name=""/>
            <p:cNvCxnSpPr>
              <a:stCxn id="185" idx="0"/>
              <a:endCxn id="190" idx="2"/>
            </p:cNvCxnSpPr>
            <p:nvPr/>
          </p:nvCxnSpPr>
          <p:spPr>
            <a:xfrm flipH="1" flipV="1" rot="5400000">
              <a:off x="6402240" y="1671840"/>
              <a:ext cx="194040" cy="254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92" name=""/>
            <p:cNvGrpSpPr/>
            <p:nvPr/>
          </p:nvGrpSpPr>
          <p:grpSpPr>
            <a:xfrm>
              <a:off x="5991120" y="1357200"/>
              <a:ext cx="1270080" cy="344520"/>
              <a:chOff x="5991120" y="1357200"/>
              <a:chExt cx="1270080" cy="344520"/>
            </a:xfrm>
          </p:grpSpPr>
          <p:sp>
            <p:nvSpPr>
              <p:cNvPr id="190" name=""/>
              <p:cNvSpPr/>
              <p:nvPr/>
            </p:nvSpPr>
            <p:spPr>
              <a:xfrm>
                <a:off x="5991120" y="1357200"/>
                <a:ext cx="1270080" cy="344520"/>
              </a:xfrm>
              <a:prstGeom prst="roundRect">
                <a:avLst>
                  <a:gd name="adj" fmla="val 23611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16680" y="1376280"/>
                <a:ext cx="1219320" cy="3063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880" rIns="74880" tIns="37440" bIns="3744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737320" y="1895400"/>
              <a:ext cx="1270080" cy="343080"/>
              <a:chOff x="5737320" y="1895400"/>
              <a:chExt cx="1270080" cy="343080"/>
            </a:xfrm>
          </p:grpSpPr>
          <p:sp>
            <p:nvSpPr>
              <p:cNvPr id="185" name=""/>
              <p:cNvSpPr/>
              <p:nvPr/>
            </p:nvSpPr>
            <p:spPr>
              <a:xfrm>
                <a:off x="5737320" y="1895400"/>
                <a:ext cx="1270080" cy="343080"/>
              </a:xfrm>
              <a:prstGeom prst="roundRect">
                <a:avLst>
                  <a:gd name="adj" fmla="val 23611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62520" y="1914480"/>
                <a:ext cx="1219320" cy="3063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880" rIns="74880" tIns="37440" bIns="3744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261200" y="1895400"/>
              <a:ext cx="1270080" cy="343080"/>
              <a:chOff x="7261200" y="1895400"/>
              <a:chExt cx="1270080" cy="343080"/>
            </a:xfrm>
          </p:grpSpPr>
          <p:sp>
            <p:nvSpPr>
              <p:cNvPr id="189" name=""/>
              <p:cNvSpPr/>
              <p:nvPr/>
            </p:nvSpPr>
            <p:spPr>
              <a:xfrm>
                <a:off x="7261200" y="1895400"/>
                <a:ext cx="1270080" cy="343080"/>
              </a:xfrm>
              <a:prstGeom prst="roundRect">
                <a:avLst>
                  <a:gd name="adj" fmla="val 23611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284960" y="1914480"/>
                <a:ext cx="1220760" cy="3063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880" rIns="74880" tIns="37440" bIns="3744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4724280" y="2432160"/>
              <a:ext cx="1522440" cy="387360"/>
              <a:chOff x="4724280" y="2432160"/>
              <a:chExt cx="1522440" cy="387360"/>
            </a:xfrm>
          </p:grpSpPr>
          <p:sp>
            <p:nvSpPr>
              <p:cNvPr id="187" name=""/>
              <p:cNvSpPr/>
              <p:nvPr/>
            </p:nvSpPr>
            <p:spPr>
              <a:xfrm>
                <a:off x="4724280" y="2432160"/>
                <a:ext cx="1522440" cy="387360"/>
              </a:xfrm>
              <a:prstGeom prst="roundRect">
                <a:avLst>
                  <a:gd name="adj" fmla="val 23356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53080" y="2454120"/>
                <a:ext cx="1465200" cy="34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500880" y="2432160"/>
              <a:ext cx="1522440" cy="387360"/>
              <a:chOff x="6500880" y="2432160"/>
              <a:chExt cx="1522440" cy="387360"/>
            </a:xfrm>
          </p:grpSpPr>
          <p:sp>
            <p:nvSpPr>
              <p:cNvPr id="184" name=""/>
              <p:cNvSpPr/>
              <p:nvPr/>
            </p:nvSpPr>
            <p:spPr>
              <a:xfrm>
                <a:off x="6500880" y="2432160"/>
                <a:ext cx="1522440" cy="387360"/>
              </a:xfrm>
              <a:prstGeom prst="roundRect">
                <a:avLst>
                  <a:gd name="adj" fmla="val 23356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27880" y="2454120"/>
                <a:ext cx="1466640" cy="34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380880" y="3619440"/>
            <a:ext cx="8610840" cy="2476440"/>
            <a:chOff x="380880" y="3619440"/>
            <a:chExt cx="8610840" cy="2476440"/>
          </a:xfrm>
        </p:grpSpPr>
        <p:sp>
          <p:nvSpPr>
            <p:cNvPr id="203" name=""/>
            <p:cNvSpPr/>
            <p:nvPr/>
          </p:nvSpPr>
          <p:spPr>
            <a:xfrm>
              <a:off x="380880" y="3619440"/>
              <a:ext cx="8610840" cy="2476440"/>
            </a:xfrm>
            <a:prstGeom prst="roundRect">
              <a:avLst>
                <a:gd name="adj" fmla="val 6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5" idx="0"/>
              <a:endCxn id="206" idx="2"/>
            </p:cNvCxnSpPr>
            <p:nvPr/>
          </p:nvCxnSpPr>
          <p:spPr>
            <a:xfrm flipV="1" rot="16200000">
              <a:off x="8010360" y="4785120"/>
              <a:ext cx="127440" cy="675720"/>
            </a:xfrm>
            <a:prstGeom prst="bentConnector3">
              <a:avLst>
                <a:gd name="adj1" fmla="val 498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7" name=""/>
            <p:cNvCxnSpPr>
              <a:stCxn id="208" idx="0"/>
              <a:endCxn id="206" idx="2"/>
            </p:cNvCxnSpPr>
            <p:nvPr/>
          </p:nvCxnSpPr>
          <p:spPr>
            <a:xfrm flipH="1" flipV="1" rot="5400000">
              <a:off x="7333560" y="4784400"/>
              <a:ext cx="127440" cy="677520"/>
            </a:xfrm>
            <a:prstGeom prst="bentConnector3">
              <a:avLst>
                <a:gd name="adj1" fmla="val 498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9" name=""/>
            <p:cNvCxnSpPr>
              <a:stCxn id="206" idx="0"/>
              <a:endCxn id="210" idx="2"/>
            </p:cNvCxnSpPr>
            <p:nvPr/>
          </p:nvCxnSpPr>
          <p:spPr>
            <a:xfrm flipV="1" rot="16200000">
              <a:off x="6148080" y="3215520"/>
              <a:ext cx="127440" cy="3049560"/>
            </a:xfrm>
            <a:prstGeom prst="bentConnector5">
              <a:avLst>
                <a:gd name="adj1" fmla="val 182152"/>
                <a:gd name="adj2" fmla="val 50342"/>
                <a:gd name="adj3" fmla="val -824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1" name=""/>
            <p:cNvCxnSpPr>
              <a:stCxn id="212" idx="0"/>
              <a:endCxn id="210" idx="2"/>
            </p:cNvCxnSpPr>
            <p:nvPr/>
          </p:nvCxnSpPr>
          <p:spPr>
            <a:xfrm flipV="1" rot="16200000">
              <a:off x="5470200" y="3893400"/>
              <a:ext cx="127440" cy="1693800"/>
            </a:xfrm>
            <a:prstGeom prst="bentConnector5">
              <a:avLst>
                <a:gd name="adj1" fmla="val 182152"/>
                <a:gd name="adj2" fmla="val 50616"/>
                <a:gd name="adj3" fmla="val -824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3" name=""/>
            <p:cNvCxnSpPr>
              <a:stCxn id="214" idx="0"/>
              <a:endCxn id="210" idx="2"/>
            </p:cNvCxnSpPr>
            <p:nvPr/>
          </p:nvCxnSpPr>
          <p:spPr>
            <a:xfrm flipV="1" rot="16200000">
              <a:off x="4793040" y="4570560"/>
              <a:ext cx="127440" cy="339480"/>
            </a:xfrm>
            <a:prstGeom prst="bentConnector3">
              <a:avLst>
                <a:gd name="adj1" fmla="val 498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5" name=""/>
            <p:cNvCxnSpPr>
              <a:stCxn id="216" idx="0"/>
              <a:endCxn id="210" idx="2"/>
            </p:cNvCxnSpPr>
            <p:nvPr/>
          </p:nvCxnSpPr>
          <p:spPr>
            <a:xfrm flipH="1" flipV="1" rot="5400000">
              <a:off x="4115520" y="4232880"/>
              <a:ext cx="127440" cy="1015200"/>
            </a:xfrm>
            <a:prstGeom prst="bentConnector5">
              <a:avLst>
                <a:gd name="adj1" fmla="val 459490"/>
                <a:gd name="adj2" fmla="val 177970"/>
                <a:gd name="adj3" fmla="val -824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7" name=""/>
            <p:cNvCxnSpPr>
              <a:stCxn id="218" idx="0"/>
              <a:endCxn id="210" idx="2"/>
            </p:cNvCxnSpPr>
            <p:nvPr/>
          </p:nvCxnSpPr>
          <p:spPr>
            <a:xfrm flipH="1" flipV="1" rot="5400000">
              <a:off x="3437640" y="3555000"/>
              <a:ext cx="127440" cy="2370960"/>
            </a:xfrm>
            <a:prstGeom prst="bentConnector5">
              <a:avLst>
                <a:gd name="adj1" fmla="val 182152"/>
                <a:gd name="adj2" fmla="val 50463"/>
                <a:gd name="adj3" fmla="val -824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9" name=""/>
            <p:cNvCxnSpPr>
              <a:stCxn id="220" idx="0"/>
              <a:endCxn id="210" idx="2"/>
            </p:cNvCxnSpPr>
            <p:nvPr/>
          </p:nvCxnSpPr>
          <p:spPr>
            <a:xfrm flipH="1" flipV="1" rot="5400000">
              <a:off x="2760480" y="2877840"/>
              <a:ext cx="127440" cy="3725280"/>
            </a:xfrm>
            <a:prstGeom prst="bentConnector5">
              <a:avLst>
                <a:gd name="adj1" fmla="val 182152"/>
                <a:gd name="adj2" fmla="val 50294"/>
                <a:gd name="adj3" fmla="val -824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1" name=""/>
            <p:cNvCxnSpPr>
              <a:stCxn id="210" idx="0"/>
              <a:endCxn id="222" idx="2"/>
            </p:cNvCxnSpPr>
            <p:nvPr/>
          </p:nvCxnSpPr>
          <p:spPr>
            <a:xfrm flipV="1" rot="16200000">
              <a:off x="4623120" y="4387320"/>
              <a:ext cx="127440" cy="1080"/>
            </a:xfrm>
            <a:prstGeom prst="bentConnector3">
              <a:avLst>
                <a:gd name="adj1" fmla="val 498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223" name=""/>
            <p:cNvGrpSpPr/>
            <p:nvPr/>
          </p:nvGrpSpPr>
          <p:grpSpPr>
            <a:xfrm>
              <a:off x="4202280" y="4032360"/>
              <a:ext cx="968040" cy="291960"/>
              <a:chOff x="4202280" y="4032360"/>
              <a:chExt cx="968040" cy="291960"/>
            </a:xfrm>
          </p:grpSpPr>
          <p:sp>
            <p:nvSpPr>
              <p:cNvPr id="222" name=""/>
              <p:cNvSpPr/>
              <p:nvPr/>
            </p:nvSpPr>
            <p:spPr>
              <a:xfrm>
                <a:off x="4202280" y="4032360"/>
                <a:ext cx="968040" cy="291960"/>
              </a:xfrm>
              <a:prstGeom prst="roundRect">
                <a:avLst>
                  <a:gd name="adj" fmla="val 35866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27480" y="4048200"/>
                <a:ext cx="917640" cy="260280"/>
              </a:xfrm>
              <a:prstGeom prst="roundRect">
                <a:avLst>
                  <a:gd name="adj" fmla="val 6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" rIns="28800" tIns="14400" bIns="144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127400" y="4451400"/>
              <a:ext cx="1119240" cy="225360"/>
              <a:chOff x="4127400" y="4451400"/>
              <a:chExt cx="1119240" cy="225360"/>
            </a:xfrm>
          </p:grpSpPr>
          <p:sp>
            <p:nvSpPr>
              <p:cNvPr id="210" name=""/>
              <p:cNvSpPr/>
              <p:nvPr/>
            </p:nvSpPr>
            <p:spPr>
              <a:xfrm>
                <a:off x="4127400" y="4451400"/>
                <a:ext cx="1119240" cy="225360"/>
              </a:xfrm>
              <a:prstGeom prst="roundRect">
                <a:avLst>
                  <a:gd name="adj" fmla="val 35912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46480" y="4464000"/>
                <a:ext cx="1081080" cy="201600"/>
              </a:xfrm>
              <a:prstGeom prst="roundRect">
                <a:avLst>
                  <a:gd name="adj" fmla="val 7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" rIns="28800" tIns="14400" bIns="144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Compon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80880" y="4803840"/>
              <a:ext cx="1162080" cy="255600"/>
              <a:chOff x="380880" y="4803840"/>
              <a:chExt cx="1162080" cy="255600"/>
            </a:xfrm>
          </p:grpSpPr>
          <p:sp>
            <p:nvSpPr>
              <p:cNvPr id="220" name=""/>
              <p:cNvSpPr/>
              <p:nvPr/>
            </p:nvSpPr>
            <p:spPr>
              <a:xfrm>
                <a:off x="380880" y="4803840"/>
                <a:ext cx="1162080" cy="255600"/>
              </a:xfrm>
              <a:prstGeom prst="roundRect">
                <a:avLst>
                  <a:gd name="adj" fmla="val 35625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1760" y="4818240"/>
                <a:ext cx="1119240" cy="22680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Butt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735200" y="4803840"/>
              <a:ext cx="1162080" cy="255600"/>
              <a:chOff x="1735200" y="4803840"/>
              <a:chExt cx="1162080" cy="255600"/>
            </a:xfrm>
          </p:grpSpPr>
          <p:sp>
            <p:nvSpPr>
              <p:cNvPr id="218" name=""/>
              <p:cNvSpPr/>
              <p:nvPr/>
            </p:nvSpPr>
            <p:spPr>
              <a:xfrm>
                <a:off x="1735200" y="4803840"/>
                <a:ext cx="1162080" cy="255600"/>
              </a:xfrm>
              <a:prstGeom prst="roundRect">
                <a:avLst>
                  <a:gd name="adj" fmla="val 35625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57520" y="4818240"/>
                <a:ext cx="1118880" cy="22680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960" rIns="30960" tIns="15480" bIns="1548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Checkbo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90960" y="4803840"/>
              <a:ext cx="1162080" cy="255600"/>
              <a:chOff x="3090960" y="4803840"/>
              <a:chExt cx="1162080" cy="255600"/>
            </a:xfrm>
          </p:grpSpPr>
          <p:sp>
            <p:nvSpPr>
              <p:cNvPr id="216" name=""/>
              <p:cNvSpPr/>
              <p:nvPr/>
            </p:nvSpPr>
            <p:spPr>
              <a:xfrm>
                <a:off x="3090960" y="4803840"/>
                <a:ext cx="1162080" cy="255600"/>
              </a:xfrm>
              <a:prstGeom prst="roundRect">
                <a:avLst>
                  <a:gd name="adj" fmla="val 35625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11480" y="4818240"/>
                <a:ext cx="1119240" cy="22680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960" rIns="30960" tIns="15480" bIns="1548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Cho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444920" y="4803840"/>
              <a:ext cx="1162080" cy="255600"/>
              <a:chOff x="4444920" y="4803840"/>
              <a:chExt cx="1162080" cy="255600"/>
            </a:xfrm>
          </p:grpSpPr>
          <p:sp>
            <p:nvSpPr>
              <p:cNvPr id="214" name=""/>
              <p:cNvSpPr/>
              <p:nvPr/>
            </p:nvSpPr>
            <p:spPr>
              <a:xfrm>
                <a:off x="4444920" y="4803840"/>
                <a:ext cx="1162080" cy="255600"/>
              </a:xfrm>
              <a:prstGeom prst="roundRect">
                <a:avLst>
                  <a:gd name="adj" fmla="val 35625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5800" y="4818240"/>
                <a:ext cx="1118880" cy="22680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960" rIns="30960" tIns="15480" bIns="1548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799240" y="4803840"/>
              <a:ext cx="1162080" cy="255600"/>
              <a:chOff x="5799240" y="4803840"/>
              <a:chExt cx="1162080" cy="255600"/>
            </a:xfrm>
          </p:grpSpPr>
          <p:sp>
            <p:nvSpPr>
              <p:cNvPr id="212" name=""/>
              <p:cNvSpPr/>
              <p:nvPr/>
            </p:nvSpPr>
            <p:spPr>
              <a:xfrm>
                <a:off x="5799240" y="4803840"/>
                <a:ext cx="1162080" cy="255600"/>
              </a:xfrm>
              <a:prstGeom prst="roundRect">
                <a:avLst>
                  <a:gd name="adj" fmla="val 35625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21200" y="4818240"/>
                <a:ext cx="1119240" cy="22680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960" rIns="30960" tIns="15480" bIns="1548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Scrollb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155000" y="4803840"/>
              <a:ext cx="1162080" cy="255600"/>
              <a:chOff x="7155000" y="4803840"/>
              <a:chExt cx="1162080" cy="255600"/>
            </a:xfrm>
          </p:grpSpPr>
          <p:sp>
            <p:nvSpPr>
              <p:cNvPr id="206" name=""/>
              <p:cNvSpPr/>
              <p:nvPr/>
            </p:nvSpPr>
            <p:spPr>
              <a:xfrm>
                <a:off x="7155000" y="4803840"/>
                <a:ext cx="1162080" cy="255600"/>
              </a:xfrm>
              <a:prstGeom prst="roundRect">
                <a:avLst>
                  <a:gd name="adj" fmla="val 35625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175520" y="4818240"/>
                <a:ext cx="1119240" cy="22680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2040" rIns="32040" tIns="16200" bIns="162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TextCompon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6478560" y="5186520"/>
              <a:ext cx="1160640" cy="253800"/>
              <a:chOff x="6478560" y="5186520"/>
              <a:chExt cx="1160640" cy="253800"/>
            </a:xfrm>
          </p:grpSpPr>
          <p:sp>
            <p:nvSpPr>
              <p:cNvPr id="208" name=""/>
              <p:cNvSpPr/>
              <p:nvPr/>
            </p:nvSpPr>
            <p:spPr>
              <a:xfrm>
                <a:off x="6478560" y="5186520"/>
                <a:ext cx="1160640" cy="253800"/>
              </a:xfrm>
              <a:prstGeom prst="roundRect">
                <a:avLst>
                  <a:gd name="adj" fmla="val 35625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99080" y="5200560"/>
                <a:ext cx="1117800" cy="22536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920" rIns="52920" tIns="26280" bIns="2628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TextFie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831080" y="5186520"/>
              <a:ext cx="1160640" cy="253800"/>
              <a:chOff x="7831080" y="5186520"/>
              <a:chExt cx="1160640" cy="253800"/>
            </a:xfrm>
          </p:grpSpPr>
          <p:sp>
            <p:nvSpPr>
              <p:cNvPr id="205" name=""/>
              <p:cNvSpPr/>
              <p:nvPr/>
            </p:nvSpPr>
            <p:spPr>
              <a:xfrm>
                <a:off x="7831080" y="5186520"/>
                <a:ext cx="1160640" cy="253800"/>
              </a:xfrm>
              <a:prstGeom prst="roundRect">
                <a:avLst>
                  <a:gd name="adj" fmla="val 35625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53400" y="5200560"/>
                <a:ext cx="1117440" cy="22536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Text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