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commentAuthors.xml><?xml version="1.0" encoding="utf-8"?>
<p:cmAuthorLst xmlns:p="http://schemas.openxmlformats.org/presentationml/2006/main">
  <p:cmAuthor id="0" name="" initials="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2-21T08:52:42.000000000" idx="1">
    <p:pos x="0" y="0"/>
    <p:text>This is a test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5E774-B5B3-4D90-A2CE-A167C2A35D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32417-A37C-4437-98DC-E8670268F5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07E8-4616-4BFF-B23D-27A8A0D4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5CBF-50EF-4D50-9736-F291F0B5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60FA-1FBD-4F1F-807C-59C034BE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69A7-6B7F-4808-916C-17AA3493F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D1C9-CBC9-423A-8373-CD27D76C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6EC5-E463-42F0-9A2F-DA3844DC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02B5-4ABD-4115-99A1-CDA30E93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F159-9E9C-4DA8-9EB8-DCD113BB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6B1C-0293-4F91-99F5-E024406E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BE46-9A8E-4429-95EC-0F21BEB9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67D9-2E9B-4C34-8ED9-B5E8EF4A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3300-29F0-4200-91AB-198E1EF9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58DD22A-9A1E-4993-9CC0-9288F5DC1A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1T00:52:24Z</dcterms:created>
  <dc:creator/>
  <dc:description/>
  <cp:keywords/>
  <dc:language>en-US</dc:language>
  <cp:lastModifiedBy>jay</cp:lastModifiedBy>
  <dcterms:modified xsi:type="dcterms:W3CDTF">2015-02-24T21:49:02Z</dcterms:modified>
  <cp:revision>1</cp:revision>
  <dc:subject/>
  <dc:title>Slide 1</dc:title>
</cp:coreProperties>
</file>