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33B-F9EE-42A5-8560-AB7330A8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9358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4268160"/>
            <a:ext cx="9358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0FE-2AC2-4A61-A5AE-6FEEB091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52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42681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5200" y="42681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662-49E7-450B-B5CE-34426AA0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400" y="12603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8440" y="12603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42681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400" y="42681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8440" y="42681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A09-EE56-4872-BD24-E67BAF80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260360"/>
            <a:ext cx="93582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576-17CB-4B84-8A8E-CBE2BF5B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93582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159-A350-4C9F-9F34-E1B2E4F1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45666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5200" y="1260360"/>
            <a:ext cx="45666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A51-C057-4CE9-80B2-95EA92F2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51D-4248-4990-854D-C3B99CE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54000"/>
            <a:ext cx="827892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84F-B0E6-4D68-AB11-192E0A95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5200" y="1260360"/>
            <a:ext cx="45666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42681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FEA-5558-4DDE-9EDB-18A81259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45666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52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5200" y="42681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A50-E52E-4A97-AFF9-33A86B1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52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4268160"/>
            <a:ext cx="9358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841-9468-4358-955F-E41813C1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7159680"/>
            <a:ext cx="10069560" cy="399960"/>
          </a:xfrm>
          <a:prstGeom prst="rect">
            <a:avLst/>
          </a:prstGeom>
          <a:solidFill>
            <a:srgbClr val="ccc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260360"/>
            <a:ext cx="93582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423280" y="7257960"/>
            <a:ext cx="86184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de-DE" sz="1200" spc="-1" strike="noStrike">
                <a:solidFill>
                  <a:srgbClr val="008f48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15F7BAB-6965-4F90-A640-45FA57023052}" type="datetime">
              <a:rPr b="0" lang="de-DE" sz="1200" spc="-1" strike="noStrike">
                <a:solidFill>
                  <a:srgbClr val="008f48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79280" y="7257960"/>
            <a:ext cx="43182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8f48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8f4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430920" y="7257960"/>
            <a:ext cx="520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008f48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6E13E2-E73E-4363-9A30-C9836E6ED32A}" type="slidenum">
              <a:rPr b="0" lang="de-DE" sz="1200" spc="-1" strike="noStrike">
                <a:solidFill>
                  <a:srgbClr val="008f4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140360" y="2160720"/>
            <a:ext cx="54003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62120"/>
            <a:ext cx="899172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gend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usgabenentwicklung und Leistungsmanagement im Leistungsbereich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usgründung von Privatkliniken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ssistanceleistungen &amp; Tipps für unsere Kunden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agen zum Leistungsber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3200400" cy="256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B9D-C21E-4343-98AD-4C81DD908464}" type="slidenum">
              <a:t>1</a:t>
            </a:fld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7:33:57Z</dcterms:created>
  <dc:creator/>
  <dc:description/>
  <dc:language>en-US</dc:language>
  <cp:lastModifiedBy>Jacqueline Rahemipour</cp:lastModifiedBy>
  <cp:lastPrinted>2009-11-25T13:32:12Z</cp:lastPrinted>
  <dcterms:modified xsi:type="dcterms:W3CDTF">2010-03-17T07:34:13Z</dcterms:modified>
  <cp:revision>147</cp:revision>
  <dc:subject/>
  <dc:title>Folie 1</dc:title>
</cp:coreProperties>
</file>