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49A-99F4-4311-9247-7AEEB4B1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E31-0EF9-43F8-8EC8-9917679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8D9-D426-498D-8202-133A712E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D13-76E2-45FB-BCCD-ECE2E7D6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1F9-22A4-43F1-A0F4-CA845127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E7B-2ADF-4880-89F3-78D6C38B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8CF-3980-4D5C-A756-2C81A0BE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D41-6A29-439B-95D7-29C0AF5F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6CB-6B26-4342-A5A9-A633E3EA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759-771E-4949-8A60-B312631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2EC-23D7-473C-BBC0-33F464F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409-974D-44AD-A741-4D83318C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11A8735-195E-425F-B44E-1848633738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63920" y="3403440"/>
          <a:ext cx="3251160" cy="8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3920" y="3403440"/>
                    <a:ext cx="3251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Mark Robles</dc:creator>
  <dc:description/>
  <dc:language>en-US</dc:language>
  <cp:lastModifiedBy>Ian Mark Robles</cp:lastModifiedBy>
  <cp:revision>0</cp:revision>
  <dc:subject/>
  <dc:title/>
</cp:coreProperties>
</file>