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418C-A904-47EB-9EF2-DF3A70AF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BC9A-7FB3-4DFE-9BB6-CDE3DED9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A9E2-A358-46BA-A608-E29A08C8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84CA-F288-479B-A1E1-237961D0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5F5E-2E53-42DD-A2AC-27A525F4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8F47-188C-4BF2-B929-A6E83C99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A08C-AD81-40EF-A1D7-2FACCFEB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0271-0331-4BC9-8A2F-51E8B5FB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5210-1875-4914-8C8F-6AFB38B4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CBCA-7FBB-4D8C-8F64-D1DA162E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B73C-03F0-4935-A616-A6D58F1D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CA30-5AB7-43F3-B91D-BBB7CC6F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D44A-C5E2-48C2-9784-0181E15528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096240" cy="17143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14320">
                <a:tc>
                  <a:txBody>
                    <a:bodyPr lIns="720000" rIns="720000" tIns="720000" bIns="72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xtBox Margin is 2*2*2*2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00" marR="72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6:17:57Z</dcterms:created>
  <dc:creator>Sun Microsystems GmbH</dc:creator>
  <dc:description/>
  <dc:language>en-US</dc:language>
  <cp:lastModifiedBy>Sun Microsystems GmbH</cp:lastModifiedBy>
  <dcterms:modified xsi:type="dcterms:W3CDTF">2009-06-16T16:18:50Z</dcterms:modified>
  <cp:revision>1</cp:revision>
  <dc:subject/>
  <dc:title>Slide 1</dc:title>
</cp:coreProperties>
</file>