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29016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862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184800"/>
            <a:ext cx="9283680" cy="88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99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1676520"/>
            <a:ext cx="7277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CI 20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CI Structure INF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JCI 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5400" y="1389240"/>
            <a:ext cx="770580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CI 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2004 President Fernando Sanchez-Arias, 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2005 President Kevin Cullinane,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</a:rPr>
              <a:t>200.000 members, 110 countries, 6.000 local chapters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Secretary General Edson Kodam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</a:rPr>
              <a:t>Headquarter in St. Lo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Area A - Africa &amp; The Middle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Area B - Asia &amp; Pa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Area C - The Ame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rea D -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2004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xecutive Vice President Henry Loo Chin M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2005 Executive Vice President Dominique Döttlin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17 Vice Presidents, 5 assigned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www.jci.cc - </a:t>
            </a:r>
            <a:r>
              <a:rPr b="1" lang="en-US" sz="2400" spc="-1" strike="noStrike">
                <a:solidFill>
                  <a:srgbClr val="0078ae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371600"/>
            <a:ext cx="76932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Area D - Europe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37 Na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</a:rPr>
              <a:t>Growth &amp; Development Director </a:t>
            </a:r>
            <a:r>
              <a:rPr b="1" lang="en-US" sz="1800" spc="-1" strike="noStrike">
                <a:solidFill>
                  <a:srgbClr val="0078ae"/>
                </a:solidFill>
                <a:latin typeface="Arial"/>
              </a:rPr>
              <a:t>Zsolt Feher</a:t>
            </a:r>
            <a:r>
              <a:rPr b="0" lang="en-US" sz="1800" spc="-1" strike="noStrike">
                <a:solidFill>
                  <a:srgbClr val="0078ae"/>
                </a:solidFill>
                <a:latin typeface="Arial"/>
              </a:rPr>
              <a:t>, Budapest: </a:t>
            </a:r>
            <a:r>
              <a:rPr b="1" lang="en-US" sz="1800" spc="-1" strike="noStrike">
                <a:solidFill>
                  <a:srgbClr val="0078ae"/>
                </a:solidFill>
                <a:latin typeface="Arial"/>
              </a:rPr>
              <a:t>zfeher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ae"/>
                </a:solidFill>
                <a:latin typeface="Arial"/>
              </a:rPr>
              <a:t>2004 EVP Henry LOO, Mauritius: hloo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005 EVP Dominique Döttling, Germany: ddoettling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004 VP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etra Gregorits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Austria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gregorits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Yiannis Lagos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, Greece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ylagos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assigned to JCI Germany, Hungary, Luxembourg, Andorra, Catalonia, France, Mona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enry BERTEL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, Austria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bertel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assigned to JCI Iceland, Norway, Sweden, Finland, Latvia,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jersti Bergsaker-Aspoy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, Norway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bergsaker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assigned to JCI Austria (amongst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005 VP Peta Clark, Australia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clark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005 VP Ilse Augstkalne, Latvia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augstkalne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JCI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“One year to lead”-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360" y="1365120"/>
            <a:ext cx="712296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Chapter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Local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St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National Board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National Presi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JCI Vic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JCI Executive Vic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JCI Executive Committe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JCI World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JCI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760" y="1441440"/>
            <a:ext cx="766764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Area President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Development Counci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4 Area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World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60th JCI World Congress Vienna 2005, 24.-29.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8ae"/>
                </a:solidFill>
                <a:uFillTx/>
                <a:latin typeface="Arial"/>
                <a:ea typeface="Arial"/>
              </a:rPr>
              <a:t>www.jci-vienna2005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JCI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AUSTRIA = JWÖ 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1441440"/>
            <a:ext cx="7667640" cy="5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Junge Wirtschaft Österreich: 26.000 Mitgli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</a:rPr>
              <a:t>JCI Austria: 1.800 Mitglieder</a:t>
            </a:r>
            <a:r>
              <a:rPr b="0" lang="en-US" sz="2000" spc="-1" strike="noStrike">
                <a:solidFill>
                  <a:srgbClr val="0078ae"/>
                </a:solidFill>
                <a:latin typeface="Arial"/>
              </a:rPr>
              <a:t> mit internationalem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ezirksvorsitzender = Chapter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Landesvorsitzender = St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undesvorsitzender/Nationalpräsident = National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President 2005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Peter Lehner</a:t>
            </a: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tellvertreter = Executive Vice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IEO = International Executive Officer, Mitglied des L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8ae"/>
                </a:solidFill>
                <a:latin typeface="Arial"/>
              </a:rPr>
              <a:t>GOALS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1568520"/>
            <a:ext cx="77184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78ae"/>
                </a:solidFill>
                <a:latin typeface="Arial"/>
              </a:rPr>
              <a:t>BR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</a:rPr>
              <a:t>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8ae"/>
                </a:solidFill>
                <a:latin typeface="Arial"/>
              </a:rPr>
              <a:t>GOALS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1568520"/>
            <a:ext cx="77184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78ae"/>
                </a:solidFill>
                <a:latin typeface="Arial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</a:rPr>
              <a:t>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Vision, Mission,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71560" y="1481040"/>
            <a:ext cx="771840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VALUES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</a:rPr>
              <a:t>: Faith, Brotherhood, Justice, Free Entreprise, Human Talent,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MISSION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</a:rPr>
              <a:t>: To contribute to the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advancement of the global community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</a:rPr>
              <a:t> by providing the opportunity for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young people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</a:rPr>
              <a:t> to develop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eadership skills, social responsibility, entrepreneurship and fellowship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necessary to create positive change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What is JC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1514520"/>
            <a:ext cx="77054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</a:rPr>
              <a:t>JCI is a worldwide federation of young leaders and entrepren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e create better societies by creating intercultural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</a:rPr>
              <a:t>For this, we provide the environment for young people to meet, learn and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00.000 active members, 1 million alum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6.000 communities, 100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What is JC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1514520"/>
            <a:ext cx="770544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</a:rPr>
              <a:t>JCI gives the confidence to reach inside yourself and achieve more than you would have thought you were capable of as a busines, social and political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 best and biggest NETWORK of young Leaders and Entrepren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</a:rPr>
              <a:t>www.jci.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JCI Slo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9280" y="1666800"/>
            <a:ext cx="770544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Entrepreneurs in ACTION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 am a lead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SSION for ACTI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JCI Areas of opport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666800"/>
            <a:ext cx="77054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</a:rPr>
              <a:t>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All projects done in these 4 ar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1430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</a:rPr>
              <a:t>JCI Flagship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9280" y="1666800"/>
            <a:ext cx="7705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Best Business Pla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</a:rPr>
              <a:t>TOYP - The outstanding young persons of the yea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Günther</cp:lastModifiedBy>
  <dcterms:modified xsi:type="dcterms:W3CDTF">2005-04-06T12:08:25Z</dcterms:modified>
  <cp:revision>1</cp:revision>
  <dc:subject/>
  <dc:title>Slide 1</dc:title>
</cp:coreProperties>
</file>