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5B99F-8E1F-4611-A4DA-D681F0A54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478FE-DC34-4D67-B44D-2B0536BD5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BCBB2-A0FB-4CDD-A11F-EC30F4132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2E882-FCA8-4E86-B5C4-7BD208160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4147D-7BCD-456A-B7CC-510EFD211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7966A-A204-47AC-832B-173E34369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85D35-9DF4-41C3-9B3F-E3E03ADFE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28498-B127-4D5D-97FA-C9E6D72ED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7AEA4-1BD0-470F-877C-418290FA1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7F5EB-028E-46B0-AAA0-C75BC4CB4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8D12A-1A5F-4EAB-A595-B89EAE453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4CA04-04BE-4D68-AA69-7858B95C4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B79CC-DE44-40CE-8F49-70289EFDD5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8"/>
          <p:cNvSpPr/>
          <p:nvPr/>
        </p:nvSpPr>
        <p:spPr>
          <a:xfrm>
            <a:off x="3203640" y="2924280"/>
            <a:ext cx="647640" cy="576000"/>
          </a:xfrm>
          <a:prstGeom prst="sun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2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3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4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15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8T16:48:28Z</dcterms:created>
  <dc:creator>Ученик</dc:creator>
  <dc:description/>
  <dc:language>en-US</dc:language>
  <cp:lastModifiedBy>Ученик</cp:lastModifiedBy>
  <dcterms:modified xsi:type="dcterms:W3CDTF">2011-05-18T16:57:44Z</dcterms:modified>
  <cp:revision>3</cp:revision>
  <dc:subject/>
  <dc:title>Слайд 1</dc:title>
</cp:coreProperties>
</file>