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D05-BACD-4352-B4AD-956FDEE87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D1B7-B003-4BD1-89A4-30D1C5B4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A85-AD08-4655-B1A2-052D3195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8165-13A7-4A64-B007-7DE1A988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695F-BA1C-404C-BA59-B3AA925E9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FA4-8127-4F67-ABE2-5E910C7F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F20-2980-4E35-B273-5D31C0BD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608-A499-4E9D-B848-EB8316FB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48B-717D-4522-A8C2-82DC6432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6E68-EA99-432D-8458-A0443411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357F-3B86-4827-98FA-C7E04186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CAA2-C258-456E-A279-278FCFAB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999F-1477-4C52-BFB2-F5FD5B3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22B-8109-4ACA-B49A-FFE9722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B15A-2660-4A6A-8ECF-3C1F3A50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F57A-83B9-4296-B282-37D32B0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D93-F117-4871-8E51-982AAE30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F15-FF3E-4A22-A351-6B2997A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386E-B1FE-45C1-9C8D-ADC93EE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2EE-BD3F-4F65-837B-D352DFFF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D00-39A3-446A-B077-64684825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1E3-0DAA-4E12-AEE8-DB89A940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DB5-FE16-47BB-AD96-4C14DA62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6B2-CD44-4F65-A341-C473D79B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032-6D33-4E51-AC57-945BAA2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033-3E70-4259-9CD8-AC6520E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6EB-9283-4E8F-AB11-5685458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6B5-36CE-42BA-975E-05B542C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881-05A7-423A-B118-9E93CE4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9114-C98C-40A3-8375-759540A93D3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19044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99072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.. Reorienting Trade Away from OECD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422160" y="6452640"/>
            <a:ext cx="22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IMF Direction of Trade (D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1835280" y="12859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inations of African Exports in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8280360" cy="401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95240" y="6452640"/>
            <a:ext cx="22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IMF Direction of Trade (D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908000" y="1700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inations of African Exports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... Reorienting Trade Away from OECD Count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843280" y="3068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35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979640" y="3645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66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1187280" y="3500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9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.. While not Chang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African Export M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4000" y="558972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are of China in Angola’s Exports: 23.2%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2273760" y="6452640"/>
            <a:ext cx="458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OECD Development Centre calculations based on ITC Trademap (UNCT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3492000" y="1341360"/>
            <a:ext cx="933840" cy="1224000"/>
            <a:chOff x="3492000" y="1341360"/>
            <a:chExt cx="933840" cy="1224000"/>
          </a:xfrm>
        </p:grpSpPr>
        <p:sp>
          <p:nvSpPr>
            <p:cNvPr id="116" name="Text Box 40"/>
            <p:cNvSpPr/>
            <p:nvPr/>
          </p:nvSpPr>
          <p:spPr>
            <a:xfrm>
              <a:off x="3635280" y="1341360"/>
              <a:ext cx="7905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hina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h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1"/>
            <p:cNvSpPr/>
            <p:nvPr/>
          </p:nvSpPr>
          <p:spPr>
            <a:xfrm flipH="1">
              <a:off x="3492000" y="2133720"/>
              <a:ext cx="3589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4"/>
          <p:cNvGrpSpPr/>
          <p:nvPr/>
        </p:nvGrpSpPr>
        <p:grpSpPr>
          <a:xfrm>
            <a:off x="7740360" y="1341360"/>
            <a:ext cx="933840" cy="1224000"/>
            <a:chOff x="7740360" y="1341360"/>
            <a:chExt cx="933840" cy="1224000"/>
          </a:xfrm>
        </p:grpSpPr>
        <p:sp>
          <p:nvSpPr>
            <p:cNvPr id="119" name="Text Box 45"/>
            <p:cNvSpPr/>
            <p:nvPr/>
          </p:nvSpPr>
          <p:spPr>
            <a:xfrm>
              <a:off x="7883640" y="1341360"/>
              <a:ext cx="7905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hina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h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8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6"/>
            <p:cNvSpPr/>
            <p:nvPr/>
          </p:nvSpPr>
          <p:spPr>
            <a:xfrm flipH="1">
              <a:off x="7740360" y="2133720"/>
              <a:ext cx="3589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47"/>
          <p:cNvSpPr/>
          <p:nvPr/>
        </p:nvSpPr>
        <p:spPr>
          <a:xfrm>
            <a:off x="4500720" y="558972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are of China in Sudan’s Exports: 41%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2"/>
          <p:cNvGrpSpPr/>
          <p:nvPr/>
        </p:nvGrpSpPr>
        <p:grpSpPr>
          <a:xfrm>
            <a:off x="250920" y="1484280"/>
            <a:ext cx="3959280" cy="3959280"/>
            <a:chOff x="250920" y="1484280"/>
            <a:chExt cx="3959280" cy="3959280"/>
          </a:xfrm>
        </p:grpSpPr>
        <p:graphicFrame>
          <p:nvGraphicFramePr>
            <p:cNvPr id="123" name="Object 33"/>
            <p:cNvGraphicFramePr/>
            <p:nvPr/>
          </p:nvGraphicFramePr>
          <p:xfrm>
            <a:off x="250920" y="1484280"/>
            <a:ext cx="395928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484280"/>
                      <a:ext cx="395928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Text Box 48"/>
            <p:cNvSpPr/>
            <p:nvPr/>
          </p:nvSpPr>
          <p:spPr>
            <a:xfrm>
              <a:off x="1258920" y="41497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3132000" y="3573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3"/>
          <p:cNvGrpSpPr/>
          <p:nvPr/>
        </p:nvGrpSpPr>
        <p:grpSpPr>
          <a:xfrm>
            <a:off x="4427640" y="1484280"/>
            <a:ext cx="3959280" cy="3959280"/>
            <a:chOff x="4427640" y="1484280"/>
            <a:chExt cx="3959280" cy="3959280"/>
          </a:xfrm>
        </p:grpSpPr>
        <p:graphicFrame>
          <p:nvGraphicFramePr>
            <p:cNvPr id="128" name="Object 38"/>
            <p:cNvGraphicFramePr/>
            <p:nvPr/>
          </p:nvGraphicFramePr>
          <p:xfrm>
            <a:off x="4427640" y="1484280"/>
            <a:ext cx="3959280" cy="39592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9" name="Object 3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7640" y="1484280"/>
                      <a:ext cx="395928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50"/>
            <p:cNvSpPr/>
            <p:nvPr/>
          </p:nvSpPr>
          <p:spPr>
            <a:xfrm>
              <a:off x="5435640" y="3716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1"/>
            <p:cNvSpPr/>
            <p:nvPr/>
          </p:nvSpPr>
          <p:spPr>
            <a:xfrm>
              <a:off x="7236000" y="342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4"/>
          <p:cNvSpPr/>
          <p:nvPr/>
        </p:nvSpPr>
        <p:spPr>
          <a:xfrm>
            <a:off x="971640" y="3068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anks in 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14032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6"/>
          <p:cNvSpPr/>
          <p:nvPr/>
        </p:nvSpPr>
        <p:spPr>
          <a:xfrm>
            <a:off x="1403280" y="3429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2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1840" cy="4284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5"/>
          <p:cNvSpPr/>
          <p:nvPr/>
        </p:nvSpPr>
        <p:spPr>
          <a:xfrm>
            <a:off x="355680" y="0"/>
            <a:ext cx="8292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Foreign Direct Investment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hinese and Indian FDI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0"/>
          <p:cNvSpPr/>
          <p:nvPr/>
        </p:nvSpPr>
        <p:spPr>
          <a:xfrm>
            <a:off x="2845080" y="6452640"/>
            <a:ext cx="33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UNCTAD, Ministry of Commerce of India and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1"/>
          <p:cNvSpPr/>
          <p:nvPr/>
        </p:nvSpPr>
        <p:spPr>
          <a:xfrm>
            <a:off x="826920" y="1268280"/>
            <a:ext cx="7345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iod 1995-2004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ina’s OFDI : USD11.2bn / China’s FDI in Africa: USD1.1b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a’s OFDI : USD14.3bn / India’s FDI in Africa: USD2.3b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8:11:20Z</dcterms:created>
  <dc:creator/>
  <dc:description/>
  <dc:language>en-US</dc:language>
  <cp:lastModifiedBy/>
  <dcterms:modified xsi:type="dcterms:W3CDTF">2011-04-15T08:12:30Z</dcterms:modified>
  <cp:revision>1</cp:revision>
  <dc:subject/>
  <dc:title/>
</cp:coreProperties>
</file>