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2A4A-2A84-4FB2-9E43-86AE5D7CF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1AA5-3030-4886-8088-AAD7D401B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9D56-CC20-48DF-8C5B-41B568799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5D11-F8A4-474A-822B-FD6948A89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48B2-1360-4F76-833D-521240B7D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59B7-1186-4B62-AA1D-1DB85AA68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11F5-06C3-4E06-BC77-6B0F2460D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FB82-16CB-4800-9351-46447F7E7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E1DE-EBEA-4E92-9A63-CE4658F96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D8A2-4A66-47B5-86E1-CC1F7BD8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CC13-8C31-4AD5-A68A-4AE194B9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8AB7-6BF8-4965-82EA-45000E1D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4D3DF-E719-40F6-AB3D-D9A73E8660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32000" y="2093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332000" y="2276640"/>
          <a:ext cx="4276800" cy="3342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2276640"/>
                    <a:ext cx="4276800" cy="33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6T03:11:38Z</dcterms:created>
  <dc:creator>Jason Zhu</dc:creator>
  <dc:description/>
  <dc:language>en-US</dc:language>
  <cp:lastModifiedBy>wanglifeng</cp:lastModifiedBy>
  <dcterms:modified xsi:type="dcterms:W3CDTF">2012-09-12T02:34:21Z</dcterms:modified>
  <cp:revision>19</cp:revision>
  <dc:subject/>
  <dc:title>Slide 1</dc:title>
</cp:coreProperties>
</file>