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836D6-D905-49B6-B5DC-0E1443513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3257F-725D-4D73-99B1-2ECBAA25D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BF3B9-95B9-45B0-8267-DD974219A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4A62F-502F-4CA1-AB78-CDBE80DDB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10D74-8C22-4DEF-86FD-673387CA9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C4A3B-7713-497D-A79C-6194D6D3A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38DD0-12FE-4027-8169-3041C50A4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7DCC9-9DF9-4C18-8198-AAADB6003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36703-7464-440A-9924-953A88ADA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55CB2-3024-4148-B7B3-DB65EA3D5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2777D-A9A3-4237-985E-82E47FE28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0401E-0AB0-4A81-9725-7255BF4C6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DDD34-931A-43D4-A333-ADFCEC4C0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869ED-8066-49A0-B1B8-42DCEA128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D9E7B-1356-4B88-994C-765BD38E3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57600-277B-4A6B-B06D-4EB04194F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5DB14-2186-4B07-9A72-18984E6FA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18BC8-BF0E-4B53-8595-E30B3C023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A786B-6F2F-48A4-8674-1A08D5A9D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CF635-130D-470B-82FA-9A14C5578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F5B21-033E-4101-9FB6-2171BCF85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F7EE-EAD3-43BA-A6DA-021F82DAC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10D9-DEA2-44D3-816E-3FB08DC9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6C42D-5909-4032-BB7D-58B7BAEB1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4A43-1873-46FE-A5F5-6F330804829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DA0F-1973-4460-9FF5-3E45D6B80F4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dumpsoftdrinks.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Global </a:t>
            </a:r>
            <a:r>
              <a:rPr b="1" i="1" lang="en-US" sz="5400" spc="-1" strike="noStrike">
                <a:solidFill>
                  <a:srgbClr val="ccecff"/>
                </a:solidFill>
                <a:latin typeface="Arial"/>
              </a:rPr>
              <a:t>Dump Soft Drinks </a:t>
            </a:r>
            <a:r>
              <a:rPr b="0" lang="en-US" sz="5400" spc="-1" strike="noStrike">
                <a:solidFill>
                  <a:srgbClr val="ccecff"/>
                </a:solidFill>
                <a:latin typeface="Arial"/>
              </a:rPr>
              <a:t>Campaign</a:t>
            </a:r>
            <a:endParaRPr b="0" lang="en-US" sz="5400" spc="-1" strike="noStrike">
              <a:solidFill>
                <a:srgbClr val="ccecff"/>
              </a:solidFill>
              <a:latin typeface="Arial"/>
            </a:endParaRPr>
          </a:p>
        </p:txBody>
      </p:sp>
      <p:sp>
        <p:nvSpPr>
          <p:cNvPr id="157" name="PlaceHolder 2"/>
          <p:cNvSpPr>
            <a:spLocks noGrp="1"/>
          </p:cNvSpPr>
          <p:nvPr>
            <p:ph type="subTitle"/>
          </p:nvPr>
        </p:nvSpPr>
        <p:spPr>
          <a:xfrm>
            <a:off x="914400" y="3581280"/>
            <a:ext cx="739152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ww.dumpsoftdrinks.org</a:t>
            </a:r>
            <a:endParaRPr b="0" lang="en-US" sz="2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ffects of Decreasing Sugar-Sweetened Beverage Consumption on Body Weight in Adolescents: A Randomized, Controlled Pilot Study</a:t>
            </a:r>
            <a:r>
              <a:rPr b="0" lang="en-US" sz="2400" spc="-1" strike="noStrike">
                <a:solidFill>
                  <a:srgbClr val="ffffff"/>
                </a:solidFill>
                <a:latin typeface="Verdana"/>
              </a:rPr>
              <a:t>. </a:t>
            </a:r>
            <a:r>
              <a:rPr b="1" lang="en-US" sz="2400" spc="-1" strike="noStrike">
                <a:solidFill>
                  <a:srgbClr val="ffffff"/>
                </a:solidFill>
                <a:latin typeface="Verdana"/>
              </a:rPr>
              <a:t>Ebbeling, CB, Feldman, HA, Osganian, SK, Chomitz, VR, Ellenbogen, SJ, Ludwig, DS</a:t>
            </a:r>
            <a:r>
              <a:rPr b="0" lang="en-US" sz="2400" spc="-1" strike="noStrike">
                <a:solidFill>
                  <a:srgbClr val="ffffff"/>
                </a:solidFill>
                <a:latin typeface="Verdana"/>
              </a:rPr>
              <a:t>. </a:t>
            </a:r>
            <a:r>
              <a:rPr b="1" i="1" lang="en-US" sz="2400" spc="-1" strike="noStrike">
                <a:solidFill>
                  <a:srgbClr val="ffffff"/>
                </a:solidFill>
                <a:latin typeface="Verdana"/>
              </a:rPr>
              <a:t>Pediatrics.  </a:t>
            </a:r>
            <a:r>
              <a:rPr b="1" lang="en-US" sz="2400" spc="-1" strike="noStrike">
                <a:solidFill>
                  <a:srgbClr val="ffffff"/>
                </a:solidFill>
                <a:latin typeface="Verdana"/>
              </a:rPr>
              <a:t>2006; 117: 673-680</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3200" spc="-1" strike="noStrike">
                <a:solidFill>
                  <a:srgbClr val="ffffff"/>
                </a:solidFill>
                <a:latin typeface="Verdana"/>
              </a:rPr>
              <a:t>Decreasing SSB (sugar-sweetened beverage) consumption had a beneficial effect on body weight that was strongly linked to baseline BMI.”</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24AA57BF-FD5F-488A-911C-01B4D4F5C4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lation Between Consumption of Sugar-Sweetened Drinks and Childhood Obesity: a Prospective, Observational Analysis. Ludwig, DS, Peterson, KE, and Gortmaker, SL.</a:t>
            </a:r>
            <a:r>
              <a:rPr b="0" lang="en-US" sz="2400" spc="-1" strike="noStrike">
                <a:solidFill>
                  <a:srgbClr val="ffffff"/>
                </a:solidFill>
                <a:latin typeface="Verdana"/>
              </a:rPr>
              <a:t> </a:t>
            </a:r>
            <a:r>
              <a:rPr b="1" i="1" lang="en-US" sz="2400" spc="-1" strike="noStrike">
                <a:solidFill>
                  <a:srgbClr val="ffffff"/>
                </a:solidFill>
                <a:latin typeface="Verdana"/>
              </a:rPr>
              <a:t>Lancet.</a:t>
            </a:r>
            <a:r>
              <a:rPr b="1" lang="en-US" sz="2400" spc="-1" strike="noStrike">
                <a:solidFill>
                  <a:srgbClr val="ffffff"/>
                </a:solidFill>
                <a:latin typeface="Verdana"/>
              </a:rPr>
              <a:t>  2001; 357: 505-508</a:t>
            </a:r>
            <a:r>
              <a:rPr b="0" lang="en-US" sz="2000" spc="-1" strike="noStrike">
                <a:solidFill>
                  <a:srgbClr val="ffffff"/>
                </a:solidFill>
                <a:latin typeface="Verdana"/>
              </a:rPr>
              <a:t> </a:t>
            </a:r>
            <a:endParaRPr b="0" lang="en-US" sz="2000" spc="-1" strike="noStrike">
              <a:solidFill>
                <a:srgbClr val="ffffff"/>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2800" spc="-1" strike="noStrike">
                <a:solidFill>
                  <a:srgbClr val="ffffff"/>
                </a:solidFill>
                <a:latin typeface="Verdana"/>
              </a:rPr>
              <a:t>The cause of this apparent obesity epidemic is likely to be multifactorial, our findings suggest that sugar-sweetened drink consumption could be an important contributory factor.” </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353AC23E-9B16-4E3B-92F9-3301D44AD2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Coca-Cola Co.</a:t>
            </a:r>
            <a:endParaRPr b="0" lang="en-US" sz="3600" spc="-1" strike="noStrike">
              <a:solidFill>
                <a:srgbClr val="ccecff"/>
              </a:solidFill>
              <a:latin typeface="Arial"/>
            </a:endParaRPr>
          </a:p>
        </p:txBody>
      </p:sp>
      <p:sp>
        <p:nvSpPr>
          <p:cNvPr id="179"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0" name=""/>
          <p:cNvGraphicFramePr/>
          <p:nvPr/>
        </p:nvGraphicFramePr>
        <p:xfrm>
          <a:off x="1295280" y="1676520"/>
          <a:ext cx="6782040" cy="4395600"/>
        </p:xfrm>
        <a:graphic>
          <a:graphicData uri="http://schemas.openxmlformats.org/presentationml/2006/ole">
            <p:oleObj r:id="rId1" spid="">
              <p:embed/>
              <p:pic>
                <p:nvPicPr>
                  <p:cNvPr id="181" name="" descr=""/>
                  <p:cNvPicPr/>
                  <p:nvPr/>
                </p:nvPicPr>
                <p:blipFill>
                  <a:blip r:embed="rId2"/>
                  <a:stretch/>
                </p:blipFill>
                <p:spPr>
                  <a:xfrm>
                    <a:off x="1295280" y="1676520"/>
                    <a:ext cx="6782040" cy="4395600"/>
                  </a:xfrm>
                  <a:prstGeom prst="rect">
                    <a:avLst/>
                  </a:prstGeom>
                  <a:ln w="0">
                    <a:noFill/>
                  </a:ln>
                </p:spPr>
              </p:pic>
            </p:oleObj>
          </a:graphicData>
        </a:graphic>
      </p:graphicFrame>
      <p:sp>
        <p:nvSpPr>
          <p:cNvPr id="3" name="PlaceHolder 2"/>
          <p:cNvSpPr>
            <a:spLocks noGrp="1"/>
          </p:cNvSpPr>
          <p:nvPr>
            <p:ph type="sldNum" idx="3"/>
          </p:nvPr>
        </p:nvSpPr>
        <p:spPr/>
        <p:txBody>
          <a:bodyPr/>
          <a:p>
            <a:fld id="{516CD2E0-511B-417E-826A-478A19F3E6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Coca-Cola Co.</a:t>
            </a:r>
            <a:endParaRPr b="0" lang="en-US" sz="36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orth Asia, Eurasia, and </a:t>
            </a:r>
            <a:br>
              <a:rPr sz="3200"/>
            </a:br>
            <a:r>
              <a:rPr b="1" lang="en-US" sz="3200" spc="-1" strike="noStrike">
                <a:solidFill>
                  <a:srgbClr val="ffffff"/>
                </a:solidFill>
                <a:latin typeface="Verdana"/>
              </a:rPr>
              <a:t>the Middle East</a:t>
            </a:r>
            <a:endParaRPr b="0" lang="en-US" sz="32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les in 2005 increased 11 percent.  China experienced a 15 percent growth in unit case volume in 2006.</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4ABFDAED-6FF8-4184-B3D1-8F4D6647CB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Coca-Cola Co.</a:t>
            </a:r>
            <a:endParaRPr b="0" lang="en-US" sz="36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atin Americ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it case volume grew by 7 percent from 2005 to 2006, and annual per capita consumption across the region (defined as eight ounce servings) has steadily grown from 108 servings in 1986 to 235 servings in 2006. </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FE05ECA6-9FE9-4EEE-8555-01FDC2E82A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Coca-Cola Co.</a:t>
            </a:r>
            <a:endParaRPr b="0" lang="en-US" sz="36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frica</a:t>
            </a:r>
            <a:endParaRPr b="0" lang="en-US" sz="3200" spc="-1" strike="noStrike">
              <a:solidFill>
                <a:srgbClr val="ffffff"/>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35480" indent="-28296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 capita consumption in Africa has grown from 18 servings in 1986 to 37 servings in 2006.  Unit case volume sales are up 4 percent from 2005 to 2006. This growth was predominantly driven by 23 percent unit case volume growth in Egypt, after Coca-Cola opened a new divisional office in Cairo.</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7B95BC74-8042-404E-8DAB-7D69CC8AEF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PepsiCo Inc.</a:t>
            </a:r>
            <a:endParaRPr b="0" lang="en-US" sz="36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2006, PepsiCo International’s beverage division reported 9% volume growth, “reflecting broad-based increases led by double digit growth in the Middle East, China, Argentina, Russia and Venezuela.  The Europe, Middle East and Africa region grew 11%, the Asia Pacific region grew 9% and the Latin American region grew 7%.”</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7F7F4FF0-F0F3-4BBF-8D28-75C31C6FDD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ealth Outcomes</a:t>
            </a:r>
            <a:endParaRPr b="0" lang="en-US" sz="4000" spc="-1" strike="noStrike">
              <a:solidFill>
                <a:srgbClr val="ccecff"/>
              </a:solidFill>
              <a:latin typeface="Arial"/>
            </a:endParaRPr>
          </a:p>
        </p:txBody>
      </p:sp>
      <p:sp>
        <p:nvSpPr>
          <p:cNvPr id="19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 consumption of soft drinks has increased in Mexico and China, so has the prevalence of obesity and diabete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3" name=""/>
          <p:cNvGraphicFramePr/>
          <p:nvPr/>
        </p:nvGraphicFramePr>
        <p:xfrm>
          <a:off x="2286000" y="2743200"/>
          <a:ext cx="5238720" cy="3619440"/>
        </p:xfrm>
        <a:graphic>
          <a:graphicData uri="http://schemas.openxmlformats.org/presentationml/2006/ole">
            <p:oleObj r:id="rId1" spid="">
              <p:embed/>
              <p:pic>
                <p:nvPicPr>
                  <p:cNvPr id="194" name="" descr=""/>
                  <p:cNvPicPr/>
                  <p:nvPr/>
                </p:nvPicPr>
                <p:blipFill>
                  <a:blip r:embed="rId2"/>
                  <a:stretch/>
                </p:blipFill>
                <p:spPr>
                  <a:xfrm>
                    <a:off x="2286000" y="2743200"/>
                    <a:ext cx="5238720" cy="3619440"/>
                  </a:xfrm>
                  <a:prstGeom prst="rect">
                    <a:avLst/>
                  </a:prstGeom>
                  <a:ln w="0">
                    <a:noFill/>
                  </a:ln>
                </p:spPr>
              </p:pic>
            </p:oleObj>
          </a:graphicData>
        </a:graphic>
      </p:graphicFrame>
      <p:sp>
        <p:nvSpPr>
          <p:cNvPr id="4" name="PlaceHolder 3"/>
          <p:cNvSpPr>
            <a:spLocks noGrp="1"/>
          </p:cNvSpPr>
          <p:nvPr>
            <p:ph type="sldNum" idx="3"/>
          </p:nvPr>
        </p:nvSpPr>
        <p:spPr/>
        <p:txBody>
          <a:bodyPr/>
          <a:p>
            <a:fld id="{26A1CE05-B8F3-4465-AB64-61FCBA07DE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lobal Demand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s Should Require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ft Drink Companies to: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the promotion of new lower-sugar products, sell existing high sugar products in smaller serving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E94155AA-CF24-451A-A3A1-F653CB218A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Demands</a:t>
            </a: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ease all marketing of sugar-laden beverages to children under 16, including print and broadcast advertising, product placement, the Internet, mobile phones, athletic event sponsorship, signage, merchandising, and other means</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20DF6265-40CB-42C3-BA9E-AD09A23625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International Campaig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lighting the Role Played by Soft Drink Companies in Increasing Obesity Rates </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AF634026-DF14-4B64-8593-72D5BFD17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lobal Demand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inently display the calorie content, per serving, of all beverages on the fronts of containers and the outer labels of multi-container packages, along with the number of servings per bottle or can;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gary beverages should include rotating nutrition education messages such as "High sugar - drink only occasionally" or "For occasional consumption - drink water to quench thirs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F7577F41-76A4-4A4A-91C5-1D800A567B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Demands</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p selling sweetened beverages, including sports drinks and fruit flavored beverages and teas, in all public and private elementary, middle, and high school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ptable beverages include water from free convenient drinking fountains, carbonated water, low fat milk, and fruit juice in containers of 250ml or les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5414E1D8-B876-4DCA-88BD-6B727A5344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lobal Demands</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y a modest Value Added Tax on soft drinks with governments returning the proceeds to consumers through provision of physical activity and nutrition education programs and through subsidies that reduce the costs of fruits and vegetables;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503CE8FE-405B-4A2D-A6F8-8F92736143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Demands</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quire that sponsorships involving the promotion of physical activity and health be made to blind trusts used by independent health charities or government agencies for programs not associated with the company's logo, brands, or other proprietary information.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0D46AE02-0F7B-4240-B209-1A6859B212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Can You Do?</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e a "No Soft Drink Week" in your community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onsor "Dump Soft Drink" media events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rge children's publications not to carry advertising for sugary beverages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1F8BD5FC-F9A7-4263-BDB8-3F9B00CF4B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Can You Do?</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mpaign for the removal of soft drinks from all schools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sure stores to remove or cover soft drink company signs, clocks, and other logos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rge government agencies to require better labeling of soft drinks, and curb advertising viewed by children.</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1409D465-6C8C-4E3E-8341-BDFF1774E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oin the Campaign!</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sit our website at </a:t>
            </a:r>
            <a:r>
              <a:rPr b="0" lang="en-US" sz="2800" spc="-1" strike="noStrike" u="sng">
                <a:solidFill>
                  <a:srgbClr val="ffffcc"/>
                </a:solidFill>
                <a:uFillTx/>
                <a:latin typeface="Verdana"/>
                <a:hlinkClick r:id="rId1"/>
              </a:rPr>
              <a:t>http://DumpSoftDrinks.org</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more information about the connection between soft drink consumption and overweight and obesity, as well as the marketing tactics undertaken by the big soda companies.  Sign up to join the campaign and send us your complaints about Coke and Pepsi!</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16A07A56-8389-469E-815B-9F9D9F2D64DD}"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utline</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ientific studie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nges in consumption patterns and health outcom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Dump Soft Drinks</a:t>
            </a:r>
            <a:r>
              <a:rPr b="0" lang="en-US" sz="3200" spc="-1" strike="noStrike">
                <a:solidFill>
                  <a:srgbClr val="ffffff"/>
                </a:solidFill>
                <a:latin typeface="Verdana"/>
              </a:rPr>
              <a:t> Campaign: Global Demand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an You D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to Join </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0587F4CD-EA49-4EA5-A9DA-2B4E75B09C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tion</a:t>
            </a: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ce primarily a problem in the United States (US) and Europe, obesity is becoming widespread.</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obesity problem is also acute in countries such as Mexico, the Philippines, and South Africa. </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ording to the World Health Organization, many developing countries now face a “double-burden” of malnutrition and obesity.</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6CD5443A-6405-4722-A51E-D2FEF5056E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tion</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veloping countries represent the largest growth markets for soft drink producers as consumption has leveled off, or slightly declined, in the US and parts of Europ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umers in developing countries such are being targeted by the soft drink industry with aggressive marketing often viewed by children.</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7C9FD9A8-81A3-4733-99A1-E40D88957D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tion</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reasing soft drink consumption around the world is related to the increasing rates of overweight and obesity.</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776D7E70-64AC-40BF-99BB-F568FFF993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Sweetening of the World’s Diet.</a:t>
            </a:r>
            <a:r>
              <a:rPr b="0" lang="en-US" sz="2400" spc="-1" strike="noStrike">
                <a:solidFill>
                  <a:srgbClr val="ffffff"/>
                </a:solidFill>
                <a:latin typeface="Verdana"/>
              </a:rPr>
              <a:t> </a:t>
            </a:r>
            <a:r>
              <a:rPr b="1" lang="en-US" sz="2400" spc="-1" strike="noStrike">
                <a:solidFill>
                  <a:srgbClr val="ffffff"/>
                </a:solidFill>
                <a:latin typeface="Verdana"/>
              </a:rPr>
              <a:t>Popkin, B. and S.J. Nielson.</a:t>
            </a:r>
            <a:r>
              <a:rPr b="0" lang="en-US" sz="2400" spc="-1" strike="noStrike">
                <a:solidFill>
                  <a:srgbClr val="ffffff"/>
                </a:solidFill>
                <a:latin typeface="Verdana"/>
              </a:rPr>
              <a:t> </a:t>
            </a:r>
            <a:r>
              <a:rPr b="1" i="1" lang="en-US" sz="2400" spc="-1" strike="noStrike">
                <a:solidFill>
                  <a:srgbClr val="ffffff"/>
                </a:solidFill>
                <a:latin typeface="Verdana"/>
              </a:rPr>
              <a:t>Obesity Research.  </a:t>
            </a:r>
            <a:r>
              <a:rPr b="1" lang="en-US" sz="2400" spc="-1" strike="noStrike">
                <a:solidFill>
                  <a:srgbClr val="ffffff"/>
                </a:solidFill>
                <a:latin typeface="Verdana"/>
              </a:rPr>
              <a:t>2003: Vol. 11, No. 11.</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e of caloric sweetener has risen across the world, and has contributed to an increasing number of calories consumed per day, which leads to weight gain.  Sugared “beverage intake seems to be a major contributor” to the increasing rates of caloric sweetener consumption globally.</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FB7E5AAD-D281-404D-859C-1CEC88D32D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71"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venting Childhood Obesity by Reducing Consumption of Carbonated Drinks: Cluster Randomised Controlled Trial.</a:t>
            </a:r>
            <a:r>
              <a:rPr b="0" lang="en-US" sz="2400" spc="-1" strike="noStrike">
                <a:solidFill>
                  <a:srgbClr val="ffffff"/>
                </a:solidFill>
                <a:latin typeface="Verdana"/>
              </a:rPr>
              <a:t> </a:t>
            </a:r>
            <a:r>
              <a:rPr b="1" lang="en-US" sz="2400" spc="-1" strike="noStrike">
                <a:solidFill>
                  <a:srgbClr val="ffffff"/>
                </a:solidFill>
                <a:latin typeface="Verdana"/>
              </a:rPr>
              <a:t>James, J, Thomas, P, Cavan, D, and Kerr, D.</a:t>
            </a:r>
            <a:r>
              <a:rPr b="0" lang="en-US" sz="2400" spc="-1" strike="noStrike">
                <a:solidFill>
                  <a:srgbClr val="ffffff"/>
                </a:solidFill>
                <a:latin typeface="Verdana"/>
              </a:rPr>
              <a:t> </a:t>
            </a:r>
            <a:r>
              <a:rPr b="1" i="1" lang="en-US" sz="2400" spc="-1" strike="noStrike">
                <a:solidFill>
                  <a:srgbClr val="ffffff"/>
                </a:solidFill>
                <a:latin typeface="Verdana"/>
              </a:rPr>
              <a:t>British Medical Journal.</a:t>
            </a:r>
            <a:r>
              <a:rPr b="1" lang="en-US" sz="2400" spc="-1" strike="noStrike">
                <a:solidFill>
                  <a:srgbClr val="ffffff"/>
                </a:solidFill>
                <a:latin typeface="Verdana"/>
              </a:rPr>
              <a:t>  April 2004; Vol. 328</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At 12 months the mean percentage of overweight and obese children increased in the control clusters by 7.5%, compared with a decrease in the intervention group of 0.2%.”  Additionally, “at 12 months, consumption [of sugar-sweetened beverages] decreased in the intervention group compared with the control group.”</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D64A6959-4D76-4113-8579-558F2D5DA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ake of Sugar-Sweetened Beverages and Weight Gain: A Systematic Review.</a:t>
            </a:r>
            <a:r>
              <a:rPr b="0" lang="en-US" sz="2400" spc="-1" strike="noStrike">
                <a:solidFill>
                  <a:srgbClr val="ffffff"/>
                </a:solidFill>
                <a:latin typeface="Verdana"/>
              </a:rPr>
              <a:t> </a:t>
            </a:r>
            <a:r>
              <a:rPr b="1" lang="en-US" sz="2400" spc="-1" strike="noStrike">
                <a:solidFill>
                  <a:srgbClr val="ffffff"/>
                </a:solidFill>
                <a:latin typeface="Verdana"/>
              </a:rPr>
              <a:t>Malik, V, Schulze, MB, and Hu, FB.</a:t>
            </a:r>
            <a:r>
              <a:rPr b="0" lang="en-US" sz="2400" spc="-1" strike="noStrike">
                <a:solidFill>
                  <a:srgbClr val="ffffff"/>
                </a:solidFill>
                <a:latin typeface="Verdana"/>
              </a:rPr>
              <a:t> </a:t>
            </a:r>
            <a:r>
              <a:rPr b="1" i="1" lang="en-US" sz="2400" spc="-1" strike="noStrike">
                <a:solidFill>
                  <a:srgbClr val="ffffff"/>
                </a:solidFill>
                <a:latin typeface="Verdana"/>
              </a:rPr>
              <a:t>American Journal of Clinical Nutrition.</a:t>
            </a:r>
            <a:r>
              <a:rPr b="1" lang="en-US" sz="2400" spc="-1" strike="noStrike">
                <a:solidFill>
                  <a:srgbClr val="ffffff"/>
                </a:solidFill>
                <a:latin typeface="Verdana"/>
              </a:rPr>
              <a:t>  2006; 84: 274-288</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2800" spc="-1" strike="noStrike">
                <a:solidFill>
                  <a:srgbClr val="ffffff"/>
                </a:solidFill>
                <a:latin typeface="Verdana"/>
              </a:rPr>
              <a:t>Weight of epidemiologic and experimental evidence indicates that a greater consumption of SSBs (sugar-sweetened beverages) is associated with weight gain and obesity.”</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4A157367-D511-4DF4-B364-2352ECFBCF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9T15:19:50Z</dcterms:created>
  <dc:creator>hilaryk</dc:creator>
  <dc:description/>
  <dc:language>en-US</dc:language>
  <cp:lastModifiedBy>alane</cp:lastModifiedBy>
  <cp:lastPrinted>2007-10-25T16:03:18Z</cp:lastPrinted>
  <dcterms:modified xsi:type="dcterms:W3CDTF">2007-12-03T19:14:23Z</dcterms:modified>
  <cp:revision>17</cp:revision>
  <dc:subject/>
  <dc:title>Global Dump Soda Campaign</dc:title>
</cp:coreProperties>
</file>