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C01-8FCD-44A7-B185-05C5EF0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229-9B94-4EEE-8F59-9EE19AAB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375-FD95-426F-97FB-7B9B4AAD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3E3-EB25-445A-A4C3-059E4B05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182-EDCA-4D55-B7D3-F4A3898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35B-B9E1-4C8F-BA2E-88971F5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D43-FB9F-4C15-9205-68152AEF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CB9-D722-43A7-B193-1331172F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46B-EA9C-4561-9E40-E222D8B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393-42A0-4865-AFB2-66A4594A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27A-0CB4-46F1-8983-237B526C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453-9D9B-4296-A9DE-FB7183E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823-8F1D-441B-A2EB-2EB41AA8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0040" y="2401920"/>
            <a:ext cx="3017880" cy="2849040"/>
            <a:chOff x="500040" y="2401920"/>
            <a:chExt cx="3017880" cy="2849040"/>
          </a:xfrm>
        </p:grpSpPr>
        <p:grpSp>
          <p:nvGrpSpPr>
            <p:cNvPr id="42" name=""/>
            <p:cNvGrpSpPr/>
            <p:nvPr/>
          </p:nvGrpSpPr>
          <p:grpSpPr>
            <a:xfrm>
              <a:off x="597960" y="4831560"/>
              <a:ext cx="2919240" cy="419400"/>
              <a:chOff x="597960" y="4831560"/>
              <a:chExt cx="2919240" cy="419400"/>
            </a:xfrm>
          </p:grpSpPr>
          <p:sp>
            <p:nvSpPr>
              <p:cNvPr id="43" name=""/>
              <p:cNvSpPr/>
              <p:nvPr/>
            </p:nvSpPr>
            <p:spPr>
              <a:xfrm>
                <a:off x="3053160" y="4831560"/>
                <a:ext cx="464040" cy="410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294280" y="4840200"/>
                <a:ext cx="464040" cy="410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08400" y="4840200"/>
                <a:ext cx="464400" cy="410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960" y="4920480"/>
                <a:ext cx="696240" cy="23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97960" y="3893400"/>
              <a:ext cx="2919240" cy="785520"/>
              <a:chOff x="597960" y="3893400"/>
              <a:chExt cx="2919240" cy="785520"/>
            </a:xfrm>
          </p:grpSpPr>
          <p:sp>
            <p:nvSpPr>
              <p:cNvPr id="48" name=""/>
              <p:cNvSpPr/>
              <p:nvPr/>
            </p:nvSpPr>
            <p:spPr>
              <a:xfrm>
                <a:off x="2294280" y="3893400"/>
                <a:ext cx="464040" cy="776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53160" y="3893400"/>
                <a:ext cx="464040" cy="776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08400" y="3902400"/>
                <a:ext cx="464400" cy="776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7960" y="4080960"/>
                <a:ext cx="696240" cy="401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500040" y="2401920"/>
              <a:ext cx="3017880" cy="1330920"/>
              <a:chOff x="500040" y="2401920"/>
              <a:chExt cx="3017880" cy="1330920"/>
            </a:xfrm>
          </p:grpSpPr>
          <p:sp>
            <p:nvSpPr>
              <p:cNvPr id="53" name=""/>
              <p:cNvSpPr/>
              <p:nvPr/>
            </p:nvSpPr>
            <p:spPr>
              <a:xfrm>
                <a:off x="3053520" y="2401920"/>
                <a:ext cx="46440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94280" y="2401920"/>
                <a:ext cx="46440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08760" y="2401920"/>
                <a:ext cx="46404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040" y="2955600"/>
                <a:ext cx="624600" cy="18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98000" y="2741040"/>
                <a:ext cx="249840" cy="62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812880" y="554040"/>
            <a:ext cx="7143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57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da0000"/>
                </a:solidFill>
                <a:latin typeface="Arial"/>
              </a:rPr>
              <a:t>Write the title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1584360"/>
            <a:ext cx="492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7f3f"/>
                </a:solidFill>
                <a:latin typeface="Arial"/>
              </a:rPr>
              <a:t>More on the model h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598760" y="2473200"/>
            <a:ext cx="1857240" cy="25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581120" y="3402000"/>
            <a:ext cx="1892160" cy="25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581120" y="2928960"/>
            <a:ext cx="18842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1589040" y="4916520"/>
            <a:ext cx="1876320" cy="2379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1562040" y="3938760"/>
            <a:ext cx="1928880" cy="694800"/>
            <a:chOff x="1562040" y="3938760"/>
            <a:chExt cx="1928880" cy="694800"/>
          </a:xfrm>
        </p:grpSpPr>
        <p:pic>
          <p:nvPicPr>
            <p:cNvPr id="65" name="" descr=""/>
            <p:cNvPicPr/>
            <p:nvPr/>
          </p:nvPicPr>
          <p:blipFill>
            <a:blip r:embed="rId9"/>
            <a:stretch/>
          </p:blipFill>
          <p:spPr>
            <a:xfrm>
              <a:off x="1633320" y="4384440"/>
              <a:ext cx="177696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0"/>
            <a:stretch/>
          </p:blipFill>
          <p:spPr>
            <a:xfrm>
              <a:off x="1562040" y="3938760"/>
              <a:ext cx="1928880" cy="24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3884760" y="2679840"/>
            <a:ext cx="4749480" cy="338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7912080" y="3114720"/>
            <a:ext cx="411120" cy="743040"/>
            <a:chOff x="7912080" y="3114720"/>
            <a:chExt cx="411120" cy="743040"/>
          </a:xfrm>
        </p:grpSpPr>
        <p:sp>
          <p:nvSpPr>
            <p:cNvPr id="69" name=""/>
            <p:cNvSpPr/>
            <p:nvPr/>
          </p:nvSpPr>
          <p:spPr>
            <a:xfrm rot="5399400">
              <a:off x="7916400" y="3173040"/>
              <a:ext cx="397440" cy="280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2"/>
            <a:stretch/>
          </p:blipFill>
          <p:spPr>
            <a:xfrm>
              <a:off x="7912080" y="3598560"/>
              <a:ext cx="411120" cy="2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 rot="5399400">
            <a:off x="4871160" y="3174120"/>
            <a:ext cx="398520" cy="279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4616280" y="3633840"/>
            <a:ext cx="901800" cy="196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360" y="3968640"/>
            <a:ext cx="56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400" spc="-1" strike="noStrike">
                <a:solidFill>
                  <a:srgbClr val="258438"/>
                </a:solidFill>
                <a:latin typeface="Arial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16760" y="3114720"/>
            <a:ext cx="982440" cy="1068480"/>
            <a:chOff x="6116760" y="3114720"/>
            <a:chExt cx="982440" cy="1068480"/>
          </a:xfrm>
        </p:grpSpPr>
        <p:sp>
          <p:nvSpPr>
            <p:cNvPr id="75" name=""/>
            <p:cNvSpPr/>
            <p:nvPr/>
          </p:nvSpPr>
          <p:spPr>
            <a:xfrm rot="5399400">
              <a:off x="6406920" y="3173400"/>
              <a:ext cx="397800" cy="280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4"/>
            <a:stretch/>
          </p:blipFill>
          <p:spPr>
            <a:xfrm>
              <a:off x="6116760" y="3598560"/>
              <a:ext cx="982440" cy="2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20440" y="396972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249120"/>
                  <a:tab algn="l" pos="500040"/>
                  <a:tab algn="l" pos="749160"/>
                  <a:tab algn="l" pos="1000080"/>
                  <a:tab algn="l" pos="1249200"/>
                  <a:tab algn="l" pos="1500120"/>
                  <a:tab algn="l" pos="1749600"/>
                  <a:tab algn="l" pos="2000160"/>
                  <a:tab algn="l" pos="2249640"/>
                  <a:tab algn="l" pos="2500200"/>
                  <a:tab algn="l" pos="2749680"/>
                  <a:tab algn="l" pos="30002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258438"/>
                  </a:solidFill>
                  <a:latin typeface="Arial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010040" y="4894200"/>
            <a:ext cx="2741400" cy="292320"/>
            <a:chOff x="4010040" y="4894200"/>
            <a:chExt cx="2741400" cy="292320"/>
          </a:xfrm>
        </p:grpSpPr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4010040" y="4894200"/>
              <a:ext cx="137520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676480" y="4907520"/>
              <a:ext cx="397440" cy="27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6314040" y="4902840"/>
              <a:ext cx="437400" cy="2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5315400" y="5656320"/>
            <a:ext cx="190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400" spc="-1" strike="noStrike">
                <a:solidFill>
                  <a:srgbClr val="258438"/>
                </a:solidFill>
                <a:latin typeface="Arial"/>
              </a:rPr>
              <a:t>A short comment  here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792-F7AB-4F37-BA2F-20CDE75DB895}" type="slidenum">
              <a:t>1</a:t>
            </a:fld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57:56Z</dcterms:created>
  <dc:creator>Stefano Bertolini</dc:creator>
  <dc:description/>
  <dc:language>en-US</dc:language>
  <cp:lastModifiedBy>Giuliano Lotta</cp:lastModifiedBy>
  <dcterms:modified xsi:type="dcterms:W3CDTF">2005-10-07T12:39:44Z</dcterms:modified>
  <cp:revision>3</cp:revision>
  <dc:subject/>
  <dc:title>Diapositiva 1</dc:title>
</cp:coreProperties>
</file>