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57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936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0840" indent="-18072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9520" indent="-146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79520" indent="-146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79520" indent="-146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28800" y="4343400"/>
            <a:ext cx="1440" cy="914400"/>
          </a:xfrm>
          <a:prstGeom prst="line">
            <a:avLst/>
          </a:prstGeom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0520" y="2666880"/>
            <a:ext cx="53323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90600" y="1262160"/>
            <a:ext cx="8362800" cy="4333680"/>
            <a:chOff x="390600" y="1262160"/>
            <a:chExt cx="8362800" cy="4333680"/>
          </a:xfrm>
        </p:grpSpPr>
        <p:sp>
          <p:nvSpPr>
            <p:cNvPr id="77" name=""/>
            <p:cNvSpPr/>
            <p:nvPr/>
          </p:nvSpPr>
          <p:spPr>
            <a:xfrm>
              <a:off x="4335480" y="2882880"/>
              <a:ext cx="1127160" cy="109224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893" y="0"/>
                  </a:lnTo>
                  <a:lnTo>
                    <a:pt x="21600" y="10800"/>
                  </a:lnTo>
                  <a:lnTo>
                    <a:pt x="15893" y="21600"/>
                  </a:lnTo>
                  <a:lnTo>
                    <a:pt x="0" y="21600"/>
                  </a:lnTo>
                  <a:lnTo>
                    <a:pt x="5707" y="10800"/>
                  </a:lnTo>
                  <a:close/>
                </a:path>
              </a:pathLst>
            </a:custGeom>
            <a:solidFill>
              <a:srgbClr val="dddddd"/>
            </a:solidFill>
            <a:ln w="2844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32240" y="2882880"/>
              <a:ext cx="1127160" cy="109224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893" y="0"/>
                  </a:lnTo>
                  <a:lnTo>
                    <a:pt x="21600" y="10800"/>
                  </a:lnTo>
                  <a:lnTo>
                    <a:pt x="15893" y="21600"/>
                  </a:lnTo>
                  <a:lnTo>
                    <a:pt x="0" y="21600"/>
                  </a:lnTo>
                  <a:lnTo>
                    <a:pt x="5707" y="10800"/>
                  </a:lnTo>
                  <a:close/>
                </a:path>
              </a:pathLst>
            </a:custGeom>
            <a:solidFill>
              <a:srgbClr val="dddddd"/>
            </a:solidFill>
            <a:ln w="2844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43760" y="2882880"/>
              <a:ext cx="1109520" cy="109224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31" y="0"/>
                  </a:lnTo>
                  <a:lnTo>
                    <a:pt x="21600" y="10800"/>
                  </a:lnTo>
                  <a:lnTo>
                    <a:pt x="16031" y="21600"/>
                  </a:lnTo>
                  <a:lnTo>
                    <a:pt x="0" y="21600"/>
                  </a:lnTo>
                  <a:lnTo>
                    <a:pt x="5569" y="10800"/>
                  </a:lnTo>
                  <a:close/>
                </a:path>
              </a:pathLst>
            </a:custGeom>
            <a:solidFill>
              <a:srgbClr val="dddddd"/>
            </a:solidFill>
            <a:ln w="2844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38720" y="2882880"/>
              <a:ext cx="1128600" cy="109224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893" y="0"/>
                  </a:lnTo>
                  <a:lnTo>
                    <a:pt x="21600" y="10800"/>
                  </a:lnTo>
                  <a:lnTo>
                    <a:pt x="15893" y="21600"/>
                  </a:lnTo>
                  <a:lnTo>
                    <a:pt x="0" y="21600"/>
                  </a:lnTo>
                  <a:lnTo>
                    <a:pt x="5707" y="10800"/>
                  </a:lnTo>
                  <a:close/>
                </a:path>
              </a:pathLst>
            </a:custGeom>
            <a:solidFill>
              <a:srgbClr val="dddddd"/>
            </a:solidFill>
            <a:ln w="2844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08280" y="2882880"/>
              <a:ext cx="971280" cy="1093680"/>
            </a:xfrm>
            <a:custGeom>
              <a:avLst/>
              <a:gdLst>
                <a:gd name="textAreaLeft" fmla="*/ 0 w 971280"/>
                <a:gd name="textAreaRight" fmla="*/ 971640 w 97128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90" y="0"/>
                  </a:lnTo>
                  <a:lnTo>
                    <a:pt x="21600" y="10800"/>
                  </a:lnTo>
                  <a:lnTo>
                    <a:pt x="148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2844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62280" y="2954160"/>
              <a:ext cx="852480" cy="96048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960480"/>
                <a:gd name="textAreaBottom" fmla="*/ 96084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752" y="0"/>
                  </a:lnTo>
                  <a:lnTo>
                    <a:pt x="21600" y="10800"/>
                  </a:lnTo>
                  <a:lnTo>
                    <a:pt x="1475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2ff0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5400000">
              <a:off x="5340240" y="2965320"/>
              <a:ext cx="963720" cy="938160"/>
            </a:xfrm>
            <a:custGeom>
              <a:avLst/>
              <a:gdLst/>
              <a:ahLst/>
              <a:rect l="l" t="t" r="r" b="b"/>
              <a:pathLst>
                <a:path w="2076" h="796">
                  <a:moveTo>
                    <a:pt x="0" y="221"/>
                  </a:moveTo>
                  <a:lnTo>
                    <a:pt x="0" y="796"/>
                  </a:lnTo>
                  <a:lnTo>
                    <a:pt x="1035" y="580"/>
                  </a:lnTo>
                  <a:lnTo>
                    <a:pt x="2076" y="796"/>
                  </a:lnTo>
                  <a:lnTo>
                    <a:pt x="2076" y="215"/>
                  </a:lnTo>
                  <a:lnTo>
                    <a:pt x="1029" y="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496a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4439160" y="2964600"/>
              <a:ext cx="963720" cy="939600"/>
            </a:xfrm>
            <a:custGeom>
              <a:avLst/>
              <a:gdLst/>
              <a:ahLst/>
              <a:rect l="l" t="t" r="r" b="b"/>
              <a:pathLst>
                <a:path w="2076" h="796">
                  <a:moveTo>
                    <a:pt x="0" y="221"/>
                  </a:moveTo>
                  <a:lnTo>
                    <a:pt x="0" y="796"/>
                  </a:lnTo>
                  <a:lnTo>
                    <a:pt x="1035" y="580"/>
                  </a:lnTo>
                  <a:lnTo>
                    <a:pt x="2076" y="796"/>
                  </a:lnTo>
                  <a:lnTo>
                    <a:pt x="2076" y="215"/>
                  </a:lnTo>
                  <a:lnTo>
                    <a:pt x="1029" y="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618c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25560" y="3232080"/>
              <a:ext cx="793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Bestel-l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6240240" y="2965320"/>
              <a:ext cx="963720" cy="938160"/>
            </a:xfrm>
            <a:custGeom>
              <a:avLst/>
              <a:gdLst/>
              <a:ahLst/>
              <a:rect l="l" t="t" r="r" b="b"/>
              <a:pathLst>
                <a:path w="2076" h="796">
                  <a:moveTo>
                    <a:pt x="0" y="221"/>
                  </a:moveTo>
                  <a:lnTo>
                    <a:pt x="0" y="796"/>
                  </a:lnTo>
                  <a:lnTo>
                    <a:pt x="1035" y="580"/>
                  </a:lnTo>
                  <a:lnTo>
                    <a:pt x="2076" y="796"/>
                  </a:lnTo>
                  <a:lnTo>
                    <a:pt x="2076" y="215"/>
                  </a:lnTo>
                  <a:lnTo>
                    <a:pt x="1029" y="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3248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3920" y="3137040"/>
              <a:ext cx="695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Waren-</a:t>
              </a:r>
              <a:br>
                <a:rPr sz="1100"/>
              </a:b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   aus-ga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3529440" y="2964600"/>
              <a:ext cx="963720" cy="939960"/>
            </a:xfrm>
            <a:custGeom>
              <a:avLst/>
              <a:gdLst/>
              <a:ahLst/>
              <a:rect l="l" t="t" r="r" b="b"/>
              <a:pathLst>
                <a:path w="2076" h="796">
                  <a:moveTo>
                    <a:pt x="0" y="221"/>
                  </a:moveTo>
                  <a:lnTo>
                    <a:pt x="0" y="796"/>
                  </a:lnTo>
                  <a:lnTo>
                    <a:pt x="1035" y="580"/>
                  </a:lnTo>
                  <a:lnTo>
                    <a:pt x="2076" y="796"/>
                  </a:lnTo>
                  <a:lnTo>
                    <a:pt x="2076" y="215"/>
                  </a:lnTo>
                  <a:lnTo>
                    <a:pt x="1029" y="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4a8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06920" y="3130560"/>
              <a:ext cx="715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WE- </a:t>
              </a:r>
              <a:br>
                <a:rPr sz="1100"/>
              </a:b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    prü-f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43040" y="2882880"/>
              <a:ext cx="1127160" cy="109224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893" y="0"/>
                  </a:lnTo>
                  <a:lnTo>
                    <a:pt x="21600" y="10800"/>
                  </a:lnTo>
                  <a:lnTo>
                    <a:pt x="15893" y="21600"/>
                  </a:lnTo>
                  <a:lnTo>
                    <a:pt x="0" y="21600"/>
                  </a:lnTo>
                  <a:lnTo>
                    <a:pt x="5707" y="10800"/>
                  </a:lnTo>
                  <a:close/>
                </a:path>
              </a:pathLst>
            </a:custGeom>
            <a:solidFill>
              <a:srgbClr val="dddddd"/>
            </a:solidFill>
            <a:ln w="2844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2642040" y="2964600"/>
              <a:ext cx="963720" cy="939960"/>
            </a:xfrm>
            <a:custGeom>
              <a:avLst/>
              <a:gdLst/>
              <a:ahLst/>
              <a:rect l="l" t="t" r="r" b="b"/>
              <a:pathLst>
                <a:path w="2076" h="796">
                  <a:moveTo>
                    <a:pt x="0" y="221"/>
                  </a:moveTo>
                  <a:lnTo>
                    <a:pt x="0" y="796"/>
                  </a:lnTo>
                  <a:lnTo>
                    <a:pt x="1035" y="580"/>
                  </a:lnTo>
                  <a:lnTo>
                    <a:pt x="2076" y="796"/>
                  </a:lnTo>
                  <a:lnTo>
                    <a:pt x="2076" y="215"/>
                  </a:lnTo>
                  <a:lnTo>
                    <a:pt x="1029" y="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4a8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92520" y="3143160"/>
              <a:ext cx="817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Waren-</a:t>
              </a:r>
              <a:br>
                <a:rPr sz="1100"/>
              </a:b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   an-nah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0280" y="3130560"/>
              <a:ext cx="857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Ver-</a:t>
              </a:r>
              <a:br>
                <a:rPr sz="1100"/>
              </a:b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    teil-</a:t>
              </a:r>
              <a:br>
                <a:rPr sz="1100"/>
              </a:b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35720" y="3137040"/>
              <a:ext cx="6951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WE</a:t>
              </a:r>
              <a:br>
                <a:rPr sz="1100"/>
              </a:br>
              <a:r>
                <a:rPr b="1" lang="en-GB" sz="1100" spc="-1" strike="noStrike">
                  <a:solidFill>
                    <a:srgbClr val="ffffff"/>
                  </a:solidFill>
                  <a:latin typeface="Times New Roman"/>
                </a:rPr>
                <a:t>   Re-to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0600" y="1262160"/>
              <a:ext cx="2698560" cy="1231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Warenannah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Die Warenannahme prüft die Anzahl der Versandeinheiten und gleicht diese mit dem Lieferavis ab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54840" y="4363920"/>
              <a:ext cx="2698560" cy="12319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WE - Reto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Im Wareneingang werden die Retouren erfasst. Im Anschluss kann nun automatisch ein Soll-/Ist-Abgleich stattfinden. Differenzen werden dem Verkauf belaste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22720" y="1262160"/>
              <a:ext cx="2698560" cy="1231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WE-Prüf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Im Wareneingang werden die Artikel den Bestellungen zugeordnet und im System eine Lieferung angelegt, so dass eine Vereinnahmung im Logistikbetrieb möglich i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54840" y="1262160"/>
              <a:ext cx="2698560" cy="12319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Verteil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Bei der Kommissionierung werden die Muster den Händlern eindeutig anhand von Listen zugeordne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0600" y="4363920"/>
              <a:ext cx="2698560" cy="12319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estell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Der Einkauf erfasst im System die Bestellung. Dieser ist die Verteilung auf die Area Manager / Vertreter zu entnehm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96" idx="0"/>
              <a:endCxn id="79" idx="0"/>
            </p:cNvCxnSpPr>
            <p:nvPr/>
          </p:nvCxnSpPr>
          <p:spPr>
            <a:xfrm flipV="1" rot="16200000">
              <a:off x="6579360" y="3539160"/>
              <a:ext cx="389160" cy="1260720"/>
            </a:xfrm>
            <a:prstGeom prst="bentConnector4">
              <a:avLst>
                <a:gd name="adj1" fmla="val 442962"/>
                <a:gd name="adj2" fmla="val 125821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1" name=""/>
            <p:cNvCxnSpPr>
              <a:stCxn id="99" idx="0"/>
              <a:endCxn id="81" idx="0"/>
            </p:cNvCxnSpPr>
            <p:nvPr/>
          </p:nvCxnSpPr>
          <p:spPr>
            <a:xfrm flipH="1" flipV="1" rot="5400000">
              <a:off x="1580400" y="4136040"/>
              <a:ext cx="387720" cy="687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stCxn id="90" idx="0"/>
              <a:endCxn id="95" idx="2"/>
            </p:cNvCxnSpPr>
            <p:nvPr/>
          </p:nvCxnSpPr>
          <p:spPr>
            <a:xfrm rot="10800000">
              <a:off x="1739520" y="2494080"/>
              <a:ext cx="803520" cy="3891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78" idx="0"/>
              <a:endCxn id="97" idx="2"/>
            </p:cNvCxnSpPr>
            <p:nvPr/>
          </p:nvCxnSpPr>
          <p:spPr>
            <a:xfrm flipH="1" rot="10800000">
              <a:off x="3432240" y="2494080"/>
              <a:ext cx="1140120" cy="389160"/>
            </a:xfrm>
            <a:prstGeom prst="bentConnector4">
              <a:avLst>
                <a:gd name="adj1" fmla="val -39134"/>
                <a:gd name="adj2" fmla="val -343055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4" name=""/>
            <p:cNvCxnSpPr>
              <a:stCxn id="99" idx="0"/>
              <a:endCxn id="78" idx="1"/>
            </p:cNvCxnSpPr>
            <p:nvPr/>
          </p:nvCxnSpPr>
          <p:spPr>
            <a:xfrm flipH="1" flipV="1" rot="5400000">
              <a:off x="2391480" y="3323520"/>
              <a:ext cx="389160" cy="16927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5" name=""/>
            <p:cNvSpPr/>
            <p:nvPr/>
          </p:nvSpPr>
          <p:spPr>
            <a:xfrm>
              <a:off x="3222720" y="4363920"/>
              <a:ext cx="2698560" cy="1231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Warenausg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Im Warenausgang werden die Sendungen dem Logistikdienstleister übergeb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98" idx="2"/>
              <a:endCxn id="77" idx="0"/>
            </p:cNvCxnSpPr>
            <p:nvPr/>
          </p:nvCxnSpPr>
          <p:spPr>
            <a:xfrm rot="5400000">
              <a:off x="5675400" y="1154160"/>
              <a:ext cx="389160" cy="3069000"/>
            </a:xfrm>
            <a:prstGeom prst="bentConnector4">
              <a:avLst>
                <a:gd name="adj1" fmla="val 443055"/>
                <a:gd name="adj2" fmla="val 108188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7" name=""/>
            <p:cNvCxnSpPr>
              <a:stCxn id="80" idx="0"/>
              <a:endCxn id="105" idx="0"/>
            </p:cNvCxnSpPr>
            <p:nvPr/>
          </p:nvCxnSpPr>
          <p:spPr>
            <a:xfrm flipV="1" rot="10800000">
              <a:off x="4572000" y="3975120"/>
              <a:ext cx="667080" cy="3891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290520" y="1468440"/>
            <a:ext cx="8416800" cy="3922560"/>
            <a:chOff x="290520" y="1468440"/>
            <a:chExt cx="8416800" cy="3922560"/>
          </a:xfrm>
        </p:grpSpPr>
        <p:sp>
          <p:nvSpPr>
            <p:cNvPr id="109" name=""/>
            <p:cNvSpPr/>
            <p:nvPr/>
          </p:nvSpPr>
          <p:spPr>
            <a:xfrm>
              <a:off x="5272200" y="2216160"/>
              <a:ext cx="2685960" cy="876240"/>
            </a:xfrm>
            <a:custGeom>
              <a:avLst/>
              <a:gdLst/>
              <a:ahLst/>
              <a:rect l="l" t="t" r="r" b="b"/>
              <a:pathLst>
                <a:path w="1832" h="552">
                  <a:moveTo>
                    <a:pt x="632" y="0"/>
                  </a:moveTo>
                  <a:lnTo>
                    <a:pt x="0" y="552"/>
                  </a:lnTo>
                  <a:lnTo>
                    <a:pt x="1200" y="552"/>
                  </a:lnTo>
                  <a:lnTo>
                    <a:pt x="1832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54400" y="2216160"/>
              <a:ext cx="3786120" cy="901800"/>
            </a:xfrm>
            <a:custGeom>
              <a:avLst/>
              <a:gdLst/>
              <a:ahLst/>
              <a:rect l="l" t="t" r="r" b="b"/>
              <a:pathLst>
                <a:path w="2584" h="568">
                  <a:moveTo>
                    <a:pt x="640" y="0"/>
                  </a:moveTo>
                  <a:lnTo>
                    <a:pt x="0" y="568"/>
                  </a:lnTo>
                  <a:lnTo>
                    <a:pt x="1696" y="568"/>
                  </a:lnTo>
                  <a:lnTo>
                    <a:pt x="2584" y="0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rcRect l="13574" t="33681" r="28779" b="18576"/>
            <a:stretch/>
          </p:blipFill>
          <p:spPr>
            <a:xfrm>
              <a:off x="477720" y="1468440"/>
              <a:ext cx="103212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90520" y="2325600"/>
              <a:ext cx="13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99 12345 12345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90760" y="1784520"/>
              <a:ext cx="31752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4360" y="1784520"/>
              <a:ext cx="31752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17960" y="1784520"/>
              <a:ext cx="31752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81560" y="1784520"/>
              <a:ext cx="31752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45160" y="1784520"/>
              <a:ext cx="31752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8400" y="1784520"/>
              <a:ext cx="31608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72000" y="1784520"/>
              <a:ext cx="31608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35600" y="1784520"/>
              <a:ext cx="31608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9200" y="1784520"/>
              <a:ext cx="31608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62800" y="1784520"/>
              <a:ext cx="31572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26400" y="1784520"/>
              <a:ext cx="31572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89640" y="1784520"/>
              <a:ext cx="31608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53240" y="1784520"/>
              <a:ext cx="31608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15400" y="1784520"/>
              <a:ext cx="31752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4400" y="1784520"/>
              <a:ext cx="890280" cy="3427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EAN-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354400" y="3219480"/>
              <a:ext cx="2496960" cy="342720"/>
              <a:chOff x="2354400" y="3219480"/>
              <a:chExt cx="2496960" cy="34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2354400" y="3219480"/>
                <a:ext cx="3157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17640" y="3219480"/>
                <a:ext cx="3175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81240" y="3219480"/>
                <a:ext cx="3175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44840" y="3219480"/>
                <a:ext cx="31608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08440" y="3219480"/>
                <a:ext cx="3175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72040" y="3219480"/>
                <a:ext cx="3157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33840" y="3219480"/>
                <a:ext cx="3175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272200" y="3206880"/>
              <a:ext cx="1771560" cy="342720"/>
              <a:chOff x="5272200" y="3206880"/>
              <a:chExt cx="1771560" cy="342720"/>
            </a:xfrm>
          </p:grpSpPr>
          <p:sp>
            <p:nvSpPr>
              <p:cNvPr id="137" name=""/>
              <p:cNvSpPr/>
              <p:nvPr/>
            </p:nvSpPr>
            <p:spPr>
              <a:xfrm>
                <a:off x="5272200" y="3206880"/>
                <a:ext cx="3175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35800" y="3206880"/>
                <a:ext cx="31716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99040" y="3206880"/>
                <a:ext cx="3175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62640" y="3206880"/>
                <a:ext cx="3175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26240" y="3206880"/>
                <a:ext cx="317520" cy="34272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190440"/>
                    <a:tab algn="l" pos="1104840"/>
                    <a:tab algn="l" pos="2019240"/>
                    <a:tab algn="l" pos="2933640"/>
                    <a:tab algn="l" pos="3848040"/>
                    <a:tab algn="l" pos="4762440"/>
                    <a:tab algn="l" pos="5676840"/>
                    <a:tab algn="l" pos="6591240"/>
                    <a:tab algn="l" pos="7505640"/>
                    <a:tab algn="l" pos="8420040"/>
                    <a:tab algn="l" pos="9334440"/>
                    <a:tab algn="l" pos="1024884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354400" y="4349880"/>
              <a:ext cx="40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84320" y="4349880"/>
              <a:ext cx="1582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99123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87840" y="4349880"/>
              <a:ext cx="1384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123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3000" y="4349880"/>
              <a:ext cx="2239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123456789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9600" y="2292480"/>
              <a:ext cx="2860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86600" y="2292480"/>
              <a:ext cx="1747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93080" y="229248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41720" y="2419200"/>
              <a:ext cx="10558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erste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3240" y="2419200"/>
              <a:ext cx="1054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Prüf-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zi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03960" y="2419200"/>
              <a:ext cx="1054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Produktkla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4400" y="3638520"/>
              <a:ext cx="2484360" cy="609480"/>
            </a:xfrm>
            <a:custGeom>
              <a:avLst/>
              <a:gdLst/>
              <a:ahLst/>
              <a:rect l="l" t="t" r="r" b="b"/>
              <a:pathLst>
                <a:path w="1696" h="384">
                  <a:moveTo>
                    <a:pt x="0" y="0"/>
                  </a:moveTo>
                  <a:lnTo>
                    <a:pt x="360" y="384"/>
                  </a:lnTo>
                  <a:lnTo>
                    <a:pt x="1440" y="384"/>
                  </a:lnTo>
                  <a:lnTo>
                    <a:pt x="16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81360" y="3638520"/>
              <a:ext cx="2449800" cy="609480"/>
            </a:xfrm>
            <a:custGeom>
              <a:avLst/>
              <a:gdLst/>
              <a:ahLst/>
              <a:rect l="l" t="t" r="r" b="b"/>
              <a:pathLst>
                <a:path w="1672" h="384">
                  <a:moveTo>
                    <a:pt x="472" y="0"/>
                  </a:moveTo>
                  <a:lnTo>
                    <a:pt x="0" y="384"/>
                  </a:lnTo>
                  <a:lnTo>
                    <a:pt x="944" y="384"/>
                  </a:lnTo>
                  <a:lnTo>
                    <a:pt x="1672" y="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6280" y="4338720"/>
              <a:ext cx="98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2120" y="1962000"/>
              <a:ext cx="515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05200" y="4971960"/>
              <a:ext cx="3071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13200" y="5099040"/>
              <a:ext cx="1054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EAN-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57680" y="4317840"/>
              <a:ext cx="3141360" cy="520920"/>
            </a:xfrm>
            <a:prstGeom prst="rect">
              <a:avLst/>
            </a:prstGeom>
            <a:noFill/>
            <a:ln w="28440">
              <a:solidFill>
                <a:srgbClr val="061d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3000" y="4971960"/>
              <a:ext cx="2263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97800" y="5099040"/>
              <a:ext cx="1054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90440"/>
                  <a:tab algn="l" pos="1104840"/>
                  <a:tab algn="l" pos="2019240"/>
                  <a:tab algn="l" pos="2933640"/>
                  <a:tab algn="l" pos="3848040"/>
                  <a:tab algn="l" pos="4762440"/>
                  <a:tab algn="l" pos="5676840"/>
                  <a:tab algn="l" pos="6591240"/>
                  <a:tab algn="l" pos="7505640"/>
                  <a:tab algn="l" pos="8420040"/>
                  <a:tab algn="l" pos="9334440"/>
                  <a:tab algn="l" pos="102488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erielle Num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7258" t="24526" r="50681" b="43235"/>
          <a:stretch/>
        </p:blipFill>
        <p:spPr>
          <a:xfrm>
            <a:off x="938160" y="1339920"/>
            <a:ext cx="7267680" cy="417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rbert Liebisch</dc:creator>
  <dc:description/>
  <dc:language>en-US</dc:language>
  <cp:lastModifiedBy>Michael Schulze</cp:lastModifiedBy>
  <cp:revision>0</cp:revision>
  <dc:subject/>
  <dc:title>Supplier Collaboration WS</dc:title>
</cp:coreProperties>
</file>