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6EFE-1382-4725-8F2A-8E8CCD99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9B64-52C9-4D6F-A2FE-E5459923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8771-3A18-4598-A8C7-A2351D0F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182-F1A1-42FD-A7EE-5A83E2D8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33F-52AC-4D3B-B449-CB3727C7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10C-860E-47F9-BF66-07CC83A9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3691-D9B4-4237-BC7E-884BE1CE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00D-6B70-45C9-8413-EE4678AA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A7D6-6398-4577-9257-C42FD694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8AA6-FDDE-43F0-906D-22AB0C61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DFF-80A8-480F-BC16-1E540F21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D7C8-2F17-4B3E-BE13-0E109872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2D47-5F0F-4B5F-B41A-1E3CC29EB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38080" y="762120"/>
            <a:ext cx="7450200" cy="1666800"/>
            <a:chOff x="838080" y="762120"/>
            <a:chExt cx="7450200" cy="1666800"/>
          </a:xfrm>
        </p:grpSpPr>
        <p:cxnSp>
          <p:nvCxnSpPr>
            <p:cNvPr id="42" name="_s2055"/>
            <p:cNvCxnSpPr>
              <a:stCxn id="43" idx="0"/>
              <a:endCxn id="44" idx="2"/>
            </p:cNvCxnSpPr>
            <p:nvPr/>
          </p:nvCxnSpPr>
          <p:spPr>
            <a:xfrm flipV="1" rot="16200000">
              <a:off x="5869800" y="194760"/>
              <a:ext cx="205200" cy="2818440"/>
            </a:xfrm>
            <a:prstGeom prst="bentConnector5">
              <a:avLst>
                <a:gd name="adj1" fmla="val 113181"/>
                <a:gd name="adj2" fmla="val 49770"/>
                <a:gd name="adj3" fmla="val -131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2056"/>
            <p:cNvCxnSpPr>
              <a:stCxn id="46" idx="0"/>
              <a:endCxn id="44" idx="2"/>
            </p:cNvCxnSpPr>
            <p:nvPr/>
          </p:nvCxnSpPr>
          <p:spPr>
            <a:xfrm flipV="1" rot="16200000">
              <a:off x="4930560" y="1133640"/>
              <a:ext cx="205200" cy="940320"/>
            </a:xfrm>
            <a:prstGeom prst="bentConnector3">
              <a:avLst>
                <a:gd name="adj1" fmla="val 499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2057"/>
            <p:cNvCxnSpPr>
              <a:stCxn id="48" idx="0"/>
              <a:endCxn id="44" idx="2"/>
            </p:cNvCxnSpPr>
            <p:nvPr/>
          </p:nvCxnSpPr>
          <p:spPr>
            <a:xfrm flipH="1" flipV="1" rot="5400000">
              <a:off x="3990600" y="1134000"/>
              <a:ext cx="205200" cy="939960"/>
            </a:xfrm>
            <a:prstGeom prst="bentConnector3">
              <a:avLst>
                <a:gd name="adj1" fmla="val 499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2058"/>
            <p:cNvCxnSpPr>
              <a:stCxn id="50" idx="0"/>
              <a:endCxn id="44" idx="2"/>
            </p:cNvCxnSpPr>
            <p:nvPr/>
          </p:nvCxnSpPr>
          <p:spPr>
            <a:xfrm flipH="1" flipV="1" rot="5400000">
              <a:off x="3051360" y="195120"/>
              <a:ext cx="205200" cy="2818080"/>
            </a:xfrm>
            <a:prstGeom prst="bentConnector5">
              <a:avLst>
                <a:gd name="adj1" fmla="val 113181"/>
                <a:gd name="adj2" fmla="val 49776"/>
                <a:gd name="adj3" fmla="val -131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" name="_s2059"/>
            <p:cNvSpPr/>
            <p:nvPr/>
          </p:nvSpPr>
          <p:spPr>
            <a:xfrm>
              <a:off x="3643200" y="762120"/>
              <a:ext cx="1839960" cy="739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60"/>
            <p:cNvSpPr/>
            <p:nvPr/>
          </p:nvSpPr>
          <p:spPr>
            <a:xfrm>
              <a:off x="838080" y="1706400"/>
              <a:ext cx="1814760" cy="722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on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61"/>
            <p:cNvSpPr/>
            <p:nvPr/>
          </p:nvSpPr>
          <p:spPr>
            <a:xfrm>
              <a:off x="2716200" y="1706400"/>
              <a:ext cx="1814400" cy="722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on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62"/>
            <p:cNvSpPr/>
            <p:nvPr/>
          </p:nvSpPr>
          <p:spPr>
            <a:xfrm>
              <a:off x="4595760" y="1706400"/>
              <a:ext cx="1814400" cy="722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on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63"/>
            <p:cNvSpPr/>
            <p:nvPr/>
          </p:nvSpPr>
          <p:spPr>
            <a:xfrm>
              <a:off x="6473880" y="1706400"/>
              <a:ext cx="1814400" cy="722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on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14400" y="3657600"/>
            <a:ext cx="4645080" cy="1666800"/>
            <a:chOff x="914400" y="3657600"/>
            <a:chExt cx="4645080" cy="1666800"/>
          </a:xfrm>
        </p:grpSpPr>
        <p:cxnSp>
          <p:nvCxnSpPr>
            <p:cNvPr id="52" name="_s2077"/>
            <p:cNvCxnSpPr>
              <a:stCxn id="53" idx="0"/>
              <a:endCxn id="54" idx="2"/>
            </p:cNvCxnSpPr>
            <p:nvPr/>
          </p:nvCxnSpPr>
          <p:spPr>
            <a:xfrm flipH="1" flipV="1" rot="5400000">
              <a:off x="3127680" y="3090600"/>
              <a:ext cx="205200" cy="2818080"/>
            </a:xfrm>
            <a:prstGeom prst="bentConnector5">
              <a:avLst>
                <a:gd name="adj1" fmla="val 113181"/>
                <a:gd name="adj2" fmla="val 49776"/>
                <a:gd name="adj3" fmla="val -131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4" name="_s2078"/>
            <p:cNvSpPr/>
            <p:nvPr/>
          </p:nvSpPr>
          <p:spPr>
            <a:xfrm>
              <a:off x="3719520" y="3657600"/>
              <a:ext cx="1839960" cy="739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79"/>
            <p:cNvSpPr/>
            <p:nvPr/>
          </p:nvSpPr>
          <p:spPr>
            <a:xfrm>
              <a:off x="914400" y="4601880"/>
              <a:ext cx="1814760" cy="722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on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21:56:26Z</dcterms:created>
  <dc:creator>Windows User</dc:creator>
  <dc:description/>
  <dc:language>en-US</dc:language>
  <cp:lastModifiedBy>Windows User</cp:lastModifiedBy>
  <dcterms:modified xsi:type="dcterms:W3CDTF">2007-08-30T22:01:35Z</dcterms:modified>
  <cp:revision>2</cp:revision>
  <dc:subject/>
  <dc:title>Slide 1</dc:title>
</cp:coreProperties>
</file>