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6DE-31B8-40FC-835D-487A59E4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AE0-0D5A-433D-84F6-59EC3196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82D-CBCF-4AC0-AC50-44095C6F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0B4-712C-4EFE-9C39-7C78DBBA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CB5-7716-4E59-B114-9C7025AD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540-7D3E-4515-A455-23B8C54D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F19-CDC8-4C44-B0C7-F330A02F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92E-CCE6-42D7-AF16-21B3989C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D26-5118-47CD-AEAE-271D0462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7D5-312E-4061-9789-25ADF6C6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4FFE-C24A-429C-B778-EBE05066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0AD3-9D53-4312-877F-2FE9CA80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E80E-C6A3-4894-B22F-2948CCA26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914400"/>
            <a:ext cx="304920" cy="228600"/>
          </a:xfrm>
          <a:prstGeom prst="rect">
            <a:avLst/>
          </a:prstGeom>
          <a:noFill/>
          <a:ln w="475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143000"/>
            <a:ext cx="2819520" cy="533520"/>
          </a:xfrm>
          <a:prstGeom prst="wedgeRoundRectCallout">
            <a:avLst>
              <a:gd name="adj1" fmla="val -108500"/>
              <a:gd name="adj2" fmla="val -71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and Window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66160" cy="518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5181480"/>
            <a:ext cx="8763120" cy="236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page gets loaded initial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ge has two fr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1 has some other information.Frame2 has the table with these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records that shown are only 5 even ther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available to display more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ite lines indicate the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762120"/>
            <a:ext cx="42674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2514600"/>
            <a:ext cx="769644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0" y="523800"/>
            <a:ext cx="9136080" cy="5811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5410080"/>
            <a:ext cx="8458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Maximizing the frame2 it shows the number of records with utilization of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in brow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lisam1</cp:lastModifiedBy>
  <dcterms:modified xsi:type="dcterms:W3CDTF">2007-10-18T11:13:2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