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0E8-CC1D-43E6-A682-C1689CDE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81F-6868-41EA-80A7-E46F42C8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102-2753-49BE-A585-9D79636D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ECA-02C9-41C9-A02A-A46AFACE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0FF-5244-4365-9286-342D711A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86C-EE7E-4159-A650-C117C2F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CFB-9DF4-4C2C-B633-86B4BBA6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89E-D1BC-4592-83C7-B3813927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8C5-0B18-484B-A1EA-CB2C1A91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2B1-99CC-4C6B-A6E2-07D100F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2AD-BAB0-4362-A8DA-3F65397A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D52-4A0E-468D-B235-4796268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4D473-B3D6-42F8-AC77-AA9D6C126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23760" y="260280"/>
            <a:ext cx="7299360" cy="633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1:11:45Z</dcterms:created>
  <dc:creator>.</dc:creator>
  <dc:description/>
  <dc:language>en-US</dc:language>
  <cp:lastModifiedBy>tak</cp:lastModifiedBy>
  <dcterms:modified xsi:type="dcterms:W3CDTF">2010-09-23T19:44:30Z</dcterms:modified>
  <cp:revision>247</cp:revision>
  <dc:subject/>
  <dc:title>Biophysical and Structural Studies of  Rhodopsin Complexes</dc:title>
</cp:coreProperties>
</file>