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1440"/>
            <a:ext cx="9144000" cy="685944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440"/>
            <a:ext cx="9144000" cy="685944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562040" y="520200"/>
            <a:ext cx="601200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072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5175360" y="-36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651492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175360" y="651492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0C50-F6D4-4FE9-BDEC-54CC3171E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-4219560"/>
            <a:ext cx="1440" cy="981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0872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91B-0771-452D-9A6C-1BB4B2FE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329-A37C-4503-9506-90DF4AB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916-BE6B-4F3C-92C1-28D159B7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E41-653C-47BA-942B-99C275CD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89AB-7BC3-48A0-8028-D60DF4FE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F2D-3755-4829-890F-4495C633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A4CA-4E77-4887-859E-FC49399B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6C33-77C8-4F4E-B79C-E7B3601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FC70-B609-4EDB-8A3E-46A8342B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A43A-C410-46D7-8B85-331A0F4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8023-6E77-4B38-B56B-932FD22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F12-4502-4693-A103-DBC74E5A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EFC1-F443-48FE-96F3-B027772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9EF5-86D2-4148-860E-61AFF45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9AE0-26E9-46E4-81C9-77F1DD0F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1D84-E5DF-4627-8835-190A966A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C6D7-2187-411A-930D-8FDA6C16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F57-8399-487D-9879-0D1F05DC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938-318D-4F25-B158-4838FA7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F33-FC56-43D5-9026-69EDD191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9BE-8A7D-4FB8-BB11-48C2279E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F3C-1BBA-4067-A6DA-14A8C09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56D-6F8B-4BF0-8CDF-91074F8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8C3-FC1D-48C9-91FA-234E724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C8F6-BEBD-4231-860D-FAA682792B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5141-29A9-4E53-80D9-79DBBAC35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9000"/>
              </a:lnSpc>
              <a:spcBef>
                <a:spcPts val="17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owth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ality-sensitiv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lications (VoIP ph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9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ch-media download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tiered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9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/service tie-i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multi-player games and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pd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9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urbo button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29920" y="290520"/>
            <a:ext cx="8232840" cy="5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1143000"/>
            <a:ext cx="457200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 algn="just">
              <a:lnSpc>
                <a:spcPct val="99000"/>
              </a:lnSpc>
              <a:spcBef>
                <a:spcPts val="17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Network ne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acket queuing and prioritization at network entry point (A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ynamic bandwidth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dvanced rules creation &amp; mg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Unlimited profile capabilitie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combinatory effects incapacitate  standard profile-based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Instant service activation 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need for real-time retrieval &amp; propagation of ru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nf</cp:lastModifiedBy>
  <cp:revision>0</cp:revision>
  <dc:subject/>
  <dc:title> Growth in: Quality-sensitive  applications (VoIP phones)  Rich</dc:title>
</cp:coreProperties>
</file>