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commentAuthors.xml><?xml version="1.0" encoding="utf-8"?>
<p:cmAuthorLst xmlns:p="http://schemas.openxmlformats.org/presentationml/2006/main">
  <p:cmAuthor id="0" name="" initials="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2-21T08:52:42.000000000" idx="1">
    <p:pos x="0" y="0"/>
    <p:text>This is a tes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51C8-08D8-42F4-8DA0-31738DBE7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305E-10D8-497C-9E05-66727DF6C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37B6-4D26-4D4F-9EBE-84ADD523D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D83E-7F97-4D5C-9FD5-2646E7145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BE05-8A39-41A5-B9FB-95F4FC3C2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A069-BA04-4021-A098-5281AD64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9669-7BAC-40F9-8662-422F11C31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A029-2B75-48A5-ADAF-848F2545F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CF98-B24D-4447-BCE9-D1B566D0B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1241-3E1C-4BE5-BC6B-82974EF4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0ADC-9E1F-4672-A739-96D1BF4D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15EA-C45E-4F33-AB0A-F5818A90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40E8C3-2A37-4035-BED8-59AD71DA62F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1T00:52:24Z</dcterms:created>
  <dc:creator/>
  <dc:description/>
  <dc:language>en-US</dc:language>
  <cp:lastModifiedBy/>
  <dcterms:modified xsi:type="dcterms:W3CDTF">2015-02-21T00:52:49Z</dcterms:modified>
  <cp:revision>1</cp:revision>
  <dc:subject/>
  <dc:title/>
</cp:coreProperties>
</file>