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5979-B134-4A4C-A817-79AF3793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3794-1A62-4672-94B4-0DDE7713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5B5-B305-4D5D-A2EA-8A7CF284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E2F-FE85-4D8D-9684-FEE1A418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93D-B20B-4D7B-AD3D-660449E0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490-0DCA-4399-845D-05B7105D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E30-F7E8-46C3-B57F-B030E9AE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D7A-B675-4893-86F7-9F866B0D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9C48-F7E9-48AC-BF72-B56F1BE7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805-2E66-499F-9297-809AD565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48C-4908-447E-BBC0-51E0DE0D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112-326C-4110-A9C3-74DAE545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F5E36-EA12-4932-AD66-CFF7BEA83D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4th row behaves differen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 comes out first in MS PPT vie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yosti Anttonen</dc:creator>
  <dc:description/>
  <dc:language>en-US</dc:language>
  <cp:lastModifiedBy>Kyosti Anttonen</cp:lastModifiedBy>
  <cp:revision>0</cp:revision>
  <dc:subject/>
  <dc:title/>
</cp:coreProperties>
</file>