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542-FED7-457B-BFF9-C0D1E305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8629-BC3F-4CDC-BD2E-0D897A51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8AF0-1B07-444F-B191-CE3B156F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9E3C-6196-4847-B83D-19702945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7B0-776A-4B35-99EC-E0856E2A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9499-BA06-41D8-9400-C2B6F55F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DF2D-6F25-4585-BA75-921CAA9E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60B4-CA6C-4D63-B7F9-50434870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437C-8F4E-4CA3-ACEB-16BEC373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3458-2A01-4973-A973-DE9C6D1F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90A9-68BD-41D7-9491-FEB4DE18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CD29-B8E4-4248-87F7-5FD4D1FC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189F-5FA9-4948-9B24-D2CC145F5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304560"/>
            <a:ext cx="8458200" cy="4190760"/>
            <a:chOff x="152280" y="304560"/>
            <a:chExt cx="8458200" cy="4190760"/>
          </a:xfrm>
        </p:grpSpPr>
        <p:cxnSp>
          <p:nvCxnSpPr>
            <p:cNvPr id="42" name="_s2054"/>
            <p:cNvCxnSpPr/>
            <p:nvPr/>
          </p:nvCxnSpPr>
          <p:spPr>
            <a:xfrm flipH="1" flipV="1" rot="5400000">
              <a:off x="418680" y="1180440"/>
              <a:ext cx="762840" cy="381600"/>
            </a:xfrm>
            <a:prstGeom prst="bentConnector2">
              <a:avLst/>
            </a:prstGeom>
            <a:ln w="38160">
              <a:solidFill>
                <a:srgbClr val="bbe0e3"/>
              </a:solidFill>
              <a:miter/>
            </a:ln>
          </p:spPr>
        </p:cxnSp>
        <p:sp>
          <p:nvSpPr>
            <p:cNvPr id="43" name="_s2055"/>
            <p:cNvSpPr/>
            <p:nvPr/>
          </p:nvSpPr>
          <p:spPr>
            <a:xfrm>
              <a:off x="990360" y="304560"/>
              <a:ext cx="1219320" cy="3812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324480" y="914400"/>
              <a:ext cx="228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" name=""/>
            <p:cNvCxnSpPr/>
            <p:nvPr/>
          </p:nvCxnSpPr>
          <p:spPr>
            <a:xfrm>
              <a:off x="1676160" y="1447200"/>
              <a:ext cx="2160" cy="2520"/>
            </a:xfrm>
            <a:prstGeom prst="bentConnector2">
              <a:avLst/>
            </a:prstGeom>
            <a:ln w="38160">
              <a:solidFill>
                <a:srgbClr val="bbe0e3"/>
              </a:solidFill>
              <a:miter/>
            </a:ln>
          </p:spPr>
        </p:cxnSp>
        <p:sp>
          <p:nvSpPr>
            <p:cNvPr id="46" name="_s2058"/>
            <p:cNvSpPr/>
            <p:nvPr/>
          </p:nvSpPr>
          <p:spPr>
            <a:xfrm>
              <a:off x="152280" y="1371600"/>
              <a:ext cx="990360" cy="60948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  <a:ea typeface="宋体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90360" y="761760"/>
              <a:ext cx="1219320" cy="53352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960" rIns="102960" tIns="51480" bIns="51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宋体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" name=""/>
            <p:cNvCxnSpPr/>
            <p:nvPr/>
          </p:nvCxnSpPr>
          <p:spPr>
            <a:xfrm flipH="1" flipV="1" rot="5400000">
              <a:off x="2056680" y="4493160"/>
              <a:ext cx="2520" cy="25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bbe0e3"/>
              </a:solidFill>
              <a:miter/>
            </a:ln>
          </p:spPr>
        </p:cxnSp>
        <p:sp>
          <p:nvSpPr>
            <p:cNvPr id="49" name=""/>
            <p:cNvSpPr/>
            <p:nvPr/>
          </p:nvSpPr>
          <p:spPr>
            <a:xfrm>
              <a:off x="1218960" y="1371600"/>
              <a:ext cx="685800" cy="6094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宋体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2T08:51:58Z</dcterms:created>
  <dc:creator>lijiany</dc:creator>
  <dc:description/>
  <dc:language>en-US</dc:language>
  <cp:lastModifiedBy>lijiany</cp:lastModifiedBy>
  <dcterms:modified xsi:type="dcterms:W3CDTF">2012-08-02T08:54:25Z</dcterms:modified>
  <cp:revision>2</cp:revision>
  <dc:subject/>
  <dc:title>Slide 1</dc:title>
</cp:coreProperties>
</file>