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929-4DB3-4295-9AD6-371089A2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BDE-9D24-4B1D-8092-03772C92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FC1-6FDB-4B7D-9347-160FBCCF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037-96BB-4D41-A540-D4E496F8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BC2-5EB8-4474-AD1D-C03F4D1A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B063-9349-4E8F-B145-7377DF36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73C-5DF4-44DA-A218-E08616F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05A9-8ED6-4F65-8652-B27995F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F39-C64E-4061-AB8D-6416D22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821-850C-4287-AB0E-220B1E3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88FF-0B46-4286-970C-8209882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C6-E374-4998-B201-4D6902EE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68DE-860E-4768-81B3-6772CE9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C13-F14B-4A79-8CC4-BD2BE30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5768-0E70-4227-8EFF-AE591B3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B2B-EE41-459A-92AC-7547860E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182-7E05-4FDD-9551-842C73AB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DB3-B75C-4E2A-9442-35D9315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12A-3166-4274-9F56-EF93F4B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5E0-3C5B-4FDB-A64D-BA5F7E93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3F1-CD08-48B6-8FA2-9C41AD1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D31-EE84-47B5-9571-913A405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667-10C4-454D-99A0-706F938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61F-25AB-4B0A-8A8D-74B30C7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956720" y="1483920"/>
            <a:ext cx="11872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7E9-DB39-49C9-B62A-7EF3131399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7308720" y="522936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B49A-51B4-4D35-9DD0-D323F2DDDD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Theme 1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459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quest for Comments (RF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E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Internet Engineering Task Force)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SO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Internet Socie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3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unctional Requirements for Uniform Resource Nam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38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orm Resource Locators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старел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3986 “Uniform Resource Identifier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: Generic Syntax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дентифика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— (англ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orm Resource Nam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определяет глобальное имя ресурса независимо от его распол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urn:ISBN:0-395-3634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— (англ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определяет расположение ресурс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ru.wikipedia.org/w/index.php?title=URI&amp;stable=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#.D0.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p://ftp.dlink.ru/pub/ADS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токол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</a:t>
            </a:r>
            <a:br>
              <a:rPr sz="3500"/>
            </a:b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RFC 2616 - Hypertext Transfer Protocol -</a:t>
            </a:r>
            <a:r>
              <a:rPr b="1" lang="ru-RU" sz="23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HTTP/1.1.</a:t>
            </a:r>
            <a:br>
              <a:rPr sz="2300"/>
            </a:b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 запро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"OPTIONS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запросить требования для отобра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"GET"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учить ресур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HEAD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лучить только описание рес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"POST"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отправить данные на обрабо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PUT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азместить без обработки серве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DELETE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удалить ресур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| "TRACE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запросить запрос в качестве от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| "CONNECT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установить тунн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писи: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6:53:04Z</dcterms:created>
  <dc:creator>Самарев Роман Станиславович</dc:creator>
  <dc:description/>
  <dc:language>en-US</dc:language>
  <cp:lastModifiedBy>rss</cp:lastModifiedBy>
  <dcterms:modified xsi:type="dcterms:W3CDTF">2013-11-30T11:54:05Z</dcterms:modified>
  <cp:revision>416</cp:revision>
  <dc:subject/>
  <dc:title>Языки Интернет-программирования </dc:title>
</cp:coreProperties>
</file>