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A0F-667D-41F9-8D9C-941E94AA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FB8-AE39-4AB6-B09F-F0496491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366-FA95-4A94-BAEA-ABE7A111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81B-BF4F-4CF1-BA64-0F9F58D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7C5-A984-4ED8-8798-69414B2D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76C-C38A-4832-8844-78FFA6C0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5B1-8D9A-44A7-AAE8-49224A74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5EA-3B09-45A9-8BCE-23D2470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108-10FC-4902-B1C8-8B6D3D80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9E2-1C64-4946-B613-D7F8DC6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988-1CB5-49D8-979C-788230B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668-2AE6-432E-80ED-D270A2A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19AD-81CC-42E8-B243-93CCFB0B9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3:48:31Z</dcterms:created>
  <dc:creator/>
  <dc:description/>
  <dc:language>en-US</dc:language>
  <cp:lastModifiedBy>James Reilly</cp:lastModifiedBy>
  <dcterms:modified xsi:type="dcterms:W3CDTF">2005-05-01T14:53:58Z</dcterms:modified>
  <cp:revision>2</cp:revision>
  <dc:subject/>
  <dc:title>Slide 1</dc:title>
</cp:coreProperties>
</file>