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A76-F58A-4F5F-8FEF-D3CAE087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C95-BC31-4377-971E-39535BF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529-45D6-458D-A391-60B2B99F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C91-D309-459B-A1A1-71704927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91A-5154-49DA-91BD-5311F37D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F3A-72EA-462C-BDCC-C51748C9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448-AAC7-4248-9591-525DA20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A59-6025-4533-AA6E-33C9434E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9F7-340B-4DBB-9278-72530421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85A-B175-4B86-8B6A-4FE2CD6C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891-76BC-4AB8-84C1-6252552D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4C7-9F45-47A7-89B2-C1D7EB5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1F20-AF30-4FB8-9387-ED181664DF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,BoldItalic"/>
              </a:rPr>
              <a:t>11  Future Work</a:t>
            </a: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8108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133720"/>
            <a:ext cx="67816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Math A"/>
                <a:ea typeface="Math A"/>
              </a:rPr>
              <a:t>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吞吐量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消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Math A"/>
                <a:ea typeface="Math A"/>
              </a:rPr>
              <a:t>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另外的网格服务主机环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吞吐量的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X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另外的网格服务主机环境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7:32:04Z</dcterms:created>
  <dc:creator>weihongtao</dc:creator>
  <dc:description/>
  <dc:language>en-US</dc:language>
  <cp:lastModifiedBy>crystal</cp:lastModifiedBy>
  <dcterms:modified xsi:type="dcterms:W3CDTF">2012-05-29T02:59:11Z</dcterms:modified>
  <cp:revision>2</cp:revision>
  <dc:subject/>
  <dc:title>11  Future Work </dc:title>
</cp:coreProperties>
</file>