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FEEB-DE17-4E24-9769-B97BD4589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E935-8D7E-4998-BCC9-F4A651700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08DD-E2E8-413D-AC7E-6CAD1FA8C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D6C7-79DB-44BB-ABCC-2585A408D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DF5D4-7DB1-41D0-BBE5-79411A2543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6C464-2421-4CA3-A40F-A6025B7332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7A6F5-1E9B-4CE3-BD50-E9199DED36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8069D-4E56-4C74-A85E-604AD147ED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8D57F-01DA-43CE-8ED6-B282D447E7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F924E-9B41-4AA7-A30C-CED6A3A953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8EFD3-336D-4506-81CC-93499E362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98CB-CFD5-405C-99C7-4A0B99971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DD40B-A973-4D3F-BA2F-0309E51B3A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0295E-0EA8-4BD4-85F8-497B20D18C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DF13C-5A93-4239-BB7D-43F6A464FF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075F6-A4E2-4759-9552-C586A47FEF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2BF82-81E6-472D-A5AC-E898F9B016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BF48F-F484-4FF7-9511-8102D304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78376-912C-4416-833F-FBA0A868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08AE0-62E5-4F5A-B164-F4C0A3ED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CC3A0-BAE9-48A0-931C-D204F506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EC4B2F-00ED-4AB7-98CD-C949616D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7ED5-D83D-4E15-A5EB-1E2C07774C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AE101-14B8-42CB-AB24-BB79672C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FF866-FA87-401E-A18F-A1DC6E65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57F86-D59F-4C20-94FC-84D2A13C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065C15-AB44-4B89-8A04-1C7D9D2D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83FE8-5224-484D-B8E4-81D1735A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0C346-B636-44DD-B930-C05CAD07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39492-6A7E-4AE1-8EBD-EF815F18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5DBE-63E2-4E7A-8A4B-167963471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BB93-6BAB-4C58-AAAF-285CAD3EE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7C4E-83A0-4F96-995D-B59104B39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0D7A-599B-4975-972E-D28E66081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1282-6ACF-4D78-8FD1-0E789CBA6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611B-EED4-47A0-B50C-6213BA0EC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64F8-674A-4B49-86AA-C2493D9C749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5E16-B4B6-451E-97C8-85C82D3780EA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07B0-B704-48C4-B9A7-7245C1B69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Scope &amp; 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All suppl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Implementatio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econd Phase 2 creat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first Phase 2 further deploy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Rest of the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ivision of work between this project in the are as 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1st wa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:  can be anything related to home rest which is very use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2nd wa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:  cannot be anything which can be done a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47D4F-4929-4FD6-AD16-AC12C2702D2B}" type="slidenum">
              <a:t>1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4:54:16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6-02T14:56:36Z</dcterms:modified>
  <cp:revision>1</cp:revision>
  <dc:subject/>
  <dc:title>Scope &amp; implementation plan</dc:title>
</cp:coreProperties>
</file>