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B69-C8E3-4333-81DC-22F98BBD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D2F-5EFA-4391-A3B4-55F1C0F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79D-710D-406F-A2EF-A85FB6BB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72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196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984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72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196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78C-C679-46DC-A790-5D1D98BC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138A-406B-44FD-AE9B-608E3362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D2B8-28DB-4834-B175-9E688797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0411-5F68-420E-B26D-C9E17935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AEDE-A44C-4F26-BE2B-098E9FC1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3DDC-A8EF-4705-95FA-41DDF75F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301320"/>
            <a:ext cx="93787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2190-024E-4D21-8741-5352C6FD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A158-3673-411B-A7A3-889875C6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6D7-9D84-4F04-A567-0170EDEF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BB9C-4E81-4CD7-935C-E26991E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00BF-126B-4E72-9405-F11BE82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ED3A-5DE2-4320-B50D-9EC3D87F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AEF0-AE72-4E46-86AC-B6DA2573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072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196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3984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072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196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D7F6-66B6-44ED-A4B1-2CE58DF5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8950-26F9-41D0-B537-6A787BBE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D325-B0B1-4C2D-8063-234E1AE7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9D6E-851E-4278-A435-69592BAE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06AC-1D66-4357-BA32-0CE5EF0A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B1C58-AEFF-4FE0-9083-80584DE6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50B-876C-4130-BA7F-458FC0B1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24000" y="301320"/>
            <a:ext cx="93787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5BBC-E166-412E-A0CF-B36FB4E4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A8EC5-1E62-4D3A-9E35-0573780A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CE60-4A7E-4CD6-B188-3CFEF49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DFEB-5A7D-4E70-9CBE-B5A6E2F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28F2-8A4B-42BB-AB35-EDC6BD0A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49B4-4F90-4022-B1F9-84DF3E13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1072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8196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3984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1072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8196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84E4-4518-4AC0-9370-E3F54866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CCA-6B4B-4583-AF72-C284368D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41B-6770-4FED-9E24-C63A3AF5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301320"/>
            <a:ext cx="93787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908-486D-4E3B-BF5E-66E1BFCF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05C-96FD-4536-98CD-3B06C4AE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CC9-B163-4AEB-B8BE-6F3375D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695-87A0-4662-BB70-AD4A0765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49720" y="6921360"/>
            <a:ext cx="18687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7120" y="6921360"/>
            <a:ext cx="3532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04840" y="6921360"/>
            <a:ext cx="714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6666E-A4B6-4302-9E68-9BCAAF75252F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15080" y="301680"/>
            <a:ext cx="2097360" cy="174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84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891EC-C3D8-4E0B-BB78-DEA833215A03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10072800" cy="7553160"/>
          </a:xfrm>
          <a:custGeom>
            <a:avLst/>
            <a:gdLst>
              <a:gd name="textAreaLeft" fmla="*/ 0 w 10072800"/>
              <a:gd name="textAreaRight" fmla="*/ 10073160 w 10072800"/>
              <a:gd name="textAreaTop" fmla="*/ 0 h 7553160"/>
              <a:gd name="textAreaBottom" fmla="*/ 7553520 h 7553160"/>
            </a:gdLst>
            <a:ahLst/>
            <a:rect l="textAreaLeft" t="textAreaTop" r="textAreaRight" b="textAreaBottom"/>
            <a:pathLst>
              <a:path w="25384" h="19034">
                <a:moveTo>
                  <a:pt x="0" y="0"/>
                </a:moveTo>
                <a:lnTo>
                  <a:pt x="25384" y="0"/>
                </a:lnTo>
                <a:lnTo>
                  <a:pt x="25384" y="19034"/>
                </a:lnTo>
                <a:lnTo>
                  <a:pt x="0" y="1903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840" y="77760"/>
            <a:ext cx="9929880" cy="7372440"/>
          </a:xfrm>
          <a:custGeom>
            <a:avLst/>
            <a:gdLst/>
            <a:ahLst/>
            <a:rect l="l" t="t" r="r" b="b"/>
            <a:pathLst>
              <a:path w="25021" h="18577">
                <a:moveTo>
                  <a:pt x="0" y="19526"/>
                </a:moveTo>
                <a:lnTo>
                  <a:pt x="19526" y="19526"/>
                </a:lnTo>
                <a:lnTo>
                  <a:pt x="180" y="90"/>
                </a:lnTo>
                <a:lnTo>
                  <a:pt x="5495" y="0"/>
                </a:lnTo>
                <a:lnTo>
                  <a:pt x="19526" y="19526"/>
                </a:lnTo>
                <a:lnTo>
                  <a:pt x="270" y="90"/>
                </a:lnTo>
                <a:lnTo>
                  <a:pt x="25021" y="-949"/>
                </a:lnTo>
                <a:lnTo>
                  <a:pt x="19526" y="19526"/>
                </a:lnTo>
                <a:lnTo>
                  <a:pt x="0" y="195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36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46280" y="6886440"/>
            <a:ext cx="3184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03A6D-65B0-401D-BE29-5D8E0F7A21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938052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irst slide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9480" y="2160360"/>
            <a:ext cx="938052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Now is the time for all good men to come to the aid of their country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The quick brown fox jumps over the lazy dog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ny Confidential © Orion Financial Group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8FC-0B26-42D5-8248-9AB863513B8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00:13:20Z</dcterms:created>
  <dc:creator/>
  <dc:description>Company Confidential © 2014 Orion Financial Group Inc.</dc:description>
  <dc:language>en-US</dc:language>
  <cp:lastModifiedBy/>
  <dcterms:modified xsi:type="dcterms:W3CDTF">2014-11-22T05:27:05Z</dcterms:modified>
  <cp:revision>89</cp:revision>
  <dc:subject/>
  <dc:title>Presentation</dc:title>
</cp:coreProperties>
</file>