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17561-9DA7-4023-9F4E-77AEB015D4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926-9D24-42D9-9179-EFE7A85D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5D8-DD37-4985-9C7F-8ACDA7C3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280-701B-460B-B0A4-0BAA57ED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BE4-E6EF-48A0-B63E-B01AADF9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484-F7BE-4502-BA48-400471FC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8AB-8DA1-48AF-9BB5-5EBD2861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E1C-F599-4126-AD97-FCBF2099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B37-D79D-4634-AC4A-E0588348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550-B6AC-454C-B736-75C51F74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B64-6E09-4C54-AAEF-EDF4FC13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666-E5E8-4F20-9581-3E6E19F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CFE-ACA3-404F-B099-73712A75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87A50-0063-48A1-B789-0C97F83993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a.openoffice.org/issues/show_bug.cgi?id=97349" TargetMode="External"/><Relationship Id="rId2" Type="http://schemas.openxmlformats.org/officeDocument/2006/relationships/slide" Target="slide3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qa.openoffice.org/issues/show_bug.cgi?id=97349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000" spc="-1" strike="noStrike">
                <a:solidFill>
                  <a:srgbClr val="0000ff"/>
                </a:solidFill>
                <a:latin typeface="Arial"/>
              </a:rPr>
              <a:t>Issue 973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36280"/>
            <a:ext cx="90709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or explanation please read the „Additional comments“ to Issue 97349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qa.openoffice.org/issues/show_bug.cgi?id=973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874872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4680"/>
            <a:ext cx="10080720" cy="7559640"/>
          </a:xfrm>
          <a:prstGeom prst="rect">
            <a:avLst/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ucturing Page“: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ginning of Content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4720" y="1736640"/>
            <a:ext cx="907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or explanation please read the „Additional comments“ to Issue 97349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qa.openoffice.org/issues/show_bug.cgi?id=973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77708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4872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ucturing Page“: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ginning of Conten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4720" y="1736640"/>
            <a:ext cx="907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or explanation please read the „Additional comments“ to Issue 97349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://qa.openoffice.org/issues/show_bug.cgi?id=973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7708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4872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4680"/>
            <a:ext cx="10080720" cy="7559640"/>
          </a:xfrm>
          <a:prstGeom prst="rect">
            <a:avLst/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ucturing Page“: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a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4720" y="1736640"/>
            <a:ext cx="907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or explanation please read the „Additional comments“ to Issue 97349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://qa.openoffice.org/issues/show_bug.cgi?id=973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7708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Felix Schmitz-Justen</cp:lastModifiedBy>
  <dcterms:modified xsi:type="dcterms:W3CDTF">2009-01-06T13:54:47Z</dcterms:modified>
  <cp:revision>24</cp:revision>
  <dc:subject/>
  <dc:title>Issue 97349</dc:title>
</cp:coreProperties>
</file>