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2960" y="744120"/>
            <a:ext cx="4960800" cy="3721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42660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E69-CA78-4A4B-8879-7C4F4BCC59F9}" type="slidenum"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0A97-36F5-4C32-85FC-306863A25F5D}" type="slidenum"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48E-3EA2-4E45-8B4E-ABAE0DEE03E8}" type="slidenum"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98E-F0DD-4CDA-ABCC-80AF9C6FBD47}" type="slidenum"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8984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0040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8984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0040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4149720"/>
            <a:ext cx="7129440" cy="36727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8984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0040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8984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0040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9280" y="4149720"/>
            <a:ext cx="7129440" cy="36727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844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Bef>
                <a:spcPts val="45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28560" indent="-17136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987480" indent="-15876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339920" indent="-15552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706400" indent="-17748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706400" indent="-1774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706400" indent="-1774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280" y="659736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a7a7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D2C8-5404-4F33-8C13-708D146EA975}" type="slidenum">
              <a:rPr b="0" lang="en-US" sz="800" spc="-1" strike="noStrike">
                <a:solidFill>
                  <a:srgbClr val="7a7a7a"/>
                </a:solidFill>
                <a:latin typeface="Trebuchet MS"/>
              </a:rPr>
              <a:t>&lt;number&gt;</a:t>
            </a:fld>
            <a:r>
              <a:rPr b="0" lang="en-US" sz="800" spc="-1" strike="noStrike">
                <a:solidFill>
                  <a:srgbClr val="7a7a7a"/>
                </a:solidFill>
                <a:latin typeface="Trebuchet MS"/>
              </a:rPr>
              <a:t> | BVW 14.Juli 2006 | TDS intern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6804000" y="189000"/>
            <a:ext cx="1584360" cy="64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8388360" y="189000"/>
            <a:ext cx="576360" cy="647640"/>
          </a:xfrm>
          <a:prstGeom prst="rect">
            <a:avLst/>
          </a:prstGeom>
          <a:solidFill>
            <a:srgbClr val="005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16800" y="6532560"/>
            <a:ext cx="619200" cy="244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87200"/>
            <a:ext cx="6626160" cy="64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94520" y="120600"/>
            <a:ext cx="110196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08720" y="4149720"/>
            <a:ext cx="1656000" cy="792000"/>
          </a:xfrm>
          <a:prstGeom prst="rect">
            <a:avLst/>
          </a:prstGeom>
          <a:solidFill>
            <a:srgbClr val="005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149720"/>
            <a:ext cx="7129440" cy="792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364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2" marL="3240">
              <a:spcBef>
                <a:spcPts val="400"/>
              </a:spcBef>
              <a:buClr>
                <a:srgbClr val="cc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3" marL="4680">
              <a:spcBef>
                <a:spcPts val="400"/>
              </a:spcBef>
              <a:buClr>
                <a:srgbClr val="cc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4" marL="6480">
              <a:spcBef>
                <a:spcPts val="400"/>
              </a:spcBef>
              <a:buClr>
                <a:srgbClr val="cc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5" marL="648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6" marL="648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.wikipedia.org/wiki/Name#_note-Das_Wesen_des_Namens" TargetMode="External"/><Relationship Id="rId2" Type="http://schemas.openxmlformats.org/officeDocument/2006/relationships/hyperlink" Target="http://de.wikipedia.org/wiki/Information" TargetMode="External"/><Relationship Id="rId3" Type="http://schemas.openxmlformats.org/officeDocument/2006/relationships/hyperlink" Target="http://de.wikipedia.org/wiki/Identifikation" TargetMode="External"/><Relationship Id="rId4" Type="http://schemas.openxmlformats.org/officeDocument/2006/relationships/hyperlink" Target="http://de.wikipedia.org/wiki/Name#_note-Das_Wesen_des_Namens" TargetMode="External"/><Relationship Id="rId5" Type="http://schemas.openxmlformats.org/officeDocument/2006/relationships/hyperlink" Target="http://de.wikipedia.org/wiki/Information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Trebuchet MS"/>
              </a:rPr>
              <a:t>Operationen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844640"/>
            <a:ext cx="87854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1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884160" indent="-3427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2 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3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4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5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6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7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8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TDS Klassifizierung oder sonstige Angaben]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Namen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44640"/>
            <a:ext cx="87854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am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ind, nach der aktuellen wissenschaftlichen Forschung, ein Zugriffsindex auf eine Informationsmenge über ein Individuum.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1"/>
              </a:rPr>
              <a:t>[1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 Sie sind somit einer Person, einem Gegenstand, einer organisatorischen Einheit (z.B. einem Betrieb) oder Begriff zugeordnete 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2"/>
              </a:rPr>
              <a:t>Information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, die etwas von etwas anderem unterscheiden sollen (Funktion der 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3"/>
              </a:rPr>
              <a:t>Identifik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, Namensklarheit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am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ind, nach der aktuellen wissenschaftlichen Forschung, ein Zugriffsindex auf eine Informationsmenge über ein Individuum.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4"/>
              </a:rPr>
              <a:t>[1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 Sie sind somit einer Person, einem Gegenstand, einer organisatorischen Einheit (z.B. einem Betrieb) oder Begriff zugeordnete 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5"/>
              </a:rPr>
              <a:t>Information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, die etwas von etwas anderem unterscheiden sollen (Funktion der Identifikation, Namensklarheit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am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ind, nach der aktuellen wissenschaftlichen Forschung, ein Zugriffsindex auf eine Informationsmenge über ein Individuum.[1] Sie sind somit einer Person, einem Gegenstand, einer organisatorischen Einheit (z.B. einem Betrieb) oder Begriff zugeordnete Informationen, die etwas von etwas anderem unterscheiden sollen (Funktion der Identifikation, Namensklarheit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TDS Klassifizierung oder sonstige Angaben]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Beispiel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415800" y="198900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Theate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1928880" y="1989000"/>
            <a:ext cx="86364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Beispiel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Beispiel2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3327480" y="1989000"/>
            <a:ext cx="107928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7094880" y="1989000"/>
            <a:ext cx="35460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5137200" y="1989000"/>
            <a:ext cx="122544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133720"/>
            <a:ext cx="79236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2133720"/>
            <a:ext cx="720720" cy="57456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2133720"/>
            <a:ext cx="792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2133720"/>
            <a:ext cx="792000" cy="215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2133720"/>
            <a:ext cx="792000" cy="431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2781360"/>
            <a:ext cx="792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2781360"/>
            <a:ext cx="792000" cy="431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2781360"/>
            <a:ext cx="792000" cy="863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781360"/>
            <a:ext cx="792000" cy="1295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2781360"/>
            <a:ext cx="792000" cy="1727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2781360"/>
            <a:ext cx="792000" cy="216036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2781360"/>
            <a:ext cx="792000" cy="2663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2781360"/>
            <a:ext cx="792000" cy="3024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2133720"/>
            <a:ext cx="30974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2349360"/>
            <a:ext cx="30974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2565360"/>
            <a:ext cx="30974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781360"/>
            <a:ext cx="936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3213000"/>
            <a:ext cx="1081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645000"/>
            <a:ext cx="936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4076640"/>
            <a:ext cx="1224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508640"/>
            <a:ext cx="936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5013360"/>
            <a:ext cx="8636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5373720"/>
            <a:ext cx="1224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5877000"/>
            <a:ext cx="10792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781360"/>
            <a:ext cx="1297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2781360"/>
            <a:ext cx="129708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213000"/>
            <a:ext cx="12258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213000"/>
            <a:ext cx="122580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645000"/>
            <a:ext cx="12258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645000"/>
            <a:ext cx="1225800" cy="215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4076640"/>
            <a:ext cx="1297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4076640"/>
            <a:ext cx="129708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4508640"/>
            <a:ext cx="1081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508640"/>
            <a:ext cx="1081080" cy="215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4941720"/>
            <a:ext cx="10796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941720"/>
            <a:ext cx="100836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96000" y="5373720"/>
            <a:ext cx="1297080" cy="71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5445000"/>
            <a:ext cx="1297080" cy="14472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5805360"/>
            <a:ext cx="1152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5805360"/>
            <a:ext cx="115272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5805360"/>
            <a:ext cx="1152720" cy="503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TDS Klassifizierung oder sonstige Angaben]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Vielen Dank.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f5f5f"/>
                </a:solidFill>
                <a:latin typeface="Trebuchet MS"/>
              </a:rPr>
              <a:t>Copyright by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3:03:58Z</dcterms:created>
  <dc:creator/>
  <dc:description>Optimiert für PowerPoint 2003</dc:description>
  <dc:language>en-US</dc:language>
  <cp:lastModifiedBy>MFranz</cp:lastModifiedBy>
  <dcterms:modified xsi:type="dcterms:W3CDTF">2007-09-11T08:26:27Z</dcterms:modified>
  <cp:revision>48</cp:revision>
  <dc:subject>[Thema der Präsentation]</dc:subject>
  <dc:title/>
</cp:coreProperties>
</file>