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8C1A-E2E0-46CB-8355-B0FD8C9C5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258D-CFDD-4DB5-87F9-B110DB1E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C78F-AE3A-44C2-B489-22CD3023D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5A5D-7CAD-46A2-AF9C-1393A0EB9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944D-982F-4AA0-876F-2C149523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C674-FD81-4DA2-A5CD-0600C2C7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E886-58A9-4F1D-AC7A-4E9D8F53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C095-D16D-4719-BBDE-8EE4B2B4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2BBC-F880-4CF7-8636-BEFA44EF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6BDE-C6E7-42C5-87D8-441B1C81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F441-32B7-44E8-95CF-E9F44699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CECA-14D4-4962-B574-2D254F8B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18AE-86E1-4DD1-A3D6-2B99B37C0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400"/>
                <a:gridCol w="2057400"/>
              </a:tblGrid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4:04:57Z</dcterms:created>
  <dc:creator>Theo Muys</dc:creator>
  <dc:description/>
  <dc:language>en-US</dc:language>
  <cp:lastModifiedBy>Theo Muys</cp:lastModifiedBy>
  <dcterms:modified xsi:type="dcterms:W3CDTF">2012-04-04T14:05:00Z</dcterms:modified>
  <cp:revision>1</cp:revision>
  <dc:subject/>
  <dc:title>Test</dc:title>
</cp:coreProperties>
</file>