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1DF-E27E-4FDA-8459-5C7F5808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6C81-9EE0-41BB-BB75-85607E89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A794-C06C-490F-8A25-AEC11767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D1E7-30CE-4438-990D-597FD8C1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F6A5-EBE3-4A22-A6FD-5A28B278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8708-3034-43DE-95B1-D8386B08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31FD-8673-4572-A6B9-B38ACF9D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3F40-EB8B-45A5-827E-1CABC9D0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BCAE-1C9B-4478-8079-DFCBF2BC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3F2F-E035-4B86-97ED-C7EA016D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5564-3965-4097-8338-78F2260D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1B95-3A74-4474-A054-5475BDC3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F1D2-5B4C-4096-8D7C-26A8F905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4AB5-FC24-49FD-BA65-E2CD3AEF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F36F-97E2-4407-8E37-961B426B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536D-E4AF-4AEA-A05B-D9522FA2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4567-0839-4A68-A706-CF848002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BCFF-C81B-41B8-B506-F549C745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5B12-0BAF-442D-9022-41C22D52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60B6-3A3F-49F9-A71A-6D4D876F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D6E-79B1-44A1-A20D-DC455A8C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5C03-66E8-41D1-BC0F-3E60058C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960-11AF-4965-B9CB-3CE0414F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3C7-6005-4DB9-A477-CAB7BE82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E325-4F87-484E-B765-9DEBC0341C1B}" type="slidenum">
              <a:rPr b="0" lang="zh-CN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2C50-3524-4E1C-A6B4-16A690B75A4C}" type="slidenum">
              <a:rPr b="0" lang="zh-CN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  <a:ea typeface="宋体"/>
              </a:rPr>
              <a:t>Agenda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383ad"/>
              </a:solidFill>
              <a:latin typeface="Times New Roman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05:48:09Z</dcterms:created>
  <dc:creator>wangxiul</dc:creator>
  <dc:description/>
  <dc:language>en-US</dc:language>
  <cp:lastModifiedBy>wangxiul</cp:lastModifiedBy>
  <dcterms:modified xsi:type="dcterms:W3CDTF">2009-08-06T05:48:32Z</dcterms:modified>
  <cp:revision>1</cp:revision>
  <dc:subject/>
  <dc:title>Agend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