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4280" y="6100920"/>
            <a:ext cx="1293840" cy="5652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8624880" y="6620040"/>
            <a:ext cx="52236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f: </a:t>
            </a:r>
            <a:fld id="{DCE30DBA-B1A5-4005-8736-FA7D99A4468F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335240" y="6372360"/>
            <a:ext cx="7778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35240" y="1177920"/>
            <a:ext cx="7778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Contro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A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70000" y="1449360"/>
            <a:ext cx="6711840" cy="295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066680" y="4494240"/>
            <a:ext cx="7162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t number of digit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zip codes per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kil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21480" y="4933800"/>
            <a:ext cx="2890800" cy="70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97200" y="1530360"/>
            <a:ext cx="2968560" cy="3201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480" y="6523200"/>
            <a:ext cx="1116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26040" y="644688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anc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63640" y="1409760"/>
            <a:ext cx="79754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intain Distances by City or Zip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rmally, distances between the same Zip codes do not have to be entered tw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distance from A to B does not need to be entered as B t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version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d to increase or decrease average speeds of vehicles between the two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eds of Vehicles from Flee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kil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21480" y="4933800"/>
            <a:ext cx="2890800" cy="70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97200" y="1530360"/>
            <a:ext cx="2968560" cy="320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480" y="6523200"/>
            <a:ext cx="1116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26040" y="644688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dicate when certain addresses are not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cord date, time interval, and reason for non-avai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n define several non-availability intervals for same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lobally fill address cale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ing Times for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63640" y="1409760"/>
            <a:ext cx="82040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 each address, one or more closing interval per day may be defined, with a reason code assigned to each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9080" y="2913120"/>
            <a:ext cx="5429160" cy="245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9080" y="324000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9080" y="356724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9080" y="487368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9080" y="422100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9080" y="389412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9080" y="454644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3560" y="2944800"/>
            <a:ext cx="6778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3560" y="3271680"/>
            <a:ext cx="6224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7960" y="3597120"/>
            <a:ext cx="706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3560" y="3924360"/>
            <a:ext cx="6224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3560" y="4251240"/>
            <a:ext cx="480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3560" y="4578480"/>
            <a:ext cx="5652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3560" y="4903920"/>
            <a:ext cx="6364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34920" y="53974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6600" y="53974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81480" y="5397480"/>
            <a:ext cx="81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7400" y="5397480"/>
            <a:ext cx="81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68960" y="5397480"/>
            <a:ext cx="81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25440" y="2965320"/>
            <a:ext cx="1413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08480" y="2965320"/>
            <a:ext cx="792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97520" y="296532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5440" y="3281400"/>
            <a:ext cx="1413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97520" y="328140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1040" y="3281400"/>
            <a:ext cx="15858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5440" y="3930480"/>
            <a:ext cx="792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5440" y="3619440"/>
            <a:ext cx="792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25440" y="4268880"/>
            <a:ext cx="1413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25440" y="4594320"/>
            <a:ext cx="792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97520" y="360684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97520" y="394344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97520" y="425772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79920" y="4591080"/>
            <a:ext cx="2901960" cy="222120"/>
          </a:xfrm>
          <a:prstGeom prst="rect">
            <a:avLst/>
          </a:prstGeom>
          <a:solidFill>
            <a:srgbClr val="a0a0a0"/>
          </a:solidFill>
          <a:ln w="12600">
            <a:solidFill>
              <a:srgbClr val="a0a0a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5440" y="4940280"/>
            <a:ext cx="5356080" cy="231840"/>
          </a:xfrm>
          <a:prstGeom prst="rect">
            <a:avLst/>
          </a:prstGeom>
          <a:solidFill>
            <a:srgbClr val="a0a0a0"/>
          </a:solidFill>
          <a:ln w="12600">
            <a:solidFill>
              <a:srgbClr val="a0a0a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5480" y="3375000"/>
            <a:ext cx="344520" cy="2793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91520" y="3344760"/>
            <a:ext cx="1257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5480" y="2957400"/>
            <a:ext cx="344520" cy="2793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91520" y="2927520"/>
            <a:ext cx="1708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ice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kil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21480" y="4933800"/>
            <a:ext cx="2890800" cy="70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97200" y="1530360"/>
            <a:ext cx="2968560" cy="3201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480" y="6523200"/>
            <a:ext cx="1116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26040" y="644688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Control System (A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3040" y="1522440"/>
            <a:ext cx="2900520" cy="3157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375000" y="2084400"/>
            <a:ext cx="18954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an Education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133 Orchard Vista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nd Rapids, 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95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6480" y="5173560"/>
            <a:ext cx="982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for management of addres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resses recorded in other packages of BAAN can be updated in and controlled by 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CS sessions and their procedural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addres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non-availability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ign codes to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S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63640" y="14097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utomatic numbering or User spec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 5411  or TH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ide if use City and/or Zip C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termine how to search for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ip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bility to automatically update Distance Tables from TOC or 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S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stablish default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for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for u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ing time for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ing time for u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Transportation Addresses are stored in on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other BAAN Addresses can be mirrored in Transportation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tance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ances between addresses, based on ZIP codes and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sion f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ress Cale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ing time intervals per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65120" y="1395360"/>
            <a:ext cx="2387520" cy="165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371600" y="3124080"/>
            <a:ext cx="2362320" cy="2209680"/>
          </a:xfrm>
          <a:prstGeom prst="rect">
            <a:avLst/>
          </a:prstGeom>
          <a:solidFill>
            <a:srgbClr val="e5e5e5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55 XYZ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2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e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62520" y="1741320"/>
            <a:ext cx="1981440" cy="1154880"/>
            <a:chOff x="3962520" y="1741320"/>
            <a:chExt cx="1981440" cy="1154880"/>
          </a:xfrm>
        </p:grpSpPr>
        <p:sp>
          <p:nvSpPr>
            <p:cNvPr id="63" name=""/>
            <p:cNvSpPr/>
            <p:nvPr/>
          </p:nvSpPr>
          <p:spPr>
            <a:xfrm>
              <a:off x="3965400" y="1746360"/>
              <a:ext cx="1978560" cy="1149840"/>
            </a:xfrm>
            <a:custGeom>
              <a:avLst/>
              <a:gdLst/>
              <a:ahLst/>
              <a:rect l="0" t="0" r="r" b="b"/>
              <a:pathLst>
                <a:path w="5496" h="3194">
                  <a:moveTo>
                    <a:pt x="71" y="3194"/>
                  </a:moveTo>
                  <a:lnTo>
                    <a:pt x="0" y="3116"/>
                  </a:lnTo>
                  <a:lnTo>
                    <a:pt x="71" y="2865"/>
                  </a:lnTo>
                  <a:lnTo>
                    <a:pt x="125" y="2720"/>
                  </a:lnTo>
                  <a:lnTo>
                    <a:pt x="197" y="2610"/>
                  </a:lnTo>
                  <a:lnTo>
                    <a:pt x="251" y="2485"/>
                  </a:lnTo>
                  <a:lnTo>
                    <a:pt x="330" y="2374"/>
                  </a:lnTo>
                  <a:lnTo>
                    <a:pt x="406" y="2257"/>
                  </a:lnTo>
                  <a:lnTo>
                    <a:pt x="503" y="2128"/>
                  </a:lnTo>
                  <a:lnTo>
                    <a:pt x="589" y="2038"/>
                  </a:lnTo>
                  <a:lnTo>
                    <a:pt x="672" y="1936"/>
                  </a:lnTo>
                  <a:lnTo>
                    <a:pt x="805" y="1810"/>
                  </a:lnTo>
                  <a:lnTo>
                    <a:pt x="931" y="1693"/>
                  </a:lnTo>
                  <a:lnTo>
                    <a:pt x="1067" y="1556"/>
                  </a:lnTo>
                  <a:lnTo>
                    <a:pt x="1280" y="1391"/>
                  </a:lnTo>
                  <a:lnTo>
                    <a:pt x="1464" y="1270"/>
                  </a:lnTo>
                  <a:lnTo>
                    <a:pt x="1615" y="1168"/>
                  </a:lnTo>
                  <a:lnTo>
                    <a:pt x="1834" y="1043"/>
                  </a:lnTo>
                  <a:lnTo>
                    <a:pt x="2003" y="941"/>
                  </a:lnTo>
                  <a:lnTo>
                    <a:pt x="2180" y="858"/>
                  </a:lnTo>
                  <a:lnTo>
                    <a:pt x="2370" y="779"/>
                  </a:lnTo>
                  <a:lnTo>
                    <a:pt x="2557" y="709"/>
                  </a:lnTo>
                  <a:lnTo>
                    <a:pt x="2730" y="654"/>
                  </a:lnTo>
                  <a:lnTo>
                    <a:pt x="2913" y="611"/>
                  </a:lnTo>
                  <a:lnTo>
                    <a:pt x="3097" y="591"/>
                  </a:lnTo>
                  <a:lnTo>
                    <a:pt x="3280" y="568"/>
                  </a:lnTo>
                  <a:lnTo>
                    <a:pt x="3463" y="568"/>
                  </a:lnTo>
                  <a:lnTo>
                    <a:pt x="3668" y="591"/>
                  </a:lnTo>
                  <a:lnTo>
                    <a:pt x="3845" y="622"/>
                  </a:lnTo>
                  <a:lnTo>
                    <a:pt x="4024" y="665"/>
                  </a:lnTo>
                  <a:lnTo>
                    <a:pt x="4151" y="705"/>
                  </a:lnTo>
                  <a:lnTo>
                    <a:pt x="4212" y="740"/>
                  </a:lnTo>
                  <a:lnTo>
                    <a:pt x="4259" y="0"/>
                  </a:lnTo>
                  <a:lnTo>
                    <a:pt x="4356" y="90"/>
                  </a:lnTo>
                  <a:lnTo>
                    <a:pt x="4414" y="231"/>
                  </a:lnTo>
                  <a:lnTo>
                    <a:pt x="4489" y="352"/>
                  </a:lnTo>
                  <a:lnTo>
                    <a:pt x="4565" y="477"/>
                  </a:lnTo>
                  <a:lnTo>
                    <a:pt x="4640" y="595"/>
                  </a:lnTo>
                  <a:lnTo>
                    <a:pt x="4737" y="724"/>
                  </a:lnTo>
                  <a:lnTo>
                    <a:pt x="4816" y="823"/>
                  </a:lnTo>
                  <a:lnTo>
                    <a:pt x="4921" y="937"/>
                  </a:lnTo>
                  <a:lnTo>
                    <a:pt x="5011" y="1039"/>
                  </a:lnTo>
                  <a:lnTo>
                    <a:pt x="5172" y="1168"/>
                  </a:lnTo>
                  <a:lnTo>
                    <a:pt x="5345" y="1285"/>
                  </a:lnTo>
                  <a:lnTo>
                    <a:pt x="5496" y="1438"/>
                  </a:lnTo>
                  <a:lnTo>
                    <a:pt x="5363" y="1466"/>
                  </a:lnTo>
                  <a:lnTo>
                    <a:pt x="5234" y="1489"/>
                  </a:lnTo>
                  <a:lnTo>
                    <a:pt x="5086" y="1528"/>
                  </a:lnTo>
                  <a:lnTo>
                    <a:pt x="4953" y="1587"/>
                  </a:lnTo>
                  <a:lnTo>
                    <a:pt x="4878" y="1618"/>
                  </a:lnTo>
                  <a:lnTo>
                    <a:pt x="4802" y="1658"/>
                  </a:lnTo>
                  <a:lnTo>
                    <a:pt x="4698" y="1728"/>
                  </a:lnTo>
                  <a:lnTo>
                    <a:pt x="4611" y="1810"/>
                  </a:lnTo>
                  <a:lnTo>
                    <a:pt x="4532" y="1873"/>
                  </a:lnTo>
                  <a:lnTo>
                    <a:pt x="4439" y="1955"/>
                  </a:lnTo>
                  <a:lnTo>
                    <a:pt x="4342" y="2061"/>
                  </a:lnTo>
                  <a:lnTo>
                    <a:pt x="4234" y="2226"/>
                  </a:lnTo>
                  <a:lnTo>
                    <a:pt x="4096" y="2077"/>
                  </a:lnTo>
                  <a:lnTo>
                    <a:pt x="4169" y="1454"/>
                  </a:lnTo>
                  <a:lnTo>
                    <a:pt x="4100" y="1430"/>
                  </a:lnTo>
                  <a:lnTo>
                    <a:pt x="3873" y="1395"/>
                  </a:lnTo>
                  <a:lnTo>
                    <a:pt x="3672" y="1368"/>
                  </a:lnTo>
                  <a:lnTo>
                    <a:pt x="3420" y="1352"/>
                  </a:lnTo>
                  <a:lnTo>
                    <a:pt x="3273" y="1356"/>
                  </a:lnTo>
                  <a:lnTo>
                    <a:pt x="3125" y="1344"/>
                  </a:lnTo>
                  <a:lnTo>
                    <a:pt x="2935" y="1360"/>
                  </a:lnTo>
                  <a:lnTo>
                    <a:pt x="2741" y="1372"/>
                  </a:lnTo>
                  <a:lnTo>
                    <a:pt x="2532" y="1407"/>
                  </a:lnTo>
                  <a:lnTo>
                    <a:pt x="2359" y="1446"/>
                  </a:lnTo>
                  <a:lnTo>
                    <a:pt x="2183" y="1497"/>
                  </a:lnTo>
                  <a:lnTo>
                    <a:pt x="1985" y="1556"/>
                  </a:lnTo>
                  <a:lnTo>
                    <a:pt x="1852" y="1626"/>
                  </a:lnTo>
                  <a:lnTo>
                    <a:pt x="1691" y="1708"/>
                  </a:lnTo>
                  <a:lnTo>
                    <a:pt x="1507" y="1795"/>
                  </a:lnTo>
                  <a:lnTo>
                    <a:pt x="1341" y="1885"/>
                  </a:lnTo>
                  <a:lnTo>
                    <a:pt x="1175" y="1994"/>
                  </a:lnTo>
                  <a:lnTo>
                    <a:pt x="992" y="2116"/>
                  </a:lnTo>
                  <a:lnTo>
                    <a:pt x="801" y="2245"/>
                  </a:lnTo>
                  <a:lnTo>
                    <a:pt x="647" y="2386"/>
                  </a:lnTo>
                  <a:lnTo>
                    <a:pt x="539" y="2473"/>
                  </a:lnTo>
                  <a:lnTo>
                    <a:pt x="424" y="2583"/>
                  </a:lnTo>
                  <a:lnTo>
                    <a:pt x="366" y="2673"/>
                  </a:lnTo>
                  <a:lnTo>
                    <a:pt x="294" y="2767"/>
                  </a:lnTo>
                  <a:lnTo>
                    <a:pt x="230" y="2869"/>
                  </a:lnTo>
                  <a:lnTo>
                    <a:pt x="71" y="3194"/>
                  </a:lnTo>
                  <a:close/>
                </a:path>
              </a:pathLst>
            </a:custGeom>
            <a:solidFill>
              <a:srgbClr val="fc0128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62520" y="1741320"/>
              <a:ext cx="1926000" cy="1125720"/>
            </a:xfrm>
            <a:custGeom>
              <a:avLst/>
              <a:gdLst/>
              <a:ahLst/>
              <a:rect l="0" t="0" r="r" b="b"/>
              <a:pathLst>
                <a:path w="5350" h="3127">
                  <a:moveTo>
                    <a:pt x="0" y="3127"/>
                  </a:moveTo>
                  <a:lnTo>
                    <a:pt x="53" y="2810"/>
                  </a:lnTo>
                  <a:lnTo>
                    <a:pt x="93" y="2684"/>
                  </a:lnTo>
                  <a:lnTo>
                    <a:pt x="151" y="2559"/>
                  </a:lnTo>
                  <a:lnTo>
                    <a:pt x="205" y="2445"/>
                  </a:lnTo>
                  <a:lnTo>
                    <a:pt x="273" y="2332"/>
                  </a:lnTo>
                  <a:lnTo>
                    <a:pt x="356" y="2198"/>
                  </a:lnTo>
                  <a:lnTo>
                    <a:pt x="449" y="2073"/>
                  </a:lnTo>
                  <a:lnTo>
                    <a:pt x="535" y="1983"/>
                  </a:lnTo>
                  <a:lnTo>
                    <a:pt x="607" y="1877"/>
                  </a:lnTo>
                  <a:lnTo>
                    <a:pt x="741" y="1740"/>
                  </a:lnTo>
                  <a:lnTo>
                    <a:pt x="870" y="1638"/>
                  </a:lnTo>
                  <a:lnTo>
                    <a:pt x="1021" y="1504"/>
                  </a:lnTo>
                  <a:lnTo>
                    <a:pt x="1226" y="1328"/>
                  </a:lnTo>
                  <a:lnTo>
                    <a:pt x="1403" y="1210"/>
                  </a:lnTo>
                  <a:lnTo>
                    <a:pt x="1558" y="1108"/>
                  </a:lnTo>
                  <a:lnTo>
                    <a:pt x="1767" y="975"/>
                  </a:lnTo>
                  <a:lnTo>
                    <a:pt x="1936" y="873"/>
                  </a:lnTo>
                  <a:lnTo>
                    <a:pt x="2116" y="795"/>
                  </a:lnTo>
                  <a:lnTo>
                    <a:pt x="2295" y="705"/>
                  </a:lnTo>
                  <a:lnTo>
                    <a:pt x="2486" y="638"/>
                  </a:lnTo>
                  <a:lnTo>
                    <a:pt x="2662" y="579"/>
                  </a:lnTo>
                  <a:lnTo>
                    <a:pt x="2835" y="532"/>
                  </a:lnTo>
                  <a:lnTo>
                    <a:pt x="3022" y="513"/>
                  </a:lnTo>
                  <a:lnTo>
                    <a:pt x="3198" y="477"/>
                  </a:lnTo>
                  <a:lnTo>
                    <a:pt x="3389" y="477"/>
                  </a:lnTo>
                  <a:lnTo>
                    <a:pt x="3590" y="501"/>
                  </a:lnTo>
                  <a:lnTo>
                    <a:pt x="3738" y="517"/>
                  </a:lnTo>
                  <a:lnTo>
                    <a:pt x="3914" y="552"/>
                  </a:lnTo>
                  <a:lnTo>
                    <a:pt x="4063" y="599"/>
                  </a:lnTo>
                  <a:lnTo>
                    <a:pt x="4235" y="650"/>
                  </a:lnTo>
                  <a:lnTo>
                    <a:pt x="4257" y="0"/>
                  </a:lnTo>
                  <a:lnTo>
                    <a:pt x="4322" y="129"/>
                  </a:lnTo>
                  <a:lnTo>
                    <a:pt x="4383" y="246"/>
                  </a:lnTo>
                  <a:lnTo>
                    <a:pt x="4444" y="360"/>
                  </a:lnTo>
                  <a:lnTo>
                    <a:pt x="4534" y="477"/>
                  </a:lnTo>
                  <a:lnTo>
                    <a:pt x="4627" y="599"/>
                  </a:lnTo>
                  <a:lnTo>
                    <a:pt x="4699" y="693"/>
                  </a:lnTo>
                  <a:lnTo>
                    <a:pt x="4793" y="795"/>
                  </a:lnTo>
                  <a:lnTo>
                    <a:pt x="4890" y="905"/>
                  </a:lnTo>
                  <a:lnTo>
                    <a:pt x="5030" y="1022"/>
                  </a:lnTo>
                  <a:lnTo>
                    <a:pt x="5153" y="1124"/>
                  </a:lnTo>
                  <a:lnTo>
                    <a:pt x="5243" y="1194"/>
                  </a:lnTo>
                  <a:lnTo>
                    <a:pt x="5350" y="1285"/>
                  </a:lnTo>
                  <a:lnTo>
                    <a:pt x="5217" y="1308"/>
                  </a:lnTo>
                  <a:lnTo>
                    <a:pt x="5095" y="1336"/>
                  </a:lnTo>
                  <a:lnTo>
                    <a:pt x="4944" y="1379"/>
                  </a:lnTo>
                  <a:lnTo>
                    <a:pt x="4825" y="1441"/>
                  </a:lnTo>
                  <a:lnTo>
                    <a:pt x="4743" y="1469"/>
                  </a:lnTo>
                  <a:lnTo>
                    <a:pt x="4678" y="1512"/>
                  </a:lnTo>
                  <a:lnTo>
                    <a:pt x="4566" y="1591"/>
                  </a:lnTo>
                  <a:lnTo>
                    <a:pt x="4469" y="1654"/>
                  </a:lnTo>
                  <a:lnTo>
                    <a:pt x="4390" y="1724"/>
                  </a:lnTo>
                  <a:lnTo>
                    <a:pt x="4307" y="1814"/>
                  </a:lnTo>
                  <a:lnTo>
                    <a:pt x="4207" y="1916"/>
                  </a:lnTo>
                  <a:lnTo>
                    <a:pt x="4102" y="2081"/>
                  </a:lnTo>
                  <a:lnTo>
                    <a:pt x="4189" y="1336"/>
                  </a:lnTo>
                  <a:lnTo>
                    <a:pt x="3990" y="1300"/>
                  </a:lnTo>
                  <a:lnTo>
                    <a:pt x="3756" y="1269"/>
                  </a:lnTo>
                  <a:lnTo>
                    <a:pt x="3565" y="1245"/>
                  </a:lnTo>
                  <a:lnTo>
                    <a:pt x="3321" y="1238"/>
                  </a:lnTo>
                  <a:lnTo>
                    <a:pt x="3177" y="1253"/>
                  </a:lnTo>
                  <a:lnTo>
                    <a:pt x="3037" y="1241"/>
                  </a:lnTo>
                  <a:lnTo>
                    <a:pt x="2842" y="1249"/>
                  </a:lnTo>
                  <a:lnTo>
                    <a:pt x="2648" y="1277"/>
                  </a:lnTo>
                  <a:lnTo>
                    <a:pt x="2450" y="1320"/>
                  </a:lnTo>
                  <a:lnTo>
                    <a:pt x="2281" y="1359"/>
                  </a:lnTo>
                  <a:lnTo>
                    <a:pt x="2101" y="1418"/>
                  </a:lnTo>
                  <a:lnTo>
                    <a:pt x="1911" y="1473"/>
                  </a:lnTo>
                  <a:lnTo>
                    <a:pt x="1788" y="1543"/>
                  </a:lnTo>
                  <a:lnTo>
                    <a:pt x="1605" y="1630"/>
                  </a:lnTo>
                  <a:lnTo>
                    <a:pt x="1432" y="1724"/>
                  </a:lnTo>
                  <a:lnTo>
                    <a:pt x="1269" y="1818"/>
                  </a:lnTo>
                  <a:lnTo>
                    <a:pt x="1104" y="1924"/>
                  </a:lnTo>
                  <a:lnTo>
                    <a:pt x="924" y="2050"/>
                  </a:lnTo>
                  <a:lnTo>
                    <a:pt x="726" y="2175"/>
                  </a:lnTo>
                  <a:lnTo>
                    <a:pt x="571" y="2320"/>
                  </a:lnTo>
                  <a:lnTo>
                    <a:pt x="471" y="2406"/>
                  </a:lnTo>
                  <a:lnTo>
                    <a:pt x="366" y="2504"/>
                  </a:lnTo>
                  <a:lnTo>
                    <a:pt x="287" y="2606"/>
                  </a:lnTo>
                  <a:lnTo>
                    <a:pt x="215" y="2688"/>
                  </a:lnTo>
                  <a:lnTo>
                    <a:pt x="161" y="2790"/>
                  </a:lnTo>
                  <a:lnTo>
                    <a:pt x="0" y="3127"/>
                  </a:lnTo>
                  <a:close/>
                </a:path>
              </a:pathLst>
            </a:custGeom>
            <a:solidFill>
              <a:srgbClr val="fc0128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6095880" y="1371600"/>
            <a:ext cx="2666880" cy="304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12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55 XYZ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&amp; Unlo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548640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a Customer’s address is changed, then ACS will updat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03840" y="3052800"/>
            <a:ext cx="2128680" cy="1467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295280" y="1828800"/>
            <a:ext cx="1905120" cy="2514600"/>
          </a:xfrm>
          <a:prstGeom prst="rect">
            <a:avLst/>
          </a:prstGeom>
          <a:solidFill>
            <a:srgbClr val="e5e5e5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e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1741320"/>
            <a:ext cx="1981440" cy="1154880"/>
            <a:chOff x="3962520" y="1741320"/>
            <a:chExt cx="1981440" cy="1154880"/>
          </a:xfrm>
        </p:grpSpPr>
        <p:sp>
          <p:nvSpPr>
            <p:cNvPr id="71" name=""/>
            <p:cNvSpPr/>
            <p:nvPr/>
          </p:nvSpPr>
          <p:spPr>
            <a:xfrm>
              <a:off x="3965400" y="1746360"/>
              <a:ext cx="1978560" cy="1149840"/>
            </a:xfrm>
            <a:custGeom>
              <a:avLst/>
              <a:gdLst/>
              <a:ahLst/>
              <a:rect l="0" t="0" r="r" b="b"/>
              <a:pathLst>
                <a:path w="5496" h="3194">
                  <a:moveTo>
                    <a:pt x="71" y="3194"/>
                  </a:moveTo>
                  <a:lnTo>
                    <a:pt x="0" y="3116"/>
                  </a:lnTo>
                  <a:lnTo>
                    <a:pt x="71" y="2865"/>
                  </a:lnTo>
                  <a:lnTo>
                    <a:pt x="125" y="2720"/>
                  </a:lnTo>
                  <a:lnTo>
                    <a:pt x="197" y="2610"/>
                  </a:lnTo>
                  <a:lnTo>
                    <a:pt x="251" y="2485"/>
                  </a:lnTo>
                  <a:lnTo>
                    <a:pt x="330" y="2374"/>
                  </a:lnTo>
                  <a:lnTo>
                    <a:pt x="406" y="2257"/>
                  </a:lnTo>
                  <a:lnTo>
                    <a:pt x="503" y="2128"/>
                  </a:lnTo>
                  <a:lnTo>
                    <a:pt x="589" y="2038"/>
                  </a:lnTo>
                  <a:lnTo>
                    <a:pt x="672" y="1936"/>
                  </a:lnTo>
                  <a:lnTo>
                    <a:pt x="805" y="1810"/>
                  </a:lnTo>
                  <a:lnTo>
                    <a:pt x="931" y="1693"/>
                  </a:lnTo>
                  <a:lnTo>
                    <a:pt x="1067" y="1556"/>
                  </a:lnTo>
                  <a:lnTo>
                    <a:pt x="1280" y="1391"/>
                  </a:lnTo>
                  <a:lnTo>
                    <a:pt x="1464" y="1270"/>
                  </a:lnTo>
                  <a:lnTo>
                    <a:pt x="1615" y="1168"/>
                  </a:lnTo>
                  <a:lnTo>
                    <a:pt x="1834" y="1043"/>
                  </a:lnTo>
                  <a:lnTo>
                    <a:pt x="2003" y="941"/>
                  </a:lnTo>
                  <a:lnTo>
                    <a:pt x="2180" y="858"/>
                  </a:lnTo>
                  <a:lnTo>
                    <a:pt x="2370" y="779"/>
                  </a:lnTo>
                  <a:lnTo>
                    <a:pt x="2557" y="709"/>
                  </a:lnTo>
                  <a:lnTo>
                    <a:pt x="2730" y="654"/>
                  </a:lnTo>
                  <a:lnTo>
                    <a:pt x="2913" y="611"/>
                  </a:lnTo>
                  <a:lnTo>
                    <a:pt x="3097" y="591"/>
                  </a:lnTo>
                  <a:lnTo>
                    <a:pt x="3280" y="568"/>
                  </a:lnTo>
                  <a:lnTo>
                    <a:pt x="3463" y="568"/>
                  </a:lnTo>
                  <a:lnTo>
                    <a:pt x="3668" y="591"/>
                  </a:lnTo>
                  <a:lnTo>
                    <a:pt x="3845" y="622"/>
                  </a:lnTo>
                  <a:lnTo>
                    <a:pt x="4024" y="665"/>
                  </a:lnTo>
                  <a:lnTo>
                    <a:pt x="4151" y="705"/>
                  </a:lnTo>
                  <a:lnTo>
                    <a:pt x="4212" y="740"/>
                  </a:lnTo>
                  <a:lnTo>
                    <a:pt x="4259" y="0"/>
                  </a:lnTo>
                  <a:lnTo>
                    <a:pt x="4356" y="90"/>
                  </a:lnTo>
                  <a:lnTo>
                    <a:pt x="4414" y="231"/>
                  </a:lnTo>
                  <a:lnTo>
                    <a:pt x="4489" y="352"/>
                  </a:lnTo>
                  <a:lnTo>
                    <a:pt x="4565" y="477"/>
                  </a:lnTo>
                  <a:lnTo>
                    <a:pt x="4640" y="595"/>
                  </a:lnTo>
                  <a:lnTo>
                    <a:pt x="4737" y="724"/>
                  </a:lnTo>
                  <a:lnTo>
                    <a:pt x="4816" y="823"/>
                  </a:lnTo>
                  <a:lnTo>
                    <a:pt x="4921" y="937"/>
                  </a:lnTo>
                  <a:lnTo>
                    <a:pt x="5011" y="1039"/>
                  </a:lnTo>
                  <a:lnTo>
                    <a:pt x="5172" y="1168"/>
                  </a:lnTo>
                  <a:lnTo>
                    <a:pt x="5345" y="1285"/>
                  </a:lnTo>
                  <a:lnTo>
                    <a:pt x="5496" y="1438"/>
                  </a:lnTo>
                  <a:lnTo>
                    <a:pt x="5363" y="1466"/>
                  </a:lnTo>
                  <a:lnTo>
                    <a:pt x="5234" y="1489"/>
                  </a:lnTo>
                  <a:lnTo>
                    <a:pt x="5086" y="1528"/>
                  </a:lnTo>
                  <a:lnTo>
                    <a:pt x="4953" y="1587"/>
                  </a:lnTo>
                  <a:lnTo>
                    <a:pt x="4878" y="1618"/>
                  </a:lnTo>
                  <a:lnTo>
                    <a:pt x="4802" y="1658"/>
                  </a:lnTo>
                  <a:lnTo>
                    <a:pt x="4698" y="1728"/>
                  </a:lnTo>
                  <a:lnTo>
                    <a:pt x="4611" y="1810"/>
                  </a:lnTo>
                  <a:lnTo>
                    <a:pt x="4532" y="1873"/>
                  </a:lnTo>
                  <a:lnTo>
                    <a:pt x="4439" y="1955"/>
                  </a:lnTo>
                  <a:lnTo>
                    <a:pt x="4342" y="2061"/>
                  </a:lnTo>
                  <a:lnTo>
                    <a:pt x="4234" y="2226"/>
                  </a:lnTo>
                  <a:lnTo>
                    <a:pt x="4096" y="2077"/>
                  </a:lnTo>
                  <a:lnTo>
                    <a:pt x="4169" y="1454"/>
                  </a:lnTo>
                  <a:lnTo>
                    <a:pt x="4100" y="1430"/>
                  </a:lnTo>
                  <a:lnTo>
                    <a:pt x="3873" y="1395"/>
                  </a:lnTo>
                  <a:lnTo>
                    <a:pt x="3672" y="1368"/>
                  </a:lnTo>
                  <a:lnTo>
                    <a:pt x="3420" y="1352"/>
                  </a:lnTo>
                  <a:lnTo>
                    <a:pt x="3273" y="1356"/>
                  </a:lnTo>
                  <a:lnTo>
                    <a:pt x="3125" y="1344"/>
                  </a:lnTo>
                  <a:lnTo>
                    <a:pt x="2935" y="1360"/>
                  </a:lnTo>
                  <a:lnTo>
                    <a:pt x="2741" y="1372"/>
                  </a:lnTo>
                  <a:lnTo>
                    <a:pt x="2532" y="1407"/>
                  </a:lnTo>
                  <a:lnTo>
                    <a:pt x="2359" y="1446"/>
                  </a:lnTo>
                  <a:lnTo>
                    <a:pt x="2183" y="1497"/>
                  </a:lnTo>
                  <a:lnTo>
                    <a:pt x="1985" y="1556"/>
                  </a:lnTo>
                  <a:lnTo>
                    <a:pt x="1852" y="1626"/>
                  </a:lnTo>
                  <a:lnTo>
                    <a:pt x="1691" y="1708"/>
                  </a:lnTo>
                  <a:lnTo>
                    <a:pt x="1507" y="1795"/>
                  </a:lnTo>
                  <a:lnTo>
                    <a:pt x="1341" y="1885"/>
                  </a:lnTo>
                  <a:lnTo>
                    <a:pt x="1175" y="1994"/>
                  </a:lnTo>
                  <a:lnTo>
                    <a:pt x="992" y="2116"/>
                  </a:lnTo>
                  <a:lnTo>
                    <a:pt x="801" y="2245"/>
                  </a:lnTo>
                  <a:lnTo>
                    <a:pt x="647" y="2386"/>
                  </a:lnTo>
                  <a:lnTo>
                    <a:pt x="539" y="2473"/>
                  </a:lnTo>
                  <a:lnTo>
                    <a:pt x="424" y="2583"/>
                  </a:lnTo>
                  <a:lnTo>
                    <a:pt x="366" y="2673"/>
                  </a:lnTo>
                  <a:lnTo>
                    <a:pt x="294" y="2767"/>
                  </a:lnTo>
                  <a:lnTo>
                    <a:pt x="230" y="2869"/>
                  </a:lnTo>
                  <a:lnTo>
                    <a:pt x="71" y="3194"/>
                  </a:lnTo>
                  <a:close/>
                </a:path>
              </a:pathLst>
            </a:custGeom>
            <a:solidFill>
              <a:srgbClr val="fc0128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62520" y="1741320"/>
              <a:ext cx="1926000" cy="1125720"/>
            </a:xfrm>
            <a:custGeom>
              <a:avLst/>
              <a:gdLst/>
              <a:ahLst/>
              <a:rect l="0" t="0" r="r" b="b"/>
              <a:pathLst>
                <a:path w="5350" h="3127">
                  <a:moveTo>
                    <a:pt x="0" y="3127"/>
                  </a:moveTo>
                  <a:lnTo>
                    <a:pt x="53" y="2810"/>
                  </a:lnTo>
                  <a:lnTo>
                    <a:pt x="93" y="2684"/>
                  </a:lnTo>
                  <a:lnTo>
                    <a:pt x="151" y="2559"/>
                  </a:lnTo>
                  <a:lnTo>
                    <a:pt x="205" y="2445"/>
                  </a:lnTo>
                  <a:lnTo>
                    <a:pt x="273" y="2332"/>
                  </a:lnTo>
                  <a:lnTo>
                    <a:pt x="356" y="2198"/>
                  </a:lnTo>
                  <a:lnTo>
                    <a:pt x="449" y="2073"/>
                  </a:lnTo>
                  <a:lnTo>
                    <a:pt x="535" y="1983"/>
                  </a:lnTo>
                  <a:lnTo>
                    <a:pt x="607" y="1877"/>
                  </a:lnTo>
                  <a:lnTo>
                    <a:pt x="741" y="1740"/>
                  </a:lnTo>
                  <a:lnTo>
                    <a:pt x="870" y="1638"/>
                  </a:lnTo>
                  <a:lnTo>
                    <a:pt x="1021" y="1504"/>
                  </a:lnTo>
                  <a:lnTo>
                    <a:pt x="1226" y="1328"/>
                  </a:lnTo>
                  <a:lnTo>
                    <a:pt x="1403" y="1210"/>
                  </a:lnTo>
                  <a:lnTo>
                    <a:pt x="1558" y="1108"/>
                  </a:lnTo>
                  <a:lnTo>
                    <a:pt x="1767" y="975"/>
                  </a:lnTo>
                  <a:lnTo>
                    <a:pt x="1936" y="873"/>
                  </a:lnTo>
                  <a:lnTo>
                    <a:pt x="2116" y="795"/>
                  </a:lnTo>
                  <a:lnTo>
                    <a:pt x="2295" y="705"/>
                  </a:lnTo>
                  <a:lnTo>
                    <a:pt x="2486" y="638"/>
                  </a:lnTo>
                  <a:lnTo>
                    <a:pt x="2662" y="579"/>
                  </a:lnTo>
                  <a:lnTo>
                    <a:pt x="2835" y="532"/>
                  </a:lnTo>
                  <a:lnTo>
                    <a:pt x="3022" y="513"/>
                  </a:lnTo>
                  <a:lnTo>
                    <a:pt x="3198" y="477"/>
                  </a:lnTo>
                  <a:lnTo>
                    <a:pt x="3389" y="477"/>
                  </a:lnTo>
                  <a:lnTo>
                    <a:pt x="3590" y="501"/>
                  </a:lnTo>
                  <a:lnTo>
                    <a:pt x="3738" y="517"/>
                  </a:lnTo>
                  <a:lnTo>
                    <a:pt x="3914" y="552"/>
                  </a:lnTo>
                  <a:lnTo>
                    <a:pt x="4063" y="599"/>
                  </a:lnTo>
                  <a:lnTo>
                    <a:pt x="4235" y="650"/>
                  </a:lnTo>
                  <a:lnTo>
                    <a:pt x="4257" y="0"/>
                  </a:lnTo>
                  <a:lnTo>
                    <a:pt x="4322" y="129"/>
                  </a:lnTo>
                  <a:lnTo>
                    <a:pt x="4383" y="246"/>
                  </a:lnTo>
                  <a:lnTo>
                    <a:pt x="4444" y="360"/>
                  </a:lnTo>
                  <a:lnTo>
                    <a:pt x="4534" y="477"/>
                  </a:lnTo>
                  <a:lnTo>
                    <a:pt x="4627" y="599"/>
                  </a:lnTo>
                  <a:lnTo>
                    <a:pt x="4699" y="693"/>
                  </a:lnTo>
                  <a:lnTo>
                    <a:pt x="4793" y="795"/>
                  </a:lnTo>
                  <a:lnTo>
                    <a:pt x="4890" y="905"/>
                  </a:lnTo>
                  <a:lnTo>
                    <a:pt x="5030" y="1022"/>
                  </a:lnTo>
                  <a:lnTo>
                    <a:pt x="5153" y="1124"/>
                  </a:lnTo>
                  <a:lnTo>
                    <a:pt x="5243" y="1194"/>
                  </a:lnTo>
                  <a:lnTo>
                    <a:pt x="5350" y="1285"/>
                  </a:lnTo>
                  <a:lnTo>
                    <a:pt x="5217" y="1308"/>
                  </a:lnTo>
                  <a:lnTo>
                    <a:pt x="5095" y="1336"/>
                  </a:lnTo>
                  <a:lnTo>
                    <a:pt x="4944" y="1379"/>
                  </a:lnTo>
                  <a:lnTo>
                    <a:pt x="4825" y="1441"/>
                  </a:lnTo>
                  <a:lnTo>
                    <a:pt x="4743" y="1469"/>
                  </a:lnTo>
                  <a:lnTo>
                    <a:pt x="4678" y="1512"/>
                  </a:lnTo>
                  <a:lnTo>
                    <a:pt x="4566" y="1591"/>
                  </a:lnTo>
                  <a:lnTo>
                    <a:pt x="4469" y="1654"/>
                  </a:lnTo>
                  <a:lnTo>
                    <a:pt x="4390" y="1724"/>
                  </a:lnTo>
                  <a:lnTo>
                    <a:pt x="4307" y="1814"/>
                  </a:lnTo>
                  <a:lnTo>
                    <a:pt x="4207" y="1916"/>
                  </a:lnTo>
                  <a:lnTo>
                    <a:pt x="4102" y="2081"/>
                  </a:lnTo>
                  <a:lnTo>
                    <a:pt x="4189" y="1336"/>
                  </a:lnTo>
                  <a:lnTo>
                    <a:pt x="3990" y="1300"/>
                  </a:lnTo>
                  <a:lnTo>
                    <a:pt x="3756" y="1269"/>
                  </a:lnTo>
                  <a:lnTo>
                    <a:pt x="3565" y="1245"/>
                  </a:lnTo>
                  <a:lnTo>
                    <a:pt x="3321" y="1238"/>
                  </a:lnTo>
                  <a:lnTo>
                    <a:pt x="3177" y="1253"/>
                  </a:lnTo>
                  <a:lnTo>
                    <a:pt x="3037" y="1241"/>
                  </a:lnTo>
                  <a:lnTo>
                    <a:pt x="2842" y="1249"/>
                  </a:lnTo>
                  <a:lnTo>
                    <a:pt x="2648" y="1277"/>
                  </a:lnTo>
                  <a:lnTo>
                    <a:pt x="2450" y="1320"/>
                  </a:lnTo>
                  <a:lnTo>
                    <a:pt x="2281" y="1359"/>
                  </a:lnTo>
                  <a:lnTo>
                    <a:pt x="2101" y="1418"/>
                  </a:lnTo>
                  <a:lnTo>
                    <a:pt x="1911" y="1473"/>
                  </a:lnTo>
                  <a:lnTo>
                    <a:pt x="1788" y="1543"/>
                  </a:lnTo>
                  <a:lnTo>
                    <a:pt x="1605" y="1630"/>
                  </a:lnTo>
                  <a:lnTo>
                    <a:pt x="1432" y="1724"/>
                  </a:lnTo>
                  <a:lnTo>
                    <a:pt x="1269" y="1818"/>
                  </a:lnTo>
                  <a:lnTo>
                    <a:pt x="1104" y="1924"/>
                  </a:lnTo>
                  <a:lnTo>
                    <a:pt x="924" y="2050"/>
                  </a:lnTo>
                  <a:lnTo>
                    <a:pt x="726" y="2175"/>
                  </a:lnTo>
                  <a:lnTo>
                    <a:pt x="571" y="2320"/>
                  </a:lnTo>
                  <a:lnTo>
                    <a:pt x="471" y="2406"/>
                  </a:lnTo>
                  <a:lnTo>
                    <a:pt x="366" y="2504"/>
                  </a:lnTo>
                  <a:lnTo>
                    <a:pt x="287" y="2606"/>
                  </a:lnTo>
                  <a:lnTo>
                    <a:pt x="215" y="2688"/>
                  </a:lnTo>
                  <a:lnTo>
                    <a:pt x="161" y="2790"/>
                  </a:lnTo>
                  <a:lnTo>
                    <a:pt x="0" y="3127"/>
                  </a:lnTo>
                  <a:close/>
                </a:path>
              </a:pathLst>
            </a:custGeom>
            <a:solidFill>
              <a:srgbClr val="fc0128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 txBox="1"/>
          <p:nvPr/>
        </p:nvSpPr>
        <p:spPr>
          <a:xfrm>
            <a:off x="4038480" y="26668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1828800"/>
            <a:ext cx="1905120" cy="2514600"/>
          </a:xfrm>
          <a:prstGeom prst="rect">
            <a:avLst/>
          </a:prstGeom>
          <a:solidFill>
            <a:srgbClr val="a0a0a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on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AN INTERNATIONAL - Patrick Noblett</dc:creator>
  <dc:description/>
  <dc:language>en-US</dc:language>
  <cp:lastModifiedBy>BAAN INTERNATIONAL - Patrick Noblett</cp:lastModifiedBy>
  <cp:revision>0</cp:revision>
  <dc:subject>ACS</dc:subject>
  <dc:title>tran1 - Address Control</dc:title>
</cp:coreProperties>
</file>