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1880" y="4626000"/>
            <a:ext cx="84171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1880" y="4626000"/>
            <a:ext cx="4107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5040" y="4626000"/>
            <a:ext cx="4107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1880" y="4626000"/>
            <a:ext cx="27100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7680" y="4626000"/>
            <a:ext cx="27100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3840" y="4626000"/>
            <a:ext cx="27100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607600" cy="58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1880" y="4626000"/>
            <a:ext cx="4107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5040" y="4626000"/>
            <a:ext cx="4107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1880" y="4626000"/>
            <a:ext cx="84171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61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964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6692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55640" indent="-43164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55640" indent="-431640">
              <a:lnSpc>
                <a:spcPct val="93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55640" indent="-431640">
              <a:lnSpc>
                <a:spcPct val="93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Times New Roman"/>
              </a:rPr>
              <a:t>Prezentacja nowego produktu</a:t>
            </a:r>
            <a:endParaRPr b="1" i="1" lang="en-US" sz="4000" spc="-1" strike="noStrike">
              <a:solidFill>
                <a:srgbClr val="99284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899640" y="1896840"/>
            <a:ext cx="84200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8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284c"/>
                </a:solidFill>
                <a:latin typeface="Courier New"/>
              </a:rPr>
              <a:t>Tytuł</a:t>
            </a:r>
            <a:endParaRPr b="0" lang="en-US" sz="3200" spc="-1" strike="noStrike">
              <a:solidFill>
                <a:srgbClr val="99284c"/>
              </a:solidFill>
              <a:latin typeface="Times New Roman"/>
            </a:endParaRPr>
          </a:p>
          <a:p>
            <a:pPr marL="216000" indent="0" algn="ctr">
              <a:lnSpc>
                <a:spcPct val="8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284c"/>
                </a:solidFill>
                <a:latin typeface="Courier New"/>
              </a:rPr>
              <a:t>Zażółć gęślą jaźń</a:t>
            </a:r>
            <a:endParaRPr b="0" lang="en-US" sz="3200" spc="-1" strike="noStrike">
              <a:solidFill>
                <a:srgbClr val="99284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Times New Roman"/>
              </a:rPr>
              <a:t>Cel długoterminowy</a:t>
            </a:r>
            <a:endParaRPr b="1" i="1" lang="en-US" sz="4000" spc="-1" strike="noStrike">
              <a:solidFill>
                <a:srgbClr val="99284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200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Podaj cel, który ma zostać zrealizowan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Times New Roman"/>
              </a:rPr>
              <a:t>Życzenia klientów</a:t>
            </a:r>
            <a:endParaRPr b="1" i="1" lang="en-US" sz="4000" spc="-1" strike="noStrike">
              <a:solidFill>
                <a:srgbClr val="99284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Przedstaw życzenia klientó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Objaśnij wymaga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Times New Roman"/>
              </a:rPr>
              <a:t>Erfüllung </a:t>
            </a:r>
            <a:br>
              <a:rPr sz="4000"/>
            </a:br>
            <a:r>
              <a:rPr b="1" i="1" lang="en-GB" sz="4000" spc="-1" strike="noStrike">
                <a:solidFill>
                  <a:srgbClr val="99284c"/>
                </a:solidFill>
                <a:latin typeface="Times New Roman"/>
              </a:rPr>
              <a:t>der Życzenia klientów</a:t>
            </a:r>
            <a:endParaRPr b="1" i="1" lang="en-US" sz="4000" spc="-1" strike="noStrike">
              <a:solidFill>
                <a:srgbClr val="99284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Przedstaw cechy charakterystyczne produktu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Utwórz relację między cechami charakterystycznymi produktu i życzeniami klientó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Times New Roman"/>
              </a:rPr>
              <a:t>Analiza kosztów</a:t>
            </a:r>
            <a:endParaRPr b="1" i="1" lang="en-US" sz="4000" spc="-1" strike="noStrike">
              <a:solidFill>
                <a:srgbClr val="99284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Uwzględnij materialną korzyść klient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Porównaj cenę i możliwości produktu z ceną i możliwościami  produktu konkurencji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Times New Roman"/>
              </a:rPr>
              <a:t>Walory i zalety</a:t>
            </a:r>
            <a:endParaRPr b="1" i="1" lang="en-US" sz="4000" spc="-1" strike="noStrike">
              <a:solidFill>
                <a:srgbClr val="99284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Podsumuj specyfikę i zalety przedstawionych produktó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Times New Roman"/>
              </a:rPr>
              <a:t>Następne kroki</a:t>
            </a:r>
            <a:endParaRPr b="1" i="1" lang="en-US" sz="4000" spc="-1" strike="noStrike">
              <a:solidFill>
                <a:srgbClr val="99284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2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Objaśnij następne wymagane kroki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in Miłkowski</dc:creator>
  <dc:description>Ogólna prezentacja nowego produktu z uwzględnieniem życzeń klienta</dc:description>
  <dc:language>en-US</dc:language>
  <cp:lastModifiedBy>Marcin Miłkowski</cp:lastModifiedBy>
  <cp:revision>0</cp:revision>
  <dc:subject/>
  <dc:title/>
</cp:coreProperties>
</file>