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FC53-ACEB-4D6C-993A-F0870114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8556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9DA5-9640-4DB7-B4C2-58AC9D00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040" y="159840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8556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040" y="398556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0981-C91A-4696-87FA-815A73EF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800" y="159840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8160" y="159840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8556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800" y="398556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8160" y="398556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DFDF-F206-48CD-B934-7FADF9E4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AEE5-49E4-40D0-986A-07BCFA3A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39DD-14DC-41AD-B239-837B3CD4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040" y="159840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D8BB-03F7-4EE3-AB51-BDD96ECC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9B89-943F-41B3-ADF5-D08A8F6D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2600" y="182520"/>
            <a:ext cx="7313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1351-9A02-45B4-A04D-6E05860A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040" y="159840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8556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8A8E-253C-41F7-AE41-4AFB3F25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040" y="159840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040" y="398556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BFB5-C51B-4F96-83CD-21E4DC4E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040" y="159840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8556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51F-7101-4D2D-87FB-F7C18C3E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59840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087A-1C24-412D-9EC5-04D3AC850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שימור תלויו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כאשר מפרקים סכמה רלציונית, רצוי (אם כי לא הכרחי) לדאוג גם </a:t>
            </a: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לשימור תלויות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מבטיח שכל תלות פונקציונלית שהתקיימה בסכמה המקורית מתקיימת גם בסכמה המפורקת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אם הפרוק אכן </a:t>
            </a: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משמר תלויות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, אז מובטח שכאשר מעדכנים את אחת מתת-הרלציות באופן חוקי, גם העדכון על מסד הנתונים כולו (ה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בין תת-הרלציות) הוא חוק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אם אין שימור תלויות, תכונה זו אינה מובטחת, לכן, כאשר נעדכן טבלה אחת, נצטרך לעתים לבדוק מול הטבלאות האחרות כדי לוודא שהעדכון חוק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FF9-AEFC-458B-867E-D3A2C74755C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דוגמה - המש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התלויות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, BC </a:t>
            </a:r>
            <a:r>
              <a:rPr b="0" lang="en-US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נשמרות, כי לכל אחת מהן קיימת תת-סכמה שמכילה את כל התכונות שמופיעות בתלות. נותר לבדוק אם התלו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 </a:t>
            </a:r>
            <a:r>
              <a:rPr b="0" lang="en-US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נשמר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לפי האלגורית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נתחיל מהקבוצ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נחתוך ע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, 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ונקב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, נסגור ונקב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נחתוך שוב ע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Math C"/>
                <a:ea typeface="Math C"/>
              </a:rPr>
              <a:t>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 B}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, נאחד ע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ונקב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נחתוך ע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, C, D)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Math C"/>
                <a:ea typeface="Math C"/>
              </a:rPr>
              <a:t>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, C}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, נסגור ונקב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,C,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, נחתוך ע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ונישאר ע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, C, 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, נאחד ע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ונקב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B, C, 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4FCD-927A-4308-89CD-909773CD65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דוגמ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נתונה הסכמה (עיר, קידומת, טלפון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והתלויות הפונקציונליות {עיר </a:t>
            </a:r>
            <a:r>
              <a:rPr b="0" lang="he-I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(טלפון, קידומת), קידומת </a:t>
            </a:r>
            <a:r>
              <a:rPr b="0" lang="he-I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עיר}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אותה קידומת יכולה להיות משותפת לכמה ערים, אך לכל עיר יש קידומת אחת בלבד, אותו מספר טלפון יכול להופיע בערים שונות, אך לא בערים עם אותה קידומ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הפרוק {(עיר, קידומת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, (עיר, טלפון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Math A"/>
                <a:ea typeface="Math A"/>
              </a:rPr>
              <a:t>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משמר מידע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2 =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עי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R2 \ R1 =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קידומ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קידומת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עיר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אבל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83D1-8E60-495E-98C8-F4A6DE635F4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דוגמה - המש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הפרוק אינו משמר תלויות, כי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כל אחת מהרלציות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מקיימת את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אבל ה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אינו מקיים את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66680" y="2514600"/>
          <a:ext cx="2438640" cy="15523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טלפו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עי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חיפ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טבעו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4952880" y="2514600"/>
          <a:ext cx="2438640" cy="15523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קידומ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עי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חיפ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טבעו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617040" y="1981080"/>
            <a:ext cx="5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03240" y="1981080"/>
            <a:ext cx="5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4952880"/>
          <a:ext cx="3962520" cy="1552680"/>
        </p:xfrm>
        <a:graphic>
          <a:graphicData uri="http://schemas.openxmlformats.org/drawingml/2006/table">
            <a:tbl>
              <a:tblPr/>
              <a:tblGrid>
                <a:gridCol w="1320840"/>
                <a:gridCol w="1320840"/>
                <a:gridCol w="1320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טלפו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קידומ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עי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חיפ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טבעו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6860-5CD8-475B-9F06-9311C37E99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הערו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כאשר נרצה להוסיף או לשנות מספר טלפון ב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  נצטרך לבדוק גם ב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כדי לוודא שהשינוי הוא חוק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לא די שבאותה עיר לא יהיו שני טלפונים זהים - אסור שיהיו טלפונים זהים גם בערים  שונות באותו אזור חיוג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5880-9686-4E60-84EF-FF04496F61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שימור תלויות - המש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תלות פונקציונלית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נשמרת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בפרוק אם קיימת תת-סכמה שמכילה את כל האטיביוטים המופיעים ב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או אם ניתן להסיק את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מתוך תלויות אחרות שנשמרות בפרו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נגדיר תחילה את ה</a:t>
            </a: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היטל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של קבוצת תלויות על תת-סכמה - התלויות שהן רלבנטיות לתת-הסכמה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E269-F349-4E43-81FA-C40A05C8BD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ההיטל של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הגדרה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: תה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סכמה רלציונית, תה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קבוצת תלויות פונקציונליות מעל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, ותהי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he-IL" sz="3200" spc="-1" strike="noStrike">
                <a:solidFill>
                  <a:srgbClr val="000000"/>
                </a:solidFill>
                <a:latin typeface="Math B"/>
                <a:ea typeface="Math B"/>
              </a:rPr>
              <a:t>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. ההיטל של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על תת-הסכמ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(סימון: </a:t>
            </a:r>
            <a:r>
              <a:rPr b="0" lang="en-US" sz="3200" spc="-1" strike="noStrike">
                <a:solidFill>
                  <a:srgbClr val="000000"/>
                </a:solidFill>
                <a:latin typeface="Math A"/>
                <a:ea typeface="Math A"/>
              </a:rPr>
              <a:t>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) הוא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n-US" sz="3200" spc="-1" strike="noStrike">
                <a:solidFill>
                  <a:srgbClr val="000000"/>
                </a:solidFill>
                <a:latin typeface="Math A"/>
                <a:ea typeface="Math A"/>
              </a:rPr>
              <a:t>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he-IL" sz="3200" spc="-1" strike="noStrike">
                <a:solidFill>
                  <a:srgbClr val="000000"/>
                </a:solidFill>
                <a:latin typeface="Math B"/>
                <a:ea typeface="Math B"/>
              </a:rPr>
              <a:t>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he-IL" sz="3200" spc="-1" strike="noStrike">
                <a:solidFill>
                  <a:srgbClr val="000000"/>
                </a:solidFill>
                <a:latin typeface="Math B"/>
                <a:ea typeface="Math B"/>
              </a:rPr>
              <a:t>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יש לשים לב לכך שהתלויות בהיטל נלקחות מתוך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56B-9FCC-4FEE-B264-F02C5F7D10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הגדר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הגדרה: תה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סכמה רלציונית, תה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קבוצת תלויות פונקציונליות מעל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, ויהי </a:t>
            </a:r>
            <a:r>
              <a:rPr b="0" lang="he-IL" sz="3200" spc="-1" strike="noStrike">
                <a:solidFill>
                  <a:srgbClr val="000000"/>
                </a:solidFill>
                <a:latin typeface="Math A"/>
                <a:ea typeface="Math A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he-IL" sz="3200" spc="-1" strike="noStrike">
                <a:solidFill>
                  <a:srgbClr val="000000"/>
                </a:solidFill>
                <a:latin typeface="Math A"/>
                <a:ea typeface="Math A"/>
              </a:rPr>
              <a:t>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הוא משמר תלויות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cy preser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בהינתן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אם לכל קבוצת רלציות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.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(מעל הסכמות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.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בהתאמה) כך ש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Math B"/>
                <a:ea typeface="Math B"/>
              </a:rPr>
              <a:t>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Math A"/>
                <a:ea typeface="Math A"/>
              </a:rPr>
              <a:t>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לכ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= 1, …, n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מתקי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Math B"/>
                <a:ea typeface="Math B"/>
              </a:rPr>
              <a:t>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=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Math B"/>
                <a:ea typeface="Math B"/>
              </a:rPr>
              <a:t>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C687-BC2A-46A3-9ABB-6CC9DB8E82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</a:rPr>
              <a:t>אלגוריתם לבדיקת שימור תלויו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598400"/>
            <a:ext cx="85312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בהינתן סכמ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, קבוצת תלויות פונקציונליות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ופרו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Math A"/>
                <a:ea typeface="Math A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האלגוריתם הבא בודק אם </a:t>
            </a:r>
            <a:r>
              <a:rPr b="0" lang="he-IL" sz="3200" spc="-1" strike="noStrike">
                <a:solidFill>
                  <a:srgbClr val="000000"/>
                </a:solidFill>
                <a:latin typeface="Math A"/>
                <a:ea typeface="Math A"/>
              </a:rPr>
              <a:t>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 משמר תלויות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f = ( X </a:t>
            </a:r>
            <a:r>
              <a:rPr b="0" lang="en-US" sz="28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) in F do 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th C"/>
                <a:ea typeface="Math C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I = 1 to n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ath C"/>
                <a:ea typeface="Math C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ath B"/>
                <a:ea typeface="Math B"/>
              </a:rPr>
              <a:t>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(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ath B"/>
                <a:ea typeface="Math B"/>
              </a:rPr>
              <a:t>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ath B"/>
                <a:ea typeface="Math B"/>
              </a:rPr>
              <a:t>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no more changes to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th A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Math A"/>
                <a:ea typeface="Math A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dependency-preserving iff Y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each f in 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6835-EAD8-4368-9FB6-DFBDC2F39C3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</a:rPr>
              <a:t>דוגמ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הפרוק {(עיר, קידומת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, (עיר, קידומת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he-IL" sz="3200" spc="-1" strike="noStrike">
                <a:solidFill>
                  <a:srgbClr val="000000"/>
                </a:solidFill>
                <a:latin typeface="Math A"/>
                <a:ea typeface="Math A"/>
              </a:rPr>
              <a:t>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, התלו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עיר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(טלפון, קידומת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 אינה נשמרת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{טלפון, קידומת}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דוגמא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 B, C, D),   F = {A </a:t>
            </a:r>
            <a:r>
              <a:rPr b="0" lang="en-US" sz="28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, AC </a:t>
            </a:r>
            <a:r>
              <a:rPr b="0" lang="en-US" sz="28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, BC </a:t>
            </a:r>
            <a:r>
              <a:rPr b="0" lang="en-US" sz="28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Math A"/>
                <a:ea typeface="Math A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, B)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, C, D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האם הפרוק  משמר תלויות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D417-6EBD-48AE-9480-D0CE2CE1C75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9T20:51:12Z</dcterms:created>
  <dc:creator>ענאן מרעי</dc:creator>
  <dc:description/>
  <dc:language>en-US</dc:language>
  <cp:lastModifiedBy>sananm</cp:lastModifiedBy>
  <dcterms:modified xsi:type="dcterms:W3CDTF">2003-01-02T12:14:23Z</dcterms:modified>
  <cp:revision>9</cp:revision>
  <dc:subject/>
  <dc:title>מצגת של PowerPoint</dc:title>
</cp:coreProperties>
</file>