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717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716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7840" cy="3643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move the slid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body"/>
          </p:nvPr>
        </p:nvSpPr>
        <p:spPr>
          <a:xfrm>
            <a:off x="914400" y="4613400"/>
            <a:ext cx="5029200" cy="43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dt" idx="7"/>
          </p:nvPr>
        </p:nvSpPr>
        <p:spPr>
          <a:xfrm>
            <a:off x="388584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6EB67-390E-44EC-9178-6316816A80B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8"/>
          </p:nvPr>
        </p:nvSpPr>
        <p:spPr>
          <a:xfrm>
            <a:off x="-360" y="922968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9"/>
          </p:nvPr>
        </p:nvSpPr>
        <p:spPr>
          <a:xfrm>
            <a:off x="3885840" y="922968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A3C03-98E6-4A4B-B896-2A1BBC2D43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3885840" y="922968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D7F74-B9BC-4A60-8FF4-08D8062279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-360" y="922968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-36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88584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DC072-BAEE-4101-956E-5F53183B0EA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012680" y="725400"/>
            <a:ext cx="4834080" cy="362592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613400"/>
            <a:ext cx="502920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DA655-AC82-453D-A008-57FE0BF64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3920" y="139680"/>
            <a:ext cx="8680320" cy="1612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12760" y="1907640"/>
            <a:ext cx="8702640" cy="199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12760" y="4095000"/>
            <a:ext cx="8702640" cy="199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FD664-63BF-4AE5-A52B-D1F5F48E2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3920" y="139680"/>
            <a:ext cx="8680320" cy="1612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12760" y="1907640"/>
            <a:ext cx="4246560" cy="199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080" y="1907640"/>
            <a:ext cx="4246560" cy="199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12760" y="4095000"/>
            <a:ext cx="4246560" cy="199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080" y="4095000"/>
            <a:ext cx="4246560" cy="199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A95AC-F9A8-4A8F-AE6E-D27391896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3920" y="139680"/>
            <a:ext cx="8680320" cy="1612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12760" y="1907640"/>
            <a:ext cx="2801880" cy="199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55040" y="1907640"/>
            <a:ext cx="2801880" cy="199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7320" y="1907640"/>
            <a:ext cx="2801880" cy="199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12760" y="4095000"/>
            <a:ext cx="2801880" cy="199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55040" y="4095000"/>
            <a:ext cx="2801880" cy="199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7320" y="4095000"/>
            <a:ext cx="2801880" cy="199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8C795-8CBA-4E52-90D5-F9B044F98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806FB-36AC-47C0-8319-2F7AEA78C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3920" y="139680"/>
            <a:ext cx="8680320" cy="1612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212760" y="1907640"/>
            <a:ext cx="870264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C4E99-6762-4091-A5E1-652276835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3920" y="139680"/>
            <a:ext cx="8680320" cy="1612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12760" y="1907640"/>
            <a:ext cx="8702640" cy="418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0C5DE-E5D2-4745-8187-E91E450FD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3920" y="139680"/>
            <a:ext cx="8680320" cy="1612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12760" y="1907640"/>
            <a:ext cx="4246560" cy="418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2080" y="1907640"/>
            <a:ext cx="4246560" cy="418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49294-7F58-4790-B0FA-573F1BE4E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3920" y="139680"/>
            <a:ext cx="8680320" cy="1612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2B967-F441-49C9-A757-41879DDE9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223920" y="139680"/>
            <a:ext cx="8680320" cy="747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946CA-B4D2-44AF-A296-4591771F6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3920" y="139680"/>
            <a:ext cx="8680320" cy="1612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12760" y="1907640"/>
            <a:ext cx="4246560" cy="199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2080" y="1907640"/>
            <a:ext cx="4246560" cy="418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212760" y="4095000"/>
            <a:ext cx="4246560" cy="199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D6840-EB44-4864-B635-D9F920BC8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3920" y="139680"/>
            <a:ext cx="8680320" cy="1612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12760" y="1907640"/>
            <a:ext cx="870264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6BDC7-B7DC-4360-8B6D-D33E91751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3920" y="139680"/>
            <a:ext cx="8680320" cy="1612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12760" y="1907640"/>
            <a:ext cx="4246560" cy="418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2080" y="1907640"/>
            <a:ext cx="4246560" cy="199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2080" y="4095000"/>
            <a:ext cx="4246560" cy="199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3BAE6-0FBB-4E0B-9C67-0B8FB9FBF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3920" y="139680"/>
            <a:ext cx="8680320" cy="1612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12760" y="1907640"/>
            <a:ext cx="4246560" cy="199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2080" y="1907640"/>
            <a:ext cx="4246560" cy="199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12760" y="4095000"/>
            <a:ext cx="8702640" cy="199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430FB-5582-4325-AFD0-786D84E22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3920" y="139680"/>
            <a:ext cx="8680320" cy="1612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12760" y="1907640"/>
            <a:ext cx="8702640" cy="199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212760" y="4095000"/>
            <a:ext cx="8702640" cy="199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4320C-330B-4ECA-87C4-84D2AF710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3920" y="139680"/>
            <a:ext cx="8680320" cy="1612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12760" y="1907640"/>
            <a:ext cx="4246560" cy="199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2080" y="1907640"/>
            <a:ext cx="4246560" cy="199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12760" y="4095000"/>
            <a:ext cx="4246560" cy="199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2080" y="4095000"/>
            <a:ext cx="4246560" cy="199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9BA82-D4DE-4A81-BB53-BEB1677DC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3920" y="139680"/>
            <a:ext cx="8680320" cy="1612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12760" y="1907640"/>
            <a:ext cx="2801880" cy="199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55040" y="1907640"/>
            <a:ext cx="2801880" cy="199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97320" y="1907640"/>
            <a:ext cx="2801880" cy="199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212760" y="4095000"/>
            <a:ext cx="2801880" cy="199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55040" y="4095000"/>
            <a:ext cx="2801880" cy="199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97320" y="4095000"/>
            <a:ext cx="2801880" cy="199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184E0-96A1-4F3E-B0BD-174E95AEC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3920" y="139680"/>
            <a:ext cx="8680320" cy="1612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12760" y="1907640"/>
            <a:ext cx="8702640" cy="418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CDB33-0E66-4EC3-B6B3-54BA56E9B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3920" y="139680"/>
            <a:ext cx="8680320" cy="1612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12760" y="1907640"/>
            <a:ext cx="4246560" cy="418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080" y="1907640"/>
            <a:ext cx="4246560" cy="418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19E4C-2FDA-4D95-8F2D-46D942BC5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3920" y="139680"/>
            <a:ext cx="8680320" cy="1612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6160A-719F-4FED-A9D8-3BA8AD083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3920" y="139680"/>
            <a:ext cx="8680320" cy="747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DEB74-3F23-4D2D-AED1-3A435C541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3920" y="139680"/>
            <a:ext cx="8680320" cy="1612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12760" y="1907640"/>
            <a:ext cx="4246560" cy="199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080" y="1907640"/>
            <a:ext cx="4246560" cy="418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12760" y="4095000"/>
            <a:ext cx="4246560" cy="199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289C3-BF5F-4027-AFDE-C0ECA7C8E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3920" y="139680"/>
            <a:ext cx="8680320" cy="1612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12760" y="1907640"/>
            <a:ext cx="4246560" cy="418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080" y="1907640"/>
            <a:ext cx="4246560" cy="199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080" y="4095000"/>
            <a:ext cx="4246560" cy="199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F5494-BE34-4364-AB71-9116501C5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3920" y="139680"/>
            <a:ext cx="8680320" cy="1612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12760" y="1907640"/>
            <a:ext cx="4246560" cy="199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080" y="1907640"/>
            <a:ext cx="4246560" cy="199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12760" y="4095000"/>
            <a:ext cx="8702640" cy="199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0FCD0-517A-4D6F-93F5-D01C75BDC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3920" y="139680"/>
            <a:ext cx="8680320" cy="1612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12760" y="1907640"/>
            <a:ext cx="8702640" cy="418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8960" y="63993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9926F-14B7-4105-B7E3-8FFDFB5DC05D}" type="datetime5">
              <a:rPr b="0" lang="en-US" sz="1200" spc="-1" strike="noStrike">
                <a:solidFill>
                  <a:srgbClr val="ff9966"/>
                </a:solidFill>
                <a:latin typeface="Arial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1436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5400" y="63993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095DE-FF9F-4FD9-86BE-A8A09B8B5C49}" type="slidenum">
              <a:rPr b="0" lang="en-US" sz="12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8160" y="6392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E0904-2BC3-4F3D-AE70-4C0828AC3FFC}" type="datetime5">
              <a:rPr b="0" lang="en-US" sz="1400" spc="-1" strike="noStrike">
                <a:solidFill>
                  <a:srgbClr val="ff9966"/>
                </a:solidFill>
                <a:latin typeface="Arial"/>
              </a:rPr>
              <a:t>Jul 31,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14360" y="6392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205400" y="63993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A9D68-3529-40F2-84E0-6CA0F21A748D}" type="slidenum">
              <a:rPr b="0" lang="en-US" sz="12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H="1" flipV="1">
            <a:off x="561960" y="2165400"/>
            <a:ext cx="473040" cy="271296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3920" y="163440"/>
            <a:ext cx="8680320" cy="7826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0000"/>
                </a:solidFill>
                <a:latin typeface="Arial Narrow"/>
              </a:rPr>
              <a:t>Platelet Model (‘busy’ CA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689040" y="2133720"/>
            <a:ext cx="8072280" cy="1525320"/>
            <a:chOff x="689040" y="2133720"/>
            <a:chExt cx="8072280" cy="1525320"/>
          </a:xfrm>
        </p:grpSpPr>
        <p:grpSp>
          <p:nvGrpSpPr>
            <p:cNvPr id="91" name=""/>
            <p:cNvGrpSpPr/>
            <p:nvPr/>
          </p:nvGrpSpPr>
          <p:grpSpPr>
            <a:xfrm>
              <a:off x="689040" y="2133720"/>
              <a:ext cx="7678800" cy="1360440"/>
              <a:chOff x="689040" y="2133720"/>
              <a:chExt cx="7678800" cy="1360440"/>
            </a:xfrm>
          </p:grpSpPr>
          <p:sp>
            <p:nvSpPr>
              <p:cNvPr id="92" name=""/>
              <p:cNvSpPr/>
              <p:nvPr/>
            </p:nvSpPr>
            <p:spPr>
              <a:xfrm flipH="1">
                <a:off x="7207200" y="2133720"/>
                <a:ext cx="1160640" cy="1360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689040" y="2133720"/>
                <a:ext cx="1195200" cy="1360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2989440" y="2151000"/>
                <a:ext cx="0" cy="134316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37080" y="2151000"/>
                <a:ext cx="0" cy="134316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6095880" y="2151000"/>
                <a:ext cx="0" cy="134316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grpSp>
          <p:nvGrpSpPr>
            <p:cNvPr id="97" name=""/>
            <p:cNvGrpSpPr/>
            <p:nvPr/>
          </p:nvGrpSpPr>
          <p:grpSpPr>
            <a:xfrm>
              <a:off x="1219320" y="3319560"/>
              <a:ext cx="7542000" cy="339480"/>
              <a:chOff x="1219320" y="3319560"/>
              <a:chExt cx="7542000" cy="33948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219320" y="3328920"/>
                <a:ext cx="6869160" cy="330120"/>
                <a:chOff x="1219320" y="3328920"/>
                <a:chExt cx="6869160" cy="33012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219320" y="3493800"/>
                  <a:ext cx="6843960" cy="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8088480" y="3328920"/>
                  <a:ext cx="0" cy="33012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>
                  <a:off x="1219320" y="3328920"/>
                  <a:ext cx="0" cy="33012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2" name=""/>
              <p:cNvSpPr/>
              <p:nvPr/>
            </p:nvSpPr>
            <p:spPr>
              <a:xfrm>
                <a:off x="8101080" y="3319560"/>
                <a:ext cx="66024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ff0000"/>
                    </a:solidFill>
                    <a:latin typeface="Arial"/>
                  </a:rPr>
                  <a:t>draw</a:t>
                </a:r>
                <a:endParaRPr b="0" lang="en-US" sz="16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3" name=""/>
          <p:cNvGrpSpPr/>
          <p:nvPr/>
        </p:nvGrpSpPr>
        <p:grpSpPr>
          <a:xfrm>
            <a:off x="7542360" y="1611360"/>
            <a:ext cx="1187280" cy="522360"/>
            <a:chOff x="7542360" y="1611360"/>
            <a:chExt cx="1187280" cy="522360"/>
          </a:xfrm>
        </p:grpSpPr>
        <p:grpSp>
          <p:nvGrpSpPr>
            <p:cNvPr id="104" name=""/>
            <p:cNvGrpSpPr/>
            <p:nvPr/>
          </p:nvGrpSpPr>
          <p:grpSpPr>
            <a:xfrm>
              <a:off x="7961400" y="1611360"/>
              <a:ext cx="768240" cy="522360"/>
              <a:chOff x="7961400" y="1611360"/>
              <a:chExt cx="768240" cy="522360"/>
            </a:xfrm>
          </p:grpSpPr>
          <p:sp>
            <p:nvSpPr>
              <p:cNvPr id="105" name=""/>
              <p:cNvSpPr/>
              <p:nvPr/>
            </p:nvSpPr>
            <p:spPr>
              <a:xfrm>
                <a:off x="7961400" y="1611360"/>
                <a:ext cx="768240" cy="5223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1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7967880" y="1703520"/>
                <a:ext cx="75708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10000"/>
                    </a:solidFill>
                    <a:latin typeface="Arial"/>
                  </a:rPr>
                  <a:t>hole</a:t>
                </a:r>
                <a:endParaRPr b="0" lang="en-US" sz="16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7542360" y="1797120"/>
              <a:ext cx="432720" cy="152280"/>
              <a:chOff x="7542360" y="1797120"/>
              <a:chExt cx="432720" cy="152280"/>
            </a:xfrm>
          </p:grpSpPr>
          <p:sp>
            <p:nvSpPr>
              <p:cNvPr id="108" name=""/>
              <p:cNvSpPr/>
              <p:nvPr/>
            </p:nvSpPr>
            <p:spPr>
              <a:xfrm>
                <a:off x="7550280" y="1797120"/>
                <a:ext cx="424800" cy="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542360" y="1949400"/>
                <a:ext cx="409320" cy="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0" name=""/>
          <p:cNvGrpSpPr/>
          <p:nvPr/>
        </p:nvGrpSpPr>
        <p:grpSpPr>
          <a:xfrm>
            <a:off x="271440" y="1628640"/>
            <a:ext cx="1204920" cy="522360"/>
            <a:chOff x="271440" y="1628640"/>
            <a:chExt cx="1204920" cy="522360"/>
          </a:xfrm>
        </p:grpSpPr>
        <p:grpSp>
          <p:nvGrpSpPr>
            <p:cNvPr id="111" name=""/>
            <p:cNvGrpSpPr/>
            <p:nvPr/>
          </p:nvGrpSpPr>
          <p:grpSpPr>
            <a:xfrm>
              <a:off x="271440" y="1628640"/>
              <a:ext cx="768240" cy="522360"/>
              <a:chOff x="271440" y="1628640"/>
              <a:chExt cx="768240" cy="522360"/>
            </a:xfrm>
          </p:grpSpPr>
          <p:sp>
            <p:nvSpPr>
              <p:cNvPr id="112" name=""/>
              <p:cNvSpPr/>
              <p:nvPr/>
            </p:nvSpPr>
            <p:spPr>
              <a:xfrm>
                <a:off x="271440" y="1628640"/>
                <a:ext cx="768240" cy="5223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1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77920" y="1720800"/>
                <a:ext cx="75708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10000"/>
                    </a:solidFill>
                    <a:latin typeface="Arial"/>
                  </a:rPr>
                  <a:t>gen</a:t>
                </a:r>
                <a:endParaRPr b="0" lang="en-US" sz="16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grpSp>
          <p:nvGrpSpPr>
            <p:cNvPr id="114" name=""/>
            <p:cNvGrpSpPr/>
            <p:nvPr/>
          </p:nvGrpSpPr>
          <p:grpSpPr>
            <a:xfrm>
              <a:off x="1042920" y="1797120"/>
              <a:ext cx="433440" cy="152280"/>
              <a:chOff x="1042920" y="1797120"/>
              <a:chExt cx="433440" cy="152280"/>
            </a:xfrm>
          </p:grpSpPr>
          <p:sp>
            <p:nvSpPr>
              <p:cNvPr id="115" name=""/>
              <p:cNvSpPr/>
              <p:nvPr/>
            </p:nvSpPr>
            <p:spPr>
              <a:xfrm>
                <a:off x="1051200" y="1797120"/>
                <a:ext cx="425160" cy="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042920" y="1949400"/>
                <a:ext cx="409680" cy="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7" name=""/>
          <p:cNvGrpSpPr/>
          <p:nvPr/>
        </p:nvGrpSpPr>
        <p:grpSpPr>
          <a:xfrm>
            <a:off x="1432080" y="1447920"/>
            <a:ext cx="6181560" cy="823680"/>
            <a:chOff x="1432080" y="1447920"/>
            <a:chExt cx="6181560" cy="823680"/>
          </a:xfrm>
        </p:grpSpPr>
        <p:grpSp>
          <p:nvGrpSpPr>
            <p:cNvPr id="118" name=""/>
            <p:cNvGrpSpPr/>
            <p:nvPr/>
          </p:nvGrpSpPr>
          <p:grpSpPr>
            <a:xfrm>
              <a:off x="3368520" y="1797120"/>
              <a:ext cx="801720" cy="152280"/>
              <a:chOff x="3368520" y="1797120"/>
              <a:chExt cx="801720" cy="152280"/>
            </a:xfrm>
          </p:grpSpPr>
          <p:sp>
            <p:nvSpPr>
              <p:cNvPr id="119" name=""/>
              <p:cNvSpPr/>
              <p:nvPr/>
            </p:nvSpPr>
            <p:spPr>
              <a:xfrm>
                <a:off x="3382920" y="1797120"/>
                <a:ext cx="787320" cy="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3368520" y="1949400"/>
                <a:ext cx="785880" cy="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121" name=""/>
            <p:cNvSpPr/>
            <p:nvPr/>
          </p:nvSpPr>
          <p:spPr>
            <a:xfrm>
              <a:off x="6837480" y="1447920"/>
              <a:ext cx="776160" cy="82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800" spc="-1" strike="noStrike">
                  <a:solidFill>
                    <a:srgbClr val="010000"/>
                  </a:solidFill>
                  <a:latin typeface="Arial"/>
                  <a:ea typeface="Arial"/>
                </a:rPr>
                <a:t>∙∙∙</a:t>
              </a:r>
              <a:endParaRPr b="0" lang="en-US" sz="48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grpSp>
          <p:nvGrpSpPr>
            <p:cNvPr id="122" name=""/>
            <p:cNvGrpSpPr/>
            <p:nvPr/>
          </p:nvGrpSpPr>
          <p:grpSpPr>
            <a:xfrm>
              <a:off x="2603520" y="1611360"/>
              <a:ext cx="768240" cy="522360"/>
              <a:chOff x="2603520" y="1611360"/>
              <a:chExt cx="768240" cy="522360"/>
            </a:xfrm>
          </p:grpSpPr>
          <p:sp>
            <p:nvSpPr>
              <p:cNvPr id="123" name=""/>
              <p:cNvSpPr/>
              <p:nvPr/>
            </p:nvSpPr>
            <p:spPr>
              <a:xfrm>
                <a:off x="2603520" y="1611360"/>
                <a:ext cx="768240" cy="5223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1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610000" y="1703520"/>
                <a:ext cx="75708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10000"/>
                    </a:solidFill>
                    <a:latin typeface="Arial"/>
                  </a:rPr>
                  <a:t>cell</a:t>
                </a:r>
                <a:endParaRPr b="0" lang="en-US" sz="16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grpSp>
          <p:nvGrpSpPr>
            <p:cNvPr id="125" name=""/>
            <p:cNvGrpSpPr/>
            <p:nvPr/>
          </p:nvGrpSpPr>
          <p:grpSpPr>
            <a:xfrm>
              <a:off x="4156200" y="1611360"/>
              <a:ext cx="768240" cy="522360"/>
              <a:chOff x="4156200" y="1611360"/>
              <a:chExt cx="768240" cy="522360"/>
            </a:xfrm>
          </p:grpSpPr>
          <p:sp>
            <p:nvSpPr>
              <p:cNvPr id="126" name=""/>
              <p:cNvSpPr/>
              <p:nvPr/>
            </p:nvSpPr>
            <p:spPr>
              <a:xfrm>
                <a:off x="4156200" y="1611360"/>
                <a:ext cx="768240" cy="5223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1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4162680" y="1703520"/>
                <a:ext cx="75708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10000"/>
                    </a:solidFill>
                    <a:latin typeface="Arial"/>
                  </a:rPr>
                  <a:t>cell</a:t>
                </a:r>
                <a:endParaRPr b="0" lang="en-US" sz="16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5710320" y="1611360"/>
              <a:ext cx="768240" cy="522360"/>
              <a:chOff x="5710320" y="1611360"/>
              <a:chExt cx="768240" cy="522360"/>
            </a:xfrm>
          </p:grpSpPr>
          <p:sp>
            <p:nvSpPr>
              <p:cNvPr id="129" name=""/>
              <p:cNvSpPr/>
              <p:nvPr/>
            </p:nvSpPr>
            <p:spPr>
              <a:xfrm>
                <a:off x="5710320" y="1611360"/>
                <a:ext cx="768240" cy="5223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1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5716800" y="1703520"/>
                <a:ext cx="75708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10000"/>
                    </a:solidFill>
                    <a:latin typeface="Arial"/>
                  </a:rPr>
                  <a:t>cell</a:t>
                </a:r>
                <a:endParaRPr b="0" lang="en-US" sz="16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131" name=""/>
            <p:cNvSpPr/>
            <p:nvPr/>
          </p:nvSpPr>
          <p:spPr>
            <a:xfrm>
              <a:off x="1432080" y="1447920"/>
              <a:ext cx="776160" cy="82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800" spc="-1" strike="noStrike">
                  <a:solidFill>
                    <a:srgbClr val="010000"/>
                  </a:solidFill>
                  <a:latin typeface="Arial"/>
                  <a:ea typeface="Arial"/>
                </a:rPr>
                <a:t>∙∙∙</a:t>
              </a:r>
              <a:endParaRPr b="0" lang="en-US" sz="48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grpSp>
          <p:nvGrpSpPr>
            <p:cNvPr id="132" name=""/>
            <p:cNvGrpSpPr/>
            <p:nvPr/>
          </p:nvGrpSpPr>
          <p:grpSpPr>
            <a:xfrm>
              <a:off x="4924440" y="1797120"/>
              <a:ext cx="801720" cy="152280"/>
              <a:chOff x="4924440" y="1797120"/>
              <a:chExt cx="801720" cy="152280"/>
            </a:xfrm>
          </p:grpSpPr>
          <p:sp>
            <p:nvSpPr>
              <p:cNvPr id="133" name=""/>
              <p:cNvSpPr/>
              <p:nvPr/>
            </p:nvSpPr>
            <p:spPr>
              <a:xfrm>
                <a:off x="4938840" y="1797120"/>
                <a:ext cx="787320" cy="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924440" y="1949400"/>
                <a:ext cx="785880" cy="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grpSp>
          <p:nvGrpSpPr>
            <p:cNvPr id="135" name=""/>
            <p:cNvGrpSpPr/>
            <p:nvPr/>
          </p:nvGrpSpPr>
          <p:grpSpPr>
            <a:xfrm>
              <a:off x="2184480" y="1797120"/>
              <a:ext cx="433440" cy="152280"/>
              <a:chOff x="2184480" y="1797120"/>
              <a:chExt cx="433440" cy="152280"/>
            </a:xfrm>
          </p:grpSpPr>
          <p:sp>
            <p:nvSpPr>
              <p:cNvPr id="136" name=""/>
              <p:cNvSpPr/>
              <p:nvPr/>
            </p:nvSpPr>
            <p:spPr>
              <a:xfrm>
                <a:off x="2192760" y="1797120"/>
                <a:ext cx="425160" cy="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2184480" y="1949400"/>
                <a:ext cx="409680" cy="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grpSp>
          <p:nvGrpSpPr>
            <p:cNvPr id="138" name=""/>
            <p:cNvGrpSpPr/>
            <p:nvPr/>
          </p:nvGrpSpPr>
          <p:grpSpPr>
            <a:xfrm>
              <a:off x="6499080" y="1797120"/>
              <a:ext cx="433440" cy="152280"/>
              <a:chOff x="6499080" y="1797120"/>
              <a:chExt cx="433440" cy="152280"/>
            </a:xfrm>
          </p:grpSpPr>
          <p:sp>
            <p:nvSpPr>
              <p:cNvPr id="139" name=""/>
              <p:cNvSpPr/>
              <p:nvPr/>
            </p:nvSpPr>
            <p:spPr>
              <a:xfrm>
                <a:off x="6507360" y="1797120"/>
                <a:ext cx="425160" cy="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6499080" y="1949400"/>
                <a:ext cx="409680" cy="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1" name=""/>
          <p:cNvSpPr/>
          <p:nvPr/>
        </p:nvSpPr>
        <p:spPr>
          <a:xfrm>
            <a:off x="4535640" y="3494160"/>
            <a:ext cx="0" cy="13428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879560" y="5056200"/>
            <a:ext cx="1868400" cy="2376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21960" bIns="-2196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3754440" y="4818240"/>
            <a:ext cx="3405240" cy="573840"/>
            <a:chOff x="3754440" y="4818240"/>
            <a:chExt cx="3405240" cy="573840"/>
          </a:xfrm>
        </p:grpSpPr>
        <p:grpSp>
          <p:nvGrpSpPr>
            <p:cNvPr id="144" name=""/>
            <p:cNvGrpSpPr/>
            <p:nvPr/>
          </p:nvGrpSpPr>
          <p:grpSpPr>
            <a:xfrm>
              <a:off x="5284800" y="5056200"/>
              <a:ext cx="1874880" cy="335880"/>
              <a:chOff x="5284800" y="5056200"/>
              <a:chExt cx="1874880" cy="335880"/>
            </a:xfrm>
          </p:grpSpPr>
          <p:sp>
            <p:nvSpPr>
              <p:cNvPr id="145" name=""/>
              <p:cNvSpPr/>
              <p:nvPr/>
            </p:nvSpPr>
            <p:spPr>
              <a:xfrm>
                <a:off x="5284800" y="5079960"/>
                <a:ext cx="1874880" cy="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5837400" y="5056200"/>
                <a:ext cx="99216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ff"/>
                    </a:solidFill>
                    <a:latin typeface="Arial"/>
                  </a:rPr>
                  <a:t>screen</a:t>
                </a:r>
                <a:endParaRPr b="0" lang="en-US" sz="16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grpSp>
          <p:nvGrpSpPr>
            <p:cNvPr id="147" name=""/>
            <p:cNvGrpSpPr/>
            <p:nvPr/>
          </p:nvGrpSpPr>
          <p:grpSpPr>
            <a:xfrm>
              <a:off x="3754440" y="4818240"/>
              <a:ext cx="1574640" cy="522000"/>
              <a:chOff x="3754440" y="4818240"/>
              <a:chExt cx="1574640" cy="522000"/>
            </a:xfrm>
          </p:grpSpPr>
          <p:sp>
            <p:nvSpPr>
              <p:cNvPr id="148" name=""/>
              <p:cNvSpPr/>
              <p:nvPr/>
            </p:nvSpPr>
            <p:spPr>
              <a:xfrm>
                <a:off x="3754440" y="4818240"/>
                <a:ext cx="1574640" cy="5220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1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968280" y="4910040"/>
                <a:ext cx="114588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10000"/>
                    </a:solidFill>
                    <a:latin typeface="Arial"/>
                  </a:rPr>
                  <a:t>display</a:t>
                </a:r>
                <a:endParaRPr b="0" lang="en-US" sz="16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0" name=""/>
          <p:cNvGrpSpPr/>
          <p:nvPr/>
        </p:nvGrpSpPr>
        <p:grpSpPr>
          <a:xfrm>
            <a:off x="304920" y="4786200"/>
            <a:ext cx="1958400" cy="1436760"/>
            <a:chOff x="304920" y="4786200"/>
            <a:chExt cx="1958400" cy="1436760"/>
          </a:xfrm>
        </p:grpSpPr>
        <p:sp>
          <p:nvSpPr>
            <p:cNvPr id="151" name=""/>
            <p:cNvSpPr/>
            <p:nvPr/>
          </p:nvSpPr>
          <p:spPr>
            <a:xfrm>
              <a:off x="1066680" y="5308560"/>
              <a:ext cx="0" cy="91440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969840" y="5637240"/>
              <a:ext cx="12934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ff"/>
                  </a:solidFill>
                  <a:latin typeface="Arial"/>
                </a:rPr>
                <a:t>keyboard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grpSp>
          <p:nvGrpSpPr>
            <p:cNvPr id="153" name=""/>
            <p:cNvGrpSpPr/>
            <p:nvPr/>
          </p:nvGrpSpPr>
          <p:grpSpPr>
            <a:xfrm>
              <a:off x="304920" y="4786200"/>
              <a:ext cx="1574640" cy="522360"/>
              <a:chOff x="304920" y="4786200"/>
              <a:chExt cx="1574640" cy="522360"/>
            </a:xfrm>
          </p:grpSpPr>
          <p:sp>
            <p:nvSpPr>
              <p:cNvPr id="154" name=""/>
              <p:cNvSpPr/>
              <p:nvPr/>
            </p:nvSpPr>
            <p:spPr>
              <a:xfrm>
                <a:off x="304920" y="4786200"/>
                <a:ext cx="1574640" cy="5223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1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518760" y="4878360"/>
                <a:ext cx="114588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10000"/>
                    </a:solidFill>
                    <a:latin typeface="Arial"/>
                  </a:rPr>
                  <a:t>keywatch</a:t>
                </a:r>
                <a:endParaRPr b="0" lang="en-US" sz="16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P.H.Wel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F75A8-E0FE-42A1-B52E-314193761331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88BE6C-C135-4D4A-B49F-7FB8C114CC02}" type="datetime5">
              <a:rPr lang="en-US"/>
              <a:t>Jul 31, 2026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3T12:36:37Z</dcterms:created>
  <dc:creator>Peter Welch</dc:creator>
  <dc:description/>
  <dc:language>en-US</dc:language>
  <cp:lastModifiedBy>Christian Günther</cp:lastModifiedBy>
  <cp:lastPrinted>2000-05-05T18:16:33Z</cp:lastPrinted>
  <dcterms:modified xsi:type="dcterms:W3CDTF">2005-11-01T18:46:20Z</dcterms:modified>
  <cp:revision>1318</cp:revision>
  <dc:subject/>
  <dc:title>Mobile Data Types for Communicating Processes</dc:title>
</cp:coreProperties>
</file>