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1B1-F902-4CFD-9BDC-6D513DBB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6850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3640" y="3631680"/>
            <a:ext cx="6850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ECC-36F0-44B8-A2B4-6184BD78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63640" y="36316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3640" y="36316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532-0594-4BA1-8269-2CCF8967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79520" y="12682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5760" y="12682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63640" y="36316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79520" y="36316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5760" y="36316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7D2-7CAD-4730-BEE8-3EA35045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63640" y="1268280"/>
            <a:ext cx="6850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74B-8698-4708-92C3-89ED2880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6850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83A-2DE3-4FAA-8A5C-0A6F5435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3342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3640" y="1268280"/>
            <a:ext cx="3342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B13-1D99-4F2B-89C7-882B80DA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2B5-19BC-4638-AE1C-12931555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580000" y="274680"/>
            <a:ext cx="31053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09C-BB32-4239-8441-9C1B40EE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3640" y="1268280"/>
            <a:ext cx="3342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63640" y="36316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D4C-EFD0-46EC-85C7-5B32457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3342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3640" y="36316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01D-5903-4C54-AF24-0F5F76B6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63640" y="3631680"/>
            <a:ext cx="6850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F1D-02D4-4525-8D1B-5F2D54EA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640" y="1268280"/>
            <a:ext cx="6850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0DF117-72BA-4B91-A7A4-6E9573C181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68280"/>
            <a:ext cx="9144000" cy="4176720"/>
          </a:xfrm>
          <a:prstGeom prst="rect">
            <a:avLst/>
          </a:prstGeom>
          <a:solidFill>
            <a:srgbClr val="909bd4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445000"/>
            <a:ext cx="9144000" cy="1413000"/>
          </a:xfrm>
          <a:prstGeom prst="rect">
            <a:avLst/>
          </a:prstGeom>
          <a:solidFill>
            <a:srgbClr val="354389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16280" y="1235160"/>
            <a:ext cx="6851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Porteur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Opportunité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Notre équip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e palmarè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Palmarès en solitair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Fiche techniqu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Coût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Support  publicitair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63280" y="1268280"/>
            <a:ext cx="68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Pourquoi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cc9900"/>
                </a:solidFill>
                <a:latin typeface="Arial"/>
              </a:rPr>
              <a:t>Blabla marketing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Communiquer avec un moyen visuel fort vos valeurs, votre image et vos produits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e support proposé véhicule une image attractive et positiv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a voile connaît un engouement médiatique très important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63280" y="1268280"/>
            <a:ext cx="6851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Vecteurs / Porteurs de l’actualité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a voile Suisse obtient des résultats magnifiqu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es frères Bourgno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es frères Ravussi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Et l’équipe Alinghi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Grâce à ces succès, la voile devient un média irremplaçabl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5280" y="177336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a population suit avec de plus en plus d’intérêt les régates international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Aventure incroyable: de minuscules bateaux face à l’immense océa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Petits bateaux, grandes surfaces marketing très visibl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re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63280" y="1268280"/>
            <a:ext cx="68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Jean-Jacques Cunier, un solitaire né qui réalise son rêve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Excellents résultats sur les lacs et en mer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René Bach, équipier, soutien et l’intellectuel de l’équipe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Thomas Schweizer, Alain Grosvernier,</a:t>
            </a: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Une équipe ayant effectué des 10’000 de milles en mer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Une expérience à votre disposition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palm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63280" y="1268280"/>
            <a:ext cx="68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Jean-Jacques Cunier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mares en sol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280" y="1267920"/>
            <a:ext cx="6851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7200" y="-36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874800"/>
            <a:ext cx="4319280" cy="46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oûts 2006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Bateau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50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Remorque 6.50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5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Remorque ann.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8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Bat. assistance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5’000</a:t>
            </a:r>
            <a:br>
              <a:rPr sz="2000"/>
            </a:b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Moteur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0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Voiles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30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Assurances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0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Déplacements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8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Hébergements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300fr/jour</a:t>
            </a:r>
            <a:br>
              <a:rPr sz="2000"/>
            </a:br>
            <a:r>
              <a:rPr b="0" lang="en-GB" sz="1800" spc="-1" strike="noStrike">
                <a:solidFill>
                  <a:srgbClr val="cc9900"/>
                </a:solidFill>
                <a:latin typeface="Arial"/>
              </a:rPr>
              <a:t>(3-4 pers)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874800"/>
            <a:ext cx="388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oûts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Voiles</a:t>
            </a:r>
            <a:br>
              <a:rPr sz="2000"/>
            </a:b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30’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Assurances</a:t>
            </a:r>
            <a:br>
              <a:rPr sz="2000"/>
            </a:b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0’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Déplacements</a:t>
            </a:r>
            <a:br>
              <a:rPr sz="2000"/>
            </a:b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0’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Héber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Total 185’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ch René GSEFD</dc:creator>
  <dc:description/>
  <dc:language>en-US</dc:language>
  <cp:lastModifiedBy>Bach René GSEFD</cp:lastModifiedBy>
  <cp:revision>0</cp:revision>
  <dc:subject/>
  <dc:title>Slide 1</dc:title>
</cp:coreProperties>
</file>