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2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78845-6648-4971-A13F-C026C4FC9F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F1EF5F-EE75-4BB8-9538-CCF6C96B9A2D}" type="slidenum">
              <a:rPr b="1" lang="en-US" sz="10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4FFE-6F24-4835-8224-21A22435EB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376200"/>
            <a:ext cx="8244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2840" y="1382400"/>
            <a:ext cx="380988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72840" y="3420000"/>
            <a:ext cx="380988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76AE-01D0-467F-BB28-65052677F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376200"/>
            <a:ext cx="8244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2840" y="1382400"/>
            <a:ext cx="185904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625120" y="1382400"/>
            <a:ext cx="185904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2840" y="3420000"/>
            <a:ext cx="185904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625120" y="3420000"/>
            <a:ext cx="185904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A3ED-238A-49FE-ADB4-71C3FA050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376200"/>
            <a:ext cx="8244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2840" y="1382400"/>
            <a:ext cx="122652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960920" y="1382400"/>
            <a:ext cx="122652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249360" y="1382400"/>
            <a:ext cx="122652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72840" y="3420000"/>
            <a:ext cx="122652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1960920" y="3420000"/>
            <a:ext cx="122652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3249360" y="3420000"/>
            <a:ext cx="122652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A8025-40C3-4DBE-840E-62546D6BB1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376200"/>
            <a:ext cx="8244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72840" y="1382400"/>
            <a:ext cx="38098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3F389-AE75-4130-8AF7-D2EC346F52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376200"/>
            <a:ext cx="8244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2840" y="1382400"/>
            <a:ext cx="380988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1CAA0-4A5C-44A6-90BA-16067395B6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376200"/>
            <a:ext cx="8244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72840" y="1382400"/>
            <a:ext cx="185904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625120" y="1382400"/>
            <a:ext cx="185904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B1A3C-9831-491E-9285-3A0BFF67E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76200"/>
            <a:ext cx="8244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F0148-B63E-4C40-83DB-50047F566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376200"/>
            <a:ext cx="8244000" cy="23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186F7-A3C0-4952-942D-C25E1B1F6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376200"/>
            <a:ext cx="8244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2840" y="1382400"/>
            <a:ext cx="185904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25120" y="1382400"/>
            <a:ext cx="185904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2840" y="3420000"/>
            <a:ext cx="185904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26FAC-415C-475F-A20C-6E78DA4BA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376200"/>
            <a:ext cx="8244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2840" y="1382400"/>
            <a:ext cx="185904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25120" y="1382400"/>
            <a:ext cx="185904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25120" y="3420000"/>
            <a:ext cx="185904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B7257-F73E-450A-AEB2-C35C2419D5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376200"/>
            <a:ext cx="8244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2840" y="1382400"/>
            <a:ext cx="185904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25120" y="1382400"/>
            <a:ext cx="185904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2840" y="3420000"/>
            <a:ext cx="380988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71D3F-59A2-4B9C-955F-AC621951B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618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3618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6400800"/>
            <a:ext cx="9145440" cy="15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376200"/>
            <a:ext cx="8244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72840" y="1382400"/>
            <a:ext cx="380988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37160" y="1382760"/>
            <a:ext cx="381168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Eigh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00"/>
              </a:spcBef>
              <a:spcAft>
                <a:spcPts val="425"/>
              </a:spcAft>
              <a:buClr>
                <a:srgbClr val="000066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nth Outline Level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Bef>
                <a:spcPts val="601"/>
              </a:spcBef>
              <a:spcAft>
                <a:spcPts val="363"/>
              </a:spcAft>
              <a:buClr>
                <a:srgbClr val="000066"/>
              </a:buClr>
              <a:buSzPct val="75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45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0880"/>
            <a:ext cx="68256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745EFB6-10BE-4F70-ABA6-5C2548E115EC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19320" y="6500880"/>
            <a:ext cx="40399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456160" y="6500880"/>
            <a:ext cx="17067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4080" y="6500880"/>
            <a:ext cx="6840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5EF0580-B6AA-4289-8045-73297FDB8633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4544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