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0DC1-A449-4388-B0A4-9928D8EFB95C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8CA0-058F-44EF-8595-CF79121BC78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FD8-683B-444B-BC90-ACC534E0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296-FC7E-4FBA-9D98-906992C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372-588E-4847-B2B2-EC0F95A2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C03-55FF-4D6A-94AA-FA3B8AE0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08B-113D-40C6-BA8F-5A80DB6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86E-1DCB-4015-A047-0AA55B5E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D64-F82E-4986-81B1-76E181E3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3AB-2D4B-426A-BEEA-F5355F3D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F55-3B85-4C22-8D48-3E8BADE5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290-4D01-4E2F-A46F-285C224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618-4B69-46FE-8A31-EB5F8AE0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4DB-6694-4159-A75E-E0D0A505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0425-4BCB-4E6E-8029-8F8B08090ADB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ightTriangleTopUp"/>
          <p:cNvSpPr/>
          <p:nvPr/>
        </p:nvSpPr>
        <p:spPr>
          <a:xfrm>
            <a:off x="1461960" y="1990800"/>
            <a:ext cx="3578400" cy="17892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0" y="10800"/>
                </a:moveTo>
                <a:lnTo>
                  <a:pt x="2805" y="3539"/>
                </a:lnTo>
                <a:lnTo>
                  <a:pt x="216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e6e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1:21:37Z</dcterms:created>
  <dc:creator>Regina Henschel</dc:creator>
  <dc:description/>
  <dc:language>en-US</dc:language>
  <cp:lastModifiedBy>Regina</cp:lastModifiedBy>
  <dcterms:modified xsi:type="dcterms:W3CDTF">2013-01-08T13:09:49Z</dcterms:modified>
  <cp:revision>4</cp:revision>
  <dc:subject/>
  <dc:title>PowerPoint Presentation</dc:title>
</cp:coreProperties>
</file>