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99120" cy="927108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11">
                <a:moveTo>
                  <a:pt x="4" y="0"/>
                </a:moveTo>
                <a:arcTo wR="4" hR="4" stAng="16200000" swAng="-5400000"/>
                <a:lnTo>
                  <a:pt x="0" y="28607"/>
                </a:lnTo>
                <a:arcTo wR="4" hR="4" stAng="10800000" swAng="-5400000"/>
                <a:lnTo>
                  <a:pt x="21596" y="286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3960" y="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34920" y="4403880"/>
            <a:ext cx="5127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8913960"/>
            <a:ext cx="3033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E161-45D0-4F09-81DF-FB42C67CF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81880" y="704520"/>
            <a:ext cx="4634280" cy="34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920" y="4403880"/>
            <a:ext cx="5127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GPS satellites are very complicated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OS model is particularly useful in the case where a single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sm is the dominant source of signal anom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adopted by ICAO as a broad description of what might plausi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wrong on a satellite. See discussion in Phelts’ dissertation, pp. 41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complex systems, involving an arbitrary number of poles and zero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considered and rejected for reasons of physical plausibility. So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yielded non-causal step respons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XXX Check with Prof. Enge for how to best word this explanation. 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160" y="662940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66D7-D8C6-4215-A473-612E45B617B4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12680" y="125280"/>
            <a:ext cx="878040" cy="8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+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876920" y="4424400"/>
            <a:ext cx="41148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 marL="262440" indent="-2624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capsulates essential pathologies hypothesized for SV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600" indent="-218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de-to-side a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600" indent="-218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se pea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600" indent="-218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at 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stent with empirical evidence (ringing, edge 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nded and physically realiz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371600"/>
            <a:ext cx="3809880" cy="28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52560" y="1581120"/>
            <a:ext cx="294300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1581120"/>
            <a:ext cx="2943000" cy="2297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52560" y="1581120"/>
            <a:ext cx="144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2880" y="1581120"/>
            <a:ext cx="180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33560" y="1581120"/>
            <a:ext cx="36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1581120"/>
            <a:ext cx="144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4560" y="1581120"/>
            <a:ext cx="180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05240" y="1581120"/>
            <a:ext cx="144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95560" y="1581120"/>
            <a:ext cx="36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52560" y="377496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3564000"/>
            <a:ext cx="2943000" cy="144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52560" y="3354480"/>
            <a:ext cx="2943000" cy="36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52560" y="314784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2936880"/>
            <a:ext cx="2943000" cy="36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52560" y="273204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2522520"/>
            <a:ext cx="2943000" cy="36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2560" y="2311560"/>
            <a:ext cx="2943000" cy="144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10492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189540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1684440"/>
            <a:ext cx="2943000" cy="144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52560" y="1581120"/>
            <a:ext cx="2943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3878280"/>
            <a:ext cx="2943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95560" y="1580760"/>
            <a:ext cx="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52560" y="1580760"/>
            <a:ext cx="144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52560" y="3878280"/>
            <a:ext cx="2943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52560" y="1580760"/>
            <a:ext cx="144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52560" y="384804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52560" y="15811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5364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42880" y="384804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2880" y="15811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288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33560" y="3848040"/>
            <a:ext cx="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3560" y="1581120"/>
            <a:ext cx="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500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424240" y="384804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24240" y="15811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2388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914560" y="384804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14560" y="15811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00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05240" y="384804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05240" y="15811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0488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895560" y="3848040"/>
            <a:ext cx="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95560" y="1581120"/>
            <a:ext cx="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9376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2560" y="377496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65320" y="377496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160" y="3740040"/>
            <a:ext cx="13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52560" y="356400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865320" y="356400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4960" y="352116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33544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65320" y="3354480"/>
            <a:ext cx="29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9160" y="3314880"/>
            <a:ext cx="13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52560" y="314784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65320" y="314784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94960" y="311004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2560" y="29368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65320" y="2936880"/>
            <a:ext cx="29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160" y="2898720"/>
            <a:ext cx="13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2560" y="273204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65320" y="273204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2600" y="2693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52560" y="252252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865320" y="2522520"/>
            <a:ext cx="29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6800" y="24811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2560" y="231156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865320" y="231156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2600" y="22716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52560" y="21049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65320" y="210492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6800" y="206676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2560" y="189540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865320" y="189540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2600" y="1852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52560" y="168444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865320" y="168444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6800" y="16477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2560" y="1581120"/>
            <a:ext cx="2943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52560" y="3878280"/>
            <a:ext cx="2943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895560" y="1580760"/>
            <a:ext cx="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52560" y="1580760"/>
            <a:ext cx="144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52560" y="1693800"/>
            <a:ext cx="2151000" cy="2071800"/>
          </a:xfrm>
          <a:custGeom>
            <a:avLst/>
            <a:gdLst/>
            <a:ahLst/>
            <a:rect l="l" t="t" r="r" b="b"/>
            <a:pathLst>
              <a:path w="1641" h="1599">
                <a:moveTo>
                  <a:pt x="0" y="957"/>
                </a:moveTo>
                <a:lnTo>
                  <a:pt x="0" y="1123"/>
                </a:lnTo>
                <a:lnTo>
                  <a:pt x="4" y="1119"/>
                </a:lnTo>
                <a:lnTo>
                  <a:pt x="4" y="1115"/>
                </a:lnTo>
                <a:lnTo>
                  <a:pt x="4" y="1112"/>
                </a:lnTo>
                <a:lnTo>
                  <a:pt x="8" y="1100"/>
                </a:lnTo>
                <a:lnTo>
                  <a:pt x="8" y="1089"/>
                </a:lnTo>
                <a:lnTo>
                  <a:pt x="8" y="1074"/>
                </a:lnTo>
                <a:lnTo>
                  <a:pt x="11" y="1059"/>
                </a:lnTo>
                <a:lnTo>
                  <a:pt x="11" y="1040"/>
                </a:lnTo>
                <a:lnTo>
                  <a:pt x="11" y="1021"/>
                </a:lnTo>
                <a:lnTo>
                  <a:pt x="15" y="998"/>
                </a:lnTo>
                <a:lnTo>
                  <a:pt x="15" y="976"/>
                </a:lnTo>
                <a:lnTo>
                  <a:pt x="15" y="949"/>
                </a:lnTo>
                <a:lnTo>
                  <a:pt x="19" y="919"/>
                </a:lnTo>
                <a:lnTo>
                  <a:pt x="19" y="892"/>
                </a:lnTo>
                <a:lnTo>
                  <a:pt x="19" y="858"/>
                </a:lnTo>
                <a:lnTo>
                  <a:pt x="23" y="828"/>
                </a:lnTo>
                <a:lnTo>
                  <a:pt x="23" y="794"/>
                </a:lnTo>
                <a:lnTo>
                  <a:pt x="23" y="760"/>
                </a:lnTo>
                <a:lnTo>
                  <a:pt x="26" y="726"/>
                </a:lnTo>
                <a:lnTo>
                  <a:pt x="26" y="692"/>
                </a:lnTo>
                <a:lnTo>
                  <a:pt x="26" y="658"/>
                </a:lnTo>
                <a:lnTo>
                  <a:pt x="30" y="620"/>
                </a:lnTo>
                <a:lnTo>
                  <a:pt x="30" y="586"/>
                </a:lnTo>
                <a:lnTo>
                  <a:pt x="30" y="549"/>
                </a:lnTo>
                <a:lnTo>
                  <a:pt x="34" y="514"/>
                </a:lnTo>
                <a:lnTo>
                  <a:pt x="34" y="477"/>
                </a:lnTo>
                <a:lnTo>
                  <a:pt x="34" y="443"/>
                </a:lnTo>
                <a:lnTo>
                  <a:pt x="38" y="409"/>
                </a:lnTo>
                <a:lnTo>
                  <a:pt x="38" y="375"/>
                </a:lnTo>
                <a:lnTo>
                  <a:pt x="38" y="341"/>
                </a:lnTo>
                <a:lnTo>
                  <a:pt x="42" y="307"/>
                </a:lnTo>
                <a:lnTo>
                  <a:pt x="42" y="276"/>
                </a:lnTo>
                <a:lnTo>
                  <a:pt x="42" y="246"/>
                </a:lnTo>
                <a:lnTo>
                  <a:pt x="45" y="220"/>
                </a:lnTo>
                <a:lnTo>
                  <a:pt x="45" y="193"/>
                </a:lnTo>
                <a:lnTo>
                  <a:pt x="45" y="167"/>
                </a:lnTo>
                <a:lnTo>
                  <a:pt x="49" y="144"/>
                </a:lnTo>
                <a:lnTo>
                  <a:pt x="49" y="121"/>
                </a:lnTo>
                <a:lnTo>
                  <a:pt x="49" y="99"/>
                </a:lnTo>
                <a:lnTo>
                  <a:pt x="53" y="80"/>
                </a:lnTo>
                <a:lnTo>
                  <a:pt x="53" y="65"/>
                </a:lnTo>
                <a:lnTo>
                  <a:pt x="53" y="50"/>
                </a:lnTo>
                <a:lnTo>
                  <a:pt x="57" y="34"/>
                </a:lnTo>
                <a:lnTo>
                  <a:pt x="57" y="27"/>
                </a:lnTo>
                <a:lnTo>
                  <a:pt x="57" y="16"/>
                </a:lnTo>
                <a:lnTo>
                  <a:pt x="61" y="8"/>
                </a:lnTo>
                <a:lnTo>
                  <a:pt x="61" y="4"/>
                </a:lnTo>
                <a:lnTo>
                  <a:pt x="64" y="0"/>
                </a:lnTo>
                <a:lnTo>
                  <a:pt x="68" y="4"/>
                </a:lnTo>
                <a:lnTo>
                  <a:pt x="68" y="8"/>
                </a:lnTo>
                <a:lnTo>
                  <a:pt x="68" y="16"/>
                </a:lnTo>
                <a:lnTo>
                  <a:pt x="72" y="23"/>
                </a:lnTo>
                <a:lnTo>
                  <a:pt x="72" y="34"/>
                </a:lnTo>
                <a:lnTo>
                  <a:pt x="72" y="46"/>
                </a:lnTo>
                <a:lnTo>
                  <a:pt x="76" y="61"/>
                </a:lnTo>
                <a:lnTo>
                  <a:pt x="76" y="76"/>
                </a:lnTo>
                <a:lnTo>
                  <a:pt x="76" y="91"/>
                </a:lnTo>
                <a:lnTo>
                  <a:pt x="79" y="110"/>
                </a:lnTo>
                <a:lnTo>
                  <a:pt x="79" y="129"/>
                </a:lnTo>
                <a:lnTo>
                  <a:pt x="79" y="152"/>
                </a:lnTo>
                <a:lnTo>
                  <a:pt x="83" y="171"/>
                </a:lnTo>
                <a:lnTo>
                  <a:pt x="83" y="193"/>
                </a:lnTo>
                <a:lnTo>
                  <a:pt x="83" y="216"/>
                </a:lnTo>
                <a:lnTo>
                  <a:pt x="87" y="242"/>
                </a:lnTo>
                <a:lnTo>
                  <a:pt x="87" y="269"/>
                </a:lnTo>
                <a:lnTo>
                  <a:pt x="87" y="292"/>
                </a:lnTo>
                <a:lnTo>
                  <a:pt x="91" y="318"/>
                </a:lnTo>
                <a:lnTo>
                  <a:pt x="91" y="344"/>
                </a:lnTo>
                <a:lnTo>
                  <a:pt x="91" y="371"/>
                </a:lnTo>
                <a:lnTo>
                  <a:pt x="95" y="397"/>
                </a:lnTo>
                <a:lnTo>
                  <a:pt x="95" y="424"/>
                </a:lnTo>
                <a:lnTo>
                  <a:pt x="95" y="450"/>
                </a:lnTo>
                <a:lnTo>
                  <a:pt x="98" y="477"/>
                </a:lnTo>
                <a:lnTo>
                  <a:pt x="98" y="503"/>
                </a:lnTo>
                <a:lnTo>
                  <a:pt x="98" y="530"/>
                </a:lnTo>
                <a:lnTo>
                  <a:pt x="102" y="556"/>
                </a:lnTo>
                <a:lnTo>
                  <a:pt x="102" y="579"/>
                </a:lnTo>
                <a:lnTo>
                  <a:pt x="102" y="601"/>
                </a:lnTo>
                <a:lnTo>
                  <a:pt x="106" y="624"/>
                </a:lnTo>
                <a:lnTo>
                  <a:pt x="106" y="647"/>
                </a:lnTo>
                <a:lnTo>
                  <a:pt x="106" y="669"/>
                </a:lnTo>
                <a:lnTo>
                  <a:pt x="110" y="688"/>
                </a:lnTo>
                <a:lnTo>
                  <a:pt x="110" y="707"/>
                </a:lnTo>
                <a:lnTo>
                  <a:pt x="110" y="726"/>
                </a:lnTo>
                <a:lnTo>
                  <a:pt x="113" y="741"/>
                </a:lnTo>
                <a:lnTo>
                  <a:pt x="113" y="756"/>
                </a:lnTo>
                <a:lnTo>
                  <a:pt x="113" y="771"/>
                </a:lnTo>
                <a:lnTo>
                  <a:pt x="117" y="783"/>
                </a:lnTo>
                <a:lnTo>
                  <a:pt x="117" y="794"/>
                </a:lnTo>
                <a:lnTo>
                  <a:pt x="117" y="806"/>
                </a:lnTo>
                <a:lnTo>
                  <a:pt x="121" y="813"/>
                </a:lnTo>
                <a:lnTo>
                  <a:pt x="121" y="821"/>
                </a:lnTo>
                <a:lnTo>
                  <a:pt x="121" y="824"/>
                </a:lnTo>
                <a:lnTo>
                  <a:pt x="125" y="828"/>
                </a:lnTo>
                <a:lnTo>
                  <a:pt x="129" y="832"/>
                </a:lnTo>
                <a:lnTo>
                  <a:pt x="129" y="828"/>
                </a:lnTo>
                <a:lnTo>
                  <a:pt x="129" y="824"/>
                </a:lnTo>
                <a:lnTo>
                  <a:pt x="132" y="821"/>
                </a:lnTo>
                <a:lnTo>
                  <a:pt x="132" y="813"/>
                </a:lnTo>
                <a:lnTo>
                  <a:pt x="132" y="806"/>
                </a:lnTo>
                <a:lnTo>
                  <a:pt x="136" y="798"/>
                </a:lnTo>
                <a:lnTo>
                  <a:pt x="136" y="787"/>
                </a:lnTo>
                <a:lnTo>
                  <a:pt x="136" y="775"/>
                </a:lnTo>
                <a:lnTo>
                  <a:pt x="140" y="764"/>
                </a:lnTo>
                <a:lnTo>
                  <a:pt x="140" y="749"/>
                </a:lnTo>
                <a:lnTo>
                  <a:pt x="140" y="734"/>
                </a:lnTo>
                <a:lnTo>
                  <a:pt x="144" y="719"/>
                </a:lnTo>
                <a:lnTo>
                  <a:pt x="144" y="703"/>
                </a:lnTo>
                <a:lnTo>
                  <a:pt x="144" y="688"/>
                </a:lnTo>
                <a:lnTo>
                  <a:pt x="147" y="669"/>
                </a:lnTo>
                <a:lnTo>
                  <a:pt x="147" y="651"/>
                </a:lnTo>
                <a:lnTo>
                  <a:pt x="147" y="632"/>
                </a:lnTo>
                <a:lnTo>
                  <a:pt x="151" y="613"/>
                </a:lnTo>
                <a:lnTo>
                  <a:pt x="151" y="594"/>
                </a:lnTo>
                <a:lnTo>
                  <a:pt x="151" y="575"/>
                </a:lnTo>
                <a:lnTo>
                  <a:pt x="155" y="556"/>
                </a:lnTo>
                <a:lnTo>
                  <a:pt x="155" y="537"/>
                </a:lnTo>
                <a:lnTo>
                  <a:pt x="155" y="518"/>
                </a:lnTo>
                <a:lnTo>
                  <a:pt x="159" y="496"/>
                </a:lnTo>
                <a:lnTo>
                  <a:pt x="159" y="477"/>
                </a:lnTo>
                <a:lnTo>
                  <a:pt x="159" y="458"/>
                </a:lnTo>
                <a:lnTo>
                  <a:pt x="163" y="439"/>
                </a:lnTo>
                <a:lnTo>
                  <a:pt x="163" y="420"/>
                </a:lnTo>
                <a:lnTo>
                  <a:pt x="163" y="401"/>
                </a:lnTo>
                <a:lnTo>
                  <a:pt x="166" y="386"/>
                </a:lnTo>
                <a:lnTo>
                  <a:pt x="166" y="367"/>
                </a:lnTo>
                <a:lnTo>
                  <a:pt x="166" y="352"/>
                </a:lnTo>
                <a:lnTo>
                  <a:pt x="170" y="337"/>
                </a:lnTo>
                <a:lnTo>
                  <a:pt x="170" y="322"/>
                </a:lnTo>
                <a:lnTo>
                  <a:pt x="170" y="307"/>
                </a:lnTo>
                <a:lnTo>
                  <a:pt x="174" y="295"/>
                </a:lnTo>
                <a:lnTo>
                  <a:pt x="174" y="280"/>
                </a:lnTo>
                <a:lnTo>
                  <a:pt x="174" y="269"/>
                </a:lnTo>
                <a:lnTo>
                  <a:pt x="178" y="261"/>
                </a:lnTo>
                <a:lnTo>
                  <a:pt x="178" y="250"/>
                </a:lnTo>
                <a:lnTo>
                  <a:pt x="178" y="242"/>
                </a:lnTo>
                <a:lnTo>
                  <a:pt x="181" y="235"/>
                </a:lnTo>
                <a:lnTo>
                  <a:pt x="181" y="231"/>
                </a:lnTo>
                <a:lnTo>
                  <a:pt x="181" y="223"/>
                </a:lnTo>
                <a:lnTo>
                  <a:pt x="185" y="220"/>
                </a:lnTo>
                <a:lnTo>
                  <a:pt x="189" y="216"/>
                </a:lnTo>
                <a:lnTo>
                  <a:pt x="193" y="220"/>
                </a:lnTo>
                <a:lnTo>
                  <a:pt x="193" y="223"/>
                </a:lnTo>
                <a:lnTo>
                  <a:pt x="197" y="227"/>
                </a:lnTo>
                <a:lnTo>
                  <a:pt x="197" y="235"/>
                </a:lnTo>
                <a:lnTo>
                  <a:pt x="197" y="242"/>
                </a:lnTo>
                <a:lnTo>
                  <a:pt x="200" y="250"/>
                </a:lnTo>
                <a:lnTo>
                  <a:pt x="200" y="257"/>
                </a:lnTo>
                <a:lnTo>
                  <a:pt x="200" y="265"/>
                </a:lnTo>
                <a:lnTo>
                  <a:pt x="204" y="276"/>
                </a:lnTo>
                <a:lnTo>
                  <a:pt x="204" y="288"/>
                </a:lnTo>
                <a:lnTo>
                  <a:pt x="204" y="299"/>
                </a:lnTo>
                <a:lnTo>
                  <a:pt x="208" y="310"/>
                </a:lnTo>
                <a:lnTo>
                  <a:pt x="208" y="322"/>
                </a:lnTo>
                <a:lnTo>
                  <a:pt x="208" y="337"/>
                </a:lnTo>
                <a:lnTo>
                  <a:pt x="212" y="348"/>
                </a:lnTo>
                <a:lnTo>
                  <a:pt x="212" y="363"/>
                </a:lnTo>
                <a:lnTo>
                  <a:pt x="212" y="375"/>
                </a:lnTo>
                <a:lnTo>
                  <a:pt x="215" y="390"/>
                </a:lnTo>
                <a:lnTo>
                  <a:pt x="215" y="405"/>
                </a:lnTo>
                <a:lnTo>
                  <a:pt x="215" y="420"/>
                </a:lnTo>
                <a:lnTo>
                  <a:pt x="219" y="435"/>
                </a:lnTo>
                <a:lnTo>
                  <a:pt x="219" y="450"/>
                </a:lnTo>
                <a:lnTo>
                  <a:pt x="219" y="462"/>
                </a:lnTo>
                <a:lnTo>
                  <a:pt x="223" y="477"/>
                </a:lnTo>
                <a:lnTo>
                  <a:pt x="223" y="492"/>
                </a:lnTo>
                <a:lnTo>
                  <a:pt x="223" y="507"/>
                </a:lnTo>
                <a:lnTo>
                  <a:pt x="227" y="518"/>
                </a:lnTo>
                <a:lnTo>
                  <a:pt x="227" y="533"/>
                </a:lnTo>
                <a:lnTo>
                  <a:pt x="227" y="545"/>
                </a:lnTo>
                <a:lnTo>
                  <a:pt x="231" y="560"/>
                </a:lnTo>
                <a:lnTo>
                  <a:pt x="231" y="571"/>
                </a:lnTo>
                <a:lnTo>
                  <a:pt x="231" y="583"/>
                </a:lnTo>
                <a:lnTo>
                  <a:pt x="234" y="594"/>
                </a:lnTo>
                <a:lnTo>
                  <a:pt x="234" y="605"/>
                </a:lnTo>
                <a:lnTo>
                  <a:pt x="234" y="613"/>
                </a:lnTo>
                <a:lnTo>
                  <a:pt x="238" y="624"/>
                </a:lnTo>
                <a:lnTo>
                  <a:pt x="238" y="632"/>
                </a:lnTo>
                <a:lnTo>
                  <a:pt x="238" y="639"/>
                </a:lnTo>
                <a:lnTo>
                  <a:pt x="242" y="647"/>
                </a:lnTo>
                <a:lnTo>
                  <a:pt x="242" y="651"/>
                </a:lnTo>
                <a:lnTo>
                  <a:pt x="242" y="658"/>
                </a:lnTo>
                <a:lnTo>
                  <a:pt x="246" y="662"/>
                </a:lnTo>
                <a:lnTo>
                  <a:pt x="246" y="666"/>
                </a:lnTo>
                <a:lnTo>
                  <a:pt x="250" y="669"/>
                </a:lnTo>
                <a:lnTo>
                  <a:pt x="250" y="673"/>
                </a:lnTo>
                <a:lnTo>
                  <a:pt x="253" y="669"/>
                </a:lnTo>
                <a:lnTo>
                  <a:pt x="257" y="666"/>
                </a:lnTo>
                <a:lnTo>
                  <a:pt x="257" y="662"/>
                </a:lnTo>
                <a:lnTo>
                  <a:pt x="257" y="658"/>
                </a:lnTo>
                <a:lnTo>
                  <a:pt x="261" y="654"/>
                </a:lnTo>
                <a:lnTo>
                  <a:pt x="261" y="647"/>
                </a:lnTo>
                <a:lnTo>
                  <a:pt x="261" y="643"/>
                </a:lnTo>
                <a:lnTo>
                  <a:pt x="265" y="635"/>
                </a:lnTo>
                <a:lnTo>
                  <a:pt x="265" y="628"/>
                </a:lnTo>
                <a:lnTo>
                  <a:pt x="265" y="620"/>
                </a:lnTo>
                <a:lnTo>
                  <a:pt x="268" y="609"/>
                </a:lnTo>
                <a:lnTo>
                  <a:pt x="268" y="601"/>
                </a:lnTo>
                <a:lnTo>
                  <a:pt x="268" y="594"/>
                </a:lnTo>
                <a:lnTo>
                  <a:pt x="272" y="583"/>
                </a:lnTo>
                <a:lnTo>
                  <a:pt x="272" y="575"/>
                </a:lnTo>
                <a:lnTo>
                  <a:pt x="272" y="564"/>
                </a:lnTo>
                <a:lnTo>
                  <a:pt x="276" y="552"/>
                </a:lnTo>
                <a:lnTo>
                  <a:pt x="276" y="541"/>
                </a:lnTo>
                <a:lnTo>
                  <a:pt x="276" y="530"/>
                </a:lnTo>
                <a:lnTo>
                  <a:pt x="280" y="522"/>
                </a:lnTo>
                <a:lnTo>
                  <a:pt x="280" y="511"/>
                </a:lnTo>
                <a:lnTo>
                  <a:pt x="280" y="499"/>
                </a:lnTo>
                <a:lnTo>
                  <a:pt x="284" y="488"/>
                </a:lnTo>
                <a:lnTo>
                  <a:pt x="284" y="477"/>
                </a:lnTo>
                <a:lnTo>
                  <a:pt x="284" y="465"/>
                </a:lnTo>
                <a:lnTo>
                  <a:pt x="287" y="458"/>
                </a:lnTo>
                <a:lnTo>
                  <a:pt x="287" y="446"/>
                </a:lnTo>
                <a:lnTo>
                  <a:pt x="287" y="435"/>
                </a:lnTo>
                <a:lnTo>
                  <a:pt x="291" y="428"/>
                </a:lnTo>
                <a:lnTo>
                  <a:pt x="291" y="416"/>
                </a:lnTo>
                <a:lnTo>
                  <a:pt x="291" y="409"/>
                </a:lnTo>
                <a:lnTo>
                  <a:pt x="295" y="401"/>
                </a:lnTo>
                <a:lnTo>
                  <a:pt x="295" y="390"/>
                </a:lnTo>
                <a:lnTo>
                  <a:pt x="295" y="382"/>
                </a:lnTo>
                <a:lnTo>
                  <a:pt x="299" y="378"/>
                </a:lnTo>
                <a:lnTo>
                  <a:pt x="299" y="371"/>
                </a:lnTo>
                <a:lnTo>
                  <a:pt x="299" y="363"/>
                </a:lnTo>
                <a:lnTo>
                  <a:pt x="302" y="360"/>
                </a:lnTo>
                <a:lnTo>
                  <a:pt x="302" y="352"/>
                </a:lnTo>
                <a:lnTo>
                  <a:pt x="302" y="348"/>
                </a:lnTo>
                <a:lnTo>
                  <a:pt x="306" y="344"/>
                </a:lnTo>
                <a:lnTo>
                  <a:pt x="306" y="341"/>
                </a:lnTo>
                <a:lnTo>
                  <a:pt x="310" y="337"/>
                </a:lnTo>
                <a:lnTo>
                  <a:pt x="314" y="333"/>
                </a:lnTo>
                <a:lnTo>
                  <a:pt x="318" y="337"/>
                </a:lnTo>
                <a:lnTo>
                  <a:pt x="321" y="341"/>
                </a:lnTo>
                <a:lnTo>
                  <a:pt x="321" y="344"/>
                </a:lnTo>
                <a:lnTo>
                  <a:pt x="321" y="348"/>
                </a:lnTo>
                <a:lnTo>
                  <a:pt x="325" y="352"/>
                </a:lnTo>
                <a:lnTo>
                  <a:pt x="325" y="356"/>
                </a:lnTo>
                <a:lnTo>
                  <a:pt x="325" y="360"/>
                </a:lnTo>
                <a:lnTo>
                  <a:pt x="329" y="367"/>
                </a:lnTo>
                <a:lnTo>
                  <a:pt x="329" y="371"/>
                </a:lnTo>
                <a:lnTo>
                  <a:pt x="329" y="378"/>
                </a:lnTo>
                <a:lnTo>
                  <a:pt x="333" y="386"/>
                </a:lnTo>
                <a:lnTo>
                  <a:pt x="333" y="394"/>
                </a:lnTo>
                <a:lnTo>
                  <a:pt x="333" y="401"/>
                </a:lnTo>
                <a:lnTo>
                  <a:pt x="336" y="405"/>
                </a:lnTo>
                <a:lnTo>
                  <a:pt x="336" y="412"/>
                </a:lnTo>
                <a:lnTo>
                  <a:pt x="336" y="420"/>
                </a:lnTo>
                <a:lnTo>
                  <a:pt x="340" y="431"/>
                </a:lnTo>
                <a:lnTo>
                  <a:pt x="340" y="439"/>
                </a:lnTo>
                <a:lnTo>
                  <a:pt x="340" y="446"/>
                </a:lnTo>
                <a:lnTo>
                  <a:pt x="344" y="454"/>
                </a:lnTo>
                <a:lnTo>
                  <a:pt x="344" y="462"/>
                </a:lnTo>
                <a:lnTo>
                  <a:pt x="344" y="469"/>
                </a:lnTo>
                <a:lnTo>
                  <a:pt x="348" y="477"/>
                </a:lnTo>
                <a:lnTo>
                  <a:pt x="348" y="484"/>
                </a:lnTo>
                <a:lnTo>
                  <a:pt x="348" y="492"/>
                </a:lnTo>
                <a:lnTo>
                  <a:pt x="352" y="499"/>
                </a:lnTo>
                <a:lnTo>
                  <a:pt x="352" y="507"/>
                </a:lnTo>
                <a:lnTo>
                  <a:pt x="352" y="514"/>
                </a:lnTo>
                <a:lnTo>
                  <a:pt x="355" y="522"/>
                </a:lnTo>
                <a:lnTo>
                  <a:pt x="355" y="530"/>
                </a:lnTo>
                <a:lnTo>
                  <a:pt x="355" y="533"/>
                </a:lnTo>
                <a:lnTo>
                  <a:pt x="359" y="541"/>
                </a:lnTo>
                <a:lnTo>
                  <a:pt x="359" y="549"/>
                </a:lnTo>
                <a:lnTo>
                  <a:pt x="359" y="552"/>
                </a:lnTo>
                <a:lnTo>
                  <a:pt x="363" y="556"/>
                </a:lnTo>
                <a:lnTo>
                  <a:pt x="363" y="564"/>
                </a:lnTo>
                <a:lnTo>
                  <a:pt x="363" y="567"/>
                </a:lnTo>
                <a:lnTo>
                  <a:pt x="367" y="571"/>
                </a:lnTo>
                <a:lnTo>
                  <a:pt x="367" y="575"/>
                </a:lnTo>
                <a:lnTo>
                  <a:pt x="370" y="579"/>
                </a:lnTo>
                <a:lnTo>
                  <a:pt x="374" y="583"/>
                </a:lnTo>
                <a:lnTo>
                  <a:pt x="378" y="583"/>
                </a:lnTo>
                <a:lnTo>
                  <a:pt x="382" y="579"/>
                </a:lnTo>
                <a:lnTo>
                  <a:pt x="386" y="575"/>
                </a:lnTo>
                <a:lnTo>
                  <a:pt x="386" y="571"/>
                </a:lnTo>
                <a:lnTo>
                  <a:pt x="386" y="567"/>
                </a:lnTo>
                <a:lnTo>
                  <a:pt x="389" y="564"/>
                </a:lnTo>
                <a:lnTo>
                  <a:pt x="389" y="560"/>
                </a:lnTo>
                <a:lnTo>
                  <a:pt x="389" y="556"/>
                </a:lnTo>
                <a:lnTo>
                  <a:pt x="393" y="552"/>
                </a:lnTo>
                <a:lnTo>
                  <a:pt x="393" y="545"/>
                </a:lnTo>
                <a:lnTo>
                  <a:pt x="393" y="541"/>
                </a:lnTo>
                <a:lnTo>
                  <a:pt x="397" y="537"/>
                </a:lnTo>
                <a:lnTo>
                  <a:pt x="397" y="530"/>
                </a:lnTo>
                <a:lnTo>
                  <a:pt x="397" y="526"/>
                </a:lnTo>
                <a:lnTo>
                  <a:pt x="401" y="518"/>
                </a:lnTo>
                <a:lnTo>
                  <a:pt x="401" y="514"/>
                </a:lnTo>
                <a:lnTo>
                  <a:pt x="401" y="507"/>
                </a:lnTo>
                <a:lnTo>
                  <a:pt x="404" y="499"/>
                </a:lnTo>
                <a:lnTo>
                  <a:pt x="404" y="496"/>
                </a:lnTo>
                <a:lnTo>
                  <a:pt x="404" y="488"/>
                </a:lnTo>
                <a:lnTo>
                  <a:pt x="408" y="484"/>
                </a:lnTo>
                <a:lnTo>
                  <a:pt x="408" y="477"/>
                </a:lnTo>
                <a:lnTo>
                  <a:pt x="408" y="473"/>
                </a:lnTo>
                <a:lnTo>
                  <a:pt x="412" y="465"/>
                </a:lnTo>
                <a:lnTo>
                  <a:pt x="412" y="462"/>
                </a:lnTo>
                <a:lnTo>
                  <a:pt x="412" y="454"/>
                </a:lnTo>
                <a:lnTo>
                  <a:pt x="416" y="450"/>
                </a:lnTo>
                <a:lnTo>
                  <a:pt x="416" y="443"/>
                </a:lnTo>
                <a:lnTo>
                  <a:pt x="416" y="439"/>
                </a:lnTo>
                <a:lnTo>
                  <a:pt x="420" y="435"/>
                </a:lnTo>
                <a:lnTo>
                  <a:pt x="420" y="431"/>
                </a:lnTo>
                <a:lnTo>
                  <a:pt x="420" y="428"/>
                </a:lnTo>
                <a:lnTo>
                  <a:pt x="423" y="424"/>
                </a:lnTo>
                <a:lnTo>
                  <a:pt x="423" y="420"/>
                </a:lnTo>
                <a:lnTo>
                  <a:pt x="423" y="416"/>
                </a:lnTo>
                <a:lnTo>
                  <a:pt x="427" y="412"/>
                </a:lnTo>
                <a:lnTo>
                  <a:pt x="427" y="409"/>
                </a:lnTo>
                <a:lnTo>
                  <a:pt x="431" y="405"/>
                </a:lnTo>
                <a:lnTo>
                  <a:pt x="435" y="401"/>
                </a:lnTo>
                <a:lnTo>
                  <a:pt x="439" y="397"/>
                </a:lnTo>
                <a:lnTo>
                  <a:pt x="442" y="401"/>
                </a:lnTo>
                <a:lnTo>
                  <a:pt x="446" y="405"/>
                </a:lnTo>
                <a:lnTo>
                  <a:pt x="450" y="409"/>
                </a:lnTo>
                <a:lnTo>
                  <a:pt x="450" y="412"/>
                </a:lnTo>
                <a:lnTo>
                  <a:pt x="454" y="416"/>
                </a:lnTo>
                <a:lnTo>
                  <a:pt x="454" y="420"/>
                </a:lnTo>
                <a:lnTo>
                  <a:pt x="454" y="424"/>
                </a:lnTo>
                <a:lnTo>
                  <a:pt x="457" y="428"/>
                </a:lnTo>
                <a:lnTo>
                  <a:pt x="457" y="431"/>
                </a:lnTo>
                <a:lnTo>
                  <a:pt x="457" y="435"/>
                </a:lnTo>
                <a:lnTo>
                  <a:pt x="461" y="439"/>
                </a:lnTo>
                <a:lnTo>
                  <a:pt x="461" y="443"/>
                </a:lnTo>
                <a:lnTo>
                  <a:pt x="461" y="446"/>
                </a:lnTo>
                <a:lnTo>
                  <a:pt x="465" y="450"/>
                </a:lnTo>
                <a:lnTo>
                  <a:pt x="465" y="454"/>
                </a:lnTo>
                <a:lnTo>
                  <a:pt x="465" y="462"/>
                </a:lnTo>
                <a:lnTo>
                  <a:pt x="469" y="465"/>
                </a:lnTo>
                <a:lnTo>
                  <a:pt x="469" y="469"/>
                </a:lnTo>
                <a:lnTo>
                  <a:pt x="469" y="473"/>
                </a:lnTo>
                <a:lnTo>
                  <a:pt x="473" y="477"/>
                </a:lnTo>
                <a:lnTo>
                  <a:pt x="473" y="480"/>
                </a:lnTo>
                <a:lnTo>
                  <a:pt x="473" y="488"/>
                </a:lnTo>
                <a:lnTo>
                  <a:pt x="476" y="492"/>
                </a:lnTo>
                <a:lnTo>
                  <a:pt x="476" y="496"/>
                </a:lnTo>
                <a:lnTo>
                  <a:pt x="476" y="499"/>
                </a:lnTo>
                <a:lnTo>
                  <a:pt x="480" y="503"/>
                </a:lnTo>
                <a:lnTo>
                  <a:pt x="480" y="507"/>
                </a:lnTo>
                <a:lnTo>
                  <a:pt x="484" y="511"/>
                </a:lnTo>
                <a:lnTo>
                  <a:pt x="484" y="514"/>
                </a:lnTo>
                <a:lnTo>
                  <a:pt x="484" y="518"/>
                </a:lnTo>
                <a:lnTo>
                  <a:pt x="488" y="522"/>
                </a:lnTo>
                <a:lnTo>
                  <a:pt x="488" y="526"/>
                </a:lnTo>
                <a:lnTo>
                  <a:pt x="491" y="530"/>
                </a:lnTo>
                <a:lnTo>
                  <a:pt x="495" y="533"/>
                </a:lnTo>
                <a:lnTo>
                  <a:pt x="499" y="537"/>
                </a:lnTo>
                <a:lnTo>
                  <a:pt x="503" y="533"/>
                </a:lnTo>
                <a:lnTo>
                  <a:pt x="507" y="533"/>
                </a:lnTo>
                <a:lnTo>
                  <a:pt x="510" y="530"/>
                </a:lnTo>
                <a:lnTo>
                  <a:pt x="514" y="526"/>
                </a:lnTo>
                <a:lnTo>
                  <a:pt x="514" y="522"/>
                </a:lnTo>
                <a:lnTo>
                  <a:pt x="518" y="518"/>
                </a:lnTo>
                <a:lnTo>
                  <a:pt x="518" y="514"/>
                </a:lnTo>
                <a:lnTo>
                  <a:pt x="522" y="511"/>
                </a:lnTo>
                <a:lnTo>
                  <a:pt x="522" y="507"/>
                </a:lnTo>
                <a:lnTo>
                  <a:pt x="522" y="503"/>
                </a:lnTo>
                <a:lnTo>
                  <a:pt x="525" y="499"/>
                </a:lnTo>
                <a:lnTo>
                  <a:pt x="525" y="496"/>
                </a:lnTo>
                <a:lnTo>
                  <a:pt x="529" y="492"/>
                </a:lnTo>
                <a:lnTo>
                  <a:pt x="529" y="488"/>
                </a:lnTo>
                <a:lnTo>
                  <a:pt x="529" y="484"/>
                </a:lnTo>
                <a:lnTo>
                  <a:pt x="533" y="480"/>
                </a:lnTo>
                <a:lnTo>
                  <a:pt x="533" y="477"/>
                </a:lnTo>
                <a:lnTo>
                  <a:pt x="537" y="473"/>
                </a:lnTo>
                <a:lnTo>
                  <a:pt x="537" y="469"/>
                </a:lnTo>
                <a:lnTo>
                  <a:pt x="537" y="465"/>
                </a:lnTo>
                <a:lnTo>
                  <a:pt x="541" y="462"/>
                </a:lnTo>
                <a:lnTo>
                  <a:pt x="541" y="458"/>
                </a:lnTo>
                <a:lnTo>
                  <a:pt x="544" y="454"/>
                </a:lnTo>
                <a:lnTo>
                  <a:pt x="544" y="450"/>
                </a:lnTo>
                <a:lnTo>
                  <a:pt x="548" y="446"/>
                </a:lnTo>
                <a:lnTo>
                  <a:pt x="552" y="443"/>
                </a:lnTo>
                <a:lnTo>
                  <a:pt x="556" y="439"/>
                </a:lnTo>
                <a:lnTo>
                  <a:pt x="559" y="435"/>
                </a:lnTo>
                <a:lnTo>
                  <a:pt x="563" y="435"/>
                </a:lnTo>
                <a:lnTo>
                  <a:pt x="567" y="435"/>
                </a:lnTo>
                <a:lnTo>
                  <a:pt x="571" y="439"/>
                </a:lnTo>
                <a:lnTo>
                  <a:pt x="575" y="443"/>
                </a:lnTo>
                <a:lnTo>
                  <a:pt x="578" y="446"/>
                </a:lnTo>
                <a:lnTo>
                  <a:pt x="582" y="450"/>
                </a:lnTo>
                <a:lnTo>
                  <a:pt x="582" y="454"/>
                </a:lnTo>
                <a:lnTo>
                  <a:pt x="586" y="458"/>
                </a:lnTo>
                <a:lnTo>
                  <a:pt x="590" y="462"/>
                </a:lnTo>
                <a:lnTo>
                  <a:pt x="590" y="465"/>
                </a:lnTo>
                <a:lnTo>
                  <a:pt x="593" y="469"/>
                </a:lnTo>
                <a:lnTo>
                  <a:pt x="593" y="473"/>
                </a:lnTo>
                <a:lnTo>
                  <a:pt x="597" y="477"/>
                </a:lnTo>
                <a:lnTo>
                  <a:pt x="597" y="480"/>
                </a:lnTo>
                <a:lnTo>
                  <a:pt x="601" y="484"/>
                </a:lnTo>
                <a:lnTo>
                  <a:pt x="601" y="488"/>
                </a:lnTo>
                <a:lnTo>
                  <a:pt x="605" y="492"/>
                </a:lnTo>
                <a:lnTo>
                  <a:pt x="609" y="496"/>
                </a:lnTo>
                <a:lnTo>
                  <a:pt x="609" y="499"/>
                </a:lnTo>
                <a:lnTo>
                  <a:pt x="612" y="503"/>
                </a:lnTo>
                <a:lnTo>
                  <a:pt x="616" y="507"/>
                </a:lnTo>
                <a:lnTo>
                  <a:pt x="620" y="511"/>
                </a:lnTo>
                <a:lnTo>
                  <a:pt x="624" y="511"/>
                </a:lnTo>
                <a:lnTo>
                  <a:pt x="627" y="511"/>
                </a:lnTo>
                <a:lnTo>
                  <a:pt x="631" y="507"/>
                </a:lnTo>
                <a:lnTo>
                  <a:pt x="635" y="503"/>
                </a:lnTo>
                <a:lnTo>
                  <a:pt x="639" y="499"/>
                </a:lnTo>
                <a:lnTo>
                  <a:pt x="643" y="496"/>
                </a:lnTo>
                <a:lnTo>
                  <a:pt x="646" y="492"/>
                </a:lnTo>
                <a:lnTo>
                  <a:pt x="650" y="488"/>
                </a:lnTo>
                <a:lnTo>
                  <a:pt x="654" y="484"/>
                </a:lnTo>
                <a:lnTo>
                  <a:pt x="658" y="480"/>
                </a:lnTo>
                <a:lnTo>
                  <a:pt x="658" y="477"/>
                </a:lnTo>
                <a:lnTo>
                  <a:pt x="662" y="473"/>
                </a:lnTo>
                <a:lnTo>
                  <a:pt x="665" y="469"/>
                </a:lnTo>
                <a:lnTo>
                  <a:pt x="669" y="465"/>
                </a:lnTo>
                <a:lnTo>
                  <a:pt x="673" y="462"/>
                </a:lnTo>
                <a:lnTo>
                  <a:pt x="677" y="458"/>
                </a:lnTo>
                <a:lnTo>
                  <a:pt x="680" y="454"/>
                </a:lnTo>
                <a:lnTo>
                  <a:pt x="684" y="454"/>
                </a:lnTo>
                <a:lnTo>
                  <a:pt x="688" y="454"/>
                </a:lnTo>
                <a:lnTo>
                  <a:pt x="692" y="454"/>
                </a:lnTo>
                <a:lnTo>
                  <a:pt x="696" y="458"/>
                </a:lnTo>
                <a:lnTo>
                  <a:pt x="699" y="458"/>
                </a:lnTo>
                <a:lnTo>
                  <a:pt x="703" y="462"/>
                </a:lnTo>
                <a:lnTo>
                  <a:pt x="707" y="465"/>
                </a:lnTo>
                <a:lnTo>
                  <a:pt x="711" y="469"/>
                </a:lnTo>
                <a:lnTo>
                  <a:pt x="714" y="473"/>
                </a:lnTo>
                <a:lnTo>
                  <a:pt x="718" y="477"/>
                </a:lnTo>
                <a:lnTo>
                  <a:pt x="722" y="480"/>
                </a:lnTo>
                <a:lnTo>
                  <a:pt x="726" y="484"/>
                </a:lnTo>
                <a:lnTo>
                  <a:pt x="730" y="488"/>
                </a:lnTo>
                <a:lnTo>
                  <a:pt x="733" y="488"/>
                </a:lnTo>
                <a:lnTo>
                  <a:pt x="737" y="492"/>
                </a:lnTo>
                <a:lnTo>
                  <a:pt x="741" y="496"/>
                </a:lnTo>
                <a:lnTo>
                  <a:pt x="745" y="496"/>
                </a:lnTo>
                <a:lnTo>
                  <a:pt x="748" y="496"/>
                </a:lnTo>
                <a:lnTo>
                  <a:pt x="752" y="496"/>
                </a:lnTo>
                <a:lnTo>
                  <a:pt x="756" y="496"/>
                </a:lnTo>
                <a:lnTo>
                  <a:pt x="760" y="492"/>
                </a:lnTo>
                <a:lnTo>
                  <a:pt x="764" y="492"/>
                </a:lnTo>
                <a:lnTo>
                  <a:pt x="767" y="488"/>
                </a:lnTo>
                <a:lnTo>
                  <a:pt x="771" y="484"/>
                </a:lnTo>
                <a:lnTo>
                  <a:pt x="775" y="484"/>
                </a:lnTo>
                <a:lnTo>
                  <a:pt x="779" y="480"/>
                </a:lnTo>
                <a:lnTo>
                  <a:pt x="782" y="477"/>
                </a:lnTo>
                <a:lnTo>
                  <a:pt x="786" y="473"/>
                </a:lnTo>
                <a:lnTo>
                  <a:pt x="790" y="473"/>
                </a:lnTo>
                <a:lnTo>
                  <a:pt x="794" y="469"/>
                </a:lnTo>
                <a:lnTo>
                  <a:pt x="798" y="465"/>
                </a:lnTo>
                <a:lnTo>
                  <a:pt x="801" y="465"/>
                </a:lnTo>
                <a:lnTo>
                  <a:pt x="805" y="465"/>
                </a:lnTo>
                <a:lnTo>
                  <a:pt x="809" y="465"/>
                </a:lnTo>
                <a:lnTo>
                  <a:pt x="813" y="465"/>
                </a:lnTo>
                <a:lnTo>
                  <a:pt x="816" y="465"/>
                </a:lnTo>
                <a:lnTo>
                  <a:pt x="820" y="465"/>
                </a:lnTo>
                <a:lnTo>
                  <a:pt x="824" y="465"/>
                </a:lnTo>
                <a:lnTo>
                  <a:pt x="828" y="469"/>
                </a:lnTo>
                <a:lnTo>
                  <a:pt x="832" y="469"/>
                </a:lnTo>
                <a:lnTo>
                  <a:pt x="835" y="473"/>
                </a:lnTo>
                <a:lnTo>
                  <a:pt x="839" y="473"/>
                </a:lnTo>
                <a:lnTo>
                  <a:pt x="843" y="477"/>
                </a:lnTo>
                <a:lnTo>
                  <a:pt x="847" y="480"/>
                </a:lnTo>
                <a:lnTo>
                  <a:pt x="851" y="480"/>
                </a:lnTo>
                <a:lnTo>
                  <a:pt x="854" y="484"/>
                </a:lnTo>
                <a:lnTo>
                  <a:pt x="858" y="484"/>
                </a:lnTo>
                <a:lnTo>
                  <a:pt x="862" y="484"/>
                </a:lnTo>
                <a:lnTo>
                  <a:pt x="862" y="477"/>
                </a:lnTo>
                <a:lnTo>
                  <a:pt x="862" y="480"/>
                </a:lnTo>
                <a:lnTo>
                  <a:pt x="866" y="484"/>
                </a:lnTo>
                <a:lnTo>
                  <a:pt x="866" y="488"/>
                </a:lnTo>
                <a:lnTo>
                  <a:pt x="866" y="499"/>
                </a:lnTo>
                <a:lnTo>
                  <a:pt x="869" y="511"/>
                </a:lnTo>
                <a:lnTo>
                  <a:pt x="869" y="526"/>
                </a:lnTo>
                <a:lnTo>
                  <a:pt x="869" y="541"/>
                </a:lnTo>
                <a:lnTo>
                  <a:pt x="873" y="560"/>
                </a:lnTo>
                <a:lnTo>
                  <a:pt x="873" y="579"/>
                </a:lnTo>
                <a:lnTo>
                  <a:pt x="873" y="601"/>
                </a:lnTo>
                <a:lnTo>
                  <a:pt x="877" y="624"/>
                </a:lnTo>
                <a:lnTo>
                  <a:pt x="877" y="651"/>
                </a:lnTo>
                <a:lnTo>
                  <a:pt x="877" y="681"/>
                </a:lnTo>
                <a:lnTo>
                  <a:pt x="881" y="707"/>
                </a:lnTo>
                <a:lnTo>
                  <a:pt x="881" y="741"/>
                </a:lnTo>
                <a:lnTo>
                  <a:pt x="881" y="771"/>
                </a:lnTo>
                <a:lnTo>
                  <a:pt x="885" y="806"/>
                </a:lnTo>
                <a:lnTo>
                  <a:pt x="885" y="840"/>
                </a:lnTo>
                <a:lnTo>
                  <a:pt x="885" y="874"/>
                </a:lnTo>
                <a:lnTo>
                  <a:pt x="888" y="908"/>
                </a:lnTo>
                <a:lnTo>
                  <a:pt x="888" y="942"/>
                </a:lnTo>
                <a:lnTo>
                  <a:pt x="888" y="979"/>
                </a:lnTo>
                <a:lnTo>
                  <a:pt x="892" y="1013"/>
                </a:lnTo>
                <a:lnTo>
                  <a:pt x="892" y="1051"/>
                </a:lnTo>
                <a:lnTo>
                  <a:pt x="892" y="1085"/>
                </a:lnTo>
                <a:lnTo>
                  <a:pt x="896" y="1123"/>
                </a:lnTo>
                <a:lnTo>
                  <a:pt x="896" y="1157"/>
                </a:lnTo>
                <a:lnTo>
                  <a:pt x="896" y="1191"/>
                </a:lnTo>
                <a:lnTo>
                  <a:pt x="900" y="1225"/>
                </a:lnTo>
                <a:lnTo>
                  <a:pt x="900" y="1259"/>
                </a:lnTo>
                <a:lnTo>
                  <a:pt x="900" y="1293"/>
                </a:lnTo>
                <a:lnTo>
                  <a:pt x="903" y="1323"/>
                </a:lnTo>
                <a:lnTo>
                  <a:pt x="903" y="1354"/>
                </a:lnTo>
                <a:lnTo>
                  <a:pt x="903" y="1380"/>
                </a:lnTo>
                <a:lnTo>
                  <a:pt x="907" y="1406"/>
                </a:lnTo>
                <a:lnTo>
                  <a:pt x="907" y="1433"/>
                </a:lnTo>
                <a:lnTo>
                  <a:pt x="907" y="1456"/>
                </a:lnTo>
                <a:lnTo>
                  <a:pt x="911" y="1478"/>
                </a:lnTo>
                <a:lnTo>
                  <a:pt x="911" y="1501"/>
                </a:lnTo>
                <a:lnTo>
                  <a:pt x="911" y="1520"/>
                </a:lnTo>
                <a:lnTo>
                  <a:pt x="915" y="1535"/>
                </a:lnTo>
                <a:lnTo>
                  <a:pt x="915" y="1550"/>
                </a:lnTo>
                <a:lnTo>
                  <a:pt x="915" y="1565"/>
                </a:lnTo>
                <a:lnTo>
                  <a:pt x="919" y="1573"/>
                </a:lnTo>
                <a:lnTo>
                  <a:pt x="919" y="1584"/>
                </a:lnTo>
                <a:lnTo>
                  <a:pt x="919" y="1592"/>
                </a:lnTo>
                <a:lnTo>
                  <a:pt x="922" y="1595"/>
                </a:lnTo>
                <a:lnTo>
                  <a:pt x="926" y="1599"/>
                </a:lnTo>
                <a:lnTo>
                  <a:pt x="926" y="1595"/>
                </a:lnTo>
                <a:lnTo>
                  <a:pt x="926" y="1592"/>
                </a:lnTo>
                <a:lnTo>
                  <a:pt x="930" y="1584"/>
                </a:lnTo>
                <a:lnTo>
                  <a:pt x="930" y="1577"/>
                </a:lnTo>
                <a:lnTo>
                  <a:pt x="930" y="1565"/>
                </a:lnTo>
                <a:lnTo>
                  <a:pt x="934" y="1554"/>
                </a:lnTo>
                <a:lnTo>
                  <a:pt x="934" y="1539"/>
                </a:lnTo>
                <a:lnTo>
                  <a:pt x="937" y="1524"/>
                </a:lnTo>
                <a:lnTo>
                  <a:pt x="937" y="1509"/>
                </a:lnTo>
                <a:lnTo>
                  <a:pt x="937" y="1490"/>
                </a:lnTo>
                <a:lnTo>
                  <a:pt x="941" y="1471"/>
                </a:lnTo>
                <a:lnTo>
                  <a:pt x="941" y="1448"/>
                </a:lnTo>
                <a:lnTo>
                  <a:pt x="941" y="1429"/>
                </a:lnTo>
                <a:lnTo>
                  <a:pt x="945" y="1406"/>
                </a:lnTo>
                <a:lnTo>
                  <a:pt x="945" y="1384"/>
                </a:lnTo>
                <a:lnTo>
                  <a:pt x="945" y="1357"/>
                </a:lnTo>
                <a:lnTo>
                  <a:pt x="949" y="1331"/>
                </a:lnTo>
                <a:lnTo>
                  <a:pt x="949" y="1308"/>
                </a:lnTo>
                <a:lnTo>
                  <a:pt x="949" y="1282"/>
                </a:lnTo>
                <a:lnTo>
                  <a:pt x="953" y="1255"/>
                </a:lnTo>
                <a:lnTo>
                  <a:pt x="953" y="1229"/>
                </a:lnTo>
                <a:lnTo>
                  <a:pt x="953" y="1202"/>
                </a:lnTo>
                <a:lnTo>
                  <a:pt x="956" y="1176"/>
                </a:lnTo>
                <a:lnTo>
                  <a:pt x="956" y="1149"/>
                </a:lnTo>
                <a:lnTo>
                  <a:pt x="956" y="1123"/>
                </a:lnTo>
                <a:lnTo>
                  <a:pt x="960" y="1097"/>
                </a:lnTo>
                <a:lnTo>
                  <a:pt x="960" y="1070"/>
                </a:lnTo>
                <a:lnTo>
                  <a:pt x="960" y="1044"/>
                </a:lnTo>
                <a:lnTo>
                  <a:pt x="964" y="1021"/>
                </a:lnTo>
                <a:lnTo>
                  <a:pt x="964" y="998"/>
                </a:lnTo>
                <a:lnTo>
                  <a:pt x="964" y="976"/>
                </a:lnTo>
                <a:lnTo>
                  <a:pt x="968" y="953"/>
                </a:lnTo>
                <a:lnTo>
                  <a:pt x="968" y="930"/>
                </a:lnTo>
                <a:lnTo>
                  <a:pt x="968" y="911"/>
                </a:lnTo>
                <a:lnTo>
                  <a:pt x="971" y="892"/>
                </a:lnTo>
                <a:lnTo>
                  <a:pt x="971" y="874"/>
                </a:lnTo>
                <a:lnTo>
                  <a:pt x="971" y="858"/>
                </a:lnTo>
                <a:lnTo>
                  <a:pt x="975" y="843"/>
                </a:lnTo>
                <a:lnTo>
                  <a:pt x="975" y="828"/>
                </a:lnTo>
                <a:lnTo>
                  <a:pt x="975" y="817"/>
                </a:lnTo>
                <a:lnTo>
                  <a:pt x="979" y="806"/>
                </a:lnTo>
                <a:lnTo>
                  <a:pt x="979" y="794"/>
                </a:lnTo>
                <a:lnTo>
                  <a:pt x="979" y="787"/>
                </a:lnTo>
                <a:lnTo>
                  <a:pt x="983" y="779"/>
                </a:lnTo>
                <a:lnTo>
                  <a:pt x="983" y="775"/>
                </a:lnTo>
                <a:lnTo>
                  <a:pt x="983" y="771"/>
                </a:lnTo>
                <a:lnTo>
                  <a:pt x="987" y="768"/>
                </a:lnTo>
                <a:lnTo>
                  <a:pt x="990" y="771"/>
                </a:lnTo>
                <a:lnTo>
                  <a:pt x="990" y="775"/>
                </a:lnTo>
                <a:lnTo>
                  <a:pt x="990" y="779"/>
                </a:lnTo>
                <a:lnTo>
                  <a:pt x="994" y="787"/>
                </a:lnTo>
                <a:lnTo>
                  <a:pt x="994" y="794"/>
                </a:lnTo>
                <a:lnTo>
                  <a:pt x="994" y="802"/>
                </a:lnTo>
                <a:lnTo>
                  <a:pt x="998" y="813"/>
                </a:lnTo>
                <a:lnTo>
                  <a:pt x="998" y="824"/>
                </a:lnTo>
                <a:lnTo>
                  <a:pt x="998" y="836"/>
                </a:lnTo>
                <a:lnTo>
                  <a:pt x="1002" y="851"/>
                </a:lnTo>
                <a:lnTo>
                  <a:pt x="1002" y="866"/>
                </a:lnTo>
                <a:lnTo>
                  <a:pt x="1002" y="881"/>
                </a:lnTo>
                <a:lnTo>
                  <a:pt x="1005" y="896"/>
                </a:lnTo>
                <a:lnTo>
                  <a:pt x="1005" y="911"/>
                </a:lnTo>
                <a:lnTo>
                  <a:pt x="1005" y="930"/>
                </a:lnTo>
                <a:lnTo>
                  <a:pt x="1009" y="949"/>
                </a:lnTo>
                <a:lnTo>
                  <a:pt x="1009" y="968"/>
                </a:lnTo>
                <a:lnTo>
                  <a:pt x="1009" y="987"/>
                </a:lnTo>
                <a:lnTo>
                  <a:pt x="1013" y="1006"/>
                </a:lnTo>
                <a:lnTo>
                  <a:pt x="1013" y="1025"/>
                </a:lnTo>
                <a:lnTo>
                  <a:pt x="1013" y="1044"/>
                </a:lnTo>
                <a:lnTo>
                  <a:pt x="1017" y="1063"/>
                </a:lnTo>
                <a:lnTo>
                  <a:pt x="1017" y="1081"/>
                </a:lnTo>
                <a:lnTo>
                  <a:pt x="1017" y="1104"/>
                </a:lnTo>
                <a:lnTo>
                  <a:pt x="1021" y="1123"/>
                </a:lnTo>
                <a:lnTo>
                  <a:pt x="1021" y="1142"/>
                </a:lnTo>
                <a:lnTo>
                  <a:pt x="1021" y="1161"/>
                </a:lnTo>
                <a:lnTo>
                  <a:pt x="1024" y="1180"/>
                </a:lnTo>
                <a:lnTo>
                  <a:pt x="1024" y="1199"/>
                </a:lnTo>
                <a:lnTo>
                  <a:pt x="1024" y="1214"/>
                </a:lnTo>
                <a:lnTo>
                  <a:pt x="1028" y="1233"/>
                </a:lnTo>
                <a:lnTo>
                  <a:pt x="1028" y="1248"/>
                </a:lnTo>
                <a:lnTo>
                  <a:pt x="1028" y="1263"/>
                </a:lnTo>
                <a:lnTo>
                  <a:pt x="1032" y="1278"/>
                </a:lnTo>
                <a:lnTo>
                  <a:pt x="1032" y="1293"/>
                </a:lnTo>
                <a:lnTo>
                  <a:pt x="1032" y="1304"/>
                </a:lnTo>
                <a:lnTo>
                  <a:pt x="1036" y="1320"/>
                </a:lnTo>
                <a:lnTo>
                  <a:pt x="1036" y="1331"/>
                </a:lnTo>
                <a:lnTo>
                  <a:pt x="1036" y="1338"/>
                </a:lnTo>
                <a:lnTo>
                  <a:pt x="1040" y="1350"/>
                </a:lnTo>
                <a:lnTo>
                  <a:pt x="1040" y="1357"/>
                </a:lnTo>
                <a:lnTo>
                  <a:pt x="1040" y="1365"/>
                </a:lnTo>
                <a:lnTo>
                  <a:pt x="1043" y="1369"/>
                </a:lnTo>
                <a:lnTo>
                  <a:pt x="1043" y="1376"/>
                </a:lnTo>
                <a:lnTo>
                  <a:pt x="1043" y="1380"/>
                </a:lnTo>
                <a:lnTo>
                  <a:pt x="1047" y="1384"/>
                </a:lnTo>
                <a:lnTo>
                  <a:pt x="1051" y="1380"/>
                </a:lnTo>
                <a:lnTo>
                  <a:pt x="1055" y="1376"/>
                </a:lnTo>
                <a:lnTo>
                  <a:pt x="1055" y="1372"/>
                </a:lnTo>
                <a:lnTo>
                  <a:pt x="1055" y="1365"/>
                </a:lnTo>
                <a:lnTo>
                  <a:pt x="1058" y="1357"/>
                </a:lnTo>
                <a:lnTo>
                  <a:pt x="1058" y="1350"/>
                </a:lnTo>
                <a:lnTo>
                  <a:pt x="1062" y="1342"/>
                </a:lnTo>
                <a:lnTo>
                  <a:pt x="1062" y="1335"/>
                </a:lnTo>
                <a:lnTo>
                  <a:pt x="1062" y="1323"/>
                </a:lnTo>
                <a:lnTo>
                  <a:pt x="1066" y="1312"/>
                </a:lnTo>
                <a:lnTo>
                  <a:pt x="1066" y="1301"/>
                </a:lnTo>
                <a:lnTo>
                  <a:pt x="1066" y="1289"/>
                </a:lnTo>
                <a:lnTo>
                  <a:pt x="1070" y="1278"/>
                </a:lnTo>
                <a:lnTo>
                  <a:pt x="1070" y="1263"/>
                </a:lnTo>
                <a:lnTo>
                  <a:pt x="1070" y="1251"/>
                </a:lnTo>
                <a:lnTo>
                  <a:pt x="1074" y="1236"/>
                </a:lnTo>
                <a:lnTo>
                  <a:pt x="1074" y="1225"/>
                </a:lnTo>
                <a:lnTo>
                  <a:pt x="1074" y="1210"/>
                </a:lnTo>
                <a:lnTo>
                  <a:pt x="1077" y="1195"/>
                </a:lnTo>
                <a:lnTo>
                  <a:pt x="1077" y="1180"/>
                </a:lnTo>
                <a:lnTo>
                  <a:pt x="1077" y="1165"/>
                </a:lnTo>
                <a:lnTo>
                  <a:pt x="1081" y="1149"/>
                </a:lnTo>
                <a:lnTo>
                  <a:pt x="1081" y="1138"/>
                </a:lnTo>
                <a:lnTo>
                  <a:pt x="1081" y="1123"/>
                </a:lnTo>
                <a:lnTo>
                  <a:pt x="1085" y="1108"/>
                </a:lnTo>
                <a:lnTo>
                  <a:pt x="1085" y="1093"/>
                </a:lnTo>
                <a:lnTo>
                  <a:pt x="1085" y="1081"/>
                </a:lnTo>
                <a:lnTo>
                  <a:pt x="1089" y="1066"/>
                </a:lnTo>
                <a:lnTo>
                  <a:pt x="1089" y="1055"/>
                </a:lnTo>
                <a:lnTo>
                  <a:pt x="1089" y="1040"/>
                </a:lnTo>
                <a:lnTo>
                  <a:pt x="1092" y="1029"/>
                </a:lnTo>
                <a:lnTo>
                  <a:pt x="1092" y="1017"/>
                </a:lnTo>
                <a:lnTo>
                  <a:pt x="1092" y="1006"/>
                </a:lnTo>
                <a:lnTo>
                  <a:pt x="1096" y="994"/>
                </a:lnTo>
                <a:lnTo>
                  <a:pt x="1096" y="987"/>
                </a:lnTo>
                <a:lnTo>
                  <a:pt x="1096" y="976"/>
                </a:lnTo>
                <a:lnTo>
                  <a:pt x="1100" y="968"/>
                </a:lnTo>
                <a:lnTo>
                  <a:pt x="1100" y="960"/>
                </a:lnTo>
                <a:lnTo>
                  <a:pt x="1100" y="953"/>
                </a:lnTo>
                <a:lnTo>
                  <a:pt x="1104" y="949"/>
                </a:lnTo>
                <a:lnTo>
                  <a:pt x="1104" y="942"/>
                </a:lnTo>
                <a:lnTo>
                  <a:pt x="1104" y="938"/>
                </a:lnTo>
                <a:lnTo>
                  <a:pt x="1108" y="934"/>
                </a:lnTo>
                <a:lnTo>
                  <a:pt x="1111" y="930"/>
                </a:lnTo>
                <a:lnTo>
                  <a:pt x="1111" y="926"/>
                </a:lnTo>
                <a:lnTo>
                  <a:pt x="1115" y="930"/>
                </a:lnTo>
                <a:lnTo>
                  <a:pt x="1115" y="934"/>
                </a:lnTo>
                <a:lnTo>
                  <a:pt x="1119" y="938"/>
                </a:lnTo>
                <a:lnTo>
                  <a:pt x="1119" y="942"/>
                </a:lnTo>
                <a:lnTo>
                  <a:pt x="1119" y="945"/>
                </a:lnTo>
                <a:lnTo>
                  <a:pt x="1123" y="953"/>
                </a:lnTo>
                <a:lnTo>
                  <a:pt x="1123" y="957"/>
                </a:lnTo>
                <a:lnTo>
                  <a:pt x="1123" y="1123"/>
                </a:lnTo>
                <a:lnTo>
                  <a:pt x="1126" y="1119"/>
                </a:lnTo>
                <a:lnTo>
                  <a:pt x="1126" y="1115"/>
                </a:lnTo>
                <a:lnTo>
                  <a:pt x="1126" y="1112"/>
                </a:lnTo>
                <a:lnTo>
                  <a:pt x="1130" y="1100"/>
                </a:lnTo>
                <a:lnTo>
                  <a:pt x="1130" y="1089"/>
                </a:lnTo>
                <a:lnTo>
                  <a:pt x="1130" y="1074"/>
                </a:lnTo>
                <a:lnTo>
                  <a:pt x="1134" y="1059"/>
                </a:lnTo>
                <a:lnTo>
                  <a:pt x="1134" y="1040"/>
                </a:lnTo>
                <a:lnTo>
                  <a:pt x="1134" y="1021"/>
                </a:lnTo>
                <a:lnTo>
                  <a:pt x="1138" y="998"/>
                </a:lnTo>
                <a:lnTo>
                  <a:pt x="1138" y="976"/>
                </a:lnTo>
                <a:lnTo>
                  <a:pt x="1138" y="949"/>
                </a:lnTo>
                <a:lnTo>
                  <a:pt x="1142" y="919"/>
                </a:lnTo>
                <a:lnTo>
                  <a:pt x="1142" y="892"/>
                </a:lnTo>
                <a:lnTo>
                  <a:pt x="1142" y="858"/>
                </a:lnTo>
                <a:lnTo>
                  <a:pt x="1145" y="828"/>
                </a:lnTo>
                <a:lnTo>
                  <a:pt x="1145" y="794"/>
                </a:lnTo>
                <a:lnTo>
                  <a:pt x="1145" y="760"/>
                </a:lnTo>
                <a:lnTo>
                  <a:pt x="1149" y="726"/>
                </a:lnTo>
                <a:lnTo>
                  <a:pt x="1149" y="692"/>
                </a:lnTo>
                <a:lnTo>
                  <a:pt x="1149" y="658"/>
                </a:lnTo>
                <a:lnTo>
                  <a:pt x="1153" y="620"/>
                </a:lnTo>
                <a:lnTo>
                  <a:pt x="1153" y="586"/>
                </a:lnTo>
                <a:lnTo>
                  <a:pt x="1153" y="549"/>
                </a:lnTo>
                <a:lnTo>
                  <a:pt x="1157" y="514"/>
                </a:lnTo>
                <a:lnTo>
                  <a:pt x="1157" y="477"/>
                </a:lnTo>
                <a:lnTo>
                  <a:pt x="1157" y="443"/>
                </a:lnTo>
                <a:lnTo>
                  <a:pt x="1160" y="409"/>
                </a:lnTo>
                <a:lnTo>
                  <a:pt x="1160" y="375"/>
                </a:lnTo>
                <a:lnTo>
                  <a:pt x="1160" y="341"/>
                </a:lnTo>
                <a:lnTo>
                  <a:pt x="1164" y="307"/>
                </a:lnTo>
                <a:lnTo>
                  <a:pt x="1164" y="276"/>
                </a:lnTo>
                <a:lnTo>
                  <a:pt x="1164" y="246"/>
                </a:lnTo>
                <a:lnTo>
                  <a:pt x="1168" y="220"/>
                </a:lnTo>
                <a:lnTo>
                  <a:pt x="1168" y="193"/>
                </a:lnTo>
                <a:lnTo>
                  <a:pt x="1168" y="167"/>
                </a:lnTo>
                <a:lnTo>
                  <a:pt x="1172" y="144"/>
                </a:lnTo>
                <a:lnTo>
                  <a:pt x="1172" y="121"/>
                </a:lnTo>
                <a:lnTo>
                  <a:pt x="1172" y="99"/>
                </a:lnTo>
                <a:lnTo>
                  <a:pt x="1176" y="80"/>
                </a:lnTo>
                <a:lnTo>
                  <a:pt x="1176" y="65"/>
                </a:lnTo>
                <a:lnTo>
                  <a:pt x="1176" y="50"/>
                </a:lnTo>
                <a:lnTo>
                  <a:pt x="1179" y="34"/>
                </a:lnTo>
                <a:lnTo>
                  <a:pt x="1179" y="27"/>
                </a:lnTo>
                <a:lnTo>
                  <a:pt x="1179" y="16"/>
                </a:lnTo>
                <a:lnTo>
                  <a:pt x="1183" y="8"/>
                </a:lnTo>
                <a:lnTo>
                  <a:pt x="1183" y="4"/>
                </a:lnTo>
                <a:lnTo>
                  <a:pt x="1187" y="0"/>
                </a:lnTo>
                <a:lnTo>
                  <a:pt x="1191" y="4"/>
                </a:lnTo>
                <a:lnTo>
                  <a:pt x="1191" y="8"/>
                </a:lnTo>
                <a:lnTo>
                  <a:pt x="1191" y="16"/>
                </a:lnTo>
                <a:lnTo>
                  <a:pt x="1194" y="23"/>
                </a:lnTo>
                <a:lnTo>
                  <a:pt x="1194" y="34"/>
                </a:lnTo>
                <a:lnTo>
                  <a:pt x="1194" y="46"/>
                </a:lnTo>
                <a:lnTo>
                  <a:pt x="1198" y="61"/>
                </a:lnTo>
                <a:lnTo>
                  <a:pt x="1198" y="76"/>
                </a:lnTo>
                <a:lnTo>
                  <a:pt x="1198" y="91"/>
                </a:lnTo>
                <a:lnTo>
                  <a:pt x="1202" y="110"/>
                </a:lnTo>
                <a:lnTo>
                  <a:pt x="1202" y="129"/>
                </a:lnTo>
                <a:lnTo>
                  <a:pt x="1202" y="152"/>
                </a:lnTo>
                <a:lnTo>
                  <a:pt x="1206" y="171"/>
                </a:lnTo>
                <a:lnTo>
                  <a:pt x="1206" y="193"/>
                </a:lnTo>
                <a:lnTo>
                  <a:pt x="1206" y="216"/>
                </a:lnTo>
                <a:lnTo>
                  <a:pt x="1210" y="242"/>
                </a:lnTo>
                <a:lnTo>
                  <a:pt x="1210" y="269"/>
                </a:lnTo>
                <a:lnTo>
                  <a:pt x="1210" y="292"/>
                </a:lnTo>
                <a:lnTo>
                  <a:pt x="1213" y="318"/>
                </a:lnTo>
                <a:lnTo>
                  <a:pt x="1213" y="344"/>
                </a:lnTo>
                <a:lnTo>
                  <a:pt x="1213" y="371"/>
                </a:lnTo>
                <a:lnTo>
                  <a:pt x="1217" y="397"/>
                </a:lnTo>
                <a:lnTo>
                  <a:pt x="1217" y="424"/>
                </a:lnTo>
                <a:lnTo>
                  <a:pt x="1217" y="450"/>
                </a:lnTo>
                <a:lnTo>
                  <a:pt x="1221" y="477"/>
                </a:lnTo>
                <a:lnTo>
                  <a:pt x="1221" y="503"/>
                </a:lnTo>
                <a:lnTo>
                  <a:pt x="1221" y="530"/>
                </a:lnTo>
                <a:lnTo>
                  <a:pt x="1225" y="556"/>
                </a:lnTo>
                <a:lnTo>
                  <a:pt x="1225" y="579"/>
                </a:lnTo>
                <a:lnTo>
                  <a:pt x="1225" y="601"/>
                </a:lnTo>
                <a:lnTo>
                  <a:pt x="1229" y="624"/>
                </a:lnTo>
                <a:lnTo>
                  <a:pt x="1229" y="647"/>
                </a:lnTo>
                <a:lnTo>
                  <a:pt x="1229" y="669"/>
                </a:lnTo>
                <a:lnTo>
                  <a:pt x="1232" y="688"/>
                </a:lnTo>
                <a:lnTo>
                  <a:pt x="1232" y="707"/>
                </a:lnTo>
                <a:lnTo>
                  <a:pt x="1232" y="726"/>
                </a:lnTo>
                <a:lnTo>
                  <a:pt x="1236" y="741"/>
                </a:lnTo>
                <a:lnTo>
                  <a:pt x="1236" y="756"/>
                </a:lnTo>
                <a:lnTo>
                  <a:pt x="1236" y="771"/>
                </a:lnTo>
                <a:lnTo>
                  <a:pt x="1240" y="783"/>
                </a:lnTo>
                <a:lnTo>
                  <a:pt x="1240" y="794"/>
                </a:lnTo>
                <a:lnTo>
                  <a:pt x="1240" y="806"/>
                </a:lnTo>
                <a:lnTo>
                  <a:pt x="1244" y="813"/>
                </a:lnTo>
                <a:lnTo>
                  <a:pt x="1244" y="821"/>
                </a:lnTo>
                <a:lnTo>
                  <a:pt x="1244" y="824"/>
                </a:lnTo>
                <a:lnTo>
                  <a:pt x="1247" y="828"/>
                </a:lnTo>
                <a:lnTo>
                  <a:pt x="1251" y="832"/>
                </a:lnTo>
                <a:lnTo>
                  <a:pt x="1251" y="828"/>
                </a:lnTo>
                <a:lnTo>
                  <a:pt x="1251" y="824"/>
                </a:lnTo>
                <a:lnTo>
                  <a:pt x="1255" y="821"/>
                </a:lnTo>
                <a:lnTo>
                  <a:pt x="1255" y="813"/>
                </a:lnTo>
                <a:lnTo>
                  <a:pt x="1255" y="806"/>
                </a:lnTo>
                <a:lnTo>
                  <a:pt x="1259" y="798"/>
                </a:lnTo>
                <a:lnTo>
                  <a:pt x="1259" y="787"/>
                </a:lnTo>
                <a:lnTo>
                  <a:pt x="1259" y="775"/>
                </a:lnTo>
                <a:lnTo>
                  <a:pt x="1263" y="764"/>
                </a:lnTo>
                <a:lnTo>
                  <a:pt x="1263" y="749"/>
                </a:lnTo>
                <a:lnTo>
                  <a:pt x="1263" y="734"/>
                </a:lnTo>
                <a:lnTo>
                  <a:pt x="1266" y="719"/>
                </a:lnTo>
                <a:lnTo>
                  <a:pt x="1266" y="703"/>
                </a:lnTo>
                <a:lnTo>
                  <a:pt x="1266" y="688"/>
                </a:lnTo>
                <a:lnTo>
                  <a:pt x="1270" y="669"/>
                </a:lnTo>
                <a:lnTo>
                  <a:pt x="1270" y="651"/>
                </a:lnTo>
                <a:lnTo>
                  <a:pt x="1270" y="632"/>
                </a:lnTo>
                <a:lnTo>
                  <a:pt x="1274" y="613"/>
                </a:lnTo>
                <a:lnTo>
                  <a:pt x="1274" y="594"/>
                </a:lnTo>
                <a:lnTo>
                  <a:pt x="1274" y="575"/>
                </a:lnTo>
                <a:lnTo>
                  <a:pt x="1278" y="556"/>
                </a:lnTo>
                <a:lnTo>
                  <a:pt x="1278" y="537"/>
                </a:lnTo>
                <a:lnTo>
                  <a:pt x="1278" y="518"/>
                </a:lnTo>
                <a:lnTo>
                  <a:pt x="1281" y="496"/>
                </a:lnTo>
                <a:lnTo>
                  <a:pt x="1281" y="477"/>
                </a:lnTo>
                <a:lnTo>
                  <a:pt x="1281" y="458"/>
                </a:lnTo>
                <a:lnTo>
                  <a:pt x="1285" y="439"/>
                </a:lnTo>
                <a:lnTo>
                  <a:pt x="1285" y="420"/>
                </a:lnTo>
                <a:lnTo>
                  <a:pt x="1285" y="401"/>
                </a:lnTo>
                <a:lnTo>
                  <a:pt x="1289" y="386"/>
                </a:lnTo>
                <a:lnTo>
                  <a:pt x="1289" y="367"/>
                </a:lnTo>
                <a:lnTo>
                  <a:pt x="1289" y="352"/>
                </a:lnTo>
                <a:lnTo>
                  <a:pt x="1293" y="337"/>
                </a:lnTo>
                <a:lnTo>
                  <a:pt x="1293" y="322"/>
                </a:lnTo>
                <a:lnTo>
                  <a:pt x="1293" y="307"/>
                </a:lnTo>
                <a:lnTo>
                  <a:pt x="1297" y="295"/>
                </a:lnTo>
                <a:lnTo>
                  <a:pt x="1297" y="280"/>
                </a:lnTo>
                <a:lnTo>
                  <a:pt x="1297" y="269"/>
                </a:lnTo>
                <a:lnTo>
                  <a:pt x="1300" y="261"/>
                </a:lnTo>
                <a:lnTo>
                  <a:pt x="1300" y="250"/>
                </a:lnTo>
                <a:lnTo>
                  <a:pt x="1300" y="242"/>
                </a:lnTo>
                <a:lnTo>
                  <a:pt x="1304" y="235"/>
                </a:lnTo>
                <a:lnTo>
                  <a:pt x="1304" y="231"/>
                </a:lnTo>
                <a:lnTo>
                  <a:pt x="1304" y="223"/>
                </a:lnTo>
                <a:lnTo>
                  <a:pt x="1308" y="220"/>
                </a:lnTo>
                <a:lnTo>
                  <a:pt x="1312" y="216"/>
                </a:lnTo>
                <a:lnTo>
                  <a:pt x="1315" y="220"/>
                </a:lnTo>
                <a:lnTo>
                  <a:pt x="1315" y="223"/>
                </a:lnTo>
                <a:lnTo>
                  <a:pt x="1319" y="227"/>
                </a:lnTo>
                <a:lnTo>
                  <a:pt x="1319" y="235"/>
                </a:lnTo>
                <a:lnTo>
                  <a:pt x="1319" y="242"/>
                </a:lnTo>
                <a:lnTo>
                  <a:pt x="1323" y="250"/>
                </a:lnTo>
                <a:lnTo>
                  <a:pt x="1323" y="257"/>
                </a:lnTo>
                <a:lnTo>
                  <a:pt x="1323" y="265"/>
                </a:lnTo>
                <a:lnTo>
                  <a:pt x="1327" y="276"/>
                </a:lnTo>
                <a:lnTo>
                  <a:pt x="1327" y="288"/>
                </a:lnTo>
                <a:lnTo>
                  <a:pt x="1327" y="299"/>
                </a:lnTo>
                <a:lnTo>
                  <a:pt x="1331" y="310"/>
                </a:lnTo>
                <a:lnTo>
                  <a:pt x="1331" y="322"/>
                </a:lnTo>
                <a:lnTo>
                  <a:pt x="1331" y="337"/>
                </a:lnTo>
                <a:lnTo>
                  <a:pt x="1334" y="348"/>
                </a:lnTo>
                <a:lnTo>
                  <a:pt x="1334" y="363"/>
                </a:lnTo>
                <a:lnTo>
                  <a:pt x="1334" y="375"/>
                </a:lnTo>
                <a:lnTo>
                  <a:pt x="1338" y="390"/>
                </a:lnTo>
                <a:lnTo>
                  <a:pt x="1338" y="405"/>
                </a:lnTo>
                <a:lnTo>
                  <a:pt x="1338" y="420"/>
                </a:lnTo>
                <a:lnTo>
                  <a:pt x="1342" y="435"/>
                </a:lnTo>
                <a:lnTo>
                  <a:pt x="1342" y="450"/>
                </a:lnTo>
                <a:lnTo>
                  <a:pt x="1342" y="462"/>
                </a:lnTo>
                <a:lnTo>
                  <a:pt x="1346" y="477"/>
                </a:lnTo>
                <a:lnTo>
                  <a:pt x="1346" y="492"/>
                </a:lnTo>
                <a:lnTo>
                  <a:pt x="1346" y="507"/>
                </a:lnTo>
                <a:lnTo>
                  <a:pt x="1349" y="518"/>
                </a:lnTo>
                <a:lnTo>
                  <a:pt x="1349" y="533"/>
                </a:lnTo>
                <a:lnTo>
                  <a:pt x="1349" y="545"/>
                </a:lnTo>
                <a:lnTo>
                  <a:pt x="1353" y="560"/>
                </a:lnTo>
                <a:lnTo>
                  <a:pt x="1353" y="571"/>
                </a:lnTo>
                <a:lnTo>
                  <a:pt x="1353" y="583"/>
                </a:lnTo>
                <a:lnTo>
                  <a:pt x="1357" y="594"/>
                </a:lnTo>
                <a:lnTo>
                  <a:pt x="1357" y="605"/>
                </a:lnTo>
                <a:lnTo>
                  <a:pt x="1357" y="613"/>
                </a:lnTo>
                <a:lnTo>
                  <a:pt x="1361" y="624"/>
                </a:lnTo>
                <a:lnTo>
                  <a:pt x="1361" y="632"/>
                </a:lnTo>
                <a:lnTo>
                  <a:pt x="1361" y="639"/>
                </a:lnTo>
                <a:lnTo>
                  <a:pt x="1365" y="647"/>
                </a:lnTo>
                <a:lnTo>
                  <a:pt x="1365" y="651"/>
                </a:lnTo>
                <a:lnTo>
                  <a:pt x="1365" y="658"/>
                </a:lnTo>
                <a:lnTo>
                  <a:pt x="1368" y="662"/>
                </a:lnTo>
                <a:lnTo>
                  <a:pt x="1368" y="666"/>
                </a:lnTo>
                <a:lnTo>
                  <a:pt x="1372" y="669"/>
                </a:lnTo>
                <a:lnTo>
                  <a:pt x="1372" y="673"/>
                </a:lnTo>
                <a:lnTo>
                  <a:pt x="1376" y="669"/>
                </a:lnTo>
                <a:lnTo>
                  <a:pt x="1380" y="666"/>
                </a:lnTo>
                <a:lnTo>
                  <a:pt x="1380" y="662"/>
                </a:lnTo>
                <a:lnTo>
                  <a:pt x="1380" y="658"/>
                </a:lnTo>
                <a:lnTo>
                  <a:pt x="1383" y="654"/>
                </a:lnTo>
                <a:lnTo>
                  <a:pt x="1383" y="647"/>
                </a:lnTo>
                <a:lnTo>
                  <a:pt x="1383" y="643"/>
                </a:lnTo>
                <a:lnTo>
                  <a:pt x="1387" y="635"/>
                </a:lnTo>
                <a:lnTo>
                  <a:pt x="1387" y="628"/>
                </a:lnTo>
                <a:lnTo>
                  <a:pt x="1387" y="620"/>
                </a:lnTo>
                <a:lnTo>
                  <a:pt x="1391" y="609"/>
                </a:lnTo>
                <a:lnTo>
                  <a:pt x="1391" y="601"/>
                </a:lnTo>
                <a:lnTo>
                  <a:pt x="1391" y="594"/>
                </a:lnTo>
                <a:lnTo>
                  <a:pt x="1395" y="583"/>
                </a:lnTo>
                <a:lnTo>
                  <a:pt x="1395" y="575"/>
                </a:lnTo>
                <a:lnTo>
                  <a:pt x="1395" y="564"/>
                </a:lnTo>
                <a:lnTo>
                  <a:pt x="1399" y="552"/>
                </a:lnTo>
                <a:lnTo>
                  <a:pt x="1399" y="541"/>
                </a:lnTo>
                <a:lnTo>
                  <a:pt x="1399" y="530"/>
                </a:lnTo>
                <a:lnTo>
                  <a:pt x="1402" y="522"/>
                </a:lnTo>
                <a:lnTo>
                  <a:pt x="1402" y="511"/>
                </a:lnTo>
                <a:lnTo>
                  <a:pt x="1402" y="499"/>
                </a:lnTo>
                <a:lnTo>
                  <a:pt x="1406" y="488"/>
                </a:lnTo>
                <a:lnTo>
                  <a:pt x="1406" y="477"/>
                </a:lnTo>
                <a:lnTo>
                  <a:pt x="1406" y="465"/>
                </a:lnTo>
                <a:lnTo>
                  <a:pt x="1410" y="458"/>
                </a:lnTo>
                <a:lnTo>
                  <a:pt x="1410" y="446"/>
                </a:lnTo>
                <a:lnTo>
                  <a:pt x="1410" y="435"/>
                </a:lnTo>
                <a:lnTo>
                  <a:pt x="1414" y="428"/>
                </a:lnTo>
                <a:lnTo>
                  <a:pt x="1414" y="416"/>
                </a:lnTo>
                <a:lnTo>
                  <a:pt x="1414" y="409"/>
                </a:lnTo>
                <a:lnTo>
                  <a:pt x="1418" y="401"/>
                </a:lnTo>
                <a:lnTo>
                  <a:pt x="1418" y="390"/>
                </a:lnTo>
                <a:lnTo>
                  <a:pt x="1418" y="382"/>
                </a:lnTo>
                <a:lnTo>
                  <a:pt x="1421" y="378"/>
                </a:lnTo>
                <a:lnTo>
                  <a:pt x="1421" y="371"/>
                </a:lnTo>
                <a:lnTo>
                  <a:pt x="1421" y="363"/>
                </a:lnTo>
                <a:lnTo>
                  <a:pt x="1425" y="360"/>
                </a:lnTo>
                <a:lnTo>
                  <a:pt x="1425" y="352"/>
                </a:lnTo>
                <a:lnTo>
                  <a:pt x="1425" y="348"/>
                </a:lnTo>
                <a:lnTo>
                  <a:pt x="1429" y="344"/>
                </a:lnTo>
                <a:lnTo>
                  <a:pt x="1429" y="341"/>
                </a:lnTo>
                <a:lnTo>
                  <a:pt x="1433" y="337"/>
                </a:lnTo>
                <a:lnTo>
                  <a:pt x="1436" y="333"/>
                </a:lnTo>
                <a:lnTo>
                  <a:pt x="1440" y="337"/>
                </a:lnTo>
                <a:lnTo>
                  <a:pt x="1444" y="341"/>
                </a:lnTo>
                <a:lnTo>
                  <a:pt x="1444" y="344"/>
                </a:lnTo>
                <a:lnTo>
                  <a:pt x="1444" y="348"/>
                </a:lnTo>
                <a:lnTo>
                  <a:pt x="1448" y="352"/>
                </a:lnTo>
                <a:lnTo>
                  <a:pt x="1448" y="356"/>
                </a:lnTo>
                <a:lnTo>
                  <a:pt x="1448" y="360"/>
                </a:lnTo>
                <a:lnTo>
                  <a:pt x="1452" y="367"/>
                </a:lnTo>
                <a:lnTo>
                  <a:pt x="1452" y="371"/>
                </a:lnTo>
                <a:lnTo>
                  <a:pt x="1452" y="378"/>
                </a:lnTo>
                <a:lnTo>
                  <a:pt x="1455" y="386"/>
                </a:lnTo>
                <a:lnTo>
                  <a:pt x="1455" y="394"/>
                </a:lnTo>
                <a:lnTo>
                  <a:pt x="1455" y="401"/>
                </a:lnTo>
                <a:lnTo>
                  <a:pt x="1459" y="405"/>
                </a:lnTo>
                <a:lnTo>
                  <a:pt x="1459" y="412"/>
                </a:lnTo>
                <a:lnTo>
                  <a:pt x="1459" y="420"/>
                </a:lnTo>
                <a:lnTo>
                  <a:pt x="1463" y="431"/>
                </a:lnTo>
                <a:lnTo>
                  <a:pt x="1463" y="439"/>
                </a:lnTo>
                <a:lnTo>
                  <a:pt x="1463" y="446"/>
                </a:lnTo>
                <a:lnTo>
                  <a:pt x="1467" y="454"/>
                </a:lnTo>
                <a:lnTo>
                  <a:pt x="1467" y="462"/>
                </a:lnTo>
                <a:lnTo>
                  <a:pt x="1467" y="469"/>
                </a:lnTo>
                <a:lnTo>
                  <a:pt x="1470" y="477"/>
                </a:lnTo>
                <a:lnTo>
                  <a:pt x="1470" y="484"/>
                </a:lnTo>
                <a:lnTo>
                  <a:pt x="1470" y="492"/>
                </a:lnTo>
                <a:lnTo>
                  <a:pt x="1474" y="499"/>
                </a:lnTo>
                <a:lnTo>
                  <a:pt x="1474" y="507"/>
                </a:lnTo>
                <a:lnTo>
                  <a:pt x="1474" y="514"/>
                </a:lnTo>
                <a:lnTo>
                  <a:pt x="1478" y="522"/>
                </a:lnTo>
                <a:lnTo>
                  <a:pt x="1478" y="530"/>
                </a:lnTo>
                <a:lnTo>
                  <a:pt x="1478" y="533"/>
                </a:lnTo>
                <a:lnTo>
                  <a:pt x="1482" y="541"/>
                </a:lnTo>
                <a:lnTo>
                  <a:pt x="1482" y="549"/>
                </a:lnTo>
                <a:lnTo>
                  <a:pt x="1482" y="552"/>
                </a:lnTo>
                <a:lnTo>
                  <a:pt x="1486" y="556"/>
                </a:lnTo>
                <a:lnTo>
                  <a:pt x="1486" y="564"/>
                </a:lnTo>
                <a:lnTo>
                  <a:pt x="1486" y="567"/>
                </a:lnTo>
                <a:lnTo>
                  <a:pt x="1489" y="571"/>
                </a:lnTo>
                <a:lnTo>
                  <a:pt x="1489" y="575"/>
                </a:lnTo>
                <a:lnTo>
                  <a:pt x="1493" y="579"/>
                </a:lnTo>
                <a:lnTo>
                  <a:pt x="1497" y="583"/>
                </a:lnTo>
                <a:lnTo>
                  <a:pt x="1501" y="583"/>
                </a:lnTo>
                <a:lnTo>
                  <a:pt x="1504" y="579"/>
                </a:lnTo>
                <a:lnTo>
                  <a:pt x="1508" y="575"/>
                </a:lnTo>
                <a:lnTo>
                  <a:pt x="1508" y="571"/>
                </a:lnTo>
                <a:lnTo>
                  <a:pt x="1508" y="567"/>
                </a:lnTo>
                <a:lnTo>
                  <a:pt x="1512" y="564"/>
                </a:lnTo>
                <a:lnTo>
                  <a:pt x="1512" y="560"/>
                </a:lnTo>
                <a:lnTo>
                  <a:pt x="1512" y="556"/>
                </a:lnTo>
                <a:lnTo>
                  <a:pt x="1516" y="552"/>
                </a:lnTo>
                <a:lnTo>
                  <a:pt x="1516" y="545"/>
                </a:lnTo>
                <a:lnTo>
                  <a:pt x="1516" y="541"/>
                </a:lnTo>
                <a:lnTo>
                  <a:pt x="1520" y="537"/>
                </a:lnTo>
                <a:lnTo>
                  <a:pt x="1520" y="530"/>
                </a:lnTo>
                <a:lnTo>
                  <a:pt x="1520" y="526"/>
                </a:lnTo>
                <a:lnTo>
                  <a:pt x="1523" y="518"/>
                </a:lnTo>
                <a:lnTo>
                  <a:pt x="1523" y="514"/>
                </a:lnTo>
                <a:lnTo>
                  <a:pt x="1523" y="507"/>
                </a:lnTo>
                <a:lnTo>
                  <a:pt x="1527" y="499"/>
                </a:lnTo>
                <a:lnTo>
                  <a:pt x="1527" y="496"/>
                </a:lnTo>
                <a:lnTo>
                  <a:pt x="1527" y="488"/>
                </a:lnTo>
                <a:lnTo>
                  <a:pt x="1531" y="484"/>
                </a:lnTo>
                <a:lnTo>
                  <a:pt x="1531" y="477"/>
                </a:lnTo>
                <a:lnTo>
                  <a:pt x="1531" y="473"/>
                </a:lnTo>
                <a:lnTo>
                  <a:pt x="1535" y="465"/>
                </a:lnTo>
                <a:lnTo>
                  <a:pt x="1535" y="462"/>
                </a:lnTo>
                <a:lnTo>
                  <a:pt x="1535" y="454"/>
                </a:lnTo>
                <a:lnTo>
                  <a:pt x="1538" y="450"/>
                </a:lnTo>
                <a:lnTo>
                  <a:pt x="1538" y="443"/>
                </a:lnTo>
                <a:lnTo>
                  <a:pt x="1538" y="439"/>
                </a:lnTo>
                <a:lnTo>
                  <a:pt x="1542" y="435"/>
                </a:lnTo>
                <a:lnTo>
                  <a:pt x="1542" y="431"/>
                </a:lnTo>
                <a:lnTo>
                  <a:pt x="1542" y="428"/>
                </a:lnTo>
                <a:lnTo>
                  <a:pt x="1546" y="424"/>
                </a:lnTo>
                <a:lnTo>
                  <a:pt x="1546" y="420"/>
                </a:lnTo>
                <a:lnTo>
                  <a:pt x="1546" y="416"/>
                </a:lnTo>
                <a:lnTo>
                  <a:pt x="1550" y="412"/>
                </a:lnTo>
                <a:lnTo>
                  <a:pt x="1550" y="409"/>
                </a:lnTo>
                <a:lnTo>
                  <a:pt x="1554" y="405"/>
                </a:lnTo>
                <a:lnTo>
                  <a:pt x="1557" y="401"/>
                </a:lnTo>
                <a:lnTo>
                  <a:pt x="1561" y="397"/>
                </a:lnTo>
                <a:lnTo>
                  <a:pt x="1565" y="401"/>
                </a:lnTo>
                <a:lnTo>
                  <a:pt x="1569" y="405"/>
                </a:lnTo>
                <a:lnTo>
                  <a:pt x="1572" y="409"/>
                </a:lnTo>
                <a:lnTo>
                  <a:pt x="1572" y="412"/>
                </a:lnTo>
                <a:lnTo>
                  <a:pt x="1576" y="416"/>
                </a:lnTo>
                <a:lnTo>
                  <a:pt x="1576" y="420"/>
                </a:lnTo>
                <a:lnTo>
                  <a:pt x="1576" y="424"/>
                </a:lnTo>
                <a:lnTo>
                  <a:pt x="1580" y="428"/>
                </a:lnTo>
                <a:lnTo>
                  <a:pt x="1580" y="431"/>
                </a:lnTo>
                <a:lnTo>
                  <a:pt x="1580" y="435"/>
                </a:lnTo>
                <a:lnTo>
                  <a:pt x="1584" y="439"/>
                </a:lnTo>
                <a:lnTo>
                  <a:pt x="1584" y="443"/>
                </a:lnTo>
                <a:lnTo>
                  <a:pt x="1584" y="446"/>
                </a:lnTo>
                <a:lnTo>
                  <a:pt x="1588" y="450"/>
                </a:lnTo>
                <a:lnTo>
                  <a:pt x="1588" y="454"/>
                </a:lnTo>
                <a:lnTo>
                  <a:pt x="1588" y="462"/>
                </a:lnTo>
                <a:lnTo>
                  <a:pt x="1591" y="465"/>
                </a:lnTo>
                <a:lnTo>
                  <a:pt x="1591" y="469"/>
                </a:lnTo>
                <a:lnTo>
                  <a:pt x="1591" y="473"/>
                </a:lnTo>
                <a:lnTo>
                  <a:pt x="1595" y="477"/>
                </a:lnTo>
                <a:lnTo>
                  <a:pt x="1595" y="480"/>
                </a:lnTo>
                <a:lnTo>
                  <a:pt x="1595" y="488"/>
                </a:lnTo>
                <a:lnTo>
                  <a:pt x="1599" y="492"/>
                </a:lnTo>
                <a:lnTo>
                  <a:pt x="1599" y="496"/>
                </a:lnTo>
                <a:lnTo>
                  <a:pt x="1599" y="499"/>
                </a:lnTo>
                <a:lnTo>
                  <a:pt x="1603" y="503"/>
                </a:lnTo>
                <a:lnTo>
                  <a:pt x="1603" y="507"/>
                </a:lnTo>
                <a:lnTo>
                  <a:pt x="1607" y="511"/>
                </a:lnTo>
                <a:lnTo>
                  <a:pt x="1607" y="514"/>
                </a:lnTo>
                <a:lnTo>
                  <a:pt x="1607" y="518"/>
                </a:lnTo>
                <a:lnTo>
                  <a:pt x="1610" y="522"/>
                </a:lnTo>
                <a:lnTo>
                  <a:pt x="1610" y="477"/>
                </a:lnTo>
                <a:lnTo>
                  <a:pt x="1610" y="480"/>
                </a:lnTo>
                <a:lnTo>
                  <a:pt x="1614" y="484"/>
                </a:lnTo>
                <a:lnTo>
                  <a:pt x="1614" y="488"/>
                </a:lnTo>
                <a:lnTo>
                  <a:pt x="1614" y="499"/>
                </a:lnTo>
                <a:lnTo>
                  <a:pt x="1618" y="511"/>
                </a:lnTo>
                <a:lnTo>
                  <a:pt x="1618" y="526"/>
                </a:lnTo>
                <a:lnTo>
                  <a:pt x="1618" y="541"/>
                </a:lnTo>
                <a:lnTo>
                  <a:pt x="1622" y="560"/>
                </a:lnTo>
                <a:lnTo>
                  <a:pt x="1622" y="579"/>
                </a:lnTo>
                <a:lnTo>
                  <a:pt x="1622" y="601"/>
                </a:lnTo>
                <a:lnTo>
                  <a:pt x="1625" y="624"/>
                </a:lnTo>
                <a:lnTo>
                  <a:pt x="1625" y="651"/>
                </a:lnTo>
                <a:lnTo>
                  <a:pt x="1625" y="681"/>
                </a:lnTo>
                <a:lnTo>
                  <a:pt x="1629" y="707"/>
                </a:lnTo>
                <a:lnTo>
                  <a:pt x="1629" y="741"/>
                </a:lnTo>
                <a:lnTo>
                  <a:pt x="1629" y="771"/>
                </a:lnTo>
                <a:lnTo>
                  <a:pt x="1633" y="806"/>
                </a:lnTo>
                <a:lnTo>
                  <a:pt x="1633" y="840"/>
                </a:lnTo>
                <a:lnTo>
                  <a:pt x="1633" y="874"/>
                </a:lnTo>
                <a:lnTo>
                  <a:pt x="1637" y="908"/>
                </a:lnTo>
                <a:lnTo>
                  <a:pt x="1637" y="942"/>
                </a:lnTo>
                <a:lnTo>
                  <a:pt x="1637" y="979"/>
                </a:lnTo>
                <a:lnTo>
                  <a:pt x="1641" y="1013"/>
                </a:lnTo>
              </a:path>
            </a:pathLst>
          </a:custGeom>
          <a:noFill/>
          <a:ln w="60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03560" y="2689200"/>
            <a:ext cx="792000" cy="1076400"/>
          </a:xfrm>
          <a:custGeom>
            <a:avLst/>
            <a:gdLst/>
            <a:ahLst/>
            <a:rect l="l" t="t" r="r" b="b"/>
            <a:pathLst>
              <a:path w="604" h="831">
                <a:moveTo>
                  <a:pt x="0" y="245"/>
                </a:moveTo>
                <a:lnTo>
                  <a:pt x="0" y="283"/>
                </a:lnTo>
                <a:lnTo>
                  <a:pt x="0" y="317"/>
                </a:lnTo>
                <a:lnTo>
                  <a:pt x="3" y="355"/>
                </a:lnTo>
                <a:lnTo>
                  <a:pt x="3" y="389"/>
                </a:lnTo>
                <a:lnTo>
                  <a:pt x="3" y="423"/>
                </a:lnTo>
                <a:lnTo>
                  <a:pt x="7" y="457"/>
                </a:lnTo>
                <a:lnTo>
                  <a:pt x="7" y="491"/>
                </a:lnTo>
                <a:lnTo>
                  <a:pt x="7" y="525"/>
                </a:lnTo>
                <a:lnTo>
                  <a:pt x="11" y="555"/>
                </a:lnTo>
                <a:lnTo>
                  <a:pt x="11" y="586"/>
                </a:lnTo>
                <a:lnTo>
                  <a:pt x="11" y="612"/>
                </a:lnTo>
                <a:lnTo>
                  <a:pt x="15" y="638"/>
                </a:lnTo>
                <a:lnTo>
                  <a:pt x="15" y="665"/>
                </a:lnTo>
                <a:lnTo>
                  <a:pt x="15" y="688"/>
                </a:lnTo>
                <a:lnTo>
                  <a:pt x="18" y="710"/>
                </a:lnTo>
                <a:lnTo>
                  <a:pt x="18" y="733"/>
                </a:lnTo>
                <a:lnTo>
                  <a:pt x="18" y="752"/>
                </a:lnTo>
                <a:lnTo>
                  <a:pt x="22" y="767"/>
                </a:lnTo>
                <a:lnTo>
                  <a:pt x="22" y="782"/>
                </a:lnTo>
                <a:lnTo>
                  <a:pt x="22" y="797"/>
                </a:lnTo>
                <a:lnTo>
                  <a:pt x="26" y="805"/>
                </a:lnTo>
                <a:lnTo>
                  <a:pt x="26" y="816"/>
                </a:lnTo>
                <a:lnTo>
                  <a:pt x="26" y="824"/>
                </a:lnTo>
                <a:lnTo>
                  <a:pt x="30" y="827"/>
                </a:lnTo>
                <a:lnTo>
                  <a:pt x="34" y="831"/>
                </a:lnTo>
                <a:lnTo>
                  <a:pt x="34" y="827"/>
                </a:lnTo>
                <a:lnTo>
                  <a:pt x="34" y="824"/>
                </a:lnTo>
                <a:lnTo>
                  <a:pt x="37" y="816"/>
                </a:lnTo>
                <a:lnTo>
                  <a:pt x="37" y="809"/>
                </a:lnTo>
                <a:lnTo>
                  <a:pt x="37" y="797"/>
                </a:lnTo>
                <a:lnTo>
                  <a:pt x="41" y="786"/>
                </a:lnTo>
                <a:lnTo>
                  <a:pt x="41" y="771"/>
                </a:lnTo>
                <a:lnTo>
                  <a:pt x="45" y="756"/>
                </a:lnTo>
                <a:lnTo>
                  <a:pt x="45" y="741"/>
                </a:lnTo>
                <a:lnTo>
                  <a:pt x="45" y="722"/>
                </a:lnTo>
                <a:lnTo>
                  <a:pt x="49" y="703"/>
                </a:lnTo>
                <a:lnTo>
                  <a:pt x="49" y="680"/>
                </a:lnTo>
                <a:lnTo>
                  <a:pt x="49" y="661"/>
                </a:lnTo>
                <a:lnTo>
                  <a:pt x="52" y="638"/>
                </a:lnTo>
                <a:lnTo>
                  <a:pt x="52" y="616"/>
                </a:lnTo>
                <a:lnTo>
                  <a:pt x="52" y="589"/>
                </a:lnTo>
                <a:lnTo>
                  <a:pt x="56" y="563"/>
                </a:lnTo>
                <a:lnTo>
                  <a:pt x="56" y="540"/>
                </a:lnTo>
                <a:lnTo>
                  <a:pt x="56" y="514"/>
                </a:lnTo>
                <a:lnTo>
                  <a:pt x="60" y="487"/>
                </a:lnTo>
                <a:lnTo>
                  <a:pt x="60" y="461"/>
                </a:lnTo>
                <a:lnTo>
                  <a:pt x="60" y="434"/>
                </a:lnTo>
                <a:lnTo>
                  <a:pt x="64" y="408"/>
                </a:lnTo>
                <a:lnTo>
                  <a:pt x="64" y="381"/>
                </a:lnTo>
                <a:lnTo>
                  <a:pt x="64" y="355"/>
                </a:lnTo>
                <a:lnTo>
                  <a:pt x="68" y="329"/>
                </a:lnTo>
                <a:lnTo>
                  <a:pt x="68" y="302"/>
                </a:lnTo>
                <a:lnTo>
                  <a:pt x="68" y="276"/>
                </a:lnTo>
                <a:lnTo>
                  <a:pt x="71" y="253"/>
                </a:lnTo>
                <a:lnTo>
                  <a:pt x="71" y="230"/>
                </a:lnTo>
                <a:lnTo>
                  <a:pt x="71" y="208"/>
                </a:lnTo>
                <a:lnTo>
                  <a:pt x="75" y="185"/>
                </a:lnTo>
                <a:lnTo>
                  <a:pt x="75" y="162"/>
                </a:lnTo>
                <a:lnTo>
                  <a:pt x="75" y="143"/>
                </a:lnTo>
                <a:lnTo>
                  <a:pt x="79" y="124"/>
                </a:lnTo>
                <a:lnTo>
                  <a:pt x="79" y="106"/>
                </a:lnTo>
                <a:lnTo>
                  <a:pt x="79" y="90"/>
                </a:lnTo>
                <a:lnTo>
                  <a:pt x="83" y="75"/>
                </a:lnTo>
                <a:lnTo>
                  <a:pt x="83" y="60"/>
                </a:lnTo>
                <a:lnTo>
                  <a:pt x="83" y="49"/>
                </a:lnTo>
                <a:lnTo>
                  <a:pt x="86" y="38"/>
                </a:lnTo>
                <a:lnTo>
                  <a:pt x="86" y="26"/>
                </a:lnTo>
                <a:lnTo>
                  <a:pt x="86" y="19"/>
                </a:lnTo>
                <a:lnTo>
                  <a:pt x="90" y="11"/>
                </a:lnTo>
                <a:lnTo>
                  <a:pt x="90" y="7"/>
                </a:lnTo>
                <a:lnTo>
                  <a:pt x="90" y="3"/>
                </a:lnTo>
                <a:lnTo>
                  <a:pt x="94" y="0"/>
                </a:lnTo>
                <a:lnTo>
                  <a:pt x="98" y="3"/>
                </a:lnTo>
                <a:lnTo>
                  <a:pt x="98" y="7"/>
                </a:lnTo>
                <a:lnTo>
                  <a:pt x="98" y="11"/>
                </a:lnTo>
                <a:lnTo>
                  <a:pt x="102" y="19"/>
                </a:lnTo>
                <a:lnTo>
                  <a:pt x="102" y="26"/>
                </a:lnTo>
                <a:lnTo>
                  <a:pt x="102" y="34"/>
                </a:lnTo>
                <a:lnTo>
                  <a:pt x="105" y="45"/>
                </a:lnTo>
                <a:lnTo>
                  <a:pt x="105" y="56"/>
                </a:lnTo>
                <a:lnTo>
                  <a:pt x="105" y="68"/>
                </a:lnTo>
                <a:lnTo>
                  <a:pt x="109" y="83"/>
                </a:lnTo>
                <a:lnTo>
                  <a:pt x="109" y="98"/>
                </a:lnTo>
                <a:lnTo>
                  <a:pt x="109" y="113"/>
                </a:lnTo>
                <a:lnTo>
                  <a:pt x="113" y="128"/>
                </a:lnTo>
                <a:lnTo>
                  <a:pt x="113" y="143"/>
                </a:lnTo>
                <a:lnTo>
                  <a:pt x="113" y="162"/>
                </a:lnTo>
                <a:lnTo>
                  <a:pt x="117" y="181"/>
                </a:lnTo>
                <a:lnTo>
                  <a:pt x="117" y="200"/>
                </a:lnTo>
                <a:lnTo>
                  <a:pt x="117" y="219"/>
                </a:lnTo>
                <a:lnTo>
                  <a:pt x="120" y="238"/>
                </a:lnTo>
                <a:lnTo>
                  <a:pt x="120" y="257"/>
                </a:lnTo>
                <a:lnTo>
                  <a:pt x="120" y="276"/>
                </a:lnTo>
                <a:lnTo>
                  <a:pt x="124" y="295"/>
                </a:lnTo>
                <a:lnTo>
                  <a:pt x="124" y="313"/>
                </a:lnTo>
                <a:lnTo>
                  <a:pt x="124" y="336"/>
                </a:lnTo>
                <a:lnTo>
                  <a:pt x="128" y="355"/>
                </a:lnTo>
                <a:lnTo>
                  <a:pt x="128" y="374"/>
                </a:lnTo>
                <a:lnTo>
                  <a:pt x="128" y="393"/>
                </a:lnTo>
                <a:lnTo>
                  <a:pt x="132" y="412"/>
                </a:lnTo>
                <a:lnTo>
                  <a:pt x="132" y="431"/>
                </a:lnTo>
                <a:lnTo>
                  <a:pt x="132" y="446"/>
                </a:lnTo>
                <a:lnTo>
                  <a:pt x="136" y="465"/>
                </a:lnTo>
                <a:lnTo>
                  <a:pt x="136" y="480"/>
                </a:lnTo>
                <a:lnTo>
                  <a:pt x="136" y="495"/>
                </a:lnTo>
                <a:lnTo>
                  <a:pt x="139" y="510"/>
                </a:lnTo>
                <a:lnTo>
                  <a:pt x="139" y="525"/>
                </a:lnTo>
                <a:lnTo>
                  <a:pt x="139" y="536"/>
                </a:lnTo>
                <a:lnTo>
                  <a:pt x="143" y="552"/>
                </a:lnTo>
                <a:lnTo>
                  <a:pt x="143" y="563"/>
                </a:lnTo>
                <a:lnTo>
                  <a:pt x="143" y="570"/>
                </a:lnTo>
                <a:lnTo>
                  <a:pt x="147" y="582"/>
                </a:lnTo>
                <a:lnTo>
                  <a:pt x="147" y="589"/>
                </a:lnTo>
                <a:lnTo>
                  <a:pt x="147" y="597"/>
                </a:lnTo>
                <a:lnTo>
                  <a:pt x="151" y="601"/>
                </a:lnTo>
                <a:lnTo>
                  <a:pt x="151" y="608"/>
                </a:lnTo>
                <a:lnTo>
                  <a:pt x="151" y="612"/>
                </a:lnTo>
                <a:lnTo>
                  <a:pt x="155" y="616"/>
                </a:lnTo>
                <a:lnTo>
                  <a:pt x="158" y="612"/>
                </a:lnTo>
                <a:lnTo>
                  <a:pt x="162" y="608"/>
                </a:lnTo>
                <a:lnTo>
                  <a:pt x="162" y="604"/>
                </a:lnTo>
                <a:lnTo>
                  <a:pt x="162" y="597"/>
                </a:lnTo>
                <a:lnTo>
                  <a:pt x="166" y="589"/>
                </a:lnTo>
                <a:lnTo>
                  <a:pt x="166" y="582"/>
                </a:lnTo>
                <a:lnTo>
                  <a:pt x="170" y="574"/>
                </a:lnTo>
                <a:lnTo>
                  <a:pt x="170" y="567"/>
                </a:lnTo>
                <a:lnTo>
                  <a:pt x="170" y="555"/>
                </a:lnTo>
                <a:lnTo>
                  <a:pt x="173" y="544"/>
                </a:lnTo>
                <a:lnTo>
                  <a:pt x="173" y="533"/>
                </a:lnTo>
                <a:lnTo>
                  <a:pt x="173" y="521"/>
                </a:lnTo>
                <a:lnTo>
                  <a:pt x="177" y="510"/>
                </a:lnTo>
                <a:lnTo>
                  <a:pt x="177" y="495"/>
                </a:lnTo>
                <a:lnTo>
                  <a:pt x="177" y="483"/>
                </a:lnTo>
                <a:lnTo>
                  <a:pt x="181" y="468"/>
                </a:lnTo>
                <a:lnTo>
                  <a:pt x="181" y="457"/>
                </a:lnTo>
                <a:lnTo>
                  <a:pt x="181" y="442"/>
                </a:lnTo>
                <a:lnTo>
                  <a:pt x="185" y="427"/>
                </a:lnTo>
                <a:lnTo>
                  <a:pt x="185" y="412"/>
                </a:lnTo>
                <a:lnTo>
                  <a:pt x="185" y="397"/>
                </a:lnTo>
                <a:lnTo>
                  <a:pt x="189" y="381"/>
                </a:lnTo>
                <a:lnTo>
                  <a:pt x="189" y="370"/>
                </a:lnTo>
                <a:lnTo>
                  <a:pt x="189" y="355"/>
                </a:lnTo>
                <a:lnTo>
                  <a:pt x="192" y="340"/>
                </a:lnTo>
                <a:lnTo>
                  <a:pt x="192" y="325"/>
                </a:lnTo>
                <a:lnTo>
                  <a:pt x="192" y="313"/>
                </a:lnTo>
                <a:lnTo>
                  <a:pt x="196" y="298"/>
                </a:lnTo>
                <a:lnTo>
                  <a:pt x="196" y="287"/>
                </a:lnTo>
                <a:lnTo>
                  <a:pt x="196" y="272"/>
                </a:lnTo>
                <a:lnTo>
                  <a:pt x="200" y="261"/>
                </a:lnTo>
                <a:lnTo>
                  <a:pt x="200" y="249"/>
                </a:lnTo>
                <a:lnTo>
                  <a:pt x="200" y="238"/>
                </a:lnTo>
                <a:lnTo>
                  <a:pt x="204" y="226"/>
                </a:lnTo>
                <a:lnTo>
                  <a:pt x="204" y="219"/>
                </a:lnTo>
                <a:lnTo>
                  <a:pt x="204" y="208"/>
                </a:lnTo>
                <a:lnTo>
                  <a:pt x="207" y="200"/>
                </a:lnTo>
                <a:lnTo>
                  <a:pt x="207" y="192"/>
                </a:lnTo>
                <a:lnTo>
                  <a:pt x="207" y="185"/>
                </a:lnTo>
                <a:lnTo>
                  <a:pt x="211" y="181"/>
                </a:lnTo>
                <a:lnTo>
                  <a:pt x="211" y="174"/>
                </a:lnTo>
                <a:lnTo>
                  <a:pt x="211" y="170"/>
                </a:lnTo>
                <a:lnTo>
                  <a:pt x="215" y="166"/>
                </a:lnTo>
                <a:lnTo>
                  <a:pt x="219" y="162"/>
                </a:lnTo>
                <a:lnTo>
                  <a:pt x="219" y="158"/>
                </a:lnTo>
                <a:lnTo>
                  <a:pt x="223" y="162"/>
                </a:lnTo>
                <a:lnTo>
                  <a:pt x="223" y="166"/>
                </a:lnTo>
                <a:lnTo>
                  <a:pt x="226" y="170"/>
                </a:lnTo>
                <a:lnTo>
                  <a:pt x="226" y="174"/>
                </a:lnTo>
                <a:lnTo>
                  <a:pt x="226" y="177"/>
                </a:lnTo>
                <a:lnTo>
                  <a:pt x="230" y="185"/>
                </a:lnTo>
                <a:lnTo>
                  <a:pt x="230" y="189"/>
                </a:lnTo>
                <a:lnTo>
                  <a:pt x="230" y="249"/>
                </a:lnTo>
                <a:lnTo>
                  <a:pt x="234" y="249"/>
                </a:lnTo>
                <a:lnTo>
                  <a:pt x="238" y="253"/>
                </a:lnTo>
                <a:lnTo>
                  <a:pt x="241" y="257"/>
                </a:lnTo>
                <a:lnTo>
                  <a:pt x="241" y="261"/>
                </a:lnTo>
                <a:lnTo>
                  <a:pt x="241" y="264"/>
                </a:lnTo>
                <a:lnTo>
                  <a:pt x="245" y="268"/>
                </a:lnTo>
                <a:lnTo>
                  <a:pt x="245" y="272"/>
                </a:lnTo>
                <a:lnTo>
                  <a:pt x="245" y="276"/>
                </a:lnTo>
                <a:lnTo>
                  <a:pt x="249" y="279"/>
                </a:lnTo>
                <a:lnTo>
                  <a:pt x="249" y="287"/>
                </a:lnTo>
                <a:lnTo>
                  <a:pt x="249" y="291"/>
                </a:lnTo>
                <a:lnTo>
                  <a:pt x="253" y="295"/>
                </a:lnTo>
                <a:lnTo>
                  <a:pt x="253" y="302"/>
                </a:lnTo>
                <a:lnTo>
                  <a:pt x="253" y="306"/>
                </a:lnTo>
                <a:lnTo>
                  <a:pt x="257" y="313"/>
                </a:lnTo>
                <a:lnTo>
                  <a:pt x="257" y="317"/>
                </a:lnTo>
                <a:lnTo>
                  <a:pt x="257" y="325"/>
                </a:lnTo>
                <a:lnTo>
                  <a:pt x="260" y="332"/>
                </a:lnTo>
                <a:lnTo>
                  <a:pt x="260" y="336"/>
                </a:lnTo>
                <a:lnTo>
                  <a:pt x="260" y="344"/>
                </a:lnTo>
                <a:lnTo>
                  <a:pt x="264" y="347"/>
                </a:lnTo>
                <a:lnTo>
                  <a:pt x="264" y="355"/>
                </a:lnTo>
                <a:lnTo>
                  <a:pt x="264" y="359"/>
                </a:lnTo>
                <a:lnTo>
                  <a:pt x="268" y="366"/>
                </a:lnTo>
                <a:lnTo>
                  <a:pt x="268" y="370"/>
                </a:lnTo>
                <a:lnTo>
                  <a:pt x="268" y="378"/>
                </a:lnTo>
                <a:lnTo>
                  <a:pt x="272" y="381"/>
                </a:lnTo>
                <a:lnTo>
                  <a:pt x="272" y="389"/>
                </a:lnTo>
                <a:lnTo>
                  <a:pt x="272" y="393"/>
                </a:lnTo>
                <a:lnTo>
                  <a:pt x="275" y="397"/>
                </a:lnTo>
                <a:lnTo>
                  <a:pt x="275" y="400"/>
                </a:lnTo>
                <a:lnTo>
                  <a:pt x="275" y="404"/>
                </a:lnTo>
                <a:lnTo>
                  <a:pt x="279" y="408"/>
                </a:lnTo>
                <a:lnTo>
                  <a:pt x="279" y="412"/>
                </a:lnTo>
                <a:lnTo>
                  <a:pt x="279" y="415"/>
                </a:lnTo>
                <a:lnTo>
                  <a:pt x="283" y="419"/>
                </a:lnTo>
                <a:lnTo>
                  <a:pt x="283" y="423"/>
                </a:lnTo>
                <a:lnTo>
                  <a:pt x="287" y="427"/>
                </a:lnTo>
                <a:lnTo>
                  <a:pt x="291" y="431"/>
                </a:lnTo>
                <a:lnTo>
                  <a:pt x="294" y="434"/>
                </a:lnTo>
                <a:lnTo>
                  <a:pt x="298" y="431"/>
                </a:lnTo>
                <a:lnTo>
                  <a:pt x="302" y="427"/>
                </a:lnTo>
                <a:lnTo>
                  <a:pt x="306" y="423"/>
                </a:lnTo>
                <a:lnTo>
                  <a:pt x="306" y="419"/>
                </a:lnTo>
                <a:lnTo>
                  <a:pt x="309" y="415"/>
                </a:lnTo>
                <a:lnTo>
                  <a:pt x="309" y="412"/>
                </a:lnTo>
                <a:lnTo>
                  <a:pt x="309" y="408"/>
                </a:lnTo>
                <a:lnTo>
                  <a:pt x="313" y="404"/>
                </a:lnTo>
                <a:lnTo>
                  <a:pt x="313" y="400"/>
                </a:lnTo>
                <a:lnTo>
                  <a:pt x="313" y="397"/>
                </a:lnTo>
                <a:lnTo>
                  <a:pt x="317" y="393"/>
                </a:lnTo>
                <a:lnTo>
                  <a:pt x="317" y="389"/>
                </a:lnTo>
                <a:lnTo>
                  <a:pt x="317" y="385"/>
                </a:lnTo>
                <a:lnTo>
                  <a:pt x="321" y="381"/>
                </a:lnTo>
                <a:lnTo>
                  <a:pt x="321" y="378"/>
                </a:lnTo>
                <a:lnTo>
                  <a:pt x="321" y="370"/>
                </a:lnTo>
                <a:lnTo>
                  <a:pt x="325" y="366"/>
                </a:lnTo>
                <a:lnTo>
                  <a:pt x="325" y="363"/>
                </a:lnTo>
                <a:lnTo>
                  <a:pt x="325" y="359"/>
                </a:lnTo>
                <a:lnTo>
                  <a:pt x="328" y="355"/>
                </a:lnTo>
                <a:lnTo>
                  <a:pt x="328" y="351"/>
                </a:lnTo>
                <a:lnTo>
                  <a:pt x="328" y="344"/>
                </a:lnTo>
                <a:lnTo>
                  <a:pt x="332" y="340"/>
                </a:lnTo>
                <a:lnTo>
                  <a:pt x="332" y="336"/>
                </a:lnTo>
                <a:lnTo>
                  <a:pt x="332" y="332"/>
                </a:lnTo>
                <a:lnTo>
                  <a:pt x="336" y="329"/>
                </a:lnTo>
                <a:lnTo>
                  <a:pt x="336" y="325"/>
                </a:lnTo>
                <a:lnTo>
                  <a:pt x="340" y="321"/>
                </a:lnTo>
                <a:lnTo>
                  <a:pt x="340" y="317"/>
                </a:lnTo>
                <a:lnTo>
                  <a:pt x="340" y="313"/>
                </a:lnTo>
                <a:lnTo>
                  <a:pt x="343" y="310"/>
                </a:lnTo>
                <a:lnTo>
                  <a:pt x="343" y="306"/>
                </a:lnTo>
                <a:lnTo>
                  <a:pt x="347" y="302"/>
                </a:lnTo>
                <a:lnTo>
                  <a:pt x="351" y="298"/>
                </a:lnTo>
                <a:lnTo>
                  <a:pt x="355" y="295"/>
                </a:lnTo>
                <a:lnTo>
                  <a:pt x="359" y="298"/>
                </a:lnTo>
                <a:lnTo>
                  <a:pt x="362" y="298"/>
                </a:lnTo>
                <a:lnTo>
                  <a:pt x="366" y="302"/>
                </a:lnTo>
                <a:lnTo>
                  <a:pt x="370" y="306"/>
                </a:lnTo>
                <a:lnTo>
                  <a:pt x="370" y="310"/>
                </a:lnTo>
                <a:lnTo>
                  <a:pt x="374" y="313"/>
                </a:lnTo>
                <a:lnTo>
                  <a:pt x="374" y="317"/>
                </a:lnTo>
                <a:lnTo>
                  <a:pt x="378" y="321"/>
                </a:lnTo>
                <a:lnTo>
                  <a:pt x="378" y="325"/>
                </a:lnTo>
                <a:lnTo>
                  <a:pt x="378" y="329"/>
                </a:lnTo>
                <a:lnTo>
                  <a:pt x="381" y="332"/>
                </a:lnTo>
                <a:lnTo>
                  <a:pt x="381" y="336"/>
                </a:lnTo>
                <a:lnTo>
                  <a:pt x="385" y="340"/>
                </a:lnTo>
                <a:lnTo>
                  <a:pt x="385" y="344"/>
                </a:lnTo>
                <a:lnTo>
                  <a:pt x="385" y="347"/>
                </a:lnTo>
                <a:lnTo>
                  <a:pt x="389" y="351"/>
                </a:lnTo>
                <a:lnTo>
                  <a:pt x="389" y="355"/>
                </a:lnTo>
                <a:lnTo>
                  <a:pt x="393" y="359"/>
                </a:lnTo>
                <a:lnTo>
                  <a:pt x="393" y="363"/>
                </a:lnTo>
                <a:lnTo>
                  <a:pt x="393" y="366"/>
                </a:lnTo>
                <a:lnTo>
                  <a:pt x="396" y="370"/>
                </a:lnTo>
                <a:lnTo>
                  <a:pt x="396" y="374"/>
                </a:lnTo>
                <a:lnTo>
                  <a:pt x="400" y="378"/>
                </a:lnTo>
                <a:lnTo>
                  <a:pt x="400" y="381"/>
                </a:lnTo>
                <a:lnTo>
                  <a:pt x="404" y="385"/>
                </a:lnTo>
                <a:lnTo>
                  <a:pt x="408" y="389"/>
                </a:lnTo>
                <a:lnTo>
                  <a:pt x="412" y="393"/>
                </a:lnTo>
                <a:lnTo>
                  <a:pt x="415" y="397"/>
                </a:lnTo>
                <a:lnTo>
                  <a:pt x="419" y="397"/>
                </a:lnTo>
                <a:lnTo>
                  <a:pt x="423" y="397"/>
                </a:lnTo>
                <a:lnTo>
                  <a:pt x="427" y="393"/>
                </a:lnTo>
                <a:lnTo>
                  <a:pt x="430" y="389"/>
                </a:lnTo>
                <a:lnTo>
                  <a:pt x="434" y="385"/>
                </a:lnTo>
                <a:lnTo>
                  <a:pt x="438" y="381"/>
                </a:lnTo>
                <a:lnTo>
                  <a:pt x="438" y="378"/>
                </a:lnTo>
                <a:lnTo>
                  <a:pt x="442" y="374"/>
                </a:lnTo>
                <a:lnTo>
                  <a:pt x="446" y="370"/>
                </a:lnTo>
                <a:lnTo>
                  <a:pt x="446" y="366"/>
                </a:lnTo>
                <a:lnTo>
                  <a:pt x="449" y="363"/>
                </a:lnTo>
                <a:lnTo>
                  <a:pt x="449" y="359"/>
                </a:lnTo>
                <a:lnTo>
                  <a:pt x="453" y="355"/>
                </a:lnTo>
                <a:lnTo>
                  <a:pt x="453" y="351"/>
                </a:lnTo>
                <a:lnTo>
                  <a:pt x="457" y="347"/>
                </a:lnTo>
                <a:lnTo>
                  <a:pt x="457" y="344"/>
                </a:lnTo>
                <a:lnTo>
                  <a:pt x="461" y="340"/>
                </a:lnTo>
                <a:lnTo>
                  <a:pt x="464" y="336"/>
                </a:lnTo>
                <a:lnTo>
                  <a:pt x="464" y="332"/>
                </a:lnTo>
                <a:lnTo>
                  <a:pt x="468" y="329"/>
                </a:lnTo>
                <a:lnTo>
                  <a:pt x="472" y="325"/>
                </a:lnTo>
                <a:lnTo>
                  <a:pt x="476" y="321"/>
                </a:lnTo>
                <a:lnTo>
                  <a:pt x="480" y="321"/>
                </a:lnTo>
                <a:lnTo>
                  <a:pt x="483" y="321"/>
                </a:lnTo>
                <a:lnTo>
                  <a:pt x="487" y="325"/>
                </a:lnTo>
                <a:lnTo>
                  <a:pt x="491" y="329"/>
                </a:lnTo>
                <a:lnTo>
                  <a:pt x="495" y="332"/>
                </a:lnTo>
                <a:lnTo>
                  <a:pt x="498" y="336"/>
                </a:lnTo>
                <a:lnTo>
                  <a:pt x="502" y="340"/>
                </a:lnTo>
                <a:lnTo>
                  <a:pt x="506" y="344"/>
                </a:lnTo>
                <a:lnTo>
                  <a:pt x="510" y="347"/>
                </a:lnTo>
                <a:lnTo>
                  <a:pt x="514" y="351"/>
                </a:lnTo>
                <a:lnTo>
                  <a:pt x="514" y="355"/>
                </a:lnTo>
                <a:lnTo>
                  <a:pt x="517" y="359"/>
                </a:lnTo>
                <a:lnTo>
                  <a:pt x="521" y="363"/>
                </a:lnTo>
                <a:lnTo>
                  <a:pt x="525" y="366"/>
                </a:lnTo>
                <a:lnTo>
                  <a:pt x="529" y="370"/>
                </a:lnTo>
                <a:lnTo>
                  <a:pt x="532" y="374"/>
                </a:lnTo>
                <a:lnTo>
                  <a:pt x="536" y="378"/>
                </a:lnTo>
                <a:lnTo>
                  <a:pt x="540" y="378"/>
                </a:lnTo>
                <a:lnTo>
                  <a:pt x="544" y="378"/>
                </a:lnTo>
                <a:lnTo>
                  <a:pt x="548" y="378"/>
                </a:lnTo>
                <a:lnTo>
                  <a:pt x="551" y="374"/>
                </a:lnTo>
                <a:lnTo>
                  <a:pt x="555" y="374"/>
                </a:lnTo>
                <a:lnTo>
                  <a:pt x="559" y="370"/>
                </a:lnTo>
                <a:lnTo>
                  <a:pt x="563" y="366"/>
                </a:lnTo>
                <a:lnTo>
                  <a:pt x="567" y="363"/>
                </a:lnTo>
                <a:lnTo>
                  <a:pt x="570" y="359"/>
                </a:lnTo>
                <a:lnTo>
                  <a:pt x="574" y="355"/>
                </a:lnTo>
                <a:lnTo>
                  <a:pt x="578" y="351"/>
                </a:lnTo>
                <a:lnTo>
                  <a:pt x="582" y="347"/>
                </a:lnTo>
                <a:lnTo>
                  <a:pt x="585" y="344"/>
                </a:lnTo>
                <a:lnTo>
                  <a:pt x="589" y="344"/>
                </a:lnTo>
                <a:lnTo>
                  <a:pt x="593" y="340"/>
                </a:lnTo>
                <a:lnTo>
                  <a:pt x="597" y="336"/>
                </a:lnTo>
                <a:lnTo>
                  <a:pt x="601" y="336"/>
                </a:lnTo>
                <a:lnTo>
                  <a:pt x="604" y="336"/>
                </a:lnTo>
              </a:path>
            </a:pathLst>
          </a:custGeom>
          <a:noFill/>
          <a:ln w="60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2560" y="2311560"/>
            <a:ext cx="2943000" cy="836280"/>
          </a:xfrm>
          <a:custGeom>
            <a:avLst/>
            <a:gdLst/>
            <a:ahLst/>
            <a:rect l="l" t="t" r="r" b="b"/>
            <a:pathLst>
              <a:path w="2245" h="646">
                <a:moveTo>
                  <a:pt x="0" y="646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1" y="0"/>
                </a:lnTo>
                <a:lnTo>
                  <a:pt x="15" y="0"/>
                </a:lnTo>
                <a:lnTo>
                  <a:pt x="19" y="0"/>
                </a:lnTo>
                <a:lnTo>
                  <a:pt x="23" y="0"/>
                </a:lnTo>
                <a:lnTo>
                  <a:pt x="26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4" y="0"/>
                </a:lnTo>
                <a:lnTo>
                  <a:pt x="68" y="0"/>
                </a:lnTo>
                <a:lnTo>
                  <a:pt x="72" y="0"/>
                </a:lnTo>
                <a:lnTo>
                  <a:pt x="76" y="0"/>
                </a:lnTo>
                <a:lnTo>
                  <a:pt x="79" y="0"/>
                </a:lnTo>
                <a:lnTo>
                  <a:pt x="83" y="0"/>
                </a:lnTo>
                <a:lnTo>
                  <a:pt x="87" y="0"/>
                </a:lnTo>
                <a:lnTo>
                  <a:pt x="91" y="0"/>
                </a:lnTo>
                <a:lnTo>
                  <a:pt x="95" y="0"/>
                </a:lnTo>
                <a:lnTo>
                  <a:pt x="98" y="0"/>
                </a:lnTo>
                <a:lnTo>
                  <a:pt x="102" y="0"/>
                </a:lnTo>
                <a:lnTo>
                  <a:pt x="106" y="0"/>
                </a:lnTo>
                <a:lnTo>
                  <a:pt x="110" y="0"/>
                </a:lnTo>
                <a:lnTo>
                  <a:pt x="113" y="0"/>
                </a:lnTo>
                <a:lnTo>
                  <a:pt x="117" y="0"/>
                </a:lnTo>
                <a:lnTo>
                  <a:pt x="121" y="0"/>
                </a:lnTo>
                <a:lnTo>
                  <a:pt x="125" y="0"/>
                </a:lnTo>
                <a:lnTo>
                  <a:pt x="129" y="0"/>
                </a:lnTo>
                <a:lnTo>
                  <a:pt x="132" y="0"/>
                </a:lnTo>
                <a:lnTo>
                  <a:pt x="136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9" y="0"/>
                </a:lnTo>
                <a:lnTo>
                  <a:pt x="163" y="0"/>
                </a:lnTo>
                <a:lnTo>
                  <a:pt x="166" y="0"/>
                </a:lnTo>
                <a:lnTo>
                  <a:pt x="170" y="0"/>
                </a:lnTo>
                <a:lnTo>
                  <a:pt x="174" y="0"/>
                </a:lnTo>
                <a:lnTo>
                  <a:pt x="178" y="0"/>
                </a:lnTo>
                <a:lnTo>
                  <a:pt x="181" y="0"/>
                </a:lnTo>
                <a:lnTo>
                  <a:pt x="185" y="0"/>
                </a:lnTo>
                <a:lnTo>
                  <a:pt x="189" y="0"/>
                </a:lnTo>
                <a:lnTo>
                  <a:pt x="193" y="0"/>
                </a:lnTo>
                <a:lnTo>
                  <a:pt x="197" y="0"/>
                </a:lnTo>
                <a:lnTo>
                  <a:pt x="200" y="0"/>
                </a:lnTo>
                <a:lnTo>
                  <a:pt x="204" y="0"/>
                </a:lnTo>
                <a:lnTo>
                  <a:pt x="208" y="0"/>
                </a:lnTo>
                <a:lnTo>
                  <a:pt x="212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4" y="0"/>
                </a:lnTo>
                <a:lnTo>
                  <a:pt x="238" y="0"/>
                </a:lnTo>
                <a:lnTo>
                  <a:pt x="242" y="0"/>
                </a:lnTo>
                <a:lnTo>
                  <a:pt x="246" y="0"/>
                </a:lnTo>
                <a:lnTo>
                  <a:pt x="250" y="0"/>
                </a:lnTo>
                <a:lnTo>
                  <a:pt x="253" y="0"/>
                </a:lnTo>
                <a:lnTo>
                  <a:pt x="257" y="0"/>
                </a:lnTo>
                <a:lnTo>
                  <a:pt x="261" y="0"/>
                </a:lnTo>
                <a:lnTo>
                  <a:pt x="265" y="0"/>
                </a:lnTo>
                <a:lnTo>
                  <a:pt x="268" y="0"/>
                </a:lnTo>
                <a:lnTo>
                  <a:pt x="272" y="0"/>
                </a:lnTo>
                <a:lnTo>
                  <a:pt x="276" y="0"/>
                </a:lnTo>
                <a:lnTo>
                  <a:pt x="280" y="0"/>
                </a:lnTo>
                <a:lnTo>
                  <a:pt x="284" y="0"/>
                </a:lnTo>
                <a:lnTo>
                  <a:pt x="287" y="0"/>
                </a:lnTo>
                <a:lnTo>
                  <a:pt x="291" y="0"/>
                </a:lnTo>
                <a:lnTo>
                  <a:pt x="295" y="0"/>
                </a:lnTo>
                <a:lnTo>
                  <a:pt x="299" y="0"/>
                </a:lnTo>
                <a:lnTo>
                  <a:pt x="302" y="0"/>
                </a:lnTo>
                <a:lnTo>
                  <a:pt x="306" y="0"/>
                </a:lnTo>
                <a:lnTo>
                  <a:pt x="310" y="0"/>
                </a:lnTo>
                <a:lnTo>
                  <a:pt x="314" y="0"/>
                </a:lnTo>
                <a:lnTo>
                  <a:pt x="318" y="0"/>
                </a:lnTo>
                <a:lnTo>
                  <a:pt x="321" y="0"/>
                </a:lnTo>
                <a:lnTo>
                  <a:pt x="325" y="0"/>
                </a:lnTo>
                <a:lnTo>
                  <a:pt x="329" y="0"/>
                </a:lnTo>
                <a:lnTo>
                  <a:pt x="333" y="0"/>
                </a:lnTo>
                <a:lnTo>
                  <a:pt x="336" y="0"/>
                </a:lnTo>
                <a:lnTo>
                  <a:pt x="340" y="0"/>
                </a:lnTo>
                <a:lnTo>
                  <a:pt x="344" y="0"/>
                </a:lnTo>
                <a:lnTo>
                  <a:pt x="348" y="0"/>
                </a:lnTo>
                <a:lnTo>
                  <a:pt x="352" y="0"/>
                </a:lnTo>
                <a:lnTo>
                  <a:pt x="355" y="0"/>
                </a:lnTo>
                <a:lnTo>
                  <a:pt x="359" y="0"/>
                </a:lnTo>
                <a:lnTo>
                  <a:pt x="363" y="0"/>
                </a:lnTo>
                <a:lnTo>
                  <a:pt x="367" y="0"/>
                </a:lnTo>
                <a:lnTo>
                  <a:pt x="370" y="0"/>
                </a:lnTo>
                <a:lnTo>
                  <a:pt x="374" y="0"/>
                </a:lnTo>
                <a:lnTo>
                  <a:pt x="378" y="0"/>
                </a:lnTo>
                <a:lnTo>
                  <a:pt x="382" y="0"/>
                </a:lnTo>
                <a:lnTo>
                  <a:pt x="386" y="0"/>
                </a:lnTo>
                <a:lnTo>
                  <a:pt x="389" y="0"/>
                </a:lnTo>
                <a:lnTo>
                  <a:pt x="393" y="0"/>
                </a:lnTo>
                <a:lnTo>
                  <a:pt x="397" y="0"/>
                </a:lnTo>
                <a:lnTo>
                  <a:pt x="401" y="0"/>
                </a:lnTo>
                <a:lnTo>
                  <a:pt x="404" y="0"/>
                </a:lnTo>
                <a:lnTo>
                  <a:pt x="408" y="0"/>
                </a:lnTo>
                <a:lnTo>
                  <a:pt x="412" y="0"/>
                </a:lnTo>
                <a:lnTo>
                  <a:pt x="416" y="0"/>
                </a:lnTo>
                <a:lnTo>
                  <a:pt x="420" y="0"/>
                </a:lnTo>
                <a:lnTo>
                  <a:pt x="423" y="0"/>
                </a:lnTo>
                <a:lnTo>
                  <a:pt x="427" y="0"/>
                </a:lnTo>
                <a:lnTo>
                  <a:pt x="431" y="0"/>
                </a:lnTo>
                <a:lnTo>
                  <a:pt x="435" y="0"/>
                </a:lnTo>
                <a:lnTo>
                  <a:pt x="439" y="0"/>
                </a:lnTo>
                <a:lnTo>
                  <a:pt x="442" y="0"/>
                </a:lnTo>
                <a:lnTo>
                  <a:pt x="446" y="0"/>
                </a:lnTo>
                <a:lnTo>
                  <a:pt x="450" y="0"/>
                </a:lnTo>
                <a:lnTo>
                  <a:pt x="454" y="0"/>
                </a:lnTo>
                <a:lnTo>
                  <a:pt x="457" y="0"/>
                </a:lnTo>
                <a:lnTo>
                  <a:pt x="461" y="0"/>
                </a:lnTo>
                <a:lnTo>
                  <a:pt x="465" y="0"/>
                </a:lnTo>
                <a:lnTo>
                  <a:pt x="469" y="0"/>
                </a:lnTo>
                <a:lnTo>
                  <a:pt x="473" y="0"/>
                </a:lnTo>
                <a:lnTo>
                  <a:pt x="476" y="0"/>
                </a:lnTo>
                <a:lnTo>
                  <a:pt x="480" y="0"/>
                </a:lnTo>
                <a:lnTo>
                  <a:pt x="484" y="0"/>
                </a:lnTo>
                <a:lnTo>
                  <a:pt x="488" y="0"/>
                </a:lnTo>
                <a:lnTo>
                  <a:pt x="491" y="0"/>
                </a:lnTo>
                <a:lnTo>
                  <a:pt x="495" y="0"/>
                </a:lnTo>
                <a:lnTo>
                  <a:pt x="499" y="0"/>
                </a:lnTo>
                <a:lnTo>
                  <a:pt x="503" y="0"/>
                </a:lnTo>
                <a:lnTo>
                  <a:pt x="507" y="0"/>
                </a:lnTo>
                <a:lnTo>
                  <a:pt x="510" y="0"/>
                </a:lnTo>
                <a:lnTo>
                  <a:pt x="514" y="0"/>
                </a:lnTo>
                <a:lnTo>
                  <a:pt x="518" y="0"/>
                </a:lnTo>
                <a:lnTo>
                  <a:pt x="522" y="0"/>
                </a:lnTo>
                <a:lnTo>
                  <a:pt x="525" y="0"/>
                </a:lnTo>
                <a:lnTo>
                  <a:pt x="529" y="0"/>
                </a:lnTo>
                <a:lnTo>
                  <a:pt x="533" y="0"/>
                </a:lnTo>
                <a:lnTo>
                  <a:pt x="537" y="0"/>
                </a:lnTo>
                <a:lnTo>
                  <a:pt x="541" y="0"/>
                </a:lnTo>
                <a:lnTo>
                  <a:pt x="544" y="0"/>
                </a:lnTo>
                <a:lnTo>
                  <a:pt x="548" y="0"/>
                </a:lnTo>
                <a:lnTo>
                  <a:pt x="552" y="0"/>
                </a:lnTo>
                <a:lnTo>
                  <a:pt x="556" y="0"/>
                </a:lnTo>
                <a:lnTo>
                  <a:pt x="559" y="0"/>
                </a:lnTo>
                <a:lnTo>
                  <a:pt x="563" y="0"/>
                </a:lnTo>
                <a:lnTo>
                  <a:pt x="567" y="0"/>
                </a:lnTo>
                <a:lnTo>
                  <a:pt x="571" y="0"/>
                </a:lnTo>
                <a:lnTo>
                  <a:pt x="575" y="0"/>
                </a:lnTo>
                <a:lnTo>
                  <a:pt x="578" y="0"/>
                </a:lnTo>
                <a:lnTo>
                  <a:pt x="582" y="0"/>
                </a:lnTo>
                <a:lnTo>
                  <a:pt x="586" y="0"/>
                </a:lnTo>
                <a:lnTo>
                  <a:pt x="590" y="0"/>
                </a:lnTo>
                <a:lnTo>
                  <a:pt x="593" y="0"/>
                </a:lnTo>
                <a:lnTo>
                  <a:pt x="597" y="0"/>
                </a:lnTo>
                <a:lnTo>
                  <a:pt x="601" y="0"/>
                </a:lnTo>
                <a:lnTo>
                  <a:pt x="605" y="0"/>
                </a:lnTo>
                <a:lnTo>
                  <a:pt x="609" y="0"/>
                </a:lnTo>
                <a:lnTo>
                  <a:pt x="612" y="0"/>
                </a:lnTo>
                <a:lnTo>
                  <a:pt x="616" y="0"/>
                </a:lnTo>
                <a:lnTo>
                  <a:pt x="620" y="0"/>
                </a:lnTo>
                <a:lnTo>
                  <a:pt x="624" y="0"/>
                </a:lnTo>
                <a:lnTo>
                  <a:pt x="627" y="0"/>
                </a:lnTo>
                <a:lnTo>
                  <a:pt x="631" y="0"/>
                </a:lnTo>
                <a:lnTo>
                  <a:pt x="635" y="0"/>
                </a:lnTo>
                <a:lnTo>
                  <a:pt x="639" y="0"/>
                </a:lnTo>
                <a:lnTo>
                  <a:pt x="643" y="0"/>
                </a:lnTo>
                <a:lnTo>
                  <a:pt x="646" y="0"/>
                </a:lnTo>
                <a:lnTo>
                  <a:pt x="650" y="0"/>
                </a:lnTo>
                <a:lnTo>
                  <a:pt x="654" y="0"/>
                </a:lnTo>
                <a:lnTo>
                  <a:pt x="658" y="0"/>
                </a:lnTo>
                <a:lnTo>
                  <a:pt x="662" y="0"/>
                </a:lnTo>
                <a:lnTo>
                  <a:pt x="665" y="0"/>
                </a:lnTo>
                <a:lnTo>
                  <a:pt x="669" y="0"/>
                </a:lnTo>
                <a:lnTo>
                  <a:pt x="673" y="0"/>
                </a:lnTo>
                <a:lnTo>
                  <a:pt x="677" y="0"/>
                </a:lnTo>
                <a:lnTo>
                  <a:pt x="680" y="0"/>
                </a:lnTo>
                <a:lnTo>
                  <a:pt x="684" y="0"/>
                </a:lnTo>
                <a:lnTo>
                  <a:pt x="688" y="0"/>
                </a:lnTo>
                <a:lnTo>
                  <a:pt x="692" y="0"/>
                </a:lnTo>
                <a:lnTo>
                  <a:pt x="696" y="0"/>
                </a:lnTo>
                <a:lnTo>
                  <a:pt x="699" y="0"/>
                </a:lnTo>
                <a:lnTo>
                  <a:pt x="703" y="0"/>
                </a:lnTo>
                <a:lnTo>
                  <a:pt x="707" y="0"/>
                </a:lnTo>
                <a:lnTo>
                  <a:pt x="711" y="0"/>
                </a:lnTo>
                <a:lnTo>
                  <a:pt x="714" y="0"/>
                </a:lnTo>
                <a:lnTo>
                  <a:pt x="718" y="0"/>
                </a:lnTo>
                <a:lnTo>
                  <a:pt x="722" y="0"/>
                </a:lnTo>
                <a:lnTo>
                  <a:pt x="726" y="0"/>
                </a:lnTo>
                <a:lnTo>
                  <a:pt x="730" y="0"/>
                </a:lnTo>
                <a:lnTo>
                  <a:pt x="733" y="0"/>
                </a:lnTo>
                <a:lnTo>
                  <a:pt x="737" y="0"/>
                </a:lnTo>
                <a:lnTo>
                  <a:pt x="741" y="0"/>
                </a:lnTo>
                <a:lnTo>
                  <a:pt x="745" y="0"/>
                </a:lnTo>
                <a:lnTo>
                  <a:pt x="748" y="0"/>
                </a:lnTo>
                <a:lnTo>
                  <a:pt x="748" y="646"/>
                </a:lnTo>
                <a:lnTo>
                  <a:pt x="752" y="646"/>
                </a:lnTo>
                <a:lnTo>
                  <a:pt x="756" y="646"/>
                </a:lnTo>
                <a:lnTo>
                  <a:pt x="760" y="646"/>
                </a:lnTo>
                <a:lnTo>
                  <a:pt x="764" y="646"/>
                </a:lnTo>
                <a:lnTo>
                  <a:pt x="767" y="646"/>
                </a:lnTo>
                <a:lnTo>
                  <a:pt x="771" y="646"/>
                </a:lnTo>
                <a:lnTo>
                  <a:pt x="775" y="646"/>
                </a:lnTo>
                <a:lnTo>
                  <a:pt x="779" y="646"/>
                </a:lnTo>
                <a:lnTo>
                  <a:pt x="782" y="646"/>
                </a:lnTo>
                <a:lnTo>
                  <a:pt x="786" y="646"/>
                </a:lnTo>
                <a:lnTo>
                  <a:pt x="790" y="646"/>
                </a:lnTo>
                <a:lnTo>
                  <a:pt x="794" y="646"/>
                </a:lnTo>
                <a:lnTo>
                  <a:pt x="798" y="646"/>
                </a:lnTo>
                <a:lnTo>
                  <a:pt x="801" y="646"/>
                </a:lnTo>
                <a:lnTo>
                  <a:pt x="805" y="646"/>
                </a:lnTo>
                <a:lnTo>
                  <a:pt x="809" y="646"/>
                </a:lnTo>
                <a:lnTo>
                  <a:pt x="813" y="646"/>
                </a:lnTo>
                <a:lnTo>
                  <a:pt x="816" y="646"/>
                </a:lnTo>
                <a:lnTo>
                  <a:pt x="820" y="646"/>
                </a:lnTo>
                <a:lnTo>
                  <a:pt x="824" y="646"/>
                </a:lnTo>
                <a:lnTo>
                  <a:pt x="828" y="646"/>
                </a:lnTo>
                <a:lnTo>
                  <a:pt x="832" y="646"/>
                </a:lnTo>
                <a:lnTo>
                  <a:pt x="835" y="646"/>
                </a:lnTo>
                <a:lnTo>
                  <a:pt x="839" y="646"/>
                </a:lnTo>
                <a:lnTo>
                  <a:pt x="843" y="646"/>
                </a:lnTo>
                <a:lnTo>
                  <a:pt x="847" y="646"/>
                </a:lnTo>
                <a:lnTo>
                  <a:pt x="851" y="646"/>
                </a:lnTo>
                <a:lnTo>
                  <a:pt x="854" y="646"/>
                </a:lnTo>
                <a:lnTo>
                  <a:pt x="858" y="646"/>
                </a:lnTo>
                <a:lnTo>
                  <a:pt x="862" y="646"/>
                </a:lnTo>
                <a:lnTo>
                  <a:pt x="866" y="646"/>
                </a:lnTo>
                <a:lnTo>
                  <a:pt x="869" y="646"/>
                </a:lnTo>
                <a:lnTo>
                  <a:pt x="873" y="646"/>
                </a:lnTo>
                <a:lnTo>
                  <a:pt x="877" y="646"/>
                </a:lnTo>
                <a:lnTo>
                  <a:pt x="881" y="646"/>
                </a:lnTo>
                <a:lnTo>
                  <a:pt x="885" y="646"/>
                </a:lnTo>
                <a:lnTo>
                  <a:pt x="888" y="646"/>
                </a:lnTo>
                <a:lnTo>
                  <a:pt x="892" y="646"/>
                </a:lnTo>
                <a:lnTo>
                  <a:pt x="896" y="646"/>
                </a:lnTo>
                <a:lnTo>
                  <a:pt x="900" y="646"/>
                </a:lnTo>
                <a:lnTo>
                  <a:pt x="903" y="646"/>
                </a:lnTo>
                <a:lnTo>
                  <a:pt x="907" y="646"/>
                </a:lnTo>
                <a:lnTo>
                  <a:pt x="911" y="646"/>
                </a:lnTo>
                <a:lnTo>
                  <a:pt x="915" y="646"/>
                </a:lnTo>
                <a:lnTo>
                  <a:pt x="919" y="646"/>
                </a:lnTo>
                <a:lnTo>
                  <a:pt x="922" y="646"/>
                </a:lnTo>
                <a:lnTo>
                  <a:pt x="926" y="646"/>
                </a:lnTo>
                <a:lnTo>
                  <a:pt x="930" y="646"/>
                </a:lnTo>
                <a:lnTo>
                  <a:pt x="934" y="646"/>
                </a:lnTo>
                <a:lnTo>
                  <a:pt x="937" y="646"/>
                </a:lnTo>
                <a:lnTo>
                  <a:pt x="941" y="646"/>
                </a:lnTo>
                <a:lnTo>
                  <a:pt x="945" y="646"/>
                </a:lnTo>
                <a:lnTo>
                  <a:pt x="949" y="646"/>
                </a:lnTo>
                <a:lnTo>
                  <a:pt x="953" y="646"/>
                </a:lnTo>
                <a:lnTo>
                  <a:pt x="956" y="646"/>
                </a:lnTo>
                <a:lnTo>
                  <a:pt x="960" y="646"/>
                </a:lnTo>
                <a:lnTo>
                  <a:pt x="964" y="646"/>
                </a:lnTo>
                <a:lnTo>
                  <a:pt x="968" y="646"/>
                </a:lnTo>
                <a:lnTo>
                  <a:pt x="971" y="646"/>
                </a:lnTo>
                <a:lnTo>
                  <a:pt x="975" y="646"/>
                </a:lnTo>
                <a:lnTo>
                  <a:pt x="979" y="646"/>
                </a:lnTo>
                <a:lnTo>
                  <a:pt x="983" y="646"/>
                </a:lnTo>
                <a:lnTo>
                  <a:pt x="987" y="646"/>
                </a:lnTo>
                <a:lnTo>
                  <a:pt x="990" y="646"/>
                </a:lnTo>
                <a:lnTo>
                  <a:pt x="994" y="646"/>
                </a:lnTo>
                <a:lnTo>
                  <a:pt x="998" y="646"/>
                </a:lnTo>
                <a:lnTo>
                  <a:pt x="1002" y="646"/>
                </a:lnTo>
                <a:lnTo>
                  <a:pt x="1005" y="646"/>
                </a:lnTo>
                <a:lnTo>
                  <a:pt x="1009" y="646"/>
                </a:lnTo>
                <a:lnTo>
                  <a:pt x="1013" y="646"/>
                </a:lnTo>
                <a:lnTo>
                  <a:pt x="1017" y="646"/>
                </a:lnTo>
                <a:lnTo>
                  <a:pt x="1021" y="646"/>
                </a:lnTo>
                <a:lnTo>
                  <a:pt x="1024" y="646"/>
                </a:lnTo>
                <a:lnTo>
                  <a:pt x="1028" y="646"/>
                </a:lnTo>
                <a:lnTo>
                  <a:pt x="1032" y="646"/>
                </a:lnTo>
                <a:lnTo>
                  <a:pt x="1036" y="646"/>
                </a:lnTo>
                <a:lnTo>
                  <a:pt x="1040" y="646"/>
                </a:lnTo>
                <a:lnTo>
                  <a:pt x="1043" y="646"/>
                </a:lnTo>
                <a:lnTo>
                  <a:pt x="1047" y="646"/>
                </a:lnTo>
                <a:lnTo>
                  <a:pt x="1051" y="646"/>
                </a:lnTo>
                <a:lnTo>
                  <a:pt x="1055" y="646"/>
                </a:lnTo>
                <a:lnTo>
                  <a:pt x="1058" y="646"/>
                </a:lnTo>
                <a:lnTo>
                  <a:pt x="1062" y="646"/>
                </a:lnTo>
                <a:lnTo>
                  <a:pt x="1066" y="646"/>
                </a:lnTo>
                <a:lnTo>
                  <a:pt x="1070" y="646"/>
                </a:lnTo>
                <a:lnTo>
                  <a:pt x="1074" y="646"/>
                </a:lnTo>
                <a:lnTo>
                  <a:pt x="1077" y="646"/>
                </a:lnTo>
                <a:lnTo>
                  <a:pt x="1081" y="646"/>
                </a:lnTo>
                <a:lnTo>
                  <a:pt x="1085" y="646"/>
                </a:lnTo>
                <a:lnTo>
                  <a:pt x="1089" y="646"/>
                </a:lnTo>
                <a:lnTo>
                  <a:pt x="1092" y="646"/>
                </a:lnTo>
                <a:lnTo>
                  <a:pt x="1096" y="646"/>
                </a:lnTo>
                <a:lnTo>
                  <a:pt x="1100" y="646"/>
                </a:lnTo>
                <a:lnTo>
                  <a:pt x="1104" y="646"/>
                </a:lnTo>
                <a:lnTo>
                  <a:pt x="1108" y="646"/>
                </a:lnTo>
                <a:lnTo>
                  <a:pt x="1111" y="646"/>
                </a:lnTo>
                <a:lnTo>
                  <a:pt x="1115" y="646"/>
                </a:lnTo>
                <a:lnTo>
                  <a:pt x="1119" y="646"/>
                </a:lnTo>
                <a:lnTo>
                  <a:pt x="1123" y="646"/>
                </a:lnTo>
                <a:lnTo>
                  <a:pt x="1123" y="0"/>
                </a:lnTo>
                <a:lnTo>
                  <a:pt x="1126" y="0"/>
                </a:lnTo>
                <a:lnTo>
                  <a:pt x="1130" y="0"/>
                </a:lnTo>
                <a:lnTo>
                  <a:pt x="1134" y="0"/>
                </a:lnTo>
                <a:lnTo>
                  <a:pt x="1138" y="0"/>
                </a:lnTo>
                <a:lnTo>
                  <a:pt x="1142" y="0"/>
                </a:lnTo>
                <a:lnTo>
                  <a:pt x="1145" y="0"/>
                </a:lnTo>
                <a:lnTo>
                  <a:pt x="1149" y="0"/>
                </a:lnTo>
                <a:lnTo>
                  <a:pt x="1153" y="0"/>
                </a:lnTo>
                <a:lnTo>
                  <a:pt x="1157" y="0"/>
                </a:lnTo>
                <a:lnTo>
                  <a:pt x="1160" y="0"/>
                </a:lnTo>
                <a:lnTo>
                  <a:pt x="1164" y="0"/>
                </a:lnTo>
                <a:lnTo>
                  <a:pt x="1168" y="0"/>
                </a:lnTo>
                <a:lnTo>
                  <a:pt x="1172" y="0"/>
                </a:lnTo>
                <a:lnTo>
                  <a:pt x="1176" y="0"/>
                </a:lnTo>
                <a:lnTo>
                  <a:pt x="1179" y="0"/>
                </a:lnTo>
                <a:lnTo>
                  <a:pt x="1183" y="0"/>
                </a:lnTo>
                <a:lnTo>
                  <a:pt x="1187" y="0"/>
                </a:lnTo>
                <a:lnTo>
                  <a:pt x="1191" y="0"/>
                </a:lnTo>
                <a:lnTo>
                  <a:pt x="1194" y="0"/>
                </a:lnTo>
                <a:lnTo>
                  <a:pt x="1198" y="0"/>
                </a:lnTo>
                <a:lnTo>
                  <a:pt x="1202" y="0"/>
                </a:lnTo>
                <a:lnTo>
                  <a:pt x="1206" y="0"/>
                </a:lnTo>
                <a:lnTo>
                  <a:pt x="1210" y="0"/>
                </a:lnTo>
                <a:lnTo>
                  <a:pt x="1213" y="0"/>
                </a:lnTo>
                <a:lnTo>
                  <a:pt x="1217" y="0"/>
                </a:lnTo>
                <a:lnTo>
                  <a:pt x="1221" y="0"/>
                </a:lnTo>
                <a:lnTo>
                  <a:pt x="1225" y="0"/>
                </a:lnTo>
                <a:lnTo>
                  <a:pt x="1229" y="0"/>
                </a:lnTo>
                <a:lnTo>
                  <a:pt x="1232" y="0"/>
                </a:lnTo>
                <a:lnTo>
                  <a:pt x="1236" y="0"/>
                </a:lnTo>
                <a:lnTo>
                  <a:pt x="1240" y="0"/>
                </a:lnTo>
                <a:lnTo>
                  <a:pt x="1244" y="0"/>
                </a:lnTo>
                <a:lnTo>
                  <a:pt x="1247" y="0"/>
                </a:lnTo>
                <a:lnTo>
                  <a:pt x="1251" y="0"/>
                </a:lnTo>
                <a:lnTo>
                  <a:pt x="1255" y="0"/>
                </a:lnTo>
                <a:lnTo>
                  <a:pt x="1259" y="0"/>
                </a:lnTo>
                <a:lnTo>
                  <a:pt x="1263" y="0"/>
                </a:lnTo>
                <a:lnTo>
                  <a:pt x="1266" y="0"/>
                </a:lnTo>
                <a:lnTo>
                  <a:pt x="1270" y="0"/>
                </a:lnTo>
                <a:lnTo>
                  <a:pt x="1274" y="0"/>
                </a:lnTo>
                <a:lnTo>
                  <a:pt x="1278" y="0"/>
                </a:lnTo>
                <a:lnTo>
                  <a:pt x="1281" y="0"/>
                </a:lnTo>
                <a:lnTo>
                  <a:pt x="1285" y="0"/>
                </a:lnTo>
                <a:lnTo>
                  <a:pt x="1289" y="0"/>
                </a:lnTo>
                <a:lnTo>
                  <a:pt x="1293" y="0"/>
                </a:lnTo>
                <a:lnTo>
                  <a:pt x="1297" y="0"/>
                </a:lnTo>
                <a:lnTo>
                  <a:pt x="1300" y="0"/>
                </a:lnTo>
                <a:lnTo>
                  <a:pt x="1304" y="0"/>
                </a:lnTo>
                <a:lnTo>
                  <a:pt x="1308" y="0"/>
                </a:lnTo>
                <a:lnTo>
                  <a:pt x="1312" y="0"/>
                </a:lnTo>
                <a:lnTo>
                  <a:pt x="1315" y="0"/>
                </a:lnTo>
                <a:lnTo>
                  <a:pt x="1319" y="0"/>
                </a:lnTo>
                <a:lnTo>
                  <a:pt x="1323" y="0"/>
                </a:lnTo>
                <a:lnTo>
                  <a:pt x="1327" y="0"/>
                </a:lnTo>
                <a:lnTo>
                  <a:pt x="1331" y="0"/>
                </a:lnTo>
                <a:lnTo>
                  <a:pt x="1334" y="0"/>
                </a:lnTo>
                <a:lnTo>
                  <a:pt x="1338" y="0"/>
                </a:lnTo>
                <a:lnTo>
                  <a:pt x="1342" y="0"/>
                </a:lnTo>
                <a:lnTo>
                  <a:pt x="1346" y="0"/>
                </a:lnTo>
                <a:lnTo>
                  <a:pt x="1349" y="0"/>
                </a:lnTo>
                <a:lnTo>
                  <a:pt x="1353" y="0"/>
                </a:lnTo>
                <a:lnTo>
                  <a:pt x="1357" y="0"/>
                </a:lnTo>
                <a:lnTo>
                  <a:pt x="1361" y="0"/>
                </a:lnTo>
                <a:lnTo>
                  <a:pt x="1365" y="0"/>
                </a:lnTo>
                <a:lnTo>
                  <a:pt x="1368" y="0"/>
                </a:lnTo>
                <a:lnTo>
                  <a:pt x="1372" y="0"/>
                </a:lnTo>
                <a:lnTo>
                  <a:pt x="1376" y="0"/>
                </a:lnTo>
                <a:lnTo>
                  <a:pt x="1380" y="0"/>
                </a:lnTo>
                <a:lnTo>
                  <a:pt x="1383" y="0"/>
                </a:lnTo>
                <a:lnTo>
                  <a:pt x="1387" y="0"/>
                </a:lnTo>
                <a:lnTo>
                  <a:pt x="1391" y="0"/>
                </a:lnTo>
                <a:lnTo>
                  <a:pt x="1395" y="0"/>
                </a:lnTo>
                <a:lnTo>
                  <a:pt x="1399" y="0"/>
                </a:lnTo>
                <a:lnTo>
                  <a:pt x="1402" y="0"/>
                </a:lnTo>
                <a:lnTo>
                  <a:pt x="1406" y="0"/>
                </a:lnTo>
                <a:lnTo>
                  <a:pt x="1410" y="0"/>
                </a:lnTo>
                <a:lnTo>
                  <a:pt x="1414" y="0"/>
                </a:lnTo>
                <a:lnTo>
                  <a:pt x="1418" y="0"/>
                </a:lnTo>
                <a:lnTo>
                  <a:pt x="1421" y="0"/>
                </a:lnTo>
                <a:lnTo>
                  <a:pt x="1425" y="0"/>
                </a:lnTo>
                <a:lnTo>
                  <a:pt x="1429" y="0"/>
                </a:lnTo>
                <a:lnTo>
                  <a:pt x="1433" y="0"/>
                </a:lnTo>
                <a:lnTo>
                  <a:pt x="1436" y="0"/>
                </a:lnTo>
                <a:lnTo>
                  <a:pt x="1440" y="0"/>
                </a:lnTo>
                <a:lnTo>
                  <a:pt x="1444" y="0"/>
                </a:lnTo>
                <a:lnTo>
                  <a:pt x="1448" y="0"/>
                </a:lnTo>
                <a:lnTo>
                  <a:pt x="1452" y="0"/>
                </a:lnTo>
                <a:lnTo>
                  <a:pt x="1455" y="0"/>
                </a:lnTo>
                <a:lnTo>
                  <a:pt x="1459" y="0"/>
                </a:lnTo>
                <a:lnTo>
                  <a:pt x="1463" y="0"/>
                </a:lnTo>
                <a:lnTo>
                  <a:pt x="1467" y="0"/>
                </a:lnTo>
                <a:lnTo>
                  <a:pt x="1470" y="0"/>
                </a:lnTo>
                <a:lnTo>
                  <a:pt x="1474" y="0"/>
                </a:lnTo>
                <a:lnTo>
                  <a:pt x="1478" y="0"/>
                </a:lnTo>
                <a:lnTo>
                  <a:pt x="1482" y="0"/>
                </a:lnTo>
                <a:lnTo>
                  <a:pt x="1486" y="0"/>
                </a:lnTo>
                <a:lnTo>
                  <a:pt x="1489" y="0"/>
                </a:lnTo>
                <a:lnTo>
                  <a:pt x="1493" y="0"/>
                </a:lnTo>
                <a:lnTo>
                  <a:pt x="1497" y="0"/>
                </a:lnTo>
                <a:lnTo>
                  <a:pt x="1497" y="646"/>
                </a:lnTo>
                <a:lnTo>
                  <a:pt x="1501" y="646"/>
                </a:lnTo>
                <a:lnTo>
                  <a:pt x="1504" y="646"/>
                </a:lnTo>
                <a:lnTo>
                  <a:pt x="1508" y="646"/>
                </a:lnTo>
                <a:lnTo>
                  <a:pt x="1512" y="646"/>
                </a:lnTo>
                <a:lnTo>
                  <a:pt x="1516" y="646"/>
                </a:lnTo>
                <a:lnTo>
                  <a:pt x="1520" y="646"/>
                </a:lnTo>
                <a:lnTo>
                  <a:pt x="1523" y="646"/>
                </a:lnTo>
                <a:lnTo>
                  <a:pt x="1527" y="646"/>
                </a:lnTo>
                <a:lnTo>
                  <a:pt x="1531" y="646"/>
                </a:lnTo>
                <a:lnTo>
                  <a:pt x="1535" y="646"/>
                </a:lnTo>
                <a:lnTo>
                  <a:pt x="1538" y="646"/>
                </a:lnTo>
                <a:lnTo>
                  <a:pt x="1542" y="646"/>
                </a:lnTo>
                <a:lnTo>
                  <a:pt x="1546" y="646"/>
                </a:lnTo>
                <a:lnTo>
                  <a:pt x="1550" y="646"/>
                </a:lnTo>
                <a:lnTo>
                  <a:pt x="1554" y="646"/>
                </a:lnTo>
                <a:lnTo>
                  <a:pt x="1557" y="646"/>
                </a:lnTo>
                <a:lnTo>
                  <a:pt x="1561" y="646"/>
                </a:lnTo>
                <a:lnTo>
                  <a:pt x="1565" y="646"/>
                </a:lnTo>
                <a:lnTo>
                  <a:pt x="1569" y="646"/>
                </a:lnTo>
                <a:lnTo>
                  <a:pt x="1572" y="646"/>
                </a:lnTo>
                <a:lnTo>
                  <a:pt x="1576" y="646"/>
                </a:lnTo>
                <a:lnTo>
                  <a:pt x="1580" y="646"/>
                </a:lnTo>
                <a:lnTo>
                  <a:pt x="1584" y="646"/>
                </a:lnTo>
                <a:lnTo>
                  <a:pt x="1588" y="646"/>
                </a:lnTo>
                <a:lnTo>
                  <a:pt x="1591" y="646"/>
                </a:lnTo>
                <a:lnTo>
                  <a:pt x="1595" y="646"/>
                </a:lnTo>
                <a:lnTo>
                  <a:pt x="1599" y="646"/>
                </a:lnTo>
                <a:lnTo>
                  <a:pt x="1603" y="646"/>
                </a:lnTo>
                <a:lnTo>
                  <a:pt x="1607" y="646"/>
                </a:lnTo>
                <a:lnTo>
                  <a:pt x="1610" y="646"/>
                </a:lnTo>
                <a:lnTo>
                  <a:pt x="1614" y="646"/>
                </a:lnTo>
                <a:lnTo>
                  <a:pt x="1618" y="646"/>
                </a:lnTo>
                <a:lnTo>
                  <a:pt x="1622" y="646"/>
                </a:lnTo>
                <a:lnTo>
                  <a:pt x="1625" y="646"/>
                </a:lnTo>
                <a:lnTo>
                  <a:pt x="1629" y="646"/>
                </a:lnTo>
                <a:lnTo>
                  <a:pt x="1633" y="646"/>
                </a:lnTo>
                <a:lnTo>
                  <a:pt x="1637" y="646"/>
                </a:lnTo>
                <a:lnTo>
                  <a:pt x="1641" y="646"/>
                </a:lnTo>
                <a:lnTo>
                  <a:pt x="1644" y="646"/>
                </a:lnTo>
                <a:lnTo>
                  <a:pt x="1648" y="646"/>
                </a:lnTo>
                <a:lnTo>
                  <a:pt x="1652" y="646"/>
                </a:lnTo>
                <a:lnTo>
                  <a:pt x="1656" y="646"/>
                </a:lnTo>
                <a:lnTo>
                  <a:pt x="1659" y="646"/>
                </a:lnTo>
                <a:lnTo>
                  <a:pt x="1663" y="646"/>
                </a:lnTo>
                <a:lnTo>
                  <a:pt x="1667" y="646"/>
                </a:lnTo>
                <a:lnTo>
                  <a:pt x="1671" y="646"/>
                </a:lnTo>
                <a:lnTo>
                  <a:pt x="1675" y="646"/>
                </a:lnTo>
                <a:lnTo>
                  <a:pt x="1678" y="646"/>
                </a:lnTo>
                <a:lnTo>
                  <a:pt x="1682" y="646"/>
                </a:lnTo>
                <a:lnTo>
                  <a:pt x="1686" y="646"/>
                </a:lnTo>
                <a:lnTo>
                  <a:pt x="1690" y="646"/>
                </a:lnTo>
                <a:lnTo>
                  <a:pt x="1693" y="646"/>
                </a:lnTo>
                <a:lnTo>
                  <a:pt x="1697" y="646"/>
                </a:lnTo>
                <a:lnTo>
                  <a:pt x="1701" y="646"/>
                </a:lnTo>
                <a:lnTo>
                  <a:pt x="1705" y="646"/>
                </a:lnTo>
                <a:lnTo>
                  <a:pt x="1709" y="646"/>
                </a:lnTo>
                <a:lnTo>
                  <a:pt x="1712" y="646"/>
                </a:lnTo>
                <a:lnTo>
                  <a:pt x="1716" y="646"/>
                </a:lnTo>
                <a:lnTo>
                  <a:pt x="1720" y="646"/>
                </a:lnTo>
                <a:lnTo>
                  <a:pt x="1724" y="646"/>
                </a:lnTo>
                <a:lnTo>
                  <a:pt x="1727" y="646"/>
                </a:lnTo>
                <a:lnTo>
                  <a:pt x="1731" y="646"/>
                </a:lnTo>
                <a:lnTo>
                  <a:pt x="1735" y="646"/>
                </a:lnTo>
                <a:lnTo>
                  <a:pt x="1739" y="646"/>
                </a:lnTo>
                <a:lnTo>
                  <a:pt x="1743" y="646"/>
                </a:lnTo>
                <a:lnTo>
                  <a:pt x="1746" y="646"/>
                </a:lnTo>
                <a:lnTo>
                  <a:pt x="1750" y="646"/>
                </a:lnTo>
                <a:lnTo>
                  <a:pt x="1754" y="646"/>
                </a:lnTo>
                <a:lnTo>
                  <a:pt x="1758" y="646"/>
                </a:lnTo>
                <a:lnTo>
                  <a:pt x="1761" y="646"/>
                </a:lnTo>
                <a:lnTo>
                  <a:pt x="1765" y="646"/>
                </a:lnTo>
                <a:lnTo>
                  <a:pt x="1769" y="646"/>
                </a:lnTo>
                <a:lnTo>
                  <a:pt x="1773" y="646"/>
                </a:lnTo>
                <a:lnTo>
                  <a:pt x="1777" y="646"/>
                </a:lnTo>
                <a:lnTo>
                  <a:pt x="1780" y="646"/>
                </a:lnTo>
                <a:lnTo>
                  <a:pt x="1784" y="646"/>
                </a:lnTo>
                <a:lnTo>
                  <a:pt x="1788" y="646"/>
                </a:lnTo>
                <a:lnTo>
                  <a:pt x="1792" y="646"/>
                </a:lnTo>
                <a:lnTo>
                  <a:pt x="1796" y="646"/>
                </a:lnTo>
                <a:lnTo>
                  <a:pt x="1799" y="646"/>
                </a:lnTo>
                <a:lnTo>
                  <a:pt x="1803" y="646"/>
                </a:lnTo>
                <a:lnTo>
                  <a:pt x="1807" y="646"/>
                </a:lnTo>
                <a:lnTo>
                  <a:pt x="1811" y="646"/>
                </a:lnTo>
                <a:lnTo>
                  <a:pt x="1814" y="646"/>
                </a:lnTo>
                <a:lnTo>
                  <a:pt x="1818" y="646"/>
                </a:lnTo>
                <a:lnTo>
                  <a:pt x="1822" y="646"/>
                </a:lnTo>
                <a:lnTo>
                  <a:pt x="1826" y="646"/>
                </a:lnTo>
                <a:lnTo>
                  <a:pt x="1830" y="646"/>
                </a:lnTo>
                <a:lnTo>
                  <a:pt x="1833" y="646"/>
                </a:lnTo>
                <a:lnTo>
                  <a:pt x="1837" y="646"/>
                </a:lnTo>
                <a:lnTo>
                  <a:pt x="1841" y="646"/>
                </a:lnTo>
                <a:lnTo>
                  <a:pt x="1845" y="646"/>
                </a:lnTo>
                <a:lnTo>
                  <a:pt x="1848" y="646"/>
                </a:lnTo>
                <a:lnTo>
                  <a:pt x="1852" y="646"/>
                </a:lnTo>
                <a:lnTo>
                  <a:pt x="1856" y="646"/>
                </a:lnTo>
                <a:lnTo>
                  <a:pt x="1860" y="646"/>
                </a:lnTo>
                <a:lnTo>
                  <a:pt x="1864" y="646"/>
                </a:lnTo>
                <a:lnTo>
                  <a:pt x="1867" y="646"/>
                </a:lnTo>
                <a:lnTo>
                  <a:pt x="1871" y="646"/>
                </a:lnTo>
                <a:lnTo>
                  <a:pt x="1875" y="646"/>
                </a:lnTo>
                <a:lnTo>
                  <a:pt x="1879" y="646"/>
                </a:lnTo>
                <a:lnTo>
                  <a:pt x="1882" y="646"/>
                </a:lnTo>
                <a:lnTo>
                  <a:pt x="1886" y="646"/>
                </a:lnTo>
                <a:lnTo>
                  <a:pt x="1890" y="646"/>
                </a:lnTo>
                <a:lnTo>
                  <a:pt x="1894" y="646"/>
                </a:lnTo>
                <a:lnTo>
                  <a:pt x="1898" y="646"/>
                </a:lnTo>
                <a:lnTo>
                  <a:pt x="1901" y="646"/>
                </a:lnTo>
                <a:lnTo>
                  <a:pt x="1905" y="646"/>
                </a:lnTo>
                <a:lnTo>
                  <a:pt x="1909" y="646"/>
                </a:lnTo>
                <a:lnTo>
                  <a:pt x="1913" y="646"/>
                </a:lnTo>
                <a:lnTo>
                  <a:pt x="1916" y="646"/>
                </a:lnTo>
                <a:lnTo>
                  <a:pt x="1920" y="646"/>
                </a:lnTo>
                <a:lnTo>
                  <a:pt x="1924" y="646"/>
                </a:lnTo>
                <a:lnTo>
                  <a:pt x="1928" y="646"/>
                </a:lnTo>
                <a:lnTo>
                  <a:pt x="1932" y="646"/>
                </a:lnTo>
                <a:lnTo>
                  <a:pt x="1935" y="646"/>
                </a:lnTo>
                <a:lnTo>
                  <a:pt x="1939" y="646"/>
                </a:lnTo>
                <a:lnTo>
                  <a:pt x="1943" y="646"/>
                </a:lnTo>
                <a:lnTo>
                  <a:pt x="1947" y="646"/>
                </a:lnTo>
                <a:lnTo>
                  <a:pt x="1950" y="646"/>
                </a:lnTo>
                <a:lnTo>
                  <a:pt x="1954" y="646"/>
                </a:lnTo>
                <a:lnTo>
                  <a:pt x="1958" y="646"/>
                </a:lnTo>
                <a:lnTo>
                  <a:pt x="1962" y="646"/>
                </a:lnTo>
                <a:lnTo>
                  <a:pt x="1966" y="646"/>
                </a:lnTo>
                <a:lnTo>
                  <a:pt x="1969" y="646"/>
                </a:lnTo>
                <a:lnTo>
                  <a:pt x="1973" y="646"/>
                </a:lnTo>
                <a:lnTo>
                  <a:pt x="1977" y="646"/>
                </a:lnTo>
                <a:lnTo>
                  <a:pt x="1981" y="646"/>
                </a:lnTo>
                <a:lnTo>
                  <a:pt x="1984" y="646"/>
                </a:lnTo>
                <a:lnTo>
                  <a:pt x="1988" y="646"/>
                </a:lnTo>
                <a:lnTo>
                  <a:pt x="1992" y="646"/>
                </a:lnTo>
                <a:lnTo>
                  <a:pt x="1996" y="646"/>
                </a:lnTo>
                <a:lnTo>
                  <a:pt x="2000" y="646"/>
                </a:lnTo>
                <a:lnTo>
                  <a:pt x="2003" y="646"/>
                </a:lnTo>
                <a:lnTo>
                  <a:pt x="2007" y="646"/>
                </a:lnTo>
                <a:lnTo>
                  <a:pt x="2011" y="646"/>
                </a:lnTo>
                <a:lnTo>
                  <a:pt x="2015" y="646"/>
                </a:lnTo>
                <a:lnTo>
                  <a:pt x="2019" y="646"/>
                </a:lnTo>
                <a:lnTo>
                  <a:pt x="2022" y="646"/>
                </a:lnTo>
                <a:lnTo>
                  <a:pt x="2026" y="646"/>
                </a:lnTo>
                <a:lnTo>
                  <a:pt x="2030" y="646"/>
                </a:lnTo>
                <a:lnTo>
                  <a:pt x="2034" y="646"/>
                </a:lnTo>
                <a:lnTo>
                  <a:pt x="2037" y="646"/>
                </a:lnTo>
                <a:lnTo>
                  <a:pt x="2041" y="646"/>
                </a:lnTo>
                <a:lnTo>
                  <a:pt x="2045" y="646"/>
                </a:lnTo>
                <a:lnTo>
                  <a:pt x="2049" y="646"/>
                </a:lnTo>
                <a:lnTo>
                  <a:pt x="2053" y="646"/>
                </a:lnTo>
                <a:lnTo>
                  <a:pt x="2056" y="646"/>
                </a:lnTo>
                <a:lnTo>
                  <a:pt x="2060" y="646"/>
                </a:lnTo>
                <a:lnTo>
                  <a:pt x="2064" y="646"/>
                </a:lnTo>
                <a:lnTo>
                  <a:pt x="2068" y="646"/>
                </a:lnTo>
                <a:lnTo>
                  <a:pt x="2071" y="646"/>
                </a:lnTo>
                <a:lnTo>
                  <a:pt x="2075" y="646"/>
                </a:lnTo>
                <a:lnTo>
                  <a:pt x="2079" y="646"/>
                </a:lnTo>
                <a:lnTo>
                  <a:pt x="2083" y="646"/>
                </a:lnTo>
                <a:lnTo>
                  <a:pt x="2087" y="646"/>
                </a:lnTo>
                <a:lnTo>
                  <a:pt x="2090" y="646"/>
                </a:lnTo>
                <a:lnTo>
                  <a:pt x="2094" y="646"/>
                </a:lnTo>
                <a:lnTo>
                  <a:pt x="2098" y="646"/>
                </a:lnTo>
                <a:lnTo>
                  <a:pt x="2102" y="646"/>
                </a:lnTo>
                <a:lnTo>
                  <a:pt x="2105" y="646"/>
                </a:lnTo>
                <a:lnTo>
                  <a:pt x="2109" y="646"/>
                </a:lnTo>
                <a:lnTo>
                  <a:pt x="2113" y="646"/>
                </a:lnTo>
                <a:lnTo>
                  <a:pt x="2117" y="646"/>
                </a:lnTo>
                <a:lnTo>
                  <a:pt x="2121" y="646"/>
                </a:lnTo>
                <a:lnTo>
                  <a:pt x="2124" y="646"/>
                </a:lnTo>
                <a:lnTo>
                  <a:pt x="2128" y="646"/>
                </a:lnTo>
                <a:lnTo>
                  <a:pt x="2132" y="646"/>
                </a:lnTo>
                <a:lnTo>
                  <a:pt x="2136" y="646"/>
                </a:lnTo>
                <a:lnTo>
                  <a:pt x="2139" y="646"/>
                </a:lnTo>
                <a:lnTo>
                  <a:pt x="2143" y="646"/>
                </a:lnTo>
                <a:lnTo>
                  <a:pt x="2147" y="646"/>
                </a:lnTo>
                <a:lnTo>
                  <a:pt x="2151" y="646"/>
                </a:lnTo>
                <a:lnTo>
                  <a:pt x="2155" y="646"/>
                </a:lnTo>
                <a:lnTo>
                  <a:pt x="2158" y="646"/>
                </a:lnTo>
                <a:lnTo>
                  <a:pt x="2162" y="646"/>
                </a:lnTo>
                <a:lnTo>
                  <a:pt x="2166" y="646"/>
                </a:lnTo>
                <a:lnTo>
                  <a:pt x="2170" y="646"/>
                </a:lnTo>
                <a:lnTo>
                  <a:pt x="2173" y="646"/>
                </a:lnTo>
                <a:lnTo>
                  <a:pt x="2177" y="646"/>
                </a:lnTo>
                <a:lnTo>
                  <a:pt x="2181" y="646"/>
                </a:lnTo>
                <a:lnTo>
                  <a:pt x="2185" y="646"/>
                </a:lnTo>
                <a:lnTo>
                  <a:pt x="2189" y="646"/>
                </a:lnTo>
                <a:lnTo>
                  <a:pt x="2192" y="646"/>
                </a:lnTo>
                <a:lnTo>
                  <a:pt x="2196" y="646"/>
                </a:lnTo>
                <a:lnTo>
                  <a:pt x="2200" y="646"/>
                </a:lnTo>
                <a:lnTo>
                  <a:pt x="2204" y="646"/>
                </a:lnTo>
                <a:lnTo>
                  <a:pt x="2208" y="646"/>
                </a:lnTo>
                <a:lnTo>
                  <a:pt x="2211" y="646"/>
                </a:lnTo>
                <a:lnTo>
                  <a:pt x="2215" y="646"/>
                </a:lnTo>
                <a:lnTo>
                  <a:pt x="2219" y="646"/>
                </a:lnTo>
                <a:lnTo>
                  <a:pt x="2223" y="646"/>
                </a:lnTo>
                <a:lnTo>
                  <a:pt x="2226" y="646"/>
                </a:lnTo>
                <a:lnTo>
                  <a:pt x="2230" y="646"/>
                </a:lnTo>
                <a:lnTo>
                  <a:pt x="2234" y="646"/>
                </a:lnTo>
                <a:lnTo>
                  <a:pt x="2238" y="646"/>
                </a:lnTo>
                <a:lnTo>
                  <a:pt x="2242" y="646"/>
                </a:lnTo>
                <a:lnTo>
                  <a:pt x="2245" y="646"/>
                </a:lnTo>
              </a:path>
            </a:pathLst>
          </a:custGeom>
          <a:noFill/>
          <a:ln w="36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3960" y="390528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 (ch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335880" y="245196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zed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CAO Threat Model (1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76920" y="1371600"/>
            <a:ext cx="3809880" cy="2862000"/>
            <a:chOff x="4876920" y="1371600"/>
            <a:chExt cx="3809880" cy="28620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876920" y="1371600"/>
              <a:ext cx="3809880" cy="28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069960" y="3926520"/>
              <a:ext cx="159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de Offset (chip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076640" y="2463120"/>
              <a:ext cx="200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rmalized ampl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0880" y="1599120"/>
            <a:ext cx="4343400" cy="3887280"/>
            <a:chOff x="380880" y="1599120"/>
            <a:chExt cx="4343400" cy="3887280"/>
          </a:xfrm>
        </p:grpSpPr>
        <p:grpSp>
          <p:nvGrpSpPr>
            <p:cNvPr id="148" name=""/>
            <p:cNvGrpSpPr/>
            <p:nvPr/>
          </p:nvGrpSpPr>
          <p:grpSpPr>
            <a:xfrm>
              <a:off x="1066680" y="1599120"/>
              <a:ext cx="784440" cy="2075040"/>
              <a:chOff x="1066680" y="1599120"/>
              <a:chExt cx="784440" cy="20750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119240" y="1599120"/>
                <a:ext cx="731880" cy="588240"/>
                <a:chOff x="1119240" y="1599120"/>
                <a:chExt cx="731880" cy="588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119240" y="1649160"/>
                  <a:ext cx="731880" cy="538200"/>
                </a:xfrm>
                <a:custGeom>
                  <a:avLst/>
                  <a:gdLst/>
                  <a:ahLst/>
                  <a:rect l="l" t="t" r="r" b="b"/>
                  <a:pathLst>
                    <a:path w="559" h="428">
                      <a:moveTo>
                        <a:pt x="0" y="0"/>
                      </a:moveTo>
                      <a:cubicBezTo>
                        <a:pt x="35" y="68"/>
                        <a:pt x="71" y="136"/>
                        <a:pt x="131" y="198"/>
                      </a:cubicBezTo>
                      <a:cubicBezTo>
                        <a:pt x="191" y="260"/>
                        <a:pt x="290" y="332"/>
                        <a:pt x="361" y="370"/>
                      </a:cubicBezTo>
                      <a:cubicBezTo>
                        <a:pt x="432" y="408"/>
                        <a:pt x="495" y="418"/>
                        <a:pt x="559" y="428"/>
                      </a:cubicBezTo>
                    </a:path>
                  </a:pathLst>
                </a:custGeom>
                <a:noFill/>
                <a:ln w="2844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20840" y="159912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33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066680" y="2601720"/>
                <a:ext cx="747720" cy="1072440"/>
                <a:chOff x="1066680" y="2601720"/>
                <a:chExt cx="747720" cy="10724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294920" y="2821680"/>
                  <a:ext cx="0" cy="414720"/>
                </a:xfrm>
                <a:prstGeom prst="line">
                  <a:avLst/>
                </a:prstGeom>
                <a:ln w="3816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464120" y="2601720"/>
                  <a:ext cx="0" cy="639720"/>
                </a:xfrm>
                <a:prstGeom prst="line">
                  <a:avLst/>
                </a:prstGeom>
                <a:ln w="3816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066680" y="3163680"/>
                  <a:ext cx="249120" cy="0"/>
                </a:xfrm>
                <a:prstGeom prst="line">
                  <a:avLst/>
                </a:prstGeom>
                <a:ln w="28440">
                  <a:solidFill>
                    <a:srgbClr val="99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1445400" y="3163680"/>
                  <a:ext cx="237240" cy="0"/>
                </a:xfrm>
                <a:prstGeom prst="line">
                  <a:avLst/>
                </a:prstGeom>
                <a:ln w="28440">
                  <a:solidFill>
                    <a:srgbClr val="99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275840" y="3233520"/>
                  <a:ext cx="538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990033"/>
                      </a:solidFill>
                      <a:latin typeface="Times New Roman"/>
                    </a:rPr>
                    <a:t>1/</a:t>
                  </a:r>
                  <a:r>
                    <a:rPr b="1" i="1" lang="en-US" sz="2000" spc="-1" strike="noStrike">
                      <a:solidFill>
                        <a:srgbClr val="990033"/>
                      </a:solidFill>
                      <a:latin typeface="Times New Roman"/>
                    </a:rPr>
                    <a:t>f</a:t>
                  </a:r>
                  <a:r>
                    <a:rPr b="1" i="1" lang="en-US" sz="2000" spc="-1" strike="noStrike" baseline="-25000">
                      <a:solidFill>
                        <a:srgbClr val="990033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380880" y="4419720"/>
              <a:ext cx="4343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1280" indent="-34128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Analog” failure 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1240" indent="-284040">
                <a:lnSpc>
                  <a:spcPct val="80000"/>
                </a:lnSpc>
                <a:spcBef>
                  <a:spcPts val="675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</a:rPr>
                <a:t>Two-pole linear system (LH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1240" indent="-284040">
                <a:lnSpc>
                  <a:spcPct val="80000"/>
                </a:lnSpc>
                <a:spcBef>
                  <a:spcPts val="675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</a:rPr>
                <a:t>Completely described by </a:t>
              </a:r>
              <a:r>
                <a:rPr b="0" lang="en-GB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</a:rPr>
                <a:t> and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GB" sz="1800" spc="-1" strike="noStrike" baseline="-33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1522440"/>
            <a:ext cx="4343400" cy="5030640"/>
            <a:chOff x="380880" y="1522440"/>
            <a:chExt cx="4343400" cy="5030640"/>
          </a:xfrm>
        </p:grpSpPr>
        <p:grpSp>
          <p:nvGrpSpPr>
            <p:cNvPr id="160" name=""/>
            <p:cNvGrpSpPr/>
            <p:nvPr/>
          </p:nvGrpSpPr>
          <p:grpSpPr>
            <a:xfrm>
              <a:off x="2708280" y="1522440"/>
              <a:ext cx="615600" cy="622080"/>
              <a:chOff x="2708280" y="1522440"/>
              <a:chExt cx="615600" cy="622080"/>
            </a:xfrm>
          </p:grpSpPr>
          <p:sp>
            <p:nvSpPr>
              <p:cNvPr id="161" name=""/>
              <p:cNvSpPr/>
              <p:nvPr/>
            </p:nvSpPr>
            <p:spPr>
              <a:xfrm>
                <a:off x="2708280" y="2003760"/>
                <a:ext cx="24876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925720" y="1878840"/>
                <a:ext cx="0" cy="25956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83040" y="1886400"/>
                <a:ext cx="0" cy="25812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086640" y="2003760"/>
                <a:ext cx="23724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49120" y="1522440"/>
                <a:ext cx="26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33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80880" y="5486400"/>
              <a:ext cx="4343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9000"/>
            </a:bodyPr>
            <a:p>
              <a:pPr marL="337680" indent="-33768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gital” failure 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3680" indent="-281160">
                <a:lnSpc>
                  <a:spcPct val="80000"/>
                </a:lnSpc>
                <a:spcBef>
                  <a:spcPts val="675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elay/advance in falling (or rising) edges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3680" indent="-281160">
                <a:lnSpc>
                  <a:spcPct val="80000"/>
                </a:lnSpc>
                <a:spcBef>
                  <a:spcPts val="675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letely described by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a class of signal anomalies which could lead to hazardously misleading information (HM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s a dominant error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838600"/>
            <a:ext cx="45720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ingle complex pole p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a three-dimensional threat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vely analyzed by Phel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t. 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um vertical error for a particular correlator spacing and front-end BW is found by exploring thi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ICAO Threat Model (2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631400" y="2819520"/>
            <a:ext cx="4360320" cy="3845880"/>
            <a:chOff x="4631400" y="2819520"/>
            <a:chExt cx="4360320" cy="38458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4800600" y="2819520"/>
              <a:ext cx="4191120" cy="3809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 rot="16200000">
              <a:off x="3900600" y="4233960"/>
              <a:ext cx="216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ndwidth (MH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9960" y="62665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ir Spacing (chi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Vernier Sampling (1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ive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40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 accurate local oscillator (Rb standard accurate to 1mHz at 10MHz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40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method to reliably predict Doppler shift of a given satellite as seen from a known location at a given time (demonstrated as part of Oshkosh SV19 analysi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40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/D converter with sample rate adjustable in fine steps (VSA specified to 1mHz nominal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happens when w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educ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the sample r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27680" y="4343400"/>
            <a:ext cx="2859120" cy="144792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lnTo>
                  <a:pt x="528" y="0"/>
                </a:lnTo>
                <a:lnTo>
                  <a:pt x="528" y="576"/>
                </a:lnTo>
                <a:lnTo>
                  <a:pt x="1056" y="576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5920" y="600300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gregate Ep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267080"/>
            <a:ext cx="152280" cy="152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267080"/>
            <a:ext cx="15228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419720"/>
            <a:ext cx="537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marL="259200" indent="-259200">
              <a:lnSpc>
                <a:spcPct val="93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increase the effective sample rate by a fact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the maximum instrument sampl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156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occurs at the expense of noise aver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156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fords improved time resolution provided data set is long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 Günther</cp:lastModifiedBy>
  <cp:lastPrinted>2003-06-12T20:57:52Z</cp:lastPrinted>
  <dcterms:modified xsi:type="dcterms:W3CDTF">2004-04-23T08:51:20Z</dcterms:modified>
  <cp:revision>170</cp:revision>
  <dc:subject/>
  <dc:title>No Slide Title</dc:title>
</cp:coreProperties>
</file>