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27C-DA19-41BC-8AF0-2E9671D9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BB0-34FB-41F0-93B1-C13E19D3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574-FC33-4F69-B20E-F3FD1940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4C2-7DDE-42AB-A513-C8E777D7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6E7-623D-4639-AC8E-EFF2D67B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40A-21D5-4A52-B320-46E308DD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6FB-A104-4F61-978A-E03BF388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330-F084-46A8-8E4A-F45F0C45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8A2-A68D-4C06-89D6-8A55ECF3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04A-E9F9-46E4-BE2E-1DF076B4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AB7-13A2-4710-83BC-002417BD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7C6-AF87-44E4-9B8E-A6B96FC7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BFE8-FA3B-461D-B692-CC8F16B8B0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for bull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for bull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for bull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gashree</dc:creator>
  <dc:description/>
  <dc:language>en-US</dc:language>
  <cp:lastModifiedBy/>
  <cp:revision>0</cp:revision>
  <dc:subject/>
  <dc:title/>
</cp:coreProperties>
</file>