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never1113%20Layer-3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C81-A1E0-4CBB-90A2-FD6EA261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246-659D-4E08-86C7-B4902EF7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B57-67C2-4A25-A101-B89206EE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D3A-041A-4445-9A9B-466C7D2E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BA0-A7E9-4139-B18A-17A9699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642-0924-4AA9-85D3-6509BE0F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634-A886-473E-B43A-15881A0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97E-4A5D-476E-90A6-7EA9E80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2D5-887E-4EBD-8168-E004391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5CF-A218-4AF0-9BBE-296305B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CD7-3047-4D89-879F-00D2252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8F8-29EB-486E-916D-D5DB5674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1E0C-7ACC-460E-9A5A-ED0D5C7F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ver1113%20Layer-3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76908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mudger LET"/>
              </a:rPr>
              <a:t>Dicono di noi genove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mudger LET"/>
              <a:ea typeface="Smudger LET"/>
            </a:endParaRPr>
          </a:p>
        </p:txBody>
      </p:sp>
    </p:spTree>
  </p:cSld>
  <p:transition spd="slow">
    <p:randomBar dir="horz"/>
    <p:sndAc>
      <p:stSnd>
        <p:snd r:embed="rId2" name="never1113%20Layer-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4581360"/>
            <a:ext cx="617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 tipo di olio usa la tipica massaia genovese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llo della vicin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3284640"/>
            <a:ext cx="712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Un genovese che ha appena perso la moglie, si reca al secolo  XIX per far pubblicare un necrolog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Buongiorno, dovrei pubblicare un necrologi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Prego, mi detti il test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MORTA MART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Come??? Noo, non è possibile! Ha idea di quante Marta ci siano a Genova? E poi sappia che fino a cinque parole la tariffa è la stess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Ah, ma davvero?. B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llora scriva: MORTA MARTA VENDO PANDA AZZURR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7640" y="44370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e si fa a far impazzire un genov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Lo si mette in una stanza rotonda e gli si dice che ci sono dieci euro in un ango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58920" y="3429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Un genovese entra in una pasticc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Mi scusi, quanto costano quelle scatole di cioccolat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Beh... quelle due scatole insieme posso dargliele per quindici eu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Ed una s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Dieci eu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Allora prendo quell'altr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4437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e si fa a far guarire un genovese dalla balbu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Gli si fa fare una telefonata intercontinenta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42210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torna a casa dopo aver comprato una costosa bottiglia di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lle scale di casa scivola e cade a terra. Poco dopo sente del liquido colare sulla schiena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Dio, speriamo che sia sangue.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400536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ordina un doppio whisky. Sta per bere, quando si accorge di una mosca che nuota all'interno. Con aria furente la tira fuori dal bicchiere e l'appoggia sul tavolo, premendola tra le d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puta, bastarda, sputa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393372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i genovesi rimangono bloccati da una tormenta di neve in una ba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cuni giorni dopo arrivano i soccorsi e bussano alla 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Chi è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E' la Croce Rossa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Grazie, ma abbiamo già dat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4292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torna a casa presto dal lav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l giardino di casa vede parcheggiato il furgoncino di un idrau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zando lo sguardo al cielo esc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Ti prego, Signore, fa che sia il suo amante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4941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ta di calcio Genova-Sampd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arbitro lancia la monetina, duemila i feriti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33:44Z</dcterms:created>
  <dc:creator>Daniela</dc:creator>
  <dc:description/>
  <dc:language>en-US</dc:language>
  <cp:lastModifiedBy>Template</cp:lastModifiedBy>
  <dcterms:modified xsi:type="dcterms:W3CDTF">2005-09-27T08:19:37Z</dcterms:modified>
  <cp:revision>5</cp:revision>
  <dc:subject/>
  <dc:title>Dicono di noi genovesi…</dc:title>
</cp:coreProperties>
</file>