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11C-6A3D-4CF9-A6B5-5162D886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4FC-FE3C-4900-8E0D-7E45D11E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133-B12B-42F9-8429-648757A8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9A2-2184-4DF9-9435-02A4B699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69D-F88C-4F72-A9FB-CDBD57F3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65B-A9A2-4352-856D-B32D1EE5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1F2-8A69-48D2-85D8-067813F1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2AE-C639-4A4D-9161-286DC8D8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5A1-B9DC-4262-8778-76BB8172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620-2819-4F12-A6FB-8BFFFD4A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933-EC3C-4670-B4F4-B61BF7E7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E9A-CE29-46A8-AC86-451E35AA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E598-D33E-4D94-AE38-AB124AEA6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90720" y="9907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Animation should fade in at first cli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990720" y="9907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Animation should dissolve in after previous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6:29:30Z</dcterms:created>
  <dc:creator>benneds1</dc:creator>
  <dc:description/>
  <dc:language>en-US</dc:language>
  <cp:lastModifiedBy>benneds1</cp:lastModifiedBy>
  <dcterms:modified xsi:type="dcterms:W3CDTF">2012-02-06T16:31:49Z</dcterms:modified>
  <cp:revision>1</cp:revision>
  <dc:subject/>
  <dc:title>Slide 1</dc:title>
</cp:coreProperties>
</file>