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E309-860F-4E50-8C2E-5ABF590C9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000" y="3948480"/>
            <a:ext cx="8915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BEC2-FC5B-4B91-B384-5E3BA6E6E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394848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3400" y="394848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FA41-ABDA-463A-8A5E-2CAB519A7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000" y="394848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9640" y="394848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280" y="394848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B73C-7C3F-491F-87F9-FD38F0086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B0EED-8540-45B6-81F8-C7C791ECC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58763-507E-4F08-A493-63912E6B8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246AD-9318-4AA7-A4AE-1F887D344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BFDB6-C3C7-469C-84FC-1EE6EA85D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31009-A855-4C38-95CC-4568EF705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8EE96-2895-49B5-A609-0ADEFDAB9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5000" y="394848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DBCD6-CE91-4ED6-9DB6-441BD392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BA73-5BA0-4006-9D87-016DC40A4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63400" y="394848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6B0DA-DD1E-4A28-BB2F-EED46CD6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95000" y="3948480"/>
            <a:ext cx="8915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1D73B-B8EA-4464-AECE-523F3B64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5000" y="3948480"/>
            <a:ext cx="8915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C8E2D-9AE0-47C0-812F-11D21F008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5000" y="394848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63400" y="394848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416F2-F9FF-4CD0-81FF-37D33B5D2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5000" y="394848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09640" y="394848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524280" y="394848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765E9-B9F6-4950-A7B9-4535D5617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2A82-3AC5-46E7-B612-A18C69026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9E16-7DBD-4BA8-B534-1D3512785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85F1-4E28-49D0-8274-EE41D27D8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46AA-224B-4A06-A5EE-1FEEFB34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" y="394848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1E5F-A9A1-41A9-A3F8-0F46B8F7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3400" y="394848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4636-4659-4905-A5E1-20ABE015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3948480"/>
            <a:ext cx="8915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493F-3852-45DA-B653-0821200D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845120" cy="1981080"/>
            <a:chOff x="0" y="0"/>
            <a:chExt cx="7845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716240" cy="1055520"/>
            </a:xfrm>
            <a:custGeom>
              <a:avLst/>
              <a:gdLst>
                <a:gd name="textAreaLeft" fmla="*/ 0 w 7716240"/>
                <a:gd name="textAreaRight" fmla="*/ 7716600 w 771624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Nokia Sans Wide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845120" cy="1903320"/>
            </a:xfrm>
            <a:custGeom>
              <a:avLst/>
              <a:gdLst>
                <a:gd name="textAreaLeft" fmla="*/ 0 w 7845120"/>
                <a:gd name="textAreaRight" fmla="*/ 7845480 w 7845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Nokia Sans Wide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Nokia Sans Wide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2008  Nokia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V1-Filename.ppt / YYYY-MM-DD / Initia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6CA02-1459-4245-96ED-3829ED17F59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9162720" cy="5943600"/>
            <a:chOff x="0" y="0"/>
            <a:chExt cx="916272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865360" cy="3657600"/>
            </a:xfrm>
            <a:custGeom>
              <a:avLst/>
              <a:gdLst>
                <a:gd name="textAreaLeft" fmla="*/ 0 w 8865360"/>
                <a:gd name="textAreaRight" fmla="*/ 8865720 w 886536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Nokia Sans Wide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9162720" cy="5856120"/>
            </a:xfrm>
            <a:custGeom>
              <a:avLst/>
              <a:gdLst>
                <a:gd name="textAreaLeft" fmla="*/ 0 w 9162720"/>
                <a:gd name="textAreaRight" fmla="*/ 9163080 w 916272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Nokia Sans Wide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Nokia Sans Wide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2008  Nokia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V1-Filename.ppt / YYYY-MM-DD / Initia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0BAB5-155D-45DD-9170-7ABF721842B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187200" y="4759200"/>
            <a:ext cx="8496360" cy="1287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182880" bIns="182880" anchor="t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Nokia Sans Wide"/>
              </a:rPr>
              <a:t>Created by:</a:t>
            </a:r>
            <a:r>
              <a:rPr b="0" lang="en-US" sz="1200" spc="-1" strike="noStrike">
                <a:solidFill>
                  <a:srgbClr val="ffffff"/>
                </a:solidFill>
                <a:latin typeface="Nokia Sans Wide"/>
              </a:rPr>
              <a:t>   Phychologist</a:t>
            </a:r>
            <a:endParaRPr b="0" lang="en-US" sz="1200" spc="-1" strike="noStrike">
              <a:solidFill>
                <a:srgbClr val="ffffff"/>
              </a:solidFill>
              <a:latin typeface="Nokia Sans Wide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Nokia Sans Wide"/>
              </a:rPr>
              <a:t>Approver</a:t>
            </a:r>
            <a:r>
              <a:rPr b="0" lang="en-US" sz="1200" spc="-1" strike="noStrike">
                <a:solidFill>
                  <a:srgbClr val="ffffff"/>
                </a:solidFill>
                <a:latin typeface="Nokia Sans Wide"/>
              </a:rPr>
              <a:t>: Director, Common Technologies</a:t>
            </a:r>
            <a:endParaRPr b="0" lang="en-US" sz="1200" spc="-1" strike="noStrike">
              <a:solidFill>
                <a:srgbClr val="ffffff"/>
              </a:solidFill>
              <a:latin typeface="Nokia Sans Wide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Nokia Sans Wide"/>
              </a:rPr>
              <a:t>Function:</a:t>
            </a:r>
            <a:r>
              <a:rPr b="0" lang="en-US" sz="1200" spc="-1" strike="noStrike">
                <a:solidFill>
                  <a:srgbClr val="ffffff"/>
                </a:solidFill>
                <a:latin typeface="Nokia Sans Wide"/>
              </a:rPr>
              <a:t> DCC</a:t>
            </a:r>
            <a:endParaRPr b="0" lang="en-US" sz="1200" spc="-1" strike="noStrike">
              <a:solidFill>
                <a:srgbClr val="ffffff"/>
              </a:solidFill>
              <a:latin typeface="Nokia Sans Wide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Nokia Sans Wide"/>
              </a:rPr>
              <a:t>Doc ID: </a:t>
            </a:r>
            <a:r>
              <a:rPr b="0" lang="en-US" sz="1200" spc="-1" strike="noStrike">
                <a:solidFill>
                  <a:srgbClr val="ffffff"/>
                </a:solidFill>
                <a:latin typeface="Nokia Sans Wide"/>
              </a:rPr>
              <a:t>HX18</a:t>
            </a:r>
            <a:endParaRPr b="0" lang="en-US" sz="1200" spc="-1" strike="noStrike">
              <a:solidFill>
                <a:srgbClr val="ffffff"/>
              </a:solidFill>
              <a:latin typeface="Nokia Sans Wide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Nokia Sans Wide"/>
              </a:rPr>
              <a:t>Location: </a:t>
            </a:r>
            <a:r>
              <a:rPr b="0" lang="en-US" sz="1200" spc="-1" strike="noStrike">
                <a:solidFill>
                  <a:srgbClr val="ffffff"/>
                </a:solidFill>
                <a:latin typeface="Nokia Sans Wide"/>
              </a:rPr>
              <a:t>Sect</a:t>
            </a:r>
            <a:endParaRPr b="0" lang="en-US" sz="1200" spc="-1" strike="noStrike">
              <a:solidFill>
                <a:srgbClr val="ffffff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7T07:49:49Z</dcterms:created>
  <dc:creator>nandita</dc:creator>
  <dc:description/>
  <cp:keywords/>
  <dc:language>en-US</dc:language>
  <cp:lastModifiedBy>user</cp:lastModifiedBy>
  <cp:lastPrinted>1998-09-04T08:04:32Z</cp:lastPrinted>
  <dcterms:modified xsi:type="dcterms:W3CDTF">2011-09-23T13:21:58Z</dcterms:modified>
  <cp:revision>8</cp:revision>
  <dc:subject/>
  <dc:title>Slide 1</dc:title>
</cp:coreProperties>
</file>