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160" y="662940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BF0E-D968-4B90-9060-EE3C749A00E7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12680" y="125280"/>
            <a:ext cx="878040" cy="8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+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V19 Signal (Time Domain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810240" cy="373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810240" cy="373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33520" y="1770120"/>
            <a:ext cx="12952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V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4920" y="2362320"/>
            <a:ext cx="4114800" cy="4343400"/>
            <a:chOff x="304920" y="2362320"/>
            <a:chExt cx="4114800" cy="4343400"/>
          </a:xfrm>
        </p:grpSpPr>
        <p:grpSp>
          <p:nvGrpSpPr>
            <p:cNvPr id="48" name=""/>
            <p:cNvGrpSpPr/>
            <p:nvPr/>
          </p:nvGrpSpPr>
          <p:grpSpPr>
            <a:xfrm>
              <a:off x="1828800" y="2362320"/>
              <a:ext cx="1658520" cy="3080520"/>
              <a:chOff x="1828800" y="2362320"/>
              <a:chExt cx="1658520" cy="3080520"/>
            </a:xfrm>
          </p:grpSpPr>
          <p:sp>
            <p:nvSpPr>
              <p:cNvPr id="49" name=""/>
              <p:cNvSpPr/>
              <p:nvPr/>
            </p:nvSpPr>
            <p:spPr>
              <a:xfrm>
                <a:off x="2648160" y="5105160"/>
                <a:ext cx="8391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00"/>
                    </a:solidFill>
                    <a:latin typeface="Times New Roman"/>
                  </a:rPr>
                  <a:t>5 ns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266920" y="3581280"/>
                <a:ext cx="0" cy="17528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09680" y="2362320"/>
                <a:ext cx="0" cy="297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28800" y="5257800"/>
                <a:ext cx="380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2266920" y="5257800"/>
                <a:ext cx="380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304920" y="5486400"/>
              <a:ext cx="41148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/A code edges on healthy SV aligned to within 3-6 nsec*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r>
                <a:rPr b="0" i="1" lang="en-GB" sz="2000" spc="-1" strike="noStrike">
                  <a:solidFill>
                    <a:srgbClr val="ffffff"/>
                  </a:solidFill>
                  <a:latin typeface="Times New Roman"/>
                </a:rPr>
                <a:t>equipment measurement 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876920" y="2362320"/>
            <a:ext cx="4114800" cy="4327920"/>
            <a:chOff x="4876920" y="2362320"/>
            <a:chExt cx="4114800" cy="4327920"/>
          </a:xfrm>
        </p:grpSpPr>
        <p:sp>
          <p:nvSpPr>
            <p:cNvPr id="56" name=""/>
            <p:cNvSpPr/>
            <p:nvPr/>
          </p:nvSpPr>
          <p:spPr>
            <a:xfrm>
              <a:off x="4876920" y="5499000"/>
              <a:ext cx="411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/A code edges on SV19 mis-aligned by ~ 28-33 nsec with respect to P code edg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6324480" y="2362320"/>
              <a:ext cx="1881360" cy="3080520"/>
              <a:chOff x="6324480" y="2362320"/>
              <a:chExt cx="1881360" cy="308052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324480" y="2362320"/>
                <a:ext cx="894960" cy="2971800"/>
                <a:chOff x="6324480" y="2362320"/>
                <a:chExt cx="894960" cy="29718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6705360" y="3581280"/>
                  <a:ext cx="0" cy="175284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838560" y="2362320"/>
                  <a:ext cx="0" cy="297180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324480" y="5257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6838200" y="525780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7238880" y="5105160"/>
                <a:ext cx="9669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00"/>
                    </a:solidFill>
                    <a:latin typeface="Times New Roman"/>
                  </a:rPr>
                  <a:t>33 ns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5181480" y="1770120"/>
            <a:ext cx="12956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V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an Günther</cp:lastModifiedBy>
  <cp:lastPrinted>2003-06-12T20:57:52Z</cp:lastPrinted>
  <dcterms:modified xsi:type="dcterms:W3CDTF">2004-04-23T11:34:56Z</dcterms:modified>
  <cp:revision>170</cp:revision>
  <dc:subject/>
  <dc:title>No Slide Title</dc:title>
</cp:coreProperties>
</file>