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650A-698F-4786-90F7-168EA73F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6D1-A689-48F1-AB97-9FF92408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1786-8894-4927-9FCC-249D6D09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8EB3-2B88-4B5F-883D-6E55DBB9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968-703F-438C-9E2E-1BB27230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AC63-C3F6-4DBF-8079-47E0CF49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A47-B34C-429A-9006-3C6FFF84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7F51-0122-43F5-810C-5233A8FE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2D39-8B65-4114-89C9-B194D262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D9C9-28CC-4F15-8F25-FFD12D19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A442-14D3-4E71-9504-77E3DFAB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B746-334B-4227-B7F3-CCDA5439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A548-CC04-4E2D-ADF7-4AEA3030B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2133720" y="2590920"/>
                <a:ext cx="42796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ε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λ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21:44Z</dcterms:created>
  <dc:creator>Robert S. Conker</dc:creator>
  <dc:description/>
  <dc:language>en-US</dc:language>
  <cp:lastModifiedBy>Robert S. Conker</cp:lastModifiedBy>
  <dcterms:modified xsi:type="dcterms:W3CDTF">2002-09-18T18:28:56Z</dcterms:modified>
  <cp:revision>1</cp:revision>
  <dc:subject/>
  <dc:title>No Slide Title</dc:title>
</cp:coreProperties>
</file>