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9A98-6D6B-4684-A1FE-0DEBF8E1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6FD1-E38D-4700-95AF-A6E543BF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9BEC-E569-42F2-9ADC-10805AF1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8757-E546-4523-AEE1-77BF12B9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0C41-F5A6-4484-9DEE-428CCCF7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7D07-C6D1-4245-9139-E2660236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1960-D3FE-4757-B2FB-B3E4AC1B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E594-7D99-4A80-8CD8-79B25C31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2024-A451-439D-A219-5DB2A623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A29D-D582-40A3-8C39-51676863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0F11-9465-42FB-A804-0C6FA986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965-160E-42D1-829A-4592E3FA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4832-BCEC-43AA-8941-37638677A0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35280" y="3500280"/>
            <a:ext cx="243864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08:12:53Z</dcterms:created>
  <dc:creator>ZQ</dc:creator>
  <dc:description/>
  <dc:language>en-US</dc:language>
  <cp:lastModifiedBy>ZQ</cp:lastModifiedBy>
  <dcterms:modified xsi:type="dcterms:W3CDTF">2004-11-17T08:31:10Z</dcterms:modified>
  <cp:revision>5</cp:revision>
  <dc:subject/>
  <dc:title>幻灯片 1</dc:title>
</cp:coreProperties>
</file>