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494-47AA-4E37-B2DE-77C6F96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E79-DCC8-4E95-938B-02556498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475-204F-4A36-B9B6-56594F90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D99-D331-404B-AF27-A3A8DF12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2915-0400-46AF-8134-78886D6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94A1-F551-49A9-B05D-7EA8EF2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9879-5522-457D-9AF2-8A1AD74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397F-A5A3-45FC-9ADE-027264E1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565E-EFAD-4B62-B63A-94C58E9A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88FD-8302-40C9-9D32-D28E30DB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17A1-A713-4119-8B65-04907AB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01A-DD4B-4496-B6AA-F71475CC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1A60-C789-4308-B74D-01BCEBE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6D37-4B66-458D-A2AE-113201D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1FF0-3F48-49D0-A2E8-0A5D1E5D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73DA-29C0-4545-9BC3-CC99C021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8DAE-0BE5-48C1-87DC-97FF1645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A72-C803-4EA0-B309-86F16CD6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2F5-5495-48F3-9566-129967DB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7CE-3147-4A00-9FF2-D8586CAA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60A-E35B-4E81-A9EA-8D4032B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50A-194D-4B50-A542-33CDEE9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E17-1BDD-4CA0-9BA0-FA9E67D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C2B-12EC-4475-9D9B-5A31226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C05-1782-4547-A09C-990C909DB2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8BE-0C54-433A-BEFC-B52142A6CC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NewVoiceMale.wav" TargetMode="External"/><Relationship Id="rId3" Type="http://schemas.microsoft.com/office/2007/relationships/media" Target="file:///tmp/home/.config/libreoffice/4/user/gallery/NewVoiceMale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mbedded Sound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de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n example of an embedded .wav fi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2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10:33Z</dcterms:created>
  <dc:creator>Joanne Hudson</dc:creator>
  <dc:description/>
  <dc:language>en-US</dc:language>
  <cp:lastModifiedBy>Joanne Hudson</cp:lastModifiedBy>
  <dcterms:modified xsi:type="dcterms:W3CDTF">2007-12-04T21:30:37Z</dcterms:modified>
  <cp:revision>4</cp:revision>
  <dc:subject/>
  <dc:title>Embedded Sounds Example</dc:title>
</cp:coreProperties>
</file>