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DCB5-893D-4185-803D-2D729E158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4F6E-F4F6-4C9E-9F61-DA01622E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F900-AB10-41BD-AACF-E634C5BCE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218C-B971-4110-B8A7-03435E349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F6B1-2596-441F-9F5D-F3AB6749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CAB5-1F22-4643-B013-18247BA8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4826-C4B0-4F55-9912-D92B1C7D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6293-19CC-431D-90CA-71E47B9D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3919-83C4-4F02-A063-1162A115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65F9-FC8F-4EDA-B73E-FD60DC41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A0C5-DDA8-4F94-B16D-EB80585C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3A7A-6EA0-404C-AE4D-7267FDF2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897F-27FD-4443-833B-0517C2D274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414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Times New Roman"/>
              </a:rPr>
              <a:t>软件工程监理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20" y="968760"/>
            <a:ext cx="729000" cy="44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 题 实 施 情 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762120" y="1905120"/>
          <a:ext cx="8229600" cy="4357440"/>
        </p:xfrm>
        <a:graphic>
          <a:graphicData uri="http://schemas.openxmlformats.org/drawingml/2006/table">
            <a:tbl>
              <a:tblPr/>
              <a:tblGrid>
                <a:gridCol w="1420560"/>
                <a:gridCol w="2544840"/>
                <a:gridCol w="2692440"/>
                <a:gridCol w="1571760"/>
              </a:tblGrid>
              <a:tr h="395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工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2002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年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10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月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18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二选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《监理报告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2002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年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10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月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23– 28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第二次现场监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《监理报告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2002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年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11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月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25– 28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第三次现场监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《监理报告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2003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年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月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14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验收及“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OA”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项目二选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《验收意见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528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二期工程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2003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年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月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17-3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月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招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《评标结果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2003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年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月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14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开发计划审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《监理报告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2003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年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月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9–10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第一次现场监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《监理报告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2003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年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月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24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二选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《监理报告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2003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年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6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月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27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第二次现场监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《监理报告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0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2003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年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月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25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“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OA”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项目验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《验收意见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2003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年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10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月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30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其他项目验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《验收意见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6T05:35:15Z</dcterms:created>
  <dc:creator>张芳向 Netboy</dc:creator>
  <dc:description/>
  <dc:language>en-US</dc:language>
  <cp:lastModifiedBy>张芳向 Netboy</cp:lastModifiedBy>
  <dcterms:modified xsi:type="dcterms:W3CDTF">2004-04-26T06:14:34Z</dcterms:modified>
  <cp:revision>2</cp:revision>
  <dc:subject/>
  <dc:title>幻灯片 1</dc:title>
</cp:coreProperties>
</file>