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DB7A-1B93-4471-A837-164AFAC5C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8781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4080" y="3043440"/>
            <a:ext cx="8781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5AC9-4429-4493-9566-A3D728C51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B90A-0CF6-42BC-9287-9DFA61443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23360" y="163332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2640" y="163332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4080" y="304344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23360" y="304344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2640" y="304344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D23B-A0C2-4A49-8B50-02F3704FC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4080" y="1633320"/>
            <a:ext cx="878184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D93E-28EC-40A2-B040-A6162E748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87818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78C5-0482-4244-BEA8-B15A065EF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2B8C-CBBF-41C2-8F0B-FD6B99A54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41B4-E76F-48B2-B80D-D5408DEEE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4080" y="665280"/>
            <a:ext cx="8989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B71C-7969-4194-8854-7F5433CB6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3BAC-4F71-4BEE-8DE7-88F951367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9CA6-E1A9-45B2-8EC4-E4ACA358B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4080" y="3043440"/>
            <a:ext cx="8781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F225-06DD-45F1-A680-07D1AC4A0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7889f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2"/>
          <a:stretch/>
        </p:blipFill>
        <p:spPr>
          <a:xfrm>
            <a:off x="-14400" y="-3240"/>
            <a:ext cx="9158400" cy="442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4080" y="1633320"/>
            <a:ext cx="87818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4000" y="6467400"/>
            <a:ext cx="1856880" cy="365040"/>
            <a:chOff x="54000" y="6467400"/>
            <a:chExt cx="1856880" cy="36504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54000" y="6467400"/>
              <a:ext cx="37440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 txBox="1"/>
            <p:nvPr/>
          </p:nvSpPr>
          <p:spPr>
            <a:xfrm>
              <a:off x="473040" y="6616440"/>
              <a:ext cx="1437840" cy="125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Innovation for a smarter planet</a:t>
              </a:r>
              <a:endPara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27880" y="659268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FA2-C050-41D1-9CE5-43AB0D57CC3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27880" y="6593040"/>
            <a:ext cx="67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3DA6-9452-482D-9C7C-FCFCF47F301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080" y="593280"/>
            <a:ext cx="89899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080" y="1914480"/>
            <a:ext cx="87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0:38:27Z</dcterms:created>
  <dc:creator>Kelli Houston</dc:creator>
  <dc:description/>
  <dc:language>en-US</dc:language>
  <cp:lastModifiedBy>crystal</cp:lastModifiedBy>
  <dcterms:modified xsi:type="dcterms:W3CDTF">2012-05-29T06:28:57Z</dcterms:modified>
  <cp:revision>1132</cp:revision>
  <dc:subject/>
  <dc:title>Core MCIF Overview Presentation (customer-facing)</dc:title>
</cp:coreProperties>
</file>