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909-7793-4CEC-B392-4D68053F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52E-517A-41FB-A642-76D4E684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A3A-D544-4C35-B4D2-37977F28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F26-BF43-4BE0-A4C2-A92F92E5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60E-0255-4260-B1CB-655B085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D42-A453-4E40-9974-7414C83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988-A4E3-4D8C-8CA6-A8D0E670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E71-ABF0-4B97-9486-4FEA78A0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B17-ED5D-432B-B386-E3A8E313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10D-27C4-4745-A05D-B59EE1B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375-EC45-4BB9-B0C1-E17708A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3C4-1C81-4BB7-A5A8-35EB8E8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3C9-ACE7-4BAB-9ED2-8B934782E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28T11:37:43Z</dcterms:modified>
  <cp:revision>3</cp:revision>
  <dc:subject/>
  <dc:title>PowerPoint Presentation</dc:title>
</cp:coreProperties>
</file>