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1BC5-D13D-4CFC-A989-839CA54FC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1E98-890A-44EB-A0CD-48A7A84B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785D-3DF2-491E-9473-C6F1BD9CD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8A86-E48F-46BB-9210-E1A54BD5E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39B9-BEC6-404C-84ED-9BD0C1E8C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CDB1-7D4D-4FA3-A386-C3713D29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7D56-AB9D-45CA-A7C9-88159E21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5C2E-7CEC-4FA6-BD69-1A2F9B35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670C-8763-4CFA-9F46-2D18BE24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0176-8CF0-4A7E-B774-119963E7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8EA5-11D9-497D-976E-3D441690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F7C9-9EAD-4A63-B769-D415A8A0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DCC7-249F-4C0E-A34B-1F4CD8AB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0B02-1EE0-4983-878F-ED2D4321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7DC1-4103-403B-8375-5640BF4D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B1F7-2327-4123-9D67-5A1A0C902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844D-5581-433F-B89D-922F254A7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89EE-A7E0-4722-A8CA-5116F948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BE03-AC87-4102-B8CF-A716796F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8B4E-09F2-4CA1-84EE-2047DC98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5493-9452-4574-99A0-B62F69B1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0832-A710-4881-886E-90361F7E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6B8D-A117-41D9-8BE9-4BD26ECA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5AE6-CCE9-4CD8-976F-23E5B216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 algn="r" rtl="1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 algn="r" rtl="1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 algn="r" rtl="1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 algn="r" rtl="1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 algn="r" rtl="1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000" spc="-1" strike="noStrike">
                <a:solidFill>
                  <a:srgbClr val="000000"/>
                </a:solidFill>
                <a:latin typeface="Arial"/>
                <a:ea typeface="Times New Roman (Hebrew)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4559-8368-448C-BCEA-3CD73CD21158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000" spc="-1" strike="noStrike">
                <a:solidFill>
                  <a:srgbClr val="000000"/>
                </a:solidFill>
                <a:latin typeface="Arial"/>
                <a:ea typeface="Times New Roman (Hebrew)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DA1F-7ADA-4DFB-B268-4280FB4D1C38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900" spc="-1" strike="noStrike">
                <a:solidFill>
                  <a:srgbClr val="330066"/>
                </a:solidFill>
                <a:latin typeface="Arial"/>
              </a:rPr>
              <a:t>התנהגות היסטורית של צריכת חשמל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8483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900" spc="-1" strike="noStrike">
                <a:solidFill>
                  <a:srgbClr val="330066"/>
                </a:solidFill>
                <a:latin typeface="Arial"/>
              </a:rPr>
              <a:t>צריכת דלקים היסטורית ע”י חח”י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88652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09:55:43Z</dcterms:created>
  <dc:creator/>
  <dc:description/>
  <dc:language>en-US</dc:language>
  <cp:lastModifiedBy>ooo</cp:lastModifiedBy>
  <cp:lastPrinted>2003-04-06T08:59:36Z</cp:lastPrinted>
  <dcterms:modified xsi:type="dcterms:W3CDTF">2007-08-30T13:25:07Z</dcterms:modified>
  <cp:revision>82</cp:revision>
  <dc:subject/>
  <dc:title>אנרגיה - תוכנית האב למשק האנרגיה - מודל חיזוי ביקושים</dc:title>
</cp:coreProperties>
</file>