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10E6-6C56-4443-B6E3-0E5288B4B6C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E293A-7312-433B-B698-15DF8BEFE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F8792-13F3-493B-A2A6-6B14F875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A2DF0-438A-4322-B5C2-E8F3859F8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F7AC4-60B4-4DD1-9681-13352E519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74F55-2933-4AF4-8A44-EA7B70516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941A0-261E-47AD-A127-EBBDAD328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D2406-9DFC-4831-B82A-2873A410E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4D95F-ED7A-4525-8C89-9BCA894DE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7879A-9962-4509-8263-B4B0DDD87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50ED5-254F-4F0B-A88B-3032B04F0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43904-2ED9-47C0-A809-5F88534EF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D327-062D-49A0-9AA8-4CE5F074C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06935-1E87-49FC-8CA7-188545A1F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7E016-C213-450A-9076-EC16BD986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9186F-8BAD-4EA1-87B5-271235E6E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2A662-4790-447F-B402-4644E405B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32B61-30DA-468E-A37F-915836666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F27B0-9BFF-4F77-9B30-07920E0C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6FAC6-BF82-49E7-8397-3CA6E884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5791C-98D5-4E46-A34C-8E3E95893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2E22C-0007-4304-A362-9E971BB0B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7906A-6ED7-4C03-A2FD-E2C4F32F4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469A2-9F27-492A-80A4-CD728769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A8440-5720-4AEA-8C55-A2489F8B1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F510-7BAC-4044-87B7-8AA712C158FE}"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ACF1-89FD-4ADB-9A29-2F644AAC0B2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07" name=""/>
          <p:cNvSpPr/>
          <p:nvPr/>
        </p:nvSpPr>
        <p:spPr>
          <a:xfrm>
            <a:off x="380880" y="5943600"/>
            <a:ext cx="851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13 Mei 2001 </a:t>
            </a:r>
            <a:endParaRPr b="0" lang="en-US" sz="2400" spc="-1" strike="noStrike">
              <a:solidFill>
                <a:srgbClr val="000000"/>
              </a:solidFill>
              <a:latin typeface="Arial"/>
            </a:endParaRPr>
          </a:p>
        </p:txBody>
      </p:sp>
      <p:sp>
        <p:nvSpPr>
          <p:cNvPr id="108"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15" name=""/>
          <p:cNvSpPr/>
          <p:nvPr/>
        </p:nvSpPr>
        <p:spPr>
          <a:xfrm>
            <a:off x="380880" y="2286000"/>
            <a:ext cx="8518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00"/>
                </a:solidFill>
                <a:uFillTx/>
                <a:latin typeface="Times New Roman"/>
              </a:rPr>
              <a:t>PENDAHULUAN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Firman itu Allah, Yesus adalah Firman yang menjadi manusia, jika demikian, bagaimana respon kita akan Firman Tuhan itu ?</a:t>
            </a:r>
            <a:r>
              <a:rPr b="1" i="1" lang="en-US" sz="3200" spc="-1" strike="noStrike">
                <a:solidFill>
                  <a:srgbClr val="990000"/>
                </a:solidFill>
                <a:latin typeface="Times New Roman"/>
              </a:rPr>
              <a:t>                                    </a:t>
            </a:r>
            <a:r>
              <a:rPr b="1" i="1" lang="en-US" sz="3200" spc="-1" strike="noStrike">
                <a:solidFill>
                  <a:srgbClr val="990000"/>
                </a:solidFill>
                <a:latin typeface="Times New Roman"/>
              </a:rPr>
              <a:t>	</a:t>
            </a:r>
            <a:r>
              <a:rPr b="1" i="1" lang="en-US" sz="3200" spc="-1" strike="noStrike">
                <a:solidFill>
                  <a:srgbClr val="990000"/>
                </a:solidFill>
                <a:latin typeface="Times New Roman"/>
              </a:rPr>
              <a:t>	</a:t>
            </a:r>
            <a:r>
              <a:rPr b="1" i="1" lang="en-US" sz="3200" spc="-1" strike="noStrike">
                <a:solidFill>
                  <a:srgbClr val="990000"/>
                </a:solidFill>
                <a:latin typeface="Times New Roman"/>
              </a:rPr>
              <a:t>	</a:t>
            </a:r>
            <a:r>
              <a:rPr b="1" i="1" lang="en-US" sz="3200" spc="-1" strike="noStrike">
                <a:solidFill>
                  <a:srgbClr val="990000"/>
                </a:solidFill>
                <a:latin typeface="Times New Roman"/>
              </a:rPr>
              <a:t>	</a:t>
            </a:r>
            <a:endParaRPr b="0" lang="en-US" sz="3200" spc="-1" strike="noStrike">
              <a:solidFill>
                <a:srgbClr val="000000"/>
              </a:solidFill>
              <a:latin typeface="Arial"/>
            </a:endParaRPr>
          </a:p>
        </p:txBody>
      </p:sp>
      <p:sp>
        <p:nvSpPr>
          <p:cNvPr id="116"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22" name=""/>
          <p:cNvSpPr/>
          <p:nvPr/>
        </p:nvSpPr>
        <p:spPr>
          <a:xfrm>
            <a:off x="320760" y="2232000"/>
            <a:ext cx="8518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ari Matius 13 : 18-23, kita melihat ada 4 macam hati manusia dalam menanggapi Firman Tuha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1.   </a:t>
            </a:r>
            <a:r>
              <a:rPr b="1" lang="en-US" sz="2400" spc="-1" strike="noStrike" u="sng">
                <a:solidFill>
                  <a:srgbClr val="990000"/>
                </a:solidFill>
                <a:uFillTx/>
                <a:latin typeface="Times New Roman"/>
              </a:rPr>
              <a:t>HATI YANG KERAS</a:t>
            </a:r>
            <a:r>
              <a:rPr b="1" lang="en-US" sz="2400" spc="-1" strike="noStrike">
                <a:solidFill>
                  <a:srgbClr val="99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14</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19</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Hati yang keras adalah hati orang yang sudah banyak membaca, banyak mendengar Firman Tuhan, tetapi tidak mau memperhatikannya, tidak mau menanggapinya, tidak mau mengerti, sampai terakhir tidak bisa lagi untuk percaya dan menerima Firman Tuhan itu.</a:t>
            </a:r>
            <a:r>
              <a:rPr b="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endParaRPr b="0" lang="en-US" sz="2400" spc="-1" strike="noStrike">
              <a:solidFill>
                <a:srgbClr val="000000"/>
              </a:solidFill>
              <a:latin typeface="Arial"/>
            </a:endParaRPr>
          </a:p>
        </p:txBody>
      </p:sp>
      <p:sp>
        <p:nvSpPr>
          <p:cNvPr id="123"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29" name=""/>
          <p:cNvSpPr/>
          <p:nvPr/>
        </p:nvSpPr>
        <p:spPr>
          <a:xfrm>
            <a:off x="320760" y="2232000"/>
            <a:ext cx="8518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ari Matius 13 : 18-23, kita melihat ada 4 macam hati manusia dalam menanggapi Firman Tuha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1.   </a:t>
            </a:r>
            <a:r>
              <a:rPr b="1" lang="en-US" sz="2400" spc="-1" strike="noStrike" u="sng">
                <a:solidFill>
                  <a:srgbClr val="990000"/>
                </a:solidFill>
                <a:uFillTx/>
                <a:latin typeface="Times New Roman"/>
              </a:rPr>
              <a:t>HATI YANG KERAS</a:t>
            </a:r>
            <a:r>
              <a:rPr b="1" lang="en-US" sz="2400" spc="-1" strike="noStrike">
                <a:solidFill>
                  <a:srgbClr val="99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14</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19</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Hati yang keras adalah hati orang yang sudah banyak membaca, banyak mendengar Firman Tuhan, tetapi tidak mau memperhatikannya, tidak mau menanggapinya, tidak mau mengerti, sampai terakhir tidak bisa lagi untuk percaya dan menerima Firman Tuhan itu.</a:t>
            </a:r>
            <a:r>
              <a:rPr b="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endParaRPr b="0" lang="en-US" sz="2400" spc="-1" strike="noStrike">
              <a:solidFill>
                <a:srgbClr val="000000"/>
              </a:solidFill>
              <a:latin typeface="Arial"/>
            </a:endParaRPr>
          </a:p>
        </p:txBody>
      </p:sp>
      <p:sp>
        <p:nvSpPr>
          <p:cNvPr id="130"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34"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36" name=""/>
          <p:cNvSpPr/>
          <p:nvPr/>
        </p:nvSpPr>
        <p:spPr>
          <a:xfrm>
            <a:off x="304920" y="2155680"/>
            <a:ext cx="830556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HATI YANG TIDAK SUNGGUH-SUNGGUH MAU MENERIMA FIRMAN TUH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5 – 6</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20 – 21</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Ada orang Kristen yang sudah mengerti banyak akan Firman Tuhan, tetapi tidak berani menerapkan didalam kehidupannya, sehingga Firman Tuhan itu tidak berakar, dan orang Kristen ini tidak mempunyai pengalaman pribadi akan kebenaran Firman Tuhan itu. Dengan demikian mudah ragu-ragu, mudah bimbang ketika menghadapi penganiayaan, penindasan dan pencobaan, bahkan sampai akhirnya murtad.</a:t>
            </a:r>
            <a:endParaRPr b="0" lang="en-US" sz="2400" spc="-1" strike="noStrike">
              <a:solidFill>
                <a:srgbClr val="000000"/>
              </a:solidFill>
              <a:latin typeface="Arial"/>
            </a:endParaRPr>
          </a:p>
        </p:txBody>
      </p:sp>
      <p:sp>
        <p:nvSpPr>
          <p:cNvPr id="137"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43" name=""/>
          <p:cNvSpPr/>
          <p:nvPr/>
        </p:nvSpPr>
        <p:spPr>
          <a:xfrm>
            <a:off x="228600" y="2292480"/>
            <a:ext cx="868680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HATI YANG LEBIH PERCAYA AKAN HAL-HAL DUNIA        DARIPADA FIRMAN TUHAN</a:t>
            </a:r>
            <a:r>
              <a:rPr b="1" i="1" lang="en-US" sz="2400" spc="-1" strike="noStrike" u="sng">
                <a:solidFill>
                  <a:srgbClr val="990000"/>
                </a:solidFill>
                <a:uFillTx/>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7</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22</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Disadari atau tidak, seringkali ada banyak orang Kristen yang lebih percaya akan hal-hal dunia daripada Firman Tuhan, sehingga orang-orang Krisrten seperti ini sulit untuk bisa percaya sepenuhnya kepada Firman Tuhan, dan dengan demikian, Firman Tuhan itu tidak bertumbuh didalam hidupnya.</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50" name=""/>
          <p:cNvSpPr/>
          <p:nvPr/>
        </p:nvSpPr>
        <p:spPr>
          <a:xfrm>
            <a:off x="304920" y="2362320"/>
            <a:ext cx="851832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HATI YANG PEKA TERHADAP FIRMAN TUH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	</a:t>
            </a:r>
            <a:r>
              <a:rPr b="1" i="1" lang="en-US" sz="2400" spc="-1" strike="noStrike">
                <a:solidFill>
                  <a:srgbClr val="990000"/>
                </a:solidFill>
                <a:latin typeface="Times New Roman"/>
              </a:rPr>
              <a:t>Matius 13 : 8</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23</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Ada banyak juga orang Kristen yang sangat peka, sangat sensitif terhadap Firman Tuhan yang dibacanya, yang didengarnya, selalu mau diperhatikan, mau ditanggapi, bahkan mau dilakukannya, sehingga orang Kristen seperti ini akan punya banyak pengalaman akan kebenaran Firman Tuhan, dan dengan demikian, Firman Tuhan itu akan bertumbuh dan menghasilkan buah-buah rohani didalam kehidupannya.</a:t>
            </a:r>
            <a:endParaRPr b="0" lang="en-US" sz="2400" spc="-1" strike="noStrike">
              <a:solidFill>
                <a:srgbClr val="000000"/>
              </a:solidFill>
              <a:latin typeface="Arial"/>
            </a:endParaRPr>
          </a:p>
        </p:txBody>
      </p:sp>
      <p:sp>
        <p:nvSpPr>
          <p:cNvPr id="151"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55"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57" name=""/>
          <p:cNvSpPr/>
          <p:nvPr/>
        </p:nvSpPr>
        <p:spPr>
          <a:xfrm>
            <a:off x="304920" y="2778120"/>
            <a:ext cx="851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90000"/>
                </a:solidFill>
                <a:uFillTx/>
                <a:latin typeface="Times New Roman"/>
              </a:rPr>
              <a:t>KESIMPU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Keadaan hati kita ditentukan oleh diri kita sendiri, jika kita mau dengar-dengaran Firman Tuhan, mau percaya akan Firman Tuhan, maka Firman Tuhan itu pasti akan bertumbuh dan berbuah.</a:t>
            </a:r>
            <a:r>
              <a:rPr b="1" i="1" lang="en-US" sz="2400" spc="-1" strike="noStrike">
                <a:solidFill>
                  <a:srgbClr val="990000"/>
                </a:solidFill>
                <a:latin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 </a:t>
            </a:r>
            <a:r>
              <a:rPr b="1" lang="en-US" sz="2400" spc="-1" strike="noStrike">
                <a:solidFill>
                  <a:srgbClr val="990000"/>
                </a:solidFill>
                <a:latin typeface="Times New Roman"/>
              </a:rPr>
              <a:t>Siapa bertelinga, hendaklah ia mendengar “    Matius 2 : 9</a:t>
            </a:r>
            <a:endParaRPr b="0" lang="en-US" sz="2400" spc="-1" strike="noStrike">
              <a:solidFill>
                <a:srgbClr val="000000"/>
              </a:solidFill>
              <a:latin typeface="Arial"/>
            </a:endParaRPr>
          </a:p>
        </p:txBody>
      </p:sp>
      <p:sp>
        <p:nvSpPr>
          <p:cNvPr id="158"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30T04:30:09Z</dcterms:created>
  <dc:creator>Andy S. Hendra</dc:creator>
  <dc:description/>
  <dc:language>en-US</dc:language>
  <cp:lastModifiedBy>Windows 98</cp:lastModifiedBy>
  <dcterms:modified xsi:type="dcterms:W3CDTF">2001-05-13T03:42:48Z</dcterms:modified>
  <cp:revision>13</cp:revision>
  <dc:subject/>
  <dc:title>PowerPoint Presentation</dc:title>
</cp:coreProperties>
</file>