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whoosh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D5D-8A75-4834-9E65-A9FBCCC3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A3E-0705-4BE5-A885-74949512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427-0393-484D-BD8C-AD04207E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50D-5800-4E2D-8E80-8A58CA66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A01-F9BA-4BB0-9B32-CCB4E85C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8EA-3480-408B-AB6E-FE68D0FB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90F-2FD5-4C26-8ED1-AE5F7515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01E-5B81-4220-965A-04BB6613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D67-AFCA-484A-9F62-76A1BE34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9FA-F2BA-43AD-AA8B-98B45B92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882-C40D-4590-B78A-F1E923B2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B49-72D8-4ADB-9A9B-EDE56DC1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9F47-A80B-4475-9156-1EBFD6A0C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xxx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xxxxxxxx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xxxxxx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xxxxxxxx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05:17:58Z</dcterms:created>
  <dc:creator>weihongtao</dc:creator>
  <dc:description/>
  <dc:language>en-US</dc:language>
  <cp:lastModifiedBy>dujing</cp:lastModifiedBy>
  <dcterms:modified xsi:type="dcterms:W3CDTF">2012-05-30T02:02:41Z</dcterms:modified>
  <cp:revision>2</cp:revision>
  <dc:subject/>
  <dc:title>Slide 1</dc:title>
</cp:coreProperties>
</file>