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179-6425-4137-B2D4-824F45F7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9F5-1845-4DAD-8B97-FE34688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8A0-1593-46B9-A8A6-F25A156D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A63-134D-4AB5-907A-D6A52FBD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999-8E71-4CA2-A936-B500FFF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7E0-BAF9-450F-B9BA-119420F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3A9-2ED4-40AD-89C3-4FAC03E9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B7F-F6D4-445F-93A0-360C5E8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242-EAB1-4999-B176-5E61B25D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62D-4782-49ED-BD8D-62D4EAA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DF8-2E2B-441B-8EAE-07FE78E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709-DAEF-4537-A732-E7D1809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6F7-7ADC-46DB-8995-8937F87CB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057400"/>
            <a:ext cx="1523880" cy="14479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9:34:58Z</dcterms:created>
  <dc:creator>robin</dc:creator>
  <dc:description/>
  <dc:language>en-US</dc:language>
  <cp:lastModifiedBy>robin</cp:lastModifiedBy>
  <dcterms:modified xsi:type="dcterms:W3CDTF">2012-06-05T09:35:18Z</dcterms:modified>
  <cp:revision>1</cp:revision>
  <dc:subject/>
  <dc:title>Slide 1</dc:title>
</cp:coreProperties>
</file>