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484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DFE-56AB-45DC-8F02-71B08F24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161-7221-4A70-96AF-8D3FF4F9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622-2E2E-42A2-B488-70DE1836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43D-322A-4603-8DE6-D9E87759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93B-F2E0-44E7-8840-6AFDE2A4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BC5-358B-4096-9A51-7CAE6EBA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07A-9531-431F-BC21-412E4C2F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CBB-5127-440A-A40D-57E8A4E4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ECB-8559-41BE-B73C-71954249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9C9-76B8-4FD8-BFC3-64F45AEE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453-17D1-464B-8F9C-1C14FF02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B0A-0616-430D-86B4-5A1F6B1A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6609-0ACD-4513-B382-8E3557A70B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9440" y="2209680"/>
            <a:ext cx="6689880" cy="67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308320"/>
            <a:ext cx="6683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 ro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10.10.0 255.255.255.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11.11.11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0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60520" y="2967120"/>
            <a:ext cx="653724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8048520" y="2251080"/>
            <a:ext cx="0" cy="7812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43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nstradamento di tipo statico </a:t>
            </a:r>
            <a:br>
              <a:rPr sz="3200"/>
            </a:b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(route statiche)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143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o di comando per realizz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route st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29080" y="3833640"/>
            <a:ext cx="3886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427500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037120"/>
            <a:ext cx="251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80440" y="427500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84800" y="5037120"/>
            <a:ext cx="251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26160" y="3300480"/>
            <a:ext cx="128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E SER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(es. S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95960" y="345276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04680" y="345276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5510160"/>
          <a:ext cx="99072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510160"/>
                    <a:ext cx="99072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711920" y="5526000"/>
          <a:ext cx="990720" cy="72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11920" y="5526000"/>
                    <a:ext cx="99072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 flipV="1">
            <a:off x="958680" y="505296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229600" y="505296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62120" y="3465360"/>
            <a:ext cx="1828800" cy="838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566040" y="3452760"/>
            <a:ext cx="1828800" cy="838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21360" y="5181480"/>
            <a:ext cx="174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 di destina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0.10.0 255.255.25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8360" y="3890880"/>
            <a:ext cx="174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1.11.11.1 255.255.25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2360" y="3886200"/>
            <a:ext cx="174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1.11.11.2 255.255.25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85440" y="2438280"/>
            <a:ext cx="533520" cy="914400"/>
          </a:xfrm>
          <a:custGeom>
            <a:avLst/>
            <a:gdLst>
              <a:gd name="textAreaLeft" fmla="*/ 177840 w 533520"/>
              <a:gd name="textAreaRight" fmla="*/ 457200 w 533520"/>
              <a:gd name="textAreaTop" fmla="*/ 527040 h 914400"/>
              <a:gd name="textAreaBottom" fmla="*/ 7837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61320" y="653724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DW.RT.EO. CNA-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A4A-4714-4694-8C58-BFAFBCB45B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6600" y="307800"/>
            <a:ext cx="93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nstradamento di tipo statico </a:t>
            </a:r>
            <a:br>
              <a:rPr sz="3200"/>
            </a:b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(esempio di configurazione di route statiche)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61320" y="653724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DW.RT.EO. CNA-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427500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5037120"/>
            <a:ext cx="251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5510160"/>
          <a:ext cx="99072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510160"/>
                    <a:ext cx="99072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 flipV="1">
            <a:off x="958680" y="505296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3465360"/>
            <a:ext cx="1828800" cy="838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094200" y="1371600"/>
            <a:ext cx="2239920" cy="1689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04320" y="1748520"/>
            <a:ext cx="1395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354560" y="3649680"/>
            <a:ext cx="2046240" cy="922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16080" y="3645360"/>
            <a:ext cx="1328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ack-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133720" y="3048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590920" y="259056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200040" y="3809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62280" y="3138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3840" y="374796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ri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477120" y="2362320"/>
            <a:ext cx="182880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57800" y="22096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17220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560" y="236232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tocollo di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66840" y="4572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e stat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883600" y="4197960"/>
            <a:ext cx="251640" cy="366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2666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DA2-5F89-49DE-B11A-59ED02FC0E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Generalita’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4120" y="68904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 COS’E’ UNAUTONOMOUS SYSTEM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572000"/>
            <a:ext cx="9323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 sistema autonomo (A.S. Autonomous System) si compone di vari router e re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o sottoreti) che condividono le informazioni per mezzo dello stesso protocollo di instradamento. Questi router sono generalmente sotto il controllo di un gestore comu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d ogni A.S. è assegnato un numero esclusivo, e questi numeri sono gestiti dal N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Network Information Center). Es. interbusiness 32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61320" y="653724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DW.RT.EO. CNA-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8720" y="1752480"/>
            <a:ext cx="8433000" cy="291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3120" y="3295800"/>
            <a:ext cx="1219320" cy="74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93960" y="3695760"/>
            <a:ext cx="406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95480" y="3924000"/>
            <a:ext cx="139716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473120" y="2666880"/>
            <a:ext cx="101592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92440" y="2666880"/>
            <a:ext cx="60948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692440" y="2323800"/>
            <a:ext cx="142236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16320" y="2324160"/>
            <a:ext cx="406440" cy="7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521240" y="3295800"/>
            <a:ext cx="20304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403440" y="3295800"/>
            <a:ext cx="101628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295800"/>
            <a:ext cx="91440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7040" y="3924360"/>
            <a:ext cx="124452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3638520"/>
            <a:ext cx="71100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162920" y="3181320"/>
            <a:ext cx="812520" cy="7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248160" y="31813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756120" y="2666880"/>
            <a:ext cx="132084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25800" y="2666880"/>
            <a:ext cx="172692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220968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23920" y="2209680"/>
            <a:ext cx="1016280" cy="85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4120" y="1879560"/>
            <a:ext cx="939600" cy="368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02200" y="2959200"/>
            <a:ext cx="939600" cy="368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90720" y="3022560"/>
            <a:ext cx="939600" cy="36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248520" y="2400480"/>
            <a:ext cx="939600" cy="368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7569360" y="2933640"/>
            <a:ext cx="939600" cy="368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848040" y="2133720"/>
            <a:ext cx="939960" cy="368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2819520" y="3403440"/>
            <a:ext cx="939600" cy="368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2158920" y="2336760"/>
            <a:ext cx="939960" cy="36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2311560" y="4013280"/>
            <a:ext cx="939600" cy="368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6400800" y="3848040"/>
            <a:ext cx="939960" cy="36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5486400" y="3327480"/>
            <a:ext cx="939960" cy="368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2"/>
          <a:stretch/>
        </p:blipFill>
        <p:spPr>
          <a:xfrm>
            <a:off x="4267080" y="3784680"/>
            <a:ext cx="939960" cy="368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>
            <a:off x="4800600" y="2076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1F0-1EE3-4312-8F22-7D0F684EF0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021040" y="22860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TOCOLLI DI ROUTING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5440" y="990720"/>
            <a:ext cx="7407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Nel caso in cui devono essere interfacciati piu’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AUTONOMUS SYSTEMS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come la realta’ d’intern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bisogna utilizzare un protocollo denominato 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Exterior Gateway Protocol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EGP – RFC 904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l protocollo che attualmente viene utilizzato per l’interfacciamento e’ i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Border Gateway Protocol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BGP –RFC 1771). Il protocollo BGP si pone al livello 7 della pila iso-o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quindi e’ considerato come un’applica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50960" y="3390840"/>
            <a:ext cx="3251160" cy="8571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99080" y="3448080"/>
            <a:ext cx="3251160" cy="857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5040" y="3962520"/>
            <a:ext cx="3251160" cy="857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94160" y="4248000"/>
            <a:ext cx="3251160" cy="857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84680" y="5048280"/>
            <a:ext cx="3251160" cy="8571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49440" y="4476600"/>
            <a:ext cx="3251160" cy="857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0120" y="2933640"/>
            <a:ext cx="8433000" cy="325764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65040" y="476244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Autonomus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01800" y="533412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Autonomus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11280" y="453384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Autonomus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2160" y="424800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Autonomus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8080" y="367668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Autonomus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6200" y="373392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Autonomus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65600" y="49910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S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5240" y="39625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S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67120" y="35053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S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6800" y="476244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G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7320" y="561960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G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57680" y="407664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G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87720" y="5105520"/>
            <a:ext cx="6098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72320" y="51055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92640" y="4648320"/>
            <a:ext cx="6094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76880" y="46483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4991040"/>
            <a:ext cx="6098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94680" y="499104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50960" y="4533840"/>
            <a:ext cx="6094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35200" y="453384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68760" y="3962520"/>
            <a:ext cx="6094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53000" y="39625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3733920"/>
            <a:ext cx="6098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80280" y="37339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16520" y="4133880"/>
            <a:ext cx="6098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1120" y="41338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19880" y="228600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61320" y="653724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DW.RT.EO. CNA-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7E17-DAEB-48DD-A15B-3DD0CB2CC7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9T12:16:06Z</dcterms:created>
  <dc:creator>Chichi</dc:creator>
  <dc:description/>
  <dc:language>en-US</dc:language>
  <cp:lastModifiedBy>Maurizio Firmani</cp:lastModifiedBy>
  <cp:lastPrinted>2001-09-06T11:03:31Z</cp:lastPrinted>
  <dcterms:modified xsi:type="dcterms:W3CDTF">2008-05-14T07:35:48Z</dcterms:modified>
  <cp:revision>157</cp:revision>
  <dc:subject/>
  <dc:title>CISCO START-UP</dc:title>
</cp:coreProperties>
</file>