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164-9AD7-49FE-B9DF-65902DEC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963-3C6D-46D4-A805-FE2094F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989-3D73-4791-A615-6E4595B3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2C6-60E9-4164-8722-3E829B58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460B-93BD-43CD-ADDB-DAA9EAF0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5200-4EDB-409C-879D-3419F631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73C-BEE1-450B-B430-65629B1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725-BA24-44C1-81EF-6B486FA5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24B8-275C-4098-828D-BFC62CA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A76-C3B1-4021-9888-C390D42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053-76B5-4C4C-8202-3ED660D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AFA-C591-42D9-B1FA-F8B0FF9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D52F-30B5-418E-8EA9-076294B0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8C56-A9DE-4749-BCBE-175AD14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E41B-3457-4180-A0E2-C967296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C2EC-F9D0-4769-A4BB-D22DDB13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43FF-0285-45D1-B29D-557E8B58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052-EC45-47C7-87C0-E76CC7FF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BBE-3832-47D5-BAF0-D061C57F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064-C3FE-4EE8-90AC-6977A57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D2C-D970-4A51-B9F3-D217C1D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943-57E4-4BF1-9A3A-DBDB459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7CF-6036-496A-911A-F39780B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446-B342-4555-986F-17C7A82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A80-0E8A-493C-B38A-7B1FA8DDE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471-5D0C-47E7-8930-B83C4577E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3240" y="30240"/>
            <a:ext cx="5792040" cy="581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66"/>
                </a:solidFill>
                <a:latin typeface="Arial"/>
                <a:cs typeface="Arial"/>
              </a:rPr>
              <a:t>המרכז הרפואי הלל יפה - חדר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600" y="1006560"/>
            <a:ext cx="7695720" cy="106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העברות לבתי חולים אחרים – ויסות שניו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נפגע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8800" y="2590920"/>
            <a:ext cx="4888440" cy="106884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rial"/>
              </a:rPr>
              <a:t>פציעות מיוחד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rial"/>
              </a:rPr>
              <a:t>נוירו-כירורגיה, כוויות, פה ולסת וכד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4560" y="4145040"/>
            <a:ext cx="2743920" cy="58140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"קיצור תורים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88440" y="5181480"/>
            <a:ext cx="3315600" cy="58140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"איחוד משפחות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14160" y="30240"/>
            <a:ext cx="5792040" cy="581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66"/>
                </a:solidFill>
                <a:latin typeface="Arial"/>
                <a:cs typeface="Arial"/>
              </a:rPr>
              <a:t>המרכז הרפואי הלל יפה - חדר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14400"/>
          <a:ext cx="7620120" cy="5410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חומרה על פי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מ   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י   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ו    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ן    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בינונ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ש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בינונ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ש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2:11:43Z</dcterms:created>
  <dc:creator>ד"ר הספל</dc:creator>
  <dc:description/>
  <dc:language>en-US</dc:language>
  <cp:lastModifiedBy>ooo</cp:lastModifiedBy>
  <dcterms:modified xsi:type="dcterms:W3CDTF">2007-08-16T06:43:30Z</dcterms:modified>
  <cp:revision>31</cp:revision>
  <dc:subject/>
  <dc:title>מצגת של PowerPoint</dc:title>
</cp:coreProperties>
</file>