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294920" y="763200"/>
            <a:ext cx="518004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6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DA462-364B-4B59-8A27-501A9D4D1C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0" y="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7BA5A8-1788-4B53-8D5D-54D121CE7E8F}" type="slidenum">
              <a:rPr b="0" lang="en-US" sz="2000" spc="-1" strike="noStrike">
                <a:solidFill>
                  <a:srgbClr val="ffffff"/>
                </a:solidFill>
                <a:latin typeface="Arial"/>
                <a:ea typeface="+mn-e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1912-8946-49CB-9005-02C45E8B4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7524-D53D-4181-AF92-8CA17B98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C4A2-FF12-4374-933F-C7F8E046E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AA38-93D9-4E3A-83BC-4DE8C53CA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D69D-76D7-4DB1-9E46-1D030D66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0319-8DF6-440B-8B82-8FA8C895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5E57-B4C3-4C62-91AC-2AFB7E7E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6E81-EC60-49D2-9F96-D7637104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CA3D-6A6F-47EF-8FDA-5B6C022A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E22D-CDFD-4776-B02D-24439CF1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6947-084C-42AF-963C-5C283300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556D-DB4F-4633-A772-D0165118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2F0A4-B156-4D30-90BD-B76EAA6D6A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078920" cy="1595520"/>
          </a:xfrm>
          <a:prstGeom prst="rect">
            <a:avLst/>
          </a:prstGeom>
          <a:solidFill>
            <a:srgbClr val="164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794800" y="5880240"/>
            <a:ext cx="1284120" cy="1679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36600" y="7034040"/>
            <a:ext cx="234936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74920" y="7034040"/>
            <a:ext cx="31892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 fontScale="93000"/>
          </a:bodyPr>
          <a:p>
            <a:pPr marL="318960" indent="0">
              <a:lnSpc>
                <a:spcPct val="93000"/>
              </a:lnSpc>
              <a:spcAft>
                <a:spcPts val="15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318960" indent="-31896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318960" indent="-31896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318960" indent="-31896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318960" indent="-31896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318960" indent="-31896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36600" y="174600"/>
            <a:ext cx="9069480" cy="15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25579440" cy="2557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arcTo wR="10152" hR="21600" stAng="10800000" swAng="5400000"/>
                <a:lnTo>
                  <a:pt x="-6264" y="0"/>
                </a:lnTo>
                <a:arcTo wR="10152" hR="21600" stAng="-5400000" swAng="908339"/>
                <a:lnTo>
                  <a:pt x="16513" y="2880"/>
                </a:lnTo>
                <a:lnTo>
                  <a:pt x="12096" y="21600"/>
                </a:lnTo>
                <a:lnTo>
                  <a:pt x="-2495" y="2880"/>
                </a:lnTo>
                <a:lnTo>
                  <a:pt x="15217" y="2880"/>
                </a:lnTo>
                <a:arcTo wR="10152" hR="21600" stAng="-4491661" swAng="-2879430"/>
                <a:lnTo>
                  <a:pt x="1944" y="8889"/>
                </a:lnTo>
                <a:arcTo wR="10152" hR="21600" stAng="-3428908" swAng="-7371092"/>
                <a:close/>
              </a:path>
              <a:path fill="darkenLess" w="21600" h="21600">
                <a:moveTo>
                  <a:pt x="0" y="21600"/>
                </a:moveTo>
                <a:arcTo wR="10152" hR="21600" stAng="10800000" swAng="5400000"/>
                <a:lnTo>
                  <a:pt x="10152" y="0"/>
                </a:lnTo>
                <a:arcTo wR="10152" hR="21600" stAng="-5400000" swAng="19628908"/>
                <a:lnTo>
                  <a:pt x="1944" y="8889"/>
                </a:lnTo>
                <a:arcTo wR="10152" hR="21600" stAng="-3428908" swAng="-7371092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25579440" cy="25579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25579440" cy="255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25579440" cy="25579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25579440" cy="255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25579440" cy="25579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25579440" cy="255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25579440" cy="25579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25579440" cy="255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ffffff"/>
                </a:solidFill>
                <a:latin typeface="Arial"/>
              </a:rPr>
              <a:t>In The Ideal Future: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t">
            <a:normAutofit/>
          </a:bodyPr>
          <a:p>
            <a:pPr marL="43164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Droid Sans Fallback"/>
              </a:rPr>
              <a:t>Social networking 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Droid Sans Fallback"/>
              </a:rPr>
              <a:t>Monito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Droid Sans Fallback"/>
              </a:rPr>
              <a:t>Manag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Droid Sans Fallback"/>
              </a:rPr>
              <a:t>Eff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2T21:12:21Z</dcterms:created>
  <dc:creator/>
  <dc:description/>
  <dc:language>en-US</dc:language>
  <cp:lastModifiedBy/>
  <dcterms:modified xsi:type="dcterms:W3CDTF">2011-07-12T21:13:22Z</dcterms:modified>
  <cp:revision>2</cp:revision>
  <dc:subject/>
  <dc:title/>
</cp:coreProperties>
</file>