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0ABC-0DC2-4149-8193-A0F44FE9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488F-0DFA-413C-8099-BCE2B28B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FAF0-DB9C-4588-853E-BF6FF4E8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B634-4A00-4D3B-A0E2-0865C026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6DF0-7384-4C33-885D-E0AA7AFB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504D-0A0D-4520-A242-D8FAC53C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3516-2DBA-4E76-B400-D67811F3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16C8-37C1-4635-995C-FBC2AC44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FD60-12F6-459A-B167-3CF04C71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33E5-1095-4FD1-9C91-794C6C29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DF4E-18F0-4725-8611-F337E8C3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4ADB-0F83-40BB-AD8A-046C0DA0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CF1F9-1B1B-4469-B184-401106B3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140FA-FEC3-4D0C-B41C-5A1BDCC2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618F6-42C1-48BF-8378-CE92D616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6465B-C9BA-4AB8-9B47-5167F74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AEAC8-0DC5-4EBA-B5FE-7622CA06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C7140-BB3A-4855-874F-5E9C41BD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0E09D-38E5-4DD6-B5A1-B9EC156D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4791F-62A2-49B7-9753-F506115D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C554D-FB8A-4F23-919D-392A1303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35CAF-0FF5-4887-B1EB-7B9EE3D7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45A4F-6E00-4EB2-9063-2AFEBCF5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BB088-66DE-4103-B0B0-3A5D6799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014720"/>
            <a:ext cx="9144000" cy="162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4520" y="533520"/>
            <a:ext cx="477540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8" name=""/>
          <p:cNvSpPr/>
          <p:nvPr/>
        </p:nvSpPr>
        <p:spPr>
          <a:xfrm>
            <a:off x="-12600" y="4848120"/>
            <a:ext cx="7799400" cy="790560"/>
          </a:xfrm>
          <a:custGeom>
            <a:avLst/>
            <a:gdLst/>
            <a:ahLst/>
            <a:rect l="l" t="t" r="r" b="b"/>
            <a:pathLst>
              <a:path w="2454" h="249">
                <a:moveTo>
                  <a:pt x="2451" y="0"/>
                </a:moveTo>
                <a:cubicBezTo>
                  <a:pt x="1336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1110" y="249"/>
                  <a:pt x="2446" y="249"/>
                  <a:pt x="2446" y="249"/>
                </a:cubicBezTo>
                <a:cubicBezTo>
                  <a:pt x="2454" y="229"/>
                  <a:pt x="2454" y="229"/>
                  <a:pt x="2454" y="229"/>
                </a:cubicBezTo>
                <a:cubicBezTo>
                  <a:pt x="2408" y="219"/>
                  <a:pt x="2375" y="175"/>
                  <a:pt x="2375" y="122"/>
                </a:cubicBezTo>
                <a:cubicBezTo>
                  <a:pt x="2375" y="73"/>
                  <a:pt x="2404" y="32"/>
                  <a:pt x="2445" y="18"/>
                </a:cubicBezTo>
                <a:cubicBezTo>
                  <a:pt x="2451" y="0"/>
                  <a:pt x="2451" y="0"/>
                  <a:pt x="24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"/>
          <p:cNvSpPr/>
          <p:nvPr/>
        </p:nvSpPr>
        <p:spPr>
          <a:xfrm>
            <a:off x="7932600" y="4848120"/>
            <a:ext cx="1211400" cy="790560"/>
          </a:xfrm>
          <a:custGeom>
            <a:avLst/>
            <a:gdLst/>
            <a:ahLst/>
            <a:rect l="l" t="t" r="r" b="b"/>
            <a:pathLst>
              <a:path w="379" h="249">
                <a:moveTo>
                  <a:pt x="6" y="231"/>
                </a:moveTo>
                <a:cubicBezTo>
                  <a:pt x="62" y="231"/>
                  <a:pt x="106" y="183"/>
                  <a:pt x="106" y="124"/>
                </a:cubicBezTo>
                <a:cubicBezTo>
                  <a:pt x="106" y="65"/>
                  <a:pt x="62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1" y="0"/>
                  <a:pt x="379" y="0"/>
                  <a:pt x="379" y="0"/>
                </a:cubicBezTo>
                <a:cubicBezTo>
                  <a:pt x="379" y="249"/>
                  <a:pt x="379" y="249"/>
                  <a:pt x="379" y="249"/>
                </a:cubicBezTo>
                <a:cubicBezTo>
                  <a:pt x="148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631280" y="4848120"/>
            <a:ext cx="568080" cy="790560"/>
            <a:chOff x="7631280" y="4848120"/>
            <a:chExt cx="568080" cy="790560"/>
          </a:xfrm>
        </p:grpSpPr>
        <p:sp>
          <p:nvSpPr>
            <p:cNvPr id="41" name=""/>
            <p:cNvSpPr/>
            <p:nvPr/>
          </p:nvSpPr>
          <p:spPr>
            <a:xfrm>
              <a:off x="78026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31280" y="4848120"/>
              <a:ext cx="30456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98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5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7200" y="3745080"/>
            <a:ext cx="732168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1" marL="228600" indent="-228600">
              <a:spcBef>
                <a:spcPts val="561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−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2" marL="228600" indent="-228600">
              <a:spcBef>
                <a:spcPts val="561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3" marL="228600" indent="-228600">
              <a:spcBef>
                <a:spcPts val="561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−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4" marL="228600" indent="-228600">
              <a:spcBef>
                <a:spcPts val="561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5" marL="228600" indent="-228600">
              <a:spcBef>
                <a:spcPts val="561"/>
              </a:spcBef>
              <a:spcAft>
                <a:spcPts val="224"/>
              </a:spcAft>
              <a:buClr>
                <a:srgbClr val="000000"/>
              </a:buClr>
              <a:buFont typeface="Futura Bk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6" marL="228600" indent="-228600">
              <a:spcBef>
                <a:spcPts val="561"/>
              </a:spcBef>
              <a:spcAft>
                <a:spcPts val="224"/>
              </a:spcAft>
              <a:buClr>
                <a:srgbClr val="000000"/>
              </a:buClr>
              <a:buFont typeface="Futura Bk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01240" y="706320"/>
            <a:ext cx="757548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46120" cy="43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14480"/>
            <a:ext cx="82548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100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SzPct val="80000"/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98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5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1"/>
          </p:nvPr>
        </p:nvSpPr>
        <p:spPr>
          <a:xfrm>
            <a:off x="438120" y="6537240"/>
            <a:ext cx="38592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E34B7-3A32-4828-89F2-7B7CC453E263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2"/>
          </p:nvPr>
        </p:nvSpPr>
        <p:spPr>
          <a:xfrm>
            <a:off x="836280" y="6537240"/>
            <a:ext cx="11127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11, 2008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3"/>
          </p:nvPr>
        </p:nvSpPr>
        <p:spPr>
          <a:xfrm>
            <a:off x="1996560" y="6537240"/>
            <a:ext cx="535788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1360" y="274320"/>
            <a:ext cx="454968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4848120"/>
            <a:ext cx="8217000" cy="790560"/>
          </a:xfrm>
          <a:custGeom>
            <a:avLst/>
            <a:gdLst/>
            <a:ahLst/>
            <a:rect l="l" t="t" r="r" b="b"/>
            <a:pathLst>
              <a:path w="2578" h="249">
                <a:moveTo>
                  <a:pt x="6" y="231"/>
                </a:moveTo>
                <a:cubicBezTo>
                  <a:pt x="63" y="231"/>
                  <a:pt x="107" y="183"/>
                  <a:pt x="107" y="124"/>
                </a:cubicBezTo>
                <a:cubicBezTo>
                  <a:pt x="107" y="65"/>
                  <a:pt x="63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3" y="0"/>
                  <a:pt x="2578" y="0"/>
                  <a:pt x="2578" y="0"/>
                </a:cubicBezTo>
                <a:cubicBezTo>
                  <a:pt x="2578" y="249"/>
                  <a:pt x="2578" y="249"/>
                  <a:pt x="2578" y="249"/>
                </a:cubicBezTo>
                <a:cubicBezTo>
                  <a:pt x="2345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25320" y="4848120"/>
            <a:ext cx="568440" cy="790560"/>
            <a:chOff x="625320" y="4848120"/>
            <a:chExt cx="568440" cy="790560"/>
          </a:xfrm>
        </p:grpSpPr>
        <p:sp>
          <p:nvSpPr>
            <p:cNvPr id="166" name=""/>
            <p:cNvSpPr/>
            <p:nvPr/>
          </p:nvSpPr>
          <p:spPr>
            <a:xfrm>
              <a:off x="7970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5320" y="4848120"/>
              <a:ext cx="30492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0" y="4848120"/>
            <a:ext cx="774720" cy="790560"/>
          </a:xfrm>
          <a:custGeom>
            <a:avLst/>
            <a:gdLst/>
            <a:ahLst/>
            <a:rect l="l" t="t" r="r" b="b"/>
            <a:pathLst>
              <a:path w="254" h="249">
                <a:moveTo>
                  <a:pt x="25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246" y="249"/>
                  <a:pt x="246" y="249"/>
                  <a:pt x="246" y="249"/>
                </a:cubicBezTo>
                <a:cubicBezTo>
                  <a:pt x="254" y="229"/>
                  <a:pt x="254" y="229"/>
                  <a:pt x="254" y="229"/>
                </a:cubicBezTo>
                <a:cubicBezTo>
                  <a:pt x="208" y="219"/>
                  <a:pt x="175" y="175"/>
                  <a:pt x="175" y="122"/>
                </a:cubicBezTo>
                <a:cubicBezTo>
                  <a:pt x="175" y="73"/>
                  <a:pt x="204" y="32"/>
                  <a:pt x="245" y="18"/>
                </a:cubicBezTo>
                <a:cubicBezTo>
                  <a:pt x="251" y="0"/>
                  <a:pt x="251" y="0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SzPct val="80000"/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98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5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698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5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3"/>
          <p:cNvSpPr>
            <a:spLocks noGrp="1"/>
          </p:cNvSpPr>
          <p:nvPr>
            <p:ph type="sldNum" idx="4"/>
          </p:nvPr>
        </p:nvSpPr>
        <p:spPr>
          <a:xfrm>
            <a:off x="438120" y="6537240"/>
            <a:ext cx="38592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6ED63-6E35-4878-9866-DE9FFDAA1793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5"/>
          </p:nvPr>
        </p:nvSpPr>
        <p:spPr>
          <a:xfrm>
            <a:off x="836280" y="6537240"/>
            <a:ext cx="11127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11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6"/>
          </p:nvPr>
        </p:nvSpPr>
        <p:spPr>
          <a:xfrm>
            <a:off x="1996560" y="6537240"/>
            <a:ext cx="535788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1360" y="274320"/>
            <a:ext cx="454968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1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2" name=""/>
          <p:cNvSpPr/>
          <p:nvPr/>
        </p:nvSpPr>
        <p:spPr>
          <a:xfrm>
            <a:off x="927000" y="4848120"/>
            <a:ext cx="8217000" cy="790560"/>
          </a:xfrm>
          <a:custGeom>
            <a:avLst/>
            <a:gdLst/>
            <a:ahLst/>
            <a:rect l="l" t="t" r="r" b="b"/>
            <a:pathLst>
              <a:path w="2578" h="249">
                <a:moveTo>
                  <a:pt x="6" y="231"/>
                </a:moveTo>
                <a:cubicBezTo>
                  <a:pt x="63" y="231"/>
                  <a:pt x="107" y="183"/>
                  <a:pt x="107" y="124"/>
                </a:cubicBezTo>
                <a:cubicBezTo>
                  <a:pt x="107" y="65"/>
                  <a:pt x="63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3" y="0"/>
                  <a:pt x="2578" y="0"/>
                  <a:pt x="2578" y="0"/>
                </a:cubicBezTo>
                <a:cubicBezTo>
                  <a:pt x="2578" y="249"/>
                  <a:pt x="2578" y="249"/>
                  <a:pt x="2578" y="249"/>
                </a:cubicBezTo>
                <a:cubicBezTo>
                  <a:pt x="2345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25320" y="4848120"/>
            <a:ext cx="568440" cy="790560"/>
            <a:chOff x="625320" y="4848120"/>
            <a:chExt cx="568440" cy="790560"/>
          </a:xfrm>
        </p:grpSpPr>
        <p:sp>
          <p:nvSpPr>
            <p:cNvPr id="254" name=""/>
            <p:cNvSpPr/>
            <p:nvPr/>
          </p:nvSpPr>
          <p:spPr>
            <a:xfrm>
              <a:off x="7970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320" y="4848120"/>
              <a:ext cx="30492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0" y="4848120"/>
            <a:ext cx="774720" cy="790560"/>
          </a:xfrm>
          <a:custGeom>
            <a:avLst/>
            <a:gdLst/>
            <a:ahLst/>
            <a:rect l="l" t="t" r="r" b="b"/>
            <a:pathLst>
              <a:path w="254" h="249">
                <a:moveTo>
                  <a:pt x="25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246" y="249"/>
                  <a:pt x="246" y="249"/>
                  <a:pt x="246" y="249"/>
                </a:cubicBezTo>
                <a:cubicBezTo>
                  <a:pt x="254" y="229"/>
                  <a:pt x="254" y="229"/>
                  <a:pt x="254" y="229"/>
                </a:cubicBezTo>
                <a:cubicBezTo>
                  <a:pt x="208" y="219"/>
                  <a:pt x="175" y="175"/>
                  <a:pt x="175" y="122"/>
                </a:cubicBezTo>
                <a:cubicBezTo>
                  <a:pt x="175" y="73"/>
                  <a:pt x="204" y="32"/>
                  <a:pt x="245" y="18"/>
                </a:cubicBezTo>
                <a:cubicBezTo>
                  <a:pt x="251" y="0"/>
                  <a:pt x="251" y="0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645320" y="5511960"/>
            <a:ext cx="1217520" cy="97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7648560" y="5511960"/>
            <a:ext cx="1230480" cy="97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Sample organization cha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8" name=""/>
          <p:cNvSpPr/>
          <p:nvPr/>
        </p:nvSpPr>
        <p:spPr>
          <a:xfrm>
            <a:off x="644400" y="3079800"/>
            <a:ext cx="1332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9" name=""/>
          <p:cNvSpPr/>
          <p:nvPr/>
        </p:nvSpPr>
        <p:spPr>
          <a:xfrm>
            <a:off x="2360520" y="3079800"/>
            <a:ext cx="13114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0" name=""/>
          <p:cNvSpPr/>
          <p:nvPr/>
        </p:nvSpPr>
        <p:spPr>
          <a:xfrm>
            <a:off x="4108320" y="3079800"/>
            <a:ext cx="1352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1" name=""/>
          <p:cNvSpPr/>
          <p:nvPr/>
        </p:nvSpPr>
        <p:spPr>
          <a:xfrm>
            <a:off x="5826240" y="3079800"/>
            <a:ext cx="13222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2" name=""/>
          <p:cNvSpPr/>
          <p:nvPr/>
        </p:nvSpPr>
        <p:spPr>
          <a:xfrm>
            <a:off x="7547040" y="3079800"/>
            <a:ext cx="1311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3" name=""/>
          <p:cNvSpPr/>
          <p:nvPr/>
        </p:nvSpPr>
        <p:spPr>
          <a:xfrm>
            <a:off x="2252520" y="3979800"/>
            <a:ext cx="146160" cy="180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4" name=""/>
          <p:cNvSpPr/>
          <p:nvPr/>
        </p:nvSpPr>
        <p:spPr>
          <a:xfrm flipH="1" rot="16200000">
            <a:off x="1653840" y="2116800"/>
            <a:ext cx="1141560" cy="43524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5" name=""/>
          <p:cNvSpPr/>
          <p:nvPr/>
        </p:nvSpPr>
        <p:spPr>
          <a:xfrm>
            <a:off x="1266840" y="2909880"/>
            <a:ext cx="6921360" cy="93600"/>
          </a:xfrm>
          <a:custGeom>
            <a:avLst/>
            <a:gdLst/>
            <a:ahLst/>
            <a:rect l="l" t="t" r="r" b="b"/>
            <a:pathLst>
              <a:path w="4248" h="96">
                <a:moveTo>
                  <a:pt x="0" y="78"/>
                </a:moveTo>
                <a:lnTo>
                  <a:pt x="0" y="0"/>
                </a:lnTo>
                <a:lnTo>
                  <a:pt x="4248" y="0"/>
                </a:lnTo>
                <a:lnTo>
                  <a:pt x="4248" y="96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6" name=""/>
          <p:cNvSpPr/>
          <p:nvPr/>
        </p:nvSpPr>
        <p:spPr>
          <a:xfrm>
            <a:off x="3970440" y="3610080"/>
            <a:ext cx="174600" cy="178092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7" name=""/>
          <p:cNvSpPr/>
          <p:nvPr/>
        </p:nvSpPr>
        <p:spPr>
          <a:xfrm>
            <a:off x="2252520" y="3610080"/>
            <a:ext cx="128880" cy="105228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8" name=""/>
          <p:cNvSpPr/>
          <p:nvPr/>
        </p:nvSpPr>
        <p:spPr>
          <a:xfrm>
            <a:off x="525600" y="3610080"/>
            <a:ext cx="139680" cy="32544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9" name=""/>
          <p:cNvSpPr/>
          <p:nvPr/>
        </p:nvSpPr>
        <p:spPr>
          <a:xfrm>
            <a:off x="1992240" y="2496960"/>
            <a:ext cx="461880" cy="180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0" name=""/>
          <p:cNvSpPr/>
          <p:nvPr/>
        </p:nvSpPr>
        <p:spPr>
          <a:xfrm>
            <a:off x="3960720" y="3978360"/>
            <a:ext cx="168480" cy="144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1" name=""/>
          <p:cNvSpPr/>
          <p:nvPr/>
        </p:nvSpPr>
        <p:spPr>
          <a:xfrm>
            <a:off x="5684760" y="3979800"/>
            <a:ext cx="168480" cy="180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2" name=""/>
          <p:cNvSpPr/>
          <p:nvPr/>
        </p:nvSpPr>
        <p:spPr>
          <a:xfrm>
            <a:off x="7421400" y="3979800"/>
            <a:ext cx="146160" cy="180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3" name=""/>
          <p:cNvSpPr/>
          <p:nvPr/>
        </p:nvSpPr>
        <p:spPr>
          <a:xfrm>
            <a:off x="3960720" y="4687920"/>
            <a:ext cx="157320" cy="144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4" name=""/>
          <p:cNvSpPr/>
          <p:nvPr/>
        </p:nvSpPr>
        <p:spPr>
          <a:xfrm>
            <a:off x="5684760" y="4687920"/>
            <a:ext cx="168480" cy="144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5" name=""/>
          <p:cNvSpPr/>
          <p:nvPr/>
        </p:nvSpPr>
        <p:spPr>
          <a:xfrm>
            <a:off x="7424640" y="4687920"/>
            <a:ext cx="123840" cy="144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6" name=""/>
          <p:cNvSpPr/>
          <p:nvPr/>
        </p:nvSpPr>
        <p:spPr>
          <a:xfrm>
            <a:off x="528480" y="1495440"/>
            <a:ext cx="1462320" cy="55260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7" name=""/>
          <p:cNvSpPr/>
          <p:nvPr/>
        </p:nvSpPr>
        <p:spPr>
          <a:xfrm>
            <a:off x="644400" y="1555920"/>
            <a:ext cx="13431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Group/Departmen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8" name=""/>
          <p:cNvSpPr/>
          <p:nvPr/>
        </p:nvSpPr>
        <p:spPr>
          <a:xfrm>
            <a:off x="644400" y="2287440"/>
            <a:ext cx="1319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9" name=""/>
          <p:cNvSpPr/>
          <p:nvPr/>
        </p:nvSpPr>
        <p:spPr>
          <a:xfrm>
            <a:off x="5935680" y="3784680"/>
            <a:ext cx="1185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0" name=""/>
          <p:cNvSpPr/>
          <p:nvPr/>
        </p:nvSpPr>
        <p:spPr>
          <a:xfrm>
            <a:off x="5935680" y="4495680"/>
            <a:ext cx="11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1" name=""/>
          <p:cNvSpPr/>
          <p:nvPr/>
        </p:nvSpPr>
        <p:spPr>
          <a:xfrm>
            <a:off x="5935680" y="5210280"/>
            <a:ext cx="1174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2" name=""/>
          <p:cNvSpPr/>
          <p:nvPr/>
        </p:nvSpPr>
        <p:spPr>
          <a:xfrm>
            <a:off x="4203720" y="3784680"/>
            <a:ext cx="1206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3" name=""/>
          <p:cNvSpPr/>
          <p:nvPr/>
        </p:nvSpPr>
        <p:spPr>
          <a:xfrm>
            <a:off x="4203720" y="4495680"/>
            <a:ext cx="1165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4" name=""/>
          <p:cNvSpPr/>
          <p:nvPr/>
        </p:nvSpPr>
        <p:spPr>
          <a:xfrm>
            <a:off x="4203720" y="5210280"/>
            <a:ext cx="1165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5" name=""/>
          <p:cNvSpPr/>
          <p:nvPr/>
        </p:nvSpPr>
        <p:spPr>
          <a:xfrm>
            <a:off x="2502000" y="3784680"/>
            <a:ext cx="119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6" name=""/>
          <p:cNvSpPr/>
          <p:nvPr/>
        </p:nvSpPr>
        <p:spPr>
          <a:xfrm>
            <a:off x="7664400" y="3784680"/>
            <a:ext cx="1185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7" name=""/>
          <p:cNvSpPr/>
          <p:nvPr/>
        </p:nvSpPr>
        <p:spPr>
          <a:xfrm>
            <a:off x="7664400" y="4495680"/>
            <a:ext cx="11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8" name=""/>
          <p:cNvSpPr/>
          <p:nvPr/>
        </p:nvSpPr>
        <p:spPr>
          <a:xfrm>
            <a:off x="7664400" y="5210280"/>
            <a:ext cx="1174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9" name=""/>
          <p:cNvSpPr/>
          <p:nvPr/>
        </p:nvSpPr>
        <p:spPr>
          <a:xfrm>
            <a:off x="785880" y="3784680"/>
            <a:ext cx="1185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0" name=""/>
          <p:cNvSpPr/>
          <p:nvPr/>
        </p:nvSpPr>
        <p:spPr>
          <a:xfrm>
            <a:off x="2502000" y="4495680"/>
            <a:ext cx="1164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1" name=""/>
          <p:cNvSpPr/>
          <p:nvPr/>
        </p:nvSpPr>
        <p:spPr>
          <a:xfrm>
            <a:off x="53028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2" name=""/>
          <p:cNvSpPr/>
          <p:nvPr/>
        </p:nvSpPr>
        <p:spPr>
          <a:xfrm>
            <a:off x="225108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3" name=""/>
          <p:cNvSpPr/>
          <p:nvPr/>
        </p:nvSpPr>
        <p:spPr>
          <a:xfrm>
            <a:off x="397368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4" name=""/>
          <p:cNvSpPr/>
          <p:nvPr/>
        </p:nvSpPr>
        <p:spPr>
          <a:xfrm>
            <a:off x="569592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5" name=""/>
          <p:cNvSpPr/>
          <p:nvPr/>
        </p:nvSpPr>
        <p:spPr>
          <a:xfrm>
            <a:off x="741996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6" name=""/>
          <p:cNvSpPr/>
          <p:nvPr/>
        </p:nvSpPr>
        <p:spPr>
          <a:xfrm>
            <a:off x="528480" y="2209680"/>
            <a:ext cx="146232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7" name=""/>
          <p:cNvSpPr/>
          <p:nvPr/>
        </p:nvSpPr>
        <p:spPr>
          <a:xfrm>
            <a:off x="67464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8" name=""/>
          <p:cNvSpPr/>
          <p:nvPr/>
        </p:nvSpPr>
        <p:spPr>
          <a:xfrm>
            <a:off x="239544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9" name=""/>
          <p:cNvSpPr/>
          <p:nvPr/>
        </p:nvSpPr>
        <p:spPr>
          <a:xfrm>
            <a:off x="239544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0" name=""/>
          <p:cNvSpPr/>
          <p:nvPr/>
        </p:nvSpPr>
        <p:spPr>
          <a:xfrm>
            <a:off x="411804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1" name=""/>
          <p:cNvSpPr/>
          <p:nvPr/>
        </p:nvSpPr>
        <p:spPr>
          <a:xfrm>
            <a:off x="584028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2" name=""/>
          <p:cNvSpPr/>
          <p:nvPr/>
        </p:nvSpPr>
        <p:spPr>
          <a:xfrm>
            <a:off x="756432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3" name=""/>
          <p:cNvSpPr/>
          <p:nvPr/>
        </p:nvSpPr>
        <p:spPr>
          <a:xfrm>
            <a:off x="411804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4" name=""/>
          <p:cNvSpPr/>
          <p:nvPr/>
        </p:nvSpPr>
        <p:spPr>
          <a:xfrm>
            <a:off x="584028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5" name=""/>
          <p:cNvSpPr/>
          <p:nvPr/>
        </p:nvSpPr>
        <p:spPr>
          <a:xfrm>
            <a:off x="756432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6" name=""/>
          <p:cNvSpPr/>
          <p:nvPr/>
        </p:nvSpPr>
        <p:spPr>
          <a:xfrm>
            <a:off x="4118040" y="51307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7" name=""/>
          <p:cNvSpPr/>
          <p:nvPr/>
        </p:nvSpPr>
        <p:spPr>
          <a:xfrm>
            <a:off x="5840280" y="51307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8" name=""/>
          <p:cNvSpPr/>
          <p:nvPr/>
        </p:nvSpPr>
        <p:spPr>
          <a:xfrm>
            <a:off x="7564320" y="51307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9" name=""/>
          <p:cNvSpPr/>
          <p:nvPr/>
        </p:nvSpPr>
        <p:spPr>
          <a:xfrm>
            <a:off x="7419960" y="3610080"/>
            <a:ext cx="150840" cy="179856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0" name=""/>
          <p:cNvSpPr/>
          <p:nvPr/>
        </p:nvSpPr>
        <p:spPr>
          <a:xfrm>
            <a:off x="5694480" y="3610080"/>
            <a:ext cx="152280" cy="180000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9CC7B-017D-4DD3-9F61-7585AFABBE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D45F462C-BB1B-4EE5-A8CF-C0668D53B3B8}" type="datetime3">
              <a:rPr lang="en-US"/>
              <a:t>July 31, 202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 Chiang</dc:creator>
  <dc:description>This template was designed for users of PowerPoint 2002 and 2003</dc:description>
  <cp:keywords>Template</cp:keywords>
  <dc:language>en-US</dc:language>
  <cp:lastModifiedBy/>
  <cp:revision>0</cp:revision>
  <dc:subject/>
  <dc:title>HP PowerPoint Advanced Template_small</dc:title>
</cp:coreProperties>
</file>