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2AA-C790-4D62-A671-B5A702EA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39F-5249-4C9D-A333-3286351D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4E1-E174-4505-9AF3-CDD0F5F2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745-7183-4F66-9174-DD002601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FCD7-5327-4AC3-86B2-78C088F7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FB9C-3731-44A3-B1FA-CD0CF0E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23F3-F677-4D58-94B4-1D9EF02F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91B1-C4A4-48F2-A621-A790087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F6E4-7BE2-4050-A076-A79BF6FA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3F5C-E472-453E-8062-A06E4527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8F75-BAC3-43ED-ADE9-C00B5F25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1A3-8F07-4C02-89B3-5568B0DB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5F9F-1468-4445-A977-D9E53DF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FC2B-C6B4-42B2-B355-76E8AD07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CECF-411D-45EF-9970-03A48CDE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8A1B-C0E6-432A-B60E-5321826F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67E-89C2-4411-A386-ADAB38AB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ABC-A743-4014-B939-D4D638FE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C69-BCA3-45D5-A3B5-65704573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C17-491C-4725-ADA3-47E85027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3C9-4E85-4E61-A3F1-716247B4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729-EC9D-458B-B9DD-0D4AE446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6AA-B6F4-433F-A402-9A737BD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D4D-0430-4831-A796-CB9E1F50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41D7-7CDD-4D86-85C6-4DFC6F534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6360-8CAF-412E-B265-BC27D0C7F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xxxxxxxxxxx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jing</cp:lastModifiedBy>
  <dcterms:modified xsi:type="dcterms:W3CDTF">2012-05-30T05:38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3</vt:r8>
  </property>
</Properties>
</file>