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DCC-3AAE-4785-8A01-D7F07A6B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9EE1-F5FA-4847-B295-600306A0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035-9756-4B9D-A1ED-9DA8A5E4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BC5-E9B0-40FF-B996-8D73F25F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237-E45C-4B56-8EC2-C2BD8931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053-C05E-466E-9837-51BCC68E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624-A1B7-44E5-A5E1-7CC5ADE9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D20-1BE1-4BEF-B085-C6F29405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1323-9E5D-4E14-9799-03E6C3BF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028E-04D3-4C72-95DB-7A5B2CC7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DEAD-C39D-4CCB-B7B4-855DCE8B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6585-3D4B-4BA1-8FEA-76B8C681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  <a:ea typeface="Times New Roman (Hebrew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EF2E-CF5C-4478-993B-E10D1A2FD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627280" y="1268280"/>
          <a:ext cx="36068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68280"/>
                    <a:ext cx="36068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79280" y="6021360"/>
            <a:ext cx="4392720" cy="83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66600" y="4221000"/>
            <a:ext cx="3207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808080"/>
                </a:solidFill>
                <a:latin typeface="Futura"/>
              </a:rPr>
              <a:t>I N N O V A T I V E   P R O D U C T 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5670720"/>
            <a:ext cx="9144000" cy="1187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03720" y="349092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  <a:ea typeface="Tahoma"/>
              </a:rPr>
              <a:t>Lt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01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23:13:24Z</dcterms:created>
  <dc:creator>arik</dc:creator>
  <dc:description/>
  <dc:language>en-US</dc:language>
  <cp:lastModifiedBy>ooo</cp:lastModifiedBy>
  <dcterms:modified xsi:type="dcterms:W3CDTF">2007-08-27T08:29:11Z</dcterms:modified>
  <cp:revision>59</cp:revision>
  <dc:subject/>
  <dc:title>Slide 1</dc:title>
</cp:coreProperties>
</file>