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16D-3B81-46DF-87DC-1D592A31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E6C-F453-4DAE-8CA6-BEE03D9A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841-B581-4FD5-8E1D-7DAE940B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8A6-75CE-45E8-87AA-15752897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C97-D5D5-4944-AFBC-E57EB381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045-9AD1-4E73-BADA-DB0E93B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45F-334A-4387-8D4D-4483D77D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1A4-528C-4AC3-B4FD-EA02DC57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115-EC03-49EE-9CF4-0EE27256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8BB-00F6-4EDC-87EC-99DA017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E55-07A7-480C-91E5-B685498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92F-2797-4303-B455-E050B29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CD8-E43D-40D5-9FF8-C3CFAF32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42" name="_s2088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9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86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87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b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4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85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25520" y="1319040"/>
            <a:ext cx="4692960" cy="3378240"/>
            <a:chOff x="2225520" y="1319040"/>
            <a:chExt cx="4692960" cy="3378240"/>
          </a:xfrm>
        </p:grpSpPr>
        <p:sp>
          <p:nvSpPr>
            <p:cNvPr id="49" name="_s5126"/>
            <p:cNvSpPr/>
            <p:nvPr/>
          </p:nvSpPr>
          <p:spPr>
            <a:xfrm>
              <a:off x="3714840" y="1919160"/>
              <a:ext cx="1714320" cy="17146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27"/>
            <p:cNvSpPr/>
            <p:nvPr/>
          </p:nvSpPr>
          <p:spPr>
            <a:xfrm>
              <a:off x="4127400" y="131904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28"/>
            <p:cNvSpPr/>
            <p:nvPr/>
          </p:nvSpPr>
          <p:spPr>
            <a:xfrm>
              <a:off x="4278240" y="2897280"/>
              <a:ext cx="1714680" cy="17143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29"/>
            <p:cNvSpPr/>
            <p:nvPr/>
          </p:nvSpPr>
          <p:spPr>
            <a:xfrm>
              <a:off x="6027840" y="4268880"/>
              <a:ext cx="890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0"/>
            <p:cNvSpPr/>
            <p:nvPr/>
          </p:nvSpPr>
          <p:spPr>
            <a:xfrm>
              <a:off x="3149640" y="2895480"/>
              <a:ext cx="1714320" cy="17146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1"/>
            <p:cNvSpPr/>
            <p:nvPr/>
          </p:nvSpPr>
          <p:spPr>
            <a:xfrm>
              <a:off x="2225520" y="4268880"/>
              <a:ext cx="890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22:19:47Z</dcterms:created>
  <dc:creator>RenYuxia</dc:creator>
  <dc:description/>
  <dc:language>en-US</dc:language>
  <cp:lastModifiedBy>RenYuxia</cp:lastModifiedBy>
  <dcterms:modified xsi:type="dcterms:W3CDTF">2006-02-15T22:23:00Z</dcterms:modified>
  <cp:revision>1</cp:revision>
  <dc:subject/>
  <dc:title>幻灯片 1</dc:title>
</cp:coreProperties>
</file>