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B819-74B8-4D99-8C5F-378B74B2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AF50-DDA8-4685-90A3-36F2767F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CE27-B535-4FC8-BC31-38D51E33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B36F-B411-4C7C-B9B4-65D94D7F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DA09-CF4E-4046-969B-83753F6C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E3DF-6740-4C90-A793-A745AFB6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DED8-168D-4538-81A1-EAD66B33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CC5C-5FED-4984-96E9-F5C9F3D6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90EE-C401-466B-AED7-D0186F62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C8E-A6A1-46A8-A548-D8075FE7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7751-2B87-429C-8780-522E8C3F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96D3-F683-4ADB-AF0B-6F25D0E1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980C-3BEC-4F0B-9189-BA3DE52104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5:00:49Z</dcterms:created>
  <dc:creator>wangxiul</dc:creator>
  <dc:description/>
  <dc:language>en-US</dc:language>
  <cp:lastModifiedBy>wangxiul</cp:lastModifiedBy>
  <dcterms:modified xsi:type="dcterms:W3CDTF">2005-11-22T15:00:54Z</dcterms:modified>
  <cp:revision>1</cp:revision>
  <dc:subject/>
  <dc:title>Slide 1</dc:title>
</cp:coreProperties>
</file>