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23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94960" y="4686120"/>
            <a:ext cx="5002200" cy="443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881160" y="9371160"/>
            <a:ext cx="2911320" cy="490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3FF21-68D3-4C2E-BD34-3799050F15E6}" type="slidenum">
              <a:rPr b="0" lang="en-US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2C9A-72A6-4DBD-BBC6-F116AA6AA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4A71-70FF-4C1C-B76A-E04EF587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3915-D217-48F9-8CA7-B2BA3A994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704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696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704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3CC0-25DD-48FD-BF78-E295EB317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6960" y="69840"/>
            <a:ext cx="8282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F39C-21B6-4E91-B4B5-11E1D36E6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704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748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2696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704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748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8228-E352-4F19-8F75-87EEBBAD3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60A6-EEB4-4B6F-B46D-4BF45CE68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1CC4-3E91-4D17-A44D-5E3BE7AB2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6960" y="69840"/>
            <a:ext cx="8282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6483-7452-40D0-9024-C8A884246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992C-850B-433A-8F83-DAB6F771E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E32A-5E01-4B13-90C2-22E453586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096D-83F3-4E58-9E50-01DC11A6F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3197160" y="6465960"/>
            <a:ext cx="28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Trebuchet MS"/>
              </a:rPr>
              <a:t>All Rights Reserved © Alcatel-Lucent 2006, ####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26960" y="6486120"/>
            <a:ext cx="3875040" cy="20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432FE7-938F-4B07-A709-01DBB23E43EB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</a:t>
            </a:r>
            <a:r>
              <a:rPr b="0" lang="fr-FR" sz="700" spc="-1" strike="noStrike">
                <a:solidFill>
                  <a:srgbClr val="000000"/>
                </a:solidFill>
                <a:latin typeface="Trebuchet MS"/>
              </a:rPr>
              <a:t>Presentation Title | Month 20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67480" y="6437160"/>
            <a:ext cx="152424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920" y="2650680"/>
            <a:ext cx="71168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"/>
          <p:cNvSpPr/>
          <p:nvPr/>
        </p:nvSpPr>
        <p:spPr>
          <a:xfrm>
            <a:off x="6132600" y="6400800"/>
            <a:ext cx="2876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Trebuchet MS"/>
              </a:rPr>
              <a:t>All Rights Reserved © Alcatel-Lucent 2006, ####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cheduler Implement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841320" y="1279440"/>
            <a:ext cx="703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1320" y="12794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scheduler has to find a decision for the following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41320" y="2023920"/>
            <a:ext cx="4296960" cy="1163880"/>
            <a:chOff x="1741320" y="2023920"/>
            <a:chExt cx="4296960" cy="1163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1741320" y="2265480"/>
                  <a:ext cx="41878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5769000" y="2805120"/>
              <a:ext cx="144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6400" y="2165400"/>
              <a:ext cx="1192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4760" y="2023920"/>
              <a:ext cx="4651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rebuchet MS"/>
                </a:rPr>
                <a:t>PR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2560" y="2519280"/>
              <a:ext cx="4957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122640" y="2165400"/>
              <a:ext cx="797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769000" y="2314080"/>
              <a:ext cx="14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14760" y="35514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41320" y="3551400"/>
                <a:ext cx="19940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ate control factor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verage throughpu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ffective spectral efficiency </m:t>
                        </m:r>
                      </m:e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: fairness fa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841320" y="4761000"/>
            <a:ext cx="64962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effective spectral efficiency r</a:t>
            </a:r>
            <a:r>
              <a:rPr b="1" lang="en-GB" sz="1600" spc="-1" strike="noStrike" baseline="-10000">
                <a:solidFill>
                  <a:srgbClr val="000000"/>
                </a:solidFill>
                <a:latin typeface="Trebuchet MS"/>
              </a:rPr>
              <a:t>i,j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78040" y="5492880"/>
                <a:ext cx="1346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nSIN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89200" y="5848200"/>
                <a:ext cx="43304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if effective spectral efficiency is below a minimum threshol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976E-A693-46B6-8725-BD2687DB5B6C}" type="slidenum">
              <a:t>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pha Fairne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841320" y="1279440"/>
            <a:ext cx="703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65160" y="2227320"/>
                <a:ext cx="34927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rPR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rPRB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]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[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]</m:t>
                                    </m:r>
                                  </m:e>
                                </m:nary>
                              </m:e>
                            </m:d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verage throughpu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ffective spectral efficiency </m:t>
                        </m:r>
                      </m:e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: forgetting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PRB</m:t>
                        </m:r>
                        <m:r>
                          <m:rPr>
                            <m:lit/>
                            <m:nor/>
                          </m:rPr>
                          <m:t xml:space="preserve">: number of physical resource block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841320" y="139068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proportional fairness is implemented as a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ne-tap IIR-filter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41320" y="45514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At t=0, w is initializ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66880" y="5140440"/>
                <a:ext cx="2184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rPR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rPRB</m:t>
                            </m:r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7EE5-C24F-4FD9-9ED1-22B5DED57FC5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nimum Rate Constrai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841320" y="1279440"/>
            <a:ext cx="703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1320" y="13906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oken counter for rat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65160" y="2089080"/>
                <a:ext cx="3919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B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with   0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token counter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B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Guaranteed Bitrat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serviced bits in last TTI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maximum value of the token coun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65160" y="5111640"/>
                <a:ext cx="27640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or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rm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oken counter scaling fa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41320" y="444672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rate control factor is given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1E61-D88D-4914-BF58-B31831511EE4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lculation of Parameter 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rebuchet MS"/>
              </a:rPr>
              <a:t>nor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841320" y="1063800"/>
            <a:ext cx="54403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50800" y="4435560"/>
                <a:ext cx="1866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or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rm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inSIN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a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inSIN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i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54200" y="2222640"/>
                <a:ext cx="146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nSIN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nSIN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37120" y="4575240"/>
                <a:ext cx="952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Norm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27360" y="2565360"/>
            <a:ext cx="903240" cy="3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51360" y="2336760"/>
                <a:ext cx="142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  <m:r>
                          <m:rPr>
                            <m:lit/>
                            <m:nor/>
                          </m:rPr>
                          <m:t xml:space="preserve"> bit/symbol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  bit/symb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751360" y="3583080"/>
                <a:ext cx="1473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8000" y="3583080"/>
                <a:ext cx="952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293920" y="313704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3920" y="402588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3040" y="313704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1640" y="402588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89120" y="2222640"/>
            <a:ext cx="12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exampl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60000">
            <a:off x="5216400" y="2473200"/>
            <a:ext cx="180720" cy="190440"/>
          </a:xfrm>
          <a:prstGeom prst="downArrow">
            <a:avLst>
              <a:gd name="adj1" fmla="val 50000"/>
              <a:gd name="adj2" fmla="val 263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5160" y="1320840"/>
            <a:ext cx="649620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calculation of tc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Trebuchet MS"/>
              </a:rPr>
              <a:t>norm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can be done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9809-EB49-41CE-B06A-FF776118C0E2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3:13Z</dcterms:created>
  <dc:creator>Ralph Ballentin</dc:creator>
  <dc:description/>
  <dc:language>en-US</dc:language>
  <cp:lastModifiedBy>Stephen Kaminski</cp:lastModifiedBy>
  <cp:lastPrinted>2006-11-16T20:03:46Z</cp:lastPrinted>
  <dcterms:modified xsi:type="dcterms:W3CDTF">2009-01-28T13:47:04Z</dcterms:modified>
  <cp:revision>116</cp:revision>
  <dc:subject/>
  <dc:title>Portfolio/Program Name Here 36/42pt with 12pt After Paragraph Subheadings 20pt</dc:title>
</cp:coreProperties>
</file>