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B7A-8A36-44D3-9082-5ECE216E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FCE-1302-4ABD-BAFF-32F191A0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B5A-A4C6-4AF7-ABC7-21C2CB5D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260-828C-46E0-B0F4-831DD850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844-26B1-4BDB-A431-A97895EF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F8C-1594-4D8E-BBE8-A3D26388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8E4-6FAB-4F2E-8419-0C855804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421-D17B-4989-A187-B0A3CDC7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112-4F69-455A-A285-E533028D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5DC-7FB1-4FA4-B835-DC231592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2A9-C68C-4D6E-8A17-DDC04C26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AF1-A2DF-474D-B328-75DFCDE4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E417-5B51-4B73-8AE1-44F2197EE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360" y="160020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1" idx="0"/>
            <a:endCxn id="42" idx="1"/>
          </p:cNvCxnSpPr>
          <p:nvPr/>
        </p:nvCxnSpPr>
        <p:spPr>
          <a:xfrm>
            <a:off x="2286360" y="1600200"/>
            <a:ext cx="990720" cy="281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" name=""/>
          <p:cNvCxnSpPr>
            <a:stCxn id="41" idx="1"/>
            <a:endCxn id="42" idx="3"/>
          </p:cNvCxnSpPr>
          <p:nvPr/>
        </p:nvCxnSpPr>
        <p:spPr>
          <a:xfrm>
            <a:off x="4114440" y="3428640"/>
            <a:ext cx="770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6:50:35Z</dcterms:created>
  <dc:creator/>
  <dc:description/>
  <dc:language>en-US</dc:language>
  <cp:lastModifiedBy>.</cp:lastModifiedBy>
  <dcterms:modified xsi:type="dcterms:W3CDTF">2007-02-21T06:59:42Z</dcterms:modified>
  <cp:revision>3</cp:revision>
  <dc:subject/>
  <dc:title>No Slide Title</dc:title>
</cp:coreProperties>
</file>