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29BF-44F5-471E-AD61-CEE7B38BA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39F3-431A-42AE-96D8-1A823458A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6E1E-43E5-4053-B214-93CF6C736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5FA8-475E-40C6-B29C-94ED619AB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CC20-6385-43C0-B681-585AEBCAD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4B4B-6CC8-4672-A4BE-19DDBA1CE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55E8-60EB-4D6D-B513-18AE3F853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1EFD-0DAC-4D85-A8C0-749BB1F9E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3DB6-3D95-4D6D-A7AA-5F37132C7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E4D5-6E5C-4512-90A4-CDC62153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5FE7-B7F4-4C12-97FE-FF70C254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DC9F-B49A-4F7C-BBEF-D20A963F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D8C4B-300C-4725-A754-679106FB5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57200" y="1628640"/>
          <a:ext cx="8229600" cy="4772160"/>
        </p:xfrm>
        <a:graphic>
          <a:graphicData uri="http://schemas.openxmlformats.org/drawingml/2006/table">
            <a:tbl>
              <a:tblPr/>
              <a:tblGrid>
                <a:gridCol w="2746440"/>
                <a:gridCol w="2739960"/>
                <a:gridCol w="2743200"/>
              </a:tblGrid>
              <a:tr h="3594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h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e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y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u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h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e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y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u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1T06:25:09Z</dcterms:created>
  <dc:creator/>
  <dc:description/>
  <dc:language>en-US</dc:language>
  <cp:lastModifiedBy>svege</cp:lastModifiedBy>
  <dcterms:modified xsi:type="dcterms:W3CDTF">2010-06-17T08:42:27Z</dcterms:modified>
  <cp:revision>6</cp:revision>
  <dc:subject/>
  <dc:title>table</dc:title>
</cp:coreProperties>
</file>