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E2D7-EB5D-4567-A0FA-537B674DA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D109-7776-4977-B11F-8A1425EFB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9C79-AC47-437E-9FEA-FE1E1ED14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817A-6BE6-40A0-89DF-1F114D240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27CA-6AB7-436C-AF8E-B804F7C78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BC27-5C70-4652-AEDC-99AA7B0E0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BFD0-4909-4115-A9C1-C686D99BB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44F2-70F1-44DF-9E07-D27150157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06B0-C1A6-4E86-A096-A4BC99AE1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A91A-1429-45B6-8BA9-3D6B80104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1A91-319F-4475-B00A-06F402A47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7B8A-DF08-45AE-8DC3-F57F0FC3F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67B7A-074A-4871-8B91-C5F7154910C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10000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2f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395280" y="692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99"/>
                </a:solidFill>
                <a:latin typeface="Accent SF"/>
              </a:rPr>
              <a:t>Watch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99"/>
                </a:solidFill>
                <a:latin typeface="Accent SF"/>
              </a:rPr>
              <a:t>Thi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99"/>
                </a:solidFill>
                <a:latin typeface="Accent SF"/>
              </a:rPr>
              <a:t>Spac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6000"/>
                            </p:stCondLst>
                            <p:childTnLst>
                              <p:par>
                                <p:cTn id="23" nodeType="afterEffect" fill="hold" presetClass="exit" presetID="29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" dur="1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" dur="1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8000"/>
                            </p:stCondLst>
                            <p:childTnLst>
                              <p:par>
                                <p:cTn id="29" nodeType="afterEffect" fill="hold" presetClass="exit" presetID="29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" dur="1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" dur="1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0"/>
                            </p:stCondLst>
                            <p:childTnLst>
                              <p:par>
                                <p:cTn id="35" nodeType="afterEffect" fill="hold" presetClass="exit" presetID="29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" dur="10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" dur="10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2f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395280" y="692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99"/>
                </a:solidFill>
                <a:latin typeface="Accent SF"/>
              </a:rPr>
              <a:t>Present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500"/>
                            </p:stCondLst>
                            <p:childTnLst>
                              <p:par>
                                <p:cTn id="48" nodeType="afterEffect" fill="hold" presetClass="exit" presetID="29">
                                  <p:stCondLst>
                                    <p:cond delay="4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1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2f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95280" y="69192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99"/>
                </a:solidFill>
                <a:latin typeface="Accent SF"/>
              </a:rPr>
              <a:t>How grea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99"/>
                </a:solidFill>
                <a:latin typeface="Accent SF"/>
              </a:rPr>
              <a:t>is ou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71640" y="4508640"/>
            <a:ext cx="7056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95280" y="3933720"/>
            <a:ext cx="83534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0" spc="-1" strike="noStrike">
                <a:solidFill>
                  <a:srgbClr val="ffff99"/>
                </a:solidFill>
                <a:latin typeface="Accent SF"/>
              </a:rPr>
              <a:t>GOD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4000"/>
                            </p:stCondLst>
                            <p:childTnLst>
                              <p:par>
                                <p:cTn id="69" nodeType="afterEffect" fill="hold" presetClass="entr" presetID="1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2f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395280" y="2492280"/>
            <a:ext cx="8477280" cy="1408320"/>
          </a:xfrm>
          <a:prstGeom prst="rect">
            <a:avLst/>
          </a:prstGeom>
          <a:ln w="0">
            <a:noFill/>
          </a:ln>
        </p:spPr>
      </p:pic>
    </p:spTree>
  </p:cSld>
  <p:transition advTm="10000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2T19:48:15Z</dcterms:created>
  <dc:creator>Michael Brooks</dc:creator>
  <dc:description/>
  <dc:language>en-US</dc:language>
  <cp:lastModifiedBy>Michael Brooks</cp:lastModifiedBy>
  <dcterms:modified xsi:type="dcterms:W3CDTF">2006-09-21T18:06:37Z</dcterms:modified>
  <cp:revision>13</cp:revision>
  <dc:subject/>
  <dc:title>Slide 1</dc:title>
</cp:coreProperties>
</file>