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6405C-13B3-466B-82D2-4DB90F3C0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59C94-5496-4456-8AE1-2CDE3569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0BA8D-1CAE-4AAC-A384-441083FEC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32085-E89B-4054-889A-88D725286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rtl="1">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0B6B-E1AD-4412-9AD7-5559747C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D5FC8-2351-4BBD-8063-AAED2048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52F5-9B23-4A05-A1D1-DF23D53F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8452-4EEF-4B8B-AF55-BB93F871D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rtl="1">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C7E4-4B8C-444D-8504-7D3A35EE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C1C68-F2CE-4F1C-837D-DE03625E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796F-7804-4069-998A-9310F9A9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EE05-97F5-465B-93A8-356EB1052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160"/>
            <a:ext cx="1903680" cy="4554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440" y="6248160"/>
            <a:ext cx="1903320" cy="4554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6C79B-FC2D-4CF4-B060-4A280AEC98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63244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539640" y="1952640"/>
            <a:ext cx="7921800" cy="4147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a:t>
            </a:r>
            <a:r>
              <a:rPr b="1" lang="en-GB" sz="2400" spc="-1" strike="noStrike">
                <a:solidFill>
                  <a:srgbClr val="ff9933"/>
                </a:solidFill>
                <a:latin typeface="Times New Roman"/>
              </a:rPr>
              <a:t>5000</a:t>
            </a:r>
            <a:r>
              <a:rPr b="1" lang="en-GB" sz="2400" spc="-1" strike="noStrike">
                <a:solidFill>
                  <a:srgbClr val="ff9933"/>
                </a:solidFill>
                <a:latin typeface="Times New Roman"/>
              </a:rPr>
              <a:t> </a:t>
            </a:r>
            <a:r>
              <a:rPr b="1" lang="en-GB" sz="2400" spc="-1" strike="noStrike">
                <a:solidFill>
                  <a:srgbClr val="ff9933"/>
                </a:solidFill>
                <a:latin typeface="Times New Roman"/>
              </a:rPr>
              <a:t>euros uno de hombre y 200 uno de mujerl</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In the up paragraph, if you put the cursor in the beginning, the letters out on final, all is changed. And the “5000” is really in the beginning paragraph. If  you open the file with M$ Office, the 5000 is ok</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And signal puntuation “.?!: go out to the begining  if nothing go back it</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to</dc:creator>
  <dc:description/>
  <dc:language>en-US</dc:language>
  <cp:lastModifiedBy>Pc</cp:lastModifiedBy>
  <cp:revision>0</cp:revision>
  <dc:subject/>
  <dc:title>BUEN PRECIO</dc:title>
</cp:coreProperties>
</file>