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DEC-4A03-40FC-B273-197FAE37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086-D6EB-420A-8E22-C0F33E8E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64B-76F6-450D-8755-502B8E0B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DF3-E331-4FBD-BC7C-5F17CB69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336B-870B-4827-B4C0-54D8D9FB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6183-D5A4-4200-98BD-44224039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8CD1-FE00-44F1-9B3B-221A474A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5980-0E7E-4BDE-B03D-2CDB1432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B14D-7422-4494-A571-16DF6143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6847-A7CB-4F46-A958-1BE5A5CB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0DB7-A783-403D-A2B9-184DF2E7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1E9-E10E-454F-9A5E-DE23DFBD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F99B-26F9-43E4-9848-E50E252A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B147-1399-4B40-A005-D8019E0F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024B-9D75-46DB-B3F0-E88628ED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CF30-6ADA-4BE0-B7BC-13CD2A1C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0EC7-5EE4-4F78-B72F-AABF328D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3C7-53FC-4BA4-AD4D-4CFAF9C5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B76-FDF9-4FDA-ADF6-0BF4BB2A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07F-8395-4809-B040-25BCD108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FBE-124C-4650-B028-1CC7C388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EC2-17D9-4399-A0F6-A5080FFA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AF8-C46C-40CE-859B-6543EC71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78D-679A-409C-A759-4E9D8789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b5d4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eaeaea"/>
                </a:solidFill>
                <a:latin typeface="Verdan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eaeaea"/>
                </a:solidFill>
                <a:latin typeface="Verdana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eaeaea"/>
                </a:solidFill>
                <a:latin typeface="Verdana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D993-5747-48B8-8D81-9CF496C3DD04}" type="slidenum">
              <a:rPr b="0" lang="en-US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b5d4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eaeaea"/>
                </a:solidFill>
                <a:latin typeface="Verdan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eaeaea"/>
                </a:solidFill>
                <a:latin typeface="Verdan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0FAD-2E51-43B3-9F42-D946FD731884}" type="slidenum">
              <a:rPr b="0" lang="en-US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b5d4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64400" y="119160"/>
            <a:ext cx="66776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תוכנית עבודה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2005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- כיבוי וגילוי אש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887400"/>
            <a:ext cx="8237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ff"/>
                </a:solidFill>
                <a:latin typeface="Times New Roman"/>
                <a:cs typeface="David"/>
              </a:rPr>
              <a:t>ביצוע ביקורת מטפים, גלגלונים ופתחי מילוט בכל אתרי משרד התחבורה (כרגע בבדיקה האם תבוצע ע"י עובדי היחידה או ע"י קבלן)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ff"/>
                </a:solidFill>
                <a:latin typeface="Times New Roman"/>
                <a:cs typeface="David"/>
              </a:rPr>
              <a:t>ביצוע ביקורות למערכות גילוי אש שבאחריות משרד התחבורה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ff"/>
                </a:solidFill>
                <a:latin typeface="Times New Roman"/>
                <a:cs typeface="David"/>
              </a:rPr>
              <a:t>הקמת מסד נתונים שיאפשר מעקב אחר ביצוע ביקורות שנתיות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ff"/>
                </a:solidFill>
                <a:latin typeface="Times New Roman"/>
                <a:cs typeface="David"/>
              </a:rPr>
              <a:t>התקנת מערכות גילוי אש במס' אתרים בהם אין מערכת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ff"/>
                </a:solidFill>
                <a:latin typeface="Times New Roman"/>
                <a:cs typeface="David"/>
              </a:rPr>
              <a:t>חיבור כל האתרים בהם מערכת גילוי האש באחריות המשרד למוקד (המאוייש </a:t>
            </a:r>
            <a:r>
              <a:rPr b="1" lang="he-IL" sz="2700" spc="-1" strike="noStrike">
                <a:solidFill>
                  <a:srgbClr val="0000ff"/>
                </a:solidFill>
                <a:latin typeface="Times New Roman"/>
                <a:ea typeface="David"/>
              </a:rPr>
              <a:t>24</a:t>
            </a:r>
            <a:r>
              <a:rPr b="1" lang="he-IL" sz="2700" spc="-1" strike="noStrike">
                <a:solidFill>
                  <a:srgbClr val="0000ff"/>
                </a:solidFill>
                <a:latin typeface="Times New Roman"/>
                <a:ea typeface="David"/>
              </a:rPr>
              <a:t> שעות ביממה ע"מ התריע במקרה של שריפה)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1880" y="914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0066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1880" y="259092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0066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1880" y="34290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0066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1880" y="42670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ff0066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50292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0066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8:34:12Z</dcterms:created>
  <dc:creator>coheng</dc:creator>
  <dc:description/>
  <dc:language>en-US</dc:language>
  <cp:lastModifiedBy>ooo</cp:lastModifiedBy>
  <dcterms:modified xsi:type="dcterms:W3CDTF">2007-08-26T07:07:52Z</dcterms:modified>
  <cp:revision>79</cp:revision>
  <dc:subject/>
  <dc:title>מצגת של PowerPoint</dc:title>
</cp:coreProperties>
</file>