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9D4-759A-4AB1-ADE7-7CC7EF4F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6AF-5542-49B2-8746-73B9D7EE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A75-911B-4B34-A2D2-D4D147E3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AD3-C619-4EF6-BAB5-1ABA50FF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42C-F162-477D-9810-473C9D7E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3AF1-48AD-4C51-B44A-CAD0C09B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A5B-33A9-45B2-A32D-4CC162AE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98B-0832-4889-AE97-A323548C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9B5-9DFF-4074-B649-C071C6A0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95D-7FB8-40BB-A377-98B335C2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3E0-7B46-4484-9118-1750286C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52A3-4EFF-49E3-BED0-F36B6294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34F9-218D-451C-8019-EE011E9187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lide Transition X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o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mb Ver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ver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2000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ver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ver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9564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ver Le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ver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ver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ve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6728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ver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ver Lef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ver Lef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ver Lef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4000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ver Lef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ver Righ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04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ver Righ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ver Righ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9636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ver Righ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296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ut Through Bl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079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29600" y="5013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No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linds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296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ut Through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s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84464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29600" y="407664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issol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ade Smoot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781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31417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ade Smooth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ade Through 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71628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29600" y="22050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ade Through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wsfl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530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29600" y="126828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Newsfl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ush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5897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29600" y="333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ush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ush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56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ush Le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ush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ush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ush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4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ush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andom Bars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andom Bars Horizo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andom Bars 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728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164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linds Horizo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linds 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079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29600" y="5013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andom Bars Ver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hape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364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hape 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hape 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hape Diam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hape 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04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636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hape 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lit Horizontal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9636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plit Horizontal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lit Horizontal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plit Horizontal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lit Vertical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079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9600" y="5013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plit Vertical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lit Vertical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84464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29600" y="407664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plit Vertical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rips Lef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781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31417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rips Lef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rips Lef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71628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29600" y="22050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rips lef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rips Righ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6530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29600" y="126828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linds Ver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ox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4464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407664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rips Righ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rips Righ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5897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29600" y="333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rips Righ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cover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56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ncover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cover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2000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ncover Le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cover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4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ncover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cove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4836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ncover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cover Lef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ncover Lef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cover Lef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0364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ncover Lef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cover Righ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4036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4000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ncover Rig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cover Righ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ncover Righ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ox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ox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781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29600" y="31417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heel Clockwise, 1 Sp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296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heel Clockwise, 1 Sp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heel Clockwise, 2 Spo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9079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29600" y="5013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heel Clockwise, 2 Spo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heel Clockwise, 3 Spo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84464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29600" y="407664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heel Clockwise, 3 Spo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heel Clockwise, 4 Spo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781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29600" y="31417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heel Clockwise, 4 Spo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heel Clockwise, 8 Spo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71628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29600" y="22050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heel Clockwise, 8 Spo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pe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6530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29600" y="126828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pe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pe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5897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29600" y="333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pe Le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p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56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pe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p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5892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02000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pe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andom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ox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eckerboard A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71628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29600" y="22050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andom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4036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4000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heckerboard Acr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eckerboard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6530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126828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heckerboard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mb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897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29600" y="333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mb Horizo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mb 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56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10:29:22Z</dcterms:created>
  <dc:creator>Christian Günther</dc:creator>
  <dc:description/>
  <dc:language>en-US</dc:language>
  <cp:lastModifiedBy>Christian Günther</cp:lastModifiedBy>
  <dcterms:modified xsi:type="dcterms:W3CDTF">2001-12-07T12:01:40Z</dcterms:modified>
  <cp:revision>11</cp:revision>
  <dc:subject/>
  <dc:title>No Transition</dc:title>
</cp:coreProperties>
</file>