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2A38-E0E6-4E50-ACC7-9019F8C74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B2E7-6FBB-4A8A-88B6-4310623A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CBF2-5442-4A3C-9D1F-635570D78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25AC-42DC-47E1-B28F-292ED4E38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A5FC-719E-4ABA-AC26-38C58E51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7F17-F296-404E-B7F7-F4F63B11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B6E3-B537-4A91-8F09-021FA5CF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DA91-77F3-4DF5-B897-02CE1922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4592-485D-478F-97DE-A76CF5B4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B138-43EC-4A5A-A395-FFF92924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587C-F938-4392-9C57-A666B97F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2261-9691-4C4F-AE51-5209DBE2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5CA7-92A0-4294-9715-4748ADF4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6277-3595-4BD1-8CE6-122B2367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69E5-61F6-467D-9EE9-D8B65BBB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B85C-C819-4F67-BD29-84A04B7D6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48BF-BE5B-4802-89B2-281295CAE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52CF-3FD8-46DE-8278-E7784F1B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2301-21C7-4501-B203-67A7FE64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1225-CDC5-4423-A011-66EFC416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E1D1-FF9B-4014-80B5-B2E42851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C990-1D15-4854-878B-6262A6C1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B0A5-D4A5-4CFD-97EE-8C8ABEAE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7237-7EE9-4E03-BA4E-765496CC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5270-6B0B-4A47-841E-B1C837BD37A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962000" y="510552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lide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84D2-CA18-4EFF-B940-F836D19E4D1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1280" y="85716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itle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11:28:16Z</dcterms:created>
  <dc:creator>Christian Günther</dc:creator>
  <dc:description/>
  <dc:language>en-US</dc:language>
  <cp:lastModifiedBy>Christian Günther</cp:lastModifiedBy>
  <dcterms:modified xsi:type="dcterms:W3CDTF">2004-11-18T11:29:49Z</dcterms:modified>
  <cp:revision>1</cp:revision>
  <dc:subject/>
  <dc:title/>
</cp:coreProperties>
</file>