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777777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01520" y="152280"/>
            <a:ext cx="8940960" cy="6363000"/>
            <a:chOff x="101520" y="152280"/>
            <a:chExt cx="8940960" cy="6363000"/>
          </a:xfrm>
        </p:grpSpPr>
        <p:sp>
          <p:nvSpPr>
            <p:cNvPr id="2" name=""/>
            <p:cNvSpPr/>
            <p:nvPr/>
          </p:nvSpPr>
          <p:spPr>
            <a:xfrm>
              <a:off x="101520" y="152280"/>
              <a:ext cx="8940960" cy="2858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000000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54160" y="552600"/>
              <a:ext cx="8636040" cy="15228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000000"/>
                </a:gs>
                <a:gs pos="100000">
                  <a:srgbClr val="ffcc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1520" y="6419880"/>
              <a:ext cx="8940960" cy="95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63600" y="6305400"/>
              <a:ext cx="8416800" cy="381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777777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1520" y="1371600"/>
            <a:ext cx="8940960" cy="4762800"/>
            <a:chOff x="101520" y="1371600"/>
            <a:chExt cx="8940960" cy="4762800"/>
          </a:xfrm>
        </p:grpSpPr>
        <p:sp>
          <p:nvSpPr>
            <p:cNvPr id="46" name=""/>
            <p:cNvSpPr/>
            <p:nvPr/>
          </p:nvSpPr>
          <p:spPr>
            <a:xfrm>
              <a:off x="101520" y="1371600"/>
              <a:ext cx="8940960" cy="2858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000000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4160" y="1771560"/>
              <a:ext cx="8636040" cy="15228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000000"/>
                </a:gs>
                <a:gs pos="100000">
                  <a:srgbClr val="ffcc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01520" y="5924520"/>
              <a:ext cx="8940960" cy="209880"/>
              <a:chOff x="101520" y="5924520"/>
              <a:chExt cx="8940960" cy="209880"/>
            </a:xfrm>
          </p:grpSpPr>
          <p:sp>
            <p:nvSpPr>
              <p:cNvPr id="49" name=""/>
              <p:cNvSpPr/>
              <p:nvPr/>
            </p:nvSpPr>
            <p:spPr>
              <a:xfrm>
                <a:off x="101520" y="6039000"/>
                <a:ext cx="8940960" cy="95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63600" y="5924520"/>
                <a:ext cx="8416800" cy="381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7432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Impacting the World for Jesus </a:t>
            </a:r>
            <a:br>
              <a:rPr sz="4400"/>
            </a:br>
            <a:r>
              <a:rPr b="0" i="1" lang="en-US" sz="44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in the Year 2000</a:t>
            </a:r>
            <a:br>
              <a:rPr sz="4400"/>
            </a:br>
            <a:r>
              <a:rPr b="0" i="1" lang="en-US" sz="44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and bey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6560" y="6093000"/>
            <a:ext cx="22860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obert Whi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pin Crouse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19.528.62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239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Presentation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ingdom building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ing through a Trusted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-Repeatabl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ts before the 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7239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Projects i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ear 2000 “Simple compliance or Confident Certific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lobal Distributed Relationship Building and Tracking for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Bridges “Teaming with Execs and Techs to effectively communic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239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the minimum number of organizations that will lose the ability to perform financial trans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the impact for organizations that rely on technology to perform the min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will be the cost and impact of waiting until there is an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7239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Expected Impa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5% will have short-term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0% will have significant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5% will have organizatio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7239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tional Year 2000 Symposium ‘98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posing CPAs focused on Non-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leaning of National Ministr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inual updating of thos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7239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Re-Repeatab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eated to be rep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eated to ad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eate with non-profit organizations i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7239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ducating Senior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ftware based analysis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tailed check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ation to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ccc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ndor qualification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ademic Computing</dc:creator>
  <dc:description/>
  <dc:language>en-US</dc:language>
  <cp:lastModifiedBy>Benjamin Leppard</cp:lastModifiedBy>
  <cp:revision>0</cp:revision>
  <dc:subject/>
  <dc:title>Financial Review</dc:title>
</cp:coreProperties>
</file>