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7E9B-69CB-49F4-9064-3FC92AD3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1B2A-BDF0-493E-A314-3582A243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0BE9-695F-4530-B3E8-CFEDD90F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2A3-E84D-450A-9D17-201C36F7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8E0-F224-497F-BB9D-C33A9822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75B-8F95-418C-96E6-91656B15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19F4-C0D2-4BA3-9AFE-F9185C79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491-364A-4270-AADA-6CBE0557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27DD-60FC-4210-A170-2F015193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A0BD-6C27-41D3-9F0C-05D4B060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BE4-B5F4-43CC-9420-C68238A1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765D-E590-4F5C-ACE8-5A2E4751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FDCB-D1E8-441D-91C9-36F7FE2E3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52480" y="1599840"/>
            <a:ext cx="6324480" cy="2971800"/>
            <a:chOff x="1752480" y="1599840"/>
            <a:chExt cx="6324480" cy="29718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 rot="16200000">
              <a:off x="3428640" y="-76320"/>
              <a:ext cx="297180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6200000">
              <a:off x="3364560" y="158040"/>
              <a:ext cx="2818440" cy="5903640"/>
            </a:xfrm>
            <a:custGeom>
              <a:avLst/>
              <a:gdLst>
                <a:gd name="textAreaLeft" fmla="*/ 49680 w 2818440"/>
                <a:gd name="textAreaRight" fmla="*/ 2768760 w 2818440"/>
                <a:gd name="textAreaTop" fmla="*/ 49680 h 5903640"/>
                <a:gd name="textAreaBottom" fmla="*/ 5853960 h 5903640"/>
              </a:gdLst>
              <a:ahLst/>
              <a:rect l="textAreaLeft" t="textAreaTop" r="textAreaRight" b="textAreaBottom"/>
              <a:pathLst>
                <a:path w="21600" h="45241">
                  <a:moveTo>
                    <a:pt x="1302" y="0"/>
                  </a:moveTo>
                  <a:arcTo wR="1302" hR="1302" stAng="16200000" swAng="-5400000"/>
                  <a:lnTo>
                    <a:pt x="0" y="43939"/>
                  </a:lnTo>
                  <a:arcTo wR="1302" hR="1302" stAng="10800000" swAng="-5400000"/>
                  <a:lnTo>
                    <a:pt x="20298" y="45241"/>
                  </a:lnTo>
                  <a:arcTo wR="1302" hR="1302" stAng="5400000" swAng="-5400000"/>
                  <a:lnTo>
                    <a:pt x="21600" y="1302"/>
                  </a:lnTo>
                  <a:arcTo wR="1302" hR="1302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6200000">
              <a:off x="3372120" y="154080"/>
              <a:ext cx="2818440" cy="5906160"/>
            </a:xfrm>
            <a:custGeom>
              <a:avLst/>
              <a:gdLst>
                <a:gd name="textAreaLeft" fmla="*/ 49680 w 2818440"/>
                <a:gd name="textAreaRight" fmla="*/ 2768760 w 2818440"/>
                <a:gd name="textAreaTop" fmla="*/ 49680 h 5906160"/>
                <a:gd name="textAreaBottom" fmla="*/ 5856480 h 5906160"/>
              </a:gdLst>
              <a:ahLst/>
              <a:rect l="textAreaLeft" t="textAreaTop" r="textAreaRight" b="textAreaBottom"/>
              <a:pathLst>
                <a:path w="21600" h="45261">
                  <a:moveTo>
                    <a:pt x="1302" y="0"/>
                  </a:moveTo>
                  <a:arcTo wR="1302" hR="1302" stAng="16200000" swAng="-5400000"/>
                  <a:lnTo>
                    <a:pt x="0" y="43959"/>
                  </a:lnTo>
                  <a:arcTo wR="1302" hR="1302" stAng="10800000" swAng="-5400000"/>
                  <a:lnTo>
                    <a:pt x="20298" y="45261"/>
                  </a:lnTo>
                  <a:arcTo wR="1302" hR="1302" stAng="5400000" swAng="-5400000"/>
                  <a:lnTo>
                    <a:pt x="21600" y="1302"/>
                  </a:lnTo>
                  <a:arcTo wR="1302" hR="1302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3:54:03Z</dcterms:created>
  <dc:creator>Matt LaPlante</dc:creator>
  <dc:description/>
  <dc:language>en-US</dc:language>
  <cp:lastModifiedBy>Matt LaPlante</cp:lastModifiedBy>
  <dcterms:modified xsi:type="dcterms:W3CDTF">2008-05-26T14:07:06Z</dcterms:modified>
  <cp:revision>4</cp:revision>
  <dc:subject/>
  <dc:title>Slide 1</dc:title>
</cp:coreProperties>
</file>