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0C8-144B-472B-B5E4-6AF27AAC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4FC-8E54-49C4-9887-884BB79E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8ED-65F5-424C-A530-2569C01A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4736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83788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64736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83788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A34-106B-4954-89EC-B08F8867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99C-A556-4D0A-8806-7511BD87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6EB0-DCBD-44B8-9DC2-9D01C916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392-7544-49DD-B39F-162D3305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C6B1-A0F3-40DB-9D4A-DE25C009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C8CB-6275-4D7E-8E65-8B0BC049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0BE9-2BD8-4C12-AF5D-B9C5340C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5375-5AEB-4199-8A21-4630CB2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179-2A44-4DB3-AB34-4424D0FF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3B5E-6296-4D45-BA6D-B3DAD81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A3BA-9BD9-49E5-A673-3C41966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BD2D-75A2-4AA3-BF3B-D7C76BE1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633A-1B3C-4887-AB6A-9C3E1685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4736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3788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164736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283788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669-4819-408E-8477-DE87E13D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DB19-D4FF-42B3-8B48-93202DEB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8EEE-1B49-467F-8018-12890900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6D23-7615-4CE2-A26F-F427FEA1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B2ED-8CC5-4E32-B5C4-55F0D265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4DCA-8767-45BA-9E08-9B6C714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4CA-C4E7-4335-A43D-832670DD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BC0D-2FFB-4273-B8B2-F922E4E4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3337-CEC3-41F4-97CE-D7B115E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BDB2-0DA4-4841-883C-AC29FBB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B153-C3F1-4CE5-92CD-A4462DAA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08A6-E5AE-48EE-9AA3-EE1D233C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09FD-E224-4D06-BD9F-3EE0EFF9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64736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83788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164736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283788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6AED-B9D7-408F-AD6E-B40B9C7A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C97-3BEF-4B9D-8EDC-6854750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7E9-C871-4425-AC16-5EFE210B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8F2-5F9A-43BC-9362-E3E44D48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FFE-27D2-487F-BFBA-9BC1EC8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4CC-0726-447D-BD56-087AE3B3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8AC-FE10-4E0A-BF66-C3AFCE2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  <a:ea typeface="ＭＳ Ｐゴシック"/>
            </a:endParaRPr>
          </a:p>
        </p:txBody>
      </p:sp>
      <p:sp>
        <p:nvSpPr>
          <p:cNvPr id="1" name="正方形/長方形 3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  <a:ea typeface="ＭＳ Ｐゴシック"/>
            </a:endParaRPr>
          </a:p>
        </p:txBody>
      </p:sp>
      <p:sp>
        <p:nvSpPr>
          <p:cNvPr id="2" name="直線コネクタ 4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ja-JP" sz="4200" spc="-1" strike="noStrike" cap="all">
                <a:solidFill>
                  <a:srgbClr val="000000"/>
                </a:solidFill>
                <a:latin typeface="Trebuchet MS"/>
              </a:rPr>
              <a:t>マスタ タイトルの書式設定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0520" y="6558120"/>
            <a:ext cx="2003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16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400" y="6556320"/>
            <a:ext cx="58860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E22CE4-BE0B-4244-9026-49E684FDB607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  <a:ea typeface="ＭＳ Ｐゴシック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ja-JP" sz="3800" spc="-1" strike="noStrike" cap="all">
                <a:solidFill>
                  <a:srgbClr val="000000"/>
                </a:solidFill>
                <a:latin typeface="Trebuchet MS"/>
              </a:rPr>
              <a:t>マスタ タイトルの書式設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600" spc="-1" strike="noStrike">
                <a:solidFill>
                  <a:srgbClr val="000000"/>
                </a:solidFill>
                <a:latin typeface="Trebuchet MS"/>
              </a:rPr>
              <a:t>マスタ テキストの書式設定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ja-JP" sz="23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2 </a:t>
            </a:r>
            <a:r>
              <a:rPr b="0" lang="ja-JP" sz="23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ja-JP" sz="20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4 </a:t>
            </a:r>
            <a:r>
              <a:rPr b="0" lang="ja-JP" sz="20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5 </a:t>
            </a: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6560" y="6558120"/>
            <a:ext cx="20016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860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93FBCB-587E-438C-9AD8-C96569F4E41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正方形/長方形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  <a:ea typeface="ＭＳ Ｐゴシック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ja-JP" sz="3800" spc="-1" strike="noStrike" cap="all">
                <a:solidFill>
                  <a:srgbClr val="000000"/>
                </a:solidFill>
                <a:latin typeface="Trebuchet MS"/>
              </a:rPr>
              <a:t>マスタ タイトルの書式設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マスタ テキストの書式設定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ja-JP" sz="24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2 </a:t>
            </a:r>
            <a:r>
              <a:rPr b="0" lang="ja-JP" sz="24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ja-JP" sz="18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4 </a:t>
            </a:r>
            <a:r>
              <a:rPr b="0" lang="ja-JP" sz="18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5 </a:t>
            </a: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178880" y="1600200"/>
            <a:ext cx="35200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マスタ テキストの書式設定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ja-JP" sz="24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2 </a:t>
            </a:r>
            <a:r>
              <a:rPr b="0" lang="ja-JP" sz="24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ja-JP" sz="18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4 </a:t>
            </a:r>
            <a:r>
              <a:rPr b="0" lang="ja-JP" sz="18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5 </a:t>
            </a: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16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6251400" y="6556320"/>
            <a:ext cx="58860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02C234-4055-4E94-AE7B-B21FCC8B2D5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ankei.jp.msn.com/entertainments/entertainers/081014/tnr0810142104008-n1.ht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adlines.yahoo.co.jp/hl?a=20081014-00000840-reu-int" TargetMode="External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00240" y="642960"/>
            <a:ext cx="5105160" cy="182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ja-JP" sz="4000" spc="-1" strike="noStrike" cap="all">
                <a:solidFill>
                  <a:srgbClr val="000000"/>
                </a:solidFill>
                <a:latin typeface="Trebuchet MS"/>
              </a:rPr>
              <a:t>リア・ディゾンさん「できちゃった婚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286080" y="2928960"/>
            <a:ext cx="5114520" cy="1101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" rIns="4572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米国出身の歌手、</a:t>
            </a:r>
            <a:r>
              <a:rPr b="0" lang="ja-JP" sz="20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リア・ディゾン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さん（２２）が今月１０日に結婚していたことが１４日、分かった。関係者によると、相手は２０代後半の日本人スタイリストで、リアさんは現在、妊娠中。今後も芸能活動は続ける予定という。１４日夜、初の全国ツアーの最終公演を迎えた東京・渋谷のＯ－ＥＡＳＴで本人が明か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52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70000"/>
          </a:bodyPr>
          <a:p>
            <a:pPr indent="0">
              <a:lnSpc>
                <a:spcPct val="100000"/>
              </a:lnSpc>
              <a:buNone/>
            </a:pPr>
            <a:br>
              <a:rPr sz="3100"/>
            </a:br>
            <a:r>
              <a:rPr b="1" lang="ja-JP" sz="3100" spc="-1" strike="noStrike" cap="all">
                <a:solidFill>
                  <a:srgbClr val="000000"/>
                </a:solidFill>
                <a:latin typeface="Trebuchet MS"/>
              </a:rPr>
              <a:t>サッカー＝ベッカム邸の家政婦ら</a:t>
            </a:r>
            <a:r>
              <a:rPr b="1" lang="en-US" sz="3100" spc="-1" strike="noStrike" cap="all">
                <a:solidFill>
                  <a:srgbClr val="000000"/>
                </a:solidFill>
                <a:latin typeface="Trebuchet MS"/>
              </a:rPr>
              <a:t>2</a:t>
            </a:r>
            <a:r>
              <a:rPr b="1" lang="ja-JP" sz="3100" spc="-1" strike="noStrike" cap="all">
                <a:solidFill>
                  <a:srgbClr val="000000"/>
                </a:solidFill>
                <a:latin typeface="Trebuchet MS"/>
              </a:rPr>
              <a:t>人を逮捕、窃盗容疑で</a:t>
            </a:r>
            <a:br>
              <a:rPr sz="38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［ロンドン　１４日　ロイター］　「ベッキンガム宮殿」として知られる、サッカーのイングランド代表ＭＦデビッド・ベッカムと英歌手ビクトリア・ベッカム夫妻の英ハートフォードシャー州の邸宅で家政婦などとして働く２人が、夫妻の所有物を盗んだ容疑で逮捕されたと、メディアが１４日報じた。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　新聞報道によると、サッカーシューズ、スポーツウェアなどの個人アイテムがインターネット・オークションサイトの大手イーベイに出品されていたという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52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70000"/>
          </a:bodyPr>
          <a:p>
            <a:pPr indent="0">
              <a:lnSpc>
                <a:spcPct val="100000"/>
              </a:lnSpc>
              <a:buNone/>
            </a:pPr>
            <a:br>
              <a:rPr sz="3100"/>
            </a:br>
            <a:r>
              <a:rPr b="1" lang="ja-JP" sz="3100" spc="-1" strike="noStrike" cap="all">
                <a:solidFill>
                  <a:srgbClr val="000000"/>
                </a:solidFill>
                <a:latin typeface="Trebuchet MS"/>
              </a:rPr>
              <a:t>サッカー＝ベッカム邸の家政婦ら</a:t>
            </a:r>
            <a:r>
              <a:rPr b="1" lang="en-US" sz="3100" spc="-1" strike="noStrike" cap="all">
                <a:solidFill>
                  <a:srgbClr val="000000"/>
                </a:solidFill>
                <a:latin typeface="Trebuchet MS"/>
              </a:rPr>
              <a:t>2</a:t>
            </a:r>
            <a:r>
              <a:rPr b="1" lang="ja-JP" sz="3100" spc="-1" strike="noStrike" cap="all">
                <a:solidFill>
                  <a:srgbClr val="000000"/>
                </a:solidFill>
                <a:latin typeface="Trebuchet MS"/>
              </a:rPr>
              <a:t>人を逮捕、窃盗容疑で</a:t>
            </a:r>
            <a:br>
              <a:rPr sz="38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［ロンドン　１４日　ロイター］　「ベッキンガム宮殿」として知られる、サッカーのイングランド代表ＭＦデビッド・ベッカムと英歌手ビクトリア・ベッカム夫妻の英ハートフォードシャー州の邸宅で家政婦などとして働く２人が、夫妻の所有物を盗んだ容疑で逮捕されたと、メディアが１４日報じた。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　新聞報道によると、サッカーシューズ、スポーツウェアなどの個人アイテムがインターネット・オークションサイトの大手イーベイに出品されていたという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1143000"/>
            <a:ext cx="7241760" cy="99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18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ja-JP" sz="4000" spc="-1" strike="noStrike" cap="all">
                <a:solidFill>
                  <a:srgbClr val="000000"/>
                </a:solidFill>
                <a:latin typeface="Trebuchet MS"/>
              </a:rPr>
              <a:t>　</a:t>
            </a:r>
            <a:br>
              <a:rPr sz="4000"/>
            </a:br>
            <a:r>
              <a:rPr b="1" lang="ja-JP" sz="4000" spc="-1" strike="noStrike" cap="all">
                <a:solidFill>
                  <a:srgbClr val="000000"/>
                </a:solidFill>
                <a:latin typeface="Trebuchet MS"/>
              </a:rPr>
              <a:t>コードネームそのまま――「</a:t>
            </a:r>
            <a:r>
              <a:rPr b="1" lang="en-US" sz="4000" spc="-1" strike="noStrike" cap="all">
                <a:solidFill>
                  <a:srgbClr val="000000"/>
                </a:solidFill>
                <a:latin typeface="Trebuchet MS"/>
              </a:rPr>
              <a:t>Windows 7</a:t>
            </a:r>
            <a:r>
              <a:rPr b="1" lang="ja-JP" sz="4000" spc="-1" strike="noStrike" cap="all">
                <a:solidFill>
                  <a:srgbClr val="000000"/>
                </a:solidFill>
                <a:latin typeface="Trebuchet MS"/>
              </a:rPr>
              <a:t>」、正式名称に決定</a:t>
            </a:r>
            <a:br>
              <a:rPr sz="3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3520800" cy="4525560"/>
          </a:xfrm>
          <a:prstGeom prst="rect">
            <a:avLst/>
          </a:prstGeom>
          <a:solidFill>
            <a:schemeClr val="lt1"/>
          </a:solidFill>
          <a:ln w="39960">
            <a:solidFill>
              <a:srgbClr val="b83d68"/>
            </a:solidFill>
            <a:miter/>
          </a:ln>
        </p:spPr>
        <p:txBody>
          <a:bodyPr numCol="1" spcCol="0" anchor="t">
            <a:normAutofit fontScale="5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米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Microsoft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は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OS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Vista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に次ぐメジャーリリースの名称を「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」に決定した。これまで次期主力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OS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は「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」というコードネームで呼ばれていたが、それが正式名称としても使われることが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Vista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公式ブログで明かされた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　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は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Microsoft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開発者向けカンファレンスである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PDC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および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HEC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参加者に、デベロッパー専用リリースとして配布される予定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　同ブログによれば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Microsoft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が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OS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でコードネームをそのまま製品名に使うのはこれが初めてという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　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という名称に決めた理由は、「シンプルさ」にあると同ブログは説明。毎年リリースするわけではないので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95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98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2000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ように年を製品名に使えないこと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XP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や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Vista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ように「抱負」がこめられたものではなく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Vista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を継承し洗練させながら進化していくため、こうした名称も使いたくないことを考慮。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として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番目のリリースなので「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」とするのが妥当との結論に至ったという。</a:t>
            </a:r>
            <a:br>
              <a:rPr sz="2800"/>
            </a:b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78160" y="1928880"/>
            <a:ext cx="35208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85800" indent="-6858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ja-JP" sz="28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アルコール、飲むほどに脳が縮小＝米研究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85800" indent="-6858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アルコールを飲めば飲むほど脳が縮小するという研究結果が１３日、明らかになった。米マサチューセッツ州のウェルズリー大学のキャロル・アン・ポール氏が率いる研究チームが、神経学の専門誌「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chives of Neurology</a:t>
            </a: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」で発表した。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キュート">
  <a:themeElements>
    <a:clrScheme name="キュート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キュート">
  <a:themeElements>
    <a:clrScheme name="キュート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キュート">
  <a:themeElements>
    <a:clrScheme name="キュート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71</TotalTime>
  <Application>LibreOffice/7.4.7.2$Linux_X86_64 LibreOffice_project/40$Build-2</Application>
  <AppVersion>15.0000</AppVersion>
  <Words>211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2:30:03Z</dcterms:created>
  <dc:creator>標準ユーザー</dc:creator>
  <dc:description/>
  <dc:language>en-US</dc:language>
  <cp:lastModifiedBy>ohsumi</cp:lastModifiedBy>
  <dcterms:modified xsi:type="dcterms:W3CDTF">2008-11-10T06:29:25Z</dcterms:modified>
  <cp:revision>7</cp:revision>
  <dc:subject/>
  <dc:title>リア・ディゾンさん「できちゃった婚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画面に合わせる (4:3)</vt:lpwstr>
  </property>
  <property fmtid="{D5CDD505-2E9C-101B-9397-08002B2CF9AE}" pid="3" name="Slides">
    <vt:r8>4</vt:r8>
  </property>
</Properties>
</file>