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9DB-34D3-481B-8C6B-F0989C22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2B6-602C-4869-B7C2-FE5FC82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CFE-27BD-4D40-88E4-F7624DFF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F70-C122-4E57-B829-6F5485B0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130-2CC4-4584-A708-974E31D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1A5-A006-4711-98BA-1C4FC5C2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8C3-F6D9-4C84-BE54-FEB73AE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944-E8B6-4FA6-9B19-82CA2D90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00D-5D1E-418A-ACC8-EFE264C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1BD-D461-4D4E-A259-CE17E0CE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95B-B250-48CA-9D1C-D768DE5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607-8F21-483B-B9D1-BBAC5F1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3D5-04A8-4974-B86A-C8B70558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2920" y="2792520"/>
            <a:ext cx="1836720" cy="127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33:47Z</dcterms:created>
  <dc:creator>Moi</dc:creator>
  <dc:description/>
  <dc:language>en-US</dc:language>
  <cp:lastModifiedBy>Moi</cp:lastModifiedBy>
  <dcterms:modified xsi:type="dcterms:W3CDTF">2005-05-21T09:35:17Z</dcterms:modified>
  <cp:revision>1</cp:revision>
  <dc:subject/>
  <dc:title>cool</dc:title>
</cp:coreProperties>
</file>