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432-B643-4A3F-8FE5-08B722D2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AC7-5374-4190-AA25-65B080D6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24A-7E08-4D5F-999F-2DB441B0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E4A-50D1-4DFA-A6FC-4732DAAD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429-80C5-4711-8932-8332671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15C-43D5-4FED-B863-F8859AB5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19E-F959-4C40-9269-F67A7C9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FDB-1E39-4033-8060-E0A98E5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8CE-84D0-4D65-BEB0-DC0E8E25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9DF-62CE-4FF1-B9EF-1332ED5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8A5-03EA-4DF6-8C77-C52B2B5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09C-D132-48CF-B842-80B1319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9F2A2-CFA3-40B0-BEB1-2F685125A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bottom-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ottom-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op-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op-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3:03Z</dcterms:created>
  <dc:creator/>
  <dc:description/>
  <dc:language>en-US</dc:language>
  <cp:lastModifiedBy>sunying</cp:lastModifiedBy>
  <dcterms:modified xsi:type="dcterms:W3CDTF">2012-09-07T02:41:56Z</dcterms:modified>
  <cp:revision>3</cp:revision>
  <dc:subject/>
  <dc:title>Slide 1</dc:title>
</cp:coreProperties>
</file>