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92240" y="833400"/>
            <a:ext cx="5375160" cy="40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982440"/>
            <a:ext cx="823284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2351160"/>
            <a:ext cx="823284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e &amp; Achtergrond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Missie &amp; Visi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Enthousiasme &amp; zorgen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mbiti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Stand van zaken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Strategi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Risico’s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fhankelijkheden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Middelen &amp; Planning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Besluitvorming &amp; Communicati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320760" indent="-320760">
              <a:lnSpc>
                <a:spcPct val="85000"/>
              </a:lnSpc>
              <a:spcBef>
                <a:spcPts val="601"/>
              </a:spcBef>
              <a:buClr>
                <a:srgbClr val="f8e415"/>
              </a:buClr>
              <a:buFont typeface="Univers"/>
              <a:buChar char="•"/>
              <a:tabLst>
                <a:tab algn="l" pos="3366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fsluiting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m Voermans</dc:creator>
  <dc:description/>
  <dc:language>en-US</dc:language>
  <cp:lastModifiedBy/>
  <cp:revision>0</cp:revision>
  <dc:subject/>
  <dc:title/>
</cp:coreProperties>
</file>