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5EA5-6093-46B3-82FF-5E0ED53C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3561-E0E7-496C-98FA-5E54AF87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6251-51EE-4AE1-98F0-6175F190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942F-0226-4531-ABF2-A6BA27EE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9CC5-3309-4557-9720-D18487BA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530C-00C8-4DFD-A2AC-D0AA557F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D95A-D640-4D90-8A92-DACEB532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6434-8AB8-4A7C-82D1-19BD95FF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5A47-97F1-4DA6-AA73-0702179B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DDEB-EB00-476D-8C48-925DBF80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E814-1D3C-4DA0-A026-38B355A9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098F-B8F8-4844-84D7-49F6084D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5272-A52C-4D7B-92C9-B46BE46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5853-E240-4927-99A5-B9EBFB1A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8AB9-5610-4C73-B5BC-1A51BB8B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9854-F61E-48BB-BEF1-A33525AC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5B86-A5C3-499A-A6D4-D4BF5B5A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FE85-4C85-422B-A5B1-4A091F2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1AFF-3A72-4451-8C72-A859238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1691-AEC3-432F-9BB8-DE950133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8586-23DA-4C74-A59C-DAF0E040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1F73-F319-4E04-8DF3-4A59AB9E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4105-7BDB-49BC-84B9-D0873B0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D840-43E6-4A3B-9CF5-FD5CB644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B660-9FDC-4177-A1D9-82DF72E6B0AB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5527-36BF-47EE-BC3E-04D4CB8D90FA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ris.Liang@amd.com" TargetMode="External"/><Relationship Id="rId2" Type="http://schemas.openxmlformats.org/officeDocument/2006/relationships/hyperlink" Target="mailto:Lawrence.Liu@amd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Linux SB700 Driver Test (Basic)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Exit Repor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宋体"/>
              </a:rPr>
              <a:t>- IDE, RHEL5.1 RC i38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240" y="426672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Oct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  <a:ea typeface="宋体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, 200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Oct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  <a:ea typeface="宋体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, 200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Report prepared by Lawrence Li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Information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If there are any questions, please feel free to contact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ea typeface="宋体"/>
                <a:hlinkClick r:id="rId1"/>
              </a:rPr>
              <a:t>Harris.Liang@amd.com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or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ea typeface="宋体"/>
                <a:hlinkClick r:id="rId2"/>
              </a:rPr>
              <a:t>Lawrence.Liu@amd.com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ing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Platform Inf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Linux Distro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RHEL5.1 RC i38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Platform</a:t>
            </a:r>
            <a:r>
              <a:rPr b="1" lang="en-CA" sz="2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Shiner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Rev. 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</a:rPr>
              <a:t>Northbridge</a:t>
            </a: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+ </a:t>
            </a:r>
            <a:r>
              <a:rPr b="1" lang="en-CA" sz="2000" spc="-1" strike="noStrike">
                <a:solidFill>
                  <a:srgbClr val="ffffff"/>
                </a:solidFill>
                <a:latin typeface="Garamond"/>
              </a:rPr>
              <a:t>Southbridge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RX780 A11 + SB700 A11 + ALC885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P/N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102-B27711-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HW Level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BIOS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MSNA01-8 (08.00.14, 09/18/07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SB CIM revisions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2.00.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HyperDrive Option ROM Version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0001.00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ing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Garamond"/>
              </a:rPr>
              <a:t>System Configuratio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Garamond"/>
              </a:rPr>
              <a:t>CPU speed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  <a:ea typeface="宋体"/>
              </a:rPr>
              <a:t>Athlon 64 X2 4000+, G1, 2.1 GH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HT frequency: 1000 MH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Memory (SODIMM): Samsung 512MB 800MHz x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  <a:ea typeface="宋体"/>
              </a:rPr>
              <a:t>HDD: Seagate Barracuda 7200.9 80Gb (Desktop SA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ODD: Plextor PX-755SA DVD +/- RW Drive (SA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Issue Information at Test Ex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First test pass of IDE, REHL5.1 RC i386 on Shin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0 New issues were open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0 test items were block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0 items were skipp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New Open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New Active Issu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 Case Matri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See attached spreadsheet for test case resul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Some cases have comments that may be helpful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8120" y="2819520"/>
          <a:ext cx="914400" cy="68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914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 Case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5120" y="1600200"/>
          <a:ext cx="821232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00200"/>
                    <a:ext cx="821232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  <a:ea typeface="宋体"/>
              </a:rPr>
              <a:t>Test Case Results Per Bu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1447920"/>
          <a:ext cx="84409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4409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New / Closed Issues Per Bu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7320" y="1768320"/>
          <a:ext cx="874224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768320"/>
                    <a:ext cx="874224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Accumulative Issue Count Between Buil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73040" y="1744560"/>
          <a:ext cx="8196120" cy="45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44560"/>
                    <a:ext cx="819612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38:03Z</dcterms:created>
  <dc:creator>Wiler He</dc:creator>
  <dc:description/>
  <cp:keywords>BIOS validation report ppt</cp:keywords>
  <dc:language>en-US</dc:language>
  <cp:lastModifiedBy>laliu</cp:lastModifiedBy>
  <dcterms:modified xsi:type="dcterms:W3CDTF">2007-10-11T07:20:06Z</dcterms:modified>
  <cp:revision>350</cp:revision>
  <dc:subject/>
  <dc:title>Seahorse AMI D03 sbios release Test Exit Report</dc:title>
</cp:coreProperties>
</file>