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735-F0CA-4EB1-B625-E45A00B6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DA35-F11C-45A2-8F72-4A2F78E9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BB5C-DC98-46FD-91E7-C419EAD4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C9E-5C0F-407B-8925-14CF6EE0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3232-0C14-4F2B-9AAE-07FBDC97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731E-81CD-4EC6-A385-A4DB993E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FBFC-E896-48E3-9034-3E8A02D7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BDE9-977F-4480-9D16-D0B9CB7F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64DB-FBB0-4904-A5CA-D4F27B56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1FAC-35B5-42EF-AA28-4F4D3C1E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6E94-162C-4A7A-96CE-B23ADC25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585E-B29B-45F4-97E2-9F8F7FC9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099A-33E2-4EA0-9A5F-C828DE92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C2FC-D57A-425C-AC29-D4F9081E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D311-1F77-4766-94C5-21EABEA7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8F64-C1C8-4FDF-B4B4-6715FDA8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7134-DE7F-427F-89AA-3CF188D3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4555C-846B-4E37-9C82-6ABDFBD5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33BFA-DE28-4F97-B454-7419C8E8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EAB5D-2C3C-44CF-8C52-A753656F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EBED5-AD6B-444F-A416-3A5C9AB6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BD88E-DD50-42F0-A44B-7D6BBF5C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BB7A-51FA-4AC7-9868-B24087B5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1990D-01A7-4D6D-B666-ABE4E377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4ED5D-8FB6-4BC5-AEE2-6027D274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0B933-7405-4F4C-93AF-ADD26A48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AB9A2-84A4-4ABF-98E3-5EC20B0D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1616F-52C3-452B-A2A5-114A2FFF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C5058-46D9-4A56-AE2B-2C218671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A68DD-DF22-4213-9E59-94F0DAB0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F649F-85A3-40F1-AA2B-68C9C143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A9E0A-1D85-468C-99A4-7EA7C97C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778F6-B8A8-43CD-A6FD-0DF597A9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74F4-4A1E-45E2-85BD-96D284C8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232BA-A310-4FC6-A4CD-57338165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46E3F-C84F-4CDE-B8CD-1EDDC981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72829-2282-4456-BE46-1B28874E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88F7F-3AE1-47DD-BD91-4AE81419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21944-3173-4887-A9D9-A591676A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888A6-0063-422F-8BCE-AB6CA435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0AFCA-7CA2-49E8-B586-13FAA698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021EA-6633-4B95-A64F-0B294458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55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55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587DA-98A1-42CE-9903-DB1572E6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4A554-02DD-4BF7-8AB9-6130D0C0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602A-EF70-4BDC-8D03-932E9F7A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2EC92-FD39-40A0-BDE8-FB806664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E41E5-F03D-4724-A871-B5FEDC8E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EE75C-7F31-4DE8-AC02-9CA6A3A9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C3D57-4AC2-4055-85BD-E4B814E1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C4D74-7740-464D-AF4C-D4FF6B71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4BF0C-E595-4D21-969C-692F623B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7E419-0CA8-493D-B4DB-3CD76187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480F8-EFBE-41CA-816D-9F4A3EE5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D2723-C67E-4B16-8196-D72FD94D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B4D1A-F468-4911-B805-C01FEB44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9A17-40DA-4BBD-9E3C-4272D599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6940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55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29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6940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55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83D8B-746C-4E43-AD9F-70B5A0D2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7B0CC-A932-404D-8DF8-C03DADB6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91ED6-69E8-4844-8A0A-7BF394D1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92D9B-BCB2-4858-B5CA-208F999C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DCD16-3F05-45E9-B520-7ED0BF6E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B1C7D-1736-4970-9D0A-0963A155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122BE-A9F7-4453-9CB2-59C4CEF7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B2078-2888-4B1C-AFD3-A412520C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94A4C-299F-4B9D-AC09-36EE7FE3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B418F-7AB2-4325-A09A-35D0802E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86E4-07E8-4B8B-BC21-91215419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D60F2-EADD-4A1F-A4DC-047AC810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928D4-D308-4F10-8B17-AF123651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6940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55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29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6940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55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D1B6F-0BA8-450F-86DF-026102C2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0463B-E45C-4802-8499-E3648381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4DFB6-6C9E-4FF8-9894-5C43542F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5989C-F524-4BB9-935A-DF4D907B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D3468-3709-4791-82BE-D565352E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298E4-E07F-4592-8F5E-7DA024CE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EF947-6C6F-468C-B080-62D337AE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25434-530C-481D-B84E-2996D343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C004-6B12-480E-9B18-6D874931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DE867-BA3F-4A73-B86D-D7ABBEF2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47441-8843-4430-B0DD-4678373A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B5AAC-BAB9-4E5C-8FD3-C8C2DF0E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DEAC1-6F16-4692-B948-F57C63E9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6940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55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29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6940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55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87DA3-E205-4FD2-AD22-4161766E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C89F-C876-4D52-BCF6-07A0713E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BCDFF-C0D8-44D6-B72B-11A59128F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2E703-66AB-474B-A18D-A1140130059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8C275-9B8F-4661-B582-492C980FF7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25DA7-5E32-4BDA-9518-6E241A14A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4E9B0-FCD5-4F91-9FF7-2C03486A438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7F02D-A681-4A6D-8AE0-C492BA38CF9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09B8C-BCF5-457E-B62E-DEBF713B961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Header Title tex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02920" y="2160360"/>
            <a:ext cx="90709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lide content tex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4T22:56:02Z</dcterms:created>
  <dc:creator/>
  <dc:description/>
  <dc:language>en-US</dc:language>
  <cp:lastModifiedBy/>
  <dcterms:modified xsi:type="dcterms:W3CDTF">2012-06-14T23:13:37Z</dcterms:modified>
  <cp:revision>2</cp:revision>
  <dc:subject/>
  <dc:title/>
</cp:coreProperties>
</file>