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1C5-7DCB-435C-8998-2774E941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392-2F08-4DC1-83F4-FE279897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2F3-D6E8-4BF3-9A56-B7419902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D3B-9425-493C-AC9E-1AF83CF8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247-EBB8-4FF1-B111-2738EED5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E29-1C1E-447A-AE7E-6E6775E8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DAA-75BF-441D-91BC-8B822CB8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10A-5226-44A2-B73C-FE34479C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BEB-885A-4446-B67A-36576EE9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F27-3A5F-475A-B834-6AB84E1E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F7D-6091-4B6C-BB3A-788DC418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1C9-C30E-49B8-8BF3-1D1D6C22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7C87-8145-4F52-84B8-08461586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436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609588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ial load – little boxes to left of ASUCI Menu subheadings (such as Homepage, Entertainment, Government, etc.)  are 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4364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6095880"/>
            <a:ext cx="624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s good and seems to function properly after pressing Shift + Reload Butt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01:50:38Z</dcterms:created>
  <dc:creator>Terri Incollingo</dc:creator>
  <dc:description/>
  <dc:language>en-US</dc:language>
  <cp:lastModifiedBy>Terri Incollingo</cp:lastModifiedBy>
  <dcterms:modified xsi:type="dcterms:W3CDTF">2002-01-12T01:54:31Z</dcterms:modified>
  <cp:revision>2</cp:revision>
  <dc:subject/>
  <dc:title>PowerPoint Presentation</dc:title>
</cp:coreProperties>
</file>