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E1E37-562D-4EBE-A84A-89C32623E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Inser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From file: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3E5-A498-4000-A644-C1D42CD4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646-AC2F-4C8B-B1DA-F93B12F9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013-B7F4-421B-B30E-61DF6DB9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68C-2C86-40DA-9AD8-2BB6F1B3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38E-06D2-4DE2-8FED-52200109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7F8-924B-4C6E-8667-0E76FB70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EFB-9883-44A9-8E40-1B3F79F3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1CE-CEB1-4196-8D52-AED5848D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BE1-7BC9-4EA9-8B8E-37E09865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9FB-44A1-4286-B7B1-C78C87D0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FAD-470F-4F08-8BC1-BA0687CA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1C4-4AC5-460F-A7F5-0DD9EAD3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DFF1C-8646-43DA-A112-8BE861566C9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36640" y="1660680"/>
            <a:ext cx="5275440" cy="336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0:24:26Z</dcterms:created>
  <dc:creator>Lynn</dc:creator>
  <dc:description/>
  <dc:language>en-US</dc:language>
  <cp:lastModifiedBy>Lynn</cp:lastModifiedBy>
  <dcterms:modified xsi:type="dcterms:W3CDTF">2012-09-27T10:28:23Z</dcterms:modified>
  <cp:revision>5</cp:revision>
  <dc:subject/>
  <dc:title>Slide 1</dc:title>
</cp:coreProperties>
</file>