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3492-9544-4EFC-A5EF-3BC99D53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4077-0DFE-4885-87D3-5319FD24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BB07-E0B8-4DFC-A165-8D42E928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E9D4-603B-4A14-AF61-8AC4B018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ED2D-79B9-40B8-A467-6EA94B65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3B9D-A88B-4E30-A87D-A1D7A8BE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A017-FA81-4484-8372-566F8F1B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6381-11B0-4BF0-A838-25818210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D514-08DF-42B3-A493-279254ED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A073-C5E5-4F06-8F60-8182C168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EAD4-11A7-458A-A4DF-85A91555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4F34-1ADD-45C4-82F0-F63142FC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AE14-C660-4AB9-BEF3-A1AE9AE824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28840" y="2571840"/>
          <a:ext cx="6095880" cy="11127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04:29:51Z</dcterms:created>
  <dc:creator>mako</dc:creator>
  <dc:description/>
  <dc:language>en-US</dc:language>
  <cp:lastModifiedBy>mako</cp:lastModifiedBy>
  <dcterms:modified xsi:type="dcterms:W3CDTF">2010-01-06T04:33:34Z</dcterms:modified>
  <cp:revision>1</cp:revision>
  <dc:subject/>
  <dc:title>スライド 1</dc:title>
</cp:coreProperties>
</file>