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CE9-9C06-4162-ABA7-7CBE6DCF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AC1-4339-4612-9D8F-4128D55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66F-AB8C-47AC-AB37-7BC51FAE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349-0001-47E4-9714-1885CEE4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A37-AB80-42ED-9F17-23457F2E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DFA-28E9-43C6-8A34-F50F368F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710-1DDE-457E-AEF5-9C3ACBF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E4A-D4E0-4A75-945B-D3F4FB1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8DC-2531-4C81-9AED-FC69946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E53-620E-4F44-B699-02CB490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662-B88D-4871-925D-A86EB6A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8F5-B556-48B1-9181-FB3A771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DB0-9EB9-4E69-BEB0-DFAF2BC3C6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tandard Colors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Cambria"/>
                <a:ea typeface="Tahoma"/>
              </a:rPr>
              <a:t>dark red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ff0000"/>
                </a:solidFill>
                <a:latin typeface="Cambria"/>
                <a:ea typeface="Tahoma"/>
              </a:rPr>
              <a:t>red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ffc000"/>
                </a:solidFill>
                <a:latin typeface="Cambria"/>
                <a:ea typeface="Tahoma"/>
              </a:rPr>
              <a:t>orang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ffff00"/>
                </a:solidFill>
                <a:latin typeface="Cambria"/>
                <a:ea typeface="Tahoma"/>
              </a:rPr>
              <a:t>yellow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92d050"/>
                </a:solidFill>
                <a:latin typeface="Cambria"/>
                <a:ea typeface="Tahoma"/>
              </a:rPr>
              <a:t>light green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00b050"/>
                </a:solidFill>
                <a:latin typeface="Cambria"/>
                <a:ea typeface="Tahoma"/>
              </a:rPr>
              <a:t>green</a:t>
            </a:r>
            <a:br>
              <a:rPr sz="2400"/>
            </a:br>
            <a:r>
              <a:rPr b="0" lang="de-DE" sz="2400" spc="-1" strike="noStrike">
                <a:solidFill>
                  <a:srgbClr val="00b0f0"/>
                </a:solidFill>
                <a:latin typeface="Cambria"/>
                <a:ea typeface="Tahoma"/>
              </a:rPr>
              <a:t>light blue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0070c0"/>
                </a:solidFill>
                <a:latin typeface="Cambria"/>
                <a:ea typeface="Tahoma"/>
              </a:rPr>
              <a:t>blu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002060"/>
                </a:solidFill>
                <a:latin typeface="Cambria"/>
                <a:ea typeface="Tahoma"/>
              </a:rPr>
              <a:t>dark blue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7030a0"/>
                </a:solidFill>
                <a:latin typeface="Cambria"/>
                <a:ea typeface="Tahoma"/>
              </a:rPr>
              <a:t>purple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ome Office 2007 Theme Color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black – </a:t>
            </a:r>
            <a:r>
              <a:rPr b="0" lang="de-DE" sz="2400" spc="-1" strike="noStrike">
                <a:solidFill>
                  <a:srgbClr val="eeece1"/>
                </a:solidFill>
                <a:latin typeface="Cambria"/>
                <a:ea typeface="Tahoma"/>
              </a:rPr>
              <a:t>tan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1f497d"/>
                </a:solidFill>
                <a:latin typeface="Cambria"/>
                <a:ea typeface="Tahoma"/>
              </a:rPr>
              <a:t>dark blu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4f81bd"/>
                </a:solidFill>
                <a:latin typeface="Cambria"/>
                <a:ea typeface="Tahoma"/>
              </a:rPr>
              <a:t>blu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c0504d"/>
                </a:solidFill>
                <a:latin typeface="Cambria"/>
                <a:ea typeface="Tahoma"/>
              </a:rPr>
              <a:t>red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9bbb59"/>
                </a:solidFill>
                <a:latin typeface="Cambria"/>
                <a:ea typeface="Tahoma"/>
              </a:rPr>
              <a:t>olive green</a:t>
            </a:r>
            <a:br>
              <a:rPr sz="2400"/>
            </a:br>
            <a:r>
              <a:rPr b="0" lang="de-DE" sz="2400" spc="-1" strike="noStrike">
                <a:solidFill>
                  <a:srgbClr val="8064a2"/>
                </a:solidFill>
                <a:latin typeface="Cambria"/>
                <a:ea typeface="Tahoma"/>
              </a:rPr>
              <a:t>purpl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4bacc6"/>
                </a:solidFill>
                <a:latin typeface="Cambria"/>
                <a:ea typeface="Tahoma"/>
              </a:rPr>
              <a:t>aqua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f79646"/>
                </a:solidFill>
                <a:latin typeface="Cambria"/>
                <a:ea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Home&gt;Font&gt;Change Case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Sentence ca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lowerca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UPPERCA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Capitalize Each Word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tOGGLE cASE - tHE QUICK BROWN FOX JUMPS OVER THE LAZY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Home&gt;Font&gt;Character Spacing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Very Thight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Tight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Normal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Loo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Very Loo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Kerning for fonts by 78pt - The quick brown fox jumps over the lazy d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Kerning for fonts by 12pt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Character Spacing expanded by 5p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Character Spacing condensed by 1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Font Decoration Test 1: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800080"/>
                </a:solidFill>
                <a:latin typeface="Calibri"/>
              </a:rPr>
              <a:t>Fonts in Text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rial 28px normal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Calibri"/>
              </a:rPr>
              <a:t>Arial 14px under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alibri"/>
              </a:rPr>
              <a:t>Calibri 36px italic b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rier New 22px shad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 u="sng">
                <a:solidFill>
                  <a:srgbClr val="000000"/>
                </a:solidFill>
                <a:uFillTx/>
                <a:latin typeface="Book Antiqua"/>
              </a:rPr>
              <a:t>Book Antiqua 27px underl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Font Decoration Test 2: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800080"/>
                </a:solidFill>
                <a:latin typeface="Calibri"/>
              </a:rPr>
              <a:t>Fonts in Numb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Arial 28px b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Calibri"/>
              </a:rPr>
              <a:t>Calibri 14px underline ital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Tahoma"/>
              </a:rPr>
              <a:t>Tahoma 31px bol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Lucida Console"/>
              </a:rPr>
              <a:t>Lucida Console 26px sha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000000"/>
                </a:solidFill>
                <a:latin typeface="Calibri"/>
              </a:rPr>
              <a:t>Calibri 64px norma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47:23Z</dcterms:modified>
  <cp:revision>7</cp:revision>
  <dc:subject/>
  <dc:title>Standard Colors dark red – red – orange – yellow – light green – green light blue – blue – dark blue – purple  Some Office 2007 Theme Colors black – tan – dark blue – blue – red – olive green purple – aqua – orange</dc:title>
</cp:coreProperties>
</file>