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27400" algn="ctr">
              <a:spcAft>
                <a:spcPts val="201"/>
              </a:spcAft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27400" algn="ctr">
              <a:spcAft>
                <a:spcPts val="201"/>
              </a:spcAft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27400" algn="ctr">
              <a:spcAft>
                <a:spcPts val="201"/>
              </a:spcAft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27400" algn="ctr">
              <a:spcAft>
                <a:spcPts val="201"/>
              </a:spcAft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27400" algn="ctr">
              <a:spcAft>
                <a:spcPts val="201"/>
              </a:spcAft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27400" algn="ctr">
              <a:spcAft>
                <a:spcPts val="201"/>
              </a:spcAft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27400" algn="ctr">
              <a:spcAft>
                <a:spcPts val="201"/>
              </a:spcAft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27400" algn="ctr">
              <a:spcAft>
                <a:spcPts val="201"/>
              </a:spcAft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1144296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624132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-14658120"/>
            <a:ext cx="10464840" cy="19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4160880" indent="0" algn="ctr"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3120480" indent="0" algn="ctr">
              <a:spcAft>
                <a:spcPts val="201"/>
              </a:spcAft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3120480" algn="ctr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3120480" algn="ctr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3120480" algn="ctr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3120480" algn="ctr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312048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312048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5000"/>
          </a:bodyPr>
          <a:p>
            <a:pPr marL="636480" indent="-366840">
              <a:spcAft>
                <a:spcPts val="5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25280" indent="-366840">
              <a:spcAft>
                <a:spcPts val="5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13720" indent="-366840">
              <a:spcAft>
                <a:spcPts val="5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02520" indent="-366840">
              <a:spcAft>
                <a:spcPts val="5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190960" indent="-366840">
              <a:spcAft>
                <a:spcPts val="5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190960" indent="-366840">
              <a:spcAft>
                <a:spcPts val="5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190960" indent="-366840">
              <a:spcAft>
                <a:spcPts val="5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0160" indent="0"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0160" algn="ctr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0160" algn="ctr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0160" algn="ctr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0160" algn="ctr">
              <a:spcAft>
                <a:spcPts val="201"/>
              </a:spcAft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016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016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marL="56160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468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4740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9048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3320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332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332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marL="56160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468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4740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9048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33200" indent="-32364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332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332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63000"/>
          </a:bodyPr>
          <a:p>
            <a:pPr marL="471960" indent="-27180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9960" indent="-27180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47960" indent="-27180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5960" indent="-27180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3960" indent="-271800">
              <a:spcAft>
                <a:spcPts val="4000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3960" indent="-27180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3960" indent="-27180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121440" y="-1346040"/>
            <a:ext cx="8889840" cy="124459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328932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4027400" indent="0" algn="ctr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1562040"/>
              </a:tabLst>
            </a:pPr>
            <a:r>
              <a:rPr b="0" lang="en-US" sz="14400" spc="-1" strike="noStrike">
                <a:solidFill>
                  <a:srgbClr val="660003"/>
                </a:solidFill>
                <a:latin typeface="Morpheus"/>
              </a:rPr>
              <a:t>F r e e B S D</a:t>
            </a:r>
            <a:br>
              <a:rPr sz="9600"/>
            </a:br>
            <a:r>
              <a:rPr b="0" lang="en-US" sz="6400" spc="-1" strike="noStrike">
                <a:solidFill>
                  <a:srgbClr val="000000"/>
                </a:solidFill>
                <a:latin typeface="Morpheus"/>
              </a:rPr>
              <a:t>System Hardening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718812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marL="9362160" indent="0" algn="ctr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156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im Geoved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9362160" indent="0" algn="ctr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156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egative@toxic.magnesium.n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Microsoft</cp:lastModifiedBy>
  <dcterms:modified xsi:type="dcterms:W3CDTF">2004-02-10T03:45:08Z</dcterms:modified>
  <cp:revision>1</cp:revision>
  <dc:subject/>
  <dc:title>F r e e B S D System Hardening</dc:title>
</cp:coreProperties>
</file>