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C0D-1751-49DE-9F65-B335C93F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722-5EFC-4E65-8EA1-08799E48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66E-73DC-4402-870C-6F2DF297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391-F5A0-4B97-8067-EC94A28C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089-17EE-44CC-B2D2-0898B85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225-4805-4DBA-9DA8-BF8AF8B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52B-63EC-48E4-9282-5BE0EB9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B98-69B8-414E-B7A9-367661BA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FB7-5952-46FC-80B3-7AC23C39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A15-D962-471D-A758-DC262BAF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9FA-5317-4206-8CCF-4A5451A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CDC-5FC1-4E4B-988B-024173B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5FA10-F285-44BE-870D-717E7F712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9:26:13Z</dcterms:created>
  <dc:creator/>
  <dc:description/>
  <dc:language>en-US</dc:language>
  <cp:lastModifiedBy/>
  <cp:revision>0</cp:revision>
  <dc:subject/>
  <dc:title/>
</cp:coreProperties>
</file>