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0C1-F876-4285-8271-1945DF7C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4E2-EBA2-435D-BD72-95A04E4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FA2-BAE4-49CF-8752-4960E2C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4B3-CBC4-4BA9-A024-6510E67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AA3-B108-4F7B-893B-0B3F1826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28B-D3DA-45E8-BE5D-13DDC99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394-3156-4842-AB30-48D20E1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E8C-369C-4300-A6AF-A4ABEF2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D7A-AC20-4A48-965F-45619E9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D7A-D26F-4C76-AF19-B6CA502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A4B-8B48-40B3-BCFD-555E924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619-4A28-426C-9BC8-D97D5B6C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290161E-2EBC-4351-B201-BF83D4A5E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ng-term Go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intended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tomer Wish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customer needs and wi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ulfill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tomer Nee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main attributes of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the product attributes to custome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st Analys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financial advantages for the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quality and price with those of the 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rengths and Advantag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xt Steps of A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steps that now need to be t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3:07:13Z</dcterms:created>
  <dc:creator>Thomas Ng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