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039-8BF3-444D-AD9D-84E0E90B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6CC-7078-4046-8245-D74A03B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5F4-0F07-43DE-A75A-2DF7D1F4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035-DC67-420B-A831-679F51D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FC3-DB14-46B2-87B6-E7E64EB8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091-4C93-4E19-96F3-EA18092A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668-A8FB-441F-95CB-9535CD9C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E37-7684-4606-BBEC-4134399B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DE8-D4B3-4BC9-8BD2-E252EA8A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0F7-1DBA-40AB-8F8F-CD4C8B6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20A-AF9E-4B49-AE39-F75AFF10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526-3F58-4FF4-9BFA-513E3F13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9143-A7E2-4557-AD5B-A4360F5E8C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21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“…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2004’s hottest group..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-TIME Magazine, Jun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8684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“…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it’s a change..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-Pentecostal Herald, Oct.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99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4.9"/>
                                  </p:iterate>
                                  <p:childTnLst>
                                    <p:animScale>
                                      <p:cBhvr>
                                        <p:cTn id="15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2649"/>
                            </p:stCondLst>
                            <p:childTnLst>
                              <p:par>
                                <p:cTn id="22" nodeType="afterEffect" fill="hold" presetClass="exit" presetID="13" presetSubtype="16">
                                  <p:stCondLst>
                                    <p:cond delay="5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23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684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“…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out of control..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-New York Times, August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99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4.9"/>
                                  </p:iterate>
                                  <p:childTnLst>
                                    <p:animScale>
                                      <p:cBhvr>
                                        <p:cTn id="39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2550"/>
                            </p:stCondLst>
                            <p:childTnLst>
                              <p:par>
                                <p:cTn id="46" nodeType="afterEffect" fill="hold" presetClass="exit" presetID="13" presetSubtype="16">
                                  <p:stCondLst>
                                    <p:cond delay="5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7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5790960" cy="553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8880" y="5789880"/>
            <a:ext cx="85262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71158"/>
                </a:solidFill>
                <a:latin typeface="Times New Roman"/>
              </a:rPr>
              <a:t>Revolution Youth Minist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0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autoRev="1" nodeType="withEffect" fill="remove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3021120"/>
            <a:ext cx="866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present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99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4.9"/>
                                  </p:iterate>
                                  <p:childTnLst>
                                    <p:animScale>
                                      <p:cBhvr>
                                        <p:cTn id="71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2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3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4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13" presetSubtype="16">
                                  <p:stCondLst>
                                    <p:cond delay="5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7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16160"/>
            <a:ext cx="9144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800" spc="-1" strike="noStrike">
                <a:solidFill>
                  <a:srgbClr val="ff0000"/>
                </a:solidFill>
                <a:latin typeface="Arial"/>
              </a:rPr>
              <a:t>the aLtErNaTiVe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321000"/>
            <a:ext cx="65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a youth hang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T_SR</dc:creator>
  <dc:description/>
  <dc:language>en-US</dc:language>
  <cp:lastModifiedBy>ALT_SR</cp:lastModifiedBy>
  <cp:revision>0</cp:revision>
  <dc:subject/>
  <dc:title>Slide 1</dc:title>
</cp:coreProperties>
</file>