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6B95-0E77-4309-9CB0-C2D87BB0D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4C2A-B13E-4137-A249-B4E6A29FA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EFA6-72D1-46C3-9F9E-D5128449F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67F9-F955-4B6F-9ECF-ABF806257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6A2A-2CDC-4D27-8B6A-5CF85F69B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EB1C-DFF7-4A33-91EB-2B7C4B403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19C1-31A7-4E7F-8650-C9804D37D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BC1F-0D40-4CBA-A2BB-1E2CB52B3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405A-AA15-4937-BF9C-26D1BFEA3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DC78-6215-45A6-8165-A9B50DA91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2D63-DC9B-44A4-AD82-07C4F478D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B4B4-B98F-4BF6-BBA3-F21E6FF78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BBD39-1FC4-4FB0-8F05-62A231DBA3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9" descr="colombe"/>
          <p:cNvPicPr/>
          <p:nvPr/>
        </p:nvPicPr>
        <p:blipFill>
          <a:blip r:embed="rId1"/>
          <a:stretch/>
        </p:blipFill>
        <p:spPr>
          <a:xfrm flipH="1" rot="21233400">
            <a:off x="6179760" y="3246480"/>
            <a:ext cx="2035080" cy="21272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7T09:55:14Z</dcterms:created>
  <dc:creator>Ученик</dc:creator>
  <dc:description/>
  <dc:language>en-US</dc:language>
  <cp:lastModifiedBy>Ученик</cp:lastModifiedBy>
  <dcterms:modified xsi:type="dcterms:W3CDTF">2011-05-17T11:30:29Z</dcterms:modified>
  <cp:revision>4</cp:revision>
  <dc:subject/>
  <dc:title>Слайд 1</dc:title>
</cp:coreProperties>
</file>