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88FD49-58F6-4156-B613-2C39BA845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E3EE3-098E-430D-A3A8-F69C6821C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3087B-1707-43D0-81E8-D70EC9DE0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019E2F-0E72-4D37-9260-E7A56DFAC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84CAC8-C89A-414D-A5DA-0FCCB1CA04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3E8266-CCCE-4B12-85F6-2C03F03F5F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C2F104-2EC9-43B3-92FF-0C9F4FD75A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8FB7E0-E93B-44EE-8099-80301DE5C7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72075A-1DE2-4A95-8F10-0B21FAF4D3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085114-B7A6-4E0B-892C-ED40EE7B2C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A8B0B-AFA7-4CC0-9E67-464233BBCB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6961F-7B47-436E-989C-F53F0AD9A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81726-0D2B-4412-A9A3-8A0526C5A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6B53A-5A5E-45F9-852D-3EE2AEC29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609594-6E9D-4D71-8F14-7C92A7B19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3A708F-A7A4-450A-B688-79A1CA378D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799BE7-D70B-4F64-93E9-44CC249623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12A0E-EBD6-4CC4-AC61-88D7CA48D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D348B-8FB4-4B27-AC3B-A7F0209C6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B8E7E-6CC6-4AC5-BEE9-5CA80731C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77AB0-FFB0-46E5-BB15-46C1B519F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4A77C-0AC7-4C57-8D80-500266EAF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1130F-E8E6-4F01-8A5E-4EBD72DE6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FAA32-A499-460E-84C1-65AF9CA779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
          <p:cNvSpPr/>
          <p:nvPr/>
        </p:nvSpPr>
        <p:spPr>
          <a:xfrm>
            <a:off x="0" y="228600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533520" y="2819520"/>
            <a:ext cx="53316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1981080" y="533520"/>
            <a:ext cx="38124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762120" y="10666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143000" y="685800"/>
            <a:ext cx="38088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a:off x="2362320" y="1522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0" y="755640"/>
            <a:ext cx="5867280" cy="76320"/>
          </a:xfrm>
          <a:prstGeom prst="rect">
            <a:avLst/>
          </a:prstGeom>
          <a:noFill/>
          <a:ln w="57240">
            <a:solidFill>
              <a:srgbClr val="336699"/>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a:off x="5715000" y="609480"/>
            <a:ext cx="304920" cy="30492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a:off x="5562720" y="457200"/>
            <a:ext cx="304560" cy="3049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a:off x="8458200" y="3962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8686800" y="3657600"/>
            <a:ext cx="380880" cy="38088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2" name=""/>
          <p:cNvGrpSpPr/>
          <p:nvPr/>
        </p:nvGrpSpPr>
        <p:grpSpPr>
          <a:xfrm>
            <a:off x="0" y="2286000"/>
            <a:ext cx="1066680" cy="1066680"/>
            <a:chOff x="0" y="2286000"/>
            <a:chExt cx="1066680" cy="1066680"/>
          </a:xfrm>
        </p:grpSpPr>
        <p:sp>
          <p:nvSpPr>
            <p:cNvPr id="13" name=""/>
            <p:cNvSpPr/>
            <p:nvPr/>
          </p:nvSpPr>
          <p:spPr>
            <a:xfrm>
              <a:off x="0" y="2286000"/>
              <a:ext cx="533520" cy="53316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533520" y="281916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5"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16"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00128-D19E-477B-94E8-C3525FAC90AA}" type="datetime">
              <a:rPr b="0" lang="en-US" sz="1200" spc="-1" strike="noStrike">
                <a:solidFill>
                  <a:srgbClr val="b2b2b2"/>
                </a:solidFill>
                <a:latin typeface="Tahoma"/>
              </a:rPr>
              <a:t>07/31/26</a:t>
            </a:fld>
            <a:endParaRPr b="0" lang="en-US" sz="1200" spc="-1" strike="noStrike">
              <a:solidFill>
                <a:srgbClr val="ffffff"/>
              </a:solidFill>
              <a:latin typeface="Times New Roman"/>
            </a:endParaRPr>
          </a:p>
        </p:txBody>
      </p:sp>
      <p:sp>
        <p:nvSpPr>
          <p:cNvPr id="17"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18"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FE0FF-3A89-4565-B603-55AF32F76757}"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grpSp>
        <p:nvGrpSpPr>
          <p:cNvPr id="19" name=""/>
          <p:cNvGrpSpPr/>
          <p:nvPr/>
        </p:nvGrpSpPr>
        <p:grpSpPr>
          <a:xfrm>
            <a:off x="762120" y="152280"/>
            <a:ext cx="1981080" cy="1295640"/>
            <a:chOff x="762120" y="152280"/>
            <a:chExt cx="1981080" cy="1295640"/>
          </a:xfrm>
        </p:grpSpPr>
        <p:sp>
          <p:nvSpPr>
            <p:cNvPr id="20" name=""/>
            <p:cNvSpPr/>
            <p:nvPr/>
          </p:nvSpPr>
          <p:spPr>
            <a:xfrm>
              <a:off x="1981440" y="533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762120" y="1066680"/>
              <a:ext cx="380880" cy="38124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1143000" y="685800"/>
              <a:ext cx="381240" cy="38088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2362320" y="152280"/>
              <a:ext cx="380880" cy="38124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62"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3" name=""/>
          <p:cNvGrpSpPr/>
          <p:nvPr/>
        </p:nvGrpSpPr>
        <p:grpSpPr>
          <a:xfrm>
            <a:off x="533520" y="0"/>
            <a:ext cx="3276360" cy="2133720"/>
            <a:chOff x="533520" y="0"/>
            <a:chExt cx="3276360" cy="2133720"/>
          </a:xfrm>
        </p:grpSpPr>
        <p:sp>
          <p:nvSpPr>
            <p:cNvPr id="64"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7"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9"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70" name=""/>
          <p:cNvGrpSpPr/>
          <p:nvPr/>
        </p:nvGrpSpPr>
        <p:grpSpPr>
          <a:xfrm>
            <a:off x="533520" y="0"/>
            <a:ext cx="3276000" cy="2133720"/>
            <a:chOff x="533520" y="0"/>
            <a:chExt cx="3276000" cy="2133720"/>
          </a:xfrm>
        </p:grpSpPr>
        <p:sp>
          <p:nvSpPr>
            <p:cNvPr id="71"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2"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77"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35B07-D2E3-4BBA-A3C3-930A94A32B7A}" type="datetime">
              <a:rPr b="0" lang="en-US" sz="1200" spc="-1" strike="noStrike">
                <a:solidFill>
                  <a:srgbClr val="b2b2b2"/>
                </a:solidFill>
                <a:latin typeface="Tahoma"/>
              </a:rPr>
              <a:t>07/31/26</a:t>
            </a:fld>
            <a:endParaRPr b="0" lang="en-US" sz="1200" spc="-1" strike="noStrike">
              <a:solidFill>
                <a:srgbClr val="ffffff"/>
              </a:solidFill>
              <a:latin typeface="Times New Roman"/>
            </a:endParaRPr>
          </a:p>
        </p:txBody>
      </p:sp>
      <p:sp>
        <p:nvSpPr>
          <p:cNvPr id="81"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82"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8F8F2-3A3D-488D-8527-FFEBCBB9C6B1}"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ow Power Modes: HOLD MODE</a:t>
            </a:r>
            <a:endParaRPr b="0" lang="en-US" sz="4000" spc="-1" strike="noStrike">
              <a:solidFill>
                <a:srgbClr val="ffffff"/>
              </a:solidFill>
              <a:latin typeface="Tahoma"/>
            </a:endParaRPr>
          </a:p>
        </p:txBody>
      </p:sp>
      <p:sp>
        <p:nvSpPr>
          <p:cNvPr id="121"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Alma Sobol</a:t>
            </a:r>
            <a:endParaRPr b="0" lang="en-US" sz="2400" spc="-1" strike="noStrike">
              <a:solidFill>
                <a:srgbClr val="339966"/>
              </a:solidFill>
              <a:latin typeface="Tahoma"/>
            </a:endParaRPr>
          </a:p>
        </p:txBody>
      </p:sp>
      <p:sp>
        <p:nvSpPr>
          <p:cNvPr id="4" name="PlaceHolder 3"/>
          <p:cNvSpPr>
            <a:spLocks noGrp="1"/>
          </p:cNvSpPr>
          <p:nvPr>
            <p:ph type="sldNum" idx="6"/>
          </p:nvPr>
        </p:nvSpPr>
        <p:spPr/>
        <p:txBody>
          <a:bodyPr/>
          <a:p>
            <a:fld id="{52F4CE08-E588-4AAE-AF9E-7BB09F5575E9}" type="slidenum">
              <a:t>1</a:t>
            </a:fld>
          </a:p>
        </p:txBody>
      </p:sp>
      <p:sp>
        <p:nvSpPr>
          <p:cNvPr id="5" name="PlaceHolder 4"/>
          <p:cNvSpPr>
            <a:spLocks noGrp="1"/>
          </p:cNvSpPr>
          <p:nvPr>
            <p:ph type="dt" idx="4"/>
          </p:nvPr>
        </p:nvSpPr>
        <p:spPr/>
        <p:txBody>
          <a:bodyPr/>
          <a:p>
            <a:fld id="{B4DBA8AC-CE38-4B69-9FF3-3A5CDC6800AB}" type="datetime1">
              <a:rPr lang="en-US"/>
              <a:t>07/31/26</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ld Mode Overview</a:t>
            </a:r>
            <a:endParaRPr b="0" lang="en-US" sz="4000" spc="-1" strike="noStrike">
              <a:solidFill>
                <a:srgbClr val="ffffff"/>
              </a:solidFill>
              <a:latin typeface="Tahoma"/>
            </a:endParaRPr>
          </a:p>
        </p:txBody>
      </p:sp>
      <p:sp>
        <p:nvSpPr>
          <p:cNvPr id="12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ld mode defines a period of time in which the slave and master do not communicate. During this time, the master and slave units are free to do other activities, either get into Low Power mode, or page, inquire, perform scans, or attending another piconet.</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uring hold, the slave unit keeps it’s AM_ADDR which means it is still considered an active member of the piconet.</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1B1D4EC-E333-40E7-A00E-D456B33F1F6A}" type="slidenum">
              <a:t>2</a:t>
            </a:fld>
          </a:p>
        </p:txBody>
      </p:sp>
      <p:sp>
        <p:nvSpPr>
          <p:cNvPr id="5" name="PlaceHolder 4"/>
          <p:cNvSpPr>
            <a:spLocks noGrp="1"/>
          </p:cNvSpPr>
          <p:nvPr>
            <p:ph type="dt" idx="1"/>
          </p:nvPr>
        </p:nvSpPr>
        <p:spPr/>
        <p:txBody>
          <a:bodyPr/>
          <a:p>
            <a:fld id="{59CC46DB-23ED-401F-8417-578BF60D7EE4}" type="datetime1">
              <a:rPr lang="en-US"/>
              <a:t>07/31/26</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velr</cp:lastModifiedBy>
  <dcterms:modified xsi:type="dcterms:W3CDTF">2004-01-14T15:07:35Z</dcterms:modified>
  <cp:revision>66</cp:revision>
  <dc:subject/>
  <dc:title>PowerPoint Presentation</dc:title>
</cp:coreProperties>
</file>