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E0E-0ED4-4B2B-882C-335605FF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D94-EE4F-493B-96FF-08F8F83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E49-7AC4-4548-B263-E2E42C1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C7F-BB4E-43D0-A3CD-E1E6303A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99D-49B2-4636-823C-85D53B5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505-5FDB-4A46-85CA-BCF0F44A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6C1-562D-4288-950C-55A96A2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32D-C114-4F1B-91A3-11A833E3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D75-D63B-4C87-8CE6-4A665FC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B3D-9A73-4411-A8B7-7F1B195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917-4FB6-4189-8782-F96845C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393-56DC-459B-97CB-F4658FF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BA01-6B18-4DBD-B70E-6B7D030E36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avidMF"/>
              </a:rPr>
              <a:t>מצגת פשוטה בעבר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לבדיקת ייצוא למיקרוסופט אופי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בדיקת רשימה עבר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טקסט עבר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עוד קצת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וגם מספור עברי (מוזר משה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מה יקרה בסו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215640" algn="r" rtl="1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אם הכל יעבור בסד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215640" algn="r" rtl="1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ה זה הפונט הזעי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אחד אחרון ודי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שושנה פורבס</dc:creator>
  <dc:description/>
  <dc:language>en-US</dc:language>
  <cp:lastModifiedBy>שושנה פורבס</cp:lastModifiedBy>
  <cp:revision>0</cp:revision>
  <dc:subject/>
  <dc:title/>
</cp:coreProperties>
</file>