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85F-9A25-4949-8655-5FF5A105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B12-3D8F-44F6-A2B4-1208226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A28-C5C0-4FCE-BDEE-C7CB8F67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182-CC04-488C-B4EA-A4C75F92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21C-9C1A-40D5-91B4-8FB37448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B77-AD52-4DFA-835A-1D7A59ED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6EA-C405-412E-B14C-23D97387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508-F126-4FB5-8879-3B834C3A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55B-67A7-4A48-8B3D-7BE79D8E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884-FA82-497B-B08D-F8331FEE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E49-0EEE-4EE7-AD08-DF530F2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EEB-1E8F-49FD-938B-5812291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8007A9-0C8C-4113-9A0A-7801027A96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low are the test focus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osen Effect:      Exit_Zoom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ffect Property:    Properties\Exit\Settings\Zoom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y Value:  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1905120"/>
            <a:ext cx="1269720" cy="1269720"/>
          </a:xfrm>
          <a:prstGeom prst="star5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080" y="635040"/>
            <a:ext cx="1666800" cy="6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0707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 Black"/>
              </a:rPr>
              <a:t>word arts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07070"/>
                  </a:gs>
                  <a:gs pos="100000">
                    <a:srgbClr val="ffff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35040" y="63504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352520" y="1368360"/>
            <a:ext cx="2373480" cy="2341800"/>
            <a:chOff x="1352520" y="1368360"/>
            <a:chExt cx="2373480" cy="2341800"/>
          </a:xfrm>
        </p:grpSpPr>
        <p:sp>
          <p:nvSpPr>
            <p:cNvPr id="47" name=""/>
            <p:cNvSpPr/>
            <p:nvPr/>
          </p:nvSpPr>
          <p:spPr>
            <a:xfrm>
              <a:off x="2063880" y="1701720"/>
              <a:ext cx="950760" cy="9511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cap="sq"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13080" y="1368360"/>
              <a:ext cx="2523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25680" y="2063880"/>
              <a:ext cx="950760" cy="9507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cap="sq"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3280" y="2421000"/>
              <a:ext cx="252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63880" y="2425680"/>
              <a:ext cx="950760" cy="9507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cap="sq"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13080" y="3473280"/>
              <a:ext cx="25236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01720" y="2063880"/>
              <a:ext cx="951120" cy="9507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cap="sq"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52520" y="2421000"/>
              <a:ext cx="2523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5:39:05Z</dcterms:created>
  <dc:creator>Yolanda</dc:creator>
  <dc:description/>
  <dc:language>en-US</dc:language>
  <cp:lastModifiedBy>Yolanda</cp:lastModifiedBy>
  <dcterms:modified xsi:type="dcterms:W3CDTF">2006-04-29T08:57:35Z</dcterms:modified>
  <cp:revision>2</cp:revision>
  <dc:subject/>
  <dc:title>Below are the test focus   Chosen Effect:      Entrance_Zoom Effect Property:    Properties\Exit\Settings\Zoom Property Value:     Out</dc:title>
</cp:coreProperties>
</file>