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1D2-C6D7-49C1-9868-A57A00DC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610-790E-44C6-BC79-7C486FC8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802-D865-4AF9-BF7A-650AA94F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515-D8AB-47B9-8ED3-444C8956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859-1E35-4D56-AE5A-A544FCF1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FB6-9CE5-46B4-A00A-791625EA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F47-B2C8-45B0-8507-50DAB36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5A5-C9AF-431F-95A4-51216B6F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17C-FEFD-4A79-BCDE-15AF812A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22C-5D6C-4257-AC7F-8E0559B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F8B-AB89-446A-8998-90EDFC4C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C85-6665-45EE-AC0B-4CCFDE0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DD48E-B127-4D96-8C89-741CBD396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23:08:52Z</dcterms:created>
  <dc:creator/>
  <dc:description/>
  <dc:language>en-US</dc:language>
  <cp:lastModifiedBy/>
  <cp:revision>1</cp:revision>
  <dc:subject/>
  <dc:title/>
</cp:coreProperties>
</file>