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6B1EA-1730-468D-93C8-D599558D2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8B7B7-B3DC-4E03-B9BB-2C319BA80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F0D84-0951-4F1C-9AAA-9EF3E0FC3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C33DC-44BC-497F-8BA5-AF2F1FD2D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3FF86-9322-42CB-8C66-F10926B63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5E06D-9841-4EDD-B28F-E9C9E27BF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83BE4-B831-41F0-890D-739E2DF33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178BF-5279-48CC-8102-EC5104CE6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E0659-314A-43D5-8529-8AA25146A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5FBFF-1D87-457E-A506-C79C1D43D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0B7EE-7A43-4CF2-AAF9-8D0EEE993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ECEF0-B0F5-41F2-AD90-B15245A8D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D83FA-CE06-4ED7-8BEA-C8F41BB6F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D314E-4F48-4667-9C1C-09849CB7F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16BA4-1019-4B1C-B1EF-D04F2C8B7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590D8-A704-4D86-9901-7283496C3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341EE-471F-4E21-85D9-4032625D4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6B030-DBC4-4303-97E5-F80518737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FFB46-1B3B-4427-8F5B-297CF8E42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F2B6-A42B-4898-8CB1-42F102758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B0918-0B58-43AE-BAD8-C1F6C7E6C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96DF-141C-4823-B15B-36F594A0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2B512-DF86-466D-87FA-70062564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92A4D-CE13-4012-894E-85891AAEC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2F26-9254-472E-BB4F-0FC6301A458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04E4-8B3C-428D-AD06-84CE006F63A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Click to edit the outline text format</a:t>
            </a:r>
            <a:endParaRPr b="0" lang="en-US" sz="2800" spc="-1" strike="noStrike">
              <a:solidFill>
                <a:srgbClr val="009c98"/>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9c9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50000">
                <a:srgbClr val="a603ab"/>
              </a:gs>
              <a:gs pos="100000">
                <a:srgbClr val="a603ab"/>
              </a:gs>
            </a:gsLst>
            <a:lin ang="1080000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50000">
                <a:srgbClr val="a603ab"/>
              </a:gs>
              <a:gs pos="100000">
                <a:srgbClr val="a603ab"/>
              </a:gs>
            </a:gsLst>
            <a:lin ang="8100000"/>
          </a:gra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pe07677_" descr=""/>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
          <p:cNvGraphicFramePr/>
          <p:nvPr/>
        </p:nvGraphicFramePr>
        <p:xfrm>
          <a:off x="2133720" y="3181320"/>
          <a:ext cx="4724280" cy="765360"/>
        </p:xfrm>
        <a:graphic>
          <a:graphicData uri="http://schemas.openxmlformats.org/presentationml/2006/ole">
            <p:oleObj progId="Excel.Sheet.12" r:id="rId1" spid="">
              <p:embed/>
              <p:pic>
                <p:nvPicPr>
                  <p:cNvPr id="126" name=""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
          <p:cNvGraphicFramePr/>
          <p:nvPr/>
        </p:nvGraphicFramePr>
        <p:xfrm>
          <a:off x="914400" y="2362320"/>
          <a:ext cx="3924360" cy="3733560"/>
        </p:xfrm>
        <a:graphic>
          <a:graphicData uri="http://schemas.openxmlformats.org/presentationml/2006/ole">
            <p:oleObj r:id="rId1" spid="">
              <p:embed/>
              <p:pic>
                <p:nvPicPr>
                  <p:cNvPr id="129" name="" descr=""/>
                  <p:cNvPicPr/>
                  <p:nvPr/>
                </p:nvPicPr>
                <p:blipFill>
                  <a:blip r:embed="rId2"/>
                  <a:stretch/>
                </p:blipFill>
                <p:spPr>
                  <a:xfrm>
                    <a:off x="914400" y="2362320"/>
                    <a:ext cx="3924360" cy="3733560"/>
                  </a:xfrm>
                  <a:prstGeom prst="rect">
                    <a:avLst/>
                  </a:prstGeom>
                  <a:ln w="0">
                    <a:noFill/>
                  </a:ln>
                </p:spPr>
              </p:pic>
            </p:oleObj>
          </a:graphicData>
        </a:graphic>
      </p:graphicFrame>
      <p:pic>
        <p:nvPicPr>
          <p:cNvPr id="130" name="" descr=""/>
          <p:cNvPicPr/>
          <p:nvPr/>
        </p:nvPicPr>
        <p:blipFill>
          <a:blip r:embed="rId3"/>
          <a:stretch/>
        </p:blipFill>
        <p:spPr>
          <a:xfrm>
            <a:off x="611280" y="2090880"/>
            <a:ext cx="8304120" cy="463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2" name=""/>
          <p:cNvGraphicFramePr/>
          <p:nvPr/>
        </p:nvGraphicFramePr>
        <p:xfrm>
          <a:off x="762120" y="2249640"/>
          <a:ext cx="8076960" cy="4384440"/>
        </p:xfrm>
        <a:graphic>
          <a:graphicData uri="http://schemas.openxmlformats.org/presentationml/2006/ole">
            <p:oleObj progId="Excel.Sheet.12" r:id="rId1" spid="">
              <p:embed/>
              <p:pic>
                <p:nvPicPr>
                  <p:cNvPr id="133" name=""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IASTED</cp:lastModifiedBy>
  <dcterms:modified xsi:type="dcterms:W3CDTF">2001-12-13T00:32:39Z</dcterms:modified>
  <cp:revision>37</cp:revision>
  <dc:subject/>
  <dc:title>PowerPoint Presentation</dc:title>
</cp:coreProperties>
</file>