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79C-2B46-458D-A0D1-C518F2EB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09B-F253-4E0E-B5BC-FD2204DD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76F-5C27-4CE1-87E5-13DBFD78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1E8-EAE6-48AB-A32A-BE1D4F02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722-E1BF-4859-8E77-A100C293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FF8-AAC8-49A1-816C-5890A34C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9D5-DB11-40D5-A46C-09A82CD3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801-C88F-4624-95DB-E4737237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9CC-8B15-402C-B16F-61A95C1C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893-38F7-4478-A31F-E84BF92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036-437E-4967-97A3-13147281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9A3-3F79-4699-B155-01F4C40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CAF6-7B2C-440C-ACBA-FD5B29A938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52480" y="1143000"/>
            <a:ext cx="26672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06:34Z</dcterms:created>
  <dc:creator>apple</dc:creator>
  <dc:description/>
  <dc:language>en-US</dc:language>
  <cp:lastModifiedBy>apple</cp:lastModifiedBy>
  <dcterms:modified xsi:type="dcterms:W3CDTF">2010-03-03T18:08:47Z</dcterms:modified>
  <cp:revision>1</cp:revision>
  <dc:subject/>
  <dc:title>Slide 1</dc:title>
</cp:coreProperties>
</file>