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7784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720" y="4716000"/>
            <a:ext cx="53323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7784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E8431-ADCE-4F2F-97E9-CC1BF66757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52480" y="7444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7456-DB82-4765-BF4F-831260587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0538-F3C9-42DC-9AD6-67EDF0E46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B969-81AB-40BA-B92E-E027F81BE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888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124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6652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888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124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4314-924E-4509-8298-26580AD3B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E975-1B84-4165-9F55-A1BDC0F6A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FF83-0D2E-444F-9922-0A61C07D6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2A60-AAB1-4F93-A493-4132B9330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306E-6E57-4A1B-BBAA-ABA64FF79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800" y="115920"/>
            <a:ext cx="8059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19BD-0BA1-484E-8F6F-E55C2B025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793F-A0D9-465D-97C1-40CE97C32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360F-23BB-4574-89EC-A23B4FEF8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C3EB-FEEF-4295-A10B-DBDE7FC7B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5080" y="843120"/>
            <a:ext cx="8278920" cy="36360"/>
          </a:xfrm>
          <a:prstGeom prst="rect">
            <a:avLst/>
          </a:prstGeom>
          <a:solidFill>
            <a:srgbClr val="aea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5080" y="779400"/>
            <a:ext cx="8278920" cy="36720"/>
          </a:xfrm>
          <a:prstGeom prst="rect">
            <a:avLst/>
          </a:prstGeom>
          <a:solidFill>
            <a:srgbClr val="d81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84840" y="6578640"/>
            <a:ext cx="655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66D8E7-2473-4925-B34A-F7B541AFB9A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12040" y="77760"/>
            <a:ext cx="831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2585a"/>
                </a:solidFill>
                <a:latin typeface="Arial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4210200"/>
            <a:ext cx="6848280" cy="217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800" y="214920"/>
            <a:ext cx="80596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sfd as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0920" y="907920"/>
            <a:ext cx="3948120" cy="297000"/>
          </a:xfrm>
          <a:prstGeom prst="rect">
            <a:avLst/>
          </a:prstGeom>
          <a:solidFill>
            <a:srgbClr val="3333cc"/>
          </a:solidFill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0" bIns="0" anchor="ctr">
            <a:noAutofit/>
          </a:bodyPr>
          <a:p>
            <a:pPr marL="270000" indent="-270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lety rozwiąz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2080" y="1197000"/>
            <a:ext cx="3926160" cy="2879640"/>
          </a:xfrm>
          <a:prstGeom prst="rect">
            <a:avLst/>
          </a:prstGeom>
          <a:solidFill>
            <a:srgbClr val="eaeaea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noAutofit/>
          </a:bodyPr>
          <a:p>
            <a:pPr marL="270000" indent="-270000">
              <a:lnSpc>
                <a:spcPct val="10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■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o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907920"/>
            <a:ext cx="3948120" cy="297000"/>
          </a:xfrm>
          <a:prstGeom prst="rect">
            <a:avLst/>
          </a:prstGeom>
          <a:solidFill>
            <a:srgbClr val="3333cc"/>
          </a:solidFill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0" bIns="0" anchor="ctr">
            <a:noAutofit/>
          </a:bodyPr>
          <a:p>
            <a:pPr marL="270000" indent="-270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dy rozwiąz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41720" y="1197000"/>
            <a:ext cx="3926160" cy="2887560"/>
          </a:xfrm>
          <a:prstGeom prst="rect">
            <a:avLst/>
          </a:prstGeom>
          <a:solidFill>
            <a:srgbClr val="eaeaea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noAutofit/>
          </a:bodyPr>
          <a:p>
            <a:pPr marL="270000" indent="-270000">
              <a:lnSpc>
                <a:spcPct val="10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■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b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22100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gólna ocena spełnienia wymaga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411280" y="6093000"/>
            <a:ext cx="6307200" cy="215640"/>
            <a:chOff x="2411280" y="6093000"/>
            <a:chExt cx="6307200" cy="215640"/>
          </a:xfrm>
        </p:grpSpPr>
        <p:sp>
          <p:nvSpPr>
            <p:cNvPr id="59" name=""/>
            <p:cNvSpPr/>
            <p:nvPr/>
          </p:nvSpPr>
          <p:spPr>
            <a:xfrm>
              <a:off x="241128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Sd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6236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S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840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S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7820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asd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1164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Prff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236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Ff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2748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Daaató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4160" y="6093000"/>
              <a:ext cx="447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dddn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164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Fffgl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208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fasd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224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asd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7856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1200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Poczas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8684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Inne funkcj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684360" y="4608360"/>
            <a:ext cx="3276720" cy="162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0960" y="5300640"/>
            <a:ext cx="743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69,26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2F2A-B8E5-4DB0-AE80-356409325E5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ek Banaśkiewicz</dc:creator>
  <dc:description/>
  <dc:language>en-US</dc:language>
  <cp:lastModifiedBy>Jakub Nadolny</cp:lastModifiedBy>
  <dcterms:modified xsi:type="dcterms:W3CDTF">2006-06-12T12:03:18Z</dcterms:modified>
  <cp:revision>227</cp:revision>
  <dc:subject/>
  <dc:title>Zarząd - listopda 2005</dc:title>
</cp:coreProperties>
</file>