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E0D-D640-451D-AA13-B50AFC3D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2A1-F013-4571-B4D6-E6B6AD36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44E-3DF3-494C-A443-29CEA5BF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C7B-B480-455B-BE02-55150222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427-39BA-4ED1-91D9-C764439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FD6-F377-4742-ACA0-8650F23D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ECE-94AF-4F8E-8EB4-5BB40398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3A4-96E2-48E4-BFF8-4EE55CE1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77A-10AF-4389-BE63-43470A1D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1D1-671B-467C-9EA9-42C9233C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323-9552-408B-A7B8-8A364414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B00-9EBE-4F2A-B48A-E03D2E6B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76FB-05BF-4F0B-A65D-4EB44A04F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1TODAY_2"/>
          <p:cNvSpPr/>
          <p:nvPr/>
        </p:nvSpPr>
        <p:spPr>
          <a:xfrm>
            <a:off x="2627280" y="112536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ETIME_2"/>
          <p:cNvSpPr/>
          <p:nvPr/>
        </p:nvSpPr>
        <p:spPr>
          <a:xfrm>
            <a:off x="4859280" y="12682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:51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LLERSINQ_2"/>
          <p:cNvSpPr/>
          <p:nvPr/>
        </p:nvSpPr>
        <p:spPr>
          <a:xfrm>
            <a:off x="5003640" y="191628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IRSTCLI_2"/>
          <p:cNvSpPr/>
          <p:nvPr/>
        </p:nvSpPr>
        <p:spPr>
          <a:xfrm>
            <a:off x="3276720" y="328464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LI in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AP 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6:26:26Z</dcterms:created>
  <dc:creator>Mike Weston</dc:creator>
  <dc:description/>
  <dc:language>en-US</dc:language>
  <cp:lastModifiedBy>Mike Weston</cp:lastModifiedBy>
  <dcterms:modified xsi:type="dcterms:W3CDTF">2005-05-09T08:55:23Z</dcterms:modified>
  <cp:revision>10</cp:revision>
  <dc:subject/>
  <dc:title>Slide 1</dc:title>
</cp:coreProperties>
</file>