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4E2-8823-460E-A086-3787A650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B2C-E80B-4B67-823D-46E95D5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4B5-221F-48A6-905F-6DBC5488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ADE-8FD9-4942-8D18-3F7E607B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E93-3269-497D-84B5-496DA506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FE6-4043-4126-AB93-D7FE927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1A7-68F7-4EFE-98D2-56E15C18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3FB-2FA0-48E5-817F-8EDB9EA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52E-FCAC-41C9-B593-C1019E8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766-9474-4C8B-ACDA-CB08C59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5F0-DD8B-4396-AE9A-D6B0E09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F64-CEA3-40B5-BBC1-C7C502F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198-3E48-46D1-B58D-74AC7397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80996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ript MT Bold"/>
              </a:rPr>
              <a:t>Mengenal MS Office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1219320"/>
            <a:ext cx="4724280" cy="1169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9:09:00Z</dcterms:created>
  <dc:creator>win</dc:creator>
  <dc:description/>
  <dc:language>en-US</dc:language>
  <cp:lastModifiedBy>windows</cp:lastModifiedBy>
  <dcterms:modified xsi:type="dcterms:W3CDTF">2005-05-23T07:56:23Z</dcterms:modified>
  <cp:revision>6</cp:revision>
  <dc:subject/>
  <dc:title>Slide 1</dc:title>
</cp:coreProperties>
</file>