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E9B-E716-43C7-A37C-0603C24B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779-D250-491E-B2A8-74174612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126-C40B-4FE8-B3A5-6C65F301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480-842D-42F3-8A3E-6BA19242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0D0-087A-4E39-BDA3-B9EFCE59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4BF-1D80-4996-8677-B6E921B6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CAB-D144-4CDB-82DB-AC9040DF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6D1-3A8F-4FAB-8A82-D074FE9F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52A-5A8B-4D10-B5FC-B9889A97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C6B-6A80-489E-B2FD-6F726C9F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833-470A-45AE-A3F6-223B6A1A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419-94CF-4BCB-9B6D-53DA9D4D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E9842-FA02-4BFB-873F-5AFEE9764F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2520" y="4579920"/>
            <a:ext cx="2014560" cy="12272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29240" y="3679920"/>
            <a:ext cx="2014560" cy="1226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73960" y="2311560"/>
            <a:ext cx="2014560" cy="1226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1" idx="6"/>
            <a:endCxn id="43" idx="4"/>
          </p:cNvCxnSpPr>
          <p:nvPr/>
        </p:nvCxnSpPr>
        <p:spPr>
          <a:xfrm flipV="1">
            <a:off x="4267080" y="3538440"/>
            <a:ext cx="3314520" cy="1655640"/>
          </a:xfrm>
          <a:prstGeom prst="curved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3" idx="2"/>
          </p:cNvCxnSpPr>
          <p:nvPr/>
        </p:nvCxnSpPr>
        <p:spPr>
          <a:xfrm flipH="1" rot="10800000">
            <a:off x="2252520" y="2925000"/>
            <a:ext cx="4321800" cy="2269080"/>
          </a:xfrm>
          <a:prstGeom prst="bentConnector3">
            <a:avLst>
              <a:gd name="adj1" fmla="val -5356"/>
            </a:avLst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1" idx="6"/>
            <a:endCxn id="41" idx="6"/>
          </p:cNvCxnSpPr>
          <p:nvPr/>
        </p:nvCxnSpPr>
        <p:spPr>
          <a:xfrm rot="16200000">
            <a:off x="4267080" y="5193720"/>
            <a:ext cx="360" cy="360"/>
          </a:xfrm>
          <a:prstGeom prst="curved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7" name=""/>
          <p:cNvCxnSpPr>
            <a:stCxn id="41" idx="0"/>
            <a:endCxn id="42" idx="2"/>
          </p:cNvCxnSpPr>
          <p:nvPr/>
        </p:nvCxnSpPr>
        <p:spPr>
          <a:xfrm flipV="1">
            <a:off x="3259800" y="4293360"/>
            <a:ext cx="1369800" cy="286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yosti Anttonen</dc:creator>
  <dc:description/>
  <dc:language>en-US</dc:language>
  <cp:lastModifiedBy>Kyosti Anttonen</cp:lastModifiedBy>
  <cp:revision>0</cp:revision>
  <dc:subject/>
  <dc:title/>
</cp:coreProperties>
</file>