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3C4-BE89-4200-857C-2BFABBCD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532-ADFE-4180-BE0F-BEDCD957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1F7-B811-4D81-80A6-9FDFA414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B3C-E346-47B6-B6D2-C4089FB9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2928-6883-4CA7-9244-0C572C92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3AD7-099A-4C6B-9372-9A0A9BF2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A253-CDFD-43F4-ACA0-70C19C79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7635-B891-4216-9B05-A988231A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79CD-33A2-47B5-B819-6CCC5C87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FB0C-6005-4151-B38B-91FF2D0E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0FD1-0238-4BD9-A49B-3F21A44E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880-1FB4-4EF4-81A7-CB55D390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E9A1-4CBE-4091-918E-4230608D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18E0-7D35-47A3-A80F-FCCCB3C5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FAC3-953C-4CD1-80E4-E03549DD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253B-78D2-401D-ACA4-7BEA2DDB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9787-7788-4D61-9251-E6B60FCC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8C5-5334-4144-941F-033D8461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A23-6002-41BF-828D-D2C78FEC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8A9-CAE1-43CC-A774-A46B1A2B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C5B-9A9C-4435-8502-70BB46A8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E20-94DC-4B91-9D51-9D3AC406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0E0-EC3F-4069-91D1-ADBC1F64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C4A-07C7-428B-AF0C-5CF5581D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AcroRd.PIF DocRef1A.PDF" TargetMode="External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hyperlink" Target="TC.PIF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66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8f8f8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8f8f8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5724360" y="6267600"/>
            <a:ext cx="895680" cy="514080"/>
          </a:xfrm>
          <a:prstGeom prst="rect">
            <a:avLst/>
          </a:prstGeom>
          <a:solidFill>
            <a:srgbClr val="8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7449-6454-49C9-8947-038CF5D9611D}" type="slidenum">
              <a:rPr b="1" lang="fr-FR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8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66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33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">
            <a:hlinkClick r:id="" action="ppaction://hlinkshowjump?jump=endshow"/>
          </p:cNvPr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solidFill>
            <a:srgbClr val="8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solidFill>
            <a:srgbClr val="33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solidFill>
            <a:srgbClr val="3366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solidFill>
            <a:srgbClr val="3366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solidFill>
            <a:srgbClr val="33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378240"/>
            <a:ext cx="533520" cy="496800"/>
          </a:xfrm>
          <a:prstGeom prst="rect">
            <a:avLst/>
          </a:prstGeom>
          <a:ln w="0">
            <a:noFill/>
          </a:ln>
        </p:spPr>
      </p:pic>
      <p:sp>
        <p:nvSpPr>
          <p:cNvPr id="23" name=""/>
          <p:cNvSpPr/>
          <p:nvPr/>
        </p:nvSpPr>
        <p:spPr>
          <a:xfrm>
            <a:off x="0" y="3352680"/>
            <a:ext cx="53352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4" name=""/>
          <p:cNvGraphicFramePr/>
          <p:nvPr/>
        </p:nvGraphicFramePr>
        <p:xfrm>
          <a:off x="560520" y="3898800"/>
          <a:ext cx="47916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520" y="3898800"/>
                    <a:ext cx="479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" name=""/>
          <p:cNvSpPr/>
          <p:nvPr/>
        </p:nvSpPr>
        <p:spPr>
          <a:xfrm>
            <a:off x="533520" y="3886200"/>
            <a:ext cx="53316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1600200"/>
            <a:ext cx="53316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533520"/>
            <a:ext cx="533520" cy="533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066680"/>
            <a:ext cx="53316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33520"/>
            <a:ext cx="533520" cy="533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0"/>
            <a:ext cx="53316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solidFill>
            <a:srgbClr val="3366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1600200"/>
            <a:ext cx="533160" cy="533520"/>
          </a:xfrm>
          <a:prstGeom prst="rect">
            <a:avLst/>
          </a:prstGeom>
          <a:solidFill>
            <a:srgbClr val="8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33520"/>
            <a:ext cx="533520" cy="533160"/>
          </a:xfrm>
          <a:prstGeom prst="rect">
            <a:avLst/>
          </a:prstGeom>
          <a:solidFill>
            <a:srgbClr val="8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066680"/>
            <a:ext cx="533160" cy="533520"/>
          </a:xfrm>
          <a:prstGeom prst="rect">
            <a:avLst/>
          </a:prstGeom>
          <a:solidFill>
            <a:srgbClr val="33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533520"/>
            <a:ext cx="533520" cy="53316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0"/>
            <a:ext cx="533160" cy="533520"/>
          </a:xfrm>
          <a:prstGeom prst="rect">
            <a:avLst/>
          </a:prstGeom>
          <a:solidFill>
            <a:srgbClr val="33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8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8f8f8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8f8f8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5724360" y="6267600"/>
            <a:ext cx="895680" cy="514080"/>
          </a:xfrm>
          <a:prstGeom prst="rect">
            <a:avLst/>
          </a:prstGeom>
          <a:solidFill>
            <a:srgbClr val="8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D6FF-B5B3-460B-9764-BECE869CC31E}" type="slidenum">
              <a:rPr b="1" lang="fr-FR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2" marL="914400" algn="ctr">
              <a:spcBef>
                <a:spcPts val="45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" Target="slide3.xml"/><Relationship Id="rId16" Type="http://schemas.openxmlformats.org/officeDocument/2006/relationships/slide" Target="slide16.xml"/><Relationship Id="rId17" Type="http://schemas.openxmlformats.org/officeDocument/2006/relationships/slide" Target="slide16.xml"/><Relationship Id="rId18" Type="http://schemas.openxmlformats.org/officeDocument/2006/relationships/slide" Target="slide16.xml"/><Relationship Id="rId19" Type="http://schemas.openxmlformats.org/officeDocument/2006/relationships/slide" Target="slide16.xml"/><Relationship Id="rId20" Type="http://schemas.openxmlformats.org/officeDocument/2006/relationships/slide" Target="slide17.xml"/><Relationship Id="rId21" Type="http://schemas.openxmlformats.org/officeDocument/2006/relationships/slide" Target="slide17.xml"/><Relationship Id="rId22" Type="http://schemas.openxmlformats.org/officeDocument/2006/relationships/slide" Target="slide17.xml"/><Relationship Id="rId23" Type="http://schemas.openxmlformats.org/officeDocument/2006/relationships/slide" Target="slide17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"/><Relationship Id="rId3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Informatique Industrielle</a:t>
            </a:r>
            <a:br>
              <a:rPr sz="3600"/>
            </a:b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Programmation – Langage C</a:t>
            </a:r>
            <a:br>
              <a:rPr sz="3600"/>
            </a:b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(I1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ff"/>
                </a:solidFill>
                <a:latin typeface="Arial Narrow"/>
              </a:rPr>
              <a:t>Université François Rabelais de Tours</a:t>
            </a: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ff"/>
                </a:solidFill>
                <a:latin typeface="Arial Narrow"/>
              </a:rPr>
              <a:t>I.U.T. département G.E.I.I.</a:t>
            </a: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ff"/>
                </a:solidFill>
                <a:latin typeface="Arial Narrow"/>
              </a:rPr>
              <a:t>1</a:t>
            </a:r>
            <a:r>
              <a:rPr b="0" lang="fr-FR" sz="2000" spc="-1" strike="noStrike" baseline="30000">
                <a:solidFill>
                  <a:srgbClr val="99ccff"/>
                </a:solidFill>
                <a:latin typeface="Arial Narrow"/>
              </a:rPr>
              <a:t>ère</a:t>
            </a:r>
            <a:r>
              <a:rPr b="0" lang="fr-FR" sz="2000" spc="-1" strike="noStrike">
                <a:solidFill>
                  <a:srgbClr val="99ccff"/>
                </a:solidFill>
                <a:latin typeface="Arial Narrow"/>
              </a:rPr>
              <a:t> année – 1</a:t>
            </a:r>
            <a:r>
              <a:rPr b="0" lang="fr-FR" sz="2000" spc="-1" strike="noStrike" baseline="30000">
                <a:solidFill>
                  <a:srgbClr val="99ccff"/>
                </a:solidFill>
                <a:latin typeface="Arial Narrow"/>
              </a:rPr>
              <a:t>er</a:t>
            </a:r>
            <a:r>
              <a:rPr b="0" lang="fr-FR" sz="2000" spc="-1" strike="noStrike">
                <a:solidFill>
                  <a:srgbClr val="99ccff"/>
                </a:solidFill>
                <a:latin typeface="Arial Narrow"/>
              </a:rPr>
              <a:t> semestre – S1</a:t>
            </a: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ff"/>
                </a:solidFill>
                <a:latin typeface="Arial Narrow"/>
              </a:rPr>
              <a:t>2006/2007 – Pierre POISSON</a:t>
            </a: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48160" y="380880"/>
            <a:ext cx="289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Bibliographi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1219320"/>
            <a:ext cx="681192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DAX Philippe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 – </a:t>
            </a:r>
            <a:r>
              <a:rPr b="0" i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Langage C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, 4</a:t>
            </a:r>
            <a:r>
              <a:rPr b="0" lang="fr-FR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ème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 édition, Eyrolles, 1986, 172 pa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DELANNOY Claude 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– </a:t>
            </a:r>
            <a:r>
              <a:rPr b="0" i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Le livre du C premier langage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, Eyrolles, 1996, 272 pa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JAMSA Kris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 – Toute la puissance de C++ en quarante leçons, Elektor-Publitronic, 1999, 250 pa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KERNIGHAN B.W. et RITCHIE D.M. 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– </a:t>
            </a:r>
            <a:r>
              <a:rPr b="0" i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Le langage C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, Masson, 1984, 218 pa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MALLET F. et BOERI F.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 – </a:t>
            </a:r>
            <a:r>
              <a:rPr b="0" i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Informatique industrielle et Java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, Dunod, 2003, 176 pa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ZHANG T.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 - </a:t>
            </a:r>
            <a:r>
              <a:rPr b="0" i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Le langage C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, CampusPress (collection : Le Tout En Poche), 02/2005, 480 pa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3440" y="2031840"/>
            <a:ext cx="8015040" cy="2963880"/>
          </a:xfrm>
          <a:prstGeom prst="rect">
            <a:avLst/>
          </a:prstGeom>
          <a:solidFill>
            <a:srgbClr val="8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Cet ouvrage intéressera celui qui désire maîtriser le langage C mais ne conviendra probablement pas à l'étudiant de 1</a:t>
            </a:r>
            <a:r>
              <a:rPr b="0" lang="fr-FR" sz="20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ère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année qui découvre le C. Ph. DAX s'adresse aux informaticiens, en particulier ceux qui connaissent Pascal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'introduction, dans laquelle Ph. DAX nous livre le point de vue d'un informaticien dans les années 1980, retient l'attention du lecteur. L'historique du langage C et ses particularités par rapport aux autres langages y sont clairement expliqué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'index de ce livre lui donne tout son intérêt car il permet d'obtenir rapidement des informations complémentaires sur un point donné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48160" y="380880"/>
            <a:ext cx="289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Bibliographi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219320"/>
            <a:ext cx="68137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 action="ppaction://hlinksldjump"/>
              </a:rPr>
              <a:t>DAX Philippe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3" action="ppaction://hlinksldjump"/>
              </a:rPr>
              <a:t> –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 action="ppaction://hlinksldjump"/>
              </a:rPr>
              <a:t>Langage C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5" action="ppaction://hlinksldjump"/>
              </a:rPr>
              <a:t>, 4</a:t>
            </a:r>
            <a:r>
              <a:rPr b="0" lang="fr-FR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  <a:hlinkClick r:id="rId6" action="ppaction://hlinksldjump"/>
              </a:rPr>
              <a:t>ème</a:t>
            </a:r>
            <a:r>
              <a:rPr b="0" lang="fr-FR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  <a:hlinkClick r:id="rId7" action="ppaction://hlinksldjump"/>
              </a:rPr>
              <a:t> édition, </a:t>
            </a:r>
            <a:r>
              <a:rPr b="0" lang="fr-FR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  <a:hlinkClick r:id="rId8" action="ppaction://hlinksldjump"/>
              </a:rPr>
              <a:t>Eyrolles</a:t>
            </a:r>
            <a:r>
              <a:rPr b="0" lang="fr-FR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  <a:hlinkClick r:id="rId9" action="ppaction://hlinksldjump"/>
              </a:rPr>
              <a:t>, 1986, 172 pages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marL="332640" indent="-33264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0" action="ppaction://hlinksldjump"/>
              </a:rPr>
              <a:t>DELANNOY Claude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1" action="ppaction://hlinksldjump"/>
              </a:rPr>
              <a:t>–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2" action="ppaction://hlinksldjump"/>
              </a:rPr>
              <a:t>Le livre du C premier langage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3" action="ppaction://hlinksldjump"/>
              </a:rPr>
              <a:t>,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4" action="ppaction://hlinksldjump"/>
              </a:rPr>
              <a:t>Eyrolles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5" action="ppaction://hlinksldjump"/>
              </a:rPr>
              <a:t>, 1996, 272 pages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marL="332640" indent="-33264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6" action="ppaction://hlinksldjump"/>
              </a:rPr>
              <a:t>JAMSA Kris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7" action="ppaction://hlinksldjump"/>
              </a:rPr>
              <a:t> – Toute la puissance de C++ en quarante leçons,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8" action="ppaction://hlinksldjump"/>
              </a:rPr>
              <a:t>Elektor-Publitronic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9" action="ppaction://hlinksldjump"/>
              </a:rPr>
              <a:t>, 1999, 250 pages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marL="332640" indent="-33264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0" action="ppaction://hlinksldjump"/>
              </a:rPr>
              <a:t>KERNIGHAN B.W. et RITCHIE D.M.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1" action="ppaction://hlinksldjump"/>
              </a:rPr>
              <a:t>–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2" action="ppaction://hlinksldjump"/>
              </a:rPr>
              <a:t>Le langage C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3" action="ppaction://hlinksldjump"/>
              </a:rPr>
              <a:t>, Masson, 1984, 218 pages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marL="332640" indent="-33264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4" action="ppaction://hlinksldjump"/>
              </a:rPr>
              <a:t>MALLET F. et BOERI F.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5" action="ppaction://hlinksldjump"/>
              </a:rPr>
              <a:t> –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6" action="ppaction://hlinksldjump"/>
              </a:rPr>
              <a:t>Informatique industrielle et Java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7" action="ppaction://hlinksldjump"/>
              </a:rPr>
              <a:t>,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8" action="ppaction://hlinksldjump"/>
              </a:rPr>
              <a:t>Dunod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9" action="ppaction://hlinksldjump"/>
              </a:rPr>
              <a:t>, 2003, 176 pages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marL="332640" indent="-33264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ZHANG T.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 - </a:t>
            </a:r>
            <a:r>
              <a:rPr b="0" i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Le langage C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, CampusPress (collection : Le Tout En Poche), 02/2005, 480 pages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703440" y="2905200"/>
            <a:ext cx="8015040" cy="1803240"/>
          </a:xfrm>
          <a:prstGeom prst="rect">
            <a:avLst/>
          </a:prstGeom>
          <a:solidFill>
            <a:srgbClr val="8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s ouvrages rédigés par Claude DELANNOY sur les langages informatiques, en particulier ceux abordant le C, sont considérés comme des références en la matièr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s exemples y sont particulièrement bien choisis, de plus les exercices inclus permettent au lecteur de s'assurer de la bonne compréhension du cour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>
            <a:hlinkClick r:id="rId30" action="ppaction://hlinksldjump"/>
          </p:cNvPr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08:43:48Z</dcterms:created>
  <dc:creator>POISSON</dc:creator>
  <dc:description/>
  <dc:language>en-US</dc:language>
  <cp:lastModifiedBy>poisson</cp:lastModifiedBy>
  <dcterms:modified xsi:type="dcterms:W3CDTF">2008-09-14T14:13:53Z</dcterms:modified>
  <cp:revision>37</cp:revision>
  <dc:subject/>
  <dc:title>Informatique Industrielle Programmation – Langage C</dc:title>
</cp:coreProperties>
</file>