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160-6F87-42EE-8A5F-ED247AD8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A07-A9C3-4BAA-BFB2-7CB6B4A4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065-1A33-4E21-A3B4-25C9E39E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0C3-3309-4729-A9B4-472B509B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A0F-5760-47C9-8F11-343EFA79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E56-2D75-411E-ABB7-0D818734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962-70DE-452C-972C-1D834F9B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106-28EF-48BD-95BD-DF1116C2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7E9-636C-4987-BF8D-008FA3AD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530-49A7-4FC2-9225-D13103B2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2D8-2901-4E1F-B718-42CE26D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B46-6946-4752-98D9-0FDC673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256E-5A8B-4EB1-ACEE-CB7229CF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hart with combinations poss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1360" y="1932120"/>
            <a:ext cx="4121280" cy="4035240"/>
            <a:chOff x="2511360" y="1932120"/>
            <a:chExt cx="4121280" cy="4035240"/>
          </a:xfrm>
        </p:grpSpPr>
        <p:sp>
          <p:nvSpPr>
            <p:cNvPr id="43" name="_s4101"/>
            <p:cNvSpPr/>
            <p:nvPr/>
          </p:nvSpPr>
          <p:spPr>
            <a:xfrm>
              <a:off x="3730680" y="195120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02"/>
            <p:cNvSpPr/>
            <p:nvPr/>
          </p:nvSpPr>
          <p:spPr>
            <a:xfrm rot="3060000">
              <a:off x="4566960" y="235404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3"/>
            <p:cNvSpPr/>
            <p:nvPr/>
          </p:nvSpPr>
          <p:spPr>
            <a:xfrm rot="6180000">
              <a:off x="4773600" y="325908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4"/>
            <p:cNvSpPr/>
            <p:nvPr/>
          </p:nvSpPr>
          <p:spPr>
            <a:xfrm rot="9240000">
              <a:off x="4193280" y="3984120"/>
              <a:ext cx="1683000" cy="168300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5"/>
            <p:cNvSpPr/>
            <p:nvPr/>
          </p:nvSpPr>
          <p:spPr>
            <a:xfrm rot="12360000">
              <a:off x="3265560" y="39841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 rot="15420000">
              <a:off x="2685960" y="32587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7"/>
            <p:cNvSpPr/>
            <p:nvPr/>
          </p:nvSpPr>
          <p:spPr>
            <a:xfrm rot="18540000">
              <a:off x="2892240" y="2352240"/>
              <a:ext cx="1683000" cy="168264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8"/>
            <p:cNvSpPr/>
            <p:nvPr/>
          </p:nvSpPr>
          <p:spPr>
            <a:xfrm>
              <a:off x="501156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 Black"/>
                </a:rPr>
                <a:t>Akhileshw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9"/>
            <p:cNvSpPr/>
            <p:nvPr/>
          </p:nvSpPr>
          <p:spPr>
            <a:xfrm>
              <a:off x="2511360" y="313704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!2F%h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.(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10"/>
            <p:cNvSpPr/>
            <p:nvPr/>
          </p:nvSpPr>
          <p:spPr>
            <a:xfrm>
              <a:off x="347184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6633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1"/>
            <p:cNvSpPr/>
            <p:nvPr/>
          </p:nvSpPr>
          <p:spPr>
            <a:xfrm>
              <a:off x="2854440" y="4638600"/>
              <a:ext cx="660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1^3*5&amp;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2"/>
            <p:cNvSpPr/>
            <p:nvPr/>
          </p:nvSpPr>
          <p:spPr>
            <a:xfrm>
              <a:off x="4243320" y="5307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66"/>
                  </a:solidFill>
                  <a:latin typeface="Baskerville Old Face"/>
                </a:rPr>
                <a:t>a1d2g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3"/>
            <p:cNvSpPr/>
            <p:nvPr/>
          </p:nvSpPr>
          <p:spPr>
            <a:xfrm>
              <a:off x="5630760" y="463716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!@$#$^&lt;&gt;?}{+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4"/>
            <p:cNvSpPr/>
            <p:nvPr/>
          </p:nvSpPr>
          <p:spPr>
            <a:xfrm>
              <a:off x="5972040" y="3135240"/>
              <a:ext cx="660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10.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-21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3045789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0:21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