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46A-AA7E-4702-975C-5AAFE2D7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A6A-BEBB-4841-8FDD-2C75E96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EE4-CBC9-406A-9A7F-FDA6585E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BCB-B706-46E2-B8C3-A7C9C39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3B7F-A77C-435A-ADF7-BB82EDB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9BC-7A4B-4A9E-BD14-36575ED2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274-98D2-49C3-9CEB-E22AC2C5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A1E6-78FF-4600-8913-94C6EA2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335B-2ADD-4A53-B557-A107BCE3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8EED-4A4B-4AEB-9AE3-3D08D7E8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831-3C81-4FD1-B6EC-BF38E9C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767-C3EC-423C-8B7B-6096EABC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EDD-1508-44DB-9AE4-5F42A1A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F25-62FB-4540-94F1-5CBE534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8BF7-1EE1-4D81-B40B-3B2FE3B7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0C15-FB24-4AA5-8D98-7705E924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D40-86F9-4169-9922-0FD34F02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76F-0652-4E56-8CAC-BDF50F2D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DA2-98CE-4127-85AB-47A4CE24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4A2-F8EA-4E33-B877-CBD0258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1D9-966A-4FBE-8419-AC81799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7F7-203D-477D-92D7-D7000B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12C-BB1D-40F4-8AA0-0B9F15E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CBD-11BF-4540-98D2-F18EFD2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B83-934F-476C-B38D-90E21711A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097-D958-415E-A071-3688F7B6D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חטיבת "קלמן", רמת השרו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מודל וועדת שילוב בית ספרית לתלמידים בעלי צרכים מיוחדי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כולם בשביל אחד – חלופה ממ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”</a:t>
            </a:r>
            <a:r>
              <a:rPr b="1" i="1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ש איש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וצאות לוואי לא צפוי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04960" y="32767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2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חיוביות</a:t>
            </a:r>
            <a:r>
              <a:rPr b="0" i="1" lang="he-IL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שיפור בעמדת המורים כלפי שילוב תלמידים בעלי צרכים מיוחדים בביה"ס וכלפי היכולת של ביה"ס להכיל תלמידים אלה ולהובילם להתקדמות על ידי:מוכנות לכתיבת בחינות נוספות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אחרות, מוכנות לאימוץ אסטרטגיות של חינוך מיוחד, מוכנות לקראת בנייה ויישום של תוכנית אישית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ביה"ס זוכה לשבחים רבים מצד ההורים, מפקחים ומורים מבתי ספר אחרים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בשנת תשס"ד תפתח כיתה מיוחדת לחינוך מיוחד בהכרת משרד החינוך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3352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שליליות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נוצר הלך רוח מינורי של קבוצה סוציואקונומית בישוב שלחטיבת קלמן מופנים תלמידים בעייתי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עקרונות פעולה נגזר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מהתייחסות נקודתית לבעיות משמעת מזדמנות, שוטפות, להערכות ארגונית טיפולית שמונעת, מטפלת ומתמודדת עם בעיות מסוגים שונים וכתוצאה נערכות ישיבות קבועות, נוצר אורח חיים בית ספרי שונה – מפגשים רבים של ההורים והצוות החינוכי תוך בדיקת מדדים להצלחה ולכישלון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סוגיות בלתי פתור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כתוצאה ממודל וועדת השילוב עלתה הסוגייה כיצד ניתן לטפל בתלמידים שהתוכנית הקיימת אינה מתאימה להם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כתובת למידע נוסף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מנהלת חטיבת קלמן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- גברת מרים גול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רכזת מתי"א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– גברת שירה שקד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טלפון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05830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93249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פקס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94792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E.mail: kelman@rh-keman.org.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3429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ממ"ש קלמן (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מ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- מנהיגות, 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מ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 – מעורבות, 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ש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 – שותפות)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בית הספר מאמין באהבה ובגבולות, במקצועיות ובחינוך לדמוקרטיה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מוטו בית הספר מתייחס לממ"ש בשלושה מעגלים עיקריים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המורים, ההורים והתלמידים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133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מאפייני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נהלת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פסיכולוגית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ועצת השכב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כזת השכב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חנכת הכית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ורת מתי"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הורי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981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מאפייני המעורבים בהצלחה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ית ספרי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עקבות העלייה במספר התלמידים המאובחנים וחידוד המודעות לצורכי צוות ביה"ס לתת מענה לצרכים המיוחדים של התלמידים הללו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צון במעקב סדיר ושוטף אחר התפקוד הלימודי – רגשי – התנהגותי של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צון לטפח שותפות ואחריות משותפת של צוות רב מקצוע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דיקה והיזון חוזר של המערכת – האם הושגו המטרות שהוצבו. האם חל שינו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שיפור בתפקוד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209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ההקשרים הארגוניים וההיסטוריים של ההצלחה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יאור התוצרי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צירת דפוס עבודה בין יומיים קבועים מידי שבוע – ימים 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 + 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ראש וועדת השילוב משתתפת בקביעות מנהלת ביה"ס ופסיכולוגית 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 והוריו מגיעים אחת לשישה שבועות למפגש עם צוות וועדת השלוב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מפגש נקבע מראש ומתקיים בהקפדה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ידי מפגש נבדקת העמידה בתוכנית עליה סוכם במפגש הקודם, מוצגים ונידונים נקודות אור ובעיות ונבנית תוכנית חדשה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משך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לצורך המפגשים גובשו שני טפסים חדשים המשמשים מסד נתונים לעבודת ההמשך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יאור התוצרים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אווירה בביה"ס רגועה יותר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וב התלמידים בעלי הצרכים המיוחדים חשים בעלי ערך עצמי, אופטימים, מחוברים למערכת ובמיוחד להנהלת 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 בעל הצרכים המיוחדים חש במרכז העשייה, שותף, מודע לתוכנית, ליעדים וללוח הזמנים.בדר"כ רגוע, מתאמץ וגם מצליח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גובש אמון עם משפחות הילדים בעלי הצרכים המיוחדים ונוצרה שותפות ואחריות משותפת לקידום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נקודות מפנה בדרך להצלח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התהליך היה ניסיון מערכתי לצמצם התנהגויות אלימות ולפתור בעיות משמעת. ההמשך התפתח לחלופה אישית מותאמת קבועה שמשתדרגת ונבדקת  ממפגש למפגש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קוראים בקול לפני הנוכחים את הסיכום של המפגש הקוד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ובכדי לעזור לתלמיד משמיעים בפניו את תכונותיו הטובות והישגיו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אור המצב בנקודת ההתחל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וועדת השילוב נוצרה כצורך בית ספרי עם העלייה במספר התלמידים בעלי הצרכים המיוחדים בתחומים שונים והרצון לעצב מענה הולם וייחודי לכל 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שיתוף צוות רב מקצועי שיבנה יחד תוכנית מותאמת אישית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יצירת קשר משמעותי, אמון ואחריות משותפת בין ההורים, התלמיד ו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תיעוד, בקרה ומעקב מסודרים על תפקודם של התלמידים בעלי הצרכים המיוחדי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שיתוף גורמים ברשות, במשרד ובקהילה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פעולות חיוניות להצלחת התהלי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920" y="3429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קצאת זמן קבוע בשבוע (ימים 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 + 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נהלת ביה"ס ופסיכולוגית ביה"ס מובילות את התהליך באופן עקב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כל מפגש נפגשים הצוות המקצועי הרחב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נקרא בקול הסיכום של המפגש הקוד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קיים קשר קבוע לגבי יישום התוכנית בין כל חברי הצוות השותפי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הורים נפגשים עם הצוות המורחב אחת לשישה שבועות, ושומרים על קשר קבוע עם המחנכת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ועצת באמצעות שיחות טלפון או מפגשים ב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19:24:58Z</dcterms:created>
  <dc:creator>ofer</dc:creator>
  <dc:description/>
  <dc:language>en-US</dc:language>
  <cp:lastModifiedBy>master_new</cp:lastModifiedBy>
  <dcterms:modified xsi:type="dcterms:W3CDTF">2003-06-24T08:18:22Z</dcterms:modified>
  <cp:revision>58</cp:revision>
  <dc:subject/>
  <dc:title>חטיבת "קלמן", רמת השרון</dc:title>
</cp:coreProperties>
</file>