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20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396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608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20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7396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02880" y="37800"/>
            <a:ext cx="7574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520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7396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608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520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7396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02880" y="37800"/>
            <a:ext cx="7574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20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7396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7608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20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7396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2880" y="37800"/>
            <a:ext cx="7574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95440" y="6448320"/>
            <a:ext cx="4104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52200" bIns="46080" anchor="t">
            <a:spAutoFit/>
          </a:bodyPr>
          <a:p>
            <a:pPr>
              <a:lnSpc>
                <a:spcPct val="9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 Oracle and/or its affiliates. 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02480" y="6472080"/>
            <a:ext cx="921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A030-414F-44EB-838A-3B29381CC4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2895480" cy="361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4584600"/>
            <a:ext cx="776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76440" y="1782360"/>
            <a:ext cx="739584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03240" y="28440"/>
            <a:ext cx="757872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480" y="6448320"/>
            <a:ext cx="54810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52200" bIns="46080" anchor="t">
            <a:spAutoFit/>
          </a:bodyPr>
          <a:p>
            <a:pPr>
              <a:lnSpc>
                <a:spcPct val="9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 Oracle and/or its affiliates. All rights reserved. Oracle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720" y="6472080"/>
            <a:ext cx="921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8ACDC-CCC0-4592-A4B3-CDDADAA6EC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88840" y="282600"/>
            <a:ext cx="8102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TO Tape Drives – Technology Direc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19320"/>
            <a:ext cx="792504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capacity and through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O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5 TB native (new LTO 5 med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 MB/s n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Gb FC (all SL-series librar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Gb SAS (for SL24/48/5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MS encryption cap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both HP and IBM drives for the SL500/3000/8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88840" y="282600"/>
            <a:ext cx="8102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pe Drives – Technology Direc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7720" y="765000"/>
            <a:ext cx="792468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tibilidad tecnología LTO vs 9840 vs T1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nología MP (Metal Particle) LTO vs BaFe (T10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aciones M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TO5 no dobla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Fe permite drives T10000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0 MB/seg y 5 TB n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ctura de generaciones prev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LTO cambiará de tecnología a BaFe o MP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Supondrá mayor capacid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Mayor rendimien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Compatibilidad hacia atrá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9442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07:25Z</dcterms:created>
  <dc:creator>Office 2004 Test Drive User</dc:creator>
  <dc:description/>
  <dc:language>en-US</dc:language>
  <cp:lastModifiedBy>MIGUELANGEL BORREGA</cp:lastModifiedBy>
  <cp:lastPrinted>2010-03-30T04:04:46Z</cp:lastPrinted>
  <dcterms:modified xsi:type="dcterms:W3CDTF">2011-01-27T16:01:19Z</dcterms:modified>
  <cp:revision>546</cp:revision>
  <dc:subject/>
  <dc:title>SUN Oracle Primary Storage Briefing Oracle 2009</dc:title>
</cp:coreProperties>
</file>