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541-338D-4C69-9CB7-EC1A3350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80B-463D-4EE9-8FB1-08568203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A60-4A8B-442D-8609-CF66A3FF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0EC-A814-410E-B626-2685EE4A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5FE-94F4-4779-A2B4-FBA6D0D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430-9700-4AF9-BBC2-67D6932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530-0970-4776-BB19-0CE1A2CE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914-4292-4B1E-967D-EB22A8A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ED9-8C06-49F5-91C2-56AC0A38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3EB-2DCA-4919-B7DF-1921A2B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00C-992F-483A-BF9D-91285FCC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729-0D16-4462-B76A-A3BF738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2A4-60C1-40A4-815D-704E59CC1F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4360" y="1989000"/>
          <a:ext cx="7848360" cy="1852920"/>
        </p:xfrm>
        <a:graphic>
          <a:graphicData uri="http://schemas.openxmlformats.org/drawingml/2006/table">
            <a:tbl>
              <a:tblPr/>
              <a:tblGrid>
                <a:gridCol w="2808000"/>
                <a:gridCol w="5040360"/>
              </a:tblGrid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of test ca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C30FFCSD_FontWork_VerticalText0010.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ature name:</a:t>
                      </a:r>
                      <a:r>
                        <a:rPr b="0" lang="zh-CN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Work and Extrusion interoperability with MS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points (Fo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in the fontwork is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tical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5400000">
            <a:off x="-326880" y="2247840"/>
            <a:ext cx="6629400" cy="25905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the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Arch  U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wangwenhuan</cp:lastModifiedBy>
  <dcterms:modified xsi:type="dcterms:W3CDTF">2006-07-06T07:10:32Z</dcterms:modified>
  <cp:revision>25</cp:revision>
  <dc:subject/>
  <dc:title>Slide 1</dc:title>
</cp:coreProperties>
</file>