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D303-6E65-4FC6-8676-46FF4456811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UIM strategy area represents a broad investment in IR, Text Analytics and NLP employing 200+ researches spread over at least 6 of our 8 la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se Researchers represent and our developing a considerable collection of HLT-related ass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 will let a  partial laundry list scroll a bit it likely want impress many of you here -- but this list of skills, capabilities, technologies and products scared the dickens out of me When I took the job as lead architect. &lt;Click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9FD1-4BE3-4AB2-8973-BCD55892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BA9-FCFB-4313-A37C-D4B2EF4F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9CC-0335-419A-AC46-426D9DCE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E30-4B0C-424A-9F89-ABD61E33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227-0A5C-4E70-9870-4196DA6C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508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EBB-9197-435C-BF6F-94DD6E99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303-BDB9-4979-87E8-C298B640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ABE3-84E4-4F72-A83B-391A6FA6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E09F-6A52-44CC-942F-6BFF8548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C18-FA56-48B5-86CF-003B81BB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070-01C3-4767-80AC-4AAAA4D5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474B-B8F7-4E6A-8CD8-0D06202E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508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0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00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20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2001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2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2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9360" y="28440"/>
            <a:ext cx="1828800" cy="1676520"/>
            <a:chOff x="9360" y="28440"/>
            <a:chExt cx="1828800" cy="1676520"/>
          </a:xfrm>
        </p:grpSpPr>
        <p:sp>
          <p:nvSpPr>
            <p:cNvPr id="3" name=""/>
            <p:cNvSpPr/>
            <p:nvPr/>
          </p:nvSpPr>
          <p:spPr>
            <a:xfrm>
              <a:off x="374400" y="28440"/>
              <a:ext cx="0" cy="167652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9360" y="1400040"/>
              <a:ext cx="1828800" cy="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286760" y="-360"/>
            <a:ext cx="1828800" cy="1676520"/>
            <a:chOff x="7286760" y="-360"/>
            <a:chExt cx="1828800" cy="1676520"/>
          </a:xfrm>
        </p:grpSpPr>
        <p:sp>
          <p:nvSpPr>
            <p:cNvPr id="6" name=""/>
            <p:cNvSpPr/>
            <p:nvPr/>
          </p:nvSpPr>
          <p:spPr>
            <a:xfrm flipV="1">
              <a:off x="8750520" y="-360"/>
              <a:ext cx="0" cy="167652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286760" y="304560"/>
              <a:ext cx="1828800" cy="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 rot="16200000">
            <a:off x="-510840" y="510480"/>
            <a:ext cx="1375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U I 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355680" y="6391080"/>
            <a:ext cx="213336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C3C6-9B0A-41D4-B590-1DB4E2A175C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60680" y="3429000"/>
            <a:ext cx="0" cy="167652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295280" y="4800600"/>
            <a:ext cx="18288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489880" y="1357200"/>
            <a:ext cx="0" cy="167652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943680" y="1606680"/>
            <a:ext cx="18288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447920" y="4952880"/>
            <a:ext cx="18288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794640" y="1486080"/>
            <a:ext cx="18288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06720" y="5983200"/>
            <a:ext cx="1484280" cy="6382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690480" y="183600"/>
            <a:ext cx="1388160" cy="1023120"/>
            <a:chOff x="690480" y="183600"/>
            <a:chExt cx="1388160" cy="1023120"/>
          </a:xfrm>
        </p:grpSpPr>
        <p:sp>
          <p:nvSpPr>
            <p:cNvPr id="57" name=""/>
            <p:cNvSpPr/>
            <p:nvPr/>
          </p:nvSpPr>
          <p:spPr>
            <a:xfrm>
              <a:off x="690480" y="412920"/>
              <a:ext cx="477720" cy="520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oper Black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43440" y="422280"/>
              <a:ext cx="502200" cy="520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oper Black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37520" y="600120"/>
              <a:ext cx="300960" cy="520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oper Black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0760" y="513000"/>
              <a:ext cx="407880" cy="520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oper Black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/>
            <p:nvPr/>
          </p:nvCxnSpPr>
          <p:spPr>
            <a:xfrm flipH="1" rot="16200000">
              <a:off x="1208160" y="134640"/>
              <a:ext cx="10080" cy="565920"/>
            </a:xfrm>
            <a:prstGeom prst="curvedConnector5">
              <a:avLst>
                <a:gd name="adj1" fmla="val -2000000"/>
                <a:gd name="adj2" fmla="val 49968"/>
                <a:gd name="adj3" fmla="val -20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2" name=""/>
            <p:cNvCxnSpPr/>
            <p:nvPr/>
          </p:nvCxnSpPr>
          <p:spPr>
            <a:xfrm flipH="1" flipV="1" rot="5400000">
              <a:off x="1487160" y="732240"/>
              <a:ext cx="87840" cy="686520"/>
            </a:xfrm>
            <a:prstGeom prst="curvedConnector5">
              <a:avLst>
                <a:gd name="adj1" fmla="val -100000"/>
                <a:gd name="adj2" fmla="val 50000"/>
                <a:gd name="adj3" fmla="val -1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3" name=""/>
            <p:cNvCxnSpPr/>
            <p:nvPr/>
          </p:nvCxnSpPr>
          <p:spPr>
            <a:xfrm flipH="1" rot="16200000">
              <a:off x="1352520" y="-9720"/>
              <a:ext cx="100800" cy="945360"/>
            </a:xfrm>
            <a:prstGeom prst="curvedConnector5">
              <a:avLst>
                <a:gd name="adj1" fmla="val -228315"/>
                <a:gd name="adj2" fmla="val 49980"/>
                <a:gd name="adj3" fmla="val -22831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6720" y="177840"/>
            <a:ext cx="83185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nstructured Information Management (UIM) Strategy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road investm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IR, Text Analysis, and NLP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00+ Researches worldwide and gr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large collection of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7720" y="-2565360"/>
            <a:ext cx="3900600" cy="1447560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Sk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utational Lingu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atistic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oftware Engine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uter Scient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Ontologi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Core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rawl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earch Eng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ocumen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Meta Data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Named-Entity Det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ep, Shallow 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POS Tag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oke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opic  Det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ructure Annot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ummar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ategor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Relationship Det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Finite State Transduc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Glossary Extr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ioAnnot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ransl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Geo Det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rug Relationship Det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Knowledge Sources and Data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iction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WordNet, Other Ont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raining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nnotation Data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System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Java, C++, PERL, XML, XS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Linux, Win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Web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pplica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Gr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Product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Lotus, WebSphere Portal Server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4240" y="380880"/>
            <a:ext cx="8242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ach Step in the flow adds to the 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2080" y="3807000"/>
            <a:ext cx="10666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38440" y="3807000"/>
            <a:ext cx="10666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pe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62320" y="3807000"/>
            <a:ext cx="1067040" cy="6858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Na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-Ent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1480" y="388296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53000" y="388296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7560" y="388296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86240" y="3921120"/>
            <a:ext cx="381240" cy="48564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34080" y="3787920"/>
            <a:ext cx="10666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157320" y="3951360"/>
            <a:ext cx="10450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35120" y="1646280"/>
            <a:ext cx="219888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ok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Parts of Spe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Organiz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P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Per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Gov Tit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67360" y="3911760"/>
            <a:ext cx="381240" cy="48564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8840" y="3303720"/>
            <a:ext cx="15116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ok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48600" y="3075120"/>
            <a:ext cx="2198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ok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  <a:ea typeface="宋体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Parts of Spe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91880" y="1741320"/>
            <a:ext cx="219888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ok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Parts of Spe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-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-Organiz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-P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-Per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00160" y="3602160"/>
            <a:ext cx="6914880" cy="22622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ggregate Analysis Engine: </a:t>
            </a:r>
            <a:r>
              <a:rPr b="0" i="1" lang="en-US" sz="1400" spc="-1" strike="noStrike">
                <a:solidFill>
                  <a:srgbClr val="ff6600"/>
                </a:solidFill>
                <a:latin typeface="Arial"/>
                <a:ea typeface="宋体"/>
              </a:rPr>
              <a:t>Government Official Det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257800" y="2933640"/>
            <a:ext cx="1162440" cy="1254240"/>
            <a:chOff x="5257800" y="2933640"/>
            <a:chExt cx="1162440" cy="1254240"/>
          </a:xfrm>
        </p:grpSpPr>
        <p:sp>
          <p:nvSpPr>
            <p:cNvPr id="126" name=""/>
            <p:cNvSpPr/>
            <p:nvPr/>
          </p:nvSpPr>
          <p:spPr>
            <a:xfrm>
              <a:off x="5257800" y="2933640"/>
              <a:ext cx="876240" cy="2858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6" idx="3"/>
              <a:endCxn id="128" idx="0"/>
            </p:cNvCxnSpPr>
            <p:nvPr/>
          </p:nvCxnSpPr>
          <p:spPr>
            <a:xfrm>
              <a:off x="6134040" y="3076200"/>
              <a:ext cx="286560" cy="111204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29" name=""/>
          <p:cNvSpPr/>
          <p:nvPr/>
        </p:nvSpPr>
        <p:spPr>
          <a:xfrm>
            <a:off x="380880" y="3887640"/>
            <a:ext cx="5048280" cy="13096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ggregate Analysis Engine: </a:t>
            </a:r>
            <a:r>
              <a:rPr b="0" i="1" lang="en-US" sz="1400" spc="-1" strike="noStrike">
                <a:solidFill>
                  <a:srgbClr val="ff6600"/>
                </a:solidFill>
                <a:latin typeface="Arial"/>
                <a:ea typeface="宋体"/>
              </a:rPr>
              <a:t>Named-Entity Det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4240" y="380880"/>
            <a:ext cx="8242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nalysis Engine Compositio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14360" y="4206960"/>
            <a:ext cx="1067040" cy="6858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90720" y="4206960"/>
            <a:ext cx="1067040" cy="6858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pe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14960" y="4206960"/>
            <a:ext cx="10666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Na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-Ent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23760" y="4282920"/>
            <a:ext cx="381240" cy="4860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05280" y="428292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09840" y="428292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77040" y="434016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86360" y="4187880"/>
            <a:ext cx="1067040" cy="6858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Offic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43200" y="4351320"/>
            <a:ext cx="10450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904840" y="1398600"/>
            <a:ext cx="4113000" cy="2489040"/>
            <a:chOff x="2904840" y="1398600"/>
            <a:chExt cx="4113000" cy="2489040"/>
          </a:xfrm>
        </p:grpSpPr>
        <p:cxnSp>
          <p:nvCxnSpPr>
            <p:cNvPr id="140" name=""/>
            <p:cNvCxnSpPr>
              <a:stCxn id="129" idx="0"/>
              <a:endCxn id="141" idx="1"/>
            </p:cNvCxnSpPr>
            <p:nvPr/>
          </p:nvCxnSpPr>
          <p:spPr>
            <a:xfrm flipH="1" flipV="1" rot="5400000">
              <a:off x="3325320" y="2047320"/>
              <a:ext cx="1419840" cy="2261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4818960" y="1398600"/>
              <a:ext cx="2198880" cy="21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Parts of Spee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Na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Organiz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Pla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Pers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t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191360" y="2608200"/>
            <a:ext cx="2299680" cy="2448720"/>
            <a:chOff x="7191360" y="2608200"/>
            <a:chExt cx="2299680" cy="2448720"/>
          </a:xfrm>
        </p:grpSpPr>
        <p:sp>
          <p:nvSpPr>
            <p:cNvPr id="143" name=""/>
            <p:cNvSpPr/>
            <p:nvPr/>
          </p:nvSpPr>
          <p:spPr>
            <a:xfrm>
              <a:off x="7292160" y="2608200"/>
              <a:ext cx="2198880" cy="24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c0c0"/>
                  </a:solidFill>
                  <a:latin typeface="Arial"/>
                  <a:ea typeface="宋体"/>
                </a:rPr>
                <a:t>-</a:t>
              </a:r>
              <a:r>
                <a:rPr b="0" lang="en-US" sz="1400" spc="-1" strike="noStrike">
                  <a:solidFill>
                    <a:srgbClr val="c0c0c0"/>
                  </a:solidFill>
                  <a:latin typeface="Arial"/>
                  <a:ea typeface="宋体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  <a:ea typeface="宋体"/>
                </a:rPr>
                <a:t>-Parts of Spee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  <a:ea typeface="宋体"/>
                </a:rPr>
                <a:t>-Na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  <a:ea typeface="宋体"/>
                </a:rPr>
                <a:t>-Organiz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  <a:ea typeface="宋体"/>
                </a:rPr>
                <a:t>-Pla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Pers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Gov Offic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91360" y="4397400"/>
              <a:ext cx="380880" cy="4856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2:34:12Z</dcterms:created>
  <dc:creator>IBM_User</dc:creator>
  <dc:description/>
  <dc:language>en-US</dc:language>
  <cp:lastModifiedBy>Administrator</cp:lastModifiedBy>
  <dcterms:modified xsi:type="dcterms:W3CDTF">2004-04-02T03:05:43Z</dcterms:modified>
  <cp:revision>512</cp:revision>
  <dc:subject/>
  <dc:title>Slide 1</dc:title>
</cp:coreProperties>
</file>