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367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98840" y="0"/>
            <a:ext cx="3367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555120"/>
            <a:ext cx="336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398840" y="9555120"/>
            <a:ext cx="33624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67AED-6BC3-4CD5-8A27-27443509D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39884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30821-5212-4852-B7D9-E9A4D13F4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DEAE-D6FB-4EA9-9F27-EFA332DD8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0C4D-8C01-4A28-95E4-75B33C846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5ECE-8262-4B7D-92B5-6BEA81330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26F4-E178-41B7-B8C7-B7B1A39F1A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6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08E0-8BF4-45D3-A1BB-CC11E4561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45ED-B408-4663-85F0-D50F99A7E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B182-1C03-42D7-94DA-EE6A3AA82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B9CE-5704-4CA3-B2C0-C82251F76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15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6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D9AB-861A-4936-B84D-7BA5DDC41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205F-269D-41B6-90BB-EDD9F080F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A3CF-670C-4A4B-B0C3-5978B90F4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B9FC-3AAB-4F47-981C-8A3F7A737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9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37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A988E-F46B-489D-B5F8-0B8600895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600200"/>
            <a:ext cx="6172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3280" y="301680"/>
            <a:ext cx="90709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 World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3280" y="1768320"/>
            <a:ext cx="907092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follow up t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6858000"/>
            <a:ext cx="7543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third tr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5029200"/>
            <a:ext cx="5486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w the fourth item in r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Hello World!! </dc:title>
</cp:coreProperties>
</file>