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9F108A-8DAE-432E-8081-2422D3EE5DD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 PL KaitiM GB"/>
              </a:rPr>
              <a:t>Gamow Energy je konstanta (v těžišťovém systé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CB6-3A0F-4BC8-A479-68D407D1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2C3-1A42-4386-9A4D-4919906E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BDB-C454-4C6C-AFAB-6D368C24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873-CCF1-4384-8BD9-FE70A55A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0F9-8646-4959-B027-509A262E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00B-E459-4D3E-80B5-343EF41F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A3C-CA3E-4E11-9D8D-DAF10A01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65B-CCE1-4829-AE51-FC147F85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360" y="259920"/>
            <a:ext cx="656136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D76-E88B-49DB-8177-87C4BDAF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094-3835-48EE-B512-D9C57BF5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0AD-24C1-468C-A362-9DF3320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969-5790-468F-881B-E6F660F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79280" y="6381720"/>
            <a:ext cx="31305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Úvod do termojaderné fú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858920" y="6381720"/>
            <a:ext cx="28940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1: 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úzní jaderné re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32720" y="638136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499E20-FFA3-4A34-982A-68767831E4A1}" type="slidenum"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073160" cy="97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4705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nnel effec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989000"/>
            <a:ext cx="741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...  pravděpodobnost reakce bez bari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barrier transparenc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16360" y="1341360"/>
          <a:ext cx="2232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341360"/>
                    <a:ext cx="2232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042920" y="2852640"/>
          <a:ext cx="316872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852640"/>
                    <a:ext cx="31687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116000" y="3933720"/>
          <a:ext cx="2808360" cy="10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3933720"/>
                    <a:ext cx="280836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003640" y="3933720"/>
          <a:ext cx="3024360" cy="10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3933720"/>
                    <a:ext cx="302436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556000" y="5157720"/>
          <a:ext cx="3384360" cy="103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5157720"/>
                    <a:ext cx="3384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547640" y="5661000"/>
            <a:ext cx="649440" cy="1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7480" y="486900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mow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1800" y="42321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E76-14FF-4D26-8BB0-23B76041985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52:55Z</dcterms:created>
  <dc:creator>jmlynar</dc:creator>
  <dc:description/>
  <dc:language>en-US</dc:language>
  <cp:lastModifiedBy>Mlynar</cp:lastModifiedBy>
  <dcterms:modified xsi:type="dcterms:W3CDTF">2009-03-11T22:13:49Z</dcterms:modified>
  <cp:revision>30</cp:revision>
  <dc:subject/>
  <dc:title>Slide 1</dc:title>
</cp:coreProperties>
</file>