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33E-ADA9-4F82-8813-F9A40415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8F3-02FF-469C-BE88-9EA8FBB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70E-C192-48EA-8776-198C8A93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770-B64C-417E-80E6-1B295F03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FBE-3F9C-402B-A2A0-5C79E043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4F8-1AC6-4385-BE3F-777E211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F55-DE96-4D10-9593-8F4BABC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497-F055-4CBB-8F0E-65AF497D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4C4-ABC9-4EF1-B0C0-BF215AAA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483-2C52-4334-A576-D619C70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6B0-DBC8-499E-B803-5683A535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F7F-2032-4429-BC96-DE9CD69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FC3-216D-41B8-83E0-1D77084A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9907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9810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27432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5053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191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724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62485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9907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9810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7432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5053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191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4724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lg"/>
            <a:tailEnd len="sm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62485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9907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9810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7432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diamond" w="sm"/>
            <a:tail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5053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med"/>
            <a:tailEnd len="sm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91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4724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diamond" w="med"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lg"/>
            <a:tailEnd len="sm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2485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diamond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jiany</cp:lastModifiedBy>
  <dcterms:modified xsi:type="dcterms:W3CDTF">2012-07-11T01:52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