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743200" y="0"/>
            <a:ext cx="624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7621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172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15480" y="6324480"/>
            <a:ext cx="26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895A-2114-484B-9775-2E89E5A3A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55680" y="457200"/>
            <a:ext cx="8102520" cy="34308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365640" y="482760"/>
            <a:ext cx="510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fice of the Chief Financial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576360" y="301680"/>
            <a:ext cx="861840" cy="70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SA Budge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Richard B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g Direct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Analysis Di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5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 planning and content must be externally relevant &amp; compelling to justify budget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programs objectives and achievements in compelling terms which are recognizably relevant to public interest and/or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program and budget justifications to national prior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 clear definition of future plans, upcoming solicitations, and inter-relationships o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A Performance Plan is being viewed by more and more organizations as a means for defining public benefit of government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content must be re-justified each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ssume acceptance of previously approved run-out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ability to previously approved budget consistently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demand to provide options from within a program’s existing budget for resolving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and Centers requested to help develop options, both “easy and hard” to help solv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est in applications should be tempered against funding activities too far beyond demonstrations and proto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A is primarily a R&amp;D organization; operational aspects have been de-emphasized in civil service personnel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reduce funds available for newe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vely “Newer” Considerations for Bud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rack for “two” appropriation budget in FY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 in transition to full cost once IFMP is fully operational in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r link between institutional resources with programmatic activities; could aid in justifying institutional budget reque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ultimately lead to increased flexibility between institutional and program funds (under full cost imple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ng pre-full cost budgets to post-full cost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ng for full cost retrospectives without using full cost management and budgeting techniques to make effective future planning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54040" y="990720"/>
          <a:ext cx="8035920" cy="5867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990720"/>
                    <a:ext cx="8035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PRA Performance Plans and Reports could be used more as a determining factor in budget deci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and OMB requesting closer linkage between Performance Plans and Agency’s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Plan integrated with President’s Budget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ly proposed Consolidation Act provides for integration of performance information in other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 call to include targets and request indicators from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IG has begun second audit of most recent Performance Report in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and performance plan formulation processes are integ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inputs/proposals for the budget planning year include request for performance metrics (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Plan submitted to OMB; included in the final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f Performance Plan for Congressional decisions on the budget as part of the initial Operating Plan for the new fisca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all for Performance Report and Accountability Report inputs for FY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rinci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 CFO is responsible for the conduct of the performance plan / reporting process due to integration of metrics with the bud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are developed, monitored, validated, and reported by “target own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s used to demonstrate / document how the target is achie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upport the audi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range of determining factors for achieving the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must be auditable; validation information is constantly a request from re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, GAO, CRS, Congress: Sensenbrenner, Thompson (C- 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expectations for performance met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able / quantifiable, reflective of annual achievement towards goals of Strategic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able from one year to the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what is important in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the full range of funds requested linked to the Strategic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how government funds are being used to benefit the public (describe “outcomes” rather than “outpu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(by Congress) to make budge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 is to develop metrics which provide outcomes as opposed to outpu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esearch results are difficult to quantify in advance of discovery; may require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metrics for multi-year research and development programs are “output” in nature since the program is not mature enough to deliver “outcome” results for several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planetary exploration missions in transit to their destination; basic research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 of G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are developed 12-15 months in advance predicting R&amp;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stakeholders perceive changes at the time of execution as a lack of plan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 budget structure and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ing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“newer”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” appropriatio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A Performanc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expectations (addit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define the importance / relevance and priority of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asurable, or difficult to measure, programs could lose priority in the budget process relative to those programs that are more quanti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s for GPRA performanc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 way to incorporate the results from internal reviews of research &amp; program performance into the annual Agency GPRA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potentially more appropriate means for evaluating progress and delivered benefits of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existing measures eases verification and valid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annual progress toward long term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understanding of phenomena/process/etc. that will help...by meeting 80% of research objectives (defined by indicators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s for GPRA performance planning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levels of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indicators to suppor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targets / annual performance goals with POP guidelines; centers requested to provide with indicators to goals defined by Enterprises  and Cross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working group to develop strategies, exchange ideas, and lessons learned from within and outside the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s of attention / next ste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program goals and plans in externally relevant and compelling terms that justify the full extent of the bud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ability to deliver on cost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more reliable cost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cost/risk mission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use of the budget process to identify funding shortfall issues, existing and potential, and within-program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a more complete assessment of risks and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Congress and OMB resistance of mid-yea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implementation del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prediction and resolution improves external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 of emphasis / next steps (continu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wary of soliciting “help” from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often comes at expense of other program priorities without additional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GPRA Performance Plan and Report to justify and support budget requ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dditional insight into what is programmatically important to ach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s NASA’s use of performance review as part of our manag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competitive with other government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momentum building to further institutionalize use of GPRA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by Congress for budget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level of engagement through POP process (target - indicator exchange) and working 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SA Budget Structure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Y 2001 INITIAL OPERATING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371600"/>
          <a:ext cx="8001000" cy="53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0010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28600" y="228600"/>
          <a:ext cx="86868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for budget growth had been unlikely for several years prior to the FY 2001 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Executive and Congressional action to reduce federal spending and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s to down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tiated national budget caps require reduced discretionary budget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1billion reduction to NASA FY00 Budget was pro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Y2001 budget shows signs of growth, but its existence may be short-l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history focussed on reduced spen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” administration may develop its ow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budget caps may still be a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surplus” may not be considered appropriate to allow for augmentation of discretionary budg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ingly more detailed external direction as to how programs should spend f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interest in defining relevance of government programs (e.g. GPRA, amount of competition, degree of commercializatio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sion to post-appropriation reprogramming requests has delayed operating plan appro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is less tolerant of changes to the NASA budget, overruns, and delays despite the challenges of R&amp;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provide “excuses” to change funding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s of Congressional interest” have provided for specific projects often times without adding funds to the total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geting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9T12:04:34Z</dcterms:created>
  <dc:creator>CODE Y</dc:creator>
  <dc:description/>
  <dc:language>en-US</dc:language>
  <cp:lastModifiedBy>Mary Alice Diedrich</cp:lastModifiedBy>
  <cp:lastPrinted>2000-04-10T13:40:32Z</cp:lastPrinted>
  <dcterms:modified xsi:type="dcterms:W3CDTF">2001-01-31T03:26:46Z</dcterms:modified>
  <cp:revision>159</cp:revision>
  <dc:subject/>
  <dc:title>MARCH UNCOSTED CARRYOVER</dc:title>
</cp:coreProperties>
</file>