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413-3337-4000-9C62-3C9BA58A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259-80F3-4BCA-9A6C-65656784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1F1-AE2F-430A-A9EB-AE45CF0E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BAA-B178-4520-9BB6-B81202D2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99E-40C4-49B3-9221-7A04D6D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483-5C95-44F0-9720-878B7CCC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D1C-53C9-4EC9-9D83-03A50E14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A8E-5612-48C7-963A-F398B299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A4E-4887-4CE6-8B05-0D919618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1FF-8B5D-442B-89C5-686C2D8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B2E-F6C1-4223-BDAC-F4550189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039-1E1B-4C73-8584-236DD5C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CD5BBF-5998-4021-98C6-259D4D8FDB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30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828800" y="1905120"/>
            <a:ext cx="1101600" cy="2214360"/>
            <a:chOff x="1828800" y="1905120"/>
            <a:chExt cx="1101600" cy="2214360"/>
          </a:xfrm>
        </p:grpSpPr>
        <p:sp>
          <p:nvSpPr>
            <p:cNvPr id="44" name=""/>
            <p:cNvSpPr/>
            <p:nvPr/>
          </p:nvSpPr>
          <p:spPr>
            <a:xfrm>
              <a:off x="1828800" y="1905120"/>
              <a:ext cx="1093680" cy="97632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75040" y="19162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46320" y="2446200"/>
              <a:ext cx="46512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92240" y="2162160"/>
              <a:ext cx="7765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33480" y="3141720"/>
              <a:ext cx="1096920" cy="97776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79720" y="3460680"/>
              <a:ext cx="649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43080" y="3544920"/>
              <a:ext cx="46980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98720" y="3821040"/>
              <a:ext cx="75888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97000" y="2747880"/>
              <a:ext cx="576360" cy="533520"/>
            </a:xfrm>
            <a:prstGeom prst="ellipse">
              <a:avLst/>
            </a:prstGeom>
            <a:solidFill>
              <a:srgbClr val="e1e1e1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892760" y="1905120"/>
            <a:ext cx="1101600" cy="2214360"/>
            <a:chOff x="4892760" y="1905120"/>
            <a:chExt cx="1101600" cy="2214360"/>
          </a:xfrm>
        </p:grpSpPr>
        <p:sp>
          <p:nvSpPr>
            <p:cNvPr id="54" name=""/>
            <p:cNvSpPr/>
            <p:nvPr/>
          </p:nvSpPr>
          <p:spPr>
            <a:xfrm>
              <a:off x="4892760" y="1905120"/>
              <a:ext cx="1093680" cy="97632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38640" y="19162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10280" y="2446200"/>
              <a:ext cx="46512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056200" y="2162160"/>
              <a:ext cx="77616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97440" y="3141720"/>
              <a:ext cx="1096920" cy="97776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43680" y="3460680"/>
              <a:ext cx="649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07040" y="3544920"/>
              <a:ext cx="46980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2680" y="3821040"/>
              <a:ext cx="75852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60960" y="2747880"/>
              <a:ext cx="576360" cy="533520"/>
            </a:xfrm>
            <a:prstGeom prst="ellipse">
              <a:avLst/>
            </a:prstGeom>
            <a:solidFill>
              <a:srgbClr val="e1e1e1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953480" y="1893960"/>
            <a:ext cx="1101600" cy="2214360"/>
            <a:chOff x="7953480" y="1893960"/>
            <a:chExt cx="1101600" cy="2214360"/>
          </a:xfrm>
        </p:grpSpPr>
        <p:sp>
          <p:nvSpPr>
            <p:cNvPr id="64" name=""/>
            <p:cNvSpPr/>
            <p:nvPr/>
          </p:nvSpPr>
          <p:spPr>
            <a:xfrm>
              <a:off x="7953480" y="1893960"/>
              <a:ext cx="1093680" cy="97632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99360" y="190512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71000" y="2435400"/>
              <a:ext cx="4651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16920" y="2151000"/>
              <a:ext cx="77616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58160" y="3130560"/>
              <a:ext cx="1096920" cy="97776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04040" y="3449520"/>
              <a:ext cx="649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7760" y="3533760"/>
              <a:ext cx="46980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3400" y="3809880"/>
              <a:ext cx="75852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21680" y="2736720"/>
              <a:ext cx="576360" cy="533520"/>
            </a:xfrm>
            <a:prstGeom prst="ellipse">
              <a:avLst/>
            </a:prstGeom>
            <a:solidFill>
              <a:srgbClr val="e1e1e1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han Egge</dc:creator>
  <dc:description/>
  <dc:language>en-US</dc:language>
  <cp:lastModifiedBy>Nathan Egge</cp:lastModifiedBy>
  <cp:revision>0</cp:revision>
  <dc:subject/>
  <dc:title>PowerPoint Presentation</dc:title>
</cp:coreProperties>
</file>