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D5A-2F82-45DB-8F6B-439BD275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5FD-E077-4562-A4EB-68057D3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7B0-DFD7-48FB-A03F-243E4C2A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3AE-3D20-4FC4-A2C8-417DCBAA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EF2-4196-4F8E-A117-7F3B01EF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699-FD97-421D-B758-C842C62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D9-E93F-41F2-AABF-1A196517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6E2-3BA3-482F-82B8-456CE30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C11-4BEE-41B6-B817-6BE26CBA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85B-3B67-4CC7-9445-4F59E0DB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E68-8AD5-434A-BACB-FC3C7B5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F2E-2C60-48DA-95EF-FBB246B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8321-9839-4021-8ABA-1D1D014E7D5F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Запознаване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Алфр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Managing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e a new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visibilit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ntering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for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site detai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pecifying favorite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oining and leaving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and 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oles and permi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site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viting members to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lfresco to send outbound e-mai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groups to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users can see which sites they are currently members of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role of a site member or site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moving a site member or site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alenda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site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remove a page from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add a page to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rename a page of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pply themes for a particular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shle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Site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llaboration Features in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the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rowsing the wiki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the wiki main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new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nam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the wiki page detail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llaboration Features in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e Blog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a Blog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rowsing the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 external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ublishing a post to an external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ing with com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 comment to a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com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com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ata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3240" y="1768320"/>
            <a:ext cx="88696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new li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list detail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li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list ite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ctions for the list ite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Calenda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n ev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Cal fee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Building a Corporate Collabor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2000"/>
          </a:bodyPr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Alfresco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Collaboration capabilities of Alfresco Share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Calendar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Discussion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List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Strategizing for developing efficient collaboration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usiness context definition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Organization structuring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e specif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Document Library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Creating folders and folder hierarch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Uploading files and creating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content in the 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loading Content in the 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details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mment on a docu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ermi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3000"/>
          </a:bodyPr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a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version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load a new vers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new version after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line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nline edi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ffline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umbnails and universal viewing with web previe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agging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 for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Implementing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Introduction to the Alfresco workflow proce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mple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ut-of-the-box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fining and using simple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dentifing spaces and securit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fining the workflow proce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 simple workflow to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nding notifications to reviewers for approva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esting the simple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ccessing the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Implementing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Advanced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 user intera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ut-of-the-box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Out-of-the-box features of the workflow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ew inbox dashle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the workflow detail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assigning a task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ave and Clos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 information in the document details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Benefiting with Alfresco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76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5000"/>
          </a:bodyPr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enefiting with Alfresco Sha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ypes of Alfresco Share collaboration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eam collaboration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collaboration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 Case Study to explain Alfresco Share as a collaborative framework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nderstanding the require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nderstanding the users of the mark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49000"/>
          </a:bodyPr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Installation and Configur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Which installation option is suitable for you?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nterprise and community edi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perating Systems—Windows, Linux, UNIX, Mac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bases—Oracle, MS SQL Server, PostgreSQL, Apache iBATI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pplication servers—Tomcat, JBo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ortals (optional)—JBoss Portal, Lifera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Accessing the appl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Software require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roduction environment verif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rchitecture valid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alidating the environ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stalla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lfresco Sh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8000"/>
          </a:bodyPr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An overview of the Alfresco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The Spring Surf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The Alfresco Share structu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 Working with the Alfresco Share Surf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5. How data is stored in the Alfresco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6. Share configuration architectu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hare configura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nding Sha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verview of SurfBu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avaScript minif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avaScript debugg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9. Applications using the Alfresco Surf platfor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5000"/>
          </a:bodyPr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Alfresco security mode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sers and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Managing system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new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for people using People Find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by property from the People Finder compon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user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nother user's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the user's own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user's statu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u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abling a u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mporting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3000"/>
          </a:bodyPr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sub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group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e users of the mark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ser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the personal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e the dashboard layou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e dashlets and display ord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3000"/>
          </a:bodyPr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uthentication subsys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LDAP for centralized identity manage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DAP configuration with Ac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m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of themes available out-of-the-box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Alfresco logo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categori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ode brow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deleted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pository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3000"/>
          </a:bodyPr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uthentication subsys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LDAP for centralized identity manage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DAP configuration with Ac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m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of themes available out-of-the-box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Alfresco logo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categori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ode brow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deleted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pository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7:47:09Z</dcterms:created>
  <dc:creator>Krasimir Ivanov</dc:creator>
  <dc:description/>
  <dc:language>en-US</dc:language>
  <cp:lastModifiedBy/>
  <cp:revision>0</cp:revision>
  <dc:subject/>
  <dc:title/>
</cp:coreProperties>
</file>