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99B6A-105C-4D16-871B-D92F6E04E4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240" y="3925440"/>
            <a:ext cx="853452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53BA3-021D-4971-9C4C-EE1AC99E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1880" y="121896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392544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1880" y="392544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1CFEE-EA1B-4964-A761-EC5A403B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4000" y="12189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9400" y="12189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240" y="39254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4000" y="39254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9400" y="39254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B6885-F962-4DC4-9A6D-8AA154581E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240" y="12189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1648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01880" y="1218960"/>
            <a:ext cx="41648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1880" y="1218960"/>
            <a:ext cx="41648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240" y="392544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240" y="12189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44882-FF81-4DDA-9C24-DB171692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1648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1880" y="121896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01880" y="392544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1880" y="121896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240" y="3925440"/>
            <a:ext cx="853452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240" y="3925440"/>
            <a:ext cx="853452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880" y="121896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240" y="392544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01880" y="392544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14000" y="12189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9400" y="12189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240" y="39254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14000" y="39254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9400" y="39254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3F137-D6B1-4A06-AFA7-CEDF3EA7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1648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1880" y="1218960"/>
            <a:ext cx="41648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5290E-D64C-4109-A3E3-9A5B5727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1D6A7-BAC4-4A41-A4E2-75C94EA9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99840" y="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3A266-60BC-43C6-B5AD-CAF96A49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1880" y="1218960"/>
            <a:ext cx="41648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240" y="392544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544A9-13A3-4D5D-A8B6-68E38846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1648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1880" y="121896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1880" y="392544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E9B7E-E43E-4874-8736-0050B9D0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1880" y="121896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3925440"/>
            <a:ext cx="853452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7C711-0E7B-4D69-8DA0-506C0716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189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marL="291960" indent="-2919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1199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2" marL="1143000" indent="-19044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3" marL="1523880" indent="-190440">
              <a:spcBef>
                <a:spcPts val="1199"/>
              </a:spcBef>
              <a:buClr>
                <a:srgbClr val="d7281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4" marL="1905120" indent="-190440">
              <a:spcBef>
                <a:spcPts val="1199"/>
              </a:spcBef>
              <a:buClr>
                <a:srgbClr val="d7281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5" marL="1905120" indent="-190440">
              <a:spcBef>
                <a:spcPts val="1199"/>
              </a:spcBef>
              <a:buClr>
                <a:srgbClr val="5f5f5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6" marL="1905120" indent="-190440">
              <a:spcBef>
                <a:spcPts val="1199"/>
              </a:spcBef>
              <a:buClr>
                <a:srgbClr val="5f5f5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2814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552720"/>
            <a:ext cx="10670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5f5f5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5f5f5f"/>
                </a:solidFill>
                <a:latin typeface="Verdana"/>
              </a:rPr>
              <a:t>05/02/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96080" y="655272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5f5f5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474A-5DDA-41FA-99D7-74C99DDD7ACB}" type="slidenum">
              <a:rPr b="0" lang="fr-FR" sz="1000" spc="-1" strike="noStrike">
                <a:solidFill>
                  <a:srgbClr val="5f5f5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e10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5" name="gd-solucom" descr=""/>
          <p:cNvPicPr/>
          <p:nvPr/>
        </p:nvPicPr>
        <p:blipFill>
          <a:blip r:embed="rId2"/>
          <a:srcRect l="15417" t="31190" r="15715" b="16512"/>
          <a:stretch/>
        </p:blipFill>
        <p:spPr>
          <a:xfrm>
            <a:off x="0" y="0"/>
            <a:ext cx="13892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8429760" y="0"/>
            <a:ext cx="714240" cy="819000"/>
            <a:chOff x="8429760" y="0"/>
            <a:chExt cx="714240" cy="819000"/>
          </a:xfrm>
        </p:grpSpPr>
        <p:pic>
          <p:nvPicPr>
            <p:cNvPr id="7" name="logo_bas" descr=""/>
            <p:cNvPicPr/>
            <p:nvPr/>
          </p:nvPicPr>
          <p:blipFill>
            <a:blip r:embed="rId3"/>
            <a:stretch/>
          </p:blipFill>
          <p:spPr>
            <a:xfrm>
              <a:off x="8429760" y="533520"/>
              <a:ext cx="714240" cy="2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logo_haut" descr=""/>
            <p:cNvPicPr/>
            <p:nvPr/>
          </p:nvPicPr>
          <p:blipFill>
            <a:blip r:embed="rId4"/>
            <a:stretch/>
          </p:blipFill>
          <p:spPr>
            <a:xfrm>
              <a:off x="8429760" y="0"/>
              <a:ext cx="714240" cy="5619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4960" y="3048120"/>
            <a:ext cx="5257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d72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47" name="gd-solucom" descr=""/>
          <p:cNvPicPr/>
          <p:nvPr/>
        </p:nvPicPr>
        <p:blipFill>
          <a:blip r:embed="rId2"/>
          <a:srcRect l="15417" t="22016" r="15417" b="16512"/>
          <a:stretch/>
        </p:blipFill>
        <p:spPr>
          <a:xfrm>
            <a:off x="0" y="0"/>
            <a:ext cx="3556080" cy="3429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2" marL="914400" indent="38160" algn="ctr">
              <a:spcBef>
                <a:spcPts val="451"/>
              </a:spcBef>
              <a:buClr>
                <a:srgbClr val="d72814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5f5f5f"/>
              </a:solidFill>
              <a:latin typeface="Verdana"/>
            </a:endParaRPr>
          </a:p>
          <a:p>
            <a:pPr lvl="3" marL="1333440" algn="ctr">
              <a:spcBef>
                <a:spcPts val="400"/>
              </a:spcBef>
              <a:buClr>
                <a:srgbClr val="d72814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5f5f5f"/>
              </a:solidFill>
              <a:latin typeface="Verdana"/>
            </a:endParaRPr>
          </a:p>
          <a:p>
            <a:pPr lvl="4" marL="1714680" algn="ctr">
              <a:spcBef>
                <a:spcPts val="349"/>
              </a:spcBef>
              <a:buClr>
                <a:srgbClr val="d72814"/>
              </a:buClr>
              <a:buFont typeface="Verdana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5f5f5f"/>
              </a:solidFill>
              <a:latin typeface="Verdana"/>
            </a:endParaRPr>
          </a:p>
          <a:p>
            <a:pPr lvl="5" marL="1714680">
              <a:spcBef>
                <a:spcPts val="349"/>
              </a:spcBef>
              <a:buClr>
                <a:srgbClr val="5f5f5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5f5f5f"/>
              </a:solidFill>
              <a:latin typeface="Verdana"/>
            </a:endParaRPr>
          </a:p>
          <a:p>
            <a:pPr lvl="6" marL="1714680">
              <a:spcBef>
                <a:spcPts val="349"/>
              </a:spcBef>
              <a:buClr>
                <a:srgbClr val="5f5f5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66720" y="2514240"/>
            <a:ext cx="4800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f5f5f"/>
                </a:solidFill>
                <a:latin typeface="Verdana"/>
              </a:rPr>
              <a:t>Jeudis de l’ATICA</a:t>
            </a:r>
            <a:endParaRPr b="0" lang="en-US" sz="36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266720" y="388584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f5f5f"/>
                </a:solidFill>
                <a:latin typeface="Verdana"/>
              </a:rPr>
              <a:t>Projet EAI et Web Services</a:t>
            </a: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f5f5f"/>
                </a:solidFill>
                <a:latin typeface="Verdana"/>
              </a:rPr>
              <a:t>chez un Opérateur international</a:t>
            </a: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5562720"/>
            <a:ext cx="525780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05 février 2003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Phuoc HO-HUU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Wingdings"/>
                <a:ea typeface="Wingdings"/>
              </a:rPr>
              <a:t></a:t>
            </a: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phuoc.ho-huu@solucom.fr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105520" y="685800"/>
            <a:ext cx="2284920" cy="2056680"/>
            <a:chOff x="5105520" y="685800"/>
            <a:chExt cx="2284920" cy="2056680"/>
          </a:xfrm>
        </p:grpSpPr>
        <p:pic>
          <p:nvPicPr>
            <p:cNvPr id="89" name="logo_bas" descr=""/>
            <p:cNvPicPr/>
            <p:nvPr/>
          </p:nvPicPr>
          <p:blipFill>
            <a:blip r:embed="rId1"/>
            <a:stretch/>
          </p:blipFill>
          <p:spPr>
            <a:xfrm>
              <a:off x="5105520" y="2024640"/>
              <a:ext cx="228492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logo_haut" descr=""/>
            <p:cNvPicPr/>
            <p:nvPr/>
          </p:nvPicPr>
          <p:blipFill>
            <a:blip r:embed="rId2"/>
            <a:stretch/>
          </p:blipFill>
          <p:spPr>
            <a:xfrm>
              <a:off x="5105520" y="685800"/>
              <a:ext cx="2284920" cy="141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76320" y="6620040"/>
            <a:ext cx="259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5f5f5f"/>
                </a:solidFill>
                <a:latin typeface="Verdana"/>
              </a:rPr>
              <a:t>Réf. : PHH/0368D1.01.03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629400" y="4267080"/>
            <a:ext cx="1371600" cy="533520"/>
          </a:xfrm>
          <a:prstGeom prst="rect">
            <a:avLst/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EAI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Contexte du projet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Architecture cible</a:t>
            </a:r>
            <a:br>
              <a:rPr sz="20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Flux de mise à jour du référentiel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2057400"/>
            <a:ext cx="8229600" cy="0"/>
          </a:xfrm>
          <a:prstGeom prst="line">
            <a:avLst/>
          </a:prstGeom>
          <a:ln w="936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38480" y="5715000"/>
            <a:ext cx="1447920" cy="60948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Applications Terminaux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3840" y="1523880"/>
            <a:ext cx="761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Extérieur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Internet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5638680"/>
            <a:ext cx="8229600" cy="0"/>
          </a:xfrm>
          <a:prstGeom prst="line">
            <a:avLst/>
          </a:prstGeom>
          <a:ln w="936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62720" y="5715000"/>
            <a:ext cx="1447560" cy="60948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Applications Client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86600" y="5715000"/>
            <a:ext cx="1447920" cy="60948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Applications Abonnement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52480" y="175248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Données locales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2759040"/>
            <a:ext cx="762120" cy="304920"/>
          </a:xfrm>
          <a:prstGeom prst="rect">
            <a:avLst/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SVA 1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43200" y="2759040"/>
            <a:ext cx="762120" cy="304920"/>
          </a:xfrm>
          <a:prstGeom prst="rect">
            <a:avLst/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SVA 2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2149560"/>
            <a:ext cx="609480" cy="53316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 1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2133720"/>
            <a:ext cx="609480" cy="53316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 2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2682720"/>
            <a:ext cx="0" cy="763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2666880"/>
            <a:ext cx="0" cy="763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10280" y="3124080"/>
            <a:ext cx="609840" cy="5335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38480" y="3048120"/>
            <a:ext cx="1600200" cy="685800"/>
          </a:xfrm>
          <a:prstGeom prst="rect">
            <a:avLst/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Interfac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Web Service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3962520"/>
            <a:ext cx="1066680" cy="685800"/>
          </a:xfrm>
          <a:prstGeom prst="rect">
            <a:avLst/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Portail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81080" y="4800600"/>
            <a:ext cx="914400" cy="7621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Abonné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Portail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7" idx="2"/>
            <a:endCxn id="238" idx="1"/>
          </p:cNvCxnSpPr>
          <p:nvPr/>
        </p:nvCxnSpPr>
        <p:spPr>
          <a:xfrm flipV="1" rot="10800000">
            <a:off x="2437560" y="4647960"/>
            <a:ext cx="1080" cy="153000"/>
          </a:xfrm>
          <a:prstGeom prst="bentConnector2">
            <a:avLst/>
          </a:prstGeom>
          <a:ln w="9360">
            <a:solidFill>
              <a:srgbClr val="5f5f5f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5029200" y="2286000"/>
            <a:ext cx="609480" cy="5335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2819520"/>
            <a:ext cx="0" cy="2286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4800" y="1066680"/>
            <a:ext cx="609480" cy="5335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 3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1600200"/>
            <a:ext cx="0" cy="763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038480" y="1676520"/>
            <a:ext cx="762120" cy="304560"/>
          </a:xfrm>
          <a:prstGeom prst="rect">
            <a:avLst/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SVA 3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9120" y="3429000"/>
            <a:ext cx="1226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Services à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Valeur Ajouté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8520" y="5867280"/>
            <a:ext cx="1148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Systèm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d’Information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2362320"/>
            <a:ext cx="182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Authentification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Autorisation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00800" y="289548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Référentiel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121932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Données locales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762440" y="4267080"/>
            <a:ext cx="3467520" cy="1447920"/>
            <a:chOff x="4762440" y="4267080"/>
            <a:chExt cx="3467520" cy="1447920"/>
          </a:xfrm>
        </p:grpSpPr>
        <p:cxnSp>
          <p:nvCxnSpPr>
            <p:cNvPr id="251" name=""/>
            <p:cNvCxnSpPr>
              <a:stCxn id="227" idx="0"/>
              <a:endCxn id="220" idx="3"/>
            </p:cNvCxnSpPr>
            <p:nvPr/>
          </p:nvCxnSpPr>
          <p:spPr>
            <a:xfrm flipH="1" flipV="1" rot="5400000">
              <a:off x="7314840" y="5028480"/>
              <a:ext cx="1181880" cy="191160"/>
            </a:xfrm>
            <a:prstGeom prst="bentConnector4">
              <a:avLst>
                <a:gd name="adj1" fmla="val 38695"/>
                <a:gd name="adj2" fmla="val 220000"/>
              </a:avLst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</p:cxnSp>
        <p:sp>
          <p:nvSpPr>
            <p:cNvPr id="252" name=""/>
            <p:cNvSpPr/>
            <p:nvPr/>
          </p:nvSpPr>
          <p:spPr>
            <a:xfrm>
              <a:off x="6279840" y="495288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f5f5f"/>
                  </a:solidFill>
                  <a:latin typeface="Verdana"/>
                </a:rPr>
                <a:t>Mise à jour</a:t>
              </a:r>
              <a:endParaRPr b="0" lang="en-US" sz="1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65440" y="426708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f5f5f"/>
                  </a:solidFill>
                  <a:latin typeface="Verdana"/>
                </a:rPr>
                <a:t>Mise à jour</a:t>
              </a:r>
              <a:endParaRPr b="0" lang="en-US" sz="1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13360" y="541008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f5f5f"/>
                  </a:solidFill>
                  <a:latin typeface="Verdana"/>
                </a:rPr>
                <a:t>Mise à jour</a:t>
              </a:r>
              <a:endParaRPr b="0" lang="en-US" sz="1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26" idx="0"/>
              <a:endCxn id="220" idx="2"/>
            </p:cNvCxnSpPr>
            <p:nvPr/>
          </p:nvCxnSpPr>
          <p:spPr>
            <a:xfrm flipH="1" flipV="1" rot="5400000">
              <a:off x="6342840" y="4743360"/>
              <a:ext cx="915120" cy="1028880"/>
            </a:xfrm>
            <a:prstGeom prst="bentConnector3">
              <a:avLst>
                <a:gd name="adj1" fmla="val 49980"/>
              </a:avLst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23" idx="0"/>
              <a:endCxn id="220" idx="1"/>
            </p:cNvCxnSpPr>
            <p:nvPr/>
          </p:nvCxnSpPr>
          <p:spPr>
            <a:xfrm flipH="1" flipV="1" rot="5400000">
              <a:off x="5105160" y="4190400"/>
              <a:ext cx="1181880" cy="1867680"/>
            </a:xfrm>
            <a:prstGeom prst="bentConnector2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</p:cxnSp>
      </p:grpSp>
      <p:grpSp>
        <p:nvGrpSpPr>
          <p:cNvPr id="257" name=""/>
          <p:cNvGrpSpPr/>
          <p:nvPr/>
        </p:nvGrpSpPr>
        <p:grpSpPr>
          <a:xfrm>
            <a:off x="7315200" y="3657600"/>
            <a:ext cx="1035000" cy="609480"/>
            <a:chOff x="7315200" y="3657600"/>
            <a:chExt cx="1035000" cy="609480"/>
          </a:xfrm>
        </p:grpSpPr>
        <p:sp>
          <p:nvSpPr>
            <p:cNvPr id="258" name=""/>
            <p:cNvSpPr/>
            <p:nvPr/>
          </p:nvSpPr>
          <p:spPr>
            <a:xfrm>
              <a:off x="7315200" y="3657600"/>
              <a:ext cx="0" cy="6094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27520" y="388620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f5f5f"/>
                  </a:solidFill>
                  <a:latin typeface="Verdana"/>
                </a:rPr>
                <a:t>Mise à jour</a:t>
              </a:r>
              <a:endParaRPr b="0" lang="en-US" sz="1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0A298-2EB7-4D24-84EA-0DC5982D845E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10120-C986-4714-8911-55046FD9AF9A}" type="datetime5">
              <a:rPr lang="en-US"/>
              <a:t>Jul 31, 2026</a:t>
            </a:fld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629400" y="4267080"/>
            <a:ext cx="1371600" cy="533520"/>
          </a:xfrm>
          <a:prstGeom prst="rect">
            <a:avLst/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EAI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Contexte du projet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Architecture cible</a:t>
            </a:r>
            <a:br>
              <a:rPr sz="20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Flux de mise à jour du SI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2057400"/>
            <a:ext cx="8229600" cy="0"/>
          </a:xfrm>
          <a:prstGeom prst="line">
            <a:avLst/>
          </a:prstGeom>
          <a:ln w="936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480" y="5715000"/>
            <a:ext cx="1447920" cy="60948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Applications Terminaux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3840" y="1523880"/>
            <a:ext cx="761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Extérieur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Internet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5638680"/>
            <a:ext cx="8229600" cy="0"/>
          </a:xfrm>
          <a:prstGeom prst="line">
            <a:avLst/>
          </a:prstGeom>
          <a:ln w="936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5715000"/>
            <a:ext cx="1447560" cy="60948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Applications Client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86600" y="5715000"/>
            <a:ext cx="1447920" cy="60948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Applications Abonnement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52480" y="175248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Données locales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2759040"/>
            <a:ext cx="762120" cy="304920"/>
          </a:xfrm>
          <a:prstGeom prst="rect">
            <a:avLst/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SVA 1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2759040"/>
            <a:ext cx="762120" cy="304920"/>
          </a:xfrm>
          <a:prstGeom prst="rect">
            <a:avLst/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SVA 2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2149560"/>
            <a:ext cx="609480" cy="53316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 1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19520" y="2133720"/>
            <a:ext cx="609480" cy="53316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 2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09680" y="2682720"/>
            <a:ext cx="0" cy="763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2666880"/>
            <a:ext cx="0" cy="763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3124080"/>
            <a:ext cx="609840" cy="5335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38480" y="3048120"/>
            <a:ext cx="1600200" cy="685800"/>
          </a:xfrm>
          <a:prstGeom prst="rect">
            <a:avLst/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Interfac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Web Service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05120" y="3962520"/>
            <a:ext cx="1066680" cy="685800"/>
          </a:xfrm>
          <a:prstGeom prst="rect">
            <a:avLst/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Portail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800600"/>
            <a:ext cx="914400" cy="7621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Abonné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Portail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7" idx="2"/>
            <a:endCxn id="278" idx="1"/>
          </p:cNvCxnSpPr>
          <p:nvPr/>
        </p:nvCxnSpPr>
        <p:spPr>
          <a:xfrm flipV="1" rot="10800000">
            <a:off x="2437560" y="4647960"/>
            <a:ext cx="1080" cy="153000"/>
          </a:xfrm>
          <a:prstGeom prst="bentConnector2">
            <a:avLst/>
          </a:prstGeom>
          <a:ln w="9360">
            <a:solidFill>
              <a:srgbClr val="5f5f5f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5029200" y="2286000"/>
            <a:ext cx="609480" cy="5335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819520"/>
            <a:ext cx="0" cy="2286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14800" y="1066680"/>
            <a:ext cx="609480" cy="5335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 3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19720" y="1600200"/>
            <a:ext cx="0" cy="763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38480" y="1676520"/>
            <a:ext cx="762120" cy="304560"/>
          </a:xfrm>
          <a:prstGeom prst="rect">
            <a:avLst/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SVA 3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9120" y="3429000"/>
            <a:ext cx="1226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Services à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Valeur Ajouté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8520" y="5867280"/>
            <a:ext cx="1148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Systèm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d’Information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2362320"/>
            <a:ext cx="182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Authentification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Autorisation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289548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Référentiel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95680" y="121932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Données locales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762440" y="4267080"/>
            <a:ext cx="3467520" cy="1447920"/>
            <a:chOff x="4762440" y="4267080"/>
            <a:chExt cx="3467520" cy="1447920"/>
          </a:xfrm>
        </p:grpSpPr>
        <p:cxnSp>
          <p:nvCxnSpPr>
            <p:cNvPr id="291" name=""/>
            <p:cNvCxnSpPr>
              <a:stCxn id="267" idx="0"/>
              <a:endCxn id="260" idx="3"/>
            </p:cNvCxnSpPr>
            <p:nvPr/>
          </p:nvCxnSpPr>
          <p:spPr>
            <a:xfrm flipH="1" flipV="1" rot="5400000">
              <a:off x="7314840" y="5028480"/>
              <a:ext cx="1181880" cy="191160"/>
            </a:xfrm>
            <a:prstGeom prst="bentConnector4">
              <a:avLst>
                <a:gd name="adj1" fmla="val 38695"/>
                <a:gd name="adj2" fmla="val 220000"/>
              </a:avLst>
            </a:prstGeom>
            <a:ln w="9360">
              <a:solidFill>
                <a:srgbClr val="5f5f5f"/>
              </a:solidFill>
              <a:miter/>
              <a:head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6279840" y="495288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f5f5f"/>
                  </a:solidFill>
                  <a:latin typeface="Verdana"/>
                </a:rPr>
                <a:t>Mise à jour</a:t>
              </a:r>
              <a:endParaRPr b="0" lang="en-US" sz="1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65440" y="426708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f5f5f"/>
                  </a:solidFill>
                  <a:latin typeface="Verdana"/>
                </a:rPr>
                <a:t>Mise à jour</a:t>
              </a:r>
              <a:endParaRPr b="0" lang="en-US" sz="1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13360" y="541008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f5f5f"/>
                  </a:solidFill>
                  <a:latin typeface="Verdana"/>
                </a:rPr>
                <a:t>Mise à jour</a:t>
              </a:r>
              <a:endParaRPr b="0" lang="en-US" sz="1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66" idx="0"/>
              <a:endCxn id="260" idx="2"/>
            </p:cNvCxnSpPr>
            <p:nvPr/>
          </p:nvCxnSpPr>
          <p:spPr>
            <a:xfrm flipH="1" flipV="1" rot="5400000">
              <a:off x="6342840" y="4743360"/>
              <a:ext cx="915120" cy="1028880"/>
            </a:xfrm>
            <a:prstGeom prst="bentConnector3">
              <a:avLst>
                <a:gd name="adj1" fmla="val 49980"/>
              </a:avLst>
            </a:prstGeom>
            <a:ln w="9360">
              <a:solidFill>
                <a:srgbClr val="5f5f5f"/>
              </a:solidFill>
              <a:miter/>
              <a:headEnd len="med" type="triangle" w="med"/>
            </a:ln>
          </p:spPr>
        </p:cxnSp>
        <p:cxnSp>
          <p:nvCxnSpPr>
            <p:cNvPr id="296" name=""/>
            <p:cNvCxnSpPr>
              <a:stCxn id="263" idx="0"/>
              <a:endCxn id="260" idx="1"/>
            </p:cNvCxnSpPr>
            <p:nvPr/>
          </p:nvCxnSpPr>
          <p:spPr>
            <a:xfrm flipH="1" flipV="1" rot="5400000">
              <a:off x="5105160" y="4190400"/>
              <a:ext cx="1181880" cy="1867680"/>
            </a:xfrm>
            <a:prstGeom prst="bentConnector2">
              <a:avLst/>
            </a:prstGeom>
            <a:ln w="9360">
              <a:solidFill>
                <a:srgbClr val="5f5f5f"/>
              </a:solidFill>
              <a:miter/>
              <a:headEnd len="med" type="triangle" w="med"/>
            </a:ln>
          </p:spPr>
        </p:cxnSp>
      </p:grpSp>
      <p:grpSp>
        <p:nvGrpSpPr>
          <p:cNvPr id="297" name=""/>
          <p:cNvGrpSpPr/>
          <p:nvPr/>
        </p:nvGrpSpPr>
        <p:grpSpPr>
          <a:xfrm>
            <a:off x="7315200" y="3657600"/>
            <a:ext cx="1035000" cy="609480"/>
            <a:chOff x="7315200" y="3657600"/>
            <a:chExt cx="1035000" cy="609480"/>
          </a:xfrm>
        </p:grpSpPr>
        <p:sp>
          <p:nvSpPr>
            <p:cNvPr id="298" name=""/>
            <p:cNvSpPr/>
            <p:nvPr/>
          </p:nvSpPr>
          <p:spPr>
            <a:xfrm>
              <a:off x="7315200" y="3657600"/>
              <a:ext cx="0" cy="6094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27520" y="380988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f5f5f"/>
                  </a:solidFill>
                  <a:latin typeface="Verdana"/>
                </a:rPr>
                <a:t>Mise à jour</a:t>
              </a:r>
              <a:endParaRPr b="0" lang="en-US" sz="1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29605-A4C2-46BA-AE97-DA98830B736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4E033-2457-44E8-82B2-D51A755D5145}" type="datetime5">
              <a:rPr lang="en-US"/>
              <a:t>Jul 31, 2026</a:t>
            </a:fld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228600" y="1188720"/>
            <a:ext cx="861048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 fontScale="94000"/>
          </a:bodyPr>
          <a:p>
            <a:pPr marL="274320" indent="-27432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Projet pris en charge par une entité transverse d’architecture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16040" indent="-26244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Vision globale des SVA existants et à venir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16040" indent="-26244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Vision globale de l’architecture technique (SI, réseau)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74320" indent="-27432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Existence de recommandations EAI « groupe »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16040" indent="-26244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EAI technique : ObjectSwith de Kabira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16040" indent="-26244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EAI métier : webMethods Enterprise Server de webMethod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74320" indent="-27432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Support par deux centres internes d’expertise EAI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16040" indent="-26244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Le premier pour ObjectSwith et le second pour webMethods Enterprise Server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16040" indent="-26244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Capitalisation des connaissances EAI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16040" indent="-26244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Retour d’expérience des projets EAI au sein du groupe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Contexte du projet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Organisation interne 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D6DAA-4DCE-4587-920F-E298BDC3D7E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D2CA1-BD16-4125-B205-57D33A8B966D}" type="datetime5">
              <a:rPr lang="en-US"/>
              <a:t>Jul 31, 2026</a:t>
            </a:fld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228600" y="1188720"/>
            <a:ext cx="861048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 fontScale="98000"/>
          </a:bodyPr>
          <a:p>
            <a:pPr marL="285840" indent="-28584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Lancement d’un « Request For Information »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46640" indent="-2736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Deux problématiques proches et peut-être une seule solution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46640" indent="-2736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Études des solutions pouvant répondre globalement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85840" indent="-28584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Lancement d’un « Request For Quotation »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46640" indent="-2736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Outils identifiés lors du RFI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46640" indent="-2736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Consultation des SSIIs présentes en France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85840" indent="-28584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Mise en œuvre pour la France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46640" indent="-2736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Prototype pour valider l’architecture et les performanc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46640" indent="-2736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Spécifications fonctionnelles et techniques définitiv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46640" indent="-2736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Intégration sur la future plate-forme de production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46640" indent="-2736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Mise en production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Contexte du projet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Démarche projet 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7EE6E-1C17-48C9-A220-DD3BAE528C7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6E6F5-08FF-4B8C-92D0-526F43AB6930}" type="datetime5">
              <a:rPr lang="en-US"/>
              <a:t>Jul 31, 2026</a:t>
            </a:fld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292640" y="1219320"/>
            <a:ext cx="347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d72814"/>
                </a:solidFill>
                <a:latin typeface="Verdana"/>
              </a:rPr>
              <a:t>Agenda</a:t>
            </a:r>
            <a:endParaRPr b="0" lang="en-US" sz="3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67080" y="3551400"/>
            <a:ext cx="487692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1. Contexte du proje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72814"/>
                </a:solidFill>
                <a:latin typeface="Verdana"/>
              </a:rPr>
              <a:t>2. Études des offres du marché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3. Appel d’offres « SSII »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4. Mise en œuvre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5. Conclusion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5400000">
            <a:off x="3895200" y="41911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d22816"/>
          </a:solidFill>
          <a:ln cap="sq" w="12600">
            <a:solidFill>
              <a:srgbClr val="e10e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28600" y="1295280"/>
            <a:ext cx="41925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675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Orientation B2B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675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Ouverture vers l’extérieur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675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Protocoles standardisés et ouverts</a:t>
            </a:r>
            <a:br>
              <a:rPr sz="1800"/>
            </a:b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675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Pas de bibliothèques de connecteurs spécifiques</a:t>
            </a:r>
            <a:br>
              <a:rPr sz="1800"/>
            </a:b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675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Pas de transformation des données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675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Gestion du workflow émergente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675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Impacts forts sur la sécurité (externe SI)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95680" y="1295280"/>
            <a:ext cx="41925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8604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EAI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675"/>
              </a:spcBef>
              <a:buClr>
                <a:srgbClr val="d72814"/>
              </a:buClr>
              <a:buFont typeface="Webdings" charset="2"/>
              <a:buChar char=""/>
              <a:tabLst>
                <a:tab algn="l" pos="8604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Uniformisation du SI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675"/>
              </a:spcBef>
              <a:buClr>
                <a:srgbClr val="d72814"/>
              </a:buClr>
              <a:buFont typeface="Webdings" charset="2"/>
              <a:buChar char=""/>
              <a:tabLst>
                <a:tab algn="l" pos="8604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Applications du SI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675"/>
              </a:spcBef>
              <a:buClr>
                <a:srgbClr val="d72814"/>
              </a:buClr>
              <a:buFont typeface="Webdings" charset="2"/>
              <a:buChar char=""/>
              <a:tabLst>
                <a:tab algn="l" pos="8604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Généralement propriétaires, même si support de standards comme XML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675"/>
              </a:spcBef>
              <a:buClr>
                <a:srgbClr val="d72814"/>
              </a:buClr>
              <a:buFont typeface="Webdings" charset="2"/>
              <a:buChar char=""/>
              <a:tabLst>
                <a:tab algn="l" pos="8604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Bibliothèques riches de connecteurs spécifiques (SI, réseau, etc.)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675"/>
              </a:spcBef>
              <a:buClr>
                <a:srgbClr val="d72814"/>
              </a:buClr>
              <a:buFont typeface="Webdings" charset="2"/>
              <a:buChar char=""/>
              <a:tabLst>
                <a:tab algn="l" pos="8604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Transformation des données</a:t>
            </a:r>
            <a:br>
              <a:rPr sz="1800"/>
            </a:b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675"/>
              </a:spcBef>
              <a:buClr>
                <a:srgbClr val="d72814"/>
              </a:buClr>
              <a:buFont typeface="Webdings" charset="2"/>
              <a:buChar char=""/>
              <a:tabLst>
                <a:tab algn="l" pos="8604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Gestion du workflow</a:t>
            </a:r>
            <a:br>
              <a:rPr sz="1800"/>
            </a:b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675"/>
              </a:spcBef>
              <a:buClr>
                <a:srgbClr val="d72814"/>
              </a:buClr>
              <a:buFont typeface="Webdings" charset="2"/>
              <a:buChar char=""/>
              <a:tabLst>
                <a:tab algn="l" pos="8604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Impacts modérés sur la sécurité (interne SI)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600200" y="0"/>
            <a:ext cx="571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Études des offres du marché 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Web Services et EAI</a:t>
            </a:r>
            <a:br>
              <a:rPr sz="20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Des différences…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4D246-9C69-4820-91EB-9E62B69AD3BE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4CA90-D4D3-473F-8ECC-9ED0C0E8B5D8}" type="datetime5">
              <a:rPr lang="en-US"/>
              <a:t>Jul 31, 2026</a:t>
            </a:fld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228600" y="1188720"/>
            <a:ext cx="861048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 fontScale="97000"/>
          </a:bodyPr>
          <a:p>
            <a:pPr marL="282960" indent="-282960">
              <a:spcBef>
                <a:spcPts val="499"/>
              </a:spcBef>
              <a:spcAft>
                <a:spcPts val="499"/>
              </a:spcAft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Facilitateurs de communication inter application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82960" indent="-282960">
              <a:spcBef>
                <a:spcPts val="499"/>
              </a:spcBef>
              <a:spcAft>
                <a:spcPts val="499"/>
              </a:spcAft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Projets transverses d’urbanisation du SI et de B2B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82960" indent="-2829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Prise en compte de la dynamique « Web Services » par les éditeurs d’EAI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39080" indent="-2707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Jusqu’ici, uniquement support de XML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39080" indent="-2707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Bientôt, support natif de SOAP et WSDL (webMethods Integration Server 6 par exemple)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82960" indent="-2829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Bientôt, les Web Services permettront de :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39080" indent="-270720">
              <a:spcBef>
                <a:spcPts val="675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Standardiser les interfaces de communication des EAI</a:t>
            </a:r>
            <a:endParaRPr b="0" lang="en-US" sz="1800" spc="-1" strike="noStrike">
              <a:solidFill>
                <a:srgbClr val="5f5f5f"/>
              </a:solidFill>
              <a:latin typeface="Verdana"/>
            </a:endParaRPr>
          </a:p>
          <a:p>
            <a:pPr lvl="1" marL="739080" indent="-270720">
              <a:spcBef>
                <a:spcPts val="675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Faire de l’EAI à couplage faible</a:t>
            </a:r>
            <a:endParaRPr b="0" lang="en-US" sz="1800" spc="-1" strike="noStrike">
              <a:solidFill>
                <a:srgbClr val="5f5f5f"/>
              </a:solidFill>
              <a:latin typeface="Verdana"/>
            </a:endParaRPr>
          </a:p>
          <a:p>
            <a:pPr marL="282960" indent="-282960">
              <a:spcBef>
                <a:spcPts val="901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Web Services et EAI sont complémentaire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Études des offres du marché 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Web Services et EAI</a:t>
            </a:r>
            <a:br>
              <a:rPr sz="20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Et des points communs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47727-F87E-4930-AD71-DF5E102A32D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9F195-6C5E-468E-BB13-9CF7A7B0FFD1}" type="datetime5">
              <a:rPr lang="en-US"/>
              <a:t>Jul 31, 2026</a:t>
            </a:fld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228600" y="1188720"/>
            <a:ext cx="861048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 fontScale="91000"/>
          </a:bodyPr>
          <a:p>
            <a:pPr marL="265680" indent="-26568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Outil parfait = Web Services + EAI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65680" indent="-26568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Des offres Web Services et des offres EAI étudiées (entretiens avec les éditeurs, études de documents)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693360" indent="-2541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Aepona Causeway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93360" indent="-2541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IBM CrossWorld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93360" indent="-2541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Incomit Movade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93360" indent="-2541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Microsoft .NET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93360" indent="-2541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Solution développée en interne par une filiale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65680" indent="-26568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Deux offres privilégiées pour des raisons financières et les fortes compétences interne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693360" indent="-2541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ObjectSwitch de Kabira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93360" indent="-2541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webMethods Enterprise Server de webMethod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2" marL="10400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Études des offres du marché 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A la recherche de l’outil idéal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7D99E-A08E-4936-933B-FFA90D36450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DF569-8EDB-475E-8B25-85FC4506CDFC}" type="datetime5">
              <a:rPr lang="en-US"/>
              <a:t>Jul 31, 2026</a:t>
            </a:fld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28600" y="1188720"/>
            <a:ext cx="861048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 fontScale="90000"/>
          </a:bodyPr>
          <a:p>
            <a:pPr marL="262440" indent="-26244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Outil d’EAI technique proposant ses propres outils de développement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685800" indent="-25128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Modélisation UML (Rational Rose avec plug-in)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62440" indent="-26244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Forte capacité à intégrer des équipements télécom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685800" indent="-25128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Nombreux protocoles télécoms supporté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85800" indent="-25128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Arial"/>
              </a:rPr>
              <a:t>Nombreuses références de projets en production en environnement télécoms (médiation et activation de services)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85800" indent="-25128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Arial"/>
              </a:rPr>
              <a:t>Existence de produits « clés en main » répondant à certains besoins spécifiques orientés opérateur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62440" indent="-26244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Arial"/>
              </a:rPr>
              <a:t>Montées en charge importantes possibles et robustesse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62440" indent="-26244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Arial"/>
              </a:rPr>
              <a:t>Complexité des développement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62440" indent="-26244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Arial"/>
              </a:rPr>
              <a:t>Solution de workflow peu pérenne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Études des offres du marché 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ObjectSwitch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59BE0-52BB-4B07-A852-57D03BD20A0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953EE-6638-4EA3-B7FF-38D1782C7B03}" type="datetime5">
              <a:rPr lang="en-US"/>
              <a:t>Jul 31, 2026</a:t>
            </a:fld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228600" y="1188720"/>
            <a:ext cx="861048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marL="291960" indent="-2919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Outil d’EAI généraliste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Forte capacité à intégrer des applications de type SI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Catalogue important d’adaptateurs SI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Progiciels, bases de données, grands systèm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Peu de compétences techniques pointues requise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Arial"/>
              </a:rPr>
              <a:t>Outils de supervision technique et fonctionnelle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Arial"/>
              </a:rPr>
              <a:t>Peu de connecteurs techniques, notamment télécom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Arial"/>
              </a:rPr>
              <a:t>Performances très en deçà de celles d’ObjectSwitch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Études des offres du marché 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webMethods Enterprise Server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F4C84-E1F3-47E2-B20D-865062ABB09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99349-48B8-4EE4-A030-CCD9ABD178AC}" type="datetime5">
              <a:rPr lang="en-US"/>
              <a:t>Jul 31, 2026</a:t>
            </a:fld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292640" y="1219320"/>
            <a:ext cx="347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d72814"/>
                </a:solidFill>
                <a:latin typeface="Verdana"/>
              </a:rPr>
              <a:t>Agenda</a:t>
            </a:r>
            <a:endParaRPr b="0" lang="en-US" sz="3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3551400"/>
            <a:ext cx="487692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72814"/>
                </a:solidFill>
                <a:latin typeface="Verdana"/>
              </a:rPr>
              <a:t>1. Contexte du proje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2. Études des offres du marché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3. Appel d’offres « SSII »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4. Mise en œuvre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5. Conclusion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895200" y="36910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d22816"/>
          </a:solidFill>
          <a:ln cap="sq" w="12600">
            <a:solidFill>
              <a:srgbClr val="e10e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228600" y="1188720"/>
            <a:ext cx="861048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 fontScale="96000"/>
          </a:bodyPr>
          <a:p>
            <a:pPr marL="280080" indent="-28008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Bibliothèque d’adaptateurs (30%)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31520" indent="-26784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Protocoles Web Services (SOAP, HTTP, XML-RPC)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31520" indent="-26784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Autres protocoles (JDBC, LDAP, RMI, Tuxedo, MQSeries)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80080" indent="-28008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Richesse fonctionnelle de l’outil (30%)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31520" indent="-26784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Modules d’authentification / autorisation (partenaires)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31520" indent="-26784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Types de communication supportés (message, transaction)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31520" indent="-26784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Outil de gestion du workflow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80080" indent="-28008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Critères commerciaux (15%)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31520" indent="-26784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Références pour des volumes et performances comparabl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31520" indent="-26784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Références pour des contextes fonctionnels comparabl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80080" indent="-28008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Performances et haute disponibilité (25%)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Études des offres du marché 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Critères d’évaluation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E4F62-CCED-4C89-9D95-00FC3DEF56C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BC06E-D51F-4F08-A162-550A5DA8B309}" type="datetime5">
              <a:rPr lang="en-US"/>
              <a:t>Jul 31, 2026</a:t>
            </a:fld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228600" y="1188720"/>
            <a:ext cx="861048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 fontScale="92000"/>
          </a:bodyPr>
          <a:p>
            <a:pPr marL="268560" indent="-2685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Deux solutions supérieure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00920" indent="-25668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webMethods Enterprise Server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00920" indent="-25668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ObjectSwitch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68560" indent="-2685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Deux solutions légèrement en retrait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00920" indent="-25668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Solution développée en interne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00920" indent="-25668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IBM CrossWorld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68560" indent="-2685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Recommandations finale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00920" indent="-25668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Une conclusion importante : pas d’outil parfait à ce jour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00920" indent="-25668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Utilisation de 2 outils pour couvrir l’ensemble des besoin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00920" indent="-25668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webMethods Enterprise Server pour l’intégration des </a:t>
            </a:r>
            <a:r>
              <a:rPr b="0" lang="fr-FR" sz="2000" spc="-1" strike="noStrike">
                <a:solidFill>
                  <a:srgbClr val="308987"/>
                </a:solidFill>
                <a:latin typeface="Verdana"/>
              </a:rPr>
              <a:t>données</a:t>
            </a: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 fournies par les applications du SI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00920" indent="-25668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Solution développée en interne pour les </a:t>
            </a:r>
            <a:r>
              <a:rPr b="0" lang="fr-FR" sz="2000" spc="-1" strike="noStrike">
                <a:solidFill>
                  <a:srgbClr val="308987"/>
                </a:solidFill>
                <a:latin typeface="Verdana"/>
              </a:rPr>
              <a:t>communication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Études des offres du marché 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Bilan du RFI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59D20-6542-4F2C-AA34-8C703B5AA60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00CD6-7110-4B8D-85D9-B6BB8D71B698}" type="datetime5">
              <a:rPr lang="en-US"/>
              <a:t>Jul 31, 2026</a:t>
            </a:fld>
          </a:p>
        </p:txBody>
      </p: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914400" y="1523880"/>
            <a:ext cx="7315200" cy="4724640"/>
          </a:xfrm>
          <a:prstGeom prst="rect">
            <a:avLst/>
          </a:prstGeom>
          <a:solidFill>
            <a:srgbClr val="e6dcc1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Étude des offres du marché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Couverture des besoins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6905880" y="1600200"/>
            <a:ext cx="1226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Services à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Valeur Ajouté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22040" y="5791320"/>
            <a:ext cx="1148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Systèm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d’Information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14120" y="1600200"/>
            <a:ext cx="962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Partenaire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externe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1523880"/>
            <a:ext cx="0" cy="472464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3886200"/>
            <a:ext cx="73152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63240" y="6019920"/>
            <a:ext cx="608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Réseau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2209680"/>
            <a:ext cx="6858000" cy="1752840"/>
          </a:xfrm>
          <a:prstGeom prst="roundRect">
            <a:avLst>
              <a:gd name="adj" fmla="val 16667"/>
            </a:avLst>
          </a:prstGeom>
          <a:solidFill>
            <a:srgbClr val="8cc3c0">
              <a:alpha val="50000"/>
            </a:srgbClr>
          </a:solidFill>
          <a:ln w="12600">
            <a:solidFill>
              <a:srgbClr val="8cc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Développement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spécifique interne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066680" y="3809880"/>
            <a:ext cx="3581640" cy="1828800"/>
          </a:xfrm>
          <a:prstGeom prst="roundRect">
            <a:avLst>
              <a:gd name="adj" fmla="val 16667"/>
            </a:avLst>
          </a:prstGeom>
          <a:solidFill>
            <a:srgbClr val="8cc3c0">
              <a:alpha val="50000"/>
            </a:srgbClr>
          </a:solidFill>
          <a:ln w="12600">
            <a:solidFill>
              <a:srgbClr val="8cc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webMethods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Enterprise Server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17BC7-8BA4-4460-B75F-BC40AFEBBB09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E95A6-D7F0-44A6-8B2B-9378C0ACF6AA}" type="datetime5">
              <a:rPr lang="en-US"/>
              <a:t>Jul 31, 2026</a:t>
            </a:fld>
          </a:p>
        </p:txBody>
      </p:sp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292640" y="1219320"/>
            <a:ext cx="347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d72814"/>
                </a:solidFill>
                <a:latin typeface="Verdana"/>
              </a:rPr>
              <a:t>Agenda</a:t>
            </a:r>
            <a:endParaRPr b="0" lang="en-US" sz="3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67080" y="3551400"/>
            <a:ext cx="487692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1. Contexte du proje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2. Études des offres du marché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72814"/>
                </a:solidFill>
                <a:latin typeface="Verdana"/>
              </a:rPr>
              <a:t>3. Appel d’offres « SSII »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4. Mise en œuvre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5. Conclusion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3895200" y="47242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d22816"/>
          </a:solidFill>
          <a:ln cap="sq" w="12600">
            <a:solidFill>
              <a:srgbClr val="e10e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28600" y="1188720"/>
            <a:ext cx="861048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 fontScale="92000"/>
          </a:bodyPr>
          <a:p>
            <a:pPr marL="268560" indent="-2685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Helvetica 55 Roman"/>
              </a:rPr>
              <a:t>Cahier des charges élaboré à partir des conclusions du RFI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00920" indent="-25668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Helvetica 55 Roman"/>
              </a:rPr>
              <a:t>Utilisation de webMethods Enterprise Server pour les donné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00920" indent="-25668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Helvetica 55 Roman"/>
              </a:rPr>
              <a:t>Utilisation d’un développement interne pour les communication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68560" indent="-2685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Helvetica 55 Roman"/>
              </a:rPr>
              <a:t>Projet critique pour l’opérateur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00920" indent="-25668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Helvetica 55 Roman"/>
              </a:rPr>
              <a:t>Contrainte réglementaire forte (échéance à respecter)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00920" indent="-25668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Helvetica 55 Roman"/>
              </a:rPr>
              <a:t>Nécessité d’avoir une SSII de taille importante disposant des ressources humaines et des compétences nécessair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68560" indent="-2685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Helvetica 55 Roman"/>
              </a:rPr>
              <a:t>Élaboration de la liste des sociétés consultée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00920" indent="-25668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Helvetica 55 Roman"/>
              </a:rPr>
              <a:t>Sociétés référencées par le centre interne d’expertise EAI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00920" indent="-25668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Helvetica 55 Roman"/>
              </a:rPr>
              <a:t>Sociétés recommandées en France par l’éditeur webMethod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00920" indent="-25668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Helvetica 55 Roman"/>
              </a:rPr>
              <a:t>Sociétés référencées par l’opérateur pour des projets non EAI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00920" indent="-25668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Helvetica 55 Roman"/>
              </a:rPr>
              <a:t>10 sociétés consultées et 3 retenues pour les oraux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Appel d’offres « SSII »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Cahier des charges et sociétés consultées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88394-E404-468C-B5A3-4C96B031576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CDED9-74B1-441E-BBFF-7BF85358A303}" type="datetime5">
              <a:rPr lang="en-US"/>
              <a:t>Jul 31, 2026</a:t>
            </a:fld>
          </a:p>
        </p:txBody>
      </p:sp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228600" y="1188720"/>
            <a:ext cx="861048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 fontScale="88000"/>
          </a:bodyPr>
          <a:p>
            <a:pPr marL="256680" indent="-25668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Plate-forme critique dans l’environnement SVA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670320" indent="-2455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Disponibilité attendue de 99,9 % (matériels et logiciels)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56680" indent="-25668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Performances « Communication »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670320" indent="-2455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40 requêtes Web Services par seconde avec SSL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70320" indent="-2455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400 requêtes Web Services par seconde sans SSL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56680" indent="-25668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Performance « Données »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670320" indent="-2455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300 requêtes par seconde en provenance des SVA (remontée d’information vers la base de données)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70320" indent="-2455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400 requêtes par seconde pour les interrogations SVA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70320" indent="-2455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40 000 mises à jour en 10 minutes pour les remontées d’information vers les SVA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70320" indent="-2455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400 000 mises à jour en 2 heures pour l’intégration des données en provenance du SI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Appel d’offres « SSII »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Disponibilité et performance attendues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95ABC-4CE2-40DF-9EA8-25D5589AA6A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59323-0560-406D-9CBD-BF88BCD6837E}" type="datetime5">
              <a:rPr lang="en-US"/>
              <a:t>Jul 31, 2026</a:t>
            </a:fld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533520" y="1188720"/>
            <a:ext cx="807696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Helvetica 55 Roman"/>
              </a:rPr>
              <a:t>Appréciation générale de la réponse et de la société</a:t>
            </a:r>
            <a:br>
              <a:rPr sz="2400"/>
            </a:br>
            <a:r>
              <a:rPr b="0" lang="fr-FR" sz="2400" spc="-1" strike="noStrike">
                <a:solidFill>
                  <a:srgbClr val="5f5f5f"/>
                </a:solidFill>
                <a:latin typeface="Helvetica 55 Roman"/>
              </a:rPr>
              <a:t>(10 %)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Helvetica 55 Roman"/>
              </a:rPr>
              <a:t>Couverture des besoins « Données » (20 %)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Helvetica 55 Roman"/>
              </a:rPr>
              <a:t>Couverture des besoins « Communications » (15 %)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Helvetica 55 Roman"/>
              </a:rPr>
              <a:t>Performances globales du système (20 %)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Helvetica 55 Roman"/>
              </a:rPr>
              <a:t>Exploitabilité (15 %)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Helvetica 55 Roman"/>
              </a:rPr>
              <a:t>Sécurité (10 %)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Helvetica 55 Roman"/>
              </a:rPr>
              <a:t>Support et maintenance (10 %)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91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Appel d’offres « SSII »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Critères d’évaluation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E5F69-DF1F-4C41-B7D1-E9AA9A9104E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33258-0E01-4F12-B4EC-16931D9C84EE}" type="datetime5">
              <a:rPr lang="en-US"/>
              <a:t>Jul 31, 2026</a:t>
            </a:fld>
          </a:p>
        </p:txBody>
      </p:sp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6840" y="1188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 fontScale="97000"/>
          </a:bodyPr>
          <a:p>
            <a:pPr marL="282960" indent="-282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Helvetica 55 Roman"/>
              </a:rPr>
              <a:t>Deux sociétés largement en tête avec 60/100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82960" indent="-282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Helvetica 55 Roman"/>
              </a:rPr>
              <a:t>Deux sociétés derrière avec 40/100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82960" indent="-282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Helvetica 55 Roman"/>
              </a:rPr>
              <a:t>Autres offres très faibles ou non crédible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82960" indent="-282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Helvetica 55 Roman"/>
              </a:rPr>
              <a:t>Constats généraux sur les offres reçue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39080" indent="-27072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Helvetica 55 Roman"/>
              </a:rPr>
              <a:t>Beaucoup de maquettes, de prototypes et de benchmarks (prestations amont de type « conseil »)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39080" indent="-27072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Helvetica 55 Roman"/>
              </a:rPr>
              <a:t>Existence d’équipes spécialisées EAI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39080" indent="-27072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Helvetica 55 Roman"/>
              </a:rPr>
              <a:t>Bonnes connaissances générales, expertise moindre 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39080" indent="-27072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Helvetica 55 Roman"/>
              </a:rPr>
              <a:t>Quelques références intéressantes sur des projets opérationnel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39080" indent="-27072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Helvetica 55 Roman"/>
              </a:rPr>
              <a:t>Aucune référence avec des volumes et des performances comparabl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82960" indent="-282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Helvetica 55 Roman"/>
              </a:rPr>
              <a:t>Offres en cours de maturation chez les intégrateur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Appel d’offres « SSII »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Bilan de l’appel d’offres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6A2C9-EB31-491A-805D-A8F86B732DC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36D45-D2F4-4D7F-8B9D-369094BA4EDA}" type="datetime5">
              <a:rPr lang="en-US"/>
              <a:t>Jul 31, 2026</a:t>
            </a:fld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4292640" y="1219320"/>
            <a:ext cx="347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d72814"/>
                </a:solidFill>
                <a:latin typeface="Verdana"/>
              </a:rPr>
              <a:t>Agenda</a:t>
            </a:r>
            <a:endParaRPr b="0" lang="en-US" sz="3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267080" y="3551400"/>
            <a:ext cx="487692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1. Contexte du proje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2. Études des offres du marché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3. Appel d’offres « SSII »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72814"/>
                </a:solidFill>
                <a:latin typeface="Verdana"/>
              </a:rPr>
              <a:t>4. Mise en œuvre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5. Conclusion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3895200" y="51814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d22816"/>
          </a:solidFill>
          <a:ln cap="sq" w="12600">
            <a:solidFill>
              <a:srgbClr val="e10e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533520" y="11890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marL="291960" indent="-2919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Délai d'obtention des spécifications et jeux de données des systèmes à intégrer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Disponibilité souhaitée : dès le début du projet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Désignation et disponibilité des « bons » interlocuteur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Performance de webMethods Enterprise Server et migration vers Integration Server 6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Dimensionnement et architecture des système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Haut niveau de performance demandé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Haut niveau de robustesse et de disponibilité (99,9 %)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Délai de réalisation très court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Montée en charge de l'équipe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Disponibilité de l'infrastructure d'intégration du système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919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Mise en œuvre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Identification des risques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CCCA4-7E99-44B9-ABD6-C99424097F2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93C9E-9BF2-4977-9738-41CE3CC9470F}" type="datetime5">
              <a:rPr lang="en-US"/>
              <a:t>Jul 31, 2026</a:t>
            </a:fld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8600" y="1188720"/>
            <a:ext cx="861048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 fontScale="89000"/>
          </a:bodyPr>
          <a:p>
            <a:pPr marL="259560" indent="-2595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Environnement des Services à Valeur Ajoutée au sein d’un opérateur international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59560" indent="-2595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Besoin de mutualisation dans l’environnement SVA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678240" indent="-2484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Informations : terminaux, abonnés, paiement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78240" indent="-2484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Services : fonctionnalités de base réutilisabl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59560" indent="-2595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Augmentation du nombre de SVA et accroissement de l’hétérogénéité de l’environnement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678240" indent="-2484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Plates-formes internes à l’opérateur ou externalisé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78240" indent="-2484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Partage de plates-formes avec d’autres filiales européenn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59560" indent="-2595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Ouverture des SVA vers les partenaires extérieur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678240" indent="-2484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Renforcement des partenariat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78240" indent="-2484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Nouveaux services à valeur ajoutée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78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Contexte du projet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Communiquer et urbaniser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09197-DCAB-421B-B792-614D3FA8C18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B3772-CCD1-4222-A837-A59DAFAF816E}" type="datetime5">
              <a:rPr lang="en-US"/>
              <a:t>Jul 31, 2026</a:t>
            </a:fld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228600" y="1188720"/>
            <a:ext cx="861048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marL="291960" indent="-2919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Prototype pour s’assurer de l’architecture et des performance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Exigences importantes sur les performanc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Proposition des 2 intégrateurs retenus en finale d’oraux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Grande confiance dans les performances (existence de benchmarks effectués par webMethods)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2" marL="1143000" indent="-190440">
              <a:spcBef>
                <a:spcPts val="451"/>
              </a:spcBef>
              <a:buClr>
                <a:srgbClr val="d72814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Prototypage en parallèle des spécifications</a:t>
            </a:r>
            <a:endParaRPr b="0" lang="en-US" sz="18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Prototypage effectué sur des processus simpl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Conclusion : l’architecture envisagée répond aux besoins en termes de performance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Mise en œuvre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Prototype et benchmarks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6B54A-EBC9-4231-982A-EB7A8E1C55A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F205F-7F5A-47EE-8561-C2C12825A5C7}" type="datetime5">
              <a:rPr lang="en-US"/>
              <a:t>Jul 31, 2026</a:t>
            </a:fld>
          </a:p>
        </p:txBody>
      </p:sp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Mise en œuvre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Architecture générale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cxnSp>
        <p:nvCxnSpPr>
          <p:cNvPr id="351" name=""/>
          <p:cNvCxnSpPr>
            <a:stCxn id="352" idx="2"/>
            <a:endCxn id="353" idx="0"/>
          </p:cNvCxnSpPr>
          <p:nvPr/>
        </p:nvCxnSpPr>
        <p:spPr>
          <a:xfrm>
            <a:off x="4838400" y="2514600"/>
            <a:ext cx="1080" cy="457920"/>
          </a:xfrm>
          <a:prstGeom prst="straightConnector1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</p:cxnSp>
      <p:cxnSp>
        <p:nvCxnSpPr>
          <p:cNvPr id="354" name=""/>
          <p:cNvCxnSpPr>
            <a:stCxn id="355" idx="3"/>
            <a:endCxn id="356" idx="1"/>
          </p:cNvCxnSpPr>
          <p:nvPr/>
        </p:nvCxnSpPr>
        <p:spPr>
          <a:xfrm>
            <a:off x="2133720" y="5676480"/>
            <a:ext cx="1296000" cy="1080"/>
          </a:xfrm>
          <a:prstGeom prst="straightConnector1">
            <a:avLst/>
          </a:prstGeom>
          <a:ln w="936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7" name=""/>
          <p:cNvCxnSpPr>
            <a:stCxn id="358" idx="0"/>
            <a:endCxn id="359" idx="2"/>
          </p:cNvCxnSpPr>
          <p:nvPr/>
        </p:nvCxnSpPr>
        <p:spPr>
          <a:xfrm flipV="1">
            <a:off x="3978000" y="4060080"/>
            <a:ext cx="1080" cy="1274040"/>
          </a:xfrm>
          <a:prstGeom prst="straightConnector1">
            <a:avLst/>
          </a:prstGeom>
          <a:ln w="936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3429000" y="2971800"/>
            <a:ext cx="263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Référentiel de Données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Autres bases de données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429000" y="5943600"/>
            <a:ext cx="17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EAI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19520" y="1219320"/>
            <a:ext cx="22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00"/>
                </a:solidFill>
                <a:latin typeface="Verdana"/>
              </a:rPr>
              <a:t>10 Sun Fire V100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248520" y="4191120"/>
            <a:ext cx="270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00"/>
                </a:solidFill>
                <a:latin typeface="Verdana"/>
              </a:rPr>
              <a:t>Cluster 2 Sun Fire V880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00"/>
                </a:solidFill>
                <a:latin typeface="Verdana"/>
              </a:rPr>
              <a:t>Baie StoreEdge 3910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48520" y="5791320"/>
            <a:ext cx="167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00"/>
                </a:solidFill>
                <a:latin typeface="Verdana"/>
              </a:rPr>
              <a:t>Cluster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00"/>
                </a:solidFill>
                <a:latin typeface="Verdana"/>
              </a:rPr>
              <a:t>2 Sun Fire V880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365" name="Sun_Fire_Server.jpg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804960" cy="3808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429000" y="5105520"/>
            <a:ext cx="2819520" cy="1143000"/>
          </a:xfrm>
          <a:prstGeom prst="rect">
            <a:avLst/>
          </a:prstGeom>
          <a:noFill/>
          <a:ln cap="rnd" w="936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5334120"/>
            <a:ext cx="1447920" cy="68580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Systèm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d’Information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52" idx="1"/>
            <a:endCxn id="367" idx="3"/>
          </p:cNvCxnSpPr>
          <p:nvPr/>
        </p:nvCxnSpPr>
        <p:spPr>
          <a:xfrm rot="10800000">
            <a:off x="1675800" y="1980360"/>
            <a:ext cx="1219680" cy="1080"/>
          </a:xfrm>
          <a:prstGeom prst="bentConnector2">
            <a:avLst/>
          </a:prstGeom>
          <a:ln w="9360">
            <a:solidFill>
              <a:srgbClr val="5f5f5f"/>
            </a:solidFill>
            <a:miter/>
            <a:headEnd len="med" type="triangle" w="med"/>
          </a:ln>
        </p:spPr>
      </p:cxnSp>
      <p:sp>
        <p:nvSpPr>
          <p:cNvPr id="367" name=""/>
          <p:cNvSpPr/>
          <p:nvPr/>
        </p:nvSpPr>
        <p:spPr>
          <a:xfrm>
            <a:off x="228600" y="1676520"/>
            <a:ext cx="1447920" cy="60948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Partenaire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315200" y="1676520"/>
            <a:ext cx="1447920" cy="60948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SVA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67080" y="5715000"/>
            <a:ext cx="106704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191120" y="3809880"/>
            <a:ext cx="1143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91120" y="3809880"/>
            <a:ext cx="533160" cy="38124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952520" y="3886200"/>
            <a:ext cx="381240" cy="2286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114800" y="5105160"/>
            <a:ext cx="609480" cy="60948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4952520" y="4952520"/>
            <a:ext cx="381240" cy="7621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375" name="Sun_Storage_3910" descr=""/>
          <p:cNvPicPr/>
          <p:nvPr/>
        </p:nvPicPr>
        <p:blipFill>
          <a:blip r:embed="rId2"/>
          <a:stretch/>
        </p:blipFill>
        <p:spPr>
          <a:xfrm>
            <a:off x="4572000" y="4114800"/>
            <a:ext cx="463680" cy="1120680"/>
          </a:xfrm>
          <a:prstGeom prst="rect">
            <a:avLst/>
          </a:prstGeom>
          <a:ln w="0">
            <a:noFill/>
          </a:ln>
        </p:spPr>
      </p:pic>
      <p:pic>
        <p:nvPicPr>
          <p:cNvPr id="376" name="Sun_Fire_V880" descr=""/>
          <p:cNvPicPr/>
          <p:nvPr/>
        </p:nvPicPr>
        <p:blipFill>
          <a:blip r:embed="rId3"/>
          <a:stretch/>
        </p:blipFill>
        <p:spPr>
          <a:xfrm>
            <a:off x="5257800" y="5318280"/>
            <a:ext cx="652320" cy="641160"/>
          </a:xfrm>
          <a:prstGeom prst="rect">
            <a:avLst/>
          </a:prstGeom>
          <a:ln w="0">
            <a:noFill/>
          </a:ln>
        </p:spPr>
      </p:pic>
      <p:pic>
        <p:nvPicPr>
          <p:cNvPr id="377" name="Sun_Fire_V880" descr=""/>
          <p:cNvPicPr/>
          <p:nvPr/>
        </p:nvPicPr>
        <p:blipFill>
          <a:blip r:embed="rId4"/>
          <a:stretch/>
        </p:blipFill>
        <p:spPr>
          <a:xfrm>
            <a:off x="3657600" y="5334120"/>
            <a:ext cx="641520" cy="631800"/>
          </a:xfrm>
          <a:prstGeom prst="rect">
            <a:avLst/>
          </a:prstGeom>
          <a:ln w="0">
            <a:noFill/>
          </a:ln>
        </p:spPr>
      </p:pic>
      <p:pic>
        <p:nvPicPr>
          <p:cNvPr id="378" name="Sun_Fire_V880" descr=""/>
          <p:cNvPicPr/>
          <p:nvPr/>
        </p:nvPicPr>
        <p:blipFill>
          <a:blip r:embed="rId5"/>
          <a:stretch/>
        </p:blipFill>
        <p:spPr>
          <a:xfrm>
            <a:off x="3657600" y="3429000"/>
            <a:ext cx="641520" cy="631800"/>
          </a:xfrm>
          <a:prstGeom prst="rect">
            <a:avLst/>
          </a:prstGeom>
          <a:ln w="0">
            <a:noFill/>
          </a:ln>
        </p:spPr>
      </p:pic>
      <p:pic>
        <p:nvPicPr>
          <p:cNvPr id="379" name="Sun_Fire_V880" descr=""/>
          <p:cNvPicPr/>
          <p:nvPr/>
        </p:nvPicPr>
        <p:blipFill>
          <a:blip r:embed="rId6"/>
          <a:stretch/>
        </p:blipFill>
        <p:spPr>
          <a:xfrm>
            <a:off x="5257800" y="3429000"/>
            <a:ext cx="652320" cy="6415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429000" y="2971800"/>
            <a:ext cx="2819520" cy="1676520"/>
          </a:xfrm>
          <a:prstGeom prst="rect">
            <a:avLst/>
          </a:prstGeom>
          <a:noFill/>
          <a:ln cap="rnd" w="936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380" name="Sun_Fire_Server.jpg" descr=""/>
          <p:cNvPicPr/>
          <p:nvPr/>
        </p:nvPicPr>
        <p:blipFill>
          <a:blip r:embed="rId7"/>
          <a:stretch/>
        </p:blipFill>
        <p:spPr>
          <a:xfrm>
            <a:off x="2895480" y="1828800"/>
            <a:ext cx="804960" cy="380880"/>
          </a:xfrm>
          <a:prstGeom prst="rect">
            <a:avLst/>
          </a:prstGeom>
          <a:ln w="0">
            <a:noFill/>
          </a:ln>
        </p:spPr>
      </p:pic>
      <p:pic>
        <p:nvPicPr>
          <p:cNvPr id="381" name="Sun_Fire_Server.jpg" descr=""/>
          <p:cNvPicPr/>
          <p:nvPr/>
        </p:nvPicPr>
        <p:blipFill>
          <a:blip r:embed="rId8"/>
          <a:stretch/>
        </p:blipFill>
        <p:spPr>
          <a:xfrm>
            <a:off x="2895480" y="2133720"/>
            <a:ext cx="804960" cy="380880"/>
          </a:xfrm>
          <a:prstGeom prst="rect">
            <a:avLst/>
          </a:prstGeom>
          <a:ln w="0">
            <a:noFill/>
          </a:ln>
        </p:spPr>
      </p:pic>
      <p:pic>
        <p:nvPicPr>
          <p:cNvPr id="382" name="Sun_Fire_Server.jpg" descr=""/>
          <p:cNvPicPr/>
          <p:nvPr/>
        </p:nvPicPr>
        <p:blipFill>
          <a:blip r:embed="rId9"/>
          <a:stretch/>
        </p:blipFill>
        <p:spPr>
          <a:xfrm>
            <a:off x="5181480" y="1828800"/>
            <a:ext cx="804960" cy="380880"/>
          </a:xfrm>
          <a:prstGeom prst="rect">
            <a:avLst/>
          </a:prstGeom>
          <a:ln w="0">
            <a:noFill/>
          </a:ln>
        </p:spPr>
      </p:pic>
      <p:pic>
        <p:nvPicPr>
          <p:cNvPr id="383" name="Sun_Fire_Server.jpg" descr=""/>
          <p:cNvPicPr/>
          <p:nvPr/>
        </p:nvPicPr>
        <p:blipFill>
          <a:blip r:embed="rId10"/>
          <a:stretch/>
        </p:blipFill>
        <p:spPr>
          <a:xfrm>
            <a:off x="4419720" y="1828800"/>
            <a:ext cx="804600" cy="380880"/>
          </a:xfrm>
          <a:prstGeom prst="rect">
            <a:avLst/>
          </a:prstGeom>
          <a:ln w="0">
            <a:noFill/>
          </a:ln>
        </p:spPr>
      </p:pic>
      <p:pic>
        <p:nvPicPr>
          <p:cNvPr id="384" name="Sun_Fire_Server.jpg" descr=""/>
          <p:cNvPicPr/>
          <p:nvPr/>
        </p:nvPicPr>
        <p:blipFill>
          <a:blip r:embed="rId11"/>
          <a:stretch/>
        </p:blipFill>
        <p:spPr>
          <a:xfrm>
            <a:off x="3657600" y="2133720"/>
            <a:ext cx="804960" cy="380880"/>
          </a:xfrm>
          <a:prstGeom prst="rect">
            <a:avLst/>
          </a:prstGeom>
          <a:ln w="0">
            <a:noFill/>
          </a:ln>
        </p:spPr>
      </p:pic>
      <p:pic>
        <p:nvPicPr>
          <p:cNvPr id="385" name="Sun_Fire_Server.jpg" descr=""/>
          <p:cNvPicPr/>
          <p:nvPr/>
        </p:nvPicPr>
        <p:blipFill>
          <a:blip r:embed="rId12"/>
          <a:stretch/>
        </p:blipFill>
        <p:spPr>
          <a:xfrm>
            <a:off x="5943600" y="1828800"/>
            <a:ext cx="804960" cy="380880"/>
          </a:xfrm>
          <a:prstGeom prst="rect">
            <a:avLst/>
          </a:prstGeom>
          <a:ln w="0">
            <a:noFill/>
          </a:ln>
        </p:spPr>
      </p:pic>
      <p:pic>
        <p:nvPicPr>
          <p:cNvPr id="386" name="Sun_Fire_Server.jpg" descr=""/>
          <p:cNvPicPr/>
          <p:nvPr/>
        </p:nvPicPr>
        <p:blipFill>
          <a:blip r:embed="rId13"/>
          <a:stretch/>
        </p:blipFill>
        <p:spPr>
          <a:xfrm>
            <a:off x="4419720" y="2133720"/>
            <a:ext cx="804600" cy="380880"/>
          </a:xfrm>
          <a:prstGeom prst="rect">
            <a:avLst/>
          </a:prstGeom>
          <a:ln w="0">
            <a:noFill/>
          </a:ln>
        </p:spPr>
      </p:pic>
      <p:pic>
        <p:nvPicPr>
          <p:cNvPr id="387" name="Sun_Fire_Server.jpg" descr=""/>
          <p:cNvPicPr/>
          <p:nvPr/>
        </p:nvPicPr>
        <p:blipFill>
          <a:blip r:embed="rId14"/>
          <a:stretch/>
        </p:blipFill>
        <p:spPr>
          <a:xfrm>
            <a:off x="5181480" y="2133720"/>
            <a:ext cx="804960" cy="380880"/>
          </a:xfrm>
          <a:prstGeom prst="rect">
            <a:avLst/>
          </a:prstGeom>
          <a:ln w="0">
            <a:noFill/>
          </a:ln>
        </p:spPr>
      </p:pic>
      <p:pic>
        <p:nvPicPr>
          <p:cNvPr id="388" name="Sun_Fire_Server.jpg" descr=""/>
          <p:cNvPicPr/>
          <p:nvPr/>
        </p:nvPicPr>
        <p:blipFill>
          <a:blip r:embed="rId15"/>
          <a:stretch/>
        </p:blipFill>
        <p:spPr>
          <a:xfrm>
            <a:off x="5943600" y="2133720"/>
            <a:ext cx="804960" cy="3808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2895480" y="1447920"/>
            <a:ext cx="3886200" cy="1066680"/>
          </a:xfrm>
          <a:prstGeom prst="rect">
            <a:avLst/>
          </a:prstGeom>
          <a:noFill/>
          <a:ln cap="rnd" w="936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68" idx="1"/>
            <a:endCxn id="352" idx="3"/>
          </p:cNvCxnSpPr>
          <p:nvPr/>
        </p:nvCxnSpPr>
        <p:spPr>
          <a:xfrm rot="10800000">
            <a:off x="6780960" y="1980360"/>
            <a:ext cx="534240" cy="1080"/>
          </a:xfrm>
          <a:prstGeom prst="bentConnector2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</p:cxnSp>
      <p:cxnSp>
        <p:nvCxnSpPr>
          <p:cNvPr id="390" name=""/>
          <p:cNvCxnSpPr>
            <a:stCxn id="368" idx="2"/>
            <a:endCxn id="353" idx="3"/>
          </p:cNvCxnSpPr>
          <p:nvPr/>
        </p:nvCxnSpPr>
        <p:spPr>
          <a:xfrm rot="5400000">
            <a:off x="6381360" y="2152440"/>
            <a:ext cx="1524600" cy="1791360"/>
          </a:xfrm>
          <a:prstGeom prst="bentConnector2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</p:cxnSp>
      <p:cxnSp>
        <p:nvCxnSpPr>
          <p:cNvPr id="391" name=""/>
          <p:cNvCxnSpPr>
            <a:stCxn id="368" idx="3"/>
            <a:endCxn id="356" idx="3"/>
          </p:cNvCxnSpPr>
          <p:nvPr/>
        </p:nvCxnSpPr>
        <p:spPr>
          <a:xfrm flipH="1">
            <a:off x="6247800" y="1981080"/>
            <a:ext cx="2515320" cy="3696480"/>
          </a:xfrm>
          <a:prstGeom prst="bentConnector3">
            <a:avLst>
              <a:gd name="adj1" fmla="val -9089"/>
            </a:avLst>
          </a:prstGeom>
          <a:ln w="936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7238880" y="541008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Mise à jour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629400" y="3505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Interrogation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86000" y="54100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Mise à jour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76520" y="1676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Interrogation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76" idx="0"/>
            <a:endCxn id="379" idx="2"/>
          </p:cNvCxnSpPr>
          <p:nvPr/>
        </p:nvCxnSpPr>
        <p:spPr>
          <a:xfrm flipV="1">
            <a:off x="5584320" y="4070160"/>
            <a:ext cx="1080" cy="1248480"/>
          </a:xfrm>
          <a:prstGeom prst="straightConnector1">
            <a:avLst/>
          </a:prstGeom>
          <a:ln w="936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7" name=""/>
          <p:cNvSpPr/>
          <p:nvPr/>
        </p:nvSpPr>
        <p:spPr>
          <a:xfrm>
            <a:off x="2895480" y="144792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Module Web Services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Développement spécifique interne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9FFC2-5851-49F8-BA53-9309F739A9D8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90B8E-E09C-40F8-833B-397E3A2E0138}" type="datetime5">
              <a:rPr lang="en-US"/>
              <a:t>Jul 31, 2026</a:t>
            </a:fld>
          </a:p>
        </p:txBody>
      </p:sp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228600" y="1188720"/>
            <a:ext cx="861048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marL="291960" indent="-2919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Contexte actuel difficile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Réorganisation profonde au sein de l’opérateur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2" marL="1143000" indent="-190440">
              <a:spcBef>
                <a:spcPts val="451"/>
              </a:spcBef>
              <a:buClr>
                <a:srgbClr val="d72814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Tensions internes fortes (en dehors du projet)</a:t>
            </a:r>
            <a:endParaRPr b="0" lang="en-US" sz="1800" spc="-1" strike="noStrike">
              <a:solidFill>
                <a:srgbClr val="5f5f5f"/>
              </a:solidFill>
              <a:latin typeface="Verdana"/>
            </a:endParaRPr>
          </a:p>
          <a:p>
            <a:pPr lvl="2" marL="1143000" indent="-190440">
              <a:spcBef>
                <a:spcPts val="451"/>
              </a:spcBef>
              <a:buClr>
                <a:srgbClr val="d72814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Réductions des budgets pour les nouveaux projets (justification)</a:t>
            </a:r>
            <a:endParaRPr b="0" lang="en-US" sz="18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Projet transverse : des difficultés typiqu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2" marL="1143000" indent="-190440">
              <a:spcBef>
                <a:spcPts val="451"/>
              </a:spcBef>
              <a:buClr>
                <a:srgbClr val="d72814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Nombreux interlocuteurs et nombreuses contributions</a:t>
            </a:r>
            <a:endParaRPr b="0" lang="en-US" sz="1800" spc="-1" strike="noStrike">
              <a:solidFill>
                <a:srgbClr val="5f5f5f"/>
              </a:solidFill>
              <a:latin typeface="Verdana"/>
            </a:endParaRPr>
          </a:p>
          <a:p>
            <a:pPr lvl="2" marL="1143000" indent="-190440">
              <a:spcBef>
                <a:spcPts val="451"/>
              </a:spcBef>
              <a:buClr>
                <a:srgbClr val="d72814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Champ d’action large : perçu comme une concurrence menaçante par d’autres projets</a:t>
            </a:r>
            <a:endParaRPr b="0" lang="en-US" sz="18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Problèmes avec l’exploitation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Associée très en amont (dès le lancement du RFQ)… 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Mais mauvaise perception de la complexité et des besoin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Mise en œuvre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Quelques difficultés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5334120"/>
            <a:ext cx="8534520" cy="1066680"/>
          </a:xfrm>
          <a:prstGeom prst="rect">
            <a:avLst/>
          </a:prstGeom>
          <a:solidFill>
            <a:srgbClr val="3089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6dcc1"/>
                </a:solidFill>
                <a:latin typeface="Verdana"/>
              </a:rPr>
              <a:t>Travail important de communication en interne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6dcc1"/>
                </a:solidFill>
                <a:latin typeface="Verdana"/>
              </a:rPr>
              <a:t>Pas de problème technique majeur à ce jour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490B3-45B2-42A1-B167-23B3D3DD909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97AEF-484C-43C3-A87F-235432C48524}" type="datetime5">
              <a:rPr lang="en-US"/>
              <a:t>Jul 31, 2026</a:t>
            </a:fld>
          </a:p>
        </p:txBody>
      </p:sp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292640" y="1219320"/>
            <a:ext cx="347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d72814"/>
                </a:solidFill>
                <a:latin typeface="Verdana"/>
              </a:rPr>
              <a:t>Agenda</a:t>
            </a:r>
            <a:endParaRPr b="0" lang="en-US" sz="3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67080" y="3551400"/>
            <a:ext cx="487692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1. Contexte du proje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2. Études des offres du marché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3. Appel d’offres « SSII »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4. Mise en œuvre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72814"/>
                </a:solidFill>
                <a:latin typeface="Verdana"/>
              </a:rPr>
              <a:t>5. Conclusion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5400000">
            <a:off x="3895200" y="57150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d22816"/>
          </a:solidFill>
          <a:ln cap="sq" w="12600">
            <a:solidFill>
              <a:srgbClr val="e10e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228600" y="1189080"/>
            <a:ext cx="8610480" cy="53640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marL="291960" indent="-2919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Sous-projet « Communication » traité avec les Web Service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Interface de communication et d’accès standardisée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Sous-projet « Données » traité avec un EAI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Utilisation du workflow de l’EAI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Adaptateurs SI : base de données, fichier, Tuxedo, MQSeri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Conclusion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Bénéfices attendus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" y="3809880"/>
            <a:ext cx="8534520" cy="2590920"/>
          </a:xfrm>
          <a:prstGeom prst="rect">
            <a:avLst/>
          </a:prstGeom>
          <a:solidFill>
            <a:srgbClr val="3089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normAutofit fontScale="98000"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6dcc1"/>
                </a:solidFill>
                <a:latin typeface="Verdana"/>
              </a:rPr>
              <a:t>Bénéfices pour l’opérateur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1" marL="746640" indent="-27360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6dcc1"/>
                </a:solidFill>
                <a:latin typeface="Verdana"/>
              </a:rPr>
              <a:t>Meilleure circulation des données entre les SVA et le SI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lvl="1" marL="746640" indent="-27360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6dcc1"/>
                </a:solidFill>
                <a:latin typeface="Verdana"/>
              </a:rPr>
              <a:t>Cohérence des données </a:t>
            </a:r>
            <a:r>
              <a:rPr b="0" lang="fr-FR" sz="2000" spc="-1" strike="noStrike">
                <a:solidFill>
                  <a:srgbClr val="e6dcc1"/>
                </a:solidFill>
                <a:latin typeface="Wingdings"/>
                <a:ea typeface="Wingdings"/>
              </a:rPr>
              <a:t></a:t>
            </a:r>
            <a:r>
              <a:rPr b="0" lang="fr-FR" sz="2000" spc="-1" strike="noStrike">
                <a:solidFill>
                  <a:srgbClr val="e6dcc1"/>
                </a:solidFill>
                <a:latin typeface="Verdana"/>
              </a:rPr>
              <a:t> Meilleure qualité de service perçue par les abonnés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lvl="1" marL="746640" indent="-27360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6dcc1"/>
                </a:solidFill>
                <a:latin typeface="Verdana"/>
              </a:rPr>
              <a:t>Nouveaux services plus riches et de meilleure qualité donc plus attractifs </a:t>
            </a:r>
            <a:r>
              <a:rPr b="0" lang="fr-FR" sz="2000" spc="-1" strike="noStrike">
                <a:solidFill>
                  <a:srgbClr val="e6dcc1"/>
                </a:solidFill>
                <a:latin typeface="Wingdings"/>
                <a:ea typeface="Wingdings"/>
              </a:rPr>
              <a:t></a:t>
            </a: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e6dcc1"/>
                </a:solidFill>
                <a:latin typeface="Verdana"/>
              </a:rPr>
              <a:t>Génération de trafic supplémentaire et donc de revenus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70C45-BD1C-4574-B73A-F06EE017B5FA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64E61-E179-4E57-9F9D-5BDC57C91793}" type="datetime5">
              <a:rPr lang="en-US"/>
              <a:t>Jul 31, 2026</a:t>
            </a:fld>
          </a:p>
        </p:txBody>
      </p:sp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pic>
        <p:nvPicPr>
          <p:cNvPr id="408" name="CONFUS" descr=""/>
          <p:cNvPicPr/>
          <p:nvPr/>
        </p:nvPicPr>
        <p:blipFill>
          <a:blip r:embed="rId1"/>
          <a:stretch/>
        </p:blipFill>
        <p:spPr>
          <a:xfrm>
            <a:off x="3637080" y="2268360"/>
            <a:ext cx="1849320" cy="39801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2882160" y="1554120"/>
            <a:ext cx="3340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77777"/>
                </a:solidFill>
                <a:latin typeface="Verdana"/>
              </a:rPr>
              <a:t>Questions / Réponses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D4C8E-A40E-4F1A-B123-3BABF336A71C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2C6C8-2396-437E-B3FE-1F95CD459141}" type="datetime5">
              <a:rPr lang="en-US"/>
              <a:t>Jul 31, 2026</a:t>
            </a:fld>
          </a:p>
        </p:txBody>
      </p:sp>
    </p:spTree>
  </p:cSld>
  <p:transition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gd-solucom" descr=""/>
          <p:cNvPicPr/>
          <p:nvPr/>
        </p:nvPicPr>
        <p:blipFill>
          <a:blip r:embed="rId1"/>
          <a:srcRect l="14919" t="12843" r="15417" b="17888"/>
          <a:stretch/>
        </p:blipFill>
        <p:spPr>
          <a:xfrm>
            <a:off x="2779560" y="693720"/>
            <a:ext cx="3478320" cy="37465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2849760" y="4865400"/>
            <a:ext cx="3363120" cy="8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77777"/>
                </a:solidFill>
                <a:latin typeface="Verdana"/>
              </a:rPr>
              <a:t>Donnons de la valeur </a:t>
            </a:r>
            <a:br>
              <a:rPr sz="2400"/>
            </a:br>
            <a:r>
              <a:rPr b="1" lang="fr-FR" sz="2400" spc="-1" strike="noStrike">
                <a:solidFill>
                  <a:srgbClr val="777777"/>
                </a:solidFill>
                <a:latin typeface="Verdana"/>
              </a:rPr>
              <a:t>à vos infrastructures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12240" y="6053400"/>
            <a:ext cx="1819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77777"/>
                </a:solidFill>
                <a:latin typeface="Verdana"/>
              </a:rPr>
              <a:t>www.solucom.fr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18288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3D19E-5CA2-41D4-A373-C0AB5CEAA706}" type="slidenum">
              <a:t>3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0E270-54CD-420D-8E0E-F926F7654C4A}" type="datetime5">
              <a:rPr lang="en-US"/>
              <a:t>Jul 31, 2026</a:t>
            </a:fld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1523880"/>
            <a:ext cx="7315200" cy="4724640"/>
          </a:xfrm>
          <a:prstGeom prst="rect">
            <a:avLst/>
          </a:prstGeom>
          <a:solidFill>
            <a:srgbClr val="e6dcc1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Contexte du projet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Différents besoins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6905880" y="1600200"/>
            <a:ext cx="1226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Services à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Valeur Ajouté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22040" y="5791320"/>
            <a:ext cx="1148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Systèm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d’Information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14120" y="1600200"/>
            <a:ext cx="962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Partenaire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externe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1523880"/>
            <a:ext cx="0" cy="472464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886200"/>
            <a:ext cx="73152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63240" y="6019920"/>
            <a:ext cx="608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Réseau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2133720"/>
            <a:ext cx="6400800" cy="1904760"/>
          </a:xfrm>
          <a:prstGeom prst="roundRect">
            <a:avLst>
              <a:gd name="adj" fmla="val 16667"/>
            </a:avLst>
          </a:prstGeom>
          <a:solidFill>
            <a:srgbClr val="8cc3c0">
              <a:alpha val="50000"/>
            </a:srgbClr>
          </a:solidFill>
          <a:ln w="12600">
            <a:solidFill>
              <a:srgbClr val="8cc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3733920"/>
            <a:ext cx="3733560" cy="2209680"/>
          </a:xfrm>
          <a:prstGeom prst="roundRect">
            <a:avLst>
              <a:gd name="adj" fmla="val 16667"/>
            </a:avLst>
          </a:prstGeom>
          <a:solidFill>
            <a:srgbClr val="8cc3c0">
              <a:alpha val="50000"/>
            </a:srgbClr>
          </a:solidFill>
          <a:ln w="12600">
            <a:solidFill>
              <a:srgbClr val="8cc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OSA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3657600"/>
            <a:ext cx="3733920" cy="1905120"/>
          </a:xfrm>
          <a:prstGeom prst="roundRect">
            <a:avLst>
              <a:gd name="adj" fmla="val 16667"/>
            </a:avLst>
          </a:prstGeom>
          <a:solidFill>
            <a:srgbClr val="8cc3c0">
              <a:alpha val="50000"/>
            </a:srgbClr>
          </a:solidFill>
          <a:ln w="12600">
            <a:solidFill>
              <a:srgbClr val="8cc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EAI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8CEA7-9EFC-4869-A6A1-1232B7569C3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D459E-DC76-4D62-827E-0C1088DD42EC}" type="datetime5">
              <a:rPr lang="en-US"/>
              <a:t>Jul 31, 2026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Contexte du projet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Architecture actuelle</a:t>
            </a:r>
            <a:br>
              <a:rPr sz="20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Flux de données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936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3680" y="3429000"/>
            <a:ext cx="1226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Services à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Valeur Ajouté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800" y="5410080"/>
            <a:ext cx="1148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Systèm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d’Information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2440" y="1447920"/>
            <a:ext cx="761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Extérieur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Internet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4724280"/>
            <a:ext cx="7772400" cy="0"/>
          </a:xfrm>
          <a:prstGeom prst="line">
            <a:avLst/>
          </a:prstGeom>
          <a:ln w="936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5486400"/>
            <a:ext cx="1524240" cy="60948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Applications Client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5486400"/>
            <a:ext cx="1523880" cy="60948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Applications Abonnement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3962520"/>
            <a:ext cx="2438280" cy="45720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Pré approvisionnement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485680" y="4419360"/>
            <a:ext cx="1677600" cy="1067040"/>
            <a:chOff x="5485680" y="4419360"/>
            <a:chExt cx="1677600" cy="1067040"/>
          </a:xfrm>
        </p:grpSpPr>
        <p:cxnSp>
          <p:nvCxnSpPr>
            <p:cNvPr id="118" name=""/>
            <p:cNvCxnSpPr>
              <a:stCxn id="116" idx="2"/>
              <a:endCxn id="115" idx="0"/>
            </p:cNvCxnSpPr>
            <p:nvPr/>
          </p:nvCxnSpPr>
          <p:spPr>
            <a:xfrm flipH="1" rot="16200000">
              <a:off x="6400800" y="4723920"/>
              <a:ext cx="1067400" cy="4579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5f5f5f"/>
              </a:solidFill>
              <a:miter/>
              <a:headEnd len="med" type="triangle" w="med"/>
            </a:ln>
          </p:spPr>
        </p:cxnSp>
        <p:cxnSp>
          <p:nvCxnSpPr>
            <p:cNvPr id="119" name=""/>
            <p:cNvCxnSpPr>
              <a:stCxn id="116" idx="2"/>
              <a:endCxn id="114" idx="0"/>
            </p:cNvCxnSpPr>
            <p:nvPr/>
          </p:nvCxnSpPr>
          <p:spPr>
            <a:xfrm rot="5400000">
              <a:off x="5562000" y="4343040"/>
              <a:ext cx="1067400" cy="12200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5f5f5f"/>
              </a:solidFill>
              <a:miter/>
              <a:headEnd len="med" type="triangle" w="med"/>
            </a:ln>
          </p:spPr>
        </p:cxnSp>
      </p:grpSp>
      <p:cxnSp>
        <p:nvCxnSpPr>
          <p:cNvPr id="120" name=""/>
          <p:cNvCxnSpPr>
            <a:stCxn id="121" idx="4"/>
            <a:endCxn id="116" idx="1"/>
          </p:cNvCxnSpPr>
          <p:nvPr/>
        </p:nvCxnSpPr>
        <p:spPr>
          <a:xfrm>
            <a:off x="5105520" y="4190760"/>
            <a:ext cx="381600" cy="1080"/>
          </a:xfrm>
          <a:prstGeom prst="bentConnector2">
            <a:avLst/>
          </a:prstGeom>
          <a:ln w="9360">
            <a:solidFill>
              <a:srgbClr val="5f5f5f"/>
            </a:solidFill>
            <a:miter/>
            <a:head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2971800" y="2743200"/>
            <a:ext cx="762120" cy="38088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SVA 1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2743200"/>
            <a:ext cx="761760" cy="38088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SVA 2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3200400"/>
            <a:ext cx="609480" cy="5335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 1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3200400"/>
            <a:ext cx="609840" cy="5335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 2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2743200"/>
            <a:ext cx="1066680" cy="68580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Portail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124080"/>
            <a:ext cx="0" cy="763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3124080"/>
            <a:ext cx="0" cy="763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3809880"/>
            <a:ext cx="914400" cy="7621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Abonné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Portail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6" idx="2"/>
            <a:endCxn id="121" idx="1"/>
          </p:cNvCxnSpPr>
          <p:nvPr/>
        </p:nvCxnSpPr>
        <p:spPr>
          <a:xfrm flipV="1" rot="10800000">
            <a:off x="4647600" y="3428640"/>
            <a:ext cx="1080" cy="381600"/>
          </a:xfrm>
          <a:prstGeom prst="bentConnector2">
            <a:avLst/>
          </a:prstGeom>
          <a:ln w="9360">
            <a:solidFill>
              <a:srgbClr val="5f5f5f"/>
            </a:solidFill>
            <a:miter/>
            <a:head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2971800" y="2057400"/>
            <a:ext cx="762120" cy="38088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SVA 3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1447920"/>
            <a:ext cx="609480" cy="53316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 3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52680" y="1981080"/>
            <a:ext cx="0" cy="763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C1B64-200D-472E-9B18-FC130DFCE5D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00308-BBFA-4479-B96A-C4336080E94B}" type="datetime5">
              <a:rPr lang="en-US"/>
              <a:t>Jul 31, 2026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600" y="1188720"/>
            <a:ext cx="861048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 fontScale="86000"/>
          </a:bodyPr>
          <a:p>
            <a:pPr marL="250920" indent="-25092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Un seul flux échangé dans l’environnement SVA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655200" indent="-2401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Pas d’exploitation des nombreuses données du SI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50920" indent="-25092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Données gérées localement par les SVA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655200" indent="-2401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Duplication de nombreuses données entre les SVA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55200" indent="-2401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Rafraîchissement des données SVA par SI impossible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55200" indent="-2401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Pas de remontée d’information depuis les SVA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55200" indent="-2401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Risque très fort d’incohérences dans les donné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50920" indent="-25092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Rafraîchissement de la BD portail lourd, peu évolutif et consommateur de temp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655200" indent="-2401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Procédures d’extraction du SI complex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55200" indent="-2401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Intégration par fichier plat et transfert de fichier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55200" indent="-2401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Format fixe du fichier, d’où difficultés pour intégrer rapidement des nouvelles donné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Contexte du projet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Situation initiale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0B0C8-248F-4865-95B2-494AA9DF694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217C6-F61D-4A56-923E-7D0C3584F8EA}" type="datetime5">
              <a:rPr lang="en-US"/>
              <a:t>Jul 31, 202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28600" y="1188720"/>
            <a:ext cx="861048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 fontScale="87000"/>
          </a:bodyPr>
          <a:p>
            <a:pPr marL="253800" indent="-25380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En fait, deux problématiques fortement liée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662760" indent="-2430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Une problématique « Communication » : Web Servic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62760" indent="-2430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Une problématique « Données » : base de données et EAI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53800" indent="-25380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Problématique « Données »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662760" indent="-2430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Référentiel de données communes aux SVA avec des sources multiples dans le Système d’Information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2" marL="994320" indent="-165600">
              <a:spcBef>
                <a:spcPts val="451"/>
              </a:spcBef>
              <a:buClr>
                <a:srgbClr val="d72814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Données : abonnements, clients, terminaux</a:t>
            </a:r>
            <a:endParaRPr b="0" lang="en-US" sz="1800" spc="-1" strike="noStrike">
              <a:solidFill>
                <a:srgbClr val="5f5f5f"/>
              </a:solidFill>
              <a:latin typeface="Verdana"/>
            </a:endParaRPr>
          </a:p>
          <a:p>
            <a:pPr lvl="2" marL="994320" indent="-165600">
              <a:spcBef>
                <a:spcPts val="451"/>
              </a:spcBef>
              <a:buClr>
                <a:srgbClr val="d72814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Consolidation des données en un point unique</a:t>
            </a:r>
            <a:endParaRPr b="0" lang="en-US" sz="1800" spc="-1" strike="noStrike">
              <a:solidFill>
                <a:srgbClr val="5f5f5f"/>
              </a:solidFill>
              <a:latin typeface="Verdana"/>
            </a:endParaRPr>
          </a:p>
          <a:p>
            <a:pPr lvl="1" marL="662760" indent="-2430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Mise à jour de données en « temps réel » et batch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53800" indent="-25380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Problématique « Communication »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662760" indent="-2430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Communications inter SVA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62760" indent="-2430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Communications avec l’extérieur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62760" indent="-2430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Communications avec le référentiel de donné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Contexte du projet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Les réponses apportées par le projet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1FAD2-E0B8-4C68-9553-4C017CF9DA2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8F7BC-482D-4FA4-B3CF-59355419E28C}" type="datetime5">
              <a:rPr lang="en-US"/>
              <a:t>Jul 31, 2026</a:t>
            </a:fld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629400" y="4267080"/>
            <a:ext cx="1371600" cy="53352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EAI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Contexte du projet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Architecture cible</a:t>
            </a:r>
            <a:br>
              <a:rPr sz="20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Flux d’interrogation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2057400"/>
            <a:ext cx="8229600" cy="0"/>
          </a:xfrm>
          <a:prstGeom prst="line">
            <a:avLst/>
          </a:prstGeom>
          <a:ln w="936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5715000"/>
            <a:ext cx="1447920" cy="60948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Applications Terminaux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3840" y="1523880"/>
            <a:ext cx="761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Extérieur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Internet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638680"/>
            <a:ext cx="8229600" cy="0"/>
          </a:xfrm>
          <a:prstGeom prst="line">
            <a:avLst/>
          </a:prstGeom>
          <a:ln w="936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5715000"/>
            <a:ext cx="1447560" cy="60948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Applications Client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86600" y="5715000"/>
            <a:ext cx="1447920" cy="60948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Applications Abonnement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175248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Données locales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2759040"/>
            <a:ext cx="762120" cy="30492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SVA 1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759040"/>
            <a:ext cx="762120" cy="30492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SVA 2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2149560"/>
            <a:ext cx="609480" cy="53316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 1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2133720"/>
            <a:ext cx="609480" cy="53316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 2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2682720"/>
            <a:ext cx="0" cy="763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2666880"/>
            <a:ext cx="0" cy="763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10280" y="3124080"/>
            <a:ext cx="609840" cy="5335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3048120"/>
            <a:ext cx="1600200" cy="68580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Interfac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Web Service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3962520"/>
            <a:ext cx="1066680" cy="68580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Portail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4800600"/>
            <a:ext cx="914400" cy="7621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Abonné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Portail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54" idx="2"/>
            <a:endCxn id="155" idx="1"/>
          </p:cNvCxnSpPr>
          <p:nvPr/>
        </p:nvCxnSpPr>
        <p:spPr>
          <a:xfrm flipV="1" rot="10800000">
            <a:off x="2437560" y="4647960"/>
            <a:ext cx="1080" cy="153000"/>
          </a:xfrm>
          <a:prstGeom prst="bentConnector2">
            <a:avLst/>
          </a:prstGeom>
          <a:ln w="9360">
            <a:solidFill>
              <a:srgbClr val="5f5f5f"/>
            </a:solidFill>
            <a:miter/>
          </a:ln>
        </p:spPr>
      </p:cxnSp>
      <p:grpSp>
        <p:nvGrpSpPr>
          <p:cNvPr id="157" name=""/>
          <p:cNvGrpSpPr/>
          <p:nvPr/>
        </p:nvGrpSpPr>
        <p:grpSpPr>
          <a:xfrm>
            <a:off x="5638680" y="3124080"/>
            <a:ext cx="1371960" cy="267120"/>
            <a:chOff x="5638680" y="3124080"/>
            <a:chExt cx="1371960" cy="267120"/>
          </a:xfrm>
        </p:grpSpPr>
        <p:cxnSp>
          <p:nvCxnSpPr>
            <p:cNvPr id="158" name=""/>
            <p:cNvCxnSpPr>
              <a:stCxn id="153" idx="3"/>
              <a:endCxn id="152" idx="2"/>
            </p:cNvCxnSpPr>
            <p:nvPr/>
          </p:nvCxnSpPr>
          <p:spPr>
            <a:xfrm>
              <a:off x="5638680" y="3390480"/>
              <a:ext cx="1372320" cy="1080"/>
            </a:xfrm>
            <a:prstGeom prst="bentConnector2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</p:cxnSp>
        <p:sp>
          <p:nvSpPr>
            <p:cNvPr id="159" name=""/>
            <p:cNvSpPr/>
            <p:nvPr/>
          </p:nvSpPr>
          <p:spPr>
            <a:xfrm>
              <a:off x="5741280" y="3124080"/>
              <a:ext cx="112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f5f5f"/>
                  </a:solidFill>
                  <a:latin typeface="Verdana"/>
                </a:rPr>
                <a:t>Interrogation</a:t>
              </a:r>
              <a:endParaRPr b="0" lang="en-US" sz="1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5029200" y="2286000"/>
            <a:ext cx="609480" cy="5335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2819520"/>
            <a:ext cx="0" cy="2286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1066680"/>
            <a:ext cx="609480" cy="5335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 3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1600200"/>
            <a:ext cx="0" cy="763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209680" y="1981080"/>
            <a:ext cx="2629440" cy="2323800"/>
            <a:chOff x="2209680" y="1981080"/>
            <a:chExt cx="2629440" cy="2323800"/>
          </a:xfrm>
        </p:grpSpPr>
        <p:cxnSp>
          <p:nvCxnSpPr>
            <p:cNvPr id="165" name=""/>
            <p:cNvCxnSpPr>
              <a:stCxn id="147" idx="3"/>
              <a:endCxn id="153" idx="0"/>
            </p:cNvCxnSpPr>
            <p:nvPr/>
          </p:nvCxnSpPr>
          <p:spPr>
            <a:xfrm>
              <a:off x="3505320" y="2911320"/>
              <a:ext cx="1334160" cy="137520"/>
            </a:xfrm>
            <a:prstGeom prst="bentConnector2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46" idx="2"/>
              <a:endCxn id="153" idx="1"/>
            </p:cNvCxnSpPr>
            <p:nvPr/>
          </p:nvCxnSpPr>
          <p:spPr>
            <a:xfrm flipH="1" rot="16200000">
              <a:off x="2960640" y="2312640"/>
              <a:ext cx="327600" cy="1829520"/>
            </a:xfrm>
            <a:prstGeom prst="bentConnector2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</p:cxnSp>
        <p:sp>
          <p:nvSpPr>
            <p:cNvPr id="167" name=""/>
            <p:cNvSpPr/>
            <p:nvPr/>
          </p:nvSpPr>
          <p:spPr>
            <a:xfrm>
              <a:off x="2312280" y="3124080"/>
              <a:ext cx="112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f5f5f"/>
                  </a:solidFill>
                  <a:latin typeface="Verdana"/>
                </a:rPr>
                <a:t>Interrogation</a:t>
              </a:r>
              <a:endParaRPr b="0" lang="en-US" sz="1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07560" y="2590920"/>
              <a:ext cx="112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f5f5f"/>
                  </a:solidFill>
                  <a:latin typeface="Verdana"/>
                </a:rPr>
                <a:t>Interrogation</a:t>
              </a:r>
              <a:endParaRPr b="0" lang="en-US" sz="1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cxnSp>
          <p:nvCxnSpPr>
            <p:cNvPr id="169" name=""/>
            <p:cNvCxnSpPr>
              <a:stCxn id="154" idx="3"/>
              <a:endCxn id="153" idx="2"/>
            </p:cNvCxnSpPr>
            <p:nvPr/>
          </p:nvCxnSpPr>
          <p:spPr>
            <a:xfrm flipV="1">
              <a:off x="2971800" y="3733200"/>
              <a:ext cx="1867680" cy="572040"/>
            </a:xfrm>
            <a:prstGeom prst="bentConnector2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</p:cxnSp>
        <p:sp>
          <p:nvSpPr>
            <p:cNvPr id="170" name=""/>
            <p:cNvSpPr/>
            <p:nvPr/>
          </p:nvSpPr>
          <p:spPr>
            <a:xfrm>
              <a:off x="3074400" y="4038480"/>
              <a:ext cx="112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f5f5f"/>
                  </a:solidFill>
                  <a:latin typeface="Verdana"/>
                </a:rPr>
                <a:t>Interrogation</a:t>
              </a:r>
              <a:endParaRPr b="0" lang="en-US" sz="1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cxnSp>
          <p:nvCxnSpPr>
            <p:cNvPr id="171" name=""/>
            <p:cNvCxnSpPr>
              <a:stCxn id="172" idx="2"/>
              <a:endCxn id="153" idx="0"/>
            </p:cNvCxnSpPr>
            <p:nvPr/>
          </p:nvCxnSpPr>
          <p:spPr>
            <a:xfrm flipH="1" rot="16200000">
              <a:off x="4095720" y="2304720"/>
              <a:ext cx="1067760" cy="41976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</p:cxnSp>
      </p:grpSp>
      <p:sp>
        <p:nvSpPr>
          <p:cNvPr id="172" name=""/>
          <p:cNvSpPr/>
          <p:nvPr/>
        </p:nvSpPr>
        <p:spPr>
          <a:xfrm>
            <a:off x="4038480" y="1676520"/>
            <a:ext cx="762120" cy="30456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SVA 3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9120" y="3429000"/>
            <a:ext cx="1226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Services à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Valeur Ajouté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8520" y="5867280"/>
            <a:ext cx="1148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Systèm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d’Information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10080" y="2362320"/>
            <a:ext cx="182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Authentification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Autorisation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00800" y="289548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Référentiel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95680" y="121932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Données locales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0729B-6A43-4EAB-ADB1-B98160B9A9A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CE660-6715-43F3-8E88-82660C1B118C}" type="datetime5">
              <a:rPr lang="en-US"/>
              <a:t>Jul 31, 2026</a:t>
            </a:fld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629400" y="4267080"/>
            <a:ext cx="1371600" cy="53352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EAI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Contexte du projet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Architecture cible</a:t>
            </a:r>
            <a:br>
              <a:rPr sz="20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Mise à jour depuis et vers les SVA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2057400"/>
            <a:ext cx="8229600" cy="0"/>
          </a:xfrm>
          <a:prstGeom prst="line">
            <a:avLst/>
          </a:prstGeom>
          <a:ln w="936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38480" y="5715000"/>
            <a:ext cx="1447920" cy="60948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Applications Terminaux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3840" y="1523880"/>
            <a:ext cx="761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Extérieur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Internet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5638680"/>
            <a:ext cx="8229600" cy="0"/>
          </a:xfrm>
          <a:prstGeom prst="line">
            <a:avLst/>
          </a:prstGeom>
          <a:ln w="936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5715000"/>
            <a:ext cx="1447560" cy="60948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Applications Client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86600" y="5715000"/>
            <a:ext cx="1447920" cy="60948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Applications Abonnement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175248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Données locales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2759040"/>
            <a:ext cx="762120" cy="30492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SVA 1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2759040"/>
            <a:ext cx="762120" cy="30492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SVA 2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2149560"/>
            <a:ext cx="609480" cy="53316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 1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19520" y="2133720"/>
            <a:ext cx="609480" cy="53316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 2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09680" y="2682720"/>
            <a:ext cx="0" cy="763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2666880"/>
            <a:ext cx="0" cy="763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3124080"/>
            <a:ext cx="609840" cy="5335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3048120"/>
            <a:ext cx="1600200" cy="68580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Interfac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Web Service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3962520"/>
            <a:ext cx="1066680" cy="68580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Portail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81080" y="4800600"/>
            <a:ext cx="914400" cy="7621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Abonné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Portail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5" idx="2"/>
            <a:endCxn id="196" idx="1"/>
          </p:cNvCxnSpPr>
          <p:nvPr/>
        </p:nvCxnSpPr>
        <p:spPr>
          <a:xfrm flipV="1" rot="10800000">
            <a:off x="2437560" y="4647960"/>
            <a:ext cx="1080" cy="153000"/>
          </a:xfrm>
          <a:prstGeom prst="bentConnector2">
            <a:avLst/>
          </a:prstGeom>
          <a:ln w="9360">
            <a:solidFill>
              <a:srgbClr val="5f5f5f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5029200" y="2286000"/>
            <a:ext cx="609480" cy="5335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4120" y="2819520"/>
            <a:ext cx="0" cy="2286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066680"/>
            <a:ext cx="609480" cy="5335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 3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1600200"/>
            <a:ext cx="0" cy="763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38480" y="1676520"/>
            <a:ext cx="762120" cy="30456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SVA 3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9120" y="3429000"/>
            <a:ext cx="1226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Services à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Valeur Ajouté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8520" y="5867280"/>
            <a:ext cx="1148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Systèm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d’Information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2362320"/>
            <a:ext cx="182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Authentification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Autorisation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289548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Référentiel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121932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Données locales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209320" y="1828440"/>
            <a:ext cx="5105520" cy="3353400"/>
            <a:chOff x="2209320" y="1828440"/>
            <a:chExt cx="5105520" cy="3353400"/>
          </a:xfrm>
        </p:grpSpPr>
        <p:cxnSp>
          <p:nvCxnSpPr>
            <p:cNvPr id="209" name=""/>
            <p:cNvCxnSpPr>
              <a:stCxn id="178" idx="1"/>
              <a:endCxn id="188" idx="3"/>
            </p:cNvCxnSpPr>
            <p:nvPr/>
          </p:nvCxnSpPr>
          <p:spPr>
            <a:xfrm rot="10800000">
              <a:off x="3504600" y="2910600"/>
              <a:ext cx="3124800" cy="1623240"/>
            </a:xfrm>
            <a:prstGeom prst="bentConnector3">
              <a:avLst>
                <a:gd name="adj1" fmla="val 90229"/>
              </a:avLst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178" idx="2"/>
              <a:endCxn id="196" idx="4"/>
            </p:cNvCxnSpPr>
            <p:nvPr/>
          </p:nvCxnSpPr>
          <p:spPr>
            <a:xfrm rot="5400000">
              <a:off x="4914000" y="2781000"/>
              <a:ext cx="381600" cy="4420440"/>
            </a:xfrm>
            <a:prstGeom prst="bentConnector2">
              <a:avLst/>
            </a:prstGeom>
            <a:ln w="9360">
              <a:solidFill>
                <a:srgbClr val="5f5f5f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11" name=""/>
            <p:cNvSpPr/>
            <p:nvPr/>
          </p:nvSpPr>
          <p:spPr>
            <a:xfrm>
              <a:off x="4603320" y="487692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f5f5f"/>
                  </a:solidFill>
                  <a:latin typeface="Verdana"/>
                </a:rPr>
                <a:t>Mise à jour</a:t>
              </a:r>
              <a:endParaRPr b="0" lang="en-US" sz="1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93840" y="426708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f5f5f"/>
                  </a:solidFill>
                  <a:latin typeface="Verdana"/>
                </a:rPr>
                <a:t>Mise à jour</a:t>
              </a:r>
              <a:endParaRPr b="0" lang="en-US" sz="1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cxnSp>
          <p:nvCxnSpPr>
            <p:cNvPr id="213" name=""/>
            <p:cNvCxnSpPr>
              <a:stCxn id="178" idx="1"/>
              <a:endCxn id="202" idx="1"/>
            </p:cNvCxnSpPr>
            <p:nvPr/>
          </p:nvCxnSpPr>
          <p:spPr>
            <a:xfrm rot="10800000">
              <a:off x="4037760" y="1828080"/>
              <a:ext cx="2591640" cy="2705760"/>
            </a:xfrm>
            <a:prstGeom prst="bentConnector3">
              <a:avLst>
                <a:gd name="adj1" fmla="val 108821"/>
              </a:avLst>
            </a:prstGeom>
            <a:ln w="9360">
              <a:solidFill>
                <a:srgbClr val="5f5f5f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14" name=""/>
            <p:cNvSpPr/>
            <p:nvPr/>
          </p:nvSpPr>
          <p:spPr>
            <a:xfrm flipH="1">
              <a:off x="2209320" y="3581280"/>
              <a:ext cx="160020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>
              <a:stCxn id="214" idx="0"/>
              <a:endCxn id="187" idx="2"/>
            </p:cNvCxnSpPr>
            <p:nvPr/>
          </p:nvCxnSpPr>
          <p:spPr>
            <a:xfrm flipV="1">
              <a:off x="2209320" y="3063240"/>
              <a:ext cx="1080" cy="518040"/>
            </a:xfrm>
            <a:prstGeom prst="straightConnector1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</p:cxnSp>
        <p:sp>
          <p:nvSpPr>
            <p:cNvPr id="216" name=""/>
            <p:cNvSpPr/>
            <p:nvPr/>
          </p:nvSpPr>
          <p:spPr>
            <a:xfrm>
              <a:off x="2317320" y="327672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f5f5f"/>
                  </a:solidFill>
                  <a:latin typeface="Verdana"/>
                </a:rPr>
                <a:t>Mise à jour</a:t>
              </a:r>
              <a:endParaRPr b="0" lang="en-US" sz="1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7315200" y="3657600"/>
            <a:ext cx="1035000" cy="609480"/>
            <a:chOff x="7315200" y="3657600"/>
            <a:chExt cx="1035000" cy="609480"/>
          </a:xfrm>
        </p:grpSpPr>
        <p:sp>
          <p:nvSpPr>
            <p:cNvPr id="218" name=""/>
            <p:cNvSpPr/>
            <p:nvPr/>
          </p:nvSpPr>
          <p:spPr>
            <a:xfrm>
              <a:off x="7315200" y="3657600"/>
              <a:ext cx="0" cy="6094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27520" y="380988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f5f5f"/>
                  </a:solidFill>
                  <a:latin typeface="Verdana"/>
                </a:rPr>
                <a:t>Mise à jour</a:t>
              </a:r>
              <a:endParaRPr b="0" lang="en-US" sz="1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77F23-EF08-4B7C-B49B-A7D4E8C3F90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5480C7-9326-4D32-A65D-4C830BFA1C64}" type="datetime5">
              <a:rPr lang="en-US"/>
              <a:t>Jul 31, 2026</a:t>
            </a:fld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3T12:44:39Z</dcterms:created>
  <dc:creator>PHH</dc:creator>
  <dc:description/>
  <dc:language>en-US</dc:language>
  <cp:lastModifiedBy>Olivier GUERIN</cp:lastModifiedBy>
  <cp:lastPrinted>2002-08-07T09:48:27Z</cp:lastPrinted>
  <dcterms:modified xsi:type="dcterms:W3CDTF">2003-02-03T13:38:30Z</dcterms:modified>
  <cp:revision>461</cp:revision>
  <dc:subject>Projet Opérateur</dc:subject>
  <dc:title>ATICA</dc:title>
</cp:coreProperties>
</file>