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81bd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81b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c9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81bd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C096-CBA0-43B8-9224-9901F80C8868}" type="slidenum">
              <a:rPr b="0" lang="en-US" sz="1200" spc="-1" strike="noStrike">
                <a:solidFill>
                  <a:srgbClr val="4f81b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B626-6786-4FEF-8E03-0E9178470C35}" type="slidenum">
              <a:rPr b="0" lang="en-US" sz="1200" spc="-1" strike="noStrike">
                <a:solidFill>
                  <a:srgbClr val="4f81b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B20-7A6B-443B-A9B2-64E78770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A8E-CF74-4B1A-8BF2-42FEAEC0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105-C56C-4C58-8ACE-C91072E2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03CD-DA29-415F-AD81-79C8C92A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4625-4125-4F0D-9C03-89604D51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37D6-B914-4BE2-9BD9-4420C71D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E69C-9F58-45C8-B304-B0864C06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8CE0-F305-4E3F-9737-53D2454C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7A36-4947-49A2-87A2-1535C49E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3AF6-D662-4C3B-8669-BA272A17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1619-3E5E-49AB-A7C4-C23EC77E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F963-8201-4B0B-A72D-86773976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7C5C-07EC-401E-8DF6-FC33716C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3E58-4134-4555-B5FB-E65DB063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C1DF-EEC6-4E3C-ADAB-22B90AB7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8AAD-1841-453C-8D55-591355E9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8944-E30C-408F-9310-DED1CE31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A12-8503-4D9E-9106-D337B656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E64-68E5-4C15-8383-24CF3646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C6C4-0C8C-4B40-9886-A36284ED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CC3C-0600-4021-B319-B99D6802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B7A-0323-41F3-9B35-70112942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B299-C110-42A6-BB85-AC6998E5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85BC-F105-4433-80D0-0F0C8CBA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cc99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cc99"/>
                </a:solidFill>
                <a:latin typeface="Arial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c9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D037-9C7E-4871-B887-BD97080CAFC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cc99"/>
                </a:solidFill>
                <a:latin typeface="Arial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cc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cc99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cc99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c9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DCBF-6C79-44B5-87DE-359EBDE466A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c98"/>
                </a:solidFill>
                <a:latin typeface="Arial"/>
              </a:rPr>
              <a:t>Graphs - Bad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762120" y="2249640"/>
          <a:ext cx="8076960" cy="438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49640"/>
                    <a:ext cx="8076960" cy="43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4:50:26Z</dcterms:created>
  <dc:creator/>
  <dc:description/>
  <dc:language>en-US</dc:language>
  <cp:lastModifiedBy/>
  <dcterms:modified xsi:type="dcterms:W3CDTF">2011-04-20T14:50:30Z</dcterms:modified>
  <cp:revision>1</cp:revision>
  <dc:subject/>
  <dc:title/>
</cp:coreProperties>
</file>