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092-1BB3-4A0B-952D-1F8C9DC0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F76-AF64-4D3F-9332-D23DD27A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CB8-2A29-494E-9FFC-E39BBCA5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6F5-549E-4A55-8150-0FB7C647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3FD-14D7-4F92-A7C6-8CF58630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479-A869-4035-880B-C44CE8B8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251-58D1-4A04-B1FD-0956E2B7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998-16CD-4B1E-AD19-8BC3A49C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763-7251-429C-AEEE-7F13EE5F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469-F4D9-4178-A62B-B8570BF1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169-5C94-41B1-9D59-AEF596D8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EDF-89D0-4495-92C6-C160F823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23244-52AB-470D-87FF-29BDB6451F30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25560" y="1811160"/>
          <a:ext cx="8334360" cy="4006080"/>
        </p:xfrm>
        <a:graphic>
          <a:graphicData uri="http://schemas.openxmlformats.org/drawingml/2006/table">
            <a:tbl>
              <a:tblPr/>
              <a:tblGrid>
                <a:gridCol w="4559400"/>
                <a:gridCol w="1271520"/>
                <a:gridCol w="1133280"/>
                <a:gridCol w="1370160"/>
              </a:tblGrid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abcdefgistics of 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ulme Al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 De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47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iewed test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47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ndividuals in test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47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women in test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47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rance status of interviewed 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number of optimal in optimal test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47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w abcdefgistic: 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47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w abcdefgistic: Semi-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47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w abcdefgistic: R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21:17:14Z</dcterms:created>
  <dc:creator>Gerald Leppert</dc:creator>
  <dc:description/>
  <dc:language>en-US</dc:language>
  <cp:lastModifiedBy>Gerald Leppert</cp:lastModifiedBy>
  <dcterms:modified xsi:type="dcterms:W3CDTF">2011-03-23T11:53:30Z</dcterms:modified>
  <cp:revision>5</cp:revision>
  <dc:subject/>
  <dc:title/>
</cp:coreProperties>
</file>