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51D-1E9E-4DB3-BE69-64854F37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DF8-3586-4E3B-9246-683EB27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A5F-97D1-4D9D-B029-182822FD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A8A-743F-4839-B2EC-C0544260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5780-3545-43F3-915F-C4243E50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AF0-19D9-483F-9DDC-9F3F3D9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CDE-0F31-4209-95BC-487FBB18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B2D-DD2F-4AB5-B498-88BB9F6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C13-46CB-4EA3-AE21-AC2B002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807-D63A-4B84-9A01-716C3F7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9674-4692-4E7C-AA54-AC3679D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F17-0D17-4007-8EC0-D7DD26A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1BE-F8C0-4E8C-B110-E85C396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305B-8B23-4F1B-B102-C836262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62A-A25F-4AC9-950D-089DE35C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7A05-0977-40E6-B33F-E22C177C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249-D969-426F-99E8-B6765EA1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3B3-9FCA-4521-8439-8EE6A5DB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26E-1D54-4CD5-8845-238826B6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EB6-0898-4464-9903-22EE023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E64-BD19-4D08-B1BE-D165E19F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41F-C366-4EF4-A63E-FB6AB0A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857-C352-4D12-A794-04B4CB8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CB6-B017-4C4E-A770-C9F994B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6943-F23A-4D2B-8A93-752D64FAD903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A2CC979-BEA2-43DB-8CD8-66D780DA159F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E55-1C58-4100-9EE3-B7C8A045A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0F9-E895-4CF7-A4A8-31F5D9844C6B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9844D99-A11E-4333-B900-39245A9092DD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05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FE2-2736-41D9-8A68-F647A50C9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מאבק הבינ"ל בהלבנת הון</a:t>
            </a:r>
            <a:br>
              <a:rPr sz="4400"/>
            </a:b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נקודות ציו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904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אמנת וינה – סחר בסמים  - חיל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98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קמת 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קביע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) קריטריונ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חקיקת החוק הישראל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1.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וספ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קריטריונים בנושא טרו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            החלטה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373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ל מועצת הביטחו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00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ליך עדכון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קריטריוני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A26-CAB9-4BF8-B62A-D550D3784A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D5B1E-DBFA-493C-80E0-16A1B5C0F025}" type="datetime8">
              <a:rPr lang="en-US"/>
              <a:t>07/31/26 05: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35Z</dcterms:modified>
  <cp:revision>36</cp:revision>
  <dc:subject/>
  <dc:title>מצגת של PowerPoint</dc:title>
</cp:coreProperties>
</file>