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24A-CBA5-4B25-ACB2-2C95AF25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C86-295E-40FA-AD24-61DB368F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AFB-9EBA-4363-BD2C-9ED40434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18E-50F9-401F-8794-DF011A66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05A-5839-4472-ABCD-70A2F98A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DE2-E0B9-4BF7-92E6-104F27A5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E37-BDFB-4036-8FC0-8D26B823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69D-85BC-420C-A7A9-B0DED72E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149-C6F3-40F1-B5CC-945744A0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AE3-58D2-4052-BEB0-5D6E8F6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166-6A8B-4F14-952F-DB27C6D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73D-C532-4409-A54F-BDF8AD6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23CA-74AD-40BA-9933-34783D5B66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438280" y="1371600"/>
            <a:ext cx="14479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6770" dir="27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5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419720" y="1219320"/>
            <a:ext cx="1447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7080" dir="54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629400" y="1371600"/>
            <a:ext cx="14479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6770" dir="81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5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200" y="3048120"/>
            <a:ext cx="14479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7080" dir="108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438280" y="3124080"/>
            <a:ext cx="14479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6770" dir="135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25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04920" y="1295280"/>
            <a:ext cx="144756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7080" dir="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495680" y="3124080"/>
            <a:ext cx="14479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7080" dir="162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70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705720" y="3048120"/>
            <a:ext cx="1447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6770" dir="189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15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2:03:18Z</dcterms:created>
  <dc:creator>apple</dc:creator>
  <dc:description/>
  <dc:language>en-US</dc:language>
  <cp:lastModifiedBy>apple</cp:lastModifiedBy>
  <dcterms:modified xsi:type="dcterms:W3CDTF">2010-06-22T02:08:51Z</dcterms:modified>
  <cp:revision>1</cp:revision>
  <dc:subject/>
  <dc:title>Slide 1</dc:title>
</cp:coreProperties>
</file>