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1903-B2EE-4BBF-8C59-2EE1423EA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6FBA-49D5-415D-89E3-1471954A5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CC38-1359-4C14-8CEC-D6494BDD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534C-A7E8-420D-8163-18A447650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C01C4-D14D-4779-ABAE-58DFA203F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FF326-F905-459C-A59A-9ECF16895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4378-20D4-4418-BEEC-EBFDDF4E09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7F00-1921-4314-B390-AFFD0E293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9CFB3-BAB6-4F0F-8C9D-45CE2595E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9A86F-6EDF-4E0D-BA51-41A1D17FF7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09E2A-2B64-4A50-B916-E843AF50B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D875-AAF1-4889-8057-29AA89581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7F8A-02DF-4959-A3C8-2A15962BAB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D8341-35BB-4165-9980-8F377BB13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AC523-05C3-4838-98B8-77FED65E5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CB252-0305-40EF-BE00-A10B8A0496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CD650-3DB4-4C9F-8A6C-5146F741A3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2E8AA-ECFD-48AF-B762-9F8BCD1E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F681D-6654-43BE-8654-651880F8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A2E4A-C347-4931-8707-7AB0AF7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E2B72-04FE-4AB2-B8FB-726009E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1C015-66E6-4734-8A84-D8BBA8B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8F6F-5D3B-4761-8453-E9776DEB95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F2E94-473A-4E30-8B39-6F7DC74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19680-1E11-4850-841B-9ECDD64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FAE02-97B6-44F7-A29A-74869CD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18372-3B77-4527-8101-EA5E3A6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FD5DA-BF38-4006-80EC-56D1A50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ED5A3-4152-4E75-81AA-A106CF43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20882-158E-4C45-B3F0-82C92647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08A1-51F1-4A73-ACE0-99349D48C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ED0D-B1FD-455A-9AC5-E7B4A288F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8F50-0F23-4A06-86E7-0EDE82977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2C1E-5282-47CC-BE53-7EC8E3BCE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A8E2-27F4-4E98-AB7F-AD8A42AD3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6401-0839-4BF1-9F94-66BE5B620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602-C292-4A8B-AEFD-F33FC821B0C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9DF8-97BF-465F-AFB4-5F115D7D7964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ED0-66B2-4F4C-9821-CC057964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one of the docu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0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wo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4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5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6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7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8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9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13:03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1-04T16:16:39Z</dcterms:modified>
  <cp:revision>1</cp:revision>
  <dc:subject/>
  <dc:title>SLIDE one of the document!</dc:title>
</cp:coreProperties>
</file>