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266-F573-40BE-9468-827FF458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38A-2B3E-4D68-AC6B-BDE1DEB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2A3-25CB-400C-9F94-B93C205B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ADE-721D-4324-BFF2-55AB9A19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371-7D0C-4D43-9EE9-83A6BAD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135-AB3F-4FBD-A6A3-1496158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0FC-D377-461D-98DF-D7A5BCAF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FD8-00E9-414A-AE2A-D37CA1E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C45-CC6E-44CD-83B2-8F3A6D09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B85-BF9C-4B61-A631-52D4DB9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037-0122-4E04-967A-22EF585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202-BA6F-4DD3-93E8-BBDDACD5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1CC8-4191-4E94-9AF1-07FC648A8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0:18:51Z</dcterms:created>
  <dc:creator>Rainer Klute</dc:creator>
  <dc:description/>
  <dc:language>en-US</dc:language>
  <cp:lastModifiedBy>Rainer Klute</cp:lastModifiedBy>
  <dcterms:modified xsi:type="dcterms:W3CDTF">2007-06-02T10:23:24Z</dcterms:modified>
  <cp:revision>2</cp:revision>
  <dc:subject/>
  <dc:title>Folie 1</dc:title>
</cp:coreProperties>
</file>