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C6BD0-90E5-4F68-BB61-0EAF71CD1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194E8-537C-499F-A132-54FDDAE3EE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14E8C-805C-4A51-A6B2-30AAFB8016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093B4-C12B-4F22-B40C-5D95F7140A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CBDB2-DFEB-48D8-9657-B20713A136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A08F2-DCD8-47F4-9E39-57950EF6FD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C5D5E-76C4-4D8A-8271-DBEA1F26BE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70ABF-F19E-415C-AE6F-60B64C4E2D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D00C3-ACB3-4788-B3E1-685DDEEE2D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18B83-B519-4832-B7AB-4FF8055F86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B0CE9-0A85-4C74-A413-2D5253A469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9CD6D-9CFE-4138-B852-8E7F428DBE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59092-16A9-4FB2-8B48-9452CF91A2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B0B5C-93AD-46F5-89A6-DB0AB73454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BD335-A73A-4112-B67E-F38B7FFF30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89B09-72F9-4D5B-A880-3937457113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CBA65-4B72-449E-9CD1-EF3E77659ED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B08716-8A69-4727-A0A9-BA368369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A4034A-EAC0-407F-B1D4-A0BE09D7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9E8D15-8CC5-4B88-A2A8-14C73DAE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12F37E-C8C7-4276-BF80-C20B3DB3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839DDA-24AA-40EB-963D-F27A9607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ABBC0-0160-42B9-9E90-090F1E6CDD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89DBF3-7592-43CE-A072-36767117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B8B777-62FB-4E4A-90E7-BC3B1A99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B48D9B-0B15-43EE-A8DC-2D7DF6D4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0FB438-11FA-4926-91DC-14F9F180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64A9CE-103E-4FA8-AFEC-047F7B6D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853C6E-71BC-489C-9B63-4DF54ADC6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CADF70-ECD7-416A-81E6-74D3C6760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FBC85-C314-408B-AA95-C47950FDE2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88649-AF15-4796-A029-8E66C42C23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06BEA-F0A2-47FC-86F5-152F0EF6E5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6E8AC-3A90-4745-837C-53BBD37C04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3143A-60D4-4F67-A870-42FEDA1EEB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FD9A3-198E-4CCC-8176-3F36F396C8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4178-A39C-4617-803A-04536EF0270B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574640"/>
            <a:ext cx="70992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5853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156520" y="2962440"/>
            <a:ext cx="1749600" cy="745920"/>
            <a:chOff x="8156520" y="2962440"/>
            <a:chExt cx="1749600" cy="7459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8437680" y="324000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156520" y="2962440"/>
              <a:ext cx="174960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21600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05D5-DB55-4DCD-8D3E-309AF0DD6B6E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7B53-111C-45E9-B96E-C8DBFAE6B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main bu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 bullet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 bulle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main bu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main bu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 bullet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 bullet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main bu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5:24:38Z</dcterms:created>
  <dc:creator>nandita</dc:creator>
  <dc:description/>
  <cp:keywords/>
  <dc:language>en-US</dc:language>
  <cp:lastModifiedBy>nandita</cp:lastModifiedBy>
  <cp:lastPrinted>1998-09-04T08:04:32Z</cp:lastPrinted>
  <dcterms:modified xsi:type="dcterms:W3CDTF">2010-02-25T06:27:47Z</dcterms:modified>
  <cp:revision>4</cp:revision>
  <dc:subject/>
  <dc:title>Slide 1</dc:title>
</cp:coreProperties>
</file>