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314-3DF3-43E6-A263-06DFD04A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2F1-F1DA-4677-882B-708B513C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1BE-022C-4E49-9939-68258F93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874-B1F7-4C7D-9A87-559FEEC9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638-F358-4954-8D7B-29BF1C78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E18-82A4-4FBD-BDE0-E2F4684B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68D-BFB8-4DB9-BA9A-F4A0E54C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36D-E285-49EA-B811-30965C8B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04F-7102-4F74-B92A-A3404F66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3A9-BACA-4C27-B1D7-8254BAE4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318-7C37-4342-B1C0-853158C6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4A5-9E06-4D46-9901-741E366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F702B5-11A9-4B30-957B-893CDB0A304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3" descr="bug2.JPG"/>
          <p:cNvPicPr/>
          <p:nvPr/>
        </p:nvPicPr>
        <p:blipFill>
          <a:blip r:embed="rId1"/>
          <a:stretch/>
        </p:blipFill>
        <p:spPr>
          <a:xfrm>
            <a:off x="165240" y="1219320"/>
            <a:ext cx="8177760" cy="49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tent Placeholder 3" descr="bug1.JPG"/>
          <p:cNvPicPr/>
          <p:nvPr/>
        </p:nvPicPr>
        <p:blipFill>
          <a:blip r:embed="rId1"/>
          <a:stretch/>
        </p:blipFill>
        <p:spPr>
          <a:xfrm>
            <a:off x="416520" y="1447920"/>
            <a:ext cx="8048160" cy="46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lex Bargerstock</dc:creator>
  <dc:description/>
  <dc:language>en-US</dc:language>
  <cp:lastModifiedBy>Alex Bargerstock</cp:lastModifiedBy>
  <dcterms:modified xsi:type="dcterms:W3CDTF">2014-05-07T17:53:52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</vt:r8>
  </property>
</Properties>
</file>