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82E-9AD0-4020-9C87-38D05FF3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511-AD6A-46FE-A4A0-0F5D08A7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95A-6925-4521-AA63-3752B859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815-0A94-42A4-AB31-91361C5E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80C-44AC-42AC-AF0F-61E72C90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789-9331-44CA-9E3A-861B4A40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DA0-872A-445F-929F-E3E71193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3E0-D236-495D-9104-09A78602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4A8-0872-4502-91B1-1CC75D99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383-A426-4800-837C-3890AB66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8A4-C1BE-44C0-AB56-656B90E6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56D-C8AC-43E9-9BDB-1E4B6EB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18A1-EBFA-4AC3-8B22-BB6BD4AB7F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89000"/>
          <a:ext cx="8569080" cy="1182600"/>
        </p:xfrm>
        <a:graphic>
          <a:graphicData uri="http://schemas.openxmlformats.org/drawingml/2006/table">
            <a:tbl>
              <a:tblPr/>
              <a:tblGrid>
                <a:gridCol w="1066680"/>
                <a:gridCol w="7502400"/>
              </a:tblGrid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case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tacked Bar with a cylindrical shap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ked Bar with a cylindrical sha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0" y="39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84464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446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5:47:19Z</dcterms:created>
  <dc:creator>Jason</dc:creator>
  <dc:description/>
  <dc:language>en-US</dc:language>
  <cp:lastModifiedBy>crystal</cp:lastModifiedBy>
  <dcterms:modified xsi:type="dcterms:W3CDTF">2012-09-12T07:09:39Z</dcterms:modified>
  <cp:revision>13</cp:revision>
  <dc:subject/>
  <dc:title>幻灯片 1</dc:title>
</cp:coreProperties>
</file>