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DFDE90E-C3D8-47D5-9D31-631CF4F2C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2FD-7293-4FE1-A7E9-C79F7264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F5C-4850-446C-84E1-C5EDB8ED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ED4-DCAB-42FB-86F2-D24FB6D6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291-E493-4110-9A7D-2B3B2C6A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EC7-327B-4ACE-9264-F9745713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FD5-3657-4344-95DB-F00D709A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DC8-EE1F-4FFA-8F6F-4F661E8F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D41-17E0-4270-9562-4347529F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A2C-0403-4104-AA82-CC8113EA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3FE-08D3-4838-BC8E-188C360D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BEC-3D71-45BB-AA97-573D3236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512-3E5A-46B1-8B82-1C8351A3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399EBC37-881A-4152-9F0F-C8A8C10AA3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782640"/>
            <a:ext cx="4861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Office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Mark Robles</dc:creator>
  <dc:description/>
  <dc:language>en-US</dc:language>
  <cp:lastModifiedBy>Ian Mark Robles</cp:lastModifiedBy>
  <cp:revision>0</cp:revision>
  <dc:subject/>
  <dc:title/>
</cp:coreProperties>
</file>