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375-828C-4D67-AD1C-7EFB3CA1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786-44F8-41A2-A660-BEEE3993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694-9474-4438-B454-5D3224AF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A16-CED9-48E5-A431-916E71D4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943-B24D-4D8A-BAEF-41E2CD2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D9D-8C81-4591-AD28-1340C544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A95-7974-47D8-A054-ED6E84FA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DC4-5AFC-4094-BB00-7C4E602F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A0D-B9C5-4B66-BAE0-F5252E47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380-C560-41D0-939B-7F14203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4CB-7540-4F18-82B7-AC96407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061-620E-487A-9C5C-9A2045D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60F6-35B1-4035-B6C9-C16128352E4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3605.WAV" TargetMode="External"/><Relationship Id="rId3" Type="http://schemas.microsoft.com/office/2007/relationships/media" Target="file:///tmp/home/.config/libreoffice/4/user/gallery/~PP3605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 timbre de B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1679760" cy="2486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h est devenu un héros, il veut donc un timbre à son effigi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demande qu'on lui fasse un timbre d'excellente qualité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timbres sont créés, imprimés et distribué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1828800" cy="225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405360"/>
            <a:ext cx="75247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h est très content, mais au bout de quelques j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reçoit des plaintes comme quoi le timbre ne collerait pa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convoque les responsables et demande une enquêt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e-ci est menée dans plusieurs bureaux de poste et les conclus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nt envoyées à George Bush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370520"/>
            <a:ext cx="809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  Il n'y a rien d'anormal avec la qualité des timbres ou de la col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 problème vient du fait que les gens ne crachent pas du bon coté ! »</a:t>
            </a:r>
            <a:br>
              <a:rPr sz="36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1:11:09Z</dcterms:created>
  <dc:creator>Ribeaucourt</dc:creator>
  <dc:description/>
  <dc:language>en-US</dc:language>
  <cp:lastModifiedBy>Beauquesne Herve</cp:lastModifiedBy>
  <dcterms:modified xsi:type="dcterms:W3CDTF">2005-08-22T09:56:24Z</dcterms:modified>
  <cp:revision>7</cp:revision>
  <dc:subject/>
  <dc:title>Le timbre de Bush</dc:title>
</cp:coreProperties>
</file>