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91D0-C958-47D1-B4AB-CF7E9B003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1A62-63F0-409F-9493-C68D80FA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09FF-7498-4AEC-BD06-4DA00F347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EF3A-18DE-4AF5-B59A-BD18AA80E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5DE0-484A-46F4-82B4-961CDD09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A249-3EC6-45C8-A6A0-6C2FDFE8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A35F-9BA5-4ECC-B925-F467AF63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CBE6-C4C7-43AC-A822-4C6CF539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A908-E398-4562-A027-08616AB5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3017-DF68-466B-B3E7-9976B695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1AF8-D65D-430E-8DC4-9D544026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69E1-2EB1-4840-AFE5-49814E1F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3AD6-69D7-4781-8F97-BF2CFE35C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440" y="635040"/>
            <a:ext cx="88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Case: FFC261FFCSD_TextAnimation_TextBox_Spin_All at Once_01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 Point: All Paragraph in Reverse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905120"/>
            <a:ext cx="6984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is a animation test. This is a animation test. This is a animation test. This is a animation test. This is a animation test. This is a animation test. This is a animation test. This is a animation te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the second level. This is the second level. This is the second level. This is the second lev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the third level. This is the third lev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is the first level. This is the first level. This is the first level. This is the first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the second level. This is the second level. This is the second level. This is the second lev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03:36:39Z</dcterms:created>
  <dc:creator>Jason Zhu</dc:creator>
  <dc:description/>
  <dc:language>en-US</dc:language>
  <cp:lastModifiedBy>Jason Zhu</cp:lastModifiedBy>
  <dcterms:modified xsi:type="dcterms:W3CDTF">2006-04-29T03:45:46Z</dcterms:modified>
  <cp:revision>2</cp:revision>
  <dc:subject/>
  <dc:title>Slide 1</dc:title>
</cp:coreProperties>
</file>