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A25-12D5-4357-B90E-5479A805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085-C0E9-4FF5-BB54-5009728E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FB8-9CA8-46CB-9B75-F9862239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49D-6B39-454A-91FD-1EBB5498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CFC-1B53-4219-9E27-1A85A1C0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05A-857E-4E8B-A880-BAB6A512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727-3ECE-46C5-837D-AD28F255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B62-8C6F-4709-9F6B-98CD9E49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FBE-C760-4F3E-A740-6C49ED87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376-6707-4FA5-A695-90F1AEFF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DBC-5736-44DD-9050-5187314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659-7FEC-4066-A5C5-593E22A8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4DF1-03E2-4136-BD95-66F61DAA0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ed-Notep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28800" y="3186000"/>
          <a:ext cx="48769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186000"/>
                    <a:ext cx="48769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6T06:27:40Z</dcterms:modified>
  <cp:revision>28</cp:revision>
  <dc:subject/>
  <dc:title>PowerPoint Presentation</dc:title>
</cp:coreProperties>
</file>