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D52-C155-4F5E-BEF2-97D74CE7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0DC-8284-4692-8FF7-9CA34E09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84D-25D4-439C-8A6B-B75B1658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B35-0C55-4DBB-B5BC-27DD2126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BBF-1816-4425-8D9C-A34A18D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3C1-A1F7-4676-B287-6359CE7E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214-E0F4-4840-8833-D6CC6A5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DF4-BB83-46C2-A7AE-D9C9E0DE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FFC-88D3-49E7-8CD1-5148EFBB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3B4-2818-4849-8AA6-5F568F9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CE6-829F-4A43-94CC-CA9756E6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C49-65E7-4F85-814A-56585BD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5F6AB-04AD-41CC-89C3-176EB0D955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120000">
            <a:off x="3200400" y="3123720"/>
            <a:ext cx="3429000" cy="1828800"/>
          </a:xfrm>
          <a:custGeom>
            <a:avLst/>
            <a:gdLst>
              <a:gd name="textAreaLeft" fmla="*/ 1285200 w 3429000"/>
              <a:gd name="textAreaRight" fmla="*/ 2143800 w 3429000"/>
              <a:gd name="textAreaTop" fmla="*/ 44640 h 1828800"/>
              <a:gd name="textAreaBottom" fmla="*/ 106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67177" stAng="-6031001" swAng="491605"/>
                <a:lnTo>
                  <a:pt x="8096" y="528"/>
                </a:lnTo>
                <a:arcTo wR="21600" hR="67177" stAng="-5539396" swAng="278793"/>
                <a:lnTo>
                  <a:pt x="13504" y="528"/>
                </a:lnTo>
                <a:arcTo wR="21600" hR="67177" stAng="-5260604" swAng="491605"/>
                <a:lnTo>
                  <a:pt x="18900" y="11202"/>
                </a:lnTo>
                <a:lnTo>
                  <a:pt x="21600" y="21600"/>
                </a:lnTo>
                <a:lnTo>
                  <a:pt x="21600" y="21600"/>
                </a:lnTo>
                <a:arcTo wR="21600" hR="67177" stAng="-4768999" swAng="-630797"/>
                <a:lnTo>
                  <a:pt x="10804" y="12600"/>
                </a:lnTo>
                <a:arcTo wR="21600" hR="67177" stAng="-5399795" swAng="-409"/>
                <a:lnTo>
                  <a:pt x="10796" y="12600"/>
                </a:lnTo>
                <a:arcTo wR="21600" hR="67177" stAng="-5400205" swAng="-630797"/>
                <a:lnTo>
                  <a:pt x="2700" y="11202"/>
                </a:lnTo>
                <a:close/>
              </a:path>
              <a:path fill="none" w="21600" h="21600">
                <a:moveTo>
                  <a:pt x="10796" y="12600"/>
                </a:moveTo>
                <a:arcTo wR="21600" hR="67177" stAng="-5400205" swAng="-139192"/>
                <a:lnTo>
                  <a:pt x="10796" y="12600"/>
                </a:lnTo>
              </a:path>
              <a:path fill="none" w="21600" h="21600">
                <a:moveTo>
                  <a:pt x="10804" y="12600"/>
                </a:moveTo>
                <a:arcTo wR="21600" hR="67177" stAng="-5399795" swAng="139192"/>
                <a:lnTo>
                  <a:pt x="10804" y="12600"/>
                </a:lnTo>
              </a:path>
              <a:path fill="none" w="21600" h="21600">
                <a:moveTo>
                  <a:pt x="8096" y="528"/>
                </a:moveTo>
                <a:lnTo>
                  <a:pt x="8096" y="13128"/>
                </a:lnTo>
              </a:path>
              <a:path fill="none" w="21600" h="21600">
                <a:moveTo>
                  <a:pt x="13504" y="528"/>
                </a:moveTo>
                <a:lnTo>
                  <a:pt x="13504" y="13128"/>
                </a:lnTo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07:35Z</dcterms:created>
  <dc:creator>tester</dc:creator>
  <dc:description/>
  <dc:language>en-US</dc:language>
  <cp:lastModifiedBy>tester</cp:lastModifiedBy>
  <dcterms:modified xsi:type="dcterms:W3CDTF">2006-07-07T05:21:09Z</dcterms:modified>
  <cp:revision>2</cp:revision>
  <dc:subject/>
  <dc:title>Slide 1</dc:title>
</cp:coreProperties>
</file>