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587-6A44-458E-A5F4-BBEA2442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582-E611-4F25-BE71-B83E5F72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BB7-EFD8-459F-BC03-2476EA93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340-C971-4356-B48F-D54ADFF9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3E6-17ED-4FF9-A825-6A27562B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777A-B5D3-4A48-8EF4-CD34200A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A4B-8DAC-407F-B903-E32D4299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B60-B633-4BFF-B81E-3EF4929B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ECC-1EF8-4F5A-B1A0-32A47D80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CA6-C9F4-4BF7-B12E-23142269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C7F-44B4-4BB4-8066-CA496746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C47C-2204-42A6-B433-5CC3E848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FB6F6-70EA-42D2-AAFF-0CB2A119F5B4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640" y="1295280"/>
            <a:ext cx="4535640" cy="1800360"/>
          </a:xfrm>
          <a:prstGeom prst="leftRightArrow">
            <a:avLst>
              <a:gd name="adj1" fmla="val 50000"/>
              <a:gd name="adj2" fmla="val 50152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rot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4682520" y="3887640"/>
            <a:ext cx="4751280" cy="1871640"/>
          </a:xfrm>
          <a:prstGeom prst="leftRightArrow">
            <a:avLst>
              <a:gd name="adj1" fmla="val 50000"/>
              <a:gd name="adj2" fmla="val 50536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0:04:34Z</dcterms:created>
  <dc:creator/>
  <dc:description/>
  <dc:language>en-US</dc:language>
  <cp:lastModifiedBy/>
  <cp:revision>1</cp:revision>
  <dc:subject/>
  <dc:title/>
</cp:coreProperties>
</file>