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FC7-2251-4E5A-A7A5-9C4D5012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18C-57F2-48F0-84CB-2B463164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755-7E73-453D-940C-B45F1FAD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E55-3675-4B1F-921D-07B7854B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707-A97F-4068-8866-4EEF9D3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188-354F-447A-AF57-97D8FB7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095-5371-49C4-8CB3-A0936A8B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AFA-7AD2-4ECE-BC37-38DBBDB7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C12-2B4A-4BBE-A5A8-ECD06E72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3B6-AA34-439C-B091-EBFD802F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71A-4DCA-4A4D-92C8-53393C2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FC4-88F4-4514-A828-E9ED5BFF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33D9-0177-4432-8B6F-1626C3F6C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8920" y="614520"/>
          <a:ext cx="8046720" cy="1779480"/>
        </p:xfrm>
        <a:graphic>
          <a:graphicData uri="http://schemas.openxmlformats.org/drawingml/2006/table">
            <a:tbl>
              <a:tblPr/>
              <a:tblGrid>
                <a:gridCol w="2119320"/>
                <a:gridCol w="1976400"/>
                <a:gridCol w="1906560"/>
                <a:gridCol w="2044440"/>
              </a:tblGrid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55760" y="2592360"/>
          <a:ext cx="8046720" cy="1779480"/>
        </p:xfrm>
        <a:graphic>
          <a:graphicData uri="http://schemas.openxmlformats.org/drawingml/2006/table">
            <a:tbl>
              <a:tblPr/>
              <a:tblGrid>
                <a:gridCol w="2119320"/>
                <a:gridCol w="1976400"/>
                <a:gridCol w="1906560"/>
                <a:gridCol w="2044440"/>
              </a:tblGrid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0:41:55Z</dcterms:created>
  <dc:creator>renyuxia</dc:creator>
  <dc:description/>
  <dc:language>en-US</dc:language>
  <cp:lastModifiedBy>sunying</cp:lastModifiedBy>
  <dcterms:modified xsi:type="dcterms:W3CDTF">2012-08-03T08:53:09Z</dcterms:modified>
  <cp:revision>6</cp:revision>
  <dc:subject/>
  <dc:title>Slide 1</dc:title>
</cp:coreProperties>
</file>