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345-C192-4559-9E12-EC107FC5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E14-99C0-4F1F-92E4-E3CA957E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009-D013-4E92-BFA7-F9858B27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927-D8AF-4414-99F1-A1B31882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151-2019-43A3-A1FC-E0BEEBAA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E62-7802-48F8-8977-E9B69547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D75-FACC-4F36-B754-0EDE4A6A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F90-F39D-42F2-A75C-FA844CC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61B-B1FE-4873-B8E8-90B6FB48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4C8-D37A-4CF5-AEDC-AAFC086A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725-08D9-44EE-A048-757B2D4E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646-F243-4E2C-9ADF-EE1ED005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606EF-E7C0-41E2-92A0-45F144F517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31840" y="2138400"/>
            <a:ext cx="2235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object 1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65320" y="3397320"/>
            <a:ext cx="3092760" cy="122220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er Brendel</dc:creator>
  <dc:description/>
  <dc:language>en-US</dc:language>
  <cp:lastModifiedBy>User</cp:lastModifiedBy>
  <dcterms:modified xsi:type="dcterms:W3CDTF">2008-01-23T07:24:23Z</dcterms:modified>
  <cp:revision>1</cp:revision>
  <dc:subject/>
  <dc:title>This is a title</dc:title>
</cp:coreProperties>
</file>