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CE9E-89A0-4BC2-8531-5011A18D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ABA3-DC2F-413E-856B-9AAF8040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2178-A0D3-4199-806F-224514926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7977-6A94-4AEA-91E8-253B1DF6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89B5-9292-4E76-823D-37EB1A66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F685-1178-401D-AF99-288E58E1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91B6-7484-4053-9185-1CDDEB8D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C446-C8FD-4CA9-BAF2-CD27941D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C8F5-CD59-4C6C-80CC-98E3978E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6BC8-C887-4BDA-BF4D-4D6DC994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2561-5348-4CB5-8AB9-BE6B6AC7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827A-9FD1-46B6-AD13-E802BFB7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909C-C965-4572-ADE6-84DD3C0D0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47720" y="2805120"/>
            <a:ext cx="153720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sh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6920" y="2001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5840" y="144288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62280" y="1638360"/>
            <a:ext cx="914400" cy="91440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17680" y="379440"/>
            <a:ext cx="914400" cy="91440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95760" y="343080"/>
            <a:ext cx="914400" cy="91440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33880" y="304920"/>
            <a:ext cx="914400" cy="9144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10240" y="11448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447360" y="2805120"/>
            <a:ext cx="148680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47720" y="419040"/>
            <a:ext cx="1214640" cy="852480"/>
          </a:xfrm>
          <a:custGeom>
            <a:avLst/>
            <a:gdLst>
              <a:gd name="textAreaLeft" fmla="*/ 0 w 1214640"/>
              <a:gd name="textAreaRight" fmla="*/ 1215000 w 121464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760" y="133344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13716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43320" y="1152360"/>
            <a:ext cx="1214280" cy="73368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29040" y="100980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447360" y="2805120"/>
            <a:ext cx="116964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77040" y="138096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43040" y="1209600"/>
            <a:ext cx="60984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95560" y="1419120"/>
            <a:ext cx="609840" cy="60984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448080" y="2805120"/>
            <a:ext cx="204444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s and ban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53160" y="1657440"/>
            <a:ext cx="1214280" cy="76176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2232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24760" y="1866960"/>
            <a:ext cx="1214280" cy="76212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190440 h 762120"/>
              <a:gd name="textAreaBottom" fmla="*/ 739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71760" y="399960"/>
            <a:ext cx="914400" cy="6098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71960" y="514440"/>
            <a:ext cx="914400" cy="6094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1752480"/>
            <a:ext cx="9144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25200" y="4000"/>
                </a:lnTo>
                <a:lnTo>
                  <a:pt x="25200" y="21600"/>
                </a:lnTo>
                <a:lnTo>
                  <a:pt x="23400" y="24413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53200" y="177156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00" y="22950"/>
                </a:moveTo>
                <a:lnTo>
                  <a:pt x="-18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67520" y="20383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88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47600" y="2914560"/>
            <a:ext cx="914400" cy="60984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95520" y="302904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25200" y="4000"/>
                </a:lnTo>
                <a:lnTo>
                  <a:pt x="25200" y="21600"/>
                </a:lnTo>
                <a:lnTo>
                  <a:pt x="23400" y="24413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43440" y="3181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00" y="22950"/>
                </a:moveTo>
                <a:lnTo>
                  <a:pt x="-18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24520" y="342900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88" y="2450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29680" y="3429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0280" y="466740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25200" y="4000"/>
                </a:lnTo>
                <a:lnTo>
                  <a:pt x="25200" y="21600"/>
                </a:lnTo>
                <a:lnTo>
                  <a:pt x="23400" y="24413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04960" y="6215040"/>
            <a:ext cx="100368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o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047600" y="7621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2705040" y="80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67360" y="9525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91200" y="1143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7" h="21600">
                <a:moveTo>
                  <a:pt x="1080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7" h="21600">
                <a:moveTo>
                  <a:pt x="8227" y="8224"/>
                </a:moveTo>
                <a:lnTo>
                  <a:pt x="12092" y="8224"/>
                </a:lnTo>
                <a:lnTo>
                  <a:pt x="12092" y="15221"/>
                </a:lnTo>
                <a:lnTo>
                  <a:pt x="13380" y="15221"/>
                </a:lnTo>
                <a:lnTo>
                  <a:pt x="13380" y="16144"/>
                </a:lnTo>
                <a:lnTo>
                  <a:pt x="8227" y="16144"/>
                </a:lnTo>
                <a:lnTo>
                  <a:pt x="8227" y="15221"/>
                </a:lnTo>
                <a:lnTo>
                  <a:pt x="9516" y="15221"/>
                </a:lnTo>
                <a:lnTo>
                  <a:pt x="9516" y="9129"/>
                </a:lnTo>
                <a:lnTo>
                  <a:pt x="8227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previousslide"/>
          </p:cNvPr>
          <p:cNvSpPr/>
          <p:nvPr/>
        </p:nvSpPr>
        <p:spPr>
          <a:xfrm>
            <a:off x="1371600" y="2762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3009960" y="28576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4533840" y="29145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lastslide"/>
          </p:cNvPr>
          <p:cNvSpPr/>
          <p:nvPr/>
        </p:nvSpPr>
        <p:spPr>
          <a:xfrm>
            <a:off x="6153120" y="30290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1752480" y="45147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95800" y="4591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1"/>
          </p:cNvPr>
          <p:cNvSpPr/>
          <p:nvPr/>
        </p:nvSpPr>
        <p:spPr>
          <a:xfrm>
            <a:off x="4876920" y="48196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48520" y="4781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03880" y="6215040"/>
            <a:ext cx="122148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 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43280" y="266760"/>
            <a:ext cx="190476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24400" y="324000"/>
            <a:ext cx="198108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66720" y="6176880"/>
            <a:ext cx="72468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90" name=""/>
          <p:cNvCxnSpPr/>
          <p:nvPr/>
        </p:nvCxnSpPr>
        <p:spPr>
          <a:xfrm>
            <a:off x="1447560" y="399600"/>
            <a:ext cx="1639080" cy="18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/>
          <p:nvPr/>
        </p:nvCxnSpPr>
        <p:spPr>
          <a:xfrm>
            <a:off x="2419200" y="342720"/>
            <a:ext cx="1524960" cy="190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2" name=""/>
          <p:cNvCxnSpPr/>
          <p:nvPr/>
        </p:nvCxnSpPr>
        <p:spPr>
          <a:xfrm>
            <a:off x="2819520" y="2971440"/>
            <a:ext cx="1753200" cy="16772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/>
          <p:nvPr/>
        </p:nvCxnSpPr>
        <p:spPr>
          <a:xfrm>
            <a:off x="5352840" y="2933280"/>
            <a:ext cx="144828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" name=""/>
          <p:cNvCxnSpPr/>
          <p:nvPr/>
        </p:nvCxnSpPr>
        <p:spPr>
          <a:xfrm>
            <a:off x="3180960" y="5390640"/>
            <a:ext cx="1429560" cy="1181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/>
          <p:nvPr/>
        </p:nvCxnSpPr>
        <p:spPr>
          <a:xfrm>
            <a:off x="5257440" y="5486040"/>
            <a:ext cx="1353240" cy="1067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4076280" y="576360"/>
            <a:ext cx="134676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2:45:16Z</dcterms:created>
  <dc:creator>user</dc:creator>
  <dc:description/>
  <dc:language>en-US</dc:language>
  <cp:lastModifiedBy>user</cp:lastModifiedBy>
  <dcterms:modified xsi:type="dcterms:W3CDTF">2011-07-11T11:41:18Z</dcterms:modified>
  <cp:revision>5</cp:revision>
  <dc:subject/>
  <dc:title>Slide 1</dc:title>
</cp:coreProperties>
</file>