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EBD-6E94-4A16-BA5F-7316CBD0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450-747C-405A-B853-B1DAD6F6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3FD-F8BA-4B06-8926-57195BA3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BE3-6418-4D6F-B2C5-CA2DD8CC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C9C-02FC-4B04-B682-172FDE02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973-522E-4794-8AA3-B33EFFDA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44C-768A-4C31-9595-339AA49D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084-2AC6-4AEF-8AD9-E99744A7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CB9A-01AF-44C6-B971-FC3D61AC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AE4-66F6-4FBF-9127-A5C615B7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E32-2F3C-4397-A166-3F059F85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D0A-D933-4690-9089-8C17D3EE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08F2-0993-422C-B22B-0E8DB098C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915400" y="685800"/>
            <a:ext cx="7621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934320" y="99036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066680"/>
            <a:ext cx="213372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a hyper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4:44:06Z</dcterms:created>
  <dc:creator>virtusa</dc:creator>
  <dc:description/>
  <dc:language>en-US</dc:language>
  <cp:lastModifiedBy>virtusa</cp:lastModifiedBy>
  <dcterms:modified xsi:type="dcterms:W3CDTF">2004-12-03T04:44:15Z</dcterms:modified>
  <cp:revision>1</cp:revision>
  <dc:subject/>
  <dc:title>Slide 1</dc:title>
</cp:coreProperties>
</file>