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3CD-D3DE-40CD-A4C9-F48CB019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AD3-E01A-4C3C-AFA5-C0531470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758-22AB-490C-8AC8-E3A49F2B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2C5-E15C-4C40-8EEF-8B1CE63E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6A2-661C-44D4-A134-5CEFB7B0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4CB-D447-408E-8C36-545C836F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BDD-D5FE-4DB6-97EA-D3538281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A98-D4E2-41D8-9149-CE8AF10B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27C-ED28-41E4-A00D-97BB1F3E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B70-3092-4279-9E96-9D914C0F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E51-FC80-405B-B143-BCAA4C60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6BA-3FF9-41BC-99FD-14D6C35C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EAE4-81D7-4EAF-9549-C72C39382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low are the test focus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osen Effect:      MPath_EqualTriangl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ffect Property:    delay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erty Value:     0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5120" y="1905120"/>
            <a:ext cx="1269720" cy="1269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ance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70080" y="635040"/>
            <a:ext cx="1666800" cy="62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Arial Black"/>
              </a:rPr>
              <a:t>word 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unset" descr=""/>
          <p:cNvPicPr/>
          <p:nvPr/>
        </p:nvPicPr>
        <p:blipFill>
          <a:blip r:embed="rId1"/>
          <a:stretch/>
        </p:blipFill>
        <p:spPr>
          <a:xfrm>
            <a:off x="635040" y="63504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352520" y="1368360"/>
            <a:ext cx="2374920" cy="2343240"/>
            <a:chOff x="1352520" y="1368360"/>
            <a:chExt cx="2374920" cy="2343240"/>
          </a:xfrm>
        </p:grpSpPr>
        <p:sp>
          <p:nvSpPr>
            <p:cNvPr id="47" name="_s7172"/>
            <p:cNvSpPr/>
            <p:nvPr/>
          </p:nvSpPr>
          <p:spPr>
            <a:xfrm>
              <a:off x="2063880" y="1701720"/>
              <a:ext cx="952200" cy="9525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7173"/>
            <p:cNvSpPr/>
            <p:nvPr/>
          </p:nvSpPr>
          <p:spPr>
            <a:xfrm>
              <a:off x="2413080" y="1368360"/>
              <a:ext cx="2538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7178"/>
            <p:cNvSpPr/>
            <p:nvPr/>
          </p:nvSpPr>
          <p:spPr>
            <a:xfrm>
              <a:off x="2425680" y="2063880"/>
              <a:ext cx="952560" cy="952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7179"/>
            <p:cNvSpPr/>
            <p:nvPr/>
          </p:nvSpPr>
          <p:spPr>
            <a:xfrm>
              <a:off x="3473280" y="2421000"/>
              <a:ext cx="2541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7176"/>
            <p:cNvSpPr/>
            <p:nvPr/>
          </p:nvSpPr>
          <p:spPr>
            <a:xfrm>
              <a:off x="2063880" y="2425680"/>
              <a:ext cx="952200" cy="9525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7177"/>
            <p:cNvSpPr/>
            <p:nvPr/>
          </p:nvSpPr>
          <p:spPr>
            <a:xfrm>
              <a:off x="2413080" y="3473280"/>
              <a:ext cx="2538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7174"/>
            <p:cNvSpPr/>
            <p:nvPr/>
          </p:nvSpPr>
          <p:spPr>
            <a:xfrm>
              <a:off x="1701720" y="2063880"/>
              <a:ext cx="952560" cy="952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7175"/>
            <p:cNvSpPr/>
            <p:nvPr/>
          </p:nvSpPr>
          <p:spPr>
            <a:xfrm>
              <a:off x="1352520" y="2421000"/>
              <a:ext cx="2541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7:06:21Z</dcterms:created>
  <dc:creator>Yolanda</dc:creator>
  <dc:description/>
  <dc:language>en-US</dc:language>
  <cp:lastModifiedBy>Yolanda</cp:lastModifiedBy>
  <dcterms:modified xsi:type="dcterms:W3CDTF">2006-04-27T07:06:22Z</dcterms:modified>
  <cp:revision>1</cp:revision>
  <dc:subject/>
  <dc:title>Below are the test focus   Chosen Effect:      MPath_EqualTriangle Effect Property:    delay Property Value:     0 sec</dc:title>
</cp:coreProperties>
</file>