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834-BB86-4525-BF48-817465C4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F8B-FE80-42CF-9447-93973008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A2E-0FBF-4EFB-8D6A-6D6456A0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16B-9DDA-4C5F-B31D-A440B0A4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D60-B0B5-43D1-AC56-0F325EBC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249-C3FA-4A83-970A-8B621246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4F5-91FF-45B0-9574-9F2C722A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8E3-2490-4D86-8BBE-12ECC05E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D19-0A88-40AE-9844-036BB675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3EA-865A-4ED6-872B-4DDBDCC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707-2B12-4AC5-A923-3EB986B5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CC3-431D-4702-B76D-AF353F4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2C9-0B99-4EBD-B582-22219B3F9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</a:rPr>
              <a:t>מגמות בכלכלת ישרא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נתונים כלליי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תוצר ותעסוק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אזן התשלומים והיציבות החיצונ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פיסקל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מוניטרית ושיעור האינפלצי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Times New Roman"/>
                <a:cs typeface="David"/>
              </a:rPr>
              <a:t>מגמות בכלכלת ישרא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ff00"/>
                </a:solidFill>
                <a:uFillTx/>
                <a:latin typeface="Arial"/>
                <a:cs typeface="David"/>
              </a:rPr>
              <a:t>נתונים כלליי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תוצר ותעסוק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אזן התשלומים והיציבות החיצונ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פיסקל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מוניטרית ושיעור האינפלצי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ff00"/>
                </a:solidFill>
                <a:uFillTx/>
                <a:latin typeface="Times New Roman"/>
                <a:cs typeface="David"/>
              </a:rPr>
              <a:t>נתונים כלליי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10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ff99"/>
                </a:solidFill>
                <a:latin typeface="Arial"/>
                <a:cs typeface="David"/>
              </a:rPr>
              <a:t>הרמה הטכנולוג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10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ff99"/>
                </a:solidFill>
                <a:latin typeface="Arial"/>
                <a:cs typeface="David"/>
              </a:rPr>
              <a:t>רמת החינו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ff00"/>
                </a:solidFill>
                <a:latin typeface="Times New Roman"/>
                <a:cs typeface="David"/>
              </a:rPr>
              <a:t>נתונים כלליי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10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ccff99"/>
                </a:solidFill>
                <a:uFillTx/>
                <a:latin typeface="Arial"/>
                <a:cs typeface="David"/>
              </a:rPr>
              <a:t>הרמה הטכנולוג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b2b2b2"/>
                </a:solidFill>
                <a:latin typeface="Times New Roman"/>
                <a:cs typeface="David"/>
              </a:rPr>
              <a:t>ההוצאה למו"פ אזרחי בישראל ובמדינות ה-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  <a:ea typeface="David"/>
              </a:rPr>
              <a:t>OECD</a:t>
            </a:r>
            <a:br>
              <a:rPr sz="3200"/>
            </a:br>
            <a:r>
              <a:rPr b="1" lang="he-IL" sz="3200" spc="-1" strike="noStrike">
                <a:solidFill>
                  <a:srgbClr val="b2b2b2"/>
                </a:solidFill>
                <a:latin typeface="Times New Roman"/>
                <a:ea typeface="David"/>
              </a:rPr>
              <a:t>2001</a:t>
            </a:r>
            <a:r>
              <a:rPr b="1" lang="he-IL" sz="3200" spc="-1" strike="noStrike">
                <a:solidFill>
                  <a:srgbClr val="b2b2b2"/>
                </a:solidFill>
                <a:latin typeface="Times New Roman"/>
                <a:ea typeface="David"/>
              </a:rPr>
              <a:t>, </a:t>
            </a:r>
            <a:r>
              <a:rPr b="1" lang="he-IL" sz="2400" spc="-1" strike="noStrike">
                <a:solidFill>
                  <a:srgbClr val="b2b2b2"/>
                </a:solidFill>
                <a:latin typeface="Times New Roman"/>
                <a:ea typeface="David"/>
              </a:rPr>
              <a:t>(כאחוז תמ"ג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447920"/>
          <a:ext cx="91440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מדינת ישראל מובילה בתחומים הטכנולוגיים ומדורגת במקום הראשון באחוז התוצר המושקע למחקר ולפיתוח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1:08:04Z</dcterms:created>
  <dc:creator>Oleg</dc:creator>
  <dc:description/>
  <dc:language>en-US</dc:language>
  <cp:lastModifiedBy>Oleg</cp:lastModifiedBy>
  <dcterms:modified xsi:type="dcterms:W3CDTF">2004-12-19T11:08:28Z</dcterms:modified>
  <cp:revision>1</cp:revision>
  <dc:subject/>
  <dc:title>מגמות בכלכלת ישראל</dc:title>
</cp:coreProperties>
</file>