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304-C3CB-4D3A-A7EB-FE1CC19E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25A-ADE8-4CFD-AFA8-6B81B3F6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68A-A235-481B-895C-8E8445D4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888-3CB5-4030-A133-8CF5301F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9C2-266A-4716-8822-E92EAE37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E81-1A1B-4AB9-8E2D-79801B32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C8C-EAAA-4F97-BD14-4F96F4EC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F3E-F59A-479B-A368-C361C99F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A42-D85C-4899-B1D8-18F4A487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FCD-5348-4266-8838-17B030B9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630-7B29-4E9E-B0BE-4D3C0448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D9C-1117-4998-88DC-2C33EC68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963F-3377-455F-98C7-F761F786A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 defa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652840" y="1727280"/>
            <a:ext cx="3838320" cy="4267080"/>
            <a:chOff x="2652840" y="1727280"/>
            <a:chExt cx="3838320" cy="4267080"/>
          </a:xfrm>
        </p:grpSpPr>
        <p:sp>
          <p:nvSpPr>
            <p:cNvPr id="43" name="_s6149"/>
            <p:cNvSpPr/>
            <p:nvPr/>
          </p:nvSpPr>
          <p:spPr>
            <a:xfrm flipH="1" flipV="1">
              <a:off x="364788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6150"/>
            <p:cNvSpPr/>
            <p:nvPr/>
          </p:nvSpPr>
          <p:spPr>
            <a:xfrm>
              <a:off x="2652840" y="2527200"/>
              <a:ext cx="106668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@2#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6151"/>
            <p:cNvSpPr/>
            <p:nvPr/>
          </p:nvSpPr>
          <p:spPr>
            <a:xfrm flipH="1">
              <a:off x="364788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6152"/>
            <p:cNvSpPr/>
            <p:nvPr/>
          </p:nvSpPr>
          <p:spPr>
            <a:xfrm>
              <a:off x="2652840" y="4127400"/>
              <a:ext cx="106668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F!@#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6153"/>
            <p:cNvSpPr/>
            <p:nvPr/>
          </p:nvSpPr>
          <p:spPr>
            <a:xfrm>
              <a:off x="4572000" y="439272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6154"/>
            <p:cNvSpPr/>
            <p:nvPr/>
          </p:nvSpPr>
          <p:spPr>
            <a:xfrm>
              <a:off x="4038480" y="49276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!@#$&lt;&gt;?:”}{_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6155"/>
            <p:cNvSpPr/>
            <p:nvPr/>
          </p:nvSpPr>
          <p:spPr>
            <a:xfrm>
              <a:off x="503244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6156"/>
            <p:cNvSpPr/>
            <p:nvPr/>
          </p:nvSpPr>
          <p:spPr>
            <a:xfrm>
              <a:off x="5424480" y="4127400"/>
              <a:ext cx="106668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1g2h3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6157"/>
            <p:cNvSpPr/>
            <p:nvPr/>
          </p:nvSpPr>
          <p:spPr>
            <a:xfrm flipV="1">
              <a:off x="503244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6158"/>
            <p:cNvSpPr/>
            <p:nvPr/>
          </p:nvSpPr>
          <p:spPr>
            <a:xfrm>
              <a:off x="5424480" y="2527200"/>
              <a:ext cx="106668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6159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6160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khileshw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61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1@S3%f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,?&l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dita</cp:lastModifiedBy>
  <dcterms:modified xsi:type="dcterms:W3CDTF">2010-06-17T12:06:0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