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B02-8D63-4D79-AB7A-EDA7DFA1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0C2-6419-4F27-8131-A453853E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EA4-861C-4FFA-9D87-3F76DF87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6C9-A394-4B40-9E99-2CE9CB10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2A6-5104-4B79-B3AF-3CE7BFD6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968-AE18-436E-92E9-139F68AD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534-1A73-4079-A184-C74637B0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931-DEC3-412C-9E5B-964990D2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3A5-8E56-4B88-A010-1AFEEB33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DE8-38BF-4B57-B17F-B0AEE00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272-F722-4FA1-A40B-CE32341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11D-4263-41DD-8FE0-CCC375F1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371F-2482-4BD9-A8BF-0BBA1AEA94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57200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457200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819520"/>
            <a:ext cx="9144000" cy="2025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I wish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the str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of all elem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53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Presentation goes off also fully automatically.  As you like.  Please switch on loudspeaker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2400" y="641664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For  you 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December 2004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925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22:45:57Z</dcterms:created>
  <dc:creator/>
  <dc:description/>
  <dc:language>en-US</dc:language>
  <cp:lastModifiedBy>caolan</cp:lastModifiedBy>
  <dcterms:modified xsi:type="dcterms:W3CDTF">2008-04-09T14:28:26Z</dcterms:modified>
  <cp:revision>48</cp:revision>
  <dc:subject/>
  <dc:title>I's not from me!!!</dc:title>
</cp:coreProperties>
</file>