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7559675" cy="1069181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1163160" y="1026720"/>
            <a:ext cx="523260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63520" y="1027080"/>
            <a:ext cx="523404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msminch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0360" y="723960"/>
            <a:ext cx="6840720" cy="390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arDraw 3.0 Druckdokument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Datum/Drucker: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gif"/><Relationship Id="rId10" Type="http://schemas.openxmlformats.org/officeDocument/2006/relationships/image" Target="../media/image3.gif"/><Relationship Id="rId11" Type="http://schemas.openxmlformats.org/officeDocument/2006/relationships/image" Target="../media/image4.gif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5427720" y="8705880"/>
            <a:ext cx="1150920" cy="996840"/>
          </a:xfrm>
          <a:prstGeom prst="roundRect">
            <a:avLst>
              <a:gd name="adj" fmla="val 157"/>
            </a:avLst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200" bIns="-180000" anchor="b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Transparente Grafi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4280" y="1173240"/>
            <a:ext cx="1342800" cy="1338120"/>
          </a:xfrm>
          <a:prstGeom prst="roundRect">
            <a:avLst>
              <a:gd name="adj" fmla="val 116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000" bIns="-1800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orginal gekach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7920" y="1173240"/>
            <a:ext cx="1343160" cy="1338120"/>
          </a:xfrm>
          <a:prstGeom prst="roundRect">
            <a:avLst>
              <a:gd name="adj" fmla="val 116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000" bIns="-1800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angepaß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71920" y="1173240"/>
            <a:ext cx="1343160" cy="1338120"/>
          </a:xfrm>
          <a:prstGeom prst="roundRect">
            <a:avLst>
              <a:gd name="adj" fmla="val 116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000" bIns="-1800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orgi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8900000">
            <a:off x="5266800" y="1452240"/>
            <a:ext cx="1343160" cy="1338120"/>
          </a:xfrm>
          <a:prstGeom prst="roundRect">
            <a:avLst>
              <a:gd name="adj" fmla="val 116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000" bIns="-1800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Anpassen gedre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20400000">
            <a:off x="5173200" y="5054400"/>
            <a:ext cx="1447920" cy="804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4280" y="2892600"/>
            <a:ext cx="1342800" cy="1338120"/>
          </a:xfrm>
          <a:prstGeom prst="roundRect">
            <a:avLst>
              <a:gd name="adj" fmla="val 116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000" bIns="-1800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Kachel 10 x 10 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95680" y="2892600"/>
            <a:ext cx="1343160" cy="1338120"/>
          </a:xfrm>
          <a:prstGeom prst="roundRect">
            <a:avLst>
              <a:gd name="adj" fmla="val 116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000" bIns="-1800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Offset 20 x 20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0120" y="4537080"/>
            <a:ext cx="1343160" cy="1338120"/>
          </a:xfrm>
          <a:prstGeom prst="roundRect">
            <a:avLst>
              <a:gd name="adj" fmla="val 116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000" bIns="-1800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Zeilenverschiebung 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89080" y="4537080"/>
            <a:ext cx="1343160" cy="1338120"/>
          </a:xfrm>
          <a:prstGeom prst="roundRect">
            <a:avLst>
              <a:gd name="adj" fmla="val 116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000" bIns="-1800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paltenverschiebung 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609480" y="7365960"/>
            <a:ext cx="2314800" cy="295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1192320" y="7791480"/>
            <a:ext cx="1209600" cy="1562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3065400" y="7378560"/>
            <a:ext cx="3718080" cy="460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30320" y="6651720"/>
            <a:ext cx="1436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if 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2640" y="6651720"/>
            <a:ext cx="3732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imator Objekt Bit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2640" y="8072280"/>
            <a:ext cx="3732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imator Objekt Grup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286160" y="8525880"/>
            <a:ext cx="969120" cy="1370520"/>
            <a:chOff x="4286160" y="8525880"/>
            <a:chExt cx="969120" cy="1370520"/>
          </a:xfrm>
        </p:grpSpPr>
        <p:sp>
          <p:nvSpPr>
            <p:cNvPr id="57" name=""/>
            <p:cNvSpPr/>
            <p:nvPr/>
          </p:nvSpPr>
          <p:spPr>
            <a:xfrm>
              <a:off x="4287960" y="9209160"/>
              <a:ext cx="687240" cy="687240"/>
            </a:xfrm>
            <a:prstGeom prst="roundRect">
              <a:avLst>
                <a:gd name="adj" fmla="val 231"/>
              </a:avLst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500000">
              <a:off x="4316040" y="8554320"/>
              <a:ext cx="687240" cy="687240"/>
            </a:xfrm>
            <a:prstGeom prst="roundRect">
              <a:avLst>
                <a:gd name="adj" fmla="val 231"/>
              </a:avLst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6800000">
              <a:off x="4341960" y="8588160"/>
              <a:ext cx="687240" cy="687240"/>
            </a:xfrm>
            <a:prstGeom prst="roundRect">
              <a:avLst>
                <a:gd name="adj" fmla="val 231"/>
              </a:avLst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7100000">
              <a:off x="4364280" y="8624160"/>
              <a:ext cx="687240" cy="687600"/>
            </a:xfrm>
            <a:custGeom>
              <a:avLst/>
              <a:gdLst>
                <a:gd name="textAreaLeft" fmla="*/ 360 w 687240"/>
                <a:gd name="textAreaRight" fmla="*/ 686880 w 687240"/>
                <a:gd name="textAreaTop" fmla="*/ 360 h 687600"/>
                <a:gd name="textAreaBottom" fmla="*/ 687240 h 687600"/>
              </a:gdLst>
              <a:ahLst/>
              <a:rect l="textAreaLeft" t="textAreaTop" r="textAreaRight" b="textAreaBottom"/>
              <a:pathLst>
                <a:path w="21600" h="21611">
                  <a:moveTo>
                    <a:pt x="50" y="0"/>
                  </a:moveTo>
                  <a:arcTo wR="50" hR="50" stAng="16200000" swAng="-5400000"/>
                  <a:lnTo>
                    <a:pt x="0" y="21561"/>
                  </a:lnTo>
                  <a:arcTo wR="50" hR="50" stAng="10800000" swAng="-5400000"/>
                  <a:lnTo>
                    <a:pt x="21550" y="21611"/>
                  </a:lnTo>
                  <a:arcTo wR="50" hR="50" stAng="5400000" swAng="-5400000"/>
                  <a:lnTo>
                    <a:pt x="21600" y="50"/>
                  </a:lnTo>
                  <a:arcTo wR="50" hR="5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7400000">
              <a:off x="4383000" y="8661240"/>
              <a:ext cx="687600" cy="687600"/>
            </a:xfrm>
            <a:prstGeom prst="roundRect">
              <a:avLst>
                <a:gd name="adj" fmla="val 231"/>
              </a:avLst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7700000">
              <a:off x="4400280" y="8700480"/>
              <a:ext cx="687240" cy="687240"/>
            </a:xfrm>
            <a:prstGeom prst="roundRect">
              <a:avLst>
                <a:gd name="adj" fmla="val 231"/>
              </a:avLst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8000000">
              <a:off x="4413240" y="8740440"/>
              <a:ext cx="687240" cy="687240"/>
            </a:xfrm>
            <a:prstGeom prst="roundRect">
              <a:avLst>
                <a:gd name="adj" fmla="val 231"/>
              </a:avLst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8600000">
              <a:off x="4427640" y="8824680"/>
              <a:ext cx="687240" cy="687240"/>
            </a:xfrm>
            <a:prstGeom prst="roundRect">
              <a:avLst>
                <a:gd name="adj" fmla="val 231"/>
              </a:avLst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9200000">
              <a:off x="4427280" y="8908920"/>
              <a:ext cx="687240" cy="687600"/>
            </a:xfrm>
            <a:custGeom>
              <a:avLst/>
              <a:gdLst>
                <a:gd name="textAreaLeft" fmla="*/ 360 w 687240"/>
                <a:gd name="textAreaRight" fmla="*/ 686880 w 687240"/>
                <a:gd name="textAreaTop" fmla="*/ 360 h 687600"/>
                <a:gd name="textAreaBottom" fmla="*/ 687240 h 687600"/>
              </a:gdLst>
              <a:ahLst/>
              <a:rect l="textAreaLeft" t="textAreaTop" r="textAreaRight" b="textAreaBottom"/>
              <a:pathLst>
                <a:path w="21600" h="21611">
                  <a:moveTo>
                    <a:pt x="50" y="0"/>
                  </a:moveTo>
                  <a:arcTo wR="50" hR="50" stAng="16200000" swAng="-5400000"/>
                  <a:lnTo>
                    <a:pt x="0" y="21561"/>
                  </a:lnTo>
                  <a:arcTo wR="50" hR="50" stAng="10800000" swAng="-5400000"/>
                  <a:lnTo>
                    <a:pt x="21550" y="21611"/>
                  </a:lnTo>
                  <a:arcTo wR="50" hR="50" stAng="5400000" swAng="-5400000"/>
                  <a:lnTo>
                    <a:pt x="21600" y="50"/>
                  </a:lnTo>
                  <a:arcTo wR="50" hR="5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9500000">
              <a:off x="4421160" y="8951400"/>
              <a:ext cx="687240" cy="687600"/>
            </a:xfrm>
            <a:custGeom>
              <a:avLst/>
              <a:gdLst>
                <a:gd name="textAreaLeft" fmla="*/ 360 w 687240"/>
                <a:gd name="textAreaRight" fmla="*/ 686880 w 687240"/>
                <a:gd name="textAreaTop" fmla="*/ 360 h 687600"/>
                <a:gd name="textAreaBottom" fmla="*/ 687240 h 687600"/>
              </a:gdLst>
              <a:ahLst/>
              <a:rect l="textAreaLeft" t="textAreaTop" r="textAreaRight" b="textAreaBottom"/>
              <a:pathLst>
                <a:path w="21600" h="21611">
                  <a:moveTo>
                    <a:pt x="50" y="0"/>
                  </a:moveTo>
                  <a:arcTo wR="50" hR="50" stAng="16200000" swAng="-5400000"/>
                  <a:lnTo>
                    <a:pt x="0" y="21561"/>
                  </a:lnTo>
                  <a:arcTo wR="50" hR="50" stAng="10800000" swAng="-5400000"/>
                  <a:lnTo>
                    <a:pt x="21550" y="21611"/>
                  </a:lnTo>
                  <a:arcTo wR="50" hR="50" stAng="5400000" swAng="-5400000"/>
                  <a:lnTo>
                    <a:pt x="21600" y="50"/>
                  </a:lnTo>
                  <a:arcTo wR="50" hR="5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0100000">
              <a:off x="4400640" y="9032760"/>
              <a:ext cx="687240" cy="687600"/>
            </a:xfrm>
            <a:custGeom>
              <a:avLst/>
              <a:gdLst>
                <a:gd name="textAreaLeft" fmla="*/ 360 w 687240"/>
                <a:gd name="textAreaRight" fmla="*/ 686880 w 687240"/>
                <a:gd name="textAreaTop" fmla="*/ 360 h 687600"/>
                <a:gd name="textAreaBottom" fmla="*/ 687240 h 687600"/>
              </a:gdLst>
              <a:ahLst/>
              <a:rect l="textAreaLeft" t="textAreaTop" r="textAreaRight" b="textAreaBottom"/>
              <a:pathLst>
                <a:path w="21600" h="21611">
                  <a:moveTo>
                    <a:pt x="50" y="0"/>
                  </a:moveTo>
                  <a:arcTo wR="50" hR="50" stAng="16200000" swAng="-5400000"/>
                  <a:lnTo>
                    <a:pt x="0" y="21561"/>
                  </a:lnTo>
                  <a:arcTo wR="50" hR="50" stAng="10800000" swAng="-5400000"/>
                  <a:lnTo>
                    <a:pt x="21550" y="21611"/>
                  </a:lnTo>
                  <a:arcTo wR="50" hR="50" stAng="5400000" swAng="-5400000"/>
                  <a:lnTo>
                    <a:pt x="21600" y="50"/>
                  </a:lnTo>
                  <a:arcTo wR="50" hR="5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20700000">
              <a:off x="4363920" y="9109080"/>
              <a:ext cx="687600" cy="687240"/>
            </a:xfrm>
            <a:prstGeom prst="roundRect">
              <a:avLst>
                <a:gd name="adj" fmla="val 231"/>
              </a:avLst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21300000">
              <a:off x="4316040" y="9178920"/>
              <a:ext cx="687240" cy="687240"/>
            </a:xfrm>
            <a:prstGeom prst="roundRect">
              <a:avLst>
                <a:gd name="adj" fmla="val 231"/>
              </a:avLst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87960" y="9209160"/>
              <a:ext cx="687240" cy="687240"/>
            </a:xfrm>
            <a:prstGeom prst="roundRect">
              <a:avLst>
                <a:gd name="adj" fmla="val 231"/>
              </a:avLst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" name="" descr=""/>
          <p:cNvPicPr/>
          <p:nvPr/>
        </p:nvPicPr>
        <p:blipFill>
          <a:blip r:embed="rId12"/>
          <a:stretch/>
        </p:blipFill>
        <p:spPr>
          <a:xfrm>
            <a:off x="5527800" y="8818560"/>
            <a:ext cx="952200" cy="838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9T10:33:47Z</dcterms:created>
  <dc:creator> </dc:creator>
  <dc:description/>
  <dc:language>en-US</dc:language>
  <cp:lastModifiedBy>thorsten bosbach</cp:lastModifiedBy>
  <cp:lastPrinted>1996-07-29T10:33:47Z</cp:lastPrinted>
  <dcterms:modified xsi:type="dcterms:W3CDTF">2002-01-16T12:48:24Z</dcterms:modified>
  <cp:revision>4</cp:revision>
  <dc:subject/>
  <dc:title/>
</cp:coreProperties>
</file>