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1B9-3068-4873-9B9C-7F842FF5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636-2E76-4531-AB3F-D8375828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FD5-E49A-43BE-BA2B-76C1EF31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48F-5A42-41D0-9E3C-BBEDDFB4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029-EF59-4DFA-9210-1B17752A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9D8-FEB0-41AC-A5D0-15193457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D2C-F349-4639-85A2-71F120D3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EF7-A5C9-46E5-B40B-555649A2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3CD-E06A-4711-9096-5469ED09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8A2-2C1B-4E75-8D99-8F2D4640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29F-441C-4F91-B4D3-5CE7C2B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4AC-DF0B-4CD4-A76C-F3028A6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115A-3CCD-4DC3-A0F5-796DBFD05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7560" y="5416560"/>
            <a:ext cx="6964200" cy="459720"/>
          </a:xfrm>
          <a:prstGeom prst="rect">
            <a:avLst/>
          </a:prstGeom>
          <a:solidFill>
            <a:srgbClr val="d6d8ea"/>
          </a:solidFill>
          <a:ln w="22320">
            <a:solidFill>
              <a:srgbClr val="00008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h b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985080" y="1676520"/>
            <a:ext cx="1587600" cy="1066680"/>
            <a:chOff x="6985080" y="1676520"/>
            <a:chExt cx="1587600" cy="1066680"/>
          </a:xfrm>
        </p:grpSpPr>
        <p:sp>
          <p:nvSpPr>
            <p:cNvPr id="43" name=""/>
            <p:cNvSpPr/>
            <p:nvPr/>
          </p:nvSpPr>
          <p:spPr>
            <a:xfrm>
              <a:off x="6985080" y="1676520"/>
              <a:ext cx="1587600" cy="1066680"/>
            </a:xfrm>
            <a:prstGeom prst="wedgeEllipseCallout">
              <a:avLst>
                <a:gd name="adj1" fmla="val -82500"/>
                <a:gd name="adj2" fmla="val 730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462800" y="1857240"/>
              <a:ext cx="63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r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723960" y="1968480"/>
            <a:ext cx="1587600" cy="1066680"/>
            <a:chOff x="723960" y="1968480"/>
            <a:chExt cx="1587600" cy="1066680"/>
          </a:xfrm>
        </p:grpSpPr>
        <p:sp>
          <p:nvSpPr>
            <p:cNvPr id="46" name=""/>
            <p:cNvSpPr/>
            <p:nvPr/>
          </p:nvSpPr>
          <p:spPr>
            <a:xfrm>
              <a:off x="723960" y="1968480"/>
              <a:ext cx="1587600" cy="1066680"/>
            </a:xfrm>
            <a:prstGeom prst="wedgeEllipseCallout">
              <a:avLst>
                <a:gd name="adj1" fmla="val 150300"/>
                <a:gd name="adj2" fmla="val 4211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048040"/>
              <a:ext cx="686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r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03:16Z</dcterms:created>
  <dc:creator>SJ</dc:creator>
  <dc:description/>
  <dc:language>en-US</dc:language>
  <cp:lastModifiedBy>SJ</cp:lastModifiedBy>
  <dcterms:modified xsi:type="dcterms:W3CDTF">2005-04-14T13:03:24Z</dcterms:modified>
  <cp:revision>1</cp:revision>
  <dc:subject/>
  <dc:title>Kein Folientitel</dc:title>
</cp:coreProperties>
</file>