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ED6-D13C-408F-88E9-9043814B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16A-196D-481B-A290-F1906BA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543-B299-4C76-A5F6-EE617A7C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ED5-B23F-4707-8E9B-E9E8B206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57E-E6B1-40BA-A653-B53AAC6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3DA-1D49-4DDE-AD69-062D309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A19-91C4-44C4-987D-C570B6B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F37-74E3-4226-90D9-C40E6B81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BA7-8493-46CC-BFD9-1565DF2F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1F8-6DA6-4753-B3C7-D10EABE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BFE-E3F9-4700-9CD8-672B8AB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8C2-28C2-4173-90CC-EF8E445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73B-2A6A-4970-B3C5-C080FB0CB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ouche%5B1%5D.wav" TargetMode="External"/><Relationship Id="rId3" Type="http://schemas.microsoft.com/office/2007/relationships/media" Target="file:///tmp/home/.config/libreoffice/4/user/gallery/mouche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%20vache" descr=""/>
          <p:cNvPicPr/>
          <p:nvPr/>
        </p:nvPicPr>
        <p:blipFill>
          <a:blip r:embed="rId1"/>
          <a:stretch/>
        </p:blipFill>
        <p:spPr>
          <a:xfrm>
            <a:off x="304920" y="398520"/>
            <a:ext cx="8610480" cy="645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c un nez pareil, je suis sur de ne pas me tromper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486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 étais encore en train de glander…!!  Hein..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248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z bosse mainte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22:07:19Z</dcterms:created>
  <dc:creator>Emeline</dc:creator>
  <dc:description/>
  <dc:language>en-US</dc:language>
  <cp:lastModifiedBy>Emeline</cp:lastModifiedBy>
  <dcterms:modified xsi:type="dcterms:W3CDTF">2003-09-14T23:19:38Z</dcterms:modified>
  <cp:revision>2</cp:revision>
  <dc:subject/>
  <dc:title>Présentation PowerPoint</dc:title>
</cp:coreProperties>
</file>