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870-11EA-4458-936E-FE7B08DE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9320"/>
            <a:ext cx="77724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5D8-EE8B-402D-92D6-8492475E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932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932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AAF-6C6F-4941-BF47-72EB7B9D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250236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16280"/>
            <a:ext cx="250236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16280"/>
            <a:ext cx="250236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9320"/>
            <a:ext cx="250236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9320"/>
            <a:ext cx="250236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9320"/>
            <a:ext cx="250236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5F0-D0BC-4D54-A4CE-9003D621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4BE-3E8E-4262-BE85-F0553162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EE0-4850-45BF-A978-1C170990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94A-DFAE-4064-8E5A-A3D5CEB6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D15-AE54-4DF8-A811-BF24F01D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34800"/>
            <a:ext cx="7773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0FF-467C-4C7B-A37A-6B62BB0C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932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7C6-D4F2-43FC-9119-3C492567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932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603-B31A-4945-9043-BFA1DAD1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9320"/>
            <a:ext cx="77724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654-2ED5-4790-A182-F2986CA8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90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77560" indent="-277560">
              <a:spcBef>
                <a:spcPts val="901"/>
              </a:spcBef>
              <a:spcAft>
                <a:spcPts val="675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277560" indent="-277560">
              <a:spcBef>
                <a:spcPts val="901"/>
              </a:spcBef>
              <a:spcAft>
                <a:spcPts val="675"/>
              </a:spcAft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277560" indent="-277560">
              <a:spcBef>
                <a:spcPts val="901"/>
              </a:spcBef>
              <a:spcAft>
                <a:spcPts val="675"/>
              </a:spcAft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77560" indent="-277560">
              <a:spcBef>
                <a:spcPts val="901"/>
              </a:spcBef>
              <a:spcAft>
                <a:spcPts val="675"/>
              </a:spcAft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77560" indent="-277560"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77560" indent="-277560"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26CF-00DD-461A-B237-3AAE8151CC2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D183-0533-443D-8C10-0E3E4E1E2C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485800"/>
            <a:ext cx="7772400" cy="36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Tw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o three four five si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ven eight n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20:46:41Z</dcterms:created>
  <dc:creator>Howell</dc:creator>
  <dc:description/>
  <dc:language>en-US</dc:language>
  <cp:lastModifiedBy>ro</cp:lastModifiedBy>
  <dcterms:modified xsi:type="dcterms:W3CDTF">2008-09-20T09:50:26Z</dcterms:modified>
  <cp:revision>493</cp:revision>
  <dc:subject/>
  <dc:title>PowerPoint Presentation</dc:title>
</cp:coreProperties>
</file>