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7A6-5CE8-4A78-A56C-020473E23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813A-E45F-4585-A1E5-7ACF2089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CA8-9AF9-4BAF-839E-BA86B45B9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492-DC19-4680-BFA2-824D48D33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AA7-85E0-4D3E-811D-DD05E68F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AD1-637D-4FCB-B7CE-3911855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F33-D3C2-4C0A-A160-BA55C674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9CE-79EB-4C2D-B923-8F097660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8DA4-C9E4-474A-8B51-594ACE24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1A8-768F-4360-A1C9-F0E203B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E4F-BBBF-4C16-89CD-6770BAB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0374-FA65-4730-A3D8-BC73F70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295-9D47-4E8F-862E-6F1EF41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4A90-28BC-4F3D-ADCB-50B01A65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F1CC-30F6-47E0-8E87-FB8C21F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A89-ED96-4773-B076-A580C66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0EAE-5EF8-4F84-A9C7-66CDC41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735-BBC5-4E1D-878E-369737E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4280-D4EE-49E8-B818-AD59231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FD56-C64A-47FE-98F6-8238EE00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7FB-2D4F-4153-BFD0-325DDE36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7F6-08D4-4092-A97A-8672489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B41-191D-4731-B25D-6DBEC6C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2B7-F13F-481A-B209-6C9529B7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A08-8A16-41A5-9C72-08CFDB0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BC2-BAB5-4F87-81C3-B9A74DD6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2F8-A24E-47EF-8645-05A45B0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894-7AFD-49B7-91E3-0B61E80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82A2-B2A5-4018-B12A-8E872DE6D78A}" type="datetime5">
              <a:rPr b="0" lang="en-US" sz="1200" spc="-1" strike="noStrike">
                <a:solidFill>
                  <a:srgbClr val="ff9966"/>
                </a:solidFill>
                <a:latin typeface="Arial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4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3DC-4A0F-4AF2-BB82-CCB2EB89470C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6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533-A0EA-4841-BC2E-B9C2BBCE2B5B}" type="datetime5">
              <a:rPr b="0" lang="en-US" sz="1400" spc="-1" strike="noStrike">
                <a:solidFill>
                  <a:srgbClr val="ff9966"/>
                </a:solidFill>
                <a:latin typeface="Arial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14360" y="6392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CEE7-C24F-44F8-B236-35EE1CC18314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5800" y="1041480"/>
            <a:ext cx="848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For example, in the degenerate case when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n = 1,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(0,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b) = SKIP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, and the barrier is local, the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920" y="163440"/>
            <a:ext cx="868032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00"/>
                </a:solidFill>
                <a:latin typeface="Arial Narrow"/>
              </a:rPr>
              <a:t>Barrier Resignatio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306360" y="1987560"/>
            <a:ext cx="3718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ARRIER b: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</a:rPr>
              <a:t>PA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i = 0 FOR 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ARRIER 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P (i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4800" y="3171960"/>
            <a:ext cx="8440560" cy="368280"/>
            <a:chOff x="334800" y="3171960"/>
            <a:chExt cx="8440560" cy="368280"/>
          </a:xfrm>
        </p:grpSpPr>
        <p:sp>
          <p:nvSpPr>
            <p:cNvPr id="92" name=""/>
            <p:cNvSpPr/>
            <p:nvPr/>
          </p:nvSpPr>
          <p:spPr>
            <a:xfrm>
              <a:off x="1752840" y="3171960"/>
              <a:ext cx="702252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|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| {P(i); S | i = 0..(n-1)}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" y="3230640"/>
              <a:ext cx="964080" cy="256680"/>
            </a:xfrm>
            <a:custGeom>
              <a:avLst/>
              <a:gdLst/>
              <a:ahLst/>
              <a:rect l="l" t="t" r="r" b="b"/>
              <a:pathLst>
                <a:path w="562" h="162">
                  <a:moveTo>
                    <a:pt x="0" y="92"/>
                  </a:moveTo>
                  <a:cubicBezTo>
                    <a:pt x="38" y="46"/>
                    <a:pt x="77" y="0"/>
                    <a:pt x="142" y="10"/>
                  </a:cubicBezTo>
                  <a:cubicBezTo>
                    <a:pt x="207" y="20"/>
                    <a:pt x="322" y="146"/>
                    <a:pt x="392" y="154"/>
                  </a:cubicBezTo>
                  <a:cubicBezTo>
                    <a:pt x="462" y="162"/>
                    <a:pt x="512" y="109"/>
                    <a:pt x="562" y="56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444680" y="3722760"/>
            <a:ext cx="4556160" cy="368280"/>
            <a:chOff x="1444680" y="3722760"/>
            <a:chExt cx="4556160" cy="368280"/>
          </a:xfrm>
        </p:grpSpPr>
        <p:sp>
          <p:nvSpPr>
            <p:cNvPr id="95" name=""/>
            <p:cNvSpPr/>
            <p:nvPr/>
          </p:nvSpPr>
          <p:spPr>
            <a:xfrm>
              <a:off x="1444680" y="3722760"/>
              <a:ext cx="291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52560" y="3722760"/>
              <a:ext cx="414828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|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| {S}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4680" y="4275000"/>
            <a:ext cx="2579760" cy="368280"/>
            <a:chOff x="1444680" y="4275000"/>
            <a:chExt cx="2579760" cy="368280"/>
          </a:xfrm>
        </p:grpSpPr>
        <p:sp>
          <p:nvSpPr>
            <p:cNvPr id="98" name=""/>
            <p:cNvSpPr/>
            <p:nvPr/>
          </p:nvSpPr>
          <p:spPr>
            <a:xfrm>
              <a:off x="1444680" y="427500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2560" y="4275000"/>
              <a:ext cx="217188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44680" y="4826160"/>
            <a:ext cx="6189480" cy="376200"/>
            <a:chOff x="1444680" y="4826160"/>
            <a:chExt cx="6189480" cy="376200"/>
          </a:xfrm>
        </p:grpSpPr>
        <p:sp>
          <p:nvSpPr>
            <p:cNvPr id="101" name=""/>
            <p:cNvSpPr/>
            <p:nvPr/>
          </p:nvSpPr>
          <p:spPr>
            <a:xfrm>
              <a:off x="1852560" y="4826160"/>
              <a:ext cx="57816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) [] 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KIP)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4680" y="48355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44680" y="5378400"/>
            <a:ext cx="2465280" cy="376560"/>
            <a:chOff x="1444680" y="5378400"/>
            <a:chExt cx="2465280" cy="376560"/>
          </a:xfrm>
        </p:grpSpPr>
        <p:sp>
          <p:nvSpPr>
            <p:cNvPr id="104" name=""/>
            <p:cNvSpPr/>
            <p:nvPr/>
          </p:nvSpPr>
          <p:spPr>
            <a:xfrm>
              <a:off x="1852560" y="5378400"/>
              <a:ext cx="205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PIN |-| SKI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4680" y="53881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024440" y="5378400"/>
            <a:ext cx="4467240" cy="642600"/>
            <a:chOff x="4024440" y="5378400"/>
            <a:chExt cx="4467240" cy="642600"/>
          </a:xfrm>
        </p:grpSpPr>
        <p:sp>
          <p:nvSpPr>
            <p:cNvPr id="107" name=""/>
            <p:cNvSpPr/>
            <p:nvPr/>
          </p:nvSpPr>
          <p:spPr>
            <a:xfrm>
              <a:off x="4024440" y="537840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where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9840" y="5378400"/>
              <a:ext cx="3471840" cy="6426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PIN = 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PIN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5800" y="5925960"/>
            <a:ext cx="4076640" cy="458280"/>
            <a:chOff x="415800" y="5925960"/>
            <a:chExt cx="4076640" cy="458280"/>
          </a:xfrm>
        </p:grpSpPr>
        <p:sp>
          <p:nvSpPr>
            <p:cNvPr id="110" name=""/>
            <p:cNvSpPr/>
            <p:nvPr/>
          </p:nvSpPr>
          <p:spPr>
            <a:xfrm>
              <a:off x="415800" y="5925960"/>
              <a:ext cx="33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Arial"/>
                </a:rPr>
                <a:t>But we want this to be: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9040" y="5986080"/>
              <a:ext cx="833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KI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2320" y="5303880"/>
            <a:ext cx="898560" cy="522360"/>
            <a:chOff x="652320" y="5303880"/>
            <a:chExt cx="898560" cy="522360"/>
          </a:xfrm>
        </p:grpSpPr>
        <p:sp>
          <p:nvSpPr>
            <p:cNvPr id="113" name=""/>
            <p:cNvSpPr/>
            <p:nvPr/>
          </p:nvSpPr>
          <p:spPr>
            <a:xfrm>
              <a:off x="839520" y="5303880"/>
              <a:ext cx="522360" cy="52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1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2320" y="5395680"/>
              <a:ext cx="89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10000"/>
                  </a:solidFill>
                  <a:latin typeface="Arial"/>
                </a:rPr>
                <a:t>???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P.H.Wel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3B6-310D-489C-9688-C24B0370CFF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0718E-5914-4162-9046-19151D7E95F2}" type="datetime5">
              <a:rPr lang="en-US"/>
              <a:t>Jul 31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2:36:37Z</dcterms:created>
  <dc:creator>Peter Welch</dc:creator>
  <dc:description/>
  <dc:language>en-US</dc:language>
  <cp:lastModifiedBy>Christian Günther</cp:lastModifiedBy>
  <cp:lastPrinted>2000-05-05T18:16:33Z</cp:lastPrinted>
  <dcterms:modified xsi:type="dcterms:W3CDTF">2005-11-01T18:55:12Z</dcterms:modified>
  <cp:revision>1318</cp:revision>
  <dc:subject/>
  <dc:title>Mobile Data Types for Communicating Processes</dc:title>
</cp:coreProperties>
</file>