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291-5C9F-44B2-AA80-9C4186C7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C00-F96D-48B9-A7E3-9C5E2067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3D1-35F9-4C28-BE5A-CCA2C0FC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873-1758-488F-AF46-158B6AEB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BCD-FF53-433F-91F2-014AE3F1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DC5-FD1D-493A-987C-D3FCD22D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9C3-3054-46D7-9D14-C38A8AB3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1B0-71AF-4D4E-A5EF-08691267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E4D-2ED6-402C-844C-92418A7F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40E-776E-4793-9550-A49AF0AD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8BC-0566-453B-9E58-847B36A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0FD-3027-4BAB-86BF-38945F76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0644-0484-4C37-89F2-23A52820D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vertical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5085720" y="3066840"/>
            <a:ext cx="4191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vertical tex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26T12:50:38Z</dcterms:modified>
  <cp:revision>1</cp:revision>
  <dc:subject/>
  <dc:title>PowerPoint Presentation</dc:title>
</cp:coreProperties>
</file>