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735-5F62-4629-A968-5CE6D98A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D69-C2E4-429A-A745-51BD1464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96D-D391-4494-BB8F-8C82F792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A6C-052D-43D9-B074-B8DFC519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0FB-F094-4992-BB98-5B4C61ED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C18-5D2E-427D-920C-DDA33909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441-79CE-4707-AA41-E80F9108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900-3C38-4D0D-939D-BDC6B48D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38B-DEF1-4CC6-A758-B59EC3DF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790-EA00-4AB8-B7A2-94ADF3EA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1C7-4B76-4C23-8616-9210A3FF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07B-2577-45C1-823C-B04BE2C1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870D-5149-4FFA-8761-0F7C3DE9F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here are they used?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ynamics modules (Finite Volume)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f53d25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3d25"/>
                </a:solidFill>
                <a:latin typeface="Chalkboard"/>
              </a:rPr>
              <a:t>Conserving mapping algorithm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3d25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t is mapped from Lagrangian to Eulerian and then used to retrieve T. Cp is assumed constant in this mapping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utation/conversion of geopotential, pressure, exner pressure, and potential temperature. Will potential temperature be the same? Adiabatic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last term is 0 and the previous definition of potential temperature should still be valid, because there is no mass exchange in the process,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1905120" y="4419720"/>
                <a:ext cx="3136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T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d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5"/>
              <p:cNvSpPr txBox="1"/>
              <p:nvPr/>
            </p:nvSpPr>
            <p:spPr>
              <a:xfrm>
                <a:off x="1600200" y="1384200"/>
                <a:ext cx="61992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p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T</m:t>
                            </m:r>
                          </m:e>
                        </m:bar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p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ka Marcum</dc:creator>
  <dc:description/>
  <dc:language>en-US</dc:language>
  <cp:lastModifiedBy>svegesna</cp:lastModifiedBy>
  <dcterms:modified xsi:type="dcterms:W3CDTF">2011-04-14T11:41:06Z</dcterms:modified>
  <cp:revision>7</cp:revision>
  <dc:subject/>
  <dc:title>Flow Chart of Development</dc:title>
</cp:coreProperties>
</file>