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A65-543D-467D-905C-1751317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EB8-608B-47AE-B604-3F96EA2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7D2-E7BC-40B5-854E-3AD9F69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B4C-531E-4299-AA7B-AB47809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1D1-E2BB-40D1-8C9B-6459A805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C35-807F-45B6-97C6-582D61C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C77-56FF-45BA-AAC6-D586D9E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4DF-064F-47DA-BFD5-5C7ED1EA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5B5-4010-489E-AC5A-74C22C6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22A-A358-4653-B7A8-0367E72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3A7-87BF-47D1-A1CB-25758CC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A98-0E9A-42D5-BA4C-3039AC5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CB39-99CF-4676-A118-E5C27ED0D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color is blac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ylink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te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ylink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ylink3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more two color(blue+gree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Green text hylink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hylink5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ylink6 </a:t>
            </a: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buletext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hylink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default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text, use defau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“Hylink2” is hyperlin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other text color is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color is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link2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color is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put text,set text color is b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t “Hylink3” is hyperlin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dify other text color is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ylink3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more two color(blue+gree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6-11T03:13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