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1E29-F3CE-4E6D-ACB7-51C5BAC6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8491-1682-4B54-A7B2-6DEA722C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39CB-2B9C-469D-986F-D1529AB3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F078-5359-45DE-8E9B-C4E895F1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8EBC-04F9-42F4-9210-3D78FD02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50B8-6BF4-4BCC-98FD-85A26418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EA3D-5283-43F9-804C-A8E5B739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647B-F4FF-4FA4-A71F-3ADAC0CE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9FE3-3DEA-4581-B8D2-6E013FEB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D1E5-5EFE-4B2A-BE4A-D5A62A1A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9678-A37D-4B64-8A61-01DB464B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F81D-9F99-4A88-8B0A-60D7A067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07/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hgkhj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07:30:05Z</dcterms:created>
  <dc:creator>Wipro Ltd</dc:creator>
  <dc:description/>
  <dc:language>en-US</dc:language>
  <cp:lastModifiedBy>Wipro Ltd</cp:lastModifiedBy>
  <dcterms:modified xsi:type="dcterms:W3CDTF">2011-06-10T07:30:18Z</dcterms:modified>
  <cp:revision>1</cp:revision>
  <dc:subject/>
  <dc:title>Slide 1</dc:title>
</cp:coreProperties>
</file>