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EB30-110B-4D07-B49B-14D03E6C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B7C-30F5-48F9-9345-FA894B2A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2CE-D186-4160-BD31-DE905820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168-6213-4712-9983-CBBECB0B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90EB-8631-4437-9625-58914F45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E37-DA2B-48DD-A99E-485E5DF9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A79D-3189-4B9C-BF6C-7492F713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AB9-1DF3-45FA-B7B2-1291E336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5625-4084-4D39-B75D-DE04C77E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67C-F821-4B45-B260-33EFAC76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2F83-543B-429A-AD9F-8EC7C9CE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F33-AAA7-4928-BD2A-215C7E6D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0B72-9323-4A56-8FEC-C2670DD44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4600" y="99072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b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3505320"/>
            <a:ext cx="2057400" cy="144756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330480 h 1447560"/>
              <a:gd name="textAreaBottom" fmla="*/ 11170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2590920"/>
            <a:ext cx="1523880" cy="2057400"/>
          </a:xfrm>
          <a:custGeom>
            <a:avLst/>
            <a:gdLst>
              <a:gd name="textAreaLeft" fmla="*/ 380880 w 1523880"/>
              <a:gd name="textAreaRight" fmla="*/ 1143000 w 1523880"/>
              <a:gd name="textAreaTop" fmla="*/ 0 h 2057400"/>
              <a:gd name="textAreaBottom" fmla="*/ 1800360 h 2057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@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9-18T04:54:11Z</dcterms:modified>
  <cp:revision>3</cp:revision>
  <dc:subject/>
  <dc:title>PowerPoint Presentation</dc:title>
</cp:coreProperties>
</file>