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FAB-0D0D-425C-BE17-F408A345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B67-08A1-4BB7-B5C8-959CD862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34D-82D0-49A8-B4EB-8576DF59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60C-59AA-41E1-A135-D505B88B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5EE-264B-40BC-9C66-2232085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E23-AE8B-4574-A03C-F62E241F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FFD-1FE6-46C0-BC0C-4E8BF76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A58-9C32-4056-986A-21A10362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F23-1683-4513-B579-5D9D97E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87C-DF6D-4E26-9A49-5BC0A0CB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E9C-2E00-429F-9039-4199DDD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23D-4B91-4FCF-8E9E-787DED8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28600" y="61722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1D52-826E-49A6-AE67-8BAFF9E17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447920"/>
            <a:ext cx="2819160" cy="3504600"/>
            <a:chOff x="990720" y="1447920"/>
            <a:chExt cx="2819160" cy="35046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990720" y="3051360"/>
              <a:ext cx="2819160" cy="19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90720" y="1447920"/>
              <a:ext cx="2819160" cy="16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435680" y="2492640"/>
              <a:ext cx="193068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543800" y="304920"/>
            <a:ext cx="1600200" cy="55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962520" y="1371600"/>
            <a:ext cx="388620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WELCOM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ALL OF YOU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GLISHIS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EL GIB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EX R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4771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° MASTER GESTIONE E STRATEGIA D’IMPRE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eiilogo120" descr=""/>
          <p:cNvPicPr/>
          <p:nvPr/>
        </p:nvPicPr>
        <p:blipFill>
          <a:blip r:embed="rId5"/>
          <a:stretch/>
        </p:blipFill>
        <p:spPr>
          <a:xfrm>
            <a:off x="0" y="304920"/>
            <a:ext cx="1752480" cy="61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0" name="logo_business_school_vert" descr=""/>
          <p:cNvPicPr/>
          <p:nvPr/>
        </p:nvPicPr>
        <p:blipFill>
          <a:blip r:embed="rId6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logo_business_school_vert" descr=""/>
          <p:cNvPicPr/>
          <p:nvPr/>
        </p:nvPicPr>
        <p:blipFill>
          <a:blip r:embed="rId7"/>
          <a:stretch/>
        </p:blipFill>
        <p:spPr>
          <a:xfrm>
            <a:off x="8391600" y="4884840"/>
            <a:ext cx="75240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logo_business_school_vert" descr=""/>
          <p:cNvPicPr/>
          <p:nvPr/>
        </p:nvPicPr>
        <p:blipFill>
          <a:blip r:embed="rId8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846-D2E5-490A-A2D0-7F62D3FB9D91}" type="slidenum">
              <a:t>1</a:t>
            </a:fld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1981080"/>
            <a:ext cx="5715000" cy="21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ENGLISHISHI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MMUN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PUT /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eacher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04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05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5AB-A2D9-4C97-A2ED-C7A00E5340EA}" type="slidenum">
              <a:t>10</a:t>
            </a:fld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1600200"/>
            <a:ext cx="57150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eacher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08" name=""/>
          <p:cNvSpPr/>
          <p:nvPr/>
        </p:nvSpPr>
        <p:spPr>
          <a:xfrm>
            <a:off x="2590920" y="1447920"/>
            <a:ext cx="5943600" cy="39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MMUNICAT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  <a:tab algn="l" pos="9150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CUS ON SPOKE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  <a:tab algn="l" pos="9150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CUS ON VOCABULARY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ATED TO THI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  <a:tab algn="l" pos="9150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CUS ON GRAMMAR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D LANGUAGE USE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1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2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5B7-0070-4C24-8656-66E1673570E5}" type="slidenum">
              <a:t>11</a:t>
            </a:fld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24080" y="1447920"/>
            <a:ext cx="5715000" cy="248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PUT /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PUT = TH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ORMATION WE WILL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SS ON TO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UTPUT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YOU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USE OF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S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acher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7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8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A77-42AE-4130-91C9-74BA9E862FF9}" type="slidenum">
              <a:t>12</a:t>
            </a:fld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43200" y="1828800"/>
            <a:ext cx="5334120" cy="27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D05378_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1676520" cy="1855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3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4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077-AF3C-4D74-AA75-428496B6B5EB}" type="slidenum">
              <a:t>13</a:t>
            </a:fld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1219320"/>
            <a:ext cx="7543800" cy="357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PRE-COURSE LEVEL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END OF COURSE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END OF COURS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72404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9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0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623-2D49-4F90-B0FA-E8360230A4AA}" type="slidenum">
              <a:t>14</a:t>
            </a:fld>
          </a:p>
        </p:txBody>
      </p: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1219320"/>
            <a:ext cx="7315200" cy="311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PRE-COURSE LEVEL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ESTABLISH YOUR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PLACE YOU IN THE B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5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6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EC0-4192-47F1-9D74-997CAFA06F36}" type="slidenum">
              <a:t>15</a:t>
            </a:fld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1219320"/>
            <a:ext cx="6324480" cy="38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19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END OF COURSE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 ORAL EXAMINATION IN WHICH YOU WI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 YOUR 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SWER QUESTIONS ABOUT 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CUSS YOUR 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1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2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119-DFCB-4887-BA2A-276E52915D2A}" type="slidenum">
              <a:t>16</a:t>
            </a:fld>
          </a:p>
        </p:txBody>
      </p:sp>
    </p:spTree>
  </p:cSld>
  <p:transition spd="med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0" y="1219320"/>
            <a:ext cx="6324480" cy="325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END OF COURS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 REPORT WILL HELP YOU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DENTIFY YOUR STRENGTHS AND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 FUTURE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7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8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7C0-6EEE-4AB6-854D-E690477D0819}" type="slidenum">
              <a:t>17</a:t>
            </a:fld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1143000"/>
            <a:ext cx="8153640" cy="46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Final thou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  <a:ea typeface="HG Mincho Light J"/>
              </a:rPr>
              <a:t>'The roots of education are bitter, but the fruits are sweet.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  <a:ea typeface="HG Mincho Light J"/>
              </a:rPr>
              <a:t>Artisto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Le radici dell’istruzione sono am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 i frutti sono dolci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eiilogo120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3" name="logo_business_school_vert" descr=""/>
          <p:cNvPicPr/>
          <p:nvPr/>
        </p:nvPicPr>
        <p:blipFill>
          <a:blip r:embed="rId3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678-00D7-47DB-8658-40E8BEBF2DD6}" type="slidenum">
              <a:t>18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1080" y="1447920"/>
            <a:ext cx="6096240" cy="35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’IMPRE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6" name="eiilogo120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7" name="logo_business_school_vert" descr=""/>
          <p:cNvPicPr/>
          <p:nvPr/>
        </p:nvPicPr>
        <p:blipFill>
          <a:blip r:embed="rId3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3F6-2D7F-4431-B93B-1156F914D43D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90920" y="1676520"/>
            <a:ext cx="5029200" cy="292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05378_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362320" cy="1855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2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DC8-A2DE-4132-8244-351FE4EAB661}" type="slidenum">
              <a:t>3</a:t>
            </a:fld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905120"/>
            <a:ext cx="518148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EL GIB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LEX R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acher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8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9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B50-8DAC-45C7-B302-064E3C2B4651}" type="slidenum">
              <a:t>4</a:t>
            </a:fld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5120" y="1676520"/>
            <a:ext cx="7238880" cy="262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D05378_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1676520" cy="1855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4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5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1A1-CCB1-4248-8A5C-4C2466A45541}" type="slidenum">
              <a:t>5</a:t>
            </a:fld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arget2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2286000" cy="216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1523880"/>
            <a:ext cx="8153640" cy="33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To develop your ability to use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it-IT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i="1" lang="en-GB" sz="3200" spc="-1" strike="noStrike">
                <a:solidFill>
                  <a:srgbClr val="ffffff"/>
                </a:solidFill>
                <a:latin typeface="Verdana"/>
              </a:rPr>
              <a:t>poken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English in business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To expand your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To help you express your ideas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learly and eff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0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1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AD4-5A4C-4DC0-A2F6-64382C44758F}" type="slidenum">
              <a:t>6</a:t>
            </a:fld>
          </a:p>
        </p:txBody>
      </p:sp>
    </p:spTree>
  </p:cSld>
  <p:transition spd="slow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66880" y="1981080"/>
            <a:ext cx="5181840" cy="27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D05378_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1676160" cy="1855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6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7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7F0-2E67-4207-BAA3-DF1D6A269309}" type="slidenum">
              <a:t>7</a:t>
            </a:fld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752480"/>
            <a:ext cx="8153280" cy="24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YOUR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ATTEMPT TO USE ENGLISH AT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RY OPPORT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BE PROA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tudents2" descr=""/>
          <p:cNvPicPr/>
          <p:nvPr/>
        </p:nvPicPr>
        <p:blipFill>
          <a:blip r:embed="rId1"/>
          <a:stretch/>
        </p:blipFill>
        <p:spPr>
          <a:xfrm>
            <a:off x="6477120" y="762120"/>
            <a:ext cx="2457360" cy="1527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2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3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B60-5F97-4483-AA36-8E35D17374A1}" type="slidenum">
              <a:t>8</a:t>
            </a:fld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66880" y="1905120"/>
            <a:ext cx="4724640" cy="27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D05378_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167652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8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9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FDC-0ED8-4906-A884-719B53149BA1}" type="slidenum">
              <a:t>9</a:t>
            </a:fld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14:51:30Z</dcterms:created>
  <dc:creator>a</dc:creator>
  <dc:description/>
  <dc:language>en-US</dc:language>
  <cp:lastModifiedBy>a</cp:lastModifiedBy>
  <dcterms:modified xsi:type="dcterms:W3CDTF">2005-01-24T21:31:51Z</dcterms:modified>
  <cp:revision>41</cp:revision>
  <dc:subject/>
  <dc:title>2° MASTER – BANCA FINANZA &amp; MERCATI  BUSINESS ENGLISH </dc:title>
</cp:coreProperties>
</file>