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572760"/>
            <a:ext cx="86043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572760"/>
            <a:ext cx="8604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-30132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360" indent="-26532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3120" indent="-20088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4520" indent="-19908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6280" indent="-20088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6280" indent="-20088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6280" indent="-200880">
              <a:lnSpc>
                <a:spcPct val="11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</a:rPr>
              <a:t>Writing Ero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1874880"/>
            <a:ext cx="8607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Erotica or pornograp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What any story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 location 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 reason for 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19600" y="5068800"/>
            <a:ext cx="428652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0156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</a:rPr>
              <a:t>Writing erotica - miscon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You do not need to write about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Profanities can be used, but are not ess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Erotica can be seen almost an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The quality depends on the authors 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80400" y="4719600"/>
            <a:ext cx="2720880" cy="26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</a:rPr>
              <a:t>Writing Erotica -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The main characters do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 role within th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ome form of ability to display “pow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To be well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Lesser characters need not be so well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74040" y="4989600"/>
            <a:ext cx="2392200" cy="25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