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226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74480"/>
            <a:ext cx="8226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7448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82880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82880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7448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7448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7448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22636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226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617688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22636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440" y="407448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8226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226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4074480"/>
            <a:ext cx="8226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440" y="407448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8200" y="182880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9560" y="182880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407448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8200" y="407448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9560" y="4074480"/>
            <a:ext cx="264852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226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617688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7448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828800"/>
            <a:ext cx="4014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8226360" cy="205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>
            <a:off x="455760" y="1751040"/>
            <a:ext cx="6199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775560" y="468360"/>
            <a:ext cx="2151000" cy="11034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82520" y="228600"/>
            <a:ext cx="960480" cy="9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61768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28800"/>
            <a:ext cx="8226360" cy="42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6560" indent="-466560">
              <a:spcBef>
                <a:spcPts val="737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spcBef>
                <a:spcPts val="737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4840" indent="-468360">
              <a:spcBef>
                <a:spcPts val="737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4120" indent="-436680">
              <a:spcBef>
                <a:spcPts val="737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3920" indent="-465120">
              <a:spcBef>
                <a:spcPts val="737"/>
              </a:spcBef>
              <a:buClr>
                <a:srgbClr val="999966"/>
              </a:buClr>
              <a:buSzPct val="5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3920" indent="-465120">
              <a:spcBef>
                <a:spcPts val="737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3920" indent="-465120">
              <a:spcBef>
                <a:spcPts val="737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7320"/>
            <a:ext cx="6178680" cy="13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FI Astrometry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quirements and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0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6560" indent="-466560">
              <a:lnSpc>
                <a:spcPct val="93000"/>
              </a:lnSpc>
              <a:spcBef>
                <a:spcPts val="737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ientif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100000"/>
              </a:lnSpc>
              <a:spcBef>
                <a:spcPts val="638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ive pointing error: </a:t>
            </a: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&lt; 1/5 beam = 1</a:t>
            </a:r>
            <a:r>
              <a:rPr b="0" lang="en-GB" sz="2800" spc="-1" strike="noStrike">
                <a:solidFill>
                  <a:srgbClr val="008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4840" indent="-46836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ed for averaging over r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100000"/>
              </a:lnSpc>
              <a:spcBef>
                <a:spcPts val="638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itude measurement error: </a:t>
            </a: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&lt; 9</a:t>
            </a:r>
            <a:r>
              <a:rPr b="0" lang="en-GB" sz="2800" spc="-1" strike="noStrike">
                <a:solidFill>
                  <a:srgbClr val="008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4840" indent="-46836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ed for minimizing effective beam-sm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4840" indent="-46836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am smearing &lt; noise 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3541680"/>
            <a:ext cx="7872120" cy="1828800"/>
          </a:xfrm>
          <a:prstGeom prst="roundRect">
            <a:avLst>
              <a:gd name="adj" fmla="val 9806"/>
            </a:avLst>
          </a:prstGeom>
          <a:noFill/>
          <a:ln w="73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49120"/>
            <a:ext cx="61786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st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8160" cy="44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6560" indent="-466560">
              <a:lnSpc>
                <a:spcPct val="80000"/>
              </a:lnSpc>
              <a:spcBef>
                <a:spcPts val="638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80000"/>
              </a:lnSpc>
              <a:spcBef>
                <a:spcPts val="575"/>
              </a:spcBef>
              <a:buClr>
                <a:srgbClr val="999966"/>
              </a:buClr>
              <a:buSzPct val="6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nitial pointing (may be off by 1°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80000"/>
              </a:lnSpc>
              <a:spcBef>
                <a:spcPts val="638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lowly-var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80000"/>
              </a:lnSpc>
              <a:spcBef>
                <a:spcPts val="575"/>
              </a:spcBef>
              <a:buClr>
                <a:srgbClr val="999966"/>
              </a:buClr>
              <a:buSzPct val="6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oresight angl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80000"/>
              </a:lnSpc>
              <a:spcBef>
                <a:spcPts val="575"/>
              </a:spcBef>
              <a:buClr>
                <a:srgbClr val="999966"/>
              </a:buClr>
              <a:buSzPct val="6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tation of focal pla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80000"/>
              </a:lnSpc>
              <a:spcBef>
                <a:spcPts val="575"/>
              </a:spcBef>
              <a:buClr>
                <a:srgbClr val="999966"/>
              </a:buClr>
              <a:buSzPct val="6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Detector angles within focal pla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80000"/>
              </a:lnSpc>
              <a:spcBef>
                <a:spcPts val="638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80000"/>
              </a:lnSpc>
              <a:spcBef>
                <a:spcPts val="575"/>
              </a:spcBef>
              <a:buClr>
                <a:srgbClr val="999966"/>
              </a:buClr>
              <a:buSzPct val="6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ean spin-axis posi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80000"/>
              </a:lnSpc>
              <a:spcBef>
                <a:spcPts val="575"/>
              </a:spcBef>
              <a:buClr>
                <a:srgbClr val="999966"/>
              </a:buClr>
              <a:buSzPct val="6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Nutation around spin ax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80000"/>
              </a:lnSpc>
              <a:spcBef>
                <a:spcPts val="575"/>
              </a:spcBef>
              <a:buClr>
                <a:srgbClr val="999966"/>
              </a:buClr>
              <a:buSzPct val="6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Spin velocity, ph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6560" indent="-466560">
              <a:lnSpc>
                <a:spcPct val="93000"/>
              </a:lnSpc>
              <a:spcBef>
                <a:spcPts val="638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itial point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100000"/>
              </a:lnSpc>
              <a:spcBef>
                <a:spcPts val="550"/>
              </a:spcBef>
              <a:buClr>
                <a:srgbClr val="999966"/>
              </a:buClr>
              <a:buSzPct val="63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ght sources (incl. Galactic plane) in first ~day’s data (“manual” fix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638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resight angle, detector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100000"/>
              </a:lnSpc>
              <a:spcBef>
                <a:spcPts val="550"/>
              </a:spcBef>
              <a:buClr>
                <a:srgbClr val="999966"/>
              </a:buClr>
              <a:buSzPct val="63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n, bright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100000"/>
              </a:lnSpc>
              <a:spcBef>
                <a:spcPts val="550"/>
              </a:spcBef>
              <a:buClr>
                <a:srgbClr val="999966"/>
              </a:buClr>
              <a:buSzPct val="63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ile statistics on detected known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638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to check accuracy of star track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100000"/>
              </a:lnSpc>
              <a:spcBef>
                <a:spcPts val="638"/>
              </a:spcBef>
              <a:buClr>
                <a:srgbClr val="999966"/>
              </a:buClr>
              <a:buSzPct val="52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luding n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638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ar tracker back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6840" y="248760"/>
            <a:ext cx="61786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strometry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ecific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48760"/>
            <a:ext cx="61786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strometry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ecific Issue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6560" indent="-466560">
              <a:lnSpc>
                <a:spcPct val="93000"/>
              </a:lnSpc>
              <a:spcBef>
                <a:spcPts val="737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tation from flight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100000"/>
              </a:lnSpc>
              <a:spcBef>
                <a:spcPts val="638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p-making and harmonic both require nutation amplitude has negligible effect on b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4840" indent="-46836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plitude &lt;1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solution &lt;&lt;1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35240">
              <a:lnSpc>
                <a:spcPct val="100000"/>
              </a:lnSpc>
              <a:spcBef>
                <a:spcPts val="638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 enough bright sources for nutation solution o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ring (see DH presen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737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larized chann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737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F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57320"/>
            <a:ext cx="6178680" cy="13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6560" indent="-466560">
              <a:lnSpc>
                <a:spcPct val="93000"/>
              </a:lnSpc>
              <a:spcBef>
                <a:spcPts val="451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ing WT: Objectives and Pla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Maino, Van Leeuw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451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on and Orientation of HFI Horn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1 Jun ‘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451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ing Accuracy: HFI Scientific Requirements and HFI Provided Measurements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uget, Lamarre, Syg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451"/>
              </a:spcBef>
              <a:buClr>
                <a:srgbClr val="660000"/>
              </a:buClr>
              <a:buSzPct val="53000"/>
              <a:buFont typeface="Wingding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ing Accuracy: Scientific Requirements and Implementa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uget, Lamarre, Sygnet, Hiv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ferred Customer</dc:creator>
  <dc:description/>
  <dc:language>en-US</dc:language>
  <cp:lastModifiedBy/>
  <cp:revision>0</cp:revision>
  <dc:subject/>
  <dc:title>HFI Astrometry: requirements and problems</dc:title>
</cp:coreProperties>
</file>