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1DC5-A0FF-4EB2-9452-266396EB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344D-18CA-49B3-BAA5-EE89D81A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43BD-496D-4DC4-8C81-86C51E06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5D17-8204-42C8-9177-C5D540D0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264B-F091-4709-888A-57228637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62C9-30D9-4B4B-8419-85FE8B85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ECA9-D704-4AF0-8971-D353FECF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06DB-2CD0-42D2-BA9D-CB3A879B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20FF-9531-4CF6-8900-752107F6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EE5B-9789-40FE-940D-EF3BDB27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9AD-6A5C-452B-AFB8-57489CFC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9C18-CC5E-4AE6-A4C5-29AC92BE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A225B-7D83-419D-BE2B-5C697A07C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000" y="1800360"/>
            <a:ext cx="4680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文鼎粗廣告體"/>
                <a:ea typeface="文鼎粗廣告體"/>
              </a:rPr>
              <a:t>我的電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st</cp:lastModifiedBy>
  <dcterms:modified xsi:type="dcterms:W3CDTF">2006-03-09T06:38:55Z</dcterms:modified>
  <cp:revision>1</cp:revision>
  <dc:subject/>
  <dc:title>投影片 1</dc:title>
</cp:coreProperties>
</file>