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FE2-776E-470B-B97D-520AC6B0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992-0F18-4BD3-9BFE-CE879D91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A4F-6753-42B3-A2BD-9B7C2017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049-7B53-42E3-AC72-D23D14BC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9777-9004-4985-841D-CD0292D9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C07C-5144-410A-BC1D-3B6D6C3A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6A73-5EB0-43E2-AAD3-38AC0161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8EE-5BE5-4892-87D4-F9D40D27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E1FB-9361-4E4A-B57D-FCC437F2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6525-B0E7-4F92-AA66-EFA7921D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3B46-386F-4110-8E74-75E4493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8BB-3C0C-4C53-BDF7-ECEC5D87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C58C-D686-45BD-8F54-64C6BC73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9587-99E6-4019-988C-DA53EDDA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E802-0C4E-49A1-81F2-3396CEF4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749C-99FC-4561-B08D-5107F921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84D6-1FD3-48EB-AF5F-36FBC26A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3A3-54A0-421F-A59A-6B576592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985-7554-4077-A950-84F76959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7CE-47D7-4880-AA80-202BFC21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EB7-0DBD-4D3F-A83B-E1F57E40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AFD-9B84-4D48-BDBE-FF03FE53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35F-EC48-4F15-BA92-D918D2EC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CD7-12A7-4C7B-A424-8E665724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00F2-E148-486A-AC52-7B97243B5ED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83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EFFF-68DA-4D51-BFCE-6F49A603AB4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304920"/>
            <a:ext cx="7467480" cy="62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新細明體"/>
              </a:rPr>
              <a:t>POWER </a:t>
            </a:r>
            <a:endParaRPr b="0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新細明體"/>
              </a:rPr>
              <a:t>AND </a:t>
            </a:r>
            <a:endParaRPr b="0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新細明體"/>
              </a:rPr>
              <a:t>POLITICS</a:t>
            </a:r>
            <a:endParaRPr b="0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3:42:48Z</dcterms:created>
  <dc:creator>hhhhhhhhhhhhh</dc:creator>
  <dc:description/>
  <dc:language>en-US</dc:language>
  <cp:lastModifiedBy>user</cp:lastModifiedBy>
  <dcterms:modified xsi:type="dcterms:W3CDTF">2005-03-20T08:08:41Z</dcterms:modified>
  <cp:revision>45</cp:revision>
  <dc:subject/>
  <dc:title>hhhhhhhhhhhhh</dc:title>
</cp:coreProperties>
</file>