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959850" cy="6721475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34800" y="1596960"/>
            <a:ext cx="662004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6611400" y="139680"/>
            <a:ext cx="2837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9624600" y="6581160"/>
            <a:ext cx="281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EAB9-817D-4247-BA5D-124EE32B478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637-3FE1-4F51-8FB4-03617D94D50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ACD3-0753-4CED-A081-6C7ADA199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F4B1-3C27-4564-952C-587674845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EE00-1865-4382-A93C-692CA62B4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43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76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43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59A9-DA55-445A-9B8F-7AA6E82A7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C757-E5BE-4790-BF91-AEBFD8325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80F1-CC1C-4805-A0B7-D9D7CC745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EAE4-4C5D-43F5-A102-AB47931A9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D970-D49A-4047-9AD8-200641A2A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760" y="228600"/>
            <a:ext cx="869472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E7B3-2A7F-4E5E-BAC6-F09A2A05C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0C6A-C6EA-4F27-8830-4E05D1B63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C870-861F-43A4-9BB7-DE09F4DF6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A0A7-7409-4798-92B7-CBD43454F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3440" y="75960"/>
            <a:ext cx="36766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6B12-AB36-41CD-B880-9749E3EC8FD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04760" y="746280"/>
            <a:ext cx="8615520" cy="5965560"/>
            <a:chOff x="104760" y="746280"/>
            <a:chExt cx="8615520" cy="5965560"/>
          </a:xfrm>
        </p:grpSpPr>
        <p:sp>
          <p:nvSpPr>
            <p:cNvPr id="5" name="McK Footnote" hidden="1"/>
            <p:cNvSpPr/>
            <p:nvPr/>
          </p:nvSpPr>
          <p:spPr>
            <a:xfrm>
              <a:off x="104760" y="6199200"/>
              <a:ext cx="86155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McK Measure" hidden="1"/>
            <p:cNvSpPr/>
            <p:nvPr/>
          </p:nvSpPr>
          <p:spPr>
            <a:xfrm>
              <a:off x="104760" y="746280"/>
              <a:ext cx="66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9BE6068-A839-49C1-AF04-A396161802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 flipH="1" flipV="1">
            <a:off x="203616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 flipH="1" flipV="1">
            <a:off x="524124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201456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19732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4052880" y="3336840"/>
            <a:ext cx="425520" cy="412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075040" y="210888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413320" y="210888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1636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3514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29:34Z</dcterms:created>
  <dc:creator>GCO</dc:creator>
  <dc:description/>
  <dc:language>en-US</dc:language>
  <cp:lastModifiedBy>crystal</cp:lastModifiedBy>
  <cp:lastPrinted>1998-04-10T09:21:54Z</cp:lastPrinted>
  <dcterms:modified xsi:type="dcterms:W3CDTF">2012-05-29T02:35:27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>GBUTtem</vt:lpwstr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1</vt:bool>
  </property>
  <property fmtid="{D5CDD505-2E9C-101B-9397-08002B2CF9AE}" pid="6" name="Universal Objects">
    <vt:bool>1</vt:bool>
  </property>
</Properties>
</file>