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BAF4-ACC1-4630-BC69-67C1DB0A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460D-B849-4F3A-B042-1F2A7343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1218-B54C-497F-B021-1E0CF4376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F8F0-9C99-4D0A-9C62-1572346EA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C899-C16D-48F0-8651-74D3E444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D8D0-FE6E-4C42-80DD-89BE00F7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E456-888A-45DA-B98B-BB970590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1C64-105A-49B2-8017-8AAB07A2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86B6-8FD6-4489-A769-F7A1A3A9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62C0-5CEB-4AEC-83D4-E1A86CF8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1D01-3AB8-4A50-A7C9-8A76DD8E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1AE9-6903-4D09-B901-09DC84F3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1CB5-EB14-42F4-B660-CC986C530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2133720"/>
            <a:ext cx="8453520" cy="432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中国移动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终端管理平台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虚拟化培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6800" y="2336760"/>
            <a:ext cx="8456760" cy="27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准备安装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ES2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虚拟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56800" y="2336400"/>
            <a:ext cx="8456760" cy="27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安装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ES2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虚拟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6800" y="2336400"/>
            <a:ext cx="8456760" cy="27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ES2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虚拟机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安装后检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56800" y="2336760"/>
            <a:ext cx="8456760" cy="27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远程访问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ES2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虚拟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Arial"/>
              </a:rPr>
              <a:t>日程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安装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LES10 SP2 X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启动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LES10 SP2 X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检查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Xen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环境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准备安装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Windows Server 2003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虚拟机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安装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Windows Server 2003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虚拟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Windows Server 2003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虚拟机安装后检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远程访问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Windows Server 2003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虚拟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准备安装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ES2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虚拟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安装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ES2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虚拟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ES2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虚拟机安装后检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远程访问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ES2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虚拟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安装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LES10 SP2 X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启动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LES10 SP2 X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检查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Xen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环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56800" y="2336760"/>
            <a:ext cx="845676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准备安装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indows Server 2003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虚拟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56800" y="2336760"/>
            <a:ext cx="8456760" cy="27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安装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indows Server 2003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虚拟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6800" y="2336760"/>
            <a:ext cx="8456760" cy="27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indows Server 2003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虚拟机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安装后检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56800" y="2336760"/>
            <a:ext cx="8456760" cy="27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远程访问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indows Server 2003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虚拟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