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EA8C-D36C-48D8-A651-10B37BCAA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C55D-4AF8-4B2B-B540-4883E751C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EA26-7337-4F2B-9A6B-1574EA92A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7D56-4336-4DFD-B619-12E6784C7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7713-ABB2-4EDB-984F-B33A16212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97EB-F7D0-48A9-9D76-8CAAB2777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B91B-EC5C-4F37-BC3B-1CCA6AB6A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AF9F-0F3F-448D-8963-EDD9F9826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1325-2702-4BF8-B238-73975D7E3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17EF-CC80-4870-AE82-33186276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06BD-CDC3-4011-AA96-66B33E24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C436-7436-4A27-9B12-2D74D1E5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218D2-7DBC-48B3-940E-929FD7196AA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Hi</a:t>
            </a:r>
            <a:r>
              <a:rPr b="0" lang="he-IL" sz="5000" spc="-1" strike="noStrike">
                <a:solidFill>
                  <a:srgbClr val="000000"/>
                </a:solidFill>
                <a:latin typeface="Arial"/>
              </a:rPr>
              <a:t>!  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Page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Animation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d Square"/>
          <p:cNvSpPr/>
          <p:nvPr/>
        </p:nvSpPr>
        <p:spPr>
          <a:xfrm>
            <a:off x="1828800" y="1828800"/>
            <a:ext cx="2540160" cy="2540160"/>
          </a:xfrm>
          <a:prstGeom prst="flowChartProcess">
            <a:avLst/>
          </a:prstGeom>
          <a:solidFill>
            <a:srgbClr val="fa17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ushOn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4160" y="127080"/>
            <a:ext cx="2539800" cy="2539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a17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ushOn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620120" y="1778040"/>
            <a:ext cx="635040" cy="12700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a17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ushOn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603840" y="2540160"/>
            <a:ext cx="1270080" cy="2539800"/>
          </a:xfrm>
          <a:prstGeom prst="ellipse">
            <a:avLst/>
          </a:prstGeom>
          <a:solidFill>
            <a:srgbClr val="fa17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ushOn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0" y="4064040"/>
            <a:ext cx="380880" cy="888840"/>
          </a:xfrm>
          <a:prstGeom prst="smileyFace">
            <a:avLst>
              <a:gd name="adj" fmla="val 9282"/>
            </a:avLst>
          </a:prstGeom>
          <a:solidFill>
            <a:srgbClr val="fa17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ushOn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8120" y="5715000"/>
            <a:ext cx="380880" cy="888840"/>
          </a:xfrm>
          <a:custGeom>
            <a:avLst/>
            <a:gdLst>
              <a:gd name="textAreaLeft" fmla="*/ 156960 w 380880"/>
              <a:gd name="textAreaRight" fmla="*/ 223920 w 380880"/>
              <a:gd name="textAreaTop" fmla="*/ 366120 h 888840"/>
              <a:gd name="textAreaBottom" fmla="*/ 522720 h 888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a17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ushOn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99440" y="5460840"/>
            <a:ext cx="761040" cy="177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ushOn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3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Hi</a:t>
            </a:r>
            <a:r>
              <a:rPr b="0" lang="he-IL" sz="5000" spc="-1" strike="noStrike">
                <a:solidFill>
                  <a:srgbClr val="000000"/>
                </a:solidFill>
                <a:latin typeface="Arial"/>
              </a:rPr>
              <a:t>!  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Page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7620120" y="3809880"/>
          <a:ext cx="1269720" cy="1035000"/>
        </p:xfrm>
        <a:graphic>
          <a:graphicData uri="http://schemas.openxmlformats.org/drawingml/2006/table">
            <a:tbl>
              <a:tblPr/>
              <a:tblGrid>
                <a:gridCol w="635040"/>
                <a:gridCol w="634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939960" y="2817720"/>
          <a:ext cx="914400" cy="71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2817720"/>
                    <a:ext cx="91440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" name="picture" descr=""/>
          <p:cNvPicPr/>
          <p:nvPr/>
        </p:nvPicPr>
        <p:blipFill>
          <a:blip r:embed="rId3"/>
          <a:stretch/>
        </p:blipFill>
        <p:spPr>
          <a:xfrm>
            <a:off x="1270080" y="1270080"/>
            <a:ext cx="888840" cy="88884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4254480" y="552600"/>
            <a:ext cx="482760" cy="416880"/>
            <a:chOff x="4254480" y="552600"/>
            <a:chExt cx="482760" cy="416880"/>
          </a:xfrm>
        </p:grpSpPr>
        <p:sp>
          <p:nvSpPr>
            <p:cNvPr id="57" name="_s3093"/>
            <p:cNvSpPr/>
            <p:nvPr/>
          </p:nvSpPr>
          <p:spPr>
            <a:xfrm flipV="1">
              <a:off x="4375080" y="552600"/>
              <a:ext cx="241200" cy="209520"/>
            </a:xfrm>
            <a:custGeom>
              <a:avLst/>
              <a:gdLst>
                <a:gd name="textAreaLeft" fmla="*/ 86400 w 241200"/>
                <a:gd name="textAreaRight" fmla="*/ 154800 w 241200"/>
                <a:gd name="textAreaTop" fmla="*/ 75240 h 209520"/>
                <a:gd name="textAreaBottom" fmla="*/ 134280 h 209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3092"/>
            <p:cNvSpPr/>
            <p:nvPr/>
          </p:nvSpPr>
          <p:spPr>
            <a:xfrm flipV="1">
              <a:off x="4254480" y="761400"/>
              <a:ext cx="482760" cy="207720"/>
            </a:xfrm>
            <a:custGeom>
              <a:avLst/>
              <a:gdLst>
                <a:gd name="textAreaLeft" fmla="*/ 106200 w 482760"/>
                <a:gd name="textAreaRight" fmla="*/ 376560 w 482760"/>
                <a:gd name="textAreaTop" fmla="*/ 45720 h 207720"/>
                <a:gd name="textAreaBottom" fmla="*/ 162000 h 20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540160" y="1270080"/>
            <a:ext cx="1904760" cy="3373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ushOnCol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79960" y="1270080"/>
            <a:ext cx="254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objects on this slide have the effect -BrushOn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5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5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5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5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6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6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6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7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7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7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7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8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8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8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3T23:42:57Z</dcterms:created>
  <dc:creator>FtpDown</dc:creator>
  <dc:description/>
  <dc:language>en-US</dc:language>
  <cp:lastModifiedBy>FtpDown</cp:lastModifiedBy>
  <dcterms:modified xsi:type="dcterms:W3CDTF">2006-03-03T23:42:57Z</dcterms:modified>
  <cp:revision>1</cp:revision>
  <dc:subject/>
  <dc:title>Hi!  Page </dc:title>
</cp:coreProperties>
</file>