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A96-5012-4FAC-8B53-5B104B95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C62-26F8-473F-8D4F-05862CD2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3E7-C345-496A-AC61-46C63C25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00A-0016-4409-9581-50F8CB5D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820-AFA8-43D7-9713-3E135113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881-9F8A-4BE4-822D-960DF258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176-6709-4A16-91C8-9C11207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D87-61D7-4F9F-8CA2-4DBD13D0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21B-2D69-42E8-826C-54A3370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B85-95A7-462E-B51C-015D76E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C1D-28BB-46B7-B03C-4D74B20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EAD-6FC7-4DA9-B099-5427D1E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B65D-2087-4703-9BDD-812C3423A2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on – “O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veloper takes “Open” action to start working on this de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rmally done by checking out code in 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d Working Effort” is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2040" y="0"/>
            <a:ext cx="2901960" cy="1787400"/>
          </a:xfrm>
          <a:prstGeom prst="wedgeRectCallout">
            <a:avLst>
              <a:gd name="adj1" fmla="val -34078"/>
              <a:gd name="adj2" fmla="val 749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ase: FFC252FFCSD_Paragraph_Bullet0050(Line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: Bullet style interaction with Para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 Number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35:52Z</dcterms:created>
  <dc:creator>renyuxia</dc:creator>
  <dc:description/>
  <dc:language>en-US</dc:language>
  <cp:lastModifiedBy>renyuxia</cp:lastModifiedBy>
  <dcterms:modified xsi:type="dcterms:W3CDTF">2005-04-29T16:30:46Z</dcterms:modified>
  <cp:revision>18</cp:revision>
  <dc:subject/>
  <dc:title>Slide 1</dc:title>
</cp:coreProperties>
</file>