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5275-90C5-4BFE-A284-73318D54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1512-3A34-49D7-81B1-A314B254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8AB8-C335-45E8-9056-1E6C040E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F392-E797-4318-9139-D3DB75AA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1C2D-8757-45F8-90BA-871701BC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419B-25E1-4C00-A0AD-426B38F7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5DA9-3A33-4524-8641-22787A8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7990-4B6E-449E-947B-D45DDC76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577B-9AA0-4BDC-BEA1-E623FEDC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CC3A-5BC9-4D72-8003-37DE664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8909-B6DB-4EFB-B1DD-49A0999C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2E7E-1A2A-49E8-9C72-65B4626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7086600" y="6551280"/>
            <a:ext cx="17524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4495320" y="6544800"/>
            <a:ext cx="83844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4DAC-316F-4BEB-8E1C-C9CCB6D3AE8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476760" y="-3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534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c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160" y="2060640"/>
            <a:ext cx="9155160" cy="2765520"/>
          </a:xfrm>
          <a:custGeom>
            <a:avLst/>
            <a:gdLst/>
            <a:ahLst/>
            <a:rect l="l" t="t" r="r" b="b"/>
            <a:pathLst>
              <a:path w="5767" h="1644">
                <a:moveTo>
                  <a:pt x="0" y="569"/>
                </a:moveTo>
                <a:cubicBezTo>
                  <a:pt x="722" y="332"/>
                  <a:pt x="1460" y="42"/>
                  <a:pt x="2818" y="21"/>
                </a:cubicBezTo>
                <a:cubicBezTo>
                  <a:pt x="4176" y="0"/>
                  <a:pt x="5346" y="355"/>
                  <a:pt x="5767" y="583"/>
                </a:cubicBezTo>
                <a:lnTo>
                  <a:pt x="5764" y="1644"/>
                </a:lnTo>
                <a:lnTo>
                  <a:pt x="4" y="1644"/>
                </a:lnTo>
                <a:lnTo>
                  <a:pt x="0" y="5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6160" y="274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c71e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09880" cy="51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40200" y="539280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信息工程系  方宏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60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琥珀"/>
              </a:rPr>
              <a:t>软件测试技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分类的学问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如何分类整数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一般是按正整数、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、负整数；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计算机世界的约束？溢出问题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其它不同的分类视角（维度）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整数的无效等价类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实数、字符、字符串。。。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实数的约束？ 精度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字符串的分类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长度维、内容维（特殊字符）、格式维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email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url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。。）。。。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等价类分类圈图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4 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一测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输入要求为非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正整数，请分出无效等价类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两个整数相加，整数范围为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99-99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，对结果域做等价类划分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画图程序中的图像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属性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宽度输入域的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notepad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记事本中的编辑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转到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行数输入域的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单选按钮、多选按钮、下拉选择框中的等价类划分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5 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试用例选择的原则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）编号等价类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）设计一个测试用例，使其尽可能多的覆盖有效等价类；重复这一步骤，直到所有的有效等价类被覆盖为止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）针对无效等价类，设计测试用例，一次只覆盖一个无效等价类（多变量或多维输入时，一次只使一个变量或维无效，其它均为有效等价类），重复这一步骤，直到所有的无效等价类被覆盖为止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举例：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qq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号输入为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6-12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的数字，在考虑内容输入情况时，应输入内容无效的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qq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号（如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f123456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，但其长度应符合要求；反之如果考虑输入字符长度的测试用例时，则应保证内容符合要求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(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如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2345)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916280"/>
          <a:ext cx="8075520" cy="1171440"/>
        </p:xfrm>
        <a:graphic>
          <a:graphicData uri="http://schemas.openxmlformats.org/drawingml/2006/table">
            <a:tbl>
              <a:tblPr/>
              <a:tblGrid>
                <a:gridCol w="1000080"/>
                <a:gridCol w="1854000"/>
                <a:gridCol w="2141640"/>
                <a:gridCol w="307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变量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有效等价类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无效等价类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边界值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-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③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lt;-99 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④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gt;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100,99,100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y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②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-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⑤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lt;-99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 ⑥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gt;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100,99,100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734080"/>
            <a:ext cx="8229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何问题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3357720"/>
          <a:ext cx="8002440" cy="2400120"/>
        </p:xfrm>
        <a:graphic>
          <a:graphicData uri="http://schemas.openxmlformats.org/drawingml/2006/table">
            <a:tbl>
              <a:tblPr/>
              <a:tblGrid>
                <a:gridCol w="934920"/>
                <a:gridCol w="1873080"/>
                <a:gridCol w="2016360"/>
                <a:gridCol w="317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输入（</a:t>
                      </a:r>
                      <a:r>
                        <a:rPr b="0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,y</a:t>
                      </a: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覆盖等价类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期望输出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58,20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 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②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110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30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③ 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②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小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120,28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④ ②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大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-30,-120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⑤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Y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小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26,108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⑥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Y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大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755640" y="1268280"/>
            <a:ext cx="75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两个整数相加，整数范围为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-99-99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，只考虑输入为整数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二）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边界值分析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边界值划分的概念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序集合的边界值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现实世界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：物体的长、宽、高、重量，时间，速度。。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计算机世界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字符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SC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码表中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9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下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”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/”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上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”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:”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字符串长度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--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输入；最大长度是多少？（缓冲区溢出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输入的特殊性：长度维的最小边界，内容维对应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NULL/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默认值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/0…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整数（字长的约束与溢出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位平台无符号整数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-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次方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浮点数（精度问题）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如图像宽度在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.00—5.0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之间，边界值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.01,2.0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.00,5.0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据结构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组下标的约束：第一个元素下标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还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？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可不可以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实际长度为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情况：空数组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最大长度和实际长度哪一个是上限？（可变的上限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例子：  一个最大可以容纳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0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个学号的数组，实际只有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3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个学号，有效下标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4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对于查询、删除操作，下标边界值是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,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2,43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，对于在指定位置顺序插入的操作，下标边界值是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,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3,44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插入编程时一般会做两个判断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实际长度是否超过了最大长度（常量）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插入的位置是否大于实际长度（可变的）。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结论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数组状态各种操作要测试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最大容量数组状态下各种操作需要测试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组中有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个元素状态下的各种操作需要测试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组中有第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范围内随机确定的一个具体值）个元素的情况下，测试各种操作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经典案例：判断三角形（软件测试的艺术，第一章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确定输入变量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：三条边长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 b c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确定变量的约束，划分出有效等价类，无效等价类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约束：任意一边大于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任意两边的和大于第三边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首先是有效等价类（根据输出的结果来划分）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三条边为不规则三角形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全等三角形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=b=c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等腰三角型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(a=b,b=c,a=c)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无效等价类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一条、两条、三条边为负数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两边之和小于第三边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非数字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输入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条边（边数维，空输入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确定边界值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8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一条、两条、三条边为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9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两条边之和等于第三边 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输入两、四条边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经典案例：判断三角形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测试用例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{5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{8,8,8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{3,3,4;5,6,6;7,8,7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{-2,3,4;8,-3,5;6,3,-1;-2,-2,3;9,-6,-6;-5,10,-5;-3,-3,-3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{1,2,4;2,6,2;8,4,2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 {/,1,3;3,4,: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 {}—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输入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8 {0,1,1;2,0,2;3,2,0;0,0,8;0,9,0;6,0,0;0,0,0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9 {3,4,7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,8,5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3,6,7}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 {2,4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,2,3,4}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三） 错误推测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用户视角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总结用户在使用软件过程中经常出现的“错误”，如不小心输入了空格、按了回车键、不输入或未输入完整就按了提交按钮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黑客视角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了解常见的安全攻击方法：如登录时的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sq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注入攻击，提交大量数据的缓冲区溢出攻击，论坛等提交文本时注入脚本或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htm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错误案例库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针对常见的模块或操作，积累测试案例。如登录模块、表单提交模块、数据库的增删改查操作、页面的翻页、特殊格式输入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emai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ur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时间日期。。。）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268280"/>
            <a:ext cx="82296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一）静态测试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检查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桌面检查、代码审查、走查的概念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关注它们的区别（谁来检查？检查的方法？）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静态检查内容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风格、代码功能逻辑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静态检查表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检查示例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静态结构分析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编译器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专门的检查工具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++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检查工具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pc-lint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java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heckstyle…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23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 白盒测试</a:t>
            </a:r>
            <a:endParaRPr b="0" lang="en-US" sz="32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 MT Extra Bold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二部分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方正中等线简体"/>
              </a:rPr>
              <a:t>软件测试基本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658332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9244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700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目标：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掌握黑盒测试技术中的等价类、边界值、场景法；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掌握白盒测试中的静态测试、逻辑覆盖、基本路径测试；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掌握测试用例设计编写、实施、执行、报告分析的过程。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程序插桩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本质是在代码中加入一些调试输出语句，使程序在执行过程中能输出某些运行状态和数据，据此判断程序是否正确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int add(int x,int y ){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int sum=0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sum = x + y 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a50021"/>
                </a:solidFill>
                <a:latin typeface="宋体"/>
                <a:ea typeface="宋体"/>
              </a:rPr>
              <a:t>System.out.println(“sum is ”+ sum)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return sum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}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268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逻辑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语句、判定、条件、判定条件、条件组合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void js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float A ,float B, float X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{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 if (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A &gt; 1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&amp;&amp;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B == 0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         X = X/A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 if (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A == 2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||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X &gt; 1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)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         X = X + 1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&gt;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B==0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B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==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X&gt;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D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语句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一条可执行语句均被执行一次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上例中即为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句至少被执行一次，关键是使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&amp;&amp;B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C||D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为真：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8,0,18)      T   T  F   T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  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12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2565360"/>
            <a:ext cx="716040" cy="403200"/>
          </a:xfrm>
          <a:prstGeom prst="borderCallout1">
            <a:avLst>
              <a:gd name="adj1" fmla="val 18750"/>
              <a:gd name="adj2" fmla="val -8333"/>
              <a:gd name="adj3" fmla="val 0"/>
              <a:gd name="adj4" fmla="val 261421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2492280"/>
            <a:ext cx="649440" cy="432000"/>
          </a:xfrm>
          <a:prstGeom prst="borderCallout1">
            <a:avLst>
              <a:gd name="adj1" fmla="val 18750"/>
              <a:gd name="adj2" fmla="val -8333"/>
              <a:gd name="adj3" fmla="val 14703"/>
              <a:gd name="adj4" fmla="val -144500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213000"/>
            <a:ext cx="716040" cy="401760"/>
          </a:xfrm>
          <a:prstGeom prst="borderCallout1">
            <a:avLst>
              <a:gd name="adj1" fmla="val 18750"/>
              <a:gd name="adj2" fmla="val -8333"/>
              <a:gd name="adj3" fmla="val 8300"/>
              <a:gd name="adj4" fmla="val 243013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3213000"/>
            <a:ext cx="647640" cy="432000"/>
          </a:xfrm>
          <a:prstGeom prst="borderCallout1">
            <a:avLst>
              <a:gd name="adj1" fmla="val 18750"/>
              <a:gd name="adj2" fmla="val -8333"/>
              <a:gd name="adj3" fmla="val -6986"/>
              <a:gd name="adj4" fmla="val -133824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12000" y="2492280"/>
            <a:ext cx="5032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492280"/>
            <a:ext cx="5032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判定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每个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判断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取真、取假各一次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2,4)      T   F  F   T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0,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T   T  F   F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23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有没有其它等效的输入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29272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2924280"/>
            <a:ext cx="36036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条件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每个判断的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条件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可能取值至少执行一次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,1,0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   F  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,0,2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   T  F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还有没有其它等效输入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条件覆盖可以代替判定覆盖吗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 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659640" y="3284640"/>
            <a:ext cx="288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84640"/>
            <a:ext cx="28908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924280"/>
            <a:ext cx="36036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判定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/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条件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每个判断的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条件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可能取值至少执行一次，且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判断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可能取值至少执行一次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,1,0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   F  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,0,2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   T  F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134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0,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T   T  F   F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123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条件组合覆盖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判断的所有条件的可能取值的组合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至少执行一次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,1,0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T   F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,0,2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F   T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F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0,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T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F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T     F    123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4         (1,1,3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F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F   T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F     T    134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5         (2,3,4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T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组合取真真、假假、真假、假真各一次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组合也是如此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逻辑覆盖的不足？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没有考虑边界值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5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基本路径测试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基本路径测试的基本概念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保证程序中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一条可执行的语句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至少被执行一次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异常处理或错误处理代码要不要被执行一次？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独立路径特征：至少引入一个新处理语句或一个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新判断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程序通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基本路径测试的步骤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画出程序流程图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计算环路复杂度（独立路径数）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三种方法掌握一种即可，推荐第三种：设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P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程序控制流图中的判断节点数，则有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V = P + 1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确定独立路径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根据独立路径设计测试用例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举例（教课书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P5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void sort(int iRecordNum, int itype)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  {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    int x=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    int y=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    while (iRecordNum--&gt;0)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     {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        if(itype==0){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           x = y + 2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8           break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9        }else{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         if(itype==1)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1              y = y + 1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2           else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3              y = y + 2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4        }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5      }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6    }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06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程序流程图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1628640"/>
            <a:ext cx="289080" cy="287640"/>
          </a:xfrm>
          <a:prstGeom prst="flowChartConnector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1916280"/>
            <a:ext cx="0" cy="21744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213372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2708280"/>
            <a:ext cx="91440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4000" y="2997360"/>
            <a:ext cx="79200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997360"/>
            <a:ext cx="0" cy="223200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3284640"/>
            <a:ext cx="0" cy="28872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3573360"/>
            <a:ext cx="914400" cy="6098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3860640"/>
            <a:ext cx="43164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3860640"/>
            <a:ext cx="0" cy="5050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365720"/>
            <a:ext cx="574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4724280"/>
            <a:ext cx="0" cy="5050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522936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3860640"/>
            <a:ext cx="86364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3860640"/>
            <a:ext cx="0" cy="36036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4221000"/>
            <a:ext cx="914400" cy="6098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4508640"/>
            <a:ext cx="36036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4508640"/>
            <a:ext cx="0" cy="28872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47973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508640"/>
            <a:ext cx="35856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508640"/>
            <a:ext cx="0" cy="28872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4797360"/>
            <a:ext cx="50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3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5084640"/>
            <a:ext cx="0" cy="2890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084640"/>
            <a:ext cx="0" cy="2890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5373720"/>
            <a:ext cx="158436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805360"/>
            <a:ext cx="129528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11640" y="2997360"/>
            <a:ext cx="0" cy="280800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07640" y="2997360"/>
            <a:ext cx="2303640" cy="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5877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宋体"/>
              </a:rPr>
              <a:t>环路复杂度（独立路径数）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: 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宋体"/>
              </a:rPr>
              <a:t>判定节点数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+1 </a:t>
            </a:r>
            <a:r>
              <a:rPr b="0" lang="en-US" sz="1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3+1=4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53006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5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16360" y="5660640"/>
            <a:ext cx="0" cy="14436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263700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3500280"/>
            <a:ext cx="36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0" y="4076640"/>
            <a:ext cx="36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独立路径及测试用例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9640" y="1844640"/>
          <a:ext cx="8147160" cy="3230640"/>
        </p:xfrm>
        <a:graphic>
          <a:graphicData uri="http://schemas.openxmlformats.org/drawingml/2006/table">
            <a:tbl>
              <a:tblPr/>
              <a:tblGrid>
                <a:gridCol w="863640"/>
                <a:gridCol w="3960720"/>
                <a:gridCol w="3322800"/>
              </a:tblGrid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编号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输入</a:t>
                      </a:r>
                      <a:r>
                        <a:rPr b="1" lang="en-US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iRecordNum</a:t>
                      </a:r>
                      <a:r>
                        <a:rPr b="0" lang="zh-CN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itype)</a:t>
                      </a:r>
                      <a:endParaRPr b="0" lang="en-US" sz="16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路径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,1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8,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0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6-7-8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3,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6-10-11-14-15-4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10,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6-10-13-14-15-4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测试用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700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一个简单程序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一个可以从命令行输入两个整数，打印出两个整数相加结果的程序，请对它进行测试。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	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问题：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测试程序的过程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如何知道程序正确与否的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需要记录吗？如果要记录，需要记录哪些东西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多条件判断情况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多条件或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if(itype==1 || itype ==2)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路径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a-11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a-10b-11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a-10b-13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多条件与？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基本的原则：将多条件判断分成每个独立的条件，形成单个独立的判断，在此基础上发现独立路径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76720" y="2060640"/>
            <a:ext cx="91440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0a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2708280"/>
            <a:ext cx="91440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0b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242100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2924280"/>
            <a:ext cx="0" cy="36036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28464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08720" y="306864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335772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3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177336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2060640"/>
            <a:ext cx="1152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itype==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2781360"/>
            <a:ext cx="1152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itype==2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13372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2637000"/>
            <a:ext cx="2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242100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3068640"/>
            <a:ext cx="2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356000" y="2924280"/>
            <a:ext cx="720720" cy="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356000" y="2276640"/>
            <a:ext cx="720720" cy="64764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141640" y="5257800"/>
            <a:ext cx="4944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09880" cy="514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556000" y="2060640"/>
            <a:ext cx="39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请 提 问！</a:t>
            </a:r>
            <a:endParaRPr b="0" lang="en-US" sz="36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用例的基本概念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定义：</a:t>
            </a:r>
            <a:r>
              <a:rPr b="0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为特定目标或测试条件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例如，执行特定的程序路径，或是验证与特定需求的一致性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而制定的一组测试输入、执行入口条件（前置条件）、预期结果和执行出口条件（后置条件）。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---IEEE 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	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问题：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输入只包含数据吗？没有输入也可以测试吗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预期结果一定是可以预先明确知道的吗？预期结果不知道的           情况下能不能发现错误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正例与反例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4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测试用例的优先级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5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测试用例的次序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用例标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试用例应该包含哪些要素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试用例模板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虽然有标准规定了测试用例的格式，但不同企业会采用不同的格式，在同一单位一般采用统一的格式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用例实例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登录程序的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设计测试：设计测试用例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实施测试：准备测试环境、录制测试脚本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(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可选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执行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记录测试结果，提交测试报告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一）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等价类划分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为何要等价类划分？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两个整数相加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—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可以穷尽所有的输入吗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我们是如何检验稻谷质量的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抽样的前提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 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3524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  黑盒测试</a:t>
            </a:r>
            <a:endParaRPr b="0" lang="en-US" sz="32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等价类划分的概念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前提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对象及其约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依据（维度）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代表性数据的功与过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效等价类  无效等价类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方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有序集合划分：如学生的成绩：有效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0—100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，无效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&lt;0;&gt;100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身高、体重、血压。。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字符串长度、文件大小。。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特别情况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没有上限；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b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没有下限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有限离散集合划分：星期数（星期一到星期日）；性别（男、女）；一个省的城市名；。。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1:35:41Z</dcterms:created>
  <dc:creator>MC SYSTEM</dc:creator>
  <dc:description/>
  <dc:language>en-US</dc:language>
  <cp:lastModifiedBy>zq</cp:lastModifiedBy>
  <dcterms:modified xsi:type="dcterms:W3CDTF">2011-03-29T01:32:22Z</dcterms:modified>
  <cp:revision>325</cp:revision>
  <dc:subject/>
  <dc:title>行动导向的教学方法</dc:title>
</cp:coreProperties>
</file>