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779A-31BE-4131-996C-8ADADA4879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A60-AE2B-40EC-9F36-C6449E48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120"/>
            <a:ext cx="9066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5F3-CC3F-4CEF-8A0C-E41EC21C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12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12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111-F9EC-443B-8ABA-3411E0CF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12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12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12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821-770B-4D5E-9CAC-CD68639E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377-1087-462E-A1C7-FC3AEF91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DBD-F847-40CE-83E7-9B939EB4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1D6-C9C4-4E12-93CF-EEFD5E1F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B34-8EC4-44DD-986A-6E4F1659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F33-BD5C-4F09-8399-C7F91F3D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12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399-D3BE-4492-8F77-31F6763B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12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D8C-3D91-4D38-8660-FD1A91DE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120"/>
            <a:ext cx="9066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4BE-2AE6-4F33-A273-E899148D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440"/>
            <a:ext cx="23414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89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180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DBE7-D427-4277-91B0-F302F16594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434520"/>
            <a:ext cx="9072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urkish Alphab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1800" y="1619280"/>
            <a:ext cx="935856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abcçdefgğhıijklmnoöprsştuüvy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ABCÇDEFGĞHIİJKLMNOÖPRSŞTUÜVY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cmb</cp:lastModifiedBy>
  <dcterms:modified xsi:type="dcterms:W3CDTF">2005-03-07T10:59:45Z</dcterms:modified>
  <cp:revision>1</cp:revision>
  <dc:subject/>
  <dc:title>Turkish Alphabet</dc:title>
</cp:coreProperties>
</file>