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B0D4-2545-4E38-8DD9-D0315433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964-0DF8-41A5-A112-8A4E37F9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BAA-79B4-4A6F-B558-15663591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D26-1922-4668-B30D-D4EF7715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6EB-7971-4FB4-BCD9-7D27D772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6F5-83CA-4956-9A0B-542D3F26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9BB-C4F4-4701-82A7-78C0BFF7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48F-C974-42DD-AE6D-39AC7264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52A-E304-44E0-A809-91EF981E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A62-C747-4805-8482-D9C4383B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797-BF12-47DA-8152-D6A214B3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9F1-85C7-40D3-B318-73BA0050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989D-CC3A-4163-9A2D-C7870C236FE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7:07:37Z</dcterms:created>
  <dc:creator/>
  <dc:description/>
  <dc:language>en-US</dc:language>
  <cp:lastModifiedBy/>
  <dcterms:modified xsi:type="dcterms:W3CDTF">2011-02-02T21:50:05Z</dcterms:modified>
  <cp:revision>2</cp:revision>
  <dc:subject/>
  <dc:title/>
</cp:coreProperties>
</file>