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70B-DDD1-48D0-92E5-355823D5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E97-DBC8-450A-8025-ECAA7AE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3D4-BB2B-4677-8EF8-48D5A40F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412-4FC0-4755-90DF-19FB15ED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087-C41B-430C-BF46-46A1935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7FF-75AC-476D-91B8-96774D94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B3C-FCE0-438E-A3FE-6D6928EB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06B-6518-4481-9E3D-B16842B3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CA3-28F4-47D2-89A3-6693E4B9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0FB-02F2-41DA-8D0D-B05AF02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EE9-4518-49B0-8649-DB78EBC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06F-1CD6-43BA-B9BB-0308C67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A32B5-F248-4836-98A5-391AA399DB8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j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ož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3:32:32Z</dcterms:created>
  <dc:creator/>
  <dc:description/>
  <dc:language>en-US</dc:language>
  <cp:lastModifiedBy>yifan </cp:lastModifiedBy>
  <dcterms:modified xsi:type="dcterms:W3CDTF">2013-01-15T13:22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