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85327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4043520"/>
            <a:ext cx="85327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120" y="153684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404352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120" y="404352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2747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960" y="1536840"/>
            <a:ext cx="2747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640" y="1536840"/>
            <a:ext cx="2747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4043520"/>
            <a:ext cx="2747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960" y="4043520"/>
            <a:ext cx="2747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640" y="4043520"/>
            <a:ext cx="2747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1536840"/>
            <a:ext cx="8532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8532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4163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120" y="1536840"/>
            <a:ext cx="4163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90920" y="237960"/>
            <a:ext cx="624672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120" y="1536840"/>
            <a:ext cx="4163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404352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4163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120" y="153684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120" y="404352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120" y="153684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4043520"/>
            <a:ext cx="85327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19440" y="6527880"/>
            <a:ext cx="19051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0AED-77BE-4C2D-AEF3-02E74CDCD7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8520" y="1420920"/>
            <a:ext cx="8381880" cy="27000"/>
          </a:xfrm>
          <a:prstGeom prst="roundRect">
            <a:avLst>
              <a:gd name="adj" fmla="val 6250"/>
            </a:avLst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077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536840"/>
            <a:ext cx="8532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buClr>
                <a:srgbClr val="e8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1" marL="566640" indent="-228600">
              <a:spcBef>
                <a:spcPts val="601"/>
              </a:spcBef>
              <a:buClr>
                <a:srgbClr val="f09c04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2" marL="906480" indent="-223920">
              <a:spcBef>
                <a:spcPts val="601"/>
              </a:spcBef>
              <a:buClr>
                <a:srgbClr val="35077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3" marL="1255680" indent="-223920">
              <a:spcBef>
                <a:spcPts val="601"/>
              </a:spcBef>
              <a:buClr>
                <a:srgbClr val="cc3300"/>
              </a:buClr>
              <a:buSzPct val="125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4" marL="1600200" indent="-223920">
              <a:spcBef>
                <a:spcPts val="601"/>
              </a:spcBef>
              <a:buClr>
                <a:srgbClr val="cc33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5" marL="1600200" indent="-22392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6" marL="1600200" indent="-22392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077f"/>
                </a:solidFill>
                <a:latin typeface="Arial"/>
              </a:rPr>
              <a:t>Title</a:t>
            </a: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600200" y="1600200"/>
          <a:ext cx="6553080" cy="4711680"/>
        </p:xfrm>
        <a:graphic>
          <a:graphicData uri="http://schemas.openxmlformats.org/drawingml/2006/table">
            <a:tbl>
              <a:tblPr/>
              <a:tblGrid>
                <a:gridCol w="2165040"/>
                <a:gridCol w="438804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Column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Column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D. R. Evans</cp:lastModifiedBy>
  <dcterms:modified xsi:type="dcterms:W3CDTF">2004-01-19T21:35:34Z</dcterms:modified>
  <cp:revision>64</cp:revision>
  <dc:subject/>
  <dc:title>PacketCable™ Networks D. R. Evans N7DR@arrisi.com </dc:title>
</cp:coreProperties>
</file>