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C63-1A27-4FBE-AEC6-0AA6E887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B23-1AEF-4D96-873E-81F059FA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AB7-DE7C-4DA9-A562-A12D86B2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255-0D1D-45CB-8BC5-486745C9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8F09-42C7-40B0-9204-2864904B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37D3-284D-4207-8A14-CE17D035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871A-3EA9-40FB-BA6A-97EA7CF9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58F4-C4B7-4181-A7AB-B8D01CC0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7EF0-E2AD-489B-BA27-493A7D54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F7F9-7B23-4854-891A-8EEFCAC2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0F2B-BE04-40EB-ACD5-B90BA8E9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C4D-071F-4BED-BFE9-645D05A5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DC6F-647B-40F7-88ED-B27643C8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B5BE-0E67-4214-BA2B-8D262030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4049-065A-45AE-A569-40013473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40A5-1F55-41E1-92AE-771397D7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F9A4-9AB8-4322-AF63-59F7FC69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C2F-8295-4500-8C58-D42DDA94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9D8-534E-43C2-B838-A7EA0161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FDB-690D-46E7-B905-578D905B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1D3-9ACC-4503-9B72-119EC3D7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8FF-AE99-4A4C-A1E6-9246CBFA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BA9-5EE2-4171-8CA8-FBACBEB8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C7D-C417-4AA7-84FA-F52F5F9D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2822-F6F2-46F3-B107-E1AB130E74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CA9A-8D19-4913-AAFA-96FB842BFB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cc.gov/Bureaus/Common_Carrier/Reports/FCC-State_Link/comp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Arial Unicode MS"/>
              </a:rPr>
              <a:t>⑫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# of Broadband Telecom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rvice Provi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:  F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le at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fcc.gov/Bureaus/Common_Carrier/Reports/FCC-State_Link/comp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recent: 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ving target with the pending merg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kay, so this is not exactly “old economy” data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5:12:07Z</dcterms:created>
  <dc:creator>Tery Clower</dc:creator>
  <dc:description/>
  <dc:language>en-US</dc:language>
  <cp:lastModifiedBy>crystal</cp:lastModifiedBy>
  <dcterms:modified xsi:type="dcterms:W3CDTF">2012-05-28T09:26:57Z</dcterms:modified>
  <cp:revision>17</cp:revision>
  <dc:subject/>
  <dc:title>Measuring the New Economy With Old Economy Data OR Making Do With What We’ve Got!</dc:title>
</cp:coreProperties>
</file>