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97560-0EBF-4928-B710-831A606BA1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00000" y="4049640"/>
            <a:ext cx="77724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49C20-1CD1-4BB8-B94A-FDDB2C18AC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00000" y="404964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82680" y="404964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CB0B8-B59F-4CAB-AEF6-B08DB7AF4A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28000" y="177336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55640" y="177336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00000" y="404964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28000" y="404964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55640" y="404964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02A4D-83A5-4190-93B5-95CB8E55C1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7DD63-D97A-4416-9632-FE51FE50EE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676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6763A-8D2F-4924-9337-13A41D4C7B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AB09D-9477-4430-B336-13ABCF9E6E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65EF2-CE93-4023-B3D0-A80771AFAB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0F5CB-9644-4C3B-8C64-09F8E4E1BB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1125360"/>
            <a:ext cx="77724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68676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D3977E-50C4-45F5-960E-8EA25458BB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00000" y="404964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00E19D-7E99-41CC-A24B-EF2C8789AC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676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F9A4C-EDDA-41DD-83F7-C35B3B0418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82680" y="404964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6D1D5-777D-4602-8524-7FF395A082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00000" y="4049640"/>
            <a:ext cx="77724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11B27-DC79-4B56-BE45-BBF5B6E15B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00000" y="4049640"/>
            <a:ext cx="77724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270D24-75AE-4430-B8C9-DC714767ED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00000" y="404964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82680" y="404964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F6213-8A4B-428B-97C3-9C4C5AF797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28000" y="177336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55640" y="177336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00000" y="404964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28000" y="404964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55640" y="404964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0B34CB-1B0B-4E3D-B091-73D28640431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676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8408F-4271-4577-A80D-F78F53AF28B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1125360"/>
            <a:ext cx="77724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68676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00000" y="404964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82680" y="404964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00000" y="4049640"/>
            <a:ext cx="77724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00000" y="4049640"/>
            <a:ext cx="77724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00000" y="404964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82680" y="404964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28000" y="177336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55640" y="177336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900000" y="404964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28000" y="404964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55640" y="404964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28981-0C6D-4624-B5E4-CE304306FC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C735D-3D0F-4CA7-9A7C-EAA4DF9959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1125360"/>
            <a:ext cx="77724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68676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17229-19CB-4B06-AAB9-0518417099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00000" y="404964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9E1F4-B119-43F5-A3FE-DE5E3DE42D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82680" y="404964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6A5FB-E579-4C01-8D47-51418401CF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00000" y="4049640"/>
            <a:ext cx="77724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8AA48-ECCF-4C2A-9436-8AE12B8FAC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-6480"/>
            <a:ext cx="9144000" cy="889200"/>
          </a:xfrm>
          <a:prstGeom prst="rect">
            <a:avLst/>
          </a:prstGeom>
          <a:solidFill>
            <a:srgbClr val="dfe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a9aaa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a9aaa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a9aa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a9aa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898200" y="6442200"/>
            <a:ext cx="683748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77777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77777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022960" y="6442200"/>
            <a:ext cx="66348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0AB6-D1EB-4135-961F-F2D9E1F6CD06}" type="slidenum">
              <a:rPr b="1" lang="cs-CZ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588000" y="162000"/>
            <a:ext cx="216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8676c"/>
                </a:solidFill>
                <a:latin typeface="Trebuchet MS"/>
              </a:rPr>
              <a:t>www.law.muni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705040" y="214200"/>
            <a:ext cx="2422440" cy="4064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415800" y="-6480"/>
            <a:ext cx="2340000" cy="8845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6391440" y="819000"/>
            <a:ext cx="2752560" cy="115920"/>
          </a:xfrm>
          <a:prstGeom prst="rect">
            <a:avLst/>
          </a:prstGeom>
          <a:solidFill>
            <a:srgbClr val="8037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04680" y="3860640"/>
            <a:ext cx="596916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108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2704680" y="6442200"/>
            <a:ext cx="4961160" cy="2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77777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77777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8028000" y="6442200"/>
            <a:ext cx="658800" cy="2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FCC4-9B95-4C33-8A5A-7D6838111B28}" type="slidenum">
              <a:rPr b="1" lang="cs-CZ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-6480"/>
            <a:ext cx="9144000" cy="2536920"/>
          </a:xfrm>
          <a:prstGeom prst="rect">
            <a:avLst/>
          </a:prstGeom>
          <a:solidFill>
            <a:srgbClr val="dfe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0" t="15526" r="0" b="33673"/>
          <a:stretch/>
        </p:blipFill>
        <p:spPr>
          <a:xfrm>
            <a:off x="415800" y="-63360"/>
            <a:ext cx="2340000" cy="6910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705040" y="431640"/>
            <a:ext cx="5391360" cy="166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391440" y="2457360"/>
            <a:ext cx="2752560" cy="115920"/>
          </a:xfrm>
          <a:prstGeom prst="rect">
            <a:avLst/>
          </a:prstGeom>
          <a:solidFill>
            <a:srgbClr val="8037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676c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68676c"/>
              </a:solidFill>
              <a:latin typeface="Trebuchet MS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499"/>
              </a:spcBef>
              <a:buClr>
                <a:srgbClr val="a9aaae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a9aaae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a9aaae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-6480"/>
            <a:ext cx="9144000" cy="2536920"/>
          </a:xfrm>
          <a:prstGeom prst="rect">
            <a:avLst/>
          </a:prstGeom>
          <a:solidFill>
            <a:srgbClr val="dfe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ftr" idx="5"/>
          </p:nvPr>
        </p:nvSpPr>
        <p:spPr>
          <a:xfrm>
            <a:off x="2704680" y="6442200"/>
            <a:ext cx="496116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77777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77777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2704680" y="3141360"/>
            <a:ext cx="5969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1080000" anchor="t">
            <a:no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"/>
          <p:cNvSpPr/>
          <p:nvPr/>
        </p:nvSpPr>
        <p:spPr>
          <a:xfrm>
            <a:off x="6391440" y="2457360"/>
            <a:ext cx="2752560" cy="115920"/>
          </a:xfrm>
          <a:prstGeom prst="rect">
            <a:avLst/>
          </a:prstGeom>
          <a:solidFill>
            <a:srgbClr val="8037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705040" y="431640"/>
            <a:ext cx="5391360" cy="1667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rcRect l="0" t="15526" r="0" b="33673"/>
          <a:stretch/>
        </p:blipFill>
        <p:spPr>
          <a:xfrm>
            <a:off x="415800" y="-63360"/>
            <a:ext cx="2340000" cy="69102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d1e1e"/>
                </a:solidFill>
                <a:latin typeface="Trebuchet MS"/>
              </a:rPr>
              <a:t>Click to edit the outline text format</a:t>
            </a:r>
            <a:endParaRPr b="1" lang="en-US" sz="3600" spc="-1" strike="noStrike">
              <a:solidFill>
                <a:srgbClr val="7d1e1e"/>
              </a:solidFill>
              <a:latin typeface="Trebuchet MS"/>
            </a:endParaRPr>
          </a:p>
          <a:p>
            <a:pPr lvl="1" marL="826920" indent="-285480">
              <a:spcBef>
                <a:spcPts val="649"/>
              </a:spcBef>
              <a:buClr>
                <a:srgbClr val="7d1e1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35160" indent="-228600">
              <a:spcBef>
                <a:spcPts val="575"/>
              </a:spcBef>
              <a:buClr>
                <a:srgbClr val="7d1e1e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43040" indent="-228600">
              <a:spcBef>
                <a:spcPts val="499"/>
              </a:spcBef>
              <a:buClr>
                <a:srgbClr val="7d1e1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7d1e1e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4680" y="3141360"/>
            <a:ext cx="5969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10800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MPS II/1. seminář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Zápatí prezenta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ezinárodní příslušnost - pramen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Unijní předpisy (nařízení Brusel I, nařízení Brusel IIbis, nařízení o výživném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Mezinárodní smlouvy (dvoustranné o právní pomoci, mnohostranné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ZMPS (§§37 a násl.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patí prezenta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BCFB0-A080-4D07-85A9-397E3CFD9A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říslušnost ve věcech majetkových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oukromoprávní věci mající majetkový aspekt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ařízení Brusel I x §37 (§39) ZMPS x mezinárodní smlouv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Zásadním předpisem je nařízení Brusel I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patí prezenta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F8E8F-DA95-49D3-9C3A-126326718A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Nařízení Brusel 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nifikace pravid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601"/>
              </a:spcBef>
              <a:buClr>
                <a:srgbClr val="a9aaae"/>
              </a:buClr>
              <a:buSzPct val="90000"/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ezinárodní příslušnos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601"/>
              </a:spcBef>
              <a:buClr>
                <a:srgbClr val="a9aaae"/>
              </a:buClr>
              <a:buSzPct val="90000"/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znání a výkon rozhodnutí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patí prezenta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1DDAF-5FEB-4DEF-AB71-C1B9FF63FA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Nařízení Brusel I - působnos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ezinárodní prvek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vinná aplikace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Územní (členské státy EU, Dánsko na základě mezinárodní smlouvy s EU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Časová (článek 66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sobní (žalovaný má bydliště v EU – články 2 -4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ěcná (článek 1)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patí prezenta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C8A44-0D25-441B-9686-EC67823305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Nařízení Brusel I – věcná působnos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ěci občanské a obchodní (bez ohledu na druh soudu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yloučené otázk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ěci osobního stravu, způsobilost osoby k právům a právním úkonům, majetkové vztahy mezi manželi, dědění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onkurzy, vyrovnání a podobná řízení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ociální zabezpečení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ozhodčí řízení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patí prezenta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F166A-1711-42A1-A2B9-6555AF5336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utonomní interpretac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je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ůvo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líčové rozhodnutí ES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patí prezenta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1DCFC-DBC7-4286-8446-07CA18508A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říklad 1: Posuďte aplikaci nařízení Brusel I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Podnikatel P.D. z Brna a podnikatel I.B. z Prahy uzavřeli kupní smlouvu na dodávku nábytku. Kupující nezaplatil kupní cenu a prodávající podal dne 17.3.2008 žalobu na plnění u soudu v Brně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Zdůvodněte příslušnou právní normou a judikaturou ESD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patí prezenta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92900-0364-42D8-9981-FAEC4388AD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říklad 2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Podnikatel P.D. z Brna a podnikatel I.B. z Vídně uzavřeli kupní smlouvu na dodávku nábytku. Kupující nezaplatil kupní cenu a prodávající podal dne 17.3.2004 žalobu na plnění u soudu v Brně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patí prezenta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D018C-4C1A-42B1-B9A3-864117B1E8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říklad 3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V ČR byl dne 17.3.2004 podán návrh na výkon rozsudku vydaného rakouským soudem dne 15.12.2003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V ČR byl dne 15.6.2004 podán návrh na výkon rozsudku vydaného rakouským soudem dne 15.1.2004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V ČR byl dne 15.6.2005 podán návrh na výkon rozsudku vydaného rakouským soudem dne 15.1.2005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patí prezenta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EECA4-D3F1-4925-B0E5-D1B3625E6E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říklad 4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Podnikatel P.D. z Brna a podnikatel I.B. z Ženevy uzavřeli kupní smlouvu na dodávku nábytku. Kupující nezaplatil kupní cenu a prodávající podal dne 17.3.2010 žalobu na plnění u soudu v Ženevě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patí prezenta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FB7AD-AB84-4A91-8CDC-2276270AE5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ogram seminář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pakování podzimního semestru – příklad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ařízení Brusel I – působnos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patí prezenta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88706-36F4-430E-B009-7A8D249340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říklad 5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Podnikatel P.D. z Brna (prodávající) a podnikatel I.B. z Ženevy (kupující) uzavřeli kupní smlouvu na dodávku nábytku. Kupující nezaplatil kupní cenu a prodávající podal dne 17.3.2010 žalobu na plnění u soudu v Brně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patí prezenta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36609-EC30-45E8-934E-533C2B608C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říklad 6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Podnikatel P.D. z Brna (kupující) a podnikatel I.B. z Ženevy (prodávající) uzavřeli kupní smlouvu na dodávku nábytku. Kupující nezaplatil kupní cenu a prodávající podal dne 17.3.2010 žalobu na plnění u soudu v Brně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patí prezenta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525B4-2AD4-44AC-9581-AB667940405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říklad 7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Podnikatel P.D. z Brna a podnikatel I.B. z Vídně uzavřeli kupní smlouvu na dodávku nábytku. Kupující nezaplatil kupní cenu a prodávající podal dne 17.3.2010 žalobu na plnění u soudu v Brně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patí prezenta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2483E-8A31-4E1F-BD74-1FE4B76760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říklad 8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Manželé, z nichž jeden má českou a druhý slovenskou státní příslušnost, žijí ve Vídni. Jeden z nich podá dne 17.3.2010 návrh na rozvod manželství u soudu v Brně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patí prezenta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D92A5-7CF1-438D-AE0A-0E0EEB82B69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říklad 9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Manželé, z nichž jeden má českou a druhý slovenskou státní příslušnost, byli rozvedeni. Manželka podá dne 17.3.2010 návrh na přiznání výživného rozvedeného manžela soudu v Brně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patí prezenta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E642F-4DB3-485B-9F3A-80AB0397033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říklad 10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U Rozhodčího soudu při HK ČR a AK ČR se konalo rozhodčí řízení ve sporu o zaplacení kupní ceny z kupní smlouvy uzavřené mezi podnikatelem z Prahy a podnikatelem z Varšavy. Povinný podal u soudu v Praze návrh na zrušení rozhodčího nálezu podle §31 ZRŘ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patí prezenta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5E212-77EF-4819-8BC9-B579D0FEFD9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Zpět k úvodnímu příkladu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suďte, zda by byly splněny podmínky působnosti nařízení Brusel I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patí prezenta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63123-12F1-4122-BDE3-86EFCA68664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říklad 11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rebuchet MS"/>
              </a:rPr>
              <a:t>Novomanželé Adam a Eva z Brna se rozhodli, že na svatební cestu pojedou na ostrov Malta. Na radu kamaráda si v dubnu 2010 objednali zájezd na Maltu (odlet z Vídně, ubytování v hotelu, stravování all inclusive) přes internet u slovenské cestovní kanceláře Easy Travel, s.r.o. se sídlem v Bratislavě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patí prezenta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24932-9709-4029-80FA-AF328032CC8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říklad 12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rebuchet MS"/>
              </a:rPr>
              <a:t>Pan Edberger s německou státní příslušností bydlící v Brně (žije s ním tady jeho rodina, děti chodí do školy) pracoval pro německou pobočku americké společnosti SDA (nabízel a prodával průmyslové čisticí prostředky) pro ČR, SR, Maďarsko a Rakousko mimo Vídeň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patí prezenta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63CD4-87F3-4AE2-AF03-0C6FCCD0E9C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4680" y="3860640"/>
            <a:ext cx="596916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108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704680" y="3141360"/>
            <a:ext cx="59691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Příklad - opakování</a:t>
            </a:r>
            <a:endParaRPr b="0" lang="en-US" sz="2800" spc="-1" strike="noStrike">
              <a:solidFill>
                <a:srgbClr val="68676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ápatí prezenta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26DFC-B47A-4ACD-AD90-D8A7D2CC55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tázka 2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suďte právní režim smlouvy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patí prezenta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FE1D9-8D58-42D7-B603-3A2E2409B4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tázka 3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dle jakého práva byste posoudili, zda byla smlouva uzavřena v platné formě?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patí prezenta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B0ED9-A91B-4DCA-8C5E-E03C32956E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tázka 4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dle jakého práva byste posoudili, zda a v jaké výši má prodávající nárok na úroky z prodlení se zaplacením kupní ceny za říjnovou dodávku?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patí prezenta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8F821-FB3A-4735-AE9E-B318A5FBCD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tázka 5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suďte právní režim (ve všech aspektech) situace, kdy prodávající postoupí svoji pohledávku za kupujícím české společnosti ABC, s.r.o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patí prezenta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6D94C-0B47-4EB9-BE91-986821358E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tázka 6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Určete právo rozhodné pro kupní smlouvu, kdy si pan Novák z Brna v červenci 2010 objedná přes internet od společnosti Hollandbloemen cibule tulipánů na svoji zahrádku. Společnost Hollandbloemen provozuje rovněž tento internetový obchod a cibule doručuje do všech členských států EU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patí prezenta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4100C-8858-4D26-8EBC-7E4CF3C8AD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ezinárodní právo procesní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 ČR součást MP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ezinárodní pravomoc (příslušnost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ávní pomoc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znání a výkon rozhodnutí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patí prezenta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779E9-ACDF-4AA7-B59F-6B39663C1D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08:46:35Z</dcterms:created>
  <dc:creator>Klára Svobodová</dc:creator>
  <dc:description/>
  <dc:language>en-US</dc:language>
  <cp:lastModifiedBy>Ondra</cp:lastModifiedBy>
  <dcterms:modified xsi:type="dcterms:W3CDTF">2011-02-26T10:30:45Z</dcterms:modified>
  <cp:revision>36</cp:revision>
  <dc:subject/>
  <dc:title>MPS II/1. seminář  </dc:title>
</cp:coreProperties>
</file>