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commentAuthors.xml><?xml version="1.0" encoding="utf-8"?>
<p:cmAuthorLst xmlns:p="http://schemas.openxmlformats.org/presentationml/2006/main">
  <p:cmAuthor id="0" name="Alexander Thurgood" initials="A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2-25T15:19:09.000000000" idx="1">
    <p:pos x="0" y="0"/>
    <p:text>Test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CF2-B78D-41D2-B9B8-5B63749E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18C-F06E-4AE0-B12B-66D669D9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01B-DE7B-4E82-AE5E-75749A16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94D-86EF-4786-A0E9-FA1ED413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52B-F52E-4498-8937-90A43981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586-5FD0-483A-AA27-2D04F4C2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584-8A3D-4C6F-B020-EB6D1518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C8F-5C27-4BDF-A961-E8A09AEE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2B04-4EAD-430A-B866-44FF60BE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59E-3F5A-4634-B2B2-CDE184C8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935-D608-4228-BC86-28A0023E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B10-6432-40AD-B668-626E784D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85928-853C-4901-8FB5-E915A773863C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14:18:42Z</dcterms:created>
  <dc:creator>Alexander Thurgood</dc:creator>
  <dc:description/>
  <dc:language>en-US</dc:language>
  <cp:lastModifiedBy>Alexander Thurgood</cp:lastModifiedBy>
  <dcterms:modified xsi:type="dcterms:W3CDTF">2015-02-25T14:20:01Z</dcterms:modified>
  <cp:revision>1</cp:revision>
  <dc:subject/>
  <dc:title/>
</cp:coreProperties>
</file>