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24828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0116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4556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656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54556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78656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66276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6276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6627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66276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0116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24828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0116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4556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8656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4556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78656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6276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6627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0116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38880" y="0"/>
            <a:ext cx="1905120" cy="685800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90720"/>
            <a:ext cx="7238880" cy="4343400"/>
          </a:xfrm>
          <a:prstGeom prst="rect">
            <a:avLst/>
          </a:prstGeom>
          <a:solidFill>
            <a:srgbClr val="99c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1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66276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0E46C9-BA36-4C08-9DAE-6DED6C4243C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98520" cy="568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51520" y="5715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3440" cy="6873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885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69325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1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62120"/>
            <a:ext cx="7010280" cy="1440"/>
          </a:xfrm>
          <a:prstGeom prst="line">
            <a:avLst/>
          </a:prstGeom>
          <a:ln w="9360">
            <a:solidFill>
              <a:srgbClr val="007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298520" cy="568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69339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199"/>
                </a:solidFill>
                <a:latin typeface="Verdana"/>
              </a:rPr>
              <a:t>title</a:t>
            </a: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615600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7199"/>
                </a:solidFill>
                <a:latin typeface="Verdana"/>
              </a:rPr>
              <a:t>subtitle</a:t>
            </a:r>
            <a:endParaRPr b="0" lang="en-US" sz="24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62940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199"/>
                </a:solidFill>
                <a:latin typeface="Verdana"/>
              </a:rPr>
              <a:t>title2</a:t>
            </a: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62940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199"/>
                </a:solidFill>
                <a:latin typeface="Verdana"/>
              </a:rPr>
              <a:t>title3</a:t>
            </a: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ext 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