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B6F-590E-4C45-AB2D-8B108038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38280"/>
            <a:ext cx="905976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39B-0E3C-42FA-811F-62C38BEF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627-170A-4E6C-8C92-D9EB8F7A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3828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23828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23828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EB0-17A9-45A3-9B58-271F25F2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260-8C35-43F0-86E7-615C8A6A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560-36ED-4BAC-8886-35D473FC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A02-16EF-41A7-A684-FF9C93C5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E7B-099F-4E85-8C23-4F7BE30D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436-176B-4284-B35A-5F5FC9D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6A2-1A4A-4642-BF44-82A0EA8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664-978C-421A-9DC6-35934FB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38280"/>
            <a:ext cx="905976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D13-AB8E-4DE1-9110-532070D3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BF093-004B-4B9F-9BD6-81E428E69C5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682280"/>
            <a:ext cx="907092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with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with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0:09:11Z</dcterms:created>
  <dc:creator/>
  <dc:description/>
  <dc:language>en-US</dc:language>
  <cp:lastModifiedBy/>
  <cp:revision>0</cp:revision>
  <dc:subject/>
  <dc:title/>
</cp:coreProperties>
</file>