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CE5-58FA-4A79-99A4-5DC5173C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6DC-6253-446F-8394-B02FFA0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849-7363-44D8-8DE3-DB140029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836-EDF5-4DD3-BB78-A7BBE91A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D77-713D-4FFD-A9B4-A2BA21A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9FF-61A6-4824-B7A3-CB015489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1AC-9812-49DC-BC20-CCC4ECE4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047-159E-4397-B5F0-5BB4AF8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768-EC08-4AE4-B65F-5E188EC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4E9-6B05-431F-9853-9808DE7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E88-010B-4686-839B-515A256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7F0-1EDC-444A-9AB0-CA6DF82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CCB0-3F64-4D84-8AB6-6F1D956218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hteck 3"/>
          <p:cNvSpPr/>
          <p:nvPr/>
        </p:nvSpPr>
        <p:spPr>
          <a:xfrm>
            <a:off x="1187280" y="981000"/>
            <a:ext cx="6840720" cy="338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hteck 4" descr=""/>
          <p:cNvPicPr/>
          <p:nvPr/>
        </p:nvPicPr>
        <p:blipFill>
          <a:blip r:embed="rId1"/>
          <a:stretch/>
        </p:blipFill>
        <p:spPr>
          <a:xfrm>
            <a:off x="1530360" y="4479840"/>
            <a:ext cx="608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Rechteck 3"/>
          <p:cNvSpPr/>
          <p:nvPr/>
        </p:nvSpPr>
        <p:spPr>
          <a:xfrm>
            <a:off x="1187280" y="981000"/>
            <a:ext cx="6840720" cy="33847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hteck 4" descr=""/>
          <p:cNvPicPr/>
          <p:nvPr/>
        </p:nvPicPr>
        <p:blipFill>
          <a:blip r:embed="rId2"/>
          <a:stretch/>
        </p:blipFill>
        <p:spPr>
          <a:xfrm>
            <a:off x="1530360" y="4479840"/>
            <a:ext cx="608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Rechteck 3"/>
          <p:cNvSpPr/>
          <p:nvPr/>
        </p:nvSpPr>
        <p:spPr>
          <a:xfrm>
            <a:off x="1187280" y="981000"/>
            <a:ext cx="6840720" cy="338472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hteck 4" descr=""/>
          <p:cNvPicPr/>
          <p:nvPr/>
        </p:nvPicPr>
        <p:blipFill>
          <a:blip r:embed="rId2"/>
          <a:stretch/>
        </p:blipFill>
        <p:spPr>
          <a:xfrm>
            <a:off x="1504800" y="4479840"/>
            <a:ext cx="612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51:21Z</dcterms:created>
  <dc:creator>Florian Reisinger</dc:creator>
  <dc:description/>
  <dc:language>en-US</dc:language>
  <cp:lastModifiedBy>Florian Reisinger</cp:lastModifiedBy>
  <dcterms:modified xsi:type="dcterms:W3CDTF">2012-03-25T06:52:45Z</dcterms:modified>
  <cp:revision>1</cp:revision>
  <dc:subject/>
  <dc:title>PowerPoint-Präsentation</dc:title>
</cp:coreProperties>
</file>