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B38-C75B-4C81-978B-8694A4B0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660-2ACB-4071-AFE2-E83C01D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E8E-0D1D-496A-8AF8-6DB3BC5A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97A-9C7C-4BE6-B78B-8DE850E6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3F2-4D7B-49BA-BB9A-ECB219A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916-EB75-48DC-9C6F-4E8D441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6B9-2665-4E78-8F93-D25E5521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A80-E63E-49E2-9179-CFA7310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244-E399-46F3-93DC-6361EB3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240-E183-47C7-8C81-C0F772F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5D7-6ED9-4DD2-91A1-99DEFC9C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4A5-1382-45BA-A3F6-7ADBB80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6E7-A163-4D1C-918D-40415EF76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2T12:04:25Z</dcterms:created>
  <dc:creator>!</dc:creator>
  <dc:description/>
  <dc:language>en-US</dc:language>
  <cp:lastModifiedBy>windows</cp:lastModifiedBy>
  <dcterms:modified xsi:type="dcterms:W3CDTF">2005-05-23T10:05:06Z</dcterms:modified>
  <cp:revision>4</cp:revision>
  <dc:subject/>
  <dc:title>No Slide Title</dc:title>
</cp:coreProperties>
</file>