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686-34E9-4301-BC56-5B57086C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1D8-9B06-4C1B-9DC4-6FF0E0AF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199-0BBB-4BE5-849F-AE46969F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063-7309-4AFE-AEFE-89A8525C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2F6-4E1B-47EA-AAE5-74528DA8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85D-9659-44F4-B60A-9438C512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9F1-8557-4ABE-A881-4AD005C8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1B6-EA61-4F0C-BF63-F5AE2DD9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2F4-5F80-4859-ACD4-7E20303F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1B7-DC83-4075-B65E-F09F9B70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DB14-03EF-4CEB-8A0A-2C7642AA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A2B-14DD-48A9-8463-084F0B9D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005B3-57B3-4419-9168-CE8F42CF2E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12840" y="360360"/>
            <a:ext cx="58546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ain Heading: Spectrum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359000" y="1440000"/>
            <a:ext cx="7361280" cy="720720"/>
            <a:chOff x="1359000" y="1440000"/>
            <a:chExt cx="7361280" cy="720720"/>
          </a:xfrm>
        </p:grpSpPr>
        <p:sp>
          <p:nvSpPr>
            <p:cNvPr id="43" name=""/>
            <p:cNvSpPr/>
            <p:nvPr/>
          </p:nvSpPr>
          <p:spPr>
            <a:xfrm>
              <a:off x="1359000" y="1440000"/>
              <a:ext cx="3689280" cy="72072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30640" y="1440000"/>
              <a:ext cx="3689640" cy="72072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00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72072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9280" y="2519280"/>
            <a:ext cx="1849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72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2000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5440" y="4140360"/>
            <a:ext cx="9379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orem ipsum dolor sit amet, consectetur adipisicing elit, sed do eiusm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empor incididunt ut labore et dolore magna aliqua. Ut enim ad min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eniam, quis nostrud exercitation ullamco laboris nisi ut aliquip ex 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modo consequat. Duis aute irure dolor in reprehenderit in volup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elit esse cillum dolore eu fugiat nulla pariatur. Excepteur sint occaec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upidatat non proident, sunt in culpa qui officia deserunt mollit anim id 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ab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5" idx="2"/>
            <a:endCxn id="49" idx="0"/>
          </p:cNvCxnSpPr>
          <p:nvPr/>
        </p:nvCxnSpPr>
        <p:spPr>
          <a:xfrm flipH="1" rot="16200000">
            <a:off x="2736360" y="1861560"/>
            <a:ext cx="1188000" cy="3369960"/>
          </a:xfrm>
          <a:prstGeom prst="bentConnector3">
            <a:avLst>
              <a:gd name="adj1" fmla="val 49984"/>
            </a:avLst>
          </a:prstGeom>
          <a:ln w="36000">
            <a:solidFill>
              <a:srgbClr val="000000"/>
            </a:solidFill>
            <a:round/>
            <a:tailEnd len="med" type="triangle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12840" y="360360"/>
            <a:ext cx="58546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ain Heading: Spectrum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59000" y="1440000"/>
            <a:ext cx="7361280" cy="720720"/>
            <a:chOff x="1359000" y="1440000"/>
            <a:chExt cx="7361280" cy="720720"/>
          </a:xfrm>
        </p:grpSpPr>
        <p:sp>
          <p:nvSpPr>
            <p:cNvPr id="53" name=""/>
            <p:cNvSpPr/>
            <p:nvPr/>
          </p:nvSpPr>
          <p:spPr>
            <a:xfrm>
              <a:off x="1359000" y="1440000"/>
              <a:ext cx="3689280" cy="72072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30640" y="1440000"/>
              <a:ext cx="3689640" cy="72072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00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72072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19280" y="2519280"/>
            <a:ext cx="1849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0072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000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6" idx="2"/>
            <a:endCxn id="60" idx="0"/>
          </p:cNvCxnSpPr>
          <p:nvPr/>
        </p:nvCxnSpPr>
        <p:spPr>
          <a:xfrm>
            <a:off x="1660320" y="1766880"/>
            <a:ext cx="1786680" cy="1187640"/>
          </a:xfrm>
          <a:prstGeom prst="bentConnector3">
            <a:avLst>
              <a:gd name="adj1" fmla="val 50000"/>
            </a:avLst>
          </a:prstGeom>
          <a:ln w="3600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539640" y="4140360"/>
            <a:ext cx="9379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ferences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orem ipsum dolor sit amet, consectetur adipisicing elit, sed do eiusm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empor incididunt ut labore et dolore magna aliqua. Ut enim ad min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eniam, quis nostrud exercitation ullamco laboris nisi ut aliquip ex 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modo consequat. Duis aute irure dolor in reprehenderit in volup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elit esse cillum dolore eu fugiat nulla pariatur. Excepteur sint occaec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upidatat non proident, sunt in culpa qui officia deserunt mollit anim id 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ab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12840" y="360360"/>
            <a:ext cx="58546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ain Heading: Spectrum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359000" y="1440000"/>
            <a:ext cx="7361280" cy="720720"/>
            <a:chOff x="1359000" y="1440000"/>
            <a:chExt cx="7361280" cy="720720"/>
          </a:xfrm>
        </p:grpSpPr>
        <p:sp>
          <p:nvSpPr>
            <p:cNvPr id="63" name=""/>
            <p:cNvSpPr/>
            <p:nvPr/>
          </p:nvSpPr>
          <p:spPr>
            <a:xfrm>
              <a:off x="1359000" y="1440000"/>
              <a:ext cx="3689280" cy="72072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30640" y="1440000"/>
              <a:ext cx="3689640" cy="72072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00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72072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19280" y="2519280"/>
            <a:ext cx="1849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072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2000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7" idx="2"/>
            <a:endCxn id="70" idx="0"/>
          </p:cNvCxnSpPr>
          <p:nvPr/>
        </p:nvCxnSpPr>
        <p:spPr>
          <a:xfrm flipV="1" rot="10800000">
            <a:off x="4133160" y="1766880"/>
            <a:ext cx="1096200" cy="1187640"/>
          </a:xfrm>
          <a:prstGeom prst="bentConnector3">
            <a:avLst>
              <a:gd name="adj1" fmla="val 50000"/>
            </a:avLst>
          </a:prstGeom>
          <a:ln w="3600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539640" y="4140360"/>
            <a:ext cx="9379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ferences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orem ipsum dolor sit amet, consectetur adipisicing elit, sed do eiusm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empor incididunt ut labore et dolore magna aliqua. Ut enim ad min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eniam, quis nostrud exercitation ullamco laboris nisi ut aliquip ex 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modo consequat. Duis aute irure dolor in reprehenderit in volup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elit esse cillum dolore eu fugiat nulla pariatur. Excepteur sint occaec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upidatat non proident, sunt in culpa qui officia deserunt mollit anim id 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ab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12840" y="360360"/>
            <a:ext cx="58546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ain Heading: Spectrum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59000" y="1440000"/>
            <a:ext cx="7361280" cy="720720"/>
            <a:chOff x="1359000" y="1440000"/>
            <a:chExt cx="7361280" cy="720720"/>
          </a:xfrm>
        </p:grpSpPr>
        <p:sp>
          <p:nvSpPr>
            <p:cNvPr id="73" name=""/>
            <p:cNvSpPr/>
            <p:nvPr/>
          </p:nvSpPr>
          <p:spPr>
            <a:xfrm>
              <a:off x="1359000" y="1440000"/>
              <a:ext cx="3689280" cy="72072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0640" y="1440000"/>
              <a:ext cx="3689640" cy="72072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00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2072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9280" y="2519280"/>
            <a:ext cx="1849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0072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000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endCxn id="80" idx="0"/>
          </p:cNvCxnSpPr>
          <p:nvPr/>
        </p:nvCxnSpPr>
        <p:spPr>
          <a:xfrm flipV="1" rot="10800000">
            <a:off x="1501200" y="2018880"/>
            <a:ext cx="3729600" cy="1062720"/>
          </a:xfrm>
          <a:prstGeom prst="bentConnector3">
            <a:avLst>
              <a:gd name="adj1" fmla="val 49995"/>
            </a:avLst>
          </a:prstGeom>
          <a:ln w="3600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39640" y="4140360"/>
            <a:ext cx="9379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ferences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orem ipsum dolor sit amet, consectetur adipisicing elit, sed do eiusm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empor incididunt ut labore et dolore magna aliqua. Ut enim ad min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eniam, quis nostrud exercitation ullamco laboris nisi ut aliquip ex 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modo consequat. Duis aute irure dolor in reprehenderit in volup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elit esse cillum dolore eu fugiat nulla pariatur. Excepteur sint occaec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upidatat non proident, sunt in culpa qui officia deserunt mollit anim id 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ab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0:02:41Z</dcterms:created>
  <dc:creator>Chris Forbes</dc:creator>
  <dc:description/>
  <dc:language>en-US</dc:language>
  <cp:lastModifiedBy>Chris Forbes</cp:lastModifiedBy>
  <dcterms:modified xsi:type="dcterms:W3CDTF">2010-05-03T10:16:50Z</dcterms:modified>
  <cp:revision>3</cp:revision>
  <dc:subject/>
  <dc:title/>
</cp:coreProperties>
</file>