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B48-9AFC-46E3-A970-F2271AC1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F9A-56B9-4BFE-BDC6-12636CDC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181-BE76-49B4-BA56-BA51B2E0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BCF-9110-49F8-A125-42E67A8D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947-26B1-4B13-8E63-BE12D66F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453-99E8-44EF-8F9E-D45E68C9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8BA-25D5-49A6-B93D-194B2680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1E2-E351-4543-A897-B2F21B9F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D8D-3D90-4472-92CD-494DE58D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1BB-8F32-4E62-8C4E-DB609E6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BB3-8F1A-4A3B-8C8E-FEE39E1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71E-7351-465A-A638-B39BA01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DE5C-ADBE-45A3-A389-54ADB32FE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28600" y="4343400"/>
                <a:ext cx="86868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7:58:45Z</dcterms:created>
  <dc:creator>Maurits Haverkort</dc:creator>
  <dc:description/>
  <dc:language>en-US</dc:language>
  <cp:lastModifiedBy>tburnus</cp:lastModifiedBy>
  <dcterms:modified xsi:type="dcterms:W3CDTF">2007-09-10T11:05:43Z</dcterms:modified>
  <cp:revision>18</cp:revision>
  <dc:subject/>
  <dc:title>`Cluster` calculations</dc:title>
</cp:coreProperties>
</file>