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32D1-8231-4739-8CD0-FBC5C17BB7B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e Carnegie Training® can help you manage the sweeping changes that continue to reshape the workplace. Organizations today need managers who are knowledgeable business partners skilled at managing change. As change agents, managers can play a vital role in helping their organizations remain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y on the following process, and you will be more effective in managing organization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earned the right to deliver this program, are excited about the topic, and are eager to share with your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from your own experiences.  Set a good example.  Help others benefit from what you have learned about managing organizational ch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articulating a clear vision of what your organization should be. Present the vision clearly, and explain why it is important for your organization to achieve this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picture of the leadership skills this vision will require. For example, global thinking, strategic partnering,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communicated where you want to go, estimate how close you are to achieving the vision.  Identify strengths of the organization.  Also note areas where improvements must be made to bring you closer to the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include the “As Is” of leadership strengths and areas for improvement.  Organizations don’t change, people d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help you focus on specific achievements that will bring you to the overall vision.  Your goals should be challenging but realistic.  Express goals in terms that are measurable, so that you can tell when you have achieved them.  Use multiple slides if necessary to communicate your goals clearly and distin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ssence, as a change agent, you must inspire others to believe that they can change and motivate them to take action.  Emphasize the importance of continuous progress and making goal-setting a part of managing organizational ch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lans of action to achieve each of your goals. Together these plans comprise your strategy to bring you from the As Is to the Should Be.  Each plan should be specific, including who is responsible for each part, and how all the parts fit together.  Use multiple slides if necessa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your plans so that progress towards them can be monitored.  Break up larger plans into discrete milestones so that you can track progr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lan will have costs, both financial and in terms of time and effort.  Estimate the costs as closely as possible, and justify the costs with benef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regular follow-up periods to track issues and monitor progress.  Ensure that there are lines of communication between everyone who is responsible for a part of the plan, so that issues are communicated and resolved in a timely mann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 a vivid picture of the new and improved organization.  Be sure to include your audience enjoying the rewards of the change in your pi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C5FD8-5012-4E18-A8CA-F0EF9FCEB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CB8B-9EA3-4FF8-9398-B07F8FED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73090-7A14-4F95-9ADB-3F0D2C673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1F85-0C78-42C1-B1E7-E54489EED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90992-B86F-400D-A883-E6D6132C9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D5B6-CFC8-4D2E-A628-AE278DB47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48752-0237-473B-86E9-A427E7599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209A9-041C-4D76-AE6D-793B65E9C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EACF8-09AE-459B-9E59-FA37EC5D1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CAD1-EB6D-4577-AD64-421E0C3DD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11394-3F58-422E-B57D-C2417266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D50E3-991C-4C9D-A27A-06E8EEC5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17A04-0ADE-4B92-8B26-C7FD5A855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A6C3-19F2-4197-83B9-EC7343651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BB6A3-F749-43F4-9465-8D781AF02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628ED-4567-4DAC-8673-20AAA5068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7596E-2C58-42FA-A0BD-ABDE9ABE8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61EF-7D34-4421-91CD-F03B1076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5362-F062-47E0-B360-2BEB4BB4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E8CB-F92D-4567-B0A3-633E6D054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2A96-F1D6-40F7-8886-2C7A824A2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3E0E-9CBD-49A3-8FDA-AA4FCF6DE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ABE4-CB46-4AAD-9F0E-691F4BF4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74E5-B1D8-4C1C-9370-58E020CA2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6866-4D84-4442-824F-F2C467CB4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E98E-85A6-40B3-A1E7-DA7F07F1E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Managing Organizational Change</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7" name="" descr=""/>
          <p:cNvPicPr/>
          <p:nvPr/>
        </p:nvPicPr>
        <p:blipFill>
          <a:blip r:embed="rId1">
            <a:lum bright="100000"/>
          </a:blip>
          <a:srcRect l="10216" t="0" r="0" b="10314"/>
          <a:stretch/>
        </p:blipFill>
        <p:spPr>
          <a:xfrm>
            <a:off x="378000" y="5661000"/>
            <a:ext cx="1984320" cy="1189080"/>
          </a:xfrm>
          <a:prstGeom prst="rect">
            <a:avLst/>
          </a:prstGeom>
          <a:ln w="0">
            <a:noFill/>
          </a:ln>
        </p:spPr>
      </p:pic>
      <p:sp>
        <p:nvSpPr>
          <p:cNvPr id="98" name=""/>
          <p:cNvSpPr/>
          <p:nvPr/>
        </p:nvSpPr>
        <p:spPr>
          <a:xfrm>
            <a:off x="2286000" y="658980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1996-2001 © Dale Carnegie &amp; Associates, In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Vision</a:t>
            </a:r>
            <a:endParaRPr b="0" lang="en-US" sz="4200" spc="-1" strike="noStrike">
              <a:solidFill>
                <a:srgbClr val="f1b60f"/>
              </a:solidFill>
              <a:latin typeface="Arial"/>
            </a:endParaRPr>
          </a:p>
        </p:txBody>
      </p:sp>
      <p:sp>
        <p:nvSpPr>
          <p:cNvPr id="10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e a vision of the Should Be</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vision clearl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fy why it is importa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tate of the Organization</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imate the As I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strengths to build o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areas to improv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Goals</a:t>
            </a:r>
            <a:endParaRPr b="0" lang="en-US" sz="4200" spc="-1" strike="noStrike">
              <a:solidFill>
                <a:srgbClr val="f1b60f"/>
              </a:solidFill>
              <a:latin typeface="Arial"/>
            </a:endParaRPr>
          </a:p>
        </p:txBody>
      </p:sp>
      <p:sp>
        <p:nvSpPr>
          <p:cNvPr id="10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goals: realistic, reasonable, challenging, attainable goal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term</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mediate-term</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ort-ter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lans of Action</a:t>
            </a: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ograms/methods/plans of action:</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quirements for achieving set goal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do which par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different parts tie togeth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imetables</a:t>
            </a:r>
            <a:endParaRPr b="0" lang="en-US" sz="4200" spc="-1" strike="noStrike">
              <a:solidFill>
                <a:srgbClr val="f1b60f"/>
              </a:solidFill>
              <a:latin typeface="Arial"/>
            </a:endParaRPr>
          </a:p>
        </p:txBody>
      </p:sp>
      <p:sp>
        <p:nvSpPr>
          <p:cNvPr id="10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the phases of the projec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representative that will be responsible for each phas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the beginning, middle, and end of each pha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sts</a:t>
            </a:r>
            <a:endParaRPr b="0" lang="en-US" sz="4200" spc="-1" strike="noStrike">
              <a:solidFill>
                <a:srgbClr val="f1b60f"/>
              </a:solidFill>
              <a:latin typeface="Arial"/>
            </a:endParaRPr>
          </a:p>
        </p:txBody>
      </p:sp>
      <p:sp>
        <p:nvSpPr>
          <p:cNvPr id="1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ncial</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an resourc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m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lan Follow-up</a:t>
            </a:r>
            <a:endParaRPr b="0" lang="en-US" sz="4200" spc="-1" strike="noStrike">
              <a:solidFill>
                <a:srgbClr val="f1b60f"/>
              </a:solidFill>
              <a:latin typeface="Arial"/>
            </a:endParaRPr>
          </a:p>
        </p:txBody>
      </p:sp>
      <p:sp>
        <p:nvSpPr>
          <p:cNvPr id="1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benchmarks to measure strengths and areas of improve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ose</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view vision of the Should B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ind audience of the benefi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0-10-30T21:14:0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