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01160" cy="102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9987120" y="0"/>
            <a:ext cx="93600" cy="210960"/>
          </a:xfrm>
          <a:custGeom>
            <a:avLst/>
            <a:gdLst>
              <a:gd name="textAreaLeft" fmla="*/ 360 w 93600"/>
              <a:gd name="textAreaRight" fmla="*/ 93240 w 93600"/>
              <a:gd name="textAreaTop" fmla="*/ 360 h 210960"/>
              <a:gd name="textAreaBottom" fmla="*/ 210600 h 210960"/>
            </a:gdLst>
            <a:ahLst/>
            <a:rect l="textAreaLeft" t="textAreaTop" r="textAreaRight" b="textAreaBottom"/>
            <a:pathLst>
              <a:path w="21600" h="48579">
                <a:moveTo>
                  <a:pt x="372" y="0"/>
                </a:moveTo>
                <a:arcTo wR="372" hR="372" stAng="16200000" swAng="-5400000"/>
                <a:lnTo>
                  <a:pt x="0" y="48207"/>
                </a:lnTo>
                <a:arcTo wR="372" hR="372" stAng="10800000" swAng="-5400000"/>
                <a:lnTo>
                  <a:pt x="21228" y="48579"/>
                </a:lnTo>
                <a:arcTo wR="372" hR="372" stAng="5400000" swAng="-5400000"/>
                <a:lnTo>
                  <a:pt x="21600" y="372"/>
                </a:lnTo>
                <a:arcTo wR="372" hR="372" stAng="0" swAng="-5400000"/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080720" y="938160"/>
            <a:ext cx="1440" cy="168480"/>
          </a:xfrm>
          <a:custGeom>
            <a:avLst/>
            <a:gdLst/>
            <a:ahLst/>
            <a:rect l="l" t="t" r="r" b="b"/>
            <a:pathLst>
              <a:path w="21600" h="2026080">
                <a:moveTo>
                  <a:pt x="10800" y="0"/>
                </a:moveTo>
                <a:arcTo wR="10800" hR="10800" stAng="16200000" swAng="-5400000"/>
                <a:lnTo>
                  <a:pt x="0" y="2015280"/>
                </a:lnTo>
                <a:arcTo wR="10800" hR="10800" stAng="10800000" swAng="-5400000"/>
                <a:lnTo>
                  <a:pt x="10800" y="202608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945720" y="784080"/>
            <a:ext cx="135000" cy="252720"/>
          </a:xfrm>
          <a:custGeom>
            <a:avLst/>
            <a:gdLst>
              <a:gd name="textAreaLeft" fmla="*/ 360 w 135000"/>
              <a:gd name="textAreaRight" fmla="*/ 134640 w 135000"/>
              <a:gd name="textAreaTop" fmla="*/ 360 h 252720"/>
              <a:gd name="textAreaBottom" fmla="*/ 252360 h 252720"/>
            </a:gdLst>
            <a:ahLst/>
            <a:rect l="textAreaLeft" t="textAreaTop" r="textAreaRight" b="textAreaBottom"/>
            <a:pathLst>
              <a:path w="21600" h="40385">
                <a:moveTo>
                  <a:pt x="257" y="0"/>
                </a:moveTo>
                <a:arcTo wR="257" hR="257" stAng="16200000" swAng="-5400000"/>
                <a:lnTo>
                  <a:pt x="0" y="40128"/>
                </a:lnTo>
                <a:arcTo wR="257" hR="257" stAng="10800000" swAng="-5400000"/>
                <a:lnTo>
                  <a:pt x="21343" y="40385"/>
                </a:lnTo>
                <a:arcTo wR="257" hR="257" stAng="5400000" swAng="-5400000"/>
                <a:lnTo>
                  <a:pt x="21600" y="257"/>
                </a:lnTo>
                <a:arcTo wR="257" hR="257" stAng="0" swAng="-5400000"/>
                <a:close/>
              </a:path>
            </a:pathLst>
          </a:custGeom>
          <a:solidFill>
            <a:srgbClr val="ebcf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6626160"/>
            <a:ext cx="10080720" cy="933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959200" y="322200"/>
            <a:ext cx="5033880" cy="841320"/>
          </a:xfrm>
          <a:custGeom>
            <a:avLst/>
            <a:gdLst/>
            <a:ahLst/>
            <a:rect l="l" t="t" r="r" b="b"/>
            <a:pathLst>
              <a:path w="13982" h="2338">
                <a:moveTo>
                  <a:pt x="1109" y="2211"/>
                </a:moveTo>
                <a:cubicBezTo>
                  <a:pt x="941" y="1726"/>
                  <a:pt x="1383" y="1282"/>
                  <a:pt x="1810" y="1160"/>
                </a:cubicBezTo>
                <a:cubicBezTo>
                  <a:pt x="2216" y="1044"/>
                  <a:pt x="2636" y="1015"/>
                  <a:pt x="3055" y="1005"/>
                </a:cubicBezTo>
                <a:cubicBezTo>
                  <a:pt x="3511" y="994"/>
                  <a:pt x="3854" y="697"/>
                  <a:pt x="4300" y="694"/>
                </a:cubicBezTo>
                <a:cubicBezTo>
                  <a:pt x="4729" y="692"/>
                  <a:pt x="5693" y="391"/>
                  <a:pt x="5584" y="810"/>
                </a:cubicBezTo>
                <a:cubicBezTo>
                  <a:pt x="5218" y="2211"/>
                  <a:pt x="5569" y="562"/>
                  <a:pt x="6051" y="849"/>
                </a:cubicBezTo>
                <a:cubicBezTo>
                  <a:pt x="6656" y="1209"/>
                  <a:pt x="7147" y="558"/>
                  <a:pt x="7763" y="655"/>
                </a:cubicBezTo>
                <a:cubicBezTo>
                  <a:pt x="8379" y="752"/>
                  <a:pt x="8730" y="0"/>
                  <a:pt x="9397" y="266"/>
                </a:cubicBezTo>
                <a:cubicBezTo>
                  <a:pt x="9849" y="446"/>
                  <a:pt x="10333" y="390"/>
                  <a:pt x="10798" y="538"/>
                </a:cubicBezTo>
                <a:cubicBezTo>
                  <a:pt x="11274" y="690"/>
                  <a:pt x="11783" y="599"/>
                  <a:pt x="12276" y="616"/>
                </a:cubicBezTo>
                <a:cubicBezTo>
                  <a:pt x="12718" y="631"/>
                  <a:pt x="13355" y="336"/>
                  <a:pt x="13599" y="732"/>
                </a:cubicBezTo>
                <a:cubicBezTo>
                  <a:pt x="13981" y="1352"/>
                  <a:pt x="12834" y="1128"/>
                  <a:pt x="12549" y="1083"/>
                </a:cubicBezTo>
                <a:cubicBezTo>
                  <a:pt x="12051" y="1004"/>
                  <a:pt x="11557" y="1079"/>
                  <a:pt x="11070" y="1005"/>
                </a:cubicBezTo>
                <a:cubicBezTo>
                  <a:pt x="10611" y="935"/>
                  <a:pt x="10174" y="835"/>
                  <a:pt x="9708" y="771"/>
                </a:cubicBezTo>
                <a:cubicBezTo>
                  <a:pt x="9220" y="703"/>
                  <a:pt x="8722" y="730"/>
                  <a:pt x="8230" y="849"/>
                </a:cubicBezTo>
                <a:cubicBezTo>
                  <a:pt x="7759" y="962"/>
                  <a:pt x="7290" y="1069"/>
                  <a:pt x="6829" y="1238"/>
                </a:cubicBezTo>
                <a:cubicBezTo>
                  <a:pt x="6368" y="1407"/>
                  <a:pt x="5863" y="1222"/>
                  <a:pt x="5389" y="1160"/>
                </a:cubicBezTo>
                <a:cubicBezTo>
                  <a:pt x="4949" y="1103"/>
                  <a:pt x="4504" y="1173"/>
                  <a:pt x="4066" y="1122"/>
                </a:cubicBezTo>
                <a:cubicBezTo>
                  <a:pt x="3585" y="1066"/>
                  <a:pt x="3110" y="1204"/>
                  <a:pt x="2744" y="1472"/>
                </a:cubicBezTo>
                <a:cubicBezTo>
                  <a:pt x="2348" y="1762"/>
                  <a:pt x="1920" y="1902"/>
                  <a:pt x="1498" y="2133"/>
                </a:cubicBezTo>
                <a:cubicBezTo>
                  <a:pt x="1356" y="2211"/>
                  <a:pt x="0" y="2337"/>
                  <a:pt x="1070" y="1939"/>
                </a:cubicBezTo>
                <a:lnTo>
                  <a:pt x="1070" y="1939"/>
                </a:lnTo>
                <a:lnTo>
                  <a:pt x="1109" y="221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2200">
              <a:lnSpc>
                <a:spcPct val="95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Bef>
                <a:spcPts val="575"/>
              </a:spcBef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3840" indent="-214200">
              <a:lnSpc>
                <a:spcPct val="95000"/>
              </a:lnSpc>
              <a:spcBef>
                <a:spcPts val="575"/>
              </a:spcBef>
              <a:buClr>
                <a:srgbClr val="0000ff"/>
              </a:buClr>
              <a:buSzPct val="3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Bef>
                <a:spcPts val="575"/>
              </a:spcBef>
              <a:buClr>
                <a:srgbClr val="0000ff"/>
              </a:buClr>
              <a:buSzPct val="2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7480" indent="-21420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7480" indent="-21420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7480" indent="-21420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19280" y="604836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F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MHz – 2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755640"/>
            <a:ext cx="86076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08360" y="1655640"/>
            <a:ext cx="2665440" cy="1623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9280" y="1727280"/>
            <a:ext cx="1511280" cy="1084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871640" y="6227640"/>
            <a:ext cx="612720" cy="573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268760" y="3456000"/>
            <a:ext cx="25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tellite Mod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amp; Intrinsically Sa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Log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96360" y="1800360"/>
            <a:ext cx="1800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anning Telemetry Base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48000" y="1800360"/>
            <a:ext cx="151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emetry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9280" y="313200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o Mod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4427640"/>
            <a:ext cx="1800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ging Transmitters &amp; Rece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476360" y="4427640"/>
            <a:ext cx="914400" cy="97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826920" y="3095640"/>
            <a:ext cx="1152720" cy="1189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4788000" y="5040360"/>
            <a:ext cx="2160360" cy="167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4788000" y="3348000"/>
            <a:ext cx="1944720" cy="1424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04000" y="5256360"/>
            <a:ext cx="327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F Splitters, Combiners Amplifiers &amp; Antenna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324000" y="4500720"/>
            <a:ext cx="118728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360360" y="5904000"/>
            <a:ext cx="1403280" cy="1136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 OVENS</cp:lastModifiedBy>
  <dcterms:modified xsi:type="dcterms:W3CDTF">2007-05-10T10:43:55Z</dcterms:modified>
  <cp:revision>75</cp:revision>
  <dc:subject/>
  <dc:title>Slide 1</dc:title>
</cp:coreProperties>
</file>