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D6D-882C-49CA-9FA0-839C6A1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9AB-9647-40CC-98FC-6ED23FC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C07-B3B3-418C-A19E-3610B17B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911-4172-4C0E-B437-5128F2AB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92B-88AE-4E2A-8260-F24015F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0CE-7A1D-48E0-BC92-10932FD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FD5-3E83-4AFE-90B0-DEBE70A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531-F14A-4FCF-B149-7D339E5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C79-58BB-4F56-BDF0-C98D5E3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B9B-DAA8-4FE3-A135-DEA2A61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028-B369-45F0-8C11-EB0D413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1D9-988F-4380-9CAF-415FC4F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595-62CE-4324-BF3E-9A6ABEF7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1219320"/>
          <a:ext cx="71388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1388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852160" y="148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1.7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4:25:03Z</dcterms:created>
  <dc:creator>ee192-bb</dc:creator>
  <dc:description/>
  <dc:language>en-US</dc:language>
  <cp:lastModifiedBy>ee192-bb</cp:lastModifiedBy>
  <dcterms:modified xsi:type="dcterms:W3CDTF">2007-05-07T23:06:22Z</dcterms:modified>
  <cp:revision>12</cp:revision>
  <dc:subject/>
  <dc:title>EE192 Spring 07</dc:title>
</cp:coreProperties>
</file>