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1F6-E803-40AF-96F4-D428D465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56F-23B0-4484-B799-75EAC6A6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65E-4806-45C5-A536-9A04FA7F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F92-19BA-42BB-9253-17B617D0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AB0-FCE9-4121-8A22-F3221E6C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07FD-48D7-475D-9FA2-57638D37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97A5-7516-44B8-817A-67D2AD85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996-8BAB-4AA7-8F27-77089978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F45-8C50-4F52-9482-9B59E52C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73F-F68F-46C3-8E45-550EB9B0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188-C5F6-4D5D-9ECC-3BF62AE7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316-B339-4AB0-B52D-564F3E16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F062-C3D2-43D9-9FB6-F803A0F44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5036040" y="1380240"/>
            <a:ext cx="1551240" cy="25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ＭＳ Ｐ明朝"/>
              </a:rPr>
              <a:t>コンピューター</a:t>
            </a:r>
            <a:endParaRPr b="0" lang="en-US" sz="2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ＭＳ Ｐ明朝"/>
              <a:ea typeface="ＭＳ Ｐ明朝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82960" y="476280"/>
            <a:ext cx="1552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ＭＳ Ｐ明朝"/>
              </a:rPr>
              <a:t>コンピューター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ＭＳ Ｐ明朝"/>
              <a:ea typeface="ＭＳ Ｐ明朝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64000" y="3068640"/>
            <a:ext cx="28083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ＭＳ Ｐ明朝"/>
              </a:rPr>
              <a:t>「今日は、いい天気です。」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ＭＳ Ｐ明朝"/>
              <a:ea typeface="ＭＳ Ｐ明朝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1567440" y="4704480"/>
            <a:ext cx="2808360" cy="25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ＭＳ Ｐ明朝"/>
              </a:rPr>
              <a:t>「今日は、いい天気です。」</a:t>
            </a:r>
            <a:endParaRPr b="0" lang="en-US" sz="2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ＭＳ Ｐ明朝"/>
              <a:ea typeface="ＭＳ Ｐ明朝"/>
            </a:endParaRPr>
          </a:p>
        </p:txBody>
      </p:sp>
      <p:sp>
        <p:nvSpPr>
          <p:cNvPr id="45" name=""/>
          <p:cNvSpPr/>
          <p:nvPr/>
        </p:nvSpPr>
        <p:spPr>
          <a:xfrm>
            <a:off x="4890960" y="733320"/>
            <a:ext cx="760680" cy="82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5200" y="981000"/>
            <a:ext cx="484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hese glyphs differ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he vertical one is not rendered by ro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It is rendered with a vertical substitution gly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76360" y="3357720"/>
            <a:ext cx="11509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3440" y="37893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No r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203640" y="3429000"/>
            <a:ext cx="302400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4520" y="4653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No r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659640" y="333360"/>
            <a:ext cx="158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ＭＳ Ｐ明朝"/>
              </a:rPr>
              <a:t>ー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ＭＳ Ｐ明朝"/>
              <a:ea typeface="ＭＳ Ｐ明朝"/>
            </a:endParaRPr>
          </a:p>
        </p:txBody>
      </p:sp>
      <p:sp>
        <p:nvSpPr>
          <p:cNvPr id="52" name=""/>
          <p:cNvSpPr txBox="1"/>
          <p:nvPr/>
        </p:nvSpPr>
        <p:spPr>
          <a:xfrm rot="5400000">
            <a:off x="6445800" y="1772280"/>
            <a:ext cx="1551240" cy="25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ＭＳ Ｐ明朝"/>
              </a:rPr>
              <a:t>ー</a:t>
            </a:r>
            <a:endParaRPr b="0" lang="en-US" sz="2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ＭＳ Ｐ明朝"/>
              <a:ea typeface="ＭＳ Ｐ明朝"/>
            </a:endParaRPr>
          </a:p>
        </p:txBody>
      </p:sp>
      <p:sp>
        <p:nvSpPr>
          <p:cNvPr id="53" name=""/>
          <p:cNvSpPr/>
          <p:nvPr/>
        </p:nvSpPr>
        <p:spPr>
          <a:xfrm>
            <a:off x="5940360" y="1700280"/>
            <a:ext cx="1152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549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6:06:16Z</dcterms:created>
  <dc:creator>　</dc:creator>
  <dc:description/>
  <dc:language>en-US</dc:language>
  <cp:lastModifiedBy>　</cp:lastModifiedBy>
  <dcterms:modified xsi:type="dcterms:W3CDTF">2009-01-09T16:40:50Z</dcterms:modified>
  <cp:revision>2</cp:revision>
  <dc:subject/>
  <dc:title>スライド 1</dc:title>
</cp:coreProperties>
</file>