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CFA-6070-42F2-B300-3A9C488E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A6F-F166-4A5E-90BC-CC62880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C13-458F-46E9-ABDA-22422AE4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1CD-D847-49B8-88C8-5724D6DD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70C-3058-47EA-AFE1-A7044D8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0D7-4A6E-4392-9549-6D42219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6F5-22C3-4959-80CC-97C9096E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4AA-B60A-4FF3-93E7-9E98189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146-2904-441F-BA69-4400213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A70-45C1-4C14-BF65-8267869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AF8-70CE-40A1-9B91-43947C3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DE5-A6F9-4623-9EC5-8787307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1E2-BEFF-4B28-B2BF-A987F5CED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2835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0:42:49Z</dcterms:created>
  <dc:creator>Johnny Flash</dc:creator>
  <dc:description/>
  <dc:language>en-US</dc:language>
  <cp:lastModifiedBy>Johnny Flash</cp:lastModifiedBy>
  <dcterms:modified xsi:type="dcterms:W3CDTF">2008-10-27T10:43:09Z</dcterms:modified>
  <cp:revision>1</cp:revision>
  <dc:subject/>
  <dc:title>Slide 1</dc:title>
</cp:coreProperties>
</file>