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ype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2CE-7D9F-46A6-A09D-314D6C9E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0CC-8554-4FCB-BFD5-22D6F448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289-CB1B-4323-A51E-2944CC61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7E3-A840-45C8-B785-14A4169E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6B6D-0F6A-4536-81B3-314E63F0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CBED-0201-4E17-A5B3-2BE7ED93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8368-B47C-465A-8E4C-16785EFF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48AC-1746-4AE9-8E09-83D99DFF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1D64-C58A-4D37-AB43-D0CCFFEE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5E9E-BE85-4459-86AA-1F4CBB27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B0DA-373E-4EA5-8E9A-AE7BB582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D7F-B494-412B-BF1E-C7D34973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B9A6-B83D-4B63-89E2-E68CD663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2E86-5715-4333-A989-EFF8837F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A436-E383-4ED9-86C5-EE67A140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6394-3118-45CD-A004-07312B31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DE75-C738-4D60-A5D0-7949682C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6C2-8D6C-4540-A883-E9892168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BAD-2341-418E-8AAE-CB363523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0CB-AF4C-4853-A757-893763DF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CCF-DCC4-4EF0-8044-E95CD67A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537-3583-483A-95D1-9C4901BE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7B4-0A4A-447F-91F4-2425735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970-FB5F-480A-9872-47E8F30B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BC49-BCCC-447B-AAD0-F36AA46F2E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D29D-D07D-4778-A48D-D4BB2F0F5B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5202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s Zitat von Papst Benedikt XVI über den Islam hat bei Moslems auf der ganzen Welt zu heftigsten Protesten gefüh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03280" y="-9360"/>
            <a:ext cx="6840720" cy="51339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2,3)"/>
                                          </p:val>
                                        </p:tav>
                                        <p:tav tm="50000">
                                          <p:val>
                                            <p:strVal val="rgb(1,2,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shalb musste der Papst aus Sicherheitsgründen vorübergehend in der Südsteiermark untertauchen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2,3)"/>
                                          </p:val>
                                        </p:tav>
                                        <p:tav tm="50000">
                                          <p:val>
                                            <p:strVal val="rgb(1,2,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7136" r="0" b="8154"/>
          <a:stretch/>
        </p:blipFill>
        <p:spPr>
          <a:xfrm>
            <a:off x="1763640" y="189000"/>
            <a:ext cx="6193080" cy="6669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07:16:26Z</dcterms:created>
  <dc:creator>Karl Martin</dc:creator>
  <dc:description/>
  <dc:language>en-US</dc:language>
  <cp:lastModifiedBy>Karl Martin</cp:lastModifiedBy>
  <dcterms:modified xsi:type="dcterms:W3CDTF">2006-09-28T07:38:15Z</dcterms:modified>
  <cp:revision>2</cp:revision>
  <dc:subject/>
  <dc:title>Folie 1</dc:title>
</cp:coreProperties>
</file>