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770-2EA0-4FE4-A205-9388F8B5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D2C-6DEE-40AA-AEEA-0B11CB67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1FF-DE57-4123-A6B6-7414F6C6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D63-D1AC-43FA-91AB-3B94D19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24F-E83E-470C-9EA3-7A37D5B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C14-998E-4549-BC6D-2C433AC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A22-40D1-4542-BF91-E44603D0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CEF-8234-4927-88EF-EC0DC5F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C04-AE6D-4926-B3DC-B9546B5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721-4145-4734-994B-81D1F70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36F-0FB1-40C8-8A67-BAA0DD9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F2E-0616-403D-843B-02FA018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9D8-02B1-4B49-ADEB-0DE7ADD1FC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8926" y="19064"/>
                </a:moveTo>
                <a:arcTo wR="-8474" hR="-8474" stAng="6166512" swAng="-3977231"/>
                <a:lnTo>
                  <a:pt x="2117" y="4378"/>
                </a:lnTo>
                <a:arcTo wR="10800" hR="10800" stAng="-8610720" swAng="3977231"/>
                <a:lnTo>
                  <a:pt x="13785" y="-2366"/>
                </a:lnTo>
                <a:lnTo>
                  <a:pt x="16698" y="2256"/>
                </a:lnTo>
                <a:lnTo>
                  <a:pt x="12077" y="51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14364" y="7973"/>
                </a:moveTo>
                <a:arcTo wR="-4549" hR="-4549" stAng="-2305308" swAng="-18842995"/>
                <a:lnTo>
                  <a:pt x="93" y="9385"/>
                </a:lnTo>
                <a:arcTo wR="10800" hR="10800" stAng="-10348303" swAng="18842995"/>
                <a:lnTo>
                  <a:pt x="223" y="19190"/>
                </a:lnTo>
                <a:lnTo>
                  <a:pt x="1167" y="11005"/>
                </a:lnTo>
                <a:lnTo>
                  <a:pt x="9351" y="119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35592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27" y="10036"/>
                </a:moveTo>
                <a:arcTo wR="-10800" hR="-10800" stAng="-10556665" swAng="-19129406"/>
                <a:lnTo>
                  <a:pt x="18406" y="18468"/>
                </a:lnTo>
                <a:arcTo wR="10800" hR="10800" stAng="2713929" swAng="19129406"/>
                <a:lnTo>
                  <a:pt x="24266" y="11755"/>
                </a:lnTo>
                <a:lnTo>
                  <a:pt x="21382" y="14257"/>
                </a:lnTo>
                <a:lnTo>
                  <a:pt x="18880" y="113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371628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10462" y="9970"/>
                </a:moveTo>
                <a:arcTo wR="-896" hR="-896" stAng="-6729455" swAng="-20347066"/>
                <a:lnTo>
                  <a:pt x="11040" y="21597"/>
                </a:lnTo>
                <a:arcTo wR="10800" hR="10800" stAng="5323479" swAng="20347066"/>
                <a:lnTo>
                  <a:pt x="15892" y="23303"/>
                </a:lnTo>
                <a:lnTo>
                  <a:pt x="5919" y="19102"/>
                </a:lnTo>
                <a:lnTo>
                  <a:pt x="10120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3440" y="981000"/>
            <a:ext cx="6477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5:22:43Z</dcterms:created>
  <dc:creator>bm93744</dc:creator>
  <dc:description/>
  <dc:language>en-US</dc:language>
  <cp:lastModifiedBy>bm93744</cp:lastModifiedBy>
  <dcterms:modified xsi:type="dcterms:W3CDTF">2004-12-16T15:23:05Z</dcterms:modified>
  <cp:revision>1</cp:revision>
  <dc:subject/>
  <dc:title>Slide 1</dc:title>
</cp:coreProperties>
</file>