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8BA-0925-4C80-B042-876148D2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9DA-20C3-4098-9C37-AB6024E9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D86-05FE-4653-A030-AD706FE4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D77-C40E-4500-87D5-24809576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D480-E6A8-4CA2-B222-81A0EBFE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1501-5DA9-4309-A925-2C6D6EE1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F96B-1DD3-4672-8E99-FF2D4544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12F4-53F2-49B0-96DC-117AB926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4444-7FE8-40F8-9259-B54E7E86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86F8-AA34-4D41-817A-A35EC7CC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D508-DA61-4B2B-9682-8CBE991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AEC-75FD-474D-B90F-0D40514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C117-F4C2-4FE0-84D7-A3F2A1D3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E643-1899-4D93-8C2A-D64CC63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5930-1324-4C90-A003-3D2CC994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DEE6-BD2B-46F5-8A46-C95F08CF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6CC1-26BA-4F82-964D-6E8FF91D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455-897F-4842-86A0-9B51B1E1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16F-C405-4FC4-AEB9-881631F5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75C-0ECB-4690-B382-62125374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EBF-8400-46E0-AF3C-DE554BD4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F7B-9DB8-44A5-99EA-1486F9AF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5EC-5F98-4AF5-82B8-52511F7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790-C3A4-4878-9AF3-AECF88F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9AA3-9644-47B0-A24B-EDDEFBCBD92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Comic Sans MS"/>
              </a:rPr>
              <a:t>Is “Higher Level” Better?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ogramming language can be viewed as an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an abstract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mach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is one general-purpose language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higher-le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n another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embly language is just the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straction for a CPU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o some languages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better ma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applications than other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Comic Sans MS"/>
              </a:rPr>
              <a:t>We Need Domain Specificity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domain-specific 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or DSL) is a language that precisely captures a domain semantics; no more, and no les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so need domain specific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omic Sans MS"/>
              </a:rPr>
              <a:t>specific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tarting point!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omic Sans MS"/>
              </a:rPr>
              <a:t>optimiz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0099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 </a:t>
            </a:r>
            <a:r>
              <a:rPr b="0" lang="en-US" sz="2800" spc="-1" strike="noStrike">
                <a:solidFill>
                  <a:srgbClr val="330099"/>
                </a:solidFill>
                <a:latin typeface="Comic Sans MS"/>
              </a:rPr>
              <a:t>too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systems, aspects, constraints, etc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22:24:24Z</dcterms:created>
  <dc:creator>Paul Hudak</dc:creator>
  <dc:description/>
  <cp:keywords/>
  <dc:language>en-US</dc:language>
  <cp:lastModifiedBy>svegesna</cp:lastModifiedBy>
  <dcterms:modified xsi:type="dcterms:W3CDTF">2011-04-14T13:05:59Z</dcterms:modified>
  <cp:revision>286</cp:revision>
  <dc:subject/>
  <dc:title>Domain-Specific Embedded-Languag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yale.edu/~users/hudak.html</vt:lpwstr>
  </property>
  <property fmtid="{D5CDD505-2E9C-101B-9397-08002B2CF9AE}" pid="9" name="LinkColor">
    <vt:r8>16711782</vt:r8>
  </property>
  <property fmtid="{D5CDD505-2E9C-101B-9397-08002B2CF9AE}" pid="10" name="MailAddress">
    <vt:lpwstr>paul.hudak@yale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/talks/ds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