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B286-D59B-4842-A33A-08303016C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828800" y="52488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CEDA-7898-4094-875D-577CD501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3820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B583-5BB6-4436-8395-AA161028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17348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51816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82880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17348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51816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E1B4-3761-4869-BC7B-3ABFB6A3E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A05F-1A0A-4401-B596-8A47D001A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B1D1-B93A-4712-9145-4D965267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5F6F-8D34-4DC3-8A06-92440CBC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8341-679F-483B-9401-D90E5C62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9082-B93C-44FC-9804-5AD816D1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828800" y="1828800"/>
            <a:ext cx="6934320" cy="109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C48B-F686-4D0A-88FD-B15B9B86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4177-1456-4750-8DCB-BB40DBC9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CB88-DD68-45E0-9154-29C87D39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3820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B556-B995-494A-9F7D-1F2DDA59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B164-F889-44EC-A757-EF0978B8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828800" y="52488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4F9B-6E81-49F6-BDB3-3A2DA1C0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3820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8D99-2670-4B60-8A4C-E378CC974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17348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51816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82880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417348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51816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F964-5112-441B-9A53-15550381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0D7B-BAF8-48AD-9696-81647AEA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9179-828F-43CD-87B9-018F1620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CAD5-1214-441B-B220-C492973E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828800" y="1828800"/>
            <a:ext cx="6934320" cy="109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8189-F74B-477E-9F0A-94A012AA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97C6-80F1-42AD-BA15-97FD601A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3820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BB03-3FF6-4A4B-972F-12C863F5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C92C-B09F-4884-81D4-EC3B376B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B07C-AE07-45FE-B798-E202F3E2AE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84B6-192B-493A-AD5C-C4EC16B464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26" name="SYM102" descr=""/>
          <p:cNvPicPr/>
          <p:nvPr/>
        </p:nvPicPr>
        <p:blipFill>
          <a:blip r:embed="rId1"/>
          <a:stretch/>
        </p:blipFill>
        <p:spPr>
          <a:xfrm>
            <a:off x="3886200" y="914400"/>
            <a:ext cx="4802040" cy="54864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685800" y="1447920"/>
            <a:ext cx="2666880" cy="17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99"/>
                </a:solidFill>
                <a:latin typeface="Garamond"/>
              </a:rPr>
              <a:t>Paduan Suara</a:t>
            </a:r>
            <a:endParaRPr b="1" i="1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000099"/>
              </a:solidFill>
              <a:latin typeface="Garamond"/>
              <a:ea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99"/>
                </a:solidFill>
                <a:latin typeface="Garamond"/>
              </a:rPr>
              <a:t>"Serafim"</a:t>
            </a:r>
            <a:endParaRPr b="1" i="1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000099"/>
              </a:solidFill>
              <a:latin typeface="Garamond"/>
              <a:ea typeface="Garamond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Times New Roman"/>
              </a:rPr>
              <a:t>Karya ALLAH dalam KasihNY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198108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Times New Roman"/>
              </a:rPr>
              <a:t>Efesus 2 : 1-1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Bookman Old Style"/>
              </a:rPr>
              <a:t>Pdt. Gunawan Krista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Pendahuluan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981080" y="21333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80000"/>
              <a:buFont typeface="Bookman Old Style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Bookman Old Style"/>
              </a:rPr>
              <a:t>ALLAH mengasihi kita, itulah pernyataan seluruh isi Alkit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>
            <a:off x="1981080" y="3124080"/>
            <a:ext cx="6400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80000"/>
              <a:buFont typeface="Bookman Old Style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Bookman Old Style"/>
              </a:rPr>
              <a:t>Sejak Adam &amp; Hawa, ALLAH terus berkarya menyatakan KasihNYA pada k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981080" y="4495680"/>
            <a:ext cx="6400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80000"/>
              <a:buFont typeface="Bookman Old Style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Bookman Old Style"/>
              </a:rPr>
              <a:t>Puncak kasihNYA adalah : YESUS mati di kayu salib dan bangkit pada hari ket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Efesus 2 : 1-3           Kehidupan Kita sebelum Bertobat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980720" y="2133720"/>
            <a:ext cx="71629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Bookman Old Style"/>
              </a:rPr>
              <a:t>Kita hidup di dalam </a:t>
            </a:r>
            <a:r>
              <a:rPr b="1" i="1" lang="en-US" sz="2800" spc="-1" strike="noStrike" u="sng">
                <a:solidFill>
                  <a:srgbClr val="990000"/>
                </a:solidFill>
                <a:uFillTx/>
                <a:latin typeface="Bookman Old Style"/>
              </a:rPr>
              <a:t>Do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Bookman Old Style"/>
              </a:rPr>
              <a:t>Kita hidup menurut </a:t>
            </a:r>
            <a:r>
              <a:rPr b="1" i="1" lang="en-US" sz="2800" spc="-1" strike="noStrike" u="sng">
                <a:solidFill>
                  <a:srgbClr val="990000"/>
                </a:solidFill>
                <a:uFillTx/>
                <a:latin typeface="Bookman Old Style"/>
              </a:rPr>
              <a:t>Jalan Dun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Bookman Old Style"/>
              </a:rPr>
              <a:t>Kita hidup mentaati </a:t>
            </a:r>
            <a:r>
              <a:rPr b="1" i="1" lang="en-US" sz="2800" spc="-1" strike="noStrike" u="sng">
                <a:solidFill>
                  <a:srgbClr val="990000"/>
                </a:solidFill>
                <a:uFillTx/>
                <a:latin typeface="Bookman Old Style"/>
              </a:rPr>
              <a:t>Ibl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Bookman Old Style"/>
              </a:rPr>
              <a:t>Kita hidup menuruti </a:t>
            </a:r>
            <a:r>
              <a:rPr b="1" i="1" lang="en-US" sz="2800" spc="-1" strike="noStrike" u="sng">
                <a:solidFill>
                  <a:srgbClr val="990000"/>
                </a:solidFill>
                <a:uFillTx/>
                <a:latin typeface="Bookman Old Style"/>
              </a:rPr>
              <a:t>Kehendak Da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Bookman Old Style"/>
              </a:rPr>
              <a:t>Kita hidup menuruti </a:t>
            </a:r>
            <a:r>
              <a:rPr b="1" i="1" lang="en-US" sz="2800" spc="-1" strike="noStrike" u="sng">
                <a:solidFill>
                  <a:srgbClr val="990000"/>
                </a:solidFill>
                <a:uFillTx/>
                <a:latin typeface="Bookman Old Style"/>
              </a:rPr>
              <a:t>Pikiran kita yang Jah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Efesus 2 : 4-5                               ALLAH mengasihi kita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981080" y="213372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80000"/>
              <a:buFont typeface="Bookman Old Style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Bookman Old Style"/>
              </a:rPr>
              <a:t>Walau kita jahat di hadapan Tuhan, tetapi </a:t>
            </a:r>
            <a:r>
              <a:rPr b="1" i="1" lang="en-US" sz="2800" spc="-1" strike="noStrike" u="sng">
                <a:solidFill>
                  <a:srgbClr val="990000"/>
                </a:solidFill>
                <a:uFillTx/>
                <a:latin typeface="Bookman Old Style"/>
              </a:rPr>
              <a:t>Tuhan tetap mengasihi ki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1981080" y="3581280"/>
            <a:ext cx="6934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80000"/>
              <a:buFont typeface="Bookman Old Style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Bookman Old Style"/>
              </a:rPr>
              <a:t>Allah kaya dengan rahmatNYA, sehingga </a:t>
            </a:r>
            <a:r>
              <a:rPr b="1" i="1" lang="en-US" sz="2800" spc="-1" strike="noStrike" u="sng">
                <a:solidFill>
                  <a:srgbClr val="990000"/>
                </a:solidFill>
                <a:uFillTx/>
                <a:latin typeface="Bookman Old Style"/>
              </a:rPr>
              <a:t>melalui kematian Tuhan Yesus, roh kita yang mati telah dihidupkanNYA kemb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fesus 2 : 6-10</a:t>
            </a:r>
            <a:r>
              <a:rPr b="1" i="1" lang="en-US" sz="2600" spc="-1" strike="noStrike">
                <a:solidFill>
                  <a:srgbClr val="000099"/>
                </a:solidFill>
                <a:latin typeface="Times New Roman"/>
              </a:rPr>
              <a:t>       Hasil dari Karya ALLAH di dalam KasihNYA</a:t>
            </a:r>
            <a:endParaRPr b="0" i="1" lang="en-US" sz="2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981080" y="1828440"/>
            <a:ext cx="6934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0000"/>
              <a:buFont typeface="Bookman Old Style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Bookman Old Style"/>
              </a:rPr>
              <a:t>Karena kasih Allah, kita yang percaya kepadaNYA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00"/>
                </a:solidFill>
                <a:latin typeface="Bookman Old Style"/>
              </a:rPr>
              <a:t>telah dibangkitkan secara rohani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00"/>
                </a:solidFill>
                <a:latin typeface="Bookman Old Style"/>
              </a:rPr>
              <a:t>bahkan diberi tempat bersama-sama Allah di Surg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1981080" y="3809880"/>
            <a:ext cx="69343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0000"/>
              <a:buFont typeface="Bookman Old Style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Bookman Old Style"/>
              </a:rPr>
              <a:t>Jika akhirnya, kita diselamatka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00"/>
                </a:solidFill>
                <a:latin typeface="Bookman Old Style"/>
              </a:rPr>
              <a:t>itu bukan karena kebaikan ki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00"/>
                </a:solidFill>
                <a:latin typeface="Bookman Old Style"/>
              </a:rPr>
              <a:t>Itu bukan hasil usaha ki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00"/>
                </a:solidFill>
                <a:latin typeface="Bookman Old Style"/>
              </a:rPr>
              <a:t>Itu adalah Rahmat Alla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00"/>
                </a:solidFill>
                <a:latin typeface="Bookman Old Style"/>
              </a:rPr>
              <a:t>Itu adalah hasil karya Allah di dalam kasihNYA kepada ki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9T01:53:18Z</dcterms:created>
  <dc:creator>Bambang Kushandoko</dc:creator>
  <dc:description/>
  <dc:language>en-US</dc:language>
  <cp:lastModifiedBy>Windows 98</cp:lastModifiedBy>
  <dcterms:modified xsi:type="dcterms:W3CDTF">2001-04-01T03:49:25Z</dcterms:modified>
  <cp:revision>101</cp:revision>
  <dc:subject/>
  <dc:title>IBM Storage Distributor Business Plan </dc:title>
</cp:coreProperties>
</file>