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D8D-7D43-4151-9AF0-15B7F7DF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252-1357-4FE8-B317-DAC17A84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DDE-9DA7-428B-96C3-046004A3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9DD-7E83-4552-8C9C-57D879F3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8FA-101F-4213-9F23-B375BA28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C7F-5418-4ECD-A091-AEC969C8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7EB-8A78-4750-A33F-0D252D74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4C7-24FB-4A5E-A1AF-EB6128E9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5A4-1A98-4D49-9621-70FE90B5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1D3-F352-411E-BF99-6F1DDF7B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01A-311A-41A3-89AD-A446870B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FF38-AF08-430B-8502-5BE06BEC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6432-97D8-46C4-9ADB-E63FAF3D9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ori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ics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Black and W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pics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403440" y="3886200"/>
            <a:ext cx="2337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09:30:27Z</dcterms:created>
  <dc:creator/>
  <dc:description/>
  <dc:language>en-US</dc:language>
  <cp:lastModifiedBy>svege</cp:lastModifiedBy>
  <dcterms:modified xsi:type="dcterms:W3CDTF">2010-09-06T10:25:51Z</dcterms:modified>
  <cp:revision>6</cp:revision>
  <dc:subject/>
  <dc:title>Picture original</dc:title>
</cp:coreProperties>
</file>