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914400" indent="-399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31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57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w Cen MT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w Cen MT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85800" y="2362320"/>
          <a:ext cx="413388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41338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17:56:56Z</dcterms:created>
  <dc:creator>cathy belleville</dc:creator>
  <dc:description/>
  <dc:language>en-US</dc:language>
  <cp:lastModifiedBy>SJ</cp:lastModifiedBy>
  <dcterms:modified xsi:type="dcterms:W3CDTF">2006-03-07T10:52:00Z</dcterms:modified>
  <cp:revision>95</cp:revision>
  <dc:subject/>
  <dc:title>graphics in presentations</dc:title>
</cp:coreProperties>
</file>