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31480" y="698400"/>
            <a:ext cx="4594680" cy="344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65360"/>
            <a:ext cx="54860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ior Management is responsible for creating and maintaining the Business Continuity Plan (BCP).  Departmental and front line management needs to focus on employee &amp; customer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45B-A875-4223-BEC2-F736A85E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A36-CAB9-4430-B455-989D7F3C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186-7DF0-462C-9C46-34E59D5B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18B-E679-4808-BB8A-E6D482AE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3EF-652D-4039-8CCF-53EE7765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27E-684D-42DD-826A-DCE5DFD1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A79-D1B9-40C9-AF8A-68A867A6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22C-8341-43C3-AD72-7EA08A90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EF8-168D-4D25-8682-1651EB71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6D2-22D7-45C5-9470-C859B6B5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644-CBDD-4E79-B7A2-95698D9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974-1EF6-487D-8E15-DAE87E8B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B371-5D1D-435B-9C4D-520F951D5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70040" y="5538960"/>
            <a:ext cx="5612040" cy="34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2960" y="5891040"/>
            <a:ext cx="755172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7080" y="1536840"/>
            <a:ext cx="1600200" cy="373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8880" y="1530360"/>
            <a:ext cx="1582920" cy="36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5200" y="711360"/>
            <a:ext cx="7558200" cy="81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7800" y="806400"/>
            <a:ext cx="7512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ONTINUITY PLANNING (B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N INTEGRATED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9040" y="5910120"/>
            <a:ext cx="751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IC, FFIEC &amp; OCC 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4200" y="5270400"/>
            <a:ext cx="161100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3200" y="1662120"/>
            <a:ext cx="17571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/DEPT EMERGENCY ACTION P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e Prevention,  HAZMAT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orism Pla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3240" y="3440160"/>
            <a:ext cx="1792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3454560"/>
            <a:ext cx="15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5880" y="3652920"/>
            <a:ext cx="155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6160" y="3859200"/>
            <a:ext cx="156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5000" y="4057560"/>
            <a:ext cx="157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6160" y="4424400"/>
            <a:ext cx="157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2920" y="4862520"/>
            <a:ext cx="1461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CU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Employe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amp; Customer Safe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5000" y="482436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7960" y="5330880"/>
            <a:ext cx="1533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HA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65600" y="1662120"/>
            <a:ext cx="153972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/DEPT CRISIS MANAGEMENT PLANS (BR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e manage a crisis that MIGHT turn into a true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55800" y="3919680"/>
            <a:ext cx="1621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IDENT CONTAIN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05120" y="4824360"/>
            <a:ext cx="15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2640" y="4843440"/>
            <a:ext cx="1473120" cy="4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CU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Decision Making Process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06560" y="4313160"/>
            <a:ext cx="158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54360" y="4265640"/>
            <a:ext cx="16207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PONSIBILITIE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IFICATIONS  &amp; ACTIV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4040" y="3560760"/>
            <a:ext cx="13464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ITIAL  DAM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811600" y="3944520"/>
            <a:ext cx="15508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7720" y="3522600"/>
            <a:ext cx="155268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26360" y="1531800"/>
            <a:ext cx="252360" cy="368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723920" y="3246480"/>
            <a:ext cx="3679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l Records &amp; Critical Vendor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65600" y="1530360"/>
            <a:ext cx="1577880" cy="368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662120"/>
            <a:ext cx="14637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/DEPT BUSINESS  RESUMPTION P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RP &amp; MSL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64160" y="4818240"/>
            <a:ext cx="15699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59480" y="4300560"/>
            <a:ext cx="16048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5080" y="3211560"/>
            <a:ext cx="16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0400" y="319104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VERY STRATEGIES APPROVED BY SR.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53000" y="4270320"/>
            <a:ext cx="1600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EMENT GUIDANCE &amp; ANALY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51200" y="3919680"/>
            <a:ext cx="15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24520" y="1528920"/>
            <a:ext cx="567000" cy="37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67640" y="1536840"/>
            <a:ext cx="252360" cy="368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5610960" y="3528000"/>
            <a:ext cx="297180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formation Systems, Telecommun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l Room  and Item Proces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06560" y="3149640"/>
            <a:ext cx="155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595560" y="3321000"/>
            <a:ext cx="239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ty of Company Execu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3637080"/>
            <a:ext cx="14032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35440"/>
            <a:ext cx="1168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VACU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3240" y="4016520"/>
            <a:ext cx="1792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ERGENCY RESPON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9120" y="4425840"/>
            <a:ext cx="14810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PLOYEE TRAI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5040" y="3059280"/>
            <a:ext cx="1792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CALATION TO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4720" y="3095640"/>
            <a:ext cx="15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59480" y="2763720"/>
            <a:ext cx="1600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RITTEN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VERY PLA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5080" y="2701800"/>
            <a:ext cx="16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9760" y="3902040"/>
            <a:ext cx="1548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ITICAL PROCESS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70120" y="5224320"/>
            <a:ext cx="5467320" cy="32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57600" y="5514840"/>
            <a:ext cx="534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IMPACT ANALYSI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dentify Process Owners, Information System Dependencies, Financial Impact, Maximum Allowable Downtim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90720" y="3132000"/>
            <a:ext cx="1649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 BUS. CONT. TE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94000" y="5262480"/>
            <a:ext cx="43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 &amp; VULNERABILITIES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13720" y="1728720"/>
            <a:ext cx="62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DR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4800600"/>
            <a:ext cx="16761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CU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Customers &amp; Business Reven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6172200"/>
            <a:ext cx="777240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6248520"/>
            <a:ext cx="723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AND BUSINESS UNIT 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6T15:38:13Z</dcterms:created>
  <dc:creator>Carl M. Evans</dc:creator>
  <dc:description/>
  <dc:language>en-US</dc:language>
  <cp:lastModifiedBy>Carl M. Evans</cp:lastModifiedBy>
  <cp:lastPrinted>2000-05-09T18:18:05Z</cp:lastPrinted>
  <dcterms:modified xsi:type="dcterms:W3CDTF">2004-09-13T20:04:26Z</dcterms:modified>
  <cp:revision>20</cp:revision>
  <dc:subject/>
  <dc:title>BCP Pillar Chart</dc:title>
</cp:coreProperties>
</file>