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5D1-2652-4435-A9DD-82E740E2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E0F-1118-4070-A524-B9C24F7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EE1-B142-4EFB-983F-1E2800A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384-ABA0-4B9F-80D2-91C5474A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BFA-EFAA-4B7A-8188-3613AA8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645-2875-41AA-90C3-7DA3368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5D5-85C9-4BD3-9803-0744D17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324-9D45-41DB-8276-B2C0F00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AFF-16C4-4A85-BEE9-68DA06A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13A-F669-42B1-A2E8-BE37B79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684-3CF2-4577-A7F6-3B9808E5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D63-80A7-4963-A694-B722BEB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2321-BB46-48E7-9AEE-E0EC9D72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716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9:56:16Z</dcterms:created>
  <dc:creator>crystal</dc:creator>
  <dc:description/>
  <dc:language>en-US</dc:language>
  <cp:lastModifiedBy>crystal</cp:lastModifiedBy>
  <dcterms:modified xsi:type="dcterms:W3CDTF">2012-06-08T01:37:34Z</dcterms:modified>
  <cp:revision>2</cp:revision>
  <dc:subject/>
  <dc:title>Slide 1</dc:title>
</cp:coreProperties>
</file>