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FCB45-23AF-434B-A9DB-1E81EC67C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63E9B-B04A-42DC-B133-785F3E61D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50850-0C7F-4A82-A77A-6673D746A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A3750-3611-42B6-8A54-15D74087E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310C0-C4BE-46E2-BE8C-582A6BC0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92DA7-7E63-4528-BCFD-FD3C9590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A650C-8CBD-494B-B18D-54CDCB18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C1D59-925E-4546-8C9B-60240F26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B5F77-65DF-45FC-82C4-2B0A7756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2952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4B38A-F9A6-4D5A-BA83-54570A32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4B4E0-5D51-4701-8288-2B8E8FA5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49A8A-2774-4E14-ACAB-502EB7DF2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991CA-F756-4AB9-9A9C-D8CC87BD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81BF8-5385-414D-9C55-53FBE30D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E3A18-6706-48EA-B8F6-2E5C43C5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C3AE9-4633-4A9C-A3B1-8B85A8DE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DD35B-323C-4892-B98B-C1374505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C743A-0DDC-4EE0-82D1-602F2EC35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FD254-E394-4D97-A9D8-8F519AACC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46CDF-414C-4145-992A-8A3A5C424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2952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7984C-A513-4F7A-8170-0AB0365E3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059BE-806A-4EA3-AA58-2ACE31465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0DA0-6B5B-4007-ACC9-548EF00E3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2F8CB-CFA6-4EC2-9D59-9C6715A6B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006200"/>
            <a:ext cx="7804080" cy="50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95560" y="6361200"/>
            <a:ext cx="57686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60960" y="6327360"/>
            <a:ext cx="19047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</a:t>
            </a:r>
            <a:fld id="{F015E028-92A0-47C5-BBA9-65930DFCF60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0280" y="101520"/>
            <a:ext cx="152280" cy="6550200"/>
            <a:chOff x="260280" y="101520"/>
            <a:chExt cx="152280" cy="6550200"/>
          </a:xfrm>
        </p:grpSpPr>
        <p:sp>
          <p:nvSpPr>
            <p:cNvPr id="5" name=""/>
            <p:cNvSpPr/>
            <p:nvPr/>
          </p:nvSpPr>
          <p:spPr>
            <a:xfrm>
              <a:off x="260280" y="1692360"/>
              <a:ext cx="152280" cy="15372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60280" y="1922400"/>
              <a:ext cx="152280" cy="1540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60280" y="2149560"/>
              <a:ext cx="152280" cy="15372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60280" y="2379600"/>
              <a:ext cx="152280" cy="1540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60280" y="2610000"/>
              <a:ext cx="152280" cy="1504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60280" y="2836800"/>
              <a:ext cx="152280" cy="1522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60280" y="3067200"/>
              <a:ext cx="152280" cy="1522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60280" y="3297240"/>
              <a:ext cx="152280" cy="14904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60280" y="3524400"/>
              <a:ext cx="152280" cy="1522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60280" y="3754440"/>
              <a:ext cx="152280" cy="1522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60280" y="3984480"/>
              <a:ext cx="152280" cy="14940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60280" y="4210200"/>
              <a:ext cx="152280" cy="15372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60280" y="4440240"/>
              <a:ext cx="152280" cy="1540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60280" y="4667400"/>
              <a:ext cx="152280" cy="15372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60280" y="4897440"/>
              <a:ext cx="152280" cy="1540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60280" y="5127480"/>
              <a:ext cx="152280" cy="15084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60280" y="5354640"/>
              <a:ext cx="152280" cy="1540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60280" y="5584680"/>
              <a:ext cx="152280" cy="1540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60280" y="5815080"/>
              <a:ext cx="152280" cy="15084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60280" y="6041880"/>
              <a:ext cx="152280" cy="1540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60280" y="6272280"/>
              <a:ext cx="152280" cy="1522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60280" y="6500880"/>
              <a:ext cx="152280" cy="15084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60280" y="101520"/>
              <a:ext cx="152280" cy="14940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60280" y="328680"/>
              <a:ext cx="152280" cy="1522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60280" y="558720"/>
              <a:ext cx="152280" cy="15264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60280" y="787320"/>
              <a:ext cx="152280" cy="15084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60280" y="1014480"/>
              <a:ext cx="152280" cy="1540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60280" y="1244520"/>
              <a:ext cx="152280" cy="1540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60280" y="1474920"/>
              <a:ext cx="152280" cy="15084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4" name=""/>
          <p:cNvGraphicFramePr/>
          <p:nvPr/>
        </p:nvGraphicFramePr>
        <p:xfrm>
          <a:off x="0" y="0"/>
          <a:ext cx="860400" cy="91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604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96A7-9E42-43AA-BC50-FF56BB4E41B9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7C1C-BB69-481E-972F-024811126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581280" y="6396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84200" y="2166840"/>
          <a:ext cx="865980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4200" y="2166840"/>
                    <a:ext cx="8659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4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itle Text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5T12:25:18Z</dcterms:created>
  <dc:creator>Colin Taylor</dc:creator>
  <dc:description/>
  <dc:language>en-US</dc:language>
  <cp:lastModifiedBy>Alan Quirt</cp:lastModifiedBy>
  <cp:lastPrinted>1999-10-29T01:59:26Z</cp:lastPrinted>
  <dcterms:modified xsi:type="dcterms:W3CDTF">2006-07-17T15:03:44Z</dcterms:modified>
  <cp:revision>188</cp:revision>
  <dc:subject/>
  <dc:title>No Slide Title</dc:title>
</cp:coreProperties>
</file>