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8590F-5CB1-485D-8622-229096BF6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27160" y="752400"/>
            <a:ext cx="552780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A47-F805-43C2-A7FF-4C230E14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B45-1FFB-4C8D-91BB-9522FA98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D8F-0575-4D79-B794-6492C293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92A-B8FD-4E4B-BAC2-19B9F586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F33-606F-41F1-9AF0-C2C07D3E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701-9B74-4C5E-815C-3F8B37E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C73-9AB9-4072-B0AC-F54DE869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C75-7EC5-4013-A371-01E2319E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404-D4C1-454E-8E23-D965D60E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160-D00E-4078-9AC0-A09E82D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BA5-8B69-488F-857F-5D1E765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01C-D7B5-4414-9FC4-03B0818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1B227-99C8-4257-97E7-528F53D3F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1260360"/>
            <a:ext cx="4173480" cy="4602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Catchpole</cp:lastModifiedBy>
  <dcterms:modified xsi:type="dcterms:W3CDTF">2005-05-04T13:02:38Z</dcterms:modified>
  <cp:revision>1</cp:revision>
  <dc:subject/>
  <dc:title>Slide 1</dc:title>
</cp:coreProperties>
</file>