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CB2-F990-48E2-ADA4-02A2C31C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565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2360"/>
            <a:ext cx="77565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874-28A6-466A-B146-6DBA2CD3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236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560" y="412236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650-58C0-4D16-9AD6-C79D5B3B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400" y="198108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1000" y="198108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236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400" y="412236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1000" y="412236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825-C860-4187-8196-12D11C6E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56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288-044B-479E-9984-6728DC2B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56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174-04ED-4787-8D16-9335D5C8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BC6-F358-4026-A40C-40463A52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DE4-B697-44EE-8BFC-EC221773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565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0B3C-71EA-495F-80DB-38CAC4C7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236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87B-FE84-45EB-8518-7AC410F5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560" y="412236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D66-8C90-43CD-BBF3-8E9B53ED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2360"/>
            <a:ext cx="77565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1A2-FAD2-48BA-B72A-88E8F18E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74802"/>
                </a:solidFill>
                <a:latin typeface="Frutiger-Bold"/>
              </a:rPr>
              <a:t>Click to edit the title text format</a:t>
            </a: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56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-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  <a:p>
            <a:pPr lvl="1" marL="343080" indent="-343080">
              <a:lnSpc>
                <a:spcPct val="9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-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  <a:p>
            <a:pPr lvl="2" marL="343080" indent="-343080">
              <a:lnSpc>
                <a:spcPct val="9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-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  <a:p>
            <a:pPr lvl="3" marL="343080" indent="-343080">
              <a:lnSpc>
                <a:spcPct val="9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-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  <a:p>
            <a:pPr lvl="4" marL="343080" indent="-343080">
              <a:lnSpc>
                <a:spcPct val="9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-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  <a:p>
            <a:pPr lvl="5" marL="343080" indent="-343080">
              <a:lnSpc>
                <a:spcPct val="9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-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  <a:p>
            <a:pPr lvl="6" marL="343080" indent="-343080">
              <a:lnSpc>
                <a:spcPct val="9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-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40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600" spc="-1" strike="noStrike">
                <a:solidFill>
                  <a:srgbClr val="000000"/>
                </a:solidFill>
                <a:latin typeface="Frutiger-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Frutiger-Light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400"/>
            <a:ext cx="28800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600" spc="-1" strike="noStrike">
                <a:solidFill>
                  <a:srgbClr val="000000"/>
                </a:solidFill>
                <a:latin typeface="Frutiger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Frutiger-Light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629400"/>
            <a:ext cx="10508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000000"/>
                </a:solidFill>
                <a:latin typeface="Frutiger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3CC08-1B93-4EF3-981C-7284DC5687F2}" type="slidenum">
              <a:rPr b="0" lang="en-US" sz="900" spc="-1" strike="noStrike">
                <a:solidFill>
                  <a:srgbClr val="000000"/>
                </a:solidFill>
                <a:latin typeface="Frutiger-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731520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rot="16200000">
            <a:off x="1906560" y="-404640"/>
            <a:ext cx="179280" cy="32050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Riesgo - Impa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8446320" y="819720"/>
            <a:ext cx="179280" cy="7556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Situación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6689520" y="-128160"/>
            <a:ext cx="169920" cy="26650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Acción -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4929840" y="819720"/>
            <a:ext cx="179280" cy="7556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Criticidad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4024080" y="730080"/>
            <a:ext cx="179280" cy="934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Probabilidad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5840" y="12600"/>
            <a:ext cx="183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57312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500" spc="-1" strike="noStrike">
                <a:solidFill>
                  <a:srgbClr val="f74802"/>
                </a:solidFill>
                <a:latin typeface="Frutiger-Bold"/>
              </a:rPr>
              <a:t>Proyecto ERP - Control de riesg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BC5-5938-48FE-9944-19A6DFCCDB6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1832760" y="-367200"/>
            <a:ext cx="179280" cy="3168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Riesgo - Impa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338320" y="840240"/>
            <a:ext cx="179640" cy="7556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Situación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6581880" y="-109080"/>
            <a:ext cx="169920" cy="26654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Acción -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821840" y="840240"/>
            <a:ext cx="179640" cy="7556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Criticidad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3936960" y="750600"/>
            <a:ext cx="179640" cy="934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Probabilidad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15840" y="12600"/>
            <a:ext cx="183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6360" y="62064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500" spc="-1" strike="noStrike">
                <a:solidFill>
                  <a:srgbClr val="f74802"/>
                </a:solidFill>
                <a:latin typeface="Frutiger-Bold"/>
              </a:rPr>
              <a:t>Proyecto ERP - Control de riesg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01E-D970-4EC8-9DED-5A2A4097239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EAM</dc:creator>
  <dc:description/>
  <dc:language>en-US</dc:language>
  <cp:lastModifiedBy>ineam</cp:lastModifiedBy>
  <dcterms:modified xsi:type="dcterms:W3CDTF">2008-11-28T08:29:41Z</dcterms:modified>
  <cp:revision>15</cp:revision>
  <dc:subject/>
  <dc:title>Comité Informática</dc:title>
</cp:coreProperties>
</file>