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ECB-77A9-4B2A-B425-024C12E7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6F2-A8FB-4562-87DC-B7E7D9F3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7CA-B1EC-4D46-9511-E8986B45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60D-BC5E-494D-B610-81BEF7CB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4C8-CCAC-4BB5-BD87-841DD1A6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5CB-E366-4479-8091-ABFED781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FB0-EDFF-4D50-80FF-D36C72C9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D35-B7A7-4F33-8567-3A4CBE2C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E1A-7C54-4945-A71E-B38802E9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920-8BA6-47D7-92A2-300DFD74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AD3-BF0E-4D49-B204-5F5D08C4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551-52C8-4415-AC8E-328F781F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0EFA-7D2D-4CF0-AD11-37BA365585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Century Gothic"/>
              </a:rPr>
              <a:t>HAVE YOU SEEN MY CAT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Century Gothic"/>
              </a:rPr>
              <a:t>Please help me find him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Century Gothic"/>
              </a:rPr>
              <a:t>This is the last photo taken of him before he vanish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12682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THANK YOU FOR YOU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</cp:lastModifiedBy>
  <dcterms:modified xsi:type="dcterms:W3CDTF">2005-11-17T07:48:23Z</dcterms:modified>
  <cp:revision>4</cp:revision>
  <dc:subject/>
  <dc:title>PowerPoint Presentation</dc:title>
</cp:coreProperties>
</file>