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51A-4870-4086-8670-52D9D816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AD9-EFE5-4588-80F0-CB356DBC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647-A188-4420-9A93-24E9C41F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B1E0-EAB5-428A-AAC8-E22B2A8A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0E4F-B640-40F7-8333-77F0FF60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9590-5AB6-4C2F-9C1D-40195978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010-6E9E-4556-8132-A2025B09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F9A-2DCE-426E-98B0-BBB8347A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0936-6434-4336-9F1F-F0A1E836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B52-F0FC-4D12-A778-362C8127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F53-AD3E-4FC1-8879-148C22CF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64C-F59F-4F4B-ACA5-E97C1CF6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79BA-20A3-4280-99D8-2D4299BDD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calc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hyperlink" Target="file:///tmp/home/.config/libreoffice/4/user/gallery/whoosh.wav" TargetMode="Externa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over -&gt; Hyperlink to Sli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228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click -&gt; Run program -&gt; cal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Environment (system) variable PATH includes needed 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24680" y="1219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S00580_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09480"/>
            <a:ext cx="190656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over -&gt; Hyperlink to U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2666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E01832_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67616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click -&gt; Show Obje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over -&gt; Play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 when mouse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4191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914400"/>
          <a:ext cx="2362320" cy="1370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2362320" cy="13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934320" y="12193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EN00349_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914400"/>
            <a:ext cx="22986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click -&gt; Run Macro -&gt; message 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705720" y="5715000"/>
            <a:ext cx="186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End Sh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8:47:38Z</dcterms:created>
  <dc:creator>a</dc:creator>
  <dc:description/>
  <dc:language>en-US</dc:language>
  <cp:lastModifiedBy>a</cp:lastModifiedBy>
  <dcterms:modified xsi:type="dcterms:W3CDTF">2011-09-17T09:25:02Z</dcterms:modified>
  <cp:revision>4</cp:revision>
  <dc:subject/>
  <dc:title>1</dc:title>
</cp:coreProperties>
</file>