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133-0274-419E-A429-48A73EAA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183-4341-4EEB-8D57-360EFEA8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CA8-AD25-48AF-BB26-CD2F872E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F39-2458-45AC-9A4A-5588EB71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143-EEEB-47B0-BBDE-A7992E08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5B9-8F61-48BA-9BA4-28FF5B9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DB2-5D13-4F4B-81AD-74F183B4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0E1-0137-4A57-805C-D571C5EA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F5E-CB15-43CD-B0FD-3EDE0470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0A3-BE9D-4625-A0AC-BD3DE43A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F76-175C-4B55-B009-A9705F01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F6F-C49B-4BCA-87C2-E34CAB75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F6C-C91D-4E19-AEB9-5123295DFC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on</cp:lastModifiedBy>
  <dcterms:modified xsi:type="dcterms:W3CDTF">2005-04-15T08:29:04Z</dcterms:modified>
  <cp:revision>9</cp:revision>
  <dc:subject/>
  <dc:title>PowerPoint Presentation</dc:title>
</cp:coreProperties>
</file>