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EF0-D6D3-4DCF-B584-9928B7CA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C17-36D6-460F-A2F5-0F46D7F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5E3-621A-47CF-A6ED-A4EC876A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622-DA0B-4998-9401-1EF654D2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29-A445-4898-9B21-758A71B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C33-EEC9-40DD-BBC2-2525FEAF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FD6-1809-4CC3-8724-E679F97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7D4-F6F3-4F0B-91B0-F7D306B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CCE-54C5-4578-9DA5-06F5C1B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AF8-9F0F-4E32-8C72-5170300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4D0-B2BD-483A-BA69-37446FE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E1F-A87A-4152-8D32-AAE6F3E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E23-1749-4629-81F2-8FC0C08AB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95640" y="531720"/>
          <a:ext cx="5497560" cy="1457280"/>
        </p:xfrm>
        <a:graphic>
          <a:graphicData uri="http://schemas.openxmlformats.org/drawingml/2006/table">
            <a:tbl>
              <a:tblPr/>
              <a:tblGrid>
                <a:gridCol w="866880"/>
                <a:gridCol w="463068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case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FC30EP1_PPT_OLE2180(Chart_are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FC\FFC with MS office\Interoperability Support Enhancement Phase I\OLE In-Place Editing\SD\MS Excel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hart_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195640" y="180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95640" y="1989000"/>
          <a:ext cx="434340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343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11:38Z</dcterms:created>
  <dc:creator>Jason Zhu</dc:creator>
  <dc:description/>
  <dc:language>en-US</dc:language>
  <cp:lastModifiedBy>Jason Zhu</cp:lastModifiedBy>
  <dcterms:modified xsi:type="dcterms:W3CDTF">2005-12-06T05:55:03Z</dcterms:modified>
  <cp:revision>21</cp:revision>
  <dc:subject/>
  <dc:title>Slide 1</dc:title>
</cp:coreProperties>
</file>