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045D-5E06-4465-98A9-B3785BAB2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6E5D-F06C-47A1-9EBD-E4FA1773F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415A-22F8-44CD-82C4-8AC8FE5AB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47D6-2134-4CEE-806F-0F676C23D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B71C-FA98-4886-93EB-1E2F10F7E2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1788A-145E-465B-9C17-2D9A32492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AA714-EB2A-4A88-89C9-1A3100C37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974A7-DB52-496D-8A0D-3E7D86F56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DA77-DE64-477A-85C6-92CB8EEDE6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4AC59-587B-4C17-86BD-4B910D2DF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D471A-A54C-4F04-9031-14F69177E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0BD8-BC0B-475D-8AA4-1185A8972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EB537-FBF2-43E0-AC45-CFAC9E6FE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1D8B4-CCF8-44D2-8AA6-B44492AAF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CF40-A899-4F41-AD4A-413D299DB1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DFD54-8FBA-4BE8-92B2-5391A7323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DBFA-DF43-409D-9EE0-C61260BC4C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E302A-E849-4EED-BFC4-2C3A7F6C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5A7CB-5341-47D6-ABDE-02F5D7A5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4B471-0456-4819-858C-0A2729F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C75AF-17DE-4BAB-8B35-66EEF7E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EC3FB-6CE0-44F8-891A-3BC81FB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5B6C-AD73-497C-A2AE-E4C010B4C0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A72AB-D462-4BD3-84CB-4FDF5122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EEF23-3E94-48E1-AADD-30495BF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A22BB-06BC-4D91-85F7-2E2991D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ED61D-9229-4DC4-9A08-ED89AF1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D4B63-1251-4121-AEC6-CC9C323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B41BF-15C6-4798-83F2-87BA8C67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C9173-02C7-4DD8-ADEE-A9AE5AD4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51BA-249F-46BD-BA56-2560A9506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4348-E97E-4515-9ADC-C2E5B08C1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9B53-3422-4AE1-998F-C5D402ABE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180A-AF2A-4F86-AE70-B07C5ED87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505F-75E1-4E1E-A8A9-827F60C14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3810-3C5D-471D-8729-45DCBEC0B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3D5-1D00-4BBA-AD65-3A43D6F2CFC5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90DA-2B74-4E92-95B0-FBC8B25132C5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D99-4DDF-4C1F-8E3D-1A2E95E59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16200" y="1774800"/>
            <a:ext cx="6273720" cy="3341520"/>
            <a:chOff x="1816200" y="1774800"/>
            <a:chExt cx="6273720" cy="3341520"/>
          </a:xfrm>
        </p:grpSpPr>
        <p:sp>
          <p:nvSpPr>
            <p:cNvPr id="130" name="_s121907"/>
            <p:cNvSpPr/>
            <p:nvPr/>
          </p:nvSpPr>
          <p:spPr>
            <a:xfrm>
              <a:off x="4105440" y="2368440"/>
              <a:ext cx="169704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21908"/>
            <p:cNvSpPr/>
            <p:nvPr/>
          </p:nvSpPr>
          <p:spPr>
            <a:xfrm>
              <a:off x="4105440" y="17748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121909"/>
            <p:cNvSpPr/>
            <p:nvPr/>
          </p:nvSpPr>
          <p:spPr>
            <a:xfrm>
              <a:off x="4664160" y="3336840"/>
              <a:ext cx="1697040" cy="169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21910"/>
            <p:cNvSpPr/>
            <p:nvPr/>
          </p:nvSpPr>
          <p:spPr>
            <a:xfrm>
              <a:off x="6392880" y="4692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121911"/>
            <p:cNvSpPr/>
            <p:nvPr/>
          </p:nvSpPr>
          <p:spPr>
            <a:xfrm>
              <a:off x="3546360" y="3336840"/>
              <a:ext cx="1697040" cy="169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121912"/>
            <p:cNvSpPr/>
            <p:nvPr/>
          </p:nvSpPr>
          <p:spPr>
            <a:xfrm>
              <a:off x="1816200" y="4692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29:13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02T17:30:24Z</dcterms:modified>
  <cp:revision>1</cp:revision>
  <dc:subject/>
  <dc:title>Slide 1</dc:title>
</cp:coreProperties>
</file>