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C85B-85CD-4F2D-B23B-C5112A68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040-25EC-41FC-B07E-DA5B2306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7EE-D33C-4DAC-AC07-0B0FB3E3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7AF-656C-49CD-9923-902DA86F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617-70F9-4351-9FFB-62C3534D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5CE-9408-46D0-9E9C-C119A33F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F29D-EAD8-4F0F-BC24-44A7755C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357-91C7-49FC-87ED-6B95D8A8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083-EADD-4E22-86CD-A2FFAB94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626-7F1B-4AC5-B902-56775FAC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162-76A4-41BA-AFEB-C106588E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59A7-2F6B-40C7-A46E-E4F0D14B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64C4-D7C2-44CE-A6E1-78CFAA5D2ED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C429-84C8-4E9B-BBB2-2AF2089623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645480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457200" y="6515280"/>
            <a:ext cx="26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FZ 黑体简体"/>
              </a:rPr>
              <a:t>创新思考</a:t>
            </a:r>
            <a:r>
              <a:rPr b="0" lang="en-US" sz="1000" spc="-1" strike="noStrike">
                <a:solidFill>
                  <a:srgbClr val="ffffff"/>
                </a:solidFill>
                <a:latin typeface="FZ 黑体简体"/>
                <a:ea typeface="FZ 黑体简体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FZ 黑体简体"/>
              </a:rPr>
              <a:t>只为更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613800" y="270036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微软雅黑"/>
                <a:ea typeface="微软雅黑"/>
              </a:rPr>
              <a:t>tes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15080" y="6539040"/>
            <a:ext cx="13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WWW.EIS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占位符 2"/>
          <p:cNvSpPr/>
          <p:nvPr/>
        </p:nvSpPr>
        <p:spPr>
          <a:xfrm>
            <a:off x="3276720" y="3645000"/>
            <a:ext cx="5184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st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7:01:00Z</dcterms:created>
  <dc:creator>郭慧</dc:creator>
  <dc:description/>
  <dc:language>en-US</dc:language>
  <cp:lastModifiedBy>leecky</cp:lastModifiedBy>
  <dcterms:modified xsi:type="dcterms:W3CDTF">2014-03-18T07:54:48Z</dcterms:modified>
  <cp:revision>27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