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984000" cy="9284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0"/>
            <a:ext cx="6985080" cy="9285120"/>
          </a:xfrm>
          <a:custGeom>
            <a:avLst/>
            <a:gdLst>
              <a:gd name="textAreaLeft" fmla="*/ 360 w 6985080"/>
              <a:gd name="textAreaRight" fmla="*/ 6984720 w 6985080"/>
              <a:gd name="textAreaTop" fmla="*/ 360 h 9285120"/>
              <a:gd name="textAreaBottom" fmla="*/ 9284760 h 9285120"/>
            </a:gdLst>
            <a:ahLst/>
            <a:rect l="textAreaLeft" t="textAreaTop" r="textAreaRight" b="textAreaBottom"/>
            <a:pathLst>
              <a:path w="21600" h="28712">
                <a:moveTo>
                  <a:pt x="4" y="0"/>
                </a:moveTo>
                <a:arcTo wR="4" hR="4" stAng="16200000" swAng="-5400000"/>
                <a:lnTo>
                  <a:pt x="0" y="28708"/>
                </a:lnTo>
                <a:arcTo wR="4" hR="4" stAng="10800000" swAng="-5400000"/>
                <a:lnTo>
                  <a:pt x="21596" y="2871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258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3"/>
          </p:nvPr>
        </p:nvSpPr>
        <p:spPr>
          <a:xfrm>
            <a:off x="3957120" y="0"/>
            <a:ext cx="30258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72880" y="694800"/>
            <a:ext cx="4640040" cy="3481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9999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009999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31680" y="4409640"/>
            <a:ext cx="5119560" cy="41785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4"/>
          </p:nvPr>
        </p:nvSpPr>
        <p:spPr>
          <a:xfrm>
            <a:off x="-360" y="8818560"/>
            <a:ext cx="30258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5"/>
          </p:nvPr>
        </p:nvSpPr>
        <p:spPr>
          <a:xfrm>
            <a:off x="3957120" y="8818560"/>
            <a:ext cx="30258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801B98-5350-4ABB-ABFB-DBCEF06990A1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173240" y="695160"/>
            <a:ext cx="4641840" cy="3481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body"/>
          </p:nvPr>
        </p:nvSpPr>
        <p:spPr>
          <a:xfrm>
            <a:off x="931680" y="4409640"/>
            <a:ext cx="5121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1E811A-C734-4031-AE54-B96FF2AFD00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2261880"/>
            <a:ext cx="777096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9999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4A6CA7-0D71-427F-B6D9-CBBB634B61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261880"/>
            <a:ext cx="777096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9999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651EE6-1EA8-4AA6-BBB4-0F46206247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2261880"/>
            <a:ext cx="777096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9999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28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136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B2F9F3-FB05-479D-9942-162927CDFBD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61880"/>
            <a:ext cx="777096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9999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261880"/>
            <a:ext cx="777096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9999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61880"/>
            <a:ext cx="777096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9999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61880"/>
            <a:ext cx="777096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9999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2261880"/>
            <a:ext cx="7770960" cy="551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61880"/>
            <a:ext cx="777096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9999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61880"/>
            <a:ext cx="777096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9999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E441F0-1A8A-4373-BF37-54419D14C67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61880"/>
            <a:ext cx="777096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9999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61880"/>
            <a:ext cx="777096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9999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61880"/>
            <a:ext cx="777096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9999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61880"/>
            <a:ext cx="777096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9999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261880"/>
            <a:ext cx="777096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9999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28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136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61880"/>
            <a:ext cx="777096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9999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5B59BB-4B9C-4DBA-8B8A-8C263507504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2261880"/>
            <a:ext cx="777096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9999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215A59-003A-4AF7-8465-557963C14A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61880"/>
            <a:ext cx="777096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99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EE9FF8-DFDC-40C7-BF45-B96E888E3A9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2261880"/>
            <a:ext cx="7770960" cy="551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9C6F15-B3CB-45CC-A432-C73B3E1B2E6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2261880"/>
            <a:ext cx="777096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9999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2DA28A-DA3E-440C-BB3B-0900A980012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2261880"/>
            <a:ext cx="777096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9999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4CA471-578F-413E-8874-9FCB6DF708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2261880"/>
            <a:ext cx="777096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9999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91C97A-5696-43B3-9B3F-8815F1707EA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585360"/>
            <a:ext cx="777096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9999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009999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7600" indent="-327600">
              <a:lnSpc>
                <a:spcPct val="104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711360" indent="-272520">
              <a:lnSpc>
                <a:spcPct val="104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2" marL="1097280" indent="-219240">
              <a:lnSpc>
                <a:spcPct val="104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3" marL="1536120" indent="-219240">
              <a:lnSpc>
                <a:spcPct val="104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4" marL="1974960" indent="-219240">
              <a:lnSpc>
                <a:spcPct val="104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5" marL="1974960" indent="-219240">
              <a:lnSpc>
                <a:spcPct val="104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6" marL="1974960" indent="-219240">
              <a:lnSpc>
                <a:spcPct val="104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85800" y="6400440"/>
            <a:ext cx="77709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1" lang="en-GB" sz="1000" spc="-1" strike="noStrike">
                <a:solidFill>
                  <a:srgbClr val="000000"/>
                </a:solidFill>
                <a:latin typeface="Arial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footer&gt;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Lucida Sans Unicode"/>
              </a:rPr>
              <a:t>© Cable Television Laboratories, Inc. 2005.  All Rights Reserved. Proprietary/Confidenti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705720" y="0"/>
            <a:ext cx="2438280" cy="15228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6934320" y="228600"/>
            <a:ext cx="2074680" cy="31284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7314840" y="6248160"/>
            <a:ext cx="114156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5C8E52D-9B76-4DFC-83F4-FFCEDB264A51}" type="slidenum">
              <a:rPr b="0" lang="en-GB" sz="14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61880"/>
            <a:ext cx="777096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9999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009999"/>
              </a:solidFill>
              <a:latin typeface="Verdana"/>
            </a:endParaRPr>
          </a:p>
        </p:txBody>
      </p:sp>
      <p:sp>
        <p:nvSpPr>
          <p:cNvPr id="44" name=""/>
          <p:cNvSpPr/>
          <p:nvPr/>
        </p:nvSpPr>
        <p:spPr>
          <a:xfrm>
            <a:off x="6705720" y="0"/>
            <a:ext cx="2438280" cy="15228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934320" y="228600"/>
            <a:ext cx="2074680" cy="31284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104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741240" indent="-284040">
              <a:lnSpc>
                <a:spcPct val="104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lnSpc>
                <a:spcPct val="104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3" marL="1600200" indent="-228600">
              <a:lnSpc>
                <a:spcPct val="104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4" marL="2057400" indent="-228600">
              <a:lnSpc>
                <a:spcPct val="104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5" marL="2057400" indent="-228600">
              <a:lnSpc>
                <a:spcPct val="104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6" marL="2057400" indent="-228600">
              <a:lnSpc>
                <a:spcPct val="104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533160" y="4495680"/>
            <a:ext cx="792468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rebuchet MS"/>
              </a:rPr>
              <a:t>By </a:t>
            </a:r>
            <a:r>
              <a:rPr b="0" lang="en-GB" sz="2800" spc="-1" strike="noStrike">
                <a:solidFill>
                  <a:srgbClr val="000000"/>
                </a:solidFill>
                <a:latin typeface="Trebuchet MS"/>
              </a:rPr>
              <a:t>Deepak Kharbanda and Jean-François Mulé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rebuchet MS"/>
              </a:rPr>
              <a:t>July 27, 2005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title"/>
          </p:nvPr>
        </p:nvSpPr>
        <p:spPr>
          <a:xfrm>
            <a:off x="228600" y="1592280"/>
            <a:ext cx="8610480" cy="19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Verdana"/>
              </a:rPr>
              <a:t>DOCSIS 3.0 IPv6</a:t>
            </a:r>
            <a:br>
              <a:rPr sz="4000"/>
            </a:br>
            <a:r>
              <a:rPr b="1" lang="en-GB" sz="4000" spc="-1" strike="noStrike">
                <a:solidFill>
                  <a:srgbClr val="000000"/>
                </a:solidFill>
                <a:latin typeface="Verdana"/>
              </a:rPr>
              <a:t>Requirements for a</a:t>
            </a:r>
            <a:br>
              <a:rPr sz="4000"/>
            </a:br>
            <a:r>
              <a:rPr b="1" lang="en-GB" sz="4000" spc="-1" strike="noStrike">
                <a:solidFill>
                  <a:srgbClr val="000000"/>
                </a:solidFill>
                <a:latin typeface="Verdana"/>
              </a:rPr>
              <a:t>Lightweight IPv6 Router </a:t>
            </a:r>
            <a:endParaRPr b="1" lang="en-US" sz="4000" spc="-1" strike="noStrike">
              <a:solidFill>
                <a:srgbClr val="009999"/>
              </a:solidFill>
              <a:latin typeface="Verdana"/>
            </a:endParaRPr>
          </a:p>
        </p:txBody>
      </p:sp>
    </p:spTree>
  </p:cSld>
  <p:transition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