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51B-0603-457A-A3B4-B18DCEA9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A91-C98D-49D9-9550-AA17DEB1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D0A-9209-46AD-92AE-B0F76039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875-5AB4-49AD-AE61-F473E71E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689-6C4C-466A-A024-B80E2FA7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FA1-872F-4F67-913D-B112EB2F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DC9-05B4-461E-B5EE-6AA06C10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8C0-6F83-45A9-850B-8B994979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64E-5ACB-4E0B-91A2-FFC19F30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746-1AAC-4D47-B59A-A759136C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972-8342-49AB-875A-63716BA1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407-D957-40D1-A3B0-53A652CA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FA0A-ADE3-4D8F-B63F-056E1C565C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920" y="762120"/>
            <a:ext cx="3810240" cy="253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se Name: Line_Curve_0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unction Name: SD\Line\Curve\Line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erify Point: Line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operty Value: Dash 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ile Name: FFC30FFCSD_Line_Curve_0180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8800" y="4221000"/>
            <a:ext cx="3971880" cy="1800360"/>
          </a:xfrm>
          <a:custGeom>
            <a:avLst/>
            <a:gdLst/>
            <a:ahLst/>
            <a:rect l="l" t="t" r="r" b="b"/>
            <a:pathLst>
              <a:path w="2502" h="1134">
                <a:moveTo>
                  <a:pt x="787" y="0"/>
                </a:moveTo>
                <a:cubicBezTo>
                  <a:pt x="930" y="522"/>
                  <a:pt x="1074" y="1044"/>
                  <a:pt x="1195" y="1089"/>
                </a:cubicBezTo>
                <a:cubicBezTo>
                  <a:pt x="1316" y="1134"/>
                  <a:pt x="1693" y="385"/>
                  <a:pt x="1512" y="272"/>
                </a:cubicBezTo>
                <a:cubicBezTo>
                  <a:pt x="1331" y="159"/>
                  <a:pt x="0" y="295"/>
                  <a:pt x="106" y="408"/>
                </a:cubicBezTo>
                <a:cubicBezTo>
                  <a:pt x="212" y="521"/>
                  <a:pt x="1792" y="1013"/>
                  <a:pt x="2147" y="953"/>
                </a:cubicBezTo>
                <a:cubicBezTo>
                  <a:pt x="2502" y="893"/>
                  <a:pt x="2283" y="30"/>
                  <a:pt x="2238" y="45"/>
                </a:cubicBezTo>
                <a:cubicBezTo>
                  <a:pt x="2193" y="60"/>
                  <a:pt x="1837" y="1020"/>
                  <a:pt x="1875" y="1043"/>
                </a:cubicBezTo>
                <a:cubicBezTo>
                  <a:pt x="1913" y="1066"/>
                  <a:pt x="2367" y="325"/>
                  <a:pt x="2465" y="18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6:54:08Z</dcterms:created>
  <dc:creator>aaa</dc:creator>
  <dc:description/>
  <dc:language>en-US</dc:language>
  <cp:lastModifiedBy>crystal</cp:lastModifiedBy>
  <dcterms:modified xsi:type="dcterms:W3CDTF">2012-06-05T02:21:09Z</dcterms:modified>
  <cp:revision>3</cp:revision>
  <dc:subject/>
  <dc:title>Slide 1</dc:title>
</cp:coreProperties>
</file>