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3CA-1631-45E3-9EEE-A75E2C9B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0B5-EDA4-4A91-B927-3B75EA7A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F62-38F4-4314-9F04-83641736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10B-4D00-49AA-9EAB-08181590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60B-CB10-4AE5-B679-89923331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829-82CD-496D-A5EE-D88010F7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976-C7AE-46E7-98B1-CC14B93B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011-4ECC-49E1-9514-51821B26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301680"/>
            <a:ext cx="79707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313-124A-44ED-B6B0-71595E84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165-779E-48F5-A0D4-45805FCA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61D-F397-4E5B-B143-13AC4B89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55D-52C9-40BE-857D-26F65235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528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727280" indent="-216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32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320"/>
            <a:ext cx="3192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32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56419-B5BF-4E44-82C1-E89C05DBB68A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95360" y="533520"/>
            <a:ext cx="110484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600200"/>
            <a:ext cx="10077480" cy="92160"/>
          </a:xfrm>
          <a:prstGeom prst="roundRect">
            <a:avLst>
              <a:gd name="adj" fmla="val 172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ndards.freedesktop.org/menu-spec/" TargetMode="External"/><Relationship Id="rId2" Type="http://schemas.openxmlformats.org/officeDocument/2006/relationships/hyperlink" Target="http://standards.freedesktop.org/desktop-entry-spec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301680"/>
            <a:ext cx="79725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"/>
              </a:rPr>
              <a:t>Application Menu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9760"/>
            <a:ext cx="9069480" cy="58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Gnome &amp; KDE use the same FreeDesktop.org standar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e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http://standards.freedesktop.org/menu-spec/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All entries are represented by a .desktop fil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e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itstream Vera Sans"/>
                <a:hlinkClick r:id="rId2"/>
              </a:rPr>
              <a:t>http://standards.freedesktop.org/desktop-entry-spec/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Install under /usr/share/application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Location in Application menu determined by Category as listed in .desktop fil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OSV includes applications.menu file that determines layout of Application menu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aldo Bastian</dc:creator>
  <dc:description/>
  <dc:language>en-US</dc:language>
  <cp:lastModifiedBy/>
  <cp:revision>0</cp:revision>
  <dc:subject/>
  <dc:title/>
</cp:coreProperties>
</file>