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9F9-5B49-4D19-9C8D-6736D49D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7F7-DACA-44E9-99B0-AFBE580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5DF-C80F-4DC0-9288-A3A5EF49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8C4-F286-44B5-A8AF-065E4759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5B8-2D8E-44A0-B582-CF2A909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4BA-7916-462D-8F42-EAE42A6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A9A-3521-4AC5-8001-5116F3B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019-C616-4D0A-8226-6622AB64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236-9B58-4A87-8E19-A5852A1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79C-17B5-4D5B-AEC5-BCF52392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C9B-45ED-4EEA-B5B7-E6FD8EC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A34-056C-4BA0-B3D9-9F1792C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2D19-B382-4D8E-AF09-D73C87BB5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7652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CI-2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FC3-D76A-44F9-B6B0-52F3E28582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62320" y="1295280"/>
            <a:ext cx="3657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8195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41148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5800" y="28954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4600" y="41911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3240" y="13716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334120" y="31240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267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895480"/>
            <a:ext cx="25146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8160" y="3124080"/>
            <a:ext cx="206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0760" y="0"/>
            <a:ext cx="39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ite Automa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990720"/>
            <a:ext cx="381024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86000" y="914400"/>
            <a:ext cx="36576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410080"/>
            <a:ext cx="572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Vending Machine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mall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DB6-A5A2-417D-80FB-06AEC3A99F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5880" y="2895480"/>
            <a:ext cx="2819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1911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5800" y="297180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4600" y="4267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97520" y="8380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334120" y="32004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3434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971800"/>
            <a:ext cx="2514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8160" y="3200400"/>
            <a:ext cx="206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7440" y="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shdown Automa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6360" y="5486400"/>
            <a:ext cx="859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Compilers for Programming Languag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dium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106704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133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64832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1371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92520" y="9144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, P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E07-406D-47AA-B7AD-66B68C1ED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3716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2895480"/>
            <a:ext cx="2819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1911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5800" y="297180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4600" y="4267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14479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andom Acces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32004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43434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2971800"/>
            <a:ext cx="2514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1480" y="3200400"/>
            <a:ext cx="160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0600" y="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ring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9560" y="5486400"/>
            <a:ext cx="627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Any Algorit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ighest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DB0-CD32-450C-B48F-B9849BCD04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0960" y="2209680"/>
            <a:ext cx="182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n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6320" y="2286000"/>
            <a:ext cx="193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07680" y="2362320"/>
            <a:ext cx="160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666880" y="236232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29718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867280" y="236232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9718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51320" y="22860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wer of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876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000" y="45720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ss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67320" y="4572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r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67960" y="5105520"/>
            <a:ext cx="429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olve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utation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011-8280-407B-B7D6-C9D82D945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CF1-749E-437F-887D-29FDA65122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language is a se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ing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ing: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equence of letter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cat”, “dog”, “house”,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ed over an alphabet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63760" y="5207040"/>
                <a:ext cx="3302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B4A-C3C0-45B0-90F5-4FAB95C81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lphabets and Strin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will use small alphabet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87880" y="3276720"/>
                <a:ext cx="227340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bbaaa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67280" y="914400"/>
                <a:ext cx="1841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6520" y="2666880"/>
                <a:ext cx="283212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abbbaa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AC6-9982-4A1E-BF32-67EB31741B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ing Oper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28600" y="1143000"/>
                <a:ext cx="2755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553080" y="1219320"/>
                <a:ext cx="1549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baa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28600" y="4800600"/>
                <a:ext cx="487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985480" y="365760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095880" y="4876920"/>
                <a:ext cx="257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abbbaa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20C-F3A3-4F82-A88D-261300A7B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4724280"/>
                <a:ext cx="3098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62120" y="1523880"/>
                <a:ext cx="2755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791320" y="1600200"/>
                <a:ext cx="2577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abaaabb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202560" y="37339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4952880"/>
                <a:ext cx="2565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bbaaabab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F98-6AF7-412E-9176-32BF3FF02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ing Leng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ngth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1066680"/>
                <a:ext cx="2755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057400" y="2057400"/>
                <a:ext cx="123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895480" y="3886200"/>
                <a:ext cx="19051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FD1-BA31-4C39-9D44-4A847B241C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76320" y="228600"/>
            <a:ext cx="36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2895480"/>
            <a:ext cx="28195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26240" y="32767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537-4963-49F4-BABF-5703A78D8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ngth of Concaten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276720" y="11430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2590920"/>
                <a:ext cx="4381560" cy="37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a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aa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babaa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033-1F76-4136-B720-C121D4C11A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pty St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tring with no letters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bservation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003640" y="954000"/>
                <a:ext cx="3304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352680" y="2666880"/>
                <a:ext cx="468648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λw</m:t>
                        </m:r>
                        <m:r>
                          <m:t xml:space="preserve">=</m:t>
                        </m:r>
                        <m:r>
                          <m:t xml:space="preserve">wλ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  <m:e/>
                      <m:e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BBC-2FB6-4F26-86B5-523FD2404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string of string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ubsequence of consecutive character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                    Substr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477120" y="3429000"/>
                <a:ext cx="105408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8280" y="3429000"/>
                <a:ext cx="130824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438280" y="39625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47242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5486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6248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2E6-8B7B-4C64-94EF-F7737C4CED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fix and Suffi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fixes         Suffix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133720" y="914400"/>
                <a:ext cx="1307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2209680"/>
                <a:ext cx="1307880" cy="424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</m:e>
                      <m:e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657600" y="2133720"/>
                <a:ext cx="1308240" cy="42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b</m:t>
                        </m:r>
                      </m:e>
                      <m:e>
                        <m:r>
                          <m:t xml:space="preserve">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934320" y="2209680"/>
                <a:ext cx="1346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7162920" y="2514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8152920" y="251460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8960" y="32004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9800" y="388620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f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739-507F-4F55-A55A-347FE97820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124080" y="914400"/>
                <a:ext cx="2679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⋯</m:t>
                            </m:r>
                            <m:r>
                              <m:t xml:space="preserve">w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38280" y="2438280"/>
                <a:ext cx="4191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baabb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90920" y="4280040"/>
                <a:ext cx="1434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590920" y="5410080"/>
                <a:ext cx="243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5AA-A060-407D-8B47-4E0AD42184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*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 the set of all possible strings fro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habet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98440" y="868320"/>
                <a:ext cx="609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16080" y="1486080"/>
                <a:ext cx="328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2514600"/>
                <a:ext cx="7736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824-01DB-4D3D-9E54-580E03429C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 the set of all possible strings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habet      excep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1040" y="779400"/>
                <a:ext cx="5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016080" y="1486080"/>
                <a:ext cx="328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8600" y="2514600"/>
                <a:ext cx="7736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8600" y="4724280"/>
                <a:ext cx="2387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−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" y="5562720"/>
                <a:ext cx="7354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b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181480" y="1523880"/>
                <a:ext cx="330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9BB-9198-47B6-BD45-ECED959766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Languag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language is any subset of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nguag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619600" y="888840"/>
                <a:ext cx="609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347920" y="2057400"/>
                <a:ext cx="67960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438280" y="4495680"/>
                <a:ext cx="6172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AFA-4DC8-4160-BD05-AFF7AFDD34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58960" y="30492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733920" y="1523880"/>
                <a:ext cx="3257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≠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657600" y="2819520"/>
                <a:ext cx="295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sepChr m:val="∅"/>
                        <m:endChr m:val="|"/>
                      </m:dPr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657600" y="4191120"/>
                <a:ext cx="1857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657600" y="5486400"/>
                <a:ext cx="1498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889560" y="16002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7000" y="29718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7000" y="43434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7400" y="556272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446-C68D-4FEB-9910-B431E77291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 infinite languag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19720" y="1295280"/>
                <a:ext cx="4190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51040" y="3124080"/>
                <a:ext cx="2577960" cy="27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b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aaabbbb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38480" y="4191120"/>
                <a:ext cx="698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006960" y="4160880"/>
                <a:ext cx="15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</m:t>
                    </m:r>
                    <m:r>
                      <m:t xml:space="preserve">∉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505320" y="304812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ADC-A284-4DC2-81CA-8F5C1B63CC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876920"/>
            <a:ext cx="3581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9360" y="495288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6A7-B8ED-4CD6-BA34-430FF1476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s on Languag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usual set operat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lement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80880" y="1752480"/>
                <a:ext cx="82314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∩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76720" y="4419720"/>
                <a:ext cx="2146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43000" y="5437080"/>
                <a:ext cx="6453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a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275-3361-4CA0-AA23-79E045AE61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ver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679840" y="1295280"/>
                <a:ext cx="3555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6480" y="2514600"/>
                <a:ext cx="6797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a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228760" y="3803760"/>
                <a:ext cx="3772080" cy="23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5F2-9ACF-4599-AFBE-A01B060E65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aten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787480" y="1479600"/>
                <a:ext cx="5245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133720" y="3809880"/>
                <a:ext cx="64656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</m:d>
                      </m:e>
                      <m:e/>
                      <m:e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604-F9B8-467E-8C21-E45FC7EC14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pecial cas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819520" y="838080"/>
                <a:ext cx="2476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L</m:t>
                            </m:r>
                            <m:r>
                              <m:t xml:space="preserve">⋯</m:t>
                            </m:r>
                            <m:r>
                              <m:t xml:space="preserve">L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04920" y="2362320"/>
                <a:ext cx="7672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48120" y="4343400"/>
                <a:ext cx="34416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ba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aa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0BD-92B4-4464-9489-B1EF8B4264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Exa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822320" y="1519200"/>
                <a:ext cx="3505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625760" y="3193920"/>
                <a:ext cx="5422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908440" y="4896000"/>
                <a:ext cx="3517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bbaaabbb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037-D759-4F70-9110-6C9B12324A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r-Closure (Kleene *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081760" y="3460680"/>
                <a:ext cx="20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14600" y="1295280"/>
                <a:ext cx="39625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47640" y="3492360"/>
                <a:ext cx="773604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e>
                    </m:d>
                    <m:r>
                      <m:t xml:space="preserve">∗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3F7-7812-46AF-989B-689F641820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itive Clos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666880" y="1371600"/>
                <a:ext cx="342900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∪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∪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15960" y="4178160"/>
                <a:ext cx="782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08D-6A3F-4D4D-9C78-222ACBA0A2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40080" y="152280"/>
            <a:ext cx="21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219-C58A-4951-A3F1-E913291E4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638-7939-41AC-9B43-09CC7DE73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68580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3760" y="152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44760" y="762120"/>
                <a:ext cx="238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3720" y="1447920"/>
                <a:ext cx="30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43B-B004-4C46-AE63-96D6BE724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68580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8640" y="44956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3760" y="152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44760" y="762120"/>
                <a:ext cx="238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33720" y="1447920"/>
                <a:ext cx="30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553080" y="3886200"/>
                <a:ext cx="1727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4EA-DBAE-4119-8C4C-0D40A8BD9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26720" y="-38160"/>
            <a:ext cx="31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066680"/>
            <a:ext cx="3657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876920"/>
            <a:ext cx="3581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59360" y="495288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3760" y="11430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2666880"/>
            <a:ext cx="403848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3000" y="22068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DA3-87B0-41B8-9E42-C40A0A8C1A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88040" y="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t Kinds of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3320" y="835200"/>
            <a:ext cx="93078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 are distinguished by the 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ite Autom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no 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shdown Autom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ring Machi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random acces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4BD-96CC-422D-BFAD-F963B2F4A2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1:12:33Z</dcterms:created>
  <dc:creator>Costas Busch</dc:creator>
  <dc:description/>
  <dc:language>en-US</dc:language>
  <cp:lastModifiedBy>admin</cp:lastModifiedBy>
  <dcterms:modified xsi:type="dcterms:W3CDTF">2004-11-15T02:57:31Z</dcterms:modified>
  <cp:revision>273</cp:revision>
  <dc:subject/>
  <dc:title>Languages and Finite Automata</dc:title>
</cp:coreProperties>
</file>