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A4F6-88F5-4537-AAAD-E94E459F6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17480" y="285480"/>
            <a:ext cx="7750080" cy="100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16040" y="2004480"/>
            <a:ext cx="7751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716040" y="4105800"/>
            <a:ext cx="7751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4A83-87FB-4C32-B3A8-DB08E675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7480" y="285480"/>
            <a:ext cx="7750080" cy="100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16040" y="2004480"/>
            <a:ext cx="3782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87920" y="2004480"/>
            <a:ext cx="3782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716040" y="4105800"/>
            <a:ext cx="3782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87920" y="4105800"/>
            <a:ext cx="3782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9D90-880C-4B8E-9FD8-185DB77A5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7480" y="285480"/>
            <a:ext cx="7750080" cy="100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16040" y="2004480"/>
            <a:ext cx="249588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37200" y="2004480"/>
            <a:ext cx="249588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58000" y="2004480"/>
            <a:ext cx="249588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716040" y="4105800"/>
            <a:ext cx="249588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37200" y="4105800"/>
            <a:ext cx="249588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58000" y="4105800"/>
            <a:ext cx="249588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3D71-6AD8-4E11-BE10-DE8DE6B31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3A73-7FF8-4F08-9D4A-149243252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17480" y="285480"/>
            <a:ext cx="7750080" cy="100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716040" y="2004480"/>
            <a:ext cx="775152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1A8D-EECE-4B9D-9E0B-88151C99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17480" y="285480"/>
            <a:ext cx="7750080" cy="100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16040" y="2004480"/>
            <a:ext cx="7751520" cy="40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A019-7B27-482F-B9CF-0886EA53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17480" y="285480"/>
            <a:ext cx="7750080" cy="100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16040" y="2004480"/>
            <a:ext cx="3782520" cy="40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7920" y="2004480"/>
            <a:ext cx="3782520" cy="40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C917-F107-4116-B3C9-3E74D716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7480" y="285480"/>
            <a:ext cx="7750080" cy="100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E5ED-4268-4F39-88DF-685C60B4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17480" y="285480"/>
            <a:ext cx="7750080" cy="46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8135-CE0C-445A-BFCC-F966E826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17480" y="285480"/>
            <a:ext cx="7750080" cy="100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16040" y="2004480"/>
            <a:ext cx="3782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7920" y="2004480"/>
            <a:ext cx="3782520" cy="40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16040" y="4105800"/>
            <a:ext cx="3782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A158-2306-442A-B95D-A6F73831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7480" y="285480"/>
            <a:ext cx="7750080" cy="100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716040" y="2004480"/>
            <a:ext cx="775152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929E-8764-4E6A-9A9C-14C1CEA6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7480" y="285480"/>
            <a:ext cx="7750080" cy="100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16040" y="2004480"/>
            <a:ext cx="3782520" cy="40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7920" y="2004480"/>
            <a:ext cx="3782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87920" y="4105800"/>
            <a:ext cx="3782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3B7F-9F24-4734-8F84-1388BA36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7480" y="285480"/>
            <a:ext cx="7750080" cy="100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16040" y="2004480"/>
            <a:ext cx="3782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7920" y="2004480"/>
            <a:ext cx="3782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16040" y="4105800"/>
            <a:ext cx="7751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6603-1515-40E8-849E-1FA5A819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7480" y="285480"/>
            <a:ext cx="7750080" cy="100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16040" y="2004480"/>
            <a:ext cx="7751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716040" y="4105800"/>
            <a:ext cx="7751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865A-5B38-4343-ABD9-A8318154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7480" y="285480"/>
            <a:ext cx="7750080" cy="100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16040" y="2004480"/>
            <a:ext cx="3782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7920" y="2004480"/>
            <a:ext cx="3782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16040" y="4105800"/>
            <a:ext cx="3782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87920" y="4105800"/>
            <a:ext cx="3782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1741-4587-4814-A922-C7A6152C3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7480" y="285480"/>
            <a:ext cx="7750080" cy="100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16040" y="2004480"/>
            <a:ext cx="249588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337200" y="2004480"/>
            <a:ext cx="249588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958000" y="2004480"/>
            <a:ext cx="249588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716040" y="4105800"/>
            <a:ext cx="249588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337200" y="4105800"/>
            <a:ext cx="249588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958000" y="4105800"/>
            <a:ext cx="249588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8F57-FB53-4EA4-B98D-53346E64E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7480" y="285480"/>
            <a:ext cx="7750080" cy="100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16040" y="2004480"/>
            <a:ext cx="7751520" cy="40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5CE7-79DD-4D67-8C80-38391ED2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7480" y="285480"/>
            <a:ext cx="7750080" cy="100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6040" y="2004480"/>
            <a:ext cx="3782520" cy="40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7920" y="2004480"/>
            <a:ext cx="3782520" cy="40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BE16-FF5A-4BBA-83F5-557ADD03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7480" y="285480"/>
            <a:ext cx="7750080" cy="100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D7C5-32BD-4B0D-9C73-4DF4A919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717480" y="285480"/>
            <a:ext cx="7750080" cy="46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03B1-A805-4692-83A3-2A4418FB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17480" y="285480"/>
            <a:ext cx="7750080" cy="100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16040" y="2004480"/>
            <a:ext cx="3782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7920" y="2004480"/>
            <a:ext cx="3782520" cy="40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16040" y="4105800"/>
            <a:ext cx="3782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5D12-21FC-4FA8-8274-AE5D3652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17480" y="285480"/>
            <a:ext cx="7750080" cy="100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16040" y="2004480"/>
            <a:ext cx="3782520" cy="40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920" y="2004480"/>
            <a:ext cx="3782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7920" y="4105800"/>
            <a:ext cx="3782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8D54-0F54-47A1-88C2-3F9C8BF3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17480" y="285480"/>
            <a:ext cx="7750080" cy="100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16040" y="2004480"/>
            <a:ext cx="3782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7920" y="2004480"/>
            <a:ext cx="3782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16040" y="4105800"/>
            <a:ext cx="7751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B2F4-7078-4B88-8C1C-F789B49B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1"/>
          <p:cNvGrpSpPr/>
          <p:nvPr/>
        </p:nvGrpSpPr>
        <p:grpSpPr>
          <a:xfrm>
            <a:off x="3200400" y="1523520"/>
            <a:ext cx="5714640" cy="381960"/>
            <a:chOff x="3200400" y="1523520"/>
            <a:chExt cx="5714640" cy="381960"/>
          </a:xfrm>
        </p:grpSpPr>
        <p:cxnSp>
          <p:nvCxnSpPr>
            <p:cNvPr id="1" name="Connector3"/>
            <p:cNvCxnSpPr/>
            <p:nvPr/>
          </p:nvCxnSpPr>
          <p:spPr>
            <a:xfrm flipH="1">
              <a:off x="4343040" y="1523520"/>
              <a:ext cx="1143720" cy="1080"/>
            </a:xfrm>
            <a:prstGeom prst="straightConnector1">
              <a:avLst/>
            </a:prstGeom>
            <a:ln w="48240">
              <a:solidFill>
                <a:srgbClr val="000080"/>
              </a:solidFill>
              <a:miter/>
              <a:headEnd len="med" type="diamond" w="med"/>
              <a:tailEnd len="med" type="diamond" w="med"/>
            </a:ln>
          </p:spPr>
        </p:cxnSp>
        <p:cxnSp>
          <p:nvCxnSpPr>
            <p:cNvPr id="2" name="Connector1"/>
            <p:cNvCxnSpPr/>
            <p:nvPr/>
          </p:nvCxnSpPr>
          <p:spPr>
            <a:xfrm flipH="1">
              <a:off x="4343040" y="1777680"/>
              <a:ext cx="1143720" cy="1080"/>
            </a:xfrm>
            <a:prstGeom prst="straightConnector1">
              <a:avLst/>
            </a:prstGeom>
            <a:ln w="48240">
              <a:solidFill>
                <a:srgbClr val="000080"/>
              </a:solidFill>
              <a:miter/>
              <a:headEnd len="med" type="diamond" w="med"/>
              <a:tailEnd len="med" type="diamond" w="med"/>
            </a:ln>
          </p:spPr>
        </p:cxnSp>
        <p:cxnSp>
          <p:nvCxnSpPr>
            <p:cNvPr id="3" name="Connector2"/>
            <p:cNvCxnSpPr/>
            <p:nvPr/>
          </p:nvCxnSpPr>
          <p:spPr>
            <a:xfrm flipH="1">
              <a:off x="5486400" y="1904760"/>
              <a:ext cx="1143000" cy="1080"/>
            </a:xfrm>
            <a:prstGeom prst="straightConnector1">
              <a:avLst/>
            </a:prstGeom>
            <a:ln w="48240">
              <a:solidFill>
                <a:srgbClr val="000080"/>
              </a:solidFill>
              <a:miter/>
              <a:headEnd len="med" type="diamond" w="med"/>
              <a:tailEnd len="med" type="diamond" w="med"/>
            </a:ln>
          </p:spPr>
        </p:cxnSp>
        <p:cxnSp>
          <p:nvCxnSpPr>
            <p:cNvPr id="4" name="Connector4"/>
            <p:cNvCxnSpPr/>
            <p:nvPr/>
          </p:nvCxnSpPr>
          <p:spPr>
            <a:xfrm flipH="1">
              <a:off x="6629400" y="1777680"/>
              <a:ext cx="1143720" cy="1080"/>
            </a:xfrm>
            <a:prstGeom prst="straightConnector1">
              <a:avLst/>
            </a:prstGeom>
            <a:ln w="48240">
              <a:solidFill>
                <a:srgbClr val="000080"/>
              </a:solidFill>
              <a:miter/>
              <a:headEnd len="med" type="diamond" w="med"/>
              <a:tailEnd len="med" type="diamond" w="med"/>
            </a:ln>
          </p:spPr>
        </p:cxnSp>
        <p:cxnSp>
          <p:nvCxnSpPr>
            <p:cNvPr id="5" name="Connector7"/>
            <p:cNvCxnSpPr/>
            <p:nvPr/>
          </p:nvCxnSpPr>
          <p:spPr>
            <a:xfrm flipH="1">
              <a:off x="6629400" y="1523520"/>
              <a:ext cx="1143720" cy="1080"/>
            </a:xfrm>
            <a:prstGeom prst="straightConnector1">
              <a:avLst/>
            </a:prstGeom>
            <a:ln w="48240">
              <a:solidFill>
                <a:srgbClr val="000080"/>
              </a:solidFill>
              <a:miter/>
              <a:headEnd len="med" type="diamond" w="med"/>
              <a:tailEnd len="med" type="diamond" w="med"/>
            </a:ln>
          </p:spPr>
        </p:cxnSp>
        <p:cxnSp>
          <p:nvCxnSpPr>
            <p:cNvPr id="6" name="Connector8"/>
            <p:cNvCxnSpPr/>
            <p:nvPr/>
          </p:nvCxnSpPr>
          <p:spPr>
            <a:xfrm flipH="1">
              <a:off x="7772400" y="1650600"/>
              <a:ext cx="1143000" cy="1080"/>
            </a:xfrm>
            <a:prstGeom prst="straightConnector1">
              <a:avLst/>
            </a:prstGeom>
            <a:ln w="48240">
              <a:solidFill>
                <a:srgbClr val="000080"/>
              </a:solidFill>
              <a:miter/>
              <a:headEnd len="med" type="diamond" w="med"/>
              <a:tailEnd len="med" type="diamond" w="med"/>
            </a:ln>
          </p:spPr>
        </p:cxnSp>
        <p:cxnSp>
          <p:nvCxnSpPr>
            <p:cNvPr id="7" name="Connector5"/>
            <p:cNvCxnSpPr/>
            <p:nvPr/>
          </p:nvCxnSpPr>
          <p:spPr>
            <a:xfrm flipH="1">
              <a:off x="5486400" y="1650600"/>
              <a:ext cx="1143000" cy="1080"/>
            </a:xfrm>
            <a:prstGeom prst="straightConnector1">
              <a:avLst/>
            </a:prstGeom>
            <a:ln w="48240">
              <a:solidFill>
                <a:srgbClr val="000080"/>
              </a:solidFill>
              <a:miter/>
              <a:headEnd len="med" type="diamond" w="med"/>
              <a:tailEnd len="med" type="diamond" w="med"/>
            </a:ln>
          </p:spPr>
        </p:cxnSp>
        <p:cxnSp>
          <p:nvCxnSpPr>
            <p:cNvPr id="8" name="Connector6"/>
            <p:cNvCxnSpPr/>
            <p:nvPr/>
          </p:nvCxnSpPr>
          <p:spPr>
            <a:xfrm flipH="1">
              <a:off x="3200400" y="1650600"/>
              <a:ext cx="1143000" cy="1080"/>
            </a:xfrm>
            <a:prstGeom prst="straightConnector1">
              <a:avLst/>
            </a:prstGeom>
            <a:ln w="48240">
              <a:solidFill>
                <a:srgbClr val="000080"/>
              </a:solidFill>
              <a:miter/>
              <a:headEnd len="med" type="diamond" w="med"/>
              <a:tailEnd len="med" type="diamond" w="med"/>
            </a:ln>
          </p:spPr>
        </p:cxnSp>
      </p:grpSp>
      <p:grpSp>
        <p:nvGrpSpPr>
          <p:cNvPr id="9" name="Group2"/>
          <p:cNvGrpSpPr/>
          <p:nvPr/>
        </p:nvGrpSpPr>
        <p:grpSpPr>
          <a:xfrm>
            <a:off x="180720" y="5943240"/>
            <a:ext cx="2577960" cy="305640"/>
            <a:chOff x="180720" y="5943240"/>
            <a:chExt cx="2577960" cy="305640"/>
          </a:xfrm>
        </p:grpSpPr>
        <p:cxnSp>
          <p:nvCxnSpPr>
            <p:cNvPr id="10" name="Connector12"/>
            <p:cNvCxnSpPr/>
            <p:nvPr/>
          </p:nvCxnSpPr>
          <p:spPr>
            <a:xfrm>
              <a:off x="2041200" y="6096240"/>
              <a:ext cx="717840" cy="2160"/>
            </a:xfrm>
            <a:prstGeom prst="straightConnector1">
              <a:avLst/>
            </a:prstGeom>
            <a:ln w="5724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1" name="Connector10"/>
            <p:cNvCxnSpPr/>
            <p:nvPr/>
          </p:nvCxnSpPr>
          <p:spPr>
            <a:xfrm>
              <a:off x="180720" y="6096240"/>
              <a:ext cx="717840" cy="2160"/>
            </a:xfrm>
            <a:prstGeom prst="straightConnector1">
              <a:avLst/>
            </a:prstGeom>
            <a:ln w="5724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" name="Connector11"/>
            <p:cNvCxnSpPr/>
            <p:nvPr/>
          </p:nvCxnSpPr>
          <p:spPr>
            <a:xfrm>
              <a:off x="914040" y="6248160"/>
              <a:ext cx="1114920" cy="1080"/>
            </a:xfrm>
            <a:prstGeom prst="straightConnector1">
              <a:avLst/>
            </a:prstGeom>
            <a:ln w="5724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" name="Connector9"/>
            <p:cNvCxnSpPr/>
            <p:nvPr/>
          </p:nvCxnSpPr>
          <p:spPr>
            <a:xfrm>
              <a:off x="914040" y="5943240"/>
              <a:ext cx="1114920" cy="1080"/>
            </a:xfrm>
            <a:prstGeom prst="straightConnector1">
              <a:avLst/>
            </a:prstGeom>
            <a:ln w="5724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7480" y="285480"/>
            <a:ext cx="7750080" cy="100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ffffff"/>
                </a:solidFill>
                <a:uFillTx/>
                <a:latin typeface="Calibri"/>
              </a:rPr>
              <a:t>Click to edit the title text format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716040" y="2004480"/>
            <a:ext cx="7751520" cy="40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marL="343080" indent="-343080"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Click to edit the outline text format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lvl="1" marL="343080" indent="-343080">
              <a:buClr>
                <a:srgbClr val="0000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Secon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lvl="2" marL="343080" indent="-343080">
              <a:buClr>
                <a:srgbClr val="0000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Thir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lvl="3" marL="343080" indent="-343080">
              <a:buClr>
                <a:srgbClr val="0100d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Four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lvl="4" marL="2057400" indent="-228600">
              <a:buClr>
                <a:srgbClr val="0100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Fif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lvl="5" marL="2057400" indent="-228600"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Six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lvl="6" marL="2057400" indent="-228600"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Seven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716040" y="6314760"/>
            <a:ext cx="1866960" cy="4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013200" y="6314760"/>
            <a:ext cx="3301920" cy="4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745320" y="6314760"/>
            <a:ext cx="1722240" cy="4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fld id="{77EE12EB-FE79-4E77-AF1F-F3B541DA394B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2"/>
          <p:cNvGrpSpPr/>
          <p:nvPr/>
        </p:nvGrpSpPr>
        <p:grpSpPr>
          <a:xfrm>
            <a:off x="6200280" y="5790960"/>
            <a:ext cx="2578320" cy="305280"/>
            <a:chOff x="6200280" y="5790960"/>
            <a:chExt cx="2578320" cy="305280"/>
          </a:xfrm>
        </p:grpSpPr>
        <p:cxnSp>
          <p:nvCxnSpPr>
            <p:cNvPr id="56" name="Connector8"/>
            <p:cNvCxnSpPr/>
            <p:nvPr/>
          </p:nvCxnSpPr>
          <p:spPr>
            <a:xfrm>
              <a:off x="8061120" y="5943600"/>
              <a:ext cx="717840" cy="2160"/>
            </a:xfrm>
            <a:prstGeom prst="straightConnector1">
              <a:avLst/>
            </a:prstGeom>
            <a:ln w="5724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7" name="Connector4"/>
            <p:cNvCxnSpPr/>
            <p:nvPr/>
          </p:nvCxnSpPr>
          <p:spPr>
            <a:xfrm>
              <a:off x="6200280" y="5943600"/>
              <a:ext cx="717840" cy="2160"/>
            </a:xfrm>
            <a:prstGeom prst="straightConnector1">
              <a:avLst/>
            </a:prstGeom>
            <a:ln w="5724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8" name="Connector5"/>
            <p:cNvCxnSpPr/>
            <p:nvPr/>
          </p:nvCxnSpPr>
          <p:spPr>
            <a:xfrm>
              <a:off x="6933600" y="6095520"/>
              <a:ext cx="1114920" cy="1080"/>
            </a:xfrm>
            <a:prstGeom prst="straightConnector1">
              <a:avLst/>
            </a:prstGeom>
            <a:ln w="5724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9" name="Connector6"/>
            <p:cNvCxnSpPr/>
            <p:nvPr/>
          </p:nvCxnSpPr>
          <p:spPr>
            <a:xfrm>
              <a:off x="6933600" y="5790960"/>
              <a:ext cx="1114920" cy="1080"/>
            </a:xfrm>
            <a:prstGeom prst="straightConnector1">
              <a:avLst/>
            </a:prstGeom>
            <a:ln w="5724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60" name="Group1"/>
          <p:cNvGrpSpPr/>
          <p:nvPr/>
        </p:nvGrpSpPr>
        <p:grpSpPr>
          <a:xfrm>
            <a:off x="378000" y="3276360"/>
            <a:ext cx="7883280" cy="457920"/>
            <a:chOff x="378000" y="3276360"/>
            <a:chExt cx="7883280" cy="457920"/>
          </a:xfrm>
        </p:grpSpPr>
        <p:cxnSp>
          <p:nvCxnSpPr>
            <p:cNvPr id="61" name="Connector1"/>
            <p:cNvCxnSpPr/>
            <p:nvPr/>
          </p:nvCxnSpPr>
          <p:spPr>
            <a:xfrm>
              <a:off x="2209680" y="3505320"/>
              <a:ext cx="6051960" cy="2160"/>
            </a:xfrm>
            <a:prstGeom prst="straightConnector1">
              <a:avLst/>
            </a:prstGeom>
            <a:ln w="7632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2" name="Connector2"/>
            <p:cNvCxnSpPr/>
            <p:nvPr/>
          </p:nvCxnSpPr>
          <p:spPr>
            <a:xfrm>
              <a:off x="378000" y="3505320"/>
              <a:ext cx="717840" cy="2160"/>
            </a:xfrm>
            <a:prstGeom prst="straightConnector1">
              <a:avLst/>
            </a:prstGeom>
            <a:ln w="7632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3" name="Connector3"/>
            <p:cNvCxnSpPr/>
            <p:nvPr/>
          </p:nvCxnSpPr>
          <p:spPr>
            <a:xfrm>
              <a:off x="1095120" y="3733560"/>
              <a:ext cx="1115280" cy="1080"/>
            </a:xfrm>
            <a:prstGeom prst="straightConnector1">
              <a:avLst/>
            </a:prstGeom>
            <a:ln w="7632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4" name="Connector7"/>
            <p:cNvCxnSpPr/>
            <p:nvPr/>
          </p:nvCxnSpPr>
          <p:spPr>
            <a:xfrm>
              <a:off x="1095120" y="3276360"/>
              <a:ext cx="1115280" cy="1080"/>
            </a:xfrm>
            <a:prstGeom prst="straightConnector1">
              <a:avLst/>
            </a:prstGeom>
            <a:ln w="7632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6040" y="1865160"/>
            <a:ext cx="7751520" cy="129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716040" y="6314760"/>
            <a:ext cx="1866960" cy="4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5"/>
          </p:nvPr>
        </p:nvSpPr>
        <p:spPr>
          <a:xfrm>
            <a:off x="3012840" y="6314760"/>
            <a:ext cx="3444840" cy="4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6"/>
          </p:nvPr>
        </p:nvSpPr>
        <p:spPr>
          <a:xfrm>
            <a:off x="6887880" y="6314760"/>
            <a:ext cx="1579320" cy="4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fld id="{C1CBB55D-B627-42B3-A807-C472235CD52A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Group3"/>
          <p:cNvGrpSpPr/>
          <p:nvPr/>
        </p:nvGrpSpPr>
        <p:grpSpPr>
          <a:xfrm>
            <a:off x="3200400" y="1065960"/>
            <a:ext cx="5714640" cy="686520"/>
            <a:chOff x="3200400" y="1065960"/>
            <a:chExt cx="5714640" cy="686520"/>
          </a:xfrm>
        </p:grpSpPr>
        <p:cxnSp>
          <p:nvCxnSpPr>
            <p:cNvPr id="70" name="Connector12"/>
            <p:cNvCxnSpPr/>
            <p:nvPr/>
          </p:nvCxnSpPr>
          <p:spPr>
            <a:xfrm flipV="1">
              <a:off x="6629040" y="1751760"/>
              <a:ext cx="1143720" cy="1080"/>
            </a:xfrm>
            <a:prstGeom prst="straightConnector1">
              <a:avLst/>
            </a:prstGeom>
            <a:ln w="5724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1" name="Connector13"/>
            <p:cNvCxnSpPr/>
            <p:nvPr/>
          </p:nvCxnSpPr>
          <p:spPr>
            <a:xfrm flipV="1">
              <a:off x="6629040" y="1294560"/>
              <a:ext cx="1143720" cy="1080"/>
            </a:xfrm>
            <a:prstGeom prst="straightConnector1">
              <a:avLst/>
            </a:prstGeom>
            <a:ln w="5724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2" name="Connector9"/>
            <p:cNvCxnSpPr/>
            <p:nvPr/>
          </p:nvCxnSpPr>
          <p:spPr>
            <a:xfrm flipV="1">
              <a:off x="5486400" y="1065960"/>
              <a:ext cx="1143000" cy="1080"/>
            </a:xfrm>
            <a:prstGeom prst="straightConnector1">
              <a:avLst/>
            </a:prstGeom>
            <a:ln w="5724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Connector10"/>
            <p:cNvCxnSpPr/>
            <p:nvPr/>
          </p:nvCxnSpPr>
          <p:spPr>
            <a:xfrm flipV="1">
              <a:off x="4342680" y="1294560"/>
              <a:ext cx="1143720" cy="1080"/>
            </a:xfrm>
            <a:prstGeom prst="straightConnector1">
              <a:avLst/>
            </a:prstGeom>
            <a:ln w="5724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4" name="Connector11"/>
            <p:cNvCxnSpPr/>
            <p:nvPr/>
          </p:nvCxnSpPr>
          <p:spPr>
            <a:xfrm flipV="1">
              <a:off x="4342680" y="1751760"/>
              <a:ext cx="1143720" cy="1080"/>
            </a:xfrm>
            <a:prstGeom prst="straightConnector1">
              <a:avLst/>
            </a:prstGeom>
            <a:ln w="5724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5" name="Connector14"/>
            <p:cNvCxnSpPr/>
            <p:nvPr/>
          </p:nvCxnSpPr>
          <p:spPr>
            <a:xfrm flipV="1">
              <a:off x="3200400" y="1523160"/>
              <a:ext cx="1143000" cy="1080"/>
            </a:xfrm>
            <a:prstGeom prst="straightConnector1">
              <a:avLst/>
            </a:prstGeom>
            <a:ln w="5724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6" name="Connector15"/>
            <p:cNvCxnSpPr/>
            <p:nvPr/>
          </p:nvCxnSpPr>
          <p:spPr>
            <a:xfrm flipV="1">
              <a:off x="5486400" y="1523160"/>
              <a:ext cx="1143000" cy="1080"/>
            </a:xfrm>
            <a:prstGeom prst="straightConnector1">
              <a:avLst/>
            </a:prstGeom>
            <a:ln w="5724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7" name="Connector16"/>
            <p:cNvCxnSpPr/>
            <p:nvPr/>
          </p:nvCxnSpPr>
          <p:spPr>
            <a:xfrm flipV="1">
              <a:off x="7772400" y="1523160"/>
              <a:ext cx="1143000" cy="1080"/>
            </a:xfrm>
            <a:prstGeom prst="straightConnector1">
              <a:avLst/>
            </a:prstGeom>
            <a:ln w="5724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Erweiterte Textanalyse:</a:t>
            </a:r>
            <a:br>
              <a:rPr sz="4400"/>
            </a:b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„Preisrätsel für Fortgeschrittene“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Von Tobias Burgard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und Fabian Kosmal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ffffff"/>
                </a:solidFill>
                <a:uFillTx/>
                <a:latin typeface="Calibri"/>
              </a:rPr>
              <a:t>Gliederung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Allgemeines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lvl="1" marL="343080" indent="-343080">
              <a:buClr>
                <a:srgbClr val="0000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Etymologie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marL="343080" indent="-343080"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Textanalyse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lvl="1" marL="343080" indent="-343080">
              <a:buClr>
                <a:srgbClr val="0000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Textstruktur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lvl="1" marL="343080" indent="-343080">
              <a:buClr>
                <a:srgbClr val="0000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Kritik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ffffff"/>
                </a:solidFill>
                <a:uFillTx/>
                <a:latin typeface="Calibri"/>
              </a:rPr>
              <a:t>Etymologie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Ende 17. Jhd. : grammatische Bezeichnung für Geschlechtswandel von Substantiven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marL="343080" indent="-343080"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18. Jhd.: Fortschreiten, Weiterschreiten, Vermehrung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marL="343080" indent="-343080"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~1830: </a:t>
            </a: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progrès</a:t>
            </a: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 → Erreichen einer höheren Entwicklungsstufe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ffffff"/>
                </a:solidFill>
                <a:uFillTx/>
                <a:latin typeface="Calibri"/>
              </a:rPr>
              <a:t>Textstruktur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sngStrike" u="sng">
                <a:solidFill>
                  <a:srgbClr val="ffffff"/>
                </a:solidFill>
                <a:uFillTx/>
                <a:latin typeface="Calibri"/>
              </a:rPr>
              <a:t>Einleitung</a:t>
            </a:r>
            <a:endParaRPr b="1" i="1" lang="en-US" sz="2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sngStrike" u="sng">
                <a:solidFill>
                  <a:srgbClr val="ffffff"/>
                </a:solidFill>
                <a:uFillTx/>
                <a:latin typeface="Calibri"/>
              </a:rPr>
              <a:t>Erklärung der positiven Konnotation</a:t>
            </a:r>
            <a:endParaRPr b="1" i="1" lang="en-US" sz="2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sngStrike" u="sng">
                <a:solidFill>
                  <a:srgbClr val="ffffff"/>
                </a:solidFill>
                <a:uFillTx/>
                <a:latin typeface="Calibri"/>
              </a:rPr>
              <a:t>Negatives</a:t>
            </a:r>
            <a:endParaRPr b="1" i="1" lang="en-US" sz="2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lvl="1" marL="343080" indent="-343080">
              <a:lnSpc>
                <a:spcPct val="80000"/>
              </a:lnSpc>
              <a:buClr>
                <a:srgbClr val="0000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Calibri"/>
              </a:rPr>
              <a:t>3 Beispiele: Folter, Korruption, Postkutsche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sngStrike" u="sng">
                <a:solidFill>
                  <a:srgbClr val="ffffff"/>
                </a:solidFill>
                <a:uFillTx/>
                <a:latin typeface="Calibri"/>
              </a:rPr>
              <a:t>Rückschläge gegen naiver Fortschrittskult</a:t>
            </a:r>
            <a:endParaRPr b="1" i="1" lang="en-US" sz="2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lvl="1" marL="343080" indent="-343080">
              <a:lnSpc>
                <a:spcPct val="80000"/>
              </a:lnSpc>
              <a:buClr>
                <a:srgbClr val="0000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Calibri"/>
              </a:rPr>
              <a:t>6 Beispiele, u.a..: 1.WK, Titanic, Ende UdSSR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sngStrike" u="sng">
                <a:solidFill>
                  <a:srgbClr val="ffffff"/>
                </a:solidFill>
                <a:uFillTx/>
                <a:latin typeface="Calibri"/>
              </a:rPr>
              <a:t>Positives</a:t>
            </a:r>
            <a:endParaRPr b="1" i="1" lang="en-US" sz="2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lvl="1" marL="343080" indent="-343080">
              <a:lnSpc>
                <a:spcPct val="80000"/>
              </a:lnSpc>
              <a:buClr>
                <a:srgbClr val="0000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Calibri"/>
              </a:rPr>
              <a:t>2 Beispiele: Kinderarbeit, Zahnarzt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sngStrike" u="sng">
                <a:solidFill>
                  <a:srgbClr val="ffffff"/>
                </a:solidFill>
                <a:uFillTx/>
                <a:latin typeface="Calibri"/>
              </a:rPr>
              <a:t>Ist Fortschritt überhaupt gut?</a:t>
            </a:r>
            <a:endParaRPr b="1" i="1" lang="en-US" sz="2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lvl="1" marL="343080" indent="-343080">
              <a:lnSpc>
                <a:spcPct val="80000"/>
              </a:lnSpc>
              <a:buClr>
                <a:srgbClr val="0000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Calibri"/>
              </a:rPr>
              <a:t>Beispiel: Naturzerstörung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sngStrike" u="sng">
                <a:solidFill>
                  <a:srgbClr val="ffffff"/>
                </a:solidFill>
                <a:uFillTx/>
                <a:latin typeface="Calibri"/>
              </a:rPr>
              <a:t>Fazit</a:t>
            </a:r>
            <a:endParaRPr b="1" i="1" lang="en-US" sz="2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lvl="1" marL="343080" indent="-343080">
              <a:lnSpc>
                <a:spcPct val="80000"/>
              </a:lnSpc>
              <a:buClr>
                <a:srgbClr val="0000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Calibri"/>
              </a:rPr>
              <a:t>Neu = Fortschritt ?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lvl="1" marL="343080" indent="-343080">
              <a:lnSpc>
                <a:spcPct val="80000"/>
              </a:lnSpc>
              <a:buClr>
                <a:srgbClr val="0000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Calibri"/>
              </a:rPr>
              <a:t>Kritik an unüberlegter Sprache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ffffff"/>
                </a:solidFill>
                <a:uFillTx/>
                <a:latin typeface="Calibri"/>
              </a:rPr>
              <a:t>Kritik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Populistisch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lvl="1" marL="343080" indent="-343080">
              <a:lnSpc>
                <a:spcPct val="90000"/>
              </a:lnSpc>
              <a:buClr>
                <a:srgbClr val="0000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Kommunisten-Hass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lvl="1" marL="343080" indent="-343080">
              <a:lnSpc>
                <a:spcPct val="90000"/>
              </a:lnSpc>
              <a:buClr>
                <a:srgbClr val="0000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Sehr lange Beschreibung: Zahnarzt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	</a:t>
            </a: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Wingdings"/>
                <a:ea typeface="Wingdings"/>
              </a:rPr>
              <a:t>→</a:t>
            </a: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emotiona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Geht nur auf „Fort–“ ein, nicht auf „–schritt“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Kein richtiges Ergebniss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Wo liegt das Problem?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Wingdings"/>
                <a:ea typeface="Wingdings"/>
              </a:rPr>
              <a:t>→</a:t>
            </a: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pseudo-wissenschaftlich/-philosophisch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bi</dc:creator>
  <dc:description/>
  <dc:language>en-US</dc:language>
  <cp:lastModifiedBy/>
  <cp:revision>0</cp:revision>
  <dc:subject/>
  <dc:title>Folie 1</dc:title>
</cp:coreProperties>
</file>