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2B67-6F6D-4339-A0CD-6EEDB16E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3E94-097A-4788-B078-016EF303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BD5-B790-458D-9DCA-52E614D1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C5C-809D-428E-9D88-83A80306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35B8-D4CD-4E3B-84E3-BA52F6AD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3692-51DD-4FC1-B74F-DA40471A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990E-7463-4696-8F3C-66C6A585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C6E1-D430-4DBA-AE03-961921A5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6B7-25B1-4478-85A8-38A38F98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3ACA-AF5F-4844-A162-4EC73229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6C01-710C-42DE-B156-CC7CA845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A95-2A2C-42AF-8DED-AD7793A4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C7CA-46D7-4C6E-9E18-9C58A12EDB24}" type="slidenum">
              <a:rPr b="1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מלבן 12"/>
          <p:cNvSpPr/>
          <p:nvPr/>
        </p:nvSpPr>
        <p:spPr>
          <a:xfrm>
            <a:off x="5743440" y="1996920"/>
            <a:ext cx="1008360" cy="935280"/>
          </a:xfrm>
          <a:prstGeom prst="rect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Calibri"/>
              </a:rPr>
              <a:t>מות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5:28:41Z</dcterms:created>
  <dc:creator>Lord Z</dc:creator>
  <dc:description/>
  <dc:language>en-US</dc:language>
  <cp:lastModifiedBy>me</cp:lastModifiedBy>
  <dcterms:modified xsi:type="dcterms:W3CDTF">2014-04-22T01:03:35Z</dcterms:modified>
  <cp:revision>679</cp:revision>
  <dc:subject/>
  <dc:title>כותרת ראשית</dc:title>
</cp:coreProperties>
</file>