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C90D-7A9E-4358-A970-B2734F3D2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C6D3-FD4E-419F-A4B0-995D0FEAB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74F5-F529-4AAB-AB08-F0BFE0F09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D8BD-240A-4638-A8A0-21FCA2699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75791-84A5-4673-9816-B98176B2F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50E9C-9E87-43E2-AB15-4C6A94419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BCC15-A966-4EF8-BA13-7580B4685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C7C1C-67C6-42AF-BB61-D63D835BE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2597E-1788-43DE-A162-3711764B8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990FB-9673-4121-92B7-DBFB2D874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7FEB8-B18E-461D-8698-C263563B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FEDB-4E3D-44FB-A2F3-5A9F43EEB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F14BB-A40E-480A-A217-C478199C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2502A-D738-421F-B381-E5705643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13FC0-8813-4A50-ABC7-FD99F53C9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03290-ACD5-47B8-B8C0-249ADAA57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3F861-5177-4306-884F-5737A8E1E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C5F3-F785-4A29-B2E8-30099E82D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5C04-BCE8-4F20-854F-EFA71F08B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C7FB-4399-456A-99CD-61AABDE3F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AFBA-EBE8-43D7-AD17-918BBDEB1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A04A-BF46-4D2F-8036-B9A030E34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2AFA-68DA-4123-B206-AB95474D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5724-6E07-4FE7-B159-35EAFBD9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4C889-3C7A-4764-A288-AA17E025506B}" type="slidenum">
              <a:rPr b="0" lang="hu-H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81C31-2082-4731-82DC-872CF66C5A50}" type="slidenum">
              <a:rPr b="0" lang="hu-H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00"/>
                </a:solidFill>
                <a:latin typeface="Times New Roman"/>
              </a:rPr>
              <a:t>Compaq cluster és storage a Magyar Posta Rt. SAP R3ndszerébe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lőté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eladat és növekedés 1997-2000 között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frastruktúra és környez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chnológia és eszközö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iemelendő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apasztalato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zolgáltatá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ovábbi irányo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Feladat és növekedés 1997-2000 között: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SAP R/3 3.0F-3.1H FI,CO,MM,SD,HR modulo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Nevesített/egyidejű on-line felhasználók: 15-szörö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Produktív adatbázis mérete egy 12-szer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Nyomtatók száma 50-szeres (!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Site-ok száma tízszer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Napi 12-14 óra dialógus üze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Infrastruktúra és környeze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zerverek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elhasználó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inden egyéb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echnológia és eszközök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SAP AG ajánlás szerinti három-rendszeres landscap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TurboLaser és 4100-as kategóriájú szervere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FDDI gyűrű (!), Ethernet…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Digital Unix 3.2G..Tru64 Unix 4.0F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ASE (Failover cluster) 1.4- ASE 1.5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BA 35x polcok…ESA 10000 tároló alrendsz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TL895 5/96-os TZ89-es libra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Kiemelendő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LSM alapú tükrözé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ESA alapú stripe-olá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AdvFS fájlrendsz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Oracle adatbáz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apasztalatok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ASE kontra hálózati eleme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AdvFS: rendszerindítá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LSM: I/O és rendszerindítá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Tape library teljesítmén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ESA 1000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zolgáltatá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gital, majd Compaq mint hardver és rendszermenedzsment támogató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Üzemidőhöz igazodó karbantartási szerződé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ovábbi irányok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AP R/3 verzióváltáshoz kapcsolódó szerverbővítése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4T10:04:31Z</dcterms:created>
  <dc:creator>LilingZoltán</dc:creator>
  <dc:description/>
  <dc:language>en-US</dc:language>
  <cp:lastModifiedBy>David J Cho</cp:lastModifiedBy>
  <dcterms:modified xsi:type="dcterms:W3CDTF">2005-01-10T22:44:17Z</dcterms:modified>
  <cp:revision>2</cp:revision>
  <dc:subject/>
  <dc:title>Compaq cluster és storage a Magyar Posta Rt. SAP R3ndszerében</dc:title>
</cp:coreProperties>
</file>