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E16-6BA0-4072-8262-58FF1205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3E80-8481-4EA5-83EC-4CC04152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362-EF49-40EF-A60C-7C41CF25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C41F-9DAC-4D37-826C-99B0ED19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008-11BD-48C1-BEF5-00E47052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361-830E-430B-809D-5905F2D2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1F3-CEE8-4743-8A9A-CDB0085E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DB14-3C56-4728-BD3C-C9F174AB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39A-8065-4FB0-8C4E-1E0890AF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A92-90AB-4D7A-BFB7-A98FA025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DCB-34E4-4F52-A005-4DE57851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7578-57AA-412C-90F0-BC996E9C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98C1-B81B-4574-B18C-EE61D53145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4582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La sposa di Giovanni è andata negli Stati Uniti a lavorare e a fare un corso di 6 mesi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Giovanni, invece, ha assunto una bella cameriera per i lavori domestici..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Un giorno sua suocera lo chiama per avvisarlo che ha intenzioni di cenare a casa sua quella ser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516720" y="6237360"/>
            <a:ext cx="2438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ww.carloneworld.i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21932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urante la cena questa vecchia signora non ha potuto fare a meno di notare quanto era attraente e sensuale la cameriera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Dopo la cena comincia a pensare che potrebbe esserci “qualcosa” tra suo genero e la cameriera, e fa alcuni commenti indiretti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la dei sacrifici che fa sua figlia in una terra che non conosce per guadagnare soldi per la sua famiglia, e quel tipo di cose..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853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Leggendo i pensieri di sua suocera, Giovanni dice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So quello che starai pensando, ma ti posso assicurare che la relazione che ho con la cameriera è solo professionale!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anno deciso entrambi di chiudere il tema e dopo cena la suocera è andata vi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533520"/>
            <a:ext cx="84582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na settimana dopo, la cameriera dice a Giovanni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- Dopo che tua suocera è venuta a cenare,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il mestolo di argento per la zuppa è sparito.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Non pensi che ce l’abbia lei?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Giovanni risponde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- Cara, pensavo che quella vipera poteva essere tutto tranne una ladra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In ogni modo le manderò una e-mail solo per avere la sicurezza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29528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llora le scriv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con una copia a sua moglie negli USA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olo per cattiveria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“Cara suocerina, non sto insinuando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che hai ”preso" il mestolo della zuppa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da casa mia, e non sto insinuando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che ”non hai preso" il mestolo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della zuppa, ma il fatto è che è sparito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da quando sei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stata qui a cena."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Il giorno dopo, Giovanni riceve una e-mail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da sua suocera – pure con una copia a sua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moglie – dicendo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“Caro genero, non voglio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insinuare che “vai a letto" con la cameriera,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e non voglio insinuare che “non vai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a letto" con la cameriera, ma il fatto è che,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se lei avesse dormito nel suo proprio letto,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già avreste trovato il mestolo di zuppa che ho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posato là, giusto sotto il cuscino..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TI ALLEGO UN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REGALINO FINCHÉ NON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TORNI MIA FIGLIA..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4316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tuasogra_" descr=""/>
          <p:cNvPicPr/>
          <p:nvPr/>
        </p:nvPicPr>
        <p:blipFill>
          <a:blip r:embed="rId1"/>
          <a:stretch/>
        </p:blipFill>
        <p:spPr>
          <a:xfrm>
            <a:off x="3124080" y="457200"/>
            <a:ext cx="343872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372360" y="6165720"/>
            <a:ext cx="253368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ww.carloneworld.i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4T17:49:27Z</dcterms:created>
  <dc:creator>Temperaço</dc:creator>
  <dc:description/>
  <dc:language>en-US</dc:language>
  <cp:lastModifiedBy>Carlo</cp:lastModifiedBy>
  <dcterms:modified xsi:type="dcterms:W3CDTF">2003-07-12T18:15:00Z</dcterms:modified>
  <cp:revision>21</cp:revision>
  <dc:subject/>
  <dc:title>Apresentação do PowerPoint</dc:title>
</cp:coreProperties>
</file>