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56B-7E8C-4793-82CE-0A67B6C3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AAE-89AE-4922-A7B4-FED335DD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D27-0FF1-4A7E-92B4-9D443309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050-BFA1-4E89-BD2B-16DA05D3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D6A-BBFE-4FC1-BE35-100358AB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146-CEF3-443D-9AFB-5A05545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45D-9BA8-4656-945A-E4700780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C11-751A-4048-A4C3-0F965FD1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D7E-CB97-49F3-ADAA-9F3F4099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598-69AB-4261-ACDC-3550B5B2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EC9-9B77-4F9F-9381-A3B51A7E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67F-5E7C-4119-A3F8-F4C76C50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A253-AA49-4CDC-8493-E971911B7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-Ori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2411280" y="1541520"/>
            <a:ext cx="48769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–Less 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contrast="-88000"/>
          </a:blip>
          <a:stretch/>
        </p:blipFill>
        <p:spPr>
          <a:xfrm>
            <a:off x="2411280" y="1541520"/>
            <a:ext cx="48769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–More 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2340000" y="1773360"/>
            <a:ext cx="48769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25:09Z</dcterms:created>
  <dc:creator/>
  <dc:description/>
  <dc:language>en-US</dc:language>
  <cp:lastModifiedBy>svege</cp:lastModifiedBy>
  <dcterms:modified xsi:type="dcterms:W3CDTF">2010-06-17T11:55:13Z</dcterms:modified>
  <cp:revision>16</cp:revision>
  <dc:subject/>
  <dc:title>table</dc:title>
</cp:coreProperties>
</file>