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6AAC26-73D8-426D-A8A1-1BEF6FD8A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6396120"/>
            <a:ext cx="9131400" cy="447480"/>
            <a:chOff x="0" y="6396120"/>
            <a:chExt cx="9131400" cy="447480"/>
          </a:xfrm>
        </p:grpSpPr>
        <p:sp>
          <p:nvSpPr>
            <p:cNvPr id="4" name=""/>
            <p:cNvSpPr/>
            <p:nvPr/>
          </p:nvSpPr>
          <p:spPr>
            <a:xfrm>
              <a:off x="0" y="6396120"/>
              <a:ext cx="9131400" cy="447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1919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124760" y="6543720"/>
              <a:ext cx="95544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"/>
          <p:cNvSpPr/>
          <p:nvPr/>
        </p:nvSpPr>
        <p:spPr>
          <a:xfrm>
            <a:off x="1440" y="6407280"/>
            <a:ext cx="9131400" cy="43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61240" y="6491160"/>
            <a:ext cx="91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9A7AF6F1-77B0-4A22-8E73-3D27DB6560C1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63943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AME -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03360" y="992160"/>
            <a:ext cx="403092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Wel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stions /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ffee 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erenc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erence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erence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erence #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ic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85760" y="998640"/>
            <a:ext cx="133200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H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H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H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H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H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H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H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H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H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H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70640" y="1000080"/>
            <a:ext cx="25336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son #1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son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son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son #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"Bon appéti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8840" y="231840"/>
            <a:ext cx="15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66680" y="5680080"/>
            <a:ext cx="6924960" cy="522360"/>
            <a:chOff x="1066680" y="5680080"/>
            <a:chExt cx="6924960" cy="522360"/>
          </a:xfrm>
        </p:grpSpPr>
        <p:sp>
          <p:nvSpPr>
            <p:cNvPr id="50" name=""/>
            <p:cNvSpPr/>
            <p:nvPr/>
          </p:nvSpPr>
          <p:spPr>
            <a:xfrm>
              <a:off x="1283400" y="5757840"/>
              <a:ext cx="629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his session was prepared by the department committ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6680" y="5680080"/>
              <a:ext cx="6924960" cy="5223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 </dc:creator>
  <dc:description/>
  <dc:language>en-US</dc:language>
  <cp:lastModifiedBy> </cp:lastModifiedBy>
  <cp:lastPrinted>2001-12-17T15:28:25Z</cp:lastPrinted>
  <dcterms:modified xsi:type="dcterms:W3CDTF">2005-10-27T16:33:58Z</dcterms:modified>
  <cp:revision>812</cp:revision>
  <dc:subject/>
  <dc:title>Aucun titre de diapositive</dc:title>
</cp:coreProperties>
</file>