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89477-2F37-4EFA-8AEF-9432126727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99720"/>
            <a:ext cx="777240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852720"/>
            <a:ext cx="777240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238B1-7779-4FA7-A606-660EB1D6B4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99720"/>
            <a:ext cx="379260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99720"/>
            <a:ext cx="379260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852720"/>
            <a:ext cx="379260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852720"/>
            <a:ext cx="379260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C96F2-B153-40E5-A762-65822E994A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99720"/>
            <a:ext cx="250236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99720"/>
            <a:ext cx="250236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99720"/>
            <a:ext cx="250236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852720"/>
            <a:ext cx="250236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852720"/>
            <a:ext cx="250236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852720"/>
            <a:ext cx="250236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36C07-0E59-49FB-B924-E2F45B4496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899720"/>
            <a:ext cx="777240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99720"/>
            <a:ext cx="777240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99720"/>
            <a:ext cx="379260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899720"/>
            <a:ext cx="379260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99720"/>
            <a:ext cx="379260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899720"/>
            <a:ext cx="379260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852720"/>
            <a:ext cx="379260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99720"/>
            <a:ext cx="777240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44261-E14F-4BDF-A250-360BF555C3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99720"/>
            <a:ext cx="379260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899720"/>
            <a:ext cx="379260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3852720"/>
            <a:ext cx="379260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99720"/>
            <a:ext cx="379260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899720"/>
            <a:ext cx="379260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852720"/>
            <a:ext cx="777240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99720"/>
            <a:ext cx="777240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852720"/>
            <a:ext cx="777240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899720"/>
            <a:ext cx="379260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899720"/>
            <a:ext cx="379260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852720"/>
            <a:ext cx="379260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3852720"/>
            <a:ext cx="379260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899720"/>
            <a:ext cx="250236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899720"/>
            <a:ext cx="250236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899720"/>
            <a:ext cx="250236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852720"/>
            <a:ext cx="250236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3852720"/>
            <a:ext cx="250236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3852720"/>
            <a:ext cx="250236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99720"/>
            <a:ext cx="777240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A0B94-1144-485F-879C-39FDDE686C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99720"/>
            <a:ext cx="379260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99720"/>
            <a:ext cx="379260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A5692-1ABF-4238-94E6-1DE5369658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9A85F-3E29-4B3E-BB39-7C3EBE0F86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FD664-B620-4A04-B3AC-59159D5FB4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99720"/>
            <a:ext cx="379260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99720"/>
            <a:ext cx="379260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852720"/>
            <a:ext cx="379260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31EEC-F6C4-4FCA-A5EE-C7A2BF7088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99720"/>
            <a:ext cx="379260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99720"/>
            <a:ext cx="379260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852720"/>
            <a:ext cx="379260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05F77-7C27-43A1-A974-E4DF3391FA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99720"/>
            <a:ext cx="379260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99720"/>
            <a:ext cx="379260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852720"/>
            <a:ext cx="777240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093C2-9C26-4945-95F8-3871FBB463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99720"/>
            <a:ext cx="777240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spcBef>
                <a:spcPts val="799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28520" indent="-2055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40000" indent="-2055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153280" y="6400800"/>
            <a:ext cx="99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1ACAF-B645-4C65-87A5-AF0E654B98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380880" y="5410080"/>
            <a:ext cx="8534520" cy="1238400"/>
            <a:chOff x="380880" y="5410080"/>
            <a:chExt cx="8534520" cy="1238400"/>
          </a:xfrm>
        </p:grpSpPr>
        <p:sp>
          <p:nvSpPr>
            <p:cNvPr id="5" name=""/>
            <p:cNvSpPr/>
            <p:nvPr/>
          </p:nvSpPr>
          <p:spPr>
            <a:xfrm>
              <a:off x="380880" y="5933880"/>
              <a:ext cx="6705720" cy="190440"/>
            </a:xfrm>
            <a:prstGeom prst="rect">
              <a:avLst/>
            </a:prstGeom>
            <a:gradFill rotWithShape="0">
              <a:gsLst>
                <a:gs pos="0">
                  <a:srgbClr val="363636"/>
                </a:gs>
                <a:gs pos="50000">
                  <a:srgbClr val="777777"/>
                </a:gs>
                <a:gs pos="100000">
                  <a:srgbClr val="363636"/>
                </a:gs>
              </a:gsLst>
              <a:lin ang="5400000"/>
            </a:gradFill>
            <a:ln w="19080">
              <a:solidFill>
                <a:srgbClr val="b2b2b2"/>
              </a:solidFill>
              <a:miter/>
            </a:ln>
            <a:effectLst>
              <a:outerShdw dist="17819" dir="2700000" blurRad="0" rotWithShape="0">
                <a:srgbClr val="cc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6933960" y="5410080"/>
              <a:ext cx="1981440" cy="1238400"/>
              <a:chOff x="6933960" y="5410080"/>
              <a:chExt cx="1981440" cy="1238400"/>
            </a:xfrm>
          </p:grpSpPr>
          <p:sp>
            <p:nvSpPr>
              <p:cNvPr id="7" name=""/>
              <p:cNvSpPr txBox="1"/>
              <p:nvPr/>
            </p:nvSpPr>
            <p:spPr>
              <a:xfrm>
                <a:off x="7391160" y="5715000"/>
                <a:ext cx="1524240" cy="5522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1" strike="noStrike">
                    <a:ln w="12600">
                      <a:solidFill>
                        <a:srgbClr val="b2b2b2"/>
                      </a:solidFill>
                      <a:miter/>
                    </a:ln>
                    <a:gradFill rotWithShape="0">
                      <a:gsLst>
                        <a:gs pos="0">
                          <a:srgbClr val="363636"/>
                        </a:gs>
                        <a:gs pos="50000">
                          <a:srgbClr val="777777"/>
                        </a:gs>
                        <a:gs pos="100000">
                          <a:srgbClr val="363636"/>
                        </a:gs>
                      </a:gsLst>
                      <a:lin ang="5400000"/>
                    </a:gradFill>
                    <a:effectLst>
                      <a:outerShdw dist="17819" dir="2700000" blurRad="0" rotWithShape="0">
                        <a:srgbClr val="cc6600"/>
                      </a:outerShdw>
                    </a:effectLst>
                    <a:latin typeface="Times New Roman"/>
                  </a:rPr>
                  <a:t>ondor</a:t>
                </a:r>
                <a:endParaRPr b="1" lang="en-US" sz="4000" spc="1" strike="noStrike">
                  <a:ln w="12600">
                    <a:solidFill>
                      <a:srgbClr val="b2b2b2"/>
                    </a:solidFill>
                    <a:miter/>
                  </a:ln>
                  <a:gradFill rotWithShape="0">
                    <a:gsLst>
                      <a:gs pos="0">
                        <a:srgbClr val="363636"/>
                      </a:gs>
                      <a:gs pos="50000">
                        <a:srgbClr val="777777"/>
                      </a:gs>
                      <a:gs pos="100000">
                        <a:srgbClr val="363636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cc66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8" name=""/>
              <p:cNvSpPr txBox="1"/>
              <p:nvPr/>
            </p:nvSpPr>
            <p:spPr>
              <a:xfrm>
                <a:off x="6933960" y="5410080"/>
                <a:ext cx="895320" cy="1238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1" strike="noStrike">
                    <a:ln w="12600">
                      <a:solidFill>
                        <a:srgbClr val="b2b2b2"/>
                      </a:solidFill>
                      <a:miter/>
                    </a:ln>
                    <a:gradFill rotWithShape="0">
                      <a:gsLst>
                        <a:gs pos="0">
                          <a:srgbClr val="363636"/>
                        </a:gs>
                        <a:gs pos="50000">
                          <a:srgbClr val="777777"/>
                        </a:gs>
                        <a:gs pos="100000">
                          <a:srgbClr val="363636"/>
                        </a:gs>
                      </a:gsLst>
                      <a:lin ang="5400000"/>
                    </a:gradFill>
                    <a:effectLst>
                      <a:outerShdw dist="17819" dir="2700000" blurRad="0" rotWithShape="0">
                        <a:srgbClr val="cc6600"/>
                      </a:outerShdw>
                    </a:effectLst>
                    <a:latin typeface="Times New Roman"/>
                  </a:rPr>
                  <a:t>C</a:t>
                </a:r>
                <a:endParaRPr b="1" lang="en-US" sz="8000" spc="1" strike="noStrike">
                  <a:ln w="12600">
                    <a:solidFill>
                      <a:srgbClr val="b2b2b2"/>
                    </a:solidFill>
                    <a:miter/>
                  </a:ln>
                  <a:gradFill rotWithShape="0">
                    <a:gsLst>
                      <a:gs pos="0">
                        <a:srgbClr val="363636"/>
                      </a:gs>
                      <a:gs pos="50000">
                        <a:srgbClr val="777777"/>
                      </a:gs>
                      <a:gs pos="100000">
                        <a:srgbClr val="363636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cc66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</p:grpSp>
      <p:sp>
        <p:nvSpPr>
          <p:cNvPr id="9" name=""/>
          <p:cNvSpPr/>
          <p:nvPr/>
        </p:nvSpPr>
        <p:spPr>
          <a:xfrm>
            <a:off x="3999960" y="6324480"/>
            <a:ext cx="29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mic Sans MS"/>
              </a:rPr>
              <a:t>http://www.cs.wisc.edu/con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3"/>
          </p:nvPr>
        </p:nvSpPr>
        <p:spPr>
          <a:xfrm>
            <a:off x="380880" y="6172200"/>
            <a:ext cx="6019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80880" y="5410080"/>
            <a:ext cx="8534520" cy="1238400"/>
            <a:chOff x="380880" y="5410080"/>
            <a:chExt cx="8534520" cy="1238400"/>
          </a:xfrm>
        </p:grpSpPr>
        <p:sp>
          <p:nvSpPr>
            <p:cNvPr id="49" name=""/>
            <p:cNvSpPr/>
            <p:nvPr/>
          </p:nvSpPr>
          <p:spPr>
            <a:xfrm>
              <a:off x="380880" y="5933880"/>
              <a:ext cx="6705720" cy="190440"/>
            </a:xfrm>
            <a:prstGeom prst="rect">
              <a:avLst/>
            </a:prstGeom>
            <a:gradFill rotWithShape="0">
              <a:gsLst>
                <a:gs pos="0">
                  <a:srgbClr val="363636"/>
                </a:gs>
                <a:gs pos="50000">
                  <a:srgbClr val="777777"/>
                </a:gs>
                <a:gs pos="100000">
                  <a:srgbClr val="363636"/>
                </a:gs>
              </a:gsLst>
              <a:lin ang="5400000"/>
            </a:gradFill>
            <a:ln w="19080">
              <a:solidFill>
                <a:srgbClr val="b2b2b2"/>
              </a:solidFill>
              <a:miter/>
            </a:ln>
            <a:effectLst>
              <a:outerShdw dist="17819" dir="2700000" blurRad="0" rotWithShape="0">
                <a:srgbClr val="cc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6933960" y="5410080"/>
              <a:ext cx="1981440" cy="1238400"/>
              <a:chOff x="6933960" y="5410080"/>
              <a:chExt cx="1981440" cy="1238400"/>
            </a:xfrm>
          </p:grpSpPr>
          <p:sp>
            <p:nvSpPr>
              <p:cNvPr id="51" name=""/>
              <p:cNvSpPr txBox="1"/>
              <p:nvPr/>
            </p:nvSpPr>
            <p:spPr>
              <a:xfrm>
                <a:off x="7391160" y="5715000"/>
                <a:ext cx="1524240" cy="5522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1" strike="noStrike">
                    <a:ln w="12600">
                      <a:solidFill>
                        <a:srgbClr val="b2b2b2"/>
                      </a:solidFill>
                      <a:miter/>
                    </a:ln>
                    <a:gradFill rotWithShape="0">
                      <a:gsLst>
                        <a:gs pos="0">
                          <a:srgbClr val="363636"/>
                        </a:gs>
                        <a:gs pos="50000">
                          <a:srgbClr val="777777"/>
                        </a:gs>
                        <a:gs pos="100000">
                          <a:srgbClr val="363636"/>
                        </a:gs>
                      </a:gsLst>
                      <a:lin ang="5400000"/>
                    </a:gradFill>
                    <a:effectLst>
                      <a:outerShdw dist="17819" dir="2700000" blurRad="0" rotWithShape="0">
                        <a:srgbClr val="cc6600"/>
                      </a:outerShdw>
                    </a:effectLst>
                    <a:latin typeface="Times New Roman"/>
                  </a:rPr>
                  <a:t>ondor</a:t>
                </a:r>
                <a:endParaRPr b="1" lang="en-US" sz="4000" spc="1" strike="noStrike">
                  <a:ln w="12600">
                    <a:solidFill>
                      <a:srgbClr val="b2b2b2"/>
                    </a:solidFill>
                    <a:miter/>
                  </a:ln>
                  <a:gradFill rotWithShape="0">
                    <a:gsLst>
                      <a:gs pos="0">
                        <a:srgbClr val="363636"/>
                      </a:gs>
                      <a:gs pos="50000">
                        <a:srgbClr val="777777"/>
                      </a:gs>
                      <a:gs pos="100000">
                        <a:srgbClr val="363636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cc66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52" name=""/>
              <p:cNvSpPr txBox="1"/>
              <p:nvPr/>
            </p:nvSpPr>
            <p:spPr>
              <a:xfrm>
                <a:off x="6933960" y="5410080"/>
                <a:ext cx="895320" cy="1238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1" strike="noStrike">
                    <a:ln w="12600">
                      <a:solidFill>
                        <a:srgbClr val="b2b2b2"/>
                      </a:solidFill>
                      <a:miter/>
                    </a:ln>
                    <a:gradFill rotWithShape="0">
                      <a:gsLst>
                        <a:gs pos="0">
                          <a:srgbClr val="363636"/>
                        </a:gs>
                        <a:gs pos="50000">
                          <a:srgbClr val="777777"/>
                        </a:gs>
                        <a:gs pos="100000">
                          <a:srgbClr val="363636"/>
                        </a:gs>
                      </a:gsLst>
                      <a:lin ang="5400000"/>
                    </a:gradFill>
                    <a:effectLst>
                      <a:outerShdw dist="17819" dir="2700000" blurRad="0" rotWithShape="0">
                        <a:srgbClr val="cc6600"/>
                      </a:outerShdw>
                    </a:effectLst>
                    <a:latin typeface="Times New Roman"/>
                  </a:rPr>
                  <a:t>C</a:t>
                </a:r>
                <a:endParaRPr b="1" lang="en-US" sz="8000" spc="1" strike="noStrike">
                  <a:ln w="12600">
                    <a:solidFill>
                      <a:srgbClr val="b2b2b2"/>
                    </a:solidFill>
                    <a:miter/>
                  </a:ln>
                  <a:gradFill rotWithShape="0">
                    <a:gsLst>
                      <a:gs pos="0">
                        <a:srgbClr val="363636"/>
                      </a:gs>
                      <a:gs pos="50000">
                        <a:srgbClr val="777777"/>
                      </a:gs>
                      <a:gs pos="100000">
                        <a:srgbClr val="363636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cc66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</p:grpSp>
      <p:sp>
        <p:nvSpPr>
          <p:cNvPr id="53" name=""/>
          <p:cNvSpPr/>
          <p:nvPr/>
        </p:nvSpPr>
        <p:spPr>
          <a:xfrm>
            <a:off x="4098960" y="3851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159280" y="3733920"/>
            <a:ext cx="4838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ndor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mputer Sciences 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iversity of Wisconsin-Mad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ndor-admin@cs.wisc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http://www.cs.wisc.edu/con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Comic Sans MS"/>
              </a:rPr>
              <a:t>Java Universe Job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114440" y="1523520"/>
            <a:ext cx="4724280" cy="38862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niverse = jav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ecutable = Main.cla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jar_files = MyLibrary.ja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put = infi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utput = outfi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rguments = Main 1 2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eu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"/>
          <p:cNvSpPr/>
          <p:nvPr/>
        </p:nvSpPr>
        <p:spPr>
          <a:xfrm>
            <a:off x="302040" y="3581280"/>
            <a:ext cx="26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dor_subm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7180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2648E-4989-4A8C-81AA-E37E9752DCE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7T12:01:50Z</dcterms:created>
  <dc:creator>Miron Livny</dc:creator>
  <dc:description/>
  <dc:language>en-US</dc:language>
  <cp:lastModifiedBy>Christian Günther</cp:lastModifiedBy>
  <cp:lastPrinted>2000-02-29T01:23:00Z</cp:lastPrinted>
  <dcterms:modified xsi:type="dcterms:W3CDTF">2004-04-20T09:32:16Z</dcterms:modified>
  <cp:revision>243</cp:revision>
  <dc:subject/>
  <dc:title>Condor - A Project and a System</dc:title>
</cp:coreProperties>
</file>