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60CE-DB2B-42FC-8AC5-2B55B9BAF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D695-FA79-454F-8749-C8A16A3A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A4EC-3B5D-4D1C-97E4-12AA1168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08C1-BCF0-40CF-974F-664BD9F6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A734-9741-4CA7-99FE-187984E3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2708-C117-43E0-977D-79B0EB09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3207-B6B2-43B8-8DBB-796B6816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E57D-B0CF-416B-9AAB-6DB6981A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6492-F735-4D9C-BE3B-7E2B0224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F62E-F5D5-47C7-A18F-C92B2F39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8D90-7508-4132-9680-BC3467E6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1501-3D24-43B6-A085-DF61DB4C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38D2-EBA7-4EC7-AFCF-8E2A6A676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5.xml"/><Relationship Id="rId11" Type="http://schemas.openxmlformats.org/officeDocument/2006/relationships/slide" Target="slide5.xml"/><Relationship Id="rId12" Type="http://schemas.openxmlformats.org/officeDocument/2006/relationships/slide" Target="slide5.xml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itle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Go to the 1</a:t>
            </a:r>
            <a:r>
              <a:rPr b="0" lang="en-GB" sz="2800" spc="-1" strike="noStrike" u="sng" baseline="30000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t</a:t>
            </a:r>
            <a:r>
              <a:rPr b="0" lang="en-GB" sz="2800" spc="-1" strike="noStrike" u="sng" baseline="30000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Go to the 2</a:t>
            </a:r>
            <a:r>
              <a:rPr b="0" lang="en-GB" sz="2800" spc="-1" strike="noStrike" u="sng" baseline="30000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nd</a:t>
            </a:r>
            <a:r>
              <a:rPr b="0" lang="en-GB" sz="2800" spc="-1" strike="noStrike" u="sng" baseline="30000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Go to the 3</a:t>
            </a:r>
            <a:r>
              <a:rPr b="0" lang="en-GB" sz="2800" spc="-1" strike="noStrike" u="sng" baseline="30000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rd</a:t>
            </a:r>
            <a:r>
              <a:rPr b="0" lang="en-GB" sz="2800" spc="-1" strike="noStrike" u="sng" baseline="30000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Go to the 4</a:t>
            </a:r>
            <a:r>
              <a:rPr b="0" lang="en-GB" sz="2800" spc="-1" strike="noStrike" u="sng" baseline="30000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th</a:t>
            </a:r>
            <a:r>
              <a:rPr b="0" lang="en-GB" sz="2800" spc="-1" strike="noStrike" u="sng" baseline="30000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82640" y="2440080"/>
            <a:ext cx="19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 to the 3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77280" y="409716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 to the Title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turn to the title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 to the last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780000" y="2781360"/>
            <a:ext cx="158112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4th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turn to the title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10:42:32Z</dcterms:created>
  <dc:creator>Viesis</dc:creator>
  <dc:description/>
  <dc:language>en-US</dc:language>
  <cp:lastModifiedBy>Viesis</cp:lastModifiedBy>
  <dcterms:modified xsi:type="dcterms:W3CDTF">2013-06-13T11:04:00Z</dcterms:modified>
  <cp:revision>3</cp:revision>
  <dc:subject/>
  <dc:title>Title page</dc:title>
</cp:coreProperties>
</file>