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A3C0-43CC-42ED-842C-64887117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744-2D82-429A-B3A9-9CF20ACE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570E-147D-45F0-9FEE-362D9861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A49-CA1F-4E62-B40E-1C8A1BE1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FBEE-376F-4479-97AE-CFA84180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06E-F118-466F-A791-5FCE4E1A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CF3-3E8C-40CE-AB12-88C0A7D6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D9C-1A75-42E8-B814-3AFCDC3C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AFC-5307-4A23-B858-5E9B9335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715-DB06-4930-B80F-8500B34D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857-D2C8-4698-9DE4-0D13C08C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77A-14A8-4817-9EF4-A7CB4C87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70AA-FF83-4225-94BA-FCF5FF23064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51240" y="765000"/>
            <a:ext cx="1403280" cy="30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Ger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828800"/>
            <a:ext cx="1371600" cy="520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67560" y="1773360"/>
            <a:ext cx="1562040" cy="30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Jefe 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3413160"/>
            <a:ext cx="1170000" cy="30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Jefe T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10040" y="3413160"/>
            <a:ext cx="1406520" cy="30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Jefe Comp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39680" y="3429000"/>
            <a:ext cx="1094040" cy="30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87640" y="4205160"/>
            <a:ext cx="1560600" cy="520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Responsable S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85840" y="5140440"/>
            <a:ext cx="1560600" cy="520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Operario Máqu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85840" y="6087960"/>
            <a:ext cx="1560600" cy="520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ersonal Prác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8" idx="2"/>
            <a:endCxn id="49" idx="0"/>
          </p:cNvCxnSpPr>
          <p:nvPr/>
        </p:nvCxnSpPr>
        <p:spPr>
          <a:xfrm rot="16200000">
            <a:off x="2652480" y="5874120"/>
            <a:ext cx="427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1" idx="2"/>
            <a:endCxn id="42" idx="0"/>
          </p:cNvCxnSpPr>
          <p:nvPr/>
        </p:nvCxnSpPr>
        <p:spPr>
          <a:xfrm rot="5400000">
            <a:off x="2478960" y="-644760"/>
            <a:ext cx="757080" cy="4191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1" idx="2"/>
            <a:endCxn id="43" idx="0"/>
          </p:cNvCxnSpPr>
          <p:nvPr/>
        </p:nvCxnSpPr>
        <p:spPr>
          <a:xfrm flipH="1" rot="16200000">
            <a:off x="5850000" y="174960"/>
            <a:ext cx="701640" cy="2495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3162240" y="1841400"/>
            <a:ext cx="1562040" cy="520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Responsable Calidad y M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13280" y="4200480"/>
            <a:ext cx="1404720" cy="30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Jefe Almacé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5" idx="2"/>
            <a:endCxn id="54" idx="0"/>
          </p:cNvCxnSpPr>
          <p:nvPr/>
        </p:nvCxnSpPr>
        <p:spPr>
          <a:xfrm flipH="1" rot="16200000">
            <a:off x="4474080" y="3958920"/>
            <a:ext cx="480600" cy="2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4010040" y="5146560"/>
            <a:ext cx="1406520" cy="520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ersonal Almacé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4" idx="2"/>
            <a:endCxn id="56" idx="0"/>
          </p:cNvCxnSpPr>
          <p:nvPr/>
        </p:nvCxnSpPr>
        <p:spPr>
          <a:xfrm rot="5400000">
            <a:off x="4394520" y="4825800"/>
            <a:ext cx="639360" cy="2880"/>
          </a:xfrm>
          <a:prstGeom prst="bentConnector3">
            <a:avLst>
              <a:gd name="adj1" fmla="val 49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5638680" y="4191120"/>
            <a:ext cx="1103400" cy="30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eline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3" idx="2"/>
            <a:endCxn id="46" idx="0"/>
          </p:cNvCxnSpPr>
          <p:nvPr/>
        </p:nvCxnSpPr>
        <p:spPr>
          <a:xfrm rot="5400000">
            <a:off x="2230920" y="1716840"/>
            <a:ext cx="1067760" cy="23569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981840" y="4191120"/>
            <a:ext cx="1463760" cy="30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rogram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7594560" y="5334120"/>
            <a:ext cx="1365120" cy="720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240" y="5105520"/>
            <a:ext cx="1404720" cy="520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ersonal Adm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42" idx="2"/>
            <a:endCxn id="62" idx="0"/>
          </p:cNvCxnSpPr>
          <p:nvPr/>
        </p:nvCxnSpPr>
        <p:spPr>
          <a:xfrm flipH="1">
            <a:off x="759600" y="2349000"/>
            <a:ext cx="2880" cy="275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8686800" y="4191120"/>
            <a:ext cx="914400" cy="30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Ofer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41" idx="2"/>
            <a:endCxn id="53" idx="0"/>
          </p:cNvCxnSpPr>
          <p:nvPr/>
        </p:nvCxnSpPr>
        <p:spPr>
          <a:xfrm rot="5400000">
            <a:off x="4062960" y="951840"/>
            <a:ext cx="769680" cy="10101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7" idx="2"/>
            <a:endCxn id="48" idx="0"/>
          </p:cNvCxnSpPr>
          <p:nvPr/>
        </p:nvCxnSpPr>
        <p:spPr>
          <a:xfrm flipH="1">
            <a:off x="2865960" y="4725360"/>
            <a:ext cx="2160" cy="41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44" idx="2"/>
            <a:endCxn id="47" idx="0"/>
          </p:cNvCxnSpPr>
          <p:nvPr/>
        </p:nvCxnSpPr>
        <p:spPr>
          <a:xfrm flipH="1">
            <a:off x="2867760" y="3720240"/>
            <a:ext cx="3600" cy="48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44" idx="2"/>
            <a:endCxn id="54" idx="0"/>
          </p:cNvCxnSpPr>
          <p:nvPr/>
        </p:nvCxnSpPr>
        <p:spPr>
          <a:xfrm flipH="1" rot="16200000">
            <a:off x="3553200" y="3038040"/>
            <a:ext cx="480600" cy="1845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010280" y="3429000"/>
            <a:ext cx="1406520" cy="30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Oficina Téc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43" idx="2"/>
            <a:endCxn id="69" idx="0"/>
          </p:cNvCxnSpPr>
          <p:nvPr/>
        </p:nvCxnSpPr>
        <p:spPr>
          <a:xfrm flipH="1" rot="16200000">
            <a:off x="6906600" y="2622240"/>
            <a:ext cx="1348920" cy="265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9" idx="2"/>
            <a:endCxn id="58" idx="0"/>
          </p:cNvCxnSpPr>
          <p:nvPr/>
        </p:nvCxnSpPr>
        <p:spPr>
          <a:xfrm rot="5400000">
            <a:off x="6724080" y="3202200"/>
            <a:ext cx="455400" cy="1523520"/>
          </a:xfrm>
          <a:prstGeom prst="bentConnector5">
            <a:avLst>
              <a:gd name="adj1" fmla="val 217721"/>
              <a:gd name="adj2" fmla="val 151240"/>
              <a:gd name="adj3" fmla="val 496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9" idx="2"/>
            <a:endCxn id="60" idx="0"/>
          </p:cNvCxnSpPr>
          <p:nvPr/>
        </p:nvCxnSpPr>
        <p:spPr>
          <a:xfrm flipH="1" rot="16200000">
            <a:off x="7485840" y="3963240"/>
            <a:ext cx="455400" cy="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9" idx="2"/>
            <a:endCxn id="64" idx="0"/>
          </p:cNvCxnSpPr>
          <p:nvPr/>
        </p:nvCxnSpPr>
        <p:spPr>
          <a:xfrm flipH="1" rot="16200000">
            <a:off x="8201160" y="3248280"/>
            <a:ext cx="455400" cy="1431000"/>
          </a:xfrm>
          <a:prstGeom prst="bentConnector5">
            <a:avLst>
              <a:gd name="adj1" fmla="val 217721"/>
              <a:gd name="adj2" fmla="val 147961"/>
              <a:gd name="adj3" fmla="val 496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3" idx="2"/>
            <a:endCxn id="45" idx="0"/>
          </p:cNvCxnSpPr>
          <p:nvPr/>
        </p:nvCxnSpPr>
        <p:spPr>
          <a:xfrm rot="5400000">
            <a:off x="5414400" y="1379160"/>
            <a:ext cx="1333080" cy="273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3" idx="2"/>
            <a:endCxn id="44" idx="0"/>
          </p:cNvCxnSpPr>
          <p:nvPr/>
        </p:nvCxnSpPr>
        <p:spPr>
          <a:xfrm rot="5400000">
            <a:off x="4493160" y="458280"/>
            <a:ext cx="1333080" cy="457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s</cp:lastModifiedBy>
  <dcterms:modified xsi:type="dcterms:W3CDTF">2005-07-07T10:02:01Z</dcterms:modified>
  <cp:revision>16</cp:revision>
  <dc:subject/>
  <dc:title>PowerPoint Presentation</dc:title>
</cp:coreProperties>
</file>