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7E9-9AB4-4AE8-8D3A-067257BC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8AC-80BD-47DB-A635-50E9210C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C33-546D-4403-B70A-079091DA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DC3-2F99-47D8-BB14-8504B242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326-10F8-47DF-AB46-6B636788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408-5BD7-43DF-B37C-D3021F6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22C-189A-4094-81A7-8B75EB8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5F6-269E-4AAB-B3EC-17B13CB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310-757B-4C86-A89F-976FBF3C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834-96C5-4F68-949B-0D67D86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F4A-5C53-4958-8A9B-5369D9E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286-B7EE-4959-AC43-55E4396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8DD53-A636-445E-A372-5FB322E7AE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ngle Slide Foote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rg Sievers</dc:creator>
  <dc:description/>
  <dc:language>en-US</dc:language>
  <cp:lastModifiedBy/>
  <cp:revision>0</cp:revision>
  <dc:subject/>
  <dc:title/>
</cp:coreProperties>
</file>