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E2A-2FBF-4C2F-959A-835C9CB4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E42-705D-4C22-B0CC-B4324402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BB4-7F85-4EA0-9219-6E85E65F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BF1-0F93-4DA3-A01D-9F19D91B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73BF-33FC-42A0-B974-6C2A293D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965A-CC76-43F2-8695-5E46615B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0827-9EB1-4697-8B93-DDA3AF14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E0E5-6D57-4E37-9354-ED6A6CF4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D992-1FBB-4CC8-9DDA-8C0B4F52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5F49-3165-413F-A5EC-48169783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1A68-DFBE-4738-8744-C6D2C76A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68C-DF91-4DA3-B421-C3D35D1D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A167-B9BE-49CE-881E-FC972C50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8E71-306E-4783-861F-9C36165C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35BE-801E-4574-94A7-904C4D22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C8D2-07DF-4718-979A-152A5CF8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66A3-1F51-4F7B-BACB-88820A3A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4CD-0A5B-4575-B4F7-D4480ABC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870E-1951-4234-9927-73D4FFE4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A59-77B3-4D1C-A365-FB2B85CD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7F2-206C-4C91-BCC5-FADB3866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C2B-5F38-486F-B00E-4965FC2C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47A-F0B1-447F-B7CD-977A9513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C4C-7C20-48B2-9411-C606C019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6750-B941-4827-A67F-CF872BD19E5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E6D2-6750-405C-A9F8-7A13F543B6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C12C-1BCE-4A0E-821D-A3AAA168886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lide #</a:t>
            </a:r>
            <a:fld id="{72BD89CF-EEEF-47A9-BF3C-83463B335E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855F47EB-AEA6-42E1-8CA1-BFE6520A2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74482629-B5D1-4D73-A6F9-913669684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7FCF9242-E2B8-4550-847F-69CEFAF50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DCF9F1E2-DADB-4F9E-BE00-C76B21E86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DA8B4391-F62D-4F2F-8989-EBE5540D6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A7470649-86BF-4A29-AD43-E3E757FC8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C60A7888-F2F6-4AE2-BBB9-E82EB6A5B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AE029258-CFDC-4400-B463-C94DCC4D4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AB5F3DC1-33FD-48A3-BF91-74BE4898B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64418B60-0A48-4081-A98D-08152A415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536C1288-21EC-4BE5-BB3F-B60B33E3A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BADDA81D-3A68-42FC-A3AA-5E8D3E951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91163B46-123A-4455-A25D-B02330468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872EA7F3-3C5C-4DB7-8C0D-697021517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B22FD37B-5473-49AA-90EA-96A5F130F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CD5482BF-91D7-46C7-AA8D-236D2A976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D4CBD20E-7BAC-406D-BF2D-6C6D335CC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2252D29D-EAA1-4B5C-9037-4C96C5A60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BEF36616-083A-4CAC-B5F5-2887C9F14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C778EF9C-33AC-4DEC-89B2-8C1AA3ED0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richblix</dc:creator>
  <dc:description/>
  <dc:language>en-US</dc:language>
  <cp:lastModifiedBy>Grichblix</cp:lastModifiedBy>
  <dcterms:modified xsi:type="dcterms:W3CDTF">2015-04-16T16:32:44Z</dcterms:modified>
  <cp:revision>1</cp:revision>
  <dc:subject/>
  <dc:title>Slide 1</dc:title>
</cp:coreProperties>
</file>