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086B-A703-49E7-A1F8-8EDCDE6B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1AFD-71BB-426F-A6B5-01F496BE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9C95-EE0A-439E-9457-CC89B042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4A2-92A9-4B6C-AA68-4CA048A0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BD0F-2F75-4DE4-9A7C-626CF218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7A5B-190E-4574-8774-BAE6CCDC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3BF5-CD24-44FE-94FB-99D3B862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7E7D-45CC-41B5-8F7F-858D4E1E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98FE-78B9-48D8-81B7-09720BBC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AB98-1E5E-4866-8113-F82A0A09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86BF-1349-48F1-9427-EEBB0732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E1CB-B65A-4549-8429-AB224229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D6FE-CC89-404B-B3CC-803214461F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5676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9T06:36:11Z</dcterms:created>
  <dc:creator>cheng shunyi</dc:creator>
  <dc:description/>
  <dc:language>en-US</dc:language>
  <cp:lastModifiedBy>lierhu</cp:lastModifiedBy>
  <dcterms:modified xsi:type="dcterms:W3CDTF">2009-07-28T06:45:02Z</dcterms:modified>
  <cp:revision>1</cp:revision>
  <dc:subject/>
  <dc:title>PowerPoint 演示文稿</dc:title>
</cp:coreProperties>
</file>