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FF189-1F8E-4299-94CC-999BE09230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81000" y="801720"/>
            <a:ext cx="55990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007640" y="5076720"/>
            <a:ext cx="5542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E3B-83E9-48CD-BE60-C15127D0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C00-1AF0-46E2-99E3-2134C87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20E-38FB-489F-94DA-4E52B860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2AD-E890-4A12-BC56-7D093343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243-CCFA-40BB-A4F8-4B8323A7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B50-E8EA-4C1C-AA7C-B8ADC400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BB2-0829-4019-AF28-C105CFB8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A8E-483B-4AC9-9D6C-E2A233D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83A-07C8-49BD-984F-3F32D68D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D9A-0626-4BBC-AC15-0DFA68A9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994-A007-4111-93EF-20BBEAE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58B-7C4F-4553-A886-6B75B699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4358B-026F-42FE-A4B4-2D41E3DAA9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43640" y="3948120"/>
            <a:ext cx="40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0320" indent="-207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ntegrierte interaktive 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07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07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Keine Leistungskontrollen (diese erfolgen in der Umsetzung in die  tägliche Arb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3120" y="1757520"/>
            <a:ext cx="8567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Beispiel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rbeitsprozessorientiert (wie kann der Beruf besser ausgeübt werden, für Einsteig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6520" y="0"/>
            <a:ext cx="73389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ctr" anchorCtr="1">
            <a:noAutofit/>
          </a:bodyPr>
          <a:p>
            <a:pPr indent="0" algn="ctr">
              <a:lnSpc>
                <a:spcPct val="100000"/>
              </a:lnSpc>
              <a:spcAft>
                <a:spcPts val="40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 experiences in e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83880" y="1469520"/>
            <a:ext cx="729000" cy="3613320"/>
          </a:xfrm>
          <a:prstGeom prst="rect">
            <a:avLst/>
          </a:prstGeom>
          <a:solidFill>
            <a:srgbClr val="9ed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Deutsche Erfahrungen im e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Mantke</dc:creator>
  <dc:description/>
  <dc:language>en-US</dc:language>
  <cp:lastModifiedBy/>
  <cp:revision>0</cp:revision>
  <dc:subject/>
  <dc:title/>
</cp:coreProperties>
</file>