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CE8-B88F-481A-BA57-BA9E6467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897-C947-484A-83FD-1D20ED34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9A0-6F34-4290-956C-EAF3933A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9BE-F177-4076-9A97-3EFEB451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4DC-4535-4B6C-A0DC-D4F2EDF5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C5D-83D1-409F-8B5E-A6DB4222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EEF-DF9B-49A1-B162-3EA3647F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D66-9665-48CB-935E-1DA242A1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1A4-0D8B-4F1B-8D1A-1865C65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29C-1DB9-4D7F-BA0A-28AD27CB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850-50C9-4B64-9706-14A0CD6F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CF1-FDBE-4F1A-87BB-B9ABE75B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59E6-429A-4D19-AAD5-B752D5B35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Dcol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652840" y="1727280"/>
            <a:ext cx="3838320" cy="4267080"/>
            <a:chOff x="2652840" y="1727280"/>
            <a:chExt cx="3838320" cy="4267080"/>
          </a:xfrm>
        </p:grpSpPr>
        <p:sp>
          <p:nvSpPr>
            <p:cNvPr id="43" name="_s6149"/>
            <p:cNvSpPr/>
            <p:nvPr/>
          </p:nvSpPr>
          <p:spPr>
            <a:xfrm flipH="1" flipV="1">
              <a:off x="3647880" y="3327120"/>
              <a:ext cx="463320" cy="268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6150"/>
            <p:cNvSpPr/>
            <p:nvPr/>
          </p:nvSpPr>
          <p:spPr>
            <a:xfrm>
              <a:off x="2652840" y="2527200"/>
              <a:ext cx="1066680" cy="1067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@2#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6151"/>
            <p:cNvSpPr/>
            <p:nvPr/>
          </p:nvSpPr>
          <p:spPr>
            <a:xfrm flipH="1">
              <a:off x="3647880" y="4127400"/>
              <a:ext cx="463320" cy="266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6152"/>
            <p:cNvSpPr/>
            <p:nvPr/>
          </p:nvSpPr>
          <p:spPr>
            <a:xfrm>
              <a:off x="2652840" y="4127400"/>
              <a:ext cx="1066680" cy="1067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F!@#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6153"/>
            <p:cNvSpPr/>
            <p:nvPr/>
          </p:nvSpPr>
          <p:spPr>
            <a:xfrm>
              <a:off x="4572000" y="439272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6154"/>
            <p:cNvSpPr/>
            <p:nvPr/>
          </p:nvSpPr>
          <p:spPr>
            <a:xfrm>
              <a:off x="4038480" y="4927680"/>
              <a:ext cx="1067040" cy="1066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!@#$&lt;&gt;?:”}{_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6155"/>
            <p:cNvSpPr/>
            <p:nvPr/>
          </p:nvSpPr>
          <p:spPr>
            <a:xfrm>
              <a:off x="5032440" y="4127400"/>
              <a:ext cx="463320" cy="266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6156"/>
            <p:cNvSpPr/>
            <p:nvPr/>
          </p:nvSpPr>
          <p:spPr>
            <a:xfrm>
              <a:off x="5424480" y="4127400"/>
              <a:ext cx="1066680" cy="1067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1g2h3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6157"/>
            <p:cNvSpPr/>
            <p:nvPr/>
          </p:nvSpPr>
          <p:spPr>
            <a:xfrm flipV="1">
              <a:off x="5032440" y="3327120"/>
              <a:ext cx="463320" cy="268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6158"/>
            <p:cNvSpPr/>
            <p:nvPr/>
          </p:nvSpPr>
          <p:spPr>
            <a:xfrm>
              <a:off x="5424480" y="2527200"/>
              <a:ext cx="1066680" cy="1067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6159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6160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khileshw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61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1@S3%f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,?&l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09:07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