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78245-876A-4C66-86D7-A20BF0C4E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CFC-0022-4035-B59D-343A241B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13D-FAC5-4899-8AB5-6C58369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6C2-B18D-401A-B648-4CEC7B96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4F6-AAEC-40C9-A3C8-3C7364BF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2AB-E939-46A5-AC99-EC6B9F0B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B150-9905-4C39-9415-9494299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829-786B-4279-A5BC-1EB07D0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3515-96E3-4428-B368-AC1A385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1388-EF5D-4CEA-B485-B89E3FA3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F148-6A1A-4665-B743-0EFEC55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669-CEA5-4688-920D-CBCE4B0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AFD-7AB2-46ED-AC15-796DE9E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92EE-C8DB-4DE4-BC0D-AAB293B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A4FE-4CCE-4BD5-AC07-F6FDA39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27B0-601F-40B1-9D70-7C0E23E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406-E61F-4C1E-9BEB-4986910B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4861-B0D6-46D4-BDD6-1A951EEB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E14-8F0B-4CB9-A3EB-8E8A7563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8C7-E998-4DD8-83C7-478CC50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158-6C61-49CA-AB18-686D9F1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496-9570-43E3-8D95-CC93D18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F99-E9EE-4A81-AD84-F4C7BCF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7DE-5160-4831-B376-9948EFF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323-BB16-422B-A7E9-F2E223E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170920" y="0"/>
            <a:ext cx="969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CEC01-DE23-4B3E-8F0B-406109FB89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C0292C-EA39-45ED-B918-A50FDA919B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Modyfikatory - przykł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ackage zpp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kies.klasy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kolejność definicji klas jest nieistot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Zpp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ikatory modyf = new Modyfikator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a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b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c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modyf.d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klasy mogą mieć jedynie dostęp pakietowy lub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Modyfika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otected 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ek Sro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1F2-5375-4819-A632-8D215236BB7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