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694-708A-4132-A6E6-D21F7229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8AB-BC53-4E16-BA36-7D7784EB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B63-5A8C-4270-BC98-F0F901DE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DD1-6DCF-4022-B6A6-9117CCD1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0005-E0EE-42D2-AF26-6D910C32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39F1-C563-415D-A562-FE4DBA4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0BF3-A51D-4890-BC35-525D4C57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6CAA-5444-4D58-8ED0-F9F6BB53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81D-98A9-48FC-AE1F-51F0CD7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7FA3-4949-4195-A978-DD76EB9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427A-6B5C-4BAF-B55D-3176F27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530-2A8B-49BA-8E6A-1C0F594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9B77-18BB-42B3-9660-95E2CAC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3CA-BEBB-498A-87B5-34C8167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E750-F7AA-4BAD-8512-4DBCF2EB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8C1-F934-4F36-B030-A9F32D67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157-79B5-4FFE-89FC-DB8E5823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C11B-D0FF-4705-AA41-E57C8EA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FFC5-5E56-460D-855C-4F1E319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C473-491E-4DF8-AC44-1523391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2781-A9F5-40D5-A4C7-B9EF3E0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7233-4056-4896-B327-2C2C50CB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5C6-5254-4053-9302-49DA3F7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3BD8-0775-4E59-B78E-FC9BF97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914F-873B-4203-A349-35A045F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3BB7-AC9D-4D4E-990E-3DD99ED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A998-9A50-4A3A-B615-27BA5F6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2F3B-7F44-4033-90B6-6AE96263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E695-BC35-47F8-AE40-343753CF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4731-15E6-42A8-9C85-63804AB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526E-7D00-4DCC-8E0F-9E197017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390E-9FB7-4AE7-AC33-006D746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0576-0572-4C12-95EE-A5E874D5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2AE-520E-4DC6-9A80-1CC884E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78F5-62E3-4305-89DD-92D9813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DBA8-8FE3-4831-8967-DC502812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EA6E-BA96-4288-A1D5-FD37909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8266-C6E7-4B72-8CB6-514933A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1399-AE53-4A46-9E7C-844C51B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2C82-4B36-47DF-9F52-4B9EC5B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7CAE-2E23-462E-9ECD-90679E6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88BD-F51E-416E-93AA-D72BA25A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A781-67EB-462C-9C25-FFC01754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ACAF-5307-418B-BA55-ECEE7D8D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DB5-CCDE-4102-B542-39C90283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0D05-5AAF-45E7-8DCF-8833D181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4D61-1CD4-4DFD-8CC4-B04869B9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0CD9-1A03-44D4-85B2-414826B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3FF2-F96A-41B6-8EEA-34FAB23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BD87-493E-44CC-9E15-5A34CF9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D508-2FDE-48F9-B7E6-F150E06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3D73-D0C4-4B42-99F7-3584375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251B-F68B-45D6-A030-227E9A9E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7767-F204-4E95-960E-7323D1F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D340-3B95-41E2-9592-17A1F36C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087-2D42-4094-A71C-35680A4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7150-A3F9-4CBB-81E6-94C8A633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3ECA-BEF5-4830-BB27-D0164E60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07F1-908F-4534-9D0D-4D001DA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21A3A-1469-4F82-807F-D148A48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30E2-52F7-4CED-9EB5-14C3706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53F4-A088-438A-96EB-8CD66BC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6972-73E4-4AEF-9A88-2C607EE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0C27-BED2-4324-922B-1135548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3487-AA6B-4776-BA7C-DE049F97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AA86D-5DC6-47EF-8DFE-0B3CC78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FB1-7260-4996-8870-5CD69694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ACC3-94F7-4C50-8995-EAD73905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1CA6-D1EC-462D-A090-A5CC548F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5D99-75A6-49EF-A866-1CE8DB0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8958-C710-43DD-85E3-567DAD1B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4173-695C-4652-A396-99C9E81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AEE9-D0D2-421E-8218-534B8581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A30F3-7036-4544-B41B-6DB62F1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BD62-32B9-423C-AEFA-31125460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D145-B5F5-46C9-9E51-9C8B4EF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C9E7-1C49-4EE1-8E8C-43DECE1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8AD-6805-46F4-8AAF-7A040F7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8924B-58B9-4E43-B2F8-D1864F9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02EB-EDF3-49C8-B2F6-BCCED73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C1BF-8475-4B2F-B0CA-8CA3BF80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AC67-03A2-48F6-A729-8A076C99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AF028-904E-4732-A139-7AF9BFA6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89CF0-89E4-4A5E-BEEE-2F9183B4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EDD2D-C4FF-4347-99E7-DACD9D69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325C-0D97-4C1B-9BB4-EE921B1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18A8A-1B13-4FD1-924E-2784298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66A2-0E41-4596-A442-5D6DFBE9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23B-C48B-494F-BD9C-4D90541F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FCB1-A04B-4CF8-902E-7CC4BB8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1BCF-94B7-4115-88D1-5F1901C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C558-567D-4486-9C2D-C438286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0FE9-6BCD-47D4-8337-956B9B1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4B1E-1814-4D2D-B210-566D91E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AAAF-2273-4915-A64A-74722EC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5563A-B6CC-4A85-8AB4-2DF0546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B3330-237F-4898-A7E3-CCE7E2B5D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A58A-5DD9-4DB7-94C2-AD4A7A8A5E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7A0B4-FFC5-4BD2-AD03-5E15B1B38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AAF3B-E46A-4344-B899-BEFC0774F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F25D-D8E5-48CA-81FF-81EC32E28E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5DF23-180F-490E-8269-EB69F7E3D8F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A13D4-0B42-4E0C-B1C0-558554B8B5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D76C9-DAD1-4F6E-A923-A36637104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80"/>
                </a:solidFill>
                <a:latin typeface="Arial"/>
              </a:rPr>
              <a:t>Header Title text</a:t>
            </a: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lide content tex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22:56:02Z</dcterms:created>
  <dc:creator/>
  <dc:description/>
  <dc:language>en-US</dc:language>
  <cp:lastModifiedBy/>
  <dcterms:modified xsi:type="dcterms:W3CDTF">2012-06-14T23:13:37Z</dcterms:modified>
  <cp:revision>2</cp:revision>
  <dc:subject/>
  <dc:title/>
</cp:coreProperties>
</file>