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45D-3631-464C-8A8E-6B298DE1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6E5-1129-4A0C-B306-C5A680D8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7BA-5B79-4851-8994-0ACBB908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56D-DDC5-41EC-9B87-2D711FC2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FC2-27EC-4258-8EFD-EC6E9FF6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AE2-315C-4370-97B4-62B97563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C28-A940-478D-BBE7-0E39CF17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FA2-DFD0-42AB-BFC1-FEBDEFC9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F39-3D20-4D18-A70E-8F9F418A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30E-589B-427B-8EED-B761E41F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39C-ECED-4803-A597-0D6724AE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D470-D33E-4740-9A15-98130493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2E4D-7F11-43AD-A960-EF6530B93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 Vertical He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serial.JPG"/>
          <p:cNvPicPr/>
          <p:nvPr/>
        </p:nvPicPr>
        <p:blipFill>
          <a:blip r:embed="rId1"/>
          <a:stretch/>
        </p:blipFill>
        <p:spPr>
          <a:xfrm>
            <a:off x="2743200" y="3581280"/>
            <a:ext cx="374796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7:51:55Z</dcterms:created>
  <dc:creator>Luke Benes</dc:creator>
  <dc:description/>
  <dc:language>en-US</dc:language>
  <cp:lastModifiedBy>Luke Benes</cp:lastModifiedBy>
  <dcterms:modified xsi:type="dcterms:W3CDTF">2014-02-06T21:07:15Z</dcterms:modified>
  <cp:revision>2</cp:revision>
  <dc:subject/>
  <dc:title>Slide 1</dc:title>
</cp:coreProperties>
</file>