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A1A-1E35-4BD3-96F7-F66D2D95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9A4-6C87-496B-A5C8-21B59CA8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5DB-7957-4612-82CE-04ACFB8B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729-6EF4-49E6-A293-0F16A33F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5C7-D74E-4B66-8414-8505CF2F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4B7-50BF-4D2F-AF40-0B5B6E18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9D4-5540-494D-9F8C-2423456A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DAB-452E-4A2E-98D8-211F3381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B37-F105-4EEC-B45D-15273D5D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0BB-C5C9-4082-AC03-F0917E17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07B-E2FC-4D12-8185-6EC8A528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FBE-7B0C-4803-BB63-809813CF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948E-53E1-4A5F-A771-DFBA274D7C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5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1560" y="1392120"/>
          <a:ext cx="7680600" cy="4959360"/>
        </p:xfrm>
        <a:graphic>
          <a:graphicData uri="http://schemas.openxmlformats.org/drawingml/2006/table">
            <a:tbl>
              <a:tblPr/>
              <a:tblGrid>
                <a:gridCol w="7680600"/>
              </a:tblGrid>
              <a:tr h="495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63760" indent="855720">
                        <a:spcBef>
                          <a:spcPts val="700"/>
                        </a:spcBef>
                        <a:tabLst>
                          <a:tab algn="l" pos="0"/>
                          <a:tab algn="l" pos="48038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end that the partial and the conditional rank correlations are equ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63760" indent="855720">
                        <a:spcBef>
                          <a:spcPts val="700"/>
                        </a:spcBef>
                        <a:tabLst>
                          <a:tab algn="l" pos="0"/>
                          <a:tab algn="l" pos="48038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 the entire procedure many tim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63760" indent="855720">
                        <a:spcBef>
                          <a:spcPts val="700"/>
                        </a:spcBef>
                        <a:tabLst>
                          <a:tab algn="l" pos="0"/>
                          <a:tab algn="l" pos="48038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 the correlation matrix from thes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</a:t>
                      </a: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es and compare with the original correlation matrix </a:t>
                      </a: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20880" y="1670040"/>
            <a:ext cx="2822400" cy="395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16640" y="0"/>
            <a:ext cx="2995560" cy="1592280"/>
          </a:xfrm>
          <a:prstGeom prst="wedgeRoundRectCallout">
            <a:avLst>
              <a:gd name="adj1" fmla="val -64361"/>
              <a:gd name="adj2" fmla="val 389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case: FFC252FFCSD_Paragraph_Indent_Table0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: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:  Paragraph with certain indent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宋体"/>
              </a:rPr>
              <a:t>Pretend that the partial and the conditional rank correlations are equal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1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宋体"/>
              </a:rPr>
              <a:t>Repeat the entire procedure many times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1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宋体"/>
              </a:rPr>
              <a:t>Calculate the correlation matrix from these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s</a:t>
            </a:r>
            <a:r>
              <a:rPr b="0" lang="pl-PL" sz="3200" spc="-1" strike="noStrike">
                <a:solidFill>
                  <a:srgbClr val="000000"/>
                </a:solidFill>
                <a:latin typeface="宋体"/>
              </a:rPr>
              <a:t>amples and compare with the original correlation matrix </a:t>
            </a:r>
            <a:r>
              <a:rPr b="1" i="1" lang="pl-PL" sz="32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39840" y="1809720"/>
            <a:ext cx="564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tend that the partial and the conditional rank correlations are eq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peat the entire procedure many ti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alculate the correlation matrix from the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ples and compare with the original correlation matrix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00320" y="1641600"/>
            <a:ext cx="4373280" cy="26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84240" indent="-18842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tend that the partial and the conditional rank correlations are eq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4240" indent="-18842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peat the ent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4240" indent="-18842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e many ti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4240" indent="-18842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alculate the correlation matr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4240" indent="-18842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rom the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4240" indent="-18842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d comp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4240" indent="-18842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th the original correlation matrix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7000"/>
          </a:bodyPr>
          <a:p>
            <a:pPr marL="501840" indent="-50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etend that the partial and the conditional rank correlations are eq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840" indent="-50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epeat the ent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840" indent="-50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cedure many 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840" indent="-50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alculate the correlation mat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840" indent="-50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rom the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840" indent="-50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nd com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840" indent="-50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ith the original correlation matrix </a:t>
            </a: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3:29:02Z</dcterms:created>
  <dc:creator>renyuxia</dc:creator>
  <dc:description/>
  <dc:language>en-US</dc:language>
  <cp:lastModifiedBy>sunying</cp:lastModifiedBy>
  <dcterms:modified xsi:type="dcterms:W3CDTF">2012-08-07T03:12:21Z</dcterms:modified>
  <cp:revision>8</cp:revision>
  <dc:subject/>
  <dc:title>Slide 1</dc:title>
</cp:coreProperties>
</file>