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3D2-771C-42CC-8203-5C876E7E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3A0-D30A-4ADD-B6DB-ACD8FFBA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862-DCF0-4302-BC0C-D9D9AE6E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A5F-B0C7-471A-B34C-7D267C89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CDC-F826-4A21-8CB6-440A6EAC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94B-1A6E-4CFD-9288-8D23170D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7C0-C26A-46E8-AEBC-37B93A19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BAB-2F23-498A-8C66-0017D5FC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864-B570-4C31-8178-2F4F8FE2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D39-438F-4E1F-AD2E-F248DD15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AB1-80F9-44C3-B823-E197C13B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069-72B7-44E5-AC3F-1353F227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4BD8-57D8-4879-BE14-5B0E1D9DB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646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23:19:38Z</dcterms:created>
  <dc:creator>ibm</dc:creator>
  <dc:description/>
  <dc:language>en-US</dc:language>
  <cp:lastModifiedBy>Yan Ji</cp:lastModifiedBy>
  <dcterms:modified xsi:type="dcterms:W3CDTF">2012-06-04T02:27:04Z</dcterms:modified>
  <cp:revision>2</cp:revision>
  <dc:subject/>
  <dc:title>SubFunction: Animation\Combination\AutoShape File Name: FFC261FFCSD_Animation_Combination_AutoShape_0160.ppt Check Point: Timing\Trigger\On Click Please check object: AutoShape Animations on object: Emphasis_Spin, Entrance_Appear</dc:title>
</cp:coreProperties>
</file>