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EC3-CE8F-45E7-93CC-9F62F94E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56A-FA6D-4D42-AFA6-64CD3663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82E-A67D-4284-9CB1-16C8BC27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2D1-3AAA-4B27-A303-3C5B7730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9B7-2774-47FD-8DDD-E013816C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8E9-FC21-43A5-AB6A-E3693010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A30-93BF-46DC-95B7-B4E2AD0E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806-8A04-4041-9923-06884525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204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CF2B-E452-4F64-8E67-83C5DCE0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758F-0C37-4D21-B893-F5602D56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6ED-33F8-4DAB-A18B-8A166DD0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BF7-00CA-4BFB-812D-F22DBDA5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2240" y="-10800"/>
            <a:ext cx="10685880" cy="7439040"/>
            <a:chOff x="-1542240" y="-10800"/>
            <a:chExt cx="10685880" cy="7439040"/>
          </a:xfrm>
        </p:grpSpPr>
        <p:sp>
          <p:nvSpPr>
            <p:cNvPr id="1" name="Freeform 8"/>
            <p:cNvSpPr/>
            <p:nvPr/>
          </p:nvSpPr>
          <p:spPr>
            <a:xfrm>
              <a:off x="2590920" y="6480"/>
              <a:ext cx="2757240" cy="687816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160"/>
                <a:gd name="textAreaBottom" fmla="*/ 6878520 h 687816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3240"/>
              <a:ext cx="2757240" cy="68720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2040"/>
                <a:gd name="textAreaBottom" fmla="*/ 6872400 h 68720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920"/>
              <a:ext cx="2760480" cy="6873480"/>
            </a:xfrm>
            <a:custGeom>
              <a:avLst/>
              <a:gdLst>
                <a:gd name="textAreaLeft" fmla="*/ 0 w 2760480"/>
                <a:gd name="textAreaRight" fmla="*/ 2760840 w 2760480"/>
                <a:gd name="textAreaTop" fmla="*/ 0 h 6873480"/>
                <a:gd name="textAreaBottom" fmla="*/ 6873840 h 68734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560" cy="6864120"/>
            </a:xfrm>
            <a:custGeom>
              <a:avLst/>
              <a:gdLst>
                <a:gd name="textAreaLeft" fmla="*/ 0 w 3301560"/>
                <a:gd name="textAreaRight" fmla="*/ 3301920 w 3301560"/>
                <a:gd name="textAreaTop" fmla="*/ 0 h 6864120"/>
                <a:gd name="textAreaBottom" fmla="*/ 6864480 h 686412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360" cy="243792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560" y="1230480"/>
              <a:ext cx="4038480" cy="159984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1599840"/>
                <a:gd name="textAreaBottom" fmla="*/ 1600200 h 15998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2160"/>
              <a:ext cx="5562360" cy="243792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4400">
              <a:off x="-1562040" y="1667160"/>
              <a:ext cx="5562360" cy="243792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400"/>
              <a:ext cx="5705280" cy="2754000"/>
            </a:xfrm>
            <a:custGeom>
              <a:avLst/>
              <a:gdLst>
                <a:gd name="textAreaLeft" fmla="*/ 0 w 5705280"/>
                <a:gd name="textAreaRight" fmla="*/ 5705640 w 5705280"/>
                <a:gd name="textAreaTop" fmla="*/ 0 h 2754000"/>
                <a:gd name="textAreaBottom" fmla="*/ 2754360 h 27540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4400">
              <a:off x="2950920" y="1387440"/>
              <a:ext cx="5562360" cy="243792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3240"/>
              <a:ext cx="1728360" cy="3627000"/>
            </a:xfrm>
            <a:custGeom>
              <a:avLst/>
              <a:gdLst>
                <a:gd name="textAreaLeft" fmla="*/ 0 w 1728360"/>
                <a:gd name="textAreaRight" fmla="*/ 1728720 w 1728360"/>
                <a:gd name="textAreaTop" fmla="*/ 0 h 3627000"/>
                <a:gd name="textAreaBottom" fmla="*/ 3627360 h 362700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520"/>
              <a:ext cx="914364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600"/>
              <a:ext cx="2757240" cy="6062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600"/>
              <a:ext cx="2757240" cy="6044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600"/>
              <a:ext cx="2760480" cy="606240"/>
            </a:xfrm>
            <a:custGeom>
              <a:avLst/>
              <a:gdLst>
                <a:gd name="textAreaLeft" fmla="*/ 0 w 2760480"/>
                <a:gd name="textAreaRight" fmla="*/ 2760840 w 276048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600"/>
              <a:ext cx="3301560" cy="604440"/>
            </a:xfrm>
            <a:custGeom>
              <a:avLst/>
              <a:gdLst>
                <a:gd name="textAreaLeft" fmla="*/ 0 w 3301560"/>
                <a:gd name="textAreaRight" fmla="*/ 3301920 w 330156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600"/>
              <a:ext cx="9143640" cy="685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4120"/>
              <a:ext cx="1644120" cy="666360"/>
            </a:xfrm>
            <a:custGeom>
              <a:avLst/>
              <a:gdLst>
                <a:gd name="textAreaLeft" fmla="*/ 0 w 1644120"/>
                <a:gd name="textAreaRight" fmla="*/ 1644480 w 16441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360" y="6183000"/>
              <a:ext cx="1682280" cy="761760"/>
            </a:xfrm>
            <a:custGeom>
              <a:avLst/>
              <a:gdLst>
                <a:gd name="textAreaLeft" fmla="*/ -360 w 1682280"/>
                <a:gd name="textAreaRight" fmla="*/ 1682280 w 16822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360" y="6183000"/>
              <a:ext cx="1682280" cy="761760"/>
            </a:xfrm>
            <a:custGeom>
              <a:avLst/>
              <a:gdLst>
                <a:gd name="textAreaLeft" fmla="*/ -360 w 1682280"/>
                <a:gd name="textAreaRight" fmla="*/ 1682280 w 16822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9320" y="6132240"/>
              <a:ext cx="1641240" cy="772920"/>
            </a:xfrm>
            <a:custGeom>
              <a:avLst/>
              <a:gdLst>
                <a:gd name="textAreaLeft" fmla="*/ -360 w 1641240"/>
                <a:gd name="textAreaRight" fmla="*/ 1641240 w 164124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4400" y="6221520"/>
              <a:ext cx="5638320" cy="685440"/>
            </a:xfrm>
            <a:custGeom>
              <a:avLst/>
              <a:gdLst>
                <a:gd name="textAreaLeft" fmla="*/ 360 w 5638320"/>
                <a:gd name="textAreaRight" fmla="*/ 5639040 w 563832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520"/>
              <a:ext cx="2437920" cy="685440"/>
            </a:xfrm>
            <a:custGeom>
              <a:avLst/>
              <a:gdLst>
                <a:gd name="textAreaLeft" fmla="*/ 360 w 2437920"/>
                <a:gd name="textAreaRight" fmla="*/ 2438640 w 243792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8960" y="6297480"/>
              <a:ext cx="2114280" cy="607680"/>
            </a:xfrm>
            <a:custGeom>
              <a:avLst/>
              <a:gdLst>
                <a:gd name="textAreaLeft" fmla="*/ -360 w 2114280"/>
                <a:gd name="textAreaRight" fmla="*/ 2114280 w 2114280"/>
                <a:gd name="textAreaTop" fmla="*/ 360 h 607680"/>
                <a:gd name="textAreaBottom" fmla="*/ 608400 h 60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520"/>
              <a:ext cx="2437920" cy="685440"/>
            </a:xfrm>
            <a:custGeom>
              <a:avLst/>
              <a:gdLst>
                <a:gd name="textAreaLeft" fmla="*/ 360 w 2437920"/>
                <a:gd name="textAreaRight" fmla="*/ 2438640 w 243792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5680" y="6221520"/>
              <a:ext cx="3657240" cy="685440"/>
            </a:xfrm>
            <a:custGeom>
              <a:avLst/>
              <a:gdLst>
                <a:gd name="textAreaLeft" fmla="*/ -360 w 3657240"/>
                <a:gd name="textAreaRight" fmla="*/ 3657240 w 36572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364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cc00"/>
                </a:solidFill>
                <a:latin typeface="Arial Black"/>
              </a:rPr>
              <a:t>Klepnutím lze upravit styl předlohy nadpisů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2"/>
              </a:buBlip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lepnutím lze upravit styly předlohy text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cc00"/>
              </a:buClr>
              <a:buSzPct val="70000"/>
              <a:buFont typeface="Wingdings" charset="2"/>
              <a:buChar char=""/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uhá úrove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98d43"/>
              </a:buClr>
              <a:buSzPct val="65000"/>
              <a:buFont typeface="Wingdings" charset="2"/>
              <a:buChar char=""/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řetí úrove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9ce157"/>
              </a:buClr>
              <a:buSzPct val="60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Čtvrtá úrove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2663a0"/>
              </a:buClr>
              <a:buSzPct val="60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átá úrove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9871F0-32F8-4490-BFE7-8A8DA9BC0FB0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0" descr="P1010023"/>
          <p:cNvPicPr/>
          <p:nvPr/>
        </p:nvPicPr>
        <p:blipFill>
          <a:blip r:embed="rId1"/>
          <a:stretch/>
        </p:blipFill>
        <p:spPr>
          <a:xfrm>
            <a:off x="2050920" y="1484280"/>
            <a:ext cx="5163840" cy="503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P1010025"/>
          <p:cNvPicPr/>
          <p:nvPr/>
        </p:nvPicPr>
        <p:blipFill>
          <a:blip r:embed="rId2"/>
          <a:stretch/>
        </p:blipFill>
        <p:spPr>
          <a:xfrm>
            <a:off x="1908000" y="1484280"/>
            <a:ext cx="5484600" cy="50400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4"/>
          <p:cNvGrpSpPr/>
          <p:nvPr/>
        </p:nvGrpSpPr>
        <p:grpSpPr>
          <a:xfrm>
            <a:off x="885960" y="1413000"/>
            <a:ext cx="7357680" cy="5040000"/>
            <a:chOff x="885960" y="1413000"/>
            <a:chExt cx="7357680" cy="5040000"/>
          </a:xfrm>
        </p:grpSpPr>
        <p:pic>
          <p:nvPicPr>
            <p:cNvPr id="72" name="Picture 12" descr="P1010032"/>
            <p:cNvPicPr/>
            <p:nvPr/>
          </p:nvPicPr>
          <p:blipFill>
            <a:blip r:embed="rId3"/>
            <a:stretch/>
          </p:blipFill>
          <p:spPr>
            <a:xfrm>
              <a:off x="885960" y="1413000"/>
              <a:ext cx="3757320" cy="50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13" descr="P1010037"/>
            <p:cNvPicPr/>
            <p:nvPr/>
          </p:nvPicPr>
          <p:blipFill>
            <a:blip r:embed="rId4"/>
            <a:stretch/>
          </p:blipFill>
          <p:spPr>
            <a:xfrm>
              <a:off x="4630680" y="1413000"/>
              <a:ext cx="3612960" cy="50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Picture 7" descr="P1010020"/>
          <p:cNvPicPr/>
          <p:nvPr/>
        </p:nvPicPr>
        <p:blipFill>
          <a:blip r:embed="rId5"/>
          <a:stretch/>
        </p:blipFill>
        <p:spPr>
          <a:xfrm>
            <a:off x="1258920" y="1484280"/>
            <a:ext cx="6589440" cy="504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P1010019"/>
          <p:cNvPicPr/>
          <p:nvPr/>
        </p:nvPicPr>
        <p:blipFill>
          <a:blip r:embed="rId6"/>
          <a:stretch/>
        </p:blipFill>
        <p:spPr>
          <a:xfrm>
            <a:off x="1403280" y="1484280"/>
            <a:ext cx="6356160" cy="5038200"/>
          </a:xfrm>
          <a:prstGeom prst="rect">
            <a:avLst/>
          </a:prstGeom>
          <a:ln w="9525">
            <a:noFill/>
          </a:ln>
        </p:spPr>
      </p:pic>
      <p:pic>
        <p:nvPicPr>
          <p:cNvPr id="76" name="Picture 9" descr="P1010021"/>
          <p:cNvPicPr/>
          <p:nvPr/>
        </p:nvPicPr>
        <p:blipFill>
          <a:blip r:embed="rId7"/>
          <a:stretch/>
        </p:blipFill>
        <p:spPr>
          <a:xfrm>
            <a:off x="1042920" y="1484280"/>
            <a:ext cx="7103880" cy="5038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040" cy="579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200" spc="-1" strike="noStrike">
                <a:solidFill>
                  <a:srgbClr val="ffcc00"/>
                </a:solidFill>
                <a:latin typeface="Arial Black"/>
              </a:rPr>
              <a:t>EHMEROVA  SMYČ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" dur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Přetížená síť">
  <a:themeElements>
    <a:clrScheme name="Přetížená síť 1">
      <a:dk1>
        <a:srgbClr val="000044"/>
      </a:dk1>
      <a:lt1>
        <a:srgbClr val="ffffff"/>
      </a:lt1>
      <a:dk2>
        <a:srgbClr val="000066"/>
      </a:dk2>
      <a:lt2>
        <a:srgbClr val="ffcc00"/>
      </a:lt2>
      <a:accent1>
        <a:srgbClr val="9ce157"/>
      </a:accent1>
      <a:accent2>
        <a:srgbClr val="2663a0"/>
      </a:accent2>
      <a:accent3>
        <a:srgbClr val="aaaab8"/>
      </a:accent3>
      <a:accent4>
        <a:srgbClr val="dadada"/>
      </a:accent4>
      <a:accent5>
        <a:srgbClr val="cbeeb4"/>
      </a:accent5>
      <a:accent6>
        <a:srgbClr val="215991"/>
      </a:accent6>
      <a:hlink>
        <a:srgbClr val="f98d43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Program Files\Microsoft Office\Templates\Presentation Designs\Přetížená síť.pot</Template>
  <TotalTime>462</TotalTime>
  <Application>LibreOffice/7.4.7.2$Linux_X86_64 LibreOffice_project/40$Build-2</Application>
  <AppVersion>15.0000</AppVersion>
  <Words>2</Words>
  <Paragraphs>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22:26:39Z</dcterms:created>
  <dc:creator>MVDr. DVOŘÁK Milan</dc:creator>
  <dc:description/>
  <dc:language>en-US</dc:language>
  <cp:lastModifiedBy>Martina</cp:lastModifiedBy>
  <cp:lastPrinted>1601-01-01T00:00:00Z</cp:lastPrinted>
  <dcterms:modified xsi:type="dcterms:W3CDTF">2010-07-19T11:23:58Z</dcterms:modified>
  <cp:revision>23</cp:revision>
  <dc:subject/>
  <dc:title>INDIKACE  A  METODY  IMOBILIZACE  KLOUBU  HRUDNÍ  KONČETIN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ředvádění na obrazovce (4:3)</vt:lpwstr>
  </property>
  <property fmtid="{D5CDD505-2E9C-101B-9397-08002B2CF9AE}" pid="3" name="Slides">
    <vt:r8>1</vt:r8>
  </property>
</Properties>
</file>