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F048-5B3D-4618-9AC7-CBC96F7D0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BB64-00F6-4D07-8778-A1E359B43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D50E6-EEFE-4EB6-9ECA-A2A90B598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9FDB-EC79-4DC1-82F7-B1B3EE93B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A782C-9B61-49FE-94C1-392232555E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AA9AE-A1EB-4304-AE06-BD8F4180DB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656E3-94CA-424F-A1D2-391C1E52D0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2865B-07A8-435F-9C2F-DA6C30B7C8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3D6AD-7EF3-4335-9F98-3A34AE5A00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C4AD0-A778-4DD3-8C2E-BC12500590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638AD-71BF-4AF2-B199-568629270C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D5CAC-6480-4791-93F1-6919A3EB2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D0927-5287-463F-8561-0FDB233BCF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DBDBD-A6A3-4381-8B1B-08F1BF3ACB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C5500-F17F-4340-96CF-43A049457C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C18B1-D2B1-4671-80CC-074921BA88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AF87A-9B14-4332-A9D6-BE63D1DD21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89DCA9-4B68-4769-B684-7622E503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33ABC5-9EA9-4DFF-9EEC-D445A9D9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FD90AA-5C8A-4B71-827F-7B6062EC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C43F33-10A6-40DA-B777-0FB05876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FB3BD7-A0FB-478A-88C2-7ED5B84D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A6AEE-BB33-4D83-99A1-FF677A97DE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07BAB9-CE58-414C-B4BC-F7F14A21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A9178B-55F7-43F8-BFEF-FCDF78BA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BBF5AE-5C06-4384-837F-BD930784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4A2A17-FAC0-4641-BBB4-43163F2B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4347D8-0CC4-4AFF-8E1C-17FBA3F7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C28529-63FF-4E5D-9B06-03D212AA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73773E-F699-4C06-91D3-37CB150A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8A23-0FDD-44E9-B002-99BDF8901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585A2-03F8-4998-A850-9AAC4A191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93F49-09F4-4267-ADBA-0AA9C2126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90D40-DEFB-47B7-931A-4D012B0F4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05BB8-D64B-442F-B0BC-0D85E593F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2C7CB-1604-4E13-B98A-520B20506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F653-A603-41AF-A6C3-878264780518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48BA-8164-4AD3-A319-56F8DB4C2401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58A6-6EB0-4DD7-AA54-9F7D5EFCF8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5F49-FA77-4D5B-885B-86C4F6B26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AB1C77AC-B5DA-4871-9BDB-F9F9298EB5BE}" type="datetime1">
              <a:rPr lang="en-US"/>
              <a:t>07/31/26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08:06:51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6-17T08:09:13Z</dcterms:modified>
  <cp:revision>1</cp:revision>
  <dc:subject/>
  <dc:title>Slide 1</dc:title>
</cp:coreProperties>
</file>