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A80-0164-4F21-9D2D-617A0AB0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162-7837-4098-A318-E4C4876B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A5E-99CE-41C2-8869-F2F48E08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0AA-082B-4E82-9EFC-CBA70681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3EA-AFA1-4AAA-B333-84AAE2C3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345-7655-44FF-8F62-87E97698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7C1-E511-4CFE-A76D-917A9456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F5C-F6A6-4B36-8D8D-1AC1E0FD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A54-2A47-4D44-8274-6302F3A6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918-66C4-4AAD-B409-1230785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47C-2236-4FAC-A951-B4E1BC52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24D-0FB0-45C1-BFEA-F463AD28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4472-2D4F-4034-9E31-D215B7AD83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89000"/>
          <a:ext cx="8424720" cy="7991280"/>
        </p:xfrm>
        <a:graphic>
          <a:graphicData uri="http://schemas.openxmlformats.org/drawingml/2006/table">
            <a:tbl>
              <a:tblPr/>
              <a:tblGrid>
                <a:gridCol w="2160360"/>
                <a:gridCol w="2016360"/>
                <a:gridCol w="1944720"/>
                <a:gridCol w="2303280"/>
              </a:tblGrid>
              <a:tr h="3036600">
                <a:tc>
                  <a:txBody>
                    <a:bodyPr lIns="90000" rIns="90000" tIns="90000" bIns="900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72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72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72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72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079720">
                <a:tc>
                  <a:txBody>
                    <a:bodyPr lIns="90000" rIns="90000" tIns="90000" bIns="72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90000" b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9720">
                <a:tc>
                  <a:txBody>
                    <a:bodyPr lIns="90000" rIns="90000" tIns="90000" bIns="900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90000" bIns="90000" anchor="b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72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1680" y="1044720"/>
          <a:ext cx="9112320" cy="5114520"/>
        </p:xfrm>
        <a:graphic>
          <a:graphicData uri="http://schemas.openxmlformats.org/drawingml/2006/table">
            <a:tbl>
              <a:tblPr/>
              <a:tblGrid>
                <a:gridCol w="5092920"/>
                <a:gridCol w="4019400"/>
              </a:tblGrid>
              <a:tr h="25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able containing group objec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5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09680" y="2387520"/>
            <a:ext cx="8151840" cy="3754440"/>
            <a:chOff x="409680" y="2387520"/>
            <a:chExt cx="8151840" cy="3754440"/>
          </a:xfrm>
        </p:grpSpPr>
        <p:sp>
          <p:nvSpPr>
            <p:cNvPr id="44" name=""/>
            <p:cNvSpPr/>
            <p:nvPr/>
          </p:nvSpPr>
          <p:spPr>
            <a:xfrm>
              <a:off x="409680" y="2414520"/>
              <a:ext cx="3321000" cy="1314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45280" y="2387520"/>
              <a:ext cx="3216240" cy="140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6280" y="4566960"/>
              <a:ext cx="3198960" cy="1575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complete Set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r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38960" y="4457520"/>
              <a:ext cx="2943360" cy="167796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mplete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t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r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16640" y="3022560"/>
              <a:ext cx="1668240" cy="239400"/>
            </a:xfrm>
            <a:prstGeom prst="rightArrow">
              <a:avLst>
                <a:gd name="adj1" fmla="val 50000"/>
                <a:gd name="adj2" fmla="val 17421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5400" y="3792240"/>
              <a:ext cx="304920" cy="720720"/>
            </a:xfrm>
            <a:prstGeom prst="downArrow">
              <a:avLst>
                <a:gd name="adj1" fmla="val 50000"/>
                <a:gd name="adj2" fmla="val 5909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10160" y="5271840"/>
              <a:ext cx="1720800" cy="263520"/>
            </a:xfrm>
            <a:prstGeom prst="leftArrow">
              <a:avLst>
                <a:gd name="adj1" fmla="val 50000"/>
                <a:gd name="adj2" fmla="val 16325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267600" y="0"/>
            <a:ext cx="2876400" cy="1847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case: FFC252FFCSD_GroupObject_Table0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: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: One group object is inserted i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rystal</cp:lastModifiedBy>
  <dcterms:modified xsi:type="dcterms:W3CDTF">2012-05-29T03:22:17Z</dcterms:modified>
  <cp:revision>8</cp:revision>
  <dc:subject/>
  <dc:title>PowerPoint Presentation</dc:title>
</cp:coreProperties>
</file>