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A033-0177-4DA1-A1B2-647F939C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2521-BD62-4B72-86A9-63D36A61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ABB7-004C-467E-8AF5-BCF2D9F2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289D-720F-4178-BD62-51225C30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6AA-D5B6-43BD-BE8F-849DCF4C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62AF-F92A-4CD2-8E75-D3A707FA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000D-F66B-4E8E-9E0E-16DFAFD0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4396-7326-4C5E-8AA2-14C14A4B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5793-511E-4AC2-89B8-4027A0C5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8B63-A6BE-4697-99E0-133EAFB6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092D-439E-4999-8D23-C2986BB6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0B94-B675-4B13-B239-73AE6ABC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EA0B-AFDF-4C47-945A-9A75976743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1978200"/>
            <a:ext cx="2133000" cy="1984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17" y="5010"/>
                </a:moveTo>
                <a:arcTo wR="10800" hR="10800" stAng="-1945310" swAng="1945310"/>
                <a:lnTo>
                  <a:pt x="10800" y="10800"/>
                </a:lnTo>
                <a:close/>
              </a:path>
              <a:path fill="none" w="21600" h="21600">
                <a:moveTo>
                  <a:pt x="19917" y="5010"/>
                </a:moveTo>
                <a:arcTo wR="10800" hR="10800" stAng="-1945310" swAng="194531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198108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artAngle=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11040" y="1828800"/>
            <a:ext cx="258912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4" y="6664"/>
                </a:moveTo>
                <a:arcTo wR="10800" hR="10800" stAng="-9448826" swAng="9448826"/>
                <a:lnTo>
                  <a:pt x="10800" y="10800"/>
                </a:lnTo>
                <a:close/>
              </a:path>
              <a:path fill="none" w="21600" h="21600">
                <a:moveTo>
                  <a:pt x="824" y="6664"/>
                </a:moveTo>
                <a:arcTo wR="10800" hR="10800" stAng="-9448826" swAng="944882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1752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artAngle=1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00200" y="2209680"/>
            <a:ext cx="3504960" cy="304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379" y="18647"/>
                </a:moveTo>
                <a:arcTo wR="10800" hR="10800" stAng="8004130" swAng="13595870"/>
                <a:lnTo>
                  <a:pt x="10800" y="10800"/>
                </a:lnTo>
                <a:close/>
              </a:path>
              <a:path fill="none" w="21600" h="21600">
                <a:moveTo>
                  <a:pt x="3379" y="18647"/>
                </a:moveTo>
                <a:arcTo wR="10800" hR="10800" stAng="8004130" swAng="135958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1752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artAngle=2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00200" y="2211480"/>
            <a:ext cx="3504960" cy="304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73" y="16500"/>
                </a:moveTo>
                <a:arcTo wR="10800" hR="10800" stAng="1911264" swAng="19688736"/>
                <a:lnTo>
                  <a:pt x="10800" y="10800"/>
                </a:lnTo>
                <a:close/>
              </a:path>
              <a:path fill="none" w="21600" h="21600">
                <a:moveTo>
                  <a:pt x="19973" y="16500"/>
                </a:moveTo>
                <a:arcTo wR="10800" hR="10800" stAng="1911264" swAng="1968873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57800" y="1752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artAngle=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23089680" y="990720"/>
            <a:ext cx="49684320" cy="39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"/>
              </a:path>
            </a:pathLst>
          </a:custGeom>
          <a:noFill/>
          <a:ln cap="sq"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2286000" y="1752480"/>
            <a:ext cx="1371240" cy="441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18069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18069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 flipV="1">
            <a:off x="3962880" y="2133000"/>
            <a:ext cx="7610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1:40:16Z</dcterms:created>
  <dc:creator>sunying</dc:creator>
  <dc:description/>
  <dc:language>en-US</dc:language>
  <cp:lastModifiedBy>sunying</cp:lastModifiedBy>
  <dcterms:modified xsi:type="dcterms:W3CDTF">2012-07-03T01:20:28Z</dcterms:modified>
  <cp:revision>19</cp:revision>
  <dc:subject/>
  <dc:title>Slide 1</dc:title>
</cp:coreProperties>
</file>