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325-D48D-451B-A138-06AC273D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7CF2-0DA7-4437-A72C-235DBE07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C90A-3693-45FD-A44F-75C1A2B7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F23-E06A-44A3-A749-105A149D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6481-1FFF-4645-98B9-9BE0C611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D353-C92F-437B-BD7F-2C97FFD9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B4A7-784A-4EBE-B68F-F98CA538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9D9D-F2C0-435C-BBAE-4D4FAE29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17AB-105F-4909-9888-666AAE18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3235-8562-43F2-8AB8-F92DEF8A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B1A-CD54-443C-86D8-C0938494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B584-45D7-4A31-B02B-9EC6D3B5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0720" y="6244920"/>
            <a:ext cx="619200" cy="476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000" rIns="90000" tIns="46800" bIns="46800" anchor="t" vert="eaVer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07080"/>
          </a:xfrm>
          <a:prstGeom prst="rect">
            <a:avLst/>
          </a:prstGeom>
          <a:solidFill>
            <a:srgbClr val="0000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EFDD-82E8-4DAF-82E9-C11F39A3CC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e is 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ADD-2D2C-4DDF-ABF4-2912E56B42D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-11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e is 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CB5-F5CC-478C-ACEB-39BFF619633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-11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4:21:03Z</dcterms:created>
  <dc:creator>wangxiul</dc:creator>
  <dc:description/>
  <dc:language>en-US</dc:language>
  <cp:lastModifiedBy>wangxiul</cp:lastModifiedBy>
  <dcterms:modified xsi:type="dcterms:W3CDTF">2005-11-17T04:24:14Z</dcterms:modified>
  <cp:revision>2</cp:revision>
  <dc:subject/>
  <dc:title>Slide 1</dc:title>
</cp:coreProperties>
</file>