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E27E-0398-4A13-A68B-7B1D8D25F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0D40-5FED-4A86-8D32-479DBD0AF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7B90-5EEE-4DB5-B19E-235BCD874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162C-FAED-4293-94BC-A65680408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FE2E9-3E5F-4A35-91FB-CFDE18FC0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3DFEE-0ABA-4D1D-8EB1-5AA3258DB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9AF17-E2CA-4241-8C8C-8E671CF8E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1D546-2009-4229-9517-A2DA5C0EE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2B9D6-93BE-4B94-BED4-D61C068EB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43850-B6D2-4334-8C71-4E4919A87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7B3E4-E571-4B19-B7E4-F2CD09B8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ED4C-ECCE-4DF6-8000-E084E3564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782C0-2D58-4D44-BB32-BAEAA466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6BC00-FCA7-4A4D-B060-A4AA0906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187F6-C95E-4ED7-8278-FE5303C2E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3D769-6E8F-4177-9100-DCFA8AEC1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A487F-5C7E-4FAD-8E0A-DD518B9D0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C012-9244-4932-98D6-91638A74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6D5C-DA20-47D1-95CC-22C47A19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1564-D812-48CB-A1B9-61B6980CA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3DED-044B-43C3-85B5-37489B415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4192-82B6-4F32-83D4-B47E7AA4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6C83-6F44-45B1-9A08-834F9869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5781-9863-4F16-81D9-588C5963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FA96C-3F09-43F9-A8F2-21A17BAD2972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CF3C7-8EDF-43A9-9560-0E5C0E96A30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4DC6C-CC0D-42B3-BA92-F7C94EA3E8C3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C6E56-12BD-4CC4-8A37-8EFCDC406EA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hyperlink" Target="http://www.google.com/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Office Tool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ujjari Acha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S powerpoint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9E040-63C3-49D3-9782-F8871BC04A3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D782C9B-12EF-4EE9-9579-E4661018FA1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bjectiv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s is a test file for Office Tool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epared with MS PowerPoint 200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492360" y="3176640"/>
            <a:ext cx="2144880" cy="2179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S powerpoint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47BB-1C6C-4EF6-9B2E-DC957847586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1D80AE-3D62-479B-840C-F075FF5615D1}" type="datetime1">
              <a:rPr lang="en-US"/>
              <a:t>07/31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ustomer Requiremen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rm the audience’s needs if you are not s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te the needs of the audie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3048120"/>
            <a:ext cx="1676160" cy="106668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stom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tisf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1905120"/>
            <a:ext cx="1128960" cy="76500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1"/>
            <a:endCxn id="93" idx="5"/>
          </p:cNvCxnSpPr>
          <p:nvPr/>
        </p:nvCxnSpPr>
        <p:spPr>
          <a:xfrm flipH="1" flipV="1">
            <a:off x="1343880" y="2556720"/>
            <a:ext cx="578520" cy="646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5" name=""/>
          <p:cNvSpPr/>
          <p:nvPr/>
        </p:nvSpPr>
        <p:spPr>
          <a:xfrm>
            <a:off x="3505320" y="1905120"/>
            <a:ext cx="1052280" cy="77292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2" idx="7"/>
            <a:endCxn id="95" idx="3"/>
          </p:cNvCxnSpPr>
          <p:nvPr/>
        </p:nvCxnSpPr>
        <p:spPr>
          <a:xfrm flipV="1">
            <a:off x="3106800" y="2564640"/>
            <a:ext cx="552960" cy="639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7" name=""/>
          <p:cNvSpPr/>
          <p:nvPr/>
        </p:nvSpPr>
        <p:spPr>
          <a:xfrm>
            <a:off x="1905120" y="4800600"/>
            <a:ext cx="1218960" cy="82224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97" idx="0"/>
            <a:endCxn id="92" idx="4"/>
          </p:cNvCxnSpPr>
          <p:nvPr/>
        </p:nvCxnSpPr>
        <p:spPr>
          <a:xfrm flipV="1">
            <a:off x="2514240" y="411408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S powerpoint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5E92-57C7-4C51-8175-87A55CF1B5B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67A977-2DB1-40F0-8F9A-D7FBC2C5BE05}" type="datetime1">
              <a:rPr lang="en-US"/>
              <a:t>07/31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eeting the Need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st the products and features, and how each addresses a specific need or solves a specific proble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s section may require multiple slid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5715000" y="3537000"/>
            <a:ext cx="3429000" cy="3072960"/>
            <a:chOff x="5715000" y="3537000"/>
            <a:chExt cx="3429000" cy="3072960"/>
          </a:xfrm>
        </p:grpSpPr>
        <p:sp>
          <p:nvSpPr>
            <p:cNvPr id="102" name="PyramidChart 1;Item 5"/>
            <p:cNvSpPr/>
            <p:nvPr/>
          </p:nvSpPr>
          <p:spPr>
            <a:xfrm flipV="1">
              <a:off x="5715000" y="5995080"/>
              <a:ext cx="3429000" cy="614880"/>
            </a:xfrm>
            <a:custGeom>
              <a:avLst/>
              <a:gdLst>
                <a:gd name="textAreaLeft" fmla="*/ 468360 w 3429000"/>
                <a:gd name="textAreaRight" fmla="*/ 2960640 w 3429000"/>
                <a:gd name="textAreaTop" fmla="*/ 83880 h 614880"/>
                <a:gd name="textAreaBottom" fmla="*/ 531000 h 61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PyramidChart 1;Item 4"/>
            <p:cNvSpPr/>
            <p:nvPr/>
          </p:nvSpPr>
          <p:spPr>
            <a:xfrm flipV="1">
              <a:off x="6057720" y="5380200"/>
              <a:ext cx="2742840" cy="613800"/>
            </a:xfrm>
            <a:custGeom>
              <a:avLst/>
              <a:gdLst>
                <a:gd name="textAreaLeft" fmla="*/ 412560 w 2742840"/>
                <a:gd name="textAreaRight" fmla="*/ 2330280 w 2742840"/>
                <a:gd name="textAreaTop" fmla="*/ 92160 h 613800"/>
                <a:gd name="textAreaBottom" fmla="*/ 521640 h 61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a3b2c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PyramidChart 1;Item 3"/>
            <p:cNvSpPr/>
            <p:nvPr/>
          </p:nvSpPr>
          <p:spPr>
            <a:xfrm flipV="1">
              <a:off x="6401160" y="4766040"/>
              <a:ext cx="2055960" cy="614880"/>
            </a:xfrm>
            <a:custGeom>
              <a:avLst/>
              <a:gdLst>
                <a:gd name="textAreaLeft" fmla="*/ 356760 w 2055960"/>
                <a:gd name="textAreaRight" fmla="*/ 1699200 w 2055960"/>
                <a:gd name="textAreaTop" fmla="*/ 106560 h 614880"/>
                <a:gd name="textAreaBottom" fmla="*/ 508320 h 61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PyramidChart 1;Item 2"/>
            <p:cNvSpPr/>
            <p:nvPr/>
          </p:nvSpPr>
          <p:spPr>
            <a:xfrm flipV="1">
              <a:off x="6743160" y="4151880"/>
              <a:ext cx="1369440" cy="612000"/>
            </a:xfrm>
            <a:custGeom>
              <a:avLst/>
              <a:gdLst>
                <a:gd name="textAreaLeft" fmla="*/ 300960 w 1369440"/>
                <a:gd name="textAreaRight" fmla="*/ 1068480 w 1369440"/>
                <a:gd name="textAreaTop" fmla="*/ 134640 h 612000"/>
                <a:gd name="textAreaBottom" fmla="*/ 477360 h 61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PyramidChart 1;Item 1"/>
            <p:cNvSpPr/>
            <p:nvPr/>
          </p:nvSpPr>
          <p:spPr>
            <a:xfrm flipV="1">
              <a:off x="7086240" y="3537000"/>
              <a:ext cx="686160" cy="614880"/>
            </a:xfrm>
            <a:custGeom>
              <a:avLst/>
              <a:gdLst>
                <a:gd name="textAreaLeft" fmla="*/ 246240 w 686160"/>
                <a:gd name="textAreaRight" fmla="*/ 439920 w 686160"/>
                <a:gd name="textAreaTop" fmla="*/ 220680 h 614880"/>
                <a:gd name="textAreaBottom" fmla="*/ 394200 h 61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a3b2c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108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custGeom>
              <a:avLst/>
              <a:gdLst>
                <a:gd name="textAreaLeft" fmla="*/ 467640 w 3108600"/>
                <a:gd name="textAreaRight" fmla="*/ 2640960 w 3108600"/>
                <a:gd name="textAreaTop" fmla="*/ 105120 h 699840"/>
                <a:gd name="textAreaBottom" fmla="*/ 594720 h 69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custGeom>
              <a:avLst/>
              <a:gdLst>
                <a:gd name="textAreaLeft" fmla="*/ 404280 w 2330280"/>
                <a:gd name="textAreaRight" fmla="*/ 1926000 w 2330280"/>
                <a:gd name="textAreaTop" fmla="*/ 121680 h 702000"/>
                <a:gd name="textAreaBottom" fmla="*/ 580320 h 70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custGeom>
              <a:avLst/>
              <a:gdLst>
                <a:gd name="textAreaLeft" fmla="*/ 341280 w 1552320"/>
                <a:gd name="textAreaRight" fmla="*/ 1211040 w 1552320"/>
                <a:gd name="textAreaTop" fmla="*/ 153360 h 698400"/>
                <a:gd name="textAreaBottom" fmla="*/ 545040 h 69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custGeom>
              <a:avLst/>
              <a:gdLst>
                <a:gd name="textAreaLeft" fmla="*/ 279000 w 777960"/>
                <a:gd name="textAreaRight" fmla="*/ 498960 w 777960"/>
                <a:gd name="textAreaTop" fmla="*/ 251640 h 701640"/>
                <a:gd name="textAreaBottom" fmla="*/ 450000 h 70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a3b2c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6508800" y="761760"/>
            <a:ext cx="2330280" cy="2103840"/>
            <a:chOff x="6508800" y="761760"/>
            <a:chExt cx="2330280" cy="2103840"/>
          </a:xfrm>
        </p:grpSpPr>
        <p:sp>
          <p:nvSpPr>
            <p:cNvPr id="113" name="PyramidChart 1;Item 3"/>
            <p:cNvSpPr/>
            <p:nvPr/>
          </p:nvSpPr>
          <p:spPr>
            <a:xfrm flipV="1">
              <a:off x="6508800" y="2163600"/>
              <a:ext cx="2330280" cy="702000"/>
            </a:xfrm>
            <a:custGeom>
              <a:avLst/>
              <a:gdLst>
                <a:gd name="textAreaLeft" fmla="*/ 404280 w 2330280"/>
                <a:gd name="textAreaRight" fmla="*/ 1926000 w 2330280"/>
                <a:gd name="textAreaTop" fmla="*/ 121680 h 702000"/>
                <a:gd name="textAreaBottom" fmla="*/ 580320 h 70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PyramidChart 1;Item 2"/>
            <p:cNvSpPr/>
            <p:nvPr/>
          </p:nvSpPr>
          <p:spPr>
            <a:xfrm flipV="1">
              <a:off x="6896160" y="1463400"/>
              <a:ext cx="1552680" cy="698400"/>
            </a:xfrm>
            <a:custGeom>
              <a:avLst/>
              <a:gdLst>
                <a:gd name="textAreaLeft" fmla="*/ 341280 w 1552680"/>
                <a:gd name="textAreaRight" fmla="*/ 1211400 w 1552680"/>
                <a:gd name="textAreaTop" fmla="*/ 153360 h 698400"/>
                <a:gd name="textAreaBottom" fmla="*/ 545040 h 69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PyramidChart 1;Item 1"/>
            <p:cNvSpPr/>
            <p:nvPr/>
          </p:nvSpPr>
          <p:spPr>
            <a:xfrm flipV="1">
              <a:off x="7284960" y="761400"/>
              <a:ext cx="777960" cy="701640"/>
            </a:xfrm>
            <a:custGeom>
              <a:avLst/>
              <a:gdLst>
                <a:gd name="textAreaLeft" fmla="*/ 279000 w 777960"/>
                <a:gd name="textAreaRight" fmla="*/ 498960 w 777960"/>
                <a:gd name="textAreaTop" fmla="*/ 251640 h 701640"/>
                <a:gd name="textAreaBottom" fmla="*/ 450000 h 70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a3b2c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S powerpoint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FFCC-AFAF-460E-9142-21D23375DFA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508E38-2FE2-4E92-BB39-CF373288C9FD}" type="datetime1">
              <a:rPr lang="en-US"/>
              <a:t>07/31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st Analysi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int out financial benefits to the customer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pare cost-benefits between you and your competi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643280" y="1754280"/>
          <a:ext cx="3924360" cy="4262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3280" y="1754280"/>
                    <a:ext cx="3924360" cy="42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S powerpoint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322B-165D-4730-B6FE-0C91BA1C977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7F9833-ECDE-4CCC-A614-273B58856AB1}" type="datetime1">
              <a:rPr lang="en-US"/>
              <a:t>07/31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ur Strength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326400" y="2410200"/>
            <a:ext cx="2439000" cy="2441160"/>
            <a:chOff x="3326400" y="2410200"/>
            <a:chExt cx="2439000" cy="2441160"/>
          </a:xfrm>
        </p:grpSpPr>
        <p:sp>
          <p:nvSpPr>
            <p:cNvPr id="123" name=""/>
            <p:cNvSpPr/>
            <p:nvPr/>
          </p:nvSpPr>
          <p:spPr>
            <a:xfrm flipH="1">
              <a:off x="3428280" y="2514600"/>
              <a:ext cx="2336760" cy="2336760"/>
            </a:xfrm>
            <a:custGeom>
              <a:avLst/>
              <a:gdLst>
                <a:gd name="textAreaLeft" fmla="*/ -360 w 2336760"/>
                <a:gd name="textAreaRight" fmla="*/ 2336760 w 2336760"/>
                <a:gd name="textAreaTop" fmla="*/ 0 h 2336760"/>
                <a:gd name="textAreaBottom" fmla="*/ 2337120 h 233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18900"/>
                  </a:moveTo>
                  <a:arcTo wR="-8100" hR="-8100" stAng="5400000" swAng="-3240000"/>
                  <a:lnTo>
                    <a:pt x="2063" y="4452"/>
                  </a:lnTo>
                  <a:arcTo wR="10800" hR="10800" stAng="-8640000" swAng="3240000"/>
                  <a:lnTo>
                    <a:pt x="10800" y="-2700"/>
                  </a:lnTo>
                  <a:lnTo>
                    <a:pt x="14850" y="1350"/>
                  </a:lnTo>
                  <a:lnTo>
                    <a:pt x="10800" y="5400"/>
                  </a:lnTo>
                  <a:close/>
                </a:path>
              </a:pathLst>
            </a:custGeom>
            <a:solidFill>
              <a:srgbClr val="a3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3428280" y="2514600"/>
              <a:ext cx="2336760" cy="2336760"/>
            </a:xfrm>
            <a:custGeom>
              <a:avLst/>
              <a:gdLst>
                <a:gd name="textAreaLeft" fmla="*/ -360 w 2336760"/>
                <a:gd name="textAreaRight" fmla="*/ 2336760 w 2336760"/>
                <a:gd name="textAreaTop" fmla="*/ 0 h 2336760"/>
                <a:gd name="textAreaBottom" fmla="*/ 2337120 h 233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900" y="10800"/>
                  </a:moveTo>
                  <a:arcTo wR="-8100" hR="-8100" stAng="0" swAng="-3240000"/>
                  <a:lnTo>
                    <a:pt x="4452" y="19537"/>
                  </a:lnTo>
                  <a:arcTo wR="10800" hR="10800" stAng="7560000" swAng="3240000"/>
                  <a:lnTo>
                    <a:pt x="-2700" y="10800"/>
                  </a:lnTo>
                  <a:lnTo>
                    <a:pt x="1350" y="675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3428280" y="2514600"/>
              <a:ext cx="2336760" cy="2336760"/>
            </a:xfrm>
            <a:custGeom>
              <a:avLst/>
              <a:gdLst>
                <a:gd name="textAreaLeft" fmla="*/ -360 w 2336760"/>
                <a:gd name="textAreaRight" fmla="*/ 2336760 w 2336760"/>
                <a:gd name="textAreaTop" fmla="*/ 0 h 2336760"/>
                <a:gd name="textAreaBottom" fmla="*/ 2337120 h 233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2700"/>
                  </a:moveTo>
                  <a:arcTo wR="-8100" hR="-8100" stAng="-5400000" swAng="-3240000"/>
                  <a:lnTo>
                    <a:pt x="19537" y="17148"/>
                  </a:lnTo>
                  <a:arcTo wR="10800" hR="10800" stAng="2160000" swAng="3240000"/>
                  <a:lnTo>
                    <a:pt x="10800" y="24300"/>
                  </a:lnTo>
                  <a:lnTo>
                    <a:pt x="6750" y="20250"/>
                  </a:lnTo>
                  <a:lnTo>
                    <a:pt x="10800" y="1620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3428280" y="2514600"/>
              <a:ext cx="2336760" cy="2336760"/>
            </a:xfrm>
            <a:custGeom>
              <a:avLst/>
              <a:gdLst>
                <a:gd name="textAreaLeft" fmla="*/ -360 w 2336760"/>
                <a:gd name="textAreaRight" fmla="*/ 2336760 w 2336760"/>
                <a:gd name="textAreaTop" fmla="*/ 0 h 2336760"/>
                <a:gd name="textAreaBottom" fmla="*/ 2337120 h 233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700" y="10800"/>
                  </a:moveTo>
                  <a:arcTo wR="-8100" hR="-8100" stAng="-10800000" swAng="-3240000"/>
                  <a:lnTo>
                    <a:pt x="17148" y="2063"/>
                  </a:lnTo>
                  <a:arcTo wR="10800" hR="10800" stAng="-3240000" swAng="3240000"/>
                  <a:lnTo>
                    <a:pt x="24300" y="10800"/>
                  </a:lnTo>
                  <a:lnTo>
                    <a:pt x="20250" y="14850"/>
                  </a:lnTo>
                  <a:lnTo>
                    <a:pt x="16200" y="1080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1343400">
              <a:off x="4710240" y="2499120"/>
              <a:ext cx="546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17802600">
              <a:off x="3353400" y="3046680"/>
              <a:ext cx="546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1755600">
              <a:off x="3886200" y="4327920"/>
              <a:ext cx="546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17838600">
              <a:off x="5181840" y="3946680"/>
              <a:ext cx="546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6280920" y="2388600"/>
            <a:ext cx="2411280" cy="2487960"/>
            <a:chOff x="6280920" y="2388600"/>
            <a:chExt cx="2411280" cy="2487960"/>
          </a:xfrm>
        </p:grpSpPr>
        <p:sp>
          <p:nvSpPr>
            <p:cNvPr id="132" name=""/>
            <p:cNvSpPr/>
            <p:nvPr/>
          </p:nvSpPr>
          <p:spPr>
            <a:xfrm flipH="1">
              <a:off x="6324480" y="2514600"/>
              <a:ext cx="2362320" cy="2361960"/>
            </a:xfrm>
            <a:custGeom>
              <a:avLst/>
              <a:gdLst>
                <a:gd name="textAreaLeft" fmla="*/ 360 w 2362320"/>
                <a:gd name="textAreaRight" fmla="*/ 2363040 w 2362320"/>
                <a:gd name="textAreaTop" fmla="*/ 0 h 2361960"/>
                <a:gd name="textAreaBottom" fmla="*/ 2362320 h 236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18900"/>
                  </a:moveTo>
                  <a:arcTo wR="-8100" hR="-8100" stAng="5400000" swAng="-2592000"/>
                  <a:lnTo>
                    <a:pt x="3407" y="2927"/>
                  </a:lnTo>
                  <a:arcTo wR="10800" hR="10800" stAng="-7992000" swAng="2592000"/>
                  <a:lnTo>
                    <a:pt x="10800" y="-2700"/>
                  </a:lnTo>
                  <a:lnTo>
                    <a:pt x="14850" y="1350"/>
                  </a:lnTo>
                  <a:lnTo>
                    <a:pt x="10800" y="5400"/>
                  </a:lnTo>
                  <a:close/>
                </a:path>
              </a:pathLst>
            </a:cu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6324480" y="2514600"/>
              <a:ext cx="2362320" cy="2361960"/>
            </a:xfrm>
            <a:custGeom>
              <a:avLst/>
              <a:gdLst>
                <a:gd name="textAreaLeft" fmla="*/ 360 w 2362320"/>
                <a:gd name="textAreaRight" fmla="*/ 2363040 w 2362320"/>
                <a:gd name="textAreaTop" fmla="*/ 0 h 2361960"/>
                <a:gd name="textAreaBottom" fmla="*/ 2362320 h 236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504" y="13303"/>
                  </a:moveTo>
                  <a:arcTo wR="-8100" hR="-8100" stAng="1080000" swAng="-2592000"/>
                  <a:lnTo>
                    <a:pt x="1028" y="15398"/>
                  </a:lnTo>
                  <a:arcTo wR="10800" hR="10800" stAng="9288000" swAng="2592000"/>
                  <a:lnTo>
                    <a:pt x="-2039" y="6628"/>
                  </a:lnTo>
                  <a:lnTo>
                    <a:pt x="3064" y="4028"/>
                  </a:lnTo>
                  <a:lnTo>
                    <a:pt x="5664" y="9131"/>
                  </a:lnTo>
                  <a:close/>
                </a:path>
              </a:pathLst>
            </a:custGeom>
            <a:solidFill>
              <a:srgbClr val="a3b2c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6324480" y="2514600"/>
              <a:ext cx="2362320" cy="2361960"/>
            </a:xfrm>
            <a:custGeom>
              <a:avLst/>
              <a:gdLst>
                <a:gd name="textAreaLeft" fmla="*/ 360 w 2362320"/>
                <a:gd name="textAreaRight" fmla="*/ 2363040 w 2362320"/>
                <a:gd name="textAreaTop" fmla="*/ 0 h 2361960"/>
                <a:gd name="textAreaBottom" fmla="*/ 2362320 h 236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561" y="4247"/>
                  </a:moveTo>
                  <a:arcTo wR="-8100" hR="-8100" stAng="-3240000" swAng="-2592001"/>
                  <a:lnTo>
                    <a:pt x="12154" y="21515"/>
                  </a:lnTo>
                  <a:arcTo wR="10800" hR="10800" stAng="4967999" swAng="2592001"/>
                  <a:lnTo>
                    <a:pt x="2865" y="21722"/>
                  </a:lnTo>
                  <a:lnTo>
                    <a:pt x="1969" y="16065"/>
                  </a:lnTo>
                  <a:lnTo>
                    <a:pt x="7626" y="15169"/>
                  </a:lnTo>
                  <a:close/>
                </a:path>
              </a:pathLst>
            </a:cu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6324480" y="2514600"/>
              <a:ext cx="2362320" cy="2361960"/>
            </a:xfrm>
            <a:custGeom>
              <a:avLst/>
              <a:gdLst>
                <a:gd name="textAreaLeft" fmla="*/ 360 w 2362320"/>
                <a:gd name="textAreaRight" fmla="*/ 2363040 w 2362320"/>
                <a:gd name="textAreaTop" fmla="*/ 0 h 2361960"/>
                <a:gd name="textAreaBottom" fmla="*/ 2362320 h 236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6039" y="4247"/>
                  </a:moveTo>
                  <a:arcTo wR="-8100" hR="-8100" stAng="-7560000" swAng="-2592001"/>
                  <a:lnTo>
                    <a:pt x="21409" y="12824"/>
                  </a:lnTo>
                  <a:arcTo wR="10800" hR="10800" stAng="647999" swAng="2592001"/>
                  <a:lnTo>
                    <a:pt x="18735" y="21722"/>
                  </a:lnTo>
                  <a:lnTo>
                    <a:pt x="13078" y="20826"/>
                  </a:lnTo>
                  <a:lnTo>
                    <a:pt x="13974" y="15169"/>
                  </a:lnTo>
                  <a:close/>
                </a:path>
              </a:pathLst>
            </a:cu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6324480" y="2514600"/>
              <a:ext cx="2362320" cy="2361960"/>
            </a:xfrm>
            <a:custGeom>
              <a:avLst/>
              <a:gdLst>
                <a:gd name="textAreaLeft" fmla="*/ 360 w 2362320"/>
                <a:gd name="textAreaRight" fmla="*/ 2363040 w 2362320"/>
                <a:gd name="textAreaTop" fmla="*/ 0 h 2361960"/>
                <a:gd name="textAreaBottom" fmla="*/ 2362320 h 236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096" y="13303"/>
                  </a:moveTo>
                  <a:arcTo wR="-8100" hR="-8100" stAng="9720000" swAng="-2592001"/>
                  <a:lnTo>
                    <a:pt x="16003" y="1336"/>
                  </a:lnTo>
                  <a:arcTo wR="10800" hR="10800" stAng="-3672001" swAng="2592001"/>
                  <a:lnTo>
                    <a:pt x="23639" y="6628"/>
                  </a:lnTo>
                  <a:lnTo>
                    <a:pt x="21039" y="11732"/>
                  </a:lnTo>
                  <a:lnTo>
                    <a:pt x="15936" y="9131"/>
                  </a:lnTo>
                  <a:close/>
                </a:path>
              </a:pathLst>
            </a:custGeom>
            <a:solidFill>
              <a:srgbClr val="a3b2c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8243000">
              <a:off x="6325200" y="2879640"/>
              <a:ext cx="546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60600">
              <a:off x="7530120" y="2436840"/>
              <a:ext cx="546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16146000">
              <a:off x="8215920" y="3427560"/>
              <a:ext cx="546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21122400">
              <a:off x="7468200" y="4418280"/>
              <a:ext cx="546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3606600">
              <a:off x="6401160" y="3946320"/>
              <a:ext cx="546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31640" y="2476800"/>
            <a:ext cx="2463840" cy="2400120"/>
            <a:chOff x="431640" y="2476800"/>
            <a:chExt cx="2463840" cy="2400120"/>
          </a:xfrm>
        </p:grpSpPr>
        <p:sp>
          <p:nvSpPr>
            <p:cNvPr id="143" name=""/>
            <p:cNvSpPr/>
            <p:nvPr/>
          </p:nvSpPr>
          <p:spPr>
            <a:xfrm flipH="1">
              <a:off x="533160" y="2514600"/>
              <a:ext cx="2362320" cy="2362320"/>
            </a:xfrm>
            <a:custGeom>
              <a:avLst/>
              <a:gdLst>
                <a:gd name="textAreaLeft" fmla="*/ 360 w 2362320"/>
                <a:gd name="textAreaRight" fmla="*/ 2363040 w 2362320"/>
                <a:gd name="textAreaTop" fmla="*/ 0 h 2362320"/>
                <a:gd name="textAreaBottom" fmla="*/ 2362680 h 236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18900"/>
                  </a:moveTo>
                  <a:arcTo wR="-8100" hR="-8100" stAng="5400000" swAng="-4320000"/>
                  <a:lnTo>
                    <a:pt x="529" y="7463"/>
                  </a:lnTo>
                  <a:arcTo wR="10800" hR="10800" stAng="-9720000" swAng="4320000"/>
                  <a:lnTo>
                    <a:pt x="10800" y="-2700"/>
                  </a:lnTo>
                  <a:lnTo>
                    <a:pt x="14850" y="1350"/>
                  </a:lnTo>
                  <a:lnTo>
                    <a:pt x="10800" y="5400"/>
                  </a:lnTo>
                  <a:close/>
                </a:path>
              </a:pathLst>
            </a:custGeom>
            <a:solidFill>
              <a:srgbClr val="a3b2c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533160" y="2514600"/>
              <a:ext cx="2362320" cy="2362320"/>
            </a:xfrm>
            <a:custGeom>
              <a:avLst/>
              <a:gdLst>
                <a:gd name="textAreaLeft" fmla="*/ 360 w 2362320"/>
                <a:gd name="textAreaRight" fmla="*/ 2363040 w 2362320"/>
                <a:gd name="textAreaTop" fmla="*/ 0 h 2362320"/>
                <a:gd name="textAreaBottom" fmla="*/ 2362680 h 236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15" y="6750"/>
                  </a:moveTo>
                  <a:arcTo wR="-8100" hR="-8100" stAng="-1800000" swAng="-4320000"/>
                  <a:lnTo>
                    <a:pt x="13045" y="21364"/>
                  </a:lnTo>
                  <a:arcTo wR="10800" hR="10800" stAng="4680000" swAng="4320000"/>
                  <a:lnTo>
                    <a:pt x="-891" y="17550"/>
                  </a:lnTo>
                  <a:lnTo>
                    <a:pt x="591" y="12018"/>
                  </a:lnTo>
                  <a:lnTo>
                    <a:pt x="6123" y="13500"/>
                  </a:lnTo>
                  <a:close/>
                </a:path>
              </a:pathLst>
            </a:cu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533160" y="2514600"/>
              <a:ext cx="2362320" cy="2362320"/>
            </a:xfrm>
            <a:custGeom>
              <a:avLst/>
              <a:gdLst>
                <a:gd name="textAreaLeft" fmla="*/ 360 w 2362320"/>
                <a:gd name="textAreaRight" fmla="*/ 2363040 w 2362320"/>
                <a:gd name="textAreaTop" fmla="*/ 0 h 2362320"/>
                <a:gd name="textAreaBottom" fmla="*/ 2362680 h 236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785" y="6750"/>
                  </a:moveTo>
                  <a:arcTo wR="-8100" hR="-8100" stAng="-9000000" swAng="-4320000"/>
                  <a:lnTo>
                    <a:pt x="18826" y="3573"/>
                  </a:lnTo>
                  <a:arcTo wR="10800" hR="10800" stAng="-2520000" swAng="4320000"/>
                  <a:lnTo>
                    <a:pt x="22491" y="17550"/>
                  </a:lnTo>
                  <a:lnTo>
                    <a:pt x="16959" y="19032"/>
                  </a:lnTo>
                  <a:lnTo>
                    <a:pt x="15477" y="13500"/>
                  </a:lnTo>
                  <a:close/>
                </a:path>
              </a:pathLst>
            </a:cu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1881600">
              <a:off x="1981080" y="2589840"/>
              <a:ext cx="546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6520400">
              <a:off x="381600" y="3427920"/>
              <a:ext cx="546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19658400">
              <a:off x="1967040" y="4342320"/>
              <a:ext cx="546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S powerpoint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248D-E9B1-4275-A509-4CEFFC3F3B5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270694-08B8-4C74-B0FE-0E4AA1C0742A}" type="datetime1">
              <a:rPr lang="en-US"/>
              <a:t>07/31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Key Benefi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mmarize the key benefits provided by the product, service, or idea being promot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yramidChart 1;Master;1;0.15;3"/>
          <p:cNvSpPr/>
          <p:nvPr/>
        </p:nvSpPr>
        <p:spPr>
          <a:xfrm>
            <a:off x="1216080" y="1981080"/>
            <a:ext cx="672300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4577760" y="2143080"/>
            <a:ext cx="360" cy="360"/>
          </a:xfrm>
          <a:prstGeom prst="rtTriangle">
            <a:avLst/>
          </a:prstGeom>
          <a:gradFill rotWithShape="0">
            <a:gsLst>
              <a:gs pos="0">
                <a:srgbClr val="a3b2c1"/>
              </a:gs>
              <a:gs pos="100000">
                <a:srgbClr val="616a7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yramidChart 2;Master;1;0.15;3"/>
          <p:cNvSpPr/>
          <p:nvPr/>
        </p:nvSpPr>
        <p:spPr>
          <a:xfrm>
            <a:off x="1219320" y="2057400"/>
            <a:ext cx="672300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4577760" y="2143080"/>
            <a:ext cx="360" cy="360"/>
          </a:xfrm>
          <a:prstGeom prst="rtTriangle">
            <a:avLst/>
          </a:prstGeom>
          <a:gradFill rotWithShape="0">
            <a:gsLst>
              <a:gs pos="0">
                <a:srgbClr val="a3b2c1"/>
              </a:gs>
              <a:gs pos="100000">
                <a:srgbClr val="616a7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688000" y="2060640"/>
            <a:ext cx="1905120" cy="190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S powerpoint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2DA3-20C4-4B14-8B92-0507E9E358D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559D0E-C98B-4C05-BB6A-74D84E40483B}" type="datetime1">
              <a:rPr lang="en-US"/>
              <a:t>07/31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eferenc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336699"/>
                </a:solidFill>
                <a:uFillTx/>
                <a:latin typeface="Verdana"/>
                <a:hlinkClick r:id="rId2" action="ppaction://hlinksldjump"/>
              </a:rPr>
              <a:t>Cost Analysi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www.google.com/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S powerpoint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975A-ACF6-481B-9A3A-4F1D5417D13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9FF888-17F9-4505-A6F4-F2633DFE286F}" type="datetime1">
              <a:rPr lang="en-US"/>
              <a:t>07/31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jjari Achala</cp:lastModifiedBy>
  <dcterms:modified xsi:type="dcterms:W3CDTF">2010-04-29T07:35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