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3E85-0466-47D8-891F-F59CA47E0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 have selected the text as shown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 have clicked the “Strikethrough” option from “Style\Strikethrough” from the pop up menu as shown ab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 didn’t notice any change. (Strikethrough Draws a line through the selected text, or if the cursor is in a word, the entire word). So please check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opened openoffice text document and wrote some text in it as shown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DAD5-F4F8-453E-AD8F-CAD53629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7FB3-E48B-4C53-B67A-3DE8C593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9FB4-4C52-496B-8638-E3690298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AE71-77C9-4BC9-AA7D-A6480686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1804-AB32-4875-9711-57F7EA91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5702-D9BE-42C5-B64B-03567170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7589-212D-4FEB-B7DF-C2BD7E9F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644F-57F5-4C71-8994-C915C03D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CB33-E102-44E7-9B65-2EED931F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223B-A19A-4E71-A062-A1635EAB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D0BB-E6BC-4FB0-A9EA-5021FE26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CC02-1E8B-4C45-8073-3A8EDDA9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9C74-1A52-41A1-956D-5C069DEEB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kethrough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10:07:27Z</dcterms:created>
  <dc:creator>virtusa</dc:creator>
  <dc:description/>
  <dc:language>en-US</dc:language>
  <cp:lastModifiedBy>virtusa</cp:lastModifiedBy>
  <dcterms:modified xsi:type="dcterms:W3CDTF">2004-12-08T10:12:31Z</dcterms:modified>
  <cp:revision>5</cp:revision>
  <dc:subject/>
  <dc:title>Work Flow</dc:title>
</cp:coreProperties>
</file>