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DEA-0216-4D52-A2DC-8F7CA92D9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זהו המודל המקובל בעול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BC1-8700-46CC-B4AE-B87E14B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51A-2767-416B-B160-1368546D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535-B624-4A17-AE23-D5A9B469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A2A-DB76-41A1-B7F1-6718A089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D762-02E2-49B5-BD30-FBD8D4C3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4C14-F31B-4B5C-9D58-D77DC52A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B740-0E63-43D7-B723-49141A6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EE6-B924-4128-98CC-49D7E7DC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0D2D-44A4-4B2D-9EDD-E35F3D71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F1E8-52F7-467E-928B-1444BE85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5B1C-DB95-41A8-8F49-F4A98EE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29B-57C7-4E67-9BAF-2C5EF097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5F0-B9F6-4401-8A0F-157527C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6BBD-09FB-46B1-9E46-33066AEA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35E-0FD3-45FF-99FD-DE41F2F2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5FB8-329F-4514-BE9A-9405CF2B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97FE-4E5B-4CF9-935B-B197D285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56E-7AAE-4789-AADA-827499B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440-1186-4885-875C-FC792934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EDC-F626-4309-8EDD-342BCCB9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372-9D4B-4762-8821-25E536BA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8E6-C25E-4405-863A-9F66FBC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84B-10A7-47DA-BF0F-2BE040F1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891-DCAA-4063-AC3A-B006CD7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C1C-717C-4213-953B-17A0635448AD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D368D88-7ACE-4862-B981-E7B25838228D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05:4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C287-40B0-43F8-A283-1CC3A1B64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321F-FF0A-49F4-B301-D598A892D11C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AE9D9FE-A1EA-464F-A1CD-383DB5BAE0C9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05:4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9367-6D12-4DFD-BDF7-82C711DF8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581280" y="3276720"/>
            <a:ext cx="1981440" cy="1371600"/>
            <a:chOff x="3581280" y="3276720"/>
            <a:chExt cx="1981440" cy="1371600"/>
          </a:xfrm>
        </p:grpSpPr>
        <p:sp>
          <p:nvSpPr>
            <p:cNvPr id="99" name=""/>
            <p:cNvSpPr/>
            <p:nvPr/>
          </p:nvSpPr>
          <p:spPr>
            <a:xfrm>
              <a:off x="3581280" y="3276720"/>
              <a:ext cx="198144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327672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ff3300"/>
                  </a:solidFill>
                  <a:latin typeface="Arial"/>
                  <a:cs typeface="Arial"/>
                </a:rPr>
                <a:t>רשות המודיעין הפיננסית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ffff00"/>
                </a:solidFill>
                <a:uFillTx/>
                <a:latin typeface="Tahoma"/>
              </a:rPr>
              <a:t>הקשר בין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FIU</a:t>
            </a:r>
            <a:r>
              <a:rPr b="1" lang="he-IL" sz="3600" spc="-1" strike="noStrike" u="sng">
                <a:solidFill>
                  <a:srgbClr val="ffff00"/>
                </a:solidFill>
                <a:uFillTx/>
                <a:latin typeface="Tahoma"/>
              </a:rPr>
              <a:t> לגופים אחרי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389240"/>
            <a:ext cx="5104800" cy="3259080"/>
            <a:chOff x="228600" y="1389240"/>
            <a:chExt cx="5104800" cy="3259080"/>
          </a:xfrm>
        </p:grpSpPr>
        <p:grpSp>
          <p:nvGrpSpPr>
            <p:cNvPr id="103" name=""/>
            <p:cNvGrpSpPr/>
            <p:nvPr/>
          </p:nvGrpSpPr>
          <p:grpSpPr>
            <a:xfrm>
              <a:off x="228600" y="3276720"/>
              <a:ext cx="1981080" cy="1371600"/>
              <a:chOff x="228600" y="3276720"/>
              <a:chExt cx="1981080" cy="137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228600" y="3276720"/>
                <a:ext cx="1981080" cy="1371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560" y="352116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cs typeface="Times New Roman"/>
                  </a:rPr>
                  <a:t>גופים פיננסים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62120" y="1389240"/>
              <a:ext cx="4571280" cy="1734840"/>
              <a:chOff x="762120" y="1389240"/>
              <a:chExt cx="4571280" cy="1734840"/>
            </a:xfrm>
          </p:grpSpPr>
          <p:sp>
            <p:nvSpPr>
              <p:cNvPr id="107" name=""/>
              <p:cNvSpPr/>
              <p:nvPr/>
            </p:nvSpPr>
            <p:spPr>
              <a:xfrm flipH="1" flipV="1" rot="10800000">
                <a:off x="913320" y="1828800"/>
                <a:ext cx="4419720" cy="1295280"/>
              </a:xfrm>
              <a:custGeom>
                <a:avLst/>
                <a:gdLst>
                  <a:gd name="textAreaLeft" fmla="*/ 842040 w 4419720"/>
                  <a:gd name="textAreaRight" fmla="*/ 3135600 w 4419720"/>
                  <a:gd name="textAreaTop" fmla="*/ 173520 h 1295280"/>
                  <a:gd name="textAreaBottom" fmla="*/ 112176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231" hR="21600" stAng="10800000" swAng="5400000"/>
                    <a:lnTo>
                      <a:pt x="11209" y="0"/>
                    </a:lnTo>
                    <a:arcTo wR="8231" hR="21600" stAng="-5400000" swAng="2828683"/>
                    <a:lnTo>
                      <a:pt x="21129" y="14400"/>
                    </a:lnTo>
                    <a:lnTo>
                      <a:pt x="17951" y="21600"/>
                    </a:lnTo>
                    <a:lnTo>
                      <a:pt x="13831" y="14400"/>
                    </a:lnTo>
                    <a:lnTo>
                      <a:pt x="15991" y="14400"/>
                    </a:lnTo>
                    <a:arcTo wR="8231" hR="21600" stAng="-2571317" swAng="-2588120"/>
                    <a:lnTo>
                      <a:pt x="9720" y="356"/>
                    </a:lnTo>
                    <a:arcTo wR="8231" hR="21600" stAng="-5640564" swAng="-5159436"/>
                    <a:close/>
                  </a:path>
                  <a:path fill="darkenLess" w="21600" h="21600">
                    <a:moveTo>
                      <a:pt x="0" y="21600"/>
                    </a:moveTo>
                    <a:arcTo wR="8231" hR="21600" stAng="10800000" swAng="5400000"/>
                    <a:lnTo>
                      <a:pt x="8231" y="0"/>
                    </a:lnTo>
                    <a:arcTo wR="8231" hR="21600" stAng="-5400000" swAng="240564"/>
                    <a:lnTo>
                      <a:pt x="9720" y="356"/>
                    </a:lnTo>
                    <a:arcTo wR="8231" hR="21600" stAng="-5640564" swAng="-5159436"/>
                    <a:close/>
                  </a:path>
                </a:pathLst>
              </a:cu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2120" y="1389240"/>
                <a:ext cx="3733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6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דווחים לרשות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3733920" y="1371600"/>
            <a:ext cx="4419360" cy="1828800"/>
            <a:chOff x="3733920" y="1371600"/>
            <a:chExt cx="4419360" cy="1828800"/>
          </a:xfrm>
        </p:grpSpPr>
        <p:sp>
          <p:nvSpPr>
            <p:cNvPr id="110" name=""/>
            <p:cNvSpPr/>
            <p:nvPr/>
          </p:nvSpPr>
          <p:spPr>
            <a:xfrm flipV="1" rot="10800000">
              <a:off x="3733920" y="1828800"/>
              <a:ext cx="4419360" cy="1371600"/>
            </a:xfrm>
            <a:custGeom>
              <a:avLst/>
              <a:gdLst>
                <a:gd name="textAreaLeft" fmla="*/ 807120 w 4419360"/>
                <a:gd name="textAreaRight" fmla="*/ 3034440 w 4419360"/>
                <a:gd name="textAreaTop" fmla="*/ 183600 h 1371600"/>
                <a:gd name="textAreaBottom" fmla="*/ 1188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92" hR="21600" stAng="10800000" swAng="5400000"/>
                  <a:lnTo>
                    <a:pt x="10884" y="0"/>
                  </a:lnTo>
                  <a:arcTo wR="7892" hR="21600" stAng="-5400000" swAng="2756501"/>
                  <a:lnTo>
                    <a:pt x="21149" y="14400"/>
                  </a:lnTo>
                  <a:lnTo>
                    <a:pt x="17280" y="21600"/>
                  </a:lnTo>
                  <a:lnTo>
                    <a:pt x="12509" y="14400"/>
                  </a:lnTo>
                  <a:lnTo>
                    <a:pt x="15333" y="14400"/>
                  </a:lnTo>
                  <a:arcTo wR="7892" hR="21600" stAng="-2643499" swAng="-2514410"/>
                  <a:lnTo>
                    <a:pt x="9388" y="392"/>
                  </a:lnTo>
                  <a:arcTo wR="7892" hR="21600" stAng="-5642091" swAng="-5157909"/>
                  <a:close/>
                </a:path>
                <a:path fill="darkenLess" w="21600" h="21600">
                  <a:moveTo>
                    <a:pt x="0" y="21600"/>
                  </a:moveTo>
                  <a:arcTo wR="7892" hR="21600" stAng="10800000" swAng="5400000"/>
                  <a:lnTo>
                    <a:pt x="7892" y="0"/>
                  </a:lnTo>
                  <a:arcTo wR="7892" hR="21600" stAng="-5400000" swAng="242091"/>
                  <a:lnTo>
                    <a:pt x="9388" y="392"/>
                  </a:lnTo>
                  <a:arcTo wR="7892" hR="21600" stAng="-5642091" swAng="-5157909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520" y="1371600"/>
              <a:ext cx="129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ffffff"/>
                  </a:solidFill>
                  <a:latin typeface="Arial"/>
                  <a:cs typeface="Arial"/>
                </a:rPr>
                <a:t>משוב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4723920"/>
            <a:ext cx="4876560" cy="1705320"/>
            <a:chOff x="0" y="4723920"/>
            <a:chExt cx="4876560" cy="1705320"/>
          </a:xfrm>
        </p:grpSpPr>
        <p:sp>
          <p:nvSpPr>
            <p:cNvPr id="113" name=""/>
            <p:cNvSpPr/>
            <p:nvPr/>
          </p:nvSpPr>
          <p:spPr>
            <a:xfrm flipH="1" flipV="1">
              <a:off x="456120" y="4723560"/>
              <a:ext cx="4419720" cy="1295640"/>
            </a:xfrm>
            <a:custGeom>
              <a:avLst/>
              <a:gdLst>
                <a:gd name="textAreaLeft" fmla="*/ 838440 w 4419720"/>
                <a:gd name="textAreaRight" fmla="*/ 3072960 w 4419720"/>
                <a:gd name="textAreaTop" fmla="*/ 173520 h 1295640"/>
                <a:gd name="textAreaBottom" fmla="*/ 112212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197" hR="21600" stAng="10800000" swAng="5400000"/>
                  <a:lnTo>
                    <a:pt x="10920" y="0"/>
                  </a:lnTo>
                  <a:arcTo wR="8197" hR="21600" stAng="-5400000" swAng="2900612"/>
                  <a:lnTo>
                    <a:pt x="21169" y="14691"/>
                  </a:lnTo>
                  <a:lnTo>
                    <a:pt x="17756" y="21600"/>
                  </a:lnTo>
                  <a:lnTo>
                    <a:pt x="13480" y="14691"/>
                  </a:lnTo>
                  <a:lnTo>
                    <a:pt x="15963" y="14691"/>
                  </a:lnTo>
                  <a:arcTo wR="8197" hR="21600" stAng="-2499388" swAng="-2681169"/>
                  <a:lnTo>
                    <a:pt x="9559" y="300"/>
                  </a:lnTo>
                  <a:arcTo wR="8197" hR="21600" stAng="-5619443" swAng="-5180557"/>
                  <a:close/>
                </a:path>
                <a:path fill="darkenLess" w="21600" h="21600">
                  <a:moveTo>
                    <a:pt x="0" y="21600"/>
                  </a:moveTo>
                  <a:arcTo wR="8197" hR="21600" stAng="10800000" swAng="5400000"/>
                  <a:lnTo>
                    <a:pt x="8197" y="0"/>
                  </a:lnTo>
                  <a:arcTo wR="8197" hR="21600" stAng="-5400000" swAng="219443"/>
                  <a:lnTo>
                    <a:pt x="9559" y="300"/>
                  </a:lnTo>
                  <a:arcTo wR="8197" hR="21600" stAng="-5619443" swAng="-5180557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095880"/>
              <a:ext cx="2666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260800" y="640080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  <a:cs typeface="Arial"/>
              </a:rPr>
              <a:t>משו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3640" y="6415200"/>
            <a:ext cx="19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ff"/>
                </a:solidFill>
                <a:latin typeface="Arial"/>
                <a:cs typeface="Arial"/>
              </a:rPr>
              <a:t>תוצאות הבדיק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00476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ff"/>
                </a:solidFill>
                <a:latin typeface="Arial"/>
                <a:cs typeface="Arial"/>
              </a:rPr>
              <a:t>שאילתות, מודיעי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1371600"/>
            <a:ext cx="1295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ff"/>
                </a:solidFill>
                <a:latin typeface="Arial"/>
                <a:cs typeface="Arial"/>
              </a:rPr>
              <a:t>משו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14600" y="3352680"/>
            <a:ext cx="6477120" cy="3105360"/>
            <a:chOff x="2514600" y="3352680"/>
            <a:chExt cx="6477120" cy="3105360"/>
          </a:xfrm>
        </p:grpSpPr>
        <p:grpSp>
          <p:nvGrpSpPr>
            <p:cNvPr id="120" name=""/>
            <p:cNvGrpSpPr/>
            <p:nvPr/>
          </p:nvGrpSpPr>
          <p:grpSpPr>
            <a:xfrm>
              <a:off x="6858000" y="3352680"/>
              <a:ext cx="2133720" cy="1371600"/>
              <a:chOff x="6858000" y="3352680"/>
              <a:chExt cx="2133720" cy="1371600"/>
            </a:xfrm>
          </p:grpSpPr>
          <p:sp>
            <p:nvSpPr>
              <p:cNvPr id="121" name=""/>
              <p:cNvSpPr/>
              <p:nvPr/>
            </p:nvSpPr>
            <p:spPr>
              <a:xfrm>
                <a:off x="6934320" y="3352680"/>
                <a:ext cx="1981080" cy="1371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8000" y="3581280"/>
                <a:ext cx="213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cs typeface="Times New Roman"/>
                  </a:rPr>
                  <a:t>גורמי</a:t>
                </a: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cs typeface="Times New Roman"/>
                  </a:rPr>
                  <a:t>אכיפת החוק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14600" y="4800240"/>
              <a:ext cx="6324480" cy="1657800"/>
              <a:chOff x="2514600" y="4800240"/>
              <a:chExt cx="6324480" cy="165780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4267080" y="4799880"/>
                <a:ext cx="4572000" cy="1219320"/>
              </a:xfrm>
              <a:custGeom>
                <a:avLst/>
                <a:gdLst>
                  <a:gd name="textAreaLeft" fmla="*/ 829080 w 4572000"/>
                  <a:gd name="textAreaRight" fmla="*/ 3155400 w 4572000"/>
                  <a:gd name="textAreaTop" fmla="*/ 163080 h 1219320"/>
                  <a:gd name="textAreaBottom" fmla="*/ 10562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34" hR="21600" stAng="10800000" swAng="5400000"/>
                    <a:lnTo>
                      <a:pt x="10990" y="0"/>
                    </a:lnTo>
                    <a:arcTo wR="7834" hR="21600" stAng="-5400000" swAng="2743828"/>
                    <a:lnTo>
                      <a:pt x="21152" y="14400"/>
                    </a:lnTo>
                    <a:lnTo>
                      <a:pt x="17246" y="21600"/>
                    </a:lnTo>
                    <a:lnTo>
                      <a:pt x="12444" y="14400"/>
                    </a:lnTo>
                    <a:lnTo>
                      <a:pt x="15220" y="14400"/>
                    </a:lnTo>
                    <a:arcTo wR="7834" hR="21600" stAng="-2656172" swAng="-2487900"/>
                    <a:lnTo>
                      <a:pt x="9412" y="443"/>
                    </a:lnTo>
                    <a:arcTo wR="7834" hR="21600" stAng="-5655928" swAng="-5144072"/>
                    <a:close/>
                  </a:path>
                  <a:path fill="darkenLess" w="21600" h="21600">
                    <a:moveTo>
                      <a:pt x="0" y="21600"/>
                    </a:moveTo>
                    <a:arcTo wR="7834" hR="21600" stAng="10800000" swAng="5400000"/>
                    <a:lnTo>
                      <a:pt x="7834" y="0"/>
                    </a:lnTo>
                    <a:arcTo wR="7834" hR="21600" stAng="-5400000" swAng="255928"/>
                    <a:lnTo>
                      <a:pt x="9412" y="443"/>
                    </a:lnTo>
                    <a:arcTo wR="7834" hR="21600" stAng="-5655928" swAng="-5144072"/>
                    <a:close/>
                  </a:path>
                </a:pathLst>
              </a:cu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57800" y="6095880"/>
                <a:ext cx="2438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600" spc="-1" strike="noStrike">
                    <a:solidFill>
                      <a:srgbClr val="008000"/>
                    </a:solidFill>
                    <a:latin typeface="Arial"/>
                    <a:cs typeface="Arial"/>
                  </a:rPr>
                  <a:t>פאראפראזה מודיעינית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14600" y="6121440"/>
                <a:ext cx="1843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4237200" y="419112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00cc00"/>
                </a:solidFill>
                <a:latin typeface="Arial"/>
                <a:cs typeface="Arial"/>
              </a:rPr>
              <a:t>מחק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4343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ff9900"/>
                </a:solidFill>
                <a:latin typeface="Arial"/>
                <a:cs typeface="Arial"/>
              </a:rPr>
              <a:t>עדכון הרשומות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7200" y="38862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ff0000"/>
                </a:solidFill>
                <a:latin typeface="Arial"/>
                <a:cs typeface="Arial"/>
              </a:rPr>
              <a:t>מחק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343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ffffff"/>
                </a:solidFill>
                <a:latin typeface="Arial"/>
                <a:cs typeface="Arial"/>
              </a:rPr>
              <a:t>עדכון הרשומות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F89-4E69-49F6-89AF-B3F66A7E86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05CEB-FEF0-4C05-976E-C1947C7F3349}" type="datetime8">
              <a:rPr lang="en-US"/>
              <a:t>07/31/26 05: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oo</cp:lastModifiedBy>
  <dcterms:modified xsi:type="dcterms:W3CDTF">2007-08-30T11:56:52Z</dcterms:modified>
  <cp:revision>36</cp:revision>
  <dc:subject/>
  <dc:title>מצגת של PowerPoint</dc:title>
</cp:coreProperties>
</file>