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04840" y="-36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95320" y="739440"/>
            <a:ext cx="4919760" cy="36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3e3f9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76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936108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04840" y="936108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fld id="{9E4D3BFE-35B7-4926-A73A-0F2004799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953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95320" y="7398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12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668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12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668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95C01-F6CA-4941-B7AD-B22869CB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9929-D6D4-47DA-A7E9-17680F7A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E6C16-9E11-4116-816D-1ABFADA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91C69-C2D4-475C-BB01-7066CF7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B07ED-EFAF-4078-977B-B358A3C4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52200" y="272520"/>
            <a:ext cx="692172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45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B56F0-60B3-4F99-9F65-6170881C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6A778-7EBF-41F7-BE2A-D9E98A44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A1022-333E-4287-8C8C-F75C8B8A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3B42-7128-4486-BE45-F15D21EF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0E406-4EBD-487C-9B50-DD6E08C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77596-9C35-49FA-B036-7FA9E022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12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668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12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668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F39B4-0292-4C58-A059-41FF154E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52200" y="272520"/>
            <a:ext cx="692172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45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51120"/>
            <a:ext cx="914400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352680"/>
            <a:ext cx="730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3e3f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7086240" y="6549840"/>
            <a:ext cx="1973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i="1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i="1" lang="en-GB" sz="10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0" y="6551280"/>
            <a:ext cx="169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July 7, 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98880" y="347760"/>
            <a:ext cx="2908080" cy="1650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192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3e3f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192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246720"/>
            <a:ext cx="21225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720"/>
            <a:ext cx="21225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7FB86D0E-BD3E-4D26-8963-0EE35C427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5440" y="190440"/>
            <a:ext cx="145404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993760"/>
            <a:ext cx="7315200" cy="13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Data Structures for Product Life Cycle</a:t>
            </a:r>
            <a:br>
              <a:rPr sz="2800"/>
            </a:br>
            <a:br>
              <a:rPr sz="2200"/>
            </a:br>
            <a:r>
              <a:rPr b="1" i="1" lang="en-GB" sz="2200" spc="-1" strike="noStrike">
                <a:solidFill>
                  <a:srgbClr val="3e3f9a"/>
                </a:solidFill>
                <a:latin typeface="Arial"/>
              </a:rPr>
              <a:t>Dr. Burnell G. West, LFIEEE</a:t>
            </a:r>
            <a:br>
              <a:rPr sz="2200"/>
            </a:br>
            <a:r>
              <a:rPr b="1" i="1" lang="en-GB" sz="2200" spc="-1" strike="noStrike">
                <a:solidFill>
                  <a:srgbClr val="3e3f9a"/>
                </a:solidFill>
                <a:latin typeface="Arial"/>
              </a:rPr>
              <a:t>IOST3 May 9-10, 2007</a:t>
            </a:r>
            <a:endParaRPr b="1" lang="en-US" sz="2200" spc="-1" strike="noStrike">
              <a:solidFill>
                <a:srgbClr val="3e3f9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IST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PAK 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2379600"/>
            <a:ext cx="9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6" idx="0"/>
            <a:endCxn id="274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6" name=""/>
          <p:cNvCxnSpPr>
            <a:endCxn id="272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7" name=""/>
          <p:cNvCxnSpPr>
            <a:stCxn id="276" idx="1"/>
            <a:endCxn id="273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8" name=""/>
          <p:cNvCxnSpPr>
            <a:stCxn id="273" idx="3"/>
            <a:endCxn id="277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9" name=""/>
          <p:cNvCxnSpPr>
            <a:stCxn id="275" idx="3"/>
            <a:endCxn id="277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90" name=""/>
          <p:cNvCxnSpPr>
            <a:stCxn id="272" idx="3"/>
            <a:endCxn id="275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91" name=""/>
          <p:cNvCxnSpPr>
            <a:stCxn id="274" idx="3"/>
            <a:endCxn id="273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92" name=""/>
          <p:cNvSpPr/>
          <p:nvPr/>
        </p:nvSpPr>
        <p:spPr>
          <a:xfrm>
            <a:off x="69840" y="5030640"/>
            <a:ext cx="248436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B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ra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chematic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27280" y="5030640"/>
            <a:ext cx="2487600" cy="138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 Varianc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vice re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equipment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rication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27480" y="5030640"/>
            <a:ext cx="2278080" cy="1014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ach fab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 equipment excu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horts and o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ametric var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Layer mask discrepa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9040" y="503064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52200" y="227160"/>
            <a:ext cx="69296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IC Fabrication Overview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981080" y="4465800"/>
            <a:ext cx="238320" cy="1172880"/>
          </a:xfrm>
          <a:prstGeom prst="lightningBol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rot="10800000">
            <a:off x="2124000" y="3520800"/>
            <a:ext cx="238320" cy="1173240"/>
          </a:xfrm>
          <a:prstGeom prst="lightningBol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5410080"/>
            <a:ext cx="914400" cy="609840"/>
          </a:xfrm>
          <a:prstGeom prst="flowChartMagneticDrum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Wafe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5562720"/>
            <a:ext cx="7696440" cy="304560"/>
          </a:xfrm>
          <a:prstGeom prst="leftRightArrow">
            <a:avLst>
              <a:gd name="adj1" fmla="val 47917"/>
              <a:gd name="adj2" fmla="val 5264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 Unicode MS"/>
              </a:rPr>
              <a:t>Semiconductor Fabrication Data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94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10800000">
            <a:off x="7524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056680" y="4925880"/>
            <a:ext cx="237960" cy="71280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rot="10800000">
            <a:off x="2198520" y="4359240"/>
            <a:ext cx="238320" cy="71280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6668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10800000">
            <a:off x="28098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526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rot="10800000">
            <a:off x="34956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0384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0800000">
            <a:off x="41814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7242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rot="10800000">
            <a:off x="48672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4100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10800000">
            <a:off x="55530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958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rot="10800000">
            <a:off x="62388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952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rot="10800000">
            <a:off x="14382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816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rot="10800000">
            <a:off x="69246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714280" y="5178600"/>
            <a:ext cx="142920" cy="4600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rot="10800000">
            <a:off x="5791680" y="4808160"/>
            <a:ext cx="142920" cy="46044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771680" y="5178600"/>
            <a:ext cx="142920" cy="4600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rot="10800000">
            <a:off x="7849080" y="4808160"/>
            <a:ext cx="142920" cy="46044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342680" y="5178600"/>
            <a:ext cx="142920" cy="4600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rot="10800000">
            <a:off x="4420080" y="4808160"/>
            <a:ext cx="142920" cy="46044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3505320"/>
            <a:ext cx="6858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ss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9" idx="6"/>
            <a:endCxn id="327" idx="0"/>
          </p:cNvCxnSpPr>
          <p:nvPr/>
        </p:nvCxnSpPr>
        <p:spPr>
          <a:xfrm>
            <a:off x="3886200" y="3123720"/>
            <a:ext cx="573840" cy="383400"/>
          </a:xfrm>
          <a:prstGeom prst="curvedConnector5">
            <a:avLst>
              <a:gd name="adj1" fmla="val 49968"/>
              <a:gd name="adj2" fmla="val 50000"/>
              <a:gd name="adj3" fmla="val 49968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4876920" y="3505320"/>
            <a:ext cx="457200" cy="533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533160"/>
              <a:gd name="textAreaBottom" fmla="*/ 510840 h 533160"/>
            </a:gdLst>
            <a:ahLst/>
            <a:rect l="textAreaLeft" t="textAreaTop" r="textAreaRight" b="textAreaBottom"/>
            <a:pathLst>
              <a:path w="21600" h="25186">
                <a:moveTo>
                  <a:pt x="3600" y="0"/>
                </a:moveTo>
                <a:arcTo wR="3600" hR="3600" stAng="16200000" swAng="-5400000"/>
                <a:lnTo>
                  <a:pt x="0" y="21586"/>
                </a:lnTo>
                <a:arcTo wR="3600" hR="3600" stAng="10800000" swAng="-5400000"/>
                <a:lnTo>
                  <a:pt x="18000" y="25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3505320"/>
            <a:ext cx="6858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ing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0"/>
            <a:endCxn id="330" idx="0"/>
          </p:cNvCxnSpPr>
          <p:nvPr/>
        </p:nvCxnSpPr>
        <p:spPr>
          <a:xfrm>
            <a:off x="4457520" y="3505320"/>
            <a:ext cx="6483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0" idx="0"/>
            <a:endCxn id="331" idx="0"/>
          </p:cNvCxnSpPr>
          <p:nvPr/>
        </p:nvCxnSpPr>
        <p:spPr>
          <a:xfrm>
            <a:off x="5105160" y="3505320"/>
            <a:ext cx="6483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1" idx="0"/>
            <a:endCxn id="332" idx="0"/>
          </p:cNvCxnSpPr>
          <p:nvPr/>
        </p:nvCxnSpPr>
        <p:spPr>
          <a:xfrm>
            <a:off x="5752800" y="3505320"/>
            <a:ext cx="7246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2" idx="0"/>
            <a:endCxn id="333" idx="0"/>
          </p:cNvCxnSpPr>
          <p:nvPr/>
        </p:nvCxnSpPr>
        <p:spPr>
          <a:xfrm>
            <a:off x="6476760" y="350532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8077320" y="32767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"/>
          <p:cNvCxnSpPr>
            <a:stCxn id="333" idx="0"/>
            <a:endCxn id="338" idx="1"/>
          </p:cNvCxnSpPr>
          <p:nvPr/>
        </p:nvCxnSpPr>
        <p:spPr>
          <a:xfrm>
            <a:off x="7162920" y="3505320"/>
            <a:ext cx="915120" cy="38880"/>
          </a:xfrm>
          <a:prstGeom prst="curvedConnector5">
            <a:avLst>
              <a:gd name="adj1" fmla="val 49980"/>
              <a:gd name="adj2" fmla="val 49532"/>
              <a:gd name="adj3" fmla="val 49980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6858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92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In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2971800"/>
            <a:ext cx="609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et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In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038480"/>
            <a:ext cx="609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0" idx="0"/>
            <a:endCxn id="344" idx="0"/>
          </p:cNvCxnSpPr>
          <p:nvPr/>
        </p:nvCxnSpPr>
        <p:spPr>
          <a:xfrm>
            <a:off x="990360" y="350532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4" idx="0"/>
            <a:endCxn id="343" idx="1"/>
          </p:cNvCxnSpPr>
          <p:nvPr/>
        </p:nvCxnSpPr>
        <p:spPr>
          <a:xfrm flipV="1">
            <a:off x="1676520" y="3238200"/>
            <a:ext cx="381600" cy="267120"/>
          </a:xfrm>
          <a:prstGeom prst="curvedConnector5">
            <a:avLst>
              <a:gd name="adj1" fmla="val 49952"/>
              <a:gd name="adj2" fmla="val 49932"/>
              <a:gd name="adj3" fmla="val 49952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4" idx="2"/>
            <a:endCxn id="345" idx="1"/>
          </p:cNvCxnSpPr>
          <p:nvPr/>
        </p:nvCxnSpPr>
        <p:spPr>
          <a:xfrm>
            <a:off x="1676520" y="4038120"/>
            <a:ext cx="381600" cy="267120"/>
          </a:xfrm>
          <a:prstGeom prst="curvedConnector5">
            <a:avLst>
              <a:gd name="adj1" fmla="val 49952"/>
              <a:gd name="adj2" fmla="val 49932"/>
              <a:gd name="adj3" fmla="val 49952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3" idx="3"/>
            <a:endCxn id="341" idx="0"/>
          </p:cNvCxnSpPr>
          <p:nvPr/>
        </p:nvCxnSpPr>
        <p:spPr>
          <a:xfrm>
            <a:off x="2666520" y="3238200"/>
            <a:ext cx="38196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5" idx="3"/>
            <a:endCxn id="341" idx="2"/>
          </p:cNvCxnSpPr>
          <p:nvPr/>
        </p:nvCxnSpPr>
        <p:spPr>
          <a:xfrm flipV="1">
            <a:off x="2666520" y="4038120"/>
            <a:ext cx="38196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1" idx="0"/>
            <a:endCxn id="342" idx="0"/>
          </p:cNvCxnSpPr>
          <p:nvPr/>
        </p:nvCxnSpPr>
        <p:spPr>
          <a:xfrm>
            <a:off x="3047760" y="350532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29" idx="0"/>
            <a:endCxn id="340" idx="1"/>
          </p:cNvCxnSpPr>
          <p:nvPr/>
        </p:nvCxnSpPr>
        <p:spPr>
          <a:xfrm flipV="1" rot="10800000">
            <a:off x="685080" y="2971440"/>
            <a:ext cx="3047040" cy="80100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581280" y="2971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42" idx="0"/>
            <a:endCxn id="329" idx="4"/>
          </p:cNvCxnSpPr>
          <p:nvPr/>
        </p:nvCxnSpPr>
        <p:spPr>
          <a:xfrm flipV="1">
            <a:off x="3733920" y="3276000"/>
            <a:ext cx="2160" cy="2293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5" idx="2"/>
            <a:endCxn id="356" idx="2"/>
          </p:cNvCxnSpPr>
          <p:nvPr/>
        </p:nvCxnSpPr>
        <p:spPr>
          <a:xfrm flipV="1" rot="10800000">
            <a:off x="990000" y="4038120"/>
            <a:ext cx="2743920" cy="25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62720" y="44197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9" idx="2"/>
            <a:endCxn id="357" idx="1"/>
          </p:cNvCxnSpPr>
          <p:nvPr/>
        </p:nvCxnSpPr>
        <p:spPr>
          <a:xfrm>
            <a:off x="5105520" y="4038480"/>
            <a:ext cx="457920" cy="572400"/>
          </a:xfrm>
          <a:prstGeom prst="curvedConnector5">
            <a:avLst>
              <a:gd name="adj1" fmla="val 49960"/>
              <a:gd name="adj2" fmla="val 49968"/>
              <a:gd name="adj3" fmla="val 499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7620120" y="44197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62" idx="2"/>
            <a:endCxn id="360" idx="1"/>
          </p:cNvCxnSpPr>
          <p:nvPr/>
        </p:nvCxnSpPr>
        <p:spPr>
          <a:xfrm>
            <a:off x="7162920" y="4038480"/>
            <a:ext cx="457920" cy="572400"/>
          </a:xfrm>
          <a:prstGeom prst="curvedConnector5">
            <a:avLst>
              <a:gd name="adj1" fmla="val 49960"/>
              <a:gd name="adj2" fmla="val 49968"/>
              <a:gd name="adj3" fmla="val 499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191120" y="44197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5" idx="2"/>
            <a:endCxn id="363" idx="1"/>
          </p:cNvCxnSpPr>
          <p:nvPr/>
        </p:nvCxnSpPr>
        <p:spPr>
          <a:xfrm>
            <a:off x="3733920" y="4038480"/>
            <a:ext cx="457920" cy="572400"/>
          </a:xfrm>
          <a:prstGeom prst="curvedConnector5">
            <a:avLst>
              <a:gd name="adj1" fmla="val 49960"/>
              <a:gd name="adj2" fmla="val 49968"/>
              <a:gd name="adj3" fmla="val 499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3" idx="2"/>
          </p:cNvCxnSpPr>
          <p:nvPr/>
        </p:nvCxnSpPr>
        <p:spPr>
          <a:xfrm rot="10800000">
            <a:off x="990000" y="4037760"/>
            <a:ext cx="3543840" cy="7628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57" idx="2"/>
            <a:endCxn id="356" idx="2"/>
          </p:cNvCxnSpPr>
          <p:nvPr/>
        </p:nvCxnSpPr>
        <p:spPr>
          <a:xfrm rot="10800000">
            <a:off x="990000" y="4037760"/>
            <a:ext cx="4915440" cy="7628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0" idx="2"/>
            <a:endCxn id="368" idx="2"/>
          </p:cNvCxnSpPr>
          <p:nvPr/>
        </p:nvCxnSpPr>
        <p:spPr>
          <a:xfrm rot="10800000">
            <a:off x="2361600" y="4571280"/>
            <a:ext cx="56012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70" idx="2"/>
            <a:endCxn id="356" idx="2"/>
          </p:cNvCxnSpPr>
          <p:nvPr/>
        </p:nvCxnSpPr>
        <p:spPr>
          <a:xfrm flipV="1" rot="10800000">
            <a:off x="990000" y="4038120"/>
            <a:ext cx="68652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72" idx="2"/>
            <a:endCxn id="360" idx="0"/>
          </p:cNvCxnSpPr>
          <p:nvPr/>
        </p:nvCxnSpPr>
        <p:spPr>
          <a:xfrm flipV="1" rot="10800000">
            <a:off x="7962120" y="3809520"/>
            <a:ext cx="419760" cy="610560"/>
          </a:xfrm>
          <a:prstGeom prst="curvedConnector5">
            <a:avLst>
              <a:gd name="adj1" fmla="val 49957"/>
              <a:gd name="adj2" fmla="val 49970"/>
              <a:gd name="adj3" fmla="val 4995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9144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449568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3429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37339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60" idx="2"/>
            <a:endCxn id="373" idx="2"/>
          </p:cNvCxnSpPr>
          <p:nvPr/>
        </p:nvCxnSpPr>
        <p:spPr>
          <a:xfrm rot="10800000">
            <a:off x="2361600" y="3504600"/>
            <a:ext cx="560124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60" idx="2"/>
            <a:endCxn id="356" idx="2"/>
          </p:cNvCxnSpPr>
          <p:nvPr/>
        </p:nvCxnSpPr>
        <p:spPr>
          <a:xfrm rot="10800000">
            <a:off x="990000" y="4037760"/>
            <a:ext cx="6972840" cy="762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3" idx="2"/>
            <a:endCxn id="368" idx="2"/>
          </p:cNvCxnSpPr>
          <p:nvPr/>
        </p:nvCxnSpPr>
        <p:spPr>
          <a:xfrm rot="10800000">
            <a:off x="2362320" y="4571280"/>
            <a:ext cx="217188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55" idx="2"/>
            <a:endCxn id="373" idx="2"/>
          </p:cNvCxnSpPr>
          <p:nvPr/>
        </p:nvCxnSpPr>
        <p:spPr>
          <a:xfrm rot="10800000">
            <a:off x="2361600" y="3504600"/>
            <a:ext cx="137232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55" idx="2"/>
            <a:endCxn id="368" idx="2"/>
          </p:cNvCxnSpPr>
          <p:nvPr/>
        </p:nvCxnSpPr>
        <p:spPr>
          <a:xfrm flipV="1" rot="10800000">
            <a:off x="2361600" y="4038120"/>
            <a:ext cx="1372320" cy="534240"/>
          </a:xfrm>
          <a:prstGeom prst="curvedConnector5">
            <a:avLst>
              <a:gd name="adj1" fmla="val 49986"/>
              <a:gd name="adj2" fmla="val 49966"/>
              <a:gd name="adj3" fmla="val 4998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7" idx="2"/>
            <a:endCxn id="373" idx="2"/>
          </p:cNvCxnSpPr>
          <p:nvPr/>
        </p:nvCxnSpPr>
        <p:spPr>
          <a:xfrm rot="10800000">
            <a:off x="2361600" y="3504600"/>
            <a:ext cx="3543840" cy="129600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498600" y="987480"/>
            <a:ext cx="83818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plexity of the most advanced IC fabrication exceeds the complexity 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ious manufacturing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plexity of the most complex realizable IC design exceeds th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ll previous classes of design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ept software – wherein there is no bound to the realizabl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52200" y="317160"/>
            <a:ext cx="69296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Overview of this presentation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ursive Product Design and Manufacturing Data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sts incurred by and value added to a product throughout its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itical data required for useful reliabi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lure data capture opportunities in the overall product life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afely combining collaboration and competition to collect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tomation via standardization of global product meta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96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Data Structures for Product Life Cycl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3040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novation is the engine of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12400">
              <a:lnSpc>
                <a:spcPct val="93000"/>
              </a:lnSpc>
              <a:spcBef>
                <a:spcPts val="49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ncipal fuel of the engine of progress is profitable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llectual Property (IP) control requires product data sovereig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12400">
              <a:lnSpc>
                <a:spcPct val="81000"/>
              </a:lnSpc>
              <a:spcBef>
                <a:spcPts val="49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 limited ti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fe cycle product enhancement requires 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privacy inhibits / delays effective root cause failur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laboration challenges the economics of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OSAL – a standard data structure to facilitate collaborative data mining while appropriately protecting critical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52200" y="317160"/>
            <a:ext cx="69246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Conceptual Hierarchy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4520" y="1109520"/>
            <a:ext cx="8002440" cy="439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7840" y="2242800"/>
            <a:ext cx="6518160" cy="21826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6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0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19240">
              <a:lnSpc>
                <a:spcPct val="76000"/>
              </a:lnSpc>
              <a:spcBef>
                <a:spcPts val="49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onnected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76000"/>
              </a:lnSpc>
              <a:spcBef>
                <a:spcPts val="40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76000"/>
              </a:lnSpc>
              <a:spcBef>
                <a:spcPts val="400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mb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0">
              <a:lnSpc>
                <a:spcPct val="76000"/>
              </a:lnSpc>
              <a:spcBef>
                <a:spcPts val="34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76000"/>
              </a:lnSpc>
              <a:spcBef>
                <a:spcPts val="34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s (IC's, resistors, capacitors, PWB's, cables, wire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0">
              <a:lnSpc>
                <a:spcPct val="76000"/>
              </a:lnSpc>
              <a:spcBef>
                <a:spcPts val="34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5840" y="1449360"/>
            <a:ext cx="3619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3600" spc="-1" strike="noStrike">
                <a:solidFill>
                  <a:srgbClr val="b84747"/>
                </a:solidFill>
                <a:latin typeface="Arial"/>
              </a:rPr>
              <a:t>S O F T W A R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00" y="1297080"/>
            <a:ext cx="1600200" cy="53316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fin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16160" y="2003400"/>
            <a:ext cx="16002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6480" y="2793960"/>
            <a:ext cx="135072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erif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0080" y="3490920"/>
            <a:ext cx="147168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velop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8480" y="4944960"/>
            <a:ext cx="14670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abrica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7200" y="5673600"/>
            <a:ext cx="143352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alida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43480" y="4227480"/>
            <a:ext cx="118260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erif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5" idx="2"/>
            <a:endCxn id="106" idx="1"/>
          </p:cNvCxnSpPr>
          <p:nvPr/>
        </p:nvCxnSpPr>
        <p:spPr>
          <a:xfrm>
            <a:off x="1163520" y="1828800"/>
            <a:ext cx="153360" cy="442080"/>
          </a:xfrm>
          <a:prstGeom prst="curvedConnector5">
            <a:avLst>
              <a:gd name="adj1" fmla="val 49882"/>
              <a:gd name="adj2" fmla="val 49959"/>
              <a:gd name="adj3" fmla="val 49882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6" idx="2"/>
            <a:endCxn id="107" idx="1"/>
          </p:cNvCxnSpPr>
          <p:nvPr/>
        </p:nvCxnSpPr>
        <p:spPr>
          <a:xfrm>
            <a:off x="2116080" y="2536560"/>
            <a:ext cx="231120" cy="524160"/>
          </a:xfrm>
          <a:prstGeom prst="curvedConnector5">
            <a:avLst>
              <a:gd name="adj1" fmla="val 49921"/>
              <a:gd name="adj2" fmla="val 49965"/>
              <a:gd name="adj3" fmla="val 49921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7" idx="2"/>
            <a:endCxn id="108" idx="1"/>
          </p:cNvCxnSpPr>
          <p:nvPr/>
        </p:nvCxnSpPr>
        <p:spPr>
          <a:xfrm>
            <a:off x="3022560" y="3327120"/>
            <a:ext cx="317880" cy="4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8" idx="2"/>
            <a:endCxn id="111" idx="1"/>
          </p:cNvCxnSpPr>
          <p:nvPr/>
        </p:nvCxnSpPr>
        <p:spPr>
          <a:xfrm>
            <a:off x="4074840" y="4022640"/>
            <a:ext cx="369000" cy="472320"/>
          </a:xfrm>
          <a:prstGeom prst="curvedConnector5">
            <a:avLst>
              <a:gd name="adj1" fmla="val 50000"/>
              <a:gd name="adj2" fmla="val 49961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9" idx="2"/>
            <a:endCxn id="110" idx="1"/>
          </p:cNvCxnSpPr>
          <p:nvPr/>
        </p:nvCxnSpPr>
        <p:spPr>
          <a:xfrm>
            <a:off x="5942160" y="5478120"/>
            <a:ext cx="365760" cy="462600"/>
          </a:xfrm>
          <a:prstGeom prst="curvedConnector5">
            <a:avLst>
              <a:gd name="adj1" fmla="val 49950"/>
              <a:gd name="adj2" fmla="val 50000"/>
              <a:gd name="adj3" fmla="val 4995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1" idx="2"/>
            <a:endCxn id="109" idx="1"/>
          </p:cNvCxnSpPr>
          <p:nvPr/>
        </p:nvCxnSpPr>
        <p:spPr>
          <a:xfrm>
            <a:off x="5033880" y="4761000"/>
            <a:ext cx="177120" cy="451440"/>
          </a:xfrm>
          <a:prstGeom prst="curvedConnector5">
            <a:avLst>
              <a:gd name="adj1" fmla="val 49898"/>
              <a:gd name="adj2" fmla="val 49960"/>
              <a:gd name="adj3" fmla="val 4989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96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Design Flow at each level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7320" y="3465360"/>
            <a:ext cx="241920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y box data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D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tail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" y="5029200"/>
            <a:ext cx="24350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 box data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D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tail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xception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cceptance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0680" y="914400"/>
            <a:ext cx="1335240" cy="131292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5" idx="3"/>
            <a:endCxn id="121" idx="1"/>
          </p:cNvCxnSpPr>
          <p:nvPr/>
        </p:nvCxnSpPr>
        <p:spPr>
          <a:xfrm>
            <a:off x="1963800" y="1563480"/>
            <a:ext cx="4737600" cy="68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07" idx="0"/>
          </p:cNvCxnSpPr>
          <p:nvPr/>
        </p:nvCxnSpPr>
        <p:spPr>
          <a:xfrm flipV="1" rot="10800000">
            <a:off x="3021840" y="2224800"/>
            <a:ext cx="4347360" cy="568800"/>
          </a:xfrm>
          <a:prstGeom prst="curvedConnector5">
            <a:avLst>
              <a:gd name="adj1" fmla="val 49995"/>
              <a:gd name="adj2" fmla="val 49968"/>
              <a:gd name="adj3" fmla="val 4999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8" idx="3"/>
            <a:endCxn id="121" idx="1"/>
          </p:cNvCxnSpPr>
          <p:nvPr/>
        </p:nvCxnSpPr>
        <p:spPr>
          <a:xfrm flipV="1">
            <a:off x="4809960" y="1569240"/>
            <a:ext cx="1891440" cy="21884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1" idx="2"/>
            <a:endCxn id="111" idx="0"/>
          </p:cNvCxnSpPr>
          <p:nvPr/>
        </p:nvCxnSpPr>
        <p:spPr>
          <a:xfrm flipV="1" rot="10800000">
            <a:off x="5033160" y="2225160"/>
            <a:ext cx="2334600" cy="200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6" idx="3"/>
            <a:endCxn id="121" idx="1"/>
          </p:cNvCxnSpPr>
          <p:nvPr/>
        </p:nvCxnSpPr>
        <p:spPr>
          <a:xfrm flipV="1">
            <a:off x="2916360" y="1569240"/>
            <a:ext cx="3785040" cy="70092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0" idx="3"/>
            <a:endCxn id="121" idx="3"/>
          </p:cNvCxnSpPr>
          <p:nvPr/>
        </p:nvCxnSpPr>
        <p:spPr>
          <a:xfrm flipV="1">
            <a:off x="7740720" y="1569600"/>
            <a:ext cx="295560" cy="43711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2"/>
            <a:endCxn id="110" idx="0"/>
          </p:cNvCxnSpPr>
          <p:nvPr/>
        </p:nvCxnSpPr>
        <p:spPr>
          <a:xfrm flipV="1" rot="10800000">
            <a:off x="7022520" y="2225160"/>
            <a:ext cx="345240" cy="34488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490920" y="5221440"/>
            <a:ext cx="1166760" cy="115704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11" idx="2"/>
            <a:endCxn id="129" idx="0"/>
          </p:cNvCxnSpPr>
          <p:nvPr/>
        </p:nvCxnSpPr>
        <p:spPr>
          <a:xfrm flipV="1" rot="10800000">
            <a:off x="4074480" y="4760640"/>
            <a:ext cx="959400" cy="462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3"/>
            <a:endCxn id="109" idx="1"/>
          </p:cNvCxnSpPr>
          <p:nvPr/>
        </p:nvCxnSpPr>
        <p:spPr>
          <a:xfrm flipV="1">
            <a:off x="4657320" y="5211360"/>
            <a:ext cx="55332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08" idx="2"/>
            <a:endCxn id="129" idx="0"/>
          </p:cNvCxnSpPr>
          <p:nvPr/>
        </p:nvCxnSpPr>
        <p:spPr>
          <a:xfrm>
            <a:off x="4075200" y="4022640"/>
            <a:ext cx="2160" cy="1199520"/>
          </a:xfrm>
          <a:prstGeom prst="curvedConnector5">
            <a:avLst>
              <a:gd name="adj1" fmla="val 40000"/>
              <a:gd name="adj2" fmla="val 49984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20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402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598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804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004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1205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407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608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808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008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2209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2411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5880" y="1081080"/>
            <a:ext cx="16002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2280" y="2579760"/>
            <a:ext cx="1252440" cy="53316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51200" y="1801800"/>
            <a:ext cx="190512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ecute M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08720" y="2666880"/>
            <a:ext cx="143856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liver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3" idx="2"/>
            <a:endCxn id="138" idx="0"/>
          </p:cNvCxnSpPr>
          <p:nvPr/>
        </p:nvCxnSpPr>
        <p:spPr>
          <a:xfrm>
            <a:off x="1316160" y="1612440"/>
            <a:ext cx="3600" cy="175320"/>
          </a:xfrm>
          <a:prstGeom prst="curvedConnector5">
            <a:avLst>
              <a:gd name="adj1" fmla="val 44444"/>
              <a:gd name="adj2" fmla="val 50000"/>
              <a:gd name="adj3" fmla="val 44444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40" idx="3"/>
            <a:endCxn id="135" idx="1"/>
          </p:cNvCxnSpPr>
          <p:nvPr/>
        </p:nvCxnSpPr>
        <p:spPr>
          <a:xfrm>
            <a:off x="3332160" y="2068560"/>
            <a:ext cx="419760" cy="2160"/>
          </a:xfrm>
          <a:prstGeom prst="curvedConnector5">
            <a:avLst>
              <a:gd name="adj1" fmla="val 49957"/>
              <a:gd name="adj2" fmla="val 40000"/>
              <a:gd name="adj3" fmla="val 49957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>
            <a:off x="4702320" y="2333520"/>
            <a:ext cx="2160" cy="3178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2" idx="2"/>
            <a:endCxn id="144" idx="0"/>
          </p:cNvCxnSpPr>
          <p:nvPr/>
        </p:nvCxnSpPr>
        <p:spPr>
          <a:xfrm>
            <a:off x="4702320" y="3213000"/>
            <a:ext cx="2160" cy="294480"/>
          </a:xfrm>
          <a:prstGeom prst="curvedConnector5">
            <a:avLst>
              <a:gd name="adj1" fmla="val 40000"/>
              <a:gd name="adj2" fmla="val 49938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3"/>
            <a:endCxn id="136" idx="1"/>
          </p:cNvCxnSpPr>
          <p:nvPr/>
        </p:nvCxnSpPr>
        <p:spPr>
          <a:xfrm>
            <a:off x="6818400" y="2933280"/>
            <a:ext cx="491040" cy="252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6" idx="0"/>
            <a:endCxn id="135" idx="0"/>
          </p:cNvCxnSpPr>
          <p:nvPr/>
        </p:nvCxnSpPr>
        <p:spPr>
          <a:xfrm rot="10800000">
            <a:off x="4701600" y="1801080"/>
            <a:ext cx="1512000" cy="851760"/>
          </a:xfrm>
          <a:prstGeom prst="curvedConnector5">
            <a:avLst>
              <a:gd name="adj1" fmla="val 49988"/>
              <a:gd name="adj2" fmla="val 49978"/>
              <a:gd name="adj3" fmla="val 4998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96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Manufacturing Flow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98960" y="265104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86040" y="3522600"/>
            <a:ext cx="106992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98960" y="350676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10240" y="2652840"/>
            <a:ext cx="1208160" cy="56340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2" idx="3"/>
            <a:endCxn id="146" idx="1"/>
          </p:cNvCxnSpPr>
          <p:nvPr/>
        </p:nvCxnSpPr>
        <p:spPr>
          <a:xfrm>
            <a:off x="5307120" y="2932200"/>
            <a:ext cx="305280" cy="2160"/>
          </a:xfrm>
          <a:prstGeom prst="curvedConnector5">
            <a:avLst>
              <a:gd name="adj1" fmla="val 49940"/>
              <a:gd name="adj2" fmla="val 40000"/>
              <a:gd name="adj3" fmla="val 4994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5176800" y="2622600"/>
            <a:ext cx="528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65720" y="224460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1160" y="3181320"/>
            <a:ext cx="442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24800" y="265896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1160" y="431496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44" idx="2"/>
            <a:endCxn id="157" idx="0"/>
          </p:cNvCxnSpPr>
          <p:nvPr/>
        </p:nvCxnSpPr>
        <p:spPr>
          <a:xfrm>
            <a:off x="4702320" y="4070520"/>
            <a:ext cx="2160" cy="275040"/>
          </a:xfrm>
          <a:prstGeom prst="curvedConnector5">
            <a:avLst>
              <a:gd name="adj1" fmla="val 40000"/>
              <a:gd name="adj2" fmla="val 49934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098960" y="434484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91160" y="4044960"/>
            <a:ext cx="442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1"/>
            <a:endCxn id="149" idx="2"/>
          </p:cNvCxnSpPr>
          <p:nvPr/>
        </p:nvCxnSpPr>
        <p:spPr>
          <a:xfrm rot="10800000">
            <a:off x="3320280" y="4053600"/>
            <a:ext cx="778680" cy="57096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4" idx="3"/>
            <a:endCxn id="161" idx="1"/>
          </p:cNvCxnSpPr>
          <p:nvPr/>
        </p:nvCxnSpPr>
        <p:spPr>
          <a:xfrm>
            <a:off x="5306760" y="3787920"/>
            <a:ext cx="4071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176800" y="3487680"/>
            <a:ext cx="528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7" idx="2"/>
            <a:endCxn id="164" idx="0"/>
          </p:cNvCxnSpPr>
          <p:nvPr/>
        </p:nvCxnSpPr>
        <p:spPr>
          <a:xfrm flipV="1" rot="10800000">
            <a:off x="4696560" y="4906440"/>
            <a:ext cx="5760" cy="523080"/>
          </a:xfrm>
          <a:prstGeom prst="curvedConnector5">
            <a:avLst>
              <a:gd name="adj1" fmla="val 46666"/>
              <a:gd name="adj2" fmla="val 50000"/>
              <a:gd name="adj3" fmla="val 46666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4654440" y="483696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3560" y="3522600"/>
            <a:ext cx="117288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57" idx="3"/>
          </p:cNvCxnSpPr>
          <p:nvPr/>
        </p:nvCxnSpPr>
        <p:spPr>
          <a:xfrm flipV="1" rot="10800000">
            <a:off x="5306400" y="4053960"/>
            <a:ext cx="992880" cy="572400"/>
          </a:xfrm>
          <a:prstGeom prst="curvedConnector5">
            <a:avLst>
              <a:gd name="adj1" fmla="val 49981"/>
              <a:gd name="adj2" fmla="val 49968"/>
              <a:gd name="adj3" fmla="val 49981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691240" y="484488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1" idx="2"/>
            <a:endCxn id="167" idx="0"/>
          </p:cNvCxnSpPr>
          <p:nvPr/>
        </p:nvCxnSpPr>
        <p:spPr>
          <a:xfrm flipV="1" rot="10800000">
            <a:off x="6293880" y="4053960"/>
            <a:ext cx="5400" cy="791280"/>
          </a:xfrm>
          <a:prstGeom prst="curvedConnector5">
            <a:avLst>
              <a:gd name="adj1" fmla="val 50000"/>
              <a:gd name="adj2" fmla="val 49977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49" idx="0"/>
            <a:endCxn id="142" idx="1"/>
          </p:cNvCxnSpPr>
          <p:nvPr/>
        </p:nvCxnSpPr>
        <p:spPr>
          <a:xfrm flipV="1">
            <a:off x="3320640" y="2931840"/>
            <a:ext cx="780120" cy="58968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300560" y="5429160"/>
            <a:ext cx="795240" cy="308160"/>
          </a:xfrm>
          <a:prstGeom prst="flowChartProcess">
            <a:avLst/>
          </a:prstGeom>
          <a:solidFill>
            <a:srgbClr val="ff9966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c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7" idx="1"/>
            <a:endCxn id="171" idx="3"/>
          </p:cNvCxnSpPr>
          <p:nvPr/>
        </p:nvCxnSpPr>
        <p:spPr>
          <a:xfrm flipV="1" rot="10800000">
            <a:off x="3276000" y="5125680"/>
            <a:ext cx="2414880" cy="2160"/>
          </a:xfrm>
          <a:prstGeom prst="curvedConnector5">
            <a:avLst>
              <a:gd name="adj1" fmla="val 49992"/>
              <a:gd name="adj2" fmla="val 40000"/>
              <a:gd name="adj3" fmla="val 49992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284800" y="485460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38" idx="2"/>
            <a:endCxn id="134" idx="0"/>
          </p:cNvCxnSpPr>
          <p:nvPr/>
        </p:nvCxnSpPr>
        <p:spPr>
          <a:xfrm flipV="1" rot="10800000">
            <a:off x="1316880" y="2349000"/>
            <a:ext cx="2160" cy="231120"/>
          </a:xfrm>
          <a:prstGeom prst="curvedConnector5">
            <a:avLst>
              <a:gd name="adj1" fmla="val 40000"/>
              <a:gd name="adj2" fmla="val 49921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4240" y="178740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38" idx="3"/>
            <a:endCxn id="140" idx="1"/>
          </p:cNvCxnSpPr>
          <p:nvPr/>
        </p:nvCxnSpPr>
        <p:spPr>
          <a:xfrm>
            <a:off x="1922040" y="2068560"/>
            <a:ext cx="35964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1792440" y="175896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6440" y="231768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79520" y="1801800"/>
            <a:ext cx="105120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34" idx="1"/>
            <a:endCxn id="138" idx="1"/>
          </p:cNvCxnSpPr>
          <p:nvPr/>
        </p:nvCxnSpPr>
        <p:spPr>
          <a:xfrm flipV="1">
            <a:off x="692280" y="2067840"/>
            <a:ext cx="24480" cy="77868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023920" y="4859280"/>
            <a:ext cx="12528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3525840"/>
            <a:ext cx="1334880" cy="131292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1" idx="1"/>
            <a:endCxn id="178" idx="2"/>
          </p:cNvCxnSpPr>
          <p:nvPr/>
        </p:nvCxnSpPr>
        <p:spPr>
          <a:xfrm rot="10800000">
            <a:off x="1277280" y="4836240"/>
            <a:ext cx="746640" cy="289440"/>
          </a:xfrm>
          <a:prstGeom prst="curvedConnector5">
            <a:avLst>
              <a:gd name="adj1" fmla="val 49975"/>
              <a:gd name="adj2" fmla="val 49937"/>
              <a:gd name="adj3" fmla="val 4997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7" idx="2"/>
            <a:endCxn id="181" idx="0"/>
          </p:cNvCxnSpPr>
          <p:nvPr/>
        </p:nvCxnSpPr>
        <p:spPr>
          <a:xfrm>
            <a:off x="6294600" y="5406840"/>
            <a:ext cx="2160" cy="28620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6273720" y="541332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69268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t'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1" idx="3"/>
            <a:endCxn id="184" idx="1"/>
          </p:cNvCxnSpPr>
          <p:nvPr/>
        </p:nvCxnSpPr>
        <p:spPr>
          <a:xfrm>
            <a:off x="6897600" y="5973840"/>
            <a:ext cx="427680" cy="2160"/>
          </a:xfrm>
          <a:prstGeom prst="curvedConnector5">
            <a:avLst>
              <a:gd name="adj1" fmla="val 49957"/>
              <a:gd name="adj2" fmla="val 40000"/>
              <a:gd name="adj3" fmla="val 49957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6850080" y="5702400"/>
            <a:ext cx="442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24560" y="5819760"/>
            <a:ext cx="949320" cy="308160"/>
          </a:xfrm>
          <a:prstGeom prst="flowChartProcess">
            <a:avLst/>
          </a:prstGeom>
          <a:solidFill>
            <a:srgbClr val="ff9966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iv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23920" y="5573880"/>
            <a:ext cx="1252800" cy="80136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1" idx="1"/>
            <a:endCxn id="186" idx="3"/>
          </p:cNvCxnSpPr>
          <p:nvPr/>
        </p:nvCxnSpPr>
        <p:spPr>
          <a:xfrm flipV="1" rot="10800000">
            <a:off x="3276000" y="5973480"/>
            <a:ext cx="2413440" cy="2160"/>
          </a:xfrm>
          <a:prstGeom prst="curvedConnector5">
            <a:avLst>
              <a:gd name="adj1" fmla="val 49992"/>
              <a:gd name="adj2" fmla="val 40000"/>
              <a:gd name="adj3" fmla="val 49992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5284800" y="571968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6" idx="1"/>
            <a:endCxn id="178" idx="2"/>
          </p:cNvCxnSpPr>
          <p:nvPr/>
        </p:nvCxnSpPr>
        <p:spPr>
          <a:xfrm rot="10800000">
            <a:off x="1277280" y="4836240"/>
            <a:ext cx="746640" cy="113580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8" idx="0"/>
            <a:endCxn id="140" idx="2"/>
          </p:cNvCxnSpPr>
          <p:nvPr/>
        </p:nvCxnSpPr>
        <p:spPr>
          <a:xfrm flipV="1">
            <a:off x="1278000" y="2333160"/>
            <a:ext cx="1529280" cy="1191600"/>
          </a:xfrm>
          <a:prstGeom prst="curvedConnector5">
            <a:avLst>
              <a:gd name="adj1" fmla="val 49988"/>
              <a:gd name="adj2" fmla="val 49984"/>
              <a:gd name="adj3" fmla="val 4998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8" idx="1"/>
            <a:endCxn id="133" idx="1"/>
          </p:cNvCxnSpPr>
          <p:nvPr/>
        </p:nvCxnSpPr>
        <p:spPr>
          <a:xfrm rot="10800000">
            <a:off x="515160" y="1347120"/>
            <a:ext cx="94320" cy="2834280"/>
          </a:xfrm>
          <a:prstGeom prst="curvedConnector5">
            <a:avLst>
              <a:gd name="adj1" fmla="val 49808"/>
              <a:gd name="adj2" fmla="val 50000"/>
              <a:gd name="adj3" fmla="val 4980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5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6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7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8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9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3960" y="237960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98" idx="0"/>
            <a:endCxn id="196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08" name=""/>
          <p:cNvCxnSpPr>
            <a:endCxn id="194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09" name=""/>
          <p:cNvCxnSpPr>
            <a:stCxn id="198" idx="1"/>
            <a:endCxn id="195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0" name=""/>
          <p:cNvCxnSpPr>
            <a:stCxn id="195" idx="3"/>
            <a:endCxn id="199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1" name=""/>
          <p:cNvCxnSpPr>
            <a:stCxn id="197" idx="3"/>
            <a:endCxn id="199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2" name=""/>
          <p:cNvCxnSpPr>
            <a:stCxn id="194" idx="3"/>
            <a:endCxn id="197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3" name=""/>
          <p:cNvCxnSpPr>
            <a:stCxn id="196" idx="3"/>
            <a:endCxn id="195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14" name=""/>
          <p:cNvSpPr/>
          <p:nvPr/>
        </p:nvSpPr>
        <p:spPr>
          <a:xfrm>
            <a:off x="210960" y="5025960"/>
            <a:ext cx="215748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bl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ystem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27200" y="5025960"/>
            <a:ext cx="2435400" cy="168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Variances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ystem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upgrades / re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uge number of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Varying FI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or reliability 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3440" y="5025960"/>
            <a:ext cx="2173320" cy="90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very hierarchica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ield – often connect o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hotgun troubleshoo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65960" y="502596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YSTEM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5960" y="2379600"/>
            <a:ext cx="9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24" idx="0"/>
            <a:endCxn id="222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4" name=""/>
          <p:cNvCxnSpPr>
            <a:endCxn id="220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5" name=""/>
          <p:cNvCxnSpPr>
            <a:stCxn id="224" idx="1"/>
            <a:endCxn id="221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6" name=""/>
          <p:cNvCxnSpPr>
            <a:stCxn id="221" idx="3"/>
            <a:endCxn id="225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7" name=""/>
          <p:cNvCxnSpPr>
            <a:stCxn id="223" idx="3"/>
            <a:endCxn id="225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8" name=""/>
          <p:cNvCxnSpPr>
            <a:stCxn id="220" idx="3"/>
            <a:endCxn id="223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9" name=""/>
          <p:cNvCxnSpPr>
            <a:stCxn id="222" idx="3"/>
            <a:endCxn id="221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40" name=""/>
          <p:cNvSpPr/>
          <p:nvPr/>
        </p:nvSpPr>
        <p:spPr>
          <a:xfrm>
            <a:off x="69840" y="5030640"/>
            <a:ext cx="248436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ystem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ackplane ass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bl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5030640"/>
            <a:ext cx="2487600" cy="138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ystem Varianc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upgrades / re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assembl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rication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27480" y="5030640"/>
            <a:ext cx="2278080" cy="90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very lower hierarchica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oardsw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 ex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39040" y="503064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960" y="2379600"/>
            <a:ext cx="9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50" idx="0"/>
            <a:endCxn id="248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0" name=""/>
          <p:cNvCxnSpPr>
            <a:endCxn id="246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1" name=""/>
          <p:cNvCxnSpPr>
            <a:stCxn id="250" idx="1"/>
            <a:endCxn id="247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2" name=""/>
          <p:cNvCxnSpPr>
            <a:stCxn id="247" idx="3"/>
            <a:endCxn id="251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3" name=""/>
          <p:cNvCxnSpPr>
            <a:stCxn id="249" idx="3"/>
            <a:endCxn id="251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4" name=""/>
          <p:cNvCxnSpPr>
            <a:stCxn id="246" idx="3"/>
            <a:endCxn id="249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5" name=""/>
          <p:cNvCxnSpPr>
            <a:stCxn id="248" idx="3"/>
            <a:endCxn id="247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66" name=""/>
          <p:cNvSpPr/>
          <p:nvPr/>
        </p:nvSpPr>
        <p:spPr>
          <a:xfrm>
            <a:off x="69840" y="5030640"/>
            <a:ext cx="248436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mbly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B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ra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chematic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030640"/>
            <a:ext cx="2487600" cy="138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mbly Varianc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vice re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equipment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rication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27480" y="5030640"/>
            <a:ext cx="2278080" cy="90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very lower hierarchica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repair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 ex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39040" y="503064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Future Directions in Test</dc:title>
</cp:coreProperties>
</file>