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lick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303-4C16-45EF-930E-F2C8A231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3FA-29D5-4567-A3E0-1D275E56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B99-C844-43CB-B6E0-7ED398DD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A99-4F34-44FA-B4AE-5501865C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0A4-D875-427A-A235-F9CC98B4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576-8AB2-44EE-86B7-602B5976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1A4-2BD3-4498-B307-4E1399F1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ADA-A6F1-426A-822E-F549F53A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446-9F93-4267-911D-E6BC7AB3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25B-5045-44E6-B762-0A775FF9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7C1-63B5-4D46-B936-95609A6F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F03-82BB-4EEC-8690-226F3765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D0D8A-581B-4331-91C8-66B366E4988E}" type="slidenum">
              <a:rPr b="0" lang="id-ID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0" y="839880"/>
            <a:ext cx="8064720" cy="100800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KISAH  KRISTU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08240" y="2351160"/>
            <a:ext cx="604836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914400" indent="-909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Arial"/>
              </a:rPr>
              <a:t>Tuju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09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gar pewartaan Kabar Gembira dapat diterima dan dimengerti dengan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jelas dan efek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23760" y="3366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b  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08000" y="2268360"/>
            <a:ext cx="2100240" cy="369576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03:32:51Z</dcterms:created>
  <dc:creator/>
  <dc:description/>
  <dc:language>en-US</dc:language>
  <cp:lastModifiedBy/>
  <cp:revision>0</cp:revision>
  <dc:subject/>
  <dc:title/>
</cp:coreProperties>
</file>