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2A4-1003-4A84-9EF8-53F2E6BC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D3B-7E82-4FBB-AFF5-50FEDA99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C13-4E29-4829-8CFF-918F71B0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2AE-5560-4441-8A9B-A050CDB6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F7F3-3896-49EA-A6A6-8BB040C1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7D5F-DFCE-41A3-9C0B-E2443D73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8062-1A6A-4557-9457-D1918757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B6FF-8E20-4262-B6A0-4143A4F2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B203-E6B6-4DEC-BFE3-4DFF8D98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468D-120E-480F-8CA8-399F843F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79C0-5F41-452A-A320-5F72DCE5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D4E-938F-437E-AB70-8D445C8C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F36A-50D8-435E-B749-3FE57A2E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F77E-7273-4032-A297-7CEA2794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75D1-CE3D-4472-83DA-EAE6A60F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6E5A-BA3D-4AC7-BB27-17604DC1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EEE7-13F3-4FD5-B513-2CB5C454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F426-8A68-40B9-B555-810AE9F3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937E-4DB5-424F-BABE-1309E453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4358-FD3A-4B5F-9CFA-0AD6FB97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AAE7F-228D-492C-A990-FE85EAEE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BBD9-2A95-4046-8353-C8F0F605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7B5-CCF5-4036-B36C-7625F2F4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69A5F-FE34-4E0D-B2BF-35175685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4E54-9F8E-493B-ABDF-D5CF5B64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2DFF-954E-445F-8104-D1A04A13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122A-265A-4821-94A8-9712B561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3F6A9-53AF-4D1C-9ED7-38C40616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9B0A-B45B-4686-8DFE-B4CD7FC2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3BDAD-9466-40AF-A0F5-AAF232D7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597-BBB6-4A4B-B557-5765D028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07B-737F-4AD9-8A5B-4A4B8284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05A-D943-4DB5-8A23-F9CEC823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BAA-7A89-4591-B08C-2CC796D4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748-9C21-4669-B4D2-F613CAB4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919-FEF7-4F3A-A770-1915B22E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1676520"/>
            <a:ext cx="8558280" cy="47574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82600" y="74520"/>
            <a:ext cx="8558280" cy="146556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873F-0537-4D95-8304-26844EAFE6C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082C-42BE-41B0-92EC-82231072EF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779B-47B3-4190-A4CC-ACD501A73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4419720"/>
            <a:ext cx="9144000" cy="2065320"/>
          </a:xfrm>
          <a:prstGeom prst="pie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0" y="4137120"/>
            <a:ext cx="9144000" cy="2022480"/>
          </a:xfrm>
          <a:prstGeom prst="pie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 flipH="1">
            <a:off x="0" y="5203800"/>
            <a:ext cx="9144000" cy="647640"/>
          </a:xfrm>
          <a:prstGeom prst="pie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400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400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8AE7-44C5-48B6-85D8-280789AEA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324000" y="4437000"/>
            <a:ext cx="546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57:51Z</dcterms:created>
  <dc:creator>Administrator</dc:creator>
  <dc:description/>
  <dc:language>en-US</dc:language>
  <cp:lastModifiedBy/>
  <cp:lastPrinted>1899-12-30T00:00:00Z</cp:lastPrinted>
  <dcterms:modified xsi:type="dcterms:W3CDTF">2010-11-17T09:20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_TemplateID">
    <vt:lpwstr>TC018814329991</vt:lpwstr>
  </property>
</Properties>
</file>