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847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8640" y="4827240"/>
            <a:ext cx="847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86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02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3520" y="222372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8400" y="222372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8640" y="482724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3520" y="482724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18400" y="482724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8640" y="2223720"/>
            <a:ext cx="847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847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11700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86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02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8640" y="4827240"/>
            <a:ext cx="847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3720"/>
            <a:ext cx="847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hu-HU" sz="4000" spc="-1" strike="noStrike">
                <a:solidFill>
                  <a:srgbClr val="e6e6e6"/>
                </a:solidFill>
                <a:latin typeface="Arial Black"/>
              </a:rPr>
              <a:t>Főbb feladatkör: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68360"/>
            <a:ext cx="84758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e6e6e6"/>
                </a:solidFill>
                <a:latin typeface="Arial Black"/>
              </a:rPr>
              <a:t>árvíztűrő tükörfúrógé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e6e6e6"/>
                </a:solidFill>
                <a:latin typeface="Arial Black"/>
              </a:rPr>
              <a:t>ÁRVÍZTŰRŐ TÜKÖRFÚRÓGÉ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03:54Z</dcterms:created>
  <dc:creator/>
  <dc:description/>
  <dc:language>en-US</dc:language>
  <cp:lastModifiedBy/>
  <dcterms:modified xsi:type="dcterms:W3CDTF">2008-11-27T14:13:56Z</dcterms:modified>
  <cp:revision>4</cp:revision>
  <dc:subject/>
  <dc:title/>
</cp:coreProperties>
</file>