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A5DC-A802-477A-9EBB-DCF6C93C7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EDF2-5951-4B02-B270-87DEA2C2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F0AB-F8C3-4D37-A759-C209EBF6A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9586-09EE-44C1-9BBA-4247CFB17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75D6-1670-47F6-8316-A29360DA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E1EE-BEEE-447A-9026-9E9FC7A0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B1EE-05D6-4DC5-ACE9-19DBA30B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CE2D-E89F-4C1B-8EFF-A508A6A5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D6EB-BE4E-494E-BD23-483F7009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21AF-D124-454B-B0EF-D5E4F348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2E8D-F1AD-499E-B2AC-744BF7C9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F62F-82C0-4A0D-8B19-A84E4C22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AFF6-3033-4321-8BA8-04A205DFFBFE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2"/>
          <p:cNvSpPr/>
          <p:nvPr/>
        </p:nvSpPr>
        <p:spPr>
          <a:xfrm>
            <a:off x="312840" y="601560"/>
            <a:ext cx="22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This is a text fiel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1T21:39:34Z</dcterms:created>
  <dc:creator>Regina</dc:creator>
  <dc:description/>
  <dc:language>en-US</dc:language>
  <cp:lastModifiedBy>Regina</cp:lastModifiedBy>
  <dcterms:modified xsi:type="dcterms:W3CDTF">2012-12-21T22:53:13Z</dcterms:modified>
  <cp:revision>21</cp:revision>
  <dc:subject/>
  <dc:title>PowerPoint Presentation</dc:title>
</cp:coreProperties>
</file>