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A1D-EE59-4090-ABCE-916949B4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68E-F502-4709-8CE9-BFA1AEC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21F-CDDD-4371-BD2C-8C0472DC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E54-B7F0-4602-B115-9533660C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383-1F2C-47D7-962F-4225AAD8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FE5-242B-4C5A-A2E9-621FDF2C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33D-4EDE-41A7-8525-500712EB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C97-566B-4A86-8514-23B9D59C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ABF-F38A-470C-A9DA-4B6A5C90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9E5-70EA-4781-9E85-E617BFA1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7A0-B54D-4036-9237-E39F2DF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7D4-DB69-4BFB-A331-3F810707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6D8A-20D8-4555-AA87-A0FB47B5C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ubFunction: Animation\Combination\Tabl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File Name: FFC261FFCSD_Animation_Combination_Table_0115.ppt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eck Point: Timing\Trigger\After Previous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Please check object: Tabl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Animations on object: MPath_Left, Exit_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40160" y="2540160"/>
          <a:ext cx="3657600" cy="27432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23:19:34Z</dcterms:created>
  <dc:creator>ibm</dc:creator>
  <dc:description/>
  <dc:language>en-US</dc:language>
  <cp:lastModifiedBy>ibm</cp:lastModifiedBy>
  <dcterms:modified xsi:type="dcterms:W3CDTF">2006-04-27T23:19:35Z</dcterms:modified>
  <cp:revision>1</cp:revision>
  <dc:subject/>
  <dc:title>SubFunction: Animation\Combination\Table File Name: FFC261FFCSD_Animation_Combination_Table_0115.ppt Check Point: Timing\Trigger\After Previous Please check object: Table Animations on object: MPath_Left, Exit_Appear</dc:title>
</cp:coreProperties>
</file>