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3802-7EDE-437C-90AA-C0795E626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C7B8-C7E5-4997-8848-41BAFE46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E485-1AE3-49D0-991E-C9FB207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F0BC-26F4-4A45-B1A3-611BD7902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70E9C-9F60-462A-AC86-DBF5082EB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CAB5B-B0E9-4948-B0EB-B9B0F10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4EDA-720F-4B08-B2AA-25B6155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37752-AC1E-4A85-A845-12237B6A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EA075-FAC4-4469-8C42-9B29CEAD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421AB-7B0D-47AE-8BB9-4EC345E3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B9B37-5D02-4743-B8F2-0D1E848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F722-24D4-4FCC-AD32-F27F80F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F48CC-1959-477A-81C9-AA1B0B5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CC51F-3167-43D5-B7D5-561C5F8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0250D-056C-4600-AECC-EFFA5EE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013E3-8571-47EC-93D2-3272FCD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BD535-5B5D-49ED-A69A-FA68CD6B3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AC14-22A1-4E36-80A1-BF12FA7F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CAE4-F648-491E-ABCD-53F8DD3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E6A0-3C94-47FB-B259-9CAEB5E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4E39-48B9-4045-9A09-A21620E0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3EAB-60E4-4493-85DD-0D36C6C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5910-8D81-4B7A-A251-2A495A2D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A4EB-DD40-4F2B-B7A8-34078D1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prstGeom prst="pie">
                <a:avLst/>
              </a:pr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39040" y="374760"/>
                <a:ext cx="1308600" cy="1226880"/>
                <a:chOff x="239040" y="374760"/>
                <a:chExt cx="130860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38680" y="37620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prstGeom prst="pie">
                  <a:avLst/>
                </a:prstGeom>
                <a:solidFill>
                  <a:srgbClr val="002010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prstGeom prst="pie">
                  <a:avLst/>
                </a:prstGeom>
                <a:solidFill>
                  <a:srgbClr val="71bb96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prstGeom prst="pie">
                  <a:avLst/>
                </a:prstGeom>
                <a:solidFill>
                  <a:srgbClr val="006633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71bb96"/>
                  </a:gs>
                  <a:gs pos="50000">
                    <a:srgbClr val="000000"/>
                  </a:gs>
                  <a:gs pos="100000">
                    <a:srgbClr val="71bb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9.05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124080" y="639936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6A76F2-0186-49C3-8F6F-768694179DF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3040"/>
              <a:ext cx="4878360" cy="3490920"/>
              <a:chOff x="2133720" y="473040"/>
              <a:chExt cx="4878360" cy="349092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prstGeom prst="pie">
                <a:avLst/>
              </a:pr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3040"/>
                <a:ext cx="4178160" cy="3490920"/>
                <a:chOff x="2494080" y="473040"/>
                <a:chExt cx="4178160" cy="349092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5520" y="474840"/>
                  <a:ext cx="4176720" cy="348912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prstGeom prst="pie">
                  <a:avLst/>
                </a:prstGeom>
                <a:solidFill>
                  <a:srgbClr val="002010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prstGeom prst="pie">
                  <a:avLst/>
                </a:prstGeom>
                <a:solidFill>
                  <a:srgbClr val="71bb96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prstGeom prst="pie">
                  <a:avLst/>
                </a:prstGeom>
                <a:solidFill>
                  <a:srgbClr val="006633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71bb96"/>
                  </a:gs>
                  <a:gs pos="50000">
                    <a:srgbClr val="000000"/>
                  </a:gs>
                  <a:gs pos="100000">
                    <a:srgbClr val="71bb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685440" y="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9.05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3080" y="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ED63AE-2E7B-4F69-9D1D-4652FACA10B3}" type="slidenum">
              <a: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7788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6000" spc="-1" strike="noStrike">
                <a:solidFill>
                  <a:srgbClr val="ff9900"/>
                </a:solidFill>
                <a:latin typeface="Times New Roman"/>
              </a:rPr>
              <a:t>Lorem ipsum dolor sit amet..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5720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Times New Roman"/>
              </a:rPr>
              <a:t>Lorem ipsum dolor sit amet, consectetur adipiscing el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1bb9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5:24:32Z</dcterms:created>
  <dc:creator>Mariusz Dragan</dc:creator>
  <dc:description/>
  <dc:language>en-US</dc:language>
  <cp:lastModifiedBy>MaNiAc!</cp:lastModifiedBy>
  <cp:lastPrinted>2001-10-21T10:50:30Z</cp:lastPrinted>
  <dcterms:modified xsi:type="dcterms:W3CDTF">2009-05-09T10:12:54Z</dcterms:modified>
  <cp:revision>17</cp:revision>
  <dc:subject/>
  <dc:title>SAMOUCZEK</dc:title>
</cp:coreProperties>
</file>