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406-61D5-451F-96C4-20225CD2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BE9-5D71-44E7-A65A-C6D691DC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133-3E16-4F8D-9641-7A0CA32C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92F-4592-4D4E-894D-5834C3C5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21B-B68E-452D-87AF-A9A476A4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722-AFF6-47F5-87AA-75182222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F5B-D0FD-4AC3-A323-09CDC022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923-1651-4FCC-85FF-57D763B6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ED5-6F02-440D-8BA0-5A136D28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5B3-BB1F-4D73-98C9-7DE216A6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457-FD96-44F7-AC69-137C4BA2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E0E-EF80-491C-8D79-94CB49C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2FDD-BB3D-4A3E-8937-CD03CCE64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quotationspage.com/quote/1315.html" TargetMode="External"/><Relationship Id="rId2" Type="http://schemas.openxmlformats.org/officeDocument/2006/relationships/hyperlink" Target="http://www.quotationspage.com/quote/1315.html" TargetMode="External"/><Relationship Id="rId3" Type="http://schemas.openxmlformats.org/officeDocument/2006/relationships/hyperlink" Target="http://www.quotationspage.com/quote/1315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33360"/>
            <a:ext cx="239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gden Nas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333360"/>
            <a:ext cx="23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gden Nas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933720"/>
            <a:ext cx="239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gden Nas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476280"/>
            <a:ext cx="23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Ogden N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221000"/>
            <a:ext cx="239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Ogden N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00720" y="4149720"/>
            <a:ext cx="23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Ogden N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0560" y="65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77280" y="-79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82520" y="115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640" y="33764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6520" y="3500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y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67240" y="3357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8:52:31Z</dcterms:created>
  <dc:creator/>
  <dc:description/>
  <dc:language>en-US</dc:language>
  <cp:lastModifiedBy/>
  <dcterms:modified xsi:type="dcterms:W3CDTF">2010-04-09T08:53:31Z</dcterms:modified>
  <cp:revision>2</cp:revision>
  <dc:subject/>
  <dc:title>Slide 1</dc:title>
</cp:coreProperties>
</file>