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B610-40DD-44EB-B4D5-387319F8F8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DB8-CE38-42FF-A0E7-9750C134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9B7-33D2-4CCA-8B39-571487B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166-9F7C-4522-B4D4-CA2F219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890-5471-4CD3-BD1B-6097EA6A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F08-BD6D-4018-9E2C-26440FF0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437-03B5-4C85-8431-2092BE57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5CB-6AB2-46D5-B9D8-8F78A6E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F21-6E6E-49A6-BC30-E894FA0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5E5-5E6E-4941-A2DD-7937540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A61-1243-4B55-89A4-AE37E4C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8E9-C5F9-48D0-AA48-94F4EFD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963-DC63-401E-BC1A-B7CA888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644A9-E8F3-4F5E-B68D-47F0350C1C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a.openoffice.org/" TargetMode="External"/><Relationship Id="rId2" Type="http://schemas.openxmlformats.org/officeDocument/2006/relationships/hyperlink" Target="http://qa.openoffic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s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4140360"/>
            <a:ext cx="4140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st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7560" y="5219640"/>
            <a:ext cx="2082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t anoth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</a:rPr>
              <a:t>slid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hard Haumacher</dc:creator>
  <dc:description/>
  <dc:language>en-US</dc:language>
  <cp:lastModifiedBy>Bernhard Haumacher</cp:lastModifiedBy>
  <cp:revision>0</cp:revision>
  <dc:subject/>
  <dc:title/>
</cp:coreProperties>
</file>