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projctor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1800" y="1207800"/>
            <a:ext cx="844560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1800" y="3913560"/>
            <a:ext cx="844560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1800" y="120780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9360" y="120780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1800" y="391356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9360" y="391356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1800" y="1207800"/>
            <a:ext cx="27190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7320" y="1207800"/>
            <a:ext cx="27190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2480" y="1207800"/>
            <a:ext cx="27190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1800" y="3913560"/>
            <a:ext cx="27190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7320" y="3913560"/>
            <a:ext cx="27190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2480" y="3913560"/>
            <a:ext cx="27190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61800" y="1207800"/>
            <a:ext cx="844560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f4a0f"/>
              </a:solidFill>
              <a:latin typeface="Century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1800" y="1207800"/>
            <a:ext cx="84456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1800" y="1207800"/>
            <a:ext cx="41212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9360" y="1207800"/>
            <a:ext cx="41212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95280" y="117000"/>
            <a:ext cx="6553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f4a0f"/>
              </a:solidFill>
              <a:latin typeface="Century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1800" y="120780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9360" y="1207800"/>
            <a:ext cx="41212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61800" y="391356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61800" y="1207800"/>
            <a:ext cx="844560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f4a0f"/>
              </a:solidFill>
              <a:latin typeface="Century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1800" y="1207800"/>
            <a:ext cx="41212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9360" y="120780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9360" y="391356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1800" y="120780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9360" y="120780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1800" y="3913560"/>
            <a:ext cx="844560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1800" y="1207800"/>
            <a:ext cx="844560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1800" y="3913560"/>
            <a:ext cx="844560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1800" y="120780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9360" y="120780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61800" y="391356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9360" y="391356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1800" y="1207800"/>
            <a:ext cx="27190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7320" y="1207800"/>
            <a:ext cx="27190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2480" y="1207800"/>
            <a:ext cx="27190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61800" y="3913560"/>
            <a:ext cx="27190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7320" y="3913560"/>
            <a:ext cx="27190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2480" y="3913560"/>
            <a:ext cx="27190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1800" y="1207800"/>
            <a:ext cx="84456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1800" y="1207800"/>
            <a:ext cx="41212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9360" y="1207800"/>
            <a:ext cx="41212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117000"/>
            <a:ext cx="6553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f4a0f"/>
              </a:solidFill>
              <a:latin typeface="Century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1800" y="120780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9360" y="1207800"/>
            <a:ext cx="41212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1800" y="391356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1800" y="1207800"/>
            <a:ext cx="41212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9360" y="120780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9360" y="391356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1800" y="120780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9360" y="120780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1800" y="3913560"/>
            <a:ext cx="844560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3366"/>
                </a:solidFill>
                <a:latin typeface="Impact"/>
              </a:rPr>
              <a:t>Click to edit the title text format</a:t>
            </a: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1800" y="1207800"/>
            <a:ext cx="84456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4a0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  <a:p>
            <a:pPr lvl="1" marL="460440" indent="-345960" algn="ctr">
              <a:spcAft>
                <a:spcPts val="1400"/>
              </a:spcAft>
              <a:buClr>
                <a:srgbClr val="000000"/>
              </a:buClr>
              <a:buFont typeface="Webdings" charset="2"/>
              <a:buChar char="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4a0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  <a:p>
            <a:pPr lvl="2" marL="1033560" indent="-459000" algn="ctr">
              <a:spcAft>
                <a:spcPts val="1400"/>
              </a:spcAft>
              <a:buClr>
                <a:srgbClr val="000000"/>
              </a:buClr>
              <a:buFont typeface="Wingdings" charset="2"/>
              <a:buChar char="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4a0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  <a:p>
            <a:pPr lvl="3" marL="1376280" indent="-228600" algn="ctr">
              <a:spcAft>
                <a:spcPts val="1400"/>
              </a:spcAft>
              <a:buClr>
                <a:srgbClr val="ef430d"/>
              </a:buClr>
              <a:buSzPct val="80000"/>
              <a:buFont typeface="Wingdings 3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4a0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  <a:p>
            <a:pPr lvl="4" marL="1901880" indent="-411120" algn="ctr">
              <a:spcAft>
                <a:spcPts val="1400"/>
              </a:spcAft>
              <a:buClr>
                <a:srgbClr val="000000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4a0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  <a:p>
            <a:pPr lvl="5" marL="1901880" indent="-411120" algn="ctr">
              <a:spcAft>
                <a:spcPts val="1400"/>
              </a:spcAft>
              <a:buClr>
                <a:srgbClr val="435f3d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4a0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  <a:p>
            <a:pPr lvl="6" marL="1901880" indent="-411120" algn="ctr">
              <a:spcAft>
                <a:spcPts val="1400"/>
              </a:spcAft>
              <a:buClr>
                <a:srgbClr val="435f3d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4a0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915240" y="6480000"/>
            <a:ext cx="1240920" cy="274680"/>
            <a:chOff x="6915240" y="6480000"/>
            <a:chExt cx="1240920" cy="274680"/>
          </a:xfrm>
        </p:grpSpPr>
        <p:sp>
          <p:nvSpPr>
            <p:cNvPr id="3" name="">
              <a:hlinkClick r:id="" action="ppaction://hlinkshowjump?jump=previousslide"/>
            </p:cNvPr>
            <p:cNvSpPr/>
            <p:nvPr/>
          </p:nvSpPr>
          <p:spPr>
            <a:xfrm>
              <a:off x="7233120" y="6480000"/>
              <a:ext cx="274680" cy="274680"/>
            </a:xfrm>
            <a:custGeom>
              <a:avLst/>
              <a:gdLst>
                <a:gd name="textAreaLeft" fmla="*/ 17640 w 274680"/>
                <a:gd name="textAreaRight" fmla="*/ 257040 w 274680"/>
                <a:gd name="textAreaTop" fmla="*/ 17640 h 274680"/>
                <a:gd name="textAreaBottom" fmla="*/ 257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d49b4e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35f3d"/>
                </a:solidFill>
                <a:latin typeface="Times New Roman"/>
              </a:endParaRPr>
            </a:p>
          </p:txBody>
        </p:sp>
        <p:sp>
          <p:nvSpPr>
            <p:cNvPr id="4" name="">
              <a:hlinkClick r:id="" action="ppaction://hlinkshowjump?jump=nextslide"/>
            </p:cNvPr>
            <p:cNvSpPr/>
            <p:nvPr/>
          </p:nvSpPr>
          <p:spPr>
            <a:xfrm>
              <a:off x="7560720" y="6480000"/>
              <a:ext cx="274320" cy="274680"/>
            </a:xfrm>
            <a:custGeom>
              <a:avLst/>
              <a:gdLst>
                <a:gd name="textAreaLeft" fmla="*/ 17640 w 274320"/>
                <a:gd name="textAreaRight" fmla="*/ 256680 w 274320"/>
                <a:gd name="textAreaTop" fmla="*/ 17640 h 274680"/>
                <a:gd name="textAreaBottom" fmla="*/ 257040 h 274680"/>
              </a:gdLst>
              <a:ahLst/>
              <a:rect l="textAreaLeft" t="textAreaTop" r="textAreaRight" b="textAreaBottom"/>
              <a:pathLst>
                <a:path w="21600" h="21628">
                  <a:moveTo>
                    <a:pt x="0" y="0"/>
                  </a:moveTo>
                  <a:lnTo>
                    <a:pt x="21600" y="0"/>
                  </a:lnTo>
                  <a:lnTo>
                    <a:pt x="21600" y="21628"/>
                  </a:lnTo>
                  <a:lnTo>
                    <a:pt x="0" y="21628"/>
                  </a:lnTo>
                  <a:close/>
                </a:path>
                <a:path fill="lightenLess" w="21600" h="2162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8">
                  <a:moveTo>
                    <a:pt x="21600" y="0"/>
                  </a:moveTo>
                  <a:lnTo>
                    <a:pt x="21600" y="21628"/>
                  </a:lnTo>
                  <a:lnTo>
                    <a:pt x="20200" y="20228"/>
                  </a:lnTo>
                  <a:lnTo>
                    <a:pt x="20200" y="1400"/>
                  </a:lnTo>
                  <a:close/>
                </a:path>
                <a:path fill="darkenLess" w="21600" h="21628">
                  <a:moveTo>
                    <a:pt x="21600" y="21628"/>
                  </a:moveTo>
                  <a:lnTo>
                    <a:pt x="0" y="21628"/>
                  </a:lnTo>
                  <a:lnTo>
                    <a:pt x="1400" y="20228"/>
                  </a:lnTo>
                  <a:lnTo>
                    <a:pt x="20200" y="20228"/>
                  </a:lnTo>
                  <a:close/>
                </a:path>
                <a:path fill="lighten" w="21600" h="21628">
                  <a:moveTo>
                    <a:pt x="0" y="2162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8"/>
                  </a:lnTo>
                  <a:close/>
                </a:path>
                <a:path fill="darken" w="21600" h="21628">
                  <a:moveTo>
                    <a:pt x="3794" y="3808"/>
                  </a:moveTo>
                  <a:lnTo>
                    <a:pt x="17806" y="10814"/>
                  </a:lnTo>
                  <a:lnTo>
                    <a:pt x="3794" y="17821"/>
                  </a:lnTo>
                  <a:close/>
                </a:path>
              </a:pathLst>
            </a:custGeom>
            <a:solidFill>
              <a:srgbClr val="d49b4e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35f3d"/>
                </a:solidFill>
                <a:latin typeface="Times New Roman"/>
              </a:endParaRPr>
            </a:p>
          </p:txBody>
        </p:sp>
        <p:sp>
          <p:nvSpPr>
            <p:cNvPr id="5" name="">
              <a:hlinkClick r:id="" action="ppaction://hlinkshowjump?jump=firstslide"/>
            </p:cNvPr>
            <p:cNvSpPr/>
            <p:nvPr/>
          </p:nvSpPr>
          <p:spPr>
            <a:xfrm>
              <a:off x="6915240" y="6480000"/>
              <a:ext cx="274680" cy="274680"/>
            </a:xfrm>
            <a:custGeom>
              <a:avLst/>
              <a:gdLst>
                <a:gd name="textAreaLeft" fmla="*/ 17640 w 274680"/>
                <a:gd name="textAreaRight" fmla="*/ 257040 w 274680"/>
                <a:gd name="textAreaTop" fmla="*/ 17640 h 274680"/>
                <a:gd name="textAreaBottom" fmla="*/ 257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7301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5456" y="3794"/>
                  </a:lnTo>
                  <a:lnTo>
                    <a:pt x="5456" y="17806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d49b4e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35f3d"/>
                </a:solidFill>
                <a:latin typeface="Times New Roman"/>
              </a:endParaRPr>
            </a:p>
          </p:txBody>
        </p:sp>
        <p:sp>
          <p:nvSpPr>
            <p:cNvPr id="6" name="">
              <a:hlinkClick r:id="" action="ppaction://hlinkshowjump?jump=lastslide"/>
            </p:cNvPr>
            <p:cNvSpPr/>
            <p:nvPr/>
          </p:nvSpPr>
          <p:spPr>
            <a:xfrm>
              <a:off x="7881480" y="6480000"/>
              <a:ext cx="274680" cy="274680"/>
            </a:xfrm>
            <a:custGeom>
              <a:avLst/>
              <a:gdLst>
                <a:gd name="textAreaLeft" fmla="*/ 17640 w 274680"/>
                <a:gd name="textAreaRight" fmla="*/ 257040 w 274680"/>
                <a:gd name="textAreaTop" fmla="*/ 17640 h 274680"/>
                <a:gd name="textAreaBottom" fmla="*/ 257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14299" y="10800"/>
                  </a:moveTo>
                  <a:lnTo>
                    <a:pt x="3794" y="17806"/>
                  </a:lnTo>
                  <a:lnTo>
                    <a:pt x="3794" y="3794"/>
                  </a:lnTo>
                  <a:close/>
                </a:path>
                <a:path fill="darken" w="21600" h="21600">
                  <a:moveTo>
                    <a:pt x="16144" y="3794"/>
                  </a:moveTo>
                  <a:lnTo>
                    <a:pt x="16144" y="17806"/>
                  </a:lnTo>
                  <a:lnTo>
                    <a:pt x="17806" y="17806"/>
                  </a:lnTo>
                  <a:lnTo>
                    <a:pt x="17806" y="3794"/>
                  </a:lnTo>
                  <a:close/>
                </a:path>
              </a:pathLst>
            </a:custGeom>
            <a:solidFill>
              <a:srgbClr val="d49b4e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35f3d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95400" y="974880"/>
            <a:ext cx="8958240" cy="0"/>
          </a:xfrm>
          <a:prstGeom prst="line">
            <a:avLst/>
          </a:prstGeom>
          <a:ln w="38160">
            <a:solidFill>
              <a:srgbClr val="008000"/>
            </a:solidFill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35f3d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285040" y="6410160"/>
            <a:ext cx="554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0E34-7310-4C05-9253-E33E79A7879F}" type="slidenum">
              <a:rPr b="1" lang="en-US" sz="2000" spc="-1" strike="noStrike">
                <a:solidFill>
                  <a:srgbClr val="3c342a"/>
                </a:solidFill>
                <a:latin typeface="Arial Unicode MS"/>
              </a:rPr>
              <a:t>&lt;number&gt;</a:t>
            </a:fld>
            <a:endParaRPr b="0" lang="en-US" sz="2000" spc="-1" strike="noStrike">
              <a:solidFill>
                <a:srgbClr val="435f3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873000" y="4572000"/>
            <a:ext cx="7970760" cy="893880"/>
            <a:chOff x="873000" y="4572000"/>
            <a:chExt cx="7970760" cy="893880"/>
          </a:xfrm>
        </p:grpSpPr>
        <p:pic>
          <p:nvPicPr>
            <p:cNvPr id="46" name="bgHands" descr=""/>
            <p:cNvPicPr/>
            <p:nvPr/>
          </p:nvPicPr>
          <p:blipFill>
            <a:blip r:embed="rId3"/>
            <a:stretch/>
          </p:blipFill>
          <p:spPr>
            <a:xfrm>
              <a:off x="7338960" y="4572000"/>
              <a:ext cx="1504800" cy="8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MDIC" descr=""/>
            <p:cNvPicPr/>
            <p:nvPr/>
          </p:nvPicPr>
          <p:blipFill>
            <a:blip r:embed="rId4"/>
            <a:stretch/>
          </p:blipFill>
          <p:spPr>
            <a:xfrm>
              <a:off x="873000" y="4572000"/>
              <a:ext cx="900360" cy="89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"/>
          <p:cNvSpPr/>
          <p:nvPr/>
        </p:nvSpPr>
        <p:spPr>
          <a:xfrm rot="21591600">
            <a:off x="875880" y="6042240"/>
            <a:ext cx="75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lourbars"/>
                <a:ea typeface="Times New Roman"/>
              </a:rPr>
              <a:t>O f f i c e  o f  t h e  C h i e f  M i n i s t e r </a:t>
            </a:r>
            <a:endParaRPr b="0" lang="en-US" sz="2400" spc="-1" strike="noStrike">
              <a:solidFill>
                <a:srgbClr val="435f3d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873000" y="2143080"/>
            <a:ext cx="7970760" cy="3322800"/>
            <a:chOff x="873000" y="2143080"/>
            <a:chExt cx="7970760" cy="3322800"/>
          </a:xfrm>
        </p:grpSpPr>
        <p:pic>
          <p:nvPicPr>
            <p:cNvPr id="50" name="bgHands" descr=""/>
            <p:cNvPicPr/>
            <p:nvPr/>
          </p:nvPicPr>
          <p:blipFill>
            <a:blip r:embed="rId5"/>
            <a:stretch/>
          </p:blipFill>
          <p:spPr>
            <a:xfrm>
              <a:off x="7338960" y="4570560"/>
              <a:ext cx="1504800" cy="89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MDIC" descr=""/>
            <p:cNvPicPr/>
            <p:nvPr/>
          </p:nvPicPr>
          <p:blipFill>
            <a:blip r:embed="rId6"/>
            <a:stretch/>
          </p:blipFill>
          <p:spPr>
            <a:xfrm>
              <a:off x="873000" y="4570560"/>
              <a:ext cx="90036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bgHands" descr=""/>
            <p:cNvPicPr/>
            <p:nvPr/>
          </p:nvPicPr>
          <p:blipFill>
            <a:blip r:embed="rId7">
              <a:lum bright="70000" contrast="-70000"/>
            </a:blip>
            <a:stretch/>
          </p:blipFill>
          <p:spPr>
            <a:xfrm>
              <a:off x="1768320" y="2143080"/>
              <a:ext cx="5563800" cy="33084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61800" y="1207800"/>
            <a:ext cx="84456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4a0f"/>
                </a:solidFill>
                <a:latin typeface="Arial"/>
              </a:rPr>
              <a:t>Some text………</a:t>
            </a: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  <p:transition>
    <p:pull dir="lu"/>
    <p:sndAc>
      <p:stSnd>
        <p:snd r:embed="rId2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9T02:35:08Z</dcterms:created>
  <dc:creator/>
  <dc:description/>
  <dc:language>en-US</dc:language>
  <cp:lastModifiedBy>Hari Kumar G</cp:lastModifiedBy>
  <cp:lastPrinted>2003-05-02T04:28:48Z</cp:lastPrinted>
  <dcterms:modified xsi:type="dcterms:W3CDTF">2004-04-06T14:10:20Z</dcterms:modified>
  <cp:revision>212</cp:revision>
  <dc:subject/>
  <dc:title>PowerPoint Presentation</dc:title>
</cp:coreProperties>
</file>