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71F-6C25-4F10-A733-897BE6A4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2DE-8819-40E5-A664-A6EA20F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D2B-A202-409E-92E1-BEC5EEDD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DCF-FB41-40DD-85D4-EB6C5176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58E-261E-4468-82A7-05FAAC2B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2FD-FF03-4CB1-A399-6FA9218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395-30C0-490E-B542-AC714C2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C1D-58D7-48BE-8D00-DADB585B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7A2-D21C-4E92-BCD0-E7BA1697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3A6-90DD-4BBE-9EAA-0702C61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070-3122-4F88-A919-A755ABD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992-30D3-44B7-977D-5DBD579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6C4-5C5E-4AEF-85F0-0820F0AA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_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titled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_Black and 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untitled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03440" y="3886200"/>
            <a:ext cx="233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 Ltd</cp:lastModifiedBy>
  <dcterms:modified xsi:type="dcterms:W3CDTF">2010-09-13T10:07:51Z</dcterms:modified>
  <cp:revision>42</cp:revision>
  <dc:subject/>
  <dc:title>PowerPoint Presentation</dc:title>
</cp:coreProperties>
</file>