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3AAD-0E85-4DFB-A25B-45FA73A5E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28E6F-2FAE-41BB-8C66-6CE9D8628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F63E-6F73-44C2-A25E-17384DC8C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01D9-C8AF-469B-9A18-259717B91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CFD52-F91D-4A1B-BC93-66CA9AE0EF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CA1B0-EEB7-4703-81BD-43088FB583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52C31-C647-49E0-AD16-DA6332D281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33CBB-C3B5-4532-86A8-91297432DF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D175A-2593-450A-A294-F70AA588D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AC1CD-2285-4969-BDB4-FD95B06665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5DC07-AEB0-4C62-AF3F-8C0B2F6D0F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F3F0-1832-4C60-BDD7-1BD6E87FC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FEA45-2026-41FC-BC1A-6CF8423881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6B3A1-3958-4FE0-AE71-542D1E90A3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CE8EC-3029-49F3-825E-34649E1614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D0DD5-347F-42AA-9CD5-EE90A80A1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35D09-41A5-4EC0-8060-F8F2F69547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AD8C-5E1C-4B6E-AB7C-60A5F19C98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7D7-50B8-4E0D-BDD1-D726149B4C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8DA7-1F0A-47A1-A972-BE5AC6747B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59E6-EE8B-4BF1-918B-A9BBE2B518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22CE-9910-4931-B99E-6D4A0F558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EBF9-3F16-4DF3-AE0E-A7555ACD11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ED7B-73EB-4D84-A5A9-086B9417A8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F8C6-5E1E-48AC-BDB7-8A55937A25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7791-757C-486B-8D93-06DDD3014E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DE45-02DC-40C1-B51F-485DC99615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BADA-01AB-49E8-96AA-9AB7030F3F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20E6-8046-43FF-B57D-EF3B26C505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1F9D-EC86-4D33-B047-0A7F2027E1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048DC-4D1A-4E4C-9CB7-A5D8114634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7D0F8-4DAB-4679-80CB-DC7CE2D649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7B75E-06A3-44F4-9825-11E50ADCF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8634-BAEA-4884-8F9C-02388D3D71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6599A-1FCB-47C3-BB1D-C7AFAB9C72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717B5-A807-4F9A-975D-C58DB6DD61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C779F-7BB9-4B4D-9790-AD01D7B7D3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D9976-E180-4736-B64F-063CCF2A4D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C7052-6331-4221-9C52-1EB3A31C5E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E7D11-5EAA-459F-ACC4-B33C70C025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CEFA8-B078-494F-B8A5-F0CE70672D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A1465-C457-4C67-AC17-658B17AB59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8C1A7-D399-4149-AD28-AF2AA7A5A0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84ACD-0568-404D-9487-702744C3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414E-9A80-46B0-9281-4E0A2D7C5C5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3E910-B5F5-4BF6-99AE-6BF1E898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9A5E4-43DA-4BE4-A7D3-8CD3601B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D7CAC-9924-44F8-A2DF-55806AB3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BA705-6341-4424-8CCE-C478E18D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A6FAD-8F2A-45A2-97FC-04EAD902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E0888-660E-4CB4-9C0F-9F180AF1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29F1C-29F3-45B3-975B-CD104BE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8CB85-2D40-4ECA-B493-00B3EADF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A1739-665B-4E42-8A10-A0020C7B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E5F2B-BCD6-4B36-9117-E2D9B0D2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7731-9F69-43D4-87C2-275FF41373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20BA6-48A8-4A56-9BFA-82864AFB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6E3F8-DAE0-4C69-9B52-291E9836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C66C2-675E-4D07-B5BD-6F5F2A02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4AD0B-1FCA-4199-9E4E-F0A2C4D4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7BF96-B9D4-477E-A826-07053FAA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D8779-03C3-4F8F-98FE-91A973A8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E1AD1-68B3-4CFE-AF2C-1B60F42F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33821-064A-4393-A78F-CDA8C20E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945B0-52D4-42E2-9F87-4F64C3AB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E54B9-27B5-4AB4-A3D1-E5370E6B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F62B-2D75-4BA4-A528-5A4615C599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082F4-572B-461D-8605-7D970B60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29C90-FFE3-4A5C-98E2-7C5AC3D2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632BA-B615-44B8-8AA2-B356BD74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FFE9-BFFE-4605-AAE1-0AFBE2066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A413-B7B2-483A-A2E4-8AAC4FEA3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ADF2-C133-4D21-80F5-DA7EDFBC0075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3C4-6E57-4DD9-ADAC-CE5126979F00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9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10360" y="6111720"/>
            <a:ext cx="1895400" cy="746280"/>
            <a:chOff x="8010360" y="6111720"/>
            <a:chExt cx="1895400" cy="7462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8312760" y="6389640"/>
              <a:ext cx="1288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010360" y="6111720"/>
              <a:ext cx="18954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593640" y="6524640"/>
            <a:ext cx="458784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192240" y="6518160"/>
            <a:ext cx="40464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A6C0-308A-423D-A4F7-4B3D79D05C7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132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001000" y="2962440"/>
            <a:ext cx="1895040" cy="745920"/>
            <a:chOff x="8001000" y="2962440"/>
            <a:chExt cx="1895040" cy="745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8305560" y="3240000"/>
              <a:ext cx="1288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001000" y="2962440"/>
              <a:ext cx="189504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 type="ftr" idx="7"/>
          </p:nvPr>
        </p:nvSpPr>
        <p:spPr>
          <a:xfrm>
            <a:off x="635040" y="6524640"/>
            <a:ext cx="458784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8"/>
          </p:nvPr>
        </p:nvSpPr>
        <p:spPr>
          <a:xfrm>
            <a:off x="232920" y="6518160"/>
            <a:ext cx="40500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24A-D223-411E-979A-8E6DB2969391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7845120" cy="1981080"/>
            <a:chOff x="0" y="0"/>
            <a:chExt cx="7845120" cy="1981080"/>
          </a:xfrm>
        </p:grpSpPr>
        <p:sp>
          <p:nvSpPr>
            <p:cNvPr id="175" name=""/>
            <p:cNvSpPr/>
            <p:nvPr/>
          </p:nvSpPr>
          <p:spPr>
            <a:xfrm>
              <a:off x="0" y="925560"/>
              <a:ext cx="771624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0"/>
              <a:ext cx="7845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40C2-4904-42E4-B40B-7E0E86AA1B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62720" cy="5943600"/>
            <a:chOff x="0" y="0"/>
            <a:chExt cx="9162720" cy="5943600"/>
          </a:xfrm>
        </p:grpSpPr>
        <p:sp>
          <p:nvSpPr>
            <p:cNvPr id="219" name=""/>
            <p:cNvSpPr/>
            <p:nvPr/>
          </p:nvSpPr>
          <p:spPr>
            <a:xfrm>
              <a:off x="0" y="2286000"/>
              <a:ext cx="886536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0"/>
              <a:ext cx="916272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dt" idx="1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49A9-33E4-40C1-8F45-46C611BB7F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742680" y="1767960"/>
            <a:ext cx="8420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2680" y="1767960"/>
            <a:ext cx="8420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5400" spc="-1" strike="noStrike">
                <a:solidFill>
                  <a:srgbClr val="ffffcc"/>
                </a:solidFill>
                <a:latin typeface="Tahoma"/>
              </a:rPr>
              <a:t>Test at work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485720" y="3885840"/>
            <a:ext cx="69339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Measurement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87200" y="4759200"/>
            <a:ext cx="8496360" cy="1496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Created by: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   Phyc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Approver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: Director, Common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Function: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 D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Doc ID: 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H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Location: 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7:49:49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7T08:36:12Z</dcterms:modified>
  <cp:revision>3</cp:revision>
  <dc:subject/>
  <dc:title>Slide 1</dc:title>
</cp:coreProperties>
</file>