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7C2-02F7-4212-B179-580461C6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4A1-3849-45B2-B500-97EE2D4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CB5-C2A1-440E-97FE-D80DC164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FAF-BD55-420A-9193-F2FAC46D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4D7-0A50-4C99-9CF6-16A8B58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EAE-C7CC-46B3-91B0-E7AD3E8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F64-BB96-45B8-BF02-7AE0C1DD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B48-6E71-47BD-BA08-8AEDFF8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D92-E02B-4FC2-9CE6-048BD3E3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7C7-130B-4CA0-9437-EF71F5C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E8B-7276-4A9A-89DF-99F9B7A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FF4-A97C-464C-A8D9-507731D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8C2-94D5-4122-9A86-D1A9BC850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Saudi Arabi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56386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 middle income developing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Location, Location, Lo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Middle Easter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Borders the Persian gulf and the Red Se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Founded in 1932 when Arabian Kingdoms were unifie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Covers an area of 1,960,582 sq. km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Climate is very dry and hars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No inland waterway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Extreme changes in temperatur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sa-map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untry developing soci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2040" y="44953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udi Arabia is highly developed in terms of its G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 is $310.2 b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ly due to the large oil rese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, however, a developing count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itic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feat6_oil" descr=""/>
          <p:cNvPicPr/>
          <p:nvPr/>
        </p:nvPicPr>
        <p:blipFill>
          <a:blip r:embed="rId1"/>
          <a:srcRect l="0" t="6050" r="0" b="6050"/>
          <a:stretch/>
        </p:blipFill>
        <p:spPr>
          <a:xfrm>
            <a:off x="2357280" y="1752480"/>
            <a:ext cx="442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 Development Inde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measurement of human progress in a country, introduced in 1990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udi Arabia is not the most developed country in the Middle Ea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udi is in the upper half of the ranking tables, indicating it is moving towards being more develope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lowest ranked country in the region is Djibouti, 77 places below Saudi Arab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19920" y="1981080"/>
          <a:ext cx="2895480" cy="39132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DI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w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h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at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di Arab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jibou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 Poverty Inde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UN measurement of human deprivation in a cou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udi Arabia uses the HPI-1 index, indicating that it is impoveri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Arab states using the HPI-1 index, Saudi Arabia has the highest ranking, showing it has the lowest levels of poverty for these countries in the reg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owest ranked country on the HPI (of the Arab states) is, again, Djibou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971800" y="1828800"/>
          <a:ext cx="3200400" cy="160020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PI-1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di Arab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jibou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unfair political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equality in the Sex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0.8% of the female population over 15 can read, compared to 84.7% of 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males are allowed to vote in ele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men are not allowed to ride bicyc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sawomeye" descr=""/>
          <p:cNvPicPr/>
          <p:nvPr/>
        </p:nvPicPr>
        <p:blipFill>
          <a:blip r:embed="rId1"/>
          <a:srcRect l="23363" t="8724" r="9893" b="0"/>
          <a:stretch/>
        </p:blipFill>
        <p:spPr>
          <a:xfrm>
            <a:off x="4970520" y="1981080"/>
            <a:ext cx="386856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n arid landsca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reliance on o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70-4" descr=""/>
          <p:cNvPicPr/>
          <p:nvPr/>
        </p:nvPicPr>
        <p:blipFill>
          <a:blip r:embed="rId1"/>
          <a:stretch/>
        </p:blipFill>
        <p:spPr>
          <a:xfrm>
            <a:off x="464832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9:56:56Z</dcterms:created>
  <dc:creator>Administrator</dc:creator>
  <dc:description/>
  <dc:language>en-US</dc:language>
  <cp:lastModifiedBy>Administrator</cp:lastModifiedBy>
  <dcterms:modified xsi:type="dcterms:W3CDTF">2005-07-07T09:13:03Z</dcterms:modified>
  <cp:revision>5</cp:revision>
  <dc:subject/>
  <dc:title>SAUDI ARABIA</dc:title>
</cp:coreProperties>
</file>