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E35-B8A5-43F7-8383-52ABA256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E89-A3D5-4942-B139-148DD550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D70-88F9-438E-B490-A116E614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ED1-80CC-4093-AC1E-19C9AF57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FA3-CAE1-4138-97F0-67615350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B86-5C51-4683-9800-F55E46E4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51E-99B9-4149-9B6D-87F0191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29B-F177-4B72-8ECD-030C92FD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9FE-5B82-466F-B5FD-E97BC819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12B-4A29-4E91-9FFA-DF3A574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78C-20A1-4E6B-A99D-975C24D7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00F-EEA6-4897-B529-FCC63932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6C4D-C1AC-4DC2-BB07-654E99482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x XML Files with Ga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Hüb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27.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/dummy/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3880"/>
            <a:ext cx="8686800" cy="13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de.gauss.vip.portalmanager.converter.XmlContentConverter( "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/dummy/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62120" y="4038480"/>
          <a:ext cx="71514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151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1405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„subcontent"  is located at different levels in the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990720"/>
            <a:ext cx="6933960" cy="533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ther possibilities to handle complex xml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523880"/>
            <a:ext cx="693396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 the (org.w3c.dom.Document) DOM object converted by the XmlContentConverter and access elements with non-gauss functions for further proce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990720"/>
            <a:ext cx="6933960" cy="533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e.gauss.vip.portalmanager.converte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mlContent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523880"/>
            <a:ext cx="6933960" cy="335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mlContentConverter can be used to extract data from xml documents. Only contents with the mime type text/xml are converted. The converter requires a list of element names (which may include path specifications) and returnes only text nodes from the xml document that reside directly in an element with a name from the l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lement names may contain paths. A path consist of element names separated by slashes ("/"). The element name "test/text" matches only elements with the name "text" which have a parent element with the name "test". If the path starts with a slash, it is considered to be absolute within the document -- which means that it must start with the root element of the xml document. The path "/root/test/text" matches only elements "text" that reside in an element "test" which is a child of the root element "root" of the xml docu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ML File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523880"/>
            <a:ext cx="838188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new de.gauss.vip.portalmanager.converter.XmlContentConverter( "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3537000"/>
          <a:ext cx="80773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37000"/>
                    <a:ext cx="80773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80880" y="1523880"/>
            <a:ext cx="8534520" cy="38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590920"/>
            <a:ext cx="8534520" cy="53316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495680"/>
            <a:ext cx="8534520" cy="38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124080"/>
            <a:ext cx="8534520" cy="38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523880"/>
            <a:ext cx="868680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new de.gauss.vip.portalmanager.converter.XmlContentConverter( "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3583080"/>
          <a:ext cx="7790040" cy="13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83080"/>
                    <a:ext cx="779004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09480" y="61405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„subcontent"  is located at different levels in the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09480" y="1905120"/>
            <a:ext cx="8077320" cy="4572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ubcontent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657600"/>
            <a:ext cx="8077320" cy="4572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029200"/>
            <a:ext cx="8077320" cy="53352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ith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dummy/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523880"/>
            <a:ext cx="8686800" cy="13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de.gauss.vip.portalmanager.converter.XmlContentConverter( "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ummy/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581280"/>
          <a:ext cx="7269120" cy="12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726912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1405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„subcontent"  is located at different levels in the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14400" y="3657600"/>
            <a:ext cx="8077320" cy="4572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029200"/>
            <a:ext cx="8077320" cy="53352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ith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dummy/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ebbe Wolfram</cp:lastModifiedBy>
  <dcterms:modified xsi:type="dcterms:W3CDTF">2004-01-27T18:51:14Z</dcterms:modified>
  <cp:revision>21</cp:revision>
  <dc:subject/>
  <dc:title>PowerPoint Presentation</dc:title>
</cp:coreProperties>
</file>