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BE9-7C96-4DA9-9209-30C7E25B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CD6-4855-41FC-B23C-28DC876B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193-E529-40BC-A0B6-9E0EC6B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EB5-6D32-46F6-9E6E-0A772803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DF1-7547-4A62-9B74-BC60B29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271-22FF-4954-95E5-90557FD8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19F-0466-47F7-A4B2-A2182A8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05D-16C2-427C-BEB4-B9C86B5C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CA7-4895-4D7E-88DC-3915E631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79A-1079-498B-AB41-6100D16A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409-5855-493F-8720-8847B26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79F-B666-4AA0-AE8D-AB9BDF4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D6D4-3307-4FF8-9AE0-82B064171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744720" y="-136440"/>
            <a:ext cx="1440000" cy="266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28" y="2450"/>
                  <a:pt x="13655" y="5080"/>
                  <a:pt x="13655" y="10800"/>
                </a:cubicBezTo>
                <a:cubicBezTo>
                  <a:pt x="13655" y="16520"/>
                  <a:pt x="17628" y="1915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テストファイ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8:34:26Z</dcterms:created>
  <dc:creator>NTANABE</dc:creator>
  <dc:description/>
  <dc:language>en-US</dc:language>
  <cp:lastModifiedBy>NTANABE</cp:lastModifiedBy>
  <dcterms:modified xsi:type="dcterms:W3CDTF">2006-09-22T06:10:48Z</dcterms:modified>
  <cp:revision>7</cp:revision>
  <dc:subject/>
  <dc:title>スライド 1</dc:title>
</cp:coreProperties>
</file>