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612-8628-4C03-911A-41DE5D07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5D7-D8C5-4F59-A1AE-EE88D11C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DB0-97E5-41A2-B679-BFE96DC7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07D-2E15-4789-A35A-76FE6D00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690-8C9A-4F09-A00C-ACC9BA4F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AE4-68FE-4F98-9FB5-FA322CB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B1B-CBB3-45E7-A387-F3D6D6A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ECC-6780-4141-BF31-819EF53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0FB-DE70-4DA1-BAD1-0F1F8D93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723-8FA7-4C97-8351-21F63C5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BA0-6BA8-432D-859C-EA2F9D7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63E-14D6-4019-A7A9-F6EDCC87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03024-4598-45E7-B8A9-E9B34036E29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3280" y="2016000"/>
            <a:ext cx="1728720" cy="1729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5:28:41Z</dcterms:created>
  <dc:creator>Pierre Martineau</dc:creator>
  <dc:description/>
  <dc:language>en-US</dc:language>
  <cp:lastModifiedBy>Pierre Martineau</cp:lastModifiedBy>
  <dcterms:modified xsi:type="dcterms:W3CDTF">2012-10-13T17:54:33Z</dcterms:modified>
  <cp:revision>6</cp:revision>
  <dc:subject/>
  <dc:title/>
</cp:coreProperties>
</file>