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8CF-0EBD-41D1-A788-9ABA352A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419400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2B9-DF4B-412E-BBD8-7E7559D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492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61F-918E-4F4D-9F8C-10B7136B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96920" y="14475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50840" y="14475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419400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96920" y="419400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50840" y="419400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C4A-81D4-44D5-A90A-CDDC651F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CC1-DFB3-4DF1-A991-149E219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9AA-60A2-4969-8EC1-9C6FD9C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EDF-0201-4A8A-9561-AA5B3275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239-14A4-4228-B045-37D24C5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3BE-ADB7-4456-B66A-DC88806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24A-A140-4777-B630-C2BA8607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492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C3B-54DD-4F4D-AFB6-5C73E1F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9400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9C6-8541-477A-AE1E-F5947B4B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A432-8C1A-4120-97B0-2EB9B14AD9D6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0"/>
            <a:ext cx="76320" cy="6781680"/>
          </a:xfrm>
          <a:prstGeom prst="rect">
            <a:avLst/>
          </a:prstGeom>
          <a:solidFill>
            <a:srgbClr val="8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1430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2" marL="1085760" indent="-228600"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3" marL="1428840" indent="-228600"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4" marL="1771560" indent="-228600"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5" marL="1771560" indent="-228600">
              <a:spcBef>
                <a:spcPts val="1749"/>
              </a:spcBef>
              <a:buClr>
                <a:srgbClr val="ffff99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6" marL="1771560" indent="-228600">
              <a:spcBef>
                <a:spcPts val="1749"/>
              </a:spcBef>
              <a:buClr>
                <a:srgbClr val="ffff99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31400" cy="95400"/>
          </a:xfrm>
          <a:prstGeom prst="rect">
            <a:avLst/>
          </a:prstGeom>
          <a:solidFill>
            <a:srgbClr val="002ff8"/>
          </a:solidFill>
          <a:ln w="9360">
            <a:solidFill>
              <a:srgbClr val="002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62080"/>
            <a:ext cx="9131400" cy="95400"/>
          </a:xfrm>
          <a:prstGeom prst="rect">
            <a:avLst/>
          </a:prstGeom>
          <a:solidFill>
            <a:srgbClr val="8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0"/>
            <a:ext cx="75960" cy="6781680"/>
          </a:xfrm>
          <a:prstGeom prst="rect">
            <a:avLst/>
          </a:prstGeom>
          <a:solidFill>
            <a:srgbClr val="002ff8"/>
          </a:solidFill>
          <a:ln w="9360">
            <a:solidFill>
              <a:srgbClr val="002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39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1720" y="228240"/>
            <a:ext cx="7843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60280" y="2028960"/>
            <a:ext cx="7453080" cy="792000"/>
          </a:xfrm>
          <a:prstGeom prst="rect">
            <a:avLst/>
          </a:prstGeom>
          <a:solidFill>
            <a:srgbClr val="ffffa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26000"/>
          </a:bodyPr>
          <a:p>
            <a:pPr marL="8892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Usable Design Tools &amp; Skills</a:t>
            </a:r>
            <a:endParaRPr b="1" lang="en-US" sz="40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f"/>
                </a:solidFill>
                <a:latin typeface="Arial"/>
              </a:rPr>
              <a:t>H. Séquin</a:t>
            </a:r>
            <a:endParaRPr b="1" lang="en-US" sz="24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f"/>
                </a:solidFill>
                <a:latin typeface="Arial"/>
              </a:rPr>
              <a:t>University of, </a:t>
            </a:r>
            <a:br>
              <a:rPr sz="2400"/>
            </a:br>
            <a:endParaRPr b="1" lang="en-US" sz="2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20:29:09Z</dcterms:created>
  <dc:creator>Carlo Sequin</dc:creator>
  <dc:description/>
  <cp:keywords>t</cp:keywords>
  <dc:language>en-US</dc:language>
  <cp:lastModifiedBy>crystal</cp:lastModifiedBy>
  <cp:lastPrinted>2001-02-24T22:56:08Z</cp:lastPrinted>
  <dcterms:modified xsi:type="dcterms:W3CDTF">2012-06-07T09:37:57Z</dcterms:modified>
  <cp:revision>120</cp:revision>
  <dc:subject>Teaching and Research Program </dc:subject>
  <dc:title>BID Kick-off Meeting</dc:title>
</cp:coreProperties>
</file>