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345-86E7-4AF0-8432-F12E094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FD2-A5DC-44CF-9A10-7CC74615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780-7A8D-4AAC-9DF3-F592FCB5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A29-4331-4C8A-8544-DE1A1D2B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441-BCD2-425B-B737-7BE3EFE5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AFF-1BB4-4B1D-A640-16AD14D2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88D-4D3D-46BB-B1EA-93E8F8D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941-3FFE-43E5-80C7-75320079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7FA-9F44-4B12-82A7-7BECCB07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40C-73D2-4F5D-AA5F-0D73E6A1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B6D-5E9F-4A88-87D9-A5E09242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802-A9EB-46E2-BE25-89705F7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9A3-C8CA-4158-BB58-0AC012EEE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325440"/>
          <a:ext cx="6318360" cy="6181560"/>
        </p:xfrm>
        <a:graphic>
          <a:graphicData uri="http://schemas.openxmlformats.org/drawingml/2006/table">
            <a:tbl>
              <a:tblPr/>
              <a:tblGrid>
                <a:gridCol w="3270240"/>
                <a:gridCol w="3048120"/>
              </a:tblGrid>
              <a:tr h="618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m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el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a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ildr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ie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m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s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hot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834240" y="0"/>
            <a:ext cx="2309760" cy="2044800"/>
          </a:xfrm>
          <a:prstGeom prst="wedgeRoundRectCallout">
            <a:avLst>
              <a:gd name="adj1" fmla="val -43060"/>
              <a:gd name="adj2" fmla="val 73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ase: FFC252FFCSD_Paragraph_LineSpacing_Table0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: Table &amp; Lin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: Paragraph’s line space setting in two colum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0:41:55Z</dcterms:created>
  <dc:creator>renyuxia</dc:creator>
  <dc:description/>
  <dc:language>en-US</dc:language>
  <cp:lastModifiedBy>renyuxia</cp:lastModifiedBy>
  <dcterms:modified xsi:type="dcterms:W3CDTF">2005-04-30T00:47:36Z</dcterms:modified>
  <cp:revision>3</cp:revision>
  <dc:subject/>
  <dc:title>Slide 1</dc:title>
</cp:coreProperties>
</file>