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859B-29DA-4A5D-9C1B-FC54B975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73FB-5ACC-401D-8F0E-F4A3EF36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D36A-9CC5-4899-8883-1F18FCFE1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581E-628E-4951-8CD9-D6BEC7C5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2C80-FC7F-4E32-BD3E-EABD0EA8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A362-8084-4F24-BEA0-0391DC2D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0B60-F02E-4A9C-AE97-F4209C6D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2458-2714-44A9-ABC4-D0E8B77F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C226-7EBC-4295-A10C-C0909C37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6A7A-18CD-451D-AF52-FA30F0B2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EDF1-FC18-4EAA-BEDF-77172F31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C3AD-B6E1-46F1-BEBF-4392890F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CB08-41AE-4395-AB26-D402E1B09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38080" y="1905120"/>
            <a:ext cx="7924680" cy="2895480"/>
            <a:chOff x="838080" y="1905120"/>
            <a:chExt cx="7924680" cy="2895480"/>
          </a:xfrm>
        </p:grpSpPr>
        <p:sp>
          <p:nvSpPr>
            <p:cNvPr id="42" name=""/>
            <p:cNvSpPr/>
            <p:nvPr/>
          </p:nvSpPr>
          <p:spPr>
            <a:xfrm>
              <a:off x="3504960" y="1905120"/>
              <a:ext cx="1981440" cy="99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38080" y="3810240"/>
              <a:ext cx="1981080" cy="99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886200" y="3657600"/>
              <a:ext cx="1981080" cy="99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81680" y="3657600"/>
              <a:ext cx="1981080" cy="99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" name=""/>
            <p:cNvCxnSpPr>
              <a:stCxn id="42" idx="2"/>
              <a:endCxn id="43" idx="0"/>
            </p:cNvCxnSpPr>
            <p:nvPr/>
          </p:nvCxnSpPr>
          <p:spPr>
            <a:xfrm rot="5400000">
              <a:off x="2704680" y="2019600"/>
              <a:ext cx="914760" cy="2667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" name=""/>
            <p:cNvCxnSpPr>
              <a:stCxn id="42" idx="2"/>
              <a:endCxn id="44" idx="0"/>
            </p:cNvCxnSpPr>
            <p:nvPr/>
          </p:nvCxnSpPr>
          <p:spPr>
            <a:xfrm flipH="1" rot="16200000">
              <a:off x="4305240" y="3086280"/>
              <a:ext cx="762120" cy="381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8" name=""/>
            <p:cNvCxnSpPr>
              <a:stCxn id="42" idx="2"/>
              <a:endCxn id="45" idx="0"/>
            </p:cNvCxnSpPr>
            <p:nvPr/>
          </p:nvCxnSpPr>
          <p:spPr>
            <a:xfrm flipH="1" rot="16200000">
              <a:off x="5752800" y="1638360"/>
              <a:ext cx="762120" cy="32767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49" name=""/>
          <p:cNvSpPr/>
          <p:nvPr/>
        </p:nvSpPr>
        <p:spPr>
          <a:xfrm>
            <a:off x="762120" y="30492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rectangular and three connectors grou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828800" y="1981080"/>
            <a:ext cx="5485680" cy="2742480"/>
            <a:chOff x="1828800" y="1981080"/>
            <a:chExt cx="5485680" cy="2742480"/>
          </a:xfrm>
        </p:grpSpPr>
        <p:cxnSp>
          <p:nvCxnSpPr>
            <p:cNvPr id="51" name="_s3078"/>
            <p:cNvCxnSpPr>
              <a:stCxn id="52" idx="0"/>
              <a:endCxn id="53" idx="2"/>
            </p:cNvCxnSpPr>
            <p:nvPr/>
          </p:nvCxnSpPr>
          <p:spPr>
            <a:xfrm flipV="1" rot="16200000">
              <a:off x="5256720" y="2391480"/>
              <a:ext cx="549000" cy="1920600"/>
            </a:xfrm>
            <a:prstGeom prst="bentConnector3">
              <a:avLst>
                <a:gd name="adj1" fmla="val 20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3079"/>
            <p:cNvCxnSpPr>
              <a:stCxn id="55" idx="0"/>
              <a:endCxn id="53" idx="2"/>
            </p:cNvCxnSpPr>
            <p:nvPr/>
          </p:nvCxnSpPr>
          <p:spPr>
            <a:xfrm flipV="1">
              <a:off x="4571640" y="3077280"/>
              <a:ext cx="2160" cy="54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3080"/>
            <p:cNvCxnSpPr>
              <a:stCxn id="57" idx="0"/>
              <a:endCxn id="53" idx="2"/>
            </p:cNvCxnSpPr>
            <p:nvPr/>
          </p:nvCxnSpPr>
          <p:spPr>
            <a:xfrm flipH="1" flipV="1" rot="5400000">
              <a:off x="3337920" y="2392200"/>
              <a:ext cx="549000" cy="1919160"/>
            </a:xfrm>
            <a:prstGeom prst="bentConnector3">
              <a:avLst>
                <a:gd name="adj1" fmla="val 20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3" name="_s3081"/>
            <p:cNvSpPr/>
            <p:nvPr/>
          </p:nvSpPr>
          <p:spPr>
            <a:xfrm>
              <a:off x="3748680" y="198108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3082"/>
            <p:cNvSpPr/>
            <p:nvPr/>
          </p:nvSpPr>
          <p:spPr>
            <a:xfrm>
              <a:off x="1828800" y="362664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3083"/>
            <p:cNvSpPr/>
            <p:nvPr/>
          </p:nvSpPr>
          <p:spPr>
            <a:xfrm>
              <a:off x="3748680" y="362664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3084"/>
            <p:cNvSpPr/>
            <p:nvPr/>
          </p:nvSpPr>
          <p:spPr>
            <a:xfrm>
              <a:off x="5668920" y="362664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762120" y="3049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rganization chart with the same structure as the first grouped 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1T11:11:00Z</dcterms:created>
  <dc:creator>lijiany</dc:creator>
  <dc:description/>
  <dc:language>en-US</dc:language>
  <cp:lastModifiedBy>lijiany</cp:lastModifiedBy>
  <dcterms:modified xsi:type="dcterms:W3CDTF">2012-08-01T11:17:01Z</dcterms:modified>
  <cp:revision>2</cp:revision>
  <dc:subject/>
  <dc:title>Slide 1</dc:title>
</cp:coreProperties>
</file>