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352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419360" y="0"/>
            <a:ext cx="3352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397160" y="761760"/>
            <a:ext cx="49780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1066680" y="4800600"/>
            <a:ext cx="5639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9524880"/>
            <a:ext cx="3352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419360" y="9524880"/>
            <a:ext cx="3352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F6A90-53F3-4AA4-B5D3-470F31642B7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41C8-D0DA-4A7C-9B74-95432C0DF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3280" y="4371120"/>
            <a:ext cx="9066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EC0E-B9F6-45F7-982F-A2DA12DB9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03280" y="4371120"/>
            <a:ext cx="44240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49080" y="4371120"/>
            <a:ext cx="44240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F57C-7EC8-4AAC-B74C-B68582295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3280" y="4371120"/>
            <a:ext cx="2919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69040" y="4371120"/>
            <a:ext cx="2919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34440" y="4371120"/>
            <a:ext cx="2919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07B8-FE42-4535-9533-D99479D89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5D32-1CF2-4AD6-AFFD-BE5E8AF3D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1D66-F2A3-402E-93A5-6A3F47837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5FC0-C109-41DB-8F0C-FEEF807F0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DF07-2C87-4F1B-85D8-5DCDB9384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58C8-DB55-410D-A8C1-5F13C9CF4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3280" y="4371120"/>
            <a:ext cx="44240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1121-F742-4BF7-A316-365270EC1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9080" y="4371120"/>
            <a:ext cx="44240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536C-829E-4DA7-8AF7-C43B6444A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3280" y="4371120"/>
            <a:ext cx="9066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5B68-5216-46B9-93A3-2E344EB09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060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2600" indent="-21132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424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424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440"/>
            <a:ext cx="23414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89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180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0821A-C577-41E3-B50E-7DFCA36339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305920" y="6951600"/>
            <a:ext cx="1774800" cy="608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558720" y="1852560"/>
            <a:ext cx="906624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96720" indent="-29952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rget Corporates direct basis + mark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265680">
              <a:lnSpc>
                <a:spcPct val="76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 + employ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265680">
              <a:lnSpc>
                <a:spcPct val="76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tantial integration over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0">
              <a:lnSpc>
                <a:spcPct val="76000"/>
              </a:lnSpc>
              <a:spcAft>
                <a:spcPts val="1137"/>
              </a:spcAft>
              <a:buNone/>
              <a:tabLst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29952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ing own 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265680">
              <a:lnSpc>
                <a:spcPct val="76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med at mid mark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265680">
              <a:lnSpc>
                <a:spcPct val="76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minate integration over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29952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rget Mid Mark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265680">
              <a:lnSpc>
                <a:spcPct val="76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 - 499 employ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265680">
              <a:lnSpc>
                <a:spcPct val="76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ndeled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624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6040"/>
                <a:tab algn="l" pos="893880"/>
                <a:tab algn="l" pos="1341360"/>
                <a:tab algn="l" pos="1789200"/>
                <a:tab algn="l" pos="2236680"/>
                <a:tab algn="l" pos="2684520"/>
                <a:tab algn="l" pos="3132000"/>
                <a:tab algn="l" pos="3579840"/>
                <a:tab algn="l" pos="4027320"/>
                <a:tab algn="l" pos="4475160"/>
                <a:tab algn="l" pos="4923000"/>
                <a:tab algn="l" pos="5370480"/>
                <a:tab algn="l" pos="5818320"/>
                <a:tab algn="l" pos="6265800"/>
                <a:tab algn="l" pos="6713640"/>
                <a:tab algn="l" pos="7161120"/>
                <a:tab algn="l" pos="7608960"/>
                <a:tab algn="l" pos="8056440"/>
                <a:tab algn="l" pos="8504280"/>
                <a:tab algn="l" pos="895176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3600" spc="-1" strike="noStrike">
                <a:solidFill>
                  <a:srgbClr val="000080"/>
                </a:solidFill>
                <a:latin typeface="Arial"/>
              </a:rPr>
              <a:t>DSL Market Development P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96800" y="1344600"/>
            <a:ext cx="6581520" cy="60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$US Billion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0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.S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,38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p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99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rman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984.1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.K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563.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n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431.3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al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184.3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Canada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716.7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a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62.2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: OE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33000" y="247680"/>
            <a:ext cx="446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GDP G-7 Count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90480" y="1735200"/>
            <a:ext cx="7178760" cy="48942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28600" y="304920"/>
            <a:ext cx="8648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7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"/>
                <a:ea typeface="Arial Unicode MS"/>
              </a:rPr>
              <a:t>Canadian Business Counts by Company 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93400" y="1522440"/>
            <a:ext cx="333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,780 large sized fir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0,400 mid sized fi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727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6040"/>
                <a:tab algn="l" pos="893880"/>
                <a:tab algn="l" pos="1341360"/>
                <a:tab algn="l" pos="1789200"/>
                <a:tab algn="l" pos="2236680"/>
                <a:tab algn="l" pos="2684520"/>
                <a:tab algn="l" pos="3132000"/>
                <a:tab algn="l" pos="3579840"/>
                <a:tab algn="l" pos="4027320"/>
                <a:tab algn="l" pos="4475160"/>
                <a:tab algn="l" pos="4923000"/>
                <a:tab algn="l" pos="5370480"/>
                <a:tab algn="l" pos="5818320"/>
                <a:tab algn="l" pos="6265800"/>
                <a:tab algn="l" pos="6713640"/>
                <a:tab algn="l" pos="7161120"/>
                <a:tab algn="l" pos="7608960"/>
                <a:tab algn="l" pos="8056440"/>
                <a:tab algn="l" pos="8504280"/>
                <a:tab algn="l" pos="895176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3600" spc="-1" strike="noStrike">
                <a:solidFill>
                  <a:srgbClr val="000080"/>
                </a:solidFill>
                <a:latin typeface="Arial"/>
              </a:rPr>
              <a:t>DSL Market Development P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6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4600"/>
                <a:tab algn="l" pos="892080"/>
                <a:tab algn="l" pos="1341360"/>
                <a:tab algn="l" pos="1787400"/>
                <a:tab algn="l" pos="2235240"/>
                <a:tab algn="l" pos="2682720"/>
                <a:tab algn="l" pos="3130560"/>
                <a:tab algn="l" pos="3578400"/>
                <a:tab algn="l" pos="4025880"/>
                <a:tab algn="l" pos="4473720"/>
                <a:tab algn="l" pos="4921200"/>
                <a:tab algn="l" pos="5369040"/>
                <a:tab algn="l" pos="5816520"/>
                <a:tab algn="l" pos="6264360"/>
                <a:tab algn="l" pos="6711840"/>
                <a:tab algn="l" pos="7159680"/>
                <a:tab algn="l" pos="7607160"/>
                <a:tab algn="l" pos="8055000"/>
                <a:tab algn="l" pos="8502480"/>
                <a:tab algn="l" pos="89503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rporate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4600"/>
                <a:tab algn="l" pos="892080"/>
                <a:tab algn="l" pos="1341360"/>
                <a:tab algn="l" pos="1787400"/>
                <a:tab algn="l" pos="2235240"/>
                <a:tab algn="l" pos="2682720"/>
                <a:tab algn="l" pos="3130560"/>
                <a:tab algn="l" pos="3578400"/>
                <a:tab algn="l" pos="4025880"/>
                <a:tab algn="l" pos="4473720"/>
                <a:tab algn="l" pos="4921200"/>
                <a:tab algn="l" pos="5369040"/>
                <a:tab algn="l" pos="5816520"/>
                <a:tab algn="l" pos="6264360"/>
                <a:tab algn="l" pos="6711840"/>
                <a:tab algn="l" pos="7159680"/>
                <a:tab algn="l" pos="7607160"/>
                <a:tab algn="l" pos="8055000"/>
                <a:tab algn="l" pos="8502480"/>
                <a:tab algn="l" pos="89503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etive Challe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4600"/>
                <a:tab algn="l" pos="892080"/>
                <a:tab algn="l" pos="1341360"/>
                <a:tab algn="l" pos="1787400"/>
                <a:tab algn="l" pos="2235240"/>
                <a:tab algn="l" pos="2682720"/>
                <a:tab algn="l" pos="3130560"/>
                <a:tab algn="l" pos="3578400"/>
                <a:tab algn="l" pos="4025880"/>
                <a:tab algn="l" pos="4473720"/>
                <a:tab algn="l" pos="4921200"/>
                <a:tab algn="l" pos="5369040"/>
                <a:tab algn="l" pos="5816520"/>
                <a:tab algn="l" pos="6264360"/>
                <a:tab algn="l" pos="6711840"/>
                <a:tab algn="l" pos="7159680"/>
                <a:tab algn="l" pos="7607160"/>
                <a:tab algn="l" pos="8055000"/>
                <a:tab algn="l" pos="8502480"/>
                <a:tab algn="l" pos="89503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ew Tar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4600"/>
                <a:tab algn="l" pos="892080"/>
                <a:tab algn="l" pos="1341360"/>
                <a:tab algn="l" pos="1787400"/>
                <a:tab algn="l" pos="2235240"/>
                <a:tab algn="l" pos="2682720"/>
                <a:tab algn="l" pos="3130560"/>
                <a:tab algn="l" pos="3578400"/>
                <a:tab algn="l" pos="4025880"/>
                <a:tab algn="l" pos="4473720"/>
                <a:tab algn="l" pos="4921200"/>
                <a:tab algn="l" pos="5369040"/>
                <a:tab algn="l" pos="5816520"/>
                <a:tab algn="l" pos="6264360"/>
                <a:tab algn="l" pos="6711840"/>
                <a:tab algn="l" pos="7159680"/>
                <a:tab algn="l" pos="7607160"/>
                <a:tab algn="l" pos="8055000"/>
                <a:tab algn="l" pos="8502480"/>
                <a:tab algn="l" pos="89503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ng Sales Cy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4600"/>
                <a:tab algn="l" pos="892080"/>
                <a:tab algn="l" pos="1341360"/>
                <a:tab algn="l" pos="1787400"/>
                <a:tab algn="l" pos="2235240"/>
                <a:tab algn="l" pos="2682720"/>
                <a:tab algn="l" pos="3130560"/>
                <a:tab algn="l" pos="3578400"/>
                <a:tab algn="l" pos="4025880"/>
                <a:tab algn="l" pos="4473720"/>
                <a:tab algn="l" pos="4921200"/>
                <a:tab algn="l" pos="5369040"/>
                <a:tab algn="l" pos="5816520"/>
                <a:tab algn="l" pos="6264360"/>
                <a:tab algn="l" pos="6711840"/>
                <a:tab algn="l" pos="7159680"/>
                <a:tab algn="l" pos="7607160"/>
                <a:tab algn="l" pos="8055000"/>
                <a:tab algn="l" pos="8502480"/>
                <a:tab algn="l" pos="89503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bour Intens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4600"/>
                <a:tab algn="l" pos="892080"/>
                <a:tab algn="l" pos="1341360"/>
                <a:tab algn="l" pos="1787400"/>
                <a:tab algn="l" pos="2235240"/>
                <a:tab algn="l" pos="2682720"/>
                <a:tab algn="l" pos="3130560"/>
                <a:tab algn="l" pos="3578400"/>
                <a:tab algn="l" pos="4025880"/>
                <a:tab algn="l" pos="4473720"/>
                <a:tab algn="l" pos="4921200"/>
                <a:tab algn="l" pos="5369040"/>
                <a:tab algn="l" pos="5816520"/>
                <a:tab algn="l" pos="6264360"/>
                <a:tab algn="l" pos="6711840"/>
                <a:tab algn="l" pos="7159680"/>
                <a:tab algn="l" pos="7607160"/>
                <a:tab algn="l" pos="8055000"/>
                <a:tab algn="l" pos="8502480"/>
                <a:tab algn="l" pos="89503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ig rewar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4600"/>
                <a:tab algn="l" pos="892080"/>
                <a:tab algn="l" pos="1341360"/>
                <a:tab algn="l" pos="1787400"/>
                <a:tab algn="l" pos="2235240"/>
                <a:tab algn="l" pos="2682720"/>
                <a:tab algn="l" pos="3130560"/>
                <a:tab algn="l" pos="3578400"/>
                <a:tab algn="l" pos="4025880"/>
                <a:tab algn="l" pos="4473720"/>
                <a:tab algn="l" pos="4921200"/>
                <a:tab algn="l" pos="5369040"/>
                <a:tab algn="l" pos="5816520"/>
                <a:tab algn="l" pos="6264360"/>
                <a:tab algn="l" pos="6711840"/>
                <a:tab algn="l" pos="7159680"/>
                <a:tab algn="l" pos="7607160"/>
                <a:tab algn="l" pos="8055000"/>
                <a:tab algn="l" pos="8502480"/>
                <a:tab algn="l" pos="89503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ig Integratiion in S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0600" indent="-2127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4600"/>
                <a:tab algn="l" pos="892080"/>
                <a:tab algn="l" pos="1341360"/>
                <a:tab algn="l" pos="1787400"/>
                <a:tab algn="l" pos="2235240"/>
                <a:tab algn="l" pos="2682720"/>
                <a:tab algn="l" pos="3130560"/>
                <a:tab algn="l" pos="3578400"/>
                <a:tab algn="l" pos="4025880"/>
                <a:tab algn="l" pos="4473720"/>
                <a:tab algn="l" pos="4921200"/>
                <a:tab algn="l" pos="5369040"/>
                <a:tab algn="l" pos="5816520"/>
                <a:tab algn="l" pos="6264360"/>
                <a:tab algn="l" pos="6711840"/>
                <a:tab algn="l" pos="7159680"/>
                <a:tab algn="l" pos="7607160"/>
                <a:tab algn="l" pos="8055000"/>
                <a:tab algn="l" pos="8502480"/>
                <a:tab algn="l" pos="89503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arif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0600" indent="-2127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4600"/>
                <a:tab algn="l" pos="892080"/>
                <a:tab algn="l" pos="1341360"/>
                <a:tab algn="l" pos="1787400"/>
                <a:tab algn="l" pos="2235240"/>
                <a:tab algn="l" pos="2682720"/>
                <a:tab algn="l" pos="3130560"/>
                <a:tab algn="l" pos="3578400"/>
                <a:tab algn="l" pos="4025880"/>
                <a:tab algn="l" pos="4473720"/>
                <a:tab algn="l" pos="4921200"/>
                <a:tab algn="l" pos="5369040"/>
                <a:tab algn="l" pos="5816520"/>
                <a:tab algn="l" pos="6264360"/>
                <a:tab algn="l" pos="6711840"/>
                <a:tab algn="l" pos="7159680"/>
                <a:tab algn="l" pos="7607160"/>
                <a:tab algn="l" pos="8055000"/>
                <a:tab algn="l" pos="8502480"/>
                <a:tab algn="l" pos="89503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eble et 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0600" indent="-2127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4600"/>
                <a:tab algn="l" pos="892080"/>
                <a:tab algn="l" pos="1341360"/>
                <a:tab algn="l" pos="1787400"/>
                <a:tab algn="l" pos="2235240"/>
                <a:tab algn="l" pos="2682720"/>
                <a:tab algn="l" pos="3130560"/>
                <a:tab algn="l" pos="3578400"/>
                <a:tab algn="l" pos="4025880"/>
                <a:tab algn="l" pos="4473720"/>
                <a:tab algn="l" pos="4921200"/>
                <a:tab algn="l" pos="5369040"/>
                <a:tab algn="l" pos="5816520"/>
                <a:tab algn="l" pos="6264360"/>
                <a:tab algn="l" pos="6711840"/>
                <a:tab algn="l" pos="7159680"/>
                <a:tab algn="l" pos="7607160"/>
                <a:tab algn="l" pos="8055000"/>
                <a:tab algn="l" pos="8502480"/>
                <a:tab algn="l" pos="89503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t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759200" y="1581120"/>
            <a:ext cx="4500720" cy="46800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dc2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211800" y="3227400"/>
            <a:ext cx="1619280" cy="1440"/>
          </a:xfrm>
          <a:prstGeom prst="line">
            <a:avLst/>
          </a:prstGeom>
          <a:ln w="9360">
            <a:solidFill>
              <a:srgbClr val="d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299200" y="5181480"/>
            <a:ext cx="3419280" cy="1800"/>
          </a:xfrm>
          <a:prstGeom prst="line">
            <a:avLst/>
          </a:prstGeom>
          <a:ln w="9360">
            <a:solidFill>
              <a:srgbClr val="d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164640" y="2473200"/>
            <a:ext cx="172152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2300"/>
                </a:solidFill>
                <a:latin typeface="Arial"/>
              </a:rPr>
              <a:t>Corpor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2300"/>
                </a:solidFill>
                <a:latin typeface="Arial"/>
              </a:rPr>
              <a:t>350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20280" y="4038480"/>
            <a:ext cx="225648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d 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– 350 tech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867280" y="5468760"/>
            <a:ext cx="226116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50 tec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000" y="525600"/>
            <a:ext cx="90723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6040"/>
                <a:tab algn="l" pos="893880"/>
                <a:tab algn="l" pos="1341360"/>
                <a:tab algn="l" pos="1789200"/>
                <a:tab algn="l" pos="2236680"/>
                <a:tab algn="l" pos="2684520"/>
                <a:tab algn="l" pos="3132000"/>
                <a:tab algn="l" pos="3579840"/>
                <a:tab algn="l" pos="4027320"/>
                <a:tab algn="l" pos="4475160"/>
                <a:tab algn="l" pos="4923000"/>
                <a:tab algn="l" pos="5370480"/>
                <a:tab algn="l" pos="5818320"/>
                <a:tab algn="l" pos="6265800"/>
                <a:tab algn="l" pos="6713640"/>
                <a:tab algn="l" pos="7161120"/>
                <a:tab algn="l" pos="7608960"/>
                <a:tab algn="l" pos="8056440"/>
                <a:tab algn="l" pos="8504280"/>
                <a:tab algn="l" pos="895176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DSL Market Development P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7640" cy="27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4600"/>
                <a:tab algn="l" pos="892080"/>
                <a:tab algn="l" pos="1341360"/>
                <a:tab algn="l" pos="1787400"/>
                <a:tab algn="l" pos="2235240"/>
                <a:tab algn="l" pos="2682720"/>
                <a:tab algn="l" pos="3130560"/>
                <a:tab algn="l" pos="3578400"/>
                <a:tab algn="l" pos="4025880"/>
                <a:tab algn="l" pos="4473720"/>
                <a:tab algn="l" pos="4921200"/>
                <a:tab algn="l" pos="5369040"/>
                <a:tab algn="l" pos="5816520"/>
                <a:tab algn="l" pos="6264360"/>
                <a:tab algn="l" pos="6711840"/>
                <a:tab algn="l" pos="7159680"/>
                <a:tab algn="l" pos="7607160"/>
                <a:tab algn="l" pos="8055000"/>
                <a:tab algn="l" pos="8502480"/>
                <a:tab algn="l" pos="89503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d Market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4600"/>
                <a:tab algn="l" pos="892080"/>
                <a:tab algn="l" pos="1341360"/>
                <a:tab algn="l" pos="1787400"/>
                <a:tab algn="l" pos="2235240"/>
                <a:tab algn="l" pos="2682720"/>
                <a:tab algn="l" pos="3130560"/>
                <a:tab algn="l" pos="3578400"/>
                <a:tab algn="l" pos="4025880"/>
                <a:tab algn="l" pos="4473720"/>
                <a:tab algn="l" pos="4921200"/>
                <a:tab algn="l" pos="5369040"/>
                <a:tab algn="l" pos="5816520"/>
                <a:tab algn="l" pos="6264360"/>
                <a:tab algn="l" pos="6711840"/>
                <a:tab algn="l" pos="7159680"/>
                <a:tab algn="l" pos="7607160"/>
                <a:tab algn="l" pos="8055000"/>
                <a:tab algn="l" pos="8502480"/>
                <a:tab algn="l" pos="89503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umerous tar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4600"/>
                <a:tab algn="l" pos="892080"/>
                <a:tab algn="l" pos="1341360"/>
                <a:tab algn="l" pos="1787400"/>
                <a:tab algn="l" pos="2235240"/>
                <a:tab algn="l" pos="2682720"/>
                <a:tab algn="l" pos="3130560"/>
                <a:tab algn="l" pos="3578400"/>
                <a:tab algn="l" pos="4025880"/>
                <a:tab algn="l" pos="4473720"/>
                <a:tab algn="l" pos="4921200"/>
                <a:tab algn="l" pos="5369040"/>
                <a:tab algn="l" pos="5816520"/>
                <a:tab algn="l" pos="6264360"/>
                <a:tab algn="l" pos="6711840"/>
                <a:tab algn="l" pos="7159680"/>
                <a:tab algn="l" pos="7607160"/>
                <a:tab algn="l" pos="8055000"/>
                <a:tab algn="l" pos="8502480"/>
                <a:tab algn="l" pos="89503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 Siebel, SAP, Reme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4600"/>
                <a:tab algn="l" pos="892080"/>
                <a:tab algn="l" pos="1341360"/>
                <a:tab algn="l" pos="1787400"/>
                <a:tab algn="l" pos="2235240"/>
                <a:tab algn="l" pos="2682720"/>
                <a:tab algn="l" pos="3130560"/>
                <a:tab algn="l" pos="3578400"/>
                <a:tab algn="l" pos="4025880"/>
                <a:tab algn="l" pos="4473720"/>
                <a:tab algn="l" pos="4921200"/>
                <a:tab algn="l" pos="5369040"/>
                <a:tab algn="l" pos="5816520"/>
                <a:tab algn="l" pos="6264360"/>
                <a:tab algn="l" pos="6711840"/>
                <a:tab algn="l" pos="7159680"/>
                <a:tab algn="l" pos="7607160"/>
                <a:tab algn="l" pos="8055000"/>
                <a:tab algn="l" pos="8502480"/>
                <a:tab algn="l" pos="89503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 Microsoft scheduling o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444600"/>
                <a:tab algn="l" pos="892080"/>
                <a:tab algn="l" pos="1341360"/>
                <a:tab algn="l" pos="1787400"/>
                <a:tab algn="l" pos="2235240"/>
                <a:tab algn="l" pos="2682720"/>
                <a:tab algn="l" pos="3130560"/>
                <a:tab algn="l" pos="3578400"/>
                <a:tab algn="l" pos="4025880"/>
                <a:tab algn="l" pos="4473720"/>
                <a:tab algn="l" pos="4921200"/>
                <a:tab algn="l" pos="5369040"/>
                <a:tab algn="l" pos="5816520"/>
                <a:tab algn="l" pos="6264360"/>
                <a:tab algn="l" pos="6711840"/>
                <a:tab algn="l" pos="7159680"/>
                <a:tab algn="l" pos="7607160"/>
                <a:tab algn="l" pos="8055000"/>
                <a:tab algn="l" pos="8502480"/>
                <a:tab algn="l" pos="89503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444600"/>
                <a:tab algn="l" pos="892080"/>
                <a:tab algn="l" pos="1341360"/>
                <a:tab algn="l" pos="1787400"/>
                <a:tab algn="l" pos="2235240"/>
                <a:tab algn="l" pos="2682720"/>
                <a:tab algn="l" pos="3130560"/>
                <a:tab algn="l" pos="3578400"/>
                <a:tab algn="l" pos="4025880"/>
                <a:tab algn="l" pos="4473720"/>
                <a:tab algn="l" pos="4921200"/>
                <a:tab algn="l" pos="5369040"/>
                <a:tab algn="l" pos="5816520"/>
                <a:tab algn="l" pos="6264360"/>
                <a:tab algn="l" pos="6711840"/>
                <a:tab algn="l" pos="7159680"/>
                <a:tab algn="l" pos="7607160"/>
                <a:tab algn="l" pos="8055000"/>
                <a:tab algn="l" pos="8502480"/>
                <a:tab algn="l" pos="89503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836960" y="1601640"/>
            <a:ext cx="4500720" cy="46800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dc2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89560" y="3247920"/>
            <a:ext cx="1619280" cy="1800"/>
          </a:xfrm>
          <a:prstGeom prst="line">
            <a:avLst/>
          </a:prstGeom>
          <a:ln w="9360">
            <a:solidFill>
              <a:srgbClr val="d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76960" y="5202360"/>
            <a:ext cx="3419280" cy="1440"/>
          </a:xfrm>
          <a:prstGeom prst="line">
            <a:avLst/>
          </a:prstGeom>
          <a:ln w="9360">
            <a:solidFill>
              <a:srgbClr val="d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24920" y="2502000"/>
            <a:ext cx="14684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pora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50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7320" y="4114800"/>
            <a:ext cx="2154240" cy="7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c2300"/>
                </a:solidFill>
                <a:latin typeface="Arial"/>
              </a:rPr>
              <a:t>Mid Mark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c2300"/>
                </a:solidFill>
                <a:latin typeface="Arial"/>
              </a:rPr>
              <a:t>50 – 350 tech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936040" y="5554800"/>
            <a:ext cx="205992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Busi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50 tec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"/>
          <p:cNvGrpSpPr/>
          <p:nvPr/>
        </p:nvGrpSpPr>
        <p:grpSpPr>
          <a:xfrm>
            <a:off x="2286000" y="6324480"/>
            <a:ext cx="1440000" cy="758880"/>
            <a:chOff x="2286000" y="6324480"/>
            <a:chExt cx="1440000" cy="758880"/>
          </a:xfrm>
        </p:grpSpPr>
        <p:sp>
          <p:nvSpPr>
            <p:cNvPr id="73" name=""/>
            <p:cNvSpPr/>
            <p:nvPr/>
          </p:nvSpPr>
          <p:spPr>
            <a:xfrm>
              <a:off x="2286000" y="6324480"/>
              <a:ext cx="539280" cy="758880"/>
            </a:xfrm>
            <a:custGeom>
              <a:avLst/>
              <a:gdLst/>
              <a:ahLst/>
              <a:rect l="l" t="t" r="r" b="b"/>
              <a:pathLst>
                <a:path w="1501" h="2501">
                  <a:moveTo>
                    <a:pt x="0" y="0"/>
                  </a:moveTo>
                  <a:cubicBezTo>
                    <a:pt x="0" y="2000"/>
                    <a:pt x="1500" y="2500"/>
                    <a:pt x="1500" y="2500"/>
                  </a:cubicBezTo>
                </a:path>
              </a:pathLst>
            </a:custGeom>
            <a:noFill/>
            <a:ln w="36720">
              <a:solidFill>
                <a:srgbClr val="dc2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006000" y="6324480"/>
              <a:ext cx="720000" cy="758880"/>
            </a:xfrm>
            <a:custGeom>
              <a:avLst/>
              <a:gdLst/>
              <a:ahLst/>
              <a:rect l="l" t="t" r="r" b="b"/>
              <a:pathLst>
                <a:path w="2001" h="2501">
                  <a:moveTo>
                    <a:pt x="0" y="2500"/>
                  </a:moveTo>
                  <a:cubicBezTo>
                    <a:pt x="1500" y="2500"/>
                    <a:pt x="2000" y="0"/>
                    <a:pt x="2000" y="0"/>
                  </a:cubicBezTo>
                </a:path>
              </a:pathLst>
            </a:custGeom>
            <a:noFill/>
            <a:ln w="36720">
              <a:solidFill>
                <a:srgbClr val="dc2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5105520" y="6172200"/>
            <a:ext cx="1439280" cy="758880"/>
            <a:chOff x="5105520" y="6172200"/>
            <a:chExt cx="1439280" cy="758880"/>
          </a:xfrm>
        </p:grpSpPr>
        <p:sp>
          <p:nvSpPr>
            <p:cNvPr id="76" name=""/>
            <p:cNvSpPr/>
            <p:nvPr/>
          </p:nvSpPr>
          <p:spPr>
            <a:xfrm>
              <a:off x="5105520" y="6172200"/>
              <a:ext cx="538920" cy="758880"/>
            </a:xfrm>
            <a:custGeom>
              <a:avLst/>
              <a:gdLst/>
              <a:ahLst/>
              <a:rect l="l" t="t" r="r" b="b"/>
              <a:pathLst>
                <a:path w="1501" h="2501">
                  <a:moveTo>
                    <a:pt x="0" y="0"/>
                  </a:moveTo>
                  <a:cubicBezTo>
                    <a:pt x="0" y="2000"/>
                    <a:pt x="1500" y="2500"/>
                    <a:pt x="1500" y="2500"/>
                  </a:cubicBezTo>
                </a:path>
              </a:pathLst>
            </a:custGeom>
            <a:noFill/>
            <a:ln w="36720">
              <a:solidFill>
                <a:srgbClr val="dc2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825160" y="6172200"/>
              <a:ext cx="719640" cy="758880"/>
            </a:xfrm>
            <a:custGeom>
              <a:avLst/>
              <a:gdLst/>
              <a:ahLst/>
              <a:rect l="l" t="t" r="r" b="b"/>
              <a:pathLst>
                <a:path w="2001" h="2501">
                  <a:moveTo>
                    <a:pt x="0" y="2500"/>
                  </a:moveTo>
                  <a:cubicBezTo>
                    <a:pt x="1500" y="2500"/>
                    <a:pt x="2000" y="0"/>
                    <a:pt x="2000" y="0"/>
                  </a:cubicBezTo>
                </a:path>
              </a:pathLst>
            </a:custGeom>
            <a:noFill/>
            <a:ln w="36720">
              <a:solidFill>
                <a:srgbClr val="dc2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914400" y="5486400"/>
            <a:ext cx="1440000" cy="758880"/>
            <a:chOff x="914400" y="5486400"/>
            <a:chExt cx="1440000" cy="758880"/>
          </a:xfrm>
        </p:grpSpPr>
        <p:sp>
          <p:nvSpPr>
            <p:cNvPr id="79" name=""/>
            <p:cNvSpPr/>
            <p:nvPr/>
          </p:nvSpPr>
          <p:spPr>
            <a:xfrm>
              <a:off x="914400" y="5486400"/>
              <a:ext cx="538920" cy="758880"/>
            </a:xfrm>
            <a:custGeom>
              <a:avLst/>
              <a:gdLst/>
              <a:ahLst/>
              <a:rect l="l" t="t" r="r" b="b"/>
              <a:pathLst>
                <a:path w="1501" h="2501">
                  <a:moveTo>
                    <a:pt x="0" y="0"/>
                  </a:moveTo>
                  <a:cubicBezTo>
                    <a:pt x="0" y="2000"/>
                    <a:pt x="1500" y="2500"/>
                    <a:pt x="1500" y="2500"/>
                  </a:cubicBezTo>
                </a:path>
              </a:pathLst>
            </a:custGeom>
            <a:noFill/>
            <a:ln w="36720">
              <a:solidFill>
                <a:srgbClr val="dc2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634400" y="5486400"/>
              <a:ext cx="720000" cy="758880"/>
            </a:xfrm>
            <a:custGeom>
              <a:avLst/>
              <a:gdLst/>
              <a:ahLst/>
              <a:rect l="l" t="t" r="r" b="b"/>
              <a:pathLst>
                <a:path w="2001" h="2501">
                  <a:moveTo>
                    <a:pt x="0" y="2500"/>
                  </a:moveTo>
                  <a:cubicBezTo>
                    <a:pt x="1500" y="2500"/>
                    <a:pt x="2000" y="0"/>
                    <a:pt x="2000" y="0"/>
                  </a:cubicBezTo>
                </a:path>
              </a:pathLst>
            </a:custGeom>
            <a:noFill/>
            <a:ln w="36720">
              <a:solidFill>
                <a:srgbClr val="dc2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3733920" y="5334120"/>
            <a:ext cx="1439280" cy="758880"/>
            <a:chOff x="3733920" y="5334120"/>
            <a:chExt cx="1439280" cy="758880"/>
          </a:xfrm>
        </p:grpSpPr>
        <p:sp>
          <p:nvSpPr>
            <p:cNvPr id="82" name=""/>
            <p:cNvSpPr/>
            <p:nvPr/>
          </p:nvSpPr>
          <p:spPr>
            <a:xfrm>
              <a:off x="3733920" y="5334120"/>
              <a:ext cx="538920" cy="758880"/>
            </a:xfrm>
            <a:custGeom>
              <a:avLst/>
              <a:gdLst/>
              <a:ahLst/>
              <a:rect l="l" t="t" r="r" b="b"/>
              <a:pathLst>
                <a:path w="1501" h="2501">
                  <a:moveTo>
                    <a:pt x="0" y="0"/>
                  </a:moveTo>
                  <a:cubicBezTo>
                    <a:pt x="0" y="2000"/>
                    <a:pt x="1500" y="2500"/>
                    <a:pt x="1500" y="2500"/>
                  </a:cubicBezTo>
                </a:path>
              </a:pathLst>
            </a:custGeom>
            <a:noFill/>
            <a:ln w="36720">
              <a:solidFill>
                <a:srgbClr val="dc2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453560" y="5334120"/>
              <a:ext cx="719640" cy="758880"/>
            </a:xfrm>
            <a:custGeom>
              <a:avLst/>
              <a:gdLst/>
              <a:ahLst/>
              <a:rect l="l" t="t" r="r" b="b"/>
              <a:pathLst>
                <a:path w="2001" h="2501">
                  <a:moveTo>
                    <a:pt x="0" y="2500"/>
                  </a:moveTo>
                  <a:cubicBezTo>
                    <a:pt x="1500" y="2500"/>
                    <a:pt x="2000" y="0"/>
                    <a:pt x="2000" y="0"/>
                  </a:cubicBezTo>
                </a:path>
              </a:pathLst>
            </a:custGeom>
            <a:noFill/>
            <a:ln w="36720">
              <a:solidFill>
                <a:srgbClr val="dc2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4319640" y="2698920"/>
            <a:ext cx="5219640" cy="1440"/>
          </a:xfrm>
          <a:prstGeom prst="line">
            <a:avLst/>
          </a:prstGeom>
          <a:ln w="36000">
            <a:solidFill>
              <a:srgbClr val="dc2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00000" y="2160720"/>
            <a:ext cx="5940360" cy="1440"/>
          </a:xfrm>
          <a:prstGeom prst="line">
            <a:avLst/>
          </a:prstGeom>
          <a:ln w="36000">
            <a:solidFill>
              <a:srgbClr val="dc2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3809880"/>
            <a:ext cx="450072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Mid Market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oal: Inception to invoice 4 mon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53280" y="4495680"/>
            <a:ext cx="1260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1000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539640"/>
            <a:ext cx="37800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Corpor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eption to invoice 12-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199280" y="1979640"/>
            <a:ext cx="1800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$750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209680"/>
            <a:ext cx="16765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40360" y="2879640"/>
            <a:ext cx="14396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119320" y="5040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0" y="502920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86400" y="50292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11320" y="6172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707160" y="6172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6324480" y="5257800"/>
            <a:ext cx="1440000" cy="758880"/>
            <a:chOff x="6324480" y="5257800"/>
            <a:chExt cx="1440000" cy="758880"/>
          </a:xfrm>
        </p:grpSpPr>
        <p:sp>
          <p:nvSpPr>
            <p:cNvPr id="98" name=""/>
            <p:cNvSpPr/>
            <p:nvPr/>
          </p:nvSpPr>
          <p:spPr>
            <a:xfrm>
              <a:off x="6324480" y="5257800"/>
              <a:ext cx="538920" cy="758880"/>
            </a:xfrm>
            <a:custGeom>
              <a:avLst/>
              <a:gdLst/>
              <a:ahLst/>
              <a:rect l="l" t="t" r="r" b="b"/>
              <a:pathLst>
                <a:path w="1501" h="2501">
                  <a:moveTo>
                    <a:pt x="0" y="0"/>
                  </a:moveTo>
                  <a:cubicBezTo>
                    <a:pt x="0" y="2000"/>
                    <a:pt x="1500" y="2500"/>
                    <a:pt x="1500" y="2500"/>
                  </a:cubicBezTo>
                </a:path>
              </a:pathLst>
            </a:custGeom>
            <a:noFill/>
            <a:ln w="36720">
              <a:solidFill>
                <a:srgbClr val="dc2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44480" y="5257800"/>
              <a:ext cx="720000" cy="758880"/>
            </a:xfrm>
            <a:custGeom>
              <a:avLst/>
              <a:gdLst/>
              <a:ahLst/>
              <a:rect l="l" t="t" r="r" b="b"/>
              <a:pathLst>
                <a:path w="2001" h="2501">
                  <a:moveTo>
                    <a:pt x="0" y="2500"/>
                  </a:moveTo>
                  <a:cubicBezTo>
                    <a:pt x="1500" y="2500"/>
                    <a:pt x="2000" y="0"/>
                    <a:pt x="2000" y="0"/>
                  </a:cubicBezTo>
                </a:path>
              </a:pathLst>
            </a:custGeom>
            <a:noFill/>
            <a:ln w="36720">
              <a:solidFill>
                <a:srgbClr val="dc2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7986600" y="5116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622840" y="1266840"/>
            <a:ext cx="4291200" cy="3521160"/>
          </a:xfrm>
          <a:prstGeom prst="ellipse">
            <a:avLst/>
          </a:prstGeom>
          <a:noFill/>
          <a:ln w="22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72960" y="189360"/>
            <a:ext cx="9072720" cy="5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6040"/>
                <a:tab algn="l" pos="893880"/>
                <a:tab algn="l" pos="1341360"/>
                <a:tab algn="l" pos="1789200"/>
                <a:tab algn="l" pos="2236680"/>
                <a:tab algn="l" pos="2684520"/>
                <a:tab algn="l" pos="3132000"/>
                <a:tab algn="l" pos="3579840"/>
                <a:tab algn="l" pos="4027320"/>
                <a:tab algn="l" pos="4475160"/>
                <a:tab algn="l" pos="4923000"/>
                <a:tab algn="l" pos="5370480"/>
                <a:tab algn="l" pos="5818320"/>
                <a:tab algn="l" pos="6265800"/>
                <a:tab algn="l" pos="6713640"/>
                <a:tab algn="l" pos="7161120"/>
                <a:tab algn="l" pos="7608960"/>
                <a:tab algn="l" pos="8056440"/>
                <a:tab algn="l" pos="8504280"/>
                <a:tab algn="l" pos="895176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  <a:ea typeface="Arial Unicode MS"/>
              </a:rPr>
              <a:t>DSL Market Segmentation Pl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2200" y="971640"/>
            <a:ext cx="4136760" cy="62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Bundel:</a:t>
            </a: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 - integrated SMS + S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ndeled with Sun HW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ndled Price: $150k - $200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ve in 6 wee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Optional add ons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eld Service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STRiX ER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Repa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Reca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Pa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Ord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Ledg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Et 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902200" y="1752480"/>
            <a:ext cx="3733920" cy="38124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SL  S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578720" y="21700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902200" y="2573280"/>
            <a:ext cx="3733920" cy="38088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 Schedu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11480" y="29908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02200" y="3394080"/>
            <a:ext cx="373392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n Hardware Opte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39000" y="5467320"/>
            <a:ext cx="3733560" cy="380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25960" y="544032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STRiX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pair, Parts, Recalls, ER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39000" y="6229440"/>
            <a:ext cx="3733560" cy="3808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eld Service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747920" y="58482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902200" y="4216320"/>
            <a:ext cx="3733920" cy="38124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fessional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11480" y="38116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000" y="525600"/>
            <a:ext cx="90723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6040"/>
                <a:tab algn="l" pos="893880"/>
                <a:tab algn="l" pos="1341360"/>
                <a:tab algn="l" pos="1789200"/>
                <a:tab algn="l" pos="2236680"/>
                <a:tab algn="l" pos="2684520"/>
                <a:tab algn="l" pos="3132000"/>
                <a:tab algn="l" pos="3579840"/>
                <a:tab algn="l" pos="4027320"/>
                <a:tab algn="l" pos="4475160"/>
                <a:tab algn="l" pos="4923000"/>
                <a:tab algn="l" pos="5370480"/>
                <a:tab algn="l" pos="5818320"/>
                <a:tab algn="l" pos="6265800"/>
                <a:tab algn="l" pos="6713640"/>
                <a:tab algn="l" pos="7161120"/>
                <a:tab algn="l" pos="7608960"/>
                <a:tab algn="l" pos="8056440"/>
                <a:tab algn="l" pos="8504280"/>
                <a:tab algn="l" pos="895176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DSL Market Development P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7640" cy="36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4600"/>
                <a:tab algn="l" pos="892080"/>
                <a:tab algn="l" pos="1341360"/>
                <a:tab algn="l" pos="1787400"/>
                <a:tab algn="l" pos="2235240"/>
                <a:tab algn="l" pos="2682720"/>
                <a:tab algn="l" pos="3130560"/>
                <a:tab algn="l" pos="3578400"/>
                <a:tab algn="l" pos="4025880"/>
                <a:tab algn="l" pos="4473720"/>
                <a:tab algn="l" pos="4921200"/>
                <a:tab algn="l" pos="5369040"/>
                <a:tab algn="l" pos="5816520"/>
                <a:tab algn="l" pos="6264360"/>
                <a:tab algn="l" pos="6711840"/>
                <a:tab algn="l" pos="7159680"/>
                <a:tab algn="l" pos="7607160"/>
                <a:tab algn="l" pos="8055000"/>
                <a:tab algn="l" pos="8502480"/>
                <a:tab algn="l" pos="89503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mall Business: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4600"/>
                <a:tab algn="l" pos="892080"/>
                <a:tab algn="l" pos="1341360"/>
                <a:tab algn="l" pos="1787400"/>
                <a:tab algn="l" pos="2235240"/>
                <a:tab algn="l" pos="2682720"/>
                <a:tab algn="l" pos="3130560"/>
                <a:tab algn="l" pos="3578400"/>
                <a:tab algn="l" pos="4025880"/>
                <a:tab algn="l" pos="4473720"/>
                <a:tab algn="l" pos="4921200"/>
                <a:tab algn="l" pos="5369040"/>
                <a:tab algn="l" pos="5816520"/>
                <a:tab algn="l" pos="6264360"/>
                <a:tab algn="l" pos="6711840"/>
                <a:tab algn="l" pos="7159680"/>
                <a:tab algn="l" pos="7607160"/>
                <a:tab algn="l" pos="8055000"/>
                <a:tab algn="l" pos="8502480"/>
                <a:tab algn="l" pos="89503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y Targe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4600"/>
                <a:tab algn="l" pos="892080"/>
                <a:tab algn="l" pos="1341360"/>
                <a:tab algn="l" pos="1787400"/>
                <a:tab algn="l" pos="2235240"/>
                <a:tab algn="l" pos="2682720"/>
                <a:tab algn="l" pos="3130560"/>
                <a:tab algn="l" pos="3578400"/>
                <a:tab algn="l" pos="4025880"/>
                <a:tab algn="l" pos="4473720"/>
                <a:tab algn="l" pos="4921200"/>
                <a:tab algn="l" pos="5369040"/>
                <a:tab algn="l" pos="5816520"/>
                <a:tab algn="l" pos="6264360"/>
                <a:tab algn="l" pos="6711840"/>
                <a:tab algn="l" pos="7159680"/>
                <a:tab algn="l" pos="7607160"/>
                <a:tab algn="l" pos="8055000"/>
                <a:tab algn="l" pos="8502480"/>
                <a:tab algn="l" pos="89503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 integrated S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4600"/>
                <a:tab algn="l" pos="892080"/>
                <a:tab algn="l" pos="1341360"/>
                <a:tab algn="l" pos="1787400"/>
                <a:tab algn="l" pos="2235240"/>
                <a:tab algn="l" pos="2682720"/>
                <a:tab algn="l" pos="3130560"/>
                <a:tab algn="l" pos="3578400"/>
                <a:tab algn="l" pos="4025880"/>
                <a:tab algn="l" pos="4473720"/>
                <a:tab algn="l" pos="4921200"/>
                <a:tab algn="l" pos="5369040"/>
                <a:tab algn="l" pos="5816520"/>
                <a:tab algn="l" pos="6264360"/>
                <a:tab algn="l" pos="6711840"/>
                <a:tab algn="l" pos="7159680"/>
                <a:tab algn="l" pos="7607160"/>
                <a:tab algn="l" pos="8055000"/>
                <a:tab algn="l" pos="8502480"/>
                <a:tab algn="l" pos="89503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ttle Scope for Optimiz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4600"/>
                <a:tab algn="l" pos="892080"/>
                <a:tab algn="l" pos="1341360"/>
                <a:tab algn="l" pos="1787400"/>
                <a:tab algn="l" pos="2235240"/>
                <a:tab algn="l" pos="2682720"/>
                <a:tab algn="l" pos="3130560"/>
                <a:tab algn="l" pos="3578400"/>
                <a:tab algn="l" pos="4025880"/>
                <a:tab algn="l" pos="4473720"/>
                <a:tab algn="l" pos="4921200"/>
                <a:tab algn="l" pos="5369040"/>
                <a:tab algn="l" pos="5816520"/>
                <a:tab algn="l" pos="6264360"/>
                <a:tab algn="l" pos="6711840"/>
                <a:tab algn="l" pos="7159680"/>
                <a:tab algn="l" pos="7607160"/>
                <a:tab algn="l" pos="8055000"/>
                <a:tab algn="l" pos="8502480"/>
                <a:tab algn="l" pos="89503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ll Char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4600"/>
                <a:tab algn="l" pos="892080"/>
                <a:tab algn="l" pos="1341360"/>
                <a:tab algn="l" pos="1787400"/>
                <a:tab algn="l" pos="2235240"/>
                <a:tab algn="l" pos="2682720"/>
                <a:tab algn="l" pos="3130560"/>
                <a:tab algn="l" pos="3578400"/>
                <a:tab algn="l" pos="4025880"/>
                <a:tab algn="l" pos="4473720"/>
                <a:tab algn="l" pos="4921200"/>
                <a:tab algn="l" pos="5369040"/>
                <a:tab algn="l" pos="5816520"/>
                <a:tab algn="l" pos="6264360"/>
                <a:tab algn="l" pos="6711840"/>
                <a:tab algn="l" pos="7159680"/>
                <a:tab algn="l" pos="7607160"/>
                <a:tab algn="l" pos="8055000"/>
                <a:tab algn="l" pos="8502480"/>
                <a:tab algn="l" pos="89503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lend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4600"/>
                <a:tab algn="l" pos="892080"/>
                <a:tab algn="l" pos="1341360"/>
                <a:tab algn="l" pos="1787400"/>
                <a:tab algn="l" pos="2235240"/>
                <a:tab algn="l" pos="2682720"/>
                <a:tab algn="l" pos="3130560"/>
                <a:tab algn="l" pos="3578400"/>
                <a:tab algn="l" pos="4025880"/>
                <a:tab algn="l" pos="4473720"/>
                <a:tab algn="l" pos="4921200"/>
                <a:tab algn="l" pos="5369040"/>
                <a:tab algn="l" pos="5816520"/>
                <a:tab algn="l" pos="6264360"/>
                <a:tab algn="l" pos="6711840"/>
                <a:tab algn="l" pos="7159680"/>
                <a:tab algn="l" pos="7607160"/>
                <a:tab algn="l" pos="8055000"/>
                <a:tab algn="l" pos="8502480"/>
                <a:tab algn="l" pos="89503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ig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4600"/>
                <a:tab algn="l" pos="892080"/>
                <a:tab algn="l" pos="1341360"/>
                <a:tab algn="l" pos="1787400"/>
                <a:tab algn="l" pos="2235240"/>
                <a:tab algn="l" pos="2682720"/>
                <a:tab algn="l" pos="3130560"/>
                <a:tab algn="l" pos="3578400"/>
                <a:tab algn="l" pos="4025880"/>
                <a:tab algn="l" pos="4473720"/>
                <a:tab algn="l" pos="4921200"/>
                <a:tab algn="l" pos="5369040"/>
                <a:tab algn="l" pos="5816520"/>
                <a:tab algn="l" pos="6264360"/>
                <a:tab algn="l" pos="6711840"/>
                <a:tab algn="l" pos="7159680"/>
                <a:tab algn="l" pos="7607160"/>
                <a:tab algn="l" pos="8055000"/>
                <a:tab algn="l" pos="8502480"/>
                <a:tab algn="l" pos="89503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w rew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40120" y="1504800"/>
            <a:ext cx="4500720" cy="46800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dc2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92720" y="3151080"/>
            <a:ext cx="1619280" cy="1800"/>
          </a:xfrm>
          <a:prstGeom prst="line">
            <a:avLst/>
          </a:prstGeom>
          <a:ln w="9360">
            <a:solidFill>
              <a:srgbClr val="d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280120" y="5105520"/>
            <a:ext cx="3419280" cy="1440"/>
          </a:xfrm>
          <a:prstGeom prst="line">
            <a:avLst/>
          </a:prstGeom>
          <a:ln w="9360">
            <a:solidFill>
              <a:srgbClr val="d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321960" y="2438280"/>
            <a:ext cx="138456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pora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50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168960" y="3962520"/>
            <a:ext cx="192096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d Mar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 – 350 tech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810400" y="5392800"/>
            <a:ext cx="24332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2300"/>
                </a:solidFill>
                <a:latin typeface="Arial"/>
              </a:rPr>
              <a:t>Small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2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dc2300"/>
                </a:solidFill>
                <a:latin typeface="Arial"/>
              </a:rPr>
              <a:t>&lt;50 tec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incent Jacobs</cp:lastModifiedBy>
  <dcterms:modified xsi:type="dcterms:W3CDTF">2005-03-08T22:05:56Z</dcterms:modified>
  <cp:revision>9</cp:revision>
  <dc:subject/>
  <dc:title>DSL Market Segmentation Plan</dc:title>
</cp:coreProperties>
</file>