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D376-CE40-44AB-99D7-E6AB97FA4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468A-DF6D-403C-8EAA-E7064CF20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818F-6E8C-498C-A1E8-BF2CC0AF2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B546-D3D9-430A-AC7D-B2FE40EAB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3AC3-22E6-44D3-BA86-1A8D72F7C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BF8D-0952-4CE5-BC2A-EE6E8DCD8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2090-9FED-45F9-A910-E7502712C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D42B-494A-4768-BC66-46E95AF53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F912-2931-43C4-9BBD-39D53E014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5E0A-C2CE-44FE-BF1F-37CE2519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E9E0-BA96-46C1-8D7B-26FC3DB9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2280-2DB2-499A-9DC6-FDA8FAE9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97D611-9E2D-4A64-BE60-936A9F391147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14640" y="1976400"/>
            <a:ext cx="3780000" cy="3635280"/>
          </a:xfrm>
          <a:custGeom>
            <a:avLst/>
            <a:gdLst>
              <a:gd name="textAreaLeft" fmla="*/ 0 w 3780000"/>
              <a:gd name="textAreaRight" fmla="*/ 3780360 w 3780000"/>
              <a:gd name="textAreaTop" fmla="*/ 0 h 3635280"/>
              <a:gd name="textAreaBottom" fmla="*/ 3635640 h 36352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3966" y="10934"/>
                </a:lnTo>
                <a:lnTo>
                  <a:pt x="13600" y="10800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6T02:41:57Z</dcterms:created>
  <dc:creator>John Floyd</dc:creator>
  <dc:description/>
  <dc:language>en-US</dc:language>
  <cp:lastModifiedBy>John Floyd</cp:lastModifiedBy>
  <dcterms:modified xsi:type="dcterms:W3CDTF">2013-09-26T02:43:47Z</dcterms:modified>
  <cp:revision>1</cp:revision>
  <dc:subject/>
  <dc:title/>
</cp:coreProperties>
</file>