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4EF0-4FAF-4FBE-A7F0-4FF3F0FC5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58D1-CAFE-42F3-B925-21C630A4C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237E-FFBE-4DB6-844E-C512BDC39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124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300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124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300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E299-4522-4FDB-9B0F-5F31998E4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375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A7E1-F09D-489B-84D3-F0B3FEF06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124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300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124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300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4F8E-E328-4B15-A2B3-A0EAEB44A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A4E5-BC24-45C4-94DE-5ABAA3A0D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E427-7427-45DD-AAC6-33D3343C5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375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898B-91E5-4659-B949-4402FCD91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4246-6804-47CC-B5E5-DE377D671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9119-DE12-45F4-8CA4-F805795F1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F21B-5185-4023-BDE7-8029018C8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80000"/>
            <a:ext cx="1898640" cy="5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84B78-2D3F-4863-9C89-3744240DC2A2}" type="slidenum">
              <a:rPr b="0" lang="de-DE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37520" cy="15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65680" y="1697040"/>
                <a:ext cx="248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 out of 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53000" y="3159000"/>
            <a:ext cx="2619360" cy="80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19640" y="2424240"/>
            <a:ext cx="3228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uld render like th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9AA8-5D23-4ADF-B73B-DE011349BDF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8:47:06Z</dcterms:created>
  <dc:creator/>
  <dc:description/>
  <dc:language>en-US</dc:language>
  <cp:lastModifiedBy/>
  <cp:revision>1</cp:revision>
  <dc:subject/>
  <dc:title>Minimal Example</dc:title>
</cp:coreProperties>
</file>