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75133-C7E4-4D24-B35B-001078DE00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74680" y="695160"/>
            <a:ext cx="46371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69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EE9-0AD1-4F59-8619-9515D6C2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BC7-973F-4DCC-BC8F-10586AA8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5A2-CD7C-49D0-A0E5-55B57136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7D9-8ABA-4A0E-8837-E65FE32F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54C-6B1F-41AE-86C4-D4335791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2EC-A41B-40AC-AECD-5B3CC923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0D7-2B6E-4F78-B5AF-9640F165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144-7CE4-4DF4-A9B4-E5D3FE89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757-77B9-4776-ACCA-BB709CAD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03D-A1A7-4AE8-8D73-1C1EEEF6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718-E13D-405E-A41B-643F0A5F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7D7-D57B-4019-8FBB-2899384C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pdated 10/7/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C25DE-FF8F-4D57-B7ED-5AA18D618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533520"/>
            <a:ext cx="7772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9480" y="1220760"/>
          <a:ext cx="800280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20760"/>
                    <a:ext cx="800280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D</cp:lastModifiedBy>
  <dcterms:modified xsi:type="dcterms:W3CDTF">2005-10-12T17:38:02Z</dcterms:modified>
  <cp:revision>3</cp:revision>
  <dc:subject/>
  <dc:title>No Slide Title</dc:title>
</cp:coreProperties>
</file>