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E7F-B96A-47A1-9482-6796E40A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21C-7333-46B1-90DA-306B6771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0DD-BE24-4CF0-A89D-10DDBE30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AF9-C599-4BF5-9D68-548B4428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09A-0A1F-4432-87D5-FE8C3835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7A3-3243-46C0-8CA7-45A040C5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7A6-8E79-482F-856D-C4604883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13A-947E-4D08-B93E-A8399741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ABA-DFB7-4450-AA8B-74A90229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644-754A-46B2-AEFA-D44E824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C87-D32E-467D-88A3-B91C360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F06-D574-41BF-ACE6-3647A33B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8EF9-7EC4-4A57-83E9-7BEFF8C1B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184464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8-02T02:05:44Z</dcterms:modified>
  <cp:revision>9</cp:revision>
  <dc:subject/>
  <dc:title>PowerPoint Presentation</dc:title>
</cp:coreProperties>
</file>