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72072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640" y="72072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67120" y="8876880"/>
            <a:ext cx="2971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AQ's: "aiotteko lisensoida tämän?" - herättänyt mielenkiintoa konsultointi- ja rahoittajapiirei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GA's: "kyllä vain, mutta ensiksi etsimme pilotti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AQ's: "aiotteko lisensoida tämän?" - herättänyt mielenkiintoa konsultointi- ja rahoittajapiirei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GA's: "kyllä vain, mutta ensiksi etsimme pilotti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AQ's: "aiotteko lisensoida tämän?" - herättänyt mielenkiintoa konsultointi- ja rahoittajapiirei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GA's: "kyllä vain, mutta ensiksi etsimme pilotti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AQ's: "aiotteko lisensoida tämän?" - herättänyt mielenkiintoa konsultointi- ja rahoittajapiirei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GA's: "kyllä vain, mutta ensiksi etsimme pilotti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otain mitä mm. muuan U-niminen firma olisi tarvinnut aikoin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otain mitä muuan LTY-professori on sanonut, eli että teknologiayrityksen kehittämiseen ei ole olemassa tarjont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n ideasta allikkoon -putkia (Rags-to-Riches-to-Gutter putkia), mutta ei välinettä olemassa olevalle yrityks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in strateginen suunnittelu ei johda muuhun kuin tekstidokumenttiin, jonka sisällöstä kukaan ei tiedä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ikä siinä ei ole muutenkaan mitään linkkiä toteutuk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artrail on jotain ihan mu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onsultti ei tule ja kaada viisautta saavi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"konsultin ei tarvitse osata mitään" (paitsi heiluttaa tahtipuikko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uutosvastarinta voi olla joskus sitä, että ihmiset tosiaan vastustavat muuto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in on kyse enemmänkin siitä, että uusien asioiden merkitystä ja vaikutusta ei mielletä eikä sitä, mitä se kultakin edellyttä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essioissa on selvä ohjelma, minkä mukaan edetää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anläheiset työtav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ussakin päädytään toimenpide-ehdotuksi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iistä kiireisimmät saa panna menemään heti, vaikka tuolla lopussa todetaankin, että "tuloksena on toimenpidesuunnitelm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un asia on tuttu itselle, sitä tulee myyneeksi työtoverillekin - ellei tämä ollut mukana itse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nsimmäisessä sessiossa vapaan ja kysymyslistalla autetun assosioinnin ja ideoinnin avulla luetellaan firmaa koskevia asioita, ryhmitellään ne SWOTiksi, verrataaan ylä-ja alarivin ruutuja pareina ja saadaan ROAD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isessa sessiossa tehdään BCG-matriisi ja katsotaan, ovatko lehmät, koirat, tähdet ja kysymysmerkit ojennuksessa ROADien kan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olmannessa katsotaan, mikä koko armeijan strateginen ROAD-suunta on, verrattuna siihen, että edelliset olivat yksittäisiä operaatioita; tämä tehdään Strategiatimantilla, kysymyslistan peruste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eljännessä katsotaan, minne armeija voi päätyä, jos jatkaa nykysuunnassa - tai suunnassa, jonne kurssi on päätetty muutt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idennessä kerätään yksittäisiä lausuntoja siitä, mitä halutaan tehdä ja millaisia halutaan olla, seulotaan niistä yhteinen mielipide, ja kootaan ajatukset dokumentik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uudennessa otetaan edellinen dokumentti, valitaan siitä pääteemat ja katsotaan, millä toimenpiteillä ne pannaan todek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imeistään tässä vaiheessa on koossa joukko strategisia opti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ämä nyt vain on esimerk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oka kerran alettaan kertaamalla, mitä tähän mennessä on tapahtun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ämä on sarjassa toinen ses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yövälineenä on BCG portfolio, mutta sitä verrataan swot-tuloksiin ja niistä johdettuihin toimenpiteisiin, niin kuin jäljempänä nähdää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uossa näkyy se kaava, jolla keksitään niitä uusia toimia ja tehdään niille alustava arvio toteutuks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iireisimmät saa panna liikkeelle viivyttelemätt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aikkea ei ehdi tekemään heti - niille suunnite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ojektikaavalla ohjelmaa läpiviemään - seurantaryhmän (ohjaus-, valvonta-, johtoryhmä) alaisuude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iille joille ajatus projekteista ei ole tuttu, voidaan tarjota rinnakkaisena tuotteena 7train-projektikoulutusta ja -konsultoi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ikkorytmi toimien uudelleen suuntaamis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k-raportti tilannekatsausta ja jatkon arviointia v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ymmetrian vuoksi, kvartaalikokous päätöksistä (saa olla muuk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396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iille joille ajatus projekteista ei ole tuttu, voidaan tarjota rinnakkaisena tuotteena 7train-projektikoulutusta ja -konsultoi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ikkorytmi toimien uudelleen suuntaamis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k-raportti tilannekatsausta ja jatkon arviointia v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3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081080"/>
                <a:tab algn="l" pos="1995480"/>
                <a:tab algn="l" pos="2909880"/>
                <a:tab algn="l" pos="3824280"/>
                <a:tab algn="l" pos="4738680"/>
                <a:tab algn="l" pos="5653080"/>
                <a:tab algn="l" pos="6567480"/>
                <a:tab algn="l" pos="7481880"/>
                <a:tab algn="l" pos="8396280"/>
                <a:tab algn="l" pos="9310680"/>
                <a:tab algn="l" pos="102250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ymmetrian vuoksi, kvartaalikokous päätöksistä (saa olla muuk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5280" y="455976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84380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312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5096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528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5312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15096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280" y="2015640"/>
            <a:ext cx="7978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936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7978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8000" y="472680"/>
            <a:ext cx="77263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9360" indent="-27936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5280" y="2015640"/>
            <a:ext cx="7978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936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4380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280" y="455976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4380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312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0960" y="201564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28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5312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0960" y="4559760"/>
            <a:ext cx="2568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7978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08000" y="472680"/>
            <a:ext cx="77263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9360" indent="-27936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43800" y="455976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3800" y="2015640"/>
            <a:ext cx="38934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4559760"/>
            <a:ext cx="797868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 rot="10800000">
            <a:off x="1440" y="3240"/>
            <a:ext cx="10164960" cy="763416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1679400" y="1539720"/>
            <a:ext cx="6720120" cy="44802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923760"/>
            <a:ext cx="588960" cy="839880"/>
          </a:xfrm>
          <a:custGeom>
            <a:avLst/>
            <a:gdLst>
              <a:gd name="textAreaLeft" fmla="*/ 360 w 588960"/>
              <a:gd name="textAreaRight" fmla="*/ 588600 w 588960"/>
              <a:gd name="textAreaTop" fmla="*/ 360 h 839880"/>
              <a:gd name="textAreaBottom" fmla="*/ 839520 h 839880"/>
            </a:gdLst>
            <a:ahLst/>
            <a:rect l="textAreaLeft" t="textAreaTop" r="textAreaRight" b="textAreaBottom"/>
            <a:pathLst>
              <a:path w="21600" h="30797">
                <a:moveTo>
                  <a:pt x="58" y="0"/>
                </a:moveTo>
                <a:arcTo wR="58" hR="58" stAng="16200000" swAng="-5400000"/>
                <a:lnTo>
                  <a:pt x="0" y="30739"/>
                </a:lnTo>
                <a:arcTo wR="58" hR="58" stAng="10800000" swAng="-5400000"/>
                <a:lnTo>
                  <a:pt x="21542" y="30797"/>
                </a:lnTo>
                <a:arcTo wR="58" hR="58" stAng="5400000" swAng="-5400000"/>
                <a:lnTo>
                  <a:pt x="21600" y="58"/>
                </a:lnTo>
                <a:arcTo wR="58" hR="58" stAng="0" swAng="-5400000"/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334800"/>
            <a:ext cx="10080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63140f"/>
              </a:gs>
              <a:gs pos="100000">
                <a:srgbClr val="d72d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1512720" cy="504720"/>
          </a:xfrm>
          <a:prstGeom prst="roundRect">
            <a:avLst>
              <a:gd name="adj" fmla="val 310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0120" y="7130880"/>
            <a:ext cx="7727760" cy="1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34920" y="6962760"/>
            <a:ext cx="336600" cy="308160"/>
          </a:xfrm>
          <a:prstGeom prst="ellipse">
            <a:avLst/>
          </a:prstGeom>
          <a:gradFill rotWithShape="0">
            <a:gsLst>
              <a:gs pos="0">
                <a:srgbClr val="63140f"/>
              </a:gs>
              <a:gs pos="50000">
                <a:srgbClr val="d72d21"/>
              </a:gs>
              <a:gs pos="100000">
                <a:srgbClr val="6314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37800" y="1509840"/>
            <a:ext cx="826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e6e6ff"/>
                </a:solidFill>
                <a:latin typeface="Arial Narrow"/>
              </a:rPr>
              <a:t>S</a:t>
            </a:r>
            <a:r>
              <a:rPr b="0" lang="en-GB" sz="1400" spc="-1" strike="noStrike">
                <a:solidFill>
                  <a:srgbClr val="e6e6ff"/>
                </a:solidFill>
                <a:latin typeface="Arial Narrow"/>
              </a:rPr>
              <a:t>TARTR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63640"/>
            <a:ext cx="8313840" cy="87480"/>
          </a:xfrm>
          <a:prstGeom prst="roundRect">
            <a:avLst>
              <a:gd name="adj" fmla="val 1852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32600" y="683892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853480" y="5246640"/>
            <a:ext cx="1195560" cy="1596960"/>
            <a:chOff x="8853480" y="5246640"/>
            <a:chExt cx="1195560" cy="1596960"/>
          </a:xfrm>
        </p:grpSpPr>
        <p:grpSp>
          <p:nvGrpSpPr>
            <p:cNvPr id="47" name=""/>
            <p:cNvGrpSpPr/>
            <p:nvPr/>
          </p:nvGrpSpPr>
          <p:grpSpPr>
            <a:xfrm>
              <a:off x="8853480" y="5246640"/>
              <a:ext cx="906480" cy="1596960"/>
              <a:chOff x="8853480" y="5246640"/>
              <a:chExt cx="906480" cy="1596960"/>
            </a:xfrm>
          </p:grpSpPr>
          <p:sp>
            <p:nvSpPr>
              <p:cNvPr id="48" name=""/>
              <p:cNvSpPr/>
              <p:nvPr/>
            </p:nvSpPr>
            <p:spPr>
              <a:xfrm>
                <a:off x="8853480" y="5475240"/>
                <a:ext cx="71424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446760" y="524664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997840" y="5246640"/>
              <a:ext cx="906840" cy="1596960"/>
              <a:chOff x="8997840" y="5246640"/>
              <a:chExt cx="906840" cy="1596960"/>
            </a:xfrm>
          </p:grpSpPr>
          <p:sp>
            <p:nvSpPr>
              <p:cNvPr id="51" name=""/>
              <p:cNvSpPr/>
              <p:nvPr/>
            </p:nvSpPr>
            <p:spPr>
              <a:xfrm>
                <a:off x="8997840" y="5475240"/>
                <a:ext cx="71460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591480" y="524664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9142560" y="5246640"/>
              <a:ext cx="906480" cy="1596960"/>
              <a:chOff x="9142560" y="5246640"/>
              <a:chExt cx="906480" cy="1596960"/>
            </a:xfrm>
          </p:grpSpPr>
          <p:sp>
            <p:nvSpPr>
              <p:cNvPr id="54" name=""/>
              <p:cNvSpPr/>
              <p:nvPr/>
            </p:nvSpPr>
            <p:spPr>
              <a:xfrm>
                <a:off x="9142560" y="5475240"/>
                <a:ext cx="71424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735840" y="524664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8000" y="472680"/>
            <a:ext cx="77263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2015640"/>
            <a:ext cx="7978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10332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049400" indent="-986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525680" indent="-986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01960" indent="-986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01960" indent="-98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01960" indent="-98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71560" y="2448000"/>
            <a:ext cx="73612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98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  <a:ea typeface="HG Mincho Light J"/>
              </a:rPr>
              <a:t>Startr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871560" y="5022000"/>
            <a:ext cx="736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98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HG Mincho Light J"/>
              </a:rPr>
              <a:t>Concept for business plan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's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8088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w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 new "isms"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ut firm grip on familiar tool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fferen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Moses with clay table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ut masses involved from the start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ffective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just a pla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ut intentions into action through projec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Various approac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640" y="2016000"/>
            <a:ext cx="31734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adition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oses and 3 wise 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alyses, consult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ategy trai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asurement, responsibili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ools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176640" y="2016000"/>
            <a:ext cx="32241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9360" indent="-27936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more rec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Pied Piper &amp; tiny follow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CRM, BSC, etc consul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CRM, BSC, etc tra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measurement, responsibi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tool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5680" y="2016000"/>
            <a:ext cx="329868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27936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Startra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parallel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self-su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action,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basic model, add-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clear-cut pr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 if I did it myself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8088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ver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ahoittajasuhd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kertynyt asiantuntemu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ventory turno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ntotaitoiset lähtökiitoon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keltajat selville sukkelammi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ore with 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uodollinen rahallinen pano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netelmätuk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rongs in the pitchf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574848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should I do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ight projec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SzPct val="55000"/>
              <a:buFont typeface="Times New Roman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Verdana"/>
              </a:rPr>
              <a:t>Startrail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164120" y="3627360"/>
            <a:ext cx="3579840" cy="2327400"/>
          </a:xfrm>
          <a:prstGeom prst="ellipse">
            <a:avLst/>
          </a:prstGeom>
          <a:noFill/>
          <a:ln w="9360">
            <a:solidFill>
              <a:srgbClr val="e6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67160" y="4245120"/>
            <a:ext cx="1681200" cy="1054080"/>
            <a:chOff x="5267160" y="4245120"/>
            <a:chExt cx="1681200" cy="1054080"/>
          </a:xfrm>
        </p:grpSpPr>
        <p:sp>
          <p:nvSpPr>
            <p:cNvPr id="233" name=""/>
            <p:cNvSpPr/>
            <p:nvPr/>
          </p:nvSpPr>
          <p:spPr>
            <a:xfrm>
              <a:off x="5267160" y="4280040"/>
              <a:ext cx="142920" cy="125280"/>
            </a:xfrm>
            <a:custGeom>
              <a:avLst/>
              <a:gdLst/>
              <a:ahLst/>
              <a:rect l="l" t="t" r="r" b="b"/>
              <a:pathLst>
                <a:path w="399" h="350">
                  <a:moveTo>
                    <a:pt x="208" y="113"/>
                  </a:moveTo>
                  <a:lnTo>
                    <a:pt x="176" y="19"/>
                  </a:lnTo>
                  <a:lnTo>
                    <a:pt x="173" y="122"/>
                  </a:lnTo>
                  <a:lnTo>
                    <a:pt x="65" y="21"/>
                  </a:lnTo>
                  <a:lnTo>
                    <a:pt x="104" y="135"/>
                  </a:lnTo>
                  <a:lnTo>
                    <a:pt x="27" y="127"/>
                  </a:lnTo>
                  <a:lnTo>
                    <a:pt x="69" y="193"/>
                  </a:lnTo>
                  <a:lnTo>
                    <a:pt x="0" y="244"/>
                  </a:lnTo>
                  <a:lnTo>
                    <a:pt x="99" y="217"/>
                  </a:lnTo>
                  <a:lnTo>
                    <a:pt x="112" y="297"/>
                  </a:lnTo>
                  <a:lnTo>
                    <a:pt x="145" y="235"/>
                  </a:lnTo>
                  <a:lnTo>
                    <a:pt x="160" y="349"/>
                  </a:lnTo>
                  <a:lnTo>
                    <a:pt x="194" y="255"/>
                  </a:lnTo>
                  <a:lnTo>
                    <a:pt x="228" y="348"/>
                  </a:lnTo>
                  <a:lnTo>
                    <a:pt x="257" y="263"/>
                  </a:lnTo>
                  <a:lnTo>
                    <a:pt x="305" y="323"/>
                  </a:lnTo>
                  <a:lnTo>
                    <a:pt x="299" y="243"/>
                  </a:lnTo>
                  <a:lnTo>
                    <a:pt x="379" y="261"/>
                  </a:lnTo>
                  <a:lnTo>
                    <a:pt x="319" y="202"/>
                  </a:lnTo>
                  <a:lnTo>
                    <a:pt x="398" y="162"/>
                  </a:lnTo>
                  <a:lnTo>
                    <a:pt x="334" y="139"/>
                  </a:lnTo>
                  <a:lnTo>
                    <a:pt x="366" y="90"/>
                  </a:lnTo>
                  <a:lnTo>
                    <a:pt x="271" y="108"/>
                  </a:lnTo>
                  <a:lnTo>
                    <a:pt x="309" y="0"/>
                  </a:lnTo>
                  <a:lnTo>
                    <a:pt x="208" y="113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3480" y="4245120"/>
              <a:ext cx="133200" cy="123840"/>
            </a:xfrm>
            <a:custGeom>
              <a:avLst/>
              <a:gdLst/>
              <a:ahLst/>
              <a:rect l="l" t="t" r="r" b="b"/>
              <a:pathLst>
                <a:path w="370" h="342">
                  <a:moveTo>
                    <a:pt x="197" y="85"/>
                  </a:moveTo>
                  <a:lnTo>
                    <a:pt x="159" y="22"/>
                  </a:lnTo>
                  <a:lnTo>
                    <a:pt x="136" y="92"/>
                  </a:lnTo>
                  <a:lnTo>
                    <a:pt x="27" y="13"/>
                  </a:lnTo>
                  <a:lnTo>
                    <a:pt x="87" y="108"/>
                  </a:lnTo>
                  <a:lnTo>
                    <a:pt x="5" y="113"/>
                  </a:lnTo>
                  <a:lnTo>
                    <a:pt x="67" y="171"/>
                  </a:lnTo>
                  <a:lnTo>
                    <a:pt x="0" y="212"/>
                  </a:lnTo>
                  <a:lnTo>
                    <a:pt x="96" y="211"/>
                  </a:lnTo>
                  <a:lnTo>
                    <a:pt x="75" y="274"/>
                  </a:lnTo>
                  <a:lnTo>
                    <a:pt x="127" y="243"/>
                  </a:lnTo>
                  <a:lnTo>
                    <a:pt x="131" y="341"/>
                  </a:lnTo>
                  <a:lnTo>
                    <a:pt x="176" y="238"/>
                  </a:lnTo>
                  <a:lnTo>
                    <a:pt x="217" y="318"/>
                  </a:lnTo>
                  <a:lnTo>
                    <a:pt x="242" y="236"/>
                  </a:lnTo>
                  <a:lnTo>
                    <a:pt x="305" y="300"/>
                  </a:lnTo>
                  <a:lnTo>
                    <a:pt x="290" y="216"/>
                  </a:lnTo>
                  <a:lnTo>
                    <a:pt x="367" y="230"/>
                  </a:lnTo>
                  <a:lnTo>
                    <a:pt x="306" y="177"/>
                  </a:lnTo>
                  <a:lnTo>
                    <a:pt x="369" y="145"/>
                  </a:lnTo>
                  <a:lnTo>
                    <a:pt x="295" y="123"/>
                  </a:lnTo>
                  <a:lnTo>
                    <a:pt x="328" y="79"/>
                  </a:lnTo>
                  <a:lnTo>
                    <a:pt x="255" y="85"/>
                  </a:lnTo>
                  <a:lnTo>
                    <a:pt x="270" y="0"/>
                  </a:lnTo>
                  <a:lnTo>
                    <a:pt x="197" y="85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46920" y="4379760"/>
              <a:ext cx="133200" cy="12888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204" y="74"/>
                  </a:moveTo>
                  <a:lnTo>
                    <a:pt x="172" y="54"/>
                  </a:lnTo>
                  <a:lnTo>
                    <a:pt x="137" y="78"/>
                  </a:lnTo>
                  <a:lnTo>
                    <a:pt x="26" y="0"/>
                  </a:lnTo>
                  <a:lnTo>
                    <a:pt x="81" y="127"/>
                  </a:lnTo>
                  <a:lnTo>
                    <a:pt x="0" y="111"/>
                  </a:lnTo>
                  <a:lnTo>
                    <a:pt x="61" y="158"/>
                  </a:lnTo>
                  <a:lnTo>
                    <a:pt x="7" y="230"/>
                  </a:lnTo>
                  <a:lnTo>
                    <a:pt x="105" y="243"/>
                  </a:lnTo>
                  <a:lnTo>
                    <a:pt x="79" y="309"/>
                  </a:lnTo>
                  <a:lnTo>
                    <a:pt x="135" y="277"/>
                  </a:lnTo>
                  <a:lnTo>
                    <a:pt x="126" y="330"/>
                  </a:lnTo>
                  <a:lnTo>
                    <a:pt x="171" y="241"/>
                  </a:lnTo>
                  <a:lnTo>
                    <a:pt x="218" y="357"/>
                  </a:lnTo>
                  <a:lnTo>
                    <a:pt x="243" y="271"/>
                  </a:lnTo>
                  <a:lnTo>
                    <a:pt x="311" y="319"/>
                  </a:lnTo>
                  <a:lnTo>
                    <a:pt x="290" y="206"/>
                  </a:lnTo>
                  <a:lnTo>
                    <a:pt x="365" y="248"/>
                  </a:lnTo>
                  <a:lnTo>
                    <a:pt x="307" y="215"/>
                  </a:lnTo>
                  <a:lnTo>
                    <a:pt x="371" y="181"/>
                  </a:lnTo>
                  <a:lnTo>
                    <a:pt x="298" y="110"/>
                  </a:lnTo>
                  <a:lnTo>
                    <a:pt x="327" y="104"/>
                  </a:lnTo>
                  <a:lnTo>
                    <a:pt x="250" y="118"/>
                  </a:lnTo>
                  <a:lnTo>
                    <a:pt x="273" y="38"/>
                  </a:lnTo>
                  <a:lnTo>
                    <a:pt x="204" y="7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4640" y="4692600"/>
              <a:ext cx="142920" cy="123840"/>
            </a:xfrm>
            <a:custGeom>
              <a:avLst/>
              <a:gdLst/>
              <a:ahLst/>
              <a:rect l="l" t="t" r="r" b="b"/>
              <a:pathLst>
                <a:path w="396" h="342">
                  <a:moveTo>
                    <a:pt x="217" y="92"/>
                  </a:moveTo>
                  <a:lnTo>
                    <a:pt x="172" y="0"/>
                  </a:lnTo>
                  <a:lnTo>
                    <a:pt x="152" y="96"/>
                  </a:lnTo>
                  <a:lnTo>
                    <a:pt x="37" y="23"/>
                  </a:lnTo>
                  <a:lnTo>
                    <a:pt x="90" y="114"/>
                  </a:lnTo>
                  <a:lnTo>
                    <a:pt x="6" y="94"/>
                  </a:lnTo>
                  <a:lnTo>
                    <a:pt x="99" y="186"/>
                  </a:lnTo>
                  <a:lnTo>
                    <a:pt x="0" y="216"/>
                  </a:lnTo>
                  <a:lnTo>
                    <a:pt x="104" y="211"/>
                  </a:lnTo>
                  <a:lnTo>
                    <a:pt x="97" y="277"/>
                  </a:lnTo>
                  <a:lnTo>
                    <a:pt x="158" y="248"/>
                  </a:lnTo>
                  <a:lnTo>
                    <a:pt x="152" y="341"/>
                  </a:lnTo>
                  <a:lnTo>
                    <a:pt x="199" y="240"/>
                  </a:lnTo>
                  <a:lnTo>
                    <a:pt x="241" y="330"/>
                  </a:lnTo>
                  <a:lnTo>
                    <a:pt x="272" y="249"/>
                  </a:lnTo>
                  <a:lnTo>
                    <a:pt x="313" y="306"/>
                  </a:lnTo>
                  <a:lnTo>
                    <a:pt x="302" y="224"/>
                  </a:lnTo>
                  <a:lnTo>
                    <a:pt x="395" y="250"/>
                  </a:lnTo>
                  <a:lnTo>
                    <a:pt x="334" y="191"/>
                  </a:lnTo>
                  <a:lnTo>
                    <a:pt x="391" y="142"/>
                  </a:lnTo>
                  <a:lnTo>
                    <a:pt x="324" y="129"/>
                  </a:lnTo>
                  <a:lnTo>
                    <a:pt x="359" y="81"/>
                  </a:lnTo>
                  <a:lnTo>
                    <a:pt x="288" y="94"/>
                  </a:lnTo>
                  <a:lnTo>
                    <a:pt x="303" y="9"/>
                  </a:lnTo>
                  <a:lnTo>
                    <a:pt x="217" y="9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94600" y="5116680"/>
              <a:ext cx="133200" cy="120600"/>
            </a:xfrm>
            <a:custGeom>
              <a:avLst/>
              <a:gdLst/>
              <a:ahLst/>
              <a:rect l="l" t="t" r="r" b="b"/>
              <a:pathLst>
                <a:path w="371" h="337">
                  <a:moveTo>
                    <a:pt x="200" y="85"/>
                  </a:moveTo>
                  <a:lnTo>
                    <a:pt x="159" y="20"/>
                  </a:lnTo>
                  <a:lnTo>
                    <a:pt x="157" y="93"/>
                  </a:lnTo>
                  <a:lnTo>
                    <a:pt x="28" y="5"/>
                  </a:lnTo>
                  <a:lnTo>
                    <a:pt x="104" y="104"/>
                  </a:lnTo>
                  <a:lnTo>
                    <a:pt x="0" y="87"/>
                  </a:lnTo>
                  <a:lnTo>
                    <a:pt x="74" y="160"/>
                  </a:lnTo>
                  <a:lnTo>
                    <a:pt x="11" y="231"/>
                  </a:lnTo>
                  <a:lnTo>
                    <a:pt x="102" y="209"/>
                  </a:lnTo>
                  <a:lnTo>
                    <a:pt x="72" y="270"/>
                  </a:lnTo>
                  <a:lnTo>
                    <a:pt x="128" y="240"/>
                  </a:lnTo>
                  <a:lnTo>
                    <a:pt x="129" y="336"/>
                  </a:lnTo>
                  <a:lnTo>
                    <a:pt x="195" y="243"/>
                  </a:lnTo>
                  <a:lnTo>
                    <a:pt x="232" y="321"/>
                  </a:lnTo>
                  <a:lnTo>
                    <a:pt x="257" y="230"/>
                  </a:lnTo>
                  <a:lnTo>
                    <a:pt x="302" y="305"/>
                  </a:lnTo>
                  <a:lnTo>
                    <a:pt x="291" y="204"/>
                  </a:lnTo>
                  <a:lnTo>
                    <a:pt x="354" y="229"/>
                  </a:lnTo>
                  <a:lnTo>
                    <a:pt x="312" y="158"/>
                  </a:lnTo>
                  <a:lnTo>
                    <a:pt x="370" y="148"/>
                  </a:lnTo>
                  <a:lnTo>
                    <a:pt x="309" y="125"/>
                  </a:lnTo>
                  <a:lnTo>
                    <a:pt x="349" y="80"/>
                  </a:lnTo>
                  <a:lnTo>
                    <a:pt x="250" y="95"/>
                  </a:lnTo>
                  <a:lnTo>
                    <a:pt x="292" y="0"/>
                  </a:lnTo>
                  <a:lnTo>
                    <a:pt x="200" y="85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7840" y="5170320"/>
              <a:ext cx="133560" cy="128880"/>
            </a:xfrm>
            <a:custGeom>
              <a:avLst/>
              <a:gdLst/>
              <a:ahLst/>
              <a:rect l="l" t="t" r="r" b="b"/>
              <a:pathLst>
                <a:path w="371" h="356">
                  <a:moveTo>
                    <a:pt x="196" y="123"/>
                  </a:moveTo>
                  <a:lnTo>
                    <a:pt x="159" y="27"/>
                  </a:lnTo>
                  <a:lnTo>
                    <a:pt x="134" y="81"/>
                  </a:lnTo>
                  <a:lnTo>
                    <a:pt x="26" y="0"/>
                  </a:lnTo>
                  <a:lnTo>
                    <a:pt x="89" y="118"/>
                  </a:lnTo>
                  <a:lnTo>
                    <a:pt x="2" y="96"/>
                  </a:lnTo>
                  <a:lnTo>
                    <a:pt x="66" y="165"/>
                  </a:lnTo>
                  <a:lnTo>
                    <a:pt x="0" y="249"/>
                  </a:lnTo>
                  <a:lnTo>
                    <a:pt x="99" y="222"/>
                  </a:lnTo>
                  <a:lnTo>
                    <a:pt x="79" y="287"/>
                  </a:lnTo>
                  <a:lnTo>
                    <a:pt x="131" y="235"/>
                  </a:lnTo>
                  <a:lnTo>
                    <a:pt x="135" y="354"/>
                  </a:lnTo>
                  <a:lnTo>
                    <a:pt x="179" y="250"/>
                  </a:lnTo>
                  <a:lnTo>
                    <a:pt x="217" y="355"/>
                  </a:lnTo>
                  <a:lnTo>
                    <a:pt x="238" y="246"/>
                  </a:lnTo>
                  <a:lnTo>
                    <a:pt x="295" y="309"/>
                  </a:lnTo>
                  <a:lnTo>
                    <a:pt x="281" y="213"/>
                  </a:lnTo>
                  <a:lnTo>
                    <a:pt x="369" y="259"/>
                  </a:lnTo>
                  <a:lnTo>
                    <a:pt x="308" y="199"/>
                  </a:lnTo>
                  <a:lnTo>
                    <a:pt x="370" y="155"/>
                  </a:lnTo>
                  <a:lnTo>
                    <a:pt x="296" y="132"/>
                  </a:lnTo>
                  <a:lnTo>
                    <a:pt x="328" y="91"/>
                  </a:lnTo>
                  <a:lnTo>
                    <a:pt x="244" y="74"/>
                  </a:lnTo>
                  <a:lnTo>
                    <a:pt x="272" y="10"/>
                  </a:lnTo>
                  <a:lnTo>
                    <a:pt x="196" y="123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3720" y="4822920"/>
              <a:ext cx="134640" cy="125280"/>
            </a:xfrm>
            <a:custGeom>
              <a:avLst/>
              <a:gdLst/>
              <a:ahLst/>
              <a:rect l="l" t="t" r="r" b="b"/>
              <a:pathLst>
                <a:path w="376" h="347">
                  <a:moveTo>
                    <a:pt x="199" y="100"/>
                  </a:moveTo>
                  <a:lnTo>
                    <a:pt x="157" y="38"/>
                  </a:lnTo>
                  <a:lnTo>
                    <a:pt x="149" y="114"/>
                  </a:lnTo>
                  <a:lnTo>
                    <a:pt x="24" y="17"/>
                  </a:lnTo>
                  <a:lnTo>
                    <a:pt x="92" y="106"/>
                  </a:lnTo>
                  <a:lnTo>
                    <a:pt x="0" y="104"/>
                  </a:lnTo>
                  <a:lnTo>
                    <a:pt x="69" y="172"/>
                  </a:lnTo>
                  <a:lnTo>
                    <a:pt x="3" y="236"/>
                  </a:lnTo>
                  <a:lnTo>
                    <a:pt x="111" y="240"/>
                  </a:lnTo>
                  <a:lnTo>
                    <a:pt x="71" y="288"/>
                  </a:lnTo>
                  <a:lnTo>
                    <a:pt x="126" y="257"/>
                  </a:lnTo>
                  <a:lnTo>
                    <a:pt x="112" y="346"/>
                  </a:lnTo>
                  <a:lnTo>
                    <a:pt x="198" y="256"/>
                  </a:lnTo>
                  <a:lnTo>
                    <a:pt x="242" y="329"/>
                  </a:lnTo>
                  <a:lnTo>
                    <a:pt x="246" y="239"/>
                  </a:lnTo>
                  <a:lnTo>
                    <a:pt x="298" y="295"/>
                  </a:lnTo>
                  <a:lnTo>
                    <a:pt x="300" y="238"/>
                  </a:lnTo>
                  <a:lnTo>
                    <a:pt x="375" y="260"/>
                  </a:lnTo>
                  <a:lnTo>
                    <a:pt x="307" y="170"/>
                  </a:lnTo>
                  <a:lnTo>
                    <a:pt x="352" y="157"/>
                  </a:lnTo>
                  <a:lnTo>
                    <a:pt x="297" y="132"/>
                  </a:lnTo>
                  <a:lnTo>
                    <a:pt x="329" y="107"/>
                  </a:lnTo>
                  <a:lnTo>
                    <a:pt x="239" y="99"/>
                  </a:lnTo>
                  <a:lnTo>
                    <a:pt x="280" y="0"/>
                  </a:lnTo>
                  <a:lnTo>
                    <a:pt x="199" y="10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6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18000" y="4309920"/>
              <a:ext cx="195480" cy="3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9000" y="4327560"/>
              <a:ext cx="279360" cy="77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83360" y="4495680"/>
              <a:ext cx="125280" cy="193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38880" y="4822920"/>
              <a:ext cx="34920" cy="288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31040" y="5168880"/>
              <a:ext cx="218880" cy="475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737400" y="4946760"/>
              <a:ext cx="102960" cy="226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24560" y="4778280"/>
              <a:ext cx="389160" cy="1159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2240" y="4802040"/>
              <a:ext cx="295560" cy="3654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355760" y="3627360"/>
            <a:ext cx="3579840" cy="2327400"/>
          </a:xfrm>
          <a:prstGeom prst="ellipse">
            <a:avLst/>
          </a:prstGeom>
          <a:noFill/>
          <a:ln w="9360">
            <a:solidFill>
              <a:srgbClr val="e6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45040" y="1943280"/>
            <a:ext cx="4365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9360" indent="-27936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HG Mincho Light J"/>
              </a:rPr>
              <a:t>how should I do i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projects righ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174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SzPct val="55000"/>
              <a:buFont typeface="Times New Roman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7train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130480" y="4308480"/>
            <a:ext cx="5748120" cy="2560680"/>
            <a:chOff x="2130480" y="4308480"/>
            <a:chExt cx="5748120" cy="2560680"/>
          </a:xfrm>
        </p:grpSpPr>
        <p:sp>
          <p:nvSpPr>
            <p:cNvPr id="251" name=""/>
            <p:cNvSpPr/>
            <p:nvPr/>
          </p:nvSpPr>
          <p:spPr>
            <a:xfrm>
              <a:off x="4415040" y="4308480"/>
              <a:ext cx="223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0480" y="4924440"/>
              <a:ext cx="574812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79360" indent="-279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3120" indent="-217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3120" indent="-217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9360" indent="-279360">
                <a:lnSpc>
                  <a:spcPct val="100000"/>
                </a:lnSpc>
                <a:spcBef>
                  <a:spcPts val="499"/>
                </a:spcBef>
                <a:buClr>
                  <a:srgbClr val="ff9933"/>
                </a:buClr>
                <a:buSzPct val="120000"/>
                <a:buFont typeface="Wingdings" charset="2"/>
                <a:buChar char="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30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common templat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538360" y="3992400"/>
            <a:ext cx="1194120" cy="1595520"/>
            <a:chOff x="2538360" y="3992400"/>
            <a:chExt cx="1194120" cy="1595520"/>
          </a:xfrm>
        </p:grpSpPr>
        <p:grpSp>
          <p:nvGrpSpPr>
            <p:cNvPr id="254" name=""/>
            <p:cNvGrpSpPr/>
            <p:nvPr/>
          </p:nvGrpSpPr>
          <p:grpSpPr>
            <a:xfrm>
              <a:off x="2538360" y="3992400"/>
              <a:ext cx="905040" cy="1595520"/>
              <a:chOff x="2538360" y="3992400"/>
              <a:chExt cx="905040" cy="1595520"/>
            </a:xfrm>
          </p:grpSpPr>
          <p:sp>
            <p:nvSpPr>
              <p:cNvPr id="255" name=""/>
              <p:cNvSpPr/>
              <p:nvPr/>
            </p:nvSpPr>
            <p:spPr>
              <a:xfrm>
                <a:off x="2538360" y="4219560"/>
                <a:ext cx="71460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30200" y="399240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82720" y="3992400"/>
              <a:ext cx="905040" cy="1595520"/>
              <a:chOff x="2682720" y="3992400"/>
              <a:chExt cx="905040" cy="1595520"/>
            </a:xfrm>
          </p:grpSpPr>
          <p:sp>
            <p:nvSpPr>
              <p:cNvPr id="258" name=""/>
              <p:cNvSpPr/>
              <p:nvPr/>
            </p:nvSpPr>
            <p:spPr>
              <a:xfrm>
                <a:off x="2682720" y="4219560"/>
                <a:ext cx="71460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4560" y="399240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827440" y="3992400"/>
              <a:ext cx="905040" cy="1595520"/>
              <a:chOff x="2827440" y="3992400"/>
              <a:chExt cx="905040" cy="1595520"/>
            </a:xfrm>
          </p:grpSpPr>
          <p:sp>
            <p:nvSpPr>
              <p:cNvPr id="261" name=""/>
              <p:cNvSpPr/>
              <p:nvPr/>
            </p:nvSpPr>
            <p:spPr>
              <a:xfrm>
                <a:off x="2827440" y="4219560"/>
                <a:ext cx="714240" cy="1368360"/>
              </a:xfrm>
              <a:custGeom>
                <a:avLst/>
                <a:gdLst/>
                <a:ahLst/>
                <a:rect l="l" t="t" r="r" b="b"/>
                <a:pathLst>
                  <a:path w="1983" h="3802">
                    <a:moveTo>
                      <a:pt x="0" y="3801"/>
                    </a:moveTo>
                    <a:cubicBezTo>
                      <a:pt x="520" y="3484"/>
                      <a:pt x="1041" y="3168"/>
                      <a:pt x="1372" y="2535"/>
                    </a:cubicBezTo>
                    <a:cubicBezTo>
                      <a:pt x="1703" y="1902"/>
                      <a:pt x="1842" y="950"/>
                      <a:pt x="1982" y="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19280" y="3992400"/>
                <a:ext cx="313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cc00"/>
                    </a:solidFill>
                    <a:latin typeface="Wingdings"/>
                    <a:ea typeface="Wingdings"/>
                  </a:rPr>
                  <a:t>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7640" y="502920"/>
            <a:ext cx="7728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 is it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7843680" cy="51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gram for strategic plan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300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duces seeds for concrete projec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x half-day sessions as a co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300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ree whole days in the turbo 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arnesses the firm's own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300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un-up to the next great lea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543640" y="5348160"/>
            <a:ext cx="2749320" cy="1503360"/>
            <a:chOff x="5543640" y="5348160"/>
            <a:chExt cx="2749320" cy="1503360"/>
          </a:xfrm>
        </p:grpSpPr>
        <p:sp>
          <p:nvSpPr>
            <p:cNvPr id="105" name=""/>
            <p:cNvSpPr/>
            <p:nvPr/>
          </p:nvSpPr>
          <p:spPr>
            <a:xfrm>
              <a:off x="5543640" y="5348160"/>
              <a:ext cx="2749320" cy="1489320"/>
            </a:xfrm>
            <a:custGeom>
              <a:avLst/>
              <a:gdLst/>
              <a:ahLst/>
              <a:rect l="l" t="t" r="r" b="b"/>
              <a:pathLst>
                <a:path w="7636" h="4137">
                  <a:moveTo>
                    <a:pt x="0" y="0"/>
                  </a:moveTo>
                  <a:lnTo>
                    <a:pt x="0" y="4136"/>
                  </a:lnTo>
                  <a:lnTo>
                    <a:pt x="7635" y="4136"/>
                  </a:lnTo>
                </a:path>
              </a:pathLst>
            </a:custGeom>
            <a:noFill/>
            <a:ln w="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43640" y="6176880"/>
              <a:ext cx="1096920" cy="674640"/>
            </a:xfrm>
            <a:custGeom>
              <a:avLst/>
              <a:gdLst/>
              <a:ahLst/>
              <a:rect l="l" t="t" r="r" b="b"/>
              <a:pathLst>
                <a:path w="3048" h="1875">
                  <a:moveTo>
                    <a:pt x="3047" y="0"/>
                  </a:moveTo>
                  <a:lnTo>
                    <a:pt x="2895" y="1"/>
                  </a:lnTo>
                  <a:lnTo>
                    <a:pt x="2743" y="6"/>
                  </a:lnTo>
                  <a:lnTo>
                    <a:pt x="2591" y="17"/>
                  </a:lnTo>
                  <a:lnTo>
                    <a:pt x="2441" y="32"/>
                  </a:lnTo>
                  <a:lnTo>
                    <a:pt x="2292" y="52"/>
                  </a:lnTo>
                  <a:lnTo>
                    <a:pt x="2145" y="77"/>
                  </a:lnTo>
                  <a:lnTo>
                    <a:pt x="2000" y="106"/>
                  </a:lnTo>
                  <a:lnTo>
                    <a:pt x="1857" y="140"/>
                  </a:lnTo>
                  <a:lnTo>
                    <a:pt x="1718" y="179"/>
                  </a:lnTo>
                  <a:lnTo>
                    <a:pt x="1582" y="222"/>
                  </a:lnTo>
                  <a:lnTo>
                    <a:pt x="1449" y="270"/>
                  </a:lnTo>
                  <a:lnTo>
                    <a:pt x="1321" y="322"/>
                  </a:lnTo>
                  <a:lnTo>
                    <a:pt x="1197" y="378"/>
                  </a:lnTo>
                  <a:lnTo>
                    <a:pt x="1077" y="437"/>
                  </a:lnTo>
                  <a:lnTo>
                    <a:pt x="962" y="501"/>
                  </a:lnTo>
                  <a:lnTo>
                    <a:pt x="853" y="568"/>
                  </a:lnTo>
                  <a:lnTo>
                    <a:pt x="749" y="639"/>
                  </a:lnTo>
                  <a:lnTo>
                    <a:pt x="651" y="713"/>
                  </a:lnTo>
                  <a:lnTo>
                    <a:pt x="560" y="790"/>
                  </a:lnTo>
                  <a:lnTo>
                    <a:pt x="474" y="870"/>
                  </a:lnTo>
                  <a:lnTo>
                    <a:pt x="395" y="952"/>
                  </a:lnTo>
                  <a:lnTo>
                    <a:pt x="323" y="1037"/>
                  </a:lnTo>
                  <a:lnTo>
                    <a:pt x="257" y="1124"/>
                  </a:lnTo>
                  <a:lnTo>
                    <a:pt x="199" y="1213"/>
                  </a:lnTo>
                  <a:lnTo>
                    <a:pt x="148" y="1304"/>
                  </a:lnTo>
                  <a:lnTo>
                    <a:pt x="104" y="1397"/>
                  </a:lnTo>
                  <a:lnTo>
                    <a:pt x="68" y="1491"/>
                  </a:lnTo>
                  <a:lnTo>
                    <a:pt x="40" y="1585"/>
                  </a:lnTo>
                  <a:lnTo>
                    <a:pt x="19" y="1681"/>
                  </a:lnTo>
                  <a:lnTo>
                    <a:pt x="6" y="1777"/>
                  </a:lnTo>
                  <a:lnTo>
                    <a:pt x="0" y="1874"/>
                  </a:lnTo>
                </a:path>
              </a:pathLst>
            </a:custGeom>
            <a:noFill/>
            <a:ln w="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64360" y="5662440"/>
            <a:ext cx="1096920" cy="675000"/>
          </a:xfrm>
          <a:custGeom>
            <a:avLst/>
            <a:gdLst/>
            <a:ahLst/>
            <a:rect l="l" t="t" r="r" b="b"/>
            <a:pathLst>
              <a:path w="3048" h="1875">
                <a:moveTo>
                  <a:pt x="3047" y="0"/>
                </a:moveTo>
                <a:lnTo>
                  <a:pt x="2895" y="1"/>
                </a:lnTo>
                <a:lnTo>
                  <a:pt x="2743" y="6"/>
                </a:lnTo>
                <a:lnTo>
                  <a:pt x="2591" y="17"/>
                </a:lnTo>
                <a:lnTo>
                  <a:pt x="2441" y="32"/>
                </a:lnTo>
                <a:lnTo>
                  <a:pt x="2292" y="52"/>
                </a:lnTo>
                <a:lnTo>
                  <a:pt x="2145" y="77"/>
                </a:lnTo>
                <a:lnTo>
                  <a:pt x="2000" y="106"/>
                </a:lnTo>
                <a:lnTo>
                  <a:pt x="1857" y="140"/>
                </a:lnTo>
                <a:lnTo>
                  <a:pt x="1718" y="179"/>
                </a:lnTo>
                <a:lnTo>
                  <a:pt x="1582" y="222"/>
                </a:lnTo>
                <a:lnTo>
                  <a:pt x="1449" y="270"/>
                </a:lnTo>
                <a:lnTo>
                  <a:pt x="1321" y="322"/>
                </a:lnTo>
                <a:lnTo>
                  <a:pt x="1197" y="378"/>
                </a:lnTo>
                <a:lnTo>
                  <a:pt x="1077" y="437"/>
                </a:lnTo>
                <a:lnTo>
                  <a:pt x="962" y="501"/>
                </a:lnTo>
                <a:lnTo>
                  <a:pt x="853" y="568"/>
                </a:lnTo>
                <a:lnTo>
                  <a:pt x="749" y="639"/>
                </a:lnTo>
                <a:lnTo>
                  <a:pt x="651" y="713"/>
                </a:lnTo>
                <a:lnTo>
                  <a:pt x="560" y="790"/>
                </a:lnTo>
                <a:lnTo>
                  <a:pt x="474" y="870"/>
                </a:lnTo>
                <a:lnTo>
                  <a:pt x="395" y="952"/>
                </a:lnTo>
                <a:lnTo>
                  <a:pt x="323" y="1037"/>
                </a:lnTo>
                <a:lnTo>
                  <a:pt x="257" y="1124"/>
                </a:lnTo>
                <a:lnTo>
                  <a:pt x="199" y="1213"/>
                </a:lnTo>
                <a:lnTo>
                  <a:pt x="148" y="1304"/>
                </a:lnTo>
                <a:lnTo>
                  <a:pt x="104" y="1397"/>
                </a:lnTo>
                <a:lnTo>
                  <a:pt x="68" y="1491"/>
                </a:lnTo>
                <a:lnTo>
                  <a:pt x="40" y="1585"/>
                </a:lnTo>
                <a:lnTo>
                  <a:pt x="19" y="1681"/>
                </a:lnTo>
                <a:lnTo>
                  <a:pt x="6" y="1777"/>
                </a:lnTo>
                <a:lnTo>
                  <a:pt x="0" y="1874"/>
                </a:lnTo>
              </a:path>
            </a:pathLst>
          </a:custGeom>
          <a:noFill/>
          <a:ln w="7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83280" y="5218200"/>
            <a:ext cx="1096920" cy="674640"/>
          </a:xfrm>
          <a:custGeom>
            <a:avLst/>
            <a:gdLst/>
            <a:ahLst/>
            <a:rect l="l" t="t" r="r" b="b"/>
            <a:pathLst>
              <a:path w="3048" h="1875">
                <a:moveTo>
                  <a:pt x="3047" y="0"/>
                </a:moveTo>
                <a:lnTo>
                  <a:pt x="2895" y="1"/>
                </a:lnTo>
                <a:lnTo>
                  <a:pt x="2743" y="6"/>
                </a:lnTo>
                <a:lnTo>
                  <a:pt x="2591" y="17"/>
                </a:lnTo>
                <a:lnTo>
                  <a:pt x="2441" y="32"/>
                </a:lnTo>
                <a:lnTo>
                  <a:pt x="2292" y="52"/>
                </a:lnTo>
                <a:lnTo>
                  <a:pt x="2145" y="77"/>
                </a:lnTo>
                <a:lnTo>
                  <a:pt x="2000" y="106"/>
                </a:lnTo>
                <a:lnTo>
                  <a:pt x="1857" y="140"/>
                </a:lnTo>
                <a:lnTo>
                  <a:pt x="1718" y="179"/>
                </a:lnTo>
                <a:lnTo>
                  <a:pt x="1582" y="222"/>
                </a:lnTo>
                <a:lnTo>
                  <a:pt x="1449" y="270"/>
                </a:lnTo>
                <a:lnTo>
                  <a:pt x="1321" y="322"/>
                </a:lnTo>
                <a:lnTo>
                  <a:pt x="1197" y="378"/>
                </a:lnTo>
                <a:lnTo>
                  <a:pt x="1077" y="437"/>
                </a:lnTo>
                <a:lnTo>
                  <a:pt x="962" y="501"/>
                </a:lnTo>
                <a:lnTo>
                  <a:pt x="853" y="568"/>
                </a:lnTo>
                <a:lnTo>
                  <a:pt x="749" y="639"/>
                </a:lnTo>
                <a:lnTo>
                  <a:pt x="651" y="713"/>
                </a:lnTo>
                <a:lnTo>
                  <a:pt x="560" y="790"/>
                </a:lnTo>
                <a:lnTo>
                  <a:pt x="474" y="870"/>
                </a:lnTo>
                <a:lnTo>
                  <a:pt x="395" y="952"/>
                </a:lnTo>
                <a:lnTo>
                  <a:pt x="323" y="1037"/>
                </a:lnTo>
                <a:lnTo>
                  <a:pt x="257" y="1124"/>
                </a:lnTo>
                <a:lnTo>
                  <a:pt x="199" y="1213"/>
                </a:lnTo>
                <a:lnTo>
                  <a:pt x="148" y="1304"/>
                </a:lnTo>
                <a:lnTo>
                  <a:pt x="104" y="1397"/>
                </a:lnTo>
                <a:lnTo>
                  <a:pt x="68" y="1491"/>
                </a:lnTo>
                <a:lnTo>
                  <a:pt x="40" y="1585"/>
                </a:lnTo>
                <a:lnTo>
                  <a:pt x="19" y="1681"/>
                </a:lnTo>
                <a:lnTo>
                  <a:pt x="6" y="1777"/>
                </a:lnTo>
                <a:lnTo>
                  <a:pt x="0" y="1874"/>
                </a:lnTo>
              </a:path>
            </a:pathLst>
          </a:custGeom>
          <a:noFill/>
          <a:ln w="360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 is it good for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usy-ness suppresses plan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usiness is left to evolve by itself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lanning is difficult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thods are alien to daily routi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ecution is difficul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know not how to carry out projec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do not internalize the chang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tartrail-sessions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the issues easy to lay hands 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carefully orchestrated ev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duce results from the very sta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y closing out each event with specific plans for action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epare the ground for execu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y involving those who are affected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e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ree whole days or six halve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417920" y="4100040"/>
            <a:ext cx="2220840" cy="2466000"/>
            <a:chOff x="4417920" y="4100040"/>
            <a:chExt cx="2220840" cy="2466000"/>
          </a:xfrm>
        </p:grpSpPr>
        <p:sp>
          <p:nvSpPr>
            <p:cNvPr id="116" name=""/>
            <p:cNvSpPr/>
            <p:nvPr/>
          </p:nvSpPr>
          <p:spPr>
            <a:xfrm>
              <a:off x="5213520" y="6012000"/>
              <a:ext cx="14252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how do we get t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417920" y="5905440"/>
            <a:ext cx="80028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7920" y="5905440"/>
                      <a:ext cx="8002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9" name=""/>
            <p:cNvCxnSpPr>
              <a:endCxn id="120" idx="0"/>
            </p:cNvCxnSpPr>
            <p:nvPr/>
          </p:nvCxnSpPr>
          <p:spPr>
            <a:xfrm>
              <a:off x="5369040" y="4100040"/>
              <a:ext cx="202320" cy="1159560"/>
            </a:xfrm>
            <a:prstGeom prst="straightConnector1">
              <a:avLst/>
            </a:prstGeom>
            <a:ln w="10800">
              <a:solidFill>
                <a:srgbClr val="c0c0c0"/>
              </a:solidFill>
              <a:miter/>
              <a:tailEnd len="med" type="oval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4889520" y="5427720"/>
              <a:ext cx="1365120" cy="245880"/>
            </a:xfrm>
            <a:prstGeom prst="rect">
              <a:avLst/>
            </a:prstGeom>
            <a:noFill/>
            <a:ln w="25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66"/>
                  </a:solidFill>
                  <a:latin typeface="Verdana"/>
                </a:rPr>
                <a:t>Key  activ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02440" y="2658960"/>
            <a:ext cx="1972800" cy="1397520"/>
            <a:chOff x="4402440" y="2658960"/>
            <a:chExt cx="1972800" cy="1397520"/>
          </a:xfrm>
        </p:grpSpPr>
        <p:sp>
          <p:nvSpPr>
            <p:cNvPr id="122" name=""/>
            <p:cNvSpPr/>
            <p:nvPr/>
          </p:nvSpPr>
          <p:spPr>
            <a:xfrm>
              <a:off x="4722840" y="2658960"/>
              <a:ext cx="165240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where do we wa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7920" y="3565080"/>
              <a:ext cx="1365120" cy="491400"/>
            </a:xfrm>
            <a:prstGeom prst="rect">
              <a:avLst/>
            </a:prstGeom>
            <a:noFill/>
            <a:ln w="25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66"/>
                  </a:solidFill>
                  <a:latin typeface="Verdana"/>
                </a:rPr>
                <a:t>Common 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02440" y="2658960"/>
              <a:ext cx="111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494440" y="4100040"/>
            <a:ext cx="2091960" cy="2466000"/>
            <a:chOff x="2494440" y="4100040"/>
            <a:chExt cx="2091960" cy="2466000"/>
          </a:xfrm>
        </p:grpSpPr>
        <p:sp>
          <p:nvSpPr>
            <p:cNvPr id="126" name=""/>
            <p:cNvSpPr/>
            <p:nvPr/>
          </p:nvSpPr>
          <p:spPr>
            <a:xfrm>
              <a:off x="2766960" y="6012000"/>
              <a:ext cx="18194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where can we end 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94440" y="4100040"/>
              <a:ext cx="1648800" cy="2219400"/>
              <a:chOff x="2494440" y="4100040"/>
              <a:chExt cx="1648800" cy="2219400"/>
            </a:xfrm>
          </p:grpSpPr>
          <p:cxnSp>
            <p:nvCxnSpPr>
              <p:cNvPr id="128" name=""/>
              <p:cNvCxnSpPr>
                <a:endCxn id="129" idx="0"/>
              </p:cNvCxnSpPr>
              <p:nvPr/>
            </p:nvCxnSpPr>
            <p:spPr>
              <a:xfrm>
                <a:off x="3259080" y="4100040"/>
                <a:ext cx="202320" cy="1159560"/>
              </a:xfrm>
              <a:prstGeom prst="straightConnector1">
                <a:avLst/>
              </a:prstGeom>
              <a:ln w="10800">
                <a:solidFill>
                  <a:srgbClr val="c0c0c0"/>
                </a:solidFill>
                <a:miter/>
                <a:tailEnd len="med" type="oval" w="med"/>
              </a:ln>
            </p:spPr>
          </p:cxnSp>
          <p:sp>
            <p:nvSpPr>
              <p:cNvPr id="129" name=""/>
              <p:cNvSpPr/>
              <p:nvPr/>
            </p:nvSpPr>
            <p:spPr>
              <a:xfrm>
                <a:off x="2778120" y="5304960"/>
                <a:ext cx="1365120" cy="491400"/>
              </a:xfrm>
              <a:prstGeom prst="rect">
                <a:avLst/>
              </a:prstGeom>
              <a:noFill/>
              <a:ln w="252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ffff66"/>
                    </a:solidFill>
                    <a:latin typeface="Verdana"/>
                  </a:rPr>
                  <a:t>Alternative futu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94440" y="6012000"/>
                <a:ext cx="11196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Webdings"/>
                    <a:ea typeface="Webdings"/>
                  </a:rPr>
                  <a:t>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2287800" y="2658960"/>
            <a:ext cx="2017440" cy="1395720"/>
            <a:chOff x="2287800" y="2658960"/>
            <a:chExt cx="2017440" cy="1395720"/>
          </a:xfrm>
        </p:grpSpPr>
        <p:sp>
          <p:nvSpPr>
            <p:cNvPr id="132" name=""/>
            <p:cNvSpPr/>
            <p:nvPr/>
          </p:nvSpPr>
          <p:spPr>
            <a:xfrm>
              <a:off x="2576520" y="3563280"/>
              <a:ext cx="1365120" cy="491400"/>
            </a:xfrm>
            <a:prstGeom prst="rect">
              <a:avLst/>
            </a:prstGeom>
            <a:noFill/>
            <a:ln w="25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66"/>
                  </a:solidFill>
                  <a:latin typeface="Verdana"/>
                </a:rPr>
                <a:t>Strategic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520" y="2658960"/>
              <a:ext cx="17287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where are we h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7800" y="2658960"/>
              <a:ext cx="111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9040" y="4100040"/>
            <a:ext cx="2077560" cy="2466000"/>
            <a:chOff x="329040" y="4100040"/>
            <a:chExt cx="2077560" cy="2466000"/>
          </a:xfrm>
        </p:grpSpPr>
        <p:cxnSp>
          <p:nvCxnSpPr>
            <p:cNvPr id="136" name=""/>
            <p:cNvCxnSpPr>
              <a:endCxn id="137" idx="0"/>
            </p:cNvCxnSpPr>
            <p:nvPr/>
          </p:nvCxnSpPr>
          <p:spPr>
            <a:xfrm>
              <a:off x="1243080" y="4100040"/>
              <a:ext cx="202320" cy="1159560"/>
            </a:xfrm>
            <a:prstGeom prst="straightConnector1">
              <a:avLst/>
            </a:prstGeom>
            <a:ln w="10800">
              <a:solidFill>
                <a:srgbClr val="c0c0c0"/>
              </a:solidFill>
              <a:miter/>
              <a:tailEnd len="med" type="oval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762120" y="5427720"/>
              <a:ext cx="1365120" cy="245880"/>
            </a:xfrm>
            <a:prstGeom prst="rect">
              <a:avLst/>
            </a:prstGeom>
            <a:noFill/>
            <a:ln w="25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66"/>
                  </a:solidFill>
                  <a:latin typeface="Verdana"/>
                </a:rPr>
                <a:t>SWOTfo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29040" y="6012000"/>
              <a:ext cx="2077560" cy="554040"/>
              <a:chOff x="329040" y="6012000"/>
              <a:chExt cx="2077560" cy="554040"/>
            </a:xfrm>
          </p:grpSpPr>
          <p:sp>
            <p:nvSpPr>
              <p:cNvPr id="139" name=""/>
              <p:cNvSpPr/>
              <p:nvPr/>
            </p:nvSpPr>
            <p:spPr>
              <a:xfrm>
                <a:off x="654120" y="6012000"/>
                <a:ext cx="175248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Verdana"/>
                  </a:rPr>
                  <a:t>what numbers rev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040" y="6012000"/>
                <a:ext cx="2581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292320" y="2658960"/>
            <a:ext cx="1633320" cy="1397520"/>
            <a:chOff x="292320" y="2658960"/>
            <a:chExt cx="1633320" cy="1397520"/>
          </a:xfrm>
        </p:grpSpPr>
        <p:sp>
          <p:nvSpPr>
            <p:cNvPr id="142" name=""/>
            <p:cNvSpPr/>
            <p:nvPr/>
          </p:nvSpPr>
          <p:spPr>
            <a:xfrm>
              <a:off x="560520" y="3565080"/>
              <a:ext cx="1365120" cy="491400"/>
            </a:xfrm>
            <a:prstGeom prst="rect">
              <a:avLst/>
            </a:prstGeom>
            <a:noFill/>
            <a:ln w="25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66"/>
                  </a:solidFill>
                  <a:latin typeface="Verdana"/>
                </a:rPr>
                <a:t>ROAD-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0520" y="2658960"/>
              <a:ext cx="1265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71280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</a:rPr>
                <a:t>what we supp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320" y="2658960"/>
              <a:ext cx="2581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16000" y="2532240"/>
            <a:ext cx="6427800" cy="4244760"/>
          </a:xfrm>
          <a:prstGeom prst="roundRect">
            <a:avLst>
              <a:gd name="adj" fmla="val 4222"/>
            </a:avLst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6171840" y="4657680"/>
            <a:ext cx="794520" cy="7200"/>
          </a:xfrm>
          <a:prstGeom prst="straightConnector1">
            <a:avLst/>
          </a:prstGeom>
          <a:ln w="9360">
            <a:solidFill>
              <a:srgbClr val="c0c0c0"/>
            </a:solidFill>
            <a:prstDash val="sysDot"/>
            <a:miter/>
            <a:tailEnd len="med" type="oval" w="med"/>
          </a:ln>
        </p:spPr>
      </p:cxnSp>
      <p:sp>
        <p:nvSpPr>
          <p:cNvPr id="147" name=""/>
          <p:cNvSpPr/>
          <p:nvPr/>
        </p:nvSpPr>
        <p:spPr>
          <a:xfrm>
            <a:off x="8675640" y="2788560"/>
            <a:ext cx="779400" cy="470520"/>
          </a:xfrm>
          <a:prstGeom prst="roundRect">
            <a:avLst>
              <a:gd name="adj" fmla="val 47477"/>
            </a:avLst>
          </a:prstGeom>
          <a:noFill/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Arial"/>
              </a:rPr>
              <a:t>$</a:t>
            </a:r>
            <a:r>
              <a:rPr b="0" lang="en-GB" sz="2200" spc="-1" strike="noStrike">
                <a:solidFill>
                  <a:srgbClr val="cccccc"/>
                </a:solidFill>
                <a:latin typeface="Arial"/>
                <a:ea typeface="Arial"/>
              </a:rPr>
              <a:t>/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en-GB" sz="2200" spc="-1" strike="noStrike">
                <a:solidFill>
                  <a:srgbClr val="cccccc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113520" y="3962520"/>
            <a:ext cx="504720" cy="6760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6786720" y="2562120"/>
            <a:ext cx="2374920" cy="4003920"/>
            <a:chOff x="6786720" y="2562120"/>
            <a:chExt cx="2374920" cy="4003920"/>
          </a:xfrm>
        </p:grpSpPr>
        <p:sp>
          <p:nvSpPr>
            <p:cNvPr id="150" name=""/>
            <p:cNvSpPr/>
            <p:nvPr/>
          </p:nvSpPr>
          <p:spPr>
            <a:xfrm>
              <a:off x="7005600" y="2658960"/>
              <a:ext cx="401760" cy="393840"/>
            </a:xfrm>
            <a:prstGeom prst="roundRect">
              <a:avLst>
                <a:gd name="adj" fmla="val 40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018200" y="2670120"/>
              <a:ext cx="3574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05640" y="2562120"/>
              <a:ext cx="11797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what do we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0920" y="3523680"/>
              <a:ext cx="1365120" cy="491400"/>
            </a:xfrm>
            <a:prstGeom prst="rect">
              <a:avLst/>
            </a:prstGeom>
            <a:noFill/>
            <a:ln w="7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Verdana"/>
                </a:rPr>
                <a:t>products busin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0920" y="4426560"/>
              <a:ext cx="1365120" cy="476280"/>
            </a:xfrm>
            <a:prstGeom prst="rect">
              <a:avLst/>
            </a:prstGeom>
            <a:noFill/>
            <a:ln w="7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Verdana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Verdana"/>
                </a:rPr>
                <a:t>organis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0920" y="5265360"/>
              <a:ext cx="1365120" cy="491400"/>
            </a:xfrm>
            <a:prstGeom prst="rect">
              <a:avLst/>
            </a:prstGeom>
            <a:noFill/>
            <a:ln w="72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Verdana"/>
                </a:rPr>
                <a:t>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Verdana"/>
                </a:rPr>
                <a:t>technolo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680320" y="5244840"/>
              <a:ext cx="424080" cy="516960"/>
              <a:chOff x="8680320" y="5244840"/>
              <a:chExt cx="424080" cy="516960"/>
            </a:xfrm>
          </p:grpSpPr>
          <p:sp>
            <p:nvSpPr>
              <p:cNvPr id="157" name=""/>
              <p:cNvSpPr/>
              <p:nvPr/>
            </p:nvSpPr>
            <p:spPr>
              <a:xfrm>
                <a:off x="8707320" y="5369040"/>
                <a:ext cx="39708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680320" y="5244840"/>
                <a:ext cx="416160" cy="385920"/>
                <a:chOff x="8680320" y="5244840"/>
                <a:chExt cx="416160" cy="3859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9047160" y="5597640"/>
                  <a:ext cx="49320" cy="33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8680320" y="5244840"/>
                  <a:ext cx="412920" cy="385920"/>
                  <a:chOff x="8680320" y="5244840"/>
                  <a:chExt cx="412920" cy="3859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8897760" y="5244840"/>
                    <a:ext cx="1800" cy="83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9042480" y="5316120"/>
                    <a:ext cx="50760" cy="6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flipV="1">
                    <a:off x="8680320" y="5333760"/>
                    <a:ext cx="61920" cy="60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>
                    <a:off x="8680320" y="5597640"/>
                    <a:ext cx="54000" cy="33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5" name=""/>
            <p:cNvGrpSpPr/>
            <p:nvPr/>
          </p:nvGrpSpPr>
          <p:grpSpPr>
            <a:xfrm>
              <a:off x="8667360" y="4273560"/>
              <a:ext cx="451080" cy="460440"/>
              <a:chOff x="8667360" y="4273560"/>
              <a:chExt cx="451080" cy="460440"/>
            </a:xfrm>
          </p:grpSpPr>
          <p:sp>
            <p:nvSpPr>
              <p:cNvPr id="166" name=""/>
              <p:cNvSpPr/>
              <p:nvPr/>
            </p:nvSpPr>
            <p:spPr>
              <a:xfrm>
                <a:off x="8697960" y="4397400"/>
                <a:ext cx="396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8902800" y="4273560"/>
                <a:ext cx="1440" cy="8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9059760" y="4343400"/>
                <a:ext cx="55800" cy="6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066240" y="4626000"/>
                <a:ext cx="5220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8667360" y="4362120"/>
                <a:ext cx="6660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668800" y="4626000"/>
                <a:ext cx="5724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623440" y="3481200"/>
              <a:ext cx="538200" cy="572400"/>
              <a:chOff x="8623440" y="3481200"/>
              <a:chExt cx="538200" cy="572400"/>
            </a:xfrm>
          </p:grpSpPr>
          <p:sp>
            <p:nvSpPr>
              <p:cNvPr id="173" name=""/>
              <p:cNvSpPr/>
              <p:nvPr/>
            </p:nvSpPr>
            <p:spPr>
              <a:xfrm>
                <a:off x="8658360" y="3605040"/>
                <a:ext cx="503280" cy="4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8623440" y="3481200"/>
                <a:ext cx="531720" cy="385920"/>
                <a:chOff x="8623440" y="3481200"/>
                <a:chExt cx="531720" cy="38592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8623440" y="3481200"/>
                  <a:ext cx="531720" cy="385920"/>
                  <a:chOff x="8623440" y="3481200"/>
                  <a:chExt cx="531720" cy="3859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V="1">
                    <a:off x="8901000" y="3481200"/>
                    <a:ext cx="1800" cy="83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>
                    <a:off x="9086760" y="3552840"/>
                    <a:ext cx="65160" cy="6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9093240" y="3833640"/>
                    <a:ext cx="61920" cy="33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flipV="1">
                    <a:off x="8623440" y="3570120"/>
                    <a:ext cx="77760" cy="60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8624880" y="3833640"/>
                  <a:ext cx="68400" cy="33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6786720" y="3321000"/>
              <a:ext cx="1758960" cy="2654280"/>
            </a:xfrm>
            <a:custGeom>
              <a:avLst/>
              <a:gdLst>
                <a:gd name="textAreaLeft" fmla="*/ 360 w 1758960"/>
                <a:gd name="textAreaRight" fmla="*/ 1758600 w 1758960"/>
                <a:gd name="textAreaTop" fmla="*/ 360 h 2654280"/>
                <a:gd name="textAreaBottom" fmla="*/ 2653920 h 2654280"/>
              </a:gdLst>
              <a:ahLst/>
              <a:rect l="textAreaLeft" t="textAreaTop" r="textAreaRight" b="textAreaBottom"/>
              <a:pathLst>
                <a:path w="21600" h="32592">
                  <a:moveTo>
                    <a:pt x="19" y="0"/>
                  </a:moveTo>
                  <a:arcTo wR="19" hR="19" stAng="16200000" swAng="-5400000"/>
                  <a:lnTo>
                    <a:pt x="0" y="32573"/>
                  </a:lnTo>
                  <a:arcTo wR="19" hR="19" stAng="10800000" swAng="-5400000"/>
                  <a:lnTo>
                    <a:pt x="21581" y="32592"/>
                  </a:lnTo>
                  <a:arcTo wR="19" hR="19" stAng="5400000" swAng="-5400000"/>
                  <a:lnTo>
                    <a:pt x="21600" y="19"/>
                  </a:lnTo>
                  <a:arcTo wR="19" hR="19" stAng="0" swAng="-5400000"/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40240" y="6012000"/>
              <a:ext cx="111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05640" y="6012000"/>
              <a:ext cx="11797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Verdana"/>
                  <a:ea typeface="HG Mincho Light J"/>
                </a:rPr>
                <a:t>when do we do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OT</a:t>
            </a: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olio as an examp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016000"/>
            <a:ext cx="79804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  <a:ea typeface="HG Mincho Light J"/>
              </a:rPr>
              <a:t>schedule for the 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1 summary of previous session (20 m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2 introduction to portfolio analysis (20 mi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3 list business areas (30 mi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4 place them in the portfolio (30 mi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5 compare with ROADmap (30 mi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6 update list of action points (15 m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7 sketch action plans for the best (30 m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451640" y="3492360"/>
            <a:ext cx="25210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Execu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kick off urgent one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ithout waiting for the Final Tru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ction plan for the re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spcBef>
                <a:spcPts val="451"/>
              </a:spcBef>
              <a:buClr>
                <a:srgbClr val="ff9933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ith an initial order of priority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9360" indent="-279360"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nagement system for contro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72880" y="4597200"/>
            <a:ext cx="1460520" cy="1956600"/>
            <a:chOff x="272880" y="4597200"/>
            <a:chExt cx="1460520" cy="1956600"/>
          </a:xfrm>
        </p:grpSpPr>
        <p:grpSp>
          <p:nvGrpSpPr>
            <p:cNvPr id="190" name=""/>
            <p:cNvGrpSpPr/>
            <p:nvPr/>
          </p:nvGrpSpPr>
          <p:grpSpPr>
            <a:xfrm>
              <a:off x="272880" y="5389560"/>
              <a:ext cx="741600" cy="572400"/>
              <a:chOff x="272880" y="5389560"/>
              <a:chExt cx="741600" cy="5724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440" y="5513400"/>
                <a:ext cx="635040" cy="4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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49440" y="5389560"/>
                <a:ext cx="1440" cy="8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901800" y="5459400"/>
                <a:ext cx="88920" cy="6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1160" y="5742000"/>
                <a:ext cx="8424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272880" y="5478480"/>
                <a:ext cx="105120" cy="60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76120" y="5742000"/>
                <a:ext cx="9072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50800" y="4721400"/>
              <a:ext cx="5032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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03280" y="4597200"/>
              <a:ext cx="571320" cy="385920"/>
              <a:chOff x="503280" y="4597200"/>
              <a:chExt cx="571320" cy="38592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801720" y="4597200"/>
                <a:ext cx="144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000080" y="4668840"/>
                <a:ext cx="69840" cy="6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8000" y="4950000"/>
                <a:ext cx="66600" cy="33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03280" y="4686120"/>
                <a:ext cx="8424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04360" y="4950000"/>
                <a:ext cx="73080" cy="33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100160" y="6161040"/>
              <a:ext cx="6159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</a:t>
              </a:r>
              <a:r>
                <a:rPr b="0" lang="en-GB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031400" y="6037200"/>
              <a:ext cx="702000" cy="385920"/>
              <a:chOff x="1031400" y="6037200"/>
              <a:chExt cx="702000" cy="3859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1398600" y="6037200"/>
                <a:ext cx="1440" cy="8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641600" y="6108840"/>
                <a:ext cx="85680" cy="6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650960" y="6389640"/>
                <a:ext cx="8244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031400" y="6126120"/>
                <a:ext cx="103320" cy="60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036800" y="6389640"/>
                <a:ext cx="87120" cy="3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1590840" y="5168880"/>
            <a:ext cx="1091880" cy="395280"/>
          </a:xfrm>
          <a:custGeom>
            <a:avLst/>
            <a:gdLst/>
            <a:ahLst/>
            <a:rect l="l" t="t" r="r" b="b"/>
            <a:pathLst>
              <a:path w="3034" h="1097">
                <a:moveTo>
                  <a:pt x="0" y="436"/>
                </a:moveTo>
                <a:lnTo>
                  <a:pt x="2247" y="878"/>
                </a:lnTo>
                <a:lnTo>
                  <a:pt x="2210" y="1096"/>
                </a:lnTo>
                <a:lnTo>
                  <a:pt x="3033" y="816"/>
                </a:lnTo>
                <a:lnTo>
                  <a:pt x="2356" y="244"/>
                </a:lnTo>
                <a:lnTo>
                  <a:pt x="2326" y="456"/>
                </a:lnTo>
                <a:lnTo>
                  <a:pt x="69" y="0"/>
                </a:lnTo>
                <a:lnTo>
                  <a:pt x="0" y="436"/>
                </a:lnTo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762280" y="4781520"/>
            <a:ext cx="5560920" cy="2190960"/>
            <a:chOff x="2762280" y="4781520"/>
            <a:chExt cx="5560920" cy="2190960"/>
          </a:xfrm>
        </p:grpSpPr>
        <p:sp>
          <p:nvSpPr>
            <p:cNvPr id="213" name=""/>
            <p:cNvSpPr/>
            <p:nvPr/>
          </p:nvSpPr>
          <p:spPr>
            <a:xfrm>
              <a:off x="2762280" y="4781520"/>
              <a:ext cx="5560920" cy="2190960"/>
            </a:xfrm>
            <a:prstGeom prst="roundRect">
              <a:avLst>
                <a:gd name="adj" fmla="val 69"/>
              </a:avLst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997360" y="4795920"/>
              <a:ext cx="5091120" cy="2176560"/>
              <a:chOff x="2997360" y="4795920"/>
              <a:chExt cx="5091120" cy="2176560"/>
            </a:xfrm>
          </p:grpSpPr>
          <p:pic>
            <p:nvPicPr>
              <p:cNvPr id="2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97360" y="4799160"/>
                <a:ext cx="509112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 flipH="1">
                <a:off x="5125680" y="4795920"/>
                <a:ext cx="17640" cy="2176560"/>
              </a:xfrm>
              <a:prstGeom prst="line">
                <a:avLst/>
              </a:prstGeom>
              <a:ln w="25200">
                <a:solidFill>
                  <a:srgbClr val="66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Contro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430200">
              <a:lnSpc>
                <a:spcPct val="100000"/>
              </a:lnSpc>
              <a:spcBef>
                <a:spcPts val="213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grouped into a progra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overseeing current projec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starting up new o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43020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guided by a steering group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regular management boar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specific strategy grou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43020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with rhythm &amp; rhy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weekly progress review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monthly status review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quarterly steering group review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7640" y="472680"/>
            <a:ext cx="772812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Down the ro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7980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430200">
              <a:lnSpc>
                <a:spcPct val="100000"/>
              </a:lnSpc>
              <a:spcBef>
                <a:spcPts val="213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planning into a continuous proc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reuse the same old valid tool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less effort required in follow-u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43020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periodic updat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how have individual assessments changed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what of i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30200" indent="-43020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120000"/>
              <a:buFont typeface="Wingdings" charset="2"/>
              <a:buChar char="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timing alternativ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one day each yea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73120" indent="-217440">
              <a:lnSpc>
                <a:spcPct val="100000"/>
              </a:lnSpc>
              <a:spcBef>
                <a:spcPts val="162"/>
              </a:spcBef>
              <a:buClr>
                <a:srgbClr val="ff9933"/>
              </a:buClr>
              <a:buFont typeface="Times New Roman"/>
              <a:buChar char="•"/>
              <a:tabLst>
                <a:tab algn="l" pos="1062000"/>
                <a:tab algn="l" pos="1976400"/>
                <a:tab algn="l" pos="2890800"/>
                <a:tab algn="l" pos="3805200"/>
                <a:tab algn="l" pos="4719600"/>
                <a:tab algn="l" pos="5634000"/>
                <a:tab algn="l" pos="6548400"/>
                <a:tab algn="l" pos="7462800"/>
                <a:tab algn="l" pos="8377200"/>
                <a:tab algn="l" pos="9291600"/>
                <a:tab algn="l" pos="102060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  <a:ea typeface="HG Mincho Light J"/>
              </a:rPr>
              <a:t>half a day twi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