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01B-3F37-4401-8634-681CA08E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0C6-D798-44E5-A9BB-DDCC9E1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07A-69CA-401B-A326-94F3008C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EF2-9363-4972-B54C-074453AC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86D-AFEE-4AEF-BC45-8F879747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C47-A113-4714-9870-28476EB4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55D-4A4A-425C-A77A-503C8B68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324-BAD4-443C-8C6E-2E8E019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23B-1523-466E-BC63-69F4499D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5CE-62F9-4855-923B-E8D19F5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76C-C09D-4F35-B55C-0D4B1D85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1FC-9CC3-4664-86FA-845AAE3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129D-4C2A-4402-8D25-D17D3D75E4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3640" y="1700280"/>
          <a:ext cx="4560840" cy="2608200"/>
        </p:xfrm>
        <a:graphic>
          <a:graphicData uri="http://schemas.openxmlformats.org/drawingml/2006/table">
            <a:tbl>
              <a:tblPr/>
              <a:tblGrid>
                <a:gridCol w="2281320"/>
                <a:gridCol w="2279520"/>
              </a:tblGrid>
              <a:tr h="1305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3880" y="1397160"/>
          <a:ext cx="40640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20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6920" y="1557360"/>
          <a:ext cx="2808360" cy="1440000"/>
        </p:xfrm>
        <a:graphic>
          <a:graphicData uri="http://schemas.openxmlformats.org/drawingml/2006/table">
            <a:tbl>
              <a:tblPr/>
              <a:tblGrid>
                <a:gridCol w="1404360"/>
                <a:gridCol w="14040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859280" y="1557360"/>
          <a:ext cx="2808360" cy="1440000"/>
        </p:xfrm>
        <a:graphic>
          <a:graphicData uri="http://schemas.openxmlformats.org/drawingml/2006/table">
            <a:tbl>
              <a:tblPr/>
              <a:tblGrid>
                <a:gridCol w="1404720"/>
                <a:gridCol w="1403640"/>
              </a:tblGrid>
              <a:tr h="72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           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3880" y="1397160"/>
          <a:ext cx="6072480" cy="426384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640"/>
                <a:gridCol w="1214280"/>
                <a:gridCol w="1214640"/>
              </a:tblGrid>
              <a:tr h="85248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52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52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23880" y="1397160"/>
          <a:ext cx="6072480" cy="426384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640"/>
                <a:gridCol w="1214280"/>
                <a:gridCol w="1214640"/>
              </a:tblGrid>
              <a:tr h="85248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ccccff"/>
                      </a:solidFill>
                    </a:lnR>
                    <a:lnT w="18720">
                      <a:solidFill>
                        <a:srgbClr val="ccccff"/>
                      </a:solidFill>
                    </a:lnT>
                    <a:lnB w="18720">
                      <a:solidFill>
                        <a:srgbClr val="ccccff"/>
                      </a:solidFill>
                    </a:lnB>
                    <a:noFill/>
                  </a:tcPr>
                </a:tc>
              </a:tr>
              <a:tr h="852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ccccff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33ccff"/>
                      </a:solidFill>
                    </a:lnR>
                    <a:lnT w="18720">
                      <a:solidFill>
                        <a:srgbClr val="33ccff"/>
                      </a:solidFill>
                    </a:lnT>
                    <a:lnB w="18720">
                      <a:solidFill>
                        <a:srgbClr val="33cc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ccff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52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ccff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33ccff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9999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ff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20364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ff99"/>
                      </a:solidFill>
                    </a:lnR>
                    <a:lnT>
                      <a:noFill/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99"/>
                      </a:solidFill>
                    </a:lnL>
                    <a:lnR w="18720">
                      <a:solidFill>
                        <a:srgbClr val="66ff99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18720">
                      <a:solidFill>
                        <a:srgbClr val="66ff99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99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18720">
                      <a:solidFill>
                        <a:srgbClr val="9966ff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ff"/>
                      </a:solidFill>
                    </a:lnL>
                    <a:lnR>
                      <a:noFill/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00cc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996633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966ff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33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996633"/>
                      </a:solidFill>
                    </a:lnT>
                    <a:lnB w="18720">
                      <a:solidFill>
                        <a:srgbClr val="996633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124000" y="765000"/>
          <a:ext cx="5977080" cy="52912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ff99"/>
                      </a:solidFill>
                    </a:lnR>
                    <a:lnT>
                      <a:noFill/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99"/>
                      </a:solidFill>
                    </a:lnL>
                    <a:lnR w="18720">
                      <a:solidFill>
                        <a:srgbClr val="66ff99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18720">
                      <a:solidFill>
                        <a:srgbClr val="66ff99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99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18720">
                      <a:solidFill>
                        <a:srgbClr val="9966ff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ff"/>
                      </a:solidFill>
                    </a:lnL>
                    <a:lnR>
                      <a:noFill/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00cc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996633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33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996633"/>
                      </a:solidFill>
                    </a:lnT>
                    <a:lnB w="18720">
                      <a:solidFill>
                        <a:srgbClr val="996633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ying</cp:lastModifiedBy>
  <dcterms:modified xsi:type="dcterms:W3CDTF">2012-09-07T07:31:47Z</dcterms:modified>
  <cp:revision>20</cp:revision>
  <dc:subject/>
  <dc:title>PowerPoint Presentation</dc:title>
</cp:coreProperties>
</file>