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2ABA-5C8A-463D-BF89-EA0ED2696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AFC3-B496-4F3B-9008-2BDFAC1BF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49F7-0C34-409F-97E6-728000CD8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C1FD-C5E5-4D18-A0DE-7AEBBAEC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3C531-224C-467A-A0CA-0817BDFEC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37DF-3B2A-4C06-9298-F0D3BDD23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2966C-D965-4CFF-8DB8-A1466E5BCB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262D-C952-4636-9990-2BF41F00EB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D85D6-D2B7-492B-8159-BD5531387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72844-0E23-4E07-9966-E9627A7F36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CE4F-CAB1-455B-9A8A-C8AC4A26A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00D3-9215-43BB-9922-B5E422148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6B4B2-B3B1-4821-84A8-70DDC64C1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5FD51-2C76-4473-B354-822348227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12D68-D00F-4290-99FD-2F3DD4D81A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5D8B0-47D2-4977-A997-084235EC7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37C72-7899-43C2-9693-CDC128CD0D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67665-48BC-48B2-8F98-4F2FA645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934D2-6BFC-4B88-A533-0EB7E1E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85EEF-5522-414F-8B47-E6CB6C49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4BA16-8851-4BC4-AA13-806410E5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C678D-84B0-4DF1-8313-5097E063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114A-2E90-4BAD-8E97-D487E2A72B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53D31-D0B3-4BF5-9FC6-5A09090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A61DE-E1BF-428A-B091-8399584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C3D07-4608-4676-81E2-2E296293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DDDF9-D1FD-4B2A-8AD4-6BFC130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97415-B589-4689-94CA-598586A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EC9CF-A2B9-435A-BC62-D161FB77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CD3F2-FAD2-44DB-A4BC-444A5924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817A-9886-406A-A0B3-402B25F6F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B16F-F00F-45FA-A20F-C23A3EC87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B5FB-8890-4FE8-B0E0-36A0E1CEE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4533-0947-4723-9D2B-0F082FF78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53F4-753E-45A3-AF81-B50F7CB0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7D2E-EFC9-49F5-9933-759EE944F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76D-B7FB-481B-84E5-5C3BAFF82F0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7440" y="6518160"/>
            <a:ext cx="3715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C21C-A037-486F-AA51-6B8528849FA3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D4C-51C7-4CB9-AE78-D0381EF1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% 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 3-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 % 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0040" y="1662120"/>
          <a:ext cx="65642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662120"/>
                    <a:ext cx="65642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0040" y="1662120"/>
          <a:ext cx="65642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662120"/>
                    <a:ext cx="65642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Grap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3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52:52Z</dcterms:created>
  <dc:creator>Gujjari Achala</dc:creator>
  <dc:description/>
  <cp:keywords/>
  <dc:language>en-US</dc:language>
  <cp:lastModifiedBy>Gujjari Achala</cp:lastModifiedBy>
  <cp:lastPrinted>1998-09-04T08:04:32Z</cp:lastPrinted>
  <dcterms:modified xsi:type="dcterms:W3CDTF">2010-10-05T11:58:41Z</dcterms:modified>
  <cp:revision>1</cp:revision>
  <dc:subject/>
  <dc:title>100% Stacked  Bar Chart 3-d   </dc:title>
</cp:coreProperties>
</file>