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1AD-798C-4698-A085-85D994A5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399-3885-497F-B7E9-6A2CF15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188-056A-47B4-A468-BF138A96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508-E1A6-48BD-9031-BC17BD98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15E50-3D18-4BAB-82CB-E5DF12156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5242-658A-4EE2-9328-1C4DB270C8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317DE-93D7-46C3-BF59-E1F7B5A73E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B7808-4EE8-40C7-81BE-FB299A619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663F0-B9D4-4CA9-AF56-CF4C45068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6B4B-1C5C-456A-8DD3-31AE6E1F6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B606-5301-41B6-93AD-0DECD22D4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0FE-3038-4709-986F-2F6ABBE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C1A8-69FA-40DE-8101-21B1F57830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BFD3-8E80-4260-B517-65E1690C7B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C56E5-EFC8-4C7D-8847-3068B2AD73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3C17-4830-4D37-B234-293947D2A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3A0C5-0C21-4D71-AB29-618AA81A12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688-2A9D-4878-AC2F-B2E51DFA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2E9-A009-4B8A-B2A3-C66ACBC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845-99F4-4750-A85B-6D5715C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B53-17B9-4AE7-B188-F7DDB8B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E00-7E42-4BF8-9A1D-A10998A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8C9-2E99-4579-A00A-9C0893F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DB9-BE6F-40B3-9CE6-39CAEF8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5655-5BA1-4C82-8C7B-35C534DC5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568760" y="658296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F5BA-F740-401C-97AD-69C520E39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4568760" y="658332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760" y="242640"/>
            <a:ext cx="8882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ern Region Hazardous No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52360" y="1380960"/>
          <a:ext cx="867564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80960"/>
                    <a:ext cx="867564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55:58Z</dcterms:created>
  <dc:creator>IBM_USER</dc:creator>
  <dc:description/>
  <dc:language>en-US</dc:language>
  <cp:lastModifiedBy>IBM_USER</cp:lastModifiedBy>
  <dcterms:modified xsi:type="dcterms:W3CDTF">2012-05-30T02:57:28Z</dcterms:modified>
  <cp:revision>1</cp:revision>
  <dc:subject/>
  <dc:title>Southern Region Hazardous No Bills</dc:title>
</cp:coreProperties>
</file>