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A75-738A-4ABD-80C2-E117CEB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9A1-CBF0-4678-B644-CC871064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347-890C-424A-AFF9-E247D1FD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950-DA73-4CA2-8B02-8895488A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75D-4EAF-42ED-90E8-BEE95F37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393-6EBF-41B3-82D6-5F74AB9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F3-EF46-4DD5-8811-DB3124B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6C0-4558-4DC6-9C8E-67DEABB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51C-8B4E-4453-8336-F43161C1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F81-47CB-4C99-9F81-C58028B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9C3-EA44-439E-AAEC-F81312A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87A-8942-4915-B789-CD2D9CE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1D9-B09C-47A8-93D7-7250D8FC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gears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gif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icrosoft office default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5638680"/>
            <a:ext cx="1228680" cy="72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609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lides were originally made in Microsoft Office PowerPoint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on jumping (music vide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mpg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5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domin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wmv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52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o monty pyth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avi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58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ver win (music vide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avi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24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pping ha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v format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icrosoft office default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rabbit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mp3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519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ncan sheik – barely brea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wav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7222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2:50:50Z</dcterms:created>
  <dc:creator>Zax</dc:creator>
  <dc:description/>
  <dc:language>en-US</dc:language>
  <cp:lastModifiedBy>Zax</cp:lastModifiedBy>
  <dcterms:modified xsi:type="dcterms:W3CDTF">2008-09-10T23:27:25Z</dcterms:modified>
  <cp:revision>9</cp:revision>
  <dc:subject/>
  <dc:title>Slide 1</dc:title>
</cp:coreProperties>
</file>