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2AB2-64B1-4CDD-B751-83FA1CF8925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3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0BF-0613-4365-BE9E-7FC7370D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391-2635-468D-9A64-CEA4BD1B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235-25BE-4CF0-A7A7-07793966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DCE-57EA-46A1-A6D1-98453D4A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FD4B-C26B-4A73-B765-E7552D19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3A54-FC57-4EC7-B7D1-9249D645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14AE-67DF-42E1-BBB6-0A1ACC67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6CED-B654-41CC-8CAA-070D14C2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3448-E0AE-4617-893C-AA9DC493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EF5C-4291-42E1-8B44-9D01DF7D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1AEC-F37B-4C6E-9EF4-FF8E82E7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6F4-1464-41F8-924A-550E5BA7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7316-AF8A-421A-8E7C-CA2718BB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29E7-F5C8-450F-AAE8-4AC183F2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743F-9F16-4587-85D7-9D042356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33F3-8D5C-40A7-B03C-BD228610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31BC-05CA-4AB5-9D4F-54DC050B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1E8-F0F1-4C88-ABE4-C2560C51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39E-BE0B-4A5D-B912-7A008B65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B0D-E6AA-424F-8349-8D44D98E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7FD-9087-4DB8-941B-AD200AAE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19A-74D3-4B8E-9D69-7B10651B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660-FDF0-45FC-848B-13E95977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DED-721E-4CEC-884D-5E6E713B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24B4-4178-45FB-8056-9234D199E51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E600-A5D7-4E40-9450-E08F0FA3719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478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34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6960" indent="-4179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6960" indent="-4179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6960" indent="-4179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6960" indent="-4179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6960" indent="-4179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ong Qiyao</cp:lastModifiedBy>
  <dcterms:modified xsi:type="dcterms:W3CDTF">2007-07-20T05:16:40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