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2D0E-158B-447A-B9D3-A137A4F97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51B6-2783-4898-B8EC-05133889A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C701-A0FF-426B-BFC7-A92F94830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0930-36AF-4AFF-803D-F85B68F41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8497F-C1CE-4450-A506-933170B939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A626D-F87A-46D9-9F4A-E8C8F84ACF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5803F-F901-470E-8D8B-12AA57A5A1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3F1D5-043A-473E-94DD-165773670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FE89D-92E1-456C-9675-883E6563A1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43C5A-9179-451D-9D98-FDEFEF9B5A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0EB1D-65D3-4775-9115-A8F508AAB7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97DA-3C52-4C27-AC16-595E25E1A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7677F-A84E-49FD-8F9D-DE8B8C1B26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26CEB-4434-4410-8F4E-B051ECA9A5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35DF4-D2A1-475A-B1B6-3F5E67430A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F6C99-83DC-47A3-BAFD-0C2AF8B39D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EBC82-A37E-401B-B07C-2657E0C5F7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4E7FF-0FD2-4A03-B820-0D803D21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23A16-D6DE-4EA2-9E4A-0E20686C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ACB63-154F-4091-AE13-FA8EE4BD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80F5A-275F-45F8-9C26-AFA992C9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A1C83-FDDE-4CDC-B475-55C3B70D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35F4-F5F3-4DE6-A94E-A31F489291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6D940-EA7B-479A-9EEC-B5F46CBE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4D1903-6146-4897-9F04-8995AA4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BE5BD-87BC-4E90-8498-790E8D42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716EB-08BB-4E6D-881E-B7744D2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DB362-9A04-4CDE-8BAD-5D9BCD1B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171B4-C572-4D70-AC97-56B53B2C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8895B-0D51-41C4-8814-6707E0F7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815E-D5E3-4BBE-A332-680DF63DE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B6EA-4E1D-44D6-AE0E-45D9D88A1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04DF-3CB4-4D7C-A08C-DED8D3154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AA8E-710C-472D-AA0F-A864DC32C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9ECF-D310-4D39-B969-284B2C3DC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82AD-2310-4860-8744-A6BB4950A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F501-8872-4970-8720-B7F0EF6506A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5BB3-E840-435C-B5BA-C23DBF5157C8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8E84-EE6A-41D3-8829-FAA1B876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81160" y="2911320"/>
            <a:ext cx="830160" cy="8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89160" y="4521240"/>
            <a:ext cx="579600" cy="58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75040" y="2835360"/>
            <a:ext cx="638280" cy="67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02120" y="4303800"/>
            <a:ext cx="519120" cy="81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37160" y="2852640"/>
            <a:ext cx="812880" cy="64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19880" y="4421160"/>
            <a:ext cx="796680" cy="83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03:30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8T08:06:49Z</dcterms:modified>
  <cp:revision>2</cp:revision>
  <dc:subject/>
  <dc:title>Slide 1</dc:title>
</cp:coreProperties>
</file>