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CEFB-79B0-4992-B30D-4D0D719BA44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5904-F53C-44A9-979A-C5E445D502B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1E9A-6383-427D-B241-BE1EDCA1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7DB5-CCFA-4A62-8A4B-6B6F07B2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E11-A1E4-4A6D-B983-2422206A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E3B7-34C9-44CF-8BF4-4FFB4D93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F384-2578-42D3-BDD9-C50C27AC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5764-A3CB-483F-80C4-B0136091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7280-7B2B-4ED0-9EA5-1369714E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4EB2-92AC-4394-8F15-C88A743E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F87C-AA8D-4DA1-8A14-0580ECE1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3507-8633-49D5-BE88-C67CC667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888B-7BC1-4395-B157-5B613F50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C4DF-3E43-4B9C-BABB-756F1550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4349-C6CA-48DD-862F-78C4BCE1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40E4-3235-49FA-8B45-06FA9A7A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76FA-DCF3-4BD6-B314-B4A2732C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9D58-D098-4690-8432-D42311E4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2FAB-ACE6-4187-81E9-92A300EF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0269-A7D7-4CA0-A8BE-26D7BA65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24F0-ABA0-42F4-A240-848950EB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89C-86E4-43FE-AF02-1F7AC4DD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C93-011A-4395-B831-0C8B4462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3C1-198B-41CE-91D2-C3801612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D734-7578-4FA9-A03C-40BB2FBD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C5C7-31B6-4688-9DE2-98C7289B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CF8C-EA38-4C12-BDBE-C9BDFB867306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2823-5D9F-4044-B6F8-5B65FF5BBD91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ecs.bvs.br/cgi-bin/wxis1660.exe/decsserver/?IsisScript=../cgi-bin/decsserver/decsserver.xis&amp;task=exact_term&amp;previous_page=homepage&amp;interface_language=p&amp;search_language=p&amp;search_exp=Papillomavirus%20Humano&amp;show_tree_number=T" TargetMode="External"/><Relationship Id="rId2" Type="http://schemas.openxmlformats.org/officeDocument/2006/relationships/hyperlink" Target="http://decs.bvs.br/cgi-bin/wxis1660.exe/decsserver/?IsisScript=../cgi-bin/decsserver/decsserver.xis&amp;task=exact_term&amp;previous_page=homepage&amp;interface_language=p&amp;search_language=p&amp;search_exp=Infec&#231;&#245;es%20Tumorais%20por%20V&#237;rus&amp;show_tree_number=T" TargetMode="External"/><Relationship Id="rId3" Type="http://schemas.openxmlformats.org/officeDocument/2006/relationships/hyperlink" Target="http://decs.bvs.br/cgi-bin/wxis1660.exe/decsserver/?IsisScript=../cgi-bin/decsserver/decsserver.xis&amp;task=exact_term&amp;previous_page=homepage&amp;interface_language=p&amp;search_language=p&amp;search_exp=/patologia&amp;show_tree_number=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B3C1-1DC7-47D4-9C64-18F80B2AF862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Arial"/>
              </a:rPr>
              <a:t>Analysis procedure (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simulating the authoring/Self-Publishing tool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4857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d4d4d"/>
                </a:solidFill>
                <a:latin typeface="Arial"/>
              </a:rPr>
              <a:t>CAMARA, Geni NL, CERQUEIRA, Daniela M, OLIVEIRA, Ana PG</a:t>
            </a:r>
            <a:r>
              <a:rPr b="1" i="1" lang="pt-BR" sz="1200" spc="-1" strike="noStrike">
                <a:solidFill>
                  <a:srgbClr val="4d4d4d"/>
                </a:solidFill>
                <a:latin typeface="Arial"/>
              </a:rPr>
              <a:t> et al</a:t>
            </a:r>
            <a:r>
              <a:rPr b="1" lang="pt-BR" sz="1200" spc="-1" strike="noStrike">
                <a:solidFill>
                  <a:srgbClr val="4d4d4d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Prevalence of human papillomavirus types in women with pre-neoplastic and neoplastic cervical lesions in the Federal District of Brazil.</a:t>
            </a:r>
            <a:r>
              <a:rPr b="1" i="1" lang="en-US" sz="1200" spc="-1" strike="noStrike">
                <a:solidFill>
                  <a:srgbClr val="4d4d4d"/>
                </a:solidFill>
                <a:latin typeface="Arial"/>
              </a:rPr>
              <a:t> Mem. Inst. </a:t>
            </a:r>
            <a:r>
              <a:rPr b="1" i="1" lang="pt-BR" sz="1200" spc="-1" strike="noStrike">
                <a:solidFill>
                  <a:srgbClr val="4d4d4d"/>
                </a:solidFill>
                <a:latin typeface="Arial"/>
              </a:rPr>
              <a:t>Oswaldo Cruz</a:t>
            </a:r>
            <a:r>
              <a:rPr b="1" lang="pt-BR" sz="1200" spc="-1" strike="noStrike">
                <a:solidFill>
                  <a:srgbClr val="4d4d4d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[online]. Oct. 2003, vol.98, no.7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3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Step 1- Type of reasoning is identified: experimental-dedu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Step 2-“elements of knowledge” are identified in the text as the main hypothesis stated by the auth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HPV causes pre-neoplastic and neoplastic cervical lesions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Knowledge as a relation: Antecedent: HP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Type of Relation: c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Consequent: pre-neoplastic and neoplastic cervical les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Step 3-Each of these elements is mapped to “Public Knowledge” - UMLS, UMLS Semantic Network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Papillomavirus, Human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Causes” , UMLS Semantic network relation T1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0066ff"/>
                </a:solidFill>
                <a:uFillTx/>
                <a:latin typeface="Arial"/>
              </a:rPr>
              <a:t>Colonic Neoplasms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Tumor Vírus Infections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pt-BR" sz="12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pathology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200"/>
            </a:b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Tumor Vírus Infections /vir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d4d4d"/>
                </a:solidFill>
                <a:latin typeface="Arial"/>
              </a:rPr>
              <a:t>*We used DECS, portuguese version of MESH – Medical Subject Headings -, the main Vocabulary in UM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2:53:48Z</dcterms:created>
  <dc:creator>Carlos H. Marcondes</dc:creator>
  <dc:description/>
  <dc:language>en-US</dc:language>
  <cp:lastModifiedBy>svegesna</cp:lastModifiedBy>
  <dcterms:modified xsi:type="dcterms:W3CDTF">2011-04-14T09:17:09Z</dcterms:modified>
  <cp:revision>148</cp:revision>
  <dc:subject/>
  <dc:title>A proposed model of knowledge representation and coding of knowledge embedded in texts of Web published scientific articles</dc:title>
</cp:coreProperties>
</file>