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B7AA1-7820-4C9A-BF8B-6F9A7E232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B3FDF-B5A7-40AE-AA22-7A4EFF68F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92490-D1F4-4ED0-B9CD-8AE022CB0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D2E1B-8C97-4E1F-A12E-B96D4AD20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2F0A7-5642-402C-9ABD-748C70479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DA1ED-AE65-453D-988B-72BA1E4CC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1D1E5-97B6-4FEC-A67C-567EA63FF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26738-5356-4CC5-8E9E-1D65C53B3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20605-DBC8-43E1-9AF1-850B09C0C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11527-1673-42A0-8CE5-5C305139C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C0F5A-C943-42C3-9B1F-DC9517E82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84E3A-5092-458D-90FE-44F491A3C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339C6F-1FA4-4564-B97E-EE5C238C863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501480" y="3747960"/>
          <a:ext cx="7094880" cy="3002400"/>
        </p:xfrm>
        <a:graphic>
          <a:graphicData uri="http://schemas.openxmlformats.org/drawingml/2006/table">
            <a:tbl>
              <a:tblPr/>
              <a:tblGrid>
                <a:gridCol w="1114560"/>
                <a:gridCol w="1114920"/>
                <a:gridCol w="1114920"/>
                <a:gridCol w="1114920"/>
                <a:gridCol w="2635560"/>
              </a:tblGrid>
              <a:tr h="1029960">
                <a:tc>
                  <a:txBody>
                    <a:bodyPr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r h="1972440">
                <a:tc>
                  <a:txBody>
                    <a:bodyPr lIns="90000" rIns="90000" tIns="25200" bIns="46800" anchor="ctr">
                      <a:noAutofit/>
                    </a:bodyPr>
                    <a:p>
                      <a:pPr>
                        <a:lnSpc>
                          <a:spcPct val="80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rPr>
                        <a:t>When the FM200 gas is released the gas will not be contained due to the HVAC vents do not close upon discharge, also it was unknown if the room was pressure tested to ensure gas containment</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30240" bIns="46800" anchor="ctr">
                      <a:noAutofit/>
                    </a:bodyPr>
                    <a:p>
                      <a:pPr>
                        <a:lnSpc>
                          <a:spcPct val="80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nsure the HVAC shuts down and vents close to ensure gas containment, also have the room pressure tested to ensure gas containment for the manufacturers specified time</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25200" bIns="46800" anchor="ctr">
                      <a:noAutofit/>
                    </a:bodyPr>
                    <a:p>
                      <a:pPr>
                        <a:lnSpc>
                          <a:spcPct val="80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rPr>
                        <a:t>When the FM200 gas is released the gas will not be contained due to the HVAC vents do not close upon discharge, also it was unknown if the room was pressure tested to ensure gas containment</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30240" bIns="46800" anchor="ctr">
                      <a:noAutofit/>
                    </a:bodyPr>
                    <a:p>
                      <a:pPr>
                        <a:lnSpc>
                          <a:spcPct val="80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nsure the HVAC shuts down and vents close to ensure gas containment, also have the room pressure tested to ensure gas containment for the manufacturers specified time</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17:22:34Z</dcterms:created>
  <dc:creator>Taymour El Erian</dc:creator>
  <dc:description/>
  <dc:language>en-US</dc:language>
  <cp:lastModifiedBy/>
  <cp:revision>1</cp:revision>
  <dc:subject/>
  <dc:title/>
</cp:coreProperties>
</file>