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55360" y="418608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5580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088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604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5536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088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604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5360" y="630360"/>
            <a:ext cx="89773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5580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6a0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120" y="6865560"/>
            <a:ext cx="2759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2e64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&lt;date/time&gt;</a:t>
            </a: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 - slide #</a:t>
            </a:r>
            <a:fld id="{5ACFB7CB-CCC5-47E1-B943-7B4A9969F045}" type="slidenum">
              <a:rPr b="0" lang="en-GB" sz="1200" spc="-1" strike="noStrike">
                <a:solidFill>
                  <a:srgbClr val="002e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3960" y="6845040"/>
            <a:ext cx="39434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2e64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" name=""/>
          <p:cNvCxnSpPr>
            <a:stCxn id="41" idx="1"/>
          </p:cNvCxnSpPr>
          <p:nvPr/>
        </p:nvCxnSpPr>
        <p:spPr>
          <a:xfrm flipH="1" flipV="1" rot="5400000">
            <a:off x="4608000" y="5284440"/>
            <a:ext cx="721440" cy="78480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2" name=""/>
          <p:cNvCxnSpPr>
            <a:stCxn id="43" idx="1"/>
          </p:cNvCxnSpPr>
          <p:nvPr/>
        </p:nvCxnSpPr>
        <p:spPr>
          <a:xfrm flipV="1" rot="16200000">
            <a:off x="4999320" y="5675040"/>
            <a:ext cx="721440" cy="288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</p:cNvCxnSpPr>
          <p:nvPr/>
        </p:nvCxnSpPr>
        <p:spPr>
          <a:xfrm flipV="1" rot="16200000">
            <a:off x="5392440" y="5282280"/>
            <a:ext cx="721440" cy="78876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1" name=""/>
          <p:cNvSpPr/>
          <p:nvPr/>
        </p:nvSpPr>
        <p:spPr>
          <a:xfrm>
            <a:off x="42624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1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4684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2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32360" y="6037200"/>
            <a:ext cx="62892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3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8440" y="6037200"/>
            <a:ext cx="1179720" cy="39060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preadsheet or 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Manual Input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4741920"/>
            <a:ext cx="1729080" cy="576360"/>
          </a:xfrm>
          <a:prstGeom prst="flowChartProcess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Third Party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  <p:cxnSp>
        <p:nvCxnSpPr>
          <p:cNvPr id="49" name=""/>
          <p:cNvCxnSpPr>
            <a:stCxn id="50" idx="1"/>
            <a:endCxn id="48" idx="2"/>
          </p:cNvCxnSpPr>
          <p:nvPr/>
        </p:nvCxnSpPr>
        <p:spPr>
          <a:xfrm flipH="1" flipV="1" rot="5400000">
            <a:off x="7123320" y="5285880"/>
            <a:ext cx="719280" cy="78408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1" name=""/>
          <p:cNvCxnSpPr>
            <a:stCxn id="52" idx="1"/>
            <a:endCxn id="48" idx="2"/>
          </p:cNvCxnSpPr>
          <p:nvPr/>
        </p:nvCxnSpPr>
        <p:spPr>
          <a:xfrm flipV="1" rot="16200000">
            <a:off x="7516080" y="5677200"/>
            <a:ext cx="719280" cy="108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770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1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6144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2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5360" y="630000"/>
            <a:ext cx="89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56a0d5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 flipV="1">
            <a:off x="1949040" y="5209560"/>
            <a:ext cx="785160" cy="789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 rot="10800000">
            <a:off x="2731320" y="5209560"/>
            <a:ext cx="788040" cy="789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åvard Bjåstad</dc:creator>
  <dc:description>Håvard Bjåstad</dc:description>
  <dc:language>en-US</dc:language>
  <cp:lastModifiedBy>Håvard Bjåstad</cp:lastModifiedBy>
  <cp:revision>0</cp:revision>
  <dc:subject/>
  <dc:title>Tech discussion 2006-11-03</dc:title>
</cp:coreProperties>
</file>