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123-8A04-4DE7-991D-E2357C83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BE1-30A3-45FC-8402-89BCCC25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B8D-F2D1-4A1E-9E28-21AA33A2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60B-3088-4BCC-80BD-0A660331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9F2-B4B7-4F22-A438-B8175DDA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C30-0935-4C7C-9A48-1BF4E2E2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6D4-8C37-4FD8-B8B2-88BF1215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9DE-DAF7-4688-BB84-842EE94A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3B2-BAF3-4B8D-9BE6-A9A2949A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243B-76C4-4C97-B5F5-BB92362F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723-3E4F-463E-819E-451D54AA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797B-FE0D-4B23-8355-13EE6F6F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9BE0-89B8-47C1-9FF9-7199FC855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036040" y="1380240"/>
            <a:ext cx="1551240" cy="25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ＭＳ Ｐ明朝"/>
              </a:rPr>
              <a:t>コンピューター</a:t>
            </a:r>
            <a:endParaRPr b="0" lang="en-US" sz="2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82960" y="476280"/>
            <a:ext cx="1552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ＭＳ Ｐ明朝"/>
              </a:rPr>
              <a:t>コンピューター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ＭＳ Ｐ明朝"/>
              <a:ea typeface="ＭＳ Ｐ明朝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797440" y="3068640"/>
            <a:ext cx="28083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ＭＳ Ｐ明朝"/>
              </a:rPr>
              <a:t>「今日は、いい天気です。」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ＭＳ Ｐ明朝"/>
              <a:ea typeface="ＭＳ Ｐ明朝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3800880" y="4704480"/>
            <a:ext cx="2808360" cy="257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ＭＳ Ｐ明朝"/>
              </a:rPr>
              <a:t>「今日は、いい天気です。」</a:t>
            </a:r>
            <a:endParaRPr b="0" lang="en-US" sz="2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45" name=""/>
          <p:cNvSpPr/>
          <p:nvPr/>
        </p:nvSpPr>
        <p:spPr>
          <a:xfrm>
            <a:off x="4890960" y="733320"/>
            <a:ext cx="760680" cy="82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5200" y="981000"/>
            <a:ext cx="484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ese glyphs differ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e vertical one is not rendered by ro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t is rendered with a vertical substitution gly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509800" y="3357720"/>
            <a:ext cx="11509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7240" y="37893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o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436720" y="3429000"/>
            <a:ext cx="302436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8320" y="4653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o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659640" y="333360"/>
            <a:ext cx="158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ＭＳ Ｐ明朝"/>
              </a:rPr>
              <a:t>ー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ＭＳ Ｐ明朝"/>
              <a:ea typeface="ＭＳ Ｐ明朝"/>
            </a:endParaRPr>
          </a:p>
        </p:txBody>
      </p:sp>
      <p:sp>
        <p:nvSpPr>
          <p:cNvPr id="52" name=""/>
          <p:cNvSpPr txBox="1"/>
          <p:nvPr/>
        </p:nvSpPr>
        <p:spPr>
          <a:xfrm rot="5400000">
            <a:off x="6445800" y="1772280"/>
            <a:ext cx="1551240" cy="25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ＭＳ Ｐ明朝"/>
              </a:rPr>
              <a:t>ー</a:t>
            </a:r>
            <a:endParaRPr b="0" lang="en-US" sz="2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53" name=""/>
          <p:cNvSpPr/>
          <p:nvPr/>
        </p:nvSpPr>
        <p:spPr>
          <a:xfrm>
            <a:off x="5940360" y="1700280"/>
            <a:ext cx="1152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54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7280" y="2610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コンピュータ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86840" y="2681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ｺﾝﾋﾟｭｰﾀ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59760" y="2633400"/>
            <a:ext cx="4546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コンピュータ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76120" y="2990520"/>
            <a:ext cx="45468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ｺﾝﾋﾟｭｰﾀ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85840" y="4003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25320" y="5424840"/>
            <a:ext cx="45468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「今日は、いい天気です。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57800" y="450864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「今日は、いい天気です。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276640"/>
            <a:ext cx="4392360" cy="44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5800" y="2276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Text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7080" y="1890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ord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89000"/>
            <a:ext cx="8640720" cy="6553080"/>
          </a:xfrm>
          <a:custGeom>
            <a:avLst/>
            <a:gdLst/>
            <a:ahLst/>
            <a:rect l="l" t="t" r="r" b="b"/>
            <a:pathLst>
              <a:path w="5443" h="4128">
                <a:moveTo>
                  <a:pt x="0" y="0"/>
                </a:moveTo>
                <a:lnTo>
                  <a:pt x="0" y="1270"/>
                </a:lnTo>
                <a:lnTo>
                  <a:pt x="2857" y="1270"/>
                </a:lnTo>
                <a:lnTo>
                  <a:pt x="2857" y="4128"/>
                </a:lnTo>
                <a:lnTo>
                  <a:pt x="5443" y="4128"/>
                </a:lnTo>
                <a:lnTo>
                  <a:pt x="5443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3141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Half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8520" y="31417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Full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6:06:16Z</dcterms:created>
  <dc:creator>　</dc:creator>
  <dc:description/>
  <dc:language>en-US</dc:language>
  <cp:lastModifiedBy>　</cp:lastModifiedBy>
  <dcterms:modified xsi:type="dcterms:W3CDTF">2009-01-09T19:09:08Z</dcterms:modified>
  <cp:revision>3</cp:revision>
  <dc:subject/>
  <dc:title>スライド 1</dc:title>
</cp:coreProperties>
</file>