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BC9-93F6-4C7B-8525-1924D20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287-BA23-49F2-AF19-1C4F185F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08E-B6C9-497E-9E9B-4E242AD2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7FF-F183-43B5-B5DC-60019F3D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3C1-1DD8-4983-8F36-7212986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FAE-ACFD-40C3-AB84-05E69B12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7F8-E28D-4A39-8ED1-BB2841F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362-900A-4903-B9AB-1B2E0443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4B3-84DF-4CBE-8BF5-A7C9C51C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FD6-D5FF-4E58-8908-D1914B2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58C-3FD9-4DDE-9B67-999DD69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E58-36E1-4C61-9BBF-48152ED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CF91-1112-481D-B053-F750AD458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area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10-08T13:53:41Z</dcterms:modified>
  <cp:revision>3</cp:revision>
  <dc:subject/>
  <dc:title>PowerPoint Presentation</dc:title>
</cp:coreProperties>
</file>