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184-7487-4DC0-B93D-4107E17D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6A9-3EB7-4FC5-8B12-DA5F0FEB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98D-9BC9-4995-AD9A-A2A33083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0F5-F431-4DAC-B071-CE9DC0F7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D16-ECF4-4DF0-AD95-187E92FA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A73-BCE5-45C3-9801-084472F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601-8473-4926-AD29-1C241711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247-8F37-46CE-B4F2-4552777D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B09-0D8A-448B-8608-41B993EA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E23-2BED-4658-9438-F57E4B3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AF3-78A5-4D7D-BAAF-B16A329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DFF-7AAB-4E9A-82A6-5D47C719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DE2E-E1EE-4CDE-8D8A-A1F222184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50:22Z</dcterms:created>
  <dc:creator>Erik Christiansson</dc:creator>
  <dc:description/>
  <dc:language>en-US</dc:language>
  <cp:lastModifiedBy>Erik Christiansson</cp:lastModifiedBy>
  <dcterms:modified xsi:type="dcterms:W3CDTF">2005-11-28T13:50:25Z</dcterms:modified>
  <cp:revision>1</cp:revision>
  <dc:subject/>
  <dc:title>Title</dc:title>
</cp:coreProperties>
</file>