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DCC7-FE24-4E94-A05F-D9BE78543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3D77-7E6A-489E-95E1-FED6C703C9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8DB-CFA0-4EF2-A2F0-7EF7F067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FF9E-0C14-4921-860B-DA9A0659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8B0-76EB-49F6-9E5D-65A7AEDD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7483-6C55-405F-8F36-7BA884F0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603-B44D-405B-AED4-5FD8DF66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D35-5173-41F4-AD54-7F06FA3B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C87A-082A-4F17-B8F8-22DBD4DE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8F9-4B9D-4F57-BF17-64400E0F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E683-824E-409E-96A1-37C33A17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F4AB-FE9F-457D-BCCE-DECC9FE1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56E8-EE77-4038-AF8A-2E7F32A8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C99B-9D5E-47B2-833B-520FC9B3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able-driven parsing</a:t>
            </a:r>
            <a:fld id="{BF9FBF7F-D312-4206-B30C-0D2A8631F6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uting Follow (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        TE’     |  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’        +TE’   |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         FT’    |   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’         *FT’   |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          id       |  (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 (E) = {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,  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}    Follow (E’) = {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, 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 (T)  = First (E’ ) + Follow (E’) = {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+, ), 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 (T’) = Follow (T) = {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+, ), 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 (F) = First (T’) + Follow (T’) =   {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*, +, ), 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600200" y="2209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600200" y="2590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6"/>
          <p:cNvSpPr/>
          <p:nvPr/>
        </p:nvSpPr>
        <p:spPr>
          <a:xfrm>
            <a:off x="1600200" y="2971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>
            <a:off x="1600200" y="3276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600200" y="3657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8:58:33Z</dcterms:created>
  <dc:creator/>
  <dc:description/>
  <dc:language>en-US</dc:language>
  <cp:lastModifiedBy/>
  <dcterms:modified xsi:type="dcterms:W3CDTF">2011-04-27T08:58:36Z</dcterms:modified>
  <cp:revision>1</cp:revision>
  <dc:subject/>
  <dc:title/>
</cp:coreProperties>
</file>