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A51-BFC6-4CB0-9E06-8B374BDF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BF4-4D81-4476-A3A3-7FF2ED66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D41-2542-420A-89EA-CD12CD63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305-64A6-4BF0-947A-C95C24C2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319-0154-4770-AEF0-AA89FE44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C4E-0355-4294-9780-A9FF3D93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EFF-9AFE-4FB3-8A72-5A633D9D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69F-6806-4C2B-8BCB-4F680680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920-8448-4331-B56B-75BE3AAA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BFC-7F54-449D-90A1-9D5B8C33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5F5-BB51-4278-9E90-288F6C78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3F1-BA33-4BF6-863C-2CA9CFA3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8AA9-0B49-4178-90FC-3669CE70D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name: Alternative text for group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points (MS): Format Object…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ternative text: ” Group Objec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points (AOO): Description…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scription : ” Group Objec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523880" y="3048120"/>
            <a:ext cx="5334120" cy="2361960"/>
            <a:chOff x="1523880" y="3048120"/>
            <a:chExt cx="5334120" cy="2361960"/>
          </a:xfrm>
        </p:grpSpPr>
        <p:sp>
          <p:nvSpPr>
            <p:cNvPr id="43" name=""/>
            <p:cNvSpPr/>
            <p:nvPr/>
          </p:nvSpPr>
          <p:spPr>
            <a:xfrm>
              <a:off x="1523880" y="4343400"/>
              <a:ext cx="205740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72000" y="3048120"/>
              <a:ext cx="228600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1:58:01Z</dcterms:created>
  <dc:creator>wctsvt</dc:creator>
  <dc:description/>
  <dc:language>en-US</dc:language>
  <cp:lastModifiedBy>crystal</cp:lastModifiedBy>
  <dcterms:modified xsi:type="dcterms:W3CDTF">2012-09-12T08:14:58Z</dcterms:modified>
  <cp:revision>12</cp:revision>
  <dc:subject/>
  <dc:title>Slide 1</dc:title>
</cp:coreProperties>
</file>