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7EAF-F9EE-4C4F-8C7F-37D418EA2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22EB-EC2C-4B69-88ED-E7B56E46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6896-C3F2-41CD-AC5D-A38980DF9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DDC8-3FF7-476C-A887-F2BD72E92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7E61-22F4-4775-9471-FDB8B2F9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A339-9C04-48C4-8D5E-0806F506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95F9-BE23-4A1F-BA2A-0F3F86B1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F8F0-C85D-4185-B143-E21DC0EA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C7F6-F0C6-4A92-A153-DE44547D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AFA6-E951-4242-B9A3-7D3DDC7B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8377-D301-4822-A626-33BC040D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D70A-ACF0-4E08-8F5B-EABB2F1D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BDC9-5645-460E-BD7C-3E2C294AA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9720" y="797040"/>
          <a:ext cx="8069400" cy="478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797040"/>
                    <a:ext cx="806940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08:11:04Z</dcterms:created>
  <dc:creator>semicond</dc:creator>
  <dc:description/>
  <dc:language>en-US</dc:language>
  <cp:lastModifiedBy>semicond</cp:lastModifiedBy>
  <dcterms:modified xsi:type="dcterms:W3CDTF">2010-11-19T08:26:22Z</dcterms:modified>
  <cp:revision>2</cp:revision>
  <dc:subject/>
  <dc:title>Слайд 1</dc:title>
</cp:coreProperties>
</file>