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2260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2604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59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4"/>
          </p:nvPr>
        </p:nvSpPr>
        <p:spPr>
          <a:xfrm>
            <a:off x="4279680" y="0"/>
            <a:ext cx="3259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ftr" idx="5"/>
          </p:nvPr>
        </p:nvSpPr>
        <p:spPr>
          <a:xfrm>
            <a:off x="-360" y="10156680"/>
            <a:ext cx="3259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59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B6A04-E286-4202-BAA7-CD070E3181DE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2784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93A6-B688-417A-B6FD-431031DC8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81160"/>
            <a:ext cx="9050400" cy="12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0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50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3D7F-3CED-4D98-9AA9-91C3F374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81160"/>
            <a:ext cx="9050400" cy="12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6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0800" y="1768320"/>
            <a:ext cx="4416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16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0800" y="4374000"/>
            <a:ext cx="4416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9F4F-0A6A-48B7-B286-7B2C7AFBD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81160"/>
            <a:ext cx="9050400" cy="12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3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3280" y="1768320"/>
            <a:ext cx="2913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3280" y="1768320"/>
            <a:ext cx="2913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3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3280" y="4374000"/>
            <a:ext cx="2913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3280" y="4374000"/>
            <a:ext cx="2913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CDE4-BDD5-47AD-B6F4-22B789F10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81160"/>
            <a:ext cx="9050400" cy="12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50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876A-4F03-4136-A84F-36E6EC72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81160"/>
            <a:ext cx="9050400" cy="12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0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33E4-A744-4621-BBE0-88825C0A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81160"/>
            <a:ext cx="9050400" cy="12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6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0800" y="1768320"/>
            <a:ext cx="4416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78DE-297D-4F06-BEC4-FBB7A0FA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81160"/>
            <a:ext cx="9050400" cy="12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D77D-2EEF-4F57-AF60-68B4172E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81160"/>
            <a:ext cx="9050400" cy="59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03EB-00E8-4D6C-8439-4B5E6CB3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81160"/>
            <a:ext cx="9050400" cy="12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6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0800" y="1768320"/>
            <a:ext cx="4416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16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F76C-09C9-4A32-9FFB-A840D2CB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81160"/>
            <a:ext cx="9050400" cy="12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6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0800" y="1768320"/>
            <a:ext cx="4416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0800" y="4374000"/>
            <a:ext cx="4416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1E29-1362-410A-846D-1A9950AD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81160"/>
            <a:ext cx="9050400" cy="12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6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0800" y="1768320"/>
            <a:ext cx="4416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50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6AFE-F960-46CB-A1C1-183074A3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81160"/>
            <a:ext cx="9050400" cy="12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50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1120" indent="-3063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43120" indent="-2811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74760" indent="-212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06400" indent="-1951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38400" indent="-1969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38400" indent="-1969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38400" indent="-1969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256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734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256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B9331-6B04-4220-A515-ECBB9F1D9CD3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00000" y="539640"/>
            <a:ext cx="1260720" cy="1440000"/>
          </a:xfrm>
          <a:custGeom>
            <a:avLst/>
            <a:gdLst>
              <a:gd name="textAreaLeft" fmla="*/ 0 w 1260720"/>
              <a:gd name="textAreaRight" fmla="*/ 1261080 w 126072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34234" y="10666"/>
                </a:lnTo>
                <a:lnTo>
                  <a:pt x="1360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" name=""/>
          <p:cNvSpPr/>
          <p:nvPr/>
        </p:nvSpPr>
        <p:spPr>
          <a:xfrm>
            <a:off x="3600360" y="539640"/>
            <a:ext cx="1440000" cy="144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486" y="5761"/>
                </a:moveTo>
                <a:arcTo wR="-8372" hR="-8372" stAng="-2220396" swAng="-19379604"/>
                <a:lnTo>
                  <a:pt x="0" y="10800"/>
                </a:lnTo>
                <a:arcTo wR="10800" hR="10800" stAng="10800000" swAng="19379604"/>
                <a:lnTo>
                  <a:pt x="19" y="18926"/>
                </a:lnTo>
                <a:lnTo>
                  <a:pt x="21361" y="13804"/>
                </a:lnTo>
                <a:lnTo>
                  <a:pt x="6271" y="14214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3" name=""/>
          <p:cNvSpPr/>
          <p:nvPr/>
        </p:nvSpPr>
        <p:spPr>
          <a:xfrm>
            <a:off x="5940360" y="720720"/>
            <a:ext cx="1979640" cy="216072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2160720"/>
              <a:gd name="textAreaBottom" fmla="*/ 2160720 h 2160720"/>
            </a:gdLst>
            <a:ahLst/>
            <a:rect l="textAreaLeft" t="textAreaTop" r="textAreaRight" b="textAreaBottom"/>
            <a:pathLst>
              <a:path w="21600" h="21600">
                <a:moveTo>
                  <a:pt x="37" y="9902"/>
                </a:moveTo>
                <a:arcTo wR="-10800" hR="-10800" stAng="-10513911" swAng="-11086089"/>
                <a:lnTo>
                  <a:pt x="0" y="10800"/>
                </a:lnTo>
                <a:arcTo wR="10800" hR="10800" stAng="10800000" swAng="11086089"/>
                <a:lnTo>
                  <a:pt x="24253" y="11922"/>
                </a:lnTo>
                <a:lnTo>
                  <a:pt x="29285" y="11398"/>
                </a:lnTo>
                <a:lnTo>
                  <a:pt x="18872" y="11473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4500720"/>
            <a:ext cx="5580000" cy="1081080"/>
          </a:xfrm>
          <a:custGeom>
            <a:avLst/>
            <a:gdLst>
              <a:gd name="textAreaLeft" fmla="*/ 0 w 5580000"/>
              <a:gd name="textAreaRight" fmla="*/ 5580360 w 558000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34234" y="10666"/>
                </a:lnTo>
                <a:lnTo>
                  <a:pt x="1360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