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67040" cy="34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990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0400" y="68580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04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0400" y="68580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04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0396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744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048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0396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744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8D3-903A-4990-8CF8-FC3833EB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5BD-1B55-4574-B628-881CE4E7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8C4-C1CD-4129-ACEE-F3F0AC3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DCB-4C96-4CE2-B45B-0F8D4E3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0A1-BE4A-479C-AF9A-80FC09C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55520" y="255600"/>
            <a:ext cx="743904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5A7-4313-4977-B4EC-87CFE514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8B0-A551-45F3-B084-B5A320F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F9C-6598-4C0B-B7AA-6CB1CE05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180-A07C-4391-B91F-9CB0558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141-72EA-49A5-BF0B-C103288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08B-8ABE-4B84-8950-3A056DA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0396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744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5048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0396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744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BBC-A48A-40C8-9F83-046F433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5520" y="255600"/>
            <a:ext cx="743904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228600">
              <a:lnSpc>
                <a:spcPct val="95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95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3" marL="852480" indent="-162000">
              <a:lnSpc>
                <a:spcPct val="95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4" marL="1081080" indent="-108000">
              <a:lnSpc>
                <a:spcPct val="95000"/>
              </a:lnSpc>
              <a:buClr>
                <a:srgbClr val="5a5a5f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5" marL="1081080" indent="-1080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6" marL="1081080" indent="-1080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63720" y="6365880"/>
            <a:ext cx="5769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00" spc="-1" strike="noStrike">
                <a:solidFill>
                  <a:srgbClr val="6b6b6b"/>
                </a:solidFill>
                <a:latin typeface="Arial"/>
              </a:rPr>
              <a:t>©  Novell Inc, Confidential &amp;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57240"/>
            <a:ext cx="1017720" cy="223920"/>
            <a:chOff x="0" y="57240"/>
            <a:chExt cx="1017720" cy="223920"/>
          </a:xfrm>
        </p:grpSpPr>
        <p:sp>
          <p:nvSpPr>
            <p:cNvPr id="4" name=""/>
            <p:cNvSpPr/>
            <p:nvPr/>
          </p:nvSpPr>
          <p:spPr>
            <a:xfrm>
              <a:off x="0" y="57240"/>
              <a:ext cx="1017720" cy="223920"/>
            </a:xfrm>
            <a:prstGeom prst="roundRect">
              <a:avLst>
                <a:gd name="adj" fmla="val 713"/>
              </a:avLst>
            </a:prstGeom>
            <a:solidFill>
              <a:srgbClr val="cc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7240"/>
              <a:ext cx="1017720" cy="223920"/>
            </a:xfrm>
            <a:prstGeom prst="roundRect">
              <a:avLst>
                <a:gd name="adj" fmla="val 713"/>
              </a:avLst>
            </a:prstGeom>
            <a:solidFill>
              <a:srgbClr val="cc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388800" y="6313320"/>
            <a:ext cx="381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C1AA-95D0-48C5-B3D6-074596F90474}" type="slidenum">
              <a:rPr b="1" lang="en-GB" sz="1300" spc="-1" strike="noStrike" baseline="1000">
                <a:solidFill>
                  <a:srgbClr val="3d3c3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5240" y="57240"/>
            <a:ext cx="6777000" cy="223920"/>
            <a:chOff x="1065240" y="57240"/>
            <a:chExt cx="6777000" cy="223920"/>
          </a:xfrm>
        </p:grpSpPr>
        <p:sp>
          <p:nvSpPr>
            <p:cNvPr id="8" name=""/>
            <p:cNvSpPr/>
            <p:nvPr/>
          </p:nvSpPr>
          <p:spPr>
            <a:xfrm>
              <a:off x="1065240" y="57240"/>
              <a:ext cx="6777000" cy="223920"/>
            </a:xfrm>
            <a:prstGeom prst="roundRect">
              <a:avLst>
                <a:gd name="adj" fmla="val 713"/>
              </a:avLst>
            </a:prstGeom>
            <a:solidFill>
              <a:srgbClr val="3c3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65240" y="57240"/>
              <a:ext cx="6777000" cy="223920"/>
            </a:xfrm>
            <a:prstGeom prst="roundRect">
              <a:avLst>
                <a:gd name="adj" fmla="val 713"/>
              </a:avLst>
            </a:prstGeom>
            <a:solidFill>
              <a:srgbClr val="3c3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C3174-8638-415D-9BA8-58C467328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54080" y="254160"/>
            <a:ext cx="7445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00000"/>
                </a:solidFill>
                <a:latin typeface="Arial"/>
              </a:rPr>
              <a:t>Cairo canvas backend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50480" y="1498680"/>
            <a:ext cx="7558200" cy="26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New Canvas API in OOo 2.x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provides missing functionality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ntialiasing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lpha transparency and compositing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color management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improves speed of rendering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multiple backends – VCL, DirectX, Java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4386240"/>
            <a:ext cx="7558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Cairo canvas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  <a:ea typeface="Lucida Sans Unicode"/>
              </a:rPr>
              <a:t>newly developed OOo Canvas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  <a:ea typeface="Lucida Sans Unicode"/>
              </a:rPr>
              <a:t>uses Cairo library for high quality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54080" y="254160"/>
            <a:ext cx="7445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00000"/>
                </a:solidFill>
                <a:latin typeface="Arial"/>
              </a:rPr>
              <a:t>Cairo canvas improvements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50480" y="1498320"/>
            <a:ext cx="75582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Antialiasing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01880" y="2136600"/>
            <a:ext cx="4255920" cy="4035600"/>
          </a:xfrm>
          <a:prstGeom prst="roundRect">
            <a:avLst>
              <a:gd name="adj" fmla="val 3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06640" y="233532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04920" y="383688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05120" y="383868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286000"/>
            <a:ext cx="297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ooth looking lines and shape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cKay Brown</dc:creator>
  <dc:description/>
  <dc:language>en-US</dc:language>
  <cp:lastModifiedBy>Radek Doulik</cp:lastModifiedBy>
  <cp:revision>0</cp:revision>
  <dc:subject/>
  <dc:title/>
</cp:coreProperties>
</file>