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E8B7-1878-4A56-9C30-295A50AA9EE8}" type="datetime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408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703400"/>
            <a:ext cx="4965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02BD-4941-428A-AB0D-A2C3866D2F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217520" y="457200"/>
            <a:ext cx="4194360" cy="314496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80880" y="380988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z ESZAK és ezzel együtt az európai integráció szülőatyjának Jean Monnet tekinthető aki felismerte, hogy egy újabb háború csak úgy kerülhető el, ha kibékítik az évszázados francia-német ellenségeskedést és a katonai gazdasági téren végbemenő versengésüket.Ezt úgy látta megvalósíthatónak, ha a háborús készülődés két kulcságazatát a szén és acéltermelést közös ellenőrzés alá vonják. Monnet ötletére alapozva a francia külügyminiszter Robert Schumann terve a német szén és a francia vasérc közös piacának megteremtését tűzte ki célul (amely gyakorlatilag vámuniót jelentett), kinyilvánítva azt is, hogy a német-francia tengelyhez más európai államok is csatlakozhatnak, ugyanis tervében már távoli célként egy egységes (föderális) Európa létrehozását is megjelölte. A Schumann terv alapján megkezdődtek a tárgyalások és 1951. április 18-án aláírták Párizsban az ESZAK-ról (Montánunió) szóló szerződést. ( A szerződést 50 évre kötötték, amelynek hatálya 2002. júl. 25-én lejárt.) A németek és franciák mellett az olaszok és a Benelux államok csatlakoztak a közösséghez, a britek azonban nem kívánták túl lépni a hagyományos kormányközi együttműködés kereteit. A Közösség nemzetek feletti szupranacionális jelleget öltött, amit leginkább a 9 főből álló legfőbb döntéshozó testület a Főhatóság biztosított, melynek legfőbb feladata a Közösség érdekeinek képviselete, adott esetben a tagállami érdekekkel szemben, első elnöke Jean Monnet lett. Az eredeti tervektől eltérően azonban a Főhatóság túlhatalmától félve, annak ellensúlyozására sor került a Miniszterek Tanácsának létrehozására is akik a tagállamok szakminisztereiből álltak és saját nemzeti érdekeiket törekedtek érvényre juttatni. A tagállamok parlamenti képviselőiből kiválasztott 78 főből álló Közgyűlés véleményező-tanácsadó szerv volt, míg a Bíróság panaszfórumként a tagállamok kérelme alapján a Főhatóság cselekedeteinek jogszerűségét vizsgált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z ESZAK működése sikeres volt, 1958-ra a szén- és acéltermelés területén megvalósult a részleges vámunió (kereskedelmi és egyéb korlátozások megszűntek), az acélforgalom 157%-al, az acéltermelés 65%-al nőtt a tagállamok között. Történelmi jelentősége mégis az, hogy az ESZAK bebizonyította a gazdaság egy részének nemzetek feletti irányíthatóságát és annak gazdasági hatékonyságát. Az ESZAK sikerén felbuzdulva kísérletet tettek az európai politikai integráció létrehozására is (Európai Védelmi Közösség ( közös európai hadsereg), Európai Politikai Közösség) de nem sok sikerrel, így nyilvánvalóvá vált, hogy az integrációnak a gazdaság területén kell folytatódni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 gazdasági integráció elmélyítésének lehetőségeit a belga Paul-Henri Spaak vezette bizottság dolgozta ki, amely javaslatot tett a vámunióra épülő, a tagállamok gazdaságának egészére kiterjedő közös piac létrehozására, valamint az atomenergiai együttműködés megvalósítására. A bizottságnak sikerült olyan koncepciót kidolgoznia amely elfogadható volt valamennyi ESZAK tagállam számára így 1957. március 25-én Rómában aláírták az EGK-t és az Euratomot létrehozó szerződéseket. A két új nemzetközi szervezet intézményi modelljéül az ESZAK intézményrendszere szolgált, azzal, hogy külön Bizottság és Miniszterek Tanácsa működött mindhárom szervezetben, a Közgyűlés és a Bíróság azonban közös volt. A döntéshozatali hatáskörök tekintetében azonban jelentős elmozdulás történt, a Bizottság helyett a Miniszterek Tanácsa lett a fő döntéshozó, így a szupranacionális jelleg helyett a kormányközi domborodott ki. (Ez részben az EVK kudarca miatt, részben azért volt, mert a franciák és a németek sokat bírálták a Főhatóság öntörvényű, tagállamoktól független működését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z előadó ismertesse a Római szerződések célkitűzéseit. Az Euratom célja: együttműködés az atomenergia kutatásban, békés célú felhasználásában és a nukleáris közös piac létrehozá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1965. Egyesülési Szerződés: a három közösség addig közös Közgyűlése és Bírósága mellett ezután a Bizottság és a Tanács is egyetlen szervként szolgálja a három közösséget. A három közösség azonban továbbra is jogilag önálló maradt csak az intézményeik váltak közössé. Ezen szerződés hatályba lépésétől 1967. júl. 1-től használatos az Európai Közösségek elnevezé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EDC-267A-4C92-8222-1B6B65E0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D85-44A1-440A-9F76-AF965E90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7F4-93FE-459E-8178-29FAD7BE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EA6-BC7B-4441-9287-5FBE8336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029-6E41-47B1-AF4D-600E897C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0D6-5088-4B2B-A9D4-8EB982F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34D-ECA3-431B-9A15-F4220CFA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DF3-DC9D-494F-B008-E2F8CBF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9B0-DD12-480F-9C18-FB460A68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4D1-B12A-4F26-9BF3-CD0F52C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911-06A4-4DAA-9C23-F675BC1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79C-DA98-4ADD-8FAD-7FFEEFD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5DD-CEAB-4240-98F0-8AF99C14D04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431360"/>
            <a:ext cx="79246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1951. Európai Szén és Acél Közösség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SZAK 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(1952.07.25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szupranacionális szervezet a szén- és acéltermelés összehangolásá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1957. Európai Gazdasági Közösség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G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urópai Atomenergia Közösség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URATOM   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(1958.01.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A gazdasági integráció főbb célkitűzése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közös pi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közös politikák kialakítá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közösségi jogrendszer, jogharmonizác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1965. Egyesülési szerződés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: a három integrációs szervezet intézményeinek egyesítése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Európai Közösségek  (1967.07.01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cc"/>
                </a:solidFill>
                <a:uFillTx/>
                <a:latin typeface="Times New Roman"/>
              </a:rPr>
              <a:t>Intézményi mode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120240"/>
            <a:ext cx="9144000" cy="132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1. Az európai integráció fejlőd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190512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niszterek Tanác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10080"/>
            <a:ext cx="198108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őhatósá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zott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029200"/>
            <a:ext cx="1905120" cy="457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író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5715000"/>
            <a:ext cx="1905120" cy="457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özgyűlé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22096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28600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913-A3FD-4442-A400-BC70115761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5:06:48Z</dcterms:created>
  <dc:creator>aura</dc:creator>
  <dc:description/>
  <dc:language>en-US</dc:language>
  <cp:lastModifiedBy>Frank Meies</cp:lastModifiedBy>
  <cp:lastPrinted>2002-08-25T07:19:39Z</cp:lastPrinted>
  <dcterms:modified xsi:type="dcterms:W3CDTF">2004-11-04T15:39:33Z</dcterms:modified>
  <cp:revision>106</cp:revision>
  <dc:subject/>
  <dc:title>Az Európai Unió szervezete és jogrendszere</dc:title>
</cp:coreProperties>
</file>