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1A4-F3C7-4D58-9C3B-05BAF78D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2FF-932F-491B-9E36-8E50F36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D93-399C-4E61-AD41-9040F4E4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CF3-014D-494E-8043-A3D1FF2E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A3C-8BF7-40CA-90F8-304D7DDC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2C8C-5C56-4AFB-910D-E4852579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854-6D56-4CC2-89BF-A5D53B6E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F72-7B11-428E-9522-CC81332B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2F95-379B-48AB-AD06-8F4F670C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B03B-C98F-4F5B-824D-FC367FB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E433-4410-47B2-8786-5EAD01E7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CA9-B522-45FB-9A5F-C4587CB0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9C45-4375-47AA-9172-77DAC5E1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010-7113-4347-9C68-30C5705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6C5-3381-42D3-9314-0C270A5C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3DAB-120B-4780-9BF6-42BD001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BA5-118D-4310-84FB-A66A6B4D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888-7E87-4FE4-86C9-67640CBF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C0C-A455-4D40-A4C4-63A6011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142-DEB0-475F-B71A-CCCB2CAC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D55-D432-48EC-8F80-849900B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98B-8F6E-417D-8D31-E0C9B50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2B2-1D1C-4347-8794-131A982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701-488B-445C-817D-9E9528A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2560" cy="6399000"/>
                <a:chOff x="0" y="304920"/>
                <a:chExt cx="9142560" cy="63990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9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2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7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1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6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14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56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0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5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0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4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9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4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9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3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2720" cy="6856560"/>
                <a:chOff x="304920" y="0"/>
                <a:chExt cx="85327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0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4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7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2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7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1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6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1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6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1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5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0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5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0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4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9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4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8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37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8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3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81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3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7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89880" cy="15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05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2720" cy="2322720"/>
              <a:chOff x="414360" y="1415880"/>
              <a:chExt cx="1782720" cy="232272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2720"/>
                <a:ext cx="17827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120" y="1419120"/>
                <a:ext cx="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560" y="1415880"/>
                <a:ext cx="191880" cy="19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528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2ADD32-E435-4819-981B-B9922C6F8759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89880" cy="15084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2560" cy="6856560"/>
                <a:chOff x="0" y="0"/>
                <a:chExt cx="9142560" cy="6856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05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320" y="887400"/>
              <a:ext cx="6652800" cy="2849400"/>
              <a:chOff x="4320" y="887400"/>
              <a:chExt cx="6652800" cy="28494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880" y="887400"/>
                <a:ext cx="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320" y="3052440"/>
                <a:ext cx="5096520" cy="3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760" y="1487160"/>
                <a:ext cx="6048360" cy="3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5880" cy="24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36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6240" cy="24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5C6586-EC79-4D98-914C-B356FDD002E8}" type="slidenum">
              <a: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22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Arial"/>
              </a:rPr>
              <a:t>Podstawowe prawa optyk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Zasada Ferm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Odbicie i załamanie fali elektromagnetycznej na granicy idealnego dielektry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71600"/>
            <a:ext cx="77724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cc3300"/>
                </a:solidFill>
                <a:latin typeface="Arial"/>
              </a:rPr>
              <a:t>Zasada Fermata:</a:t>
            </a:r>
            <a:br>
              <a:rPr sz="3600"/>
            </a:br>
            <a:br>
              <a:rPr sz="3600"/>
            </a:b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Promień świetlny biegnie pomiędzy dwoma punktami po drodze optycznej, która dla danego promienia jest spośród wszystkich najkrótsza. Drogą optyczną nazywamy iloczyn drogi geometrycznej </a:t>
            </a:r>
            <a:r>
              <a:rPr b="0" i="1" lang="pl-PL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przebytej przez promień i współczynnika załamania ośrodka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, </a:t>
            </a:r>
            <a:br>
              <a:rPr sz="3200"/>
            </a:b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w którym aktualnie biegnie promień.</a:t>
            </a:r>
            <a:r>
              <a:rPr b="0" lang="pl-PL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Jeśli współczynnik załamania ośrodka zmienia się w sposób ciągły wtedy możemy napisać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429000" y="1467000"/>
                <a:ext cx="22860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nds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1280" y="3798720"/>
                <a:ext cx="221004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s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038480" y="5486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Równanie możemy podzielić przez stałą prędkość światła w próżni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3120" y="50356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poniewa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0" y="1868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9440" y="4273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9440" y="5797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3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6488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zat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429000" y="839880"/>
                <a:ext cx="20448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505320" y="2814480"/>
                <a:ext cx="188424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900000" y="240192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0040" y="4502160"/>
            <a:ext cx="77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Co oznacza że czas przebiegu przez światło odcinka A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jest najkrótsz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10080" y="1335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10080" y="3240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5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dbicie i załamanie fali elektromagnetycznej na granicy idealnego dielektryk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505320" y="2971800"/>
                <a:ext cx="2361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{ vec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1280160" y="1674720"/>
            <a:ext cx="71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Na granicy ośrodków następuje odbicie i załamani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fali elektromagnetycznej. Aby określić te zjawisk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korzystamy z równań Maxwel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58640" y="407844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752480" y="4572000"/>
                <a:ext cx="40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52480" y="5181480"/>
                <a:ext cx="40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2290320" y="4646520"/>
            <a:ext cx="43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natężenie pola elektryczne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0680" y="533232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wektor indukcji magnetyczne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7160" y="3359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Odbicie i załamanie fali elektromagnetycznej na granicy idealnego dielektryk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15840" y="1701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or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362320" y="1828800"/>
                <a:ext cx="33001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{ vec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993600" y="335916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5120" y="380988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905120" y="4495680"/>
                <a:ext cx="460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905120" y="5181480"/>
                <a:ext cx="419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368440" y="396864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natężenie pola elektromagnetyczne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7000" y="465444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wektor indukcji magnetyczne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3760" y="52642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gęstość prądu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4520" y="2368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7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76920" y="5105520"/>
                <a:ext cx="1562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Wprowadzając do równania wektorową postać prawa Ohma otrzymamy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1523880"/>
                <a:ext cx="396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ε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σ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73200" y="28591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523880" y="3352680"/>
                <a:ext cx="457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21680" y="327672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przewodność właściwa danego ośrod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3720" y="4154400"/>
            <a:ext cx="78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Jeżeli interesuje nas zachowanie się pola elektryczneg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w idealnym dielektryku, czyli dl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962520" y="5334120"/>
                <a:ext cx="1066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σ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43600" y="1944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8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971800" y="1600200"/>
                <a:ext cx="27432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με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992320" y="3014640"/>
                <a:ext cx="28879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με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993960" y="42735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996920" y="5257800"/>
                <a:ext cx="462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73240" y="4724280"/>
                <a:ext cx="384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441520" y="465444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stała dielektrycz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42960" y="518796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przenikalność magnetycz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30840" y="198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9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75400" y="347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72440" y="311040"/>
            <a:ext cx="66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To przez działanie rotacją na równanie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6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i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7</a:t>
            </a:r>
            <a:r>
              <a:rPr b="0" i="1" lang="pl-PL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otrzymujem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8720" y="344520"/>
            <a:ext cx="69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Rozwiązaniem periodycznym równań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9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i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10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s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równani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362320" y="1290600"/>
                <a:ext cx="4343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t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900000" y="2097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or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133720" y="2644920"/>
                <a:ext cx="4572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t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841680" y="38163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89280" y="4300560"/>
            <a:ext cx="382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kierunek propagacji fa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– wektor falow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8040" y="1454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8040" y="28256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9:22:03Z</dcterms:created>
  <dc:creator>ps</dc:creator>
  <dc:description/>
  <dc:language>en-US</dc:language>
  <cp:lastModifiedBy>prof</cp:lastModifiedBy>
  <dcterms:modified xsi:type="dcterms:W3CDTF">2006-11-07T10:48:34Z</dcterms:modified>
  <cp:revision>216</cp:revision>
  <dc:subject/>
  <dc:title>Prof. Sławomir Kończak</dc:title>
</cp:coreProperties>
</file>