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8D3C-9DFE-4773-8882-C5BF0BF08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50C1-E705-48EA-9432-7D59D2FE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EABA-CAFB-43DA-AB54-794B7604A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677B-89F1-482E-8A1D-826F15697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706B-2A56-41D1-9254-EAD4488A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32C3-A3C4-46C9-A611-8863E309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376B-DA18-4BE9-8B10-402780AD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F782-DA78-4232-9236-D825BF3F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6B2E-6B99-44C2-9362-B5F2AB9A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C43D-F1D7-4A12-A7D4-B9BD19D5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CB64-8BA4-42D1-995D-93135214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12AD-7CE7-4A67-B9D4-967C5D39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0A4C-DA05-47FA-8D0B-622342AFA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49120" y="907920"/>
            <a:ext cx="9580320" cy="1154160"/>
          </a:xfrm>
          <a:prstGeom prst="roundRect">
            <a:avLst>
              <a:gd name="adj" fmla="val 3847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09280" y="985680"/>
            <a:ext cx="20779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4176720"/>
                <a:tab algn="l" pos="8353440"/>
              </a:tabLst>
            </a:pPr>
            <a:r>
              <a:rPr b="1" lang="en-GB" sz="3700" spc="-1" strike="noStrike">
                <a:solidFill>
                  <a:srgbClr val="ffffff"/>
                </a:solidFill>
                <a:latin typeface="Arial"/>
              </a:rPr>
              <a:t>Ca</a:t>
            </a:r>
            <a:r>
              <a:rPr b="1" lang="en-GB" sz="37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3700" spc="-1" strike="noStrike">
                <a:solidFill>
                  <a:srgbClr val="ffffff"/>
                </a:solidFill>
                <a:latin typeface="Arial"/>
              </a:rPr>
              <a:t>RuO</a:t>
            </a:r>
            <a:r>
              <a:rPr b="1" lang="en-GB" sz="37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76720"/>
                <a:tab algn="l" pos="835344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(in progr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5:05:09Z</dcterms:created>
  <dc:creator>burnus</dc:creator>
  <dc:description/>
  <dc:language>en-US</dc:language>
  <cp:lastModifiedBy>burnus</cp:lastModifiedBy>
  <dcterms:modified xsi:type="dcterms:W3CDTF">2004-10-26T15:06:51Z</dcterms:modified>
  <cp:revision>1</cp:revision>
  <dc:subject/>
  <dc:title>Folie 1</dc:title>
</cp:coreProperties>
</file>