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2A2D6-71C8-410B-9724-04C101E58B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2125-0DB3-4794-8431-911F7DE8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811-CBAE-4B02-9A24-6FD65C56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7EC7-46A4-4836-B30D-F31E876B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2E3-1F4F-4901-879C-D12CE452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1E19-1DE4-45C7-889E-FC882353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2E5C-0525-42A2-AEB8-C3CC19A8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ED2-59D6-4C05-A194-A5367FC1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905-48A9-45AD-A598-EC59E1C5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982-9EF4-474D-839E-7C054971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309-CA5C-4B5A-BDA5-2DCA1EAD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4D75-F30A-4D55-9163-F76EDE49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238-6887-483D-8260-F0B129A2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ABDEF-4486-4C21-9CCE-971F8F92D1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90240"/>
            <a:ext cx="907236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pierów Wartościowych i Gieł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prawnienia nadzorcze i administracyjne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Komisji Papierów Wartościowych i Gieł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