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A44-76AE-4E7C-B7A4-60F7583F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4E6-CF93-45DA-83D4-545B7E7A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5CD-07F3-477E-9DD1-246A246B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D3A-40BC-4A19-B4ED-4CCEF01C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EA0-A5F3-48C0-BA7A-5C7B8D03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E37-7202-4E76-A90B-23ED703B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B98-0177-45ED-90A1-09A29845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82D-2283-472F-8D5A-F91B5D19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AB4-A4DA-43D7-96E6-D2780C0C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00B-9C26-41D5-9411-1D3A70F1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53D-E886-4C81-9C7D-A229880A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9F0-9E24-422E-AAD7-96B5619A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7FB1B-F7E1-49C7-98C9-179FD7063430}" type="slidenum">
              <a:rPr b="0" lang="id-ID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82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5000"/>
              </a:lnSpc>
              <a:spcBef>
                <a:spcPts val="814"/>
              </a:spcBef>
              <a:spcAft>
                <a:spcPts val="488"/>
              </a:spcAft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YESUS ADALAH  JURUSELAMAT  berar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mbebaskan, melindungi dari bahaya m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njaga supaya aman, sehat, sejah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nyelamatkan dari dosa, kejahatan</a:t>
            </a:r>
            <a:r>
              <a:rPr b="1" lang="en-US" sz="2800" spc="-1" strike="noStrike">
                <a:solidFill>
                  <a:srgbClr val="0033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alibri"/>
                <a:ea typeface="Microsoft YaHei"/>
              </a:rPr>
              <a:t>(Mat 1: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nebus dari hukuman dosa</a:t>
            </a:r>
            <a:r>
              <a:rPr b="1" lang="en-US" sz="2800" spc="-1" strike="noStrike">
                <a:solidFill>
                  <a:srgbClr val="0033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alibri"/>
                <a:ea typeface="Microsoft YaHei"/>
              </a:rPr>
              <a:t>( Kej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  <a:ea typeface="Microsoft YaHei"/>
              </a:rPr>
              <a:t>BERTOBAT  BERAR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ngenali dan mengakui dosa2</a:t>
            </a:r>
            <a:r>
              <a:rPr b="1" lang="en-US" sz="2800" spc="-1" strike="noStrike">
                <a:solidFill>
                  <a:srgbClr val="0033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alibri"/>
                <a:ea typeface="Microsoft YaHei"/>
              </a:rPr>
              <a:t>(Yoh 16:8-11,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inggalkan kehidupan dosa</a:t>
            </a:r>
            <a:r>
              <a:rPr b="1" lang="en-US" sz="2800" spc="-1" strike="noStrike">
                <a:solidFill>
                  <a:srgbClr val="0033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alibri"/>
                <a:ea typeface="Microsoft YaHei"/>
              </a:rPr>
              <a:t>(Yoh1:8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nerima Yesus sebagai Jurusela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man dengan hati yang percaya, bukan iman intelektual  atau iman sement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75400" y="0"/>
            <a:ext cx="1638360" cy="191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168120"/>
            <a:ext cx="898848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Manusia dikaruniai: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- Roh Allah, Roh cinta kasih</a:t>
            </a:r>
            <a:br>
              <a:rPr sz="3600"/>
            </a:br>
            <a:r>
              <a:rPr b="0" lang="en-US" sz="2200" spc="-1" strike="noStrike">
                <a:solidFill>
                  <a:srgbClr val="666633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427040"/>
            <a:ext cx="915516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tapi manusia terikat oleh dosa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Rm 3: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sia tidak bisa membebaskan diri sendiri dari dosa dan kecenderungan untu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rdosa.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Rm 3:11,23 ; Rm 5: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sia perlu penyelamat, pembebas dari ikatan dosa, memulihkan kembali gamb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citra Allah dalam di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 Rm 5:17-19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ah adil, membenci dosa.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Rm2:1-16; Ef 2:4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ah maharahim,mengasihi orang berdosa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Rm 5:8; Ef 2:4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92240" y="755640"/>
            <a:ext cx="14270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37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1200"/>
                            </p:stCondLst>
                            <p:childTnLst>
                              <p:par>
                                <p:cTn id="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3:32:51Z</dcterms:created>
  <dc:creator/>
  <dc:description/>
  <dc:language>en-US</dc:language>
  <cp:lastModifiedBy/>
  <cp:revision>0</cp:revision>
  <dc:subject/>
  <dc:title/>
</cp:coreProperties>
</file>