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D31-5C41-410E-8CAA-94CECE9B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DF5-6113-42EB-B4C0-AFF2F7D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4EE-746A-4DD7-B5C9-8EA6813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8E6-7E8C-42C1-87F8-3882B371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A7C-3FAC-43BB-BFE0-FDC7165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52B-919F-4AF7-8D7E-81345974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AEE-69DF-47FE-931A-5381AE0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D17-6D1F-4DA7-98DC-C73B644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2B2-EE3B-4041-AB8B-137BC5B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0A1-8A2B-487F-9D18-EF71BDE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E7A-2224-4D47-9407-B89EA7A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63D-98B5-4653-BC63-DFA94B69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ADB6D4-C6FA-4D46-B1B6-48E28B62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620640"/>
            <a:ext cx="8642160" cy="4608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24000" y="90792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’ll disappear for a mom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63160" y="515772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1055160" y="48690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1919520" y="458136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2783160" y="429264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647520" y="393372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4511880" y="357336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-0.14832 C 0.00972 -0.1578 0.03056 -0.25683 0.08301 -0.25012 C 0.16273 -0.24063 0.19399 -0.17053 0.26762 -0.24063 C 0.31347 -0.28205 0.368 -0.38709 0.40812 -0.38385 C 0.49808 -0.38062 0.51701 -0.2728 0.51701 -0.17377 C 0.51927 -0.03379 0.40152 0.08398 0.25929 0.09648 C 0.11427 0.10666 -0.00504 -0.04327 0.00538 -0.14832 Z">
                                      <p:cBhvr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6:05:05Z</dcterms:created>
  <dc:creator>xxt</dc:creator>
  <dc:description/>
  <dc:language>en-US</dc:language>
  <cp:lastModifiedBy>Del Dewar</cp:lastModifiedBy>
  <dcterms:modified xsi:type="dcterms:W3CDTF">2014-06-13T23:57:27Z</dcterms:modified>
  <cp:revision>41</cp:revision>
  <dc:subject/>
  <dc:title>Slide 1</dc:title>
</cp:coreProperties>
</file>