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C4A-4C64-4ACF-BF3D-B60BDBED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B81-EA1D-4FA4-8268-628E9D30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6F7-0E3C-4AC1-91D3-C2A309D8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2DC-5F63-4B49-BFAE-95C87CCD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9BE-D217-4E54-AFC6-369B3738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B52-F003-4704-A0BD-23D74B8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A1E-C04F-406B-8B45-0383FD46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97A-20C5-452B-A570-37BA0BE8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55E-9D21-4569-9E5E-8C5D716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F4F-87AD-4810-AAF1-07C8FBE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1F1-8BEF-4FC5-8122-6BB7763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437-32E9-4B1C-B85D-0798A20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5160"/>
            <a:ext cx="31860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tencil"/>
              </a:rPr>
              <a:t>Billings Information Technology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925 Grand Ave., Ste. 131 • Billings, MT 591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fo: www.bitsmt.com • Tel: (406) 545-3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ed Help? Go to http://www.askbitsm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6FAB6-8E5F-4208-AF6F-64C741D744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2 Wireless</a:t>
            </a:r>
            <a:br>
              <a:rPr sz="44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crotel Inn &amp; Suites</a:t>
            </a:r>
            <a:br>
              <a:rPr sz="32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12 Nikles Street  Bozeman, MT 597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731520"/>
            <a:ext cx="886788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users are reporting no internet after connecting to an Access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s are not sure what to reset to restore Internet back to their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s and previous contractors have not been able to locate Access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network connections were found loose or not plugged in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twork map has been put together for this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centralized management and diagnostics station for this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tive portal with an acces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Points are named “mtl25900n” (where n is a number from 1-4). This naming is confusing to clients, who may accidentally connect to a neighboring access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loose network connections and verified conne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d each access point and found a week one that needs repl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and mapped all four Access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switch is not capable of producing 802.3af Po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/>
  <cp:revision>0</cp:revision>
  <dc:subject/>
  <dc:title/>
</cp:coreProperties>
</file>