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437-0A55-43E1-84E6-3DE2BB38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0AC-8032-4B48-B725-467D7F3B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9C8-6FA9-4BED-9134-90CC9619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020-28B9-492F-8AEF-A8B37AFD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6A4-20DB-4A7C-BA57-02C1D75B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F1D-77D4-40E6-A08F-2F42BA9D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26C-863D-4B48-888C-245BF3AB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487-5105-4794-8C64-6027CDBA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2F3-F2DB-4996-8151-8F596803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0E2-3A8F-417A-A563-3D5A82DB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B1A-7A1E-4EF0-B72F-781B141C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B82-5974-4590-9D30-478B47B4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F374-1A97-4B63-9FE0-318147482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-Orig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s" descr=""/>
          <p:cNvPicPr/>
          <p:nvPr/>
        </p:nvPicPr>
        <p:blipFill>
          <a:blip r:embed="rId1"/>
          <a:stretch/>
        </p:blipFill>
        <p:spPr>
          <a:xfrm>
            <a:off x="1646280" y="2819520"/>
            <a:ext cx="585144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-crop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s" descr=""/>
          <p:cNvPicPr/>
          <p:nvPr/>
        </p:nvPicPr>
        <p:blipFill>
          <a:blip r:embed="rId1"/>
          <a:srcRect l="9116" t="39016" r="67447" b="23898"/>
          <a:stretch/>
        </p:blipFill>
        <p:spPr>
          <a:xfrm>
            <a:off x="2209680" y="4141800"/>
            <a:ext cx="13716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</cp:lastModifiedBy>
  <dcterms:modified xsi:type="dcterms:W3CDTF">2010-05-26T06:20:18Z</dcterms:modified>
  <cp:revision>25</cp:revision>
  <dc:subject/>
  <dc:title>PowerPoint Presentation</dc:title>
</cp:coreProperties>
</file>