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BE1-A157-41AC-8677-9FAE95EB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C58-F422-4E16-91AC-FFD1FB95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7B6-970C-4319-89B8-108A7EF4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B6D-D222-494C-84AF-D7F8FECC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795-F6F8-4079-B4D6-3BF60F1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028-0C2A-4233-9E39-0BCE35D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2C1-B8C3-42F0-A094-82072B23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7B0-10D7-4771-BB52-8D8426A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1FB-6F5D-41B9-8208-FDA23A3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78D-5ADC-4793-AE01-FFE59BD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767-327B-424C-AB68-EB4D912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A4E-B4F7-4AAB-B450-63B57FE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E7F2-30E6-4BFC-A722-1AD9B314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635040"/>
            <a:ext cx="88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Case: FFC261FFCSD_TextAnimation_PlaceHolder_Split_All at Once_0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Point: All Paragraph in Rever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2349360"/>
            <a:ext cx="698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firs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firs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3:35:58Z</dcterms:created>
  <dc:creator>Jason Zhu</dc:creator>
  <dc:description/>
  <dc:language>en-US</dc:language>
  <cp:lastModifiedBy>Jason Zhu</cp:lastModifiedBy>
  <dcterms:modified xsi:type="dcterms:W3CDTF">2006-04-29T05:12:41Z</dcterms:modified>
  <cp:revision>2</cp:revision>
  <dc:subject/>
  <dc:title>Slide 1</dc:title>
</cp:coreProperties>
</file>