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080120" y="6553080"/>
            <a:ext cx="206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6AFF-D000-4C94-8706-8233F2C78210}" type="slidenum">
              <a:rPr b="1" lang="ja-JP" sz="18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861840"/>
            <a:ext cx="9144000" cy="128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1000"/>
            <a:ext cx="6929280" cy="5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 of Progra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Tentat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11240" y="1270080"/>
          <a:ext cx="8953560" cy="4147920"/>
        </p:xfrm>
        <a:graphic>
          <a:graphicData uri="http://schemas.openxmlformats.org/drawingml/2006/table">
            <a:tbl>
              <a:tblPr/>
              <a:tblGrid>
                <a:gridCol w="858600"/>
                <a:gridCol w="1239840"/>
                <a:gridCol w="1401840"/>
                <a:gridCol w="1967040"/>
                <a:gridCol w="1859040"/>
                <a:gridCol w="16272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 13th Ju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 14th Ju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 15th Ju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 16th Ju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0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ing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lel sess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lel session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not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lel 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not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3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to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not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lel 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lel 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er s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er s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: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lel 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lel 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lel sessions Clo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9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come re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quet Di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01:12Z</dcterms:created>
  <dc:creator>Komoda</dc:creator>
  <dc:description/>
  <dc:language>en-US</dc:language>
  <cp:lastModifiedBy>komolab</cp:lastModifiedBy>
  <dcterms:modified xsi:type="dcterms:W3CDTF">2009-02-27T07:38:21Z</dcterms:modified>
  <cp:revision>127</cp:revision>
  <dc:subject/>
  <dc:title>INDIN2010</dc:title>
</cp:coreProperties>
</file>