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97C-10C3-4BBA-9C20-D801D517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228-90EF-4526-B734-15B49B09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005-81A0-4882-8851-CF96974C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310-A275-413F-A69C-50ABC8B3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801-27AC-4167-B943-79816708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30D-1355-46EC-A0C2-424C5BA9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5AB-55E5-4BE5-9D4F-9B2DD1E5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500-9AA8-4815-93CC-36D1AB51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C85-4779-4D72-93F8-1B9BEBF8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1EC-614C-4BEA-AD73-8819503F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970-1765-43A5-8A54-D2DC6B31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C661-120C-4235-B8C9-3D5A037A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AB70-03CA-44DD-B429-1278ED7260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utline          It works.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5280" y="1197000"/>
          <a:ext cx="1839960" cy="26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183996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492360" y="1125360"/>
            <a:ext cx="45356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1. It does not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abb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cccccc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ddddddd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32720" y="119700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01:35:08Z</dcterms:created>
  <dc:creator>mafajun</dc:creator>
  <dc:description/>
  <dc:language>en-US</dc:language>
  <cp:lastModifiedBy>mafajun</cp:lastModifiedBy>
  <dcterms:modified xsi:type="dcterms:W3CDTF">2005-01-21T01:40:41Z</dcterms:modified>
  <cp:revision>3</cp:revision>
  <dc:subject/>
  <dc:title>幻灯片 1</dc:title>
</cp:coreProperties>
</file>