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4A9-CC50-48E6-88F6-1EAC2212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648-D1A2-463E-9D16-339D01E2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C4B-7D27-4440-B9CA-6A2BFC20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390-C177-4323-8FED-CC1168B0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CBC-3546-48C9-9831-AC714D92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044-91E7-459B-A85B-0115E126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2A6-4CE1-4963-8B1B-FC998B83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F88-C886-499B-AB90-5E803D0C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4B1-C658-496A-AB61-FA49FD24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C6B-F197-4BDA-9955-B88D7F7D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9A3-8CF1-4613-8F95-E58BB3D2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661-5A0F-4E77-80B9-AEA17E74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B1D3-B3FD-4A0D-A788-40DEEE6E5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3816360" y="1520280"/>
            <a:ext cx="1295280" cy="266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05:27:14Z</dcterms:created>
  <dc:creator>NTANABE</dc:creator>
  <dc:description/>
  <dc:language>en-US</dc:language>
  <cp:lastModifiedBy>NTANABE</cp:lastModifiedBy>
  <dcterms:modified xsi:type="dcterms:W3CDTF">2006-10-02T05:28:34Z</dcterms:modified>
  <cp:revision>1</cp:revision>
  <dc:subject/>
  <dc:title>スライド 1</dc:title>
</cp:coreProperties>
</file>