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0446-98CF-4009-BD99-D3A6EBA8DF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406-E7F2-43AD-9274-A739A5D2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BD9-10E9-494B-A26A-A760F5B8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1D4-DB55-45A1-BF86-24468554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685-E05C-479A-A073-E74B139E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0C4-CC96-4E8C-8439-23E27020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799-5CEE-4BC4-AF07-F5336F1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38E-6687-483A-9D25-30F03386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9F7-9156-42F0-B223-5D84E3C6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D47-1A05-4259-8AA1-3B7ED0F2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498-8871-45EA-8AF9-58C12315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E09-878D-4CC0-8D25-A669F92C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57E-A823-4545-A525-C41079F5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4644-CF3A-4B31-97F6-091216E7CC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434520"/>
            <a:ext cx="9072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urkish Alphab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1800" y="1619280"/>
            <a:ext cx="93585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cçdefgğhıijklmnoöprsştuüvy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CÇDEFGĞHIİJKLMNOÖPRSŞTUÜVY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