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A41-E473-42CD-8BC4-6C66EE19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79D-753A-498B-9D61-1CCFDC76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2FA0-AA1E-4023-9FD2-47D8E59C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FF7-4877-424C-99DB-8CDCB5C8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945F-4936-42A0-A1E9-9F293638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C3CA-13E3-4FBE-A431-F5DB25F9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6BDE-FBD4-4619-9281-06627157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B4E6-8FF8-47D1-ADAA-EC4EC0D2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6FAD-E140-4099-A0AD-B7DEF280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D731-8A92-4CCB-ADF6-D61D89E0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864C-5868-4BFC-8ECB-15F5B75A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A46-6BFF-408D-B9F5-7AB00CC4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7132-8866-4ED2-B838-1A605BC5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BD2B-8C22-4F0E-8004-24C5F1E3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C65E-3872-4AA4-83A9-22C01F86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307F-4F05-4CAE-A926-6E0ABE4E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2FC7-A345-4B4A-9FF9-3A986F14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5C1-CBFB-4FA7-9CCD-5878838D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A4C-FF8E-4C5D-9C56-36FA5505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0A2-0E91-41F4-B5DF-740C1B06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71A-B6BC-4D0C-9164-0CF33650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692-C6B1-445B-8897-39B3EBFE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CC2-AEA4-4B51-9CD9-C36DBEB0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7A8-F5A9-4518-96AA-920045F2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D1D1-EA61-412F-9B83-D5E0FE035A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A2E6-7184-42D8-90D7-A7C18855AE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  <a:cs typeface="Times New Roman (Hebrew)"/>
              </a:rPr>
              <a:t>הטכניון – הפקולטה להנדסת מכונות</a:t>
            </a:r>
            <a:r>
              <a:rPr b="0" lang="he-IL" sz="4400" spc="-1" strike="noStrike">
                <a:solidFill>
                  <a:srgbClr val="333399"/>
                </a:solidFill>
                <a:latin typeface="Tahoma"/>
                <a:ea typeface="Times New Roman (Hebrew)"/>
              </a:rPr>
              <a:t> </a:t>
            </a:r>
            <a:br>
              <a:rPr sz="4400"/>
            </a:br>
            <a:r>
              <a:rPr b="0" lang="he-IL" sz="4400" spc="-1" strike="noStrike">
                <a:solidFill>
                  <a:srgbClr val="333399"/>
                </a:solidFill>
                <a:latin typeface="Tahoma"/>
                <a:cs typeface="Times New Roman (Hebrew)"/>
              </a:rPr>
              <a:t>פרויקט במערכות עתירות ידע</a:t>
            </a:r>
            <a:br>
              <a:rPr sz="4400"/>
            </a:br>
            <a:r>
              <a:rPr b="0" i="1" lang="he-IL" sz="2400" spc="-1" strike="noStrike">
                <a:solidFill>
                  <a:srgbClr val="333399"/>
                </a:solidFill>
                <a:latin typeface="Tahoma"/>
                <a:cs typeface="Times New Roman (Hebrew)"/>
              </a:rPr>
              <a:t>לשנת לימודים תשס"ב </a:t>
            </a:r>
            <a:r>
              <a:rPr b="0" i="1" lang="he-IL" sz="2400" spc="-1" strike="noStrike">
                <a:solidFill>
                  <a:srgbClr val="333399"/>
                </a:solidFill>
                <a:latin typeface="Tahoma"/>
                <a:ea typeface="Times New Roman (Hebrew)"/>
              </a:rPr>
              <a:t>2001</a:t>
            </a:r>
            <a:r>
              <a:rPr b="0" i="1" lang="he-IL" sz="2400" spc="-1" strike="noStrike">
                <a:solidFill>
                  <a:srgbClr val="333399"/>
                </a:solidFill>
                <a:latin typeface="Tahoma"/>
                <a:ea typeface="Times New Roman (Hebrew)"/>
              </a:rPr>
              <a:t>\</a:t>
            </a:r>
            <a:r>
              <a:rPr b="0" i="1" lang="he-IL" sz="2400" spc="-1" strike="noStrike">
                <a:solidFill>
                  <a:srgbClr val="333399"/>
                </a:solidFill>
                <a:latin typeface="Tahoma"/>
                <a:ea typeface="Times New Roman (Hebrew)"/>
              </a:rPr>
              <a:t>2002</a:t>
            </a:r>
            <a:br>
              <a:rPr sz="18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9320" y="33526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Tahoma"/>
                <a:cs typeface="Times New Roman (Hebrew)"/>
              </a:rPr>
              <a:t>רקטת ספורט לא סימטרית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imes New Roman (Hebrew)"/>
              </a:rPr>
              <a:t>מנחה : שמר של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טכניון – הפקולטה להנדסת מכונות</a:t>
            </a:r>
            <a:br>
              <a:rPr sz="32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פרויקט במערכות עתירות ידע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שלבי עבודה עיקריים (המשך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e4a8"/>
                </a:solidFill>
                <a:latin typeface="Tahoma"/>
              </a:rPr>
              <a:t>חזרה על השלבים בקבוצות השונו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e4a8"/>
                </a:solidFill>
                <a:latin typeface="Tahoma"/>
              </a:rPr>
              <a:t>בנית אב טיפוס והוכח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טכניון – הפקולטה להנדסת מכונות</a:t>
            </a:r>
            <a:br>
              <a:rPr sz="32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פרויקט במערכות עתירות ידע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מה יהיה הפרויקט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רקטת ספורט (סקווש או טניס ) בעלת תכונות אלסטיות דינמיות בלתי סימטריו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הסבר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cc"/>
                </a:solidFill>
                <a:latin typeface="Tahoma"/>
              </a:rPr>
              <a:t>לרקטה רגילה יש תכונות זהות לכל צד (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rehand or Back h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00"/>
                </a:solidFill>
                <a:latin typeface="Tahoma"/>
              </a:rPr>
              <a:t>במידה ונעצב לה תכונות שונות האם נוכל לשפר את ביצועיה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00"/>
                </a:solidFill>
                <a:latin typeface="Tahoma"/>
              </a:rPr>
              <a:t>מה בעצם התכונות הרצויות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00"/>
                </a:solidFill>
                <a:latin typeface="Tahoma"/>
              </a:rPr>
              <a:t>העם ניתן לעשות זאת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טכניון – הפקולטה להנדסת מכונות</a:t>
            </a:r>
            <a:br>
              <a:rPr sz="32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פרויקט במערכות עתירות ידע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מה זה מערכות עתירות ידע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e4a8"/>
                </a:solidFill>
                <a:latin typeface="Tahoma"/>
              </a:rPr>
              <a:t>מערכות רב דסציפלינריות</a:t>
            </a: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חומרים מרוכבי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אלסטיו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ארגונומטרי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טלמטרי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הנדסת אנו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סימולציות (מודל דינמי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טכניון – הפקולטה להנדסת מכונות</a:t>
            </a:r>
            <a:br>
              <a:rPr sz="32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פרויקט במערכות עתירות ידע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מה זה מערכות עתירות ידע (המשך)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e4a8"/>
                </a:solidFill>
                <a:latin typeface="Tahoma"/>
              </a:rPr>
              <a:t>חלק מן הדסציפלינות נמצא בחזית היד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מודל מתמט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מדידה וטלמטרי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רובוטיק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e4a8"/>
                </a:solidFill>
                <a:latin typeface="Tahoma"/>
              </a:rPr>
              <a:t>לוח זמנים קצר </a:t>
            </a:r>
            <a:r>
              <a:rPr b="1" i="1" lang="en-US" sz="2800" spc="-1" strike="noStrike">
                <a:solidFill>
                  <a:srgbClr val="00e4a8"/>
                </a:solidFill>
                <a:latin typeface="Tahoma"/>
              </a:rPr>
              <a:t>(</a:t>
            </a:r>
            <a:r>
              <a:rPr b="1" i="1" lang="en-US" sz="2800" spc="-1" strike="noStrike">
                <a:solidFill>
                  <a:srgbClr val="00e4a8"/>
                </a:solidFill>
                <a:latin typeface="Tahoma"/>
              </a:rPr>
              <a:t>Time to Market</a:t>
            </a:r>
            <a:r>
              <a:rPr b="1" i="1" lang="en-US" sz="2800" spc="-1" strike="noStrike">
                <a:solidFill>
                  <a:srgbClr val="00e4a8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קצב התפתחות הטכנולוגיה מחייב "תפיסת מקום"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כולם יודעים מה נעשה ואי אפשר להפתי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טכניון – הפקולטה להנדסת מכונות</a:t>
            </a:r>
            <a:br>
              <a:rPr sz="32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פרויקט במערכות עתירות ידע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איך עובדים בסביבת "מערכות עתירות ידע"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e4a8"/>
                </a:solidFill>
                <a:latin typeface="Tahoma"/>
              </a:rPr>
              <a:t>מתודת עבוד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גם אם נרצה לעודד יצירתיות, יש לעבוד מסודר ובאופן מתודי (אבל לא "לסרס"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קובעים אבני דרך ומתכנסים אליה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מחלקים את העבודה לחלקים ומקפידים לסדר את הממשקים שלהן ("מניעת מנהרה טורקית"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בחירה מושכלת של הקונספט והטכנולוגי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טכניון – הפקולטה להנדסת מכונות</a:t>
            </a:r>
            <a:br>
              <a:rPr sz="32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פרויקט במערכות עתירות ידע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שלבי עבודה עיקריי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e4a8"/>
                </a:solidFill>
                <a:latin typeface="Tahoma"/>
              </a:rPr>
              <a:t>ניתוח צרכי השו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מה יש? מה קיים בשוק והאם יש מתחרי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מה צריך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מי בעד? מי נגד? (תמיכות והתנגדויות – ראה תרגיל ראשון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מה גודל השוק הפוטנציאלי ואיך נמקם את המוצ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מה החידוש שהמוצר מבי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אפיון המוצ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מי הלקוח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סקר תיכון – מפרט דרישות ( מסמך מבוקר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טכניון – הפקולטה להנדסת מכונות</a:t>
            </a:r>
            <a:br>
              <a:rPr sz="32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פרויקט במערכות עתירות ידע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שלבי עבודה עיקריים(המשך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e4a8"/>
                </a:solidFill>
                <a:latin typeface="Tahoma"/>
              </a:rPr>
              <a:t>בחירת הקונספ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סקירת האפשרויות לענות על הצרכים כפי שהוגדרו קוד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ניתוח האפשרויות (קשיי מימוש, סיכונים, יתרונות, פערי ידע וכו'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בחירת הקונספט העיקרי עם "דרך מילוט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סקר תיכון "מבוקר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חשוב לזכור – הקונספט הוא לב ליבו של הפרויק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טכניון – הפקולטה להנדסת מכונות</a:t>
            </a:r>
            <a:br>
              <a:rPr sz="32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פרויקט במערכות עתירות ידע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00"/>
                </a:solidFill>
                <a:latin typeface="Tahoma"/>
              </a:rPr>
              <a:t>שלבי עבודה עיקריים (המשך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e4a8"/>
                </a:solidFill>
                <a:latin typeface="Tahoma"/>
              </a:rPr>
              <a:t>בחירת הטכנולוגי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סקר הטכנולוגיות הקיימות והצפויו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בחינת הטכנולוגיות לפרויק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8000"/>
                </a:solidFill>
                <a:latin typeface="Tahoma"/>
              </a:rPr>
              <a:t>תאימות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8000"/>
                </a:solidFill>
                <a:latin typeface="Tahoma"/>
              </a:rPr>
              <a:t>סיכוני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8000"/>
                </a:solidFill>
                <a:latin typeface="Tahoma"/>
              </a:rPr>
              <a:t>שליטה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8000"/>
                </a:solidFill>
                <a:latin typeface="Tahoma"/>
              </a:rPr>
              <a:t>יתרונות\חסרונו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החלטה בסקר תיכון מבוקר (יכל להיות ביחד עם הקונספ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ahoma"/>
              </a:rPr>
              <a:t>יש לזכור שאת הטכנולוגיה בוחרים בהתחלת הפרויקט ולא משנים אותה. מאחר שפרויקט יכל לקחת כמה שנים, חשוב לבחור בטכנולוגיה שתהיה ממשית וברת קיימה לשנים הבאו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טכניון – הפקולטה להנדסת מכונות</a:t>
            </a:r>
            <a:br>
              <a:rPr sz="32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פרויקט במערכות עתירות ידע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שלבי עבודה עיקריים (המשך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e4a8"/>
                </a:solidFill>
                <a:latin typeface="Tahoma"/>
              </a:rPr>
              <a:t>מפרט טכנ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מבוסס על מפרט הדרישות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כיצד נממש את המוצר באופן שיענה על הדרישות (או לא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הוכחת עמידה בדרישות ע"י חישובים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Validation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חלוקה למטלות משנה (חייבים לעבוד במקביל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מפרט ממשקים מבוקר (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CD</a:t>
            </a: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מסמך מבוק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05:25:06Z</dcterms:created>
  <dc:creator>sslaav</dc:creator>
  <dc:description/>
  <dc:language>en-US</dc:language>
  <cp:lastModifiedBy>sslaav</cp:lastModifiedBy>
  <dcterms:modified xsi:type="dcterms:W3CDTF">2001-10-23T04:58:21Z</dcterms:modified>
  <cp:revision>4</cp:revision>
  <dc:subject/>
  <dc:title> הטכניון – הפקולטה להנדסת מכונות  פרויקט במערכות עתירות ידע לשנת לימודים תשס"ב 2001\2002 </dc:title>
</cp:coreProperties>
</file>