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D78-208B-4233-ADA6-98A720A8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513-57C0-4DC4-A754-9F5BE2ED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CDC-5070-4C80-9521-F02B4554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F9B-4E53-4A07-8B28-C1FAC76D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2C2-1609-4ADB-B25A-45D542FE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287-C422-4CC2-855C-7B243650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30B-52D9-4E81-AC76-101242AC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6D8-DBED-4581-A9A6-A010822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044-B355-4D92-A41B-964D2B7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D94-E160-48B7-A743-C6503A8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5C2-AF3B-4C0F-A020-39D244F6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A6E-5A10-4AD9-81D4-6A096C9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CCBBC-5544-4507-9356-D25C9D1F0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02920" y="1768320"/>
          <a:ext cx="9070920" cy="49896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0:22:06Z</dcterms:created>
  <dc:creator>yifan </dc:creator>
  <dc:description/>
  <dc:language>en-US</dc:language>
  <cp:lastModifiedBy/>
  <cp:revision>1</cp:revision>
  <dc:subject/>
  <dc:title/>
</cp:coreProperties>
</file>