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DE58-16C8-49F3-8CDA-80178EE1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D28-AE9B-4038-B763-A78C1D1A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D63-06E7-4EDC-90E5-47BB4C87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6D23-F2A3-42E9-BDE8-B7162433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8EA-6E47-4227-8F0E-51AB42F0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75DC-81BF-4913-BF9A-4586BECE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649-318C-48D2-8034-E1C0CEC3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AC0-25C2-42B9-975A-EA7ABAF9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51F-F9D5-4936-A056-5425B28E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67A-24A3-498C-A7BE-6617B253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F80-31FB-4C7E-A105-CBB1B6D9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383-83E0-4958-8B3B-A33EC768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15AA-5214-43DF-86EA-BA31748D9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09480" y="1219320"/>
            <a:ext cx="4976640" cy="69840"/>
            <a:chOff x="609480" y="1219320"/>
            <a:chExt cx="4976640" cy="69840"/>
          </a:xfrm>
        </p:grpSpPr>
        <p:sp>
          <p:nvSpPr>
            <p:cNvPr id="6" name=""/>
            <p:cNvSpPr/>
            <p:nvPr/>
          </p:nvSpPr>
          <p:spPr>
            <a:xfrm>
              <a:off x="609480" y="1219320"/>
              <a:ext cx="3525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991880" y="128916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looks different with OOo 1.1.1RC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open this slide with OOo 1.1.1RC1 you see that the formerly continuous blue to light blue background, with a gradient from the upper left corner to the lower right corner, will change to a gradient from the upper left corner to the middle of the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0:47:33Z</dcterms:created>
  <dc:creator>Volker Quetschke</dc:creator>
  <dc:description/>
  <dc:language>en-US</dc:language>
  <cp:lastModifiedBy>User</cp:lastModifiedBy>
  <dcterms:modified xsi:type="dcterms:W3CDTF">2004-03-18T21:05:57Z</dcterms:modified>
  <cp:revision>119</cp:revision>
  <dc:subject/>
  <dc:title>Length vs. phase</dc:title>
</cp:coreProperties>
</file>