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34D-6950-410E-8C96-DE04B28C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371-2550-4D2C-A3EA-529CAC9F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91A-49DA-4728-9B64-E61B44CD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240-C1B9-4828-AC50-547C79A3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B83-4519-4638-9150-C0E96A15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593-7C6F-40F9-98B9-2A35099E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CF4-8796-4382-B20C-067D152F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0C4-D431-4510-A98E-53311C39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56E-C00D-4AB6-AE14-F76CAA70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27B-AA44-4CCC-A7E7-8A6692D9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AF8-B16E-4F76-8E9A-25E38B1E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EB6-7B8E-44CC-8C56-CACAE348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59E8-1B26-4AB4-B507-37DFE2112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2860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define foo(message, test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{ if (!(test)) return; } while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23:23:17Z</dcterms:created>
  <dc:creator>Danny Faught</dc:creator>
  <dc:description/>
  <dc:language>en-US</dc:language>
  <cp:lastModifiedBy>Danny Faught</cp:lastModifiedBy>
  <dcterms:modified xsi:type="dcterms:W3CDTF">2002-12-26T23:31:45Z</dcterms:modified>
  <cp:revision>1</cp:revision>
  <dc:subject/>
  <dc:title>Slide 1</dc:title>
</cp:coreProperties>
</file>