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995720" y="4546440"/>
            <a:ext cx="1600200" cy="158148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83560" y="4133880"/>
            <a:ext cx="2462040" cy="736560"/>
          </a:xfrm>
          <a:prstGeom prst="wedgeRoundRectCallout">
            <a:avLst>
              <a:gd name="adj1" fmla="val -59486"/>
              <a:gd name="adj2" fmla="val 10849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Feigin</dc:creator>
  <dc:description/>
  <dc:language>en-US</dc:language>
  <cp:lastModifiedBy>Richard Feigin</cp:lastModifiedBy>
  <cp:revision>0</cp:revision>
  <dc:subject/>
  <dc:title/>
</cp:coreProperties>
</file>