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2A3-F9D4-466E-9995-173EAAD5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9E9-1EC5-4C31-9DA1-73A794C3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B35-31EF-406A-80B2-302B9C4C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09F-3A91-4C7E-B506-07E19FEC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A3E-D9ED-4E67-BF55-5E7875B7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A30-521B-4F21-A964-76ED685A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5ED-5DA7-4D4E-85C8-EB5D18DC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C1C-4B84-406D-8FC5-87595CE1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094-87F1-4494-B8E0-4B05343D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260-F706-4A0E-A18C-05359043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D49-A4FA-4354-8716-C6DD2FDD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87F-ADF8-4073-AA6C-79A16B81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0EB4-6E0D-4634-A4FD-405C16019F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122480" y="841320"/>
          <a:ext cx="6899040" cy="5175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841320"/>
                    <a:ext cx="689904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5:04:55Z</dcterms:created>
  <dc:creator>Christian Günther</dc:creator>
  <dc:description/>
  <dc:language>en-US</dc:language>
  <cp:lastModifiedBy>Christian Günther</cp:lastModifiedBy>
  <dcterms:modified xsi:type="dcterms:W3CDTF">2005-03-23T15:05:12Z</dcterms:modified>
  <cp:revision>1</cp:revision>
  <dc:subject/>
  <dc:title>Slide 1</dc:title>
</cp:coreProperties>
</file>