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7F3-3960-4005-A948-C7684041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0F1-02E5-4912-9D96-ECF0BACF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673-17A9-42E6-B6D2-65AA1FCB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321-B8EE-4B28-A72E-729DDF95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8D6-F462-450B-BA91-DB470331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5B8-BA81-490F-9F75-F1557F50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F77-39A8-4A3E-A0FB-FD0B55A6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8F9-0633-429B-AEE7-35EC79DB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1B7-5298-4B50-B7B1-45F55375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F4A-DE75-4222-BF6D-C1AE7BFA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69B-97F4-40E2-AD6C-60663BCE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536-CAF8-4325-B088-1A245322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99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F0ED-1217-48B4-87EB-695E0BDFC849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wisa.org/wwisamain/index.htm" TargetMode="External"/><Relationship Id="rId2" Type="http://schemas.openxmlformats.org/officeDocument/2006/relationships/hyperlink" Target="http://www.sei.cmu.edu/architecture/definitions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3366"/>
                </a:solidFill>
                <a:latin typeface="Times New Roman"/>
              </a:rPr>
              <a:t>הנדסת תוכנה מנקודות מבט שונות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99"/>
                </a:solidFill>
                <a:latin typeface="Times New Roman"/>
              </a:rPr>
              <a:t>בעיות נבחרות במדעי המחשב </a:t>
            </a:r>
            <a:r>
              <a:rPr b="1" lang="he-IL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99"/>
                </a:solidFill>
                <a:latin typeface="Times New Roman"/>
              </a:rPr>
              <a:t>סמסטר ב' תשס"ב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at Software Enginee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duct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וכניות מחשב הן עצם מתמטי פורמלי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הוכחת נכונות של תוכניות מבוססת על הוכחות מתמטיות.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at Software Enginee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וכניות מחשב הן כלים או סביבות עבודה עבור אנ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וכניות מחשב מתוכננות בתהליך של למידה ותקשורת על-מנת שתתאמנה לצורכי המשתמ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בתהליך התאמתה של תוכנית מחשב לצרכים שעבורם היא מפותחת נבחן אופן השימוש בה ובעקבות בחינה זו נערכים שינויים ונכתבות גרסאות חדשות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איכות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duct-Oriented view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איכות משוייכת למאפייני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features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המוצר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קריטריונים הקובעים את איכות התוכנה מתייחסים למהימנותה, יעילותה, וכו'. ניתן לשפר מדדים אלו ע"י שינוי התוכנית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איכות מוגדרת ע"י התבוננות מהתוכנה למשתמשים (למשל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user friendliness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)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איכות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איכות מתייחסת לתהליכים של השימוש בתוכנה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קריטריונים הקובעים את איכות התוכנה מתייחסים למהימנות </a:t>
            </a:r>
            <a:r>
              <a:rPr b="1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השימוש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בתוכנה וביעילותו. ניתן לשפר מדדים אלו ע"י שינוי סביבת העבודה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איכות מוגדרת ע"י התבוננות מהמשתמשים לתוכנה (למשל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relevance, suitability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)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תהליך הפיתוח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oftware development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700"/>
              </a:spcBef>
              <a:spcAft>
                <a:spcPts val="524"/>
              </a:spcAft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duct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spcAft>
                <a:spcPts val="524"/>
              </a:spcAft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מטרת תהליך הפיתוח היא יצירת מערכת תוכנה </a:t>
            </a:r>
            <a:r>
              <a:rPr b="1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אחת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, מוגדרת וקבועה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spcAft>
                <a:spcPts val="524"/>
              </a:spcAft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לאחר תהליך הפיתוח של התוכנה מתחיל שלב התחזוקה שלה, שמורכב מהסרת "בגים“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והוספה של צרכים חד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spcAft>
                <a:spcPts val="524"/>
              </a:spcAft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הליך הפיתוח נתפס כתהליך לינארי. סיום שלב מוביל לתחילת השלב הבא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תהליך הפיתוח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oftware development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מטרתו של תהליך הפיתוח היא יצירת סדרת גרסאות הקשורות זו לזו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חזוקת תוכנה היא חסרת משמעות. משימות שבאופן מסורתי מיוחסות לשלב התחזוקה מצורפות לפיתוח הגרסאות השונות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הליך הפיתוח הוא ציקלי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re-design, re-implementation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,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וכו'. כל מחזור מוביל לגרסה חדשה של מערכת התוכנה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הבנת תוכניות ותפקיד המסמכים הנלווים</a:t>
            </a: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duct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יש להבין תוכניות מחשב מהמסמכים בלבד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מסמכים צריכים להיות מושלמים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על חלק מהמסמכים להיות כתוב בשפה פורמלית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הסברים המשתמשים בשפה טבעית אינם נחשבים עקבי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ידע נרכש ע"י הבנת חוקים פורמליים (המנוסחים בצורה פורמלית)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הבנת תוכניות ותפקיד המסמכים הנלווים</a:t>
            </a: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5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על המסמכים להסביר בלשון המובנת לקוראים מה עושה תוכנית המחשב וכיצד היא מבצעת זאת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5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חוות דעת אישיות ותיאור ניסיונות שימוש הם חלק חיוני בהבנת מערכות תוכנה; על מסמכים לעודד שילוב של רשמים מפעילויות מסוג זה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5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החלק המשמעותי של התיעוד כתוב בשפה טבעית ומכיל הצגת מושגים, הגדרות, והסברים על המודל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5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יש להשתמש בשפה פורמלית רק אם יש צורך בכך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הבנת תוכניות ותפקיד המסמכים הנלווים</a:t>
            </a: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-Oriented view (cont)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על המסמכים לתאר גם כיצד התקבלו החלטות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ניסיונות שונים, בחינת אלטרנטיבות, וכו'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התיעוד הוא המסמך עליו מתבסס המשך פיתוח (תחזוקת) המערכת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דרך מתאימה לתיעוד מסוג זה היא עריכת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dairy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)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יומן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ידע נרכש על-בסיס ידע קודם ע"י דוגמאות ואנלוגיות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שיטות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ethods</a:t>
            </a: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duct-Oriented view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מוש נכון בשיטות פיתוח מוביל לתוצאות אחידות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טות הן קבועות, מוגדרות היטב ובלתי תלויות בתוכן, במפתחים ובמשתמ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טות פיתוח מסייעות למפתחי תוכנה להיות פחות תלויים באנ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שאלות מסגרת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99"/>
                </a:solidFill>
                <a:latin typeface="Arial Black"/>
                <a:ea typeface="Narkisim"/>
              </a:rPr>
              <a:t> למה כותבים תוכנה?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99"/>
                </a:solidFill>
                <a:latin typeface="Arial Black"/>
                <a:cs typeface="Narkisim"/>
              </a:rPr>
              <a:t>מהן המטרות של כתיבת קוד?</a:t>
            </a:r>
            <a:r>
              <a:rPr b="0" lang="en-US" sz="3600" spc="-1" strike="noStrike">
                <a:solidFill>
                  <a:srgbClr val="000099"/>
                </a:solidFill>
                <a:latin typeface="Arial Black"/>
                <a:ea typeface="Narkisim"/>
              </a:rPr>
              <a:t> </a:t>
            </a:r>
            <a:r>
              <a:rPr b="0" lang="he-IL" sz="3600" spc="-1" strike="noStrike">
                <a:solidFill>
                  <a:srgbClr val="000099"/>
                </a:solidFill>
                <a:latin typeface="Arial Black"/>
                <a:cs typeface="Narkisim"/>
              </a:rPr>
              <a:t>של פיתוח מערכת תוכנה?</a:t>
            </a:r>
            <a:r>
              <a:rPr b="0" lang="en-US" sz="3600" spc="-1" strike="noStrike">
                <a:solidFill>
                  <a:srgbClr val="000099"/>
                </a:solidFill>
                <a:latin typeface="Arial Black"/>
                <a:ea typeface="Narkisim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שיטות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ethods</a:t>
            </a: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cess-Oriented view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טות תומכות בתקשורת בין אנשים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טות הן חסרות משמעות אלא אם כן הן בשימוש ע"י אנ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טות מתפתחות עם הניסיון, ועליהן להיות יכולות להיות מותאמות לצרכים ולמצבים מסויימ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3366"/>
                </a:solidFill>
                <a:latin typeface="Times New Roman"/>
              </a:rPr>
              <a:t>תרגיל </a:t>
            </a:r>
            <a:r>
              <a:rPr b="1" lang="he-IL" sz="4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003366"/>
                </a:solidFill>
                <a:latin typeface="Times New Roman"/>
              </a:rPr>
              <a:t>(להגשה בזוגות בתאריך </a:t>
            </a:r>
            <a:r>
              <a:rPr b="1" lang="he-IL" sz="3200" spc="-1" strike="noStrike">
                <a:solidFill>
                  <a:srgbClr val="003366"/>
                </a:solidFill>
                <a:latin typeface="Times New Roman"/>
              </a:rPr>
              <a:t>9.4.02</a:t>
            </a:r>
            <a:r>
              <a:rPr b="1" lang="he-I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6600"/>
                </a:solidFill>
                <a:latin typeface="Times New Roman"/>
              </a:rPr>
              <a:t>תיאור מערכת מבוססת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Web</a:t>
            </a:r>
            <a:r>
              <a:rPr b="0" lang="he-IL" sz="2400" spc="-1" strike="noStrike">
                <a:solidFill>
                  <a:srgbClr val="006600"/>
                </a:solidFill>
                <a:latin typeface="Times New Roman"/>
              </a:rPr>
              <a:t> לעריכת סקרים (מנקודת מבט של לקוח)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6600"/>
                </a:solidFill>
                <a:latin typeface="Times New Roman"/>
              </a:rPr>
              <a:t>התיאור הראשוני של לקוח שאינו איש/אשת תוכנה: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he-IL" sz="2400" spc="-1" strike="noStrike">
                <a:solidFill>
                  <a:srgbClr val="006600"/>
                </a:solidFill>
                <a:latin typeface="Times New Roman"/>
              </a:rPr>
              <a:t>אתר לעריכת סקרים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עליכם לפתח תיאור זה למסמך המתאר את מערכת התוכנה </a:t>
            </a:r>
            <a:r>
              <a:rPr b="0" lang="he-IL" sz="2400" spc="-1" strike="noStrike">
                <a:solidFill>
                  <a:srgbClr val="000099"/>
                </a:solidFill>
                <a:latin typeface="Times New Roman"/>
              </a:rPr>
              <a:t>(לא לגלוש לדרישות וניתוחן)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ניתן לבחור עבור מי מפותחת מערכת התוכנה ובהתאם לכך לפתח את תיאור המערכת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25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cc3300"/>
                </a:solidFill>
                <a:latin typeface="Times New Roman"/>
              </a:rPr>
              <a:t>הנחה: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כרגע אין מערכת כזו בארגון שעבורו מפותחת המערכת </a:t>
            </a:r>
            <a:r>
              <a:rPr b="0" lang="he-IL" sz="2400" spc="-1" strike="noStrike">
                <a:solidFill>
                  <a:srgbClr val="cc3300"/>
                </a:solidFill>
                <a:latin typeface="Times New Roman"/>
              </a:rPr>
              <a:t>(אין נהלי עבודה, אין בסיסי מידע, וכו')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0" algn="r" rtl="1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מסגרת לשאלות מסגרת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25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99"/>
                </a:solidFill>
                <a:latin typeface="Times New Roman"/>
              </a:rPr>
              <a:t>בשיעור הזה נסתכל על תוכנה הנכתבת ללקוחות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ולא על תוכנות שכותבים להנאה או למילוי דרישות קורס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25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800000"/>
                </a:solidFill>
                <a:latin typeface="Times New Roman"/>
              </a:rPr>
              <a:t>המטרה בפיתוח תוכנה: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5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800000"/>
                </a:solidFill>
                <a:latin typeface="Times New Roman"/>
              </a:rPr>
              <a:t>לספק ללקוחות את התוכנה שהם צריכים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5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800000"/>
                </a:solidFill>
                <a:latin typeface="Times New Roman"/>
              </a:rPr>
              <a:t>לענות לדרישות הלקוחות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מידע נוסף על הגישה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Miriam"/>
                <a:hlinkClick r:id="rId1"/>
              </a:rPr>
              <a:t>Worldwide Institute of Software Architects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Miriam"/>
                <a:hlinkClick r:id="rId2"/>
              </a:rPr>
              <a:t>How Do You Define Software Architecture?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3366"/>
                </a:solidFill>
                <a:latin typeface="Times New Roman"/>
              </a:rPr>
              <a:t>הנדסת תוכנה  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Miriam"/>
              </a:rPr>
              <a:t>Software Engineering</a:t>
            </a:r>
            <a:r>
              <a:rPr b="0" lang="he-IL" sz="4000" spc="-1" strike="noStrike">
                <a:solidFill>
                  <a:srgbClr val="000099"/>
                </a:solidFill>
                <a:latin typeface="Times New Roman"/>
                <a:ea typeface="Miriam"/>
              </a:rPr>
              <a:t> </a:t>
            </a:r>
            <a:r>
              <a:rPr b="0" lang="he-IL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12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מונח הוזכר לראשונה בכינוס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O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ב-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968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, בעקבות ההכרה בקיום משבר התוכנה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Crisi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25000"/>
              </a:lnSpc>
              <a:spcBef>
                <a:spcPts val="799"/>
              </a:spcBef>
              <a:spcAft>
                <a:spcPts val="1001"/>
              </a:spcAft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3300"/>
                </a:solidFill>
                <a:latin typeface="Times New Roman"/>
              </a:rPr>
              <a:t>תחילתה של הנדסת תוכנה היתה עם ההכרה כי פיתוח תוכנה הוא תהליך ארוך, בעל סיבוכיות גדולה מאוד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2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וכרו בעיות שהן ביסודו של תהליך פיתוח תוכנה וחיפשו עבורן פתרונות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3366"/>
                </a:solidFill>
                <a:latin typeface="Times New Roman"/>
              </a:rPr>
              <a:t>הנדסת תוכנה  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Miriam"/>
              </a:rPr>
              <a:t>Software Engineering</a:t>
            </a:r>
            <a:r>
              <a:rPr b="0" lang="he-IL" sz="4000" spc="-1" strike="noStrike">
                <a:solidFill>
                  <a:srgbClr val="000099"/>
                </a:solidFill>
                <a:latin typeface="Times New Roman"/>
                <a:ea typeface="Miriam"/>
              </a:rPr>
              <a:t> </a:t>
            </a:r>
            <a:r>
              <a:rPr b="0" lang="he-IL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886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5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בתחילת הדרך (סוף שנות ה-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ותחילת שנות ה-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) סברו כי הבעיה המרכזית היא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יצירת קוד התוכני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5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בסוף שנות ה-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ותחילת שנות ה-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הוחל לשים דגש על נושאים כמו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תיכון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) מערכות תוכנה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וניהול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פרוייקטי תוכנה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5000"/>
              </a:lnSpc>
              <a:spcBef>
                <a:spcPts val="700"/>
              </a:spcBef>
              <a:spcAft>
                <a:spcPts val="1049"/>
              </a:spcAft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תהליך הנדסת תוכנה מתחיל </a:t>
            </a:r>
            <a:r>
              <a:rPr b="0" lang="he-IL" sz="2800" spc="-1" strike="noStrike" u="sng">
                <a:solidFill>
                  <a:srgbClr val="000099"/>
                </a:solidFill>
                <a:uFillTx/>
                <a:latin typeface="Times New Roman"/>
              </a:rPr>
              <a:t>הרבה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 לפני הקידוד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ding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ומסתיים אחרי שהקידוד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מסתיים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שתיים ממטרות הקורס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99"/>
                </a:solidFill>
                <a:latin typeface="Times New Roman"/>
              </a:rPr>
              <a:t>בחינת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 נקודות מבט שונות על הנדסת תוכנה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duct vs. Process Perspectives at Software Engineer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99"/>
                </a:solidFill>
                <a:latin typeface="Times New Roman"/>
              </a:rPr>
              <a:t>שקילת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 נקודות מבט שונות בפיתוח מערכת תוכנה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6600"/>
                </a:solidFill>
                <a:latin typeface="Times New Roman"/>
                <a:cs typeface="Times New Roman (Hebrew)"/>
              </a:rPr>
              <a:t>לקוחות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6600"/>
                </a:solidFill>
                <a:latin typeface="Times New Roman"/>
              </a:rPr>
              <a:t>חלקים שונים של חברה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firm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he-IL" sz="2400" spc="-1" strike="noStrike">
                <a:solidFill>
                  <a:srgbClr val="006600"/>
                </a:solidFill>
                <a:latin typeface="Times New Roman"/>
              </a:rPr>
              <a:t> בכלל ובין חברי צוות בפרט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תרגיל כתה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99"/>
                </a:solidFill>
                <a:latin typeface="Times New Roman"/>
              </a:rPr>
              <a:t>תיאור נאיבי של מערכת תוכנה כרצונכם כלקוחות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at Software Enginee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נקודות מבט המדגימות דגשים שונים של קהיליות שונות העוסקות בהנדסת תוכנה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0" algn="r" rtl="1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    מקורות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loyd, C. (1987). Outline of a Paradigm Change in Software Engineering. In: G. Bjerknes, P. Ehn, M. Kyng (Eds.),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mputers and democracy - a Scandinavian challeng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Aldershot, UK: Avebury, 191-212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non, L. (2001). Developing software as a human, social &amp; organizational activity.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13th Annual Workshop of the Psychology of Programming Interest Group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Bournemouth, England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06:47:42Z</dcterms:created>
  <dc:creator>Hazzan</dc:creator>
  <dc:description/>
  <dc:language>en-US</dc:language>
  <cp:lastModifiedBy>Hazzan</cp:lastModifiedBy>
  <dcterms:modified xsi:type="dcterms:W3CDTF">2002-03-23T15:52:51Z</dcterms:modified>
  <cp:revision>1444</cp:revision>
  <dc:subject/>
  <dc:title>Product vs. Process perspective </dc:title>
</cp:coreProperties>
</file>