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917-67E9-4993-B41F-0B0B4E51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6D25-DBCD-49FD-9641-DAF83FCA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B894-CE38-4FF5-A5E8-45A2EC71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749-3034-4D97-8267-E0C70AA0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0BA-264E-4313-B18C-AA4872A1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669-95D1-48A9-B75C-C9B8150C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0EA4-1916-4AAB-9293-F61A8FF4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D45-0034-4E39-AC51-48804977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20A-FDA3-4134-8E2F-346C3C99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43CD-010B-4AD0-ADE1-24941C9D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7FEC-DE5B-4FCB-86E3-1089276E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B25B-CCCC-4D60-AA8E-74E0FABA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8678-8268-49D3-8762-ADB6CAAA6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layout with Lin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76320">
            <a:solidFill>
              <a:srgbClr val="00ff00"/>
            </a:solidFill>
            <a:prstDash val="lgDashDot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  Dash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1998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lIns="118440" rIns="11844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99cc00"/>
            </a:solidFill>
            <a:prstDash val="dashDot"/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vege</cp:lastModifiedBy>
  <dcterms:modified xsi:type="dcterms:W3CDTF">2010-07-16T04:56:37Z</dcterms:modified>
  <cp:revision>13</cp:revision>
  <dc:subject/>
  <dc:title>This is a layout with Line sty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