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6775-FF9D-482A-A4BC-D1A48A931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0422-F47F-4733-AEA9-E691EBF8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F808-7CA7-4CC7-9339-A8D4AF755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E455-178D-4121-A233-21AEDB715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125B-A5CC-460A-8819-43DDADDC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2BC0-29FB-4571-A1BD-4083A933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77B3-4D65-4236-BF93-46725BA2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9D44-3641-46E4-81F2-CF695C66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75E5-DB14-4503-8347-79C344FC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50D9-F596-4066-B9C0-10F4DF60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5B80-9B67-4E23-8BC9-429E72C5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5188-D014-4D70-8753-7336FC7C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CC39-9ADD-492B-B8CB-E0B5C1352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Ch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3995640" y="2924280"/>
            <a:ext cx="101592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2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13:11:22Z</dcterms:created>
  <dc:creator>gely</dc:creator>
  <dc:description/>
  <dc:language>en-US</dc:language>
  <cp:lastModifiedBy>gely</cp:lastModifiedBy>
  <dcterms:modified xsi:type="dcterms:W3CDTF">2011-03-05T13:39:38Z</dcterms:modified>
  <cp:revision>2</cp:revision>
  <dc:subject/>
  <dc:title>Slide 1</dc:title>
</cp:coreProperties>
</file>