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A72-76E9-4436-8F5A-CDE58A02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CAE-666F-4FD5-B219-62806828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DE8-A76E-433C-99EB-94AE8A5E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DA1-5345-437D-A756-831FD02B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E0D-772E-4898-85CA-DCBDCF25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F6A-7B74-41D6-A37A-2BB153F9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8E1-D158-4897-9E6F-FA67637E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ECF-9FB5-4CDD-9B28-154892B4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990-9174-4FCC-896F-E8A93B9F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9B2-F4E3-4230-ACC5-5A62D2EE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B23-1B30-4D94-8C3C-F43B4BEC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018-CD81-4A7C-A3FC-2DAE35A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AE14-C000-41E5-B43A-071C215C5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89000"/>
          <a:ext cx="8569080" cy="1276200"/>
        </p:xfrm>
        <a:graphic>
          <a:graphicData uri="http://schemas.openxmlformats.org/drawingml/2006/table">
            <a:tbl>
              <a:tblPr/>
              <a:tblGrid>
                <a:gridCol w="1066680"/>
                <a:gridCol w="750240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Enhancement Phase I\Graphic Chart\Chart Properties\Format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0" y="39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47640" y="141300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47:19Z</dcterms:created>
  <dc:creator>Jason</dc:creator>
  <dc:description/>
  <dc:language>en-US</dc:language>
  <cp:lastModifiedBy>robin</cp:lastModifiedBy>
  <dcterms:modified xsi:type="dcterms:W3CDTF">2012-09-12T08:52:05Z</dcterms:modified>
  <cp:revision>56</cp:revision>
  <dc:subject/>
  <dc:title>幻灯片 1</dc:title>
</cp:coreProperties>
</file>