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71C-258D-4CBC-B427-53FCA197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6DE2-943C-40D7-8FCD-009E5EEE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AECD-4244-4C2A-8D32-0278156C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E7C9-5258-4463-859B-08342181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A80D-3C49-4BD7-863E-14B11AC2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F86B-88D6-4F9F-9849-63E69F2F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2119-9FD4-4574-960D-3376BEAF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0282-5DD3-4F17-9560-5120150C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82F7-12B5-4FFB-A540-A2751D64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9378-4B1E-4986-AC97-734D48FE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382E-D7B4-4B04-A49B-66124172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15A2-FDFC-41D3-BF14-1D9CC9A2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4719-34CF-48D0-B71C-C1C9AB06A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19640" y="3611520"/>
            <a:ext cx="1584000" cy="1617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08360" y="4149720"/>
            <a:ext cx="99072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60280"/>
            <a:ext cx="747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werPoint 2003 on WinXP S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n Englis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ormat -&gt; AutoShape -&gt;  Color and Lines tab -&gt; click arrow beside Fill Collor box -&gt;  Fill Effects -&gt; Pattern tab -&gt; Light vertical  -&gt; select  Foreground:Black and Background: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n Japane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オートシェイプの書式設定→色と効果　タブ→塗りつぶし→塗りつぶし効果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ターン　タブ→「縦線」→前景：黒、背景：白　を選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04:28:49Z</dcterms:created>
  <dc:creator>B1004-05-01</dc:creator>
  <dc:description/>
  <dc:language>en-US</dc:language>
  <cp:lastModifiedBy>B1004-05-01</cp:lastModifiedBy>
  <dcterms:modified xsi:type="dcterms:W3CDTF">2012-05-23T07:15:58Z</dcterms:modified>
  <cp:revision>5</cp:revision>
  <dc:subject/>
  <dc:title>スライド 1</dc:title>
</cp:coreProperties>
</file>