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871-9A54-4CE6-85A7-729F7BC2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111-1977-4FF4-9222-2BC602FE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55E-7883-4763-A04F-54949242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357-38E9-435B-9BF3-D8113579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56B-12D1-4A65-9850-1178F945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33D-B350-477E-9CEC-B0F23092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2D7-DE0B-47A7-9962-3BEA21B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A3F-7997-4EA6-B27C-D06297B5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649-33C0-4A24-A1AE-8322D856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ADD-122A-4961-8DE2-3D7121E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AE7-F2D4-4C7F-B54E-9033A71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9B7-549A-4A3E-BDCD-20E0D86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F66-D3B2-4BA6-B1EE-A247F359B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3840" y="333360"/>
            <a:ext cx="7216920" cy="628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04160" y="33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08000" y="119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8000" y="189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66760" y="11250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095840" y="357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950760" y="4221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15120" y="4221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92000" y="34873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-200520" y="465480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95280" y="587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1280" y="51166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70040" y="60264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1167120" y="33336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128880" y="119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3640" y="189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642560" y="11250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559800" y="357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221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59480" y="4221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16200" y="34873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454760" y="465480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4040" y="587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146920" y="51166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45840" y="60264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-272520" y="-2520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-107640" y="119664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88000" y="4363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66760" y="134604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095840" y="321480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950760" y="4221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415120" y="44686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292000" y="37087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00880" y="501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87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1280" y="4869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70040" y="58050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 rot="1864200">
            <a:off x="-61200" y="-42660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858800">
            <a:off x="-109440" y="120096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867200">
            <a:off x="3043080" y="-82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1877400">
            <a:off x="3030840" y="8946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 rot="1863600">
            <a:off x="1068840" y="3666600"/>
            <a:ext cx="3351600" cy="7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 rot="1858200">
            <a:off x="952200" y="421524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 rot="1866600">
            <a:off x="5231160" y="4879440"/>
            <a:ext cx="3352320" cy="71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 rot="1876800">
            <a:off x="5113080" y="412776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63600">
            <a:off x="-174600" y="456012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58200">
            <a:off x="393480" y="588168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66600">
            <a:off x="3674160" y="446004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76800">
            <a:off x="3649320" y="53856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 rot="20625600">
            <a:off x="-289800" y="21276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20635200">
            <a:off x="-108360" y="119376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 rot="20628600">
            <a:off x="3054960" y="6631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20649000">
            <a:off x="3028680" y="1569960"/>
            <a:ext cx="33526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 rot="20625000">
            <a:off x="1011240" y="2989080"/>
            <a:ext cx="335160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 rot="20634600">
            <a:off x="951480" y="4223520"/>
            <a:ext cx="335196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 rot="20628000">
            <a:off x="5415480" y="423360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 rot="20648400">
            <a:off x="5291280" y="34747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625000">
            <a:off x="-117720" y="523728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634600">
            <a:off x="394560" y="587412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628000">
            <a:off x="3489120" y="51055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648400">
            <a:off x="3471840" y="603828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06:45Z</dcterms:created>
  <dc:creator>33</dc:creator>
  <dc:description/>
  <dc:language>en-US</dc:language>
  <cp:lastModifiedBy>33</cp:lastModifiedBy>
  <dcterms:modified xsi:type="dcterms:W3CDTF">2005-02-02T10:50:30Z</dcterms:modified>
  <cp:revision>4</cp:revision>
  <dc:subject/>
  <dc:title>Folie 1</dc:title>
</cp:coreProperties>
</file>