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09B-BACD-4E09-B6E8-27497CB6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8E0-5E9B-41D9-AFFB-A18B5DF8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9A8-38ED-4EBE-81FA-C09415E9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98A-B5C2-4CE7-AF19-89195E30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EDE-6584-4B9E-B525-8B69838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3C7-3996-45A1-8DED-04AA9CC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EA5-7B57-4CAC-9B37-92BCD58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1CD-A149-4598-965A-16EA7E2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017-1CC9-477B-B48A-763E3F5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6AB-8B01-425D-8FEC-99ECABF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445-751B-43E0-868D-DF6D4B9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704-B7E8-49B7-A0B0-A58F4FC9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E507B-697F-47C6-90F2-756B2EF03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page will take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other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835360" y="2011320"/>
            <a:ext cx="4572000" cy="18288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to pag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835360" y="4297320"/>
            <a:ext cx="4572000" cy="18288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to pag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3017880" y="3017880"/>
            <a:ext cx="4022640" cy="21938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back to p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3017880" y="3017880"/>
            <a:ext cx="4022640" cy="21938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back to p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5:28:13Z</dcterms:created>
  <dc:creator>Oralia Rueda</dc:creator>
  <dc:description/>
  <dc:language>en-US</dc:language>
  <cp:lastModifiedBy>Oralia Rueda</cp:lastModifiedBy>
  <dcterms:modified xsi:type="dcterms:W3CDTF">2013-04-12T15:31:38Z</dcterms:modified>
  <cp:revision>1</cp:revision>
  <dc:subject/>
  <dc:title/>
</cp:coreProperties>
</file>