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BEC3-5802-4FC2-B4B0-0F04203A3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28B5-B7AE-44AB-85AE-05BFC3B7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1855-E3B0-48C5-868C-A36D78EC4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893A-D38F-4FA3-9A2B-BF84B362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DBB8-6ECF-4BA5-80DC-CE6B8698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A71D-3088-48FF-8E71-881F268E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F0B1-9849-4FF8-AFFF-54888EA7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BD93-351B-455C-A3FC-980E83F2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8618-78BA-419B-BBD9-A6990248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C9ED-C3B6-41A9-A8FD-4F2C4268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BED5-CB08-4541-A124-393E7894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99CC-25A0-402E-B69C-58926A76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5278-7518-4C3A-A4D4-C4C39D46A09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2B88-4CFC-4A9C-B854-CC7FB124D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Various Fon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123456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-5020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rlow Solid Italic"/>
              </a:rPr>
              <a:t>$%^%&amp;_+|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15:45:40Z</dcterms:created>
  <dc:creator>Wipro</dc:creator>
  <dc:description/>
  <dc:language>en-US</dc:language>
  <cp:lastModifiedBy>lthan</cp:lastModifiedBy>
  <dcterms:modified xsi:type="dcterms:W3CDTF">2009-08-14T12:32:49Z</dcterms:modified>
  <cp:revision>9</cp:revision>
  <dc:subject/>
  <dc:title>Slide 1</dc:title>
</cp:coreProperties>
</file>