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45D-7B09-42AD-A7DE-03439FB2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CDDF-D84A-410B-B43D-156BC550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EBD-274A-476C-BA94-7E2F222C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D0B8-10D5-47FB-B4E4-189E9446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9AE4-6928-46BF-980D-DD657824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3A8D-057D-46CE-A12A-B43AEF4F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E187-C639-4BE3-BB4D-7E384A69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6829-9D6D-4731-8352-AF98519B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10BC-2076-4826-A141-D048DB9F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D450-EF29-4BD0-8D0D-8A77E532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B0A2-C00A-400B-9978-3F654579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BB2D-A55D-4881-80F0-5F2E3D3A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391E-59DB-4EDC-B556-11B4EF27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346A-D12E-41AA-915D-9B4347EC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4A53-1EF6-4222-AC0A-80CFFC84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9793-D758-4024-87F3-20945CC2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83A3-5EB4-4A05-B4C4-23046289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F14B-B6BE-44B9-AC81-CB6D7865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2906-72F5-44FB-8E48-4337EEE0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185-7901-402F-8C77-9E8A6F1E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125E-CB55-4247-BE09-2265E86B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830-0180-46A5-A2B7-8358DE96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E5C-370E-4FEB-B355-D1054DEC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EBE-6119-44E0-8C3A-61C38E32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D4D3-B823-432A-9B14-B7671D3701C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43C0-1084-4005-98C4-A2DA8C20393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xxxxxxxxxxxxxx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xxxxxxxxxxxxxxx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xxxxxxxxxxxxxxxxx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1752480" y="4572000"/>
            <a:ext cx="914400" cy="175248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6781680" y="4572000"/>
            <a:ext cx="914400" cy="17524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4572000" y="4572000"/>
            <a:ext cx="914400" cy="1752480"/>
          </a:xfrm>
          <a:prstGeom prst="can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AutoShape 22"/>
          <p:cNvSpPr/>
          <p:nvPr/>
        </p:nvSpPr>
        <p:spPr>
          <a:xfrm>
            <a:off x="2971800" y="5562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AutoShape 23"/>
          <p:cNvSpPr/>
          <p:nvPr/>
        </p:nvSpPr>
        <p:spPr>
          <a:xfrm>
            <a:off x="5715000" y="556272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AutoShape 20"/>
          <p:cNvSpPr/>
          <p:nvPr/>
        </p:nvSpPr>
        <p:spPr>
          <a:xfrm rot="20062800">
            <a:off x="1981080" y="5333760"/>
            <a:ext cx="457200" cy="655560"/>
          </a:xfrm>
          <a:prstGeom prst="foldedCorner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2998E-006 L 0.30834 -4.82998E-006 E">
                                      <p:cBhvr>
                                        <p:cTn id="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833 -1.63081E-006 L 0.55833 -1.63081E-006 E">
                                      <p:cBhvr>
                                        <p:cTn id="1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xxxxxxxxxxxxx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table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xmlns=“http://www.w3.org/tr/xhtml”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xmlns:furn=http://www.furniture.org/tables&gt;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tr&gt;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&lt;td&gt;Product&lt;/td&gt;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&lt;td&gt;Price&lt;/td&gt;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/tr&gt;&lt;tr&gt;&lt;td&gt;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&lt;furn:table sku=“1429815132”&gt;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&lt;furn:type&gt;Coffee Table&lt;/furn:type&gt;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&lt;/furn:table&gt;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/td&gt;&lt;/tr&gt;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/table&gt;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" dur="indefinite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9" dur="indefinite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0" dur="indefinite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3" dur="indefinite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4" dur="indefinite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09:11:06Z</dcterms:created>
  <dc:creator>张芳向 Netboy</dc:creator>
  <dc:description/>
  <dc:language>en-US</dc:language>
  <cp:lastModifiedBy>IBM_ADMIN</cp:lastModifiedBy>
  <dcterms:modified xsi:type="dcterms:W3CDTF">2012-05-29T06:28:46Z</dcterms:modified>
  <cp:revision>30</cp:revision>
  <dc:subject/>
  <dc:title>XML Technology and Applications</dc:title>
</cp:coreProperties>
</file>