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6EE-8183-4547-B252-785A32CE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B92-F23E-4F65-B7BA-5D5AAD7B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F6F-44B9-43C5-913F-E271BE92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BDE-9A50-49AC-BFCE-08FA0CBB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A53-4C94-40B7-AAC6-4F457FCB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F3D-0D5E-4B75-9791-AC6CFDFE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F05-B2D1-44E9-81BB-72AE261B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E28-5915-421C-950F-D44763FA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EDA-F206-4474-B943-B8B4E9DD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5FD-6A65-43B9-B3FB-9B3257CC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FF6-AB63-43BF-BFC7-3C948CF3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6D4-F8F0-4C28-BCCB-FED37580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3D54-5F97-434A-90F9-F830568A3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152280"/>
            <a:ext cx="380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990720"/>
            <a:ext cx="3800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4920" y="2666880"/>
            <a:ext cx="380052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48520" y="3200400"/>
            <a:ext cx="2695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5880" y="1752480"/>
            <a:ext cx="28767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 rot="5400000">
            <a:off x="2690640" y="1804680"/>
            <a:ext cx="380052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" y="4419720"/>
            <a:ext cx="38005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Your Text He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5880" y="2514600"/>
            <a:ext cx="287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Your Text Her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2280" y="6095880"/>
            <a:ext cx="380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r Text He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152280"/>
            <a:ext cx="380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our Text He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72200" y="990720"/>
            <a:ext cx="269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r Text Her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 rot="5400000">
            <a:off x="3447720" y="3714840"/>
            <a:ext cx="38005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Your Text Here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48520" y="4114800"/>
            <a:ext cx="2695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r Text Her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48520" y="4724280"/>
            <a:ext cx="2695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Your Text Her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3657600"/>
            <a:ext cx="287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Your Text Her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81480" y="6095880"/>
            <a:ext cx="380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our Text He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5257800"/>
            <a:ext cx="28767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Your Text He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 rot="5400000">
            <a:off x="-1023840" y="1328400"/>
            <a:ext cx="28767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Your Text Here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2120" y="152280"/>
            <a:ext cx="380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990720"/>
            <a:ext cx="28767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8080" y="1905120"/>
            <a:ext cx="285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Your Text Her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2743200"/>
            <a:ext cx="26956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our Text Her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280" y="3352680"/>
            <a:ext cx="38005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Your Text Her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 rot="5400000">
            <a:off x="2253600" y="2927160"/>
            <a:ext cx="43689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Your Text He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09480" y="4724280"/>
            <a:ext cx="2876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5638680"/>
            <a:ext cx="380052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4120" y="685800"/>
            <a:ext cx="26953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876920" y="3352680"/>
            <a:ext cx="26953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81480" y="5943600"/>
            <a:ext cx="38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6500520" y="2643120"/>
            <a:ext cx="38005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9:07:53Z</dcterms:created>
  <dc:creator>cg103521</dc:creator>
  <dc:description/>
  <dc:language>en-US</dc:language>
  <cp:lastModifiedBy>cg103521</cp:lastModifiedBy>
  <dcterms:modified xsi:type="dcterms:W3CDTF">2004-08-13T15:15:23Z</dcterms:modified>
  <cp:revision>3</cp:revision>
  <dc:subject/>
  <dc:title>PowerPoint Presentation</dc:title>
</cp:coreProperties>
</file>