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5E7-E343-4074-BD0E-BFAB0E26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CE7-F5EF-4A9E-9ED3-6A2340F7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8EE-E11E-483B-8DFB-AAB18C5A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C10-1D72-4388-83C3-131246EB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8FB-82C1-447D-8797-F3B52432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F3B-13EC-40DC-AA6E-303DEA48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33E-3A2C-4BE0-AF81-D47F9F62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DDBF-0B64-4404-8868-D547D1FD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88F-E579-47EF-B9C8-9896DC4B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10C-FFF5-41E3-9F65-AB6390B8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1DC9-B572-4C55-9276-889C2C19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9FB-E125-49B6-A877-2BDBF7EB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9BD9-2B30-4AB2-8780-5643B54B1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40360" y="469728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ash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56000" y="476280"/>
            <a:ext cx="28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40360" y="469728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56000" y="476280"/>
            <a:ext cx="36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25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5640" y="40464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0360" y="40464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253836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40360" y="2610000"/>
            <a:ext cx="3276720" cy="1699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469728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40360" y="469728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56000" y="476280"/>
            <a:ext cx="36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4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23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0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5640" y="40464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40360" y="40464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256536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40360" y="2610000"/>
            <a:ext cx="3276720" cy="1699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469728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40360" y="469728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476280"/>
            <a:ext cx="36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5640" y="40464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40360" y="40464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6000" y="476280"/>
            <a:ext cx="36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23000" y="123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5640" y="40464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40360" y="40464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253836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40360" y="2610000"/>
            <a:ext cx="3276720" cy="1699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469728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476280"/>
            <a:ext cx="36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879999995231628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16360" y="3933720"/>
            <a:ext cx="327636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old Rev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6000" y="476280"/>
            <a:ext cx="36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20:00:28Z</dcterms:created>
  <dc:creator>CCEPC7</dc:creator>
  <dc:description/>
  <dc:language>en-US</dc:language>
  <cp:lastModifiedBy>Christian Günther</cp:lastModifiedBy>
  <dcterms:modified xsi:type="dcterms:W3CDTF">2004-10-05T10:31:35Z</dcterms:modified>
  <cp:revision>13</cp:revision>
  <dc:subject/>
  <dc:title>Folie 1</dc:title>
</cp:coreProperties>
</file>