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27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9F0BD-2BC5-433B-B164-8ECB4E8F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DE16F-6114-4141-AB42-E74B4A50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03565-CAC1-4AB6-961D-5DAF35C5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F94A0-C0D9-410A-BBD1-C2809C09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42D43-563B-4ADD-B34D-FAD80BC1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0B4B0-0955-447A-983A-E72DB915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1E691-E9D4-47B7-BD29-5F4AEF5C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68987-4E46-4D91-84D6-BA5743A0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B5FEB-4828-4E72-9A1B-1FB9E64B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7E521-EA28-4FB4-82E6-D81C2DE6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6AE3F-D78A-4ADD-A169-3885F48C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65E4A-0D24-4782-9283-73939004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>
                  <a:alpha val="50196"/>
                </a:srgbClr>
              </a:gs>
              <a:gs pos="100000">
                <a:srgbClr val="00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505320" y="6095520"/>
            <a:ext cx="39081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6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99"/>
                </a:solidFill>
                <a:latin typeface="Arial"/>
              </a:rPr>
              <a:t>מח’ </a:t>
            </a:r>
            <a:r>
              <a:rPr b="1" lang="he-IL" sz="1600" spc="-1" strike="noStrike">
                <a:solidFill>
                  <a:srgbClr val="ffccff"/>
                </a:solidFill>
                <a:latin typeface="Arial"/>
              </a:rPr>
              <a:t>לחינוך וקידום בריאות- משרד הבריאו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>
                  <a:alpha val="50196"/>
                </a:srgbClr>
              </a:gs>
              <a:gs pos="100000">
                <a:srgbClr val="00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2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dt" idx="2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11F8-1037-4684-9BF7-2FFF97E8F949}" type="datetime">
              <a:rPr b="0" lang="he-IL" sz="1200" spc="-1" strike="noStrike">
                <a:solidFill>
                  <a:srgbClr val="ffff9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3"/>
          </p:nvPr>
        </p:nvSpPr>
        <p:spPr>
          <a:xfrm>
            <a:off x="3733920" y="6095520"/>
            <a:ext cx="39081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99"/>
                </a:solidFill>
                <a:latin typeface="Arial"/>
              </a:rPr>
              <a:t>&lt;footer&gt;</a:t>
            </a:r>
            <a:r>
              <a:rPr b="1" lang="en-US" sz="1600" spc="-1" strike="noStrike">
                <a:solidFill>
                  <a:srgbClr val="ffccff"/>
                </a:solidFill>
                <a:latin typeface="Arial"/>
              </a:rPr>
              <a:t>מ</a:t>
            </a:r>
            <a:r>
              <a:rPr b="1" lang="he-IL" sz="1600" spc="-1" strike="noStrike">
                <a:solidFill>
                  <a:srgbClr val="ffccff"/>
                </a:solidFill>
                <a:latin typeface="Arial"/>
              </a:rPr>
              <a:t>ח' לחינוך וקידום בריאות , משרד הבריאות</a:t>
            </a:r>
            <a:r>
              <a:rPr b="1" lang="he-IL" sz="1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4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  <a:ea typeface="Times New Roman (Hebrew)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C48E-2C0A-4387-941C-D83FC4441DA7}" type="slidenum">
              <a:rPr b="0" lang="en-US" sz="1400" spc="-1" strike="noStrike">
                <a:solidFill>
                  <a:srgbClr val="ffff99"/>
                </a:solidFill>
                <a:latin typeface="Arial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905120" y="1003320"/>
          <a:ext cx="5790960" cy="50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03320"/>
                    <a:ext cx="579096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819520" y="6095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ccff"/>
                </a:solidFill>
                <a:latin typeface="Arial"/>
              </a:rPr>
              <a:t>מח' לחינוך וקידום בריאות, משרד הבריאות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 Narrow"/>
              </a:rPr>
              <a:t>שיעורי העישון בישראל</a:t>
            </a:r>
            <a:endParaRPr b="0" lang="en-US" sz="5400" spc="-1" strike="noStrike">
              <a:solidFill>
                <a:srgbClr val="ffff99"/>
              </a:solidFill>
              <a:latin typeface="Arial Narrow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1676520"/>
          <a:ext cx="702144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02144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 txBox="1"/>
          <p:nvPr/>
        </p:nvSpPr>
        <p:spPr>
          <a:xfrm>
            <a:off x="1219320" y="609588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שנה</a:t>
            </a:r>
            <a:endParaRPr b="0" lang="en-US" sz="1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981080"/>
            <a:ext cx="524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אחוז</a:t>
            </a:r>
            <a:endParaRPr b="0" lang="en-US" sz="1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1960" y="6248520"/>
            <a:ext cx="38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ff"/>
                </a:solidFill>
                <a:latin typeface="Arial"/>
              </a:rPr>
              <a:t>מח' לחינוך וקידום בריאות, משרד הבריאות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99"/>
                </a:solidFill>
                <a:latin typeface="Arial Narrow"/>
              </a:rPr>
              <a:t>שיעור התלמידים היהודים בכיתה י' המעשנים סיגריות או מוצרי טבק לפחות פעם אחת בשבוע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ע</a:t>
            </a:r>
            <a:r>
              <a:rPr b="1" lang="he-IL" sz="3600" spc="-1" strike="noStrike">
                <a:solidFill>
                  <a:srgbClr val="ffff99"/>
                </a:solidFill>
                <a:latin typeface="Arial Narrow"/>
              </a:rPr>
              <a:t>ל פי שנת סק</a:t>
            </a: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ר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2286000"/>
          <a:ext cx="7464600" cy="42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46460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28600" y="6248520"/>
            <a:ext cx="9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9933"/>
                </a:solidFill>
                <a:latin typeface="Arial Narrow"/>
              </a:rPr>
              <a:t>הראל ואחרים, </a:t>
            </a:r>
            <a:r>
              <a:rPr b="1" lang="he-IL" sz="1800" spc="-1" strike="noStrike">
                <a:solidFill>
                  <a:srgbClr val="ff9933"/>
                </a:solidFill>
                <a:latin typeface="Arial Narrow"/>
              </a:rPr>
              <a:t>2002</a:t>
            </a:r>
            <a:r>
              <a:rPr b="1" lang="he-IL" sz="1800" spc="-1" strike="noStrike">
                <a:solidFill>
                  <a:srgbClr val="ff9933"/>
                </a:solidFill>
                <a:latin typeface="Arial Narrow"/>
              </a:rPr>
              <a:t>)(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6400800"/>
            <a:ext cx="37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ff"/>
                </a:solidFill>
                <a:latin typeface="Arial"/>
              </a:rPr>
              <a:t>מח' לחינוך וקידום בריאות, משרד הבריאות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Arial"/>
              </a:rPr>
              <a:t>אחוז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5867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Arial"/>
              </a:rPr>
              <a:t>שנה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08:51:43Z</dcterms:created>
  <dc:creator>ענת שבתאי</dc:creator>
  <dc:description/>
  <dc:language>en-US</dc:language>
  <cp:lastModifiedBy>ooo</cp:lastModifiedBy>
  <cp:lastPrinted>2001-12-02T10:06:35Z</cp:lastPrinted>
  <dcterms:modified xsi:type="dcterms:W3CDTF">2007-08-16T06:40:28Z</dcterms:modified>
  <cp:revision>99</cp:revision>
  <dc:subject/>
  <dc:title>Recommending a Strategy</dc:title>
</cp:coreProperties>
</file>