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EC4E-6EAF-4262-AB77-FC9C328E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F277-70E2-4F1B-9837-BADB3BA7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3FD7-1561-4AAD-8F13-BBDD90AF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2137-CC9C-4AE0-BF4E-65398B4C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4B36-5356-415C-8864-E6AD5D0C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A0A2-C39A-42E3-8AA3-AABA498A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C02A-1211-4C5A-8F5E-DCBE4F48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C183-9682-4A0C-96C2-CE9642EF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5D1B-6422-4011-8B0C-FEB281ED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7952-3CC8-4351-9908-35E8CE08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1AEE-3425-4B58-ADC5-6A4A7147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023D-033F-4025-92EB-410E33DE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1CD7-B743-4C71-925E-8361191DB4EC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היעדרויות מורים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סמינריון במסגרת הקורס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“ניהול משאבי אנוש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895480" y="4038480"/>
            <a:ext cx="289584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היעדרויות מורים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imes New Roman"/>
              </a:rPr>
              <a:t>נתוני עמדות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                    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מחויבות:                    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3.86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0.7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נטייה לעזוב:               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3.90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0.6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נשיאה באחריות:          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3.90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0.6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התנהגות לא נאותה:      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1.98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0.5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נרפות חברתית:            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2.66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0.8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914040" y="38098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838080" y="441972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837720" y="49528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837720" y="55627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33526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היעדרויות מורים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00"/>
                </a:solidFill>
                <a:uFillTx/>
                <a:latin typeface="Miriam"/>
                <a:cs typeface="Miriam"/>
              </a:rPr>
              <a:t>סה"כ ימי היעדרות חודשיים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M=1.45;  SD=2.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1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Miriam"/>
              </a:rPr>
              <a:t>נבדקים (מתוך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232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) נעדרו לפחות פעם אחת בחודש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M=2.83; SD=3.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Miriam"/>
              </a:rPr>
              <a:t>ובתדירות ממוצעת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SD=0.41; M=1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00"/>
                </a:solidFill>
                <a:uFillTx/>
                <a:latin typeface="Miriam"/>
                <a:cs typeface="Miriam"/>
              </a:rPr>
              <a:t>סיבות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:   מחלה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מחלת ילד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22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הריון/ לידה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4.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מילואים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2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סיבות אישיות אחרות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11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סיבות בית”ס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4.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היעדרויות מורים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imes New Roman"/>
              </a:rPr>
              <a:t>שלב שלישי </a:t>
            </a: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- בניית מודל מחקר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לדוגמא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2286000"/>
            <a:ext cx="16002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4419720"/>
            <a:ext cx="14479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638680"/>
            <a:ext cx="1295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3429000"/>
            <a:ext cx="167616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3429000"/>
            <a:ext cx="2133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362320" y="464796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438280" y="5028840"/>
            <a:ext cx="22100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85" name=""/>
          <p:cNvSpPr/>
          <p:nvPr/>
        </p:nvSpPr>
        <p:spPr>
          <a:xfrm>
            <a:off x="807840" y="2479680"/>
            <a:ext cx="10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 (Hebrew)"/>
              </a:rPr>
              <a:t>נתונים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 (Hebrew)"/>
              </a:rPr>
              <a:t>אישיים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86" name=""/>
          <p:cNvSpPr/>
          <p:nvPr/>
        </p:nvSpPr>
        <p:spPr>
          <a:xfrm>
            <a:off x="1062360" y="4384800"/>
            <a:ext cx="79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 (Hebrew)"/>
              </a:rPr>
              <a:t>נתוני 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 (Hebrew)"/>
              </a:rPr>
              <a:t>מוסד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87" name=""/>
          <p:cNvSpPr/>
          <p:nvPr/>
        </p:nvSpPr>
        <p:spPr>
          <a:xfrm>
            <a:off x="1031040" y="57564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 (Hebrew)"/>
              </a:rPr>
              <a:t>עמדות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88" name=""/>
          <p:cNvSpPr/>
          <p:nvPr/>
        </p:nvSpPr>
        <p:spPr>
          <a:xfrm>
            <a:off x="4772880" y="3470400"/>
            <a:ext cx="116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 (Hebrew)"/>
              </a:rPr>
              <a:t>ימי 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 (Hebrew)"/>
              </a:rPr>
              <a:t>היעדרות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 (Hebrew)"/>
              </a:rPr>
              <a:t>תדירות 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 (Hebrew)"/>
              </a:rPr>
              <a:t>היעדרות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היעדרויות מורים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imes New Roman"/>
              </a:rPr>
              <a:t>שלב רביעי</a:t>
            </a: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 - מציאת מתאמים (קורלציות) בין המשתנה התלוי (היעדרות) ובין המשתנים הבלתי תלויים שבמוד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imes New Roman"/>
              </a:rPr>
              <a:t>שלב חמישי</a:t>
            </a: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 - מציאת קשרים מובהקים בין המשתנה התלוי ובין המשתנים הבלתי תלויים.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-test, ANOV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או ניתוח רגרסיה - תלוי בסוג וברמות המשתנה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היעדרויות מורים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09680" y="3124080"/>
            <a:ext cx="43149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Arial"/>
              </a:rPr>
              <a:t>בהצלחה!</a:t>
            </a:r>
            <a:endParaRPr b="0" lang="en-US" sz="9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היעדרויות מורים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פעולות שנעשו בשלב הראשון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בניית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עמודות נוספות בקובץ - שהן ממוצע חמשת הסקלות (מחויבות, אחריות, נטייה לעזוב, התנהגות לא נאותה ונרפות חברתית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בניית עמודה לממוצע ימי ההיעדרות החודשי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בניית עמודה לממוצע תדירות ההיעדרות החודש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בדיקת מהימנות לחמשת הסקלו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היעדרויות מורים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נתוני מהימנות (</a:t>
            </a:r>
            <a:r>
              <a:rPr b="1" lang="he-I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 קרונבאך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מחויבות: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0.891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he-I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(שאלות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1-9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נטייה לעזוב: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0.917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he-I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(שאלות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10-14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נשיאה באחריות: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0.874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he-I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(שאלות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15-21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התנהגות לא נאותה: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0.896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he-I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(שאלות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22-37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נרפות חברתית: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0.884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he-I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(שאלות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38-47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היעדרויות מורים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imes New Roman"/>
              </a:rPr>
              <a:t>שלב שני</a:t>
            </a: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 - ניתוח סטטיסטיקה תיאורי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00"/>
                </a:solidFill>
                <a:uFillTx/>
                <a:latin typeface="Miriam"/>
                <a:cs typeface="Miriam"/>
              </a:rPr>
              <a:t>נתוני רק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00"/>
                </a:solidFill>
                <a:uFillTx/>
                <a:latin typeface="Times New Roman"/>
                <a:cs typeface="Miriam"/>
              </a:rPr>
              <a:t>מין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: נשים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81.4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גברים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18.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00"/>
                </a:solidFill>
                <a:uFillTx/>
                <a:latin typeface="Times New Roman"/>
                <a:cs typeface="Miriam"/>
              </a:rPr>
              <a:t>גיל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Sd=9.03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M=37.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00"/>
                </a:solidFill>
                <a:uFillTx/>
                <a:latin typeface="Times New Roman"/>
                <a:cs typeface="Miriam"/>
              </a:rPr>
              <a:t>מצב משפחתי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: נשוי ללא ילדים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6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         נשוי עם ילדים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77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         רווק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12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         אחר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4.3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00"/>
                </a:solidFill>
                <a:uFillTx/>
                <a:latin typeface="Times New Roman"/>
                <a:cs typeface="Miriam"/>
              </a:rPr>
              <a:t>מס' ילדים עד </a:t>
            </a:r>
            <a:r>
              <a:rPr b="0" lang="he-IL" sz="2400" spc="-1" strike="noStrike" u="sng">
                <a:solidFill>
                  <a:srgbClr val="000000"/>
                </a:solidFill>
                <a:uFillTx/>
                <a:latin typeface="Times New Roman"/>
                <a:ea typeface="Miriam"/>
              </a:rPr>
              <a:t>18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Sd=1.45; M=1.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היעדרויות מורים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00"/>
                </a:solidFill>
                <a:uFillTx/>
                <a:latin typeface="Times New Roman"/>
                <a:cs typeface="Miriam"/>
              </a:rPr>
              <a:t>השכלה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: מוסמך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10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BED  26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BA    41.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MA   17.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Miriam"/>
              </a:rPr>
              <a:t>אחר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4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00"/>
                </a:solidFill>
                <a:uFillTx/>
                <a:latin typeface="Times New Roman"/>
                <a:cs typeface="Miriam"/>
              </a:rPr>
              <a:t>מס' שנות לימוד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: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16.6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Sd=2.12 ;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היעדרויות מורים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00"/>
                </a:solidFill>
                <a:uFillTx/>
                <a:latin typeface="Times New Roman"/>
                <a:cs typeface="Miriam"/>
              </a:rPr>
              <a:t>מורה למקצוע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: הומני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19.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         מד"ח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8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         מדעים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31.8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         שפות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15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         ספורט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         אחר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16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היעדרויות מורים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כן              ל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מחנך           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47.8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52.2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ריכוז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31.3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68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ריכוז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7.8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92.2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סגן               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3.5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96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מנהל             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3.5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96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352680" y="2971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352680" y="34290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276360" y="3886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276720" y="43434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22860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43828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היעדרויות מורים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00"/>
                </a:solidFill>
                <a:uFillTx/>
                <a:latin typeface="Times New Roman"/>
                <a:cs typeface="Miriam"/>
              </a:rPr>
              <a:t>מצב בריאותי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: תקין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99.1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לא תקין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0.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00"/>
                </a:solidFill>
                <a:uFillTx/>
                <a:latin typeface="Times New Roman"/>
                <a:cs typeface="Miriam"/>
              </a:rPr>
              <a:t>קביעות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: קבוע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90.3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לא קבוע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7.5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חוזה מיוחד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2.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00"/>
                </a:solidFill>
                <a:uFillTx/>
                <a:latin typeface="Times New Roman"/>
                <a:cs typeface="Miriam"/>
              </a:rPr>
              <a:t>היקף משרה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: יותר ממשרה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17.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      משרה מלאה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61.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      פחות ממשרה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21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היעדרויות מורים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00"/>
                </a:solidFill>
                <a:uFillTx/>
                <a:latin typeface="Times New Roman"/>
                <a:cs typeface="Miriam"/>
              </a:rPr>
              <a:t>מרחק מהעבודה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: הליכה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31.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            עד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0.5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שעה נסיעה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56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            עד שעה נסיעה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10.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             יותר משעה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0.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00"/>
                </a:solidFill>
                <a:uFillTx/>
                <a:latin typeface="Times New Roman"/>
                <a:cs typeface="Miriam"/>
              </a:rPr>
              <a:t>סוג מוסד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Miriam"/>
              </a:rPr>
              <a:t>יסודי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53.5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חטיבה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16.8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חט”ב+חט”ע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29.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Miriam"/>
              </a:rPr>
              <a:t>ממלכתי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89.6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ממלכתי דתי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10.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Miriam"/>
              </a:rPr>
              <a:t>רגיל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92.4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מיוחד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4.5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ייחודי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3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Miriam"/>
              </a:rPr>
              <a:t>יהודי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77.7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ערבי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18.2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דרוזי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4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00:06:44Z</dcterms:created>
  <dc:creator>הלה פרץ</dc:creator>
  <dc:description/>
  <dc:language>en-US</dc:language>
  <cp:lastModifiedBy>הלה פרץ</cp:lastModifiedBy>
  <dcterms:modified xsi:type="dcterms:W3CDTF">2003-01-10T23:04:38Z</dcterms:modified>
  <cp:revision>25</cp:revision>
  <dc:subject/>
  <dc:title>“היעדרויות מורים”</dc:title>
</cp:coreProperties>
</file>