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23D-E915-4B9F-900B-8DD80C4A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3C9-6797-45FA-941A-54E7DD29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3A1-9BB1-4664-A39A-95D2B5A0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4E9-D13A-4429-8F9E-DD103CB1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B9E5-8543-4FE4-9BEE-5B2DF443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93D0-4FB7-477C-9D08-13039CB7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40A1-41DD-4DCA-ADD4-B7232387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A7E1-C12A-4D50-9AF5-91D1AD69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7FF1-CDFA-49ED-9C4F-1BB407B8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0FFA-1F94-49E2-878C-FCD1F08E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4898-A170-49B5-BAC1-B7B837A5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C68-7424-40C3-BD9B-7C199F7D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1EBE-FF13-4D33-A568-10647D1F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B508-5FC2-4733-8D86-99DE5DF8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671D-6B27-4A3F-9BEC-3EFD4D5E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2A79-9057-4366-8FCB-36F1E0B1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3FAC-44A8-47B1-93D9-15EE4720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6B0-8A30-4753-84CA-5D4672D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8CE-3FAA-45EF-A411-CC8A053B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45D-09A3-4EC9-8BAE-066A510B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101-643A-4D8E-B553-13191370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03A-3DA9-49BC-8401-ADB5E763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A13-1349-4E7C-8EFD-F1C2FC0F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B07-CC03-43F1-9FBA-FD3006E1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1F39-9AE4-46B7-BA3A-AA0238B55548}" type="slidenum"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02DD-0726-4918-B61C-150D03391DDE}" type="slidenum"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Times New Roman"/>
              </a:rPr>
              <a:t>Compaq cluster és storage a Magyar Posta Rt. SAP R3ndszerébe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őté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ladat és növekedés 1997-2000 közöt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rastruktúra és környez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chnológia és eszközö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iemelend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pasztalat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zolgált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vábbi irány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eladat és növekedés 1997-2000 között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AP R/3 3.0F-3.1H FI,CO,MM,SD,HR modul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evesített/egyidejű on-line felhasználók: 15-szörö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roduktív adatbázis mérete egy 12-sz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omtatók száma 50-szeres (!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ite-ok száma tízsz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api 12-14 óra dialógus üz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frastruktúra és környez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zerverek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lhasználó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den egyé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echnológia és eszközö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AP AG ajánlás szerinti három-rendszeres landsca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urboLaser és 4100-as kategóriájú szerver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DDI gyűrű (!), Ethernet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Digital Unix 3.2G..Tru64 Unix 4.0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SE (Failover cluster) 1.4- ASE 1.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A 35x polcok…ESA 10000 tároló alrendsz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L895 5/96-os TZ89-es lib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iemelendő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SM alapú tükrö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A alapú stripe-ol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vFS fájlrendsz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racle adatbáz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apasztalato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SE kontra hálózati elem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vFS: rendszerind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SM: I/O és rendszerind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ape library teljesítmé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A 10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zolgáltatá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ital, majd Compaq mint hardver és rendszermenedzsment támogat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Üzemidőhöz igazodó karbantartási szerződ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vábbi irányo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P R/3 verzióváltáshoz kapcsolódó szerverbővítés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0:04:31Z</dcterms:created>
  <dc:creator>LilingZoltán</dc:creator>
  <dc:description/>
  <dc:language>en-US</dc:language>
  <cp:lastModifiedBy>LilingZoltán</cp:lastModifiedBy>
  <dcterms:modified xsi:type="dcterms:W3CDTF">2000-05-24T10:23:02Z</dcterms:modified>
  <cp:revision>2</cp:revision>
  <dc:subject/>
  <dc:title>Compaq cluster és storage a Magyar Posta Rt. SAP R3ndszerében</dc:title>
</cp:coreProperties>
</file>