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2621-FCFB-4B51-A95C-B57876F6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E77-7FD7-418B-9CF8-B3680C0C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0CD-F300-4BF1-8350-BB357C96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7FD-1272-4AD3-90F4-B4496F04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0B8-C647-4EE6-98FF-C5BFB455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DEA-9EE5-49C9-BD7C-A4DE5EE9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906-95FD-465C-8FDE-D08F599E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9FC-8C48-461C-9228-A4694074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3E7-C88D-4EDD-B91B-A2264FE6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813-AA5F-4AE3-8C07-07C235C4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1A6-40C8-4797-8881-B43CEAB8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BB8-993F-4648-BBB8-D7EE3444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94A3-78BC-4008-B8DF-8BFD608B8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-Orig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s" descr=""/>
          <p:cNvPicPr/>
          <p:nvPr/>
        </p:nvPicPr>
        <p:blipFill>
          <a:blip r:embed="rId1"/>
          <a:stretch/>
        </p:blipFill>
        <p:spPr>
          <a:xfrm>
            <a:off x="1646280" y="2819520"/>
            <a:ext cx="585144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-with-More Brigh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s" descr=""/>
          <p:cNvPicPr/>
          <p:nvPr/>
        </p:nvPicPr>
        <p:blipFill>
          <a:blip r:embed="rId1"/>
          <a:srcRect l="9116" t="39016" r="67447" b="23898"/>
          <a:stretch/>
        </p:blipFill>
        <p:spPr>
          <a:xfrm>
            <a:off x="2209680" y="4141800"/>
            <a:ext cx="13716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-with-Less-Brigh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s" descr=""/>
          <p:cNvPicPr/>
          <p:nvPr/>
        </p:nvPicPr>
        <p:blipFill>
          <a:blip r:embed="rId1"/>
          <a:srcRect l="9116" t="39016" r="67447" b="23898"/>
          <a:stretch/>
        </p:blipFill>
        <p:spPr>
          <a:xfrm>
            <a:off x="2209680" y="4141800"/>
            <a:ext cx="13716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s</cp:lastModifiedBy>
  <dcterms:modified xsi:type="dcterms:W3CDTF">2010-05-26T06:22:07Z</dcterms:modified>
  <cp:revision>26</cp:revision>
  <dc:subject/>
  <dc:title>PowerPoint Presentation</dc:title>
</cp:coreProperties>
</file>