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403-62DC-47F7-9F25-1D5A1677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E337-1A48-42AD-96F5-F1D98713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736-0DE9-4F09-87D8-31596944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58A-B6B0-4C69-92B1-FF93DDBE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997-AAFC-4008-8985-6153159D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559-9B74-4E3A-8BCD-0AFB10FC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765-6123-4F98-926D-1B70B4E8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C5C-7320-483F-8135-900D6ADD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0A0-F429-4A93-AB7C-D715B874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284-C41A-49DA-9432-156C4EBA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A08-BFBB-4826-A1D5-C76AB57A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A45F-A3DD-43A1-80B2-0C3908CA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585A-0025-4725-96CD-87B0FDA67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luzhistrad.doc" TargetMode="External"/><Relationship Id="rId2" Type="http://schemas.openxmlformats.org/officeDocument/2006/relationships/hyperlink" Target="file:///luzhistrad.doc" TargetMode="External"/><Relationship Id="rId3" Type="http://schemas.openxmlformats.org/officeDocument/2006/relationships/hyperlink" Target="file:///luzhistrad.doc" TargetMode="External"/><Relationship Id="rId4" Type="http://schemas.openxmlformats.org/officeDocument/2006/relationships/hyperlink" Target="file:///kruzim.doc" TargetMode="External"/><Relationship Id="rId5" Type="http://schemas.openxmlformats.org/officeDocument/2006/relationships/hyperlink" Target="file:///kruzim.doc" TargetMode="External"/><Relationship Id="rId6" Type="http://schemas.openxmlformats.org/officeDocument/2006/relationships/hyperlink" Target="file:///kruzim.doc" TargetMode="External"/><Relationship Id="rId7" Type="http://schemas.openxmlformats.org/officeDocument/2006/relationships/hyperlink" Target="file:///proagainjapan.doc" TargetMode="External"/><Relationship Id="rId8" Type="http://schemas.openxmlformats.org/officeDocument/2006/relationships/hyperlink" Target="file:///proagainjapan.doc" TargetMode="External"/><Relationship Id="rId9" Type="http://schemas.openxmlformats.org/officeDocument/2006/relationships/hyperlink" Target="file:///missradam.doc" TargetMode="External"/><Relationship Id="rId10" Type="http://schemas.openxmlformats.org/officeDocument/2006/relationships/hyperlink" Target="file:///missradam.doc" TargetMode="External"/><Relationship Id="rId11" Type="http://schemas.openxmlformats.org/officeDocument/2006/relationships/hyperlink" Target="file:///atombomb.doc" TargetMode="External"/><Relationship Id="rId12" Type="http://schemas.openxmlformats.org/officeDocument/2006/relationships/hyperlink" Target="file:///atombomb.doc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990000"/>
                </a:solidFill>
                <a:latin typeface="Arial"/>
              </a:rPr>
              <a:t>רדיואקטיביות: נושאים והנחיות לעבוד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47640" y="1200240"/>
            <a:ext cx="7905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היכנס לנספחים הבאים בנושא של פצצת האטום ואסונות גרעיניים. באפשרותך להשתמש בהם כנקודת מוצא לחיפושים באינטרנט לצורך הכנת העבודה.  פירוט הנושאים ושלבי העבודה מופיעים בעמודים הבאי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62080" y="3392640"/>
            <a:ext cx="6953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 (Hebrew)"/>
                <a:hlinkClick r:id="rId1"/>
              </a:rPr>
              <a:t> </a:t>
            </a: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cs typeface="Times New Roman (Hebrew)"/>
                <a:hlinkClick r:id="rId2"/>
              </a:rPr>
              <a:t>לוח זמנים בהיסטוריה הגרעינית</a:t>
            </a: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 (Hebrew)"/>
                <a:hlinkClick r:id="rId3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 (Hebrew)"/>
                <a:hlinkClick r:id="rId4"/>
              </a:rPr>
              <a:t> </a:t>
            </a: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cs typeface="Times New Roman (Hebrew)"/>
                <a:hlinkClick r:id="rId5"/>
              </a:rPr>
              <a:t>כרוזים שהוטלו על יפן במלחמת העולם השניה</a:t>
            </a: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 (Hebrew)"/>
                <a:hlinkClick r:id="rId6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cs typeface="Times New Roman (Hebrew)"/>
                <a:hlinkClick r:id="rId7"/>
              </a:rPr>
              <a:t>טעונים בעד ונגד הטלת פצצות אטום על יפן</a:t>
            </a: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 (Hebrew)"/>
                <a:hlinkClick r:id="rId8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cs typeface="Times New Roman (Hebrew)"/>
                <a:hlinkClick r:id="rId9"/>
              </a:rPr>
              <a:t>תאונות רדיואקטיביות בארה”ב</a:t>
            </a: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 (Hebrew)"/>
                <a:hlinkClick r:id="rId10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cs typeface="Times New Roman (Hebrew)"/>
                <a:hlinkClick r:id="rId11"/>
              </a:rPr>
              <a:t>פצצת אטום</a:t>
            </a: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 (Hebrew)"/>
                <a:hlinkClick r:id="rId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פעילות מסכמ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נושאים אפשריים לעבודה קבוצתי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89080" y="1294920"/>
            <a:ext cx="8169120" cy="46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Arial"/>
              </a:rPr>
              <a:t> אסונות גרעיניי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Arial"/>
              </a:rPr>
              <a:t> מבנה פצצת אטום-התייחסות למסה קריטי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Arial"/>
              </a:rPr>
              <a:t> מבנה פצצת אורניו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Arial"/>
              </a:rPr>
              <a:t> מבנה פצצת פלוטוניו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Arial"/>
              </a:rPr>
              <a:t> פיצוץ באווי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Arial"/>
              </a:rPr>
              <a:t>תאור שלבי ההרס: גל הדף, גל חום, ענן קרינ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Arial"/>
              </a:rPr>
              <a:t> פיצוץ תת ימ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Arial"/>
              </a:rPr>
              <a:t>תאור שלבי ההרס: גל הדף, עמוד מים, תחום קרינה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הנחייות לביצוע העבודה</a:t>
            </a:r>
            <a:br>
              <a:rPr sz="4400"/>
            </a:b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עבודה קבוצתית</a:t>
            </a: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44880" y="1600200"/>
            <a:ext cx="64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916280"/>
            <a:ext cx="831996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 בחר אירוע, אסון, מתקן, תהליך או כל נושא אחר  </a:t>
            </a:r>
            <a:br>
              <a:rPr sz="2800"/>
            </a:b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   הקשורים לרדיואקטיביו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 כתוב (כ-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עמודים כתובים), הכן מצגת קצרה, פוסטר  </a:t>
            </a:r>
            <a:br>
              <a:rPr sz="2800"/>
            </a:b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   או דגם המציגים את הנושא וכוללים התייחסות אישית  </a:t>
            </a:r>
            <a:br>
              <a:rPr sz="2800"/>
            </a:b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   לאור המידע והכלים שרכשת במהלך לימוד היחידה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4:48:49Z</dcterms:created>
  <dc:creator>Roman &amp; Dorota  Czarkie</dc:creator>
  <dc:description/>
  <dc:language>en-US</dc:language>
  <cp:lastModifiedBy>חווה</cp:lastModifiedBy>
  <dcterms:modified xsi:type="dcterms:W3CDTF">2002-04-23T18:07:00Z</dcterms:modified>
  <cp:revision>11</cp:revision>
  <dc:subject/>
  <dc:title>רדיואקטיביות: נושאים והנחיות לעבודה</dc:title>
</cp:coreProperties>
</file>