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A99-EC57-4AB3-A33D-26C7757F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E17-3FDE-41BC-8614-F45554B3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4C9-43E7-42AB-8E8B-ACEC4D6E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815-81C1-406C-BF57-9CE67493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505F-2A9F-4E3C-986C-B3DFF396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A73D-D762-4418-9146-2B8EDAFC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86F8-2105-4DCF-BF15-BC68603C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C296-EF04-443B-9E0B-D333EB7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A371-7FF5-49B7-AE65-23579273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85D2-D6A3-497A-A59B-9BE29969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3164-2349-459A-8E30-1D554D6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2F0-7FC4-4708-BBC6-B5318310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45A5-E59F-44C8-A43F-163C47BE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FBE4-1091-41AF-B29D-5F9503BC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C4AA-EF81-483B-9784-6D260609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9E6A-A097-456F-B73F-7E2B8192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B6EE-48FC-47ED-89A4-E1F425E4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D1D-C5A8-4529-9FCA-2F5CCCE2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12E-5B46-44C1-AA8A-BCC66C0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FAC-E12A-4939-ADD8-4A2D59AE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805-9F00-44F9-85CB-0FF95CA4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F8D-9642-434C-A799-9FDF5C7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D81-B2C6-47DF-B2B2-4E6AA39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D72-252B-4F00-847C-43C8954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8F4D7F-BA5D-416B-BF30-622ACE547804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5000" cy="6780240"/>
            <a:chOff x="216000" y="76320"/>
            <a:chExt cx="8685000" cy="678024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5000" cy="334800"/>
              <a:chOff x="216000" y="76320"/>
              <a:chExt cx="8685000" cy="3348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4720" cy="334800"/>
                <a:chOff x="216000" y="76320"/>
                <a:chExt cx="1674720" cy="3348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4720" cy="334800"/>
                <a:chOff x="1968480" y="76320"/>
                <a:chExt cx="1674720" cy="3348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56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56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72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5080" cy="334800"/>
                <a:chOff x="3720960" y="76320"/>
                <a:chExt cx="1675080" cy="3348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520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4720" cy="334800"/>
                <a:chOff x="5473800" y="76320"/>
                <a:chExt cx="1674720" cy="3348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4720" cy="334800"/>
                <a:chOff x="7226280" y="76320"/>
                <a:chExt cx="1674720" cy="3348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36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36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52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6400" cy="73080"/>
              <a:chOff x="304920" y="6783480"/>
              <a:chExt cx="8456400" cy="7308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88920" cy="73080"/>
                <a:chOff x="304920" y="6783480"/>
                <a:chExt cx="988920" cy="7308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800280" y="6783480"/>
                  <a:ext cx="493560" cy="730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3560" cy="730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88920" cy="73080"/>
                <a:chOff x="1371600" y="6783480"/>
                <a:chExt cx="988920" cy="730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3560" cy="730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3560" cy="730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89280" cy="73080"/>
                <a:chOff x="2438280" y="6783480"/>
                <a:chExt cx="989280" cy="730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3920" cy="730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3920" cy="730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88920" cy="73080"/>
                <a:chOff x="3505320" y="6783480"/>
                <a:chExt cx="988920" cy="730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680" y="6783480"/>
                  <a:ext cx="493560" cy="730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3560" cy="730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88920" cy="73080"/>
                <a:chOff x="4572000" y="6783480"/>
                <a:chExt cx="988920" cy="730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3560" cy="730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3560" cy="730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89280" cy="73080"/>
                <a:chOff x="5638680" y="6783480"/>
                <a:chExt cx="989280" cy="730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3920" cy="730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3920" cy="730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88920" cy="73080"/>
                <a:chOff x="6705720" y="6783480"/>
                <a:chExt cx="988920" cy="730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1080" y="6783480"/>
                  <a:ext cx="493560" cy="730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3560" cy="730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88920" cy="73080"/>
                <a:chOff x="7772400" y="6783480"/>
                <a:chExt cx="988920" cy="730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3560" cy="730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3560" cy="730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099720" cy="6487920"/>
            <a:chOff x="0" y="108000"/>
            <a:chExt cx="9099720" cy="6487920"/>
          </a:xfrm>
        </p:grpSpPr>
        <p:sp>
          <p:nvSpPr>
            <p:cNvPr id="99" name=""/>
            <p:cNvSpPr/>
            <p:nvPr/>
          </p:nvSpPr>
          <p:spPr>
            <a:xfrm>
              <a:off x="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3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3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24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24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1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1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34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34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85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85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37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37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068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068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59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59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3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24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1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34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85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37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068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59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3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24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1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34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85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37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068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59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5520" cy="1674720"/>
            <a:chOff x="533520" y="1905120"/>
            <a:chExt cx="8075520" cy="167472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7040" cy="8366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7040" cy="83664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7040" cy="836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7040" cy="83664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0960" cy="13701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09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41809-DB65-4931-A247-1ABCD5EA315C}" type="slidenum">
              <a: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6400" cy="73080"/>
            <a:chOff x="304920" y="6783480"/>
            <a:chExt cx="8456400" cy="7308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3560" cy="73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3560" cy="73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3560" cy="73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3560" cy="73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3920" cy="73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3920" cy="73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3560" cy="73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3560" cy="73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3560" cy="73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3560" cy="73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3920" cy="73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3920" cy="73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3560" cy="73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3560" cy="73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3560" cy="73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3560" cy="73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  <a:ea typeface="宋体"/>
              </a:rPr>
              <a:t>Agenda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130640"/>
            <a:ext cx="379260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68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7:48:09Z</dcterms:created>
  <dc:creator>wangxiul</dc:creator>
  <dc:description/>
  <dc:language>en-US</dc:language>
  <cp:lastModifiedBy>Luke </cp:lastModifiedBy>
  <dcterms:modified xsi:type="dcterms:W3CDTF">2015-04-15T07:13:08Z</dcterms:modified>
  <cp:revision>1</cp:revision>
  <dc:subject/>
  <dc:title>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