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4E0-14C2-4EEC-9074-D08CF5AD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67111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7640" y="4244400"/>
            <a:ext cx="67111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FB1-F99B-4BC5-9C58-50745B2B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764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6672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D99-8D4A-4213-8E97-A9230D21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6720" y="205308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65800" y="205308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7640" y="424440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6720" y="424440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65800" y="424440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043-FBB5-4693-AFC8-71229280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800-4674-40A3-8BC2-314AE32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9B3-26E5-4BB2-94FE-836422DD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B1A-F3CA-4F95-9F8F-0DA2AF3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27D-B56D-476C-96CE-E2E042BA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0FB-328C-4454-84E4-B4C3C8D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764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7CD-5C01-4E62-B0C0-97A7A91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6672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01C-E2A6-496F-8678-D90DBE8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7640" y="4244400"/>
            <a:ext cx="67111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CCC-66A1-4336-AB88-2BE7F8A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A8A70C-55A3-46D7-AD28-E78297F25A2B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ebebeb"/>
                </a:solidFill>
                <a:latin typeface="Century Gothic"/>
              </a:rPr>
              <a:t>Анализируйте сетевые данные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640" y="1556640"/>
            <a:ext cx="8496720" cy="43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следуйте сетевые лог-файлы на наличие любых событий, которые могут представлять для вас интерес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следуйте систему сетевой защит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ассмотрите лог-файлы сетевого монитора для определения событий, произошедших в сет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помощью сниффера рассмотрите сетевые пакет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пределите, зашифрованы ли исследуемые сетевые подключе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F3E-ECDD-4F84-95CC-5E5523A72B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0</TotalTime>
  <Application>LibreOffice/7.4.7.2$Linux_X86_64 LibreOffice_project/40$Build-2</Application>
  <AppVersion>15.0000</AppVersion>
  <Words>3256</Words>
  <Paragraphs>3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06:16:57Z</dcterms:created>
  <dc:creator/>
  <dc:description/>
  <dc:language>en-US</dc:language>
  <cp:lastModifiedBy/>
  <dcterms:modified xsi:type="dcterms:W3CDTF">2013-09-29T17:12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65</vt:r8>
  </property>
</Properties>
</file>