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601F-B39A-43D1-8E94-037FD8DF5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0B19-610C-446D-9732-AAC51B25F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17EC-6F94-41EB-A45A-DC325D95B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2F05-67A8-460F-9C4B-99EBC1522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7C200-09B8-461A-8297-2E196F34A7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A2297-2624-4E5F-9B39-8750BC04E7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E266D-E2BD-4529-A5BD-26DA93B508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91AB4-9927-4B5E-B16A-1167978379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34D77-7F54-424B-B4FA-E19294AE01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C86D7-04FF-4050-B301-6EFF3D7B41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B4B38-E2DE-43F7-BD79-E6BC39359C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48F9-8938-42C7-9A3B-831DCD0C0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9D67C-2E00-4060-BE5B-834243A9D7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71E47-937E-4BD4-B5D0-42A9D626C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020CE-4532-4A49-988D-E9488000F2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9068D-C3E4-46F8-986A-EB12DABCDF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A5F89-3D4B-41E1-B0F3-B183C9E3E9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E4635-A4C1-4198-87F0-85D6BDA3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F4CD60-AEA1-499B-B960-19022E27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12FE0-2BCD-439A-892F-B90E76E0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DDE21-A37B-42BB-A5C5-B738AA2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C0C88-7876-452B-A82E-F9579B2C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B243-5AC0-4AC8-8C1B-5E01BCFD3F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5FD9E6-B024-4E81-997D-8FBABF44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A587F-1DF8-47B9-9217-D396302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525ED-7CB9-4941-BCE7-3E7A7FA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20FAD-BD34-4D94-94A2-8186852B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EAF47-3646-4712-9560-624DB2D9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6A202E-9061-42C5-B94E-9361CBD6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C5006-C7A0-42DB-8124-B200FF0C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3F5E-9B0D-4341-AFA1-866A63704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B2A2-2684-4AA0-8EFF-C3D7F0BAB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C7E5-D934-4952-8727-35988E9E5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0C59-168F-40FD-BED0-D5BBEA787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949C-7F3A-4B3A-95DD-2EA50C122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26FE-F65D-426E-8BC6-68554B225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82EC-F8F8-415D-8EA8-A2E98FFC34A6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AFE-3221-4C26-A519-9CF1315AEA4C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5A95-4872-48ED-B0D4-4D5A20AA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rediff.com/" TargetMode="External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links!!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ediff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59:49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3-16T17:02:06Z</dcterms:modified>
  <cp:revision>1</cp:revision>
  <dc:subject/>
  <dc:title>Hyperlinks!! color</dc:title>
</cp:coreProperties>
</file>