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7A5-600F-4AC0-9E68-7B7879F6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5CE-C74E-46C1-A11E-19F5BD23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37D-5883-46C8-9497-28AD8674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33E9-ED69-4421-B8DD-1095D26C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555-95DD-48D6-A291-2CD4F4F6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02C-84A7-4F7F-82D0-4E084723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C49-8BB8-49E4-80F2-39D9BE22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4BD-D5E8-4092-B84F-E8D22418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347-C8DC-4066-B816-079E1790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B70-203D-470F-838B-9D3D3F1F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ECB-164D-4C00-B4B5-6C2B0564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0A6-FBBB-4413-AE7C-A3AABC61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5028-35F8-4917-A829-CB4ECE50B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low are the test focus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osen Effect:      Exit_Fly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ffect Property:    Properties\Exit\Settings\Direction 4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erty Value:    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5120" y="1905120"/>
            <a:ext cx="1269720" cy="12697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y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70080" y="635040"/>
            <a:ext cx="1666800" cy="62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Arial Black"/>
              </a:rPr>
              <a:t>word a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unset" descr=""/>
          <p:cNvPicPr/>
          <p:nvPr/>
        </p:nvPicPr>
        <p:blipFill>
          <a:blip r:embed="rId1"/>
          <a:stretch/>
        </p:blipFill>
        <p:spPr>
          <a:xfrm>
            <a:off x="635040" y="63504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352520" y="1368360"/>
            <a:ext cx="2374920" cy="2343240"/>
            <a:chOff x="1352520" y="1368360"/>
            <a:chExt cx="2374920" cy="2343240"/>
          </a:xfrm>
        </p:grpSpPr>
        <p:sp>
          <p:nvSpPr>
            <p:cNvPr id="47" name="_s7172"/>
            <p:cNvSpPr/>
            <p:nvPr/>
          </p:nvSpPr>
          <p:spPr>
            <a:xfrm>
              <a:off x="2063880" y="1701720"/>
              <a:ext cx="952200" cy="9525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7173"/>
            <p:cNvSpPr/>
            <p:nvPr/>
          </p:nvSpPr>
          <p:spPr>
            <a:xfrm>
              <a:off x="2413080" y="1368360"/>
              <a:ext cx="2538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7178"/>
            <p:cNvSpPr/>
            <p:nvPr/>
          </p:nvSpPr>
          <p:spPr>
            <a:xfrm>
              <a:off x="2425680" y="2063880"/>
              <a:ext cx="952560" cy="9522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7179"/>
            <p:cNvSpPr/>
            <p:nvPr/>
          </p:nvSpPr>
          <p:spPr>
            <a:xfrm>
              <a:off x="3473280" y="2421000"/>
              <a:ext cx="25416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7176"/>
            <p:cNvSpPr/>
            <p:nvPr/>
          </p:nvSpPr>
          <p:spPr>
            <a:xfrm>
              <a:off x="2063880" y="2425680"/>
              <a:ext cx="952200" cy="9525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7177"/>
            <p:cNvSpPr/>
            <p:nvPr/>
          </p:nvSpPr>
          <p:spPr>
            <a:xfrm>
              <a:off x="2413080" y="3473280"/>
              <a:ext cx="2538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7174"/>
            <p:cNvSpPr/>
            <p:nvPr/>
          </p:nvSpPr>
          <p:spPr>
            <a:xfrm>
              <a:off x="1701720" y="2063880"/>
              <a:ext cx="952560" cy="9522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7175"/>
            <p:cNvSpPr/>
            <p:nvPr/>
          </p:nvSpPr>
          <p:spPr>
            <a:xfrm>
              <a:off x="1352520" y="2421000"/>
              <a:ext cx="25416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114800" y="307188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0718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05:38:47Z</dcterms:created>
  <dc:creator>Yolanda</dc:creator>
  <dc:description/>
  <dc:language>en-US</dc:language>
  <cp:lastModifiedBy>Yolanda</cp:lastModifiedBy>
  <dcterms:modified xsi:type="dcterms:W3CDTF">2006-04-29T08:30:04Z</dcterms:modified>
  <cp:revision>2</cp:revision>
  <dc:subject/>
  <dc:title>Below are the test focus   Chosen Effect:      Entrance_Fly Effect Property:    Properties\Exit\Settings\Direction 4 Property Value:     From Top</dc:title>
</cp:coreProperties>
</file>