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EC50-868F-4438-A3C9-62555260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B9D-3C5E-4E1E-B6DD-8BB356C1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BD7D-FCCB-4E80-BE74-544E007B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4E8-673C-4984-9916-ABE4A66C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57F2-AAB9-4FBE-80B3-000D5E71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4687-150E-413C-BD90-961FB984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14D-9BCD-4A88-8D72-66756304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45BD-0695-4503-96A5-A5A4D5A5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608-5FB3-4680-B200-E4A8E700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471-2379-47C3-A063-311B747A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C45D-A84D-4D6E-A308-37D5D2A6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3906-0C8B-46BC-B4D8-71D9E79B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E5B5-8754-4C41-95FE-A7695305D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שקף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אין ללחוץ ע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NE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יותר מ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שניות רצוף, אחרת יש חשש לשריפת המעגלים החשמליים של מערכת כיוון התדר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8:03:59Z</dcterms:created>
  <dc:creator>ooo</dc:creator>
  <dc:description/>
  <dc:language>en-US</dc:language>
  <cp:lastModifiedBy>ooo</cp:lastModifiedBy>
  <dcterms:modified xsi:type="dcterms:W3CDTF">2004-09-22T08:04:02Z</dcterms:modified>
  <cp:revision>1</cp:revision>
  <dc:subject/>
  <dc:title>שקף 7</dc:title>
</cp:coreProperties>
</file>