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093C-B844-4CFB-8495-FD06FB89F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2EDD-B698-4DEE-9547-3D2C0958E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5BA2-19E5-4798-B13B-B06B2C5A4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1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1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0A01-5B53-4ED0-B603-DD373AFCB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DCB3-9D35-48E5-B670-93786F7EE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3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1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3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1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705F-43F1-4711-B759-7D6835C9C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176E-81E3-46BB-A8AD-791D199B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E2CC-9D73-4475-8269-C5B5607F6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998D-EB9C-415C-916A-F9D7CBF27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2A5A-9B81-4DAC-B436-8C3696495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BF43-C983-47B3-BE85-C3BACA6BF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5316-2F25-484F-8DFE-7A7A406EB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5000"/>
              </a:lnSpc>
              <a:spcBef>
                <a:spcPts val="1137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5000"/>
              </a:lnSpc>
              <a:spcBef>
                <a:spcPts val="1137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828440" y="6400800"/>
            <a:ext cx="34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ntor Graphics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2003-2005, Mentor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2640" y="1522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tor’s Custom/Mixed-Signal Design Flow</a:t>
            </a: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A Unified Environment for SoC Desig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1520" y="4363920"/>
            <a:ext cx="1258920" cy="1254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&amp;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97800" y="4575240"/>
            <a:ext cx="67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5560" y="4459320"/>
            <a:ext cx="6094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9720" y="2146320"/>
            <a:ext cx="1706400" cy="13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3480" y="4276800"/>
            <a:ext cx="167616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xRC, x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511960" y="2779200"/>
            <a:ext cx="11840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11960" y="5100480"/>
            <a:ext cx="1222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4800" y="4214880"/>
            <a:ext cx="2286000" cy="16761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7080" y="43671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orplan &amp;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7080" y="50529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1560" y="3529080"/>
            <a:ext cx="0" cy="495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54160" y="2128680"/>
            <a:ext cx="2286000" cy="13669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ula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8160" y="5033880"/>
            <a:ext cx="544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5040" y="2816280"/>
            <a:ext cx="593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1720" y="348948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4480" y="358128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46560" y="2840400"/>
            <a:ext cx="1916280" cy="185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StarBats"/>
                <a:ea typeface="StarBats"/>
              </a:rPr>
              <a:t>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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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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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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90160" y="24890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5400" y="485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47120" y="4981680"/>
            <a:ext cx="444600" cy="228600"/>
          </a:xfrm>
          <a:custGeom>
            <a:avLst/>
            <a:gdLst>
              <a:gd name="textAreaLeft" fmla="*/ 69480 w 444600"/>
              <a:gd name="textAreaRight" fmla="*/ 389160 w 444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55040" y="352440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43960" y="3627360"/>
            <a:ext cx="87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1957320"/>
            <a:ext cx="14731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120" y="2244600"/>
            <a:ext cx="126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F97A-9047-4A7A-B273-1484DE9224A6}" type="slidenum">
              <a:t>1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tor’s           Custom/Mixed-Signal Design Flow</a:t>
            </a: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New ICstudio Design Management Platfor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520" y="4363920"/>
            <a:ext cx="1258920" cy="1254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&amp;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97800" y="4575240"/>
            <a:ext cx="67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28800" y="1295280"/>
            <a:ext cx="2805120" cy="4770720"/>
            <a:chOff x="2728800" y="1295280"/>
            <a:chExt cx="2805120" cy="4770720"/>
          </a:xfrm>
        </p:grpSpPr>
        <p:sp>
          <p:nvSpPr>
            <p:cNvPr id="108" name=""/>
            <p:cNvSpPr/>
            <p:nvPr/>
          </p:nvSpPr>
          <p:spPr>
            <a:xfrm>
              <a:off x="2728800" y="1295280"/>
              <a:ext cx="2805120" cy="4770720"/>
            </a:xfrm>
            <a:custGeom>
              <a:avLst/>
              <a:gdLst>
                <a:gd name="textAreaLeft" fmla="*/ 136800 w 2805120"/>
                <a:gd name="textAreaRight" fmla="*/ 2668320 w 2805120"/>
                <a:gd name="textAreaTop" fmla="*/ 136800 h 4770720"/>
                <a:gd name="textAreaBottom" fmla="*/ 4633920 h 4770720"/>
              </a:gdLst>
              <a:ahLst/>
              <a:rect l="textAreaLeft" t="textAreaTop" r="textAreaRight" b="textAreaBottom"/>
              <a:pathLst>
                <a:path w="21600" h="36734">
                  <a:moveTo>
                    <a:pt x="3600" y="0"/>
                  </a:moveTo>
                  <a:arcTo wR="3600" hR="3600" stAng="16200000" swAng="-5400000"/>
                  <a:lnTo>
                    <a:pt x="0" y="33134"/>
                  </a:lnTo>
                  <a:arcTo wR="3600" hR="3600" stAng="10800000" swAng="-5400000"/>
                  <a:lnTo>
                    <a:pt x="18000" y="36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b83db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440" y="1315080"/>
              <a:ext cx="1623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ign Platfor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C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95560" y="4459320"/>
            <a:ext cx="6094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59720" y="2146320"/>
            <a:ext cx="1706400" cy="13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3480" y="4276800"/>
            <a:ext cx="167616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xRC, x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11960" y="2779200"/>
            <a:ext cx="11840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11960" y="5100480"/>
            <a:ext cx="1222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4800" y="4214880"/>
            <a:ext cx="2286000" cy="16761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7080" y="43671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orplan &amp;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7080" y="50529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1560" y="3529080"/>
            <a:ext cx="0" cy="495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4160" y="2128680"/>
            <a:ext cx="2286000" cy="13669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ula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08160" y="5033880"/>
            <a:ext cx="544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5040" y="2816280"/>
            <a:ext cx="593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1720" y="348948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4480" y="358128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46560" y="2840400"/>
            <a:ext cx="1916280" cy="185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StarBats"/>
                <a:ea typeface="StarBats"/>
              </a:rPr>
              <a:t>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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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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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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0160" y="24890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75400" y="485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47120" y="4981680"/>
            <a:ext cx="444600" cy="228600"/>
          </a:xfrm>
          <a:custGeom>
            <a:avLst/>
            <a:gdLst>
              <a:gd name="textAreaLeft" fmla="*/ 69480 w 444600"/>
              <a:gd name="textAreaRight" fmla="*/ 389160 w 444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55040" y="352440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3960" y="3627360"/>
            <a:ext cx="87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957320"/>
            <a:ext cx="14731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2120" y="2244600"/>
            <a:ext cx="126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28960" y="106200"/>
            <a:ext cx="900000" cy="617760"/>
            <a:chOff x="2028960" y="106200"/>
            <a:chExt cx="900000" cy="617760"/>
          </a:xfrm>
        </p:grpSpPr>
        <p:sp>
          <p:nvSpPr>
            <p:cNvPr id="133" name=""/>
            <p:cNvSpPr/>
            <p:nvPr/>
          </p:nvSpPr>
          <p:spPr>
            <a:xfrm>
              <a:off x="2028960" y="106200"/>
              <a:ext cx="900000" cy="61776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16160" y="25704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BB20-5A42-4FB4-8556-C8B26608BC3D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013200" y="1587600"/>
            <a:ext cx="2173320" cy="3763800"/>
            <a:chOff x="3013200" y="1587600"/>
            <a:chExt cx="2173320" cy="3763800"/>
          </a:xfrm>
        </p:grpSpPr>
        <p:sp>
          <p:nvSpPr>
            <p:cNvPr id="136" name=""/>
            <p:cNvSpPr/>
            <p:nvPr/>
          </p:nvSpPr>
          <p:spPr>
            <a:xfrm>
              <a:off x="3013200" y="1587600"/>
              <a:ext cx="2173320" cy="3763800"/>
            </a:xfrm>
            <a:custGeom>
              <a:avLst/>
              <a:gdLst>
                <a:gd name="textAreaLeft" fmla="*/ 105840 w 2173320"/>
                <a:gd name="textAreaRight" fmla="*/ 2067480 w 2173320"/>
                <a:gd name="textAreaTop" fmla="*/ 105840 h 3763800"/>
                <a:gd name="textAreaBottom" fmla="*/ 3657960 h 3763800"/>
              </a:gdLst>
              <a:ahLst/>
              <a:rect l="textAreaLeft" t="textAreaTop" r="textAreaRight" b="textAreaBottom"/>
              <a:pathLst>
                <a:path w="21600" h="37405">
                  <a:moveTo>
                    <a:pt x="3600" y="0"/>
                  </a:moveTo>
                  <a:arcTo wR="3600" hR="3600" stAng="16200000" swAng="-5400000"/>
                  <a:lnTo>
                    <a:pt x="0" y="33805"/>
                  </a:lnTo>
                  <a:arcTo wR="3600" hR="3600" stAng="10800000" swAng="-5400000"/>
                  <a:lnTo>
                    <a:pt x="18000" y="37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b83db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2920" y="1603440"/>
              <a:ext cx="125820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esign Platfor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57560" y="3916440"/>
            <a:ext cx="1793880" cy="1315800"/>
            <a:chOff x="3157560" y="3916440"/>
            <a:chExt cx="1793880" cy="1315800"/>
          </a:xfrm>
        </p:grpSpPr>
        <p:sp>
          <p:nvSpPr>
            <p:cNvPr id="139" name=""/>
            <p:cNvSpPr/>
            <p:nvPr/>
          </p:nvSpPr>
          <p:spPr>
            <a:xfrm>
              <a:off x="3157560" y="3916440"/>
              <a:ext cx="1793880" cy="13158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7080" y="4035960"/>
              <a:ext cx="1554480" cy="5382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 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7080" y="4574160"/>
              <a:ext cx="1554480" cy="5382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assem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dvantages of the Mentor ICstudio Flow</a:t>
            </a:r>
            <a:br>
              <a:rPr sz="2800"/>
            </a:b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52680" y="4125960"/>
            <a:ext cx="4730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6800" y="3903840"/>
            <a:ext cx="1304640" cy="129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rd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&amp;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7280" y="2313000"/>
            <a:ext cx="132228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4560" y="3963960"/>
            <a:ext cx="1300320" cy="13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ibre xR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68880" y="2805120"/>
            <a:ext cx="919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68880" y="4603680"/>
            <a:ext cx="947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4560" y="338472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87800" y="2300400"/>
            <a:ext cx="1771560" cy="10587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32240" y="4551480"/>
            <a:ext cx="420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8680" y="2833560"/>
            <a:ext cx="498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56860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28720" y="335448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7240" y="3503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8080" y="3048840"/>
            <a:ext cx="1482480" cy="1036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T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Symbo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Device Genera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Spice mode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Rule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ch.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5400" y="261792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05320" y="4448160"/>
            <a:ext cx="744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81880" y="4451400"/>
            <a:ext cx="344520" cy="177840"/>
          </a:xfrm>
          <a:custGeom>
            <a:avLst/>
            <a:gdLst>
              <a:gd name="textAreaLeft" fmla="*/ 53640 w 344520"/>
              <a:gd name="textAreaRight" fmla="*/ 301680 w 344520"/>
              <a:gd name="textAreaTop" fmla="*/ 44280 h 177840"/>
              <a:gd name="textAreaBottom" fmla="*/ 133560 h 1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83320" y="4216320"/>
            <a:ext cx="520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1000" y="338148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3000" y="3498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65000" y="5475240"/>
            <a:ext cx="278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Calibre DRC/LVS error vie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Inside IC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2080" y="5492880"/>
            <a:ext cx="31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Unified platform for custom layou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outing, and chip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440" y="928800"/>
            <a:ext cx="25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Integrated, intuitive, flex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esig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0840" y="170820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Single front-end for sche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and simulation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00480" y="1536840"/>
            <a:ext cx="21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ADMS full-chip pre/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Layout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13480" y="3189240"/>
            <a:ext cx="17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SPF/SPICE based post-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3880" y="5281560"/>
            <a:ext cx="172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evice gen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SDL/LDL, 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ule-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72000" y="4056120"/>
            <a:ext cx="782640" cy="48564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6400" y="3987720"/>
            <a:ext cx="1992240" cy="122400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2520" y="4290840"/>
            <a:ext cx="1120680" cy="60516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06680" y="2948040"/>
            <a:ext cx="1401840" cy="16488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0000" y="1533600"/>
            <a:ext cx="1165320" cy="51588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0" y="3451320"/>
            <a:ext cx="736560" cy="42696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15200" y="2787480"/>
            <a:ext cx="7668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5CF7-C7F6-444D-904E-A8AE9FE469C9}" type="slidenum">
              <a:t>3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Avi Gupta</dc:creator>
  <dc:description/>
  <dc:language>en-US</dc:language>
  <cp:lastModifiedBy>cparg</cp:lastModifiedBy>
  <cp:lastPrinted>2005-06-02T04:40:40Z</cp:lastPrinted>
  <dcterms:modified xsi:type="dcterms:W3CDTF">2005-12-19T21:31:41Z</dcterms:modified>
  <cp:revision>2439</cp:revision>
  <dc:subject>Mentor Graphics CONFIDENTIAL</dc:subject>
  <dc:title>Mentor IC Flow Presentation June05</dc:title>
</cp:coreProperties>
</file>