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59D12-15CB-4E73-8864-6B0769A8D51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1D02-2BB2-4AF4-9EBB-4F5090B93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5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A43C-1729-4334-8BE7-7947AB0ED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A484-C8F6-45B6-9C49-70E97513A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E589-97E8-4F61-9084-26D520E01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164D6-7252-4159-ABAE-B22F1A604D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01466-0195-445C-840E-482BC56FD4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EF8A1-D82D-4C1B-BB83-B37659C669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3DF2B-928D-4A59-A2FB-C401471931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50E82-C94D-427E-96B2-6D7DB4110A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816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85E0F-3240-48AF-9F72-CE0EBCB005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32662-2FFA-462E-9F42-A1F4BDD3B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645C-B3DB-4ED1-92BD-BC3B3A011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C06AF-FB62-4C67-8F2A-E2EB7CF2E9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0E3C0-EE20-45B8-97AB-78057AEC9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45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18706-C5D0-403B-B2EA-F467B19E85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6E3EF-D687-49C2-AD67-85B0E521C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346BD-AF27-4F35-969D-FF6C0BCA3F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1496-0DC4-4C9E-AB87-5EFE6A66C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55B4-990D-4B14-9688-F5A6EB1B9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F256-EEA0-44A5-B9D5-313046AFB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816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2176-A193-498C-9FE3-3E49DDBC8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FF4D-977E-4966-BFFA-A5E745A1A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238F-5CCD-41FD-AFDE-1B95F1D40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EDF1-D4AA-4BF4-AC4B-E533D2DE5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4c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ff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000" y="6453360"/>
            <a:ext cx="6767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3080" y="6381360"/>
            <a:ext cx="162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55D850-8815-4FA6-A708-88DD52F914EB}" type="slidenum"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6019560"/>
            <a:ext cx="7770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78CE8A-2EF5-474B-B198-9D2A0E7EF94E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ff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60210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ncient Words</a:t>
            </a:r>
            <a:endParaRPr b="1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4c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ncient Word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y words long preserv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ur walk in this worl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resound with God's own hea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the ancient words impart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s of life, words of hop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 us strength help us cop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world where'er we ro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ient words will guide us ho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ncient words ever true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hanging me, changing you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e have come with open hearts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Oh let the ancient words impart.</a:t>
            </a:r>
            <a:endParaRPr b="1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ds and Music by Lynn DeShazo  . Used with permission  CCLI Licence 1130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862A-A3A2-4997-9984-7F425FD5535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4c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92080"/>
            <a:ext cx="822960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y words of our fa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ed down to this ag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 to us through sacrif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 heed the faithful words of Chris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y words long preserv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ur walk in this worl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resound with God's own hea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the ancient words impar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ncient words ever true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hanging me, changing you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e have come with open hearts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Oh let the ancient words impart.</a:t>
            </a:r>
            <a:endParaRPr b="1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93080" y="6597720"/>
            <a:ext cx="9864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ds and Music by Lynn DeShazo  . Used with permission  CCLI Licence 1130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21C4-0476-4156-95C1-78BE347794F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</dc:creator>
  <dc:description/>
  <dc:language>en-US</dc:language>
  <cp:lastModifiedBy/>
  <cp:revision>0</cp:revision>
  <dc:subject/>
  <dc:title/>
</cp:coreProperties>
</file>