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3A4-374F-42E7-A0F9-1199243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8C3-A5F9-4391-A3FD-FC12B17B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FD6-5D7C-4B2F-A448-3FEBC596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1EE-9BF5-4CD8-91A9-CA880BC9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982-C646-426F-AD77-B328D11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6B7-8062-4D70-9A48-1668322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4FE-007F-4A84-9949-F631A944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016-CC1C-4669-A297-8A186DEE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187-E637-4FF0-84FC-BBD237D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50D-84BA-45CF-801B-B14C44B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968-7BD1-440A-A79F-7E02566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F2C-DA58-47CB-AC4A-9E4403B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98D2-845B-419F-A607-CE8CF334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1332000" y="270828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the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Arch  U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IBM_USER</cp:lastModifiedBy>
  <dcterms:modified xsi:type="dcterms:W3CDTF">2012-06-07T09:29:52Z</dcterms:modified>
  <cp:revision>18</cp:revision>
  <dc:subject/>
  <dc:title>Slide 1</dc:title>
</cp:coreProperties>
</file>