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EB2-A749-44D6-8A05-98A1349F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CE4-53E2-49F4-9CA0-D9EB9DCA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660-89E7-4512-B163-104A89D9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277-9EBF-4BE8-A45E-BC2DF487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F5B-2E63-4013-90F6-9FA1ED5D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BAB-AB00-4327-91E3-52E1D24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6BD-89BF-4FC5-8F88-42220124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060-3AFC-48C0-8018-E7FCA571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8D2-491D-455D-9209-8D3891BB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0C1-6E8D-4181-9A6E-FF34FF52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447-BD1A-40F0-8896-670D090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341-765D-4B9E-B41D-E144C25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55C4-84D4-457B-BF31-FB54908A82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1052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1:55:12Z</dcterms:created>
  <dc:creator>Christian Günther</dc:creator>
  <dc:description/>
  <dc:language>en-US</dc:language>
  <cp:lastModifiedBy>Christian Günther</cp:lastModifiedBy>
  <dcterms:modified xsi:type="dcterms:W3CDTF">2005-05-17T11:56:47Z</dcterms:modified>
  <cp:revision>1</cp:revision>
  <dc:subject/>
  <dc:title>Slide 1</dc:title>
</cp:coreProperties>
</file>