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E53-7B7F-410E-8E78-A53C6E2E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9AA-C586-42F3-9E06-BE3C7AE1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7F6-D774-40E9-AD79-A49E1C6B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867-79A8-4A8B-A103-50C0A61A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32E-68C1-4A51-B193-36A4A445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AEE-DFCE-4ABB-B0FE-0D0D0F37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9B9-1BF3-4F1C-8F9F-C80CFEEF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7BD-5B6E-4C5F-971A-912C0CF7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DC3-6017-4311-8C76-374C5AF5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CF3-E06D-46AB-99AD-A7AFFDFA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0DF-740F-4E40-A883-79A0D962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654-4899-4BAF-9D79-DEE254F9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02FB-0565-48B1-B75F-BBE18AEB7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age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t Primaire Proces</a:t>
            </a:r>
            <a:br>
              <a:rPr sz="5400"/>
            </a:b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al medische sec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plaats BMG aanb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MG aanbod voornamelijk regio Rotter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geven op SSC na hoorcollege 27 sept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G-pakketjes ophalen en verder contact instell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 1 ok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e en vrag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Informatie over sta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oorcollege: dinsdag 27 september 15.00 u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Vrag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Praktisch/ organisatoris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udie Service Centrum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w vdr Schee van Driel (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4-074, tel 010-408854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ni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ë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  Opbroek (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4-074, tel 010-40885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Inhoudelij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Dr. J.A.M.Harmsen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L4-012, tel 010 – 4088721/ ma &amp; w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t primaire proce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latie tuss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ulp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verlen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en hulp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vr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elstelling s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nnisma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 de praktij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doen van eni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aktijkerv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lecti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 eigen rol in toekom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nnismaken met profession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 hun we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de z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elang en wannee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stage duurt </a:t>
            </a: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8 dag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(64 uur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n maandag t/m vrijdag overda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i.o.m. instell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ek 47 en 4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21 november tm 2 december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ie ECTS: (3 X 28 uur aan studiepun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or wi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Verplich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voor iedere 1e jaarsstuden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ònder ‘</a:t>
            </a: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all round’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praktijkerv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rijstell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 iedereen 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mèt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afgaande ‘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all round’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praktijkerv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Times New Roman"/>
              </a:rPr>
              <a:t>Aanvraag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hiervoor </a:t>
            </a:r>
            <a:r>
              <a:rPr b="1" i="1" lang="nl-NL" sz="2800" spc="-1" strike="noStrike">
                <a:solidFill>
                  <a:srgbClr val="000000"/>
                </a:solidFill>
                <a:latin typeface="Times New Roman"/>
              </a:rPr>
              <a:t>schriftelijk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 Bureau Studiezake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 de studieadvis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leveren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vóór 30 september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a.s.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ar stage lop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zondheidszorginstellin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algemeen zieken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verpleeg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revalidatie-cen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psychiatrisch zieken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poliklini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elen stagepla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ee mogelijkhed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MG-aanb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elf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plaats Zelfz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Zelf zoeken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(b.v. in je eigen regi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lijst met instellingen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die binnen BMG aanbod vallen.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ierin niet zelf zoeken. Check dit bij SS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èlf het contact met de instelling leggen, vanaf week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(11 tm 17 september), informeren naar mogelijkh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zoek om goedkeuring zelfzoek stageplaats week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(25 september- 1 okto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oestemming over zelfzoek stageplaats week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(9-15 okto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lfzoekpakketje ophalen en verder contact inst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4T19:28:47Z</dcterms:created>
  <dc:creator>L. Hennink</dc:creator>
  <dc:description/>
  <dc:language>en-US</dc:language>
  <cp:lastModifiedBy>j.harmsen</cp:lastModifiedBy>
  <cp:lastPrinted>2002-09-18T10:09:50Z</cp:lastPrinted>
  <dcterms:modified xsi:type="dcterms:W3CDTF">2005-09-06T09:12:09Z</dcterms:modified>
  <cp:revision>25</cp:revision>
  <dc:subject/>
  <dc:title>Stage  Het Primaire Proces  Sociaal medische sectie</dc:title>
</cp:coreProperties>
</file>