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9600" cy="992520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75">
                <a:moveTo>
                  <a:pt x="5" y="0"/>
                </a:moveTo>
                <a:arcTo wR="5" hR="5" stAng="16200000" swAng="-5400000"/>
                <a:lnTo>
                  <a:pt x="0" y="31570"/>
                </a:lnTo>
                <a:arcTo wR="5" hR="5" stAng="10800000" swAng="-5400000"/>
                <a:lnTo>
                  <a:pt x="21595" y="315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9600" cy="992520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75">
                <a:moveTo>
                  <a:pt x="5" y="0"/>
                </a:moveTo>
                <a:arcTo wR="5" hR="5" stAng="16200000" swAng="-5400000"/>
                <a:lnTo>
                  <a:pt x="0" y="31570"/>
                </a:lnTo>
                <a:arcTo wR="5" hR="5" stAng="10800000" swAng="-5400000"/>
                <a:lnTo>
                  <a:pt x="21595" y="315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6600" y="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744480"/>
            <a:ext cx="49608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05040" y="4712760"/>
            <a:ext cx="4978080" cy="44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42660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6600" y="9646200"/>
            <a:ext cx="29430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7160" bIns="471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0" y="7542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74448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79880" cy="2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1 l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88"/>
              </a:spcBef>
              <a:buClr>
                <a:srgbClr val="9999ff"/>
              </a:buClr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88"/>
              </a:spcBef>
              <a:buClr>
                <a:srgbClr val="9999ff"/>
              </a:buClr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88"/>
              </a:spcBef>
              <a:buClr>
                <a:srgbClr val="000000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88"/>
              </a:spcBef>
              <a:buClr>
                <a:srgbClr val="000000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88"/>
              </a:spcBef>
              <a:buClr>
                <a:srgbClr val="9999ff"/>
              </a:buClr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88"/>
              </a:spcBef>
              <a:buClr>
                <a:srgbClr val="9999ff"/>
              </a:buClr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88"/>
              </a:spcBef>
              <a:buClr>
                <a:srgbClr val="ccccff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88"/>
              </a:spcBef>
              <a:buClr>
                <a:srgbClr val="000000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88"/>
              </a:spcBef>
              <a:buClr>
                <a:srgbClr val="000000"/>
              </a:buClr>
              <a:buSzPct val="69000"/>
              <a:buFont typeface="Wingdings" charset="2"/>
              <a:buChar char="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384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Internet Services Administration</a:t>
            </a:r>
            <a:br>
              <a:rPr sz="4800"/>
            </a:b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CS35910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gothic"/>
              </a:rPr>
              <a:t>Remote Timinal and Windo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phen Kingston</cp:lastModifiedBy>
  <cp:revision>0</cp:revision>
  <dc:subject/>
  <dc:title>Internet Services Administration CS35910</dc:title>
</cp:coreProperties>
</file>