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3E31-3016-4D4B-BEBA-50C821A7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DA67-7A3B-4ACB-BF2C-CFEB8647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890A-F9E8-474E-A3DA-442A7702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3CD0-37BC-4210-BD58-290ED7A2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752A-6FF4-45E1-B1F4-E4886A64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BB63-6D4E-4771-8B13-4790543D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4F79-C2E1-4149-A94B-CD6C8C75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727D-BF1E-47EF-BB97-0C9C6E93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57F7-E1D9-4467-8627-8E20EA1B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FDDA-D1DD-4F6C-B3E2-7E585FA9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C1D-4EF2-4DEA-AB97-4992B83A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2FD5-C6E2-4DA0-8411-2F25569C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359D-27E8-4B8F-8A87-A18FBBF58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cript Nu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baseline="-26000">
                <a:solidFill>
                  <a:srgbClr val="000000"/>
                </a:solidFill>
                <a:latin typeface="Arial"/>
              </a:rPr>
              <a:t>1242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6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baseline="-26000">
                <a:solidFill>
                  <a:srgbClr val="000000"/>
                </a:solidFill>
                <a:latin typeface="Arial"/>
              </a:rPr>
              <a:t>7531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6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 baseline="-40000">
                <a:solidFill>
                  <a:srgbClr val="000000"/>
                </a:solidFill>
                <a:latin typeface="Arial"/>
              </a:rPr>
              <a:t>1478963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4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baseline="-40000">
                <a:solidFill>
                  <a:srgbClr val="000000"/>
                </a:solidFill>
                <a:latin typeface="Arial"/>
              </a:rPr>
              <a:t>36457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34</a:t>
            </a:r>
            <a:r>
              <a:rPr b="0" lang="en-US" sz="3200" spc="-1" strike="noStrike" baseline="-40000">
                <a:solidFill>
                  <a:srgbClr val="000000"/>
                </a:solidFill>
                <a:latin typeface="Arial"/>
              </a:rPr>
              <a:t>567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vege</cp:lastModifiedBy>
  <dcterms:modified xsi:type="dcterms:W3CDTF">2010-09-06T10:31:47Z</dcterms:modified>
  <cp:revision>5</cp:revision>
  <dc:subject/>
  <dc:title>Subscript Numb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