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move the slide</a:t>
            </a:r>
            <a:endParaRPr b="0" lang="en-US" sz="4800" spc="-1" strike="noStrike">
              <a:solidFill>
                <a:srgbClr val="f1b60f"/>
              </a:solidFill>
              <a:latin typeface="Arial"/>
            </a:endParaRPr>
          </a:p>
        </p:txBody>
      </p:sp>
      <p:sp>
        <p:nvSpPr>
          <p:cNvPr id="91"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DBF07-7969-4EC0-9639-14B9FD5D4367}"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ation skills offer immediate, practical benefits to any group process.  As facilitator, your role is to set the agenda, encourage participation, and guide the pace of the meeting.  Use these Dale Carnegie Training® strategies to help make your meeting a 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ovide handouts to focus the discussion and give attendees a place to record their ideas.  If you print handouts with three slides per page, PowerPoint will automatically include blank lines for your meeting participants to take no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 with a strong opening, relevant to the topic and your audience.  Appeal to your audience’s interests.  Your energy and attitude set the tone and provide momentum for the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ation is a process that helps people communicate and work together.  Establish an open environment conducive to problem solving and chan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106A7-9CFE-434D-B212-5EA50DED4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92CA0-AD34-44E2-B252-254F4ACE3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9A563-584B-4AA0-A6C1-8F3A4D5AB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5958F-59FA-40A5-BDB9-548F34053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9B2F6B-1849-48E2-910B-75792F0E0D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047BA-4B32-4252-B3D4-7F172445D7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AE1D2-7D83-47AF-9E67-18CFC9ABF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9DAF0-1362-4C49-8CBD-27A663397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F04BA5-611C-4268-AFF7-50E550381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492FD5-79D0-4270-AEC8-04BA98F4F1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44DB4-83BF-4EB3-81C0-BC6708AB4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73CE4-C580-477A-8AE0-E81904A92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ED23C-A08B-409A-858E-F55B3B0EC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F48AC-5017-4A91-AB87-0556EB1D2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B6301-57DE-4DFC-8EE2-FCE41F2FC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085BD3-82B7-43A1-86DF-F3704772A6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67D8BB-0D2A-415A-B8A1-175E4F47A4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F5CE8-5FFC-427F-AADF-0C996E8FC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461A1-C98B-489F-9486-CFF8F4797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11DD8-1CCA-4664-9149-9C762ED56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9FEE9-361E-4416-A9E0-1343E3EE1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D5BC9-8202-4083-A0F7-9F815E61D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27333-3071-4FCC-9D2B-03C7A3466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E3653-C993-46D1-BD3C-BD5191749B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14033-AB0C-4DFB-ABC7-371D000637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edit the title text format</a:t>
            </a:r>
            <a:endParaRPr b="0" lang="en-US" sz="4800" spc="-1" strike="noStrike">
              <a:solidFill>
                <a:srgbClr val="f1b60f"/>
              </a:solidFill>
              <a:latin typeface="Arial"/>
            </a:endParaRPr>
          </a:p>
        </p:txBody>
      </p:sp>
      <p:sp>
        <p:nvSpPr>
          <p:cNvPr id="48" name="PlaceHolder 2"/>
          <p:cNvSpPr>
            <a:spLocks noGrp="1"/>
          </p:cNvSpPr>
          <p:nvPr>
            <p:ph type="dt" idx="4"/>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35DCD-388F-40CB-8A47-E5880B18A0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a Meeting</a:t>
            </a:r>
            <a:endParaRPr b="0" lang="en-US" sz="4800" spc="-1" strike="noStrike">
              <a:solidFill>
                <a:srgbClr val="f1b60f"/>
              </a:solidFill>
              <a:latin typeface="Arial"/>
            </a:endParaRPr>
          </a:p>
        </p:txBody>
      </p:sp>
      <p:sp>
        <p:nvSpPr>
          <p:cNvPr id="96" name="PlaceHolder 2"/>
          <p:cNvSpPr>
            <a:spLocks noGrp="1"/>
          </p:cNvSpPr>
          <p:nvPr>
            <p:ph type="subTitle"/>
          </p:nvPr>
        </p:nvSpPr>
        <p:spPr>
          <a:xfrm>
            <a:off x="914400" y="3276720"/>
            <a:ext cx="6400800" cy="175248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Opening</a:t>
            </a:r>
            <a:endParaRPr b="0" lang="en-US" sz="4200" spc="-1" strike="noStrike">
              <a:solidFill>
                <a:srgbClr val="f1b60f"/>
              </a:solidFill>
              <a:latin typeface="Arial"/>
            </a:endParaRPr>
          </a:p>
        </p:txBody>
      </p:sp>
      <p:sp>
        <p:nvSpPr>
          <p:cNvPr id="98"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th:</a:t>
            </a:r>
            <a:endParaRPr b="0" lang="en-US" sz="30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9T07:12:35Z</dcterms:created>
  <dc:creator>crystal</dc:creator>
  <dc:description/>
  <dc:language>en-US</dc:language>
  <cp:lastModifiedBy>crystal</cp:lastModifiedBy>
  <dcterms:modified xsi:type="dcterms:W3CDTF">2012-05-29T07:13:15Z</dcterms:modified>
  <cp:revision>1</cp:revision>
  <dc:subject/>
  <dc:title>a Mee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3</vt:r8>
  </property>
</Properties>
</file>