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293-517A-41CD-A18F-C235356F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C52-472A-4F6C-9D8C-9D479497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747-17F3-44AB-9DC1-64590C21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1BF-153E-4A26-A77B-3A0159B7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BF9A-9881-4E27-B44C-A8AD5DF6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0FA6-5351-412A-8027-55D989C7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89A3-436C-446D-9F67-81B4919B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F221-D515-4CF5-80EC-5517C8A9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0A76-324F-49B5-BC23-5AAE8C31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2375-DB6C-4D46-AB39-9BAD3E81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CC6C-24BB-4612-9455-B11C9BBF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DEC-A6D1-442B-B9E7-5F6B7490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E0FF-D5AC-4E5E-96BA-3BA07160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E15B-CFA7-4343-A264-2FEE9334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82B9-B94E-4BE5-A716-ED7AA6A5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7BD6-3418-47F8-A0D2-66D5D0FE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273C-C14B-466A-B1A5-5C948861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FF8-FA52-468C-99A0-A63995AF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409-69D5-4C42-8813-D541E0F5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E23D-B5CA-4B98-881C-A3B44692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8B1-4344-403A-8E6B-90941987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973-E226-4EB8-A8CD-83E4CFBA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CFD-80FC-4D8B-839C-B7558098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574-901D-4D39-B642-101360BD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C2A8-CEC5-46BB-A08D-9A3A0BD4FB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3F2F-61C6-43CE-BB16-3631B81689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333399"/>
                </a:solidFill>
                <a:latin typeface="Tahoma"/>
              </a:rPr>
              <a:t>קבוצת מבנה הרקטה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חברי הקבוצה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אסף קליין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ליאור בכ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חידושים והמצאות (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אלמנט משכך בתחתית ה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I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משכי גומי קטנים שמתיישבים בין המייתרי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מילוי סיליקוני של הגשר     שיכוך זעזועי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גדלת מומנט אינרציה של המחבט      יציבות סביב ציר המחבט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3657600"/>
            <a:ext cx="381240" cy="152280"/>
          </a:xfrm>
          <a:prstGeom prst="leftArrow">
            <a:avLst>
              <a:gd name="adj1" fmla="val 50000"/>
              <a:gd name="adj2" fmla="val 6258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419112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כיוונים פוטנציאלים (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א-סימטריות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Tahoma"/>
              </a:rPr>
              <a:t>יתרונות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גישה נוחה לכדורים קשים (בעיקר בסקווש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אחיזה מותאמת אישית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Tahoma"/>
              </a:rPr>
              <a:t>חסרונות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אין הבדלים בדרישות הדינמיות עבור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.H.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.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דורש אחיזה קבועה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נוסו ונכשלו מחבטים א- סימטריים בעבר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nawert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כיוונים פוטנציאלים (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רעיונות א-סימטריים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ידית אחיזה מותאמת אישית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כיווניות הראש- שטוח לכיוון הקיר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ציר סיבוב בין הראש ל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I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קצה ראש מחבט גמיש או חסר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כיוונים פוטנציאלים (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רעיונות כללים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שינוי דינמי של מיקום מרכז מסה ומומנט האינרציה      יציבות, עוצמה, שיכוך רעידות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יכולת שליטה על מתיחות מייתרים ע"י שימוש בחומרים פיאזואלקטרים        דיוק או עוצמה לפי הצורך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4724280"/>
            <a:ext cx="533520" cy="152640"/>
          </a:xfrm>
          <a:prstGeom prst="leftArrow">
            <a:avLst>
              <a:gd name="adj1" fmla="val 50000"/>
              <a:gd name="adj2" fmla="val 873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81952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סדר יו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זיהוי הצור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הבנת הצור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לימוד החומ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סוגי חומרי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תצור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מייתרי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חידושים והמצאו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כיוונים פוטנציאלי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זיהוי הצור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פיתוח מחבט טני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סקווש בעל תכונות אלסטיות דינמיות בלתי סימטריות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הבנת הצור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he-IL" sz="2400" spc="-1" strike="noStrike">
                <a:solidFill>
                  <a:srgbClr val="000000"/>
                </a:solidFill>
                <a:latin typeface="Miriam"/>
              </a:rPr>
              <a:t>ראיונות מומחים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Miriam"/>
                <a:cs typeface="Arial"/>
              </a:rPr>
              <a:t>דר' יאיר פלד , רופא, שחקן נבחרת ישראל בסקווש, בעבר מקום שני בארץ ומאמן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Miriam"/>
                <a:cs typeface="Arial"/>
              </a:rPr>
              <a:t>אמנון כסיף , מאמן טניס בכיר, נבחרות ומקצוענים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Miriam"/>
                <a:cs typeface="Arial"/>
              </a:rPr>
              <a:t>מאור סירקין , אלוף ישראל לנוער בטניס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Miriam"/>
                <a:cs typeface="Arial"/>
              </a:rPr>
              <a:t>נועם מזרחי , מהנדס מכונות, בעבר מהנדס אנוש ברפאל, כיום מתמחה בביו- רפואה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Miriam"/>
                <a:cs typeface="Arial"/>
              </a:rPr>
              <a:t>פרופסור חיים אברמוביץ, מומחה לחומרים מרוכבים, פיאזואלקטרים ותורת הרטט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Miriam"/>
                <a:cs typeface="Arial"/>
              </a:rPr>
              <a:t>יהודית,מרכז הטניס, </a:t>
            </a:r>
            <a:r>
              <a:rPr b="1" lang="he-IL" sz="1600" spc="-1" strike="noStrike">
                <a:solidFill>
                  <a:srgbClr val="000000"/>
                </a:solidFill>
                <a:latin typeface="Miriam"/>
                <a:ea typeface="Arial"/>
              </a:rPr>
              <a:t>17</a:t>
            </a:r>
            <a:r>
              <a:rPr b="1" lang="he-IL" sz="1600" spc="-1" strike="noStrike">
                <a:solidFill>
                  <a:srgbClr val="000000"/>
                </a:solidFill>
                <a:latin typeface="Miriam"/>
                <a:ea typeface="Arial"/>
              </a:rPr>
              <a:t> שנה בתחום של ציוד טניס ושזירה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Miriam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he-IL" sz="2400" spc="-1" strike="noStrike">
                <a:solidFill>
                  <a:srgbClr val="000000"/>
                </a:solidFill>
                <a:latin typeface="Miriam"/>
              </a:rPr>
              <a:t>סקר צרכנים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Miriam"/>
                <a:cs typeface="Arial"/>
              </a:rPr>
              <a:t>רעיונות לשחקנים חובבים, סקווש / טניס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Miriam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2400" spc="-1" strike="noStrike">
                <a:solidFill>
                  <a:srgbClr val="000000"/>
                </a:solidFill>
                <a:latin typeface="Miriam"/>
              </a:rPr>
              <a:t>סקר ספרות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1600" spc="-1" strike="noStrike">
                <a:solidFill>
                  <a:srgbClr val="000000"/>
                </a:solidFill>
                <a:latin typeface="Miriam"/>
                <a:cs typeface="Arial"/>
              </a:rPr>
              <a:t>חומר תאורטי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he-IL" sz="1600" spc="-1" strike="noStrike">
                <a:solidFill>
                  <a:srgbClr val="000000"/>
                </a:solidFill>
                <a:latin typeface="Miriam"/>
                <a:cs typeface="Arial"/>
              </a:rPr>
              <a:t>אינטרנט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Miriam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333399"/>
                </a:solidFill>
                <a:latin typeface="Tahoma"/>
              </a:rPr>
              <a:t>בית האיכות-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QF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1371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לימוד החומר </a:t>
            </a: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:    </a:t>
            </a: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סוגי חומרים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סקירה רטרוספקטיבית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עץ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אלומיניום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חומרים מרוכבים: סיבי גרפית, קוולר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תוספי טיטניום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חומרים דינמיים: פיאזו- אלקטריי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לימוד החומר </a:t>
            </a: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:          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תצור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סקירה רטרוספקטיבית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ראש אליפטי קטן ותצורה קבוע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עלית שטח הרא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ראש טיפה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ראש פחוס (סקווש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התארכות המחבט  (טניס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דגש אווירודינמ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שינויי תצורת הגש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לימוד החומר</a:t>
            </a: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:          </a:t>
            </a: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מייתרים</a:t>
            </a: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סקירה רטרוספקטיבית: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גידים מהח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פולימרי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יבה + מעטפת מפולימרים בעלי תכונות שונו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מעטפת טיטניום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איזונים: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שינויי עובי אורך וחומ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קשיחות- אלסטיו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 algn="r" rtl="1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חוזק מיתר </a:t>
            </a:r>
            <a:r>
              <a:rPr b="0" lang="he-IL" sz="2400" spc="-1" strike="noStrike">
                <a:solidFill>
                  <a:srgbClr val="3333cc"/>
                </a:solidFill>
                <a:latin typeface="Tahoma"/>
              </a:rPr>
              <a:t>מול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תחוש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 algn="r" rtl="1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עוצמה </a:t>
            </a:r>
            <a:r>
              <a:rPr b="0" lang="he-IL" sz="2400" spc="-1" strike="noStrike">
                <a:solidFill>
                  <a:srgbClr val="3333cc"/>
                </a:solidFill>
                <a:latin typeface="Tahoma"/>
              </a:rPr>
              <a:t>מול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דיוק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חידושים והמצאות (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שילוב חומרים פיאזואלקטרים בצוואר המחבט                            קשיחות, הפחתת רעידות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גלגיליות כתומכי מייתרים    אלסטיות, עמידות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ממשק מייתרים -ראש חופשי     אלסטיות, תחושה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חומר סופג רעידות (גומי) בצוואר     שיכוך רעידות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352680"/>
            <a:ext cx="380880" cy="152640"/>
          </a:xfrm>
          <a:prstGeom prst="leftArrow">
            <a:avLst>
              <a:gd name="adj1" fmla="val 50000"/>
              <a:gd name="adj2" fmla="val 623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88620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4495680"/>
            <a:ext cx="457200" cy="152640"/>
          </a:xfrm>
          <a:prstGeom prst="leftArrow">
            <a:avLst>
              <a:gd name="adj1" fmla="val 50000"/>
              <a:gd name="adj2" fmla="val 748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228600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saf</cp:lastModifiedBy>
  <dcterms:modified xsi:type="dcterms:W3CDTF">2001-12-25T21:04:08Z</dcterms:modified>
  <cp:revision>25</cp:revision>
  <dc:subject/>
  <dc:title>מצגת של PowerPoint</dc:title>
</cp:coreProperties>
</file>