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86C-836B-4D26-B996-5C2E4975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E16-4A16-4AEB-87C3-92D1C639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F68-CF3F-4487-BBB1-EBB19EFC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752-51E9-4B9E-8705-3FBEF799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623-C9A7-4EB2-93F0-CA0CC7CB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2A1-A02C-44E2-8135-8715225C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C69-4244-47FE-AB6E-97764867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B50-700F-4CA4-8B2F-B37DB3D6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445-807E-41EC-B639-44D40F78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260-F2B5-46BD-89EC-08E47CC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60A-A48C-4808-9431-1F6CEAC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5BA-7038-4B11-B261-5A4C3A8A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666767-7700-46B4-AA9F-BA1430FAF6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7080" y="127080"/>
            <a:ext cx="127008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Times New Roman"/>
              </a:rPr>
              <a:t>Page 1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27080"/>
            <a:ext cx="2539800" cy="2539800"/>
          </a:xfrm>
          <a:custGeom>
            <a:avLst/>
            <a:gdLst>
              <a:gd name="textAreaLeft" fmla="*/ 579600 w 2539800"/>
              <a:gd name="textAreaRight" fmla="*/ 1960200 w 2539800"/>
              <a:gd name="textAreaTop" fmla="*/ 579600 h 2539800"/>
              <a:gd name="textAreaBottom" fmla="*/ 1960200 h 253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62012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