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5EC-8FF6-4A03-BF55-1D5B9947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9F4-C34A-41B8-BCCA-AF5529B2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CB7-E486-4381-8A02-4AEDD219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E3B-1610-4399-9A3C-9C9E0662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7AC7-8573-4206-9764-7F815A87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9B2F-6FEA-4B85-8991-1FB69D93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B9C0-284F-4223-86D4-86DE33D1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228E-F0A0-4F11-980C-9246A4F7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F367-061E-4BE8-9F4A-D3A25489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6CF5-9831-4EAC-B1EA-BB38C35B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2AD3-8EAA-40C5-BBC8-0FCA24B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4F8-C17C-4593-AE01-FBBA3E99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FA6F-9FA9-4D95-BBCE-00EE6F6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EC4E-C5C4-4CEB-8793-843B830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065A-E49B-4163-AB41-91CD517A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8122-5241-4194-9C9B-3D9B488B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AEA2-6E16-4F72-B324-1B8940CC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F15-7491-47B1-88FA-2EB9283D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64F-DC2C-4F6B-8F15-26DD67BB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C5E-3705-4702-A46A-8E4C3D7F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B54-C1CA-4363-9414-ED296F62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896-A5D6-4E4A-8523-4B8EA87E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782-E6A0-4786-93B9-3B4535B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337-A6A9-4776-8DCA-33A1F897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F6B8-A21D-440D-AABD-DD66C15C7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3CAC-9AD8-4316-BCD4-51D82D0D9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Handling of IE Favorite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ony Tova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ynopsis from Mozilla bug 56765, 7/29/0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umma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rnet Explorer (IE) uses a different system than Mozilla for filing bookmarks, aka “Favorites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is confusing for users, even technically proficient ones, to understand how Mozilla interacts with IE’s “Favorites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rrent situation (1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verting from IE to Mozilla is “simple”, i.e., there are no decisions asked of use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verting from IE to Mozilla is not “easy”, i.e., users must manually export from IE (to HTML) then import in Mozill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rrent situation (2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isting Favorites are accessible from Mozilla but are not updated if IE is still being us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“Imported IE Favorites” bookmark folder is confusing because it is a one-time import but is not labeled as such.  It is also confusing because they are not ‘normal’ bookmark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oals (1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ke conversion and co-existence as simple and easy as possibl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version is one-time transfer where all Favorites become usable Bookmark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-existence allows Mozilla and IE, and Favorites and Bookmarks, to be used interchangeabl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oals (2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mple” implies that the end-user is not presented with any questions that can’t be automatically answer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asy” implies that the steps required of the end-user are clear and consist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uggestions (1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uring installation, present the end-user with a clear and simple choice between Conversion and Co-existenc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 co-existence, implement IE’s .LNK system in Mozilla.  This would allow Mozilla (on Windows) to share IE’s Favorites directly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uggestions (2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lternatively, for co-existence, provide an automatic method of accessing up-to-date copies of the IE Favorit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8:10:31Z</dcterms:created>
  <dc:creator>Antony R. Tovar</dc:creator>
  <dc:description/>
  <dc:language>en-US</dc:language>
  <cp:lastModifiedBy>Antony R. Tovar</cp:lastModifiedBy>
  <dcterms:modified xsi:type="dcterms:W3CDTF">2002-07-29T18:31:56Z</dcterms:modified>
  <cp:revision>3</cp:revision>
  <dc:subject/>
  <dc:title>Handling of IE Favorites</dc:title>
</cp:coreProperties>
</file>