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272-1A24-45BF-9A65-7BD8C117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AF0C-316B-481D-B168-43235D9D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4AB2-15CA-412D-BED0-A8C8F263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719-F0D2-4B44-91D6-5D79C9C3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67CF-2F7C-4B2E-B61F-7C39C0D2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C13-00D6-4BDC-9847-DA2CD99B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9E2-B66F-4A48-8A1E-D096F8F3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450-FDDD-417C-B777-6F2862D1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B28-6331-44D0-BECC-C0EB2B51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C58-F62C-4CCD-9851-4151EE25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338E-B60D-4DFD-9099-0F4417E0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431C-6958-4440-9B41-AF9D76D2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D41D-58BD-4AD7-8C71-DD1930396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stom-type-outdoor b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90480" y="1981080"/>
          <a:ext cx="7763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981080"/>
                    <a:ext cx="7763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ss</cp:lastModifiedBy>
  <dcterms:modified xsi:type="dcterms:W3CDTF">2010-05-27T07:00:57Z</dcterms:modified>
  <cp:revision>33</cp:revision>
  <dc:subject/>
  <dc:title>PowerPoint Presentation</dc:title>
</cp:coreProperties>
</file>