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FFD-9DD4-4F70-9DE4-36B0872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A2C-50B9-437F-B401-C618E9D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3D5-C89E-433C-82A2-0F6A5CC8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7BC-B2A9-4DA8-BD8A-BF7CD737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1E5-0ED3-47FB-B76B-A69B095A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3FF-7FFF-45C9-960C-79BADB15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60C-37E2-42F3-80EC-2AA70BC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FB3-06BD-4B8B-8410-9C11888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95E-E66A-44CC-974A-04ED1D8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CA7-D15C-4595-9EEF-961D91A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E42-E55A-45CA-9896-890751E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9A7-EA57-4056-A244-F3F28B7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C47-E4AB-4939-847F-D2C3F73AF2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1052640"/>
            <a:ext cx="201600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jlkjal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4:25:22Z</dcterms:created>
  <dc:creator>dbo</dc:creator>
  <dc:description/>
  <dc:language>en-US</dc:language>
  <cp:lastModifiedBy>dbo</cp:lastModifiedBy>
  <dcterms:modified xsi:type="dcterms:W3CDTF">2005-01-21T14:25:28Z</dcterms:modified>
  <cp:revision>1</cp:revision>
  <dc:subject/>
  <dc:title>Slide 1</dc:title>
</cp:coreProperties>
</file>