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FA3FC5-81EB-44E9-8F0D-38EC658B7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175F4-19B2-48E6-98C4-C1888534A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FA128C-7D76-4891-8F98-8710A8AC30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3BF56-7E53-49BA-A83C-37F076B4E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8ADB48-1ECB-4D3E-9FE2-9AE6D8D58C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64F7DB-86F5-4652-9B79-25C093F2C7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D365E1-C1A9-49FD-9D80-09B95DB7D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F528D1-E377-4881-B288-56A8CFE24E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875474-5907-4433-83EA-D4843D1F8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C04578-0941-428E-890A-AFA4054BB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31A99-1D48-448F-AC23-D0413A8A0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E13E4-D86A-4B5A-ADDC-A1DCD4FE3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6DC55-975C-4538-8BF6-1330978F9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B5E0B-F56B-4C6E-A8C7-5912FEF34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5B4317-C1BC-44BB-8999-6479EB85E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D0BEF8-8168-4824-A812-AA35B4FF23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4EFC0A-9F99-437B-A3EE-CA01520443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984B2-BF20-44CC-83D6-2BF90EE08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5DAB0-FF51-4CFF-A18A-36451EA13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37BDD-D992-4DA5-8C46-552ED7A4C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BCE30-C726-4F2F-8594-E5BE54750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216D0-E997-4B01-8C03-8F69A256F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47A24-E262-48F9-917E-81CA0D7D1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F9A04-6D29-4F82-9B17-F092B4F103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B0ACD-85DC-4DB4-9638-DD1D394D2551}"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970C2-C614-47B9-95DB-265042818B0A}"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854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cc00"/>
                </a:solidFill>
                <a:latin typeface="Arial"/>
                <a:ea typeface="Times New Roman"/>
              </a:rPr>
              <a:t>HAY QUE BUSCARSE UN AMANTE</a:t>
            </a:r>
            <a:br>
              <a:rPr sz="3600"/>
            </a:br>
            <a:r>
              <a:rPr b="0" lang="es-MX" sz="2000" spc="-1" strike="noStrike">
                <a:solidFill>
                  <a:srgbClr val="ffcc00"/>
                </a:solidFill>
                <a:latin typeface="Arial"/>
                <a:ea typeface="Times New Roman"/>
              </a:rPr>
              <a:t>POR DR. JORGE BUCAY, UNIVERSIDAD DE MIAMI</a:t>
            </a:r>
            <a:r>
              <a:rPr b="0" lang="en-US" sz="4400" spc="-1" strike="noStrike">
                <a:solidFill>
                  <a:srgbClr val="ffcc00"/>
                </a:solidFill>
                <a:latin typeface="Times New Roman"/>
              </a:rPr>
              <a:t> </a:t>
            </a:r>
            <a:endParaRPr b="0" lang="en-US" sz="4400" spc="-1" strike="noStrike">
              <a:solidFill>
                <a:srgbClr val="ffcc00"/>
              </a:solidFill>
              <a:latin typeface="Times New Roman"/>
            </a:endParaRPr>
          </a:p>
        </p:txBody>
      </p:sp>
      <p:sp>
        <p:nvSpPr>
          <p:cNvPr id="101" name="PlaceHolder 2"/>
          <p:cNvSpPr>
            <a:spLocks noGrp="1"/>
          </p:cNvSpPr>
          <p:nvPr>
            <p:ph type="subTitle"/>
          </p:nvPr>
        </p:nvSpPr>
        <p:spPr>
          <a:xfrm>
            <a:off x="533520" y="2209320"/>
            <a:ext cx="8153280" cy="3962520"/>
          </a:xfrm>
          <a:prstGeom prst="rect">
            <a:avLst/>
          </a:prstGeom>
          <a:noFill/>
          <a:ln w="0">
            <a:noFill/>
          </a:ln>
        </p:spPr>
        <p:txBody>
          <a:bodyPr lIns="90000" rIns="90000" tIns="46800" bIns="46800" anchor="t">
            <a:noAutofit/>
          </a:bodyPr>
          <a:p>
            <a:pPr indent="0" algn="just">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ffffcc"/>
                </a:solidFill>
                <a:latin typeface="Arial"/>
                <a:ea typeface="Times New Roman"/>
              </a:rPr>
              <a:t>Muchas personas tienen un amante y otras quisieran tenerlo. Y también están las que no lo tienen, o las que lo tenían y lo perdieron. Y son generalmente estas dos últimas, las que vienen a mi consultorio para decirme que están tristes o que tienen distintos síntomas como insomnio, falta de voluntad, pesimismo, crisis de llanto o los más diversos dolores. </a:t>
            </a:r>
            <a:endParaRPr b="0" lang="en-US" sz="29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02"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spcBef>
                <a:spcPts val="876"/>
              </a:spcBef>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
          <p:cNvSpPr txBox="1"/>
          <p:nvPr/>
        </p:nvSpPr>
        <p:spPr>
          <a:xfrm>
            <a:off x="685800" y="6248520"/>
            <a:ext cx="1905120" cy="457200"/>
          </a:xfrm>
          <a:prstGeom prst="rect">
            <a:avLst/>
          </a:prstGeom>
          <a:noFill/>
          <a:ln w="0">
            <a:noFill/>
          </a:ln>
        </p:spPr>
        <p:txBody>
          <a:bodyPr lIns="90000" rIns="90000" tIns="46800" bIns="46800" anchor="b">
            <a:noAutofit/>
          </a:bodyPr>
          <a:p>
            <a:pPr marL="216000" indent="-216000">
              <a:spcBef>
                <a:spcPts val="876"/>
              </a:spcBef>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4" name=""/>
          <p:cNvSpPr/>
          <p:nvPr/>
        </p:nvSpPr>
        <p:spPr>
          <a:xfrm>
            <a:off x="685800" y="517680"/>
            <a:ext cx="7848720" cy="557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Me cuentan que sus vidas transcurren de manera monótona y sin expectativas, que trabajan nada más que para subsistir y que no saben en que ocupar su tiempo libre. En fin, palabras más, palabras menos, están verdaderamente desesperanzadas. </a:t>
            </a:r>
            <a:endParaRPr b="0" lang="en-US" sz="30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 </a:t>
            </a:r>
            <a:endParaRPr b="0" lang="en-US" sz="30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Antes de contarme esto ya habían visitado otros consultorios en los que recibieron la condolencia de un diagnóstico seguro: "Depresión" y la infaltable receta del antidepresivo de turno. </a:t>
            </a:r>
            <a:endParaRPr b="0" lang="en-US" sz="3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ffff66"/>
            </a:gs>
            <a:gs pos="100000">
              <a:srgbClr val="777777"/>
            </a:gs>
          </a:gsLst>
          <a:lin ang="10800000"/>
        </a:gradFill>
      </p:bgPr>
    </p:bg>
    <p:spTree>
      <p:nvGrpSpPr>
        <p:cNvPr id="1" name=""/>
        <p:cNvGrpSpPr/>
        <p:nvPr/>
      </p:nvGrpSpPr>
      <p:grpSpPr>
        <a:xfrm>
          <a:off x="0" y="0"/>
          <a:ext cx="0" cy="0"/>
          <a:chOff x="0" y="0"/>
          <a:chExt cx="0" cy="0"/>
        </a:xfrm>
      </p:grpSpPr>
      <p:sp>
        <p:nvSpPr>
          <p:cNvPr id="10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spcBef>
                <a:spcPts val="876"/>
              </a:spcBef>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6" name=""/>
          <p:cNvSpPr txBox="1"/>
          <p:nvPr/>
        </p:nvSpPr>
        <p:spPr>
          <a:xfrm>
            <a:off x="685800" y="6248520"/>
            <a:ext cx="1905120" cy="457200"/>
          </a:xfrm>
          <a:prstGeom prst="rect">
            <a:avLst/>
          </a:prstGeom>
          <a:noFill/>
          <a:ln w="0">
            <a:noFill/>
          </a:ln>
        </p:spPr>
        <p:txBody>
          <a:bodyPr lIns="90000" rIns="90000" tIns="46800" bIns="46800" anchor="b">
            <a:noAutofit/>
          </a:bodyPr>
          <a:p>
            <a:pPr marL="216000" indent="-216000">
              <a:spcBef>
                <a:spcPts val="876"/>
              </a:spcBef>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7" name=""/>
          <p:cNvSpPr/>
          <p:nvPr/>
        </p:nvSpPr>
        <p:spPr>
          <a:xfrm>
            <a:off x="533520" y="380880"/>
            <a:ext cx="7848360" cy="603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cc"/>
                </a:solidFill>
                <a:latin typeface="Arial"/>
                <a:ea typeface="Arial"/>
              </a:rPr>
              <a:t>Entonces, después de que las escucho atentamente, les digo que no necesitan un antidepresivo; que lo que realmente necesitan, </a:t>
            </a:r>
            <a:r>
              <a:rPr b="1" lang="es-MX" sz="3000" spc="-1" strike="noStrike">
                <a:solidFill>
                  <a:srgbClr val="ffffcc"/>
                </a:solidFill>
                <a:latin typeface="Arial"/>
                <a:ea typeface="Arial"/>
              </a:rPr>
              <a:t>¡ES UN AMANTE!</a:t>
            </a:r>
            <a:r>
              <a:rPr b="0" lang="es-MX" sz="3000" spc="-1" strike="noStrike">
                <a:solidFill>
                  <a:srgbClr val="ffffcc"/>
                </a:solidFill>
                <a:latin typeface="Arial"/>
                <a:ea typeface="Arial"/>
              </a:rPr>
              <a:t> Es increíble ver la expresión de sus ojos cuando reciben mi veredicto. </a:t>
            </a:r>
            <a:endParaRPr b="0" lang="en-US" sz="30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cc"/>
                </a:solidFill>
                <a:latin typeface="Arial"/>
                <a:ea typeface="Arial"/>
              </a:rPr>
              <a:t> </a:t>
            </a:r>
            <a:endParaRPr b="0" lang="en-US" sz="30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cc"/>
                </a:solidFill>
                <a:latin typeface="Arial"/>
                <a:ea typeface="Arial"/>
              </a:rPr>
              <a:t>Están las que piensan: ¿Cómo es posible que un profesional se despache alegremente con una sugerencia tan poco científica? Y también están las que escandalizadas se despiden y no vuelven nunca más. </a:t>
            </a:r>
            <a:endParaRPr b="0" lang="en-US" sz="30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669900"/>
            </a:gs>
            <a:gs pos="100000">
              <a:srgbClr val="006600"/>
            </a:gs>
          </a:gsLst>
          <a:lin ang="10800000"/>
        </a:gradFill>
      </p:bgPr>
    </p:bg>
    <p:spTree>
      <p:nvGrpSpPr>
        <p:cNvPr id="1" name=""/>
        <p:cNvGrpSpPr/>
        <p:nvPr/>
      </p:nvGrpSpPr>
      <p:grpSpPr>
        <a:xfrm>
          <a:off x="0" y="0"/>
          <a:ext cx="0" cy="0"/>
          <a:chOff x="0" y="0"/>
          <a:chExt cx="0" cy="0"/>
        </a:xfrm>
      </p:grpSpPr>
      <p:sp>
        <p:nvSpPr>
          <p:cNvPr id="108"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spcBef>
                <a:spcPts val="876"/>
              </a:spcBef>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600"/>
                </a:solidFill>
                <a:latin typeface="Times New Roman"/>
              </a:rPr>
              <a:t>&lt;footer&gt;</a:t>
            </a:r>
            <a:endParaRPr b="0" lang="en-US" sz="1400" spc="-1" strike="noStrike">
              <a:solidFill>
                <a:srgbClr val="000000"/>
              </a:solidFill>
              <a:latin typeface="Times New Roman"/>
            </a:endParaRPr>
          </a:p>
        </p:txBody>
      </p:sp>
      <p:sp>
        <p:nvSpPr>
          <p:cNvPr id="109" name=""/>
          <p:cNvSpPr txBox="1"/>
          <p:nvPr/>
        </p:nvSpPr>
        <p:spPr>
          <a:xfrm>
            <a:off x="685800" y="6248520"/>
            <a:ext cx="1905120" cy="457200"/>
          </a:xfrm>
          <a:prstGeom prst="rect">
            <a:avLst/>
          </a:prstGeom>
          <a:noFill/>
          <a:ln w="0">
            <a:noFill/>
          </a:ln>
        </p:spPr>
        <p:txBody>
          <a:bodyPr lIns="90000" rIns="90000" tIns="46800" bIns="46800" anchor="b">
            <a:noAutofit/>
          </a:bodyPr>
          <a:p>
            <a:pPr marL="216000" indent="-216000">
              <a:spcBef>
                <a:spcPts val="876"/>
              </a:spcBef>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600"/>
                </a:solidFill>
                <a:latin typeface="Times New Roman"/>
              </a:rPr>
              <a:t>&lt;date/time&gt;</a:t>
            </a:r>
            <a:endParaRPr b="0" lang="en-US" sz="1400" spc="-1" strike="noStrike">
              <a:solidFill>
                <a:srgbClr val="000000"/>
              </a:solidFill>
              <a:latin typeface="Times New Roman"/>
            </a:endParaRPr>
          </a:p>
        </p:txBody>
      </p:sp>
      <p:sp>
        <p:nvSpPr>
          <p:cNvPr id="110" name=""/>
          <p:cNvSpPr/>
          <p:nvPr/>
        </p:nvSpPr>
        <p:spPr>
          <a:xfrm>
            <a:off x="762120" y="533520"/>
            <a:ext cx="7848360" cy="557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66"/>
                </a:solidFill>
                <a:latin typeface="Arial"/>
                <a:ea typeface="Arial"/>
              </a:rPr>
              <a:t>A las que deciden quedarse y no salen espantadas por el consejo, les doy la siguiente definición: </a:t>
            </a:r>
            <a:endParaRPr b="0" lang="en-US" sz="30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66"/>
                </a:solidFill>
                <a:latin typeface="Arial"/>
                <a:ea typeface="Arial"/>
              </a:rPr>
              <a:t>Amante es: "Lo que nos apasiona". Lo que ocupa nuestro pensamiento antes de quedarnos dormidos y es también quien a veces, no nos deja dormir. Nuestro amante es lo que nos vuelve distraídos frente al entorno. Lo que nos deja saber que la vida tiene motivación y sentido. </a:t>
            </a:r>
            <a:endParaRPr b="0" lang="en-US" sz="30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1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spcBef>
                <a:spcPts val="876"/>
              </a:spcBef>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2" name=""/>
          <p:cNvSpPr txBox="1"/>
          <p:nvPr/>
        </p:nvSpPr>
        <p:spPr>
          <a:xfrm>
            <a:off x="685800" y="6248520"/>
            <a:ext cx="1905120" cy="457200"/>
          </a:xfrm>
          <a:prstGeom prst="rect">
            <a:avLst/>
          </a:prstGeom>
          <a:noFill/>
          <a:ln w="0">
            <a:noFill/>
          </a:ln>
        </p:spPr>
        <p:txBody>
          <a:bodyPr lIns="90000" rIns="90000" tIns="46800" bIns="46800" anchor="b">
            <a:noAutofit/>
          </a:bodyPr>
          <a:p>
            <a:pPr marL="216000" indent="-216000">
              <a:spcBef>
                <a:spcPts val="876"/>
              </a:spcBef>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3" name=""/>
          <p:cNvSpPr/>
          <p:nvPr/>
        </p:nvSpPr>
        <p:spPr>
          <a:xfrm>
            <a:off x="914400" y="593640"/>
            <a:ext cx="7315200" cy="557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Arial"/>
                <a:ea typeface="Arial"/>
              </a:rPr>
              <a:t>A veces a nuestro amante lo encontramos en nuestra pareja, en otros casos en alguien que no es nuestra pareja, también solemos hallarlo en la investigación científica, en la literatura, en la música, en la política, en el deporte, en el trabajo cuando es vocacional, en la necesidad de trascender espiritualmente, en la amistad, en la buena mesa, en el estudio, o en el obsesivo placer de un hobby... </a:t>
            </a:r>
            <a:endParaRPr b="0" lang="en-US" sz="3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4" name=""/>
          <p:cNvSpPr/>
          <p:nvPr/>
        </p:nvSpPr>
        <p:spPr>
          <a:xfrm>
            <a:off x="304920" y="574560"/>
            <a:ext cx="8534160" cy="567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cc"/>
                </a:solidFill>
                <a:latin typeface="Arial"/>
                <a:ea typeface="Times New Roman"/>
              </a:rPr>
              <a:t>En fin, es "alguien" o "algo" que nos pone de "novio con la vida" y nos aparta del triste destino de durar. </a:t>
            </a:r>
            <a:endParaRPr b="0" lang="en-US" sz="28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cc"/>
                </a:solidFill>
                <a:latin typeface="Arial"/>
                <a:ea typeface="Times New Roman"/>
              </a:rPr>
              <a:t> </a:t>
            </a:r>
            <a:endParaRPr b="0" lang="en-US" sz="28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cc"/>
                </a:solidFill>
                <a:latin typeface="Arial"/>
                <a:ea typeface="Times New Roman"/>
              </a:rPr>
              <a:t>¿Y que es durar? - Durar es tener miedo a vivir. Es dedicarse a espiar como viven los demás, es tomarse la presión, deambular por consultorios médicos, tomar remedios multicolores, alejarse de las gratificaciones, observar con decepción cada nueva arruga que nos devuelve el espejo, cuidarnos del frio, del calor, de la humedad, del sol y de la lluvia. Durar, es postergar la posibilidad de disfrutar hoy, esgrimiendo el incierto y frágil razonamiento de que quizás podamos hacerlo mañana.</a:t>
            </a:r>
            <a:r>
              <a:rPr b="0" lang="es-MX" sz="3000" spc="-1" strike="noStrike">
                <a:solidFill>
                  <a:srgbClr val="ffffcc"/>
                </a:solidFill>
                <a:latin typeface="Arial"/>
                <a:ea typeface="Times New Roman"/>
              </a:rPr>
              <a:t> </a:t>
            </a:r>
            <a:endParaRPr b="0" lang="en-US" sz="3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1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spcBef>
                <a:spcPts val="876"/>
              </a:spcBef>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6" name=""/>
          <p:cNvSpPr txBox="1"/>
          <p:nvPr/>
        </p:nvSpPr>
        <p:spPr>
          <a:xfrm>
            <a:off x="685800" y="6248520"/>
            <a:ext cx="1905120" cy="457200"/>
          </a:xfrm>
          <a:prstGeom prst="rect">
            <a:avLst/>
          </a:prstGeom>
          <a:noFill/>
          <a:ln w="0">
            <a:noFill/>
          </a:ln>
        </p:spPr>
        <p:txBody>
          <a:bodyPr lIns="90000" rIns="90000" tIns="46800" bIns="46800" anchor="b">
            <a:noAutofit/>
          </a:bodyPr>
          <a:p>
            <a:pPr marL="216000" indent="-216000">
              <a:spcBef>
                <a:spcPts val="876"/>
              </a:spcBef>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7" name=""/>
          <p:cNvSpPr/>
          <p:nvPr/>
        </p:nvSpPr>
        <p:spPr>
          <a:xfrm>
            <a:off x="762120" y="533520"/>
            <a:ext cx="7696080" cy="5788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ffffff"/>
                </a:solidFill>
                <a:latin typeface="Arial"/>
                <a:ea typeface="Arial"/>
              </a:rPr>
              <a:t>Por favor no te empeñes en durar, búscate un amante, sé tu también un amante y un protagonista... de la vida.</a:t>
            </a:r>
            <a:endParaRPr b="0" lang="en-US" sz="34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ffffff"/>
                </a:solidFill>
                <a:latin typeface="Arial"/>
                <a:ea typeface="Arial"/>
              </a:rPr>
              <a:t>Piensa que lo trágico no es morir, al fin y al cabo la muerte tiene buena memoria y nunca se olvidó de nadie. Lo trágico, es no animarse a vivir; mientras tanto y sin dudar, búscate un amante... </a:t>
            </a:r>
            <a:endParaRPr b="0" lang="en-US" sz="3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ff0000"/>
            </a:gs>
            <a:gs pos="100000">
              <a:srgbClr val="220011"/>
            </a:gs>
          </a:gsLst>
          <a:lin ang="10800000"/>
        </a:gradFill>
      </p:bgPr>
    </p:bg>
    <p:spTree>
      <p:nvGrpSpPr>
        <p:cNvPr id="1" name=""/>
        <p:cNvGrpSpPr/>
        <p:nvPr/>
      </p:nvGrpSpPr>
      <p:grpSpPr>
        <a:xfrm>
          <a:off x="0" y="0"/>
          <a:ext cx="0" cy="0"/>
          <a:chOff x="0" y="0"/>
          <a:chExt cx="0" cy="0"/>
        </a:xfrm>
      </p:grpSpPr>
      <p:sp>
        <p:nvSpPr>
          <p:cNvPr id="118"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spcBef>
                <a:spcPts val="876"/>
              </a:spcBef>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19" name=""/>
          <p:cNvSpPr txBox="1"/>
          <p:nvPr/>
        </p:nvSpPr>
        <p:spPr>
          <a:xfrm>
            <a:off x="685800" y="6248520"/>
            <a:ext cx="1905120" cy="457200"/>
          </a:xfrm>
          <a:prstGeom prst="rect">
            <a:avLst/>
          </a:prstGeom>
          <a:noFill/>
          <a:ln w="0">
            <a:noFill/>
          </a:ln>
        </p:spPr>
        <p:txBody>
          <a:bodyPr lIns="90000" rIns="90000" tIns="46800" bIns="46800" anchor="b">
            <a:noAutofit/>
          </a:bodyPr>
          <a:p>
            <a:pPr marL="216000" indent="-216000">
              <a:spcBef>
                <a:spcPts val="876"/>
              </a:spcBef>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20" name=""/>
          <p:cNvSpPr/>
          <p:nvPr/>
        </p:nvSpPr>
        <p:spPr>
          <a:xfrm>
            <a:off x="762120" y="1222200"/>
            <a:ext cx="7696080" cy="475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ffffcc"/>
                </a:solidFill>
                <a:latin typeface="Arial"/>
                <a:ea typeface="Times New Roman"/>
              </a:rPr>
              <a:t>La psicología después de estudiar mucho sobre el tema descubrió algo trascendental: </a:t>
            </a:r>
            <a:endParaRPr b="0" lang="en-US" sz="34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ffffcc"/>
                </a:solidFill>
                <a:latin typeface="Arial"/>
                <a:ea typeface="Times New Roman"/>
              </a:rPr>
              <a:t>"Para estar contento, activo y sentirse feliz, hay que estar de novio con la vida." </a:t>
            </a:r>
            <a:endParaRPr b="0" lang="en-US" sz="34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3T19:19:02Z</dcterms:created>
  <dc:creator>Jorge H. Nieves</dc:creator>
  <dc:description/>
  <dc:language>en-US</dc:language>
  <cp:lastModifiedBy>Jorge H. Nieves</cp:lastModifiedBy>
  <dcterms:modified xsi:type="dcterms:W3CDTF">2003-05-13T22:25:11Z</dcterms:modified>
  <cp:revision>9</cp:revision>
  <dc:subject/>
  <dc:title>HAY QUE BUSCARSE UN AMANTE POR DR. JORGE BUCAY, UNIVERSIDAD DE MIAMI </dc:title>
</cp:coreProperties>
</file>