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F7CD-0286-43DD-8CCF-3D6BBFEDE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C9C3-961C-433A-9FB5-A09B6BBE8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5E56-6ABA-4B93-BCF8-ACB4DFAC0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4C1-EF2A-4DAF-8E43-BD9D7888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E8E-9831-41CD-9857-1199BF0F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AEA-1E1E-4D1D-A9BB-225ED84F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71C-B6B0-4B9F-B9AA-2C395DEE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BE2-0160-456E-988A-F7730A54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4CC-4FBD-4403-8BD4-917962B4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D43-6A0D-43E9-8A2F-117CD80E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A4F-D571-4D15-875D-1076199B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772-9975-4670-A966-8EB0CC2C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43D-E805-4FF0-AD12-E6018E55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EFF-6644-4224-8528-C9F6642C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D71-0745-4747-8051-BBB284A5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93C1-9F9A-4ED5-B0CF-8727C304B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ermodynamics Parameters for Gas Mixture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jor species begin to separate above the homopause, becaus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 need to consider them as dependent on the major species: in TIME-GCM: N2, O2 and O are considered. In MOZART mean mass calculation, H is also included. Some version of WACCM/MOZART also has a routine set_cp where H and O3 are also included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609480" y="1511280"/>
                <a:ext cx="3975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m</m:t>
                                </m:r>
                              </m:e>
                            </m:ba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5029200" y="1511280"/>
                <a:ext cx="3352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m</m:t>
                                </m:r>
                              </m:e>
                            </m:ba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660240" y="3111480"/>
                <a:ext cx="2768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685800" y="2273400"/>
                <a:ext cx="2666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k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m</m:t>
                                </m:r>
                              </m:e>
                            </m:ba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130720" y="2489040"/>
                <a:ext cx="1117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</m:e>
                    </m:ba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ba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re are they used?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ynamics modules (Finite Volume)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f53d25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3d25"/>
                </a:solidFill>
                <a:latin typeface="Chalkboard"/>
              </a:rPr>
              <a:t>Conserving mapping algorithm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3d25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t is mapped from Lagrangian to Eulerian and then used to retrieve T. Cp is assumed constant in this mapping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utation/conversion of geopotential, pressure, exner pressure, and potential temperature. Will potential temperature be the same? Adiabatic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last term is 0 and the previous definition of potential temperature should still be valid, because there is no mass exchange in the process,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905120" y="4419720"/>
                <a:ext cx="3136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T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600200" y="1384200"/>
                <a:ext cx="61992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p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T</m:t>
                            </m:r>
                          </m:e>
                        </m:bar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1-06-04T12:48:31Z</dcterms:modified>
  <cp:revision>1</cp:revision>
  <dc:subject/>
  <dc:title/>
</cp:coreProperties>
</file>