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EC5-6F48-41CC-81D4-C4C98CA4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B9A-B26B-4F60-8FC3-3E56E6EA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3FA-18BD-4454-BF84-04D2B020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BF5-00F7-4CC9-B967-86F431C4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2C0-8D25-49F0-92E5-36BC047F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7F3-4143-4A36-A2D0-2D2A3E70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FCC-F5B1-47B8-9811-31E51001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E2A-E1AB-4F6F-8320-F3C3F3A9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687-29B6-4BAD-B59E-6BA2F66A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11B-4A81-4D34-B110-43305459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585-017A-447F-A03F-1346AB02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3F9-9187-40FE-BF07-287117D6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65A84-1FF3-4DC7-AE5F-B5C19FAB0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7160" y="18255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73280" y="3741840"/>
          <a:ext cx="5074920" cy="68580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840"/>
                <a:gridCol w="1014480"/>
                <a:gridCol w="1016280"/>
              </a:tblGrid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cxnSp>
        <p:nvCxnSpPr>
          <p:cNvPr id="44" name=""/>
          <p:cNvCxnSpPr/>
          <p:nvPr/>
        </p:nvCxnSpPr>
        <p:spPr>
          <a:xfrm>
            <a:off x="9390240" y="431964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5" name=""/>
          <p:cNvCxnSpPr/>
          <p:nvPr/>
        </p:nvCxnSpPr>
        <p:spPr>
          <a:xfrm rot="10800000">
            <a:off x="7647840" y="4091760"/>
            <a:ext cx="1740600" cy="227880"/>
          </a:xfrm>
          <a:prstGeom prst="bentConnector3">
            <a:avLst>
              <a:gd name="adj1" fmla="val 50000"/>
            </a:avLst>
          </a:prstGeom>
          <a:ln w="9360">
            <a:solidFill>
              <a:srgbClr val="808080"/>
            </a:solidFill>
            <a:round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6:06:50Z</dcterms:created>
  <dc:creator/>
  <dc:description/>
  <dc:language>en-US</dc:language>
  <cp:lastModifiedBy/>
  <cp:revision>1</cp:revision>
  <dc:subject/>
  <dc:title/>
</cp:coreProperties>
</file>