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AD07-062A-4990-8DAA-7080A9ACF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E574-0970-454C-94AA-9D2949CB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0373-D1E6-4AD6-913B-59209D641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5746-D849-488C-94C2-2027CD144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3632-2F2C-4C93-922C-06D90B6F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AB27-A2D3-4508-87FF-D3095114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A789-4EAD-4B52-A9C1-0B058E76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137F-C0CC-4334-9E37-4015D06C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48FB-52E3-42A5-9B3E-935C2B5F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D134-5015-41E4-B7E8-13C3FD41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8D0F-EE36-42EB-A5EC-0B77205B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90B1-415E-479C-B91C-8D39441C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0801-BC82-4699-8930-612EF58DB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calc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hyperlink" Target="file:///tmp/home/.config/libreoffice/4/user/gallery/tada.wav" TargetMode="External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Settings: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se over -&gt; Hyperlink to Slid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924680" y="2286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Settings: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se over -&gt; Run program -&gt; cal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Environment (system) variable PATH includes needed 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previousslide"/>
          </p:cNvPr>
          <p:cNvSpPr/>
          <p:nvPr/>
        </p:nvSpPr>
        <p:spPr>
          <a:xfrm>
            <a:off x="228600" y="5638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924680" y="1219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BS00580_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609480"/>
            <a:ext cx="190656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Settings: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se over -&gt; Hyperlink to U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previousslide"/>
          </p:cNvPr>
          <p:cNvSpPr/>
          <p:nvPr/>
        </p:nvSpPr>
        <p:spPr>
          <a:xfrm>
            <a:off x="228600" y="5638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24680" y="26668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E01832_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167616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Settings: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se over -&gt; Show Objec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se over -&gt; Play s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light when mouse 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" action="ppaction://hlinkshowjump?jump=previousslide"/>
          </p:cNvPr>
          <p:cNvSpPr/>
          <p:nvPr/>
        </p:nvSpPr>
        <p:spPr>
          <a:xfrm>
            <a:off x="228600" y="5638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924680" y="41911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5800" y="914400"/>
          <a:ext cx="2362320" cy="13701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2362320" cy="13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6934320" y="12193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EN00349_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914400"/>
            <a:ext cx="22986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Settings: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se over -&gt; Run Macro -&gt; message 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228600" y="5638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705720" y="5715000"/>
            <a:ext cx="1866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End Sho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08:47:38Z</dcterms:created>
  <dc:creator>a</dc:creator>
  <dc:description/>
  <dc:language>en-US</dc:language>
  <cp:lastModifiedBy>a</cp:lastModifiedBy>
  <dcterms:modified xsi:type="dcterms:W3CDTF">2011-09-17T16:14:26Z</dcterms:modified>
  <cp:revision>8</cp:revision>
  <dc:subject/>
  <dc:title>1</dc:title>
</cp:coreProperties>
</file>