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10080625" cy="7559675"/>
  <p:notesSz cx="7772400" cy="10058400"/>
  <p:custShowLst>
    <p:custShow name="A" id="0">
      <p:sldLst>
        <p:sld r:id="rId4"/>
      </p:sldLst>
    </p:custShow>
    <p:custShow name="B" id="1">
      <p:sldLst>
        <p:sld r:id="rId17"/>
      </p:sldLst>
    </p:custShow>
    <p:custShow name="A1" id="2">
      <p:sldLst>
        <p:sld r:id="rId5"/>
      </p:sldLst>
    </p:custShow>
    <p:custShow name="A2" id="3">
      <p:sldLst>
        <p:sld r:id="rId9"/>
      </p:sldLst>
    </p:custShow>
    <p:custShow name="A3" id="4">
      <p:sldLst>
        <p:sld r:id="rId13"/>
      </p:sldLst>
    </p:custShow>
    <p:custShow name="A11" id="5">
      <p:sldLst>
        <p:sld r:id="rId6"/>
      </p:sldLst>
    </p:custShow>
    <p:custShow name="A12" id="6">
      <p:sldLst>
        <p:sld r:id="rId7"/>
      </p:sldLst>
    </p:custShow>
    <p:custShow name="A13" id="7">
      <p:sldLst>
        <p:sld r:id="rId8"/>
      </p:sldLst>
    </p:custShow>
    <p:custShow name="A21" id="8">
      <p:sldLst>
        <p:sld r:id="rId10"/>
      </p:sldLst>
    </p:custShow>
    <p:custShow name="A22" id="9">
      <p:sldLst>
        <p:sld r:id="rId11"/>
      </p:sldLst>
    </p:custShow>
    <p:custShow name="A23" id="10">
      <p:sldLst>
        <p:sld r:id="rId12"/>
      </p:sldLst>
    </p:custShow>
    <p:custShow name="B1" id="11">
      <p:sldLst>
        <p:sld r:id="rId18"/>
      </p:sldLst>
    </p:custShow>
    <p:custShow name="B2" id="12">
      <p:sldLst>
        <p:sld r:id="rId22"/>
      </p:sldLst>
    </p:custShow>
    <p:custShow name="B3" id="13">
      <p:sldLst>
        <p:sld r:id="rId26"/>
      </p:sldLst>
    </p:custShow>
    <p:custShow name="B11" id="14">
      <p:sldLst>
        <p:sld r:id="rId19"/>
      </p:sldLst>
    </p:custShow>
    <p:custShow name="B12" id="15">
      <p:sldLst>
        <p:sld r:id="rId20"/>
      </p:sldLst>
    </p:custShow>
    <p:custShow name="B13" id="16">
      <p:sldLst>
        <p:sld r:id="rId21"/>
      </p:sldLst>
    </p:custShow>
    <p:custShow name="B21" id="17">
      <p:sldLst>
        <p:sld r:id="rId23"/>
      </p:sldLst>
    </p:custShow>
    <p:custShow name="B22" id="18">
      <p:sldLst>
        <p:sld r:id="rId24"/>
      </p:sldLst>
    </p:custShow>
    <p:custShow name="B23" id="19">
      <p:sldLst>
        <p:sld r:id="rId25"/>
      </p:sldLst>
    </p:custShow>
    <p:custShow name="B31" id="20">
      <p:sldLst>
        <p:sld r:id="rId27"/>
      </p:sldLst>
    </p:custShow>
    <p:custShow name="B32" id="21">
      <p:sldLst>
        <p:sld r:id="rId28"/>
      </p:sldLst>
    </p:custShow>
    <p:custShow name="B33" id="22">
      <p:sldLst>
        <p:sld r:id="rId29"/>
      </p:sldLst>
    </p:custShow>
    <p:custShow name="A31" id="23">
      <p:sldLst>
        <p:sld r:id="rId14"/>
      </p:sldLst>
    </p:custShow>
    <p:custShow name="A32" id="24">
      <p:sldLst>
        <p:sld r:id="rId15"/>
      </p:sldLst>
    </p:custShow>
    <p:custShow name="A33" id="25">
      <p:sldLst>
        <p:sld r:id="rId1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1FA8-B9C3-4053-A787-61DCA2C3E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DFB4-35BB-47EB-8B34-B020E1E5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C6D8-8A80-4FF0-8148-242ACC51E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2B58-BFD0-4443-ADBF-F66E32EF1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C218-4ABD-428F-BCCB-7F71F151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5452-BC37-4A1B-A8B6-AED83E94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D55E-A572-4ECC-9129-949B0B25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F4D5-ECA8-4A82-88BE-9E04186A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1EA0-6A58-499A-AA8A-D8842CE7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1C35-C042-4640-A731-F97DF3E1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C154-8A74-44B3-81C3-9AF78061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38C6-C37D-4CF3-9958-EAAF5C54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0E60E-5948-4527-805B-BDE17D798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20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for Nested Hyper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2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A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3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3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3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B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B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B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1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1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1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A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A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A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2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2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2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3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3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3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A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A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A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1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1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1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A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A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A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2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2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SR Simbulan</dc:creator>
  <dc:description/>
  <dc:language>en-US</dc:language>
  <cp:lastModifiedBy>MSR Simbulan</cp:lastModifiedBy>
  <dcterms:modified xsi:type="dcterms:W3CDTF">2008-04-17T06:15:46Z</dcterms:modified>
  <cp:revision>11</cp:revision>
  <dc:subject/>
  <dc:title>Test for Nested Hyperlink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DF_LAST_URL">
    <vt:lpwstr>C:\Documents and Settings\Administrator\My Documents\OO Test\Hyperlinking test.odp</vt:lpwstr>
  </property>
</Properties>
</file>