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55692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08200" indent="-40428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5912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321560" indent="-40428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641160" indent="-46476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30240" indent="-46512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19320" indent="-46476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21360" indent="-46512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1810440" indent="-46476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1810440" indent="-46476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1810440" indent="-46476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55692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08200" indent="-40428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5912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321560" indent="-40428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55692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08200" indent="-40428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5912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321560" indent="-40428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1572480" indent="-403920">
              <a:spcBef>
                <a:spcPts val="46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611640" indent="-45864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62560" indent="-45864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113840" indent="-4582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45864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1627200" indent="-4582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1627200" indent="-4582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1627200" indent="-4582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8000"/>
          </a:bodyPr>
          <a:p>
            <a:pPr marL="625680" indent="-46944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2720" indent="-46944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139760" indent="-4690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1407960" indent="-46944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1665000" indent="-4690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1665000" indent="-4690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1665000" indent="-4690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