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DE02-7D4C-4B31-B9B6-075B2C5536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B3AC-6A59-4E87-BB54-D7F7852A448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B3E8-84FD-4E8C-B740-6615CD76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0A5D-1C5D-423B-83AC-26DA6538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B768-025B-429E-A5ED-BDE3BE04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2C6E-5F50-4C99-B9F0-72FD71F3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7E9E-DDFC-4AA0-BE55-9339C7E1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8420-9CE4-4C85-9995-1099DC3C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0980-30C8-4CD5-A6FE-4A30630F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3590-DF5F-4A69-9173-49DFA099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32EE-020B-499A-9041-43A184FF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F3BC-0F2B-4880-B9D7-5E6404E2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139C-D245-4EEC-BBDB-A51B0A96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DB4A-76EA-4A3B-831E-3409885B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595F-7103-4751-ADB2-CAD9E546BD2A}" type="slidenum">
              <a:rPr b="0" lang="he-IL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0:10:43Z</dcterms:modified>
  <cp:revision>215</cp:revision>
  <dc:subject/>
  <dc:title>Slide 1</dc:title>
</cp:coreProperties>
</file>