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A30-788A-45C3-8AB3-21EC5B65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4D3-B8EF-4EC2-8440-7085548D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427-A3EC-492D-9F66-EFAE2171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F8C-CA2B-4CCC-8744-1914788C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6F5-25E4-41E6-8CA1-6FAB1D41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586-CF89-4775-A750-F519BC2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F2-763C-42E3-83DA-ACDEE3F4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230-CEEA-4D13-B051-17A8B43C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0EF-7D11-458A-BAB4-151B717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D49-3792-412C-9871-1FB9AD7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C1F-257E-4B3C-AE04-0AC60CDD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16B-48F1-488C-9E1E-18E4E1B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0D7-1639-44AE-B837-A5D97C2482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19640" y="2492280"/>
            <a:ext cx="1902960" cy="1886760"/>
            <a:chOff x="3419640" y="2492280"/>
            <a:chExt cx="1902960" cy="1886760"/>
          </a:xfrm>
        </p:grpSpPr>
        <p:graphicFrame>
          <p:nvGraphicFramePr>
            <p:cNvPr id="42" name=""/>
            <p:cNvGraphicFramePr/>
            <p:nvPr/>
          </p:nvGraphicFramePr>
          <p:xfrm>
            <a:off x="3419640" y="2492280"/>
            <a:ext cx="1902960" cy="176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2492280"/>
                      <a:ext cx="1902960" cy="17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3598920" y="401076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F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06:18:18Z</dcterms:created>
  <dc:creator>Hans</dc:creator>
  <dc:description/>
  <dc:language>en-US</dc:language>
  <cp:lastModifiedBy>Hans</cp:lastModifiedBy>
  <dcterms:modified xsi:type="dcterms:W3CDTF">2006-09-30T06:18:45Z</dcterms:modified>
  <cp:revision>1</cp:revision>
  <dc:subject/>
  <dc:title>Slide 1</dc:title>
</cp:coreProperties>
</file>