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9578-852B-429B-BC8D-B724F0B93ACD}"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rtl="1">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abbat Shalom</a:t>
            </a:r>
            <a:r>
              <a:rPr b="0" lang="en-US" sz="900" spc="-1" strike="noStrike">
                <a:solidFill>
                  <a:srgbClr val="000000"/>
                </a:solidFill>
                <a:latin typeface="Arial"/>
              </a:rPr>
              <a:t>. </a:t>
            </a:r>
            <a:endParaRPr b="0" lang="en-US" sz="900" spc="-1" strike="noStrike">
              <a:solidFill>
                <a:srgbClr val="000000"/>
              </a:solidFill>
              <a:latin typeface="Arial"/>
            </a:endParaRPr>
          </a:p>
          <a:p>
            <a:pPr indent="0" rtl="1">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one of Golda Meir’s more famous conversations with an American president, in explaining her difficulties in leading the State of Israel, she explained that she has to be the prime minister of 3 million prime ministers. In Israel, everyone assumes the role of an expert. So now, ,just because I happen to live in Israel, I am suddenly a scholar in residence, as expert  on all kinds of subjects– politics, security terrorism, the economy, religion, ethics– you name it! </a:t>
            </a:r>
            <a:endParaRPr b="0" lang="en-US" sz="900" spc="-1" strike="noStrike">
              <a:solidFill>
                <a:srgbClr val="000000"/>
              </a:solidFill>
              <a:latin typeface="Arial"/>
            </a:endParaRPr>
          </a:p>
          <a:p>
            <a:pPr indent="0" rtl="1">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rtl="1">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is indeed an honor and a pleasure to have this opportunity to be here and speak with you this morning. I would like to thank Rabbi Shrier who so graciously agreed to yield the podium this morning, as well as the board of the Young Israel who invited me to be with you this Shabba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may be hard to believe, but I am not accustomed to giving talks and divrei Torah in Hebrew, English is sort of a second language, but I did decide to spare you and not give the talk in Hebrew.</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fore I go on, just let me add the usual disclaimer, that nothing I say here is meant to be psak halachah, and if a particular question arises in your circumstance , please consult with your local competent rabbi, and I know that there is at least one of those here this morning.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a more serious note, in my work in Israel, I have both clinical and leadership roles, particularly in the field of rehabilitation. I also serve on the board of several professional societies as well as on an ethics committee in the Ministry of Health. In these capacities I am exposed to a number of difficult, and to a degree, uniquely Israeli, ethical issues  that the country faces in the field of health and medicin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the next few moments, I would like to share with you some of these problems and dilemmas, and give you a perspective of some of the mechanisms for handling them.</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most of Jewish history, the Jewish people were in the diaspora. I mean this not necessarily in the meaning of being outside of eretz yisrael,  but in the sense of being powerless and stateless. We’ve mostly spent our time wondering, being expelled, try to survive or adapt to being among the goyim. As such. Our halachic system adapted to this reality, and rightly so. Jewish legal guidelines  regarding family life, business, ritual observances, like Shabbat, and --- health and medicine– all evolved in a context of GALUT. At the same time much of Jewish law remained inapplicable, and studied only in theory, in scholarly settings. Economy, behavior in war, relations with non-Jews, fall in this categ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n suddenly, and unexpectedly (in the long term perspective of halacha) we find ourselves empowered, having to run a state on the 20</a:t>
            </a:r>
            <a:r>
              <a:rPr b="0" lang="en-US" sz="800" spc="-1" strike="noStrike" baseline="30000">
                <a:solidFill>
                  <a:srgbClr val="000000"/>
                </a:solidFill>
                <a:latin typeface="Arial"/>
              </a:rPr>
              <a:t>th</a:t>
            </a:r>
            <a:r>
              <a:rPr b="0" lang="en-US" sz="800" spc="-1" strike="noStrike">
                <a:solidFill>
                  <a:srgbClr val="000000"/>
                </a:solidFill>
                <a:latin typeface="Arial"/>
              </a:rPr>
              <a:t> century, with all that this entails. Jewish law had never faced anything like this before. Suddenly, all of the less “seemly” aspects of Jewish law which were only theoretical, not applicable, had to be dusted out and applied to not just a modern society – but a modern state. Suddenly issues like marriage and divorce, issues regarding war, Shabbat, relations with non-Jews all had new relevance and new urgency. This  brought about a crisis, which continues to this day and expresses itself in the political debate in Israel about separation of State and relig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lth care is one area where this transition is playing out, and I am fortunate to be part of this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at are some of the basic requirements or positive affirmations, from both a Jewish and general perspective, for determining ethical standards in the medical setting? Because we would all like to go home today eat our cholent, I will only briefly outline them for purposes of this discuss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know that the value of life is supreme and infinite from both a Jewish halachic and general viewpoint.  One cannot discuss medical ethics at all without this assum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modern times we also have the concept of human dignity, which is currently enshrined in both Israel’s basic laws and in the patients’ rights bill passed enacted a few years back. In medical context dignity refers the basic right for a patients privacy, free choice and self-resp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Israel, the right to receive care is a basic right and is protected by the National health Law which guarantees universal access to health car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desirable if a health system is fair– meaning equitable sharing of resources without discrimination based on socioeconomic lev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health system must strive to minimize suffering as much as possible. As we shall see this principle may conflict with other ethical go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atient has a right to receive information in order to make informed deci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the health care system has a responsibility to a community as a whole for public safety and health. This, too, at times may directly conflict with other ethical principles.  Classic halacha although not directly addressing this issue does deal with it indirectly, for example, in its attitudes about the limitations of pidyon shevuyi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what are some of the “restraining factors”, the issues to limit our wiggling room when it comes to struggling with many of these ethical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nomic issues, or financial restraints, are the most obvious ones that come to mind. In Israel, as in many  European countries, a socialized medical system in in place, and a rather advanced one I might add. But unlike in American, where there are a hodgepodge of private insurres, HMOs and government programs that foot the bill, in Israel all citizens receive guaranteed health care financed by the government through taxation. Thus significant but not unlimited budgets are devoted to care for the entire population. Every year, as part of the government budget deliberations, negotiations are held for determining the healthcare budget for that year. This is obviously a highly political process. Actually everything is political in Isra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technologies are constantly evolving. On one hand the government must decide whether to fund them, while on the other Israel’s citizens, who are generally highly informed, demand the best of everything, regardless of cost benefit 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Based Medicine poses a unique challenge. This concept is surprisingly new in medicine. One can imagine in any other industry that if a particular technology or process hasn’t proven itself in relation to alternatives, than that process would not survive. Well believe it or not, in medicine, until recently this has not been true. Evidence based medicine, which as become in vogue the past 10-15 years, is a process whereby a particular medical treatment or diagnostic technique is evaluated in compared to all the other alternatives for a particular condition, in order to determine the technique which is most effective in the greatest number of individ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have to do with ethics? Well, EBM has a lot to say about allocation of resources– in other words it encourages the health care system to devote resources that most effectively help the most people at the lowest c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training factors mat at times run contrary to the initial “affirmative” principles which I mentioned, which tend to emphasize the rights of the individual vs that of society at large. For example, it is known that an MRI is a lousy screening test for evaluating headaches, and cost $1000. In one in 10,000 patients will a brain tumor be found. So the math comes out that we need to do 9,999 MRIs unnecessarily in order to get to the one that makes a difference. So what does the individual physician, trying to function ethically, and whose responsibility is to his patient and society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ink that you can begin to see how the various factors weigh in to the equation. Ethics does not function in a vacuum, and inevitable there are compromises with “reality”, but determining the line can be difficu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srael cultural and religious issues also come into play regarding patients expectations of the system and values that patients work with. The brain death issue is well known, and I won’t go into it, but the Israeli rabbinate, as does most of israel’s religious population, accepts Rabbi Tendlers view that brain death is considered death, for purposes of discontinuing life support and for organ donation. The Cheredi community does n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dditional issues that are unigue to Israel</a:t>
            </a:r>
            <a:r>
              <a:rPr b="0" lang="en-US" sz="1200" spc="-1" strike="noStrike">
                <a:solidFill>
                  <a:srgbClr val="000000"/>
                </a:solidFill>
                <a:latin typeface="Arial"/>
              </a:rPr>
              <a:t>?</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lth basket is a minimum level of health care that is required of all of the government sponsored HMOs, and is determined every year. Medicines, new procedures, treatments for cancer are all evaluated for inclusion. Professional, political, financial and administrative considerations all come into play in these decisions. So when someething isn’t included, and a patient requires it or demands it, a unique challenge is created. A great deal of wisdom and sensitivity ir required</a:t>
            </a:r>
            <a:r>
              <a:rPr b="0" lang="en-US" sz="1200" spc="-1" strike="noStrike">
                <a:solidFill>
                  <a:srgbClr val="000000"/>
                </a:solidFill>
                <a:latin typeface="Arial"/>
              </a:rPr>
              <a:t>. </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ample that I run into, in my field of work in rehabilitation, is the extent of rehabilitation services. Rehab can contribute greatly to the health and QOL of an individual. In Israel rehabilitation is a developed field and is included in the health basket, but with restriction. Difficult questions arise in allocating rehab resources. Who is a candidate? The answer is not always clear cut, but the literature definitely shows that some people benefit from rehab more than others, and still other not at all. Yet patients and their families expect, understandably,  a “chance” to get rehabilitated. Should a system fund rehabilitation, when the chances of significant benefit are low, and when there are budgetary tradeoff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how much rehab is appropriate and when do we “give up”? A uniquely Israeli problem is the cultural tendency towards negotiating everything, and that the squeaky wheel gets the grease. Early in my aliyah I had a great deal of difficulty with the fact that when I said “no” this was just a starting negotiating position, although I intended it to be a definite professional position. So I had to adjust when I said no, knowing that I would have to give a little. Often times a patient with “protectzia” would be able to override professional considerations and get expensive and unnecessary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ultural issue is how much information to provide a patient. I encounter this frequently in my field. For example. After a stroke or other catastrophic event, how much prognostic information to give to the patient? One one hand, hope and encouragement can support the rehabilitation process, yet unrealistic expectations prevent patients from making difficult life decisions, and burden the system with unneeded and ineffective treatment. Israelis tend to be and optimistic people, and particularly in the religious community, faith can be a helpful supportive quality. At the same time it can be a source of denial and interfere with proper treatment plan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se few minutes I have been able to only touch of some of the vary difficult issues that the health care system faces in the Israeli perspective. I hope that at least I have been able to lay the groundwork to help you think about some of these issues. I would be happy to speak with any of you later if you have specific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the opportunity to speak with you and Shabbat Shal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93C0D-F2FF-496F-ABE8-07E87A715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1BD11-C262-416C-9F46-33DB7F3E4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D9811-67EB-4C19-A3B2-8C1B4C6C1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F5CEA-2CF5-4B7E-8E2A-049839B31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65B81-A594-4263-9BA5-BBA17AE9E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4FCF7-15AC-4011-A76B-E02FBD6E0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C7849-372B-4141-A289-FD09F6FC5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4F69A-E62A-43B8-9146-E301699CB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CC362-30E3-4280-81EF-34F51D06E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7EC14-C476-412E-AF83-03A0899BF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B162C-064B-4A31-9D21-1A1C57F91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3645D-883B-463C-B2A6-FF7F3AEA69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18A14-2DA5-4163-8FF4-8984071A9CF0}" type="slidenum">
              <a:rPr b="0" lang="he-I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l Ethics</a:t>
            </a:r>
            <a:br>
              <a:rPr sz="4400"/>
            </a:br>
            <a:r>
              <a:rPr b="0" lang="en-US" sz="4400" spc="-1" strike="noStrike">
                <a:solidFill>
                  <a:srgbClr val="000000"/>
                </a:solidFill>
                <a:latin typeface="Arial"/>
              </a:rPr>
              <a:t>A Perspective From Israel</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 Shames M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Guidelines From Jewish and Legal Perspectives</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reme value of life</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Dignity—privacy, choice, respect</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Right for Information</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suffering</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 of Fairness</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ght to receive care</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to privacy</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ion of public saf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rain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Resources</a:t>
            </a:r>
            <a:endParaRPr b="0" lang="en-US" sz="2800" spc="-1" strike="noStrike">
              <a:solidFill>
                <a:srgbClr val="000000"/>
              </a:solidFill>
              <a:latin typeface="Arial"/>
            </a:endParaRPr>
          </a:p>
          <a:p>
            <a:pPr marL="343080" indent="-34308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Resources</a:t>
            </a:r>
            <a:endParaRPr b="0" lang="en-US" sz="28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graphy</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urance</a:t>
            </a:r>
            <a:endParaRPr b="0" lang="en-US" sz="2400" spc="-1" strike="noStrike">
              <a:solidFill>
                <a:srgbClr val="000000"/>
              </a:solidFill>
              <a:latin typeface="Arial"/>
            </a:endParaRPr>
          </a:p>
          <a:p>
            <a:pPr marL="343080" indent="-34308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 of new technologies</a:t>
            </a:r>
            <a:endParaRPr b="0" lang="en-US" sz="2800" spc="-1" strike="noStrike">
              <a:solidFill>
                <a:srgbClr val="000000"/>
              </a:solidFill>
              <a:latin typeface="Arial"/>
            </a:endParaRPr>
          </a:p>
          <a:p>
            <a:pPr marL="343080" indent="-34308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dence Based Medicine</a:t>
            </a:r>
            <a:endParaRPr b="0" lang="en-US" sz="2800" spc="-1" strike="noStrike">
              <a:solidFill>
                <a:srgbClr val="000000"/>
              </a:solidFill>
              <a:latin typeface="Arial"/>
            </a:endParaRPr>
          </a:p>
          <a:p>
            <a:pPr marL="343080" indent="-34308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ural and religious issues</a:t>
            </a:r>
            <a:endParaRPr b="0" lang="en-US" sz="28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dom of choice</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itudes about social welfare and healthcare</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and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ues unique to Israel</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ized health care-mandatory</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operates at deficit</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ization of process—”health basket”</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itudes of </a:t>
            </a:r>
            <a:r>
              <a:rPr b="0" lang="he-IL" sz="2800" spc="-1" strike="noStrike">
                <a:solidFill>
                  <a:srgbClr val="000000"/>
                </a:solidFill>
                <a:latin typeface="Arial"/>
              </a:rPr>
              <a:t>מגיע לי</a:t>
            </a:r>
            <a:r>
              <a:rPr b="0" lang="en-US" sz="2800" spc="-1" strike="noStrike">
                <a:solidFill>
                  <a:srgbClr val="000000"/>
                </a:solidFill>
                <a:latin typeface="Arial"/>
              </a:rPr>
              <a:t> – “</a:t>
            </a:r>
            <a:r>
              <a:rPr b="0" lang="en-US" sz="2800" spc="-1" strike="noStrike">
                <a:solidFill>
                  <a:srgbClr val="000000"/>
                </a:solidFill>
                <a:latin typeface="Arial"/>
              </a:rPr>
              <a:t>basic right”</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level of awareness in population (many MDs!!)</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growth of aged population</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Gaps</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vs. Public Medicine</a:t>
            </a:r>
            <a:endParaRPr b="0" lang="en-US" sz="2800" spc="-1" strike="noStrike">
              <a:solidFill>
                <a:srgbClr val="000000"/>
              </a:solidFill>
              <a:latin typeface="Arial"/>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dilemma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habilitation- health and QOL issue</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didacy not always clear cut</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o deny?</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o stop?</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and which?</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to D/C to?</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s vs allocation of resources to other life saving technolog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lemma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al Treatments—Oncology</a:t>
            </a:r>
            <a:endParaRPr b="0" lang="en-US" sz="3200" spc="-1" strike="noStrike">
              <a:solidFill>
                <a:srgbClr val="000000"/>
              </a:solidFill>
              <a:latin typeface="Arial"/>
            </a:endParaRPr>
          </a:p>
          <a:p>
            <a:pPr lvl="1" marL="743040" indent="-28584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ly</a:t>
            </a:r>
            <a:endParaRPr b="0" lang="en-US" sz="2800" spc="-1" strike="noStrike">
              <a:solidFill>
                <a:srgbClr val="000000"/>
              </a:solidFill>
              <a:latin typeface="Arial"/>
            </a:endParaRPr>
          </a:p>
          <a:p>
            <a:pPr lvl="1" marL="743040" indent="-28584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y</a:t>
            </a:r>
            <a:endParaRPr b="0" lang="en-US" sz="2800" spc="-1" strike="noStrike">
              <a:solidFill>
                <a:srgbClr val="000000"/>
              </a:solidFill>
              <a:latin typeface="Arial"/>
            </a:endParaRPr>
          </a:p>
          <a:p>
            <a:pPr lvl="1" marL="743040" indent="-28584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usually in “health basket”</a:t>
            </a:r>
            <a:endParaRPr b="0" lang="en-US" sz="28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ying No to patient</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ing alternatives</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dentiality and Right to Know</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Perspectives—denial and hope</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for information to make intelligent decisions</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protect society (driver reporting)</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ed consent– how much to tell</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16:42:43Z</dcterms:created>
  <dc:creator>Jeff and Jill</dc:creator>
  <dc:description/>
  <dc:language>en-US</dc:language>
  <cp:lastModifiedBy>Jeff and Jill</cp:lastModifiedBy>
  <dcterms:modified xsi:type="dcterms:W3CDTF">2004-06-15T17:31:40Z</dcterms:modified>
  <cp:revision>8</cp:revision>
  <dc:subject/>
  <dc:title>Medical Ethics A Perspective From Israel</dc:title>
</cp:coreProperties>
</file>