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DA8C-B006-4F96-9F42-0A0F94BF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A7FF-88B3-4F4A-A850-BB676F55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C0C-1393-4C48-9542-AAD36F89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CC43-F51D-4D79-8ADB-230A3C02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3FAE-8BEE-4D06-9616-C0FA17C2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C988-F9F0-49C2-83E3-C55551CB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F5C5-8CEB-448C-85B9-FE648917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7B7-602F-499B-878A-437EB3D1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0B02-3870-4C10-AD9B-91A47E7B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A33-70FD-4252-9273-CD7A2448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DCD2-CAD7-4A31-AE98-872B0810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8AD0-068C-44E3-9303-A99588FA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3B93-B652-49CB-88AE-0073DEA79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שקף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אין ללחוץ ע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NE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יותר מ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שניות רצוף, אחרת יש חשש לשריפת המעגלים החשמליים של מערכת כיוון התדר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8:03:59Z</dcterms:created>
  <dc:creator>ooo</dc:creator>
  <dc:description/>
  <dc:language>en-US</dc:language>
  <cp:lastModifiedBy>ooo</cp:lastModifiedBy>
  <dcterms:modified xsi:type="dcterms:W3CDTF">2004-09-22T08:04:02Z</dcterms:modified>
  <cp:revision>1</cp:revision>
  <dc:subject/>
  <dc:title>שקף 7</dc:title>
</cp:coreProperties>
</file>