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35080" y="-360"/>
            <a:ext cx="2908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8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01440" y="4705200"/>
            <a:ext cx="49402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08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35080" y="9410400"/>
            <a:ext cx="2908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67009-2125-41A7-BBED-6DB8C6B8D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7920" y="74304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417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B93-F2EE-4EE8-9AC0-034ED086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17320"/>
            <a:ext cx="77468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B17-06B5-45D5-9D2A-21C82D85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1732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160" y="411732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B5A-2129-4C4F-BE92-5D5D47BA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440" y="198108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800" y="198108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1732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440" y="411732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800" y="411732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F96-6849-4F26-B050-27FFABED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4684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ADB-102A-4503-9A1A-2B0774DA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A0B-F097-4733-9D95-D433C069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501-E240-4CC3-A05B-FB823633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8CA-EBC3-4315-9B5E-DB807940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468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CE6-EF08-4F3F-B4EA-B5F59ECE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1732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E5D-7D9B-4374-B3B6-377F9292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160" y="411732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BFC-5366-409F-A242-7EF636D5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17320"/>
            <a:ext cx="77468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9B3-2ACA-4C88-9BE3-196EB66A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468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87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70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87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383C8-D4A8-4494-9DA5-78681679371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1080" y="1979640"/>
            <a:ext cx="702000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99ff"/>
                </a:solidFill>
                <a:latin typeface="Times New Roman"/>
              </a:rPr>
              <a:t>Veronique </a:t>
            </a:r>
            <a:br>
              <a:rPr sz="6600"/>
            </a:br>
            <a:r>
              <a:rPr b="1" lang="ru-RU" sz="6600" spc="-1" strike="noStrike">
                <a:solidFill>
                  <a:srgbClr val="0099ff"/>
                </a:solidFill>
                <a:latin typeface="Times New Roman"/>
              </a:rPr>
              <a:t>presentation 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REPOR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6920" y="72216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0666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600000">
            <a:off x="1080" y="80640"/>
            <a:ext cx="5106960" cy="17398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60360" y="720720"/>
          <a:ext cx="21592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720720"/>
                    <a:ext cx="2159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16:03:08Z</dcterms:created>
  <dc:creator>Marketing Two</dc:creator>
  <dc:description/>
  <dc:language>en-US</dc:language>
  <cp:lastModifiedBy>Ksenia</cp:lastModifiedBy>
  <cp:lastPrinted>2002-10-16T17:36:49Z</cp:lastPrinted>
  <dcterms:modified xsi:type="dcterms:W3CDTF">2005-05-23T13:33:21Z</dcterms:modified>
  <cp:revision>82</cp:revision>
  <dc:subject/>
  <dc:title>Masterbrand</dc:title>
</cp:coreProperties>
</file>