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E37-1756-4FB4-B21F-5A7615B5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4A9-F787-45AB-B6B0-F036A1A2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FFB-AB3B-42AB-B39D-EEABBA6D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390-835D-4635-BE73-85AF3D57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154-8455-4307-B7BF-57268A69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B21-6379-4C81-9F81-E04A5E33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8A4-BA35-4C4B-B052-7BFFDD16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00A-3614-49FC-8F5A-315A90F9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29D-61C9-4CFE-803C-177AA583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999-A98C-4BF5-B17C-7CD7F44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77B-D02E-4B32-A7CA-70ACCB7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3CA-3B26-4CD5-B95A-E46DF2FA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Arial Balt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241-5608-4653-AF67-8BEF33AAE327}" type="datetime3">
              <a:rPr b="0" lang="lt-LT" sz="1000" spc="-1" strike="noStrike">
                <a:solidFill>
                  <a:srgbClr val="ffffff"/>
                </a:solidFill>
                <a:latin typeface="Arial Baltic"/>
              </a:rPr>
              <a:t>2026 metų liepos 31 d.</a:t>
            </a:fld>
            <a:endParaRPr b="0" lang="en-US" sz="1000" spc="-1" strike="noStrike">
              <a:solidFill>
                <a:srgbClr val="000000"/>
              </a:solidFill>
              <a:latin typeface="Arial Balt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400440"/>
            <a:ext cx="4876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Arial Balt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Arial Balt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Balt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Arial Balt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94B0-2926-469E-BD61-C418ECC4DD0D}" type="slidenum">
              <a:rPr b="0" lang="lt-LT" sz="1000" spc="-1" strike="noStrike">
                <a:solidFill>
                  <a:srgbClr val="ffffff"/>
                </a:solidFill>
                <a:latin typeface="Arial Balt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altic"/>
            </a:endParaRPr>
          </a:p>
        </p:txBody>
      </p:sp>
      <p:pic>
        <p:nvPicPr>
          <p:cNvPr id="5" name="AMzenkl2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630360" cy="685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304920" y="6400800"/>
            <a:ext cx="85341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alt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AMzenkl1" descr=""/>
          <p:cNvPicPr/>
          <p:nvPr/>
        </p:nvPicPr>
        <p:blipFill>
          <a:blip r:embed="rId1"/>
          <a:stretch/>
        </p:blipFill>
        <p:spPr>
          <a:xfrm>
            <a:off x="4016520" y="685800"/>
            <a:ext cx="112068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etuvos Respublikos aplinkos minister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71D-2FF6-4F9F-9C4E-E6537C9304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5D6A6-F544-4A2E-8132-279236DE5E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nbnbnbnbn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Hjhj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Jk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etuvos Respublikos aplinkos minister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20E-E94C-4646-A2A1-5D243153FF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9A4D6-4885-427D-A3FA-DDB06892A9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00"/>
                </a:solidFill>
                <a:latin typeface="Arial"/>
              </a:rPr>
              <a:t>Fgf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duktai Komisijos sprendimai dėl statybos produktų, statinių,  statybos gaminių atitikties įvertinimo procedūrų, statybos produktų klasifikacijos, produktų sąrašų p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žžž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 klases, įgyvendinant Tarybos 1988 m. gruodžio 21 d. direktyvą 89/106/EEB dėl valstybių narių įstatymų, kitų teisės aktų ir administracinių nuostatų, susijusių su statybos produktais, derinimo: 2003/639/EB, 2003/640/EB, 2003/655/EB,  2003/656/EB, 2003/728/EB, 2003/722/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etuvos Respublikos aplinkos minister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A5E-ABC0-4447-87A9-9781AA55AD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9750E-DFF7-4349-8CF0-CCDEB79FA5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3:14:00Z</dcterms:created>
  <dc:creator>AM</dc:creator>
  <dc:description/>
  <dc:language>en-US</dc:language>
  <cp:lastModifiedBy>AM</cp:lastModifiedBy>
  <dcterms:modified xsi:type="dcterms:W3CDTF">2004-04-28T13:16:02Z</dcterms:modified>
  <cp:revision>1</cp:revision>
  <dc:subject/>
  <dc:title>PowerPoint Presentation</dc:title>
</cp:coreProperties>
</file>