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305F-E692-4D15-B538-2DA488BD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371B-BEBD-49D2-A545-F6368600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D92-267A-438C-882B-1B9C78EF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7A0-98CF-4568-BB77-37797EA4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94A9-511D-4567-B65B-F9963AC5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F111-5E62-48AF-8525-EDC9E1AF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FC76-250A-420C-968C-78C94836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1F03-6C8A-468F-A8AF-55DE874C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886A-A989-4048-AB5A-1330458E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DA27-C8C9-4E1B-AE39-3D49C0FA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B896-0EFB-4994-8C7B-AC314A26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84C-CAF9-430A-8486-D56BF7D5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A364-92F5-4014-BCC7-845EBC9C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3BEC-1131-425D-BF0E-12D8981D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E563-3B8F-4973-BEEB-241D7303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C12D-8B23-4CD6-B14F-20B23D4E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7F8A-3D9C-4EDF-B722-BD5FE336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801E-D196-48A6-A72D-AAB5F2E5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AE0-2826-43CE-90D4-FA73A619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BA5A-35C8-4220-A4F4-C045CF23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0FC-BB7C-429A-A157-B540F479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DEA-6A71-4700-86C9-771EC89B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330-7745-491E-98C4-5B801FEE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876-AF5A-4FAF-A543-A5A9E572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0FE5-8598-47AA-875C-542F7574EFD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5EDC-70B2-4D5C-A768-6108C43CB45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996633"/>
                </a:solidFill>
                <a:latin typeface="Times New Roman"/>
              </a:rPr>
              <a:t>עבודה בניתוח אלגורתמים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402000"/>
                </a:solidFill>
                <a:latin typeface="Times New Roman"/>
              </a:rPr>
              <a:t>אני מצטער מראש על איכות השקפים. </a:t>
            </a:r>
            <a:br>
              <a:rPr sz="3200"/>
            </a:br>
            <a:r>
              <a:rPr b="0" lang="he-IL" sz="3200" spc="-1" strike="noStrike">
                <a:solidFill>
                  <a:srgbClr val="402000"/>
                </a:solidFill>
                <a:latin typeface="Times New Roman"/>
              </a:rPr>
              <a:t>אני מקווה שאתם מבנים שבמצב של היום לא היה לי מספיק זמן לעבוד עליהם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קראו את השקפים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השקפים מכילים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שאלות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ענו על השאלות והגישו לתא </a:t>
            </a: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74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Ely Pora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402000"/>
                </a:solidFill>
                <a:latin typeface="Times New Roman"/>
              </a:rPr>
              <a:t>הבעיה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נתון מערך של </a:t>
            </a: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 ביטים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אנו צריכים לעשות עיבוד מקדי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כך שלאחר מכן בהינתן אינדקס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נחזיר את סכום המערך עד האינדקס ב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O(1</a:t>
            </a: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.  </a:t>
            </a:r>
            <a:br>
              <a:rPr sz="2800"/>
            </a:b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304920"/>
            <a:ext cx="73152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Bit Compression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440080" y="3048120"/>
            <a:ext cx="2248920" cy="459720"/>
            <a:chOff x="2440080" y="3048120"/>
            <a:chExt cx="2248920" cy="459720"/>
          </a:xfrm>
        </p:grpSpPr>
        <p:sp>
          <p:nvSpPr>
            <p:cNvPr id="93" name=""/>
            <p:cNvSpPr/>
            <p:nvPr/>
          </p:nvSpPr>
          <p:spPr>
            <a:xfrm>
              <a:off x="2895480" y="3048120"/>
              <a:ext cx="1793520" cy="4597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010100011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40080" y="3048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A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6633"/>
                </a:solidFill>
                <a:latin typeface="Times New Roman"/>
              </a:rPr>
              <a:t>פתרון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821320" y="1905120"/>
            <a:ext cx="3655080" cy="459720"/>
            <a:chOff x="2821320" y="1905120"/>
            <a:chExt cx="3655080" cy="459720"/>
          </a:xfrm>
        </p:grpSpPr>
        <p:sp>
          <p:nvSpPr>
            <p:cNvPr id="97" name=""/>
            <p:cNvSpPr/>
            <p:nvPr/>
          </p:nvSpPr>
          <p:spPr>
            <a:xfrm>
              <a:off x="3598920" y="1905120"/>
              <a:ext cx="2877480" cy="4597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010100011001001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21320" y="1905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A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820960" y="2590920"/>
            <a:ext cx="3655440" cy="459720"/>
            <a:chOff x="2820960" y="2590920"/>
            <a:chExt cx="3655440" cy="459720"/>
          </a:xfrm>
        </p:grpSpPr>
        <p:sp>
          <p:nvSpPr>
            <p:cNvPr id="100" name=""/>
            <p:cNvSpPr/>
            <p:nvPr/>
          </p:nvSpPr>
          <p:spPr>
            <a:xfrm>
              <a:off x="3598920" y="2590920"/>
              <a:ext cx="2877480" cy="4597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0112222344455566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20960" y="25909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B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419840" y="3581280"/>
            <a:ext cx="638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נבנה מערך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שיכל את התשובות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(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O(n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 זמן, שומרים (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O(n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 </a:t>
            </a:r>
            <a:r>
              <a:rPr b="0" lang="he-IL" sz="2400" spc="-1" strike="noStrike" u="sng">
                <a:solidFill>
                  <a:srgbClr val="402000"/>
                </a:solidFill>
                <a:uFillTx/>
                <a:latin typeface="Times New Roman"/>
                <a:cs typeface="Times New Roman (Hebrew)"/>
              </a:rPr>
              <a:t>מספרי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  <a:cs typeface="Times New Roman (Hebrew)"/>
              </a:rPr>
              <a:t>אך מספר לוקח (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O(logn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 מקום =&gt;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(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O(nlogn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 מקו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שאלה: האם אפשר לעשות יותר טוב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6633"/>
                </a:solidFill>
                <a:latin typeface="Times New Roman"/>
              </a:rPr>
              <a:t>פתרון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449360" y="1752480"/>
            <a:ext cx="4722840" cy="1602720"/>
            <a:chOff x="1449360" y="1752480"/>
            <a:chExt cx="4722840" cy="1602720"/>
          </a:xfrm>
        </p:grpSpPr>
        <p:sp>
          <p:nvSpPr>
            <p:cNvPr id="105" name=""/>
            <p:cNvSpPr/>
            <p:nvPr/>
          </p:nvSpPr>
          <p:spPr>
            <a:xfrm>
              <a:off x="1449360" y="1981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A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7400" y="2057400"/>
              <a:ext cx="411480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66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672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09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4340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52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6272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162800">
              <a:off x="4456080" y="2474640"/>
              <a:ext cx="380880" cy="6127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15840 h 612720"/>
                <a:gd name="textAreaBottom" fmla="*/ 59688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4480" y="289548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402000"/>
                  </a:solidFill>
                  <a:latin typeface="Times New Roman"/>
                </a:rPr>
                <a:t>logn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580440" y="198108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חלקים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n/log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7640" y="3276720"/>
            <a:ext cx="830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נחלק את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ל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n/logn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חלקים שווים ונכתוב לכל חלק את הסכום עד אלי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עכשיו בהינתן שאילתה כל שצריך לעשות זה ללכת למקום הקרוב הידוע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ולחבר משם את שער האברים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מקום: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n) bi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אך זמן שאילתה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logn) tim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6633"/>
                </a:solidFill>
                <a:latin typeface="Times New Roman"/>
              </a:rPr>
              <a:t>המשך פתרון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1981080"/>
            <a:ext cx="7239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כדי שזמן השאילתה יהיה (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1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אפשר במקום לספור בתוך ה-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block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לעשות בתוך ה-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lock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את השיטה הראשונה ואז ב (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1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 אפשר לחבר את שני המס’ וזאת התוצאה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זמן שאילתה: (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1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מקום: (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nloglog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כי כל מספר בתוך ה-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lock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תופס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loglogn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ביטים כי הוא מוגבל ב-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ogn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אפשר אולי לחשוב לעשות את פתרון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ברקורסיה אך אז זמן השאילתה לא יהיה קבוע (</a:t>
            </a:r>
            <a:r>
              <a:rPr b="0" lang="he-IL" sz="2400" spc="-1" strike="noStrike" u="sng">
                <a:solidFill>
                  <a:srgbClr val="402000"/>
                </a:solidFill>
                <a:uFillTx/>
                <a:latin typeface="Times New Roman"/>
              </a:rPr>
              <a:t>תרגיל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חשב את זמן השאילתה ואת המקום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6633"/>
                </a:solidFill>
                <a:latin typeface="Times New Roman"/>
              </a:rPr>
              <a:t>המשך פתרון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49360" y="1752480"/>
            <a:ext cx="4722840" cy="1602720"/>
            <a:chOff x="1449360" y="1752480"/>
            <a:chExt cx="4722840" cy="1602720"/>
          </a:xfrm>
        </p:grpSpPr>
        <p:sp>
          <p:nvSpPr>
            <p:cNvPr id="121" name=""/>
            <p:cNvSpPr/>
            <p:nvPr/>
          </p:nvSpPr>
          <p:spPr>
            <a:xfrm>
              <a:off x="1449360" y="1981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A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7400" y="2057400"/>
              <a:ext cx="411480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66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72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09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4340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52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6272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162800">
              <a:off x="4456080" y="2474640"/>
              <a:ext cx="380880" cy="6127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15840 h 612720"/>
                <a:gd name="textAreaBottom" fmla="*/ 59688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44480" y="289548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402000"/>
                  </a:solidFill>
                  <a:latin typeface="Times New Roman"/>
                </a:rPr>
                <a:t>logn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2514600" y="2590920"/>
            <a:ext cx="2209680" cy="11430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3733920"/>
            <a:ext cx="2209680" cy="53316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3581280"/>
            <a:ext cx="0" cy="9144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3581280"/>
            <a:ext cx="0" cy="9144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581280"/>
            <a:ext cx="0" cy="9144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3581280"/>
            <a:ext cx="0" cy="9144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581280"/>
            <a:ext cx="0" cy="9144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82800">
            <a:off x="2095560" y="4381200"/>
            <a:ext cx="304560" cy="3808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560" y="45720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loglog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73880" y="3013200"/>
            <a:ext cx="6539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נחלק כל חלק שוב כמו מקוד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לחלקים של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oglogn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עכשיו נסכום את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העברים מהמקום הידוע מחלוקה שעברה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עד למקום של החלק עכשי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(הסכום של כל הקטע הוא לכל היותר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og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לכן לייצג כל מספר כזה דרוש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(loglogn) bits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סה”כ מקום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(n) bits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אך זמן שאילתה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(loglogn)tim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כי צריך לסכום בתוך ה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lock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עד האינדקס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6633"/>
                </a:solidFill>
                <a:latin typeface="Times New Roman"/>
              </a:rPr>
              <a:t>המשך פתרון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449360" y="1752480"/>
            <a:ext cx="4722840" cy="1602720"/>
            <a:chOff x="1449360" y="1752480"/>
            <a:chExt cx="4722840" cy="1602720"/>
          </a:xfrm>
        </p:grpSpPr>
        <p:sp>
          <p:nvSpPr>
            <p:cNvPr id="143" name=""/>
            <p:cNvSpPr/>
            <p:nvPr/>
          </p:nvSpPr>
          <p:spPr>
            <a:xfrm>
              <a:off x="1449360" y="1981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A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57400" y="2057400"/>
              <a:ext cx="411480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66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672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9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4340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52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272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162800">
              <a:off x="4456080" y="2474640"/>
              <a:ext cx="380880" cy="6127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15840 h 612720"/>
                <a:gd name="textAreaBottom" fmla="*/ 59688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44480" y="289548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402000"/>
                  </a:solidFill>
                  <a:latin typeface="Times New Roman"/>
                </a:rPr>
                <a:t>logn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800600" y="2514600"/>
            <a:ext cx="1219320" cy="6094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6840" y="4191120"/>
            <a:ext cx="584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יש לשם לב שיש כאן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oglogn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ביטים כלומר יש רק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logn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אפשרויות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לכן המקרים חייבים לחזור על עצמם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אז בוא ננסה לחסוך ע”י איחוד המקרים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3276720"/>
            <a:ext cx="121896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19560" y="3962520"/>
            <a:ext cx="53316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6633"/>
                </a:solidFill>
                <a:latin typeface="Times New Roman"/>
              </a:rPr>
              <a:t>המשך פתרון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49360" y="1752480"/>
            <a:ext cx="4722840" cy="1602720"/>
            <a:chOff x="1449360" y="1752480"/>
            <a:chExt cx="4722840" cy="1602720"/>
          </a:xfrm>
        </p:grpSpPr>
        <p:sp>
          <p:nvSpPr>
            <p:cNvPr id="164" name=""/>
            <p:cNvSpPr/>
            <p:nvPr/>
          </p:nvSpPr>
          <p:spPr>
            <a:xfrm>
              <a:off x="1449360" y="1981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A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7400" y="2057400"/>
              <a:ext cx="411480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66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672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4340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2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6272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162800">
              <a:off x="4456080" y="2474640"/>
              <a:ext cx="380880" cy="6127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15840 h 612720"/>
                <a:gd name="textAreaBottom" fmla="*/ 59688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44480" y="289548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402000"/>
                  </a:solidFill>
                  <a:latin typeface="Times New Roman"/>
                </a:rPr>
                <a:t>logn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800600" y="2514600"/>
            <a:ext cx="1219320" cy="6094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3276720"/>
            <a:ext cx="121896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294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3352680" y="3276360"/>
            <a:ext cx="2895840" cy="5331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3124080"/>
            <a:ext cx="1295640" cy="1600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304812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9160" y="37339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log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189800">
            <a:off x="2403360" y="444456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760" y="5410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loglog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4038480"/>
            <a:ext cx="144756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6920" y="4419720"/>
            <a:ext cx="512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נכתוב תבלה שבה לכל מקרה יהיה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המספר שצריכים לחבר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גודל הטבלה 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logn*loglogn*logloglog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סה”כ מקום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n) bits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וזמן לשאילתה קבוע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01880" y="5105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4840" y="317340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402000"/>
                </a:solidFill>
                <a:latin typeface="Times New Roman"/>
              </a:rPr>
              <a:t>מקרים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402000"/>
                </a:solidFill>
                <a:latin typeface="Times New Roman"/>
              </a:rPr>
              <a:t>דומים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97240" y="5791320"/>
            <a:ext cx="219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402000"/>
                </a:solidFill>
                <a:latin typeface="Times New Roman"/>
              </a:rPr>
              <a:t>אינדקס בתוך ה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bloc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402000"/>
                </a:solidFill>
                <a:latin typeface="Times New Roman"/>
              </a:rPr>
              <a:t>של המקרא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6920" y="4419720"/>
            <a:ext cx="512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נכתוב תבלה שבה לכל מקרה יהיה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המספר שצריכים לחבר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גודל הטבלה 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logn*loglogn*logloglog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סה”כ מקום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n) bits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וזמן לשאילתה קבוע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6633"/>
                </a:solidFill>
                <a:latin typeface="Times New Roman"/>
              </a:rPr>
              <a:t>תרגילים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02000"/>
                </a:solidFill>
                <a:latin typeface="Times New Roman"/>
              </a:rPr>
              <a:t>נתון מערך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של ביטים מראש</a:t>
            </a:r>
            <a:br>
              <a:rPr sz="2800"/>
            </a:br>
            <a:r>
              <a:rPr b="0" lang="hi-IN" sz="2800" spc="-1" strike="noStrike">
                <a:solidFill>
                  <a:srgbClr val="402000"/>
                </a:solidFill>
                <a:latin typeface="Times New Roman"/>
              </a:rPr>
              <a:t>השאילתה היא בהינתן מקום מצא את המקום הכי קרוב </a:t>
            </a:r>
            <a:br>
              <a:rPr sz="2800"/>
            </a:br>
            <a:r>
              <a:rPr b="0" lang="hi-IN" sz="2800" spc="-1" strike="noStrike">
                <a:solidFill>
                  <a:srgbClr val="402000"/>
                </a:solidFill>
                <a:latin typeface="Times New Roman"/>
              </a:rPr>
              <a:t>שמסומן ב-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במערך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02000"/>
                </a:solidFill>
                <a:latin typeface="Times New Roman"/>
              </a:rPr>
              <a:t>נתון מערך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של ביטים מראש</a:t>
            </a:r>
            <a:br>
              <a:rPr sz="2800"/>
            </a:br>
            <a:r>
              <a:rPr b="0" lang="hi-IN" sz="2800" spc="-1" strike="noStrike">
                <a:solidFill>
                  <a:srgbClr val="402000"/>
                </a:solidFill>
                <a:latin typeface="Times New Roman"/>
              </a:rPr>
              <a:t>השאילתה היא בהינתן מס’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מצא את האינדקס במערך שסכום האברים עד אליו שווה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4T18:48:34Z</dcterms:created>
  <dc:creator>‰ „‡…ƒ</dc:creator>
  <dc:description/>
  <dc:language>en-US</dc:language>
  <cp:lastModifiedBy>milgaim</cp:lastModifiedBy>
  <cp:lastPrinted>2001-03-27T18:58:12Z</cp:lastPrinted>
  <dcterms:modified xsi:type="dcterms:W3CDTF">2001-03-27T18:58:12Z</dcterms:modified>
  <cp:revision>5</cp:revision>
  <dc:subject/>
  <dc:title>ללא כותרת שקופית</dc:title>
</cp:coreProperties>
</file>