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9BE7A9-B149-4524-A541-B1F4B419FF0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633-AD92-4B7E-BB84-F6ABE9FA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E68-F446-4B61-9333-3930842D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EEC-DAD3-408C-8D44-3BF2B89B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262-8F4B-4278-BE05-7DBF6530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67A-BBEE-4F7A-B228-91FC0BC8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1B4-9570-4546-9922-D6602362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7D1-9E19-42E4-BE06-7F39465A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FB8-CBB3-4886-939C-A3663964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6E7-E535-48DB-9A30-642FB98B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C28-6932-4E1D-A556-2317B32C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12F-3341-4284-97CC-3AF55C9B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D14-F3C0-4457-A277-B639CED6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27F0F2-2B9D-463F-8011-DB3746C7C33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89760"/>
            <a:ext cx="9144000" cy="10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32000" y="2276640"/>
            <a:ext cx="2952720" cy="863280"/>
            <a:chOff x="1332000" y="2276640"/>
            <a:chExt cx="2952720" cy="8632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629080" y="2449440"/>
              <a:ext cx="5047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3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 por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E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089760"/>
            <a:ext cx="9144000" cy="10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332000" y="2276640"/>
            <a:ext cx="2952720" cy="863280"/>
            <a:chOff x="1332000" y="2276640"/>
            <a:chExt cx="2952720" cy="86328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2629080" y="2449440"/>
              <a:ext cx="5047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33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 por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572000" y="2276640"/>
            <a:ext cx="2952720" cy="863280"/>
            <a:chOff x="4572000" y="2276640"/>
            <a:chExt cx="2952720" cy="863280"/>
          </a:xfrm>
        </p:grpSpPr>
        <p:grpSp>
          <p:nvGrpSpPr>
            <p:cNvPr id="59" name=""/>
            <p:cNvGrpSpPr/>
            <p:nvPr/>
          </p:nvGrpSpPr>
          <p:grpSpPr>
            <a:xfrm>
              <a:off x="5448240" y="2351160"/>
              <a:ext cx="1067040" cy="630000"/>
              <a:chOff x="5448240" y="2351160"/>
              <a:chExt cx="1067040" cy="630000"/>
            </a:xfrm>
          </p:grpSpPr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48240" y="2351160"/>
                <a:ext cx="57456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0360" y="2406600"/>
                <a:ext cx="574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" name=""/>
            <p:cNvSpPr/>
            <p:nvPr/>
          </p:nvSpPr>
          <p:spPr>
            <a:xfrm>
              <a:off x="457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éxico -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959200" y="3284640"/>
            <a:ext cx="2952720" cy="865080"/>
            <a:chOff x="2959200" y="3284640"/>
            <a:chExt cx="2952720" cy="865080"/>
          </a:xfrm>
        </p:grpSpPr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4167360" y="3427560"/>
              <a:ext cx="57456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959200" y="3284640"/>
              <a:ext cx="2952720" cy="86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cuperación por Méx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95280" y="235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Recuperación por 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36680" y="1886040"/>
            <a:ext cx="8707320" cy="4478760"/>
            <a:chOff x="436680" y="1886040"/>
            <a:chExt cx="8707320" cy="4478760"/>
          </a:xfrm>
        </p:grpSpPr>
        <p:sp>
          <p:nvSpPr>
            <p:cNvPr id="68" name=""/>
            <p:cNvSpPr/>
            <p:nvPr/>
          </p:nvSpPr>
          <p:spPr>
            <a:xfrm>
              <a:off x="468360" y="1886040"/>
              <a:ext cx="188280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50000">
                  <a:srgbClr val="ffffff"/>
                </a:gs>
                <a:gs pos="100000">
                  <a:srgbClr val="ffff00">
                    <a:alpha val="40000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8360" y="3168720"/>
              <a:ext cx="188280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50000">
                  <a:srgbClr val="ffffff"/>
                </a:gs>
                <a:gs pos="100000">
                  <a:srgbClr val="ffff00">
                    <a:alpha val="40000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6680" y="2246400"/>
              <a:ext cx="8292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asegura la recuperación de  los servicios críticos del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o se tiene un dependencia del personal en México, en caso de alguna fat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tiempo de respuesta pude llegar a ser más corto si se cuenta con toda la información neces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8360" y="3500280"/>
              <a:ext cx="867564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inversión en infraestruc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un monitoreo Constante de los respaldo de la información en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una validación periódica de la información respald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cambio de horario pudiera llegar a ser un factor en los tiempos de recupe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validar continuamente los canales de Comunicación con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tener un Centro alterno en México para validar la funcionalidad de los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o se recuperaría el 100% de la operación, solo los sistemas respald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eden surgir problemas de configuración (En ambientes y equipos)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eben de establecerse políticas de seguridad más estric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 capacitación y los simulacros de DRP, deben de ser más frecu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na vez convenida la recuperación por España, esta deberá ser probada y validad por personal de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284720" y="62690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4.21965 -6 C -0.03368 0.01618 -0.06736 0.03237 -0.08403 4.21965 -6 C -0.1007 -0.03237 -0.10035 -0.11353 -0.1 -0.19445">
                                      <p:cBhvr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089760"/>
            <a:ext cx="9144000" cy="10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32000" y="2276640"/>
            <a:ext cx="2952720" cy="863280"/>
            <a:chOff x="1332000" y="2276640"/>
            <a:chExt cx="2952720" cy="86328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629080" y="2449440"/>
              <a:ext cx="5047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33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 por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72000" y="2276640"/>
            <a:ext cx="2952720" cy="863280"/>
            <a:chOff x="4572000" y="2276640"/>
            <a:chExt cx="2952720" cy="863280"/>
          </a:xfrm>
        </p:grpSpPr>
        <p:grpSp>
          <p:nvGrpSpPr>
            <p:cNvPr id="79" name=""/>
            <p:cNvGrpSpPr/>
            <p:nvPr/>
          </p:nvGrpSpPr>
          <p:grpSpPr>
            <a:xfrm>
              <a:off x="5448240" y="2351160"/>
              <a:ext cx="1067040" cy="630000"/>
              <a:chOff x="5448240" y="2351160"/>
              <a:chExt cx="1067040" cy="630000"/>
            </a:xfrm>
          </p:grpSpPr>
          <p:pic>
            <p:nvPicPr>
              <p:cNvPr id="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48240" y="2351160"/>
                <a:ext cx="57456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0360" y="2406600"/>
                <a:ext cx="574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"/>
            <p:cNvSpPr/>
            <p:nvPr/>
          </p:nvSpPr>
          <p:spPr>
            <a:xfrm>
              <a:off x="457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éxico -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959200" y="3284640"/>
            <a:ext cx="2952720" cy="865080"/>
            <a:chOff x="2959200" y="3284640"/>
            <a:chExt cx="2952720" cy="86508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4167360" y="3427560"/>
              <a:ext cx="57456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959200" y="3284640"/>
              <a:ext cx="2952720" cy="86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cuperación por Méx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95280" y="235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Recuperación por México y 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760" y="1962000"/>
            <a:ext cx="8589960" cy="4172760"/>
            <a:chOff x="374760" y="1962000"/>
            <a:chExt cx="8589960" cy="4172760"/>
          </a:xfrm>
        </p:grpSpPr>
        <p:sp>
          <p:nvSpPr>
            <p:cNvPr id="88" name=""/>
            <p:cNvSpPr/>
            <p:nvPr/>
          </p:nvSpPr>
          <p:spPr>
            <a:xfrm>
              <a:off x="374760" y="1962000"/>
              <a:ext cx="155880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50000">
                  <a:srgbClr val="ffffff"/>
                </a:gs>
                <a:gs pos="100000">
                  <a:srgbClr val="ffff00">
                    <a:alpha val="40000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760" y="3860640"/>
              <a:ext cx="155880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50000">
                  <a:srgbClr val="ffffff"/>
                </a:gs>
                <a:gs pos="100000">
                  <a:srgbClr val="ffff00">
                    <a:alpha val="40000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4760" y="2236680"/>
              <a:ext cx="85899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cuenta con la experiencia del diseño, análisis e implementación del DRP por parte del personal en México y por el soporte técnico en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porcentaje de recuperación de los servicios puede ser más al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personal del equipo de DRP México, puede intercambiar perspectivas en forma directa con el personal de España y resolver con esto cualquier contingencia en un tiempo men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ede realizarse una subdivisión entre México y España de tareas y propiciar que la recuperación sea más ág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4760" y="4122720"/>
              <a:ext cx="844524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 coordinación de los dos equipos puede llegar a ser muy comple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establecer un procedimiento de actividades bien definido por paí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personal del equipo de DRP, puede ser el personal afectado durante el desastre y España tendría que tomar algunas de esas activ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 contingencia, pude provocar problemas en las vías de comunicación y complicar la integración de los equipos de D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eden surgir problemas en los canales de comunicación y hacer imposible el acceso a los procedimientos e información almacenada en España, por sobre saturación de dichos ca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 capacitación y los simulacros de DRP, deben de ser más frecu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284720" y="62690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6 -0.07445 C -0.19827 -0.000689999999999996 -0.38229 0.0733 -0.45695 0.05434 C -0.5316 0.03538 -0.46129 -0.14821 -0.46181 -0.18867 E">
                                      <p:cBhvr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upo Financiero Santander</dc:creator>
  <dc:description/>
  <dc:language>en-US</dc:language>
  <cp:lastModifiedBy>C682191</cp:lastModifiedBy>
  <cp:revision>0</cp:revision>
  <dc:subject/>
  <dc:title>Diapositiva 1</dc:title>
</cp:coreProperties>
</file>