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58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2A7-56AE-4657-B98F-D995C90B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1E4-0A62-4781-B79B-8302A0E8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C1A-F2F6-413B-881D-6BBBAFDD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908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012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0804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908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012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6F4-20E7-420B-8BC5-6CFE8FF3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F72-3C71-4EB9-B641-D0E83EDE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B4F6-7569-41F1-9EF5-AB16DED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1C8F-BAE0-4357-89B8-4ABC853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13E9-7E9B-47AB-9B2E-DDAD7FE9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CB4D-75C6-4B6A-93CA-DDF807A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4200" y="1447560"/>
            <a:ext cx="85500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186-5F36-4AED-A059-D1F580F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AFB-7C3C-4771-9F61-9D4A12C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C7C-C031-42F6-9DEE-3B300767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5B9-AA30-419B-BC62-2C8804E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DFB7-CC55-4E18-AD73-B331BB8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B22-BBDD-450B-A2AA-6FA0F5B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A5C5-36A4-4205-B825-6DBED121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8908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7012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0804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8908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7012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CED0-D52B-4002-8CFD-4CB7518C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A08-4BE9-4F90-94E0-A64CC54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FF4-4FAB-450F-9A10-8225C5D4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5D6-FCE6-4C42-B9E7-A867ACDC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447560"/>
            <a:ext cx="85500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32C-1B84-41C8-8241-C78D7647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0A3-0938-4BA0-930B-F6E256C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A42-CCD8-4F17-8821-D330800D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726-2D11-49E9-8106-5DB65E2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3280" y="1708200"/>
            <a:ext cx="870912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38052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420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42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3692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90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815-D9F0-4A89-B9A8-5486357FBA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42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3692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090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DC58-16A9-4897-B8AE-E769B0CB92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66680" y="2362320"/>
            <a:ext cx="8152920" cy="1599840"/>
            <a:chOff x="1066680" y="236232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3495960" y="236232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21440" y="252756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80760" y="274824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307836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Verdana"/>
              </a:rPr>
              <a:t>#1</a:t>
            </a:r>
            <a:br>
              <a:rPr sz="1400"/>
            </a:br>
            <a:br>
              <a:rPr sz="1400"/>
            </a:br>
            <a:r>
              <a:rPr b="1" i="1" lang="en-US" sz="3600" spc="-1" strike="noStrike">
                <a:solidFill>
                  <a:srgbClr val="ffcc66"/>
                </a:solidFill>
                <a:latin typeface="Arial Narrow"/>
              </a:rPr>
              <a:t>WazzupMedia</a:t>
            </a:r>
            <a:r>
              <a:rPr b="1" i="1" lang="en-US" sz="2000" spc="-1" strike="noStrike">
                <a:solidFill>
                  <a:srgbClr val="ffcc66"/>
                </a:solidFill>
                <a:latin typeface="Arial Narrow"/>
              </a:rPr>
              <a:t>.com</a:t>
            </a:r>
            <a:br>
              <a:rPr sz="2000"/>
            </a:b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Executive Presentation</a:t>
            </a:r>
            <a:br>
              <a:rPr sz="2000"/>
            </a:b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cc"/>
                </a:solidFill>
                <a:uFillTx/>
                <a:latin typeface="Verdana"/>
              </a:rPr>
              <a:t>Confidential Information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© 2003, Information Technology Grou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Verdana"/>
              </a:rPr>
              <a:t>www.itgroup.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41200" y="595800"/>
            <a:ext cx="3128040" cy="1856880"/>
            <a:chOff x="1141200" y="595800"/>
            <a:chExt cx="3128040" cy="1856880"/>
          </a:xfrm>
        </p:grpSpPr>
        <p:sp>
          <p:nvSpPr>
            <p:cNvPr id="91" name=""/>
            <p:cNvSpPr txBox="1"/>
            <p:nvPr/>
          </p:nvSpPr>
          <p:spPr>
            <a:xfrm rot="21202200">
              <a:off x="1218960" y="762120"/>
              <a:ext cx="297180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1225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Times New Roman"/>
                </a:rPr>
                <a:t>Wazzu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931480" y="1873800"/>
              <a:ext cx="12232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6969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medi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2:42:08Z</dcterms:created>
  <dc:creator>.</dc:creator>
  <dc:description/>
  <dc:language>en-US</dc:language>
  <cp:lastModifiedBy>Gil</cp:lastModifiedBy>
  <dcterms:modified xsi:type="dcterms:W3CDTF">2004-09-14T11:12:39Z</dcterms:modified>
  <cp:revision>551</cp:revision>
  <dc:subject/>
  <dc:title>Title</dc:title>
</cp:coreProperties>
</file>