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0B3-43C8-40B0-9F2A-12055A04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A89-6337-4D68-9777-01E65831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FF2-F65B-4295-B33B-67589639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407-A643-4E5F-AB24-09D40451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53AF-A723-4B13-A298-65F0F8DA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8D8-B263-4862-A44F-4433E18B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CC1-9D63-4ACF-9BDD-CDB28B91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C1C-6ABB-4699-9577-54649280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DED-7F54-41F8-922F-C74868AD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9FA-FBD3-43DC-8D0F-FBAAC1DE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E71-F2EC-4651-9574-BB9007DD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F3D-564E-426C-BBDA-F6577D81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611F5-8B40-4E04-AECF-2A5CE4AB09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54320" y="3141720"/>
            <a:ext cx="1621080" cy="1439640"/>
          </a:xfrm>
          <a:prstGeom prst="noSmoking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5:23:35Z</dcterms:created>
  <dc:creator>Chris Forbes</dc:creator>
  <dc:description/>
  <dc:language>en-US</dc:language>
  <cp:lastModifiedBy>Chris Forbes</cp:lastModifiedBy>
  <dcterms:modified xsi:type="dcterms:W3CDTF">2011-03-29T05:24:07Z</dcterms:modified>
  <cp:revision>2</cp:revision>
  <dc:subject/>
  <dc:title/>
</cp:coreProperties>
</file>