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92EA4-A4F0-4C74-A1E9-6359A8AFD0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4678F-A503-416B-9EA7-4C6166E77F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3790A-C1F5-47E0-9E0F-D5C39CF5C1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18619-FDF6-497A-93FE-56474DC0FB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8329A3-CE25-4B52-9255-77FCC9E8980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215158-E632-473B-ADAC-77E0652644F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0DBFD2-B398-4826-8C54-C100CBF3760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C47041-E395-4533-A497-CCAE6251697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9F2B8C-7D46-425C-B969-529B210123D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22D881-B8FF-4704-AA36-BE402FC97AA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DCAB46-2DF3-4E73-9744-42CC0A03DE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16680-4EC9-4D9C-88FB-4C60A69B53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44AAB8-10F3-4175-BCBA-EBCB8CECEE5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9BB871-7CB9-415C-933C-6A8EAF39A57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09436F-75FB-451D-B707-F66C4F85AFC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9F868F-0F47-416C-B8D4-51EDD12B356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FB2BEE-10DA-4750-AC18-38B3B8F69D3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A85068-D6BA-4DB0-92D2-D6DDC0BF3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BFAC93-0A87-464F-9E2C-40D5CCF00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C94F64-9BEE-46C0-9A56-B6D97ABCE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F33091-00A6-4355-96C8-783A3C6E3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688580-6142-4009-AF20-17B5766AC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200A1-A08F-432B-8733-910CB5E0BE2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E84DD8-3487-4C56-8DE7-5290339D6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51B8DC-3834-4826-A28B-F0CA54F4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D8FC67-23CC-4AE9-A6B9-B54843D2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07A308-E1C0-4A19-AAC8-D9C022DA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23AB2A-8D3D-4436-BA08-35F4E7E2B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7B13DB-4BF6-4BD1-AED9-B06BDB5CA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C40767-A431-4CD6-9A04-E9BED5A21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CCA1F-186B-4A24-8917-74FC61E817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FF9E3-3466-4184-B12F-7E90C86144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6DEDF-0EAF-484E-918D-BDC24EC147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3DBA9-4799-45B3-9AEE-9E412786D2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4A77B-DF31-48A2-B61F-48C19D323D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1AED3-333E-419C-91C4-AEB768AA58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40477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4720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14200" y="627372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8156520" y="6111720"/>
            <a:ext cx="1749600" cy="746280"/>
            <a:chOff x="8156520" y="6111720"/>
            <a:chExt cx="1749600" cy="746280"/>
          </a:xfrm>
        </p:grpSpPr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8435880" y="6389640"/>
              <a:ext cx="1189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8156520" y="6111720"/>
              <a:ext cx="1749600" cy="7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17784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25B58-FC07-4C53-A11A-58FF5CEE5FFA}" type="slidenum"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574640"/>
            <a:ext cx="70992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60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3"/>
          </p:nvPr>
        </p:nvSpPr>
        <p:spPr>
          <a:xfrm>
            <a:off x="5853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0" sz="800" spc="-1" strike="noStrike">
                <a:solidFill>
                  <a:srgbClr val="ffffff"/>
                </a:solidFill>
                <a:latin typeface="Nokia Sans Wide"/>
              </a:rPr>
              <a:t>&lt;footer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4200" y="627372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8156520" y="2962440"/>
            <a:ext cx="1749600" cy="745920"/>
            <a:chOff x="8156520" y="2962440"/>
            <a:chExt cx="1749600" cy="745920"/>
          </a:xfrm>
        </p:grpSpPr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8437680" y="3240000"/>
              <a:ext cx="1189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8156520" y="2962440"/>
              <a:ext cx="1749600" cy="74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3"/>
          <p:cNvSpPr>
            <a:spLocks noGrp="1"/>
          </p:cNvSpPr>
          <p:nvPr>
            <p:ph type="sldNum" idx="4"/>
          </p:nvPr>
        </p:nvSpPr>
        <p:spPr>
          <a:xfrm>
            <a:off x="21600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CD62E-6842-46ED-9E13-E2FFCECFFF7C}" type="slidenum">
              <a:rPr b="0" lang="en-GB" sz="800" spc="-1" strike="noStrike">
                <a:solidFill>
                  <a:srgbClr val="ffffff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5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6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7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8539A-3CF0-4968-BD10-1BAF6BAA61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23920" y="3003480"/>
            <a:ext cx="3011400" cy="1014480"/>
          </a:xfrm>
          <a:prstGeom prst="wedgeRectCallout">
            <a:avLst>
              <a:gd name="adj1" fmla="val -47787"/>
              <a:gd name="adj2" fmla="val 7003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Text in this callout 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48040" y="3062160"/>
            <a:ext cx="3029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Text in text box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CAA3F6-2BD6-41C1-87AE-B59A59AFD5C2}" type="slidenum">
              <a:t>1</a:t>
            </a:fld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A6E5E4-1E3D-4E63-9284-B29217A9218B}" type="slidenum">
              <a:t>2</a:t>
            </a:fld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7T12:21:37Z</dcterms:created>
  <dc:creator>nandita</dc:creator>
  <dc:description/>
  <cp:keywords/>
  <dc:language>en-US</dc:language>
  <cp:lastModifiedBy>nandita</cp:lastModifiedBy>
  <cp:lastPrinted>1998-09-04T08:04:32Z</cp:lastPrinted>
  <dcterms:modified xsi:type="dcterms:W3CDTF">2010-05-27T12:39:46Z</dcterms:modified>
  <cp:revision>2</cp:revision>
  <dc:subject/>
  <dc:title>Slide 1</dc:title>
</cp:coreProperties>
</file>