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457-A923-43E5-8B3F-789AD5D8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A6A2-B0FE-4A21-8EF3-B85ADDA8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D250-EBF7-497C-B583-74FA20B9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5DA6-FA7A-4175-ABF2-24C2270C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B365-1DD8-45EB-A4BE-372FB3FD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B28-98F3-4383-9978-8AC55785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B30-2EC1-4126-84ED-8DD1EECA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7CC2-144B-438E-B828-9E2DED39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CF49-136A-44FE-8EC1-71CFA7CA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3B9-7B22-4E29-BA0B-267E56FD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C53E-F390-4A9D-BBA7-DF81F80A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667-A5F4-4F57-91BE-3C25044A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461E-D2E2-4ACB-BF24-B775ED5D98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9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47640" y="1413000"/>
          <a:ext cx="609624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413000"/>
                    <a:ext cx="609624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5:47:19Z</dcterms:created>
  <dc:creator>Jason</dc:creator>
  <dc:description/>
  <dc:language>en-US</dc:language>
  <cp:lastModifiedBy>robin</cp:lastModifiedBy>
  <dcterms:modified xsi:type="dcterms:W3CDTF">2012-06-06T05:40:23Z</dcterms:modified>
  <cp:revision>88</cp:revision>
  <dc:subject/>
  <dc:title>幻灯片 1</dc:title>
</cp:coreProperties>
</file>