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4A4-FAF8-4EAB-AE71-06C405D0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83D-B85B-4245-87E2-9E28961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66D-3F43-4A98-9C4D-01AB91D4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FA1-10D1-4ADF-81E4-87CDE68D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9A3-8030-4265-9A71-509048B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17F-D2E6-4406-9807-44DB8C6E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AF5-65B1-41DE-B0B3-1905CD83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9A5-DA42-41CF-BAAB-157DB2B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57B-7296-49B0-BB6D-E3A5206B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E06-8FB6-464A-855F-8F97BDC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BD1-BF95-4238-A4AD-178FD42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7AD-2AF3-4ACE-A821-45E28AE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2ADD-BF1F-4088-B8F9-8757C47E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7320" y="14590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4680" y="1320840"/>
            <a:ext cx="236196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46120" y="15224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1397160"/>
            <a:ext cx="221004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55840" y="17780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06720" y="1647720"/>
            <a:ext cx="205740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6160" y="50259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4849920"/>
            <a:ext cx="22860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5000" y="3022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717640"/>
            <a:ext cx="3200400" cy="1143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44751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322880"/>
            <a:ext cx="2654280" cy="985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75160" y="3403440"/>
            <a:ext cx="43992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9200" y="5164200"/>
            <a:ext cx="1082520" cy="14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125960"/>
            <a:ext cx="1800" cy="6904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55960" y="1930320"/>
            <a:ext cx="93024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5960" y="1473120"/>
            <a:ext cx="358452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89680" y="1930320"/>
            <a:ext cx="53640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273400"/>
            <a:ext cx="1440" cy="349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273400"/>
            <a:ext cx="1440" cy="199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 flipV="1">
            <a:off x="7552800" y="2300040"/>
            <a:ext cx="1058040" cy="3064320"/>
          </a:xfrm>
          <a:prstGeom prst="bentConnector2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4352040" y="4127400"/>
            <a:ext cx="1102320" cy="616680"/>
          </a:xfrm>
          <a:prstGeom prst="bentConnector3">
            <a:avLst>
              <a:gd name="adj1" fmla="val 100261"/>
            </a:avLst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7343280" y="323532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27680" y="3084480"/>
            <a:ext cx="2666880" cy="1035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5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6" dur="1" fill="hold"/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2:25:38Z</dcterms:created>
  <dc:creator>Office 2004 Test Drive User</dc:creator>
  <dc:description/>
  <dc:language>en-US</dc:language>
  <cp:lastModifiedBy>Office 2004 Test Drive User</cp:lastModifiedBy>
  <dcterms:modified xsi:type="dcterms:W3CDTF">2006-05-18T12:29:05Z</dcterms:modified>
  <cp:revision>2</cp:revision>
  <dc:subject/>
  <dc:title>PowerPoint Presentation</dc:title>
</cp:coreProperties>
</file>