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4A0A-0587-4B5F-86A0-313A084F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C378-308B-4D2A-9754-C5652828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18C2-E9D7-4562-AA22-FAEB3C6D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CA5E-097C-4C39-9141-8BE9CD03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580-0EC3-4D3B-9C93-F54EECE1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D71D-8D0B-4C91-80CE-4C1A4301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FFCD-D022-435F-A4B4-8EA4DE1D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FC3F-F024-409C-806E-D91A5249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BF8C-5D7D-40D5-967B-38AABDDB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50E7-1F0D-4AC6-8BBB-26E6440E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56E6-38F7-4406-B2EC-F9EAD3D4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0394-1ABA-49F1-9623-48DF416C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 Condensed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 Condense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 Condensed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 Condense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 Condensed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54A0A-2A83-4D51-91B7-EDAA3CB99C16}" type="slidenum">
              <a:rPr b="0" lang="en-GB" sz="1400" spc="-1" strike="noStrike">
                <a:solidFill>
                  <a:srgbClr val="000000"/>
                </a:solidFill>
                <a:latin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 Condensed"/>
              </a:rPr>
              <a:t>This is an Item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 Condensed"/>
              </a:rPr>
              <a:t>This is another item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</dc:creator>
  <dc:description/>
  <dc:language>en-US</dc:language>
  <cp:lastModifiedBy/>
  <cp:revision>0</cp:revision>
  <dc:subject/>
  <dc:title/>
</cp:coreProperties>
</file>