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65E-8520-45F0-8DFE-E6AB53E4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F09-3F92-4965-B53F-E740E70E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C90-4280-4B27-B390-FE5645AB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736-8392-4C85-87ED-F661CD72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091-D486-472E-9EBE-82E06D8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7DA-6F65-4760-90B9-AEEE30DE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49C-4899-4858-93F0-1F89BC46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F56-13B8-411E-B445-53809C7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394-DC72-43B2-8773-3DE87CCA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A93-B389-4641-B3FC-3AF7617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91D-4521-42D4-AA97-D1BDA22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994-7880-4C2E-8C30-6579421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5961-076F-45DB-9DC6-6FBEA5F0B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522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5228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52280"/>
            <a:ext cx="1214280" cy="1214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52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1522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5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14300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143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143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600200"/>
            <a:ext cx="914400" cy="91440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143000"/>
            <a:ext cx="961920" cy="9144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143000"/>
            <a:ext cx="914400" cy="1214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11430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133720"/>
            <a:ext cx="1043280" cy="10429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13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590920"/>
            <a:ext cx="914400" cy="9144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28600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4382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4382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43828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7672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276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760" y="3276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581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581280"/>
            <a:ext cx="106668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429000"/>
            <a:ext cx="914400" cy="914400"/>
          </a:xfrm>
          <a:custGeom>
            <a:avLst/>
            <a:gdLst>
              <a:gd name="textAreaLeft" fmla="*/ 107640 w 914400"/>
              <a:gd name="textAreaRight" fmla="*/ 806760 w 9144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429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4290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429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2280" y="152280"/>
            <a:ext cx="91440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152280"/>
            <a:ext cx="4572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152280"/>
            <a:ext cx="685800" cy="3812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28600"/>
            <a:ext cx="914400" cy="30492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152280"/>
            <a:ext cx="609480" cy="60984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52280"/>
            <a:ext cx="457200" cy="381240"/>
          </a:xfrm>
          <a:prstGeom prst="flowChartInternal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2200" y="152280"/>
            <a:ext cx="914400" cy="38124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152280"/>
            <a:ext cx="757080" cy="6858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685800"/>
            <a:ext cx="91440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914400"/>
            <a:ext cx="1062000" cy="304920"/>
          </a:xfrm>
          <a:prstGeom prst="flowChartPrepa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838080"/>
            <a:ext cx="533520" cy="45720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838080"/>
            <a:ext cx="685800" cy="381240"/>
          </a:xfrm>
          <a:prstGeom prst="flowChartManualOpe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990720"/>
            <a:ext cx="6858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914400"/>
            <a:ext cx="380880" cy="609480"/>
          </a:xfrm>
          <a:prstGeom prst="flowChartOffpage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838080"/>
            <a:ext cx="914400" cy="53352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990720"/>
            <a:ext cx="609480" cy="49536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990720"/>
            <a:ext cx="609480" cy="38088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371600"/>
            <a:ext cx="304560" cy="60948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447920"/>
            <a:ext cx="685800" cy="53316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1447920"/>
            <a:ext cx="304560" cy="114300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1523880"/>
            <a:ext cx="380880" cy="38124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1523880"/>
            <a:ext cx="99072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1752480"/>
            <a:ext cx="914400" cy="38124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1600200"/>
            <a:ext cx="381240" cy="609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1676520"/>
            <a:ext cx="304560" cy="6094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1752480"/>
            <a:ext cx="1447920" cy="3812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1600200"/>
            <a:ext cx="914400" cy="11430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09680"/>
            <a:ext cx="762120" cy="457200"/>
          </a:xfrm>
          <a:prstGeom prst="flowChartDisp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45720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4572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457200"/>
            <a:ext cx="9144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57200"/>
            <a:ext cx="914400" cy="60948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457200"/>
            <a:ext cx="914400" cy="6094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905120"/>
            <a:ext cx="914400" cy="3045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1828800"/>
            <a:ext cx="1062000" cy="609480"/>
          </a:xfrm>
          <a:prstGeom prst="flowChartPrepa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1905120"/>
            <a:ext cx="914400" cy="45720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1828800"/>
            <a:ext cx="914400" cy="609480"/>
          </a:xfrm>
          <a:prstGeom prst="flowChartManualOpe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18288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96080" y="1752480"/>
            <a:ext cx="609840" cy="609840"/>
          </a:xfrm>
          <a:prstGeom prst="flowChartOffpage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124080"/>
            <a:ext cx="914400" cy="80028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3048120"/>
            <a:ext cx="914400" cy="79992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12408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200400"/>
            <a:ext cx="68580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67480" y="3200400"/>
            <a:ext cx="914400" cy="60948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5181480"/>
            <a:ext cx="609480" cy="609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029200"/>
            <a:ext cx="609840" cy="6094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5943600"/>
            <a:ext cx="914400" cy="609480"/>
          </a:xfrm>
          <a:prstGeom prst="flowChartDisp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6095880"/>
            <a:ext cx="91440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3049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380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04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228600"/>
            <a:ext cx="96228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010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175248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17524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1752480"/>
            <a:ext cx="1214280" cy="762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048120"/>
            <a:ext cx="1214640" cy="76176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3048120"/>
            <a:ext cx="1143000" cy="1028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304812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3048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24480" y="3048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0880" y="3049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380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9000" y="304920"/>
            <a:ext cx="914400" cy="914400"/>
          </a:xfrm>
          <a:custGeom>
            <a:avLst/>
            <a:gdLst>
              <a:gd name="textAreaLeft" fmla="*/ 328680 w 914400"/>
              <a:gd name="textAreaRight" fmla="*/ 585720 w 914400"/>
              <a:gd name="textAreaTop" fmla="*/ 328680 h 914400"/>
              <a:gd name="textAreaBottom" fmla="*/ 585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66" y="7766"/>
                </a:lnTo>
                <a:lnTo>
                  <a:pt x="10800" y="0"/>
                </a:lnTo>
                <a:lnTo>
                  <a:pt x="13834" y="7766"/>
                </a:lnTo>
                <a:lnTo>
                  <a:pt x="21600" y="10800"/>
                </a:lnTo>
                <a:lnTo>
                  <a:pt x="13834" y="13834"/>
                </a:lnTo>
                <a:lnTo>
                  <a:pt x="10800" y="21600"/>
                </a:lnTo>
                <a:lnTo>
                  <a:pt x="7766" y="1383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28600"/>
            <a:ext cx="96228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04920"/>
            <a:ext cx="914400" cy="914400"/>
          </a:xfrm>
          <a:custGeom>
            <a:avLst/>
            <a:gdLst>
              <a:gd name="textAreaLeft" fmla="*/ 332640 w 914400"/>
              <a:gd name="textAreaRight" fmla="*/ 581760 w 914400"/>
              <a:gd name="textAreaTop" fmla="*/ 332640 h 914400"/>
              <a:gd name="textAreaBottom" fmla="*/ 581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41" y="12359"/>
                </a:lnTo>
                <a:lnTo>
                  <a:pt x="3163" y="18437"/>
                </a:lnTo>
                <a:lnTo>
                  <a:pt x="9174" y="14631"/>
                </a:lnTo>
                <a:lnTo>
                  <a:pt x="10800" y="21600"/>
                </a:lnTo>
                <a:lnTo>
                  <a:pt x="12359" y="14659"/>
                </a:lnTo>
                <a:lnTo>
                  <a:pt x="18437" y="18437"/>
                </a:lnTo>
                <a:lnTo>
                  <a:pt x="14631" y="12426"/>
                </a:lnTo>
                <a:lnTo>
                  <a:pt x="21600" y="10800"/>
                </a:lnTo>
                <a:lnTo>
                  <a:pt x="14659" y="9241"/>
                </a:lnTo>
                <a:lnTo>
                  <a:pt x="18437" y="3163"/>
                </a:lnTo>
                <a:lnTo>
                  <a:pt x="12426" y="6969"/>
                </a:lnTo>
                <a:lnTo>
                  <a:pt x="10800" y="0"/>
                </a:lnTo>
                <a:lnTo>
                  <a:pt x="9241" y="6941"/>
                </a:lnTo>
                <a:lnTo>
                  <a:pt x="3163" y="3163"/>
                </a:lnTo>
                <a:lnTo>
                  <a:pt x="6969" y="91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1000" y="304920"/>
            <a:ext cx="914400" cy="914400"/>
          </a:xfrm>
          <a:custGeom>
            <a:avLst/>
            <a:gdLst>
              <a:gd name="textAreaLeft" fmla="*/ 181080 w 914400"/>
              <a:gd name="textAreaRight" fmla="*/ 733320 w 914400"/>
              <a:gd name="textAreaTop" fmla="*/ 181080 h 914400"/>
              <a:gd name="textAreaBottom" fmla="*/ 733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744" y="12560"/>
                </a:lnTo>
                <a:lnTo>
                  <a:pt x="786" y="14846"/>
                </a:lnTo>
                <a:lnTo>
                  <a:pt x="3063" y="15824"/>
                </a:lnTo>
                <a:lnTo>
                  <a:pt x="3163" y="18437"/>
                </a:lnTo>
                <a:lnTo>
                  <a:pt x="5641" y="18448"/>
                </a:lnTo>
                <a:lnTo>
                  <a:pt x="6580" y="20741"/>
                </a:lnTo>
                <a:lnTo>
                  <a:pt x="8882" y="19823"/>
                </a:lnTo>
                <a:lnTo>
                  <a:pt x="10800" y="21600"/>
                </a:lnTo>
                <a:lnTo>
                  <a:pt x="12560" y="19856"/>
                </a:lnTo>
                <a:lnTo>
                  <a:pt x="14846" y="20814"/>
                </a:lnTo>
                <a:lnTo>
                  <a:pt x="15824" y="18537"/>
                </a:lnTo>
                <a:lnTo>
                  <a:pt x="18437" y="18437"/>
                </a:lnTo>
                <a:lnTo>
                  <a:pt x="18448" y="15959"/>
                </a:lnTo>
                <a:lnTo>
                  <a:pt x="20741" y="15020"/>
                </a:lnTo>
                <a:lnTo>
                  <a:pt x="19823" y="12718"/>
                </a:lnTo>
                <a:lnTo>
                  <a:pt x="21600" y="10800"/>
                </a:lnTo>
                <a:lnTo>
                  <a:pt x="19856" y="9040"/>
                </a:lnTo>
                <a:lnTo>
                  <a:pt x="20814" y="6754"/>
                </a:lnTo>
                <a:lnTo>
                  <a:pt x="18537" y="5776"/>
                </a:lnTo>
                <a:lnTo>
                  <a:pt x="18437" y="3163"/>
                </a:lnTo>
                <a:lnTo>
                  <a:pt x="15959" y="3152"/>
                </a:lnTo>
                <a:lnTo>
                  <a:pt x="15020" y="859"/>
                </a:lnTo>
                <a:lnTo>
                  <a:pt x="12718" y="1777"/>
                </a:lnTo>
                <a:lnTo>
                  <a:pt x="10800" y="0"/>
                </a:lnTo>
                <a:lnTo>
                  <a:pt x="9040" y="1744"/>
                </a:lnTo>
                <a:lnTo>
                  <a:pt x="6754" y="786"/>
                </a:lnTo>
                <a:lnTo>
                  <a:pt x="5776" y="3063"/>
                </a:lnTo>
                <a:lnTo>
                  <a:pt x="3163" y="3163"/>
                </a:lnTo>
                <a:lnTo>
                  <a:pt x="3152" y="5641"/>
                </a:lnTo>
                <a:lnTo>
                  <a:pt x="859" y="6580"/>
                </a:lnTo>
                <a:lnTo>
                  <a:pt x="1777" y="888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1752480"/>
            <a:ext cx="914400" cy="914400"/>
          </a:xfrm>
          <a:custGeom>
            <a:avLst/>
            <a:gdLst>
              <a:gd name="textAreaLeft" fmla="*/ 330480 w 914400"/>
              <a:gd name="textAreaRight" fmla="*/ 583920 w 914400"/>
              <a:gd name="textAreaTop" fmla="*/ 330480 h 914400"/>
              <a:gd name="textAreaBottom" fmla="*/ 583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595" y="11316"/>
                </a:lnTo>
                <a:lnTo>
                  <a:pt x="368" y="13595"/>
                </a:lnTo>
                <a:lnTo>
                  <a:pt x="6872" y="12387"/>
                </a:lnTo>
                <a:lnTo>
                  <a:pt x="1447" y="16200"/>
                </a:lnTo>
                <a:lnTo>
                  <a:pt x="7416" y="13350"/>
                </a:lnTo>
                <a:lnTo>
                  <a:pt x="3163" y="18437"/>
                </a:lnTo>
                <a:lnTo>
                  <a:pt x="8191" y="14139"/>
                </a:lnTo>
                <a:lnTo>
                  <a:pt x="5400" y="20153"/>
                </a:lnTo>
                <a:lnTo>
                  <a:pt x="9144" y="14700"/>
                </a:lnTo>
                <a:lnTo>
                  <a:pt x="8005" y="21232"/>
                </a:lnTo>
                <a:lnTo>
                  <a:pt x="10210" y="14996"/>
                </a:lnTo>
                <a:lnTo>
                  <a:pt x="10800" y="21600"/>
                </a:lnTo>
                <a:lnTo>
                  <a:pt x="11316" y="15005"/>
                </a:lnTo>
                <a:lnTo>
                  <a:pt x="13595" y="21232"/>
                </a:lnTo>
                <a:lnTo>
                  <a:pt x="12387" y="14728"/>
                </a:lnTo>
                <a:lnTo>
                  <a:pt x="16200" y="20153"/>
                </a:lnTo>
                <a:lnTo>
                  <a:pt x="13350" y="14184"/>
                </a:lnTo>
                <a:lnTo>
                  <a:pt x="18437" y="18437"/>
                </a:lnTo>
                <a:lnTo>
                  <a:pt x="14139" y="13409"/>
                </a:lnTo>
                <a:lnTo>
                  <a:pt x="20153" y="16200"/>
                </a:lnTo>
                <a:lnTo>
                  <a:pt x="14700" y="12456"/>
                </a:lnTo>
                <a:lnTo>
                  <a:pt x="21232" y="13595"/>
                </a:lnTo>
                <a:lnTo>
                  <a:pt x="14996" y="11390"/>
                </a:lnTo>
                <a:lnTo>
                  <a:pt x="21600" y="10800"/>
                </a:lnTo>
                <a:lnTo>
                  <a:pt x="15005" y="10284"/>
                </a:lnTo>
                <a:lnTo>
                  <a:pt x="21232" y="8005"/>
                </a:lnTo>
                <a:lnTo>
                  <a:pt x="14728" y="9213"/>
                </a:lnTo>
                <a:lnTo>
                  <a:pt x="20153" y="5400"/>
                </a:lnTo>
                <a:lnTo>
                  <a:pt x="14184" y="8250"/>
                </a:lnTo>
                <a:lnTo>
                  <a:pt x="18437" y="3163"/>
                </a:lnTo>
                <a:lnTo>
                  <a:pt x="13409" y="7461"/>
                </a:lnTo>
                <a:lnTo>
                  <a:pt x="16200" y="1447"/>
                </a:lnTo>
                <a:lnTo>
                  <a:pt x="12456" y="6900"/>
                </a:lnTo>
                <a:lnTo>
                  <a:pt x="13595" y="368"/>
                </a:lnTo>
                <a:lnTo>
                  <a:pt x="11390" y="6604"/>
                </a:lnTo>
                <a:lnTo>
                  <a:pt x="10800" y="0"/>
                </a:lnTo>
                <a:lnTo>
                  <a:pt x="10284" y="6595"/>
                </a:lnTo>
                <a:lnTo>
                  <a:pt x="8005" y="368"/>
                </a:lnTo>
                <a:lnTo>
                  <a:pt x="9213" y="6872"/>
                </a:lnTo>
                <a:lnTo>
                  <a:pt x="5400" y="1447"/>
                </a:lnTo>
                <a:lnTo>
                  <a:pt x="8250" y="7416"/>
                </a:lnTo>
                <a:lnTo>
                  <a:pt x="3163" y="3163"/>
                </a:lnTo>
                <a:lnTo>
                  <a:pt x="7461" y="8191"/>
                </a:lnTo>
                <a:lnTo>
                  <a:pt x="1447" y="5400"/>
                </a:lnTo>
                <a:lnTo>
                  <a:pt x="6900" y="9144"/>
                </a:lnTo>
                <a:lnTo>
                  <a:pt x="368" y="8005"/>
                </a:lnTo>
                <a:lnTo>
                  <a:pt x="6604" y="1021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1752480"/>
            <a:ext cx="914400" cy="914400"/>
          </a:xfrm>
          <a:custGeom>
            <a:avLst/>
            <a:gdLst>
              <a:gd name="textAreaLeft" fmla="*/ 168480 w 914400"/>
              <a:gd name="textAreaRight" fmla="*/ 745920 w 914400"/>
              <a:gd name="textAreaTop" fmla="*/ 168480 h 914400"/>
              <a:gd name="textAreaBottom" fmla="*/ 745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00" y="11640"/>
                </a:lnTo>
                <a:lnTo>
                  <a:pt x="198" y="12861"/>
                </a:lnTo>
                <a:lnTo>
                  <a:pt x="1536" y="13456"/>
                </a:lnTo>
                <a:lnTo>
                  <a:pt x="786" y="14846"/>
                </a:lnTo>
                <a:lnTo>
                  <a:pt x="2291" y="15324"/>
                </a:lnTo>
                <a:lnTo>
                  <a:pt x="1742" y="16682"/>
                </a:lnTo>
                <a:lnTo>
                  <a:pt x="3311" y="16865"/>
                </a:lnTo>
                <a:lnTo>
                  <a:pt x="3163" y="18437"/>
                </a:lnTo>
                <a:lnTo>
                  <a:pt x="4605" y="18182"/>
                </a:lnTo>
                <a:lnTo>
                  <a:pt x="4761" y="19754"/>
                </a:lnTo>
                <a:lnTo>
                  <a:pt x="6128" y="19229"/>
                </a:lnTo>
                <a:lnTo>
                  <a:pt x="6580" y="20741"/>
                </a:lnTo>
                <a:lnTo>
                  <a:pt x="7982" y="20016"/>
                </a:lnTo>
                <a:lnTo>
                  <a:pt x="8555" y="21364"/>
                </a:lnTo>
                <a:lnTo>
                  <a:pt x="9793" y="20384"/>
                </a:lnTo>
                <a:lnTo>
                  <a:pt x="10800" y="21600"/>
                </a:lnTo>
                <a:lnTo>
                  <a:pt x="11640" y="20400"/>
                </a:lnTo>
                <a:lnTo>
                  <a:pt x="12861" y="21402"/>
                </a:lnTo>
                <a:lnTo>
                  <a:pt x="13456" y="20064"/>
                </a:lnTo>
                <a:lnTo>
                  <a:pt x="14846" y="20814"/>
                </a:lnTo>
                <a:lnTo>
                  <a:pt x="15324" y="19309"/>
                </a:lnTo>
                <a:lnTo>
                  <a:pt x="16682" y="19858"/>
                </a:lnTo>
                <a:lnTo>
                  <a:pt x="16865" y="18289"/>
                </a:lnTo>
                <a:lnTo>
                  <a:pt x="18437" y="18437"/>
                </a:lnTo>
                <a:lnTo>
                  <a:pt x="18182" y="16995"/>
                </a:lnTo>
                <a:lnTo>
                  <a:pt x="19754" y="16839"/>
                </a:lnTo>
                <a:lnTo>
                  <a:pt x="19229" y="15472"/>
                </a:lnTo>
                <a:lnTo>
                  <a:pt x="20741" y="15020"/>
                </a:lnTo>
                <a:lnTo>
                  <a:pt x="20016" y="13618"/>
                </a:lnTo>
                <a:lnTo>
                  <a:pt x="21364" y="13045"/>
                </a:lnTo>
                <a:lnTo>
                  <a:pt x="20384" y="11807"/>
                </a:lnTo>
                <a:lnTo>
                  <a:pt x="21600" y="10800"/>
                </a:lnTo>
                <a:lnTo>
                  <a:pt x="20400" y="9960"/>
                </a:lnTo>
                <a:lnTo>
                  <a:pt x="21402" y="8739"/>
                </a:lnTo>
                <a:lnTo>
                  <a:pt x="20064" y="8144"/>
                </a:lnTo>
                <a:lnTo>
                  <a:pt x="20814" y="6754"/>
                </a:lnTo>
                <a:lnTo>
                  <a:pt x="19309" y="6276"/>
                </a:lnTo>
                <a:lnTo>
                  <a:pt x="19858" y="4918"/>
                </a:lnTo>
                <a:lnTo>
                  <a:pt x="18289" y="4735"/>
                </a:lnTo>
                <a:lnTo>
                  <a:pt x="18437" y="3163"/>
                </a:lnTo>
                <a:lnTo>
                  <a:pt x="16995" y="3418"/>
                </a:lnTo>
                <a:lnTo>
                  <a:pt x="16839" y="1846"/>
                </a:lnTo>
                <a:lnTo>
                  <a:pt x="15472" y="2371"/>
                </a:lnTo>
                <a:lnTo>
                  <a:pt x="15020" y="859"/>
                </a:lnTo>
                <a:lnTo>
                  <a:pt x="13618" y="1584"/>
                </a:lnTo>
                <a:lnTo>
                  <a:pt x="13045" y="236"/>
                </a:lnTo>
                <a:lnTo>
                  <a:pt x="11807" y="1216"/>
                </a:lnTo>
                <a:lnTo>
                  <a:pt x="10800" y="0"/>
                </a:lnTo>
                <a:lnTo>
                  <a:pt x="9960" y="1200"/>
                </a:lnTo>
                <a:lnTo>
                  <a:pt x="8739" y="198"/>
                </a:lnTo>
                <a:lnTo>
                  <a:pt x="8144" y="1536"/>
                </a:lnTo>
                <a:lnTo>
                  <a:pt x="6754" y="786"/>
                </a:lnTo>
                <a:lnTo>
                  <a:pt x="6276" y="2291"/>
                </a:lnTo>
                <a:lnTo>
                  <a:pt x="4918" y="1742"/>
                </a:lnTo>
                <a:lnTo>
                  <a:pt x="4735" y="3311"/>
                </a:lnTo>
                <a:lnTo>
                  <a:pt x="3163" y="3163"/>
                </a:lnTo>
                <a:lnTo>
                  <a:pt x="3418" y="4605"/>
                </a:lnTo>
                <a:lnTo>
                  <a:pt x="1846" y="4761"/>
                </a:lnTo>
                <a:lnTo>
                  <a:pt x="2371" y="6128"/>
                </a:lnTo>
                <a:lnTo>
                  <a:pt x="859" y="6580"/>
                </a:lnTo>
                <a:lnTo>
                  <a:pt x="1584" y="7982"/>
                </a:lnTo>
                <a:lnTo>
                  <a:pt x="236" y="8555"/>
                </a:lnTo>
                <a:lnTo>
                  <a:pt x="1216" y="9793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1752480"/>
            <a:ext cx="1214280" cy="609840"/>
          </a:xfrm>
          <a:custGeom>
            <a:avLst/>
            <a:gdLst>
              <a:gd name="textAreaLeft" fmla="*/ 446040 w 1214280"/>
              <a:gd name="textAreaRight" fmla="*/ 768240 w 12142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10634" y="21600"/>
                </a:moveTo>
                <a:lnTo>
                  <a:pt x="10634" y="21600"/>
                </a:lnTo>
                <a:cubicBezTo>
                  <a:pt x="10634" y="21600"/>
                  <a:pt x="10214" y="21600"/>
                  <a:pt x="9794" y="21600"/>
                </a:cubicBezTo>
                <a:lnTo>
                  <a:pt x="0" y="21600"/>
                </a:lnTo>
                <a:lnTo>
                  <a:pt x="2750" y="10800"/>
                </a:lnTo>
                <a:lnTo>
                  <a:pt x="0" y="0"/>
                </a:lnTo>
                <a:lnTo>
                  <a:pt x="7934" y="0"/>
                </a:lnTo>
                <a:lnTo>
                  <a:pt x="7934" y="0"/>
                </a:lnTo>
                <a:cubicBezTo>
                  <a:pt x="7934" y="0"/>
                  <a:pt x="8354" y="0"/>
                  <a:pt x="8774" y="0"/>
                </a:cubicBezTo>
                <a:lnTo>
                  <a:pt x="12826" y="0"/>
                </a:lnTo>
                <a:cubicBezTo>
                  <a:pt x="13246" y="0"/>
                  <a:pt x="13666" y="0"/>
                  <a:pt x="13666" y="0"/>
                </a:cubicBezTo>
                <a:lnTo>
                  <a:pt x="13666" y="0"/>
                </a:lnTo>
                <a:lnTo>
                  <a:pt x="21600" y="0"/>
                </a:lnTo>
                <a:lnTo>
                  <a:pt x="18850" y="10800"/>
                </a:lnTo>
                <a:lnTo>
                  <a:pt x="21600" y="21600"/>
                </a:lnTo>
                <a:lnTo>
                  <a:pt x="11806" y="21600"/>
                </a:lnTo>
                <a:cubicBezTo>
                  <a:pt x="11386" y="21600"/>
                  <a:pt x="10966" y="21600"/>
                  <a:pt x="10966" y="21600"/>
                </a:cubicBezTo>
                <a:lnTo>
                  <a:pt x="10966" y="21600"/>
                </a:lnTo>
                <a:close/>
              </a:path>
              <a:path fill="darkenLess" w="21600" h="21600">
                <a:moveTo>
                  <a:pt x="10634" y="21600"/>
                </a:moveTo>
                <a:lnTo>
                  <a:pt x="10634" y="21600"/>
                </a:lnTo>
                <a:cubicBezTo>
                  <a:pt x="10634" y="21600"/>
                  <a:pt x="10214" y="21600"/>
                  <a:pt x="9794" y="21600"/>
                </a:cubicBezTo>
                <a:lnTo>
                  <a:pt x="8774" y="21600"/>
                </a:lnTo>
                <a:cubicBezTo>
                  <a:pt x="8354" y="21600"/>
                  <a:pt x="7934" y="21600"/>
                  <a:pt x="7934" y="21600"/>
                </a:cubicBezTo>
                <a:cubicBezTo>
                  <a:pt x="7934" y="21600"/>
                  <a:pt x="8354" y="21600"/>
                  <a:pt x="8774" y="21600"/>
                </a:cubicBezTo>
                <a:close/>
              </a:path>
              <a:path fill="darkenLess" w="21600" h="21600">
                <a:moveTo>
                  <a:pt x="10966" y="21600"/>
                </a:moveTo>
                <a:lnTo>
                  <a:pt x="10966" y="21600"/>
                </a:lnTo>
                <a:cubicBezTo>
                  <a:pt x="10966" y="21600"/>
                  <a:pt x="11386" y="21600"/>
                  <a:pt x="11806" y="21600"/>
                </a:cubicBezTo>
                <a:lnTo>
                  <a:pt x="12826" y="21600"/>
                </a:lnTo>
                <a:cubicBezTo>
                  <a:pt x="13246" y="21600"/>
                  <a:pt x="13666" y="21600"/>
                  <a:pt x="13666" y="21600"/>
                </a:cubicBezTo>
                <a:cubicBezTo>
                  <a:pt x="13666" y="21600"/>
                  <a:pt x="13246" y="21600"/>
                  <a:pt x="12826" y="21600"/>
                </a:cubicBezTo>
                <a:close/>
              </a:path>
              <a:path fill="darkenLess" w="21600" h="21600">
                <a:moveTo>
                  <a:pt x="7934" y="21600"/>
                </a:moveTo>
                <a:lnTo>
                  <a:pt x="7934" y="0"/>
                </a:lnTo>
              </a:path>
              <a:path fill="darkenLess" w="21600" h="21600">
                <a:moveTo>
                  <a:pt x="13666" y="21600"/>
                </a:moveTo>
                <a:lnTo>
                  <a:pt x="13666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1752480"/>
            <a:ext cx="1214640" cy="609840"/>
          </a:xfrm>
          <a:custGeom>
            <a:avLst/>
            <a:gdLst>
              <a:gd name="textAreaLeft" fmla="*/ 428760 w 1214640"/>
              <a:gd name="textAreaRight" fmla="*/ 785880 w 1214640"/>
              <a:gd name="textAreaTop" fmla="*/ 20340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49" y="0"/>
                </a:lnTo>
                <a:arcTo wR="675" hR="1800" stAng="16200000" swAng="5400000"/>
                <a:lnTo>
                  <a:pt x="10324" y="7200"/>
                </a:lnTo>
                <a:lnTo>
                  <a:pt x="11276" y="7200"/>
                </a:lnTo>
                <a:lnTo>
                  <a:pt x="11276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3976" y="14400"/>
                </a:lnTo>
                <a:lnTo>
                  <a:pt x="13976" y="19800"/>
                </a:lnTo>
                <a:arcTo wR="675" hR="1800" stAng="0" swAng="5400000"/>
                <a:lnTo>
                  <a:pt x="8299" y="21600"/>
                </a:lnTo>
                <a:arcTo wR="675" hR="1800" stAng="5400000" swAng="5400000"/>
                <a:lnTo>
                  <a:pt x="7624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10324" y="1800"/>
                </a:moveTo>
                <a:arcTo wR="675" hR="1800" stAng="0" swAng="5400000"/>
                <a:lnTo>
                  <a:pt x="8299" y="3600"/>
                </a:lnTo>
                <a:arcTo wR="675" hR="1800" stAng="16200000" swAng="-5400000"/>
                <a:arcTo wR="675" hR="1800" stAng="10800000" swAng="-5400000"/>
                <a:lnTo>
                  <a:pt x="10324" y="7200"/>
                </a:lnTo>
              </a:path>
              <a:path fill="none" w="21600" h="21600">
                <a:moveTo>
                  <a:pt x="11276" y="1800"/>
                </a:moveTo>
                <a:arcTo wR="675" hR="1800" stAng="10800000" swAng="-5400000"/>
                <a:lnTo>
                  <a:pt x="13301" y="3600"/>
                </a:lnTo>
                <a:arcTo wR="675" hR="1800" stAng="16200000" swAng="5400000"/>
                <a:arcTo wR="675" hR="1800" stAng="0" swAng="5400000"/>
                <a:lnTo>
                  <a:pt x="11276" y="7200"/>
                </a:lnTo>
              </a:path>
              <a:path fill="none" w="21600" h="21600">
                <a:moveTo>
                  <a:pt x="7624" y="5400"/>
                </a:moveTo>
                <a:lnTo>
                  <a:pt x="7624" y="14400"/>
                </a:lnTo>
              </a:path>
              <a:path fill="none" w="21600" h="21600">
                <a:moveTo>
                  <a:pt x="13976" y="5400"/>
                </a:moveTo>
                <a:lnTo>
                  <a:pt x="13976" y="144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752480"/>
            <a:ext cx="1214280" cy="762120"/>
          </a:xfrm>
          <a:custGeom>
            <a:avLst/>
            <a:gdLst>
              <a:gd name="textAreaLeft" fmla="*/ 151560 w 1214280"/>
              <a:gd name="textAreaRight" fmla="*/ 1062720 w 1214280"/>
              <a:gd name="textAreaTop" fmla="*/ 114120 h 762120"/>
              <a:gd name="textAreaBottom" fmla="*/ 446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8955"/>
                </a:moveTo>
                <a:arcTo wR="21600" hR="44337" stAng="-6342592" swAng="273674"/>
                <a:lnTo>
                  <a:pt x="2700" y="3235"/>
                </a:lnTo>
                <a:arcTo wR="21600" hR="44337" stAng="-6068918" swAng="1337836"/>
                <a:lnTo>
                  <a:pt x="18900" y="6250"/>
                </a:lnTo>
                <a:arcTo wR="21600" hR="44337" stAng="-4731082" swAng="273674"/>
                <a:lnTo>
                  <a:pt x="18900" y="12573"/>
                </a:lnTo>
                <a:lnTo>
                  <a:pt x="21600" y="21600"/>
                </a:lnTo>
                <a:lnTo>
                  <a:pt x="21600" y="21600"/>
                </a:lnTo>
                <a:arcTo wR="21600" hR="44337" stAng="-4457408" swAng="-512420"/>
                <a:lnTo>
                  <a:pt x="16200" y="14053"/>
                </a:lnTo>
                <a:arcTo wR="21600" hR="44337" stAng="-4969828" swAng="-860345"/>
                <a:lnTo>
                  <a:pt x="5400" y="17068"/>
                </a:lnTo>
                <a:arcTo wR="21600" hR="44337" stAng="-5830172" swAng="-512420"/>
                <a:lnTo>
                  <a:pt x="2700" y="12573"/>
                </a:lnTo>
                <a:close/>
              </a:path>
              <a:path fill="none" w="21600" h="21600">
                <a:moveTo>
                  <a:pt x="5400" y="14053"/>
                </a:moveTo>
                <a:arcTo wR="21600" hR="44337" stAng="-5830172" swAng="-238746"/>
                <a:lnTo>
                  <a:pt x="5400" y="17068"/>
                </a:lnTo>
              </a:path>
              <a:path fill="none" w="21600" h="21600">
                <a:moveTo>
                  <a:pt x="16200" y="14053"/>
                </a:moveTo>
                <a:arcTo wR="21600" hR="44337" stAng="-4969828" swAng="238746"/>
                <a:lnTo>
                  <a:pt x="16200" y="17068"/>
                </a:lnTo>
              </a:path>
              <a:path fill="none" w="21600" h="21600">
                <a:moveTo>
                  <a:pt x="2700" y="6250"/>
                </a:moveTo>
                <a:lnTo>
                  <a:pt x="2700" y="15880"/>
                </a:lnTo>
              </a:path>
              <a:path fill="none" w="21600" h="21600">
                <a:moveTo>
                  <a:pt x="18900" y="6250"/>
                </a:moveTo>
                <a:lnTo>
                  <a:pt x="18900" y="1588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048120"/>
            <a:ext cx="1214640" cy="761760"/>
          </a:xfrm>
          <a:custGeom>
            <a:avLst/>
            <a:gdLst>
              <a:gd name="textAreaLeft" fmla="*/ 151560 w 1214640"/>
              <a:gd name="textAreaRight" fmla="*/ 1063080 w 1214640"/>
              <a:gd name="textAreaTop" fmla="*/ 380880 h 761760"/>
              <a:gd name="textAreaBottom" fmla="*/ 658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21600" hR="40306" stAng="6431526" swAng="-297642"/>
                <a:lnTo>
                  <a:pt x="2700" y="18659"/>
                </a:lnTo>
                <a:arcTo wR="21600" hR="40306" stAng="6133884" swAng="-1467767"/>
                <a:lnTo>
                  <a:pt x="18900" y="13259"/>
                </a:lnTo>
                <a:arcTo wR="21600" hR="40306" stAng="4666116" swAng="-297642"/>
                <a:lnTo>
                  <a:pt x="18900" y="7859"/>
                </a:lnTo>
                <a:lnTo>
                  <a:pt x="21600" y="0"/>
                </a:lnTo>
                <a:lnTo>
                  <a:pt x="21600" y="0"/>
                </a:lnTo>
                <a:arcTo wR="21600" hR="40306" stAng="4368474" swAng="558852"/>
                <a:lnTo>
                  <a:pt x="16200" y="9520"/>
                </a:lnTo>
                <a:arcTo wR="21600" hR="40306" stAng="4927327" swAng="945347"/>
                <a:lnTo>
                  <a:pt x="5400" y="4120"/>
                </a:lnTo>
                <a:arcTo wR="21600" hR="40306" stAng="5872673" swAng="558852"/>
                <a:lnTo>
                  <a:pt x="2700" y="7859"/>
                </a:lnTo>
                <a:close/>
              </a:path>
              <a:path fill="none" w="21600" h="21600">
                <a:moveTo>
                  <a:pt x="5400" y="9520"/>
                </a:moveTo>
                <a:arcTo wR="21600" hR="40306" stAng="5872673" swAng="261210"/>
                <a:lnTo>
                  <a:pt x="5400" y="4120"/>
                </a:lnTo>
              </a:path>
              <a:path fill="none" w="21600" h="21600">
                <a:moveTo>
                  <a:pt x="16200" y="9520"/>
                </a:moveTo>
                <a:arcTo wR="21600" hR="40306" stAng="4927327" swAng="-261210"/>
                <a:lnTo>
                  <a:pt x="16200" y="4120"/>
                </a:lnTo>
              </a:path>
              <a:path fill="none" w="21600" h="21600">
                <a:moveTo>
                  <a:pt x="2700" y="13259"/>
                </a:moveTo>
                <a:lnTo>
                  <a:pt x="2700" y="7859"/>
                </a:lnTo>
              </a:path>
              <a:path fill="none" w="21600" h="21600">
                <a:moveTo>
                  <a:pt x="18900" y="13259"/>
                </a:moveTo>
                <a:lnTo>
                  <a:pt x="18900" y="785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048120"/>
            <a:ext cx="1143000" cy="1028520"/>
          </a:xfrm>
          <a:prstGeom prst="verticalScroll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048120"/>
            <a:ext cx="1028520" cy="1143000"/>
          </a:xfrm>
          <a:prstGeom prst="horizontalScroll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048120"/>
            <a:ext cx="914400" cy="914400"/>
          </a:xfrm>
          <a:custGeom>
            <a:avLst/>
            <a:gdLst>
              <a:gd name="textAreaLeft" fmla="*/ 182880 w 914400"/>
              <a:gd name="textAreaRight" fmla="*/ 1097640 w 914400"/>
              <a:gd name="textAreaTop" fmla="*/ 377640 h 914400"/>
              <a:gd name="textAreaBottom" fmla="*/ 536760 h 91440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3048120"/>
            <a:ext cx="914400" cy="914400"/>
          </a:xfrm>
          <a:custGeom>
            <a:avLst/>
            <a:gdLst>
              <a:gd name="textAreaLeft" fmla="*/ 182880 w 914400"/>
              <a:gd name="textAreaRight" fmla="*/ 731520 w 914400"/>
              <a:gd name="textAreaTop" fmla="*/ 50760 h 914400"/>
              <a:gd name="textAreaBottom" fmla="*/ 863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600"/>
                </a:moveTo>
                <a:cubicBezTo>
                  <a:pt x="1440" y="-1526"/>
                  <a:pt x="7200" y="2726"/>
                  <a:pt x="8640" y="600"/>
                </a:cubicBezTo>
                <a:cubicBezTo>
                  <a:pt x="10080" y="-1526"/>
                  <a:pt x="15840" y="2726"/>
                  <a:pt x="17280" y="600"/>
                </a:cubicBezTo>
                <a:lnTo>
                  <a:pt x="21600" y="21000"/>
                </a:lnTo>
                <a:cubicBezTo>
                  <a:pt x="20160" y="23126"/>
                  <a:pt x="14400" y="18874"/>
                  <a:pt x="12960" y="21000"/>
                </a:cubicBezTo>
                <a:cubicBezTo>
                  <a:pt x="11520" y="23126"/>
                  <a:pt x="5760" y="18874"/>
                  <a:pt x="4320" y="210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304920"/>
            <a:ext cx="914400" cy="6094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380880"/>
            <a:ext cx="53352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609480"/>
            <a:ext cx="914400" cy="609840"/>
          </a:xfrm>
          <a:custGeom>
            <a:avLst/>
            <a:gdLst>
              <a:gd name="textAreaLeft" fmla="*/ 376560 w 914400"/>
              <a:gd name="textAreaRight" fmla="*/ 537840 w 91440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304920"/>
            <a:ext cx="50472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3808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80880"/>
            <a:ext cx="1905120" cy="91440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228600"/>
            <a:ext cx="914400" cy="1676520"/>
          </a:xfrm>
          <a:custGeom>
            <a:avLst/>
            <a:gdLst>
              <a:gd name="textAreaLeft" fmla="*/ 208800 w 914400"/>
              <a:gd name="textAreaRight" fmla="*/ 705600 w 91440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1143000"/>
            <a:ext cx="914400" cy="1752480"/>
          </a:xfrm>
          <a:custGeom>
            <a:avLst/>
            <a:gdLst>
              <a:gd name="textAreaLeft" fmla="*/ 208800 w 914400"/>
              <a:gd name="textAreaRight" fmla="*/ 705600 w 9144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1447920"/>
            <a:ext cx="1752480" cy="38088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0 h 380880"/>
              <a:gd name="textAreaBottom" fmla="*/ 333360 h 3808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7920" y="2057400"/>
            <a:ext cx="1752480" cy="3049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381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1447920"/>
            <a:ext cx="1214280" cy="4572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1981080"/>
            <a:ext cx="1214280" cy="4572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14120 h 457200"/>
              <a:gd name="textAreaBottom" fmla="*/ 443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1295280"/>
            <a:ext cx="1066680" cy="179100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1600200"/>
            <a:ext cx="685800" cy="16765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2057400"/>
            <a:ext cx="990360" cy="304920"/>
          </a:xfrm>
          <a:custGeom>
            <a:avLst/>
            <a:gdLst>
              <a:gd name="textAreaLeft" fmla="*/ 0 w 990360"/>
              <a:gd name="textAreaRight" fmla="*/ 990720 w 990360"/>
              <a:gd name="textAreaTop" fmla="*/ 39240 h 304920"/>
              <a:gd name="textAreaBottom" fmla="*/ 2656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2514600"/>
            <a:ext cx="1447920" cy="533520"/>
          </a:xfrm>
          <a:custGeom>
            <a:avLst/>
            <a:gdLst>
              <a:gd name="textAreaLeft" fmla="*/ 0 w 1447920"/>
              <a:gd name="textAreaRight" fmla="*/ 1448280 w 144792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3049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80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304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228600"/>
            <a:ext cx="96228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00400" y="1905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04920" y="38088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3808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19520" y="3808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38088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4560" y="345960"/>
            <a:ext cx="914400" cy="914400"/>
          </a:xfrm>
          <a:prstGeom prst="borderCallout1">
            <a:avLst>
              <a:gd name="adj1" fmla="val -1800"/>
              <a:gd name="adj2" fmla="val 22950"/>
              <a:gd name="adj3" fmla="val -1800"/>
              <a:gd name="adj4" fmla="val 27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5720" y="6094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152388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7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15238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160020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64240" y="15969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3000" y="172260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26160" y="17906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5960" y="29257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31960" y="29354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38480" y="293544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3840" y="29354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27640" y="2963880"/>
            <a:ext cx="91440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3000" y="295416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457200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45720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04920" y="380880"/>
            <a:ext cx="914400" cy="609840"/>
          </a:xfrm>
          <a:prstGeom prst="wedgeRectCallout">
            <a:avLst>
              <a:gd name="adj1" fmla="val 57291"/>
              <a:gd name="adj2" fmla="val 12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380880"/>
            <a:ext cx="914400" cy="609840"/>
          </a:xfrm>
          <a:prstGeom prst="wedgeRoundRectCallout">
            <a:avLst>
              <a:gd name="adj1" fmla="val -24824"/>
              <a:gd name="adj2" fmla="val 13489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380880"/>
            <a:ext cx="914400" cy="609840"/>
          </a:xfrm>
          <a:prstGeom prst="wedgeEllipseCallout">
            <a:avLst>
              <a:gd name="adj1" fmla="val 105731"/>
              <a:gd name="adj2" fmla="val 145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380880"/>
            <a:ext cx="914400" cy="609840"/>
          </a:xfrm>
          <a:prstGeom prst="cloudCallout">
            <a:avLst>
              <a:gd name="adj1" fmla="val 25694"/>
              <a:gd name="adj2" fmla="val 150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21360" y="345960"/>
            <a:ext cx="914400" cy="914400"/>
          </a:xfrm>
          <a:prstGeom prst="borderCallout1">
            <a:avLst>
              <a:gd name="adj1" fmla="val 23400"/>
              <a:gd name="adj2" fmla="val 32700"/>
              <a:gd name="adj3" fmla="val 23400"/>
              <a:gd name="adj4" fmla="val 27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6094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88282"/>
              <a:gd name="adj4" fmla="val 112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44792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495"/>
              <a:gd name="adj5" fmla="val 235416"/>
              <a:gd name="adj6" fmla="val 1456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28800" y="15238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45113"/>
                </a:lnTo>
                <a:lnTo>
                  <a:pt x="15863" y="5169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28840" y="160020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3090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18288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138" y="396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24480" y="1752480"/>
            <a:ext cx="914400" cy="60984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26160" y="17906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9588"/>
                </a:lnTo>
                <a:lnTo>
                  <a:pt x="22275" y="336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29257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3660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9718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413" y="56700"/>
                </a:moveTo>
                <a:lnTo>
                  <a:pt x="23400" y="40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38480" y="293544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28954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3625"/>
                </a:lnTo>
                <a:lnTo>
                  <a:pt x="33263" y="26775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2743200"/>
            <a:ext cx="91440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43800" y="27432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38" y="3279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4495680"/>
            <a:ext cx="914400" cy="60984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45720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16313"/>
                </a:lnTo>
                <a:lnTo>
                  <a:pt x="-37763" y="18281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920" y="380880"/>
            <a:ext cx="533160" cy="228600"/>
          </a:xfrm>
          <a:prstGeom prst="wedgeRectCallout">
            <a:avLst>
              <a:gd name="adj1" fmla="val -39287"/>
              <a:gd name="adj2" fmla="val 2701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80880"/>
            <a:ext cx="914400" cy="228600"/>
          </a:xfrm>
          <a:prstGeom prst="wedgeRoundRectCallout">
            <a:avLst>
              <a:gd name="adj1" fmla="val -43518"/>
              <a:gd name="adj2" fmla="val 27013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380880"/>
            <a:ext cx="457200" cy="609840"/>
          </a:xfrm>
          <a:prstGeom prst="wedgeEllipseCallout">
            <a:avLst>
              <a:gd name="adj1" fmla="val -3750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38480" y="685800"/>
            <a:ext cx="533520" cy="304920"/>
          </a:xfrm>
          <a:prstGeom prst="cloudCallout">
            <a:avLst>
              <a:gd name="adj1" fmla="val -39287"/>
              <a:gd name="adj2" fmla="val 901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4560" y="914400"/>
            <a:ext cx="914400" cy="345960"/>
          </a:xfrm>
          <a:prstGeom prst="borderCallout1">
            <a:avLst>
              <a:gd name="adj1" fmla="val -1800"/>
              <a:gd name="adj2" fmla="val 25167"/>
              <a:gd name="adj3" fmla="val -1800"/>
              <a:gd name="adj4" fmla="val 7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609480"/>
            <a:ext cx="533520" cy="609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137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1523880"/>
            <a:ext cx="68580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22222"/>
              <a:gd name="adj5" fmla="val 300000"/>
              <a:gd name="adj6" fmla="val -62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523880"/>
            <a:ext cx="9144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10800"/>
                </a:moveTo>
                <a:lnTo>
                  <a:pt x="25200" y="10800"/>
                </a:lnTo>
                <a:lnTo>
                  <a:pt x="25200" y="57600"/>
                </a:lnTo>
                <a:lnTo>
                  <a:pt x="23400" y="651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213372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0" y="24840"/>
                </a:moveTo>
                <a:lnTo>
                  <a:pt x="-5400" y="648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1596960"/>
            <a:ext cx="954360" cy="23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4" y="63912"/>
                </a:moveTo>
                <a:lnTo>
                  <a:pt x="-1725" y="10652"/>
                </a:lnTo>
              </a:path>
              <a:path w="21600" h="21600">
                <a:moveTo>
                  <a:pt x="-1725" y="0"/>
                </a:moveTo>
                <a:lnTo>
                  <a:pt x="-172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3600" y="1722600"/>
            <a:ext cx="10638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26160" y="1790640"/>
            <a:ext cx="13892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85" y="4000"/>
                </a:moveTo>
                <a:lnTo>
                  <a:pt x="23081" y="4000"/>
                </a:lnTo>
                <a:lnTo>
                  <a:pt x="23081" y="21600"/>
                </a:lnTo>
                <a:lnTo>
                  <a:pt x="15404" y="24413"/>
                </a:lnTo>
              </a:path>
              <a:path w="21600" h="21600">
                <a:moveTo>
                  <a:pt x="22785" y="0"/>
                </a:moveTo>
                <a:lnTo>
                  <a:pt x="2278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5960" y="3429000"/>
            <a:ext cx="416160" cy="41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57" y="24602"/>
                </a:moveTo>
                <a:lnTo>
                  <a:pt x="-3957" y="6005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31960" y="2286000"/>
            <a:ext cx="914400" cy="12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2907"/>
                </a:moveTo>
                <a:lnTo>
                  <a:pt x="-1800" y="1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38480" y="3352680"/>
            <a:ext cx="914400" cy="19224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2590920"/>
            <a:ext cx="1374840" cy="95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97" y="2588"/>
                </a:moveTo>
                <a:lnTo>
                  <a:pt x="23994" y="2588"/>
                </a:lnTo>
                <a:lnTo>
                  <a:pt x="23994" y="20522"/>
                </a:lnTo>
                <a:lnTo>
                  <a:pt x="22797" y="23397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91440" y="3297240"/>
            <a:ext cx="58896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2954160"/>
            <a:ext cx="68868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66" y="15896"/>
                </a:moveTo>
                <a:lnTo>
                  <a:pt x="-2389" y="2649"/>
                </a:lnTo>
              </a:path>
              <a:path w="21600" h="21600">
                <a:moveTo>
                  <a:pt x="-2389" y="0"/>
                </a:moveTo>
                <a:lnTo>
                  <a:pt x="-2389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66680" y="4572000"/>
            <a:ext cx="60984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457200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4300" y="4000"/>
                </a:moveTo>
                <a:lnTo>
                  <a:pt x="37800" y="4000"/>
                </a:lnTo>
                <a:lnTo>
                  <a:pt x="37800" y="21600"/>
                </a:lnTo>
                <a:lnTo>
                  <a:pt x="35100" y="24413"/>
                </a:lnTo>
              </a:path>
              <a:path w="21600" h="21600">
                <a:moveTo>
                  <a:pt x="24300" y="0"/>
                </a:moveTo>
                <a:lnTo>
                  <a:pt x="243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38088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00200" y="3808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3808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52280"/>
            <a:ext cx="1214280" cy="914400"/>
          </a:xfrm>
          <a:prstGeom prst="parallelogram">
            <a:avLst>
              <a:gd name="adj" fmla="val 84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52280"/>
            <a:ext cx="1214640" cy="914400"/>
          </a:xfrm>
          <a:custGeom>
            <a:avLst/>
            <a:gdLst>
              <a:gd name="textAreaLeft" fmla="*/ 421920 w 1214640"/>
              <a:gd name="textAreaRight" fmla="*/ 792720 w 1214640"/>
              <a:gd name="textAreaTop" fmla="*/ 317880 h 914400"/>
              <a:gd name="textAreaBottom" fmla="*/ 596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238" y="21600"/>
                </a:lnTo>
                <a:lnTo>
                  <a:pt x="1036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52280"/>
            <a:ext cx="1214280" cy="1214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52280"/>
            <a:ext cx="914400" cy="914400"/>
          </a:xfrm>
          <a:prstGeom prst="roundRect">
            <a:avLst>
              <a:gd name="adj" fmla="val 31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152280"/>
            <a:ext cx="914400" cy="914400"/>
          </a:xfrm>
          <a:prstGeom prst="octagon">
            <a:avLst>
              <a:gd name="adj" fmla="val 199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52280"/>
            <a:ext cx="1057320" cy="914400"/>
          </a:xfrm>
          <a:prstGeom prst="triangle">
            <a:avLst>
              <a:gd name="adj" fmla="val 31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14300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143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143000"/>
            <a:ext cx="1057320" cy="914400"/>
          </a:xfrm>
          <a:prstGeom prst="hexagon">
            <a:avLst>
              <a:gd name="adj" fmla="val 2153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914400" cy="914400"/>
          </a:xfrm>
          <a:prstGeom prst="plus">
            <a:avLst>
              <a:gd name="adj" fmla="val 418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143000"/>
            <a:ext cx="961920" cy="9144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1143000"/>
            <a:ext cx="914400" cy="1214280"/>
          </a:xfrm>
          <a:prstGeom prst="can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1143000"/>
            <a:ext cx="1214280" cy="1214280"/>
          </a:xfrm>
          <a:prstGeom prst="cube">
            <a:avLst>
              <a:gd name="adj" fmla="val 55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133720"/>
            <a:ext cx="1043280" cy="1042920"/>
          </a:xfrm>
          <a:prstGeom prst="bevel">
            <a:avLst>
              <a:gd name="adj" fmla="val 30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133720"/>
            <a:ext cx="914400" cy="914400"/>
          </a:xfrm>
          <a:prstGeom prst="foldedCorner">
            <a:avLst>
              <a:gd name="adj" fmla="val 34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133720"/>
            <a:ext cx="914400" cy="914400"/>
          </a:xfrm>
          <a:prstGeom prst="smileyFace">
            <a:avLst>
              <a:gd name="adj" fmla="val 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590920"/>
            <a:ext cx="914400" cy="914400"/>
          </a:xfrm>
          <a:prstGeom prst="donut">
            <a:avLst>
              <a:gd name="adj" fmla="val 35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286000"/>
            <a:ext cx="914400" cy="914400"/>
          </a:xfrm>
          <a:prstGeom prst="noSmoking">
            <a:avLst>
              <a:gd name="adj" fmla="val 1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438280"/>
            <a:ext cx="914400" cy="914400"/>
          </a:xfrm>
          <a:prstGeom prst="blockArc">
            <a:avLst>
              <a:gd name="adj1" fmla="val 8303842"/>
              <a:gd name="adj2" fmla="val 2496158"/>
              <a:gd name="adj3" fmla="val 293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24382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243828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76720"/>
            <a:ext cx="914400" cy="914400"/>
          </a:xfrm>
          <a:prstGeom prst="sun">
            <a:avLst>
              <a:gd name="adj" fmla="val 36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276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13" y="686"/>
                  <a:pt x="3825" y="5080"/>
                  <a:pt x="3825" y="10800"/>
                </a:cubicBezTo>
                <a:cubicBezTo>
                  <a:pt x="3825" y="16520"/>
                  <a:pt x="12713" y="2091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7440"/>
            <a:ext cx="18284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43" y="2444"/>
                </a:moveTo>
                <a:arcTo wR="10800" hR="10800" stAng="-3041045" swAng="3041045"/>
                <a:lnTo>
                  <a:pt x="10800" y="10800"/>
                </a:lnTo>
                <a:close/>
              </a:path>
              <a:path fill="none" w="21600" h="21600">
                <a:moveTo>
                  <a:pt x="17643" y="2444"/>
                </a:moveTo>
                <a:arcTo wR="10800" hR="10800" stAng="-3041045" swAng="304104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3581280"/>
            <a:ext cx="914400" cy="914400"/>
          </a:xfrm>
          <a:prstGeom prst="bracketPair">
            <a:avLst>
              <a:gd name="adj" fmla="val 35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581280"/>
            <a:ext cx="1066680" cy="914400"/>
          </a:xfrm>
          <a:prstGeom prst="bracePair">
            <a:avLst>
              <a:gd name="adj" fmla="val 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429000"/>
            <a:ext cx="914400" cy="914400"/>
          </a:xfrm>
          <a:custGeom>
            <a:avLst/>
            <a:gdLst>
              <a:gd name="textAreaLeft" fmla="*/ 250200 w 914400"/>
              <a:gd name="textAreaRight" fmla="*/ 664200 w 914400"/>
              <a:gd name="textAreaTop" fmla="*/ 250200 h 914400"/>
              <a:gd name="textAreaBottom" fmla="*/ 664200 h 914400"/>
            </a:gdLst>
            <a:ahLst/>
            <a:rect l="textAreaLeft" t="textAreaTop" r="textAreaRight" b="textAreaBottom"/>
            <a:pathLst>
              <a:path w="21600" h="21600">
                <a:moveTo>
                  <a:pt x="8363" y="0"/>
                </a:moveTo>
                <a:arcTo wR="8363" hR="8363" stAng="0" swAng="5400000"/>
                <a:lnTo>
                  <a:pt x="0" y="13237"/>
                </a:lnTo>
                <a:arcTo wR="8363" hR="8363" stAng="16200000" swAng="5400000"/>
                <a:lnTo>
                  <a:pt x="13237" y="21600"/>
                </a:lnTo>
                <a:arcTo wR="8363" hR="8363" stAng="10800000" swAng="5400000"/>
                <a:lnTo>
                  <a:pt x="21600" y="8363"/>
                </a:lnTo>
                <a:arcTo wR="8363" hR="8363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429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163440 h 914400"/>
              <a:gd name="textAreaBottom" fmla="*/ 7509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863"/>
                  <a:pt x="0" y="7725"/>
                </a:cubicBezTo>
                <a:lnTo>
                  <a:pt x="0" y="13875"/>
                </a:lnTo>
                <a:cubicBezTo>
                  <a:pt x="0" y="1773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34290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429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3313"/>
                </a:lnTo>
                <a:cubicBezTo>
                  <a:pt x="10800" y="14213"/>
                  <a:pt x="5400" y="15113"/>
                  <a:pt x="0" y="15113"/>
                </a:cubicBezTo>
                <a:cubicBezTo>
                  <a:pt x="5400" y="15113"/>
                  <a:pt x="10800" y="16013"/>
                  <a:pt x="10800" y="169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975"/>
                </a:lnTo>
                <a:cubicBezTo>
                  <a:pt x="10800" y="4875"/>
                  <a:pt x="16200" y="5775"/>
                  <a:pt x="21600" y="5775"/>
                </a:cubicBezTo>
                <a:cubicBezTo>
                  <a:pt x="16200" y="5775"/>
                  <a:pt x="10800" y="6675"/>
                  <a:pt x="10800" y="75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52280" y="152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1371600" y="152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152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152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152280" y="1295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137160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firstslide"/>
          </p:cNvPr>
          <p:cNvSpPr/>
          <p:nvPr/>
        </p:nvSpPr>
        <p:spPr>
          <a:xfrm>
            <a:off x="259092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" action="ppaction://hlinkshowjump?jump=lastslide"/>
          </p:cNvPr>
          <p:cNvSpPr/>
          <p:nvPr/>
        </p:nvSpPr>
        <p:spPr>
          <a:xfrm>
            <a:off x="3809880" y="1295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152280" y="2514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/>
          </p:cNvPr>
          <p:cNvSpPr/>
          <p:nvPr/>
        </p:nvSpPr>
        <p:spPr>
          <a:xfrm>
            <a:off x="251460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280" y="152280"/>
            <a:ext cx="1043280" cy="1043280"/>
          </a:xfrm>
          <a:custGeom>
            <a:avLst/>
            <a:gdLst>
              <a:gd name="textAreaLeft" fmla="*/ 260640 w 1043280"/>
              <a:gd name="textAreaRight" fmla="*/ 782640 w 1043280"/>
              <a:gd name="textAreaTop" fmla="*/ 260640 h 1043280"/>
              <a:gd name="textAreaBottom" fmla="*/ 78264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1371600" y="152280"/>
            <a:ext cx="1042920" cy="1043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043280"/>
              <a:gd name="textAreaBottom" fmla="*/ 10432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1600" y="21607"/>
                </a:lnTo>
                <a:lnTo>
                  <a:pt x="21600" y="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0" y="21607"/>
                </a:lnTo>
                <a:lnTo>
                  <a:pt x="21600" y="216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0" y="0"/>
                </a:lnTo>
                <a:lnTo>
                  <a:pt x="0" y="21607"/>
                </a:lnTo>
                <a:close/>
              </a:path>
              <a:path fill="darken" w="21600" h="21607">
                <a:moveTo>
                  <a:pt x="10800" y="2804"/>
                </a:moveTo>
                <a:lnTo>
                  <a:pt x="13760" y="5804"/>
                </a:lnTo>
                <a:lnTo>
                  <a:pt x="13760" y="3804"/>
                </a:lnTo>
                <a:lnTo>
                  <a:pt x="15800" y="3804"/>
                </a:lnTo>
                <a:lnTo>
                  <a:pt x="15800" y="7844"/>
                </a:lnTo>
                <a:lnTo>
                  <a:pt x="18800" y="10804"/>
                </a:lnTo>
                <a:lnTo>
                  <a:pt x="16900" y="10804"/>
                </a:lnTo>
                <a:lnTo>
                  <a:pt x="16900" y="19064"/>
                </a:lnTo>
                <a:lnTo>
                  <a:pt x="4700" y="19064"/>
                </a:lnTo>
                <a:lnTo>
                  <a:pt x="4700" y="10804"/>
                </a:lnTo>
                <a:lnTo>
                  <a:pt x="2800" y="10804"/>
                </a:lnTo>
                <a:close/>
              </a:path>
              <a:path fill="darkenLess" w="21600" h="21607">
                <a:moveTo>
                  <a:pt x="13760" y="5804"/>
                </a:moveTo>
                <a:lnTo>
                  <a:pt x="13760" y="3804"/>
                </a:lnTo>
                <a:lnTo>
                  <a:pt x="15800" y="3804"/>
                </a:lnTo>
                <a:lnTo>
                  <a:pt x="15800" y="7844"/>
                </a:lnTo>
                <a:close/>
              </a:path>
              <a:path fill="darkenLess" w="21600" h="21607">
                <a:moveTo>
                  <a:pt x="9740" y="14824"/>
                </a:moveTo>
                <a:lnTo>
                  <a:pt x="11860" y="14824"/>
                </a:lnTo>
                <a:lnTo>
                  <a:pt x="11860" y="19064"/>
                </a:lnTo>
                <a:lnTo>
                  <a:pt x="16900" y="19064"/>
                </a:lnTo>
                <a:lnTo>
                  <a:pt x="16900" y="10804"/>
                </a:lnTo>
                <a:lnTo>
                  <a:pt x="4700" y="10804"/>
                </a:lnTo>
                <a:lnTo>
                  <a:pt x="4700" y="19064"/>
                </a:lnTo>
                <a:lnTo>
                  <a:pt x="9740" y="1906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152280"/>
            <a:ext cx="1042920" cy="1043280"/>
          </a:xfrm>
          <a:custGeom>
            <a:avLst/>
            <a:gdLst>
              <a:gd name="textAreaLeft" fmla="*/ 171360 w 1042920"/>
              <a:gd name="textAreaRight" fmla="*/ 871560 w 1042920"/>
              <a:gd name="textAreaTop" fmla="*/ 171360 h 1043280"/>
              <a:gd name="textAreaBottom" fmla="*/ 87192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049" y="3551"/>
                </a:lnTo>
                <a:lnTo>
                  <a:pt x="3551" y="3551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049" y="18056"/>
                </a:lnTo>
                <a:lnTo>
                  <a:pt x="18049" y="3551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551" y="18056"/>
                </a:lnTo>
                <a:lnTo>
                  <a:pt x="18049" y="18056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551" y="3551"/>
                </a:lnTo>
                <a:lnTo>
                  <a:pt x="3551" y="18056"/>
                </a:lnTo>
                <a:close/>
              </a:path>
              <a:path fill="darken" w="21600" h="21607">
                <a:moveTo>
                  <a:pt x="10800" y="13891"/>
                </a:moveTo>
                <a:arcTo wR="1134" hR="1134" stAng="16200000" swAng="-5400000"/>
                <a:arcTo wR="1134" hR="1134" stAng="10800000" swAng="-5400000"/>
                <a:arcTo wR="1134" hR="1134" stAng="5400000" swAng="-5400000"/>
                <a:arcTo wR="1134" hR="1134" stAng="0" swAng="-5400000"/>
                <a:close/>
              </a:path>
              <a:path fill="darken" w="21600" h="21607">
                <a:moveTo>
                  <a:pt x="11652" y="13489"/>
                </a:moveTo>
                <a:lnTo>
                  <a:pt x="11652" y="11978"/>
                </a:lnTo>
                <a:cubicBezTo>
                  <a:pt x="11652" y="11341"/>
                  <a:pt x="11907" y="10804"/>
                  <a:pt x="12371" y="10804"/>
                </a:cubicBezTo>
                <a:cubicBezTo>
                  <a:pt x="13243" y="10804"/>
                  <a:pt x="13935" y="9750"/>
                  <a:pt x="13935" y="8528"/>
                </a:cubicBezTo>
                <a:cubicBezTo>
                  <a:pt x="13935" y="6743"/>
                  <a:pt x="12505" y="5401"/>
                  <a:pt x="10800" y="5401"/>
                </a:cubicBezTo>
                <a:cubicBezTo>
                  <a:pt x="9095" y="5401"/>
                  <a:pt x="7806" y="6743"/>
                  <a:pt x="7806" y="8528"/>
                </a:cubicBezTo>
                <a:lnTo>
                  <a:pt x="9236" y="8528"/>
                </a:lnTo>
                <a:cubicBezTo>
                  <a:pt x="9236" y="7649"/>
                  <a:pt x="9948" y="6964"/>
                  <a:pt x="10800" y="6964"/>
                </a:cubicBezTo>
                <a:cubicBezTo>
                  <a:pt x="11652" y="6964"/>
                  <a:pt x="12371" y="7649"/>
                  <a:pt x="12371" y="8528"/>
                </a:cubicBezTo>
                <a:cubicBezTo>
                  <a:pt x="12371" y="9099"/>
                  <a:pt x="12008" y="9663"/>
                  <a:pt x="11652" y="9663"/>
                </a:cubicBezTo>
                <a:cubicBezTo>
                  <a:pt x="10800" y="9663"/>
                  <a:pt x="9948" y="10804"/>
                  <a:pt x="9948" y="11978"/>
                </a:cubicBezTo>
                <a:lnTo>
                  <a:pt x="9948" y="134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152280"/>
            <a:ext cx="1043280" cy="1043280"/>
          </a:xfrm>
          <a:custGeom>
            <a:avLst/>
            <a:gdLst>
              <a:gd name="textAreaLeft" fmla="*/ 36360 w 1043280"/>
              <a:gd name="textAreaRight" fmla="*/ 1006920 w 1043280"/>
              <a:gd name="textAreaTop" fmla="*/ 36360 h 1043280"/>
              <a:gd name="textAreaBottom" fmla="*/ 100692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844" y="756"/>
                </a:lnTo>
                <a:lnTo>
                  <a:pt x="756" y="75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844" y="20844"/>
                </a:lnTo>
                <a:lnTo>
                  <a:pt x="20844" y="75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756" y="20844"/>
                </a:lnTo>
                <a:lnTo>
                  <a:pt x="20844" y="2084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756" y="756"/>
                </a:lnTo>
                <a:lnTo>
                  <a:pt x="756" y="20844"/>
                </a:lnTo>
                <a:close/>
              </a:path>
              <a:path fill="darken" w="21600" h="21600">
                <a:moveTo>
                  <a:pt x="10800" y="3314"/>
                </a:moveTo>
                <a:arcTo wR="7487" hR="7487" stAng="16200000" swAng="-5400000"/>
                <a:arcTo wR="7487" hR="7487" stAng="10800000" swAng="-5400000"/>
                <a:arcTo wR="7487" hR="7487" stAng="5400000" swAng="-5400000"/>
                <a:arcTo wR="7487" hR="7487" stAng="0" swAng="-5400000"/>
                <a:close/>
              </a:path>
              <a:path fill="lighten" w="21600" h="21600">
                <a:moveTo>
                  <a:pt x="10800" y="3713"/>
                </a:moveTo>
                <a:arcTo wR="1916" hR="1916" stAng="16200000" swAng="-5400000"/>
                <a:arcTo wR="1916" hR="1916" stAng="10800000" swAng="-5400000"/>
                <a:arcTo wR="1916" hR="1916" stAng="5400000" swAng="-5400000"/>
                <a:arcTo wR="1916" hR="1916" stAng="0" swAng="-5400000"/>
                <a:close/>
              </a:path>
              <a:path fill="lighten" w="21600" h="21600">
                <a:moveTo>
                  <a:pt x="8047" y="8047"/>
                </a:moveTo>
                <a:lnTo>
                  <a:pt x="12176" y="8047"/>
                </a:lnTo>
                <a:lnTo>
                  <a:pt x="12176" y="15524"/>
                </a:lnTo>
                <a:lnTo>
                  <a:pt x="13553" y="15524"/>
                </a:lnTo>
                <a:lnTo>
                  <a:pt x="13553" y="16510"/>
                </a:lnTo>
                <a:lnTo>
                  <a:pt x="8047" y="16510"/>
                </a:lnTo>
                <a:lnTo>
                  <a:pt x="8047" y="15524"/>
                </a:lnTo>
                <a:lnTo>
                  <a:pt x="9424" y="15524"/>
                </a:lnTo>
                <a:lnTo>
                  <a:pt x="9424" y="9014"/>
                </a:lnTo>
                <a:lnTo>
                  <a:pt x="8047" y="90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152280" y="1295280"/>
            <a:ext cx="1043280" cy="1043280"/>
          </a:xfrm>
          <a:custGeom>
            <a:avLst/>
            <a:gdLst>
              <a:gd name="textAreaLeft" fmla="*/ 160200 w 1043280"/>
              <a:gd name="textAreaRight" fmla="*/ 883080 w 1043280"/>
              <a:gd name="textAreaTop" fmla="*/ 160200 h 1043280"/>
              <a:gd name="textAreaBottom" fmla="*/ 88308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279" y="3321"/>
                </a:lnTo>
                <a:lnTo>
                  <a:pt x="3321" y="332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279" y="18279"/>
                </a:lnTo>
                <a:lnTo>
                  <a:pt x="18279" y="332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321" y="18279"/>
                </a:lnTo>
                <a:lnTo>
                  <a:pt x="18279" y="1827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321" y="3321"/>
                </a:lnTo>
                <a:lnTo>
                  <a:pt x="3321" y="18279"/>
                </a:lnTo>
                <a:close/>
              </a:path>
              <a:path fill="darken" w="21600" h="21600">
                <a:moveTo>
                  <a:pt x="5225" y="10800"/>
                </a:moveTo>
                <a:lnTo>
                  <a:pt x="16375" y="5225"/>
                </a:lnTo>
                <a:lnTo>
                  <a:pt x="16375" y="1637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137160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firstslide"/>
          </p:cNvPr>
          <p:cNvSpPr/>
          <p:nvPr/>
        </p:nvSpPr>
        <p:spPr>
          <a:xfrm>
            <a:off x="2590920" y="1295280"/>
            <a:ext cx="1042920" cy="1043280"/>
          </a:xfrm>
          <a:custGeom>
            <a:avLst/>
            <a:gdLst>
              <a:gd name="textAreaLeft" fmla="*/ 123840 w 1042920"/>
              <a:gd name="textAreaRight" fmla="*/ 919080 w 1042920"/>
              <a:gd name="textAreaTop" fmla="*/ 123840 h 1043280"/>
              <a:gd name="textAreaBottom" fmla="*/ 91944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9036" y="2564"/>
                </a:lnTo>
                <a:lnTo>
                  <a:pt x="2564" y="2564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9036" y="19043"/>
                </a:lnTo>
                <a:lnTo>
                  <a:pt x="19036" y="2564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2564" y="19043"/>
                </a:lnTo>
                <a:lnTo>
                  <a:pt x="19036" y="19043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2564" y="2564"/>
                </a:lnTo>
                <a:lnTo>
                  <a:pt x="2564" y="19043"/>
                </a:lnTo>
                <a:close/>
              </a:path>
              <a:path fill="darken" w="21600" h="21607">
                <a:moveTo>
                  <a:pt x="7734" y="10804"/>
                </a:moveTo>
                <a:lnTo>
                  <a:pt x="16939" y="4665"/>
                </a:lnTo>
                <a:lnTo>
                  <a:pt x="16939" y="16943"/>
                </a:lnTo>
                <a:close/>
              </a:path>
              <a:path fill="darken" w="21600" h="21607">
                <a:moveTo>
                  <a:pt x="4661" y="4665"/>
                </a:moveTo>
                <a:lnTo>
                  <a:pt x="6118" y="4665"/>
                </a:lnTo>
                <a:lnTo>
                  <a:pt x="6118" y="16943"/>
                </a:lnTo>
                <a:lnTo>
                  <a:pt x="4661" y="169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lastslide"/>
          </p:cNvPr>
          <p:cNvSpPr/>
          <p:nvPr/>
        </p:nvSpPr>
        <p:spPr>
          <a:xfrm>
            <a:off x="3809880" y="1295280"/>
            <a:ext cx="1043280" cy="1043280"/>
          </a:xfrm>
          <a:custGeom>
            <a:avLst/>
            <a:gdLst>
              <a:gd name="textAreaLeft" fmla="*/ 141120 w 1043280"/>
              <a:gd name="textAreaRight" fmla="*/ 902160 w 1043280"/>
              <a:gd name="textAreaTop" fmla="*/ 141120 h 1043280"/>
              <a:gd name="textAreaBottom" fmla="*/ 9021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4" y="2926"/>
                </a:lnTo>
                <a:lnTo>
                  <a:pt x="2926" y="292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4" y="18674"/>
                </a:lnTo>
                <a:lnTo>
                  <a:pt x="18674" y="292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6" y="18674"/>
                </a:lnTo>
                <a:lnTo>
                  <a:pt x="18674" y="1867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6" y="2926"/>
                </a:lnTo>
                <a:lnTo>
                  <a:pt x="2926" y="18674"/>
                </a:lnTo>
                <a:close/>
              </a:path>
              <a:path fill="darken" w="21600" h="21600">
                <a:moveTo>
                  <a:pt x="13731" y="10800"/>
                </a:moveTo>
                <a:lnTo>
                  <a:pt x="4931" y="16669"/>
                </a:lnTo>
                <a:lnTo>
                  <a:pt x="4931" y="4931"/>
                </a:lnTo>
                <a:close/>
              </a:path>
              <a:path fill="darken" w="21600" h="21600">
                <a:moveTo>
                  <a:pt x="15277" y="4931"/>
                </a:moveTo>
                <a:lnTo>
                  <a:pt x="15277" y="16669"/>
                </a:lnTo>
                <a:lnTo>
                  <a:pt x="16669" y="16669"/>
                </a:lnTo>
                <a:lnTo>
                  <a:pt x="16669" y="49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152280" y="25146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7474"/>
                </a:moveTo>
                <a:lnTo>
                  <a:pt x="7285" y="7474"/>
                </a:lnTo>
                <a:lnTo>
                  <a:pt x="7285" y="12839"/>
                </a:lnTo>
                <a:cubicBezTo>
                  <a:pt x="7285" y="13767"/>
                  <a:pt x="8091" y="14502"/>
                  <a:pt x="9132" y="14502"/>
                </a:cubicBezTo>
                <a:lnTo>
                  <a:pt x="10804" y="14502"/>
                </a:lnTo>
                <a:cubicBezTo>
                  <a:pt x="11845" y="14502"/>
                  <a:pt x="12650" y="13767"/>
                  <a:pt x="12650" y="12839"/>
                </a:cubicBezTo>
                <a:lnTo>
                  <a:pt x="12650" y="7474"/>
                </a:lnTo>
                <a:lnTo>
                  <a:pt x="10804" y="7474"/>
                </a:lnTo>
                <a:lnTo>
                  <a:pt x="14331" y="3947"/>
                </a:lnTo>
                <a:lnTo>
                  <a:pt x="18024" y="7474"/>
                </a:lnTo>
                <a:lnTo>
                  <a:pt x="16177" y="7474"/>
                </a:lnTo>
                <a:lnTo>
                  <a:pt x="16177" y="12839"/>
                </a:lnTo>
                <a:cubicBezTo>
                  <a:pt x="16177" y="15622"/>
                  <a:pt x="13587" y="18195"/>
                  <a:pt x="10804" y="18195"/>
                </a:cubicBezTo>
                <a:lnTo>
                  <a:pt x="9132" y="18195"/>
                </a:lnTo>
                <a:cubicBezTo>
                  <a:pt x="6349" y="18195"/>
                  <a:pt x="3758" y="15622"/>
                  <a:pt x="3758" y="128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1600" y="2514600"/>
            <a:ext cx="1042920" cy="1042920"/>
          </a:xfrm>
          <a:custGeom>
            <a:avLst/>
            <a:gdLst>
              <a:gd name="textAreaLeft" fmla="*/ 163440 w 1042920"/>
              <a:gd name="textAreaRight" fmla="*/ 879480 w 1042920"/>
              <a:gd name="textAreaTop" fmla="*/ 163440 h 1042920"/>
              <a:gd name="textAreaBottom" fmla="*/ 8794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214" y="3386"/>
                </a:lnTo>
                <a:lnTo>
                  <a:pt x="3386" y="338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214" y="18214"/>
                </a:lnTo>
                <a:lnTo>
                  <a:pt x="18214" y="338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386" y="18214"/>
                </a:lnTo>
                <a:lnTo>
                  <a:pt x="18214" y="1821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386" y="3386"/>
                </a:lnTo>
                <a:lnTo>
                  <a:pt x="3386" y="18214"/>
                </a:lnTo>
                <a:close/>
              </a:path>
              <a:path fill="darkenLess" w="21600" h="21600">
                <a:moveTo>
                  <a:pt x="6441" y="5425"/>
                </a:moveTo>
                <a:lnTo>
                  <a:pt x="11960" y="5425"/>
                </a:lnTo>
                <a:lnTo>
                  <a:pt x="15159" y="8185"/>
                </a:lnTo>
                <a:lnTo>
                  <a:pt x="15159" y="16175"/>
                </a:lnTo>
                <a:lnTo>
                  <a:pt x="6441" y="16175"/>
                </a:lnTo>
                <a:close/>
              </a:path>
              <a:path fill="darken" w="21600" h="21600">
                <a:moveTo>
                  <a:pt x="11960" y="5425"/>
                </a:moveTo>
                <a:lnTo>
                  <a:pt x="15159" y="8185"/>
                </a:lnTo>
                <a:lnTo>
                  <a:pt x="11960" y="81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1"/>
          </p:cNvPr>
          <p:cNvSpPr/>
          <p:nvPr/>
        </p:nvSpPr>
        <p:spPr>
          <a:xfrm>
            <a:off x="2514600" y="2514600"/>
            <a:ext cx="1042920" cy="1042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2750" y="8050"/>
                </a:moveTo>
                <a:lnTo>
                  <a:pt x="7840" y="8050"/>
                </a:lnTo>
                <a:lnTo>
                  <a:pt x="12920" y="2750"/>
                </a:lnTo>
                <a:lnTo>
                  <a:pt x="12920" y="18850"/>
                </a:lnTo>
                <a:lnTo>
                  <a:pt x="7840" y="13550"/>
                </a:lnTo>
                <a:lnTo>
                  <a:pt x="2750" y="13550"/>
                </a:lnTo>
                <a:close/>
              </a:path>
              <a:path fill="darken" w="21600" h="21600">
                <a:moveTo>
                  <a:pt x="14820" y="10800"/>
                </a:moveTo>
                <a:lnTo>
                  <a:pt x="18850" y="10800"/>
                </a:lnTo>
              </a:path>
              <a:path fill="darken" w="21600" h="21600">
                <a:moveTo>
                  <a:pt x="14820" y="8050"/>
                </a:moveTo>
                <a:lnTo>
                  <a:pt x="18850" y="4870"/>
                </a:lnTo>
              </a:path>
              <a:path fill="darken" w="21600" h="21600">
                <a:moveTo>
                  <a:pt x="14820" y="13550"/>
                </a:moveTo>
                <a:lnTo>
                  <a:pt x="18850" y="1673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3920" y="2514600"/>
            <a:ext cx="1042920" cy="1042920"/>
          </a:xfrm>
          <a:custGeom>
            <a:avLst/>
            <a:gdLst>
              <a:gd name="textAreaLeft" fmla="*/ 260640 w 1042920"/>
              <a:gd name="textAreaRight" fmla="*/ 782280 w 1042920"/>
              <a:gd name="textAreaTop" fmla="*/ 260640 h 1042920"/>
              <a:gd name="textAreaBottom" fmla="*/ 7822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8790"/>
                </a:moveTo>
                <a:lnTo>
                  <a:pt x="7300" y="8790"/>
                </a:lnTo>
                <a:lnTo>
                  <a:pt x="7520" y="9000"/>
                </a:lnTo>
                <a:lnTo>
                  <a:pt x="12810" y="9000"/>
                </a:lnTo>
                <a:lnTo>
                  <a:pt x="13130" y="9320"/>
                </a:lnTo>
                <a:lnTo>
                  <a:pt x="13130" y="9635"/>
                </a:lnTo>
                <a:lnTo>
                  <a:pt x="14190" y="9635"/>
                </a:lnTo>
                <a:lnTo>
                  <a:pt x="14400" y="9320"/>
                </a:lnTo>
                <a:lnTo>
                  <a:pt x="14825" y="9320"/>
                </a:lnTo>
                <a:lnTo>
                  <a:pt x="14825" y="12280"/>
                </a:lnTo>
                <a:lnTo>
                  <a:pt x="14400" y="12280"/>
                </a:lnTo>
                <a:lnTo>
                  <a:pt x="14190" y="11965"/>
                </a:lnTo>
                <a:lnTo>
                  <a:pt x="13130" y="11965"/>
                </a:lnTo>
                <a:lnTo>
                  <a:pt x="13130" y="12700"/>
                </a:lnTo>
                <a:lnTo>
                  <a:pt x="7625" y="12700"/>
                </a:lnTo>
                <a:lnTo>
                  <a:pt x="7625" y="10270"/>
                </a:lnTo>
                <a:lnTo>
                  <a:pt x="7520" y="10270"/>
                </a:lnTo>
                <a:lnTo>
                  <a:pt x="7300" y="10480"/>
                </a:lnTo>
                <a:lnTo>
                  <a:pt x="6775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52280" y="152280"/>
            <a:ext cx="1043280" cy="533520"/>
          </a:xfrm>
          <a:custGeom>
            <a:avLst/>
            <a:gdLst>
              <a:gd name="textAreaLeft" fmla="*/ 34560 w 1043280"/>
              <a:gd name="textAreaRight" fmla="*/ 1008720 w 1043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24" h="21600">
                <a:moveTo>
                  <a:pt x="0" y="0"/>
                </a:moveTo>
                <a:lnTo>
                  <a:pt x="42224" y="0"/>
                </a:lnTo>
                <a:lnTo>
                  <a:pt x="42224" y="21600"/>
                </a:lnTo>
                <a:lnTo>
                  <a:pt x="0" y="21600"/>
                </a:lnTo>
                <a:close/>
              </a:path>
              <a:path fill="lightenLess" w="42224" h="21600">
                <a:moveTo>
                  <a:pt x="0" y="0"/>
                </a:moveTo>
                <a:lnTo>
                  <a:pt x="42224" y="0"/>
                </a:lnTo>
                <a:lnTo>
                  <a:pt x="40824" y="1400"/>
                </a:lnTo>
                <a:lnTo>
                  <a:pt x="1400" y="1400"/>
                </a:lnTo>
                <a:close/>
              </a:path>
              <a:path fill="darken" w="42224" h="21600">
                <a:moveTo>
                  <a:pt x="42224" y="0"/>
                </a:moveTo>
                <a:lnTo>
                  <a:pt x="42224" y="21600"/>
                </a:lnTo>
                <a:lnTo>
                  <a:pt x="40824" y="20200"/>
                </a:lnTo>
                <a:lnTo>
                  <a:pt x="40824" y="1400"/>
                </a:lnTo>
                <a:close/>
              </a:path>
              <a:path fill="darkenLess" w="42224" h="21600">
                <a:moveTo>
                  <a:pt x="42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24" y="20200"/>
                </a:lnTo>
                <a:close/>
              </a:path>
              <a:path fill="lighten" w="42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1371600" y="152280"/>
            <a:ext cx="533520" cy="10432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043280"/>
              <a:gd name="textAreaBottom" fmla="*/ 1008720 h 1043280"/>
            </a:gdLst>
            <a:ahLst/>
            <a:rect l="textAreaLeft" t="textAreaTop" r="textAreaRight" b="textAreaBottom"/>
            <a:pathLst>
              <a:path w="21600" h="42224">
                <a:moveTo>
                  <a:pt x="0" y="0"/>
                </a:moveTo>
                <a:lnTo>
                  <a:pt x="21600" y="0"/>
                </a:lnTo>
                <a:lnTo>
                  <a:pt x="21600" y="42224"/>
                </a:lnTo>
                <a:lnTo>
                  <a:pt x="0" y="42224"/>
                </a:lnTo>
                <a:close/>
              </a:path>
              <a:path fill="lightenLess" w="21600" h="42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224">
                <a:moveTo>
                  <a:pt x="21600" y="0"/>
                </a:moveTo>
                <a:lnTo>
                  <a:pt x="21600" y="42224"/>
                </a:lnTo>
                <a:lnTo>
                  <a:pt x="20200" y="40824"/>
                </a:lnTo>
                <a:lnTo>
                  <a:pt x="20200" y="1400"/>
                </a:lnTo>
                <a:close/>
              </a:path>
              <a:path fill="darkenLess" w="21600" h="42224">
                <a:moveTo>
                  <a:pt x="21600" y="42224"/>
                </a:moveTo>
                <a:lnTo>
                  <a:pt x="0" y="42224"/>
                </a:lnTo>
                <a:lnTo>
                  <a:pt x="1400" y="40824"/>
                </a:lnTo>
                <a:lnTo>
                  <a:pt x="20200" y="40824"/>
                </a:lnTo>
                <a:close/>
              </a:path>
              <a:path fill="lighten" w="21600" h="42224">
                <a:moveTo>
                  <a:pt x="0" y="42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40824"/>
                </a:lnTo>
                <a:close/>
              </a:path>
              <a:path fill="darken" w="21600" h="42224">
                <a:moveTo>
                  <a:pt x="10800" y="14149"/>
                </a:moveTo>
                <a:lnTo>
                  <a:pt x="13376" y="16760"/>
                </a:lnTo>
                <a:lnTo>
                  <a:pt x="13376" y="15019"/>
                </a:lnTo>
                <a:lnTo>
                  <a:pt x="15152" y="15019"/>
                </a:lnTo>
                <a:lnTo>
                  <a:pt x="15152" y="18536"/>
                </a:lnTo>
                <a:lnTo>
                  <a:pt x="17763" y="21112"/>
                </a:lnTo>
                <a:lnTo>
                  <a:pt x="16109" y="21112"/>
                </a:lnTo>
                <a:lnTo>
                  <a:pt x="16109" y="28301"/>
                </a:lnTo>
                <a:lnTo>
                  <a:pt x="5491" y="28301"/>
                </a:lnTo>
                <a:lnTo>
                  <a:pt x="5491" y="21112"/>
                </a:lnTo>
                <a:lnTo>
                  <a:pt x="3837" y="21112"/>
                </a:lnTo>
                <a:close/>
              </a:path>
              <a:path fill="darkenLess" w="21600" h="42224">
                <a:moveTo>
                  <a:pt x="13376" y="16760"/>
                </a:moveTo>
                <a:lnTo>
                  <a:pt x="13376" y="15019"/>
                </a:lnTo>
                <a:lnTo>
                  <a:pt x="15152" y="15019"/>
                </a:lnTo>
                <a:lnTo>
                  <a:pt x="15152" y="18536"/>
                </a:lnTo>
                <a:close/>
              </a:path>
              <a:path fill="darkenLess" w="21600" h="42224">
                <a:moveTo>
                  <a:pt x="9877" y="24611"/>
                </a:moveTo>
                <a:lnTo>
                  <a:pt x="11723" y="24611"/>
                </a:lnTo>
                <a:lnTo>
                  <a:pt x="11723" y="28301"/>
                </a:lnTo>
                <a:lnTo>
                  <a:pt x="16109" y="28301"/>
                </a:lnTo>
                <a:lnTo>
                  <a:pt x="16109" y="21112"/>
                </a:lnTo>
                <a:lnTo>
                  <a:pt x="5491" y="21112"/>
                </a:lnTo>
                <a:lnTo>
                  <a:pt x="5491" y="28301"/>
                </a:lnTo>
                <a:lnTo>
                  <a:pt x="9877" y="2830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6858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220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4176" h="21600">
                <a:moveTo>
                  <a:pt x="23193" y="14281"/>
                </a:moveTo>
                <a:lnTo>
                  <a:pt x="23193" y="12323"/>
                </a:lnTo>
                <a:cubicBezTo>
                  <a:pt x="23193" y="11496"/>
                  <a:pt x="23524" y="10800"/>
                  <a:pt x="24124" y="10800"/>
                </a:cubicBezTo>
                <a:cubicBezTo>
                  <a:pt x="25256" y="10800"/>
                  <a:pt x="26152" y="9434"/>
                  <a:pt x="26152" y="7849"/>
                </a:cubicBezTo>
                <a:cubicBezTo>
                  <a:pt x="26152" y="5534"/>
                  <a:pt x="24299" y="3794"/>
                  <a:pt x="22088" y="3794"/>
                </a:cubicBezTo>
                <a:cubicBezTo>
                  <a:pt x="19877" y="3794"/>
                  <a:pt x="18206" y="5534"/>
                  <a:pt x="18206" y="7849"/>
                </a:cubicBezTo>
                <a:lnTo>
                  <a:pt x="20060" y="7849"/>
                </a:lnTo>
                <a:cubicBezTo>
                  <a:pt x="20060" y="6709"/>
                  <a:pt x="20982" y="5821"/>
                  <a:pt x="22088" y="5821"/>
                </a:cubicBezTo>
                <a:cubicBezTo>
                  <a:pt x="23193" y="5821"/>
                  <a:pt x="24124" y="6709"/>
                  <a:pt x="24124" y="7849"/>
                </a:cubicBezTo>
                <a:cubicBezTo>
                  <a:pt x="24124" y="8589"/>
                  <a:pt x="23654" y="9320"/>
                  <a:pt x="23193" y="9320"/>
                </a:cubicBezTo>
                <a:cubicBezTo>
                  <a:pt x="22088" y="9320"/>
                  <a:pt x="20982" y="10800"/>
                  <a:pt x="20982" y="12323"/>
                </a:cubicBezTo>
                <a:lnTo>
                  <a:pt x="20982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152280"/>
            <a:ext cx="509760" cy="10432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1043280"/>
              <a:gd name="textAreaBottom" fmla="*/ 1010520 h 1043280"/>
            </a:gdLst>
            <a:ahLst/>
            <a:rect l="textAreaLeft" t="textAreaTop" r="textAreaRight" b="textAreaBottom"/>
            <a:pathLst>
              <a:path w="21600" h="44191">
                <a:moveTo>
                  <a:pt x="0" y="0"/>
                </a:moveTo>
                <a:lnTo>
                  <a:pt x="21600" y="0"/>
                </a:lnTo>
                <a:lnTo>
                  <a:pt x="21600" y="44191"/>
                </a:lnTo>
                <a:lnTo>
                  <a:pt x="0" y="44191"/>
                </a:lnTo>
                <a:close/>
              </a:path>
              <a:path fill="lightenLess" w="21600" h="4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191">
                <a:moveTo>
                  <a:pt x="21600" y="0"/>
                </a:moveTo>
                <a:lnTo>
                  <a:pt x="21600" y="44191"/>
                </a:lnTo>
                <a:lnTo>
                  <a:pt x="20200" y="42791"/>
                </a:lnTo>
                <a:lnTo>
                  <a:pt x="20200" y="1400"/>
                </a:lnTo>
                <a:close/>
              </a:path>
              <a:path fill="darkenLess" w="21600" h="44191">
                <a:moveTo>
                  <a:pt x="21600" y="44191"/>
                </a:moveTo>
                <a:lnTo>
                  <a:pt x="0" y="44191"/>
                </a:lnTo>
                <a:lnTo>
                  <a:pt x="1400" y="42791"/>
                </a:lnTo>
                <a:lnTo>
                  <a:pt x="20200" y="42791"/>
                </a:lnTo>
                <a:close/>
              </a:path>
              <a:path fill="lighten" w="21600" h="44191">
                <a:moveTo>
                  <a:pt x="0" y="4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791"/>
                </a:lnTo>
                <a:close/>
              </a:path>
              <a:path fill="darken" w="21600" h="44191">
                <a:moveTo>
                  <a:pt x="10800" y="1508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4191">
                <a:moveTo>
                  <a:pt x="10800" y="1546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4191">
                <a:moveTo>
                  <a:pt x="8224" y="19519"/>
                </a:moveTo>
                <a:lnTo>
                  <a:pt x="12088" y="19519"/>
                </a:lnTo>
                <a:lnTo>
                  <a:pt x="12088" y="26517"/>
                </a:lnTo>
                <a:lnTo>
                  <a:pt x="13376" y="26517"/>
                </a:lnTo>
                <a:lnTo>
                  <a:pt x="13376" y="27439"/>
                </a:lnTo>
                <a:lnTo>
                  <a:pt x="8224" y="27439"/>
                </a:lnTo>
                <a:lnTo>
                  <a:pt x="8224" y="26517"/>
                </a:lnTo>
                <a:lnTo>
                  <a:pt x="9512" y="26517"/>
                </a:lnTo>
                <a:lnTo>
                  <a:pt x="9512" y="20424"/>
                </a:lnTo>
                <a:lnTo>
                  <a:pt x="8224" y="2042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152280" y="1828800"/>
            <a:ext cx="533520" cy="50976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2606" h="21600">
                <a:moveTo>
                  <a:pt x="0" y="0"/>
                </a:moveTo>
                <a:lnTo>
                  <a:pt x="22606" y="0"/>
                </a:lnTo>
                <a:lnTo>
                  <a:pt x="22606" y="21600"/>
                </a:lnTo>
                <a:lnTo>
                  <a:pt x="0" y="21600"/>
                </a:lnTo>
                <a:close/>
              </a:path>
              <a:path fill="lightenLess" w="22606" h="21600">
                <a:moveTo>
                  <a:pt x="0" y="0"/>
                </a:moveTo>
                <a:lnTo>
                  <a:pt x="22606" y="0"/>
                </a:lnTo>
                <a:lnTo>
                  <a:pt x="21206" y="1400"/>
                </a:lnTo>
                <a:lnTo>
                  <a:pt x="1400" y="1400"/>
                </a:lnTo>
                <a:close/>
              </a:path>
              <a:path fill="darken" w="22606" h="21600">
                <a:moveTo>
                  <a:pt x="22606" y="0"/>
                </a:moveTo>
                <a:lnTo>
                  <a:pt x="22606" y="21600"/>
                </a:lnTo>
                <a:lnTo>
                  <a:pt x="21206" y="20200"/>
                </a:lnTo>
                <a:lnTo>
                  <a:pt x="21206" y="1400"/>
                </a:lnTo>
                <a:close/>
              </a:path>
              <a:path fill="darkenLess" w="22606" h="21600">
                <a:moveTo>
                  <a:pt x="2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6" y="20200"/>
                </a:lnTo>
                <a:close/>
              </a:path>
              <a:path fill="lighten" w="2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6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1905120" y="1295280"/>
            <a:ext cx="509400" cy="457200"/>
          </a:xfrm>
          <a:custGeom>
            <a:avLst/>
            <a:gdLst>
              <a:gd name="textAreaLeft" fmla="*/ 29520 w 509400"/>
              <a:gd name="textAreaRight" fmla="*/ 479880 w 509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64" h="21600">
                <a:moveTo>
                  <a:pt x="0" y="0"/>
                </a:moveTo>
                <a:lnTo>
                  <a:pt x="24064" y="0"/>
                </a:lnTo>
                <a:lnTo>
                  <a:pt x="24064" y="21600"/>
                </a:lnTo>
                <a:lnTo>
                  <a:pt x="0" y="21600"/>
                </a:lnTo>
                <a:close/>
              </a:path>
              <a:path fill="lightenLess" w="24064" h="21600">
                <a:moveTo>
                  <a:pt x="0" y="0"/>
                </a:moveTo>
                <a:lnTo>
                  <a:pt x="24064" y="0"/>
                </a:lnTo>
                <a:lnTo>
                  <a:pt x="22664" y="1400"/>
                </a:lnTo>
                <a:lnTo>
                  <a:pt x="1400" y="1400"/>
                </a:lnTo>
                <a:close/>
              </a:path>
              <a:path fill="darken" w="24064" h="21600">
                <a:moveTo>
                  <a:pt x="24064" y="0"/>
                </a:moveTo>
                <a:lnTo>
                  <a:pt x="24064" y="21600"/>
                </a:lnTo>
                <a:lnTo>
                  <a:pt x="22664" y="20200"/>
                </a:lnTo>
                <a:lnTo>
                  <a:pt x="22664" y="1400"/>
                </a:lnTo>
                <a:close/>
              </a:path>
              <a:path fill="darkenLess" w="24064" h="21600">
                <a:moveTo>
                  <a:pt x="24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64" y="20200"/>
                </a:lnTo>
                <a:close/>
              </a:path>
              <a:path fill="lighten" w="24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64" h="21600">
                <a:moveTo>
                  <a:pt x="5026" y="3794"/>
                </a:moveTo>
                <a:lnTo>
                  <a:pt x="19039" y="10800"/>
                </a:lnTo>
                <a:lnTo>
                  <a:pt x="502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firstslide"/>
          </p:cNvPr>
          <p:cNvSpPr/>
          <p:nvPr/>
        </p:nvSpPr>
        <p:spPr>
          <a:xfrm>
            <a:off x="3124080" y="18288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3809880" y="1295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152280" y="2743200"/>
            <a:ext cx="838440" cy="814320"/>
          </a:xfrm>
          <a:custGeom>
            <a:avLst/>
            <a:gdLst>
              <a:gd name="textAreaLeft" fmla="*/ 52560 w 838440"/>
              <a:gd name="textAreaRight" fmla="*/ 785880 w 8384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40" h="21600">
                <a:moveTo>
                  <a:pt x="0" y="0"/>
                </a:moveTo>
                <a:lnTo>
                  <a:pt x="22240" y="0"/>
                </a:lnTo>
                <a:lnTo>
                  <a:pt x="22240" y="21600"/>
                </a:lnTo>
                <a:lnTo>
                  <a:pt x="0" y="21600"/>
                </a:lnTo>
                <a:close/>
              </a:path>
              <a:path fill="lightenLess" w="22240" h="21600">
                <a:moveTo>
                  <a:pt x="0" y="0"/>
                </a:moveTo>
                <a:lnTo>
                  <a:pt x="22240" y="0"/>
                </a:lnTo>
                <a:lnTo>
                  <a:pt x="20840" y="1400"/>
                </a:lnTo>
                <a:lnTo>
                  <a:pt x="1400" y="1400"/>
                </a:lnTo>
                <a:close/>
              </a:path>
              <a:path fill="darken" w="22240" h="21600">
                <a:moveTo>
                  <a:pt x="22240" y="0"/>
                </a:moveTo>
                <a:lnTo>
                  <a:pt x="22240" y="21600"/>
                </a:lnTo>
                <a:lnTo>
                  <a:pt x="20840" y="20200"/>
                </a:lnTo>
                <a:lnTo>
                  <a:pt x="20840" y="1400"/>
                </a:lnTo>
                <a:close/>
              </a:path>
              <a:path fill="darkenLess" w="22240" h="21600">
                <a:moveTo>
                  <a:pt x="22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0" y="20200"/>
                </a:lnTo>
                <a:close/>
              </a:path>
              <a:path fill="lighten" w="22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0" h="21600">
                <a:moveTo>
                  <a:pt x="4113" y="7493"/>
                </a:moveTo>
                <a:lnTo>
                  <a:pt x="7621" y="7493"/>
                </a:lnTo>
                <a:lnTo>
                  <a:pt x="7621" y="12828"/>
                </a:lnTo>
                <a:cubicBezTo>
                  <a:pt x="7621" y="13751"/>
                  <a:pt x="8422" y="14482"/>
                  <a:pt x="9457" y="14482"/>
                </a:cubicBezTo>
                <a:lnTo>
                  <a:pt x="11120" y="14482"/>
                </a:lnTo>
                <a:cubicBezTo>
                  <a:pt x="12155" y="14482"/>
                  <a:pt x="12956" y="13751"/>
                  <a:pt x="12956" y="12828"/>
                </a:cubicBezTo>
                <a:lnTo>
                  <a:pt x="12956" y="7493"/>
                </a:lnTo>
                <a:lnTo>
                  <a:pt x="11120" y="7493"/>
                </a:lnTo>
                <a:lnTo>
                  <a:pt x="14627" y="3985"/>
                </a:lnTo>
                <a:lnTo>
                  <a:pt x="18300" y="7493"/>
                </a:lnTo>
                <a:lnTo>
                  <a:pt x="16464" y="7493"/>
                </a:lnTo>
                <a:lnTo>
                  <a:pt x="16464" y="12828"/>
                </a:lnTo>
                <a:cubicBezTo>
                  <a:pt x="16464" y="15596"/>
                  <a:pt x="13888" y="18155"/>
                  <a:pt x="11120" y="18155"/>
                </a:cubicBezTo>
                <a:lnTo>
                  <a:pt x="9457" y="18155"/>
                </a:lnTo>
                <a:cubicBezTo>
                  <a:pt x="6690" y="18155"/>
                  <a:pt x="4113" y="15596"/>
                  <a:pt x="411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266688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176" h="21600">
                <a:moveTo>
                  <a:pt x="5561" y="3985"/>
                </a:moveTo>
                <a:lnTo>
                  <a:pt x="12559" y="3985"/>
                </a:lnTo>
                <a:lnTo>
                  <a:pt x="16615" y="7484"/>
                </a:lnTo>
                <a:lnTo>
                  <a:pt x="16615" y="17615"/>
                </a:lnTo>
                <a:lnTo>
                  <a:pt x="5561" y="17615"/>
                </a:lnTo>
                <a:close/>
              </a:path>
              <a:path fill="darken" w="22176" h="21600">
                <a:moveTo>
                  <a:pt x="12559" y="3985"/>
                </a:moveTo>
                <a:lnTo>
                  <a:pt x="16615" y="7484"/>
                </a:lnTo>
                <a:lnTo>
                  <a:pt x="1255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"/>
          </p:cNvPr>
          <p:cNvSpPr/>
          <p:nvPr/>
        </p:nvSpPr>
        <p:spPr>
          <a:xfrm>
            <a:off x="2514600" y="2971800"/>
            <a:ext cx="609480" cy="58572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2476" h="21600">
                <a:moveTo>
                  <a:pt x="0" y="0"/>
                </a:moveTo>
                <a:lnTo>
                  <a:pt x="22476" y="0"/>
                </a:lnTo>
                <a:lnTo>
                  <a:pt x="22476" y="21600"/>
                </a:lnTo>
                <a:lnTo>
                  <a:pt x="0" y="21600"/>
                </a:lnTo>
                <a:close/>
              </a:path>
              <a:path fill="lightenLess" w="22476" h="21600">
                <a:moveTo>
                  <a:pt x="0" y="0"/>
                </a:moveTo>
                <a:lnTo>
                  <a:pt x="22476" y="0"/>
                </a:lnTo>
                <a:lnTo>
                  <a:pt x="21076" y="1400"/>
                </a:lnTo>
                <a:lnTo>
                  <a:pt x="1400" y="1400"/>
                </a:lnTo>
                <a:close/>
              </a:path>
              <a:path fill="darken" w="22476" h="21600">
                <a:moveTo>
                  <a:pt x="22476" y="0"/>
                </a:moveTo>
                <a:lnTo>
                  <a:pt x="22476" y="21600"/>
                </a:lnTo>
                <a:lnTo>
                  <a:pt x="21076" y="20200"/>
                </a:lnTo>
                <a:lnTo>
                  <a:pt x="21076" y="1400"/>
                </a:lnTo>
                <a:close/>
              </a:path>
              <a:path fill="darkenLess" w="22476" h="21600">
                <a:moveTo>
                  <a:pt x="22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6" y="20200"/>
                </a:lnTo>
                <a:close/>
              </a:path>
              <a:path fill="lighten" w="22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6" h="21600">
                <a:moveTo>
                  <a:pt x="4231" y="8406"/>
                </a:moveTo>
                <a:lnTo>
                  <a:pt x="8662" y="8406"/>
                </a:lnTo>
                <a:lnTo>
                  <a:pt x="13083" y="3794"/>
                </a:lnTo>
                <a:lnTo>
                  <a:pt x="13083" y="17806"/>
                </a:lnTo>
                <a:lnTo>
                  <a:pt x="8662" y="13194"/>
                </a:lnTo>
                <a:lnTo>
                  <a:pt x="4231" y="13194"/>
                </a:lnTo>
                <a:close/>
              </a:path>
              <a:path fill="darken" w="22476" h="21600">
                <a:moveTo>
                  <a:pt x="14737" y="10800"/>
                </a:moveTo>
                <a:lnTo>
                  <a:pt x="18244" y="10800"/>
                </a:lnTo>
              </a:path>
              <a:path fill="darken" w="22476" h="21600">
                <a:moveTo>
                  <a:pt x="14737" y="8406"/>
                </a:moveTo>
                <a:lnTo>
                  <a:pt x="18244" y="5639"/>
                </a:lnTo>
              </a:path>
              <a:path fill="darken" w="22476" h="21600">
                <a:moveTo>
                  <a:pt x="14737" y="13194"/>
                </a:moveTo>
                <a:lnTo>
                  <a:pt x="18244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33920" y="266688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7301"/>
                </a:moveTo>
                <a:lnTo>
                  <a:pt x="4995" y="7301"/>
                </a:lnTo>
                <a:lnTo>
                  <a:pt x="5378" y="7667"/>
                </a:lnTo>
                <a:lnTo>
                  <a:pt x="14587" y="7667"/>
                </a:lnTo>
                <a:lnTo>
                  <a:pt x="15144" y="8224"/>
                </a:lnTo>
                <a:lnTo>
                  <a:pt x="15144" y="8772"/>
                </a:lnTo>
                <a:lnTo>
                  <a:pt x="16989" y="8772"/>
                </a:lnTo>
                <a:lnTo>
                  <a:pt x="17355" y="8224"/>
                </a:lnTo>
                <a:lnTo>
                  <a:pt x="18094" y="8224"/>
                </a:lnTo>
                <a:lnTo>
                  <a:pt x="18094" y="13376"/>
                </a:lnTo>
                <a:lnTo>
                  <a:pt x="17355" y="13376"/>
                </a:lnTo>
                <a:lnTo>
                  <a:pt x="16989" y="12828"/>
                </a:lnTo>
                <a:lnTo>
                  <a:pt x="15144" y="12828"/>
                </a:lnTo>
                <a:lnTo>
                  <a:pt x="15144" y="14107"/>
                </a:lnTo>
                <a:lnTo>
                  <a:pt x="5561" y="14107"/>
                </a:lnTo>
                <a:lnTo>
                  <a:pt x="5561" y="9877"/>
                </a:lnTo>
                <a:lnTo>
                  <a:pt x="5378" y="9877"/>
                </a:lnTo>
                <a:lnTo>
                  <a:pt x="4995" y="10243"/>
                </a:lnTo>
                <a:lnTo>
                  <a:pt x="4082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152280"/>
            <a:ext cx="6098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2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52280"/>
            <a:ext cx="914400" cy="381240"/>
          </a:xfrm>
          <a:custGeom>
            <a:avLst/>
            <a:gdLst>
              <a:gd name="textAreaLeft" fmla="*/ 200880 w 914400"/>
              <a:gd name="textAreaRight" fmla="*/ 713520 w 91440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152280"/>
            <a:ext cx="380880" cy="9907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522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52280"/>
            <a:ext cx="533520" cy="1143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52280"/>
            <a:ext cx="10666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152280"/>
            <a:ext cx="380880" cy="14479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152280"/>
            <a:ext cx="12956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762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762120"/>
            <a:ext cx="914400" cy="45720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762120"/>
            <a:ext cx="76212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762120"/>
            <a:ext cx="609480" cy="914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1447920"/>
            <a:ext cx="83808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838080"/>
            <a:ext cx="990720" cy="6098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762120"/>
            <a:ext cx="1524240" cy="6094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600200"/>
            <a:ext cx="38124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76520"/>
            <a:ext cx="12952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676520"/>
            <a:ext cx="381240" cy="144756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1905120"/>
            <a:ext cx="1371600" cy="5331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600200"/>
            <a:ext cx="990720" cy="914400"/>
          </a:xfrm>
          <a:custGeom>
            <a:avLst/>
            <a:gdLst>
              <a:gd name="textAreaLeft" fmla="*/ 232920 w 990720"/>
              <a:gd name="textAreaRight" fmla="*/ 757440 w 99072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1676520"/>
            <a:ext cx="16002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2438280"/>
            <a:ext cx="160020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438280"/>
            <a:ext cx="2590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514600"/>
            <a:ext cx="129564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971800"/>
            <a:ext cx="1371600" cy="3808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2743200"/>
            <a:ext cx="838080" cy="762120"/>
          </a:xfrm>
          <a:custGeom>
            <a:avLst/>
            <a:gdLst>
              <a:gd name="textAreaLeft" fmla="*/ 89640 w 838080"/>
              <a:gd name="textAreaRight" fmla="*/ 748440 w 838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237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152" y="21600"/>
                </a:lnTo>
                <a:arcTo wR="3600" hR="3600" stAng="10800000" swAng="5400000"/>
                <a:lnTo>
                  <a:pt x="23752" y="3600"/>
                </a:lnTo>
                <a:arcTo wR="3600" hR="3600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895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895480"/>
            <a:ext cx="304920" cy="838440"/>
          </a:xfrm>
          <a:custGeom>
            <a:avLst/>
            <a:gdLst>
              <a:gd name="textAreaLeft" fmla="*/ 0 w 304920"/>
              <a:gd name="textAreaRight" fmla="*/ 213840 w 3049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048120"/>
            <a:ext cx="685800" cy="5331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048120"/>
            <a:ext cx="914400" cy="533160"/>
          </a:xfrm>
          <a:custGeom>
            <a:avLst/>
            <a:gdLst>
              <a:gd name="textAreaLeft" fmla="*/ 0 w 914400"/>
              <a:gd name="textAreaRight" fmla="*/ 330120 w 9144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304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808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8088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52280"/>
            <a:ext cx="1214280" cy="1214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152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2286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371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60020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6765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1828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447920"/>
            <a:ext cx="914400" cy="91440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371600"/>
            <a:ext cx="961920" cy="9144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352680"/>
            <a:ext cx="914400" cy="9144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228600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6668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281952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97180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572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257800"/>
            <a:ext cx="914400" cy="914400"/>
          </a:xfrm>
          <a:custGeom>
            <a:avLst/>
            <a:gdLst>
              <a:gd name="textAreaLeft" fmla="*/ 107640 w 914400"/>
              <a:gd name="textAreaRight" fmla="*/ 806760 w 9144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28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28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286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228600"/>
            <a:ext cx="486000" cy="1214280"/>
          </a:xfrm>
          <a:prstGeom prst="upDownArrow">
            <a:avLst>
              <a:gd name="adj1" fmla="val 50000"/>
              <a:gd name="adj2" fmla="val 497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286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2860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838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838080"/>
            <a:ext cx="885960" cy="88128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29528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129528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5238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15238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15238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905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5146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2743200"/>
            <a:ext cx="914400" cy="60948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281952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609840" cy="914400"/>
          </a:xfrm>
          <a:prstGeom prst="upArrowCallout">
            <a:avLst>
              <a:gd name="adj1" fmla="val 25002"/>
              <a:gd name="adj2" fmla="val 25000"/>
              <a:gd name="adj3" fmla="val 24990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81952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28195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2004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200400"/>
            <a:ext cx="1214640" cy="12142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4290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228600"/>
            <a:ext cx="976320" cy="485640"/>
          </a:xfrm>
          <a:prstGeom prst="rightArrow">
            <a:avLst>
              <a:gd name="adj1" fmla="val 77120"/>
              <a:gd name="adj2" fmla="val 7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28600"/>
            <a:ext cx="976320" cy="485640"/>
          </a:xfrm>
          <a:prstGeom prst="leftArrow">
            <a:avLst>
              <a:gd name="adj1" fmla="val 17648"/>
              <a:gd name="adj2" fmla="val 405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228600"/>
            <a:ext cx="485640" cy="976320"/>
          </a:xfrm>
          <a:prstGeom prst="upArrow">
            <a:avLst>
              <a:gd name="adj1" fmla="val 0"/>
              <a:gd name="adj2" fmla="val 840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28600"/>
            <a:ext cx="485640" cy="976320"/>
          </a:xfrm>
          <a:prstGeom prst="downArrow">
            <a:avLst>
              <a:gd name="adj1" fmla="val 65361"/>
              <a:gd name="adj2" fmla="val 1176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28600"/>
            <a:ext cx="1214640" cy="485640"/>
          </a:xfrm>
          <a:prstGeom prst="leftRightArrow">
            <a:avLst>
              <a:gd name="adj1" fmla="val 21565"/>
              <a:gd name="adj2" fmla="val 480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8600"/>
            <a:ext cx="486000" cy="1214280"/>
          </a:xfrm>
          <a:prstGeom prst="upDownArrow">
            <a:avLst>
              <a:gd name="adj1" fmla="val 21565"/>
              <a:gd name="adj2" fmla="val 85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286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042" y="8894"/>
                </a:lnTo>
                <a:lnTo>
                  <a:pt x="6042" y="9826"/>
                </a:lnTo>
                <a:lnTo>
                  <a:pt x="9826" y="9826"/>
                </a:lnTo>
                <a:lnTo>
                  <a:pt x="9826" y="6042"/>
                </a:lnTo>
                <a:lnTo>
                  <a:pt x="8894" y="6042"/>
                </a:lnTo>
                <a:lnTo>
                  <a:pt x="10800" y="0"/>
                </a:lnTo>
                <a:lnTo>
                  <a:pt x="12706" y="6042"/>
                </a:lnTo>
                <a:lnTo>
                  <a:pt x="11774" y="6042"/>
                </a:lnTo>
                <a:lnTo>
                  <a:pt x="11774" y="9826"/>
                </a:lnTo>
                <a:lnTo>
                  <a:pt x="15558" y="9826"/>
                </a:lnTo>
                <a:lnTo>
                  <a:pt x="15558" y="8894"/>
                </a:lnTo>
                <a:lnTo>
                  <a:pt x="21600" y="10800"/>
                </a:lnTo>
                <a:lnTo>
                  <a:pt x="15558" y="12706"/>
                </a:lnTo>
                <a:lnTo>
                  <a:pt x="15558" y="11774"/>
                </a:lnTo>
                <a:lnTo>
                  <a:pt x="11774" y="11774"/>
                </a:lnTo>
                <a:lnTo>
                  <a:pt x="11774" y="15558"/>
                </a:lnTo>
                <a:lnTo>
                  <a:pt x="12706" y="15558"/>
                </a:lnTo>
                <a:lnTo>
                  <a:pt x="10800" y="21600"/>
                </a:lnTo>
                <a:lnTo>
                  <a:pt x="8894" y="15558"/>
                </a:lnTo>
                <a:lnTo>
                  <a:pt x="9826" y="15558"/>
                </a:lnTo>
                <a:lnTo>
                  <a:pt x="9826" y="11774"/>
                </a:lnTo>
                <a:lnTo>
                  <a:pt x="6042" y="11774"/>
                </a:lnTo>
                <a:lnTo>
                  <a:pt x="6042" y="127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22860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8382" y="3218"/>
                </a:lnTo>
                <a:lnTo>
                  <a:pt x="14682" y="3218"/>
                </a:lnTo>
                <a:lnTo>
                  <a:pt x="14682" y="6918"/>
                </a:lnTo>
                <a:lnTo>
                  <a:pt x="18382" y="6918"/>
                </a:lnTo>
                <a:lnTo>
                  <a:pt x="18382" y="3218"/>
                </a:lnTo>
                <a:lnTo>
                  <a:pt x="21600" y="10800"/>
                </a:lnTo>
                <a:lnTo>
                  <a:pt x="18382" y="18382"/>
                </a:lnTo>
                <a:lnTo>
                  <a:pt x="18382" y="14682"/>
                </a:lnTo>
                <a:lnTo>
                  <a:pt x="3218" y="14682"/>
                </a:lnTo>
                <a:lnTo>
                  <a:pt x="3218" y="18382"/>
                </a:lnTo>
                <a:lnTo>
                  <a:pt x="0" y="10800"/>
                </a:lnTo>
                <a:lnTo>
                  <a:pt x="3218" y="3218"/>
                </a:lnTo>
                <a:lnTo>
                  <a:pt x="3218" y="6918"/>
                </a:lnTo>
                <a:lnTo>
                  <a:pt x="6918" y="6918"/>
                </a:lnTo>
                <a:lnTo>
                  <a:pt x="6918" y="3218"/>
                </a:lnTo>
                <a:lnTo>
                  <a:pt x="3218" y="32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838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94" stAng="10800000" swAng="5400000"/>
                <a:lnTo>
                  <a:pt x="16379" y="4866"/>
                </a:lnTo>
                <a:lnTo>
                  <a:pt x="16379" y="0"/>
                </a:lnTo>
                <a:lnTo>
                  <a:pt x="21600" y="6079"/>
                </a:lnTo>
                <a:lnTo>
                  <a:pt x="16379" y="12158"/>
                </a:lnTo>
                <a:lnTo>
                  <a:pt x="16379" y="7292"/>
                </a:lnTo>
                <a:lnTo>
                  <a:pt x="12427" y="7292"/>
                </a:lnTo>
                <a:arcTo wR="10001" hR="4868" stAng="16200000" swAng="-5400000"/>
                <a:lnTo>
                  <a:pt x="2426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838080"/>
            <a:ext cx="885960" cy="88128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295280"/>
            <a:ext cx="852480" cy="8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773"/>
                </a:moveTo>
                <a:lnTo>
                  <a:pt x="9091" y="11946"/>
                </a:lnTo>
                <a:lnTo>
                  <a:pt x="9091" y="16773"/>
                </a:lnTo>
                <a:lnTo>
                  <a:pt x="16773" y="16773"/>
                </a:lnTo>
                <a:lnTo>
                  <a:pt x="16773" y="9091"/>
                </a:lnTo>
                <a:lnTo>
                  <a:pt x="11946" y="9091"/>
                </a:lnTo>
                <a:lnTo>
                  <a:pt x="16773" y="0"/>
                </a:lnTo>
                <a:lnTo>
                  <a:pt x="21600" y="9091"/>
                </a:lnTo>
                <a:lnTo>
                  <a:pt x="16773" y="9091"/>
                </a:lnTo>
                <a:lnTo>
                  <a:pt x="16773" y="16773"/>
                </a:lnTo>
                <a:lnTo>
                  <a:pt x="9091" y="16773"/>
                </a:lnTo>
                <a:lnTo>
                  <a:pt x="9091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1295280"/>
            <a:ext cx="852480" cy="733680"/>
          </a:xfrm>
          <a:custGeom>
            <a:avLst/>
            <a:gdLst>
              <a:gd name="textAreaLeft" fmla="*/ 365400 w 852480"/>
              <a:gd name="textAreaRight" fmla="*/ 730440 w 852480"/>
              <a:gd name="textAreaTop" fmla="*/ 5191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8382"/>
                </a:moveTo>
                <a:lnTo>
                  <a:pt x="15285" y="18382"/>
                </a:lnTo>
                <a:lnTo>
                  <a:pt x="15285" y="9257"/>
                </a:lnTo>
                <a:lnTo>
                  <a:pt x="12188" y="9257"/>
                </a:lnTo>
                <a:lnTo>
                  <a:pt x="16894" y="0"/>
                </a:lnTo>
                <a:lnTo>
                  <a:pt x="21600" y="9257"/>
                </a:lnTo>
                <a:lnTo>
                  <a:pt x="18503" y="9257"/>
                </a:lnTo>
                <a:lnTo>
                  <a:pt x="185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3840 h 1214640"/>
              <a:gd name="textAreaBottom" fmla="*/ 7736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10" stAng="-5400000" swAng="-5400000"/>
                <a:lnTo>
                  <a:pt x="0" y="9952"/>
                </a:lnTo>
                <a:arcTo wR="21600" hR="7610" stAng="10800000" swAng="-3469220"/>
                <a:lnTo>
                  <a:pt x="16925" y="21420"/>
                </a:lnTo>
                <a:lnTo>
                  <a:pt x="21600" y="16391"/>
                </a:lnTo>
                <a:lnTo>
                  <a:pt x="16925" y="11002"/>
                </a:lnTo>
                <a:lnTo>
                  <a:pt x="16925" y="15040"/>
                </a:lnTo>
                <a:arcTo wR="21600" hR="7610" stAng="7330780" swAng="3280792"/>
                <a:lnTo>
                  <a:pt x="257" y="8781"/>
                </a:lnTo>
                <a:arcTo wR="21600" hR="7610" stAng="-10611572" swAng="5211572"/>
                <a:close/>
              </a:path>
              <a:path fill="darkenLess" w="21600" h="21600">
                <a:moveTo>
                  <a:pt x="21600" y="0"/>
                </a:moveTo>
                <a:arcTo wR="21600" hR="7610" stAng="-5400000" swAng="-5400000"/>
                <a:lnTo>
                  <a:pt x="0" y="7610"/>
                </a:lnTo>
                <a:arcTo wR="21600" hR="7610" stAng="10800000" swAng="-188428"/>
                <a:lnTo>
                  <a:pt x="257" y="8781"/>
                </a:lnTo>
                <a:arcTo wR="21600" hR="7610" stAng="-10611572" swAng="521157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5238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28960 h 1214640"/>
              <a:gd name="textAreaBottom" fmla="*/ 799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51" stAng="-5400000" swAng="5400000"/>
                <a:lnTo>
                  <a:pt x="21600" y="10145"/>
                </a:lnTo>
                <a:arcTo wR="21600" hR="8151" stAng="0" swAng="1128463"/>
                <a:lnTo>
                  <a:pt x="16035" y="18910"/>
                </a:lnTo>
                <a:lnTo>
                  <a:pt x="0" y="17299"/>
                </a:lnTo>
                <a:lnTo>
                  <a:pt x="16035" y="10308"/>
                </a:lnTo>
                <a:lnTo>
                  <a:pt x="16035" y="13612"/>
                </a:lnTo>
                <a:arcTo wR="21600" hR="8151" stAng="1128463" swAng="-968700"/>
                <a:lnTo>
                  <a:pt x="21438" y="9148"/>
                </a:lnTo>
                <a:arcTo wR="21600" hR="8151" stAng="-159763" swAng="-5240237"/>
                <a:close/>
              </a:path>
              <a:path fill="darkenLess" w="21600" h="21600">
                <a:moveTo>
                  <a:pt x="0" y="0"/>
                </a:moveTo>
                <a:arcTo wR="21600" hR="8151" stAng="-5400000" swAng="5400000"/>
                <a:lnTo>
                  <a:pt x="21600" y="10145"/>
                </a:lnTo>
                <a:arcTo wR="21600" hR="8151" stAng="0" swAng="-159763"/>
                <a:lnTo>
                  <a:pt x="21438" y="9148"/>
                </a:lnTo>
                <a:arcTo wR="21600" hR="8151" stAng="-159763" swAng="-524023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1523880"/>
            <a:ext cx="1214280" cy="733680"/>
          </a:xfrm>
          <a:custGeom>
            <a:avLst/>
            <a:gdLst>
              <a:gd name="textAreaLeft" fmla="*/ 156960 w 1214280"/>
              <a:gd name="textAreaRight" fmla="*/ 105732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591" hR="21600" stAng="10800000" swAng="-5400000"/>
                <a:lnTo>
                  <a:pt x="16009" y="21600"/>
                </a:lnTo>
                <a:arcTo wR="5591" hR="21600" stAng="5400000" swAng="-2029577"/>
                <a:lnTo>
                  <a:pt x="21224" y="7783"/>
                </a:lnTo>
                <a:lnTo>
                  <a:pt x="16391" y="0"/>
                </a:lnTo>
                <a:lnTo>
                  <a:pt x="10806" y="7783"/>
                </a:lnTo>
                <a:lnTo>
                  <a:pt x="10806" y="7783"/>
                </a:lnTo>
                <a:arcTo wR="5591" hR="21600" stAng="3370423" swAng="14971"/>
                <a:lnTo>
                  <a:pt x="10800" y="7847"/>
                </a:lnTo>
                <a:arcTo wR="5591" hR="21600" stAng="7414606" swAng="3385394"/>
                <a:close/>
              </a:path>
              <a:path fill="darkenLess" w="21600" h="21600">
                <a:moveTo>
                  <a:pt x="0" y="0"/>
                </a:moveTo>
                <a:arcTo wR="5591" hR="21600" stAng="10800000" swAng="-5400000"/>
                <a:lnTo>
                  <a:pt x="16009" y="21600"/>
                </a:lnTo>
                <a:arcTo wR="5591" hR="21600" stAng="5400000" swAng="2014606"/>
                <a:lnTo>
                  <a:pt x="10800" y="7847"/>
                </a:lnTo>
                <a:arcTo wR="5591" hR="21600" stAng="7414606" swAng="338539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1523880"/>
            <a:ext cx="1214640" cy="733680"/>
          </a:xfrm>
          <a:custGeom>
            <a:avLst/>
            <a:gdLst>
              <a:gd name="textAreaLeft" fmla="*/ 255600 w 1214640"/>
              <a:gd name="textAreaRight" fmla="*/ 78120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92" hR="21600" stAng="10800000" swAng="5400000"/>
                <a:lnTo>
                  <a:pt x="9347" y="0"/>
                </a:lnTo>
                <a:arcTo wR="9092" hR="21600" stAng="-5400000" swAng="707077"/>
                <a:lnTo>
                  <a:pt x="16546" y="2247"/>
                </a:lnTo>
                <a:lnTo>
                  <a:pt x="18311" y="21600"/>
                </a:lnTo>
                <a:lnTo>
                  <a:pt x="9967" y="2247"/>
                </a:lnTo>
                <a:lnTo>
                  <a:pt x="13129" y="2247"/>
                </a:lnTo>
                <a:arcTo wR="9092" hR="21600" stAng="-4692923" swAng="-686782"/>
                <a:lnTo>
                  <a:pt x="9219" y="2"/>
                </a:lnTo>
                <a:arcTo wR="9092" hR="21600" stAng="-5420294" swAng="-5379706"/>
                <a:close/>
              </a:path>
              <a:path fill="darkenLess" w="21600" h="21600">
                <a:moveTo>
                  <a:pt x="0" y="21600"/>
                </a:moveTo>
                <a:arcTo wR="9092" hR="21600" stAng="10800000" swAng="5400000"/>
                <a:lnTo>
                  <a:pt x="9092" y="0"/>
                </a:lnTo>
                <a:arcTo wR="9092" hR="21600" stAng="-5400000" swAng="20294"/>
                <a:lnTo>
                  <a:pt x="9219" y="2"/>
                </a:lnTo>
                <a:arcTo wR="9092" hR="21600" stAng="-5420294" swAng="-537970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905120"/>
            <a:ext cx="976320" cy="485640"/>
          </a:xfrm>
          <a:custGeom>
            <a:avLst/>
            <a:gdLst>
              <a:gd name="textAreaLeft" fmla="*/ 152280 w 976320"/>
              <a:gd name="textAreaRight" fmla="*/ 892440 w 976320"/>
              <a:gd name="textAreaTop" fmla="*/ 190440 h 485640"/>
              <a:gd name="textAreaBottom" fmla="*/ 29520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8471"/>
                </a:moveTo>
                <a:lnTo>
                  <a:pt x="12995" y="8471"/>
                </a:lnTo>
                <a:lnTo>
                  <a:pt x="12995" y="0"/>
                </a:lnTo>
                <a:lnTo>
                  <a:pt x="21600" y="10800"/>
                </a:lnTo>
                <a:lnTo>
                  <a:pt x="12995" y="21600"/>
                </a:lnTo>
                <a:lnTo>
                  <a:pt x="12995" y="13129"/>
                </a:lnTo>
                <a:lnTo>
                  <a:pt x="3375" y="13129"/>
                </a:lnTo>
                <a:close/>
              </a:path>
              <a:path w="21600" h="21600">
                <a:moveTo>
                  <a:pt x="0" y="8471"/>
                </a:moveTo>
                <a:lnTo>
                  <a:pt x="675" y="8471"/>
                </a:lnTo>
                <a:lnTo>
                  <a:pt x="675" y="13129"/>
                </a:lnTo>
                <a:lnTo>
                  <a:pt x="0" y="13129"/>
                </a:lnTo>
                <a:close/>
              </a:path>
              <a:path w="21600" h="21600">
                <a:moveTo>
                  <a:pt x="1350" y="8471"/>
                </a:moveTo>
                <a:lnTo>
                  <a:pt x="2700" y="8471"/>
                </a:lnTo>
                <a:lnTo>
                  <a:pt x="2700" y="13129"/>
                </a:lnTo>
                <a:lnTo>
                  <a:pt x="1350" y="13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514600"/>
            <a:ext cx="976320" cy="485640"/>
          </a:xfrm>
          <a:custGeom>
            <a:avLst/>
            <a:gdLst>
              <a:gd name="textAreaLeft" fmla="*/ 39960 w 976320"/>
              <a:gd name="textAreaRight" fmla="*/ 936360 w 976320"/>
              <a:gd name="textAreaTop" fmla="*/ 190440 h 485640"/>
              <a:gd name="textAreaBottom" fmla="*/ 2952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8471"/>
                </a:moveTo>
                <a:lnTo>
                  <a:pt x="17491" y="8471"/>
                </a:lnTo>
                <a:lnTo>
                  <a:pt x="17491" y="0"/>
                </a:lnTo>
                <a:lnTo>
                  <a:pt x="21600" y="10800"/>
                </a:lnTo>
                <a:lnTo>
                  <a:pt x="17491" y="21600"/>
                </a:lnTo>
                <a:lnTo>
                  <a:pt x="17491" y="13129"/>
                </a:lnTo>
                <a:lnTo>
                  <a:pt x="0" y="13129"/>
                </a:lnTo>
                <a:lnTo>
                  <a:pt x="886" y="10800"/>
                </a:lnTo>
                <a:lnTo>
                  <a:pt x="0" y="84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78" y="0"/>
                </a:lnTo>
                <a:lnTo>
                  <a:pt x="21600" y="10800"/>
                </a:lnTo>
                <a:lnTo>
                  <a:pt x="80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63" y="0"/>
                </a:lnTo>
                <a:lnTo>
                  <a:pt x="21600" y="10800"/>
                </a:lnTo>
                <a:lnTo>
                  <a:pt x="11063" y="21600"/>
                </a:lnTo>
                <a:lnTo>
                  <a:pt x="0" y="21600"/>
                </a:lnTo>
                <a:lnTo>
                  <a:pt x="10537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2743200"/>
            <a:ext cx="914400" cy="609480"/>
          </a:xfrm>
          <a:prstGeom prst="rightArrowCallout">
            <a:avLst>
              <a:gd name="adj1" fmla="val 9371"/>
              <a:gd name="adj2" fmla="val 50000"/>
              <a:gd name="adj3" fmla="val 26568"/>
              <a:gd name="adj4" fmla="val 371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2819520"/>
            <a:ext cx="914400" cy="609480"/>
          </a:xfrm>
          <a:prstGeom prst="leftArrowCallout">
            <a:avLst>
              <a:gd name="adj1" fmla="val 28123"/>
              <a:gd name="adj2" fmla="val 14060"/>
              <a:gd name="adj3" fmla="val 25005"/>
              <a:gd name="adj4" fmla="val 814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2819520"/>
            <a:ext cx="609840" cy="914400"/>
          </a:xfrm>
          <a:prstGeom prst="upArrowCallout">
            <a:avLst>
              <a:gd name="adj1" fmla="val 28123"/>
              <a:gd name="adj2" fmla="val 25000"/>
              <a:gd name="adj3" fmla="val 59615"/>
              <a:gd name="adj4" fmla="val 1107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819520"/>
            <a:ext cx="609480" cy="914400"/>
          </a:xfrm>
          <a:prstGeom prst="downArrowCallout">
            <a:avLst>
              <a:gd name="adj1" fmla="val 18752"/>
              <a:gd name="adj2" fmla="val 9375"/>
              <a:gd name="adj3" fmla="val 50010"/>
              <a:gd name="adj4" fmla="val 34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2819520"/>
            <a:ext cx="1214280" cy="609480"/>
          </a:xfrm>
          <a:custGeom>
            <a:avLst/>
            <a:gdLst>
              <a:gd name="textAreaLeft" fmla="*/ 436320 w 1214280"/>
              <a:gd name="textAreaRight" fmla="*/ 77796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7765" y="0"/>
                </a:moveTo>
                <a:lnTo>
                  <a:pt x="13835" y="0"/>
                </a:lnTo>
                <a:lnTo>
                  <a:pt x="13835" y="5400"/>
                </a:lnTo>
                <a:lnTo>
                  <a:pt x="18381" y="5400"/>
                </a:lnTo>
                <a:lnTo>
                  <a:pt x="18381" y="0"/>
                </a:lnTo>
                <a:lnTo>
                  <a:pt x="21600" y="10800"/>
                </a:lnTo>
                <a:lnTo>
                  <a:pt x="18381" y="21600"/>
                </a:lnTo>
                <a:lnTo>
                  <a:pt x="18381" y="16200"/>
                </a:lnTo>
                <a:lnTo>
                  <a:pt x="13835" y="16200"/>
                </a:lnTo>
                <a:lnTo>
                  <a:pt x="13835" y="21600"/>
                </a:lnTo>
                <a:lnTo>
                  <a:pt x="7765" y="21600"/>
                </a:lnTo>
                <a:lnTo>
                  <a:pt x="7765" y="16200"/>
                </a:lnTo>
                <a:lnTo>
                  <a:pt x="3219" y="16200"/>
                </a:lnTo>
                <a:lnTo>
                  <a:pt x="3219" y="21600"/>
                </a:lnTo>
                <a:lnTo>
                  <a:pt x="0" y="10800"/>
                </a:lnTo>
                <a:lnTo>
                  <a:pt x="3219" y="0"/>
                </a:lnTo>
                <a:lnTo>
                  <a:pt x="3219" y="5400"/>
                </a:lnTo>
                <a:lnTo>
                  <a:pt x="776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2004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413" y="16200"/>
                </a:lnTo>
                <a:lnTo>
                  <a:pt x="6413" y="16200"/>
                </a:lnTo>
                <a:lnTo>
                  <a:pt x="5500" y="16200"/>
                </a:lnTo>
                <a:lnTo>
                  <a:pt x="10800" y="21600"/>
                </a:lnTo>
                <a:lnTo>
                  <a:pt x="16100" y="16200"/>
                </a:lnTo>
                <a:lnTo>
                  <a:pt x="15187" y="16200"/>
                </a:lnTo>
                <a:lnTo>
                  <a:pt x="15187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5187" y="5400"/>
                </a:lnTo>
                <a:lnTo>
                  <a:pt x="15187" y="5400"/>
                </a:lnTo>
                <a:lnTo>
                  <a:pt x="16100" y="5400"/>
                </a:lnTo>
                <a:lnTo>
                  <a:pt x="10800" y="0"/>
                </a:lnTo>
                <a:lnTo>
                  <a:pt x="5500" y="5400"/>
                </a:lnTo>
                <a:lnTo>
                  <a:pt x="6413" y="5400"/>
                </a:lnTo>
                <a:lnTo>
                  <a:pt x="6413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3200400"/>
            <a:ext cx="1214640" cy="12142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10800" y="5400"/>
                </a:lnTo>
                <a:lnTo>
                  <a:pt x="10800" y="5400"/>
                </a:lnTo>
                <a:lnTo>
                  <a:pt x="5400" y="5400"/>
                </a:lnTo>
                <a:lnTo>
                  <a:pt x="10800" y="0"/>
                </a:lnTo>
                <a:lnTo>
                  <a:pt x="16200" y="5400"/>
                </a:lnTo>
                <a:lnTo>
                  <a:pt x="10800" y="5400"/>
                </a:lnTo>
                <a:lnTo>
                  <a:pt x="10800" y="5400"/>
                </a:lnTo>
                <a:lnTo>
                  <a:pt x="16200" y="5400"/>
                </a:lnTo>
                <a:lnTo>
                  <a:pt x="16200" y="10800"/>
                </a:lnTo>
                <a:lnTo>
                  <a:pt x="16200" y="10800"/>
                </a:lnTo>
                <a:lnTo>
                  <a:pt x="16200" y="5400"/>
                </a:lnTo>
                <a:lnTo>
                  <a:pt x="21600" y="10800"/>
                </a:lnTo>
                <a:lnTo>
                  <a:pt x="16200" y="16200"/>
                </a:lnTo>
                <a:lnTo>
                  <a:pt x="16200" y="10800"/>
                </a:lnTo>
                <a:lnTo>
                  <a:pt x="16200" y="10800"/>
                </a:lnTo>
                <a:lnTo>
                  <a:pt x="16200" y="16200"/>
                </a:lnTo>
                <a:lnTo>
                  <a:pt x="10800" y="16200"/>
                </a:lnTo>
                <a:lnTo>
                  <a:pt x="10800" y="16200"/>
                </a:lnTo>
                <a:lnTo>
                  <a:pt x="16200" y="16200"/>
                </a:lnTo>
                <a:lnTo>
                  <a:pt x="10800" y="21600"/>
                </a:lnTo>
                <a:lnTo>
                  <a:pt x="5400" y="16200"/>
                </a:lnTo>
                <a:lnTo>
                  <a:pt x="10800" y="16200"/>
                </a:lnTo>
                <a:lnTo>
                  <a:pt x="10800" y="16200"/>
                </a:lnTo>
                <a:lnTo>
                  <a:pt x="5400" y="16200"/>
                </a:lnTo>
                <a:lnTo>
                  <a:pt x="5400" y="10800"/>
                </a:lnTo>
                <a:lnTo>
                  <a:pt x="5400" y="10800"/>
                </a:lnTo>
                <a:lnTo>
                  <a:pt x="5400" y="16200"/>
                </a:lnTo>
                <a:lnTo>
                  <a:pt x="0" y="10800"/>
                </a:lnTo>
                <a:lnTo>
                  <a:pt x="5400" y="5400"/>
                </a:lnTo>
                <a:lnTo>
                  <a:pt x="5400" y="108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4290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410" y="15032"/>
                </a:moveTo>
                <a:arcTo wR="-6853" hR="-6853" stAng="8512059" swAng="-6937906"/>
                <a:lnTo>
                  <a:pt x="1113" y="6026"/>
                </a:lnTo>
                <a:arcTo wR="10800" hR="10800" stAng="-9225848" swAng="6937906"/>
                <a:lnTo>
                  <a:pt x="21419" y="2464"/>
                </a:lnTo>
                <a:lnTo>
                  <a:pt x="20629" y="9026"/>
                </a:lnTo>
                <a:lnTo>
                  <a:pt x="14067" y="823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228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28600"/>
            <a:ext cx="976320" cy="762120"/>
          </a:xfrm>
          <a:prstGeom prst="leftArrow">
            <a:avLst>
              <a:gd name="adj1" fmla="val 50000"/>
              <a:gd name="adj2" fmla="val 320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28600"/>
            <a:ext cx="485640" cy="685800"/>
          </a:xfrm>
          <a:prstGeom prst="upArrow">
            <a:avLst>
              <a:gd name="adj1" fmla="val 50000"/>
              <a:gd name="adj2" fmla="val 353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762120"/>
            <a:ext cx="83808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228600"/>
            <a:ext cx="1214640" cy="762120"/>
          </a:xfrm>
          <a:prstGeom prst="leftRightArrow">
            <a:avLst>
              <a:gd name="adj1" fmla="val 50000"/>
              <a:gd name="adj2" fmla="val 317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228600"/>
            <a:ext cx="257400" cy="1214280"/>
          </a:xfrm>
          <a:prstGeom prst="upDownArrow">
            <a:avLst>
              <a:gd name="adj1" fmla="val 50000"/>
              <a:gd name="adj2" fmla="val 939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228600"/>
            <a:ext cx="1138320" cy="68580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533520"/>
            <a:ext cx="1214280" cy="54756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838080"/>
            <a:ext cx="304920" cy="866880"/>
          </a:xfrm>
          <a:custGeom>
            <a:avLst/>
            <a:gdLst>
              <a:gd name="textAreaLeft" fmla="*/ 0 w 304920"/>
              <a:gd name="textAreaRight" fmla="*/ 305280 w 3049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219320"/>
            <a:ext cx="962280" cy="50004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1295280"/>
            <a:ext cx="914400" cy="228600"/>
          </a:xfrm>
          <a:custGeom>
            <a:avLst/>
            <a:gdLst>
              <a:gd name="textAreaLeft" fmla="*/ 262440 w 914400"/>
              <a:gd name="textAreaRight" fmla="*/ 783360 w 914400"/>
              <a:gd name="textAreaTop" fmla="*/ 131760 h 228600"/>
              <a:gd name="textAreaBottom" fmla="*/ 195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1295280"/>
            <a:ext cx="471240" cy="733680"/>
          </a:xfrm>
          <a:custGeom>
            <a:avLst/>
            <a:gdLst>
              <a:gd name="textAreaLeft" fmla="*/ 156960 w 471240"/>
              <a:gd name="textAreaRight" fmla="*/ 403560 w 47124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1295280"/>
            <a:ext cx="733320" cy="681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1447920"/>
            <a:ext cx="304920" cy="1214280"/>
          </a:xfrm>
          <a:custGeom>
            <a:avLst/>
            <a:gdLst>
              <a:gd name="textAreaLeft" fmla="*/ 40680 w 304920"/>
              <a:gd name="textAreaRight" fmla="*/ 264240 w 3049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1447920"/>
            <a:ext cx="762120" cy="914400"/>
          </a:xfrm>
          <a:custGeom>
            <a:avLst/>
            <a:gdLst>
              <a:gd name="textAreaLeft" fmla="*/ 133200 w 762120"/>
              <a:gd name="textAreaRight" fmla="*/ 552600 w 7621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752480"/>
            <a:ext cx="681120" cy="457200"/>
          </a:xfrm>
          <a:custGeom>
            <a:avLst/>
            <a:gdLst>
              <a:gd name="textAreaLeft" fmla="*/ 119160 w 681120"/>
              <a:gd name="textAreaRight" fmla="*/ 493920 w 681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595440" cy="685800"/>
          </a:xfrm>
          <a:custGeom>
            <a:avLst/>
            <a:gdLst>
              <a:gd name="textAreaLeft" fmla="*/ 92880 w 595440"/>
              <a:gd name="textAreaRight" fmla="*/ 521280 w 5954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1219320"/>
            <a:ext cx="533520" cy="485640"/>
          </a:xfrm>
          <a:custGeom>
            <a:avLst/>
            <a:gdLst>
              <a:gd name="textAreaLeft" fmla="*/ 66600 w 533520"/>
              <a:gd name="textAreaRight" fmla="*/ 466920 w 5335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2057400"/>
            <a:ext cx="976320" cy="257040"/>
          </a:xfrm>
          <a:custGeom>
            <a:avLst/>
            <a:gdLst>
              <a:gd name="textAreaLeft" fmla="*/ 0 w 976320"/>
              <a:gd name="textAreaRight" fmla="*/ 976680 w 9763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1219320"/>
            <a:ext cx="443160" cy="485640"/>
          </a:xfrm>
          <a:custGeom>
            <a:avLst/>
            <a:gdLst>
              <a:gd name="textAreaLeft" fmla="*/ 0 w 443160"/>
              <a:gd name="textAreaRight" fmla="*/ 443520 w 4431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133720"/>
            <a:ext cx="609480" cy="304560"/>
          </a:xfrm>
          <a:prstGeom prst="rightArrowCallout">
            <a:avLst>
              <a:gd name="adj1" fmla="val 25002"/>
              <a:gd name="adj2" fmla="val 25000"/>
              <a:gd name="adj3" fmla="val 33353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666880"/>
            <a:ext cx="914400" cy="381240"/>
          </a:xfrm>
          <a:prstGeom prst="leftArrowCallout">
            <a:avLst>
              <a:gd name="adj1" fmla="val 25002"/>
              <a:gd name="adj2" fmla="val 25000"/>
              <a:gd name="adj3" fmla="val 39975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2362320"/>
            <a:ext cx="609480" cy="457200"/>
          </a:xfrm>
          <a:prstGeom prst="upArrowCallout">
            <a:avLst>
              <a:gd name="adj1" fmla="val 33330"/>
              <a:gd name="adj2" fmla="val 33327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2514600"/>
            <a:ext cx="304560" cy="914400"/>
          </a:xfrm>
          <a:prstGeom prst="downArrowCallout">
            <a:avLst>
              <a:gd name="adj1" fmla="val 25002"/>
              <a:gd name="adj2" fmla="val 25000"/>
              <a:gd name="adj3" fmla="val 50039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2743200"/>
            <a:ext cx="685800" cy="457200"/>
          </a:xfrm>
          <a:custGeom>
            <a:avLst/>
            <a:gdLst>
              <a:gd name="textAreaLeft" fmla="*/ 171360 w 685800"/>
              <a:gd name="textAreaRight" fmla="*/ 51444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209680"/>
            <a:ext cx="380880" cy="986040"/>
          </a:xfrm>
          <a:custGeom>
            <a:avLst/>
            <a:gdLst>
              <a:gd name="textAreaLeft" fmla="*/ 0 w 380880"/>
              <a:gd name="textAreaRight" fmla="*/ 381240 w 380880"/>
              <a:gd name="textAreaTop" fmla="*/ 246600 h 986040"/>
              <a:gd name="textAreaBottom" fmla="*/ 739800 h 986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666880"/>
            <a:ext cx="838440" cy="381240"/>
          </a:xfrm>
          <a:custGeom>
            <a:avLst/>
            <a:gdLst>
              <a:gd name="textAreaLeft" fmla="*/ 209520 w 838440"/>
              <a:gd name="textAreaRight" fmla="*/ 62892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2666880"/>
            <a:ext cx="976320" cy="457200"/>
          </a:xfrm>
          <a:custGeom>
            <a:avLst/>
            <a:gdLst>
              <a:gd name="textAreaLeft" fmla="*/ 0 w 976320"/>
              <a:gd name="textAreaRight" fmla="*/ 976680 w 9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685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286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228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609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2860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2286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14300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1600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1600200"/>
            <a:ext cx="885600" cy="8809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18288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18288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19810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7432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5909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7432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35268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6600" y="3200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533412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556272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91440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1522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52280"/>
            <a:ext cx="9144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152280"/>
            <a:ext cx="914400" cy="60984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152280"/>
            <a:ext cx="914400" cy="60984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52280"/>
            <a:ext cx="609480" cy="609840"/>
          </a:xfrm>
          <a:prstGeom prst="flowChartInternal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152280"/>
            <a:ext cx="914400" cy="60984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152280"/>
            <a:ext cx="1062000" cy="75744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914400"/>
            <a:ext cx="914400" cy="3049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914400"/>
            <a:ext cx="1062000" cy="609480"/>
          </a:xfrm>
          <a:prstGeom prst="flowChartPrepa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914400"/>
            <a:ext cx="914400" cy="45720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914400"/>
            <a:ext cx="914400" cy="609480"/>
          </a:xfrm>
          <a:prstGeom prst="flowChartManualOpe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9144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914400"/>
            <a:ext cx="609840" cy="609480"/>
          </a:xfrm>
          <a:prstGeom prst="flowChartOffpage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914400"/>
            <a:ext cx="914400" cy="80028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143000"/>
            <a:ext cx="914400" cy="800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1447920"/>
            <a:ext cx="609840" cy="60948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752480"/>
            <a:ext cx="609480" cy="60984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057400"/>
            <a:ext cx="457200" cy="91440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2057400"/>
            <a:ext cx="457200" cy="91440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205740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2057400"/>
            <a:ext cx="68580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2057400"/>
            <a:ext cx="914400" cy="60948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057400"/>
            <a:ext cx="609840" cy="609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2057400"/>
            <a:ext cx="609480" cy="6094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2057400"/>
            <a:ext cx="914400" cy="60948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743200"/>
            <a:ext cx="914400" cy="6858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3200400"/>
            <a:ext cx="914400" cy="609480"/>
          </a:xfrm>
          <a:prstGeom prst="flowChartDisp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07:53Z</dcterms:created>
  <dc:creator>cg103521</dc:creator>
  <dc:description/>
  <dc:language>en-US</dc:language>
  <cp:lastModifiedBy>cg103521</cp:lastModifiedBy>
  <dcterms:modified xsi:type="dcterms:W3CDTF">2004-03-30T12:53:26Z</dcterms:modified>
  <cp:revision>3</cp:revision>
  <dc:subject/>
  <dc:title>PowerPoint Presentation</dc:title>
</cp:coreProperties>
</file>