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B50-21B3-4F2A-9F88-96081974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054-C989-43A8-AAD2-73CD6FFE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8A1-84F4-43DF-9885-FD21D97F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634-ABB5-4D02-AED0-CA93F432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EBD-61AD-4C46-9B6E-7D88B979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551-B4DA-42FF-BBE5-31F6C5BC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3D3-57D6-4325-A5BB-DCE4FD9E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746-BA7E-4024-99A0-EDB31058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EAB-7D23-40CC-88DE-97FC600A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ED4D-CF1D-48A3-B15D-FAE9C44D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6B1-D6CE-4A7B-9F3A-AAD01708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524-60FA-48F2-9E06-E0D7B4E3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D7FC-4A6B-4AF8-9B6C-410D197FA8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D899-E69E-4C51-9FBD-2B06B77CB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ous Fo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3456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-5020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%^%&amp;_+|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5:45:40Z</dcterms:created>
  <dc:creator>Wipro</dc:creator>
  <dc:description/>
  <dc:language>en-US</dc:language>
  <cp:lastModifiedBy>lthan</cp:lastModifiedBy>
  <dcterms:modified xsi:type="dcterms:W3CDTF">2009-08-14T12:34:00Z</dcterms:modified>
  <cp:revision>10</cp:revision>
  <dc:subject/>
  <dc:title>Slide 1</dc:title>
</cp:coreProperties>
</file>