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1FB8-1CBD-488C-991A-B66FC3C1F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8BA2-57A7-4A49-B60F-21728C13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F6BD-820F-45BA-9552-32438DC0D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859F-387B-4D40-82EF-1FDD99238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652C-75F8-4007-9178-F2AB8BB8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76A6-9276-45E5-822F-BEF13C2B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7582-86F7-4127-BCBF-D5D80BB3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9AFA-407E-4163-99D6-D12B8CC6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8A37-2C15-4648-AC47-62B9413A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2BEA-2F50-4337-9498-473CE845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909E-A799-419D-A921-2BEB6553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6A7B-685E-40F5-96A9-D9588DB3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85831-74BE-496F-9004-884E8AE23D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rob_bell_love_wins_hell_empty_book_cover" descr=""/>
          <p:cNvPicPr/>
          <p:nvPr/>
        </p:nvPicPr>
        <p:blipFill>
          <a:blip r:embed=""/>
          <a:stretch/>
        </p:blipFill>
        <p:spPr>
          <a:xfrm>
            <a:off x="900000" y="1015920"/>
            <a:ext cx="4140360" cy="6185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08:29:46Z</dcterms:created>
  <dc:creator/>
  <dc:description/>
  <dc:language>en-US</dc:language>
  <cp:lastModifiedBy/>
  <cp:revision>0</cp:revision>
  <dc:subject/>
  <dc:title/>
</cp:coreProperties>
</file>