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0201-2DB8-496A-9FB5-7CE614FA6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those who do not belong to either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other users to access the file in the same way that the file owner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 bits / links / owner / size / mod date &amp; time / file or directo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urn on per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w*” – applies permissions to all rows of the  current direc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f a filename is not supplied, the modes are applied to the current direc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user group to write to the file(in addition to any other previously, allocated permissions for that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chmod 1755 &lt;file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where we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it was not developed with maximum security in 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mich.edu/imi/technology/UNIX/file-protec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can finally move onto the issue of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multi-user syst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’ve logged in, how is the system all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91E-96CE-4709-AD17-022633B0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BBC-E2BC-4235-B61C-E1861C20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F0C-0954-444C-BB0A-6F345314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3D0-4895-46A8-AD48-05A6B2A4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DCE0-6D32-4C13-8AF8-A5E188DC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2665-CEF8-4623-8090-7D25D166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D7BE-0448-4CC5-B4EA-CC2BF461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30DD-19B5-4C1A-9B8B-D3FBA31A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CAF5-2A57-46FA-B19F-E8D077CA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4BE8-272D-4672-B1C9-3C613DD1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D7F2-CADA-4747-BE1E-0B0C1698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278-A523-4D08-8796-077792CE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1957-D8DC-4866-952F-11DFEED4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50D3-32A4-4049-B031-89E04863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9952-13E4-4EA9-891A-4A0DA9C6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CA15-6EB4-46C6-AC5A-129230A5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2E2A-BF1F-4C5D-BAEE-2EDF07BE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151-5532-41E5-8092-E6DD8A38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D2E-233F-4755-AC11-68E3C4A8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EC9-6BE3-45B5-9E74-44094030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07A-324F-4A3F-88D6-4B54B40A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4E5-B35A-481D-BED9-C365A4EC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E79-DF7F-45EB-A271-DE7C4950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96A-AFCE-47D8-BEA4-1EE175DB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99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428a8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0740-7943-4B01-BA1B-B82B408D0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428a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2e5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2e5d5c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FD84-0B32-4C96-8520-CF4464072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28a8c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reebsd.org/doc/en_US.ISO8859-1/books/handbook/index.html" TargetMode="External"/><Relationship Id="rId2" Type="http://schemas.openxmlformats.org/officeDocument/2006/relationships/hyperlink" Target="http://www.alw.nih.gov/Security/Docs/unix-security.html" TargetMode="External"/><Relationship Id="rId3" Type="http://schemas.openxmlformats.org/officeDocument/2006/relationships/hyperlink" Target="http://www.wmich.edu/imi/technology/UNIX/file-protections.html" TargetMode="External"/><Relationship Id="rId4" Type="http://schemas.openxmlformats.org/officeDocument/2006/relationships/hyperlink" Target="http://acl.bestbits.at/" TargetMode="External"/><Relationship Id="rId5" Type="http://schemas.openxmlformats.org/officeDocument/2006/relationships/hyperlink" Target="http://acl.bestbits.at/" TargetMode="External"/><Relationship Id="rId6" Type="http://schemas.openxmlformats.org/officeDocument/2006/relationships/hyperlink" Target="http://acl.bestbits.at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 Black"/>
              </a:rPr>
              <a:t>File System Security in Unix</a:t>
            </a:r>
            <a:endParaRPr b="0" i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nnie Calp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Why should you learn about permissions?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y allow others to access, alter and even delete your files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fault setting is not acceptable where sensitive data is pres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y beginning users of Unix don’t understand modes, thus compromising overall secur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rmissions are a useful tool to enhance file system security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File Ownership Level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1600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285640" y="1905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209680"/>
          <a:ext cx="7543800" cy="3200400"/>
        </p:xfrm>
        <a:graphic>
          <a:graphicData uri="http://schemas.openxmlformats.org/drawingml/2006/table">
            <a:tbl>
              <a:tblPr/>
              <a:tblGrid>
                <a:gridCol w="1523880"/>
                <a:gridCol w="601992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cccc99"/>
                          </a:solidFill>
                          <a:latin typeface="Arial"/>
                        </a:rPr>
                        <a:t>User: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 who owns the fil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cccc99"/>
                          </a:solidFill>
                          <a:latin typeface="Arial"/>
                        </a:rPr>
                        <a:t>Group: 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s in a group associated with the fil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cccc99"/>
                          </a:solidFill>
                          <a:latin typeface="Arial"/>
                        </a:rPr>
                        <a:t>Other: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other users; “world” permission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cccc99"/>
                          </a:solidFill>
                          <a:latin typeface="Arial"/>
                        </a:rPr>
                        <a:t>All: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ludes all of the above level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3 Levels of Access Protection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2324160"/>
          <a:ext cx="7848720" cy="3314520"/>
        </p:xfrm>
        <a:graphic>
          <a:graphicData uri="http://schemas.openxmlformats.org/drawingml/2006/table">
            <a:tbl>
              <a:tblPr/>
              <a:tblGrid>
                <a:gridCol w="457200"/>
                <a:gridCol w="1600200"/>
                <a:gridCol w="2405160"/>
                <a:gridCol w="3386160"/>
              </a:tblGrid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 fil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contents of  directory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data to a fil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the contents of the directory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an executable program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he contents of a folder or subdirectory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Format of Permissions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36600" y="4189320"/>
            <a:ext cx="1746000" cy="94716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23680" y="4206960"/>
            <a:ext cx="1249200" cy="94716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10560" y="4206960"/>
            <a:ext cx="1269000" cy="94716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1440" y="4206960"/>
            <a:ext cx="1249200" cy="94716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232160" y="2911320"/>
            <a:ext cx="457200" cy="1066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182"/>
                </a:lnTo>
                <a:cubicBezTo>
                  <a:pt x="10800" y="4082"/>
                  <a:pt x="5400" y="4982"/>
                  <a:pt x="0" y="4982"/>
                </a:cubicBezTo>
                <a:cubicBezTo>
                  <a:pt x="5400" y="4982"/>
                  <a:pt x="10800" y="5882"/>
                  <a:pt x="10800" y="678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670440" y="2911320"/>
            <a:ext cx="457200" cy="1066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2021"/>
                </a:lnTo>
                <a:cubicBezTo>
                  <a:pt x="10800" y="12921"/>
                  <a:pt x="5400" y="13821"/>
                  <a:pt x="0" y="13821"/>
                </a:cubicBezTo>
                <a:cubicBezTo>
                  <a:pt x="5400" y="13821"/>
                  <a:pt x="10800" y="14721"/>
                  <a:pt x="10800" y="15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5451480" y="291132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46"/>
                </a:lnTo>
                <a:cubicBezTo>
                  <a:pt x="10800" y="9546"/>
                  <a:pt x="5400" y="10446"/>
                  <a:pt x="0" y="10446"/>
                </a:cubicBezTo>
                <a:cubicBezTo>
                  <a:pt x="5400" y="10446"/>
                  <a:pt x="10800" y="11346"/>
                  <a:pt x="10800" y="1224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251080" y="3247920"/>
            <a:ext cx="1177920" cy="654120"/>
          </a:xfrm>
          <a:prstGeom prst="line">
            <a:avLst/>
          </a:prstGeom>
          <a:ln w="31680">
            <a:solidFill>
              <a:srgbClr val="cccc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003560" y="3673440"/>
            <a:ext cx="152640" cy="53352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51680" y="3673440"/>
            <a:ext cx="152280" cy="53352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80080" y="3597120"/>
            <a:ext cx="0" cy="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80080" y="3597120"/>
            <a:ext cx="0" cy="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80080" y="3673440"/>
            <a:ext cx="0" cy="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673440"/>
            <a:ext cx="0" cy="53352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39000" y="2590920"/>
            <a:ext cx="412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   _ _ _   _ _ _   _ _ 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dditional Permiss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th bit is available per set.  These are only useful for executable files: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tuid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(replaces user’s x by 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tgid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(replaces group’s x by 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icky”           (replaces other’s x by t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dditional Permissions: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uid and setgid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84280" indent="-584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when another user must perform a task which only the owner of a file has the power to do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4280" indent="-5842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99"/>
                </a:solidFill>
                <a:latin typeface="Arial"/>
              </a:rPr>
              <a:t>setui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script which assumes the User ID of the program when ru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4280" indent="-5842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99"/>
                </a:solidFill>
                <a:latin typeface="Arial"/>
              </a:rPr>
              <a:t>setgi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script which assumes the Group ID of the program group when ru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dditional Permissions: 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The “sticky” Bi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set, only the root or owner can unlink/rename files in a directo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hout it, anyone able to write to the directory can delete/rename fil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 is commonly found on world-writable directories, such as /tmp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hecking Current Access Mode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o check the file characteristics for all files within the current directory, type: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cc99"/>
                </a:solidFill>
                <a:latin typeface="Arial"/>
              </a:rPr>
              <a:t>“</a:t>
            </a:r>
            <a:r>
              <a:rPr b="0" lang="en-US" sz="3500" spc="-1" strike="noStrike">
                <a:solidFill>
                  <a:srgbClr val="cccc99"/>
                </a:solidFill>
                <a:latin typeface="Arial"/>
              </a:rPr>
              <a:t>ls -l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o check the file characteristics of a specific file or directory, type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cc99"/>
                </a:solidFill>
                <a:latin typeface="Arial"/>
              </a:rPr>
              <a:t>“</a:t>
            </a:r>
            <a:r>
              <a:rPr b="0" lang="en-US" sz="3500" spc="-1" strike="noStrike">
                <a:solidFill>
                  <a:srgbClr val="cccc99"/>
                </a:solidFill>
                <a:latin typeface="Arial"/>
              </a:rPr>
              <a:t>ls -l &lt;filename or directory&gt;”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ls -l” Example Outpu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99"/>
                </a:solidFill>
                <a:latin typeface="Arial"/>
              </a:rPr>
              <a:t>&gt; ls – 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2666880"/>
          <a:ext cx="8686800" cy="3505320"/>
        </p:xfrm>
        <a:graphic>
          <a:graphicData uri="http://schemas.openxmlformats.org/drawingml/2006/table">
            <a:tbl>
              <a:tblPr/>
              <a:tblGrid>
                <a:gridCol w="1828800"/>
                <a:gridCol w="380880"/>
                <a:gridCol w="990720"/>
                <a:gridCol w="1447920"/>
                <a:gridCol w="838080"/>
                <a:gridCol w="609480"/>
                <a:gridCol w="1067040"/>
                <a:gridCol w="152388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wxr-xr-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:5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r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rwx------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8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:4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file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rwsr-sr-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57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:3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file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rw-r--r--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:4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file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rw-rw-rw-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:1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file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ting Permiss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mod command is used to set or modify file and director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ways to specify permi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ymbolic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bsolute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x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System Sec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ccount Security: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ile Per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ccess Control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ting Permissions :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ymbolic Mod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chmod &lt;who&gt; op &lt;perm bits&gt; &lt;filename&g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0" y="2971800"/>
          <a:ext cx="4038480" cy="2362320"/>
        </p:xfrm>
        <a:graphic>
          <a:graphicData uri="http://schemas.openxmlformats.org/drawingml/2006/table">
            <a:tbl>
              <a:tblPr/>
              <a:tblGrid>
                <a:gridCol w="182880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, g, o, 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, -, =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 bit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 w, x, s, 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ymbolic Mode - Example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to all rows in current direc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&gt;chmod u=rwx,g=rx,o=r row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all users to read and search contents of direc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&gt;chmod a=rx dir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dding Permissions - Exampl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ls -l textfile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rw-r--r--  …           (current permission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chmod g+w textfile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ls -l textfile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rw-rw-r--  …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(updated permissions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ubtracting Permiss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ls -l textfile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rw-rw-r--  …           (current permission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chmod g-w textfile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ls -l textfile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rw-r-r--  …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(updated permissions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ting Permissions: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bsolute Mod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99"/>
                </a:solidFill>
                <a:latin typeface="Arial"/>
              </a:rPr>
              <a:t>chmod &lt;sum of permitted octal #s&gt; &lt;file(s)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2556000"/>
          <a:ext cx="3886200" cy="3539880"/>
        </p:xfrm>
        <a:graphic>
          <a:graphicData uri="http://schemas.openxmlformats.org/drawingml/2006/table">
            <a:tbl>
              <a:tblPr/>
              <a:tblGrid>
                <a:gridCol w="1218960"/>
                <a:gridCol w="2667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l #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is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user 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group 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cky” b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by ow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by ow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 by ow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572000" y="2556000"/>
          <a:ext cx="3962520" cy="3539880"/>
        </p:xfrm>
        <a:graphic>
          <a:graphicData uri="http://schemas.openxmlformats.org/drawingml/2006/table">
            <a:tbl>
              <a:tblPr/>
              <a:tblGrid>
                <a:gridCol w="121932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l #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is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by gro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by gro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 by gro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by 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by 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 by 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bsolute Mode – Exampl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let the owner read, write, and execute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400 + 0200 + 0100  =  07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t, only allow group users and others to read and write to the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40 + 0020  =  0060  (group val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04 + 0002  =  0006  (others val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ctal value = 0700 + 0060 + 000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&gt; chmod 7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umask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turn off permis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umask &lt;valu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file: determine the numeric value for the desired permissions and subtract it from 666 to get the umask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umask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directory: determine the numeric value for the desired permissions and subtract it from 777 to get the umask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set default permissions for newly created files within the directory, only during the current shell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ccess Mode Limitat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des are defined to only user, group, and oth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.e. Users cannot designate file access to specific us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ccess Control Lists (ACLs)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complexity of managing per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d as extended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you to define lists that grant/deny access to a given file based on criteria that you pro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d ACLs will append a “+” to the set of permissi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-rwxr--r--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Unix Basic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veloped in the late 1970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multi-user environ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nded to be used only by a small number of people within the same compan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CL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separate access control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limit permissions granted to individually specified users or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llow user and group permissions to be automatically specified upon file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facl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to modify(-m) or remove(-x) AC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.g. setfacl –m d:u:username:rwx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:student:rw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ydi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E: “d:” is optional for setting default AC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 a directory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getfacl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sts ACLs on files and director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etfacl &lt;filename or directory&g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 an important issue with the rise in popularity of Unix as a multi-user environment(due to its portabilit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secure way of protecting your files would be to not to store them in the system in the first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wise, having an understanding of permissions is a good start towards enhancing secur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Reference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99"/>
                </a:solidFill>
                <a:uFillTx/>
                <a:latin typeface="Arial"/>
                <a:hlinkClick r:id="rId1"/>
              </a:rPr>
              <a:t>FreeBSD Hand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99"/>
                </a:solidFill>
                <a:uFillTx/>
                <a:latin typeface="Arial"/>
                <a:hlinkClick r:id="rId2"/>
              </a:rPr>
              <a:t>“Improving the Security of Your Unix System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. A. Cu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’Reilly Practical UNIX &amp; Internet Secu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S. Garfinkel &amp; G. Spaff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99"/>
                </a:solidFill>
                <a:uFillTx/>
                <a:latin typeface="Arial"/>
                <a:hlinkClick r:id="rId3"/>
              </a:rPr>
              <a:t>UNIX Comman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Western Michigan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Unix System Security: A Guide for Users and System Administr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D. A. Cu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700" spc="-1" strike="noStrike" u="sng">
                <a:solidFill>
                  <a:srgbClr val="cccc99"/>
                </a:solidFill>
                <a:uFillTx/>
                <a:latin typeface="Arial"/>
                <a:hlinkClick r:id="rId5"/>
              </a:rPr>
              <a:t>acl.bestbits.at</a:t>
            </a:r>
            <a:r>
              <a:rPr b="0" lang="en-US" sz="2700" spc="-1" strike="noStrike" u="sng">
                <a:solidFill>
                  <a:srgbClr val="cccc99"/>
                </a:solidFill>
                <a:uFillTx/>
                <a:latin typeface="Arial"/>
                <a:hlinkClick r:id="rId6"/>
              </a:rPr>
              <a:t>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n Area of File System Security 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cccc99"/>
                </a:solidFill>
                <a:uFillTx/>
                <a:latin typeface="Arial"/>
              </a:rPr>
              <a:t>Account Security</a:t>
            </a: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erned with keeping unauthorized users from gaining access into the syste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login feature is added for file secur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ccount Security:</a:t>
            </a:r>
            <a:r>
              <a:rPr b="0" lang="en-US" sz="3300" spc="-1" strike="noStrike">
                <a:solidFill>
                  <a:srgbClr val="cccc99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Password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e way hash encryption algorith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s a modified version of the Data Encryption Standard (DE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s a “salt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The UNIX File System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trols the way that information in files and directories is laid out on the dis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hierarchical organization of files &amp; directories is often represented with a tree structur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imple Unix File Structure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209680"/>
            <a:ext cx="144756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(ro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124080"/>
            <a:ext cx="144792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124080"/>
            <a:ext cx="144756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124080"/>
            <a:ext cx="144792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038480"/>
            <a:ext cx="144792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114800"/>
            <a:ext cx="1066680" cy="60948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411480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5105520"/>
            <a:ext cx="1067040" cy="60948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5105520"/>
            <a:ext cx="1067040" cy="60948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819520"/>
            <a:ext cx="0" cy="30456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14240" y="2819520"/>
            <a:ext cx="2133720" cy="30456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819520"/>
            <a:ext cx="2133360" cy="30456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0" cy="30456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4648320"/>
            <a:ext cx="0" cy="45720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066680" y="4648320"/>
            <a:ext cx="1447920" cy="45720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648320"/>
            <a:ext cx="1371600" cy="45720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095520" y="3733920"/>
            <a:ext cx="762120" cy="38088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3733920"/>
            <a:ext cx="762120" cy="38088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nother Area of File System Security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cccc99"/>
                </a:solidFill>
                <a:uFillTx/>
                <a:latin typeface="Arial"/>
              </a:rPr>
              <a:t>File System Security</a:t>
            </a: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erned with preventing unauthorized access to the system’s dat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ccess of data is controlled through the use of file permissio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File Permiss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.k.a. “mode bits” or “permission bits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controls which users can access what and ho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depend also on the permission bits associated with all directories “above” the file in the directory hierarch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2:21:32Z</dcterms:created>
  <dc:creator> </dc:creator>
  <dc:description/>
  <dc:language>en-US</dc:language>
  <cp:lastModifiedBy> </cp:lastModifiedBy>
  <dcterms:modified xsi:type="dcterms:W3CDTF">2004-11-09T22:40:57Z</dcterms:modified>
  <cp:revision>233</cp:revision>
  <dc:subject/>
  <dc:title>Unix File System Security</dc:title>
</cp:coreProperties>
</file>