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036-6994-4C0C-BF0D-C49717D5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DF6-6D02-4E79-8A0C-D56259F4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9ED-9E7A-47FE-9239-53CC4A26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B04-4700-4F66-B5E7-50261A57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AE7-B283-40F9-8753-577DCA8F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469-49BB-49F8-967B-3AC9BB53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117-7593-4A5F-815A-50E17943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AC1-0458-4631-9F23-D49635C0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A37-1F99-4DDB-9CFB-521271F0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938-0D12-4A04-B2CE-B3FD1FC6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0D8-18F2-409B-8719-E1BB0511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1BE-BC8A-422C-BE31-20097405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9FFA-0966-4765-B762-67F0EAABF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hing To Thi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2:42:08Z</dcterms:created>
  <dc:creator>Jeff Fuller</dc:creator>
  <dc:description/>
  <dc:language>en-US</dc:language>
  <cp:lastModifiedBy>Jeff Fuller</cp:lastModifiedBy>
  <dcterms:modified xsi:type="dcterms:W3CDTF">2008-09-11T03:05:38Z</dcterms:modified>
  <cp:revision>2</cp:revision>
  <dc:subject/>
  <dc:title>Nothing To This File</dc:title>
</cp:coreProperties>
</file>