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849-0656-4FED-B8F0-4420D29F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ADC-5C70-4269-99BB-119BB8D2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6A9F-AC0F-460C-91E9-09FF6CC2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28B1-E913-4110-B947-946CF3FB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DEC-C542-4EE1-8B69-BAE4C83E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19D-C236-491B-A202-1A27ABAD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D24-6018-4DEF-AEDA-79676A69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7F4-BE83-43C6-BB8E-F11A5B28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CEE-BA44-4FED-B62A-29A1153B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714-B631-4F38-ABC5-4FC28C00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F0D-0717-48B8-BE96-F9C99F7E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D2F-AD0C-4ECE-9132-928C36A2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3F53-5EC2-466D-AB8C-22DAD0122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15000" y="2209680"/>
            <a:ext cx="533520" cy="812880"/>
          </a:xfrm>
          <a:custGeom>
            <a:avLst/>
            <a:gdLst/>
            <a:ahLst/>
            <a:rect l="l" t="t" r="r" b="b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c247ff"/>
              </a:gs>
              <a:gs pos="100000">
                <a:srgbClr val="9938c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143000"/>
            <a:ext cx="936720" cy="122400"/>
          </a:xfrm>
          <a:custGeom>
            <a:avLst/>
            <a:gdLst/>
            <a:ahLst/>
            <a:rect l="l" t="t" r="r" b="b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622481"/>
              </a:gs>
              <a:gs pos="100000">
                <a:srgbClr val="c247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743200"/>
            <a:ext cx="1581120" cy="692280"/>
          </a:xfrm>
          <a:custGeom>
            <a:avLst/>
            <a:gdLst/>
            <a:ahLst/>
            <a:rect l="l" t="t" r="r" b="b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gradFill rotWithShape="0">
            <a:gsLst>
              <a:gs pos="0">
                <a:srgbClr val="c247ff"/>
              </a:gs>
              <a:gs pos="100000">
                <a:srgbClr val="dfa2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43200" y="1219320"/>
            <a:ext cx="2706840" cy="118260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0"/>
                </a:moveTo>
                <a:lnTo>
                  <a:pt x="744" y="0"/>
                </a:lnTo>
                <a:lnTo>
                  <a:pt x="0" y="744"/>
                </a:lnTo>
              </a:path>
            </a:pathLst>
          </a:custGeom>
          <a:noFill/>
          <a:ln cap="rnd"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66960" y="3541680"/>
            <a:ext cx="2706480" cy="118260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744"/>
                </a:moveTo>
                <a:lnTo>
                  <a:pt x="744" y="74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2895480"/>
            <a:ext cx="1449360" cy="42084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0"/>
                </a:moveTo>
                <a:lnTo>
                  <a:pt x="396" y="0"/>
                </a:lnTo>
                <a:lnTo>
                  <a:pt x="0" y="264"/>
                </a:lnTo>
              </a:path>
            </a:pathLst>
          </a:custGeom>
          <a:noFill/>
          <a:ln cap="rnd"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4114800"/>
            <a:ext cx="1449360" cy="42084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264"/>
                </a:moveTo>
                <a:lnTo>
                  <a:pt x="396" y="26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4226040"/>
            <a:ext cx="2984400" cy="1641240"/>
          </a:xfrm>
          <a:custGeom>
            <a:avLst/>
            <a:gdLst/>
            <a:ahLst/>
            <a:rect l="l" t="t" r="r" b="b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1523880"/>
            <a:ext cx="2603520" cy="2003400"/>
          </a:xfrm>
          <a:custGeom>
            <a:avLst/>
            <a:gdLst/>
            <a:ahLst/>
            <a:rect l="l" t="t" r="r" b="b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rot="291600">
            <a:off x="3203640" y="1746000"/>
            <a:ext cx="3124080" cy="2365200"/>
          </a:xfrm>
          <a:custGeom>
            <a:avLst/>
            <a:gdLst/>
            <a:ahLst/>
            <a:rect l="l" t="t" r="r" b="b"/>
            <a:pathLst>
              <a:path w="3312" h="3962">
                <a:moveTo>
                  <a:pt x="1376" y="696"/>
                </a:moveTo>
                <a:cubicBezTo>
                  <a:pt x="1401" y="795"/>
                  <a:pt x="1489" y="920"/>
                  <a:pt x="1639" y="920"/>
                </a:cubicBezTo>
                <a:cubicBezTo>
                  <a:pt x="1801" y="920"/>
                  <a:pt x="1876" y="795"/>
                  <a:pt x="1926" y="708"/>
                </a:cubicBezTo>
                <a:lnTo>
                  <a:pt x="2940" y="66"/>
                </a:lnTo>
                <a:cubicBezTo>
                  <a:pt x="3042" y="0"/>
                  <a:pt x="3142" y="16"/>
                  <a:pt x="3204" y="78"/>
                </a:cubicBezTo>
                <a:cubicBezTo>
                  <a:pt x="3267" y="140"/>
                  <a:pt x="3312" y="264"/>
                  <a:pt x="3072" y="444"/>
                </a:cubicBezTo>
                <a:lnTo>
                  <a:pt x="2139" y="1081"/>
                </a:lnTo>
                <a:lnTo>
                  <a:pt x="2476" y="2372"/>
                </a:lnTo>
                <a:lnTo>
                  <a:pt x="2251" y="2435"/>
                </a:lnTo>
                <a:lnTo>
                  <a:pt x="2614" y="3589"/>
                </a:lnTo>
                <a:cubicBezTo>
                  <a:pt x="2651" y="3751"/>
                  <a:pt x="2639" y="3863"/>
                  <a:pt x="2539" y="3925"/>
                </a:cubicBezTo>
                <a:cubicBezTo>
                  <a:pt x="2401" y="3962"/>
                  <a:pt x="2289" y="3863"/>
                  <a:pt x="2226" y="3689"/>
                </a:cubicBezTo>
                <a:cubicBezTo>
                  <a:pt x="2101" y="3453"/>
                  <a:pt x="1876" y="2720"/>
                  <a:pt x="1789" y="2534"/>
                </a:cubicBezTo>
                <a:lnTo>
                  <a:pt x="1414" y="2534"/>
                </a:lnTo>
                <a:cubicBezTo>
                  <a:pt x="1339" y="2770"/>
                  <a:pt x="1151" y="3465"/>
                  <a:pt x="1051" y="3689"/>
                </a:cubicBezTo>
                <a:cubicBezTo>
                  <a:pt x="1001" y="3838"/>
                  <a:pt x="914" y="3950"/>
                  <a:pt x="789" y="3925"/>
                </a:cubicBezTo>
                <a:cubicBezTo>
                  <a:pt x="714" y="3875"/>
                  <a:pt x="614" y="3838"/>
                  <a:pt x="676" y="3577"/>
                </a:cubicBezTo>
                <a:lnTo>
                  <a:pt x="1001" y="2459"/>
                </a:lnTo>
                <a:lnTo>
                  <a:pt x="751" y="2397"/>
                </a:lnTo>
                <a:lnTo>
                  <a:pt x="1126" y="1081"/>
                </a:lnTo>
                <a:lnTo>
                  <a:pt x="139" y="497"/>
                </a:lnTo>
                <a:cubicBezTo>
                  <a:pt x="54" y="402"/>
                  <a:pt x="0" y="342"/>
                  <a:pt x="60" y="180"/>
                </a:cubicBezTo>
                <a:cubicBezTo>
                  <a:pt x="186" y="102"/>
                  <a:pt x="214" y="112"/>
                  <a:pt x="389" y="162"/>
                </a:cubicBezTo>
                <a:lnTo>
                  <a:pt x="1376" y="696"/>
                </a:lnTo>
                <a:close/>
              </a:path>
            </a:pathLst>
          </a:custGeom>
          <a:solidFill>
            <a:srgbClr val="ff99cc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48320" y="457200"/>
            <a:ext cx="1522440" cy="571500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3526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52280"/>
            <a:ext cx="2211480" cy="510552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6:51:46Z</dcterms:created>
  <dc:creator>Automation</dc:creator>
  <dc:description/>
  <dc:language>en-US</dc:language>
  <cp:lastModifiedBy>lijiany</cp:lastModifiedBy>
  <dcterms:modified xsi:type="dcterms:W3CDTF">2012-07-05T06:25:57Z</dcterms:modified>
  <cp:revision>5</cp:revision>
  <dc:subject/>
  <dc:title>Slide 1</dc:title>
</cp:coreProperties>
</file>