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543-C4DD-47CB-B8F2-0B33928F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1B8-7F48-41DE-8418-FAACB9F2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74A-0B83-414C-94B2-E5311F24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844-317A-4863-84C8-EFD8C62E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7C70-993B-415F-A573-1BE80858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491-40E5-4718-9103-82524FAA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459-F12E-4799-A0C0-B9EC769C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A87-D703-4D23-A737-E5F48B7C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543-E270-4AEA-8699-3191E7EE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6B6-FB48-4F26-8E86-D13802B8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E1DB-A4DC-46BE-8F4E-B7EE981E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AE16-8AAF-483F-A6EB-FD0027FB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8769-15B4-4CB4-AD44-5107A8E174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84360" y="836640"/>
          <a:ext cx="3264120" cy="4983120"/>
        </p:xfrm>
        <a:graphic>
          <a:graphicData uri="http://schemas.openxmlformats.org/drawingml/2006/table">
            <a:tbl>
              <a:tblPr/>
              <a:tblGrid>
                <a:gridCol w="1150920"/>
                <a:gridCol w="360360"/>
                <a:gridCol w="182520"/>
                <a:gridCol w="182880"/>
                <a:gridCol w="355320"/>
                <a:gridCol w="289080"/>
                <a:gridCol w="743040"/>
              </a:tblGrid>
              <a:tr h="487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af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son</cp:lastModifiedBy>
  <dcterms:modified xsi:type="dcterms:W3CDTF">2005-04-14T06:54:52Z</dcterms:modified>
  <cp:revision>6</cp:revision>
  <dc:subject/>
  <dc:title>PowerPoint Presentation</dc:title>
</cp:coreProperties>
</file>