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64B-BF45-4B6F-8067-530F1280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97D-C68C-414F-B1EC-2F010456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E6D-4F05-4FAB-9176-FCB1D287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AD9-DB3E-496E-84DF-4B7B56B7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B22E-D86B-4283-AEF2-8DC4A0A8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FB61-B7D1-4FE4-9F9F-14224856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326-2ED3-498C-8EEC-66FBC773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9C62-EE2E-42F0-BECD-103FC5F0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FEF-84B0-4D3F-8A22-D00AD4FE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49D-C4A4-491C-BEC3-FDADAF9A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A3E-A4A8-4248-A3A7-9F20FE0D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2F5-5EAE-41FE-BEA3-AC0DDFB2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45EC-CA1B-4EB0-82E7-B271C2452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image" Target="../media/image1.wmf"/><Relationship Id="rId11" Type="http://schemas.openxmlformats.org/officeDocument/2006/relationships/image" Target="../media/image3.wmf"/><Relationship Id="rId12" Type="http://schemas.openxmlformats.org/officeDocument/2006/relationships/image" Target="../media/image4.wmf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image" Target="../media/image3.wmf"/><Relationship Id="rId16" Type="http://schemas.openxmlformats.org/officeDocument/2006/relationships/image" Target="../media/image4.wmf"/><Relationship Id="rId17" Type="http://schemas.openxmlformats.org/officeDocument/2006/relationships/image" Target="../media/image3.wmf"/><Relationship Id="rId18" Type="http://schemas.openxmlformats.org/officeDocument/2006/relationships/image" Target="../media/image4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68320" y="1330200"/>
            <a:ext cx="1092240" cy="80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1812960" y="3962520"/>
          <a:ext cx="968400" cy="74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2960" y="3962520"/>
                    <a:ext cx="9684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" name=""/>
          <p:cNvGrpSpPr/>
          <p:nvPr/>
        </p:nvGrpSpPr>
        <p:grpSpPr>
          <a:xfrm>
            <a:off x="2647800" y="3859200"/>
            <a:ext cx="400320" cy="331920"/>
            <a:chOff x="2647800" y="3859200"/>
            <a:chExt cx="400320" cy="331920"/>
          </a:xfrm>
        </p:grpSpPr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647800" y="3859200"/>
              <a:ext cx="4003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2727720" y="3956760"/>
              <a:ext cx="192240" cy="781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7" name=""/>
          <p:cNvGraphicFramePr/>
          <p:nvPr/>
        </p:nvGraphicFramePr>
        <p:xfrm>
          <a:off x="1841400" y="5168880"/>
          <a:ext cx="911160" cy="77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41400" y="5168880"/>
                    <a:ext cx="9111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08000" y="365040"/>
            <a:ext cx="65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 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erarchy 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Di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gram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 of SECOM EV SSL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49080" y="4876920"/>
            <a:ext cx="1514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V SSL Certif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717640" y="5154480"/>
            <a:ext cx="400320" cy="331920"/>
            <a:chOff x="2717640" y="5154480"/>
            <a:chExt cx="400320" cy="331920"/>
          </a:xfrm>
        </p:grpSpPr>
        <p:pic>
          <p:nvPicPr>
            <p:cNvPr id="52" name="" descr=""/>
            <p:cNvPicPr/>
            <p:nvPr/>
          </p:nvPicPr>
          <p:blipFill>
            <a:blip r:embed="rId8"/>
            <a:stretch/>
          </p:blipFill>
          <p:spPr>
            <a:xfrm>
              <a:off x="2717640" y="5154480"/>
              <a:ext cx="4003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9"/>
            <a:stretch/>
          </p:blipFill>
          <p:spPr>
            <a:xfrm>
              <a:off x="2797560" y="5252040"/>
              <a:ext cx="192240" cy="7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4" name=""/>
          <p:cNvCxnSpPr>
            <a:stCxn id="41" idx="2"/>
            <a:endCxn id="55" idx="0"/>
          </p:cNvCxnSpPr>
          <p:nvPr/>
        </p:nvCxnSpPr>
        <p:spPr>
          <a:xfrm flipH="1">
            <a:off x="2298600" y="2133720"/>
            <a:ext cx="16200" cy="56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5" idx="2"/>
          </p:cNvCxnSpPr>
          <p:nvPr/>
        </p:nvCxnSpPr>
        <p:spPr>
          <a:xfrm flipH="1">
            <a:off x="2296800" y="350532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>
            <a:off x="2296800" y="4770000"/>
            <a:ext cx="1080" cy="52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1752480" y="2701800"/>
            <a:ext cx="1092240" cy="803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124080" y="2971800"/>
            <a:ext cx="693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newly construc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New root - FEB8 C432 DCF9 769A CEAE 3DD8 908F FD28 8665 647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906640" y="1649520"/>
            <a:ext cx="399960" cy="331560"/>
            <a:chOff x="2906640" y="1649520"/>
            <a:chExt cx="399960" cy="331560"/>
          </a:xfrm>
        </p:grpSpPr>
        <p:pic>
          <p:nvPicPr>
            <p:cNvPr id="61" name="" descr=""/>
            <p:cNvPicPr/>
            <p:nvPr/>
          </p:nvPicPr>
          <p:blipFill>
            <a:blip r:embed="rId11"/>
            <a:stretch/>
          </p:blipFill>
          <p:spPr>
            <a:xfrm>
              <a:off x="2906640" y="1649520"/>
              <a:ext cx="39996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2"/>
            <a:stretch/>
          </p:blipFill>
          <p:spPr>
            <a:xfrm>
              <a:off x="2986560" y="1747080"/>
              <a:ext cx="191880" cy="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3103560" y="1219320"/>
            <a:ext cx="5659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Communication RootCA1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Self sign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844720" y="3021120"/>
            <a:ext cx="399960" cy="331560"/>
            <a:chOff x="2844720" y="3021120"/>
            <a:chExt cx="399960" cy="331560"/>
          </a:xfrm>
        </p:grpSpPr>
        <p:pic>
          <p:nvPicPr>
            <p:cNvPr id="65" name="" descr=""/>
            <p:cNvPicPr/>
            <p:nvPr/>
          </p:nvPicPr>
          <p:blipFill>
            <a:blip r:embed="rId13"/>
            <a:stretch/>
          </p:blipFill>
          <p:spPr>
            <a:xfrm>
              <a:off x="2844720" y="3021120"/>
              <a:ext cx="39996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4"/>
            <a:stretch/>
          </p:blipFill>
          <p:spPr>
            <a:xfrm>
              <a:off x="2924640" y="3118680"/>
              <a:ext cx="191880" cy="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3118320" y="2600280"/>
            <a:ext cx="572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Communication EV RootCA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Self sign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671920" y="1143000"/>
            <a:ext cx="399960" cy="331920"/>
            <a:chOff x="2671920" y="1143000"/>
            <a:chExt cx="399960" cy="331920"/>
          </a:xfrm>
        </p:grpSpPr>
        <p:pic>
          <p:nvPicPr>
            <p:cNvPr id="69" name="" descr=""/>
            <p:cNvPicPr/>
            <p:nvPr/>
          </p:nvPicPr>
          <p:blipFill>
            <a:blip r:embed="rId15"/>
            <a:stretch/>
          </p:blipFill>
          <p:spPr>
            <a:xfrm>
              <a:off x="2671920" y="1143000"/>
              <a:ext cx="39996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16"/>
            <a:stretch/>
          </p:blipFill>
          <p:spPr>
            <a:xfrm>
              <a:off x="2751840" y="1240560"/>
              <a:ext cx="191880" cy="7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3384720" y="1554480"/>
            <a:ext cx="484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36B1 2B49 F981 9ED7 4C9E BC38 0FC6 568F 5DAC B2F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Already embedded on firefo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8640" y="4290840"/>
            <a:ext cx="172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V SSL IssuingC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89840" y="3618000"/>
            <a:ext cx="970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ross 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480" y="3975840"/>
            <a:ext cx="38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M Passport for Web EV 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39000" y="2133720"/>
            <a:ext cx="970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ross 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666880" y="2362320"/>
            <a:ext cx="400320" cy="331560"/>
            <a:chOff x="2666880" y="2362320"/>
            <a:chExt cx="400320" cy="331560"/>
          </a:xfrm>
        </p:grpSpPr>
        <p:pic>
          <p:nvPicPr>
            <p:cNvPr id="77" name="" descr=""/>
            <p:cNvPicPr/>
            <p:nvPr/>
          </p:nvPicPr>
          <p:blipFill>
            <a:blip r:embed="rId17"/>
            <a:stretch/>
          </p:blipFill>
          <p:spPr>
            <a:xfrm>
              <a:off x="2666880" y="2362320"/>
              <a:ext cx="40032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8"/>
            <a:stretch/>
          </p:blipFill>
          <p:spPr>
            <a:xfrm>
              <a:off x="2746800" y="2459880"/>
              <a:ext cx="192240" cy="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1447920" y="1295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447920"/>
            <a:ext cx="18288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SL certifica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ent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 sig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crypted ema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27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48948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V SSL certifica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91520" y="763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4,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加毛　寿</cp:lastModifiedBy>
  <dcterms:modified xsi:type="dcterms:W3CDTF">2008-01-24T10:06:49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