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786F-1371-4384-8E03-64D0AF1E2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33CD-F83F-40C9-A792-0394EB14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A2E1-D3F1-486F-AA70-38B5F3D06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63AF-477F-44B5-A68C-A9EBADFA0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772B-BC7F-41A9-AFDA-37C2F2F3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7783-C619-4F37-9946-AC5746BB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E329-BE28-4A33-8240-5BD997F5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5B16-C95E-446E-9B46-034E2394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458D-04AA-4DFD-8265-F065F4D3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91BD-2346-4B40-8715-DB8745FA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DE83-B378-4D44-A713-79D6903F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235C-0243-4CDD-827D-4AB5D74D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E8A2-F56B-497C-811F-6AB2E50EEC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371600"/>
            <a:ext cx="8229600" cy="1371600"/>
          </a:xfrm>
          <a:prstGeom prst="roundRect">
            <a:avLst>
              <a:gd name="adj" fmla="val 116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57440" y="3886200"/>
            <a:ext cx="2124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pot imp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