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56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5600" cy="922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05600" cy="922644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6440"/>
              <a:gd name="textAreaBottom" fmla="*/ 9226080 h 9226440"/>
            </a:gdLst>
            <a:ahLst/>
            <a:rect l="textAreaLeft" t="textAreaTop" r="textAreaRight" b="textAreaBottom"/>
            <a:pathLst>
              <a:path w="21600" h="28447">
                <a:moveTo>
                  <a:pt x="4" y="0"/>
                </a:moveTo>
                <a:arcTo wR="4" hR="4" stAng="16200000" swAng="-5400000"/>
                <a:lnTo>
                  <a:pt x="0" y="28443"/>
                </a:lnTo>
                <a:arcTo wR="4" hR="4" stAng="10800000" swAng="-5400000"/>
                <a:lnTo>
                  <a:pt x="21596" y="284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05600" cy="922644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6440"/>
              <a:gd name="textAreaBottom" fmla="*/ 9226080 h 9226440"/>
            </a:gdLst>
            <a:ahLst/>
            <a:rect l="textAreaLeft" t="textAreaTop" r="textAreaRight" b="textAreaBottom"/>
            <a:pathLst>
              <a:path w="21600" h="28447">
                <a:moveTo>
                  <a:pt x="4" y="0"/>
                </a:moveTo>
                <a:arcTo wR="4" hR="4" stAng="16200000" swAng="-5400000"/>
                <a:lnTo>
                  <a:pt x="0" y="28443"/>
                </a:lnTo>
                <a:arcTo wR="4" hR="4" stAng="10800000" swAng="-5400000"/>
                <a:lnTo>
                  <a:pt x="21596" y="284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05600" cy="922644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6440"/>
              <a:gd name="textAreaBottom" fmla="*/ 9226080 h 9226440"/>
            </a:gdLst>
            <a:ahLst/>
            <a:rect l="textAreaLeft" t="textAreaTop" r="textAreaRight" b="textAreaBottom"/>
            <a:pathLst>
              <a:path w="21600" h="28447">
                <a:moveTo>
                  <a:pt x="4" y="0"/>
                </a:moveTo>
                <a:arcTo wR="4" hR="4" stAng="16200000" swAng="-5400000"/>
                <a:lnTo>
                  <a:pt x="0" y="28443"/>
                </a:lnTo>
                <a:arcTo wR="4" hR="4" stAng="10800000" swAng="-5400000"/>
                <a:lnTo>
                  <a:pt x="21596" y="284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04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96640" y="691920"/>
            <a:ext cx="4608360" cy="34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86ca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3120" y="4381560"/>
            <a:ext cx="5133960" cy="4146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763120"/>
            <a:ext cx="30304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0440" y="8763120"/>
            <a:ext cx="30304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C65ED-9646-4486-A48B-9ADE0020FE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97000" y="692280"/>
            <a:ext cx="461340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33120" y="438156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97000" y="692280"/>
            <a:ext cx="461340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933120" y="438156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97000" y="692280"/>
            <a:ext cx="461340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3120" y="438156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2F5D-7DF2-4D19-A748-D946FC30E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3101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412080"/>
            <a:ext cx="73101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E00C-8EF6-44EB-9DAC-09D075A03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41208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4080" y="341208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8BAE-C172-44CC-855F-D7A31B4EB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9680" y="106632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1440" y="106632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41208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9680" y="341208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1440" y="341208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68F6-E47F-4380-8378-115FA80BF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73101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9d6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3D04-E98B-4B14-BB44-255F4263D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310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B1DB-578C-454D-814B-67822E957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614C-6D7A-4875-BF3E-8B29A6838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EEDC-EB53-4D3E-8CE9-272389268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76320"/>
            <a:ext cx="7539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9d6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188A-2B3A-481A-9CDE-DCB845F7E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41208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635A-CD27-47C8-844E-19C1E08DE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4080" y="341208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4C2E-D001-46F5-BAF3-3F41428AB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412080"/>
            <a:ext cx="73101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D6E9-1E0F-495A-9ACC-D8569A4B6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86ca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066320"/>
            <a:ext cx="7310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688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688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688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-7920"/>
            <a:ext cx="9907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228240"/>
            <a:ext cx="9856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6F503-DF4E-498F-8272-C3DCEB2A353B}" type="slidenum">
              <a:rPr b="0" lang="en-GB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1746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Findings and Understanding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60560" y="26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420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3344" t="0" r="0" b="0"/>
          <a:stretch/>
        </p:blipFill>
        <p:spPr>
          <a:xfrm>
            <a:off x="1258920" y="90792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92720" y="1125360"/>
            <a:ext cx="1511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916280"/>
            <a:ext cx="3311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7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=sccm / =sc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o Time: 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4581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J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P: 1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TR: 29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TM: 6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1125360"/>
            <a:ext cx="1223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89E1-0E3F-48FE-BCBB-820177B54E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1746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60560" y="26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420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1125360"/>
            <a:ext cx="151128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1916280"/>
            <a:ext cx="3311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SSV O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to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7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 T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=sccm / =sc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o Time: 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4581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J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P:  2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TR:  2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TM:  1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1125360"/>
            <a:ext cx="122364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206064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4bab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1989000"/>
            <a:ext cx="12952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993366"/>
                </a:solidFill>
                <a:uFillTx/>
                <a:latin typeface="Times New Roman"/>
              </a:rPr>
              <a:t>SSV C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52257" t="0" r="0" b="0"/>
          <a:stretch/>
        </p:blipFill>
        <p:spPr>
          <a:xfrm>
            <a:off x="1258920" y="1125360"/>
            <a:ext cx="3241800" cy="31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230D-3280-4ACF-B8A3-6F07535AC3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32000" y="765000"/>
            <a:ext cx="7467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arison of process Lo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4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pik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7345440" cy="31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8902-1159-4B65-B3C5-5B451DE69D8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