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4646-3FEA-459C-8A0F-1A18BCF0D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19AE-66E2-4D66-9C64-1698A91DE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AF7C-FD70-4FAB-A30A-286F42E61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56E6-F2FD-49F3-B09D-BC2BB25AF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DE33-C876-4696-AD2E-99FB0CC621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8DE80-40FD-48FA-90C1-8C1D19D4D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959CE-9487-4B08-96AB-AC9A097BD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E63F-81AC-41F6-9ED2-2CD94BDBB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3C64-3207-49E3-9DF6-515060DFF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D5A2-2844-477B-9E88-6478A5AC9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B69E7-3648-46CB-B0C5-25D37AE85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BE87-4514-4719-B46F-F7541C978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855E1-A718-49AC-9DC1-A83F358DFC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C05C8-B4F2-434A-909A-D74320A39E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85FDB-CE24-47BF-A0F9-387A56D317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7D76-E499-4F64-9176-DA108D3F59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3A93-3749-4A75-BFCC-E9CFAA7D7D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2C01-BD70-4FA6-A8CB-9FBC7A1A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9DF07-C518-405D-BC67-14329BB9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094DD-5E13-424E-81FB-C03F21A7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97FFB-6998-401A-BE02-15A2023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89995-C5EB-4447-BE73-241E8E17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5B0B-A08C-493F-83F6-E8CA00A7E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4A9C3-6705-4C7A-A4A3-C5157F6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826CD-FA94-4772-8E39-AF02AF5D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3934F-CA6D-4F55-B472-3EA71BC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0EAF2-4480-4646-BAF0-A06E0D8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03B69-5FB3-4E36-A30E-810BCA9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E7307-5F1F-4793-8D43-BE7A9DD0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969B7-F355-4D81-B40D-110FC31A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DAAA-97F1-4C1F-8D63-34071D459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A988-8313-4FCB-B558-C6B90F128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3FF6-392F-4820-9F4F-77D5CEF7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F7BB-EA11-41F8-8D32-E8E1DCDA4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CFBB-7218-428F-8802-2D3310EA8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F95C-0727-47B4-B33B-C30FCB3BA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6E12-8D7A-4FF4-A423-4F046BFAD56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AE31-4B57-4CD7-BAEF-C16944C5106B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14B-B370-49FB-A9ED-F2C71A92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860000">
            <a:off x="4238280" y="3143160"/>
            <a:ext cx="1428840" cy="5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22:56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02T08:39:37Z</dcterms:modified>
  <cp:revision>2</cp:revision>
  <dc:subject/>
  <dc:title>Slide 1</dc:title>
</cp:coreProperties>
</file>