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30C9-22A2-4243-8FFF-9D7244063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3520" y="-72000"/>
            <a:ext cx="5668920" cy="398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0280" y="253800"/>
            <a:ext cx="621648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0280" y="540720"/>
            <a:ext cx="621648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608B-214D-4EBF-99E3-0C178463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-72000"/>
            <a:ext cx="5668920" cy="398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0280" y="25380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15560" y="25380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0280" y="54072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715560" y="54072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F13A-B447-402E-B901-CED48D20B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520" y="-72000"/>
            <a:ext cx="5668920" cy="398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0280" y="25380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632320" y="25380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734360" y="25380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30280" y="54072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632320" y="54072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4734360" y="54072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6AB2-7B60-4EDC-9B81-933F90DC0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FFFC-9D11-49D9-B205-0C4037B4A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520" y="-72000"/>
            <a:ext cx="5668920" cy="398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52AB-1458-40C7-9BE5-2CC6AFE5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-72000"/>
            <a:ext cx="5668920" cy="398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1ACF-B3FB-44E6-89CD-B708AE77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520" y="-72000"/>
            <a:ext cx="5668920" cy="398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0280" y="253800"/>
            <a:ext cx="303336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15560" y="253800"/>
            <a:ext cx="303336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D0FF-8303-4EC6-A5E4-4B95CB5A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520" y="-72000"/>
            <a:ext cx="5668920" cy="398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314E-0B7E-4A8D-8A5B-80D27884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6EA9-33FC-4D93-BF05-ED380A80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520" y="-72000"/>
            <a:ext cx="5668920" cy="398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0280" y="25380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15560" y="253800"/>
            <a:ext cx="303336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0280" y="54072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313F-71D6-457F-9045-A5E6AE56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520" y="-72000"/>
            <a:ext cx="5668920" cy="398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DFE1-144E-4C80-8459-3E3578C8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72000"/>
            <a:ext cx="5668920" cy="398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0280" y="253800"/>
            <a:ext cx="303336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5560" y="25380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715560" y="54072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B442-CF7D-44D6-BA87-DFEDB5A2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520" y="-72000"/>
            <a:ext cx="5668920" cy="398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0280" y="25380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715560" y="25380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0280" y="540720"/>
            <a:ext cx="621648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793D2-0867-4048-8FF0-FEF722BA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72000"/>
            <a:ext cx="5668920" cy="398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0280" y="253800"/>
            <a:ext cx="621648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30280" y="540720"/>
            <a:ext cx="621648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D800-AEFF-43AA-AFE9-1BAEF66D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520" y="-72000"/>
            <a:ext cx="5668920" cy="398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0280" y="25380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715560" y="25380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0280" y="54072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715560" y="54072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5F9D-E2F0-4108-99F2-0114DA72D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72000"/>
            <a:ext cx="5668920" cy="398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0280" y="25380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2632320" y="25380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734360" y="25380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30280" y="54072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2632320" y="54072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4734360" y="54072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5194-D394-46A5-A183-23B4C7AD5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520" y="-72000"/>
            <a:ext cx="5668920" cy="398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2EC2-F566-4B4F-B1C0-BF9141AE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520" y="-72000"/>
            <a:ext cx="5668920" cy="398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0280" y="253800"/>
            <a:ext cx="303336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715560" y="253800"/>
            <a:ext cx="303336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138B-444F-4EA7-94D3-DA285FA3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520" y="-72000"/>
            <a:ext cx="5668920" cy="398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0EAA-3FEC-413F-BC86-F765CD1D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DEF5-7448-4BD3-81D0-DE30913F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520" y="-72000"/>
            <a:ext cx="5668920" cy="398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0280" y="25380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715560" y="253800"/>
            <a:ext cx="303336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0280" y="54072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CCB8-EAA7-4DBB-9361-E83A0C43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520" y="-72000"/>
            <a:ext cx="5668920" cy="398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0280" y="253800"/>
            <a:ext cx="303336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15560" y="25380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715560" y="54072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AF42-860B-4CDD-BA03-A7BEA672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-72000"/>
            <a:ext cx="5668920" cy="398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0280" y="25380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15560" y="25380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0280" y="540720"/>
            <a:ext cx="621648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9542-4241-487C-AF50-583C8A55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22400" y="49320"/>
            <a:ext cx="1220400" cy="164880"/>
            <a:chOff x="122400" y="49320"/>
            <a:chExt cx="1220400" cy="16488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193320" y="49320"/>
              <a:ext cx="1045080" cy="164880"/>
              <a:chOff x="193320" y="49320"/>
              <a:chExt cx="1045080" cy="164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193320" y="49320"/>
                <a:ext cx="1044000" cy="1648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93320" y="49320"/>
                <a:ext cx="523080" cy="164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93320" y="49320"/>
                <a:ext cx="1045080" cy="162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5320" y="49320"/>
                <a:ext cx="522720" cy="164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22400" y="149040"/>
              <a:ext cx="1217880" cy="23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52416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fld id="{8279C8A3-8F55-4CD8-92DC-33C43E535071}" type="slidenum"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316240" y="0"/>
            <a:ext cx="268272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706400" y="63360"/>
            <a:ext cx="3903480" cy="465120"/>
            <a:chOff x="1706400" y="63360"/>
            <a:chExt cx="3903480" cy="465120"/>
          </a:xfrm>
        </p:grpSpPr>
        <p:sp>
          <p:nvSpPr>
            <p:cNvPr id="53" name=""/>
            <p:cNvSpPr/>
            <p:nvPr/>
          </p:nvSpPr>
          <p:spPr>
            <a:xfrm>
              <a:off x="1706400" y="219240"/>
              <a:ext cx="1294200" cy="19188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15320" y="219240"/>
              <a:ext cx="1294560" cy="19188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1994040" y="63360"/>
              <a:ext cx="3344040" cy="465120"/>
              <a:chOff x="1994040" y="63360"/>
              <a:chExt cx="3344040" cy="465120"/>
            </a:xfrm>
          </p:grpSpPr>
          <p:sp>
            <p:nvSpPr>
              <p:cNvPr id="56" name=""/>
              <p:cNvSpPr/>
              <p:nvPr/>
            </p:nvSpPr>
            <p:spPr>
              <a:xfrm flipH="1" rot="10800000">
                <a:off x="1993680" y="63360"/>
                <a:ext cx="3341880" cy="46512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994760" y="63360"/>
                <a:ext cx="1671480" cy="4651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94760" y="63360"/>
                <a:ext cx="3343320" cy="457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664800" y="63360"/>
                <a:ext cx="1672920" cy="4651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1706400" y="345240"/>
              <a:ext cx="3898440" cy="65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49360" y="517320"/>
            <a:ext cx="6216480" cy="1522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549000" y="0"/>
            <a:ext cx="1523880" cy="604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2498760" y="0"/>
            <a:ext cx="2317680" cy="604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5241600" y="0"/>
            <a:ext cx="1523880" cy="604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fld id="{E2DDB166-1A27-4FCC-94E2-902491192353}" type="slidenum"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Key 3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47520" rIns="47520" tIns="23760" bIns="23760" anchor="t">
            <a:normAutofit fontScale="31000"/>
          </a:bodyPr>
          <a:p>
            <a:pPr marL="54360" indent="-5436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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Near term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118440" indent="-45720">
              <a:spcBef>
                <a:spcPts val="349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Isolate key decisions and issues that need immediate or near-term resolution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54360" indent="-5436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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Long term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118440" indent="-45720">
              <a:spcBef>
                <a:spcPts val="349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Isolate issues needing long-term resolution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118440" indent="-45720">
              <a:spcBef>
                <a:spcPts val="349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State consequences of decision postponement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54360" indent="-5436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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If you are seeking funding, state specific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03560" y="54000"/>
            <a:ext cx="2995560" cy="500040"/>
          </a:xfrm>
          <a:prstGeom prst="wedgeRoundRectCallout">
            <a:avLst>
              <a:gd name="adj1" fmla="val -73273"/>
              <a:gd name="adj2" fmla="val 9898"/>
              <a:gd name="adj3" fmla="val 16667"/>
            </a:avLst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 algn="ctr"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age Setup: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lide size for: Banne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(FFC252FFCSD_PageSetup0010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9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algn="ctr"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Key 5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31000"/>
          </a:bodyPr>
          <a:p>
            <a:pPr marL="54360" indent="-54360">
              <a:spcBef>
                <a:spcPts val="400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ar term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118440" indent="-4572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olate key decisions and issues that need immediate or near-term resolution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54360" indent="-54360">
              <a:spcBef>
                <a:spcPts val="400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ng term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118440" indent="-4572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olate issues needing long-term resolution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118440" indent="-4572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te consequences of decision postponement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54360" indent="-54360">
              <a:spcBef>
                <a:spcPts val="400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you are seeking funding, state specific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