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ED5-F158-488A-B203-A305C306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D1F-2106-452A-828D-682E15DD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F55-0250-4FA7-9989-E265FD06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F14-72E5-45E4-8E20-179F5360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CC3A-EDFF-4391-A64D-201A4055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915-F478-4567-B753-029924E4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D8B-8308-4703-B8B9-28EA46E1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B9D-0F11-4561-8B7D-3F1914CA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4F7-8F0E-4CBC-A837-B27A2775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5F7-4070-4DFD-AC1D-41514865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3D7-800E-4FD3-BC0D-5DCDDCA3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A82-C47C-4F03-A22D-6D7ADEE8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6017-8025-45C0-8363-3F3EF8642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08:36:13Z</dcterms:created>
  <dc:creator>virtusa</dc:creator>
  <dc:description/>
  <dc:language>en-US</dc:language>
  <cp:lastModifiedBy>virtusa</cp:lastModifiedBy>
  <dcterms:modified xsi:type="dcterms:W3CDTF">2004-12-10T08:36:23Z</dcterms:modified>
  <cp:revision>1</cp:revision>
  <dc:subject/>
  <dc:title>Slide 1</dc:title>
</cp:coreProperties>
</file>