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31C9-5022-4679-9857-7AF20201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4EA4-281C-4784-9F9D-C1EDB828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FA09-980F-48BD-BB64-C930EF97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B5D6-97E9-4453-B442-44A9598B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1937-FFD1-4278-9BBE-00E1C102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A444-5D3C-4E3D-9932-30FD3CDA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B0E-E92F-4EF9-9308-BA1C46C7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A639-A178-4CE2-9091-074B6165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0AAB-B3B9-49FE-A329-4E9AB94D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F30C-353D-43B1-9CD3-4A3A68EB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9003-5590-4343-8EA3-D0FED374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0AE2-FC81-4DAB-9E18-5120DA28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E59F-0C56-4289-A44D-F90C4EEAC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7924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cc3300"/>
                </a:solidFill>
                <a:latin typeface="Times New Roman"/>
                <a:ea typeface="Guttman Yad-Brush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Guttman Yad-Brush"/>
              </a:rPr>
              <a:t>                                                     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אתג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אוטונומיה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                                  מיומנות                        קידו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      עמיתים                      הדרכה                הכר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              ממונה                                                  </a:t>
            </a:r>
            <a:r>
              <a:rPr b="0" lang="he-IL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he-IL" sz="2400" spc="-1" strike="noStrike">
                <a:solidFill>
                  <a:srgbClr val="cc3300"/>
                </a:solidFill>
                <a:latin typeface="Times New Roman"/>
                <a:ea typeface="Guttman Yad-Brush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שכ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תנאים-פיזיי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הטבו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ביטחו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                   זמן                   מקו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1447920"/>
            <a:ext cx="304920" cy="30456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1676520"/>
            <a:ext cx="304920" cy="30456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4267080"/>
            <a:ext cx="304920" cy="30492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3124080"/>
            <a:ext cx="304560" cy="30492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2362320"/>
            <a:ext cx="304920" cy="30456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666880"/>
            <a:ext cx="304560" cy="30492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76920" y="2133720"/>
            <a:ext cx="304560" cy="30456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5334120"/>
            <a:ext cx="304920" cy="30456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5943600"/>
            <a:ext cx="304560" cy="30492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5562720"/>
            <a:ext cx="304920" cy="30456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4038480"/>
            <a:ext cx="304560" cy="30492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4495680"/>
            <a:ext cx="304920" cy="30492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72200" y="3048120"/>
            <a:ext cx="304920" cy="30456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2590920"/>
            <a:ext cx="304920" cy="30456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1447920"/>
            <a:ext cx="594360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676520" y="1219320"/>
            <a:ext cx="594360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838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380880"/>
            <a:ext cx="373392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values: Ronen,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1523880"/>
            <a:ext cx="5715000" cy="4114800"/>
          </a:xfrm>
          <a:prstGeom prst="line">
            <a:avLst/>
          </a:prstGeom>
          <a:ln w="63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86000" y="1523880"/>
            <a:ext cx="4952880" cy="3886200"/>
          </a:xfrm>
          <a:prstGeom prst="line">
            <a:avLst/>
          </a:prstGeom>
          <a:ln w="63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685800"/>
            <a:ext cx="129528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cc"/>
                </a:solidFill>
                <a:latin typeface="Times New Roman"/>
              </a:rPr>
              <a:t>הומניז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5334120"/>
            <a:ext cx="129528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cc"/>
                </a:solidFill>
                <a:latin typeface="Times New Roman"/>
              </a:rPr>
              <a:t>מטריאליז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762120"/>
            <a:ext cx="1676520" cy="838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cc"/>
                </a:solidFill>
                <a:latin typeface="Times New Roman"/>
              </a:rPr>
              <a:t>אינדיבידואליז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62920" y="5410080"/>
            <a:ext cx="144756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cc"/>
                </a:solidFill>
                <a:latin typeface="Times New Roman"/>
              </a:rPr>
              <a:t>קולקטיביז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53360" y="99072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cc3300"/>
                </a:solidFill>
                <a:latin typeface="Times New Roman"/>
                <a:ea typeface="Guttman Yad-Brush"/>
              </a:rPr>
              <a:t>(הגשמה עצמי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3809880"/>
            <a:ext cx="12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cc3300"/>
                </a:solidFill>
                <a:latin typeface="Times New Roman"/>
                <a:ea typeface="Guttman Yad-Brush"/>
              </a:rPr>
              <a:t>(שייכו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63200" y="6095880"/>
            <a:ext cx="105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cc3300"/>
                </a:solidFill>
                <a:latin typeface="Times New Roman"/>
                <a:ea typeface="Guttman Yad-Brush"/>
              </a:rPr>
              <a:t>(ביטחון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3429000"/>
            <a:ext cx="8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cc3300"/>
                </a:solidFill>
                <a:latin typeface="Times New Roman"/>
                <a:ea typeface="Guttman Yad-Brush"/>
              </a:rPr>
              <a:t>(כוח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he-IL" sz="2800" spc="-1" strike="noStrike">
                <a:solidFill>
                  <a:srgbClr val="cc3300"/>
                </a:solidFill>
                <a:latin typeface="Times New Roman"/>
              </a:rPr>
              <a:t>ביטחו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he-IL" sz="2800" spc="-1" strike="noStrike">
                <a:solidFill>
                  <a:srgbClr val="cc3300"/>
                </a:solidFill>
                <a:latin typeface="Times New Roman"/>
              </a:rPr>
              <a:t>כוח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he-IL" sz="2800" spc="-1" strike="noStrike">
                <a:solidFill>
                  <a:srgbClr val="cc3300"/>
                </a:solidFill>
                <a:latin typeface="Times New Roman"/>
              </a:rPr>
              <a:t>מסורת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  <a:ea typeface="Guttman Yad-Brush"/>
              </a:rPr>
              <a:t> </a:t>
            </a:r>
            <a:r>
              <a:rPr b="0" lang="he-IL" sz="2800" spc="-1" strike="noStrike">
                <a:solidFill>
                  <a:srgbClr val="cc3300"/>
                </a:solidFill>
                <a:latin typeface="Times New Roman"/>
              </a:rPr>
              <a:t>היש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ttman Yad-Brush"/>
              </a:rPr>
              <a:t>                                                    </a:t>
            </a:r>
            <a:r>
              <a:rPr b="0" lang="he-IL" sz="2800" spc="-1" strike="noStrike">
                <a:solidFill>
                  <a:srgbClr val="cc3300"/>
                </a:solidFill>
                <a:latin typeface="Times New Roman"/>
              </a:rPr>
              <a:t>קונפורמיו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cc3300"/>
                </a:solidFill>
                <a:latin typeface="Times New Roman"/>
              </a:rPr>
              <a:t>הדוניז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he-IL" sz="2800" spc="-1" strike="noStrike">
                <a:solidFill>
                  <a:srgbClr val="cc3300"/>
                </a:solidFill>
                <a:latin typeface="Times New Roman"/>
              </a:rPr>
              <a:t>נדיבו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he-IL" sz="2800" spc="-1" strike="noStrike">
                <a:solidFill>
                  <a:srgbClr val="cc3300"/>
                </a:solidFill>
                <a:latin typeface="Times New Roman"/>
              </a:rPr>
              <a:t>גריי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e-IL" sz="2800" spc="-1" strike="noStrike">
                <a:solidFill>
                  <a:srgbClr val="cc3300"/>
                </a:solidFill>
                <a:latin typeface="Times New Roman"/>
              </a:rPr>
              <a:t>הכוונה</a:t>
            </a:r>
            <a:r>
              <a:rPr b="0" lang="he-IL" sz="2800" spc="-1" strike="noStrike">
                <a:solidFill>
                  <a:srgbClr val="cc3300"/>
                </a:solidFill>
                <a:latin typeface="Times New Roman"/>
                <a:ea typeface="Guttman Yad-Brush"/>
              </a:rPr>
              <a:t>-</a:t>
            </a:r>
            <a:r>
              <a:rPr b="0" lang="he-IL" sz="2800" spc="-1" strike="noStrike">
                <a:solidFill>
                  <a:srgbClr val="cc3300"/>
                </a:solidFill>
                <a:latin typeface="Times New Roman"/>
              </a:rPr>
              <a:t>עצמית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he-IL" sz="2800" spc="-1" strike="noStrike">
                <a:solidFill>
                  <a:srgbClr val="cc3300"/>
                </a:solidFill>
                <a:latin typeface="Times New Roman"/>
              </a:rPr>
              <a:t>אוניברסליז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371600"/>
            <a:ext cx="563904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294920" y="1600200"/>
            <a:ext cx="632484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38080" y="3276720"/>
            <a:ext cx="3657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14800" y="3276720"/>
            <a:ext cx="45720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572000" y="1142640"/>
            <a:ext cx="4572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648320" y="3200400"/>
            <a:ext cx="3809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3276720"/>
            <a:ext cx="38098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121932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167652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259092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441972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2438280"/>
            <a:ext cx="228600" cy="152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05740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1523880"/>
            <a:ext cx="228600" cy="152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350532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4267080"/>
            <a:ext cx="228600" cy="152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373392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259092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4495680"/>
            <a:ext cx="228600" cy="152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487692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81680" y="365760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3352680"/>
            <a:ext cx="228600" cy="152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327672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05740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5410080"/>
            <a:ext cx="228600" cy="152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441972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77120" y="2438280"/>
            <a:ext cx="228600" cy="152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2209680"/>
            <a:ext cx="228600" cy="152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274320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24480" y="160020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304812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3581280"/>
            <a:ext cx="228600" cy="152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373392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228600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396252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441972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182880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457200"/>
            <a:ext cx="3733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Map: Schwartz, 19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1371600"/>
            <a:ext cx="5181480" cy="4038480"/>
          </a:xfrm>
          <a:prstGeom prst="line">
            <a:avLst/>
          </a:prstGeom>
          <a:ln w="63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371600" y="1600200"/>
            <a:ext cx="6324480" cy="3429000"/>
          </a:xfrm>
          <a:prstGeom prst="line">
            <a:avLst/>
          </a:prstGeom>
          <a:ln w="63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762120"/>
            <a:ext cx="1524240" cy="990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cc"/>
                </a:solidFill>
                <a:latin typeface="Times New Roman"/>
              </a:rPr>
              <a:t>האדר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cc"/>
                </a:solidFill>
                <a:latin typeface="Times New Roman"/>
              </a:rPr>
              <a:t>העצמ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5029200"/>
            <a:ext cx="160020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cc"/>
                </a:solidFill>
                <a:latin typeface="Times New Roman"/>
              </a:rPr>
              <a:t>התעלות מע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cc"/>
                </a:solidFill>
                <a:latin typeface="Times New Roman"/>
              </a:rPr>
              <a:t>העצמ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33520"/>
            <a:ext cx="129564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cc"/>
                </a:solidFill>
                <a:latin typeface="Times New Roman"/>
              </a:rPr>
              <a:t>שמרנו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34120"/>
            <a:ext cx="152388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cc"/>
                </a:solidFill>
                <a:latin typeface="Times New Roman"/>
              </a:rPr>
              <a:t>פתיחו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cc"/>
                </a:solidFill>
                <a:latin typeface="Times New Roman"/>
              </a:rPr>
              <a:t>לשינויי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2T09:26:41Z</dcterms:created>
  <dc:creator>aa</dc:creator>
  <dc:description/>
  <dc:language>en-US</dc:language>
  <cp:lastModifiedBy>Dina Van-Dijk</cp:lastModifiedBy>
  <cp:lastPrinted>2000-07-22T12:14:40Z</cp:lastPrinted>
  <dcterms:modified xsi:type="dcterms:W3CDTF">2003-11-27T17:11:27Z</dcterms:modified>
  <cp:revision>64</cp:revision>
  <dc:subject/>
  <dc:title>ללא כותרת שקופית</dc:title>
</cp:coreProperties>
</file>