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16B-DC85-45D0-AED8-ED224705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0C1-A0ED-4B6F-96B6-8F452C1C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70F-A65B-4DB7-A0B5-E2FF7FE3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2C7-B282-428F-BB4A-83B5D679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C64-316E-40BC-BDB3-31826660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303-250D-4707-80A9-95E53F47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90A-EEC0-4A48-97FC-413ECB54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AF6-4761-4ED4-BBEF-ACAE035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7ED-0E7A-42CF-AA37-1CD424D0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C51-8326-4ED4-9F8F-8D8BAF1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52A-907D-41E9-860F-0EE04622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DF1-A8BB-4B7A-A3BE-5E5F2C82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29BB-22F1-4A10-A9B9-BABD37F15A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5282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 a fad faf adf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 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 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son</cp:lastModifiedBy>
  <dcterms:modified xsi:type="dcterms:W3CDTF">2005-04-15T09:15:47Z</dcterms:modified>
  <cp:revision>6</cp:revision>
  <dc:subject/>
  <dc:title>PowerPoint Presentation</dc:title>
</cp:coreProperties>
</file>