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5638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778C-6B3B-40FD-AC46-5D9BFEC1D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73134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560" y="3414240"/>
            <a:ext cx="73134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0F4C-C98E-422B-A14C-567C3F1A7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5160" y="106668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560" y="341424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5160" y="341424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BF15-FD93-4084-8A07-4EE4CBACA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23547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0400" y="1066680"/>
            <a:ext cx="23547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3240" y="1066680"/>
            <a:ext cx="23547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560" y="3414240"/>
            <a:ext cx="23547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0400" y="3414240"/>
            <a:ext cx="23547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3240" y="3414240"/>
            <a:ext cx="23547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8939-C7DE-4637-9D28-FC980946FF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560" y="1066680"/>
            <a:ext cx="73134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9d6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5DDC-36CB-49D2-A117-A08663CF24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73134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89F6-82C6-49E3-AE51-12890C5F7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35686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5160" y="1066680"/>
            <a:ext cx="35686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C457-D302-42BC-8C99-88CAEFABA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8A25-70ED-4CDD-AA3B-929C59C54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4920" y="-76680"/>
            <a:ext cx="7542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9d6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1588-349D-490D-BBC3-C7A6101C0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5160" y="1066680"/>
            <a:ext cx="35686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560" y="341424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99C0-DDA4-4037-8495-9A742BC5F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35686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5160" y="106668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5160" y="341424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27C5-CF3C-4B24-A41F-BFA2CF8DD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5160" y="106668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560" y="3414240"/>
            <a:ext cx="73134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5B95-0B2F-45FA-8089-F7783FFBE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86ca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560" y="1066680"/>
            <a:ext cx="73134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012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012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012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-7920"/>
            <a:ext cx="990720" cy="21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228600"/>
            <a:ext cx="9889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B0E3-AED9-4DE6-BB17-52F8F21DF720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4920" y="174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86caf"/>
                </a:solidFill>
                <a:latin typeface="Arial"/>
              </a:rPr>
              <a:t>Findings and Understanding</a:t>
            </a: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60560" y="263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24200" y="263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3344" t="0" r="0" b="0"/>
          <a:stretch/>
        </p:blipFill>
        <p:spPr>
          <a:xfrm>
            <a:off x="1258920" y="90792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92720" y="1125360"/>
            <a:ext cx="1511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64000" y="1916280"/>
            <a:ext cx="3311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993366"/>
                </a:solidFill>
                <a:uFillTx/>
                <a:latin typeface="Times New Roman"/>
              </a:rPr>
              <a:t>SS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uto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7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0.25 To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993366"/>
                </a:solidFill>
                <a:uFillTx/>
                <a:latin typeface="Times New Roman"/>
              </a:rPr>
              <a:t>DCS=sccm / NH3=sc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po Time: 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4581360"/>
            <a:ext cx="360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J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: 192 (0.1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R: 219 (0.1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TM: 96 (0.1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1125360"/>
            <a:ext cx="1223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0467-A0B6-41A4-BE4D-6C32B9FA40B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74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86caf"/>
                </a:solidFill>
                <a:latin typeface="Arial"/>
              </a:rPr>
              <a:t>Investigation</a:t>
            </a: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60560" y="263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24200" y="263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125360"/>
            <a:ext cx="151128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1916280"/>
            <a:ext cx="3311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993366"/>
                </a:solidFill>
                <a:uFillTx/>
                <a:latin typeface="Times New Roman"/>
              </a:rPr>
              <a:t>SSV O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uto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7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0. To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993366"/>
                </a:solidFill>
                <a:uFillTx/>
                <a:latin typeface="Times New Roman"/>
              </a:rPr>
              <a:t>DCS=sccm / NH3=sc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po Time: 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581360"/>
            <a:ext cx="360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J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:  2 (0.1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R:  2 (0.1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TM:  1 (0.1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6000" y="1125360"/>
            <a:ext cx="122364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06064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4bab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1989000"/>
            <a:ext cx="129528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SSV C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52257" t="0" r="0" b="0"/>
          <a:stretch/>
        </p:blipFill>
        <p:spPr>
          <a:xfrm>
            <a:off x="1258920" y="1125360"/>
            <a:ext cx="3241800" cy="31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F46C-C289-488F-B5F4-620B1A64F32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174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86caf"/>
                </a:solidFill>
                <a:latin typeface="Arial"/>
              </a:rPr>
              <a:t>New Action Plan</a:t>
            </a: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7199280" cy="42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E6F4-5F4F-4174-9404-8AB624E0254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32000" y="765000"/>
            <a:ext cx="7467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arison of process Log 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ike of pressure is appeared on the recipe SIN1200 and SIN750 in SiN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2637000"/>
            <a:ext cx="7345440" cy="311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EC10-6D88-4A85-AA42-B6E5B4D2477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athan Koh</cp:lastModifiedBy>
  <dcterms:modified xsi:type="dcterms:W3CDTF">2005-03-08T01:59:12Z</dcterms:modified>
  <cp:revision>1</cp:revision>
  <dc:subject/>
  <dc:title>Findings and Understanding</dc:title>
</cp:coreProperties>
</file>