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F106-F531-43BD-9DEC-E77B718E27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slide uses action buttons to make a map of your site.  The lines joining the action buttons are connector lines. When you rearrange objects that have a connector line, the connectors remain attached to the objects and move with the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ore information, ask the Answer Wizard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 But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FB1-6D7F-48F5-9A93-BC4BEB9E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0040" y="4183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513-4AE3-4F2B-A0C9-BEAFD65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6572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0CC-6400-402E-B4D5-303E1E87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064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0160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20004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75064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30160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363-F2CF-46E6-92FE-AE7650A3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5EC-576B-4789-8899-C87501C5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933-C042-4EEB-ADBD-DCA9A2A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D3E-0D18-44E2-AE20-3C8ADA1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7C6-8859-459F-A149-25C3E00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00040" y="914040"/>
            <a:ext cx="75438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F6D-32D5-4FBF-8F51-97381F5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8ED-4E2E-4C9B-ADEF-167B09C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6572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973-C5ED-488C-A10B-AEADB363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BBE-43A2-4ED3-B559-A926CD0C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58A-434D-434C-A5D5-BE6C7430A622}" type="slidenum">
              <a:rPr b="0" lang="zh-CN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Insert work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logo on slide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nsert workgroup name on slide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28600" y="39592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Times New Roman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ite Ma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4572000" y="20574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943600" y="312408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943600" y="2590920"/>
            <a:ext cx="1905120" cy="30456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4981" h="21600">
                <a:moveTo>
                  <a:pt x="0" y="0"/>
                </a:moveTo>
                <a:lnTo>
                  <a:pt x="134981" y="0"/>
                </a:lnTo>
                <a:lnTo>
                  <a:pt x="134981" y="21600"/>
                </a:lnTo>
                <a:lnTo>
                  <a:pt x="0" y="21600"/>
                </a:lnTo>
                <a:close/>
              </a:path>
              <a:path fill="lightenLess" w="134981" h="21600">
                <a:moveTo>
                  <a:pt x="0" y="0"/>
                </a:moveTo>
                <a:lnTo>
                  <a:pt x="134981" y="0"/>
                </a:lnTo>
                <a:lnTo>
                  <a:pt x="133581" y="1400"/>
                </a:lnTo>
                <a:lnTo>
                  <a:pt x="1400" y="1400"/>
                </a:lnTo>
                <a:close/>
              </a:path>
              <a:path fill="darken" w="134981" h="21600">
                <a:moveTo>
                  <a:pt x="134981" y="0"/>
                </a:moveTo>
                <a:lnTo>
                  <a:pt x="134981" y="21600"/>
                </a:lnTo>
                <a:lnTo>
                  <a:pt x="133581" y="20200"/>
                </a:lnTo>
                <a:lnTo>
                  <a:pt x="133581" y="1400"/>
                </a:lnTo>
                <a:close/>
              </a:path>
              <a:path fill="darkenLess" w="134981" h="21600">
                <a:moveTo>
                  <a:pt x="13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81" y="20200"/>
                </a:lnTo>
                <a:close/>
              </a:path>
              <a:path fill="lighten" w="13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5943600" y="472428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5943600" y="52578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5943600" y="5791320"/>
            <a:ext cx="1905120" cy="30456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4981" h="21600">
                <a:moveTo>
                  <a:pt x="0" y="0"/>
                </a:moveTo>
                <a:lnTo>
                  <a:pt x="134981" y="0"/>
                </a:lnTo>
                <a:lnTo>
                  <a:pt x="134981" y="21600"/>
                </a:lnTo>
                <a:lnTo>
                  <a:pt x="0" y="21600"/>
                </a:lnTo>
                <a:close/>
              </a:path>
              <a:path fill="lightenLess" w="134981" h="21600">
                <a:moveTo>
                  <a:pt x="0" y="0"/>
                </a:moveTo>
                <a:lnTo>
                  <a:pt x="134981" y="0"/>
                </a:lnTo>
                <a:lnTo>
                  <a:pt x="133581" y="1400"/>
                </a:lnTo>
                <a:lnTo>
                  <a:pt x="1400" y="1400"/>
                </a:lnTo>
                <a:close/>
              </a:path>
              <a:path fill="darken" w="134981" h="21600">
                <a:moveTo>
                  <a:pt x="134981" y="0"/>
                </a:moveTo>
                <a:lnTo>
                  <a:pt x="134981" y="21600"/>
                </a:lnTo>
                <a:lnTo>
                  <a:pt x="133581" y="20200"/>
                </a:lnTo>
                <a:lnTo>
                  <a:pt x="133581" y="1400"/>
                </a:lnTo>
                <a:close/>
              </a:path>
              <a:path fill="darkenLess" w="134981" h="21600">
                <a:moveTo>
                  <a:pt x="13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81" y="20200"/>
                </a:lnTo>
                <a:close/>
              </a:path>
              <a:path fill="lighten" w="13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7" action="ppaction://hlinksldjump"/>
          </p:cNvPr>
          <p:cNvSpPr/>
          <p:nvPr/>
        </p:nvSpPr>
        <p:spPr>
          <a:xfrm>
            <a:off x="7315200" y="36576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8" action="ppaction://hlinksldjump"/>
          </p:cNvPr>
          <p:cNvSpPr/>
          <p:nvPr/>
        </p:nvSpPr>
        <p:spPr>
          <a:xfrm>
            <a:off x="7315200" y="41148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5" idx="0"/>
            <a:endCxn id="66" idx="0"/>
          </p:cNvCxnSpPr>
          <p:nvPr/>
        </p:nvCxnSpPr>
        <p:spPr>
          <a:xfrm rot="5400000">
            <a:off x="5829480" y="2476440"/>
            <a:ext cx="762120" cy="5338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5" idx="1"/>
            <a:endCxn id="67" idx="0"/>
          </p:cNvCxnSpPr>
          <p:nvPr/>
        </p:nvCxnSpPr>
        <p:spPr>
          <a:xfrm flipH="1">
            <a:off x="5943600" y="2362320"/>
            <a:ext cx="533880" cy="228960"/>
          </a:xfrm>
          <a:prstGeom prst="bentConnector5">
            <a:avLst>
              <a:gd name="adj1" fmla="val -299730"/>
              <a:gd name="adj2" fmla="val 332598"/>
              <a:gd name="adj3" fmla="val 142577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5" idx="2"/>
            <a:endCxn id="68" idx="0"/>
          </p:cNvCxnSpPr>
          <p:nvPr/>
        </p:nvCxnSpPr>
        <p:spPr>
          <a:xfrm rot="5400000">
            <a:off x="5029200" y="3276360"/>
            <a:ext cx="2362320" cy="533880"/>
          </a:xfrm>
          <a:prstGeom prst="bentConnector3">
            <a:avLst>
              <a:gd name="adj1" fmla="val 49992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5" idx="3"/>
            <a:endCxn id="69" idx="0"/>
          </p:cNvCxnSpPr>
          <p:nvPr/>
        </p:nvCxnSpPr>
        <p:spPr>
          <a:xfrm rot="5400000">
            <a:off x="4762440" y="3543120"/>
            <a:ext cx="2895840" cy="533880"/>
          </a:xfrm>
          <a:prstGeom prst="bentConnector3">
            <a:avLst>
              <a:gd name="adj1" fmla="val 49993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4"/>
            <a:endCxn id="70" idx="0"/>
          </p:cNvCxnSpPr>
          <p:nvPr/>
        </p:nvCxnSpPr>
        <p:spPr>
          <a:xfrm flipH="1" rot="16200000">
            <a:off x="5448600" y="3390840"/>
            <a:ext cx="3429360" cy="137196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66" idx="1"/>
            <a:endCxn id="72" idx="0"/>
          </p:cNvCxnSpPr>
          <p:nvPr/>
        </p:nvCxnSpPr>
        <p:spPr>
          <a:xfrm flipH="1" rot="16200000">
            <a:off x="7239240" y="2133360"/>
            <a:ext cx="686160" cy="3277080"/>
          </a:xfrm>
          <a:prstGeom prst="bentConnector3">
            <a:avLst>
              <a:gd name="adj1" fmla="val 49973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6" idx="2"/>
            <a:endCxn id="71" idx="0"/>
          </p:cNvCxnSpPr>
          <p:nvPr/>
        </p:nvCxnSpPr>
        <p:spPr>
          <a:xfrm flipH="1" rot="16200000">
            <a:off x="7467840" y="1904760"/>
            <a:ext cx="228960" cy="3277080"/>
          </a:xfrm>
          <a:prstGeom prst="bentConnector4">
            <a:avLst>
              <a:gd name="adj1" fmla="val 332598"/>
              <a:gd name="adj2" fmla="val 106921"/>
            </a:avLst>
          </a:prstGeom>
          <a:ln cap="sq"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6:33:51Z</dcterms:created>
  <dc:creator>wangxiul</dc:creator>
  <dc:description/>
  <dc:language>en-US</dc:language>
  <cp:lastModifiedBy>wangxiul</cp:lastModifiedBy>
  <dcterms:modified xsi:type="dcterms:W3CDTF">2009-08-06T06:34:09Z</dcterms:modified>
  <cp:revision>1</cp:revision>
  <dc:subject/>
  <dc:title>Site Ma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