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0880" y="303480"/>
            <a:ext cx="86079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30600" y="2101680"/>
            <a:ext cx="84182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30600" y="4392000"/>
            <a:ext cx="84182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0880" y="303480"/>
            <a:ext cx="86079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30600" y="2101680"/>
            <a:ext cx="41079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44480" y="2101680"/>
            <a:ext cx="41079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30600" y="4392000"/>
            <a:ext cx="41079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244480" y="4392000"/>
            <a:ext cx="41079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0880" y="303480"/>
            <a:ext cx="86079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30600" y="2101680"/>
            <a:ext cx="2710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77120" y="2101680"/>
            <a:ext cx="2710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3280" y="2101680"/>
            <a:ext cx="2710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30600" y="4392000"/>
            <a:ext cx="2710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77120" y="4392000"/>
            <a:ext cx="2710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23280" y="4392000"/>
            <a:ext cx="2710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0880" y="303480"/>
            <a:ext cx="86079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30600" y="2101680"/>
            <a:ext cx="84182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303480"/>
            <a:ext cx="86079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30600" y="2101680"/>
            <a:ext cx="84182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303480"/>
            <a:ext cx="86079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30600" y="2101680"/>
            <a:ext cx="41079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244480" y="2101680"/>
            <a:ext cx="41079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0880" y="303480"/>
            <a:ext cx="86079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40880" y="303480"/>
            <a:ext cx="860796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303480"/>
            <a:ext cx="86079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30600" y="2101680"/>
            <a:ext cx="41079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44480" y="2101680"/>
            <a:ext cx="41079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30600" y="4392000"/>
            <a:ext cx="41079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0880" y="303480"/>
            <a:ext cx="86079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30600" y="2101680"/>
            <a:ext cx="41079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44480" y="2101680"/>
            <a:ext cx="41079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244480" y="4392000"/>
            <a:ext cx="41079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0880" y="303480"/>
            <a:ext cx="86079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30600" y="2101680"/>
            <a:ext cx="41079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44480" y="2101680"/>
            <a:ext cx="41079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30600" y="4392000"/>
            <a:ext cx="84182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303480"/>
            <a:ext cx="86079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30600" y="2101680"/>
            <a:ext cx="84182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04000" indent="-432000">
              <a:buClr>
                <a:srgbClr val="99284c"/>
              </a:buClr>
              <a:buSzPct val="75000"/>
              <a:buFont typeface="Wingdings" charset="2"/>
              <a:buChar char=""/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92000" indent="-432000">
              <a:buClr>
                <a:srgbClr val="99284c"/>
              </a:buClr>
              <a:buSzPct val="75000"/>
              <a:buFont typeface="Wingdings" charset="2"/>
              <a:buChar char=""/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2" marL="1080000" indent="-432000">
              <a:buClr>
                <a:srgbClr val="99284c"/>
              </a:buClr>
              <a:buSzPct val="75000"/>
              <a:buFont typeface="Wingdings" charset="2"/>
              <a:buChar char=""/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368000" indent="-432000">
              <a:buClr>
                <a:srgbClr val="99284c"/>
              </a:buClr>
              <a:buSzPct val="75000"/>
              <a:buFont typeface="Wingdings" charset="2"/>
              <a:buChar char=""/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656000" indent="-432000">
              <a:buClr>
                <a:srgbClr val="99284c"/>
              </a:buClr>
              <a:buSzPct val="75000"/>
              <a:buFont typeface="Wingdings" charset="2"/>
              <a:buChar char=""/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944000" indent="-432000">
              <a:buClr>
                <a:srgbClr val="99284c"/>
              </a:buClr>
              <a:buSzPct val="75000"/>
              <a:buFont typeface="Wingdings" charset="2"/>
              <a:buChar char=""/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2232000" indent="-432000">
              <a:buClr>
                <a:srgbClr val="99284c"/>
              </a:buClr>
              <a:buSzPct val="75000"/>
              <a:buFont typeface="Wingdings" charset="2"/>
              <a:buChar char=""/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-360"/>
            <a:ext cx="454320" cy="7560000"/>
          </a:xfrm>
          <a:prstGeom prst="rect">
            <a:avLst/>
          </a:prstGeom>
          <a:gradFill rotWithShape="0">
            <a:gsLst>
              <a:gs pos="0">
                <a:srgbClr val="999999"/>
              </a:gs>
              <a:gs pos="100000">
                <a:srgbClr val="999999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0" rIns="0" tIns="0" bIns="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40880" y="303480"/>
            <a:ext cx="860796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0000" indent="0" algn="ctr">
              <a:buNone/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Open Source Software</a:t>
            </a:r>
            <a:br>
              <a:rPr sz="4000"/>
            </a:b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In Your Office Space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566280" y="2577960"/>
            <a:ext cx="9149400" cy="368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buNone/>
            </a:pPr>
            <a:r>
              <a:rPr b="0" lang="en-US" sz="3200" spc="-1" strike="noStrike">
                <a:solidFill>
                  <a:srgbClr val="99284c"/>
                </a:solidFill>
                <a:latin typeface="Arial"/>
              </a:rPr>
              <a:t>Awareness Pie Consulting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marL="216000" indent="0" algn="ctr">
              <a:buNone/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marL="216000" indent="0" algn="ctr">
              <a:buNone/>
            </a:pPr>
            <a:r>
              <a:rPr b="0" lang="en-US" sz="3200" spc="-1" strike="noStrike">
                <a:solidFill>
                  <a:srgbClr val="99284c"/>
                </a:solidFill>
                <a:latin typeface="Arial"/>
              </a:rPr>
              <a:t>How Open Source Software improves accessability and reduces cost while offering much of the same functionality and features as the products they are designed to compete with.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split dir="out" orient="horz"/>
      </p:transition>
    </mc:Choice>
    <mc:Fallback>
      <p:transition spd="slow">
        <p:split dir="out" orient="horz"/>
      </p:transition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name="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" dur="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" fill="hold"/>
                                        <p:tgtEl>
                                          <p:spTgt spid="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/>
                                        <p:tgtEl>
                                          <p:spTgt spid="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name="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0880" y="303480"/>
            <a:ext cx="860796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buNone/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ustomer Wishes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30600" y="2101680"/>
            <a:ext cx="8418240" cy="476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04000" indent="0">
              <a:buNone/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escribe customer needs and wishe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4000" indent="0">
              <a:buNone/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xplain the requirement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split dir="out" orient="horz"/>
      </p:transition>
    </mc:Choice>
    <mc:Fallback>
      <p:transition spd="slow">
        <p:split dir="out" orient="horz"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0880" y="303480"/>
            <a:ext cx="860796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buNone/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Fulfilling </a:t>
            </a:r>
            <a:br>
              <a:rPr sz="4000"/>
            </a:b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ustomer Needs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30600" y="2101680"/>
            <a:ext cx="8418240" cy="476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04000" indent="0">
              <a:buNone/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escribe the main attributes of the produc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4000" indent="0">
              <a:buNone/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Link the product attributes to customer need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split dir="out" orient="horz"/>
      </p:transition>
    </mc:Choice>
    <mc:Fallback>
      <p:transition spd="slow">
        <p:split dir="out" orient="horz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0880" y="303480"/>
            <a:ext cx="860796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buNone/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ost Analysis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30600" y="2101680"/>
            <a:ext cx="8418240" cy="476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04000" indent="0">
              <a:buNone/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Indicate the financial advantages for the customer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4000" indent="0">
              <a:buNone/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ompare quality and price with those of the competitio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split dir="out" orient="horz"/>
      </p:transition>
    </mc:Choice>
    <mc:Fallback>
      <p:transition spd="slow">
        <p:split dir="out" orient="horz"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0880" y="303480"/>
            <a:ext cx="860796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buNone/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Strengths and Advantages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30600" y="2101680"/>
            <a:ext cx="8418240" cy="476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04000" indent="0">
              <a:buNone/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ummarize the special features and advantages of the product being introduce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split dir="out" orient="horz"/>
      </p:transition>
    </mc:Choice>
    <mc:Fallback>
      <p:transition spd="slow">
        <p:split dir="out" orient="horz"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0880" y="303480"/>
            <a:ext cx="860796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buNone/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Next Steps of Action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30600" y="2101680"/>
            <a:ext cx="8418240" cy="476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04000" indent="0">
              <a:buNone/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xplain the steps that now need to be take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split dir="out" orient="horz"/>
      </p:transition>
    </mc:Choice>
    <mc:Fallback>
      <p:transition spd="slow">
        <p:split dir="out" orient="horz"/>
      </p:transition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6T17:48:29Z</dcterms:created>
  <dc:creator>Simon Woodington</dc:creator>
  <dc:description/>
  <dc:language>en-US</dc:language>
  <cp:lastModifiedBy>Simon Woodington</cp:lastModifiedBy>
  <dcterms:modified xsi:type="dcterms:W3CDTF">2004-02-16T17:48:47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nfo 1">
    <vt:lpwstr/>
  </property>
  <property fmtid="{D5CDD505-2E9C-101B-9397-08002B2CF9AE}" pid="3" name="Info 2">
    <vt:lpwstr/>
  </property>
  <property fmtid="{D5CDD505-2E9C-101B-9397-08002B2CF9AE}" pid="4" name="Info 3">
    <vt:lpwstr/>
  </property>
  <property fmtid="{D5CDD505-2E9C-101B-9397-08002B2CF9AE}" pid="5" name="Info 4">
    <vt:lpwstr/>
  </property>
</Properties>
</file>