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662-E3CE-46F4-9E52-A57668CC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3EF-8D4D-4743-9385-7607ACAF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E5F-E23F-41AF-A7A0-FA54090A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223-CC9C-48C4-B1BE-E341EE78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14D-2EDA-48AE-87F9-CB45B132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8AE-62E7-4B64-A1A7-B672990C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B8D-5B51-43DE-8AC8-A340EED9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6B6-AA2D-4341-AF94-A8C309E2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F1A-6214-4F19-86E0-DA23EF97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9DD-7CEA-424C-92E3-7571E2B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2C5-3FC8-46C1-9038-72C54F50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A63-CEE4-453F-AB6D-906E769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36A-F985-41EF-9034-76B7BB5B8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Hs4/es_public/1st%20Grade%20Activities/alphabetbook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4:13:38Z</dcterms:created>
  <dc:creator>Chad Frerichs</dc:creator>
  <dc:description/>
  <dc:language>en-US</dc:language>
  <cp:lastModifiedBy>Chad Frerichs</cp:lastModifiedBy>
  <dcterms:modified xsi:type="dcterms:W3CDTF">2008-01-24T14:14:15Z</dcterms:modified>
  <cp:revision>1</cp:revision>
  <dc:subject/>
  <dc:title>Test slide</dc:title>
</cp:coreProperties>
</file>