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C93-DCF8-4517-B8BB-7D3380F0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490-DA4B-4CBA-9896-0A6228E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2A0-5C2F-47C5-A035-64FB5449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8B4-AF67-4F86-B769-5B189A20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AB4-33AB-4484-A60B-D36CE947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B9F-F0DD-478F-8955-2AE1FCEB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2D2-B696-45D5-AC6F-65EC7941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037-DC4C-4592-9706-009BB7B8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D05-F750-4633-958A-2FC0D689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A71-6DAA-4D92-B5B7-5F8D8E39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E33-9305-4E56-8F5B-92A36B3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8F7-9CCD-4856-AAB0-BDD3C2E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3F80-D59A-452C-8BEF-CA1E80385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284ba"/>
                </a:solidFill>
                <a:latin typeface="Arial"/>
              </a:rPr>
              <a:t>Chào Cly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5714640"/>
            <a:ext cx="449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270dd"/>
                </a:solidFill>
                <a:latin typeface="Arial"/>
              </a:rPr>
              <a:t>Ngô Hùng D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2244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a5b"/>
                </a:solidFill>
                <a:latin typeface="Arial"/>
              </a:rPr>
              <a:t>Học Open Office 2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447920"/>
            <a:ext cx="3809880" cy="0"/>
          </a:xfrm>
          <a:prstGeom prst="line">
            <a:avLst/>
          </a:prstGeom>
          <a:ln w="31680">
            <a:solidFill>
              <a:srgbClr val="e27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16200000">
            <a:off x="-1918800" y="3727440"/>
            <a:ext cx="5038560" cy="13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1600200"/>
            <a:ext cx="3810240" cy="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1.11111E-006 L 0.45833 -1.11111E-006 E">
                                      <p:cBhvr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1.11111E-006 L 0.45833 -1.11111E-006 E">
                                      <p:cBhvr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41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" nodeType="afterEffect" fill="hold" presetClass="entr" presetID="38" repeatCount="indefinite">
                                  <p:stCondLst>
                                    <p:cond delay="2000"/>
                                  </p:stCondLst>
                                  <p:iterate type="wd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48:17Z</dcterms:created>
  <dc:creator>Windows xp sp2 Full</dc:creator>
  <dc:description/>
  <dc:language>en-US</dc:language>
  <cp:lastModifiedBy>My Computer</cp:lastModifiedBy>
  <dcterms:modified xsi:type="dcterms:W3CDTF">2007-01-04T16:51:45Z</dcterms:modified>
  <cp:revision>129</cp:revision>
  <dc:subject/>
  <dc:title>Slide 1</dc:title>
</cp:coreProperties>
</file>