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D797-981E-4F39-9E88-6EA81EBCF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3076-9625-4157-9717-EFD36B09C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9E3A-7A83-403C-A162-7A2629205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6129-B9D8-478E-989E-D0AACAA7D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3E2E-9BAC-4BED-8AB4-9AFCB8810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07DC-4902-4331-BD77-FF000DD8F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B2FA-26A0-47B3-9760-8EA16F29E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9B7D-320B-4C75-9511-44E2057D3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8E9D-BFF4-4CE7-8A1B-6F1A9C8DB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BE1C-4657-43AD-B5C2-BEC8412E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2E9A-C7CF-4F8B-AE00-AF627F93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2909-F69F-450B-B44A-CFA541A5F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071370-EFFB-4DFC-808E-4B47711F9D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79560" y="809640"/>
            <a:ext cx="6819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 mushroom cloud – nuclear explo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31800" y="430200"/>
            <a:ext cx="201600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e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08:56:04Z</dcterms:created>
  <dc:creator>Dave Neary</dc:creator>
  <dc:description/>
  <dc:language>en-US</dc:language>
  <cp:lastModifiedBy>Dave Neary</cp:lastModifiedBy>
  <dcterms:modified xsi:type="dcterms:W3CDTF">2011-10-28T08:58:24Z</dcterms:modified>
  <cp:revision>1</cp:revision>
  <dc:subject/>
  <dc:title/>
</cp:coreProperties>
</file>