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4227120"/>
            <a:ext cx="79250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74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46160" y="1600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6000" y="1600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42271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46160" y="42271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6000" y="42271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274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27120"/>
            <a:ext cx="79250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227120"/>
            <a:ext cx="79250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274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46160" y="1600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26000" y="1600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2271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46160" y="42271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26000" y="42271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7480" y="42271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7480" y="1600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27120"/>
            <a:ext cx="79250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914400" indent="-399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31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5744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w Cen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w Cen MT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w Cen MT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w Cen MT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1550880"/>
            <a:ext cx="618840" cy="5259600"/>
          </a:xfrm>
          <a:prstGeom prst="rect">
            <a:avLst/>
          </a:prstGeom>
          <a:solidFill>
            <a:srgbClr val="746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91080" y="930600"/>
            <a:ext cx="871560" cy="691920"/>
          </a:xfrm>
          <a:prstGeom prst="rect">
            <a:avLst/>
          </a:prstGeom>
          <a:gradFill rotWithShape="0">
            <a:gsLst>
              <a:gs pos="0">
                <a:srgbClr val="9690c8"/>
              </a:gs>
              <a:gs pos="100000">
                <a:srgbClr val="746b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76680" y="75600"/>
            <a:ext cx="843120" cy="691920"/>
          </a:xfrm>
          <a:prstGeom prst="rect">
            <a:avLst/>
          </a:prstGeom>
          <a:gradFill rotWithShape="0">
            <a:gsLst>
              <a:gs pos="0">
                <a:srgbClr val="746bb7"/>
              </a:gs>
              <a:gs pos="100000">
                <a:srgbClr val="969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-2773440" y="3370320"/>
            <a:ext cx="6856560" cy="11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 rot="5400000">
            <a:off x="205560" y="4154760"/>
            <a:ext cx="1090440" cy="76320"/>
          </a:xfrm>
          <a:prstGeom prst="rect">
            <a:avLst/>
          </a:prstGeom>
          <a:solidFill>
            <a:srgbClr val="889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 rot="5400000">
            <a:off x="-280080" y="2584800"/>
            <a:ext cx="2057400" cy="77760"/>
          </a:xfrm>
          <a:prstGeom prst="rect">
            <a:avLst/>
          </a:prstGeom>
          <a:solidFill>
            <a:srgbClr val="beb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rot="5400000">
            <a:off x="69480" y="640800"/>
            <a:ext cx="1365480" cy="85680"/>
          </a:xfrm>
          <a:prstGeom prst="rect">
            <a:avLst/>
          </a:prstGeom>
          <a:solidFill>
            <a:srgbClr val="fb7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2973240"/>
            <a:chOff x="0" y="0"/>
            <a:chExt cx="9144000" cy="29732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651200" cy="2973240"/>
            </a:xfrm>
            <a:prstGeom prst="rect">
              <a:avLst/>
            </a:prstGeom>
            <a:gradFill rotWithShape="0">
              <a:gsLst>
                <a:gs pos="0">
                  <a:srgbClr val="746bb7"/>
                </a:gs>
                <a:gs pos="100000">
                  <a:srgbClr val="8b84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0"/>
              <a:ext cx="4500720" cy="2973240"/>
            </a:xfrm>
            <a:prstGeom prst="rect">
              <a:avLst/>
            </a:prstGeom>
            <a:gradFill rotWithShape="0">
              <a:gsLst>
                <a:gs pos="0">
                  <a:srgbClr val="8b84c2"/>
                </a:gs>
                <a:gs pos="100000">
                  <a:srgbClr val="746b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84320"/>
            <a:ext cx="3289320" cy="278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38320" y="507600"/>
            <a:ext cx="3593880" cy="355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05" y="5672"/>
                </a:moveTo>
                <a:arcTo wR="10800" hR="10800" stAng="-1700897" swAng="3053834"/>
                <a:lnTo>
                  <a:pt x="10800" y="10800"/>
                </a:lnTo>
                <a:close/>
              </a:path>
              <a:path fill="none" w="21600" h="21600">
                <a:moveTo>
                  <a:pt x="20305" y="5672"/>
                </a:moveTo>
                <a:arcTo wR="10800" hR="10800" stAng="-1700897" swAng="3053834"/>
              </a:path>
            </a:pathLst>
          </a:custGeom>
          <a:noFill/>
          <a:ln w="19080">
            <a:solidFill>
              <a:srgbClr val="9a9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880" y="187200"/>
            <a:ext cx="3351240" cy="330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84" y="347"/>
                </a:moveTo>
                <a:arcTo wR="10800" hR="10800" stAng="-6273821" swAng="8805376"/>
                <a:lnTo>
                  <a:pt x="10800" y="10800"/>
                </a:lnTo>
                <a:close/>
              </a:path>
              <a:path fill="none" w="21600" h="21600">
                <a:moveTo>
                  <a:pt x="8084" y="347"/>
                </a:moveTo>
                <a:arcTo wR="10800" hR="10800" stAng="-6273821" swAng="8805376"/>
              </a:path>
            </a:pathLst>
          </a:custGeom>
          <a:noFill/>
          <a:ln w="19080">
            <a:solidFill>
              <a:srgbClr val="9a9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85280" y="22320"/>
            <a:ext cx="3593160" cy="354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98" y="3438"/>
                </a:moveTo>
                <a:arcTo wR="10800" hR="10800" stAng="-8221713" swAng="6637570"/>
                <a:lnTo>
                  <a:pt x="10800" y="10800"/>
                </a:lnTo>
                <a:close/>
              </a:path>
              <a:path fill="none" w="21600" h="21600">
                <a:moveTo>
                  <a:pt x="2898" y="3438"/>
                </a:moveTo>
                <a:arcTo wR="10800" hR="10800" stAng="-8221713" swAng="6637570"/>
              </a:path>
            </a:pathLst>
          </a:custGeom>
          <a:noFill/>
          <a:ln w="19080">
            <a:solidFill>
              <a:srgbClr val="9a9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73400" y="3322800"/>
            <a:ext cx="5556240" cy="1792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2760" y="3179880"/>
            <a:ext cx="6861240" cy="104760"/>
            <a:chOff x="2282760" y="3179880"/>
            <a:chExt cx="6861240" cy="104760"/>
          </a:xfrm>
        </p:grpSpPr>
        <p:sp>
          <p:nvSpPr>
            <p:cNvPr id="56" name=""/>
            <p:cNvSpPr/>
            <p:nvPr/>
          </p:nvSpPr>
          <p:spPr>
            <a:xfrm>
              <a:off x="2282760" y="3179880"/>
              <a:ext cx="1649520" cy="102960"/>
            </a:xfrm>
            <a:prstGeom prst="rect">
              <a:avLst/>
            </a:prstGeom>
            <a:solidFill>
              <a:srgbClr val="8892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24360" y="3179880"/>
              <a:ext cx="3114720" cy="104760"/>
            </a:xfrm>
            <a:prstGeom prst="rect">
              <a:avLst/>
            </a:prstGeom>
            <a:solidFill>
              <a:srgbClr val="be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32600" y="3179880"/>
              <a:ext cx="2111400" cy="102960"/>
            </a:xfrm>
            <a:prstGeom prst="rect">
              <a:avLst/>
            </a:prstGeom>
            <a:solidFill>
              <a:srgbClr val="fb72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-355680" y="233280"/>
            <a:ext cx="3595320" cy="354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" y="4377"/>
                </a:moveTo>
                <a:arcTo wR="10800" hR="10800" stAng="-8610498" swAng="10659838"/>
                <a:lnTo>
                  <a:pt x="10800" y="10800"/>
                </a:lnTo>
                <a:close/>
              </a:path>
              <a:path fill="none" w="21600" h="21600">
                <a:moveTo>
                  <a:pt x="2117" y="4377"/>
                </a:moveTo>
                <a:arcTo wR="10800" hR="10800" stAng="-8610498" swAng="10659838"/>
              </a:path>
            </a:pathLst>
          </a:custGeom>
          <a:noFill/>
          <a:ln w="28440">
            <a:solidFill>
              <a:srgbClr val="898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73240"/>
            <a:ext cx="9144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adi MT Condensed Light"/>
              </a:rPr>
              <a:t>the graphical language</a:t>
            </a: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17:56:56Z</dcterms:created>
  <dc:creator>cathy belleville</dc:creator>
  <dc:description/>
  <dc:language>en-US</dc:language>
  <cp:lastModifiedBy>33</cp:lastModifiedBy>
  <dcterms:modified xsi:type="dcterms:W3CDTF">2005-11-15T11:21:37Z</dcterms:modified>
  <cp:revision>97</cp:revision>
  <dc:subject/>
  <dc:title>graphics in presentations</dc:title>
</cp:coreProperties>
</file>