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19F-9016-447A-804D-6482DE6C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81C-4558-4ADB-86FC-9E9AD6AC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993-8654-4576-9BC7-EC60ABF0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A75-2318-430A-ADA4-B591055D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A98-77A3-4BC9-8AEF-BA0B9051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E44-95B0-404B-9023-57B46A7C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BFB-1AE2-4917-A102-BF9BAAEC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761-0565-4C9F-96CC-87318537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58C-52DC-4237-96A9-318C8CA1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41B-0623-4854-A74A-57444EC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165-EFA1-4513-88EB-9A450C6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D27-8932-40E1-9195-FBF862FF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7AEDE-F735-4821-AC58-BA7DA01169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6520" y="3244680"/>
            <a:ext cx="8070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text that should have a strikethrough starting here and going on to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Mitchell</dc:creator>
  <dc:description/>
  <dc:language>en-US</dc:language>
  <cp:lastModifiedBy>Ian Mitchell</cp:lastModifiedBy>
  <cp:revision>0</cp:revision>
  <dc:subject/>
  <dc:title/>
</cp:coreProperties>
</file>