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77784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52120" y="7426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66720" y="4716000"/>
            <a:ext cx="53323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942948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777840" y="942948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25994-91B3-4A27-8B67-19CACA2B89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52480" y="74448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CA8F-2987-4FC2-B18C-2B076750D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79326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66520" y="3786840"/>
            <a:ext cx="79326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4CB7-D049-4C65-A78D-00C7B1F37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164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66520" y="378684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1640" y="378684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6CB0F-CDCB-4EE4-B5E8-A2AF4D980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8880" y="133488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1240" y="133488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66520" y="378684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8880" y="378684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1240" y="378684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921A-14CE-4B71-AD72-A27629F613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66520" y="1334880"/>
            <a:ext cx="7932600" cy="46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9059-B514-44C8-803B-F347D9327C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793260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A4695-E745-425B-8BEA-46B0BF100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387108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1640" y="1334880"/>
            <a:ext cx="387108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26A5-3135-4EAD-A843-A4BD427B2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5844C-5B05-424A-8E6B-7934CC3BA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800" y="115920"/>
            <a:ext cx="8059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8AC1-BC78-4BB9-B2A6-E9EDCF0F9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1640" y="1334880"/>
            <a:ext cx="387108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66520" y="378684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8E63-1104-4D79-BAF1-1A034FCE7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387108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164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1640" y="378684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7D0B-991D-4A7F-AF8D-897376224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164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66520" y="3786840"/>
            <a:ext cx="79326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A45D-AC32-47ED-A1AF-A27561E8D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66520" y="1334880"/>
            <a:ext cx="7932600" cy="469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400"/>
              </a:spcBef>
              <a:buClr>
                <a:srgbClr val="000099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400"/>
              </a:spcBef>
              <a:buClr>
                <a:srgbClr val="000099"/>
              </a:buClr>
              <a:buSzPct val="9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400"/>
              </a:spcBef>
              <a:buClr>
                <a:srgbClr val="d81e04"/>
              </a:buClr>
              <a:buSzPct val="8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400"/>
              </a:spcBef>
              <a:buClr>
                <a:srgbClr val="d81e04"/>
              </a:buClr>
              <a:buSzPct val="8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65080" y="843120"/>
            <a:ext cx="8278920" cy="36360"/>
          </a:xfrm>
          <a:prstGeom prst="rect">
            <a:avLst/>
          </a:prstGeom>
          <a:solidFill>
            <a:srgbClr val="aeaf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5080" y="779400"/>
            <a:ext cx="8278920" cy="36720"/>
          </a:xfrm>
          <a:prstGeom prst="rect">
            <a:avLst/>
          </a:prstGeom>
          <a:solidFill>
            <a:srgbClr val="d81e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84840" y="6578640"/>
            <a:ext cx="65556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12329A-B8D8-4629-A4C0-F74872BE0CC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12040" y="77760"/>
            <a:ext cx="831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960" rIns="3996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52585a"/>
                </a:solidFill>
                <a:latin typeface="Arial"/>
              </a:rPr>
              <a:t>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800" y="214920"/>
            <a:ext cx="80596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BCDE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1052640"/>
            <a:ext cx="4405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960" rIns="39960" tIns="39960" bIns="39960" anchor="ctr">
            <a:no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hijk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66880" y="1557360"/>
          <a:ext cx="7932600" cy="4397400"/>
        </p:xfrm>
        <a:graphic>
          <a:graphicData uri="http://schemas.openxmlformats.org/drawingml/2006/table">
            <a:tbl>
              <a:tblPr/>
              <a:tblGrid>
                <a:gridCol w="752400"/>
                <a:gridCol w="6357960"/>
                <a:gridCol w="822240"/>
              </a:tblGrid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um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Wymaganie / funkcjonalnoś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Wag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przedaż i obsługa klien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XX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.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przedaż pali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.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przedaż asortymentu pozapaliwoweg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.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przedaż usłu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je sprzedażo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mocje i raba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.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akturowani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.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Zarządzanie danymi klientó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.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ne dokumenty związane z asortyment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.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je wspólne dla wszystkich dokumentó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.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je dodatko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Zarządzanie kas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XX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bsługa systemu lojalnościowego VIT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XX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ozpoczęcie i zakończenie prac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XX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ne funkcj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XX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C487-6D21-45B6-A9FB-C8E30162907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ek Banaśkiewicz</dc:creator>
  <dc:description/>
  <dc:language>en-US</dc:language>
  <cp:lastModifiedBy>Jakub Nadolny</cp:lastModifiedBy>
  <dcterms:modified xsi:type="dcterms:W3CDTF">2006-05-30T12:50:09Z</dcterms:modified>
  <cp:revision>54</cp:revision>
  <dc:subject/>
  <dc:title>Zarząd - listopda 2005</dc:title>
</cp:coreProperties>
</file>