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770-67A9-488C-97C0-C184BAB6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099-FC91-46C0-84CF-A5BC5064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C7D-5F9B-4B49-8449-3F144E6A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426-E48D-4A9D-9077-D665AE0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39D-CBBB-405C-A249-7F2D27DD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716-F21B-448E-A6DF-2FAA579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ADD-49CF-4A87-83B8-5295F7E8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E79-B1D0-4AF6-BA2E-16D05ED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3C8-542E-4BEE-92CB-6723B250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BE3-43D8-408E-B4C9-B8420CA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44E-17B9-43FB-B78C-ABF30803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909-E044-4EF1-AE0A-A3AEB803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CBCD-CC06-431D-B403-22172D0C2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1116000" y="436572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AutoShape 6"/>
          <p:cNvCxnSpPr/>
          <p:nvPr/>
        </p:nvCxnSpPr>
        <p:spPr>
          <a:xfrm flipH="1" rot="16200000">
            <a:off x="4282560" y="4293000"/>
            <a:ext cx="793080" cy="648360"/>
          </a:xfrm>
          <a:prstGeom prst="bentConnector3">
            <a:avLst>
              <a:gd name="adj1" fmla="val 498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" name="AutoShape 7"/>
          <p:cNvSpPr/>
          <p:nvPr/>
        </p:nvSpPr>
        <p:spPr>
          <a:xfrm>
            <a:off x="6227640" y="4005360"/>
            <a:ext cx="1513080" cy="936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1332000" y="4797360"/>
            <a:ext cx="792000" cy="1295640"/>
          </a:xfrm>
          <a:prstGeom prst="upArrow">
            <a:avLst>
              <a:gd name="adj1" fmla="val 50000"/>
              <a:gd name="adj2" fmla="val 40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2771640" y="5013360"/>
            <a:ext cx="180036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5292720" y="5084640"/>
            <a:ext cx="1512720" cy="1224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7451640" y="5300640"/>
            <a:ext cx="1297080" cy="72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6:59:02Z</dcterms:created>
  <dc:creator>aaa</dc:creator>
  <dc:description/>
  <dc:language>en-US</dc:language>
  <cp:lastModifiedBy>IBM_USER</cp:lastModifiedBy>
  <dcterms:modified xsi:type="dcterms:W3CDTF">2012-06-07T09:49:59Z</dcterms:modified>
  <cp:revision>3</cp:revision>
  <dc:subject/>
  <dc:title>Slide 1</dc:title>
</cp:coreProperties>
</file>