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C7ADA-178F-4F28-BCC8-AC6F79DFE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935-023A-4A95-94DC-3809494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A1E-38F2-4723-A0C9-38AA54E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0F6-85DF-4153-A53F-8E26244C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875-9FB1-415B-A78A-86896E2D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E8AF-40A2-441C-9A4D-ED619CD4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0710-BFC4-4C08-A7BE-75C303C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3F3-32D8-45DF-90D1-EAA36374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54E-27C5-4A66-AC90-E6F2F454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30F-372B-4B01-843E-D6968296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4262-E5B7-42CA-8033-2C1FD62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A61-0908-4033-B9DD-43603B0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CD4-C132-4BB5-AA4D-7F1AEF8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F355-8744-4ADD-B717-41B5AAE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FE5-5BA6-483D-962E-C0AF004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DDB-CFDF-45EB-B85E-86C88E12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C374-8F61-49A3-BFC4-94F2659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027-2352-4DF4-A389-F8BEDD1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B54-9AEB-4B75-B49C-7FE2FA3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AEF-9670-4396-A348-52DFA85F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D75-DBD0-4687-BAC9-3C2148E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F96-FD6D-457C-B7CF-B9166698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3DF-C657-4943-83C0-8AFECB6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E0-6439-453D-83E5-370A84C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18B-2FCD-4CE3-9221-EA2B9EF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7280" y="843120"/>
            <a:ext cx="5794560" cy="12029760"/>
          </a:xfrm>
          <a:custGeom>
            <a:avLst/>
            <a:gdLst>
              <a:gd name="textAreaLeft" fmla="*/ 2896920 w 5794560"/>
              <a:gd name="textAreaRight" fmla="*/ 5794560 w 5794560"/>
              <a:gd name="textAreaTop" fmla="*/ 0 h 12029760"/>
              <a:gd name="textAreaBottom" fmla="*/ 6014160 h 12029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3400" indent="-293400">
              <a:lnSpc>
                <a:spcPct val="138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7200" indent="-24408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138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lnSpc>
                <a:spcPct val="13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lnSpc>
                <a:spcPct val="13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E7CDE-688C-484A-9B0A-1E1E326A5A6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7280" y="843120"/>
            <a:ext cx="5794560" cy="12029760"/>
          </a:xfrm>
          <a:custGeom>
            <a:avLst/>
            <a:gdLst>
              <a:gd name="textAreaLeft" fmla="*/ 2896920 w 5794560"/>
              <a:gd name="textAreaRight" fmla="*/ 5794560 w 5794560"/>
              <a:gd name="textAreaTop" fmla="*/ 0 h 12029760"/>
              <a:gd name="textAreaBottom" fmla="*/ 6014160 h 12029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426960"/>
            <a:ext cx="6397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4B05D-3DEF-40CD-B4AB-EDAC9F44A013}" type="slidenum"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9756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 Narrow"/>
                <a:ea typeface="B Nazanin"/>
              </a:rPr>
              <a:t>Test</a:t>
            </a:r>
            <a:r>
              <a:rPr b="1" lang="en-GB" sz="4000" spc="-1" strike="noStrike">
                <a:solidFill>
                  <a:srgbClr val="ffffcc"/>
                </a:solidFill>
                <a:latin typeface="Arial Narrow"/>
                <a:ea typeface="B Nazani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114800"/>
                <a:ext cx="2441520" cy="24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48320" y="4876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rad</dc:creator>
  <dc:description/>
  <dc:language>en-US</dc:language>
  <cp:lastModifiedBy>Conrad</cp:lastModifiedBy>
  <cp:revision>0</cp:revision>
  <dc:subject/>
  <dc:title>مدیریت شبکه‌های رایانه‌ای بهم‌پیوسته</dc:title>
</cp:coreProperties>
</file>