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76CF-131A-4DBC-9D2B-49397C4B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866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7920"/>
            <a:ext cx="8866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652F-A7B2-49B5-A610-D37ED794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326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480" y="1768320"/>
            <a:ext cx="4326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7920"/>
            <a:ext cx="4326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480" y="4057920"/>
            <a:ext cx="4326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FB89-6D08-4663-8877-8A629848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8548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48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080" y="1768320"/>
            <a:ext cx="28548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7920"/>
            <a:ext cx="28548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48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080" y="4057920"/>
            <a:ext cx="28548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F663-592E-41B3-9A8F-EA9581E16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88660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9193-83A8-40CE-BD5E-6B3EDC86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8660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C8AB-56FE-4BB2-ADE1-A5CF9C6C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326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480" y="1768320"/>
            <a:ext cx="4326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D7F6-CFCB-400C-8829-795B54E3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6DF0-A927-4E68-9039-815DDB86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C8CB-C1D5-4AA0-81B1-8F958E0A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326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480" y="1768320"/>
            <a:ext cx="4326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7920"/>
            <a:ext cx="4326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C5A3-4784-40AF-802B-560FC128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326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480" y="1768320"/>
            <a:ext cx="4326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480" y="4057920"/>
            <a:ext cx="4326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CBF5-184D-474A-9D58-4379C309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326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480" y="1768320"/>
            <a:ext cx="4326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7920"/>
            <a:ext cx="8866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669C-6E4F-49A8-AD9C-4271B078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88660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F3C60-4B72-410A-837C-E863D4AD99E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r Field Theory in the Shrödinger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680840"/>
            <a:ext cx="88693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ways to develop QF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 formalism in Heisenberg picture (as we did mostly this semes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rödinger picture using functional methods explici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ynman path integ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find the second more intuitive, and it was actually how I first heard QFT describ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46080" y="2925720"/>
            <a:ext cx="9418680" cy="1279440"/>
          </a:xfrm>
          <a:prstGeom prst="ellipse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|k,1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812880" y="2185920"/>
                <a:ext cx="904248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π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nary>
                      <m:naryPr>
                        <m:chr m:val="∏"/>
                        <m:supHide m:val="1"/>
                      </m:naryPr>
                      <m: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k</m:t>
                        </m:r>
                        <m:nary>
                          <m:naryPr>
                            <m:chr m:val="∏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π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π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den>
                            </m:f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/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d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r>
                              <m:t xml:space="preserve">)</m:t>
                            </m:r>
                          </m:e>
                        </m:d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897200" y="1393920"/>
                <a:ext cx="20332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k1,1&gt; 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φ</m:t>
                        </m:r>
                        <m:r>
                          <m:t xml:space="preserve">[</m:t>
                        </m:r>
                        <m:r>
                          <m:t xml:space="preserve">]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206960" y="1447920"/>
            <a:ext cx="3650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140000">
            <a:off x="1293840" y="3993840"/>
            <a:ext cx="44798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 excited sta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468520" y="3106800"/>
            <a:ext cx="1800" cy="5522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32280" y="4114800"/>
            <a:ext cx="3650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1880" y="2011320"/>
            <a:ext cx="3657600" cy="1379520"/>
          </a:xfrm>
          <a:prstGeom prst="ellipse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089080" y="5049720"/>
                <a:ext cx="540864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π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nary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y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i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sup>
                    </m:sSup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d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φ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turb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ynman diagrams and all the paraphernalia of self-interaction can be derived with an interaction term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λϕ</a:t>
            </a:r>
            <a:r>
              <a:rPr b="0" lang="en-US" sz="32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good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41520" y="1833120"/>
            <a:ext cx="88675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60000"/>
          </a:bodyPr>
          <a:p>
            <a:pPr marL="205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n't a very popular approach.  It isn't particularly suited to scattering, and I think there are complexities with Lorentz invariance. (You may have noticed all the t's in my slide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found a couple of papers using 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therine Freese et al, Covariant Schrödinger Formalism and Application to the Hawking Effect (198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Schrödinger equation approach to high-energy multiparticle scat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M. Cornwall and George Tiktopoulos (199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, Jose has mentioned a use in Cosmology where a field must transition from a quantum field soon after the Big Bang to a classical field once things cool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itute for Advanced Study, Princeton, NJ 08450, US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rodinger picture for Q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change; operators don't, unless they have explicit time-dependence.  (unlike O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are functionals.  (just like OF-- Really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getting away from functional equations – Schrödinger's equation is a functional differential equ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(for me) development from Q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functionals arise?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nd why do I say we have been using them all along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1650600"/>
            <a:ext cx="8869320" cy="55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ctually saw this in a homework 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a state a</a:t>
            </a:r>
            <a:r>
              <a:rPr b="0" lang="en-US" sz="3200" spc="-1" strike="noStrike" baseline="33000">
                <a:solidFill>
                  <a:srgbClr val="000000"/>
                </a:solidFill>
                <a:latin typeface="Arial"/>
              </a:rPr>
              <a:t>n1</a:t>
            </a:r>
            <a:r>
              <a:rPr b="0" lang="en-US" sz="3200" spc="-1" strike="noStrike" baseline="-33000">
                <a:solidFill>
                  <a:srgbClr val="000000"/>
                </a:solidFill>
                <a:latin typeface="Arial"/>
              </a:rPr>
              <a:t>p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3200" spc="-1" strike="noStrike" baseline="33000">
                <a:solidFill>
                  <a:srgbClr val="000000"/>
                </a:solidFill>
                <a:latin typeface="Arial"/>
              </a:rPr>
              <a:t>n2</a:t>
            </a:r>
            <a:r>
              <a:rPr b="0" lang="en-US" sz="3200" spc="-1" strike="noStrike" baseline="-33000">
                <a:solidFill>
                  <a:srgbClr val="000000"/>
                </a:solidFill>
                <a:latin typeface="Arial"/>
              </a:rPr>
              <a:t>p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3200" spc="-1" strike="noStrike" baseline="33000">
                <a:solidFill>
                  <a:srgbClr val="000000"/>
                </a:solidFill>
                <a:latin typeface="Arial"/>
              </a:rPr>
              <a:t>n3</a:t>
            </a:r>
            <a:r>
              <a:rPr b="0" lang="en-US" sz="3200" spc="-1" strike="noStrike" baseline="-33000">
                <a:solidFill>
                  <a:srgbClr val="000000"/>
                </a:solidFill>
                <a:latin typeface="Arial"/>
              </a:rPr>
              <a:t>p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...</a:t>
            </a:r>
            <a:r>
              <a:rPr b="0" lang="en-US" sz="3200" spc="-1" strike="noStrike" baseline="33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0&gt;  We don't need a functional to describe it y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n be described as a function from p to integers.  Call it 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ider a (possibly infinite) superposition of states: Ψ(ϕ), the amplitude for the state represented by ϕ. That is a func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 describe a general state, we need a functional, even in the operator formalis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700520" y="3610080"/>
                <a:ext cx="7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descriptions I will 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52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's look at things in the “position” domain.  (although “momentum” is not really differe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e is a waveform, in our case a scalar fiel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ϕ(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It maps points in space and time to a real scalar. (Could be any value, actually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ϕ corresponds to coordinate position in Q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ψ[ϕ(x)] is the state.  It is a complex function of ϕ.  Sometimes the the x argument is shown, sometimes it isn'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sition” operator φ is diag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e bedspring ana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a big, cheap, quantum 3-dimensional bedspring with evenly spaced spring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ings are harmonic oscillators coupled to their neighbor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let the bed's size approach infinity as the spring density also approaches infinit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te of the springs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ϕ; the amplitude for a particular state is ψ(ϕ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869320" cy="2475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same Lagrangi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zation is same as for OF.  We have canonical momentum operat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π and canonical “position” operator φ.  Both operate on functionals in our “position” represent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189080" y="3932280"/>
                <a:ext cx="71280" cy="1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038480" y="3787920"/>
                <a:ext cx="227016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δ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549360" y="3840120"/>
            <a:ext cx="3565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marL="214200" indent="-2142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 that i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24720" y="3870360"/>
            <a:ext cx="16462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292560" y="4672080"/>
                <a:ext cx="43671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,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iδ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457200" y="5303880"/>
            <a:ext cx="941868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marL="216000" indent="-214560">
              <a:lnSpc>
                <a:spcPct val="93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π and φ are canonically related.  Note how canonical momentum is related to momentum in Q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miltonian and Schrödinger's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2022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non-quantized Hamiltonian from Lagrangi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g it and the differential operator f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π in to Schrödinger's equ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200400" y="2103480"/>
                <a:ext cx="50324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∇</m:t>
                            </m:r>
                            <m:sSup>
                              <m:e>
                                <m:r>
                                  <m:t xml:space="preserve">φ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12640" y="4114800"/>
                <a:ext cx="74440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φ,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x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δφ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∇</m:t>
                                </m:r>
                                <m:r>
                                  <m:t xml:space="preserve">φ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731880" y="5578560"/>
            <a:ext cx="886932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and Annihilation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as they were, in terms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φ and 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062080" y="6308640"/>
                <a:ext cx="566604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†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nary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i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x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ϕ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δφ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193840" y="2390760"/>
                <a:ext cx="4967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†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nary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i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x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ϕ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i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263680" y="3200400"/>
                <a:ext cx="47768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nary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i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x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ϕ+i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062080" y="5367240"/>
                <a:ext cx="53056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nary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e</m:t>
                        </m:r>
                      </m:e>
                      <m:sup>
                        <m:r>
                          <m:t xml:space="preserve">i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x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ϕ+</m:t>
                        </m:r>
                        <m:f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δφ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2193840" y="3843360"/>
            <a:ext cx="475452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 but they change a little when we plug in the new expression f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|0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409760"/>
            <a:ext cx="8867880" cy="23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computed from Schrödinger's equ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ψ(ϕ,t) = ψ</a:t>
            </a:r>
            <a:r>
              <a:rPr b="0" lang="en-US" sz="20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ϕ)exp(-iEt), for energy eigenstate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fine ψ(ϕ)=  “ψ applied to function whose Fourier xform is 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nd state energy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937040" y="2986200"/>
                <a:ext cx="412272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nary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457200" y="4297320"/>
            <a:ext cx="923616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nd state wave functional is a product of ground state simple Harmonic Oscillator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727280" y="5548320"/>
                <a:ext cx="711828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φ</m:t>
                        </m:r>
                        <m:r>
                          <m:t xml:space="preserve">[</m:t>
                        </m:r>
                        <m:r>
                          <m:t xml:space="preserve">]</m:t>
                        </m:r>
                      </m:e>
                    </m:d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k</m:t>
                        </m:r>
                        <m:nary>
                          <m:naryPr>
                            <m:chr m:val="∏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π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π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den>
                            </m:f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/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d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r>
                              <m:t xml:space="preserve">)</m:t>
                            </m:r>
                          </m:e>
                        </m:d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9:09:36Z</dcterms:created>
  <dc:creator/>
  <dc:description/>
  <dc:language>en-US</dc:language>
  <cp:lastModifiedBy/>
  <cp:lastPrinted>2012-05-10T02:19:51Z</cp:lastPrinted>
  <dcterms:modified xsi:type="dcterms:W3CDTF">2012-05-10T03:04:15Z</dcterms:modified>
  <cp:revision>1</cp:revision>
  <dc:subject/>
  <dc:title/>
</cp:coreProperties>
</file>