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13E-616C-404B-95EA-88550714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FAD-BFB1-4772-B02D-E4A80CA7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0BC-33D5-46BE-9DE1-9C0E2B51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4D7-0F1A-42DA-BEBF-0A32DADB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A962-F6EE-4AE9-9D17-95A8BB38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563C-DCA5-4480-8E0B-5A56B810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E2E6-59F2-4CE2-A67B-59C9E61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ECD3-C904-4ADE-87BF-B0488628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A054-7A88-47EC-A58A-8E1E0BBC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72198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0B67-2D95-47F5-9CAF-67A3F509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3120-EB49-4232-853A-0457939E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60A-CBCF-4ED1-A807-CF28DE3B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4F65-B994-4C59-A3A5-72BFBB0D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5B04-4169-4C29-91C8-30D90D63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8956-2FA1-43B1-92AC-BFC9DC78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929D-E622-4D17-8DB4-6DAA652A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5560-E490-4232-AE4A-AE595D7F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57E-D7AC-42EA-9696-974E5B28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205-D97D-4506-9307-D7BFD463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105-10BB-4C8E-B5C5-2B6513D8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72198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898-AAB0-44AB-8A2C-E06FB2B7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ED2-C578-477A-9795-32B0FA30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7A6-4B56-434C-B05E-13495AD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B88-323E-4AF5-9D36-5F90EA7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AF0-CB27-4EF1-A70D-71C543BD65C1}" type="slidenum"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DA06-EE09-41D9-B912-FA9584FEB040}" type="slidenum"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2960" y="182520"/>
            <a:ext cx="689904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תחשיב רלציוני על רשומות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uple Relational Calcul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וא הצהרתי, כמו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מבטאים בו רק מה רוצים שתהיה התוצאה, ולא איך לחשב אותה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כל שאילתה ב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יא מהצורה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| P(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, כאשר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הוא פרדיקט שאומר אם רשומ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עונה על תנאי השאילתה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לעיתים מציינים את מספר השדות ב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בסוגריים עליונים, לדוגמא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P(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הערכים עבור השדות של רשומות אלה נלקחים, כאמור, מתוך התחו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לדוגמא, במסד שתייני הבירה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וא תחום המחרוזות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81D-9567-4C6F-B760-8E385759A5F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גרסאות נוספות של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98400"/>
            <a:ext cx="83772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השמטת הסוגריים החיצוניים, דוגמא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: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)(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השמטת המשתנים החופשיים, דוגמא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)(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המשתנים החופשיים אינם קשורים ע"י כמתים, ולכן אין הכרח לציין אותם במפור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2F5-96B8-42AF-BCE1-50024F4E6E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900" spc="-1" strike="noStrike">
                <a:solidFill>
                  <a:srgbClr val="330066"/>
                </a:solidFill>
                <a:latin typeface="Arial"/>
              </a:rPr>
              <a:t>בטיחות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63044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הבעי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"חזק" מדי – ניתן לכתוב שאילתה המחזירה תוצאה לא חסומה (כל הערכים האפשריים בתחום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דוגמ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מה תחזיר השאילתה אם נשמיט את החלק הראשון שלה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a :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)(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אם פאב "השמורה" לא מגיש אף בירה, התוצאה תכיל את כל הערכים האפשריים בתחום (בלי קשר לתוכן הטבלאות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23800" y="3975120"/>
            <a:ext cx="2895840" cy="533520"/>
            <a:chOff x="523800" y="3975120"/>
            <a:chExt cx="2895840" cy="533520"/>
          </a:xfrm>
        </p:grpSpPr>
        <p:sp>
          <p:nvSpPr>
            <p:cNvPr id="171" name=""/>
            <p:cNvSpPr/>
            <p:nvPr/>
          </p:nvSpPr>
          <p:spPr>
            <a:xfrm flipV="1">
              <a:off x="523800" y="4051440"/>
              <a:ext cx="28958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0120" y="3975120"/>
              <a:ext cx="281952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D21-E7B8-4A5E-93B2-EC74C616E3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בטיחות –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מוטיבציה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גבלת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לנוסחאות "טובות" – אשר לא תלויות בתחום הערכים של המשתנים, אלא רק בתוכן המסד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independ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בעיה נוספ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קשה לדעת האם נוסחה נתונה תלויה בתחו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פתרון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הגדרת כללים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סינטקטיי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אשר יבטיחו כי הנוסחה היא בלתי תלויה בתחו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קל לבדוק האם נוסחה בטוחה (סינטקטית) או ל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כל נוסחה בטוחה (סינטקטית) היא בלתי תלויה בתחו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נוסחה בלתי תלויה בתחום לאו דווקא בטוחה, אך קיימת נוסחה אחרת שקולה לה, שהיא כן בטוחה (סינטקטית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95C-2646-4076-A5FD-7108EC10B1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בטיחות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feDR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נוסחת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היא בטוחה א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אין בה כמתי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לא מופיע בה הקשר הלוגי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שלילה של נוסחה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יכולה להופיע רק כחלק מביטוי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כאשר לפחות אחד מה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אינו שליל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cs typeface="Times New Roman"/>
              </a:rPr>
              <a:t>לכל תת-ביטוי מהצור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ל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ול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אותם משתנים חופשיי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cs typeface="Times New Roman"/>
              </a:rPr>
              <a:t>לכל תת-נוסחה מכסימלית מהצור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כל המשתנים החופשיים הם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cs typeface="Times New Roman"/>
              </a:rPr>
              <a:t>מתוחמי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(ראה הגדרה בהמשך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C2F1-38E7-4C04-9DA3-F203E44A2C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feDR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–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משתנ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וא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מתוח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ב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אם הוא מקיים אחד מהתנאי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ופיע חופשי ב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שאיננה השוואה ואיננה שלילה של נוסח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ופיע ב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שהיא מהצור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=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ו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=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כאש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הוא קבו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ופיע ב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שהיא מהצור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ו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כאש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תוח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דוגמאות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נוסח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יננה בטוחה, כי ג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וג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ינם מתוחמי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הנוסח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x=1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=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בטוחה, כי שני המשתנים מתוחמי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זהויות לוגיות להפיכת נוסחה לבטוחה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חלפת  </a:t>
            </a:r>
            <a:r>
              <a:rPr b="0" lang="en-US" sz="22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(F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ב-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חלפת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ב-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483-F176-43D5-BC86-C17A8806C1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feDR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– דוגמאות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דוגמא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נוסחה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(x,y,z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(x,y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(y,z)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איננה בטוחה, כי ה-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תבצע על נוסחאות עם משתנים חופשיים שוני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נוסחה שקולה לנוסחה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(x,y,z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x,y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y,z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שהיא בטוחה, ולכן הנוסחה המקורית גם בלתי תלויה בתחו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דוגמא: מי אוהב את כל הבירות שמוגשות בפאב "השמורה"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)(drinker(a,c) </a:t>
            </a:r>
            <a:r>
              <a:rPr b="0" lang="en-US" sz="19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, e)(serves(d,e) </a:t>
            </a:r>
            <a:r>
              <a:rPr b="0" lang="en-US" sz="19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 = ‘HaShmura’ </a:t>
            </a:r>
            <a:r>
              <a:rPr b="0" lang="en-US" sz="19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kes(a,e)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כלל: 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(A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(A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4C8-DC91-478A-8721-FA99599E2A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כללים ליצירת נוסחאות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בתוך הנוסחה מתייחסים לשדות של רשומ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ע"י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[שם שדה]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או ע"י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[מס' שדה]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הנוסחה חייבת להיות בנויה לפי הכללים הבאי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נוסחאות אטומיות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שייכות של רשומ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לרלצי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: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ו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יחס בין שד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לשדה או קבו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: x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כאשר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הוא אחד מסימני היחס =, </a:t>
            </a:r>
            <a:r>
              <a:rPr b="0" lang="en-US" sz="22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&gt;, &lt;, </a:t>
            </a:r>
            <a:r>
              <a:rPr b="0" lang="en-US" sz="22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Math B"/>
                <a:ea typeface="Math B"/>
              </a:rPr>
              <a:t>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נוסחאות מורכבות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א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נוסחאות, גם הביטויים הבאים הם נוסחאות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   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ath C"/>
                <a:ea typeface="Math C"/>
              </a:rPr>
              <a:t>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)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)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24D-A8F3-4B1C-95FA-AD9A173A37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598400"/>
            <a:ext cx="87631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אלו בירות יוסי אוהב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[dname] = ‘Yossi’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כדי לבחור רק את שמות הבירות, בלי לחזור על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ss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כל פע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)(u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dname] = ‘Yossi’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bname] = t[bname]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E91-F9DA-4A72-8FDA-67EDCB3356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 -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שמות השתיינים וסוגי הבירות שהם אוהבי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)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)(u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e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dname] = v[bname]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[dname] = t[dname]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[type] = v[type]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באלו ערים מגישים בירה שיוסי אוהב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)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)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)(   u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ub    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pcity] = t[pcity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v[pname] = u[pname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  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[bname] = v[bname]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[dname] = ‘Yossi’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81A-DFFD-4384-BE0E-805795916D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 -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91440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מי אוהב את כל הבירות שמוגשות ב"השמורה"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)(w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[dname] = t[dname])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)( (u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pname]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)(v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[dname]=t[dname]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v[bname]= u[bname]))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016-9F50-4010-B64E-84AC794F54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2600" y="182160"/>
            <a:ext cx="7313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תחשיב רלציוני על תחומים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main Relational Calcul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דומה ל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עם ההבדלים הבאי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המשתנים בפרדיקט אינם מייצגים רשומות, אלא שדות בודדים מהתחו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שמתוכו נלקחים ערכי מסד הנתוני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רשומה מיוצגת ע"י רשימה של משתנים המוקפת בסוגריים זוויתיים, לדוגמא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713-BFBB-43FF-9F5D-460AAAEC96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אלו בירות יוסי אוהב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= ‘Yossi’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או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likes(a, b)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= ‘Yossi’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כדי לקבל רק את שמות הבירות, בל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ss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30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(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= ‘Yossi’)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548-D6FA-436D-809C-BC7D5997B5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 -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שמות השתיינים וסוגי הבירה שהם אוהבי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, b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er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באלו ערים מגישים בירה שיוסי אוהב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30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c, d)(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ub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, c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 = ‘Yossi’)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042-FC4B-496B-BB37-12D4A6A8A6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 -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8400"/>
            <a:ext cx="86104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מי אוהב את כל הבירות שמוגשות ב"השמורה"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)(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0B5-8816-498B-B543-B8C5A39C5E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32:11Z</dcterms:created>
  <dc:creator>ענאן מרעי</dc:creator>
  <dc:description/>
  <dc:language>en-US</dc:language>
  <cp:lastModifiedBy>Administrator</cp:lastModifiedBy>
  <dcterms:modified xsi:type="dcterms:W3CDTF">2003-03-26T13:48:18Z</dcterms:modified>
  <cp:revision>26</cp:revision>
  <dc:subject/>
  <dc:title>מצגת של PowerPoint</dc:title>
</cp:coreProperties>
</file>