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232C-C545-4CE6-BE32-3960163C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8640"/>
            <a:ext cx="9069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7A1D-4DC8-4376-816C-E20671B4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864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864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A8CA-0396-48C1-81F0-F0254D08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8640"/>
            <a:ext cx="2919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8640"/>
            <a:ext cx="2919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8640"/>
            <a:ext cx="2919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C1C7-AF1B-40D1-A21A-E3EFDB18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2720" indent="0" algn="ctr">
              <a:lnSpc>
                <a:spcPct val="93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756B-AA08-4F7A-B156-7005E805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CBE5-E4C2-463E-AF05-B968FBEE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EB94-AA1F-42AC-88A8-5CA6BF67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2592-18D4-4C81-89CD-88604D43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2720" indent="-342720" algn="ctr">
              <a:lnSpc>
                <a:spcPct val="93000"/>
              </a:lnSpc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B698-1890-496A-A3E2-6A24AAF1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864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F91C-596E-4334-A4EF-737D1DD0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864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84AF-D30E-45AE-9BE6-26D5AE0E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8640"/>
            <a:ext cx="9069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6AED-53C2-42B1-984B-AC10A926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fr-FR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4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04480"/>
                <a:tab algn="l" pos="653760"/>
                <a:tab algn="l" pos="1103040"/>
                <a:tab algn="l" pos="1552320"/>
                <a:tab algn="l" pos="2001600"/>
                <a:tab algn="l" pos="2450880"/>
                <a:tab algn="l" pos="2900160"/>
                <a:tab algn="l" pos="334944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160"/>
                <a:tab algn="l" pos="87404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fr-FR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57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96560"/>
                <a:tab algn="l" pos="645840"/>
                <a:tab algn="l" pos="1095120"/>
                <a:tab algn="l" pos="1544400"/>
                <a:tab algn="l" pos="1993680"/>
                <a:tab algn="l" pos="2442960"/>
                <a:tab algn="l" pos="2892240"/>
                <a:tab algn="l" pos="3341520"/>
                <a:tab algn="l" pos="3790800"/>
                <a:tab algn="l" pos="4240080"/>
                <a:tab algn="l" pos="4689360"/>
                <a:tab algn="l" pos="5138640"/>
                <a:tab algn="l" pos="5587920"/>
                <a:tab algn="l" pos="6037200"/>
                <a:tab algn="l" pos="6486480"/>
                <a:tab algn="l" pos="6935760"/>
                <a:tab algn="l" pos="7385040"/>
                <a:tab algn="l" pos="7833960"/>
                <a:tab algn="l" pos="8283240"/>
                <a:tab algn="l" pos="8732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51F7E5-B68A-4697-A131-7A564A788436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44000" y="2016000"/>
            <a:ext cx="1728000" cy="1728000"/>
          </a:xfrm>
          <a:custGeom>
            <a:avLst/>
            <a:gdLst>
              <a:gd name="textAreaLeft" fmla="*/ 0 w 1728000"/>
              <a:gd name="textAreaRight" fmla="*/ 1728360 w 1728000"/>
              <a:gd name="textAreaTop" fmla="*/ 0 h 1728000"/>
              <a:gd name="textAreaBottom" fmla="*/ 1728360 h 17280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7:28:41Z</dcterms:created>
  <dc:creator>Pierre Martineau</dc:creator>
  <dc:description/>
  <dc:language>en-US</dc:language>
  <cp:lastModifiedBy>Pierre Martineau</cp:lastModifiedBy>
  <dcterms:modified xsi:type="dcterms:W3CDTF">2012-10-13T19:54:33Z</dcterms:modified>
  <cp:revision>6</cp:revision>
  <dc:subject/>
  <dc:title/>
</cp:coreProperties>
</file>