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F0A-7BBA-47C3-AFC5-E22781CA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120-33F7-4648-A32A-74CA7406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2DD-2121-42B6-9EDC-93703F64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011-1E4D-492A-B048-26CC68EE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7D6-636E-4A84-B137-22BB80CC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FED-87C4-47D0-AE89-306F6F3F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DCC-F7DD-4427-8951-8BEA668F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39C-537D-40FB-8E6E-D9ED8518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999-4E81-4400-A0B9-66017D08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6F1-B8B8-471B-9E9D-13B38C5C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6A5-E883-4ECD-871D-41B80066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D62-5EDF-4B18-8AA0-F72E6012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55DB-64B5-490C-BFB1-4675EC27E45B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5200" y="2903400"/>
            <a:ext cx="18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140360" y="3357720"/>
            <a:ext cx="576000" cy="468000"/>
            <a:chOff x="4140360" y="3357720"/>
            <a:chExt cx="576000" cy="468000"/>
          </a:xfrm>
        </p:grpSpPr>
        <p:sp>
          <p:nvSpPr>
            <p:cNvPr id="43" name="Document"/>
            <p:cNvSpPr/>
            <p:nvPr/>
          </p:nvSpPr>
          <p:spPr>
            <a:xfrm flipH="1" flipV="1">
              <a:off x="4140360" y="3357720"/>
              <a:ext cx="576000" cy="4680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85720" y="351900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85720" y="355896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85720" y="360000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85720" y="364032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85720" y="367776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85720" y="371772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85720" y="375876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23:42:54Z</dcterms:created>
  <dc:creator>tyokoyama</dc:creator>
  <dc:description/>
  <dc:language>en-US</dc:language>
  <cp:lastModifiedBy>HUEHARA1317</cp:lastModifiedBy>
  <dcterms:modified xsi:type="dcterms:W3CDTF">2007-02-19T08:38:59Z</dcterms:modified>
  <cp:revision>336</cp:revision>
  <dc:subject/>
  <dc:title>SenSage紹介資料</dc:title>
</cp:coreProperties>
</file>