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160" y="593640"/>
            <a:ext cx="86835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160" y="1327320"/>
            <a:ext cx="8683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2160" y="3999960"/>
            <a:ext cx="8683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160" y="593640"/>
            <a:ext cx="86835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2160" y="1327320"/>
            <a:ext cx="4237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2120" y="1327320"/>
            <a:ext cx="4237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82160" y="3999960"/>
            <a:ext cx="4237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2120" y="3999960"/>
            <a:ext cx="4237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160" y="593640"/>
            <a:ext cx="86835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82160" y="1327320"/>
            <a:ext cx="27957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7960" y="1327320"/>
            <a:ext cx="27957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4120" y="1327320"/>
            <a:ext cx="27957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82160" y="3999960"/>
            <a:ext cx="27957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7960" y="3999960"/>
            <a:ext cx="27957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4120" y="3999960"/>
            <a:ext cx="27957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160" y="593640"/>
            <a:ext cx="86835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82160" y="1327320"/>
            <a:ext cx="8683560" cy="51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160" y="593640"/>
            <a:ext cx="86835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2160" y="1327320"/>
            <a:ext cx="868356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160" y="593640"/>
            <a:ext cx="86835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160" y="1327320"/>
            <a:ext cx="423756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120" y="1327320"/>
            <a:ext cx="423756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160" y="593640"/>
            <a:ext cx="86835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160" y="593640"/>
            <a:ext cx="8683560" cy="38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160" y="593640"/>
            <a:ext cx="86835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2160" y="1327320"/>
            <a:ext cx="4237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120" y="1327320"/>
            <a:ext cx="423756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82160" y="3999960"/>
            <a:ext cx="4237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160" y="593640"/>
            <a:ext cx="86835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2160" y="1327320"/>
            <a:ext cx="423756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120" y="1327320"/>
            <a:ext cx="4237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2120" y="3999960"/>
            <a:ext cx="4237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160" y="593640"/>
            <a:ext cx="86835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2160" y="1327320"/>
            <a:ext cx="4237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2120" y="1327320"/>
            <a:ext cx="4237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82160" y="3999960"/>
            <a:ext cx="8683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160" y="593640"/>
            <a:ext cx="86835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327320"/>
            <a:ext cx="868356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162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169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31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36840" indent="-1620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36840" indent="-1620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36840" indent="-1620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274680" y="549360"/>
            <a:ext cx="859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7589880" y="6537240"/>
            <a:ext cx="13716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4 IBM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182520" y="136440"/>
            <a:ext cx="429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spcAft>
                <a:spcPts val="9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na Development La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5300_IBMpos_black_PPT_bkgd"/>
          <p:cNvPicPr/>
          <p:nvPr/>
        </p:nvPicPr>
        <p:blipFill>
          <a:blip r:embed="rId2"/>
          <a:stretch/>
        </p:blipFill>
        <p:spPr>
          <a:xfrm>
            <a:off x="8283600" y="228600"/>
            <a:ext cx="585720" cy="23508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3840120" y="6537240"/>
            <a:ext cx="13716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42920" y="6535800"/>
            <a:ext cx="1006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685E7-027F-4B22-B02B-CD066864DAC9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2"/>
          <p:cNvSpPr/>
          <p:nvPr/>
        </p:nvSpPr>
        <p:spPr>
          <a:xfrm>
            <a:off x="2170080" y="5140440"/>
            <a:ext cx="1168560" cy="96660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cc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20:28:13Z</dcterms:created>
  <dc:creator>James PANG</dc:creator>
  <dc:description/>
  <dc:language>en-US</dc:language>
  <cp:lastModifiedBy>alg</cp:lastModifiedBy>
  <cp:lastPrinted>2014-02-26T01:42:34Z</cp:lastPrinted>
  <dcterms:modified xsi:type="dcterms:W3CDTF">2014-04-11T15:04:00Z</dcterms:modified>
  <cp:revision>1493</cp:revision>
  <dc:subject/>
  <dc:title>IBM Presentations: Matt Wang Template</dc:title>
</cp:coreProperties>
</file>