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0666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95280" y="2095560"/>
            <a:ext cx="693432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400" spc="-1" strike="noStrike">
                <a:solidFill>
                  <a:srgbClr val="3333cc"/>
                </a:solidFill>
                <a:latin typeface="Lucida Console"/>
                <a:ea typeface="HG Mincho Light J"/>
              </a:rPr>
              <a:t>RAKER 2003</a:t>
            </a:r>
            <a:br>
              <a:rPr sz="4000"/>
            </a:br>
            <a:br>
              <a:rPr sz="4000"/>
            </a:br>
            <a:r>
              <a:rPr b="1" lang="en-GB" sz="3000" spc="-1" strike="noStrike">
                <a:solidFill>
                  <a:srgbClr val="ff0000"/>
                </a:solidFill>
                <a:latin typeface="Lucida Console"/>
                <a:ea typeface="HG Mincho Light J"/>
              </a:rPr>
              <a:t>DIVISI CHEMICAL</a:t>
            </a:r>
            <a:br>
              <a:rPr sz="4000"/>
            </a:b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359240" y="5562720"/>
            <a:ext cx="409896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Oleh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:  B. Rita Tr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027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33720" y="39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op 20 Customer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L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19480" y="1752480"/>
          <a:ext cx="551664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9480" y="1752480"/>
                    <a:ext cx="55166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4920" y="3581280"/>
            <a:ext cx="2895480" cy="11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o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tal penjualan dihitung mulai Jan - per 8 Nov’ 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76520" y="33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op 20 Customer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SUPERL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57440" y="1752480"/>
          <a:ext cx="6049800" cy="43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752480"/>
                    <a:ext cx="60498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6267600"/>
            <a:ext cx="655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o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 Total penjualan dihitung mulai Jan - per 8 Nov’ 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3949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op 20 Customer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DOW CO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52480" y="1600200"/>
          <a:ext cx="586764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86764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47920" y="6267600"/>
            <a:ext cx="655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o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 Total penjualan dihitung mulai Jan - per 8 Nov’ 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70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roduct Contributi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hem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447920"/>
          <a:ext cx="8325000" cy="52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2500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89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roduct Contribution KW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143000"/>
          <a:ext cx="8325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325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81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roduct Contribution KW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28560" y="1562040"/>
          <a:ext cx="7962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62040"/>
                    <a:ext cx="7962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09560" y="2133720"/>
          <a:ext cx="754380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2133720"/>
                    <a:ext cx="7543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0120" y="533520"/>
            <a:ext cx="63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lanning for Sem 2' 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81480" y="242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arget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Jul - Des’ 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533520"/>
          <a:ext cx="533412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53341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943600" y="3886200"/>
            <a:ext cx="245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visi &amp;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9880" y="228600"/>
            <a:ext cx="842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57600" y="4191120"/>
          <a:ext cx="523872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191120"/>
                    <a:ext cx="52387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58000" y="517680"/>
            <a:ext cx="52952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  <a:ea typeface="HG Mincho Light J"/>
              </a:rPr>
              <a:t>POLICY DEPLOYMENT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  <a:ea typeface="HG Mincho Light J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Arial"/>
                <a:ea typeface="HG Mincho Light J"/>
              </a:rPr>
              <a:t>Work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6520" y="1698480"/>
            <a:ext cx="1952640" cy="4781520"/>
          </a:xfrm>
          <a:custGeom>
            <a:avLst/>
            <a:gdLst>
              <a:gd name="textAreaLeft" fmla="*/ 360 w 1952640"/>
              <a:gd name="textAreaRight" fmla="*/ 1952280 w 1952640"/>
              <a:gd name="textAreaTop" fmla="*/ 360 h 4781520"/>
              <a:gd name="textAreaBottom" fmla="*/ 4781160 h 4781520"/>
            </a:gdLst>
            <a:ahLst/>
            <a:rect l="textAreaLeft" t="textAreaTop" r="textAreaRight" b="textAreaBottom"/>
            <a:pathLst>
              <a:path w="21600" h="52887">
                <a:moveTo>
                  <a:pt x="17" y="0"/>
                </a:moveTo>
                <a:arcTo wR="17" hR="17" stAng="16200000" swAng="-5400000"/>
                <a:lnTo>
                  <a:pt x="0" y="52870"/>
                </a:lnTo>
                <a:arcTo wR="17" hR="17" stAng="10800000" swAng="-5400000"/>
                <a:lnTo>
                  <a:pt x="21583" y="52887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1698480"/>
            <a:ext cx="1950840" cy="4781520"/>
          </a:xfrm>
          <a:custGeom>
            <a:avLst/>
            <a:gdLst>
              <a:gd name="textAreaLeft" fmla="*/ 360 w 1950840"/>
              <a:gd name="textAreaRight" fmla="*/ 1950480 w 1950840"/>
              <a:gd name="textAreaTop" fmla="*/ 360 h 4781520"/>
              <a:gd name="textAreaBottom" fmla="*/ 4781160 h 4781520"/>
            </a:gdLst>
            <a:ahLst/>
            <a:rect l="textAreaLeft" t="textAreaTop" r="textAreaRight" b="textAreaBottom"/>
            <a:pathLst>
              <a:path w="21600" h="52936">
                <a:moveTo>
                  <a:pt x="17" y="0"/>
                </a:moveTo>
                <a:arcTo wR="17" hR="17" stAng="16200000" swAng="-5400000"/>
                <a:lnTo>
                  <a:pt x="0" y="52919"/>
                </a:lnTo>
                <a:arcTo wR="17" hR="17" stAng="10800000" swAng="-5400000"/>
                <a:lnTo>
                  <a:pt x="21583" y="52936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98480"/>
            <a:ext cx="1952640" cy="4781520"/>
          </a:xfrm>
          <a:custGeom>
            <a:avLst/>
            <a:gdLst>
              <a:gd name="textAreaLeft" fmla="*/ 360 w 1952640"/>
              <a:gd name="textAreaRight" fmla="*/ 1952280 w 1952640"/>
              <a:gd name="textAreaTop" fmla="*/ 360 h 4781520"/>
              <a:gd name="textAreaBottom" fmla="*/ 4781160 h 4781520"/>
            </a:gdLst>
            <a:ahLst/>
            <a:rect l="textAreaLeft" t="textAreaTop" r="textAreaRight" b="textAreaBottom"/>
            <a:pathLst>
              <a:path w="21600" h="52887">
                <a:moveTo>
                  <a:pt x="17" y="0"/>
                </a:moveTo>
                <a:arcTo wR="17" hR="17" stAng="16200000" swAng="-5400000"/>
                <a:lnTo>
                  <a:pt x="0" y="52870"/>
                </a:lnTo>
                <a:arcTo wR="17" hR="17" stAng="10800000" swAng="-5400000"/>
                <a:lnTo>
                  <a:pt x="21583" y="52887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92080" y="1681200"/>
            <a:ext cx="11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52560" y="1676520"/>
            <a:ext cx="1649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DEPART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16520" y="1676520"/>
            <a:ext cx="1505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9320" y="3594240"/>
            <a:ext cx="1843560" cy="984240"/>
            <a:chOff x="589320" y="3594240"/>
            <a:chExt cx="1843560" cy="984240"/>
          </a:xfrm>
        </p:grpSpPr>
        <p:sp>
          <p:nvSpPr>
            <p:cNvPr id="127" name=""/>
            <p:cNvSpPr/>
            <p:nvPr/>
          </p:nvSpPr>
          <p:spPr>
            <a:xfrm>
              <a:off x="606600" y="3594240"/>
              <a:ext cx="1804680" cy="98424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9320" y="3727080"/>
              <a:ext cx="1843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Meningkatkan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enjualan d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roduct Aware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714920" y="2776320"/>
            <a:ext cx="1808280" cy="540000"/>
            <a:chOff x="4714920" y="2776320"/>
            <a:chExt cx="1808280" cy="540000"/>
          </a:xfrm>
        </p:grpSpPr>
        <p:sp>
          <p:nvSpPr>
            <p:cNvPr id="130" name=""/>
            <p:cNvSpPr/>
            <p:nvPr/>
          </p:nvSpPr>
          <p:spPr>
            <a:xfrm>
              <a:off x="4714920" y="2781360"/>
              <a:ext cx="1808280" cy="528480"/>
            </a:xfrm>
            <a:prstGeom prst="roundRect">
              <a:avLst>
                <a:gd name="adj" fmla="val 30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7880" y="2776320"/>
              <a:ext cx="178236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enambahan jumla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customer baru unt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etiap PS yang jual sendir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84440" y="2971800"/>
            <a:ext cx="1972800" cy="690480"/>
            <a:chOff x="2584440" y="2971800"/>
            <a:chExt cx="1972800" cy="690480"/>
          </a:xfrm>
        </p:grpSpPr>
        <p:sp>
          <p:nvSpPr>
            <p:cNvPr id="133" name=""/>
            <p:cNvSpPr/>
            <p:nvPr/>
          </p:nvSpPr>
          <p:spPr>
            <a:xfrm>
              <a:off x="2666880" y="2971800"/>
              <a:ext cx="1806840" cy="690480"/>
            </a:xfrm>
            <a:prstGeom prst="roundRect">
              <a:avLst>
                <a:gd name="adj" fmla="val 22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84440" y="3002760"/>
              <a:ext cx="19728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eningkatan pencapai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target priba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untuk setiap P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590000" y="3429000"/>
            <a:ext cx="2061360" cy="493560"/>
            <a:chOff x="4590000" y="3429000"/>
            <a:chExt cx="2061360" cy="493560"/>
          </a:xfrm>
        </p:grpSpPr>
        <p:sp>
          <p:nvSpPr>
            <p:cNvPr id="136" name=""/>
            <p:cNvSpPr/>
            <p:nvPr/>
          </p:nvSpPr>
          <p:spPr>
            <a:xfrm>
              <a:off x="4714920" y="3429000"/>
              <a:ext cx="1808280" cy="493560"/>
            </a:xfrm>
            <a:prstGeom prst="roundRect">
              <a:avLst>
                <a:gd name="adj" fmla="val 31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0000" y="3481920"/>
              <a:ext cx="20613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Membuat brosur untuk 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DU, LPS, S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615200" y="4800600"/>
            <a:ext cx="2024640" cy="504720"/>
            <a:chOff x="4615200" y="4800600"/>
            <a:chExt cx="2024640" cy="504720"/>
          </a:xfrm>
        </p:grpSpPr>
        <p:sp>
          <p:nvSpPr>
            <p:cNvPr id="139" name=""/>
            <p:cNvSpPr/>
            <p:nvPr/>
          </p:nvSpPr>
          <p:spPr>
            <a:xfrm>
              <a:off x="4724280" y="4800600"/>
              <a:ext cx="1805040" cy="504720"/>
            </a:xfrm>
            <a:prstGeom prst="roundRect">
              <a:avLst>
                <a:gd name="adj" fmla="val 31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15200" y="4858920"/>
              <a:ext cx="2024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Anton support SBY &amp; SMG ut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roduct KW11, S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11680" y="5549760"/>
            <a:ext cx="1827360" cy="532080"/>
            <a:chOff x="4711680" y="5549760"/>
            <a:chExt cx="1827360" cy="532080"/>
          </a:xfrm>
        </p:grpSpPr>
        <p:sp>
          <p:nvSpPr>
            <p:cNvPr id="142" name=""/>
            <p:cNvSpPr/>
            <p:nvPr/>
          </p:nvSpPr>
          <p:spPr>
            <a:xfrm>
              <a:off x="4711680" y="5549760"/>
              <a:ext cx="1827360" cy="532080"/>
            </a:xfrm>
            <a:prstGeom prst="roundRect">
              <a:avLst>
                <a:gd name="adj" fmla="val 29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14200" y="5621760"/>
              <a:ext cx="18219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Nico support cabang unt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roduct DU, LP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71840" y="5029200"/>
            <a:ext cx="1998720" cy="690480"/>
            <a:chOff x="2571840" y="5029200"/>
            <a:chExt cx="1998720" cy="690480"/>
          </a:xfrm>
        </p:grpSpPr>
        <p:sp>
          <p:nvSpPr>
            <p:cNvPr id="145" name=""/>
            <p:cNvSpPr/>
            <p:nvPr/>
          </p:nvSpPr>
          <p:spPr>
            <a:xfrm>
              <a:off x="2666880" y="5029200"/>
              <a:ext cx="1805040" cy="690480"/>
            </a:xfrm>
            <a:prstGeom prst="roundRect">
              <a:avLst>
                <a:gd name="adj" fmla="val 22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71840" y="5060160"/>
              <a:ext cx="19987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Adanya PS yang khus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mensupport 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di area dan caba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703920" y="1698480"/>
            <a:ext cx="1952640" cy="4781520"/>
          </a:xfrm>
          <a:custGeom>
            <a:avLst/>
            <a:gdLst>
              <a:gd name="textAreaLeft" fmla="*/ 360 w 1952640"/>
              <a:gd name="textAreaRight" fmla="*/ 1952280 w 1952640"/>
              <a:gd name="textAreaTop" fmla="*/ 360 h 4781520"/>
              <a:gd name="textAreaBottom" fmla="*/ 4781160 h 4781520"/>
            </a:gdLst>
            <a:ahLst/>
            <a:rect l="textAreaLeft" t="textAreaTop" r="textAreaRight" b="textAreaBottom"/>
            <a:pathLst>
              <a:path w="21600" h="52887">
                <a:moveTo>
                  <a:pt x="17" y="0"/>
                </a:moveTo>
                <a:arcTo wR="17" hR="17" stAng="16200000" swAng="-5400000"/>
                <a:lnTo>
                  <a:pt x="0" y="52870"/>
                </a:lnTo>
                <a:arcTo wR="17" hR="17" stAng="10800000" swAng="-5400000"/>
                <a:lnTo>
                  <a:pt x="21583" y="52887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61040" y="1776240"/>
            <a:ext cx="118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658200" y="2781360"/>
            <a:ext cx="2015640" cy="531720"/>
            <a:chOff x="6658200" y="2781360"/>
            <a:chExt cx="2015640" cy="531720"/>
          </a:xfrm>
        </p:grpSpPr>
        <p:sp>
          <p:nvSpPr>
            <p:cNvPr id="150" name=""/>
            <p:cNvSpPr/>
            <p:nvPr/>
          </p:nvSpPr>
          <p:spPr>
            <a:xfrm>
              <a:off x="6761160" y="2781360"/>
              <a:ext cx="1808280" cy="531720"/>
            </a:xfrm>
            <a:prstGeom prst="roundRect">
              <a:avLst>
                <a:gd name="adj" fmla="val 29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8200" y="2853360"/>
              <a:ext cx="2015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etiap sales menambah 8 c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elama semester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3406680"/>
            <a:ext cx="2003400" cy="540000"/>
            <a:chOff x="6664320" y="3406680"/>
            <a:chExt cx="2003400" cy="540000"/>
          </a:xfrm>
        </p:grpSpPr>
        <p:sp>
          <p:nvSpPr>
            <p:cNvPr id="153" name=""/>
            <p:cNvSpPr/>
            <p:nvPr/>
          </p:nvSpPr>
          <p:spPr>
            <a:xfrm>
              <a:off x="6761160" y="3429000"/>
              <a:ext cx="1808280" cy="493560"/>
            </a:xfrm>
            <a:prstGeom prst="roundRect">
              <a:avLst>
                <a:gd name="adj" fmla="val 31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64320" y="3406680"/>
              <a:ext cx="20034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Tiap customer KLS mendap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informasi lewat brosur ut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roduct DU, LPS, S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761160" y="4076640"/>
            <a:ext cx="1808280" cy="486000"/>
            <a:chOff x="6761160" y="4076640"/>
            <a:chExt cx="1808280" cy="486000"/>
          </a:xfrm>
        </p:grpSpPr>
        <p:sp>
          <p:nvSpPr>
            <p:cNvPr id="156" name=""/>
            <p:cNvSpPr/>
            <p:nvPr/>
          </p:nvSpPr>
          <p:spPr>
            <a:xfrm>
              <a:off x="6761160" y="4076640"/>
              <a:ext cx="1808280" cy="486000"/>
            </a:xfrm>
            <a:prstGeom prst="roundRect">
              <a:avLst>
                <a:gd name="adj" fmla="val 32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33520" y="4125600"/>
              <a:ext cx="1663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ales dapat memberik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pek ke custo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81680" y="5553000"/>
            <a:ext cx="1827360" cy="540000"/>
            <a:chOff x="6781680" y="5553000"/>
            <a:chExt cx="1827360" cy="540000"/>
          </a:xfrm>
        </p:grpSpPr>
        <p:sp>
          <p:nvSpPr>
            <p:cNvPr id="159" name=""/>
            <p:cNvSpPr/>
            <p:nvPr/>
          </p:nvSpPr>
          <p:spPr>
            <a:xfrm>
              <a:off x="6781680" y="5562720"/>
              <a:ext cx="1827360" cy="519120"/>
            </a:xfrm>
            <a:prstGeom prst="roundRect">
              <a:avLst>
                <a:gd name="adj" fmla="val 30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89600" y="5553000"/>
              <a:ext cx="181152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Terjadi transaksi penjua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utk Product DU, L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di caba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648320" y="4648320"/>
            <a:ext cx="39909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67760" y="4076640"/>
            <a:ext cx="1905840" cy="486000"/>
            <a:chOff x="4667760" y="4076640"/>
            <a:chExt cx="1905840" cy="486000"/>
          </a:xfrm>
        </p:grpSpPr>
        <p:sp>
          <p:nvSpPr>
            <p:cNvPr id="163" name=""/>
            <p:cNvSpPr/>
            <p:nvPr/>
          </p:nvSpPr>
          <p:spPr>
            <a:xfrm>
              <a:off x="4714920" y="4076640"/>
              <a:ext cx="1808280" cy="486000"/>
            </a:xfrm>
            <a:prstGeom prst="roundRect">
              <a:avLst>
                <a:gd name="adj" fmla="val 32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67760" y="4201920"/>
              <a:ext cx="19058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Training Product Knowle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781680" y="4778280"/>
            <a:ext cx="1806840" cy="540000"/>
            <a:chOff x="6781680" y="4778280"/>
            <a:chExt cx="1806840" cy="540000"/>
          </a:xfrm>
        </p:grpSpPr>
        <p:sp>
          <p:nvSpPr>
            <p:cNvPr id="166" name=""/>
            <p:cNvSpPr/>
            <p:nvPr/>
          </p:nvSpPr>
          <p:spPr>
            <a:xfrm>
              <a:off x="6781680" y="4800600"/>
              <a:ext cx="1806840" cy="492120"/>
            </a:xfrm>
            <a:prstGeom prst="roundRect">
              <a:avLst>
                <a:gd name="adj" fmla="val 31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96080" y="4778280"/>
              <a:ext cx="17780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enjualan KW11 dan S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terjadi peningkatan 50% d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BY &amp;SM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69200" y="2209680"/>
            <a:ext cx="1901160" cy="455760"/>
            <a:chOff x="4669200" y="2209680"/>
            <a:chExt cx="1901160" cy="455760"/>
          </a:xfrm>
        </p:grpSpPr>
        <p:sp>
          <p:nvSpPr>
            <p:cNvPr id="169" name=""/>
            <p:cNvSpPr/>
            <p:nvPr/>
          </p:nvSpPr>
          <p:spPr>
            <a:xfrm>
              <a:off x="4714920" y="2209680"/>
              <a:ext cx="1808280" cy="4557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69200" y="2243520"/>
              <a:ext cx="19011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Memfollow up custom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Auto component/automo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761160" y="2209680"/>
            <a:ext cx="1808280" cy="455760"/>
            <a:chOff x="6761160" y="2209680"/>
            <a:chExt cx="1808280" cy="455760"/>
          </a:xfrm>
        </p:grpSpPr>
        <p:sp>
          <p:nvSpPr>
            <p:cNvPr id="172" name=""/>
            <p:cNvSpPr/>
            <p:nvPr/>
          </p:nvSpPr>
          <p:spPr>
            <a:xfrm>
              <a:off x="6761160" y="2209680"/>
              <a:ext cx="1808280" cy="4557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22720" y="2243520"/>
              <a:ext cx="16848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Penjualan dari Cust O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bertamb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320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Outline Presentasi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2057400"/>
          <a:ext cx="708660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086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448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Struktur Organisasi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hemical D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6760" y="2054160"/>
          <a:ext cx="85993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054160"/>
                    <a:ext cx="85993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76280" y="4346640"/>
          <a:ext cx="8085240" cy="21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346640"/>
                    <a:ext cx="808524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842400" y="4541760"/>
            <a:ext cx="723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3160" y="1940040"/>
            <a:ext cx="6303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780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Struktur Organisasi Chemical Div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90640" y="2639880"/>
          <a:ext cx="709128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639880"/>
                    <a:ext cx="70912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245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Struktur Organisasi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hemical D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0574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hristine (MS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: Marketing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Memastikan semua proses administrasi terlaks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Hery (PS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: Support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ab Surabaya &amp; Semar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Hardanto (PS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: Product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Nyoman (PS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: Product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Fera (PS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: Product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48320" y="37980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Sales vs Target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Jul – Des’ 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219320"/>
          <a:ext cx="493380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9338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352680" y="3886200"/>
          <a:ext cx="510552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51055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172920" y="3454560"/>
            <a:ext cx="10508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v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320" y="685800"/>
            <a:ext cx="9518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3880" y="4738680"/>
            <a:ext cx="31608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o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alisasi s/d 20 Desembe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1295280"/>
          <a:ext cx="49338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933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800600" y="4572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roduct vs Targ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Jul - Des’ 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4600" y="990720"/>
            <a:ext cx="927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v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038480" y="3809880"/>
          <a:ext cx="4838760" cy="245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809880"/>
                    <a:ext cx="4838760" cy="24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630480" y="3505320"/>
            <a:ext cx="1299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800600"/>
            <a:ext cx="304812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o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alisasi s/d Oktob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480" y="1619280"/>
          <a:ext cx="79250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19280"/>
                    <a:ext cx="79250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609480" y="243360"/>
            <a:ext cx="7770960" cy="1113480"/>
            <a:chOff x="609480" y="243360"/>
            <a:chExt cx="7770960" cy="1113480"/>
          </a:xfrm>
        </p:grpSpPr>
        <p:sp>
          <p:nvSpPr>
            <p:cNvPr id="78" name=""/>
            <p:cNvSpPr/>
            <p:nvPr/>
          </p:nvSpPr>
          <p:spPr>
            <a:xfrm>
              <a:off x="609480" y="380880"/>
              <a:ext cx="7770960" cy="838440"/>
            </a:xfrm>
            <a:prstGeom prst="roundRect">
              <a:avLst>
                <a:gd name="adj" fmla="val 18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480" y="243360"/>
              <a:ext cx="777096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CG Omega"/>
                  <a:ea typeface="HG Mincho Light J"/>
                </a:rPr>
                <a:t>KW11 Perfomance 2002</a:t>
              </a:r>
              <a:br>
                <a:rPr sz="4800"/>
              </a:br>
              <a:r>
                <a:rPr b="1" lang="en-GB" sz="2400" spc="-1" strike="noStrike">
                  <a:solidFill>
                    <a:srgbClr val="000000"/>
                  </a:solidFill>
                  <a:latin typeface="CG Omega"/>
                  <a:ea typeface="HG Mincho Light J"/>
                </a:rPr>
                <a:t>(Nation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0" y="318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op 20 Customer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KW ADHE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752480"/>
          <a:ext cx="510552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1055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920" y="3581280"/>
            <a:ext cx="2895480" cy="11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o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tal penjualan dihitung mulai Jan - per 8 Nov’ 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on Technology</dc:creator>
  <dc:description/>
  <dc:language>en-US</dc:language>
  <cp:lastModifiedBy/>
  <cp:revision>0</cp:revision>
  <dc:subject/>
  <dc:title>MAPPING DIV. PRODUCT</dc:title>
</cp:coreProperties>
</file>