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3CA-2B65-4310-A566-3FD1203C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242-A289-478D-BC00-BE806E1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0D6-8C21-4FE2-8D95-43C95B5E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E20-EC40-4FB7-85A9-429EAD5F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974-8EFD-40E6-849B-6CC908F3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10C-9800-43F8-B757-016F25B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CC9-5762-475F-A9B9-CE5CC57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9AB-FA22-45B4-88F9-6928FFF2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F07-D9C9-4E02-BB92-29FDAC3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888-C84D-4D4F-98FC-8B5E8D26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D47-6501-4BD8-96A8-3F95095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D89-5EDA-4B09-82F2-5C8DB30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3152-8D9D-4560-B3AA-C84CCD314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51680" y="2209680"/>
          <a:ext cx="29923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1680" y="2209680"/>
                    <a:ext cx="2992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196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182880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187280" y="3213000"/>
          <a:ext cx="17528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213000"/>
                    <a:ext cx="17528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6:11:00Z</dcterms:created>
  <dc:creator>weihongtao</dc:creator>
  <dc:description/>
  <dc:language>en-US</dc:language>
  <cp:lastModifiedBy>dujing</cp:lastModifiedBy>
  <dcterms:modified xsi:type="dcterms:W3CDTF">2012-05-29T02:53:36Z</dcterms:modified>
  <cp:revision>3</cp:revision>
  <dc:subject/>
  <dc:title>通信模式</dc:title>
</cp:coreProperties>
</file>