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59D-C3CB-4647-AB99-9149D611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9B6-8BA5-4208-A466-83BCFAEF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C73-492C-4340-BC54-0EC1F072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6A8C-4899-40CE-B55B-41F7F88A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EDD-50B4-49D4-ADDC-2047EF8E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9DC-38A9-4367-B991-305B4202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13B-726E-46F8-96C7-5A4E353B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1E7-E3B9-47A7-ADD5-78283A42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35B-5251-4446-A873-93B636CE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A54-1FEC-4378-B465-D8B915BC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8A5C-BE23-4024-A71E-A2B75B16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3C0-3AE5-4268-B3E1-F9B709B1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605C7-45FC-421D-B4D0-26D12464972A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18000" y="2063880"/>
            <a:ext cx="1486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Op-/bij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bedrijfsstrate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630760" y="3371760"/>
            <a:ext cx="2057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Op-/bij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informatiestrate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05160" y="4154400"/>
            <a:ext cx="16797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Samen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Projec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portefeu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56440" y="893880"/>
            <a:ext cx="1303200" cy="1036440"/>
          </a:xfrm>
          <a:prstGeom prst="flowChartDocumen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81720" y="1033560"/>
            <a:ext cx="1055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Bedrijf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strate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40640" y="4768920"/>
            <a:ext cx="1303200" cy="1036440"/>
          </a:xfrm>
          <a:prstGeom prst="flowChartDocumen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72240" y="4888080"/>
            <a:ext cx="14274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Informati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strate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58960" y="5221440"/>
            <a:ext cx="1301760" cy="1042920"/>
          </a:xfrm>
          <a:prstGeom prst="flowChartDocumen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89120" y="5388120"/>
            <a:ext cx="14274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Projec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portefeu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93800" y="3071880"/>
            <a:ext cx="2068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Realiseren Projec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portefeu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9520" y="1274760"/>
            <a:ext cx="1303200" cy="1036800"/>
          </a:xfrm>
          <a:prstGeom prst="flowChartDocumen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06600" y="1414440"/>
            <a:ext cx="10555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Projec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result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8920" y="228924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64168"/>
                <a:lnTo>
                  <a:pt x="10913" y="1"/>
                </a:lnTo>
                <a:arcTo wR="10800" hR="10800" stAng="-5364168" swAng="5364168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48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404880" y="3354120"/>
            <a:ext cx="1439640" cy="14396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64168"/>
                <a:lnTo>
                  <a:pt x="10913" y="1"/>
                </a:lnTo>
                <a:arcTo wR="10800" hR="10800" stAng="-5364168" swAng="5364168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48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344760" y="2290680"/>
            <a:ext cx="144000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5364168"/>
                <a:lnTo>
                  <a:pt x="10913" y="1"/>
                </a:lnTo>
                <a:arcTo wR="10800" hR="10800" stAng="-5364168" swAng="5364168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48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16760" y="3533760"/>
            <a:ext cx="144000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5364168"/>
                <a:lnTo>
                  <a:pt x="10913" y="1"/>
                </a:lnTo>
                <a:arcTo wR="10800" hR="10800" stAng="-5364168" swAng="5364168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48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5402160" y="3351240"/>
            <a:ext cx="144000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5364168"/>
                <a:lnTo>
                  <a:pt x="10913" y="1"/>
                </a:lnTo>
                <a:arcTo wR="10800" hR="10800" stAng="-5364168" swAng="5364168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48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3782880" y="4394160"/>
            <a:ext cx="144000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5364168"/>
                <a:lnTo>
                  <a:pt x="10913" y="1"/>
                </a:lnTo>
                <a:arcTo wR="10800" hR="10800" stAng="-5364168" swAng="5364168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48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1827000" y="2089080"/>
            <a:ext cx="1439640" cy="14400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64168"/>
                <a:lnTo>
                  <a:pt x="10913" y="1"/>
                </a:lnTo>
                <a:arcTo wR="10800" hR="10800" stAng="-5364168" swAng="5364168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48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5022720" y="1231920"/>
            <a:ext cx="144000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5364168"/>
                <a:lnTo>
                  <a:pt x="10913" y="1"/>
                </a:lnTo>
                <a:arcTo wR="10800" hR="10800" stAng="-5364168" swAng="5364168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48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4T21:17:26Z</dcterms:created>
  <dc:creator/>
  <dc:description/>
  <dc:language>en-US</dc:language>
  <cp:lastModifiedBy/>
  <dcterms:modified xsi:type="dcterms:W3CDTF">2014-11-14T21:18:50Z</dcterms:modified>
  <cp:revision>1</cp:revision>
  <dc:subject/>
  <dc:title/>
</cp:coreProperties>
</file>