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855-9878-460B-B294-CE2CDA4D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695-2231-4544-B64F-1772B0C8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849-1AAD-4BBB-961B-6563CC5E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501-5D02-413C-952F-3F9DF228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E24-CCDB-40FE-9D31-35CD6FE5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C69-3633-4470-83F9-0336C373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0D3-967E-424A-8554-3F940F31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99A-0BA3-4E56-B247-954839FA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E4C-7944-44AA-80C5-709BD195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CFB-B40F-4299-B9E3-80648B5F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D36-6F51-4410-B7A1-326BE632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58C-B037-4B43-B028-25D9DFC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0354B-07FD-44DB-9952-93A4E25D4A11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600280" y="3773520"/>
          <a:ext cx="5075280" cy="3433320"/>
        </p:xfrm>
        <a:graphic>
          <a:graphicData uri="http://schemas.openxmlformats.org/drawingml/2006/table">
            <a:tbl>
              <a:tblPr/>
              <a:tblGrid>
                <a:gridCol w="2537640"/>
                <a:gridCol w="2537640"/>
              </a:tblGrid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38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9:44:25Z</dcterms:created>
  <dc:creator/>
  <dc:description/>
  <dc:language>en-US</dc:language>
  <cp:lastModifiedBy/>
  <cp:revision>0</cp:revision>
  <dc:subject/>
  <dc:title/>
</cp:coreProperties>
</file>