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049-5279-4DF2-A851-631829B2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071-A40A-4C80-B765-620EB7B2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8D0-EC94-43C4-90CB-0B5A89D6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B4D-44A6-4234-AF8E-5AB79366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598-E4B1-4A53-B601-B96C8FF5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C78-0458-4076-8328-CCF5F46D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7F3-2A07-400D-9713-38C2EDF9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97A-41A2-43AB-9F31-1C43C5B6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4ED-4A50-4A83-AF52-B2466011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C86-54E9-4E8B-9B79-B16EB81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441-9283-4AA9-90DB-B45A91B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F90-61BB-4AAF-A55D-E4A5373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54BC-893B-4CCC-8012-0670624FA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dwdewdwed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wdwdwdwdwdewdewd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wdwedwedewd2d34f345f45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erf45g65g5f4rf4f4tf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5:40:49Z</dcterms:created>
  <dc:creator>zw</dc:creator>
  <dc:description/>
  <dc:language>en-US</dc:language>
  <cp:lastModifiedBy>zw</cp:lastModifiedBy>
  <dcterms:modified xsi:type="dcterms:W3CDTF">2008-04-23T08:25:36Z</dcterms:modified>
  <cp:revision>2</cp:revision>
  <dc:subject/>
  <dc:title>幻灯片 1</dc:title>
</cp:coreProperties>
</file>