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8F7-5A63-4ED9-AA2E-713D9279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E4C-B970-49EC-B4ED-72EF4709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CA6-7AE4-4813-8948-4B5E852B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42E-BFB5-4B7D-B0FD-2AD74D5C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7977-7BBC-405D-87E7-44F891BE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D7D7-1784-40D4-A0F4-081570F1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68F8-D01A-483E-950E-84BBA224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4C84-E0F0-4C45-AD53-123CE45F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B9A6-FA61-4195-8FCE-F06A563A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8743-9403-4C60-B1CB-FC6C4FB7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B405-EF31-4DF7-81D1-62D84D76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34F-FE15-40FC-8BA9-B75FE047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2541-9C5D-4385-AD9E-B8D23EC2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AD37-346F-4A60-A134-22C2B528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EA1C-6EF4-49DB-B606-8DA236DB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77FA-A756-4957-9BF9-33A2A4C3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2251-9949-400E-95A7-C19039B4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2E1-E073-4CF9-8543-E101AC81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1B1C-75E5-4214-B28F-4CC2C406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ADF-DDE1-443C-AEEC-1DD406F5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DD5-C4A9-4349-84C3-2AE36323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F64-0308-4795-A23C-F7023851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BFD-7809-4E94-8140-C7C0E2B3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8DC-8A9A-4148-BE57-38D4AB78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E620-4DC6-4A1D-8A66-426AFB3398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5CBA-5372-4BB2-BD69-20F9228FD5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09520"/>
            <a:ext cx="64008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tracking algorit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9361-9030-4F91-BA18-5957AE106F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SP : recursief algorit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jdscomplexiteit : m = # bogen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²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(m) = 2 T(m–1) + f(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^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s : exponentieel algorit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noeien in oplossingenboom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paalde takken niet verder onderzoe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zeker optimale oplossing niet bevat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vb. wanneer kost van partiële rondreis al groter dan reeds bekomen rondre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1DB-3B20-43CD-AB29-CC19B9C9D1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SP : branch-and-b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dergrens voor kost van optimale rei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m in elke top 2 goedkoopste bo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meer over alle toppen, deel doo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-and-bound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lke stap ook ondergrens vr. kost bep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paalt volgorde van doorl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erst kind met kleinste ondergrens (heuristie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eel gebruiken om te sno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 ondergrens voor verzameling &gt; reeds bekomen oplossing, dan ganse tak niet verder uitwer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20A-E0A4-4E2F-A7BC-9BB94294AA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oeitechnie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noeien (of “pruning”)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et alle mogelijkheden uitprob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et alle stappen volledig uitwer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echte” mogelijkheden vooraf elimin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o snel mogelij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hankelijk van specifieke problee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ABD-E9A1-40E4-AE0D-F291F72387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npike reconstruction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em 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geven punten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p x-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ëren m=n(n–1)/2 afstanden 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,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n de vorm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 i&gt;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palen van afstanden k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²) tij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beeld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1=0, x2=1, x3=5, x4=7, x5=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= {1,2,3,4,5,5,6,7,9,10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mgekeerd probleem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geven afstanden 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reconstrueer punten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derstel steeds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FFB-0507-4332-B59A-5AC25BBA21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npike reconstruction’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em : recursief op te loss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paal punten voor D={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,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met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n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eds ingevuld (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tracking algoritm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gelijk is, d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paal punten voor D’ en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amp;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–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gelijk is, d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paal punten voor D’ en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amp;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–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opgeval : D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roepen met 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0 en 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gevu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1E5-32CE-451F-B102-0A5ED6599D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tracking algorit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eer-en-verbeter techni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oplossing/de beste oplossing bekomen door alle mogelijkheden uit te proberen (exhaustief, recursief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mige stappen leiden tot een “doodlopende we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 “op stappen terugkeren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i. “backtrack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fr. acht-koninginnen-probleem (DA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455-A862-4D56-BCAF-9502FD6FC0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orbeeld : reisbureau-proble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paal kortste rondreis door aantal ste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beeld : afstandstab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3880" y="3200400"/>
          <a:ext cx="5791320" cy="3105000"/>
        </p:xfrm>
        <a:graphic>
          <a:graphicData uri="http://schemas.openxmlformats.org/drawingml/2006/table">
            <a:tbl>
              <a:tblPr/>
              <a:tblGrid>
                <a:gridCol w="965160"/>
                <a:gridCol w="965520"/>
                <a:gridCol w="965160"/>
                <a:gridCol w="965160"/>
                <a:gridCol w="965160"/>
                <a:gridCol w="965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701-9A28-4288-BDD7-57BCDB706F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elsreizigerproble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emstelling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ngerichte gewogen graaf de rondreis met minimale kost bep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pen = steden, bogen = reiskost ts. ste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elvoorkomende veronderstellinge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af is compl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st = Euclidische afstand ts. punten in vl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em is NP-compl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oplossen voor kleine instan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naderingsalgoritmen voor grotere instan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002-18B6-4808-B3CB-DF25A34D1D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SP : exacte oplo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eer alle permutaties van ste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eft volgorde om steden te bezoe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paal goedkoopste van al deze rondrei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xiteit : n = # ste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# te beschouwen permutaties = (n–1)!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jd voor evalueren van rondrei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s : totale tijdscomplexiteit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nentieel algorit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een bruikbaar voor kleine instan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E8F-720C-45BE-BF36-4BDF82BF7E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SP : recursief algorit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ke boog behoor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t optimale 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rsie : bepaal optimale rondreis, startend vanaf partiële rondreis 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m willekeurige boog 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 (x,y) tot rondreis kan behoren, d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-185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paal optimale rondreis, startend met P + (x,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 (x,y) niet tot rondreis kan behoren, d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-185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paal optimale rondreis, startend met P – (x,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ef beste van de twee ter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038-FF6F-438F-A2A5-9BAE5AD51C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SP : recursief algorit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lossingenboom’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iseert manier waarop algoritme werk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merking 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p. combinaties niet verder uit te wer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nt kunnen niet tot oplossing l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en top zou graad 3 of meer krij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en top zou maar graad 1 krij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kel zou te vroeg gevormd word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28040" indent="-18972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‘duur’ om te controler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pt : ‘backtracking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F46-97DF-435E-A83B-F6FAC6F596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10:50:40Z</dcterms:created>
  <dc:creator>Veerle Fack</dc:creator>
  <dc:description/>
  <dc:language>en-US</dc:language>
  <cp:lastModifiedBy>Veerle Fack</cp:lastModifiedBy>
  <cp:lastPrinted>2003-11-25T08:37:57Z</cp:lastPrinted>
  <dcterms:modified xsi:type="dcterms:W3CDTF">2003-11-27T07:49:22Z</dcterms:modified>
  <cp:revision>24</cp:revision>
  <dc:subject/>
  <dc:title>Hoofdstuk 4</dc:title>
</cp:coreProperties>
</file>