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056-DB72-4988-B035-38E78C86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E7C-76E1-4310-9B2C-F6374B2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CE7-5D1B-48D5-B388-3E4C36DB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A47-BB85-4598-9163-08BFCF5B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966-16EF-4B67-858D-A9901E9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6CF-2D4F-4A6D-99C9-354C48D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BA0-2D2A-47AC-B879-41A3ABB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21A-296D-491C-B9A0-BA4E45A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FED-EB40-42F7-80CA-EC47D2F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6D0-F010-488A-A930-92A4A33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97C-A360-4836-825B-A52937F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F52-2F9C-4BC8-AEDD-E8C43C0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90BDD-C9B6-415D-9599-BF28E8811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3757680"/>
          <a:ext cx="5078520" cy="1038240"/>
        </p:xfrm>
        <a:graphic>
          <a:graphicData uri="http://schemas.openxmlformats.org/drawingml/2006/table">
            <a:tbl>
              <a:tblPr/>
              <a:tblGrid>
                <a:gridCol w="2540160"/>
                <a:gridCol w="2538360"/>
              </a:tblGrid>
              <a:tr h="3384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table created in 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 opened as 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8f5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8f5e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0:43:04Z</dcterms:created>
  <dc:creator>Stuart Davis</dc:creator>
  <dc:description/>
  <dc:language>en-US</dc:language>
  <cp:lastModifiedBy>Stuart Davis</cp:lastModifiedBy>
  <dcterms:modified xsi:type="dcterms:W3CDTF">2009-02-21T00:47:33Z</dcterms:modified>
  <cp:revision>2</cp:revision>
  <dc:subject/>
  <dc:title>Slide 1</dc:title>
</cp:coreProperties>
</file>