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E732-092B-438B-B3D9-458444D7E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CA56-2D69-40C9-83F3-21BBD2110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C5A3-F5C8-4109-9362-38AFE46BB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CE2A-CF91-4B6A-B1B2-30C78FEAB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D3A94-104D-4E35-8C82-1F4B362C3A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2DA65-872C-48FD-89F4-41C1DF3112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EAA3F-DC4A-4EBC-85D7-BAD9C6F459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26168-A03D-4267-B27D-B872F9ABC9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C791B-BC56-4512-88A8-44E2C49D7C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26734-5B98-4FD6-AC57-8CCFCA922F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32DFA-D646-4AD5-90AA-8284D28769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D11A-4528-4F13-990A-04F193900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6D248-C9D6-4E49-BCE8-927F9DB1E9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7FAAB-012C-487C-84FD-32CD2DD685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518BA-850D-4BDA-B904-37109CEF3A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C2A45-538B-4E69-BAD3-8C3DC24ED4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14214-6D81-4C8D-BDDA-270A503CAB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6E5F9-46A7-457C-931F-2E0D467F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426B5A-E455-4200-BB3D-EE035773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02DA9-8017-41C0-BC9F-DB618069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0C8EFE-8906-4257-B378-D0D264D2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4A4431-7A34-45B7-8C4B-AE5C2201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03142-52C7-45C4-8C50-A4C899CD20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E9868-8B3A-4901-96B7-C8426824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94A86-2FF6-4404-8FD1-652FFECE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542FE9-CCC5-4725-8174-6A75710D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D9A0C-FF8D-45D2-AD34-7671AB63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2A1F8-D7F8-4719-9801-6EC419B0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19BBD-237F-4A06-9513-0CE6BD72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457199-3DF8-40A3-8BD0-B94D50CB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98DF-BA98-41FF-9FEC-0DEEB8EF6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C320-66B0-4EDE-A463-13C1B49A6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52D4-B7F9-4D88-88DB-81D62D992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F270-0F0C-4863-93A2-91638E559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DACB-FF20-4F84-9B4D-3A4C9BD67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156E-3528-4258-8673-BBB7BB6D2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092C-D4BE-4231-A058-BDD9CE18715C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C154-EC3D-4A82-BEE9-97D213F8318C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C67D-20E3-4654-9FF3-D1ACD5AE7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5360" y="1600200"/>
            <a:ext cx="4386240" cy="2193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022360" y="1600200"/>
            <a:ext cx="4388040" cy="21938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3932280"/>
            <a:ext cx="89154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5:01:40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09-12-30T15:23:34Z</dcterms:modified>
  <cp:revision>2</cp:revision>
  <dc:subject/>
  <dc:title>Slide 1</dc:title>
</cp:coreProperties>
</file>