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34E-B0DD-4E78-902B-D832F3EA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2D3-767F-4D18-8FED-169BFBC2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978-860B-4DF7-A1A6-9ACFEFC4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71A-36BF-4AC2-B481-3034096D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13D-29FE-499F-BD83-1C0E14ED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A36-2491-4B75-94C2-EF5A9EDA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A2D-491A-45AB-A106-BE387519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C790-03EF-4C14-9F50-BB9D09CF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11C-3EB7-4498-A9A9-1D4BE497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8F7-A457-4710-AC24-BF9C5802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A28C-5CC9-4E5A-A584-1747D97C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138-586A-4B0D-8602-D309DA0C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903C-2F66-4764-A63C-545C5CA353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Arial"/>
              <a:ea typeface="宋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99cc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99cc00"/>
              </a:solidFill>
              <a:latin typeface="Arial"/>
              <a:ea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 u="sng">
              <a:solidFill>
                <a:srgbClr val="000000"/>
              </a:solidFill>
              <a:uFillTx/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 baseline="30000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 baseline="-25000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3200" spc="-1" strike="noStrike">
              <a:solidFill>
                <a:srgbClr val="99cc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 u="sng">
              <a:solidFill>
                <a:srgbClr val="00ff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nying</cp:lastModifiedBy>
  <dcterms:modified xsi:type="dcterms:W3CDTF">2012-08-02T02:47:3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