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7CE3-67E4-4D31-A552-9A7E8CB6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1BE8-9E99-49E3-B66B-94C6E533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E58-8E26-4CC4-A389-6B00E442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C8DB-5279-4F9F-84CC-2015DAFB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150F-A624-4E77-9FE6-7EFE6DAF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D202-0EE1-4E18-B7A7-56CB6227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B52A-3691-479A-B711-530ED4E7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D5D6-5966-43A1-AB83-4CCDC92F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3F41-5B1D-4E98-9568-7B48A0E7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8767-DE05-43DA-B581-A40A82B2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9926-CB26-4907-8318-2F5F1CD8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01C1-A6F5-4A29-9DE7-C2C351C0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9B77-7BD2-4A52-AAF4-EB63B6B8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EC01-F265-4B1F-A1CB-2C8C2836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07F6-BC25-4353-8BD2-AA68965C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3A66-0FF2-4A78-AD7D-3E2A4E06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E7D7-9158-47C3-9DDD-8E5D2D0B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C360-0892-4255-B740-12D93855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0E3-899E-48F4-B95F-914FB0D4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41B-29CA-4743-9BE3-AC75B859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946-F003-47D0-92ED-56AA6C5B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0488-E9FF-4624-873A-92B456DF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3C85-B0EB-4B36-AA57-4089E7DD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10DB-1DA1-4527-843E-637D3466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AA0B-B8BE-415B-95A2-EE083C6B8FA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A3AC-3238-4380-973C-64416A4B171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89D0-834A-4A69-A7B7-73BEA9E23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圆角矩形 3"/>
          <p:cNvSpPr/>
          <p:nvPr/>
        </p:nvSpPr>
        <p:spPr>
          <a:xfrm>
            <a:off x="5075280" y="1197000"/>
            <a:ext cx="3097080" cy="1440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528392" h="1800200">
                <a:moveTo>
                  <a:pt x="0" y="1184775"/>
                </a:moveTo>
                <a:lnTo>
                  <a:pt x="0" y="300039"/>
                </a:lnTo>
                <a:cubicBezTo>
                  <a:pt x="0" y="134332"/>
                  <a:pt x="134332" y="0"/>
                  <a:pt x="300039" y="0"/>
                </a:cubicBezTo>
                <a:lnTo>
                  <a:pt x="3228353" y="0"/>
                </a:lnTo>
                <a:cubicBezTo>
                  <a:pt x="3394060" y="0"/>
                  <a:pt x="3528392" y="134332"/>
                  <a:pt x="3528392" y="300039"/>
                </a:cubicBezTo>
                <a:lnTo>
                  <a:pt x="3528392" y="1500161"/>
                </a:lnTo>
                <a:cubicBezTo>
                  <a:pt x="3528392" y="1665868"/>
                  <a:pt x="3394060" y="1800200"/>
                  <a:pt x="3228353" y="1800200"/>
                </a:cubicBezTo>
                <a:lnTo>
                  <a:pt x="621287" y="1800200"/>
                </a:lnTo>
              </a:path>
            </a:pathLst>
          </a:custGeom>
          <a:noFill/>
          <a:ln w="25560">
            <a:solidFill>
              <a:srgbClr val="94dd43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9"/>
          <p:cNvSpPr/>
          <p:nvPr/>
        </p:nvSpPr>
        <p:spPr>
          <a:xfrm>
            <a:off x="5191200" y="133524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4d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角三角形 15"/>
          <p:cNvSpPr/>
          <p:nvPr/>
        </p:nvSpPr>
        <p:spPr>
          <a:xfrm flipH="1">
            <a:off x="-720" y="5229360"/>
            <a:ext cx="9140760" cy="1628640"/>
          </a:xfrm>
          <a:custGeom>
            <a:avLst/>
            <a:gdLst>
              <a:gd name="textAreaLeft" fmla="*/ -360 w 9140760"/>
              <a:gd name="textAreaRight" fmla="*/ 9140760 w 9140760"/>
              <a:gd name="textAreaTop" fmla="*/ 0 h 1628640"/>
              <a:gd name="textAreaBottom" fmla="*/ 1629000 h 1628640"/>
            </a:gdLst>
            <a:ahLst/>
            <a:rect l="textAreaLeft" t="textAreaTop" r="textAreaRight" b="textAreaBottom"/>
            <a:pathLst>
              <a:path w="9144000" h="1988840">
                <a:moveTo>
                  <a:pt x="9144000" y="0"/>
                </a:moveTo>
                <a:lnTo>
                  <a:pt x="2946165" y="1755844"/>
                </a:lnTo>
                <a:lnTo>
                  <a:pt x="0" y="0"/>
                </a:lnTo>
                <a:lnTo>
                  <a:pt x="0" y="1988840"/>
                </a:lnTo>
                <a:lnTo>
                  <a:pt x="2123728" y="1988840"/>
                </a:lnTo>
                <a:lnTo>
                  <a:pt x="3337114" y="1988840"/>
                </a:lnTo>
                <a:lnTo>
                  <a:pt x="9144000" y="1988840"/>
                </a:lnTo>
                <a:close/>
              </a:path>
            </a:pathLst>
          </a:custGeom>
          <a:solidFill>
            <a:srgbClr val="94d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750960" y="2462040"/>
            <a:ext cx="3333600" cy="3152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390600" y="5783400"/>
            <a:ext cx="722160" cy="682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16"/>
          <p:cNvSpPr/>
          <p:nvPr/>
        </p:nvSpPr>
        <p:spPr>
          <a:xfrm>
            <a:off x="-212040" y="493560"/>
            <a:ext cx="40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4dd43"/>
                </a:solidFill>
                <a:latin typeface="Berlin Sans FB Demi"/>
                <a:ea typeface="Calibri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3"/>
          <p:cNvSpPr/>
          <p:nvPr/>
        </p:nvSpPr>
        <p:spPr>
          <a:xfrm>
            <a:off x="5075280" y="2852640"/>
            <a:ext cx="3097080" cy="1440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528392" h="1800200">
                <a:moveTo>
                  <a:pt x="0" y="1184775"/>
                </a:moveTo>
                <a:lnTo>
                  <a:pt x="0" y="300039"/>
                </a:lnTo>
                <a:cubicBezTo>
                  <a:pt x="0" y="134332"/>
                  <a:pt x="134332" y="0"/>
                  <a:pt x="300039" y="0"/>
                </a:cubicBezTo>
                <a:lnTo>
                  <a:pt x="3228353" y="0"/>
                </a:lnTo>
                <a:cubicBezTo>
                  <a:pt x="3394060" y="0"/>
                  <a:pt x="3528392" y="134332"/>
                  <a:pt x="3528392" y="300039"/>
                </a:cubicBezTo>
                <a:lnTo>
                  <a:pt x="3528392" y="1500161"/>
                </a:lnTo>
                <a:cubicBezTo>
                  <a:pt x="3528392" y="1665868"/>
                  <a:pt x="3394060" y="1800200"/>
                  <a:pt x="3228353" y="1800200"/>
                </a:cubicBezTo>
                <a:lnTo>
                  <a:pt x="621287" y="1800200"/>
                </a:lnTo>
              </a:path>
            </a:pathLst>
          </a:custGeom>
          <a:noFill/>
          <a:ln w="25560">
            <a:solidFill>
              <a:srgbClr val="94dd43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23"/>
          <p:cNvSpPr/>
          <p:nvPr/>
        </p:nvSpPr>
        <p:spPr>
          <a:xfrm>
            <a:off x="5191200" y="299088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4d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7"/>
          <p:cNvSpPr/>
          <p:nvPr/>
        </p:nvSpPr>
        <p:spPr>
          <a:xfrm>
            <a:off x="98640" y="618804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duc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圆角矩形 3"/>
          <p:cNvSpPr/>
          <p:nvPr/>
        </p:nvSpPr>
        <p:spPr>
          <a:xfrm>
            <a:off x="5075280" y="1197000"/>
            <a:ext cx="3097080" cy="1440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528392" h="1800200">
                <a:moveTo>
                  <a:pt x="0" y="1184775"/>
                </a:moveTo>
                <a:lnTo>
                  <a:pt x="0" y="300039"/>
                </a:lnTo>
                <a:cubicBezTo>
                  <a:pt x="0" y="134332"/>
                  <a:pt x="134332" y="0"/>
                  <a:pt x="300039" y="0"/>
                </a:cubicBezTo>
                <a:lnTo>
                  <a:pt x="3228353" y="0"/>
                </a:lnTo>
                <a:cubicBezTo>
                  <a:pt x="3394060" y="0"/>
                  <a:pt x="3528392" y="134332"/>
                  <a:pt x="3528392" y="300039"/>
                </a:cubicBezTo>
                <a:lnTo>
                  <a:pt x="3528392" y="1500161"/>
                </a:lnTo>
                <a:cubicBezTo>
                  <a:pt x="3528392" y="1665868"/>
                  <a:pt x="3394060" y="1800200"/>
                  <a:pt x="3228353" y="1800200"/>
                </a:cubicBezTo>
                <a:lnTo>
                  <a:pt x="621287" y="1800200"/>
                </a:lnTo>
              </a:path>
            </a:pathLst>
          </a:custGeom>
          <a:noFill/>
          <a:ln w="25560">
            <a:solidFill>
              <a:srgbClr val="ffc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9"/>
          <p:cNvSpPr/>
          <p:nvPr/>
        </p:nvSpPr>
        <p:spPr>
          <a:xfrm>
            <a:off x="5191200" y="133524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角三角形 15"/>
          <p:cNvSpPr/>
          <p:nvPr/>
        </p:nvSpPr>
        <p:spPr>
          <a:xfrm flipH="1">
            <a:off x="-720" y="5243400"/>
            <a:ext cx="9140760" cy="1629000"/>
          </a:xfrm>
          <a:custGeom>
            <a:avLst/>
            <a:gdLst>
              <a:gd name="textAreaLeft" fmla="*/ -360 w 9140760"/>
              <a:gd name="textAreaRight" fmla="*/ 9140760 w 9140760"/>
              <a:gd name="textAreaTop" fmla="*/ 0 h 1629000"/>
              <a:gd name="textAreaBottom" fmla="*/ 1629360 h 1629000"/>
            </a:gdLst>
            <a:ahLst/>
            <a:rect l="textAreaLeft" t="textAreaTop" r="textAreaRight" b="textAreaBottom"/>
            <a:pathLst>
              <a:path w="9144000" h="1988840">
                <a:moveTo>
                  <a:pt x="9144000" y="0"/>
                </a:moveTo>
                <a:lnTo>
                  <a:pt x="2946165" y="1755844"/>
                </a:lnTo>
                <a:lnTo>
                  <a:pt x="0" y="0"/>
                </a:lnTo>
                <a:lnTo>
                  <a:pt x="0" y="1988840"/>
                </a:lnTo>
                <a:lnTo>
                  <a:pt x="2123728" y="1988840"/>
                </a:lnTo>
                <a:lnTo>
                  <a:pt x="3337114" y="1988840"/>
                </a:lnTo>
                <a:lnTo>
                  <a:pt x="9144000" y="198884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750960" y="2462040"/>
            <a:ext cx="3333600" cy="3152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395280" y="5877000"/>
            <a:ext cx="720720" cy="682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16"/>
          <p:cNvSpPr/>
          <p:nvPr/>
        </p:nvSpPr>
        <p:spPr>
          <a:xfrm>
            <a:off x="-212040" y="493560"/>
            <a:ext cx="40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000"/>
                </a:solidFill>
                <a:latin typeface="Berlin Sans FB Demi"/>
                <a:ea typeface="Calibri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 3"/>
          <p:cNvSpPr/>
          <p:nvPr/>
        </p:nvSpPr>
        <p:spPr>
          <a:xfrm>
            <a:off x="5075280" y="2852640"/>
            <a:ext cx="3097080" cy="1440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528392" h="1800200">
                <a:moveTo>
                  <a:pt x="0" y="1184775"/>
                </a:moveTo>
                <a:lnTo>
                  <a:pt x="0" y="300039"/>
                </a:lnTo>
                <a:cubicBezTo>
                  <a:pt x="0" y="134332"/>
                  <a:pt x="134332" y="0"/>
                  <a:pt x="300039" y="0"/>
                </a:cubicBezTo>
                <a:lnTo>
                  <a:pt x="3228353" y="0"/>
                </a:lnTo>
                <a:cubicBezTo>
                  <a:pt x="3394060" y="0"/>
                  <a:pt x="3528392" y="134332"/>
                  <a:pt x="3528392" y="300039"/>
                </a:cubicBezTo>
                <a:lnTo>
                  <a:pt x="3528392" y="1500161"/>
                </a:lnTo>
                <a:cubicBezTo>
                  <a:pt x="3528392" y="1665868"/>
                  <a:pt x="3394060" y="1800200"/>
                  <a:pt x="3228353" y="1800200"/>
                </a:cubicBezTo>
                <a:lnTo>
                  <a:pt x="621287" y="1800200"/>
                </a:lnTo>
              </a:path>
            </a:pathLst>
          </a:custGeom>
          <a:noFill/>
          <a:ln w="25560">
            <a:solidFill>
              <a:srgbClr val="ffc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23"/>
          <p:cNvSpPr/>
          <p:nvPr/>
        </p:nvSpPr>
        <p:spPr>
          <a:xfrm>
            <a:off x="5191200" y="299088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98640" y="618804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duc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圆角矩形 3"/>
          <p:cNvSpPr/>
          <p:nvPr/>
        </p:nvSpPr>
        <p:spPr>
          <a:xfrm>
            <a:off x="5075280" y="1197000"/>
            <a:ext cx="3097080" cy="1440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528392" h="1800200">
                <a:moveTo>
                  <a:pt x="0" y="1184775"/>
                </a:moveTo>
                <a:lnTo>
                  <a:pt x="0" y="300039"/>
                </a:lnTo>
                <a:cubicBezTo>
                  <a:pt x="0" y="134332"/>
                  <a:pt x="134332" y="0"/>
                  <a:pt x="300039" y="0"/>
                </a:cubicBezTo>
                <a:lnTo>
                  <a:pt x="3228353" y="0"/>
                </a:lnTo>
                <a:cubicBezTo>
                  <a:pt x="3394060" y="0"/>
                  <a:pt x="3528392" y="134332"/>
                  <a:pt x="3528392" y="300039"/>
                </a:cubicBezTo>
                <a:lnTo>
                  <a:pt x="3528392" y="1500161"/>
                </a:lnTo>
                <a:cubicBezTo>
                  <a:pt x="3528392" y="1665868"/>
                  <a:pt x="3394060" y="1800200"/>
                  <a:pt x="3228353" y="1800200"/>
                </a:cubicBezTo>
                <a:lnTo>
                  <a:pt x="621287" y="1800200"/>
                </a:lnTo>
              </a:path>
            </a:pathLst>
          </a:custGeom>
          <a:noFill/>
          <a:ln w="25560">
            <a:solidFill>
              <a:srgbClr val="92ccd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圆角矩形 9"/>
          <p:cNvSpPr/>
          <p:nvPr/>
        </p:nvSpPr>
        <p:spPr>
          <a:xfrm>
            <a:off x="5191200" y="133524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2c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角三角形 15"/>
          <p:cNvSpPr/>
          <p:nvPr/>
        </p:nvSpPr>
        <p:spPr>
          <a:xfrm flipH="1">
            <a:off x="-720" y="5243400"/>
            <a:ext cx="9140760" cy="1629000"/>
          </a:xfrm>
          <a:custGeom>
            <a:avLst/>
            <a:gdLst>
              <a:gd name="textAreaLeft" fmla="*/ -360 w 9140760"/>
              <a:gd name="textAreaRight" fmla="*/ 9140760 w 9140760"/>
              <a:gd name="textAreaTop" fmla="*/ 0 h 1629000"/>
              <a:gd name="textAreaBottom" fmla="*/ 1629360 h 1629000"/>
            </a:gdLst>
            <a:ahLst/>
            <a:rect l="textAreaLeft" t="textAreaTop" r="textAreaRight" b="textAreaBottom"/>
            <a:pathLst>
              <a:path w="9144000" h="1988840">
                <a:moveTo>
                  <a:pt x="9144000" y="0"/>
                </a:moveTo>
                <a:lnTo>
                  <a:pt x="2946165" y="1755844"/>
                </a:lnTo>
                <a:lnTo>
                  <a:pt x="0" y="0"/>
                </a:lnTo>
                <a:lnTo>
                  <a:pt x="0" y="1988840"/>
                </a:lnTo>
                <a:lnTo>
                  <a:pt x="2123728" y="1988840"/>
                </a:lnTo>
                <a:lnTo>
                  <a:pt x="3337114" y="1988840"/>
                </a:lnTo>
                <a:lnTo>
                  <a:pt x="9144000" y="1988840"/>
                </a:lnTo>
                <a:close/>
              </a:path>
            </a:pathLst>
          </a:custGeom>
          <a:solidFill>
            <a:srgbClr val="92c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750960" y="2462040"/>
            <a:ext cx="3333600" cy="315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390600" y="5783400"/>
            <a:ext cx="722160" cy="6825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6"/>
          <p:cNvSpPr/>
          <p:nvPr/>
        </p:nvSpPr>
        <p:spPr>
          <a:xfrm>
            <a:off x="-212040" y="493560"/>
            <a:ext cx="40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2ccdc"/>
                </a:solidFill>
                <a:latin typeface="Berlin Sans FB Demi"/>
                <a:ea typeface="Calibri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3"/>
          <p:cNvSpPr/>
          <p:nvPr/>
        </p:nvSpPr>
        <p:spPr>
          <a:xfrm>
            <a:off x="5075280" y="2852640"/>
            <a:ext cx="3097080" cy="1440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528392" h="1800200">
                <a:moveTo>
                  <a:pt x="0" y="1184775"/>
                </a:moveTo>
                <a:lnTo>
                  <a:pt x="0" y="300039"/>
                </a:lnTo>
                <a:cubicBezTo>
                  <a:pt x="0" y="134332"/>
                  <a:pt x="134332" y="0"/>
                  <a:pt x="300039" y="0"/>
                </a:cubicBezTo>
                <a:lnTo>
                  <a:pt x="3228353" y="0"/>
                </a:lnTo>
                <a:cubicBezTo>
                  <a:pt x="3394060" y="0"/>
                  <a:pt x="3528392" y="134332"/>
                  <a:pt x="3528392" y="300039"/>
                </a:cubicBezTo>
                <a:lnTo>
                  <a:pt x="3528392" y="1500161"/>
                </a:lnTo>
                <a:cubicBezTo>
                  <a:pt x="3528392" y="1665868"/>
                  <a:pt x="3394060" y="1800200"/>
                  <a:pt x="3228353" y="1800200"/>
                </a:cubicBezTo>
                <a:lnTo>
                  <a:pt x="621287" y="1800200"/>
                </a:lnTo>
              </a:path>
            </a:pathLst>
          </a:custGeom>
          <a:noFill/>
          <a:ln w="25560">
            <a:solidFill>
              <a:srgbClr val="92ccd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23"/>
          <p:cNvSpPr/>
          <p:nvPr/>
        </p:nvSpPr>
        <p:spPr>
          <a:xfrm>
            <a:off x="5191200" y="299088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2c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98640" y="618804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duc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325440" y="4437000"/>
            <a:ext cx="44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-1133280" y="5302080"/>
            <a:ext cx="57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73680" y="6004080"/>
            <a:ext cx="289080" cy="314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672240" y="5565600"/>
            <a:ext cx="290520" cy="317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962760" y="5562720"/>
            <a:ext cx="1970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@Kingsoft_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kingsoft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61280" y="6102360"/>
            <a:ext cx="12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91280" y="61722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4:45:00Z</dcterms:created>
  <dc:creator>Sophie</dc:creator>
  <dc:description/>
  <dc:language>en-US</dc:language>
  <cp:lastModifiedBy>微软用户</cp:lastModifiedBy>
  <cp:lastPrinted>1899-12-30T00:00:00Z</cp:lastPrinted>
  <dcterms:modified xsi:type="dcterms:W3CDTF">2011-05-30T23:57:00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