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57DF-4159-46D9-AD88-B0834A70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F2FF-D8B3-4BC5-8D7A-67DE12B1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38C-F1D7-410E-B763-C6C76AEE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7D75-315C-45F9-BAEC-7C076537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FE2-516C-4F9D-9B51-BFFBCF1C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BED4-F206-47D1-B0AC-527E1F0F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B5E-BAB8-48B4-81E1-B6DEFB24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44B-6A90-40B9-A339-D4BFDD59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7C5-4098-46E3-93D2-C9F64A84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B444-0B50-4F67-9714-29ABD590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BCF-2204-4915-8198-F7D94E62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1FFC-BA7D-41AD-AA1D-86C724F8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D984B-EBAE-49EB-A38E-D6CF7A4387B6}" type="slidenum">
              <a:rPr b="0" lang="en-A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mpress Export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aved as a .ppt 97/2000/XP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rom OOo 3.4b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(OOO340m0 Build:958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23:03:49Z</dcterms:created>
  <dc:creator/>
  <dc:description/>
  <dc:language>en-US</dc:language>
  <cp:lastModifiedBy/>
  <dcterms:modified xsi:type="dcterms:W3CDTF">2011-04-29T23:05:25Z</dcterms:modified>
  <cp:revision>2</cp:revision>
  <dc:subject/>
  <dc:title/>
</cp:coreProperties>
</file>