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72C-0B61-465B-8836-A31CE18F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529-55BF-4B0F-81E8-270218E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C09-9327-40E6-ACC1-5172C026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914-80A6-4538-84DC-047C9E57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DF9-216C-4EA3-A61D-EA97563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109-B0E6-4226-A3A6-531F12A9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DBC-AC6B-41F7-8D99-396F0D5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10E-5CED-4824-8107-B7257CE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382-46F9-4BA6-B70D-6F194CB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F7F-5160-4CFC-BAD2-E69E98E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7B2-B00D-43B3-A6AA-950C402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F0E-5644-4C37-B9DC-8C8098F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AC5-9212-47AA-9EAC-14C86CAD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1447920"/>
            <a:ext cx="4619880" cy="464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and video. Store both files in the same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914400" y="304812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38080" y="365760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89548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file to a new f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Presentation can no longer find the video file, displays a ? on the slide and video cannot be play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Move the presentation back to the original f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Presentation now displays the video properly and video can be played from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457200" y="281952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Test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in a folder that is different than the folder the video is contained in. Both folders should be under the root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Folder &amp; C:\Video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Pa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to a new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New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Pa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Video is displayed correctly and is still acce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Test F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in a folder that is different than the folder the video is contained in. Both folders should be under the root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Folder &amp; C:\Video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Fail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to a new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Temp\PresentationNew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Fail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A ? is displayed on the slide and the video is not acce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20:28:32Z</dcterms:created>
  <dc:creator>Nancy Kelln</dc:creator>
  <dc:description/>
  <dc:language>en-US</dc:language>
  <cp:lastModifiedBy>Nancy Kelln</cp:lastModifiedBy>
  <dcterms:modified xsi:type="dcterms:W3CDTF">2011-09-25T04:08:18Z</dcterms:modified>
  <cp:revision>10</cp:revision>
  <dc:subject/>
  <dc:title>Test 1 </dc:title>
</cp:coreProperties>
</file>