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74520" cy="124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9F10-46D4-414A-943F-1C74AD6A0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0691-A597-4A0A-A38F-980F67AEC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092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FC7C-1470-4581-BD81-FEF7545D3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06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044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06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044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17E8-F43D-4035-966A-32516DF8A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997F-28B6-404E-A18F-B400AAAF47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F83A-18D8-4604-8063-E60827EFF0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9055-3371-461A-BF18-3443F757AF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3893-2488-449A-82DA-9FE2E59358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0B1C-F3AE-4586-827F-0FBEF68BC7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440" y="2139840"/>
            <a:ext cx="7746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6E9F-FBFE-4498-8CA5-346949A881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7156-7E6B-4C3F-B811-88D448C3F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C13E-8187-48C5-A3DE-456098994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092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0F19-4AE4-4196-BDBD-4D4FDC51BC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31B3-CADE-41E6-A134-B24C653FBD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0B0F-72F4-4189-BF84-C1883F941B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092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7F3F-1185-4F6B-9EFE-C061653560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06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44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06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44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2A91-D61E-45E1-BF79-B5E4CD0A97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453D-8554-445E-9F9F-37CB80CCB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D5A2-AF5F-47F6-A08C-8B943C67A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3DA9-E733-439D-8879-C1E18E5A4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440" y="2139840"/>
            <a:ext cx="7746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A7E1-9B3E-4073-A0A8-1D5525895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D8B6-1ECF-4499-B11B-40DDF452E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092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2698-EAA9-4E61-92BC-E8506F4E5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4593-16F5-4BA0-95CA-C1E9DA1F2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7640" cy="6856560"/>
            <a:chOff x="0" y="0"/>
            <a:chExt cx="883764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3720" cy="4875120"/>
              <a:chOff x="0" y="0"/>
              <a:chExt cx="5103720" cy="487512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3720" cy="487512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9040" y="420840"/>
                <a:ext cx="4267440" cy="4033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6640" y="841320"/>
                <a:ext cx="3429000" cy="3192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680" y="1258920"/>
                <a:ext cx="2592360" cy="2352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840" y="1596960"/>
                <a:ext cx="192240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4760" cy="3656160"/>
              <a:chOff x="3200400" y="3200400"/>
              <a:chExt cx="3884760" cy="365616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4760" cy="365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7920" y="3514680"/>
                <a:ext cx="3247920" cy="302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6880" y="3830760"/>
                <a:ext cx="2610000" cy="2394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6200" y="4146480"/>
                <a:ext cx="1973160" cy="176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08560" y="4397400"/>
                <a:ext cx="1465200" cy="12603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1960" cy="4113360"/>
              <a:chOff x="4495680" y="152280"/>
              <a:chExt cx="4341960" cy="411336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1960" cy="41133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520"/>
                <a:ext cx="3629160" cy="3403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040" y="861840"/>
                <a:ext cx="2917800" cy="2694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4160" y="1216080"/>
                <a:ext cx="2205000" cy="198432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6760" y="1500120"/>
                <a:ext cx="1636560" cy="1417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46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7520" indent="-31752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7480" indent="-26028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685800" y="6248520"/>
            <a:ext cx="1884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124080" y="6248520"/>
            <a:ext cx="2874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79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F59FE-0F40-44BB-9407-370794B4B2FB}" type="slidenum"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23760" y="-24120"/>
            <a:ext cx="9166320" cy="6878880"/>
            <a:chOff x="-23760" y="-24120"/>
            <a:chExt cx="9166320" cy="6878880"/>
          </a:xfrm>
        </p:grpSpPr>
        <p:grpSp>
          <p:nvGrpSpPr>
            <p:cNvPr id="61" name=""/>
            <p:cNvGrpSpPr/>
            <p:nvPr/>
          </p:nvGrpSpPr>
          <p:grpSpPr>
            <a:xfrm>
              <a:off x="1440" y="1440"/>
              <a:ext cx="8832960" cy="6853320"/>
              <a:chOff x="1440" y="1440"/>
              <a:chExt cx="8832960" cy="685332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440" y="1440"/>
                <a:ext cx="5102280" cy="4873680"/>
                <a:chOff x="1440" y="1440"/>
                <a:chExt cx="5102280" cy="48736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440" y="1440"/>
                  <a:ext cx="5102280" cy="4873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9040" y="422280"/>
                  <a:ext cx="4265640" cy="40323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6640" y="841320"/>
                  <a:ext cx="3427560" cy="3192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680" y="1260360"/>
                  <a:ext cx="2592360" cy="23529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840" y="1596960"/>
                  <a:ext cx="1922400" cy="16797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2960" cy="3654360"/>
                <a:chOff x="3200400" y="3200400"/>
                <a:chExt cx="3882960" cy="36543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2960" cy="36543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7920" y="3514680"/>
                  <a:ext cx="3246480" cy="302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5440" y="3830760"/>
                  <a:ext cx="2609640" cy="2394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6200" y="4146480"/>
                  <a:ext cx="1973160" cy="1763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08560" y="4397400"/>
                  <a:ext cx="1463760" cy="125892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4240" y="152280"/>
                <a:ext cx="4340160" cy="4111920"/>
                <a:chOff x="4494240" y="152280"/>
                <a:chExt cx="4340160" cy="4111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4240" y="152280"/>
                  <a:ext cx="4340160" cy="411192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49920" y="506520"/>
                  <a:ext cx="3627360" cy="3403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5240" y="861840"/>
                  <a:ext cx="2918160" cy="2694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2720" y="1216080"/>
                  <a:ext cx="2205000" cy="198432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6760" y="1500120"/>
                  <a:ext cx="1635120" cy="1416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23760" y="2438280"/>
              <a:ext cx="256392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316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-24120"/>
              <a:ext cx="380880" cy="5002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884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74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879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A7968B-9DCD-495C-BBBC-FF788CCBE9AD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7480" indent="-26028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79280" y="179280"/>
          <a:ext cx="8820360" cy="648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9280"/>
                    <a:ext cx="8820360" cy="648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paulorj</dc:creator>
  <dc:description/>
  <dc:language>en-US</dc:language>
  <cp:lastModifiedBy>Pedro Paulo</cp:lastModifiedBy>
  <cp:revision>0</cp:revision>
  <dc:subject/>
  <dc:title>Estrategias de Inovacao da Petrobras</dc:title>
</cp:coreProperties>
</file>