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2809-7946-461A-AD96-B3269C5DF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1040"/>
            <a:ext cx="822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D97F-2CBD-4831-8237-DF280AD6C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691A-24F8-4F3F-9156-16E6D730A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4568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4568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10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10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10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BFF3-5E99-47EF-A372-D263103AE1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0218-4822-448C-B8E4-8DA9A79EC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681C-ED1E-4ECE-8124-5F5E4BDF9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1006-E2F9-4DD6-94FA-BC523E85E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62B4-ED9B-4D92-862C-29CAEBCB8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EE6E-80F3-4F4E-BD79-D9FA802D2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7360-82BB-43B7-AF36-F2E55C040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2018-8991-4376-A607-9BAB761B4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822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74EB-4AD6-4802-96E1-3A84D356F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spcBef>
                <a:spcPts val="624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1" marL="276120" indent="-149040">
              <a:spcBef>
                <a:spcPts val="624"/>
              </a:spcBef>
              <a:buClr>
                <a:srgbClr val="6600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2" marL="422280" indent="-136440">
              <a:spcBef>
                <a:spcPts val="624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3" marL="576360" indent="-144720">
              <a:spcBef>
                <a:spcPts val="624"/>
              </a:spcBef>
              <a:buClr>
                <a:srgbClr val="6600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4" marL="693720" indent="-109440">
              <a:spcBef>
                <a:spcPts val="624"/>
              </a:spcBef>
              <a:buClr>
                <a:srgbClr val="66003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5" marL="693720" indent="-10944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6" marL="693720" indent="-10944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8534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5AD5-3C06-40A6-87AB-4576AB78F778}" type="slidenum">
              <a:rPr b="1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ption events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04920" y="609480"/>
          <a:ext cx="8305560" cy="4984920"/>
        </p:xfrm>
        <a:graphic>
          <a:graphicData uri="http://schemas.openxmlformats.org/drawingml/2006/table">
            <a:tbl>
              <a:tblPr/>
              <a:tblGrid>
                <a:gridCol w="4647960"/>
                <a:gridCol w="1828800"/>
                <a:gridCol w="1828800"/>
              </a:tblGrid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vents: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mousedown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n select, move mouse over options, and out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bottom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f option 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ehav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noma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container from outsid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container into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select] related [container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select] related [opt.0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0 from select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select into option 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0] related [select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0] related [missing!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0 from select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out of option 0 from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0] related [missing!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0] related [opt.1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into option 0 from ???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0 into option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1] related [opt.0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1] related [opt.2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1 from option 0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1 into opti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2] related [tr.opt.1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2] related [opt.3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2 from option 1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2 into option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3] related [opt.2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3]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elated [select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3 from option 2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3 into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correct relatedTarget e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076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target[select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] related [opt.3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target[select]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elated []</a:t>
                      </a:r>
                      <a:r>
                        <a:rPr b="1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select from option 3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out of select into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correct target element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correct target element;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.id attribute val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3064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note: one pair of mouseOut/mouseOver events with missing relatedTargets may occur between </a:t>
                      </a:r>
                      <a:r>
                        <a:rPr b="0" i="1" lang="en-US" sz="800" spc="-1" strike="noStrike" u="sng">
                          <a:solidFill>
                            <a:srgbClr val="cc0000"/>
                          </a:solidFill>
                          <a:uFillTx/>
                          <a:latin typeface="Verdana"/>
                        </a:rPr>
                        <a:t>any</a:t>
                      </a:r>
                      <a:r>
                        <a:rPr b="0" i="1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valid mouseOver/mouseOut pair in this sequenc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note: select element is completely contained within divs with non-null i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ption events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914400"/>
          <a:ext cx="8001000" cy="4851360"/>
        </p:xfrm>
        <a:graphic>
          <a:graphicData uri="http://schemas.openxmlformats.org/drawingml/2006/table">
            <a:tbl>
              <a:tblPr/>
              <a:tblGrid>
                <a:gridCol w="4343400"/>
                <a:gridCol w="1828800"/>
                <a:gridCol w="1828800"/>
              </a:tblGrid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vents: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click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n select, move mouse over options and out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bottom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f option 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ehav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container from outs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container into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select] related [container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select from contai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select] related [container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select] related [container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select] related [opt.0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select into option 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0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0 from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0] related [opt.1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0 into option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1] related [opt.0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1 from option 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1] related [opt.2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1 into opti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2] related [opt.1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2 from option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2] related [opt.3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2 into option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3] related [opt.2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3 from opti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3] related [missing!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out of option 3 into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missing!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into container from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280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container into outs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8:45:24Z</dcterms:created>
  <dc:creator>Administrator</dc:creator>
  <dc:description/>
  <dc:language>en-US</dc:language>
  <cp:lastModifiedBy>Administrator</cp:lastModifiedBy>
  <dcterms:modified xsi:type="dcterms:W3CDTF">2007-06-01T01:41:26Z</dcterms:modified>
  <cp:revision>45</cp:revision>
  <dc:subject/>
  <dc:title>Resources: dbApi classes</dc:title>
</cp:coreProperties>
</file>