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9B1-76D8-44C5-B991-B926B1F3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237-DE41-4BD3-A9EE-18C47FF8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230-4BF7-46B2-856B-F2F0E3D9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DC1-A523-4A67-BB90-B0373AC8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D43-1367-4A09-BF9D-48EDA5F5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52E-3317-432B-B35E-FD3C4D07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D1C-CD85-4CFA-A6A4-CD987722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EF2-F692-49C9-8585-D1E9BFD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CD4-7B09-445B-8509-276AFEF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474-3283-4B8B-B58B-A1DC1BF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997-CBAA-4051-A66C-00E03FB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872-DB62-4E8E-B965-976F4644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EAAF-FA93-49D2-9319-A9B432B0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12720" y="38088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owerpoint 2002 aka “Office X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2:05:01Z</dcterms:created>
  <dc:creator>Administrator</dc:creator>
  <dc:description/>
  <dc:language>en-US</dc:language>
  <cp:lastModifiedBy>Administrator</cp:lastModifiedBy>
  <dcterms:modified xsi:type="dcterms:W3CDTF">2005-12-15T12:05:45Z</dcterms:modified>
  <cp:revision>2</cp:revision>
  <dc:subject/>
  <dc:title>Slide 1</dc:title>
</cp:coreProperties>
</file>