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-1526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: Per Enge &amp; Pratap Misra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9351-3B95-4168-BEB1-BD99E90B62C9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54760" y="62136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5392-B3A7-4985-9072-EB748379D3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8.6: Measured Amplitude Spectrum Showing the C/A and P(Y) Codes. Each division of the horizontal axis is 5 MHz and the first P(Y) code nulls are apparent at +/- 10 MHz. Most of the C/A code energy is packed into the two center divisions of the pl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rn11-L1-spectrum" descr=""/>
          <p:cNvPicPr/>
          <p:nvPr/>
        </p:nvPicPr>
        <p:blipFill>
          <a:blip r:embed="rId1"/>
          <a:srcRect l="7293" t="13197" r="19796" b="13591"/>
          <a:stretch/>
        </p:blipFill>
        <p:spPr>
          <a:xfrm>
            <a:off x="1447920" y="1371600"/>
            <a:ext cx="617220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840" y="5562720"/>
            <a:ext cx="583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0          -10             0            +10          +20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(M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48600" y="322596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(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rn31_spectrum_color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8.6: Measured Amplitude Spectrum Showing the C/A and P(Y) C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04:23:18Z</dcterms:created>
  <dc:creator>Per Enge</dc:creator>
  <dc:description/>
  <dc:language>en-US</dc:language>
  <cp:lastModifiedBy>Joe Laas</cp:lastModifiedBy>
  <cp:lastPrinted>2000-09-12T00:21:15Z</cp:lastPrinted>
  <dcterms:modified xsi:type="dcterms:W3CDTF">2005-02-05T03:06:11Z</dcterms:modified>
  <cp:revision>188</cp:revision>
  <dc:subject/>
  <dc:title>Signal Overview (GPS 3 style diagrams)</dc:title>
</cp:coreProperties>
</file>