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40600-6F1D-48B1-9FE7-93770B04E7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339640" y="-168120"/>
            <a:ext cx="65754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921b21"/>
              </a:solidFill>
              <a:latin typeface="Gill Sans M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6920" y="1828800"/>
            <a:ext cx="7810560" cy="20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826920" y="4050360"/>
            <a:ext cx="7810560" cy="20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71221-DE26-448D-87AD-185BE8246D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339640" y="-168120"/>
            <a:ext cx="65754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921b21"/>
              </a:solidFill>
              <a:latin typeface="Gill Sans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26920" y="1828800"/>
            <a:ext cx="3811320" cy="20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29040" y="1828800"/>
            <a:ext cx="3811320" cy="20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26920" y="4050360"/>
            <a:ext cx="3811320" cy="20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29040" y="4050360"/>
            <a:ext cx="3811320" cy="20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D62DF-5FC0-4AF4-833C-4DC8CADF5F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339640" y="-168120"/>
            <a:ext cx="65754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921b21"/>
              </a:solidFill>
              <a:latin typeface="Gill Sans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26920" y="1828800"/>
            <a:ext cx="2514600" cy="20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67520" y="1828800"/>
            <a:ext cx="2514600" cy="20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08480" y="1828800"/>
            <a:ext cx="2514600" cy="20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826920" y="4050360"/>
            <a:ext cx="2514600" cy="20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67520" y="4050360"/>
            <a:ext cx="2514600" cy="20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08480" y="4050360"/>
            <a:ext cx="2514600" cy="20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190E1-D08B-4494-8B20-10815A334EB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339640" y="-168120"/>
            <a:ext cx="65754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921b21"/>
              </a:solidFill>
              <a:latin typeface="Gill Sans M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826920" y="1828800"/>
            <a:ext cx="7810560" cy="42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C5D50-4632-4B5B-BF02-4941E180846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339640" y="-168120"/>
            <a:ext cx="65754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921b21"/>
              </a:solidFill>
              <a:latin typeface="Gill Sans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826920" y="1828800"/>
            <a:ext cx="7810560" cy="42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4B411-410E-4E42-A5DA-BF17FBDAED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339640" y="-168120"/>
            <a:ext cx="65754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921b21"/>
              </a:solidFill>
              <a:latin typeface="Gill Sans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26920" y="1828800"/>
            <a:ext cx="3811320" cy="42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29040" y="1828800"/>
            <a:ext cx="3811320" cy="42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D398C-8AA9-4A74-BB98-6CBE8C4A6F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339640" y="-168120"/>
            <a:ext cx="65754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921b21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A05B6-C794-4124-9A67-65A2AD4399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339640" y="-168120"/>
            <a:ext cx="6575400" cy="52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EC646-753E-4975-8D9D-A2EF0221F9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339640" y="-168120"/>
            <a:ext cx="65754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921b21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26920" y="1828800"/>
            <a:ext cx="3811320" cy="20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29040" y="1828800"/>
            <a:ext cx="3811320" cy="42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826920" y="4050360"/>
            <a:ext cx="3811320" cy="20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795E7-84AB-4EB7-A207-3414375813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339640" y="-168120"/>
            <a:ext cx="65754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921b21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6920" y="1828800"/>
            <a:ext cx="3811320" cy="42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29040" y="1828800"/>
            <a:ext cx="3811320" cy="20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29040" y="4050360"/>
            <a:ext cx="3811320" cy="20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79C18-8C79-4D68-97E4-883A2219C2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339640" y="-168120"/>
            <a:ext cx="65754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921b21"/>
              </a:solidFill>
              <a:latin typeface="Gill Sans M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6920" y="1828800"/>
            <a:ext cx="3811320" cy="20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29040" y="1828800"/>
            <a:ext cx="3811320" cy="20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26920" y="4050360"/>
            <a:ext cx="7810560" cy="20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13C88-6F73-4C66-B663-5C3B35BFE5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39640" y="-168120"/>
            <a:ext cx="65754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400" spc="-1" strike="noStrike">
                <a:solidFill>
                  <a:srgbClr val="921b21"/>
                </a:solidFill>
                <a:latin typeface="Gill Sans MT"/>
              </a:rPr>
              <a:t>Click to edit the title text format</a:t>
            </a:r>
            <a:endParaRPr b="1" lang="en-US" sz="3400" spc="-1" strike="noStrike">
              <a:solidFill>
                <a:srgbClr val="921b21"/>
              </a:solidFill>
              <a:latin typeface="Gill Sans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26920" y="1828800"/>
            <a:ext cx="7810560" cy="42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781320" y="6248160"/>
            <a:ext cx="18558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98BA3C-5828-4443-9E30-00D3D0F14AF3}" type="slidenum">
              <a:rPr b="0" lang="en-I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87280" y="104400"/>
            <a:ext cx="716436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IN" sz="2800" spc="-1" strike="noStrike">
                <a:solidFill>
                  <a:srgbClr val="921b21"/>
                </a:solidFill>
                <a:latin typeface="Gill Sans MT"/>
              </a:rPr>
              <a:t>Wd?</a:t>
            </a:r>
            <a:endParaRPr b="1" lang="en-US" sz="2800" spc="-1" strike="noStrike">
              <a:solidFill>
                <a:srgbClr val="921b21"/>
              </a:solidFill>
              <a:latin typeface="Gill Sans M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826560" y="1375920"/>
            <a:ext cx="7859880" cy="430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400" spc="-1" strike="noStrike">
                <a:solidFill>
                  <a:srgbClr val="000000"/>
                </a:solidFill>
                <a:latin typeface="Gill Sans MT"/>
              </a:rPr>
              <a:t>Ttextd …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"/>
          <p:cNvSpPr/>
          <p:nvPr/>
        </p:nvSpPr>
        <p:spPr>
          <a:xfrm>
            <a:off x="93960" y="1270080"/>
            <a:ext cx="399600" cy="558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IN" sz="1800" spc="-1" strike="noStrike">
                <a:solidFill>
                  <a:srgbClr val="921b21"/>
                </a:solidFill>
                <a:latin typeface="Gill Sans MT"/>
              </a:rPr>
              <a:t>Vertical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7A905-18A0-42F2-AD4A-B9BC954EA4D4}" type="slidenum">
              <a:t>1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 fill="hold"/>
                                        <p:tgtEl>
                                          <p:spTgt spid="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9T18:55:22Z</dcterms:created>
  <dc:creator>Ralf Radermacher</dc:creator>
  <dc:description/>
  <dc:language>en-US</dc:language>
  <cp:lastModifiedBy>mark</cp:lastModifiedBy>
  <dcterms:modified xsi:type="dcterms:W3CDTF">2009-04-29T13:10:57Z</dcterms:modified>
  <cp:revision>44</cp:revision>
  <dc:subject/>
  <dc:title>Slide 1</dc:title>
</cp:coreProperties>
</file>