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774600" y="-360"/>
            <a:ext cx="2886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3280" cy="368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34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5"/>
          </p:nvPr>
        </p:nvSpPr>
        <p:spPr>
          <a:xfrm>
            <a:off x="-360" y="9340920"/>
            <a:ext cx="28861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6"/>
          </p:nvPr>
        </p:nvSpPr>
        <p:spPr>
          <a:xfrm>
            <a:off x="3774600" y="9340920"/>
            <a:ext cx="28861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1950-ACB1-4CF8-BCED-3DFE65D9FE47}" type="slidenum"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74960" y="9556560"/>
            <a:ext cx="288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98FE-51E7-4EBD-BF8C-68D7A5883EF4}" type="slidenum"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55656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74960" y="0"/>
            <a:ext cx="288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74800" y="73836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5840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5840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1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1000"/>
              </a:lnSpc>
              <a:spcBef>
                <a:spcPts val="700"/>
              </a:spcBef>
              <a:buClr>
                <a:srgbClr val="ffcc00"/>
              </a:buClr>
              <a:buFont typeface="Webdings" charset="2"/>
              <a:buChar char="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1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101000"/>
              </a:lnSpc>
              <a:spcBef>
                <a:spcPts val="700"/>
              </a:spcBef>
              <a:buClr>
                <a:srgbClr val="99cc00"/>
              </a:buClr>
              <a:buFont typeface="Tahom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244680" indent="-368280">
              <a:lnSpc>
                <a:spcPct val="101000"/>
              </a:lnSpc>
              <a:spcBef>
                <a:spcPts val="700"/>
              </a:spcBef>
              <a:buClr>
                <a:srgbClr val="99cc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244680" indent="-36828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244680" indent="-36828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3720" y="622908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381880" y="228600"/>
            <a:ext cx="541440" cy="541440"/>
          </a:xfrm>
          <a:prstGeom prst="ellipse">
            <a:avLst/>
          </a:prstGeom>
          <a:solidFill>
            <a:srgbClr val="7cba00"/>
          </a:solidFill>
          <a:ln w="25560">
            <a:solidFill>
              <a:srgbClr val="7c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24480" y="228600"/>
            <a:ext cx="541440" cy="541440"/>
          </a:xfrm>
          <a:prstGeom prst="ellipse">
            <a:avLst/>
          </a:prstGeom>
          <a:solidFill>
            <a:srgbClr val="fb150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10280" y="228600"/>
            <a:ext cx="541440" cy="5414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96080" y="228600"/>
            <a:ext cx="541440" cy="54144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153280" y="6172200"/>
            <a:ext cx="482760" cy="361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CF3C-9C37-4D46-99DA-FF1D5915FD8B}" type="slidenum">
              <a:rPr b="1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523880"/>
            <a:ext cx="845640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6200" y="6095520"/>
            <a:ext cx="228456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49640" y="622944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81880" y="228600"/>
            <a:ext cx="541440" cy="541440"/>
          </a:xfrm>
          <a:prstGeom prst="ellipse">
            <a:avLst/>
          </a:prstGeom>
          <a:solidFill>
            <a:srgbClr val="7cba00"/>
          </a:solidFill>
          <a:ln w="25560">
            <a:solidFill>
              <a:srgbClr val="7c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228600"/>
            <a:ext cx="541440" cy="541440"/>
          </a:xfrm>
          <a:prstGeom prst="ellipse">
            <a:avLst/>
          </a:prstGeom>
          <a:solidFill>
            <a:srgbClr val="fb150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28600"/>
            <a:ext cx="541440" cy="5414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228600"/>
            <a:ext cx="541440" cy="54144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5943600"/>
            <a:ext cx="2895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ssion schéma directeur national des systèmes d ’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DGA - SDSI - MSDN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53280" y="6172200"/>
            <a:ext cx="482760" cy="361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86E1-1A76-46B2-BD0A-440AD01E107B}" type="slidenum">
              <a:rPr b="1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1720" indent="-531720">
              <a:lnSpc>
                <a:spcPct val="101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1000"/>
              </a:lnSpc>
              <a:spcBef>
                <a:spcPts val="700"/>
              </a:spcBef>
              <a:buClr>
                <a:srgbClr val="ffcc00"/>
              </a:buClr>
              <a:buFont typeface="Webdings" charset="2"/>
              <a:buChar char="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1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101000"/>
              </a:lnSpc>
              <a:spcBef>
                <a:spcPts val="700"/>
              </a:spcBef>
              <a:buClr>
                <a:srgbClr val="99cc00"/>
              </a:buClr>
              <a:buFont typeface="Tahom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244680" indent="-368280">
              <a:lnSpc>
                <a:spcPct val="101000"/>
              </a:lnSpc>
              <a:spcBef>
                <a:spcPts val="700"/>
              </a:spcBef>
              <a:buClr>
                <a:srgbClr val="99cc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244680" indent="-36828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244680" indent="-36828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0548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 suite bureautique du …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5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L’utilisation d’Open Offi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au …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et à …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7" dur="1" nodeType="clickEffect" fill="hold">
                              <p:stCondLst>
                                <p:cond evt="end">
                                  <p:tn val="4"/>
                                </p:cond>
                              </p:stCondLst>
                            </p:cTn>
                            <p:tgtEl>
                              <p:spTgt spid="101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1" dur="1" nodeType="afterEffect" fill="hold">
                              <p:stCondLst>
                                <p:cond evt="end">
                                  <p:tn val="8"/>
                                </p:cond>
                              </p:stCondLst>
                            </p:cTn>
                            <p:tgtEl>
                              <p:spTgt spid="101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5" dur="1" nodeType="afterEffect" fill="hold">
                              <p:stCondLst>
                                <p:cond evt="end">
                                  <p:tn val="12"/>
                                </p:cond>
                              </p:stCondLst>
                            </p:cTn>
                            <p:tgtEl>
                              <p:spTgt spid="101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6" fill="hold">
                            <p:stCondLst>
                              <p:cond delay="6001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9" dur="1" nodeType="afterEffect" fill="hold">
                              <p:stCondLst>
                                <p:cond evt="end">
                                  <p:tn val="16"/>
                                </p:cond>
                              </p:stCondLst>
                            </p:cTn>
                            <p:tgtEl>
                              <p:spTgt spid="101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30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 déploi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Le cercl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stallation sur les postes des autres agents de la su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s d’obligation d’utilisation mais incitation à la curiosité de chac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38" dur="1" nodeType="clickEffect" fill="hold">
                              <p:stCondLst>
                                <p:cond evt="end">
                                  <p:tn val="335"/>
                                </p:cond>
                              </p:stCondLst>
                            </p:cTn>
                            <p:tgtEl>
                              <p:spTgt spid="121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42" dur="1" nodeType="afterEffect" fill="hold">
                              <p:stCondLst>
                                <p:cond evt="end">
                                  <p:tn val="339"/>
                                </p:cond>
                              </p:stCondLst>
                            </p:cTn>
                            <p:tgtEl>
                              <p:spTgt spid="121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46" dur="1" nodeType="afterEffect" fill="hold">
                              <p:stCondLst>
                                <p:cond evt="end">
                                  <p:tn val="343"/>
                                </p:cond>
                              </p:stCondLst>
                            </p:cTn>
                            <p:tgtEl>
                              <p:spTgt spid="121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47" fill="hold">
                            <p:stCondLst>
                              <p:cond delay="6001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50" dur="1" nodeType="afterEffect" fill="hold">
                              <p:stCondLst>
                                <p:cond evt="end">
                                  <p:tn val="347"/>
                                </p:cond>
                              </p:stCondLst>
                            </p:cTn>
                            <p:tgtEl>
                              <p:spTgt spid="121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51" fill="hold">
                            <p:stCondLst>
                              <p:cond delay="8002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54" dur="1" nodeType="afterEffect" fill="hold">
                              <p:stCondLst>
                                <p:cond evt="end">
                                  <p:tn val="351"/>
                                </p:cond>
                              </p:stCondLst>
                            </p:cTn>
                            <p:tgtEl>
                              <p:spTgt spid="121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310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6320" indent="-5263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 déploi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35160" indent="-452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compagnemen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4784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 personne ressource Ooo par entité de bureau formé en formation de formateur (C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4784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pport SOS-DGA (C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4784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mise d’un CD/ROM à chaque agent (C1 &amp; C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4784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mise d’un guide de prise en main Ooo (C1 &amp; C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4784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formation CSI – Avril 20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61" dur="1" nodeType="clickEffect" fill="hold">
                              <p:stCondLst>
                                <p:cond evt="end">
                                  <p:tn val="358"/>
                                </p:cond>
                              </p:stCondLst>
                            </p:cTn>
                            <p:tgtEl>
                              <p:spTgt spid="123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65" dur="1" nodeType="afterEffect" fill="hold">
                              <p:stCondLst>
                                <p:cond evt="end">
                                  <p:tn val="362"/>
                                </p:cond>
                              </p:stCondLst>
                            </p:cTn>
                            <p:tgtEl>
                              <p:spTgt spid="123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69" dur="1" nodeType="afterEffect" fill="hold">
                              <p:stCondLst>
                                <p:cond evt="end">
                                  <p:tn val="366"/>
                                </p:cond>
                              </p:stCondLst>
                            </p:cTn>
                            <p:tgtEl>
                              <p:spTgt spid="123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70" fill="hold">
                            <p:stCondLst>
                              <p:cond delay="6001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73" dur="1" nodeType="afterEffect" fill="hold">
                              <p:stCondLst>
                                <p:cond evt="end">
                                  <p:tn val="370"/>
                                </p:cond>
                              </p:stCondLst>
                            </p:cTn>
                            <p:tgtEl>
                              <p:spTgt spid="123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74" fill="hold">
                            <p:stCondLst>
                              <p:cond delay="8002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77" dur="1" nodeType="afterEffect" fill="hold">
                              <p:stCondLst>
                                <p:cond evt="end">
                                  <p:tn val="374"/>
                                </p:cond>
                              </p:stCondLst>
                            </p:cTn>
                            <p:tgtEl>
                              <p:spTgt spid="123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78" fill="hold">
                            <p:stCondLst>
                              <p:cond delay="10003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81" dur="1" nodeType="afterEffect" fill="hold">
                              <p:stCondLst>
                                <p:cond evt="end">
                                  <p:tn val="378"/>
                                </p:cond>
                              </p:stCondLst>
                            </p:cTn>
                            <p:tgtEl>
                              <p:spTgt spid="123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82" fill="hold">
                            <p:stCondLst>
                              <p:cond delay="12004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85" dur="1" nodeType="afterEffect" fill="hold">
                              <p:stCondLst>
                                <p:cond evt="end">
                                  <p:tn val="382"/>
                                </p:cond>
                              </p:stCondLst>
                            </p:cTn>
                            <p:tgtEl>
                              <p:spTgt spid="123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86" fill="hold">
                            <p:stCondLst>
                              <p:cond delay="14005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89" dur="1" nodeType="afterEffect" fill="hold">
                              <p:stCondLst>
                                <p:cond evt="end">
                                  <p:tn val="386"/>
                                </p:cond>
                              </p:stCondLst>
                            </p:cTn>
                            <p:tgtEl>
                              <p:spTgt spid="123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 déploiemen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vrables fin 2005 – début 200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Éléments pour construire une aide au basculement des autres servic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éthodes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formation &amp; formation des RSI-RMSI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ogramme de formation nationau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mat de docum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istribution personnalisée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ans un cadre politique MAAPR clarifié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ontexte de l’Accord entreprise actu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RION et serveur Open Off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ministéri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1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96" dur="1" nodeType="clickEffect" fill="hold">
                              <p:stCondLst>
                                <p:cond evt="end">
                                  <p:tn val="393"/>
                                </p:cond>
                              </p:stCondLst>
                            </p:cTn>
                            <p:tgtEl>
                              <p:spTgt spid="125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00" dur="1" nodeType="afterEffect" fill="hold">
                              <p:stCondLst>
                                <p:cond evt="end">
                                  <p:tn val="397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04" dur="1" nodeType="afterEffect" fill="hold">
                              <p:stCondLst>
                                <p:cond evt="end">
                                  <p:tn val="401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05" fill="hold">
                            <p:stCondLst>
                              <p:cond delay="6001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08" dur="1" nodeType="afterEffect" fill="hold">
                              <p:stCondLst>
                                <p:cond evt="end">
                                  <p:tn val="405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09" fill="hold">
                            <p:stCondLst>
                              <p:cond delay="8002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12" dur="1" nodeType="afterEffect" fill="hold">
                              <p:stCondLst>
                                <p:cond evt="end">
                                  <p:tn val="409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13" fill="hold">
                            <p:stCondLst>
                              <p:cond delay="10003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16" dur="1" nodeType="afterEffect" fill="hold">
                              <p:stCondLst>
                                <p:cond evt="end">
                                  <p:tn val="413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17" fill="hold">
                            <p:stCondLst>
                              <p:cond delay="12004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20" dur="1" nodeType="afterEffect" fill="hold">
                              <p:stCondLst>
                                <p:cond evt="end">
                                  <p:tn val="417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21" fill="hold">
                            <p:stCondLst>
                              <p:cond delay="14005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24" dur="1" nodeType="afterEffect" fill="hold">
                              <p:stCondLst>
                                <p:cond evt="end">
                                  <p:tn val="421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25" fill="hold">
                            <p:stCondLst>
                              <p:cond delay="16006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28" dur="1" nodeType="afterEffect" fill="hold">
                              <p:stCondLst>
                                <p:cond evt="end">
                                  <p:tn val="425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7" end="7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29" fill="hold">
                            <p:stCondLst>
                              <p:cond delay="18008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32" dur="1" nodeType="afterEffect" fill="hold">
                              <p:stCondLst>
                                <p:cond evt="end">
                                  <p:tn val="429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8" end="8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33" fill="hold">
                            <p:stCondLst>
                              <p:cond delay="20009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36" dur="1" nodeType="afterEffect" fill="hold">
                              <p:stCondLst>
                                <p:cond evt="end">
                                  <p:tn val="433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9" end="9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37" fill="hold">
                            <p:stCondLst>
                              <p:cond delay="2201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40" dur="1" nodeType="afterEffect" fill="hold">
                              <p:stCondLst>
                                <p:cond evt="end">
                                  <p:tn val="437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10" end="1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41" fill="hold">
                            <p:stCondLst>
                              <p:cond delay="24011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44" dur="1" nodeType="afterEffect" fill="hold">
                              <p:stCondLst>
                                <p:cond evt="end">
                                  <p:tn val="441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11" end="1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45" fill="hold">
                            <p:stCondLst>
                              <p:cond delay="26012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48" dur="1" nodeType="afterEffect" fill="hold">
                              <p:stCondLst>
                                <p:cond evt="end">
                                  <p:tn val="445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12" end="1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49" fill="hold">
                            <p:stCondLst>
                              <p:cond delay="28013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52" dur="1" nodeType="afterEffect" fill="hold">
                              <p:stCondLst>
                                <p:cond evt="end">
                                  <p:tn val="449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13" end="1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éparation du projet : Jusqu’à Ju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ation du C1 : Septem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lan C1 &amp; C2 : Décembre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écision &amp; Communication : Janvier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ise en œuvre d’un basculement : Mars 2006 – Décembre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59" dur="1" nodeType="clickEffect" fill="hold">
                              <p:stCondLst>
                                <p:cond evt="end">
                                  <p:tn val="456"/>
                                </p:cond>
                              </p:stCondLst>
                            </p:cTn>
                            <p:tgtEl>
                              <p:spTgt spid="127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63" dur="1" nodeType="afterEffect" fill="hold">
                              <p:stCondLst>
                                <p:cond evt="end">
                                  <p:tn val="460"/>
                                </p:cond>
                              </p:stCondLst>
                            </p:cTn>
                            <p:tgtEl>
                              <p:spTgt spid="127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67" dur="1" nodeType="afterEffect" fill="hold">
                              <p:stCondLst>
                                <p:cond evt="end">
                                  <p:tn val="464"/>
                                </p:cond>
                              </p:stCondLst>
                            </p:cTn>
                            <p:tgtEl>
                              <p:spTgt spid="127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68" fill="hold">
                            <p:stCondLst>
                              <p:cond delay="6001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71" dur="1" nodeType="afterEffect" fill="hold">
                              <p:stCondLst>
                                <p:cond evt="end">
                                  <p:tn val="468"/>
                                </p:cond>
                              </p:stCondLst>
                            </p:cTn>
                            <p:tgtEl>
                              <p:spTgt spid="127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72" fill="hold">
                            <p:stCondLst>
                              <p:cond delay="8002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75" dur="1" nodeType="afterEffect" fill="hold">
                              <p:stCondLst>
                                <p:cond evt="end">
                                  <p:tn val="472"/>
                                </p:cond>
                              </p:stCondLst>
                            </p:cTn>
                            <p:tgtEl>
                              <p:spTgt spid="127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76" fill="hold">
                            <p:stCondLst>
                              <p:cond delay="10003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79" dur="1" nodeType="afterEffect" fill="hold">
                              <p:stCondLst>
                                <p:cond evt="end">
                                  <p:tn val="476"/>
                                </p:cond>
                              </p:stCondLst>
                            </p:cTn>
                            <p:tgtEl>
                              <p:spTgt spid="127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80" fill="hold">
                            <p:stCondLst>
                              <p:cond delay="12004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83" dur="1" nodeType="afterEffect" fill="hold">
                              <p:stCondLst>
                                <p:cond evt="end">
                                  <p:tn val="480"/>
                                </p:cond>
                              </p:stCondLst>
                            </p:cTn>
                            <p:tgtEl>
                              <p:spTgt spid="127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84" fill="hold">
                            <p:stCondLst>
                              <p:cond delay="14005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87" dur="1" nodeType="afterEffect" fill="hold">
                              <p:stCondLst>
                                <p:cond evt="end">
                                  <p:tn val="484"/>
                                </p:cond>
                              </p:stCondLst>
                            </p:cTn>
                            <p:tgtEl>
                              <p:spTgt spid="127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6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ib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 algn="ctr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us les postes équipés de la suite Open Office le 31 / 12 /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94" dur="1" nodeType="clickEffect" fill="hold">
                              <p:stCondLst>
                                <p:cond evt="end">
                                  <p:tn val="491"/>
                                </p:cond>
                              </p:stCondLst>
                            </p:cTn>
                            <p:tgtEl>
                              <p:spTgt spid="129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98" dur="1" nodeType="afterEffect" fill="hold">
                              <p:stCondLst>
                                <p:cond evt="end">
                                  <p:tn val="495"/>
                                </p:cond>
                              </p:stCondLst>
                            </p:cTn>
                            <p:tgtEl>
                              <p:spTgt spid="129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502" dur="1" nodeType="afterEffect" fill="hold">
                              <p:stCondLst>
                                <p:cond evt="end">
                                  <p:tn val="499"/>
                                </p:cond>
                              </p:stCondLst>
                            </p:cTn>
                            <p:tgtEl>
                              <p:spTgt spid="129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503" fill="hold">
                            <p:stCondLst>
                              <p:cond delay="6001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506" dur="1" nodeType="afterEffect" fill="hold">
                              <p:stCondLst>
                                <p:cond evt="end">
                                  <p:tn val="503"/>
                                </p:cond>
                              </p:stCondLst>
                            </p:cTn>
                            <p:tgtEl>
                              <p:spTgt spid="129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507" fill="hold">
                            <p:stCondLst>
                              <p:cond delay="8002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510" dur="1" nodeType="afterEffect" fill="hold">
                              <p:stCondLst>
                                <p:cond evt="end">
                                  <p:tn val="507"/>
                                </p:cond>
                              </p:stCondLst>
                            </p:cTn>
                            <p:tgtEl>
                              <p:spTgt spid="129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511" fill="hold">
                            <p:stCondLst>
                              <p:cond delay="10003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514" dur="1" nodeType="afterEffect" fill="hold">
                              <p:stCondLst>
                                <p:cond evt="end">
                                  <p:tn val="511"/>
                                </p:cond>
                              </p:stCondLst>
                            </p:cTn>
                            <p:tgtEl>
                              <p:spTgt spid="129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6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ncement d’une expérimentation grandeur réel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40 utilisateurs concern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surer les conséquences d’un déploiement généralis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ttre en situation réelle un service déconcentr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380360" y="1052640"/>
            <a:ext cx="1380960" cy="1038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54720" y="955800"/>
            <a:ext cx="946080" cy="116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6" dur="1" nodeType="clickEffect" fill="hold">
                              <p:stCondLst>
                                <p:cond evt="end">
                                  <p:tn val="23"/>
                                </p:cond>
                              </p:stCondLst>
                            </p:cTn>
                            <p:tgtEl>
                              <p:spTgt spid="103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0" dur="1" nodeType="afterEffect" fill="hold">
                              <p:stCondLst>
                                <p:cond evt="end">
                                  <p:tn val="27"/>
                                </p:cond>
                              </p:stCondLst>
                            </p:cTn>
                            <p:tgtEl>
                              <p:spTgt spid="103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4" dur="1" nodeType="afterEffect" fill="hold">
                              <p:stCondLst>
                                <p:cond evt="end">
                                  <p:tn val="31"/>
                                </p:cond>
                              </p:stCondLst>
                            </p:cTn>
                            <p:tgtEl>
                              <p:spTgt spid="103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5" fill="hold">
                            <p:stCondLst>
                              <p:cond delay="6001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8" dur="1" nodeType="afterEffect" fill="hold">
                              <p:stCondLst>
                                <p:cond evt="end">
                                  <p:tn val="35"/>
                                </p:cond>
                              </p:stCondLst>
                            </p:cTn>
                            <p:tgtEl>
                              <p:spTgt spid="103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9" fill="hold">
                            <p:stCondLst>
                              <p:cond delay="8002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2" dur="1" nodeType="afterEffect" fill="hold">
                              <p:stCondLst>
                                <p:cond evt="end">
                                  <p:tn val="39"/>
                                </p:cond>
                              </p:stCondLst>
                            </p:cTn>
                            <p:tgtEl>
                              <p:spTgt spid="103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3" fill="hold">
                            <p:stCondLst>
                              <p:cond delay="10003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6" dur="1" nodeType="afterEffect" fill="hold">
                              <p:stCondLst>
                                <p:cond evt="end">
                                  <p:tn val="43"/>
                                </p:cond>
                              </p:stCondLst>
                            </p:cTn>
                            <p:tgtEl>
                              <p:spTgt spid="103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7" fill="hold">
                            <p:stCondLst>
                              <p:cond delay="12004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50" dur="1" nodeType="afterEffect" fill="hold">
                              <p:stCondLst>
                                <p:cond evt="end">
                                  <p:tn val="47"/>
                                </p:cond>
                              </p:stCondLst>
                            </p:cTn>
                            <p:tgtEl>
                              <p:spTgt spid="103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51" fill="hold">
                            <p:stCondLst>
                              <p:cond delay="14005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54" dur="1" nodeType="afterEffect" fill="hold">
                              <p:stCondLst>
                                <p:cond evt="end">
                                  <p:tn val="51"/>
                                </p:cond>
                              </p:stCondLst>
                            </p:cTn>
                            <p:tgtEl>
                              <p:spTgt spid="103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4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texte de l’expéri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ptembre 2003 -&gt; Avril 2004 : 8 mo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écédents tests peu concluant sur Star Off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compagnement financier de l’AC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mation (Société Eikone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nouvellement parc informat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se en œuvre d’un serveur bureaut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nforcement de l’équipe informat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éploiement matéri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tien aux utilisateu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61" dur="1" nodeType="clickEffect" fill="hold">
                              <p:stCondLst>
                                <p:cond evt="end">
                                  <p:tn val="58"/>
                                </p:cond>
                              </p:stCondLst>
                            </p:cTn>
                            <p:tgtEl>
                              <p:spTgt spid="107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65" dur="1" nodeType="afterEffect" fill="hold">
                              <p:stCondLst>
                                <p:cond evt="end">
                                  <p:tn val="62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69" dur="1" nodeType="afterEffect" fill="hold">
                              <p:stCondLst>
                                <p:cond evt="end">
                                  <p:tn val="66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70" fill="hold">
                            <p:stCondLst>
                              <p:cond delay="6001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73" dur="1" nodeType="afterEffect" fill="hold">
                              <p:stCondLst>
                                <p:cond evt="end">
                                  <p:tn val="70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74" fill="hold">
                            <p:stCondLst>
                              <p:cond delay="8002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77" dur="1" nodeType="afterEffect" fill="hold">
                              <p:stCondLst>
                                <p:cond evt="end">
                                  <p:tn val="74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78" fill="hold">
                            <p:stCondLst>
                              <p:cond delay="10003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81" dur="1" nodeType="afterEffect" fill="hold">
                              <p:stCondLst>
                                <p:cond evt="end">
                                  <p:tn val="78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82" fill="hold">
                            <p:stCondLst>
                              <p:cond delay="12004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85" dur="1" nodeType="afterEffect" fill="hold">
                              <p:stCondLst>
                                <p:cond evt="end">
                                  <p:tn val="82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86" fill="hold">
                            <p:stCondLst>
                              <p:cond delay="14005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89" dur="1" nodeType="afterEffect" fill="hold">
                              <p:stCondLst>
                                <p:cond evt="end">
                                  <p:tn val="86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90" fill="hold">
                            <p:stCondLst>
                              <p:cond delay="16006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93" dur="1" nodeType="afterEffect" fill="hold">
                              <p:stCondLst>
                                <p:cond evt="end">
                                  <p:tn val="90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7" end="7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94" fill="hold">
                            <p:stCondLst>
                              <p:cond delay="18008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97" dur="1" nodeType="afterEffect" fill="hold">
                              <p:stCondLst>
                                <p:cond evt="end">
                                  <p:tn val="94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8" end="8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98" fill="hold">
                            <p:stCondLst>
                              <p:cond delay="20009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01" dur="1" nodeType="afterEffect" fill="hold">
                              <p:stCondLst>
                                <p:cond evt="end">
                                  <p:tn val="98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9" end="9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02" fill="hold">
                            <p:stCondLst>
                              <p:cond delay="2201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05" dur="1" nodeType="afterEffect" fill="hold">
                              <p:stCondLst>
                                <p:cond evt="end">
                                  <p:tn val="102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10" end="1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 proj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quête sur le niveau de formation initial des utilisate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ation de formateurs et des expérimentate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ise en œuvre d’une assistance (Appui, FAQ, et soutien physiq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s deux suites sont laissées sur le po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avail sur les formats de doc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12" dur="1" nodeType="clickEffect" fill="hold">
                              <p:stCondLst>
                                <p:cond evt="end">
                                  <p:tn val="109"/>
                                </p:cond>
                              </p:stCondLst>
                            </p:cTn>
                            <p:tgtEl>
                              <p:spTgt spid="109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16" dur="1" nodeType="afterEffect" fill="hold">
                              <p:stCondLst>
                                <p:cond evt="end">
                                  <p:tn val="113"/>
                                </p:cond>
                              </p:stCondLst>
                            </p:cTn>
                            <p:tgtEl>
                              <p:spTgt spid="109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20" dur="1" nodeType="afterEffect" fill="hold">
                              <p:stCondLst>
                                <p:cond evt="end">
                                  <p:tn val="117"/>
                                </p:cond>
                              </p:stCondLst>
                            </p:cTn>
                            <p:tgtEl>
                              <p:spTgt spid="109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21" fill="hold">
                            <p:stCondLst>
                              <p:cond delay="6001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24" dur="1" nodeType="afterEffect" fill="hold">
                              <p:stCondLst>
                                <p:cond evt="end">
                                  <p:tn val="121"/>
                                </p:cond>
                              </p:stCondLst>
                            </p:cTn>
                            <p:tgtEl>
                              <p:spTgt spid="109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25" fill="hold">
                            <p:stCondLst>
                              <p:cond delay="8002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28" dur="1" nodeType="afterEffect" fill="hold">
                              <p:stCondLst>
                                <p:cond evt="end">
                                  <p:tn val="125"/>
                                </p:cond>
                              </p:stCondLst>
                            </p:cTn>
                            <p:tgtEl>
                              <p:spTgt spid="109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29" fill="hold">
                            <p:stCondLst>
                              <p:cond delay="10003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32" dur="1" nodeType="afterEffect" fill="hold">
                              <p:stCondLst>
                                <p:cond evt="end">
                                  <p:tn val="129"/>
                                </p:cond>
                              </p:stCondLst>
                            </p:cTn>
                            <p:tgtEl>
                              <p:spTgt spid="109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33" fill="hold">
                            <p:stCondLst>
                              <p:cond delay="12004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36" dur="1" nodeType="afterEffect" fill="hold">
                              <p:stCondLst>
                                <p:cond evt="end">
                                  <p:tn val="133"/>
                                </p:cond>
                              </p:stCondLst>
                            </p:cTn>
                            <p:tgtEl>
                              <p:spTgt spid="109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37" fill="hold">
                            <p:stCondLst>
                              <p:cond delay="14005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40" dur="1" nodeType="afterEffect" fill="hold">
                              <p:stCondLst>
                                <p:cond evt="end">
                                  <p:tn val="137"/>
                                </p:cond>
                              </p:stCondLst>
                            </p:cTn>
                            <p:tgtEl>
                              <p:spTgt spid="109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41" fill="hold">
                            <p:stCondLst>
                              <p:cond delay="16006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44" dur="1" nodeType="afterEffect" fill="hold">
                              <p:stCondLst>
                                <p:cond evt="end">
                                  <p:tn val="141"/>
                                </p:cond>
                              </p:stCondLst>
                            </p:cTn>
                            <p:tgtEl>
                              <p:spTgt spid="109">
                                <p:txEl>
                                  <p:pRg st="7" end="7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4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6320" indent="-5263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st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35160" indent="-4525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s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pplications nationales sont liées à Ms Offic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62% de postes équipés de MS Office comme outil d’éditiq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35160" indent="-4525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elques applications spécifiques nécessitant MS Excel (domaine statistique p. ex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35160" indent="-4525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ntiments utilisateu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47840"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ès légère dégradation / Office 97 (n’empêche pas le fonctionnem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47840"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ccepter d’avoir un parc hétérogène (et OO et Offic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47840"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nt eu l’occasion à nouveau de se form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35160" indent="-4525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mplication importante du comité de direction dans la démar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51" dur="1" nodeType="clickEffect" fill="hold">
                              <p:stCondLst>
                                <p:cond evt="end">
                                  <p:tn val="148"/>
                                </p:cond>
                              </p:stCondLst>
                            </p:cTn>
                            <p:tgtEl>
                              <p:spTgt spid="111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55" dur="1" nodeType="afterEffect" fill="hold">
                              <p:stCondLst>
                                <p:cond evt="end">
                                  <p:tn val="152"/>
                                </p:cond>
                              </p:stCondLst>
                            </p:cTn>
                            <p:tgtEl>
                              <p:spTgt spid="111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59" dur="1" nodeType="afterEffect" fill="hold">
                              <p:stCondLst>
                                <p:cond evt="end">
                                  <p:tn val="156"/>
                                </p:cond>
                              </p:stCondLst>
                            </p:cTn>
                            <p:tgtEl>
                              <p:spTgt spid="111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60" fill="hold">
                            <p:stCondLst>
                              <p:cond delay="6001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63" dur="1" nodeType="afterEffect" fill="hold">
                              <p:stCondLst>
                                <p:cond evt="end">
                                  <p:tn val="160"/>
                                </p:cond>
                              </p:stCondLst>
                            </p:cTn>
                            <p:tgtEl>
                              <p:spTgt spid="111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64" fill="hold">
                            <p:stCondLst>
                              <p:cond delay="8002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67" dur="1" nodeType="afterEffect" fill="hold">
                              <p:stCondLst>
                                <p:cond evt="end">
                                  <p:tn val="164"/>
                                </p:cond>
                              </p:stCondLst>
                            </p:cTn>
                            <p:tgtEl>
                              <p:spTgt spid="111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68" fill="hold">
                            <p:stCondLst>
                              <p:cond delay="10003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71" dur="1" nodeType="afterEffect" fill="hold">
                              <p:stCondLst>
                                <p:cond evt="end">
                                  <p:tn val="168"/>
                                </p:cond>
                              </p:stCondLst>
                            </p:cTn>
                            <p:tgtEl>
                              <p:spTgt spid="111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72" fill="hold">
                            <p:stCondLst>
                              <p:cond delay="12004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75" dur="1" nodeType="afterEffect" fill="hold">
                              <p:stCondLst>
                                <p:cond evt="end">
                                  <p:tn val="172"/>
                                </p:cond>
                              </p:stCondLst>
                            </p:cTn>
                            <p:tgtEl>
                              <p:spTgt spid="111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76" fill="hold">
                            <p:stCondLst>
                              <p:cond delay="14005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79" dur="1" nodeType="afterEffect" fill="hold">
                              <p:stCondLst>
                                <p:cond evt="end">
                                  <p:tn val="176"/>
                                </p:cond>
                              </p:stCondLst>
                            </p:cTn>
                            <p:tgtEl>
                              <p:spTgt spid="111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80" fill="hold">
                            <p:stCondLst>
                              <p:cond delay="16006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83" dur="1" nodeType="afterEffect" fill="hold">
                              <p:stCondLst>
                                <p:cond evt="end">
                                  <p:tn val="180"/>
                                </p:cond>
                              </p:stCondLst>
                            </p:cTn>
                            <p:tgtEl>
                              <p:spTgt spid="111">
                                <p:txEl>
                                  <p:pRg st="7" end="7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384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st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ormat de fich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tilisation du PDF dès que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tilisation du format .doc en pivot des é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égrité des échang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elques soucis (graphiques, modèle de docu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nstat global posi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90" dur="1" nodeType="clickEffect" fill="hold">
                              <p:stCondLst>
                                <p:cond evt="end">
                                  <p:tn val="187"/>
                                </p:cond>
                              </p:stCondLst>
                            </p:cTn>
                            <p:tgtEl>
                              <p:spTgt spid="113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94" dur="1" nodeType="afterEffect" fill="hold">
                              <p:stCondLst>
                                <p:cond evt="end">
                                  <p:tn val="191"/>
                                </p:cond>
                              </p:stCondLst>
                            </p:cTn>
                            <p:tgtEl>
                              <p:spTgt spid="113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98" dur="1" nodeType="afterEffect" fill="hold">
                              <p:stCondLst>
                                <p:cond evt="end">
                                  <p:tn val="195"/>
                                </p:cond>
                              </p:stCondLst>
                            </p:cTn>
                            <p:tgtEl>
                              <p:spTgt spid="113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99" fill="hold">
                            <p:stCondLst>
                              <p:cond delay="6001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02" dur="1" nodeType="afterEffect" fill="hold">
                              <p:stCondLst>
                                <p:cond evt="end">
                                  <p:tn val="199"/>
                                </p:cond>
                              </p:stCondLst>
                            </p:cTn>
                            <p:tgtEl>
                              <p:spTgt spid="113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03" fill="hold">
                            <p:stCondLst>
                              <p:cond delay="8002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06" dur="1" nodeType="afterEffect" fill="hold">
                              <p:stCondLst>
                                <p:cond evt="end">
                                  <p:tn val="203"/>
                                </p:cond>
                              </p:stCondLst>
                            </p:cTn>
                            <p:tgtEl>
                              <p:spTgt spid="113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07" fill="hold">
                            <p:stCondLst>
                              <p:cond delay="10003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10" dur="1" nodeType="afterEffect" fill="hold">
                              <p:stCondLst>
                                <p:cond evt="end">
                                  <p:tn val="207"/>
                                </p:cond>
                              </p:stCondLst>
                            </p:cTn>
                            <p:tgtEl>
                              <p:spTgt spid="113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11" fill="hold">
                            <p:stCondLst>
                              <p:cond delay="12004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14" dur="1" nodeType="afterEffect" fill="hold">
                              <p:stCondLst>
                                <p:cond evt="end">
                                  <p:tn val="211"/>
                                </p:cond>
                              </p:stCondLst>
                            </p:cTn>
                            <p:tgtEl>
                              <p:spTgt spid="113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15" fill="hold">
                            <p:stCondLst>
                              <p:cond delay="14005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18" dur="1" nodeType="afterEffect" fill="hold">
                              <p:stCondLst>
                                <p:cond evt="end">
                                  <p:tn val="215"/>
                                </p:cond>
                              </p:stCondLst>
                            </p:cTn>
                            <p:tgtEl>
                              <p:spTgt spid="113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19" fill="hold">
                            <p:stCondLst>
                              <p:cond delay="16006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22" dur="1" nodeType="afterEffect" fill="hold">
                              <p:stCondLst>
                                <p:cond evt="end">
                                  <p:tn val="219"/>
                                </p:cond>
                              </p:stCondLst>
                            </p:cTn>
                            <p:tgtEl>
                              <p:spTgt spid="113">
                                <p:txEl>
                                  <p:pRg st="7" end="7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 suite des travau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idation d’une extension de l’expérimentation à la DGA : Accord du Directeur général de l’admini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ison du choix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u d’applications nationales impactant le poste de trav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nvoi de documents aux services =  opportunité de travailler sur les formats de documents à utilis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29" dur="1" nodeType="clickEffect" fill="hold">
                              <p:stCondLst>
                                <p:cond evt="end">
                                  <p:tn val="226"/>
                                </p:cond>
                              </p:stCondLst>
                            </p:cTn>
                            <p:tgtEl>
                              <p:spTgt spid="115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33" dur="1" nodeType="afterEffect" fill="hold">
                              <p:stCondLst>
                                <p:cond evt="end">
                                  <p:tn val="230"/>
                                </p:cond>
                              </p:stCondLst>
                            </p:cTn>
                            <p:tgtEl>
                              <p:spTgt spid="115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37" dur="1" nodeType="afterEffect" fill="hold">
                              <p:stCondLst>
                                <p:cond evt="end">
                                  <p:tn val="234"/>
                                </p:cond>
                              </p:stCondLst>
                            </p:cTn>
                            <p:tgtEl>
                              <p:spTgt spid="115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38" fill="hold">
                            <p:stCondLst>
                              <p:cond delay="6001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41" dur="1" nodeType="afterEffect" fill="hold">
                              <p:stCondLst>
                                <p:cond evt="end">
                                  <p:tn val="238"/>
                                </p:cond>
                              </p:stCondLst>
                            </p:cTn>
                            <p:tgtEl>
                              <p:spTgt spid="115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42" fill="hold">
                            <p:stCondLst>
                              <p:cond delay="8002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45" dur="1" nodeType="afterEffect" fill="hold">
                              <p:stCondLst>
                                <p:cond evt="end">
                                  <p:tn val="242"/>
                                </p:cond>
                              </p:stCondLst>
                            </p:cTn>
                            <p:tgtEl>
                              <p:spTgt spid="115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46" fill="hold">
                            <p:stCondLst>
                              <p:cond delay="10003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49" dur="1" nodeType="afterEffect" fill="hold">
                              <p:stCondLst>
                                <p:cond evt="end">
                                  <p:tn val="246"/>
                                </p:cond>
                              </p:stCondLst>
                            </p:cTn>
                            <p:tgtEl>
                              <p:spTgt spid="115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50" fill="hold">
                            <p:stCondLst>
                              <p:cond delay="12004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53" dur="1" nodeType="afterEffect" fill="hold">
                              <p:stCondLst>
                                <p:cond evt="end">
                                  <p:tn val="250"/>
                                </p:cond>
                              </p:stCondLst>
                            </p:cTn>
                            <p:tgtEl>
                              <p:spTgt spid="115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54" fill="hold">
                            <p:stCondLst>
                              <p:cond delay="14005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57" dur="1" nodeType="afterEffect" fill="hold">
                              <p:stCondLst>
                                <p:cond evt="end">
                                  <p:tn val="254"/>
                                </p:cond>
                              </p:stCondLst>
                            </p:cTn>
                            <p:tgtEl>
                              <p:spTgt spid="115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bjectifs poursuivi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vaincre les membres du comité de direction en associant leurs utilisateurs 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fiter de cette extension pour consolider les méthodes d’accompagnement du changement  qui seront fournies aux autres services 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Être exemplaire par rapport aux autres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écifier les formats de documents précis à utili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éduction de la charge « licences » à service équival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64" dur="1" nodeType="clickEffect" fill="hold">
                              <p:stCondLst>
                                <p:cond evt="end">
                                  <p:tn val="261"/>
                                </p:cond>
                              </p:stCondLst>
                            </p:cTn>
                            <p:tgtEl>
                              <p:spTgt spid="117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68" dur="1" nodeType="afterEffect" fill="hold">
                              <p:stCondLst>
                                <p:cond evt="end">
                                  <p:tn val="265"/>
                                </p:cond>
                              </p:stCondLst>
                            </p:cTn>
                            <p:tgtEl>
                              <p:spTgt spid="117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72" dur="1" nodeType="afterEffect" fill="hold">
                              <p:stCondLst>
                                <p:cond evt="end">
                                  <p:tn val="269"/>
                                </p:cond>
                              </p:stCondLst>
                            </p:cTn>
                            <p:tgtEl>
                              <p:spTgt spid="117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73" fill="hold">
                            <p:stCondLst>
                              <p:cond delay="6001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76" dur="1" nodeType="afterEffect" fill="hold">
                              <p:stCondLst>
                                <p:cond evt="end">
                                  <p:tn val="273"/>
                                </p:cond>
                              </p:stCondLst>
                            </p:cTn>
                            <p:tgtEl>
                              <p:spTgt spid="117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77" fill="hold">
                            <p:stCondLst>
                              <p:cond delay="8002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80" dur="1" nodeType="afterEffect" fill="hold">
                              <p:stCondLst>
                                <p:cond evt="end">
                                  <p:tn val="277"/>
                                </p:cond>
                              </p:stCondLst>
                            </p:cTn>
                            <p:tgtEl>
                              <p:spTgt spid="117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81" fill="hold">
                            <p:stCondLst>
                              <p:cond delay="10003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84" dur="1" nodeType="afterEffect" fill="hold">
                              <p:stCondLst>
                                <p:cond evt="end">
                                  <p:tn val="281"/>
                                </p:cond>
                              </p:stCondLst>
                            </p:cTn>
                            <p:tgtEl>
                              <p:spTgt spid="117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85" fill="hold">
                            <p:stCondLst>
                              <p:cond delay="12004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88" dur="1" nodeType="afterEffect" fill="hold">
                              <p:stCondLst>
                                <p:cond evt="end">
                                  <p:tn val="285"/>
                                </p:cond>
                              </p:stCondLst>
                            </p:cTn>
                            <p:tgtEl>
                              <p:spTgt spid="117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89" fill="hold">
                            <p:stCondLst>
                              <p:cond delay="14005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92" dur="1" nodeType="afterEffect" fill="hold">
                              <p:stCondLst>
                                <p:cond evt="end">
                                  <p:tn val="289"/>
                                </p:cond>
                              </p:stCondLst>
                            </p:cTn>
                            <p:tgtEl>
                              <p:spTgt spid="117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93" fill="hold">
                            <p:stCondLst>
                              <p:cond delay="16006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96" dur="1" nodeType="afterEffect" fill="hold">
                              <p:stCondLst>
                                <p:cond evt="end">
                                  <p:tn val="293"/>
                                </p:cond>
                              </p:stCondLst>
                            </p:cTn>
                            <p:tgtEl>
                              <p:spTgt spid="117">
                                <p:txEl>
                                  <p:pRg st="7" end="7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310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 déploi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ercle :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SDDPRS / FORMCO) + (SDLP-BML) + (SDSI / CISI + Dire. &amp; MSDNSI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usqu’à 100 utilisateurs potenti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pen office constitue l’outil bureautique quotidi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03" dur="1" nodeType="clickEffect" fill="hold">
                              <p:stCondLst>
                                <p:cond evt="end">
                                  <p:tn val="300"/>
                                </p:cond>
                              </p:stCondLst>
                            </p:cTn>
                            <p:tgtEl>
                              <p:spTgt spid="119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07" dur="1" nodeType="afterEffect" fill="hold">
                              <p:stCondLst>
                                <p:cond evt="end">
                                  <p:tn val="304"/>
                                </p:cond>
                              </p:stCondLst>
                            </p:cTn>
                            <p:tgtEl>
                              <p:spTgt spid="119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11" dur="1" nodeType="afterEffect" fill="hold">
                              <p:stCondLst>
                                <p:cond evt="end">
                                  <p:tn val="308"/>
                                </p:cond>
                              </p:stCondLst>
                            </p:cTn>
                            <p:tgtEl>
                              <p:spTgt spid="119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12" fill="hold">
                            <p:stCondLst>
                              <p:cond delay="6001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15" dur="1" nodeType="afterEffect" fill="hold">
                              <p:stCondLst>
                                <p:cond evt="end">
                                  <p:tn val="312"/>
                                </p:cond>
                              </p:stCondLst>
                            </p:cTn>
                            <p:tgtEl>
                              <p:spTgt spid="119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16" fill="hold">
                            <p:stCondLst>
                              <p:cond delay="8002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19" dur="1" nodeType="afterEffect" fill="hold">
                              <p:stCondLst>
                                <p:cond evt="end">
                                  <p:tn val="316"/>
                                </p:cond>
                              </p:stCondLst>
                            </p:cTn>
                            <p:tgtEl>
                              <p:spTgt spid="119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20" fill="hold">
                            <p:stCondLst>
                              <p:cond delay="10003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23" dur="1" nodeType="afterEffect" fill="hold">
                              <p:stCondLst>
                                <p:cond evt="end">
                                  <p:tn val="320"/>
                                </p:cond>
                              </p:stCondLst>
                            </p:cTn>
                            <p:tgtEl>
                              <p:spTgt spid="119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24" fill="hold">
                            <p:stCondLst>
                              <p:cond delay="12004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27" dur="1" nodeType="afterEffect" fill="hold">
                              <p:stCondLst>
                                <p:cond evt="end">
                                  <p:tn val="324"/>
                                </p:cond>
                              </p:stCondLst>
                            </p:cTn>
                            <p:tgtEl>
                              <p:spTgt spid="119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28" fill="hold">
                            <p:stCondLst>
                              <p:cond delay="14005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31" dur="1" nodeType="afterEffect" fill="hold">
                              <p:stCondLst>
                                <p:cond evt="end">
                                  <p:tn val="328"/>
                                </p:cond>
                              </p:stCondLst>
                            </p:cTn>
                            <p:tgtEl>
                              <p:spTgt spid="119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el MEYER</cp:lastModifiedBy>
  <dcterms:modified xsi:type="dcterms:W3CDTF">2005-03-09T21:12:41Z</dcterms:modified>
  <cp:revision>4</cp:revision>
  <dc:subject/>
  <dc:title>La suite bureautique du MAAPR</dc:title>
</cp:coreProperties>
</file>