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5300-EA1B-4D72-B8BD-E237CAE5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0397-99FC-4D37-B2DE-8CBA6281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0A01-B6CA-4462-9E0E-1155FD15A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3C6D-056D-4CAF-804A-8660B0B8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FEA8-3999-40A6-9201-874573BC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27E2-BAA2-421F-9634-2F98F794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0637-1B46-47F8-BA21-8BFD4EB0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F7B8-0CF2-4ADA-A456-43B9B2A9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104F-B4FB-4719-A122-5BAEC198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4905-4A57-4B0C-82FC-E5FFC3F1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4862-4A33-4904-8C9B-551311A9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B8B5-2AA0-483F-834B-3C30B4EF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A5A4-0152-4EF3-9431-C5AC7A959C6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8:39:34Z</dcterms:created>
  <dc:creator>Wolfram Garten</dc:creator>
  <dc:description/>
  <dc:language>en-US</dc:language>
  <cp:lastModifiedBy>Wolfram Garten</cp:lastModifiedBy>
  <dcterms:modified xsi:type="dcterms:W3CDTF">2005-01-13T08:39:49Z</dcterms:modified>
  <cp:revision>1</cp:revision>
  <dc:subject/>
  <dc:title>Slide 1</dc:title>
</cp:coreProperties>
</file>