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BFD-98D0-49A3-9901-82A179D0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4E1-3035-4E55-9D0E-83EF6FF9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4D1-BE7A-4345-A7EC-280D2417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1D7-BBD2-4720-9329-2EA79060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4BF-D076-4F9C-A7A4-6CD3D24C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EEE-1C41-4314-921E-8C33C303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846-5481-41DB-AC91-0E7C6713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E0E-9CCA-4D89-86A0-D7ACCEAB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E07-47B0-433B-A2CD-55327AAF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43E-39CE-480E-A0BB-28C90E0A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68B-B043-4428-8C58-ECE608F8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A74-40B7-4618-8ABF-D7C6D9C3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D46E-DA1A-4434-BD14-C3BCF5FB8B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914400"/>
          <a:ext cx="8534160" cy="5025960"/>
        </p:xfrm>
        <a:graphic>
          <a:graphicData uri="http://schemas.openxmlformats.org/drawingml/2006/table">
            <a:tbl>
              <a:tblPr/>
              <a:tblGrid>
                <a:gridCol w="1757160"/>
                <a:gridCol w="4719600"/>
                <a:gridCol w="205740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ea typeface="宋体"/>
                        </a:rPr>
                        <a:t>Shadow &amp; Under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宋体"/>
                        </a:rPr>
                        <a:t>Bull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9999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65% of 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3300"/>
                        </a:buClr>
                        <a:buSzPct val="150000"/>
                        <a:buFont typeface="Wingdings" charset="2"/>
                        <a:buChar char="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150% of 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287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100% of tex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a custom pictu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ertical tex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mboss tex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^C</a:t>
                      </a: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*o</a:t>
                      </a:r>
                      <a:r>
                        <a:rPr b="0" lang="en-US" sz="2800" spc="-1" strike="noStrike">
                          <a:solidFill>
                            <a:srgbClr val="808000"/>
                          </a:solidFill>
                          <a:latin typeface="Arial"/>
                          <a:ea typeface="宋体"/>
                        </a:rPr>
                        <a:t>(l</a:t>
                      </a: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  <a:ea typeface="宋体"/>
                        </a:rPr>
                        <a:t>#o</a:t>
                      </a:r>
                      <a:r>
                        <a:rPr b="0" lang="en-US" sz="2800" spc="-1" strike="noStrike">
                          <a:solidFill>
                            <a:srgbClr val="cc00ff"/>
                          </a:solidFill>
                          <a:latin typeface="Arial"/>
                          <a:ea typeface="宋体"/>
                        </a:rPr>
                        <a:t>$r</a:t>
                      </a:r>
                      <a:r>
                        <a:rPr b="0" lang="en-US" sz="2800" spc="-1" strike="noStrike">
                          <a:solidFill>
                            <a:srgbClr val="ccff33"/>
                          </a:solidFill>
                          <a:latin typeface="Arial"/>
                          <a:ea typeface="宋体"/>
                        </a:rPr>
                        <a:t>7f</a:t>
                      </a:r>
                      <a:r>
                        <a:rPr b="0" lang="en-US" sz="2800" spc="-1" strike="noStrike">
                          <a:solidFill>
                            <a:srgbClr val="00cc00"/>
                          </a:solidFill>
                          <a:latin typeface="Arial"/>
                          <a:ea typeface="宋体"/>
                        </a:rPr>
                        <a:t>4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7800" indent="-5778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宋体"/>
                        </a:rPr>
                        <a:t>Number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7800" indent="-577800">
                        <a:spcBef>
                          <a:spcPts val="400"/>
                        </a:spcBef>
                        <a:buClr>
                          <a:srgbClr val="cc00ff"/>
                        </a:buClr>
                        <a:buSzPct val="20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200% of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7800" indent="-577800">
                        <a:spcBef>
                          <a:spcPts val="1001"/>
                        </a:spcBef>
                        <a:buClr>
                          <a:srgbClr val="cc3300"/>
                        </a:buClr>
                        <a:buSzPct val="50000"/>
                        <a:buFont typeface="Arial"/>
                        <a:buAutoNum type="romanL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50% of tex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7800" indent="-577800">
                        <a:spcBef>
                          <a:spcPts val="1001"/>
                        </a:spcBef>
                        <a:buClr>
                          <a:srgbClr val="99cc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100% of tex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T</a:t>
                      </a:r>
                      <a:r>
                        <a:rPr b="0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  <a:ea typeface="宋体"/>
                        </a:rPr>
                        <a:t>superscri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T</a:t>
                      </a:r>
                      <a:r>
                        <a:rPr b="0" lang="en-US" sz="2800" spc="-1" strike="noStrike" baseline="-25000">
                          <a:solidFill>
                            <a:srgbClr val="006666"/>
                          </a:solidFill>
                          <a:latin typeface="Arial"/>
                          <a:ea typeface="宋体"/>
                        </a:rPr>
                        <a:t>subscri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990720" y="304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Table with texts, please focus on the properties of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5:52:24Z</dcterms:created>
  <dc:creator>Yolanda</dc:creator>
  <dc:description/>
  <dc:language>en-US</dc:language>
  <cp:lastModifiedBy>apple</cp:lastModifiedBy>
  <dcterms:modified xsi:type="dcterms:W3CDTF">2007-10-11T01:41:07Z</dcterms:modified>
  <cp:revision>3</cp:revision>
  <dc:subject/>
  <dc:title>Slide 1</dc:title>
</cp:coreProperties>
</file>