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77436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77436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32160" cy="34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5538960" y="-360"/>
            <a:ext cx="4232160" cy="34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3171960" y="514440"/>
            <a:ext cx="342576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08f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1302840" y="3257280"/>
            <a:ext cx="7164360" cy="3082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6514920"/>
            <a:ext cx="4232160" cy="339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5538960" y="6514920"/>
            <a:ext cx="4232160" cy="339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A847D-50FD-4759-BE7D-1A6F1A80A1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71960" y="514440"/>
            <a:ext cx="34290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61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171960" y="514440"/>
            <a:ext cx="34290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61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2691-6C65-44F9-AEBA-481A77A21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007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19320" y="3685320"/>
            <a:ext cx="7007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B1B6-8C2B-4DD4-94A1-8EF734541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996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3685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09960" y="3685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9111-16CA-4ABF-BA85-E81046037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480" y="1219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8000" y="1219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19320" y="3685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480" y="3685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8000" y="3685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6753-AFD1-4CF4-9A55-391638C4D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C789-988B-4682-A4D8-E01E3D223B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19320" y="1219320"/>
            <a:ext cx="700704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Aft>
                <a:spcPts val="7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4C6F4-C614-4CB6-8F40-F6EB064BF5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00704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BFA0-92D2-4570-A5B3-28D4C703DF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41928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9960" y="1219320"/>
            <a:ext cx="341928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A13CA-B83B-406A-B666-077907C597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EB5D9-5F7F-4832-9B78-9C7F82320A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52120" y="-260640"/>
            <a:ext cx="70074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40295-57F8-4D49-9224-C5F28CEF46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9960" y="1219320"/>
            <a:ext cx="341928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685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B5678-FB50-4D70-9B2B-9F790F9270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19320" y="1219320"/>
            <a:ext cx="700704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Aft>
                <a:spcPts val="7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D30B-4A67-4D04-9F15-1A84FF227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41928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996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09960" y="3685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64782-1002-42F5-8CB4-A9E4754BC1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0996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9320" y="3685320"/>
            <a:ext cx="7007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771C-FDAF-41D0-AA0C-B9588346A5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007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19320" y="3685320"/>
            <a:ext cx="7007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9F75E-777B-4B36-85D8-D1857C3FBD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0996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19320" y="3685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09960" y="3685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91337-4408-4164-8F28-08EE9A6668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88480" y="1219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58000" y="1219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19320" y="3685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88480" y="3685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58000" y="3685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F16B7-3577-41FB-AF76-EE43F8F5D2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00704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0142-2034-42EA-8567-1F7F778E6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41928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960" y="1219320"/>
            <a:ext cx="341928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7417B-4308-42E9-85A7-8A6838F43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324B-78BD-4E71-9669-CFAE82A27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52120" y="-260640"/>
            <a:ext cx="70074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193BE-9131-4351-A9A9-CFF63FD9A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9960" y="1219320"/>
            <a:ext cx="341928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19320" y="3685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49BB-DEA3-4D72-87BC-F752D1ED0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41928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996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09960" y="3685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EEC5-06D9-4D06-8B35-60609CC4F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996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85320"/>
            <a:ext cx="7007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B850-C20F-4105-82C0-61D446141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08f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pic>
          <p:nvPicPr>
            <p:cNvPr id="2" name="" descr=""/>
            <p:cNvPicPr/>
            <p:nvPr/>
          </p:nvPicPr>
          <p:blipFill>
            <a:blip r:embed="rId2"/>
            <a:srcRect l="0" t="0" r="4230" b="24833"/>
            <a:stretch/>
          </p:blipFill>
          <p:spPr>
            <a:xfrm>
              <a:off x="1523880" y="6122880"/>
              <a:ext cx="63248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3"/>
            <a:srcRect l="6869" t="0" r="0" b="6918"/>
            <a:stretch/>
          </p:blipFill>
          <p:spPr>
            <a:xfrm>
              <a:off x="1066680" y="838080"/>
              <a:ext cx="7404120" cy="106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" name=""/>
            <p:cNvGraphicFramePr/>
            <p:nvPr/>
          </p:nvGraphicFramePr>
          <p:xfrm>
            <a:off x="7540560" y="6049800"/>
            <a:ext cx="1298520" cy="339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540560" y="6049800"/>
                      <a:ext cx="129852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574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9320" y="1219320"/>
            <a:ext cx="700704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Aft>
                <a:spcPts val="700"/>
              </a:spcAft>
              <a:buClr>
                <a:srgbClr val="00308f"/>
              </a:buClr>
              <a:buFont typeface="Gill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1" marL="739800" indent="-282600">
              <a:lnSpc>
                <a:spcPct val="87000"/>
              </a:lnSpc>
              <a:spcAft>
                <a:spcPts val="700"/>
              </a:spcAft>
              <a:buClr>
                <a:srgbClr val="00308f"/>
              </a:buClr>
              <a:buFont typeface="Gill San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2" marL="1143000" indent="-228600">
              <a:lnSpc>
                <a:spcPct val="87000"/>
              </a:lnSpc>
              <a:spcAft>
                <a:spcPts val="700"/>
              </a:spcAft>
              <a:buClr>
                <a:srgbClr val="00308f"/>
              </a:buClr>
              <a:buFont typeface="Gill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3" marL="1600200" indent="-228600">
              <a:lnSpc>
                <a:spcPct val="87000"/>
              </a:lnSpc>
              <a:spcAft>
                <a:spcPts val="700"/>
              </a:spcAft>
              <a:buClr>
                <a:srgbClr val="00308f"/>
              </a:buClr>
              <a:buFont typeface="Gill San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4" marL="2057400" indent="-228600">
              <a:lnSpc>
                <a:spcPct val="87000"/>
              </a:lnSpc>
              <a:spcAft>
                <a:spcPts val="700"/>
              </a:spcAft>
              <a:buClr>
                <a:srgbClr val="00308f"/>
              </a:buClr>
              <a:buFont typeface="Gill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5" marL="2057400" indent="-228600">
              <a:lnSpc>
                <a:spcPct val="87000"/>
              </a:lnSpc>
              <a:spcAft>
                <a:spcPts val="700"/>
              </a:spcAft>
              <a:buClr>
                <a:srgbClr val="000000"/>
              </a:buClr>
              <a:buFont typeface="Gill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6" marL="2057400" indent="-228600">
              <a:lnSpc>
                <a:spcPct val="87000"/>
              </a:lnSpc>
              <a:spcAft>
                <a:spcPts val="700"/>
              </a:spcAft>
              <a:buClr>
                <a:srgbClr val="000000"/>
              </a:buClr>
              <a:buFont typeface="Gill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6372360"/>
            <a:ext cx="15778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540400" y="6370560"/>
            <a:ext cx="1432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3254040" y="637200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287b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287b"/>
                </a:solidFill>
                <a:latin typeface="Gill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pic>
          <p:nvPicPr>
            <p:cNvPr id="48" name="" descr=""/>
            <p:cNvPicPr/>
            <p:nvPr/>
          </p:nvPicPr>
          <p:blipFill>
            <a:blip r:embed="rId2"/>
            <a:srcRect l="0" t="0" r="4230" b="24833"/>
            <a:stretch/>
          </p:blipFill>
          <p:spPr>
            <a:xfrm>
              <a:off x="1523880" y="6122880"/>
              <a:ext cx="63248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rcRect l="6869" t="0" r="0" b="6918"/>
            <a:stretch/>
          </p:blipFill>
          <p:spPr>
            <a:xfrm>
              <a:off x="1066680" y="838080"/>
              <a:ext cx="7404120" cy="106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0" name=""/>
            <p:cNvGraphicFramePr/>
            <p:nvPr/>
          </p:nvGraphicFramePr>
          <p:xfrm>
            <a:off x="7540560" y="6049800"/>
            <a:ext cx="1298520" cy="339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540560" y="6049800"/>
                      <a:ext cx="129852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574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1698480" y="6372360"/>
            <a:ext cx="15782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6370560"/>
            <a:ext cx="1431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Num" idx="2"/>
          </p:nvPr>
        </p:nvSpPr>
        <p:spPr>
          <a:xfrm>
            <a:off x="3733560" y="637200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308f"/>
                </a:solidFill>
                <a:latin typeface="Gill Sans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308f"/>
                </a:solidFill>
                <a:latin typeface="Gill Sans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218960" y="2139840"/>
            <a:ext cx="677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08f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Aft>
                <a:spcPts val="700"/>
              </a:spcAft>
              <a:buClr>
                <a:srgbClr val="00308f"/>
              </a:buClr>
              <a:buFont typeface="Gill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1" marL="739800" indent="-282600">
              <a:lnSpc>
                <a:spcPct val="87000"/>
              </a:lnSpc>
              <a:spcAft>
                <a:spcPts val="700"/>
              </a:spcAft>
              <a:buClr>
                <a:srgbClr val="00308f"/>
              </a:buClr>
              <a:buFont typeface="Gill San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2" marL="1143000" indent="-228600">
              <a:lnSpc>
                <a:spcPct val="87000"/>
              </a:lnSpc>
              <a:spcAft>
                <a:spcPts val="700"/>
              </a:spcAft>
              <a:buClr>
                <a:srgbClr val="00308f"/>
              </a:buClr>
              <a:buFont typeface="Gill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3" marL="1600200" indent="-228600">
              <a:lnSpc>
                <a:spcPct val="87000"/>
              </a:lnSpc>
              <a:spcAft>
                <a:spcPts val="700"/>
              </a:spcAft>
              <a:buClr>
                <a:srgbClr val="00308f"/>
              </a:buClr>
              <a:buFont typeface="Gill San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4" marL="2057400" indent="-228600">
              <a:lnSpc>
                <a:spcPct val="87000"/>
              </a:lnSpc>
              <a:spcAft>
                <a:spcPts val="700"/>
              </a:spcAft>
              <a:buClr>
                <a:srgbClr val="00308f"/>
              </a:buClr>
              <a:buFont typeface="Gill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5" marL="2057400" indent="-228600">
              <a:lnSpc>
                <a:spcPct val="87000"/>
              </a:lnSpc>
              <a:spcAft>
                <a:spcPts val="700"/>
              </a:spcAft>
              <a:buClr>
                <a:srgbClr val="000000"/>
              </a:buClr>
              <a:buFont typeface="Gill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6" marL="2057400" indent="-228600">
              <a:lnSpc>
                <a:spcPct val="87000"/>
              </a:lnSpc>
              <a:spcAft>
                <a:spcPts val="700"/>
              </a:spcAft>
              <a:buClr>
                <a:srgbClr val="000000"/>
              </a:buClr>
              <a:buFont typeface="Gill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27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08f"/>
                </a:solidFill>
                <a:latin typeface="Gill Sans"/>
              </a:rPr>
              <a:t>Human Performance</a:t>
            </a: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Aft>
                <a:spcPts val="7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08f"/>
                </a:solidFill>
                <a:latin typeface="Gill Sans"/>
              </a:rPr>
              <a:t>May 2007</a:t>
            </a:r>
            <a:endParaRPr b="0" lang="en-US" sz="32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8337600" y="571968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0"/>
                </a:moveTo>
                <a:lnTo>
                  <a:pt x="1" y="6"/>
                </a:lnTo>
                <a:lnTo>
                  <a:pt x="0" y="6"/>
                </a:lnTo>
                <a:lnTo>
                  <a:pt x="5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23280" y="5742000"/>
            <a:ext cx="12600" cy="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69360" y="571968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0"/>
                </a:moveTo>
                <a:lnTo>
                  <a:pt x="1" y="6"/>
                </a:lnTo>
                <a:lnTo>
                  <a:pt x="0" y="6"/>
                </a:lnTo>
                <a:lnTo>
                  <a:pt x="5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3398D-6C47-499D-967D-7D085E97A89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08f"/>
                </a:solidFill>
                <a:latin typeface="Gill Sans"/>
              </a:rPr>
              <a:t>Enhanced Knowledge Management Research</a:t>
            </a:r>
            <a:endParaRPr b="0" lang="en-US" sz="2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Aft>
                <a:spcPts val="451"/>
              </a:spcAft>
              <a:buClr>
                <a:srgbClr val="00308f"/>
              </a:buClr>
              <a:buFont typeface="Gill San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08f"/>
                </a:solidFill>
                <a:latin typeface="Gill Sans"/>
              </a:rPr>
              <a:t>Some notes</a:t>
            </a:r>
            <a:endParaRPr b="0" lang="en-US" sz="1800" spc="-1" strike="noStrike">
              <a:solidFill>
                <a:srgbClr val="00308f"/>
              </a:solidFill>
              <a:latin typeface="Gill Sans"/>
            </a:endParaRPr>
          </a:p>
          <a:p>
            <a:pPr marL="339840" indent="-339840">
              <a:lnSpc>
                <a:spcPct val="100000"/>
              </a:lnSpc>
              <a:spcAft>
                <a:spcPts val="451"/>
              </a:spcAft>
              <a:buClr>
                <a:srgbClr val="00308f"/>
              </a:buClr>
              <a:buFont typeface="Gill San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08f"/>
                </a:solidFill>
                <a:latin typeface="Gill Sans"/>
              </a:rPr>
              <a:t>Project Total Budget: </a:t>
            </a:r>
            <a:endParaRPr b="0" lang="en-US" sz="1800" spc="-1" strike="noStrike">
              <a:solidFill>
                <a:srgbClr val="00308f"/>
              </a:solidFill>
              <a:latin typeface="Gill Sans"/>
            </a:endParaRPr>
          </a:p>
          <a:p>
            <a:pPr marL="339840" indent="-339840">
              <a:lnSpc>
                <a:spcPct val="100000"/>
              </a:lnSpc>
              <a:spcAft>
                <a:spcPts val="451"/>
              </a:spcAft>
              <a:buClr>
                <a:srgbClr val="00308f"/>
              </a:buClr>
              <a:buFont typeface="Gill San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08f"/>
                </a:solidFill>
                <a:latin typeface="Gill Sans"/>
              </a:rPr>
              <a:t>Project timelines: 01/04/2007 – 31/03/2008</a:t>
            </a:r>
            <a:endParaRPr b="0" lang="en-US" sz="1800" spc="-1" strike="noStrike">
              <a:solidFill>
                <a:srgbClr val="00308f"/>
              </a:solidFill>
              <a:latin typeface="Gill Sans"/>
            </a:endParaRPr>
          </a:p>
          <a:p>
            <a:pPr marL="339840" indent="-339840">
              <a:lnSpc>
                <a:spcPct val="100000"/>
              </a:lnSpc>
              <a:spcAft>
                <a:spcPts val="451"/>
              </a:spcAft>
              <a:buClr>
                <a:srgbClr val="00308f"/>
              </a:buClr>
              <a:buFont typeface="Gill San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08f"/>
                </a:solidFill>
                <a:latin typeface="Gill Sans"/>
              </a:rPr>
              <a:t>Notes:</a:t>
            </a:r>
            <a:endParaRPr b="0" lang="en-US" sz="1800" spc="-1" strike="noStrike">
              <a:solidFill>
                <a:srgbClr val="00308f"/>
              </a:solidFill>
              <a:latin typeface="Gill Sans"/>
            </a:endParaRPr>
          </a:p>
          <a:p>
            <a:pPr lvl="1" marL="739800" indent="-282600">
              <a:lnSpc>
                <a:spcPct val="100000"/>
              </a:lnSpc>
              <a:spcAft>
                <a:spcPts val="451"/>
              </a:spcAft>
              <a:buClr>
                <a:srgbClr val="00308f"/>
              </a:buClr>
              <a:buFont typeface="Gill San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08f"/>
                </a:solidFill>
                <a:latin typeface="Gill Sans"/>
              </a:rPr>
              <a:t>Any subsequent research for 2008/2009 will be proposed for the new budget cycle.</a:t>
            </a:r>
            <a:endParaRPr b="0" lang="en-US" sz="1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DD88-19B0-4B40-9478-BDC2395A7BA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