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FD1541-6340-4AAB-B86B-17DE8B4345A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6AA8F6-992B-4531-9294-6945CC109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4B657E-CB5D-49CB-8B3E-5EAB5DC92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C2BA32-F560-46C8-8B99-4A8FD9F5DB3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564538-F2AD-4FA2-B226-145AE7E64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2974C8-9C42-4CC2-820A-03A690B3703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F07435-B07F-4AAD-88D3-61D89A59C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3356A7-FF97-4829-97BA-5D894924DDA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A5D272-F36C-4B22-8837-4CE577228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4FE892-A128-41D9-9868-7EE78E3BC60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B65FD7-35B6-4A04-9186-CD66EC1FE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8EA821-439E-413F-8B25-99C0F6AD085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76BDD7-6E54-4277-AF02-9492389D2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D41692-8880-4EE1-8894-EC15DE22964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F9F73A-4398-4688-9670-DAD4CAC27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C5F031-C559-4DFC-A275-B145AE85712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40A278-D185-4085-A061-7FC2EE947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DB7117-DCE1-4318-AB54-7A15D559495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7411DB-D3FA-4509-BC3E-66245BC9A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C5B023-A343-4F25-B586-4B67B183B16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7F1087-D5FC-4A72-A011-52ECE3031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7893247-49A4-42BF-B711-0F23F8A3468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6C18C8-D7CA-4939-99DE-6A24866CE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94060C-6CFF-46B0-A4C1-0D2C92CF476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9B8C9D-341B-45E8-88D7-CA55E5529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4EDD2C-699C-48C8-93F7-271C50B1061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6FE747-CC50-41E2-A733-CFD6AD93D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F44492-259C-4B87-BA64-D20B7B8339C2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467CA6-9498-484B-80BB-30077180B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A7F4D8-B9A5-42D2-B371-4B8F0D48707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EB1832-2315-42D1-B7EC-0B9DC0078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FD33F9-B671-4AB9-B87E-70D1159B590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0959413-ACDE-48C4-A4C3-19EEDA86D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4023C5-5A1C-4770-8483-41E35736B32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F1830E4-6930-48B1-B4BB-A1A42DA59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E0A5A6-02FE-4BD4-B620-4706DC0B938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6CC8B8-D248-4DFB-9924-E6447829E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C02587-EE11-4133-9F74-9AA4B1C2F8D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2C1E63-1C74-4DB4-A195-631E23394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3AA2CF-C4B1-4FEE-84C6-9156A4ADD98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4EA63A-8803-4BE9-AA92-6FFC50935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312B4A-BACA-45E7-8D12-1F962FF7856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75F369-A91D-4B61-B2FD-F7D8E0CFA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9488D6-BC46-49CB-9717-EFDEB7A7F1F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9FDE01-B8F3-4209-933D-4585928BE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06F505-F5FF-48F0-A1AA-591DDE10D79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2C7F4B-912A-4D47-9DC6-DDCF1E21C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794388-99BA-49E2-8F8A-DDDD84042B0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65AEEB7-00A2-479D-959E-1B1E85739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630893-4A12-47BA-AF8D-6086B87263A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0AD076-C1B8-427E-8380-4349B6057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B0A070-EEE8-4E74-B2F9-EC0268FD21B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C7DEC8-E6B4-41AF-B702-1FDF3D324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665C17B-6CAF-47C9-8439-52D1C943F38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F2906C-B9A7-4355-8016-3E0272931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F79FE4-F862-4956-8224-4498F267EB46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CE5BEA-6279-4992-A5C0-92C8CE6E8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FBEEB5-B257-4052-B4C8-519B011F03E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684067-49D0-4CED-8A2B-B2CED321E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BCE653-F847-4857-B024-7218A6C3634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03840"/>
            <a:ext cx="243828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Toxicology</a:t>
            </a:r>
            <a:endParaRPr b="0" lang="en-US" sz="10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5" name="spoon01" descr=""/>
          <p:cNvPicPr/>
          <p:nvPr/>
        </p:nvPicPr>
        <p:blipFill>
          <a:blip r:embed="rId2"/>
          <a:stretch/>
        </p:blipFill>
        <p:spPr>
          <a:xfrm>
            <a:off x="0" y="6608880"/>
            <a:ext cx="533520" cy="249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Caffeine – 2/16/04</a:t>
            </a:r>
            <a:endParaRPr b="0" lang="en-US" sz="1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Caffeine – 2/16/04</a:t>
            </a:r>
            <a:endParaRPr b="0" lang="en-US" sz="1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7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93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743200"/>
            <a:ext cx="7010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n Introduction To The Health Effects of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76920" y="77760"/>
            <a:ext cx="70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Caffein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97" name="FD00449_" descr=""/>
          <p:cNvPicPr/>
          <p:nvPr/>
        </p:nvPicPr>
        <p:blipFill>
          <a:blip r:embed="rId1"/>
          <a:stretch/>
        </p:blipFill>
        <p:spPr>
          <a:xfrm>
            <a:off x="0" y="4343400"/>
            <a:ext cx="2236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Love of Te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1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ea, though ridiculed by those who are naturally coarse in their nervous sensibilities … will always be the favorite beverage of the intellectual.”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homas De Quincey (1785–1859), English author. Confessions of an English Opium-Eater,“The Pleasures of Opium” (1822)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Religion and Dru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866960"/>
            <a:ext cx="7848360" cy="316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If Christianity is wine, and Islam coffee, Buddhism is most certainly tea.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lan Watts, The Way of Zen, 195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752480"/>
            <a:ext cx="815328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Tea trade and opium 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Opium War of 1839-42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Great Britain has a monopoly on the sale of opium which it forces on China; eventually gaining control of Hong Kong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onsider our societies ongoing “war on drugs”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75240"/>
            <a:ext cx="883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ffeine and Societ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806480"/>
            <a:ext cx="7848360" cy="36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ost widely consumed stimulant drug in the world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any people start consuming caffeine at an early age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great deal of money is made from caffeine – why?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xposur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15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Most widely consumed neuroactive compound</a:t>
            </a:r>
            <a:endParaRPr b="0" lang="en-US" sz="4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640" y="3581280"/>
            <a:ext cx="7848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offe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Soda Products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Tea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ffeine Conte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44080" cy="29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1 Cup of coffee – 65-175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1 Cup of tea – 50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an of soda (12 oz) – 40-50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Bar of chocolate (30 g) – 1-35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xposure and Effec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372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Have you every drank too much caffeine?</a:t>
            </a:r>
            <a:endParaRPr b="0" lang="en-US" sz="5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What are the effects?</a:t>
            </a:r>
            <a:endParaRPr b="0" lang="en-US" sz="5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spects of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7640" y="1219320"/>
            <a:ext cx="7848720" cy="529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esirable effect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imulant, increased alertness, concentrate,  energy, bronchial dila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oxicity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stlessness, jitters, anxiety, insomnia, elevated or irregular heart rat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o toleranc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ost develop little or no tolerance to the nervous system effect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Withdrawal effect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ransient but persistent, headache, low energy, in ability to concentrat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51080" y="1828800"/>
            <a:ext cx="68785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Rapidly absorbed following oral consumption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eak blood (plasma) levels usually with 30 minutes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75240"/>
            <a:ext cx="6972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2006640"/>
            <a:ext cx="7335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Distributes into all body compartments – 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ass easily into brain, breast milk and crosses placenta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04800" y="5105520"/>
            <a:ext cx="5803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oes not accumulat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istribu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987800" y="4494240"/>
            <a:ext cx="1285920" cy="3556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160" y="2787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68760" y="2233440"/>
            <a:ext cx="965160" cy="711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59120" y="2259000"/>
            <a:ext cx="1228680" cy="7462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86360" y="3030480"/>
            <a:ext cx="0" cy="144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76440" y="3308400"/>
            <a:ext cx="0" cy="11556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9040" y="4489560"/>
            <a:ext cx="1068480" cy="63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48120" y="4494240"/>
            <a:ext cx="1011240" cy="666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3160" y="4843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87440" y="2716200"/>
            <a:ext cx="1209960" cy="254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0400" y="45385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0400" y="2405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54960" y="2716200"/>
            <a:ext cx="812520" cy="965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654960" y="3681360"/>
            <a:ext cx="812520" cy="10922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578640" y="3681000"/>
            <a:ext cx="660240" cy="8636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413400" y="208080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8040" y="15717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746520" y="535752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7480" y="56865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6040" y="195264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2461680"/>
            <a:ext cx="63504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4468680"/>
            <a:ext cx="55872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0720" y="4545000"/>
            <a:ext cx="55908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440" y="461484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22840" y="1801800"/>
            <a:ext cx="0" cy="507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670200" y="1775880"/>
            <a:ext cx="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2080" y="125568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3200" y="3097080"/>
            <a:ext cx="0" cy="1270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5280" y="3170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49680" y="43894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0600" y="295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2085840"/>
            <a:ext cx="624852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etabolized in the liver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anged to di- and mon- methylxanthine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creted in the urine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9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Metabolism/Elimin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1640" y="1219320"/>
            <a:ext cx="779688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"/>
              </a:rPr>
              <a:t>How long it takes to leave the body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verage adult – 3-5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ild less that 6 months – 24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regnant – 7-8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moker – 2-3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Varies between individual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3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heophylline – 1,3 Dimethylxanthin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608360" y="4527360"/>
            <a:ext cx="1285920" cy="3553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53720" y="28209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89320" y="2266920"/>
            <a:ext cx="965160" cy="711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79680" y="2292480"/>
            <a:ext cx="1228680" cy="7459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6920" y="3063960"/>
            <a:ext cx="0" cy="144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97000" y="3341520"/>
            <a:ext cx="0" cy="1155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09960" y="4522680"/>
            <a:ext cx="1068120" cy="63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68680" y="4527720"/>
            <a:ext cx="1011240" cy="666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3720" y="48769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608000" y="2749680"/>
            <a:ext cx="1209960" cy="253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0960" y="457200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0960" y="24382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75520" y="2749680"/>
            <a:ext cx="812520" cy="965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275520" y="3714840"/>
            <a:ext cx="812520" cy="10922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199200" y="3714480"/>
            <a:ext cx="660240" cy="8636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33960" y="211428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0960" y="16048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67080" y="539064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8040" y="563868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6600" y="198612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449360" y="2495520"/>
            <a:ext cx="635040" cy="558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25680" y="4502160"/>
            <a:ext cx="55872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601280" y="4578480"/>
            <a:ext cx="55908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464832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3400" y="1835280"/>
            <a:ext cx="0" cy="507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90760" y="1809720"/>
            <a:ext cx="0" cy="558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128916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33760" y="3130560"/>
            <a:ext cx="0" cy="1270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55840" y="320364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0240" y="44226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1160" y="29923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0720" y="2120760"/>
            <a:ext cx="6939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Blocks Adenosine receptor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Adenosine is a calming neurotransmitter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82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Parents Of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1640" y="914400"/>
            <a:ext cx="828072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3108240" cy="2146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583080" cy="3046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2280" y="5149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arent of compounds found in RNA &amp; DNA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05040" y="113976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PURIN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5720" y="113976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XANTHIN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51055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ioxypurine - Parent methylxanthines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781680" y="1371600"/>
            <a:ext cx="175284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 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96600" y="1835280"/>
            <a:ext cx="148284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897440" y="2876040"/>
            <a:ext cx="2062080" cy="18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20000">
            <a:off x="4857480" y="1949400"/>
            <a:ext cx="257040" cy="289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984640" y="2550960"/>
            <a:ext cx="536400" cy="874440"/>
            <a:chOff x="5984640" y="2550960"/>
            <a:chExt cx="536400" cy="874440"/>
          </a:xfrm>
        </p:grpSpPr>
        <p:sp>
          <p:nvSpPr>
            <p:cNvPr id="250" name=""/>
            <p:cNvSpPr/>
            <p:nvPr/>
          </p:nvSpPr>
          <p:spPr>
            <a:xfrm>
              <a:off x="6260400" y="2671920"/>
              <a:ext cx="0" cy="352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255720" y="2550960"/>
              <a:ext cx="265320" cy="1209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84640" y="2566800"/>
              <a:ext cx="275400" cy="1047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140160" y="3022560"/>
              <a:ext cx="212040" cy="402840"/>
              <a:chOff x="6140160" y="3022560"/>
              <a:chExt cx="212040" cy="402840"/>
            </a:xfrm>
          </p:grpSpPr>
          <p:sp>
            <p:nvSpPr>
              <p:cNvPr id="254" name=""/>
              <p:cNvSpPr/>
              <p:nvPr/>
            </p:nvSpPr>
            <p:spPr>
              <a:xfrm>
                <a:off x="6150240" y="3024360"/>
                <a:ext cx="201960" cy="39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15"/>
                    </a:moveTo>
                    <a:arcTo wR="10800" hR="10800" stAng="-10772824" swAng="53252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15"/>
                    </a:moveTo>
                    <a:arcTo wR="10800" hR="10800" stAng="-10772824" swAng="5325269"/>
                  </a:path>
                </a:pathLst>
              </a:custGeom>
              <a:noFill/>
              <a:ln cap="rnd" w="25560">
                <a:solidFill>
                  <a:srgbClr val="d93192"/>
                </a:solidFill>
                <a:miter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7d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0160" y="3022560"/>
                <a:ext cx="20268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51" y="1"/>
                    </a:moveTo>
                    <a:arcTo wR="10800" hR="10800" stAng="-5447555" swAng="54203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51" y="1"/>
                    </a:moveTo>
                    <a:arcTo wR="10800" hR="10800" stAng="-5447555" swAng="5420380"/>
                  </a:path>
                </a:pathLst>
              </a:custGeom>
              <a:noFill/>
              <a:ln cap="rnd" w="25560">
                <a:solidFill>
                  <a:srgbClr val="d93192"/>
                </a:solidFill>
                <a:miter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7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3943440" y="2590920"/>
            <a:ext cx="177156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3180000">
            <a:off x="1302840" y="3322440"/>
            <a:ext cx="28908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3720000">
            <a:off x="1407960" y="3435120"/>
            <a:ext cx="964440" cy="6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67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673"/>
              </a:path>
            </a:pathLst>
          </a:custGeom>
          <a:noFill/>
          <a:ln cap="rnd" w="25560">
            <a:solidFill>
              <a:srgbClr val="800000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760000">
            <a:off x="2177640" y="3713040"/>
            <a:ext cx="28908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1360" y="4233960"/>
            <a:ext cx="14079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136240" y="3879720"/>
            <a:ext cx="489600" cy="781200"/>
            <a:chOff x="2136240" y="3879720"/>
            <a:chExt cx="489600" cy="781200"/>
          </a:xfrm>
        </p:grpSpPr>
        <p:sp>
          <p:nvSpPr>
            <p:cNvPr id="262" name=""/>
            <p:cNvSpPr/>
            <p:nvPr/>
          </p:nvSpPr>
          <p:spPr>
            <a:xfrm flipV="1">
              <a:off x="2322720" y="3884760"/>
              <a:ext cx="191880" cy="2109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2720" y="4095720"/>
              <a:ext cx="0" cy="352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2136240" y="3879720"/>
              <a:ext cx="186120" cy="21600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2294640" y="4313880"/>
              <a:ext cx="33660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7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7569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2294640" y="4329720"/>
              <a:ext cx="33624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8" y="0"/>
                  </a:moveTo>
                  <a:arcTo wR="10800" hR="10800" stAng="-5432585" swAng="5432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8" y="0"/>
                  </a:moveTo>
                  <a:arcTo wR="10800" hR="10800" stAng="-5432585" swAng="5432585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52560" y="4383000"/>
            <a:ext cx="257400" cy="273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91240" y="4349880"/>
            <a:ext cx="189000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gnal Protein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4967280"/>
            <a:ext cx="14079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689080" y="4630680"/>
            <a:ext cx="489600" cy="802440"/>
            <a:chOff x="5689080" y="4630680"/>
            <a:chExt cx="489600" cy="802440"/>
          </a:xfrm>
        </p:grpSpPr>
        <p:sp>
          <p:nvSpPr>
            <p:cNvPr id="271" name=""/>
            <p:cNvSpPr/>
            <p:nvPr/>
          </p:nvSpPr>
          <p:spPr>
            <a:xfrm flipV="1">
              <a:off x="5875560" y="4637160"/>
              <a:ext cx="191880" cy="2109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5560" y="4848120"/>
              <a:ext cx="0" cy="352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5689080" y="4630680"/>
              <a:ext cx="186120" cy="217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5847840" y="5086800"/>
              <a:ext cx="33588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7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7569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5847840" y="5102280"/>
              <a:ext cx="33552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8" y="0"/>
                  </a:moveTo>
                  <a:arcTo wR="10800" hR="10800" stAng="-5432585" swAng="5432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8" y="0"/>
                  </a:moveTo>
                  <a:arcTo wR="10800" hR="10800" stAng="-5432585" swAng="5432585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902200" y="5121360"/>
            <a:ext cx="257400" cy="2714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3720000">
            <a:off x="6079320" y="5328720"/>
            <a:ext cx="964440" cy="61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67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673"/>
              </a:path>
            </a:pathLst>
          </a:custGeom>
          <a:noFill/>
          <a:ln cap="rnd" w="25560">
            <a:solidFill>
              <a:srgbClr val="800000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24440" y="5473800"/>
            <a:ext cx="255744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Respons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ming effec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760000">
            <a:off x="5730480" y="4446720"/>
            <a:ext cx="28872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42280" y="2303640"/>
            <a:ext cx="1961640" cy="454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utside Cel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7040" y="2970360"/>
            <a:ext cx="1707120" cy="454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ide Cel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5520" y="3740040"/>
            <a:ext cx="363168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nosine binds to 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31800" y="161280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13160" y="414648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63360" y="266076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ormal Action of Adenosin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400800" y="2057400"/>
            <a:ext cx="457200" cy="3808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97280" y="2825640"/>
            <a:ext cx="140832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52920" y="2654280"/>
            <a:ext cx="0" cy="35100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448240" y="2531880"/>
            <a:ext cx="266760" cy="12204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178600" y="2549160"/>
            <a:ext cx="274320" cy="10476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43480" y="3005280"/>
            <a:ext cx="20268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5"/>
                </a:moveTo>
                <a:arcTo wR="10800" hR="10800" stAng="-10772824" swAng="5325269"/>
                <a:lnTo>
                  <a:pt x="10800" y="10800"/>
                </a:lnTo>
                <a:close/>
              </a:path>
              <a:path fill="none" w="21600" h="21600">
                <a:moveTo>
                  <a:pt x="0" y="10715"/>
                </a:moveTo>
                <a:arcTo wR="10800" hR="10800" stAng="-10772824" swAng="5325269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3400" y="3003480"/>
            <a:ext cx="20340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1" y="1"/>
                </a:moveTo>
                <a:arcTo wR="10800" hR="10800" stAng="-5447555" swAng="5420380"/>
                <a:lnTo>
                  <a:pt x="10800" y="10800"/>
                </a:lnTo>
                <a:close/>
              </a:path>
              <a:path fill="none" w="21600" h="21600">
                <a:moveTo>
                  <a:pt x="10651" y="1"/>
                </a:moveTo>
                <a:arcTo wR="10800" hR="10800" stAng="-5447555" swAng="5420380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24440" y="1935000"/>
            <a:ext cx="27144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1440" y="1600200"/>
            <a:ext cx="118728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0200" y="165096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31960" y="4460760"/>
            <a:ext cx="14079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70240" y="4287960"/>
            <a:ext cx="0" cy="35244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63760" y="4167000"/>
            <a:ext cx="265320" cy="12060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92320" y="4182840"/>
            <a:ext cx="277920" cy="10476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57560" y="4637160"/>
            <a:ext cx="20556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25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2586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46040" y="4637160"/>
            <a:ext cx="20628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1" y="1"/>
                </a:moveTo>
                <a:arcTo wR="10800" hR="10800" stAng="-5447414" swAng="5447414"/>
                <a:lnTo>
                  <a:pt x="10800" y="10800"/>
                </a:lnTo>
                <a:close/>
              </a:path>
              <a:path fill="none" w="21600" h="21600">
                <a:moveTo>
                  <a:pt x="10651" y="1"/>
                </a:moveTo>
                <a:arcTo wR="10800" hR="10800" stAng="-5447414" swAng="5447414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9120000">
            <a:off x="2259000" y="3485160"/>
            <a:ext cx="85716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1"/>
                </a:moveTo>
                <a:arcTo wR="10800" hR="10800" stAng="-10784364" swAng="5373062"/>
                <a:lnTo>
                  <a:pt x="10800" y="10800"/>
                </a:lnTo>
                <a:close/>
              </a:path>
              <a:path fill="none" w="21600" h="21600">
                <a:moveTo>
                  <a:pt x="0" y="10751"/>
                </a:moveTo>
                <a:arcTo wR="10800" hR="10800" stAng="-10784364" swAng="5373062"/>
              </a:path>
            </a:pathLst>
          </a:custGeom>
          <a:noFill/>
          <a:ln cap="rnd" w="25560">
            <a:solidFill>
              <a:srgbClr val="800000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6160" y="4206960"/>
            <a:ext cx="27288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5440" y="3502080"/>
            <a:ext cx="27144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70440" y="3378240"/>
            <a:ext cx="1498320" cy="1003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ctivate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rot="18420000">
            <a:off x="6803640" y="4067280"/>
            <a:ext cx="28908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7880000">
            <a:off x="5955840" y="4178520"/>
            <a:ext cx="961200" cy="6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4" y="0"/>
                </a:moveTo>
                <a:arcTo wR="10800" hR="10800" stAng="-5411327" swAng="5411327"/>
                <a:lnTo>
                  <a:pt x="10800" y="10800"/>
                </a:lnTo>
                <a:close/>
              </a:path>
              <a:path fill="none" w="21600" h="21600">
                <a:moveTo>
                  <a:pt x="10764" y="0"/>
                </a:moveTo>
                <a:arcTo wR="10800" hR="10800" stAng="-5411327" swAng="5411327"/>
              </a:path>
            </a:pathLst>
          </a:custGeom>
          <a:noFill/>
          <a:ln cap="rnd" w="25560">
            <a:solidFill>
              <a:srgbClr val="800000"/>
            </a:solidFill>
            <a:miter/>
            <a:head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70320" y="5102280"/>
            <a:ext cx="140832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89760" y="4915080"/>
            <a:ext cx="0" cy="35064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086520" y="4792680"/>
            <a:ext cx="264960" cy="12240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814720" y="4809960"/>
            <a:ext cx="274680" cy="10512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79960" y="5265720"/>
            <a:ext cx="2034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5"/>
                </a:moveTo>
                <a:arcTo wR="10800" hR="10800" stAng="-10772824" swAng="5325269"/>
                <a:lnTo>
                  <a:pt x="10800" y="10800"/>
                </a:lnTo>
                <a:close/>
              </a:path>
              <a:path fill="none" w="21600" h="21600">
                <a:moveTo>
                  <a:pt x="0" y="10715"/>
                </a:moveTo>
                <a:arcTo wR="10800" hR="10800" stAng="-10772824" swAng="5325269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70600" y="5264280"/>
            <a:ext cx="20268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1" y="1"/>
                </a:moveTo>
                <a:arcTo wR="10800" hR="10800" stAng="-5447555" swAng="5420380"/>
                <a:lnTo>
                  <a:pt x="10800" y="10800"/>
                </a:lnTo>
                <a:close/>
              </a:path>
              <a:path fill="none" w="21600" h="21600">
                <a:moveTo>
                  <a:pt x="10651" y="1"/>
                </a:moveTo>
                <a:arcTo wR="10800" hR="10800" stAng="-5447555" swAng="5420380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22960" y="4832280"/>
            <a:ext cx="27324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760000">
            <a:off x="5946120" y="4534560"/>
            <a:ext cx="289080" cy="255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92800" y="5450040"/>
            <a:ext cx="255600" cy="2728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5549760"/>
            <a:ext cx="358164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spons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in Stimulation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1520000">
            <a:off x="5068080" y="5081040"/>
            <a:ext cx="854280" cy="72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63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636"/>
              </a:path>
            </a:pathLst>
          </a:custGeom>
          <a:noFill/>
          <a:ln cap="rnd" w="25560">
            <a:solidFill>
              <a:srgbClr val="919191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3480" y="365112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23600" y="304164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ction of Caffein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00800" y="2133720"/>
            <a:ext cx="175248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 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790960" y="2362320"/>
            <a:ext cx="609480" cy="22860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28360" y="3720960"/>
            <a:ext cx="169308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n not bin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11320" y="4788000"/>
            <a:ext cx="118728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2120" y="1447920"/>
            <a:ext cx="74674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leasant stimulant effects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Short Half-life (you  need to back for more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an’t drink too much at any one time (toxicity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Headache when you stop drinking it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Why so many $$s from caffeine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332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pic>
        <p:nvPicPr>
          <p:cNvPr id="334" name="bd00028_" descr=""/>
          <p:cNvPicPr/>
          <p:nvPr/>
        </p:nvPicPr>
        <p:blipFill>
          <a:blip r:embed="rId1"/>
          <a:stretch/>
        </p:blipFill>
        <p:spPr>
          <a:xfrm>
            <a:off x="2324160" y="1600200"/>
            <a:ext cx="430524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337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914400" y="1676520"/>
            <a:ext cx="71629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eb Site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lvl="4" marL="1028880" indent="-45720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gland – Department of Health – Statement on the reproductive effects of caffeine. Online. &lt;http://www.doh.gov.uk/sacn/pdf/200106caffeine.pdf&gt; (accessed: 2 April 2003)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1028880" indent="-45720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U.S. Food and Drug Administration (FDA) - Perplexities Of Pregnancy. Online. &lt;http://www.cfsan.fda.gov/~dms/wh-preg2.html&gt; (accessed: 9 April 2003)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1028880" indent="-45720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Caffeine – The Vaults of Erowid. Online. &lt;http://www.erowid.org/chemicals/caffeine/caffeine.shtml&gt; (accessed: 2 April 2003)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584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affeine – 1,3,7 Trimethylxanthin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87800" y="4494240"/>
            <a:ext cx="1285920" cy="3556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33160" y="2787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768760" y="2233440"/>
            <a:ext cx="965160" cy="711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259000"/>
            <a:ext cx="1228680" cy="7462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86360" y="3030480"/>
            <a:ext cx="0" cy="144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440" y="3308400"/>
            <a:ext cx="0" cy="11556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89040" y="4489560"/>
            <a:ext cx="1068480" cy="63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48120" y="4494240"/>
            <a:ext cx="1011240" cy="666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3160" y="4843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87440" y="2716200"/>
            <a:ext cx="1209960" cy="254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0400" y="45385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0400" y="2405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4960" y="2716200"/>
            <a:ext cx="812520" cy="965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654960" y="3681360"/>
            <a:ext cx="812520" cy="10922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578640" y="3681000"/>
            <a:ext cx="660240" cy="8636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13400" y="208080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8040" y="15717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46520" y="535752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7480" y="56865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6040" y="195264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828800" y="2461680"/>
            <a:ext cx="63504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05120" y="4468680"/>
            <a:ext cx="55872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80720" y="4545000"/>
            <a:ext cx="55908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440" y="461484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2840" y="1801800"/>
            <a:ext cx="0" cy="507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70200" y="1775880"/>
            <a:ext cx="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2080" y="125568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13200" y="3097080"/>
            <a:ext cx="0" cy="1270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35280" y="3170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9680" y="43894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0600" y="295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uthorship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342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066680" y="39607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For Additional Information Contact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teven G. Gilbert, PhD, DABT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-mail: smdose@asmalldoseof.org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Web: www.asmalldoseof.org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009880"/>
            <a:ext cx="78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is presentation is supplement to 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Small Dose of Toxicology”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1068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Xanth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218200" y="4494240"/>
            <a:ext cx="1285920" cy="3556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63560" y="2787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98800" y="2233440"/>
            <a:ext cx="965160" cy="711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89520" y="2259000"/>
            <a:ext cx="1228680" cy="7462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16400" y="3030480"/>
            <a:ext cx="0" cy="144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06840" y="3308400"/>
            <a:ext cx="0" cy="11556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19440" y="4489560"/>
            <a:ext cx="1068480" cy="6318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178160" y="4494240"/>
            <a:ext cx="1011240" cy="66672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33560" y="4843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218200" y="2716200"/>
            <a:ext cx="1209600" cy="254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440" y="45385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440" y="2405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85000" y="2716200"/>
            <a:ext cx="812880" cy="965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885000" y="3681360"/>
            <a:ext cx="812880" cy="10922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808680" y="3681000"/>
            <a:ext cx="660600" cy="8636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643800" y="2080800"/>
            <a:ext cx="0" cy="4064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440" y="15717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976560" y="5357520"/>
            <a:ext cx="0" cy="4064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7080" y="56386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66520" y="224640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35160" y="4468680"/>
            <a:ext cx="558720" cy="27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211480" y="4545000"/>
            <a:ext cx="558720" cy="27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461484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52880" y="1789200"/>
            <a:ext cx="0" cy="5205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900600" y="1775880"/>
            <a:ext cx="0" cy="5590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32120" y="125568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3600" y="3097080"/>
            <a:ext cx="0" cy="12700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09880" y="31608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25720" y="44737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70640" y="295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224080" y="2703240"/>
            <a:ext cx="380880" cy="2286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Pur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683240" y="4305240"/>
            <a:ext cx="1285920" cy="3556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28600" y="25988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463840" y="2044440"/>
            <a:ext cx="965160" cy="7110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54560" y="2070000"/>
            <a:ext cx="1228680" cy="7462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81440" y="2841480"/>
            <a:ext cx="0" cy="144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71880" y="3119400"/>
            <a:ext cx="0" cy="11556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46320" y="4267080"/>
            <a:ext cx="1106640" cy="6652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643200" y="4305240"/>
            <a:ext cx="1011240" cy="66672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600" y="4654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83240" y="2527200"/>
            <a:ext cx="1209600" cy="254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5480" y="43498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5480" y="2216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50040" y="2527200"/>
            <a:ext cx="812880" cy="965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350040" y="3492360"/>
            <a:ext cx="812880" cy="10922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286680" y="3555720"/>
            <a:ext cx="660240" cy="8636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1840" y="1752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603520" y="2209680"/>
            <a:ext cx="838080" cy="6098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298600" y="4190760"/>
            <a:ext cx="914400" cy="533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08640" y="2908440"/>
            <a:ext cx="0" cy="126972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98600" y="2981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89320" y="42847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35680" y="2770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y of Coffe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143000"/>
            <a:ext cx="85341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Even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~850    - Coffee beans discovered - The fable says that an Ethiopian goat or sheepherder noticed that the goats were more alter after eating the wild berries.  He then sampled this new delicacy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~1100  - First coffee trees and roasting of coffee beans.  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475  - Constantinople – the world’s first coffee house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00s - Coffee enters Europe and moves quickly to the America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00s - Coffee house open throughout Europe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23   - First coffee plants are introduced into the Americas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22   - First espresso machine is created in France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38   - First instant coffee invented by the Nestlé company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71   - Starbucks opens its first location in Seattle, Washington's Pike  Place Market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523880"/>
            <a:ext cx="7543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ffeine &amp; Mone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2328840"/>
            <a:ext cx="7848720" cy="30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coffee and cola industries owe their wealth to the physiological properties of the drug caffeine.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.G. Gilbert (2001)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y of Te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5680" y="1143000"/>
            <a:ext cx="79178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Even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3000 B.C. - Tea discovered in China or introduced form India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350 B.C. - First written description of Tea drinking in China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450 A.D. - Turkish traders bargain for Tea and the Silk road is born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800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Tea introduced to Japan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450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Japanese Tea ceremony created and popularize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10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Dutch bring Tea to Europ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73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Boston Tea party, rebellion against England’s tea tax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76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England sends first Opium to China to help pay for tea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35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First experimental tea plantations in Assam, India. 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08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Tea bags invented in New York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523880"/>
            <a:ext cx="7543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y of Chocolat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432080"/>
            <a:ext cx="7924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Even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400 B.C.  - Olmec people of Mexico made chocolate drink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250 A.D.  - Mayans of Mexico were cultivating cocoa crop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528       - Cocoa was brought to Spain by Hernando Corté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00s     - Chocolate drinks introduced into Europ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57       - First English chocolate houses open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28       - Screw press that extracted the cocoa butter from the beans  invented in Hollan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40s     - Chocolate as solid develope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828800"/>
            <a:ext cx="7543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Lovers of Coffe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36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offee</a:t>
            </a:r>
            <a:endParaRPr b="0" lang="en-US" sz="4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Black as hell, strong as death, sweet as love.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urkish proverb.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Fear of Coffe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"Often coffee drinkers, finding the drug to be unpleasant, turn to other narcotics, of which opium and alcohol are most common.“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Morphinism and Narcomanias from Other Drugs (1902) by T. D. Crothers, M.D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37:25Z</dcterms:created>
  <dc:creator>Steven G. Gilbert</dc:creator>
  <dc:description/>
  <dc:language>en-US</dc:language>
  <cp:lastModifiedBy>Steven G. Gilbert</cp:lastModifiedBy>
  <cp:lastPrinted>2000-09-13T16:44:54Z</cp:lastPrinted>
  <dcterms:modified xsi:type="dcterms:W3CDTF">2004-02-16T20:26:35Z</dcterms:modified>
  <cp:revision>164</cp:revision>
  <dc:subject/>
  <dc:title>PowerPoint Presentation</dc:title>
</cp:coreProperties>
</file>