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D0F-2238-460C-9E05-F451FE51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8DC-164F-4107-BECB-0AB50589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4BA-469B-4894-9BB8-E4476DAD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BE3-918D-4C7B-ADD7-DEE70CB7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283-18B2-4ECE-B437-960C11DC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4C4-DA0A-4F27-86CA-3B3B4B1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0A1-7F89-4B35-9F0B-A471D475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99E-D560-4A2A-9635-6AEB2479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F01-A21A-494A-B142-8F4FA766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C8E-F341-4AC7-A7A3-423CFE1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6D1-7D49-45F9-B8A8-F84681F5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D73-8446-4358-86E4-A363250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e-I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05C-E4AD-4D66-AB39-1677085F2088}" type="slidenum">
              <a:rPr b="0" i="1" lang="he-IL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0" y="2133720"/>
            <a:ext cx="587520" cy="457200"/>
          </a:xfrm>
          <a:prstGeom prst="rect">
            <a:avLst/>
          </a:prstGeom>
          <a:solidFill>
            <a:srgbClr val="ada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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8C8-EBBD-4658-AFEE-1D45E2633D8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10:51:23Z</dcterms:created>
  <dc:creator>***</dc:creator>
  <dc:description/>
  <dc:language>en-US</dc:language>
  <cp:lastModifiedBy>Alan Yaniger</cp:lastModifiedBy>
  <dcterms:modified xsi:type="dcterms:W3CDTF">2006-11-19T13:09:45Z</dcterms:modified>
  <cp:revision>72</cp:revision>
  <dc:subject/>
  <dc:title>מצגת של PowerPoint</dc:title>
</cp:coreProperties>
</file>