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32D-0EAD-48A2-834F-CB1877F2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886-AF2A-40C6-88D3-DDA45791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DF3-9D8C-498D-B55A-5222E4EF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B6A-BAD0-40B8-AD04-06149B53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7BE-1936-4F17-B6D8-C7B9F25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FD2-ECC3-434F-A7CD-51B09DF0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B55-BBDD-44E7-97DD-EB51522D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BFC-3BEB-4B25-9833-6B265C3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5E5-2331-4C96-BE46-062D6E5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E03-B5CF-4F8A-AAAF-17F1E2D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739-02BB-4AD0-A0D2-7CCD179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A07-73E9-4CE8-8FCB-85B6A9C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8A65-C2BA-4CFF-B5A2-AD21F2BCC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7720" y="2805120"/>
            <a:ext cx="1537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520" y="1112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1440" y="8568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9520" y="8748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02120" y="0"/>
            <a:ext cx="121428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0" y="12700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7680" y="1257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5760" y="11955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5800" y="115884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00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576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0200" y="2489040"/>
            <a:ext cx="914400" cy="914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95880" y="2500200"/>
            <a:ext cx="961920" cy="9144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0" y="3757680"/>
            <a:ext cx="91440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71440" y="3743280"/>
            <a:ext cx="1214640" cy="1214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3768840"/>
            <a:ext cx="104328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76560" y="381636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" y="5219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46320" y="5256360"/>
            <a:ext cx="914400" cy="9144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4040" y="521964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51814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0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2400" y="6218280"/>
            <a:ext cx="914400" cy="914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76440" y="6400800"/>
            <a:ext cx="914400" cy="914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52960" y="64008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8880" y="4991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10400" y="502920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9360" y="4971960"/>
            <a:ext cx="106704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4952880"/>
            <a:ext cx="914400" cy="914400"/>
          </a:xfrm>
          <a:custGeom>
            <a:avLst/>
            <a:gdLst>
              <a:gd name="textAreaLeft" fmla="*/ 107640 w 914400"/>
              <a:gd name="textAreaRight" fmla="*/ 806760 w 9144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00560" y="58672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8482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5867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77000" y="58482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47360" y="2805120"/>
            <a:ext cx="14868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7680" y="324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1120" y="2858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81360" y="343080"/>
            <a:ext cx="485640" cy="975960"/>
          </a:xfrm>
          <a:prstGeom prst="up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2667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41904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72240" y="26676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5840" y="1295280"/>
            <a:ext cx="1214280" cy="121464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0640" y="1600200"/>
            <a:ext cx="1214640" cy="8524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192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3800" y="1562040"/>
            <a:ext cx="885960" cy="88128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62680" y="167652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179064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6859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9760" y="2724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71840" y="333360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3467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62680" y="360036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5622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38360" y="45529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457880"/>
            <a:ext cx="914400" cy="609480"/>
          </a:xfrm>
          <a:prstGeom prst="right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44766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00560" y="4362480"/>
            <a:ext cx="609840" cy="914400"/>
          </a:xfrm>
          <a:prstGeom prst="upArrowCallout">
            <a:avLst>
              <a:gd name="adj1" fmla="val 25002"/>
              <a:gd name="adj2" fmla="val 25000"/>
              <a:gd name="adj3" fmla="val 24990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480060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57913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532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53532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81760" y="60768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47360" y="2805120"/>
            <a:ext cx="1169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840" y="285840"/>
            <a:ext cx="9144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66760"/>
            <a:ext cx="91440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57360" y="247680"/>
            <a:ext cx="914400" cy="6094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66760"/>
            <a:ext cx="914400" cy="60948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85840"/>
            <a:ext cx="914400" cy="6094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81760" y="285840"/>
            <a:ext cx="609480" cy="60948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19800" y="28584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771560"/>
            <a:ext cx="1062000" cy="75744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57440" y="1733400"/>
            <a:ext cx="914400" cy="304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1360" y="1733400"/>
            <a:ext cx="106200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00680" y="1771560"/>
            <a:ext cx="914400" cy="45720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8280" y="1657440"/>
            <a:ext cx="914400" cy="60948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179064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90640"/>
            <a:ext cx="609480" cy="60984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3080" y="3238560"/>
            <a:ext cx="914400" cy="79992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3200400"/>
            <a:ext cx="914400" cy="8002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3295800"/>
            <a:ext cx="60948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19440" y="3371760"/>
            <a:ext cx="609840" cy="60984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29240" y="3333600"/>
            <a:ext cx="457200" cy="9144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333600"/>
            <a:ext cx="457200" cy="91440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4960" y="3333600"/>
            <a:ext cx="685800" cy="68580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280" y="4419720"/>
            <a:ext cx="685800" cy="68580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04800" y="4419720"/>
            <a:ext cx="914400" cy="6094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381560"/>
            <a:ext cx="609480" cy="6094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76680" y="4419720"/>
            <a:ext cx="609480" cy="60948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61016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48200" y="449568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9360" y="44766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48080" y="2805120"/>
            <a:ext cx="20444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 and ba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080" y="28584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86080" y="26676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95520" y="324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266760"/>
            <a:ext cx="96228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3808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430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95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04800" y="1790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85960" y="177156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18478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53160" y="1657440"/>
            <a:ext cx="1214280" cy="761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24760" y="1866960"/>
            <a:ext cx="1214280" cy="762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7160" y="4191120"/>
            <a:ext cx="1143000" cy="10285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47800" y="449568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52920" y="4191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3243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9040" y="24768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47880" y="3240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1760" y="39996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71960" y="5144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91200" y="438120"/>
            <a:ext cx="914400" cy="914400"/>
          </a:xfrm>
          <a:prstGeom prst="borderCallout1">
            <a:avLst>
              <a:gd name="adj1" fmla="val -1800"/>
              <a:gd name="adj2" fmla="val 22950"/>
              <a:gd name="adj3" fmla="val -1800"/>
              <a:gd name="adj4" fmla="val 27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56204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19240" y="171468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17524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53200" y="177156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67520" y="2038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7600" y="2914560"/>
            <a:ext cx="914400" cy="60984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95520" y="30290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3440" y="3181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24520" y="34290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29680" y="3429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0280" y="46674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74336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29280" y="508644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58080" y="5200560"/>
            <a:ext cx="914400" cy="60984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67800" y="53532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4960" y="6215040"/>
            <a:ext cx="1003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7600" y="762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2705040" y="80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67360" y="952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91200" y="114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7" h="21600">
                <a:moveTo>
                  <a:pt x="1080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7" h="21600">
                <a:moveTo>
                  <a:pt x="8227" y="8224"/>
                </a:moveTo>
                <a:lnTo>
                  <a:pt x="12092" y="8224"/>
                </a:lnTo>
                <a:lnTo>
                  <a:pt x="12092" y="15221"/>
                </a:lnTo>
                <a:lnTo>
                  <a:pt x="13380" y="15221"/>
                </a:lnTo>
                <a:lnTo>
                  <a:pt x="13380" y="16144"/>
                </a:lnTo>
                <a:lnTo>
                  <a:pt x="8227" y="16144"/>
                </a:lnTo>
                <a:lnTo>
                  <a:pt x="8227" y="15221"/>
                </a:lnTo>
                <a:lnTo>
                  <a:pt x="9516" y="15221"/>
                </a:lnTo>
                <a:lnTo>
                  <a:pt x="9516" y="9129"/>
                </a:lnTo>
                <a:lnTo>
                  <a:pt x="8227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1371600" y="2762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3009960" y="2857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4533840" y="2914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6153120" y="30290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1752480" y="45147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95800" y="4591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/>
          </p:cNvPr>
          <p:cNvSpPr/>
          <p:nvPr/>
        </p:nvSpPr>
        <p:spPr>
          <a:xfrm>
            <a:off x="4876920" y="4819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781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3880" y="6215040"/>
            <a:ext cx="12214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7680" y="304920"/>
            <a:ext cx="1886040" cy="18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43280" y="266760"/>
            <a:ext cx="1904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24400" y="32400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9520" y="2914560"/>
            <a:ext cx="1755720" cy="3641760"/>
          </a:xfrm>
          <a:custGeom>
            <a:avLst/>
            <a:gdLst/>
            <a:ahLst/>
            <a:rect l="l" t="t" r="r" b="b"/>
            <a:pathLst>
              <a:path w="1106" h="2294">
                <a:moveTo>
                  <a:pt x="360" y="0"/>
                </a:moveTo>
                <a:cubicBezTo>
                  <a:pt x="305" y="527"/>
                  <a:pt x="250" y="1054"/>
                  <a:pt x="348" y="1272"/>
                </a:cubicBezTo>
                <a:cubicBezTo>
                  <a:pt x="446" y="1490"/>
                  <a:pt x="844" y="1158"/>
                  <a:pt x="948" y="1308"/>
                </a:cubicBezTo>
                <a:cubicBezTo>
                  <a:pt x="1052" y="1458"/>
                  <a:pt x="1106" y="2050"/>
                  <a:pt x="972" y="2172"/>
                </a:cubicBezTo>
                <a:cubicBezTo>
                  <a:pt x="838" y="2294"/>
                  <a:pt x="288" y="2144"/>
                  <a:pt x="144" y="2040"/>
                </a:cubicBezTo>
                <a:cubicBezTo>
                  <a:pt x="0" y="1936"/>
                  <a:pt x="54" y="1742"/>
                  <a:pt x="108" y="15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2600" y="2666880"/>
            <a:ext cx="2338200" cy="3942000"/>
          </a:xfrm>
          <a:custGeom>
            <a:avLst/>
            <a:gdLst/>
            <a:ahLst/>
            <a:rect l="l" t="t" r="r" b="b"/>
            <a:pathLst>
              <a:path w="1473" h="2483">
                <a:moveTo>
                  <a:pt x="424" y="372"/>
                </a:moveTo>
                <a:cubicBezTo>
                  <a:pt x="308" y="1012"/>
                  <a:pt x="0" y="1646"/>
                  <a:pt x="76" y="2292"/>
                </a:cubicBezTo>
                <a:cubicBezTo>
                  <a:pt x="99" y="2483"/>
                  <a:pt x="460" y="2304"/>
                  <a:pt x="652" y="2304"/>
                </a:cubicBezTo>
                <a:cubicBezTo>
                  <a:pt x="728" y="2304"/>
                  <a:pt x="880" y="2292"/>
                  <a:pt x="880" y="2292"/>
                </a:cubicBezTo>
                <a:cubicBezTo>
                  <a:pt x="1076" y="1800"/>
                  <a:pt x="1285" y="1313"/>
                  <a:pt x="1468" y="816"/>
                </a:cubicBezTo>
                <a:cubicBezTo>
                  <a:pt x="1473" y="802"/>
                  <a:pt x="1443" y="801"/>
                  <a:pt x="1432" y="792"/>
                </a:cubicBezTo>
                <a:cubicBezTo>
                  <a:pt x="1340" y="720"/>
                  <a:pt x="1394" y="743"/>
                  <a:pt x="1324" y="720"/>
                </a:cubicBezTo>
                <a:cubicBezTo>
                  <a:pt x="1293" y="695"/>
                  <a:pt x="1259" y="674"/>
                  <a:pt x="1228" y="648"/>
                </a:cubicBezTo>
                <a:cubicBezTo>
                  <a:pt x="1215" y="637"/>
                  <a:pt x="1207" y="619"/>
                  <a:pt x="1192" y="612"/>
                </a:cubicBezTo>
                <a:cubicBezTo>
                  <a:pt x="1162" y="598"/>
                  <a:pt x="1096" y="588"/>
                  <a:pt x="1096" y="588"/>
                </a:cubicBezTo>
                <a:cubicBezTo>
                  <a:pt x="932" y="602"/>
                  <a:pt x="969" y="581"/>
                  <a:pt x="868" y="660"/>
                </a:cubicBezTo>
                <a:cubicBezTo>
                  <a:pt x="857" y="669"/>
                  <a:pt x="760" y="712"/>
                  <a:pt x="760" y="744"/>
                </a:cubicBezTo>
                <a:cubicBezTo>
                  <a:pt x="716" y="516"/>
                  <a:pt x="707" y="278"/>
                  <a:pt x="628" y="60"/>
                </a:cubicBezTo>
                <a:cubicBezTo>
                  <a:pt x="614" y="22"/>
                  <a:pt x="548" y="53"/>
                  <a:pt x="508" y="48"/>
                </a:cubicBezTo>
                <a:cubicBezTo>
                  <a:pt x="464" y="42"/>
                  <a:pt x="419" y="35"/>
                  <a:pt x="376" y="24"/>
                </a:cubicBezTo>
                <a:cubicBezTo>
                  <a:pt x="351" y="18"/>
                  <a:pt x="304" y="0"/>
                  <a:pt x="304" y="0"/>
                </a:cubicBezTo>
                <a:cubicBezTo>
                  <a:pt x="160" y="11"/>
                  <a:pt x="88" y="1"/>
                  <a:pt x="40" y="144"/>
                </a:cubicBezTo>
                <a:cubicBezTo>
                  <a:pt x="44" y="172"/>
                  <a:pt x="44" y="201"/>
                  <a:pt x="52" y="228"/>
                </a:cubicBezTo>
                <a:cubicBezTo>
                  <a:pt x="58" y="246"/>
                  <a:pt x="99" y="291"/>
                  <a:pt x="112" y="300"/>
                </a:cubicBezTo>
                <a:cubicBezTo>
                  <a:pt x="123" y="307"/>
                  <a:pt x="189" y="322"/>
                  <a:pt x="196" y="324"/>
                </a:cubicBezTo>
                <a:cubicBezTo>
                  <a:pt x="270" y="345"/>
                  <a:pt x="347" y="372"/>
                  <a:pt x="424" y="37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3560" y="2676600"/>
            <a:ext cx="1487520" cy="3429000"/>
          </a:xfrm>
          <a:custGeom>
            <a:avLst/>
            <a:gdLst/>
            <a:ahLst/>
            <a:rect l="l" t="t" r="r" b="b"/>
            <a:pathLst>
              <a:path w="937" h="2160">
                <a:moveTo>
                  <a:pt x="157" y="54"/>
                </a:moveTo>
                <a:cubicBezTo>
                  <a:pt x="232" y="29"/>
                  <a:pt x="307" y="17"/>
                  <a:pt x="385" y="6"/>
                </a:cubicBezTo>
                <a:cubicBezTo>
                  <a:pt x="457" y="16"/>
                  <a:pt x="542" y="0"/>
                  <a:pt x="601" y="42"/>
                </a:cubicBezTo>
                <a:cubicBezTo>
                  <a:pt x="687" y="104"/>
                  <a:pt x="720" y="202"/>
                  <a:pt x="757" y="294"/>
                </a:cubicBezTo>
                <a:cubicBezTo>
                  <a:pt x="753" y="318"/>
                  <a:pt x="756" y="344"/>
                  <a:pt x="745" y="366"/>
                </a:cubicBezTo>
                <a:cubicBezTo>
                  <a:pt x="701" y="453"/>
                  <a:pt x="546" y="433"/>
                  <a:pt x="481" y="438"/>
                </a:cubicBezTo>
                <a:cubicBezTo>
                  <a:pt x="377" y="464"/>
                  <a:pt x="325" y="546"/>
                  <a:pt x="301" y="642"/>
                </a:cubicBezTo>
                <a:cubicBezTo>
                  <a:pt x="315" y="792"/>
                  <a:pt x="320" y="878"/>
                  <a:pt x="481" y="918"/>
                </a:cubicBezTo>
                <a:cubicBezTo>
                  <a:pt x="593" y="902"/>
                  <a:pt x="693" y="894"/>
                  <a:pt x="805" y="906"/>
                </a:cubicBezTo>
                <a:cubicBezTo>
                  <a:pt x="860" y="989"/>
                  <a:pt x="900" y="1066"/>
                  <a:pt x="937" y="1158"/>
                </a:cubicBezTo>
                <a:cubicBezTo>
                  <a:pt x="929" y="1250"/>
                  <a:pt x="932" y="1396"/>
                  <a:pt x="817" y="1434"/>
                </a:cubicBezTo>
                <a:cubicBezTo>
                  <a:pt x="794" y="1442"/>
                  <a:pt x="769" y="1442"/>
                  <a:pt x="745" y="1446"/>
                </a:cubicBezTo>
                <a:cubicBezTo>
                  <a:pt x="689" y="1442"/>
                  <a:pt x="630" y="1454"/>
                  <a:pt x="577" y="1434"/>
                </a:cubicBezTo>
                <a:cubicBezTo>
                  <a:pt x="516" y="1411"/>
                  <a:pt x="476" y="1350"/>
                  <a:pt x="421" y="1314"/>
                </a:cubicBezTo>
                <a:cubicBezTo>
                  <a:pt x="381" y="1255"/>
                  <a:pt x="346" y="1232"/>
                  <a:pt x="277" y="1218"/>
                </a:cubicBezTo>
                <a:cubicBezTo>
                  <a:pt x="216" y="1228"/>
                  <a:pt x="158" y="1237"/>
                  <a:pt x="109" y="1278"/>
                </a:cubicBezTo>
                <a:cubicBezTo>
                  <a:pt x="96" y="1289"/>
                  <a:pt x="83" y="1301"/>
                  <a:pt x="73" y="1314"/>
                </a:cubicBezTo>
                <a:cubicBezTo>
                  <a:pt x="55" y="1337"/>
                  <a:pt x="25" y="1386"/>
                  <a:pt x="25" y="1386"/>
                </a:cubicBezTo>
                <a:cubicBezTo>
                  <a:pt x="21" y="1406"/>
                  <a:pt x="18" y="1426"/>
                  <a:pt x="13" y="1446"/>
                </a:cubicBezTo>
                <a:cubicBezTo>
                  <a:pt x="10" y="1458"/>
                  <a:pt x="0" y="1469"/>
                  <a:pt x="1" y="1482"/>
                </a:cubicBezTo>
                <a:cubicBezTo>
                  <a:pt x="4" y="1523"/>
                  <a:pt x="13" y="1563"/>
                  <a:pt x="25" y="1602"/>
                </a:cubicBezTo>
                <a:cubicBezTo>
                  <a:pt x="33" y="1630"/>
                  <a:pt x="68" y="1654"/>
                  <a:pt x="85" y="1674"/>
                </a:cubicBezTo>
                <a:cubicBezTo>
                  <a:pt x="98" y="1689"/>
                  <a:pt x="106" y="1709"/>
                  <a:pt x="121" y="1722"/>
                </a:cubicBezTo>
                <a:cubicBezTo>
                  <a:pt x="131" y="1730"/>
                  <a:pt x="146" y="1728"/>
                  <a:pt x="157" y="1734"/>
                </a:cubicBezTo>
                <a:cubicBezTo>
                  <a:pt x="193" y="1752"/>
                  <a:pt x="228" y="1778"/>
                  <a:pt x="265" y="1794"/>
                </a:cubicBezTo>
                <a:cubicBezTo>
                  <a:pt x="310" y="1813"/>
                  <a:pt x="352" y="1820"/>
                  <a:pt x="397" y="1842"/>
                </a:cubicBezTo>
                <a:cubicBezTo>
                  <a:pt x="509" y="1833"/>
                  <a:pt x="624" y="1844"/>
                  <a:pt x="733" y="1818"/>
                </a:cubicBezTo>
                <a:cubicBezTo>
                  <a:pt x="747" y="1815"/>
                  <a:pt x="749" y="1794"/>
                  <a:pt x="757" y="1782"/>
                </a:cubicBezTo>
                <a:cubicBezTo>
                  <a:pt x="726" y="1736"/>
                  <a:pt x="699" y="1723"/>
                  <a:pt x="649" y="1698"/>
                </a:cubicBezTo>
                <a:cubicBezTo>
                  <a:pt x="601" y="1730"/>
                  <a:pt x="601" y="1758"/>
                  <a:pt x="565" y="1806"/>
                </a:cubicBezTo>
                <a:cubicBezTo>
                  <a:pt x="516" y="1953"/>
                  <a:pt x="551" y="2049"/>
                  <a:pt x="685" y="2130"/>
                </a:cubicBezTo>
                <a:cubicBezTo>
                  <a:pt x="700" y="2139"/>
                  <a:pt x="715" y="2152"/>
                  <a:pt x="733" y="2154"/>
                </a:cubicBezTo>
                <a:cubicBezTo>
                  <a:pt x="785" y="2160"/>
                  <a:pt x="837" y="2154"/>
                  <a:pt x="889" y="21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6720" y="6176880"/>
            <a:ext cx="724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0" name=""/>
          <p:cNvCxnSpPr/>
          <p:nvPr/>
        </p:nvCxnSpPr>
        <p:spPr>
          <a:xfrm>
            <a:off x="571320" y="495360"/>
            <a:ext cx="144828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/>
          <p:nvPr/>
        </p:nvCxnSpPr>
        <p:spPr>
          <a:xfrm>
            <a:off x="1447560" y="399600"/>
            <a:ext cx="1639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>
            <a:off x="2419200" y="342720"/>
            <a:ext cx="15249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>
            <a:off x="552600" y="2971800"/>
            <a:ext cx="1676880" cy="15436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>
            <a:off x="2819520" y="2971440"/>
            <a:ext cx="1753200" cy="16772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/>
          <p:nvPr/>
        </p:nvCxnSpPr>
        <p:spPr>
          <a:xfrm>
            <a:off x="5352840" y="2933280"/>
            <a:ext cx="144828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/>
          <p:nvPr/>
        </p:nvCxnSpPr>
        <p:spPr>
          <a:xfrm>
            <a:off x="590400" y="5143680"/>
            <a:ext cx="1486800" cy="1429200"/>
          </a:xfrm>
          <a:prstGeom prst="curvedConnector5">
            <a:avLst>
              <a:gd name="adj1" fmla="val 49987"/>
              <a:gd name="adj2" fmla="val 49987"/>
              <a:gd name="adj3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/>
          <p:nvPr/>
        </p:nvCxnSpPr>
        <p:spPr>
          <a:xfrm>
            <a:off x="3180960" y="5390640"/>
            <a:ext cx="142956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>
            <a:off x="5257440" y="5486040"/>
            <a:ext cx="135324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076280" y="576360"/>
            <a:ext cx="13467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45:16Z</dcterms:created>
  <dc:creator>user</dc:creator>
  <dc:description/>
  <dc:language>en-US</dc:language>
  <cp:lastModifiedBy>user</cp:lastModifiedBy>
  <dcterms:modified xsi:type="dcterms:W3CDTF">2011-05-24T12:58:08Z</dcterms:modified>
  <cp:revision>4</cp:revision>
  <dc:subject/>
  <dc:title>Slide 1</dc:title>
</cp:coreProperties>
</file>