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2240" y="400392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16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9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6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2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9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6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22240" y="255240"/>
            <a:ext cx="75326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216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22240" y="400392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216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9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6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22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9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6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8F1-4C69-4CBF-9A60-94A407FC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6E0-EF2A-45F4-84FC-BB839051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4E8-F394-4FBC-AC52-9CF5AD4B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0E6-343D-4EDF-B763-A8D28E7E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741-9F14-4E51-A66F-5D9B23F4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255240"/>
            <a:ext cx="75326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4A0-F34C-42BA-940B-9A9356F0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5C0-B7B9-4CC2-876A-68F88375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216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A36-327F-4811-9563-030B2A8E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D2C-86FB-48D3-9391-A5902E34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400392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144-E09A-4A46-AAA2-46B0BBD8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216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E24-F092-4891-94FF-29882E82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16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16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71E-8C65-45F2-9652-059D8FA7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2240" y="255240"/>
            <a:ext cx="75326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16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061480" y="6113520"/>
            <a:ext cx="787320" cy="36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"/>
          <p:cNvPicPr/>
          <p:nvPr/>
        </p:nvPicPr>
        <p:blipFill>
          <a:blip r:embed="rId3"/>
          <a:stretch/>
        </p:blipFill>
        <p:spPr>
          <a:xfrm>
            <a:off x="272880" y="6568920"/>
            <a:ext cx="8598240" cy="28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784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7560" indent="-16848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16160" indent="-11448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16160" indent="-114480">
              <a:spcAft>
                <a:spcPts val="1199"/>
              </a:spcAft>
              <a:buClr>
                <a:srgbClr val="454c51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16160" indent="-114480">
              <a:spcAft>
                <a:spcPts val="1199"/>
              </a:spcAft>
              <a:buClr>
                <a:srgbClr val="454c51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87280" y="658980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35FD3A-02EF-4E65-9CF1-53FB94B228E5}" type="slidenum">
              <a:rPr b="1" lang="en-US" sz="1200" spc="-1" strike="noStrike" baseline="1000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657440" y="6591240"/>
            <a:ext cx="58291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SE Confidential. Communicated Under ND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"/>
          <p:cNvPicPr/>
          <p:nvPr/>
        </p:nvPicPr>
        <p:blipFill>
          <a:blip r:embed="rId2"/>
          <a:stretch/>
        </p:blipFill>
        <p:spPr>
          <a:xfrm>
            <a:off x="6246720" y="4937040"/>
            <a:ext cx="1755720" cy="976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3"/>
          <a:stretch/>
        </p:blipFill>
        <p:spPr>
          <a:xfrm>
            <a:off x="272880" y="6568920"/>
            <a:ext cx="8598240" cy="289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87280" y="658980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E9EA98-8645-4E2C-BB64-AC0CA014CD87}" type="slidenum">
              <a:rPr b="1" lang="en-US" sz="1200" spc="-1" strike="noStrike" baseline="1000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104840" y="990720"/>
            <a:ext cx="6927840" cy="2495520"/>
          </a:xfrm>
          <a:prstGeom prst="rect">
            <a:avLst/>
          </a:prstGeom>
          <a:solidFill>
            <a:srgbClr val="e4e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ight Triangle 10"/>
          <p:cNvSpPr/>
          <p:nvPr/>
        </p:nvSpPr>
        <p:spPr>
          <a:xfrm flipV="1">
            <a:off x="1682640" y="3448080"/>
            <a:ext cx="606600" cy="660240"/>
          </a:xfrm>
          <a:prstGeom prst="rtTriangle">
            <a:avLst/>
          </a:prstGeom>
          <a:solidFill>
            <a:srgbClr val="e4e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1103400" y="4311720"/>
            <a:ext cx="6548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8061480" y="6113520"/>
            <a:ext cx="787320" cy="36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272880" y="6568920"/>
            <a:ext cx="8598240" cy="289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87280" y="658980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4D5D63-E26D-4176-B474-64524DA3324B}" type="slidenum">
              <a:rPr b="1" lang="en-US" sz="1200" spc="-1" strike="noStrike" baseline="1000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657440" y="6591240"/>
            <a:ext cx="58291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SE Confidential. Communicated Under ND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784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7560" indent="-16848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16160" indent="-11448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16160" indent="-114480">
              <a:spcAft>
                <a:spcPts val="1199"/>
              </a:spcAft>
              <a:buClr>
                <a:srgbClr val="454c51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16160" indent="-114480">
              <a:spcAft>
                <a:spcPts val="1199"/>
              </a:spcAft>
              <a:buClr>
                <a:srgbClr val="454c51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D63FB-72BA-47C3-AA45-7EFEAFF6BC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595080"/>
            <a:ext cx="719928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500"/>
            </a:b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Expanded Value</a:t>
            </a:r>
            <a:br>
              <a:rPr sz="45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me claims here are forward-looking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1757520"/>
            <a:ext cx="71992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20:23:09Z</dcterms:created>
  <dc:creator>Karlin Stokes</dc:creator>
  <dc:description>SUSE2013 Version 1:  3/29/13</dc:description>
  <dc:language>en-US</dc:language>
  <cp:lastModifiedBy>test</cp:lastModifiedBy>
  <dcterms:modified xsi:type="dcterms:W3CDTF">2015-07-31T10:21:16Z</dcterms:modified>
  <cp:revision>222</cp:revision>
  <dc:subject/>
  <dc:title>SUSE Corporate Presentation Template 2011</dc:title>
</cp:coreProperties>
</file>