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2F0-75AA-4892-B229-5029A5E6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BA6-1CD8-482F-B140-1DF41A63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3E0-926E-4BFE-87FD-020B120B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806-F860-4806-9378-135FB7F9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F99-D22D-4E8B-BA79-E735A50F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141-BD26-4DE5-890A-F20DFE51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9B0-44A6-45F0-AE52-D28E1398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2DD-C2F8-4052-B901-9F00C02D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CCE-4AC0-47F1-9475-30E30AF0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600-BF72-470E-9E42-67FEB62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328-A4FD-415E-BCCD-CA943E36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FAC-9FB9-4E3B-8D9D-6C46BA37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31D4-B07A-4A67-A15E-62320EDFE25D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ות חרדה: מבט על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193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    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  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. הפרעות הכוללות חווית חרדה עזה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Aharon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19320" y="1828800"/>
            <a:ext cx="6922440" cy="2057400"/>
            <a:chOff x="1219320" y="1828800"/>
            <a:chExt cx="6922440" cy="2057400"/>
          </a:xfrm>
        </p:grpSpPr>
        <p:grpSp>
          <p:nvGrpSpPr>
            <p:cNvPr id="44" name=""/>
            <p:cNvGrpSpPr/>
            <p:nvPr/>
          </p:nvGrpSpPr>
          <p:grpSpPr>
            <a:xfrm>
              <a:off x="1225440" y="1830960"/>
              <a:ext cx="6909120" cy="2052360"/>
              <a:chOff x="1225440" y="1830960"/>
              <a:chExt cx="6909120" cy="205236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1225440" y="1830960"/>
                <a:ext cx="3557520" cy="524520"/>
                <a:chOff x="1225440" y="1830960"/>
                <a:chExt cx="3557520" cy="52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1316880" y="1830960"/>
                  <a:ext cx="33742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ללא מקור חיצוני </a:t>
                  </a:r>
                  <a:r>
                    <a:rPr b="0" lang="he-IL" sz="2000" spc="-1" strike="noStrike" u="sng">
                      <a:solidFill>
                        <a:srgbClr val="ffffff"/>
                      </a:solidFill>
                      <a:uFillTx/>
                      <a:latin typeface="Times New Roman"/>
                      <a:ea typeface="Aharoni"/>
                    </a:rPr>
                    <a:t>(הפרעות חרדה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225440" y="1830960"/>
                  <a:ext cx="355752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4783320" y="1830960"/>
                <a:ext cx="3351240" cy="524520"/>
                <a:chOff x="4783320" y="1830960"/>
                <a:chExt cx="3351240" cy="52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4874400" y="1830960"/>
                  <a:ext cx="316872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עם מקור חיצוני </a:t>
                  </a:r>
                  <a:r>
                    <a:rPr b="0" lang="he-IL" sz="2000" spc="-1" strike="noStrike" u="sng">
                      <a:solidFill>
                        <a:srgbClr val="ffffff"/>
                      </a:solidFill>
                      <a:uFillTx/>
                      <a:latin typeface="Times New Roman"/>
                      <a:ea typeface="Aharoni"/>
                    </a:rPr>
                    <a:t>(הפרעות פחד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783320" y="1830960"/>
                  <a:ext cx="335124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1225440" y="2355480"/>
                <a:ext cx="3557520" cy="299520"/>
                <a:chOff x="1225440" y="2355480"/>
                <a:chExt cx="3557520" cy="299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316880" y="2355480"/>
                  <a:ext cx="3374280" cy="29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225440" y="2355480"/>
                  <a:ext cx="3557520" cy="29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783320" y="2355480"/>
                <a:ext cx="3351240" cy="299520"/>
                <a:chOff x="4783320" y="2355480"/>
                <a:chExt cx="3351240" cy="299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874400" y="2355480"/>
                  <a:ext cx="3168720" cy="29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783320" y="2355480"/>
                  <a:ext cx="3351240" cy="29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225440" y="2655000"/>
                <a:ext cx="3557520" cy="426600"/>
                <a:chOff x="1225440" y="2655000"/>
                <a:chExt cx="3557520" cy="4266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316880" y="2655000"/>
                  <a:ext cx="33742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פאניק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25440" y="2655000"/>
                  <a:ext cx="3557520" cy="42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783320" y="2655000"/>
                <a:ext cx="3351240" cy="426600"/>
                <a:chOff x="4783320" y="2655000"/>
                <a:chExt cx="3351240" cy="426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874400" y="2655000"/>
                  <a:ext cx="316872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פוביות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783320" y="2655000"/>
                  <a:ext cx="3351240" cy="42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1225440" y="3081960"/>
                <a:ext cx="3557520" cy="426600"/>
                <a:chOff x="1225440" y="3081960"/>
                <a:chExt cx="3557520" cy="4266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316880" y="3081960"/>
                  <a:ext cx="33742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אגורפובי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225440" y="3081960"/>
                  <a:ext cx="3557520" cy="42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783320" y="3081960"/>
                <a:ext cx="3351240" cy="426600"/>
                <a:chOff x="4783320" y="3081960"/>
                <a:chExt cx="3351240" cy="4266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874400" y="3081960"/>
                  <a:ext cx="316872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פוסט-טראומ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783320" y="3081960"/>
                  <a:ext cx="3351240" cy="42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1225440" y="3508920"/>
                <a:ext cx="3557520" cy="374400"/>
                <a:chOff x="1225440" y="3508920"/>
                <a:chExt cx="3557520" cy="3744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316880" y="3508920"/>
                  <a:ext cx="3374280" cy="37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הפרעת חרדה מוכללת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225440" y="3508920"/>
                  <a:ext cx="3557520" cy="37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783320" y="3508920"/>
                <a:ext cx="3351240" cy="374400"/>
                <a:chOff x="4783320" y="3508920"/>
                <a:chExt cx="3351240" cy="3744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874400" y="3508920"/>
                  <a:ext cx="3168720" cy="37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783320" y="3508920"/>
                  <a:ext cx="3351240" cy="37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1219320" y="1828800"/>
              <a:ext cx="69224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04920" y="4724280"/>
            <a:ext cx="838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    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  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. הפרעות שבהן החרדה מוסק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פרעה טורדנית-כפייתית (אובססיבית-קומפולסיבי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 הפרעות סומטופורמיות (המרה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 הפרעות דיסוציאטיבי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Aharon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אגורפוביה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3880"/>
            <a:ext cx="8229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חרדה בנוגע להמצאות במקומות או מצבים בהם בריחה תהיה בלתי אפשרית או מביכה באופן קיצוני, או שהאפשרות של קבלת עזרה בהם במקרה של התקף אימה לא תהיה קיימ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המנעות מוחלטת מהמקומות או המצבים הללו, או מצוקה רבה בעת שנמצאים בה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מנעות או המצוקה אינם מוסברים טוב יותר על ידי הפרעה נפשית אחר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ת אימה (פאניקה)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23880"/>
            <a:ext cx="82296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גם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התקפי פאניקה חוזרים ונשנים, וג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לפחות אחד מההתקפים לווה בחודש או יותר של אחד (או יותר) מהבאי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א. דאגה מתמדת מקבלה של התקף נוס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ב. דאגה מההשלכות של ההתקף (למשל, להשתגע, למות, לאבד שליטה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ג. שינוי משמעותי בהתנהג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B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אגורפוביה (יש או אין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C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לא תוצר של בעיה רפואי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D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לא מוסבר על ידי הפרעה נפשית אחר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457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ת אימה (פאניקה): מודלים תיאורטיים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523880"/>
            <a:ext cx="82296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cs typeface="Aharoni"/>
              </a:rPr>
              <a:t>ביולוגיים: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מחלה או נטייה למחלה נוירוכימית מורש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cs typeface="Aharoni"/>
              </a:rPr>
              <a:t>פסיכולוגיים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א. התנהגותיים קוגניטיביים: פחד מפח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התנייה פאבלוביאנית לתחושות פנימי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פירוש שגוי קטסטרופאל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רגישות ל(סימפטומי) חרד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ב. פסיכודינמיי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קונפליקט פנימי סביב משאלות מחד ופחד עז מאידך מנסיגה לשלב סימביוטי מוקד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(משאלות תלות מול פחדים של חנק או נטישה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ת אימה (פאניקה): מודל משולב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נטייה מולדת לעוררות ית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ועדות גבוהה יותר לתגובות פחד בגיל מוקד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אינטראקציה עם דמויות הוריות שמגבירות פחד (ציפיות, ביקורת, שליטה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יצירה וקיבוע של קונפליקטים בין תלות לעצמא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פחדים בנוגע לחנק או הלכדות יותר נגישים או זמיני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אזעקת שווא ספונטנית (בתגובה אולי לאירוע לחץ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שר עם תחושות גופני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אזעקה נלמד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ציפיה לחרדות נוספ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מנעות אגורפובית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457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תסמונת פוסט-טראומתית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PTSD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)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חשפות לארוע טראומתי שהיה כרוך ב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חוויה ישירה או עקיפה (עדים לטראומה של מיזהו אחר) של סכנת מוות, פציעה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חמורה, או פגיעה בשלמות העצמ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גובת פחד עז, חוסר אונים ואימה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ארוע הטראומתי שב ונחווה באופנים שונ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המנעות שיטתית מגירויים הקשורים באירוע הטראומת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עוררות מוגברת וחרדה (שלא היו קודם לכן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שך ההפרעה יותר מחוד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פרעה כרוכה במצוקה ניכרת וב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פוביה ספציפית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523880"/>
            <a:ext cx="82296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פחד עז ומתמשך שהוא גם מוגזם וגם לא הגיוני, המופעל על ידי נוכחות (ממשית או נצפית) של אובייקט או מצב מסויי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חשיפה לגירוי הפובי מעוררת כמעט ללא יוצא מהכלל תגובת חרדה מיידית, בדרך כלל בצורה של התקף פאניקה (בילדים יכול להיות בכי, התקף זעם, קפיאה והדבקות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אדם הסובל מכיר בכך שהפחד מוגזם ולחלוטין לא הגיוני (בילדים עשוי לא להתקיי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המנעות מהאובייקט או המצב הפובי, או חרדה ומצוקה ניכרת עם נשארים בנוכחותו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מנעות והציפיה החרדתית ממפגש עם האובייקט גורמים ל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שך ההפרעה הוא לפחות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6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חודש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תנהגות הפובית לא מוסברת טוב יותר על ידי הפרעת חרדה אחר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פוביה חברתית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523880"/>
            <a:ext cx="8229600" cy="68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פחד עז ומתמשך שהוא גם מוגזם וגם לא הגיוני מאחד או יותר מצבים של תפקוד או ביצוע בנוכחות אחרים. הפחד הוא מכשלון והתבזו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חשיפה למצבים החברתיים הללו מעוררת כמעט ללא יוצא מהכלל תגובת חרדה מיידית, בדרך כלל בצורה של התקף פאניקה (בילדים יכול להיות בכי, התקף זעם, קפיאה והדבקות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אדם הסובל מכיר בכך שהפחד מוגזם ולחלוטין לא הגיוני (בילדים עשוי לא להתקיי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המנעות ממצבי תפקוד חברתי אלה, או חרדה ומצוקה ניכרת עם נשארים בה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מנעות והציפיה החרדתית ממפגש עם המצב המפחיד גורמים ל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שך ההפרעה הוא לפחות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6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חודש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תנהגות הפובית לא מוסברת טוב יותר על ידי הפרעות רפואיות או נפשיות אחרו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פחד הוא לא מגמגום, רעידות של פארקינסון, קשיי אכילה בהפרעות אכילה וכיו"ב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פוביה ספציפית: סוגים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חיות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(עכבישים, נחשים, עכברי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סביבות טבעיות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(גבהים, סערות, מי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דם, פציעה, זריקו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מצבים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(מטוסים, מעליות, מקומות סגורי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אחר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(קולות חזקים, הדבקות במחלו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457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תסמונת פוסט-טראומתית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PTSD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): פשוטה ומורכבת. 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523880"/>
            <a:ext cx="82296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cs typeface="Aharoni"/>
              </a:rPr>
              <a:t>פשוט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תאימה לתמונה הקלינית המוגדרת על ידי ה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D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cs typeface="Aharoni"/>
              </a:rPr>
              <a:t>מורכב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כמו פשוטה, ובנוסף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סימפטומים מרובים ודיפוזיים (גופניים, דיסוציאטיביים, אפקטיביים, פוביים, חשדנות, בעיות בתפקוד המיני, ועוד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שינויים מבניים באישיות ובאמונות לגבי העולם (קושי ביחסים בינאישיים, זהות אישית שברירית, לא יציבה, ולא מותאמ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ועדות גבוהה יותר לפגיעות חוזרות ונשנות (מידי עצמו או מידי אחרי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תסמונת לחץ חריף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ASD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)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523880"/>
            <a:ext cx="82296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חשפות לארוע טראומתי שהיה כרוך ב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חוויה ישירה או עקיפה (עדים לטראומה של מיזהו אחר) של סכנת מוות, פציעה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חמורה, או פגיעה בשלמות העצמ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גובת פחד עז, חוסר אונים ואימה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במהלך או לאחר הארוע, מופיעים סימפטומי ניתוק (דיסוציאטיביי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C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הארוע הטראומתי שב ונחווה באופנים שונ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D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קיימת המנעות שיטתית מגירויים הקשורים באירוע הטראומת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E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 קיימת עוררות מוגברת וחרדה (שלא היו קודם לכן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F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 משך ההפרעה ביו יומיים לחודש, ופריצתה לא יותר מחודש לאחר הארוע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G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ההפרעה כרוכה במצוקה ניכרת וב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ת הסתגלות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523880"/>
            <a:ext cx="82296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תפתחות של סימפטומים רגשיים או התנהגותיים בתגובה לגורם לחץ בר-זיהוי בתוך שלושה חודשים מתחילת גורם הלחץ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פרעה כרוכה במצוקה ניכרת וב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פרעה אינה מתאימה לקריטריונים של אבחנה אחרת, או מהווה החמרה של אבחנה אחר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D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לא מדובר באב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E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ברגע שגורם הלחץ הסתיים או עבר, ההפרעה לא נמשכת יותר משישה חודשי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תקף אימה (פאניקה)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523880"/>
            <a:ext cx="82296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פרק זמן של פחד עז או אי-נוחות שבו לפחות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4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מתוך הסימנים הבאים מופיעים בפתאומיות ומגיעים לשיאם תוך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0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דקות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דפיקות לב מואצות.                   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0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פחד מאובדן שליטה, להשתגע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הזעה                                     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פחד מלמ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3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רעידות                                   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חושות עקצוץ ונמלו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4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קוצר נשימה                            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3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חושות קור או חו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5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חושת חנ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6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כאבים בחז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7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בחילה או כאבי בט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8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סחרחורת, על סף התעלפ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9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חושות דפרסונליזציה או דיריאליזצי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08:47:52Z</dcterms:created>
  <dc:creator>Danny Koren</dc:creator>
  <dc:description/>
  <dc:language>en-US</dc:language>
  <cp:lastModifiedBy>Danny Koren</cp:lastModifiedBy>
  <dcterms:modified xsi:type="dcterms:W3CDTF">2002-03-23T18:34:23Z</dcterms:modified>
  <cp:revision>7</cp:revision>
  <dc:subject/>
  <dc:title>PowerPoint Presentation</dc:title>
</cp:coreProperties>
</file>