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77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8876880"/>
            <a:ext cx="2971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mincho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77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04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5960" y="4129200"/>
            <a:ext cx="37904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09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9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09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09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1640" y="4129200"/>
            <a:ext cx="25009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8200" y="4129200"/>
            <a:ext cx="25009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772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772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99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04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5960" y="4129200"/>
            <a:ext cx="37904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77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772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5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5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44964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msmincho"/>
              </a:rPr>
              <a:t>Struktur Organisasi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msmincho"/>
              </a:rPr>
              <a:t>Chemical Di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66760" y="2054160"/>
          <a:ext cx="859932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2054160"/>
                    <a:ext cx="859932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76280" y="4346640"/>
          <a:ext cx="8085240" cy="211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80" y="4346640"/>
                    <a:ext cx="8085240" cy="21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678240" y="4541760"/>
            <a:ext cx="723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N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2200" y="1940040"/>
            <a:ext cx="6303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O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7815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msmincho"/>
              </a:rPr>
              <a:t>Struktur Organisasi Chemical Div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msmincho"/>
              </a:rPr>
              <a:t>N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890640" y="2639880"/>
          <a:ext cx="7091280" cy="26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2639880"/>
                    <a:ext cx="709128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nformation Technology</dc:creator>
  <dc:description/>
  <dc:language>en-US</dc:language>
  <cp:lastModifiedBy/>
  <cp:revision>0</cp:revision>
  <dc:subject/>
  <dc:title>MAPPING DIV. PRODUCT</dc:title>
</cp:coreProperties>
</file>