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882E-08AB-4E01-B856-71C0EB8AF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7A5E-EDCE-4AD7-99BD-17D58BFF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33CB-8FF8-4CB0-BD1C-B31841AA4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A15D-C787-449E-A22D-0C1DA6B0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F68E-193D-4B15-A476-EA633236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07A1-226B-41D7-BD4E-D700DB83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60D1-BFA7-46B0-9BB7-51D74B52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7E71-3E49-4F3E-97DE-C00219E7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6D4E-592A-4656-AB17-2AFEB12E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4649-B0F4-4E84-804A-F16C45EE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7FA5-399A-41CC-BB74-EAB3C9B1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A59A-A3D0-4C3C-B23C-4E3E6AEC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3E5F-8EC8-4A34-9F18-5C5BAF3AA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5400000">
            <a:off x="3181320" y="3200400"/>
            <a:ext cx="27813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ＭＳ Ｐ明朝"/>
              </a:rPr>
              <a:t>コンピューター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ＭＳ Ｐ明朝"/>
              <a:ea typeface="ＭＳ Ｐ明朝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16:56:25Z</dcterms:created>
  <dc:creator>　 </dc:creator>
  <dc:description/>
  <dc:language>en-US</dc:language>
  <cp:lastModifiedBy>　 </cp:lastModifiedBy>
  <dcterms:modified xsi:type="dcterms:W3CDTF">2008-05-22T16:57:32Z</dcterms:modified>
  <cp:revision>1</cp:revision>
  <dc:subject/>
  <dc:title>スライド 1</dc:title>
</cp:coreProperties>
</file>