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A93-5341-46A6-9518-F9D78F76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90A-FA3E-47D8-A230-62006DE1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809-17D1-4C5C-A838-3236E2CA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18E-8162-4307-B07C-2F506BE5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6AF-3E29-497A-B2D0-18161C8D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C96-FA5C-4B13-98CA-719E8915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2A3-A57A-4FA4-B35B-B60507E3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857-910D-4B74-80B5-6C944C38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FE8-DFD5-4213-B88B-14450317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6EE-5A3D-48CF-8C02-8C9A4F90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7E2-F548-47D7-A0A6-07AC816B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78E-BC90-44AB-A83F-DF830708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37577-DA4C-423F-BB11-12A09BF42C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11680" y="13716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355680" y="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499680" y="27432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4213680" cy="45643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-49250520"/>
            <a:ext cx="41148000" cy="49250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709440" y="9489960"/>
            <a:ext cx="26830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6120" y="167641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89600" y="2331720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4120" y="300229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8120" y="364237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-45897840"/>
            <a:ext cx="4389120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  <a:tab algn="l" pos="34023240"/>
                <a:tab algn="l" pos="34747200"/>
                <a:tab algn="l" pos="35471160"/>
                <a:tab algn="l" pos="36195120"/>
                <a:tab algn="l" pos="36919080"/>
                <a:tab algn="l" pos="37642680"/>
                <a:tab algn="l" pos="38366640"/>
                <a:tab algn="l" pos="39090600"/>
                <a:tab algn="l" pos="39814560"/>
                <a:tab algn="l" pos="40538520"/>
                <a:tab algn="l" pos="41262480"/>
                <a:tab algn="l" pos="41986080"/>
                <a:tab algn="l" pos="42710040"/>
                <a:tab algn="l" pos="434340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-41151240" y="-1440"/>
            <a:ext cx="41149800" cy="49251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-45643680" y="-34216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-36576000" y="-27358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-27432000" y="-20500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-18288000" y="-13642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-9144000" y="-6861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51663600" y="-3894120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42291000" y="-314737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3604200" y="-2522520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4231600" y="-1760544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859000" y="-1059480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232680" y="-3321000"/>
            <a:ext cx="26830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9144000" y="-6861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039480" y="-4343400"/>
            <a:ext cx="26830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17907120" y="-135637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27051120" y="-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36195120" y="-272797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-34137720" y="-1440"/>
            <a:ext cx="34137720" cy="45187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-41071680" y="-49707720"/>
            <a:ext cx="41071680" cy="49706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031200" y="-1066788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946600" y="-176785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166920" y="-2461248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39520" y="-3238488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38176200" y="-47040840"/>
            <a:ext cx="3817620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  <a:tab algn="l" pos="34023240"/>
                <a:tab algn="l" pos="34747200"/>
                <a:tab algn="l" pos="35471160"/>
                <a:tab algn="l" pos="36195120"/>
                <a:tab algn="l" pos="36919080"/>
                <a:tab algn="l" pos="3764268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-1440" y="0"/>
            <a:ext cx="41073120" cy="49250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0"/>
          <a:stretch/>
        </p:blipFill>
        <p:spPr>
          <a:xfrm>
            <a:off x="-45643680" y="3413772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-36499680" y="27355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-27432000" y="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3"/>
          <a:stretch/>
        </p:blipFill>
        <p:spPr>
          <a:xfrm>
            <a:off x="-18288000" y="13639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-9144000" y="68580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51435000" y="428245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42976800" y="3703320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3985080" y="307087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5069680" y="2369808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5849720" y="16764120"/>
            <a:ext cx="26830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477120" y="8991720"/>
            <a:ext cx="26830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