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491280"/>
            <a:ext cx="8076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0680" y="114300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49128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0680" y="349128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93080" y="11430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24400" y="11430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49128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93080" y="349128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24400" y="349128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1430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394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0680" y="1143000"/>
            <a:ext cx="394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852"/>
              </a:solidFill>
              <a:latin typeface="Harmony Display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80769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0680" y="1143000"/>
            <a:ext cx="394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49128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394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0680" y="114300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0680" y="349128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0680" y="114300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491280"/>
            <a:ext cx="8076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128080" y="5842080"/>
            <a:ext cx="1015920" cy="10159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595440" y="1144440"/>
            <a:ext cx="778500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852"/>
                </a:solidFill>
                <a:latin typeface="Harmony Display"/>
              </a:rPr>
              <a:t>Click to edit the title text format</a:t>
            </a:r>
            <a:endParaRPr b="1" lang="en-US" sz="32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2120" y="11430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fe7d19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1852"/>
                </a:solidFill>
                <a:latin typeface="Harmony Display"/>
              </a:rPr>
              <a:t>Click to edit the outline text format</a:t>
            </a: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1852"/>
              </a:buClr>
              <a:buFont typeface="Harmony Displ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1852"/>
                </a:solidFill>
                <a:latin typeface="Harmony Display"/>
              </a:rPr>
              <a:t>Second Outline Level</a:t>
            </a: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  <a:p>
            <a:pPr lvl="2" marL="1143000" indent="-228600">
              <a:lnSpc>
                <a:spcPct val="90000"/>
              </a:lnSpc>
              <a:spcBef>
                <a:spcPts val="1301"/>
              </a:spcBef>
              <a:buClr>
                <a:srgbClr val="fe7d19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1852"/>
                </a:solidFill>
                <a:latin typeface="Harmony Display"/>
              </a:rPr>
              <a:t>Third Outline Level</a:t>
            </a: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  <a:p>
            <a:pPr lvl="3" marL="1600200" indent="-228600">
              <a:lnSpc>
                <a:spcPct val="90000"/>
              </a:lnSpc>
              <a:spcBef>
                <a:spcPts val="1301"/>
              </a:spcBef>
              <a:buClr>
                <a:srgbClr val="001852"/>
              </a:buClr>
              <a:buFont typeface="Harmony Displ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1852"/>
                </a:solidFill>
                <a:latin typeface="Harmony Display"/>
              </a:rPr>
              <a:t>Fourth Outline Level</a:t>
            </a: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  <a:p>
            <a:pPr lvl="4" marL="2057400" indent="-228600">
              <a:lnSpc>
                <a:spcPct val="90000"/>
              </a:lnSpc>
              <a:spcBef>
                <a:spcPts val="1301"/>
              </a:spcBef>
              <a:buClr>
                <a:srgbClr val="fe7d19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1852"/>
                </a:solidFill>
                <a:latin typeface="Harmony Display"/>
              </a:rPr>
              <a:t>Fifth Outline Level</a:t>
            </a: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  <a:p>
            <a:pPr lvl="5" marL="2057400" indent="-22860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1852"/>
                </a:solidFill>
                <a:latin typeface="Harmony Display"/>
              </a:rPr>
              <a:t>Sixth Outline Level</a:t>
            </a: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  <a:p>
            <a:pPr lvl="6" marL="2057400" indent="-22860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1852"/>
                </a:solidFill>
                <a:latin typeface="Harmony Display"/>
              </a:rPr>
              <a:t>Seventh Outline Level</a:t>
            </a: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5" name=""/>
          <p:cNvSpPr/>
          <p:nvPr/>
        </p:nvSpPr>
        <p:spPr>
          <a:xfrm>
            <a:off x="6369480" y="6613560"/>
            <a:ext cx="141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armony Display"/>
              </a:rPr>
              <a:t>Telstra in confid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507800" y="6613560"/>
            <a:ext cx="7995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7860-9C55-4BAB-A20F-885116FD2D53}" type="slidenum">
              <a:rPr b="0" lang="en-US" sz="1000" spc="-1" strike="noStrike">
                <a:solidFill>
                  <a:srgbClr val="000000"/>
                </a:solidFill>
                <a:latin typeface="Harmony Displa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852"/>
                </a:solidFill>
                <a:latin typeface="Harmony Display"/>
              </a:rPr>
              <a:t>Telstra Mobile Proposal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3600" spc="-1" strike="noStrike">
                <a:solidFill>
                  <a:srgbClr val="001852"/>
                </a:solidFill>
                <a:latin typeface="Harmony Display"/>
              </a:rPr>
              <a:t>The Institute of Chartered Accountants</a:t>
            </a:r>
            <a:endParaRPr b="1" lang="en-US" sz="3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Harmony Display"/>
              </a:rPr>
              <a:t>Corporate Net Rate</a:t>
            </a: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  <a:p>
            <a:pPr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Harmony Display"/>
              </a:rPr>
              <a:t>January 2005</a:t>
            </a: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45" name=""/>
          <p:cNvSpPr/>
          <p:nvPr/>
        </p:nvSpPr>
        <p:spPr>
          <a:xfrm>
            <a:off x="564840" y="5129280"/>
            <a:ext cx="18388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armony Text"/>
              </a:rPr>
              <a:t>Proposed b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armony Text"/>
              </a:rPr>
              <a:t>Matthew Tho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852"/>
                </a:solidFill>
                <a:latin typeface="Harmony Display"/>
              </a:rPr>
              <a:t>Current Situation</a:t>
            </a:r>
            <a:endParaRPr b="1" lang="en-US" sz="32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fe7d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Institute of Chartered Accountants currently have 31 mobiles with 3 different providers (Telstra, Optus &amp; Vodafone).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fe7d19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Harmony Display"/>
              </a:rPr>
              <a:t>The average spend per user is approximately $95 per month.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fe7d19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Harmony Display"/>
              </a:rPr>
              <a:t>The combined group spend is approximately $2,900 per month.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fe7d19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Harmony Display"/>
              </a:rPr>
              <a:t>The Institute of Chartered Accountants are currently reviewing their mobile spend on all 3 providers, with the view of having one provider for all mobile services.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fe7d19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Harmony Display"/>
              </a:rPr>
              <a:t>Telstra currently supplies Fixed line services.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852"/>
                </a:solidFill>
                <a:latin typeface="Harmony Display"/>
              </a:rPr>
              <a:t>Proposed Solution</a:t>
            </a:r>
            <a:endParaRPr b="1" lang="en-US" sz="32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8280" indent="-188280"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1852"/>
                </a:solidFill>
                <a:latin typeface="Harmony Display"/>
              </a:rPr>
              <a:t>Telstra would like to propose the following solution to 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marL="188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1852"/>
                </a:solidFill>
                <a:latin typeface="Harmony Display"/>
              </a:rPr>
              <a:t>           </a:t>
            </a:r>
            <a:r>
              <a:rPr b="1" lang="en-AU" sz="2000" spc="-1" strike="noStrike">
                <a:solidFill>
                  <a:srgbClr val="001852"/>
                </a:solidFill>
                <a:latin typeface="Harmony Display"/>
              </a:rPr>
              <a:t>The Institute of Chartered Accountants: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lvl="1" marL="760320" indent="-2826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Harmony Displ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1852"/>
                </a:solidFill>
                <a:latin typeface="Harmony Display"/>
              </a:rPr>
              <a:t>Corporate Net Rate pricing with the following benefits:</a:t>
            </a:r>
            <a:endParaRPr b="1" lang="en-US" sz="1600" spc="-1" strike="noStrike">
              <a:solidFill>
                <a:srgbClr val="001852"/>
              </a:solidFill>
              <a:latin typeface="Harmony Display"/>
            </a:endParaRPr>
          </a:p>
          <a:p>
            <a:pPr lvl="2" marL="1175400" indent="-226080">
              <a:lnSpc>
                <a:spcPct val="90000"/>
              </a:lnSpc>
              <a:spcBef>
                <a:spcPts val="799"/>
              </a:spcBef>
              <a:buClr>
                <a:srgbClr val="fe7d19"/>
              </a:buClr>
              <a:buFont typeface="Harmony Displa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1852"/>
                </a:solidFill>
                <a:latin typeface="Harmony Display"/>
              </a:rPr>
              <a:t>Negotiated Pricing</a:t>
            </a:r>
            <a:endParaRPr b="1" lang="en-US" sz="1600" spc="-1" strike="noStrike">
              <a:solidFill>
                <a:srgbClr val="001852"/>
              </a:solidFill>
              <a:latin typeface="Harmony Display"/>
            </a:endParaRPr>
          </a:p>
          <a:p>
            <a:pPr lvl="2" marL="1175400" indent="-226080">
              <a:lnSpc>
                <a:spcPct val="90000"/>
              </a:lnSpc>
              <a:spcBef>
                <a:spcPts val="799"/>
              </a:spcBef>
              <a:buClr>
                <a:srgbClr val="fe7d19"/>
              </a:buClr>
              <a:buFont typeface="Harmony Displa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1852"/>
                </a:solidFill>
                <a:latin typeface="Harmony Display"/>
              </a:rPr>
              <a:t>Per Second Billing</a:t>
            </a:r>
            <a:endParaRPr b="1" lang="en-US" sz="1600" spc="-1" strike="noStrike">
              <a:solidFill>
                <a:srgbClr val="001852"/>
              </a:solidFill>
              <a:latin typeface="Harmony Display"/>
            </a:endParaRPr>
          </a:p>
          <a:p>
            <a:pPr lvl="2" marL="1175400" indent="-226080">
              <a:lnSpc>
                <a:spcPct val="90000"/>
              </a:lnSpc>
              <a:spcBef>
                <a:spcPts val="799"/>
              </a:spcBef>
              <a:buClr>
                <a:srgbClr val="fe7d19"/>
              </a:buClr>
              <a:buFont typeface="Harmony Displa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1852"/>
                </a:solidFill>
                <a:latin typeface="Harmony Display"/>
              </a:rPr>
              <a:t>Reduced Flagfall charges</a:t>
            </a:r>
            <a:endParaRPr b="1" lang="en-US" sz="1600" spc="-1" strike="noStrike">
              <a:solidFill>
                <a:srgbClr val="001852"/>
              </a:solidFill>
              <a:latin typeface="Harmony Display"/>
            </a:endParaRPr>
          </a:p>
          <a:p>
            <a:pPr lvl="2" marL="1175400" indent="-226080">
              <a:lnSpc>
                <a:spcPct val="90000"/>
              </a:lnSpc>
              <a:spcBef>
                <a:spcPts val="799"/>
              </a:spcBef>
              <a:buClr>
                <a:srgbClr val="fe7d19"/>
              </a:buClr>
              <a:buFont typeface="Harmony Displa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1852"/>
                </a:solidFill>
                <a:latin typeface="Harmony Display"/>
              </a:rPr>
              <a:t>Monthly Loyalty Credits</a:t>
            </a:r>
            <a:endParaRPr b="1" lang="en-US" sz="1600" spc="-1" strike="noStrike">
              <a:solidFill>
                <a:srgbClr val="001852"/>
              </a:solidFill>
              <a:latin typeface="Harmony Display"/>
            </a:endParaRPr>
          </a:p>
          <a:p>
            <a:pPr lvl="2" marL="1175400" indent="-226080">
              <a:lnSpc>
                <a:spcPct val="90000"/>
              </a:lnSpc>
              <a:spcBef>
                <a:spcPts val="799"/>
              </a:spcBef>
              <a:buClr>
                <a:srgbClr val="fe7d19"/>
              </a:buClr>
              <a:buFont typeface="Harmony Displa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1852"/>
                </a:solidFill>
                <a:latin typeface="Harmony Display"/>
              </a:rPr>
              <a:t>Grouping Flexibility</a:t>
            </a:r>
            <a:endParaRPr b="1" lang="en-US" sz="1600" spc="-1" strike="noStrike">
              <a:solidFill>
                <a:srgbClr val="001852"/>
              </a:solidFill>
              <a:latin typeface="Harmony Display"/>
            </a:endParaRPr>
          </a:p>
          <a:p>
            <a:pPr lvl="2" marL="1175400" indent="-226080">
              <a:lnSpc>
                <a:spcPct val="90000"/>
              </a:lnSpc>
              <a:spcBef>
                <a:spcPts val="799"/>
              </a:spcBef>
              <a:buClr>
                <a:srgbClr val="fe7d19"/>
              </a:buClr>
              <a:buFont typeface="Harmony Displa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1852"/>
                </a:solidFill>
                <a:latin typeface="Harmony Display"/>
              </a:rPr>
              <a:t>Reduced Call Rate Bonuses</a:t>
            </a:r>
            <a:endParaRPr b="1" lang="en-US" sz="1600" spc="-1" strike="noStrike">
              <a:solidFill>
                <a:srgbClr val="001852"/>
              </a:solidFill>
              <a:latin typeface="Harmony Display"/>
            </a:endParaRPr>
          </a:p>
          <a:p>
            <a:pPr lvl="2" marL="1175400" indent="-226080">
              <a:lnSpc>
                <a:spcPct val="90000"/>
              </a:lnSpc>
              <a:spcBef>
                <a:spcPts val="799"/>
              </a:spcBef>
              <a:buClr>
                <a:srgbClr val="fe7d19"/>
              </a:buClr>
              <a:buFont typeface="Harmony Displa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1852"/>
                </a:solidFill>
                <a:latin typeface="Harmony Display"/>
              </a:rPr>
              <a:t>Combine with your Fixed Line for greater Savings on your Telstra services (It is cheaper to call a Telstra mobile from a fixed line than a mobile on another network).</a:t>
            </a:r>
            <a:endParaRPr b="1" lang="en-US" sz="1600" spc="-1" strike="noStrike">
              <a:solidFill>
                <a:srgbClr val="001852"/>
              </a:solidFill>
              <a:latin typeface="Harmony Display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852"/>
                </a:solidFill>
                <a:latin typeface="Harmony Display"/>
              </a:rPr>
              <a:t>Corporate Net Rate Bonuses</a:t>
            </a:r>
            <a:endParaRPr b="1" lang="en-US" sz="28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68240" indent="-285480">
              <a:lnSpc>
                <a:spcPct val="70000"/>
              </a:lnSpc>
              <a:spcBef>
                <a:spcPts val="700"/>
              </a:spcBef>
              <a:buClr>
                <a:srgbClr val="001852"/>
              </a:buClr>
              <a:buFont typeface="Harmony Displ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1852"/>
                </a:solidFill>
                <a:latin typeface="Harmony Display"/>
              </a:rPr>
              <a:t>Receive one of these great bonus Options Immediately</a:t>
            </a:r>
            <a:r>
              <a:rPr b="0" lang="en-AU" sz="1400" spc="-1" strike="noStrike">
                <a:solidFill>
                  <a:srgbClr val="001852"/>
                </a:solidFill>
                <a:latin typeface="Harmony Display"/>
              </a:rPr>
              <a:t>:</a:t>
            </a:r>
            <a:endParaRPr b="1" lang="en-US" sz="1400" spc="-1" strike="noStrike">
              <a:solidFill>
                <a:srgbClr val="001852"/>
              </a:solidFill>
              <a:latin typeface="Harmony Display"/>
            </a:endParaRPr>
          </a:p>
          <a:p>
            <a:pPr marL="1904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1" lang="en-AU" sz="17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1" lang="en-AU" sz="1600" spc="-1" strike="noStrike" u="sng">
                <a:solidFill>
                  <a:srgbClr val="001852"/>
                </a:solidFill>
                <a:uFillTx/>
                <a:latin typeface="Harmony Display"/>
              </a:rPr>
              <a:t>On-Net:</a:t>
            </a:r>
            <a:endParaRPr b="1" lang="en-US" sz="1600" spc="-1" strike="noStrike">
              <a:solidFill>
                <a:srgbClr val="001852"/>
              </a:solidFill>
              <a:latin typeface="Harmony Display"/>
            </a:endParaRPr>
          </a:p>
          <a:p>
            <a:pPr lvl="1" marL="7682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0" lang="en-AU" sz="12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0" lang="en-AU" sz="1400" spc="-1" strike="noStrike">
                <a:solidFill>
                  <a:srgbClr val="001852"/>
                </a:solidFill>
                <a:latin typeface="Harmony Display"/>
              </a:rPr>
              <a:t>call ANY Telstra mobile at ANY time within Australia for only </a:t>
            </a:r>
            <a:r>
              <a:rPr b="1" i="1" lang="en-AU" sz="1400" spc="-1" strike="noStrike">
                <a:solidFill>
                  <a:srgbClr val="001852"/>
                </a:solidFill>
                <a:latin typeface="Harmony Display"/>
              </a:rPr>
              <a:t>4 cents</a:t>
            </a:r>
            <a:r>
              <a:rPr b="0" lang="en-AU" sz="1400" spc="-1" strike="noStrike">
                <a:solidFill>
                  <a:srgbClr val="001852"/>
                </a:solidFill>
                <a:latin typeface="Harmony Display"/>
              </a:rPr>
              <a:t> per 30 seconds                                   </a:t>
            </a:r>
            <a:r>
              <a:rPr b="0" lang="en-AU" sz="14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0" lang="en-AU" sz="1400" spc="-1" strike="noStrike">
                <a:solidFill>
                  <a:srgbClr val="001852"/>
                </a:solidFill>
                <a:latin typeface="Harmony Display"/>
              </a:rPr>
              <a:t>(calls charges per second plus 15 cent flagfall)</a:t>
            </a:r>
            <a:endParaRPr b="1" lang="en-US" sz="1400" spc="-1" strike="noStrike">
              <a:solidFill>
                <a:srgbClr val="001852"/>
              </a:solidFill>
              <a:latin typeface="Harmony Display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A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lstra Mobile Net:</a:t>
            </a:r>
            <a:r>
              <a:rPr b="0" lang="en-AU" sz="1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AU" sz="1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en-AU" sz="10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r>
              <a:rPr b="0" lang="en-AU" sz="1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endParaRPr b="1" lang="en-US" sz="1000" spc="-1" strike="noStrike">
              <a:solidFill>
                <a:srgbClr val="001852"/>
              </a:solidFill>
              <a:latin typeface="Harmony Display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Call any Telstra mobile at any time 8c per 30 seconds.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1400" spc="-1" strike="noStrike">
              <a:solidFill>
                <a:srgbClr val="001852"/>
              </a:solidFill>
              <a:latin typeface="Harmony Display"/>
            </a:endParaRPr>
          </a:p>
          <a:p>
            <a:pPr lvl="2" marL="11872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 u="sng">
                <a:solidFill>
                  <a:srgbClr val="001852"/>
                </a:solidFill>
                <a:uFillTx/>
                <a:latin typeface="Harmony Display"/>
              </a:rPr>
              <a:t>Any Mobile:</a:t>
            </a:r>
            <a:endParaRPr b="1" lang="en-US" sz="1600" spc="-1" strike="noStrike">
              <a:solidFill>
                <a:srgbClr val="001852"/>
              </a:solidFill>
              <a:latin typeface="Harmony Display"/>
            </a:endParaRPr>
          </a:p>
          <a:p>
            <a:pPr lvl="1" marL="7682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0" lang="en-AU" sz="16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0" lang="en-AU" sz="1600" spc="-1" strike="noStrike">
                <a:solidFill>
                  <a:srgbClr val="001852"/>
                </a:solidFill>
                <a:latin typeface="Harmony Display"/>
              </a:rPr>
              <a:t>C</a:t>
            </a:r>
            <a:r>
              <a:rPr b="0" lang="en-AU" sz="1400" spc="-1" strike="noStrike">
                <a:solidFill>
                  <a:srgbClr val="001852"/>
                </a:solidFill>
                <a:latin typeface="Harmony Display"/>
              </a:rPr>
              <a:t>all ANY mobile on ANY network within Australia for only </a:t>
            </a:r>
            <a:r>
              <a:rPr b="1" i="1" lang="en-AU" sz="1400" spc="-1" strike="noStrike">
                <a:solidFill>
                  <a:srgbClr val="001852"/>
                </a:solidFill>
                <a:latin typeface="Harmony Display"/>
              </a:rPr>
              <a:t>11 cents </a:t>
            </a:r>
            <a:r>
              <a:rPr b="0" lang="en-AU" sz="1400" spc="-1" strike="noStrike">
                <a:solidFill>
                  <a:srgbClr val="001852"/>
                </a:solidFill>
                <a:latin typeface="Harmony Display"/>
              </a:rPr>
              <a:t>per 30 seconds (calls per </a:t>
            </a:r>
            <a:r>
              <a:rPr b="0" lang="en-AU" sz="14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0" lang="en-AU" sz="1400" spc="-1" strike="noStrike">
                <a:solidFill>
                  <a:srgbClr val="001852"/>
                </a:solidFill>
                <a:latin typeface="Harmony Display"/>
              </a:rPr>
              <a:t>second plus 15 cent flagfall)</a:t>
            </a:r>
            <a:endParaRPr b="1" lang="en-US" sz="1400" spc="-1" strike="noStrike">
              <a:solidFill>
                <a:srgbClr val="001852"/>
              </a:solidFill>
              <a:latin typeface="Harmony Display"/>
            </a:endParaRPr>
          </a:p>
          <a:p>
            <a:pPr lvl="1" marL="7682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1" lang="en-AU" sz="16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1" lang="en-AU" sz="1600" spc="-1" strike="noStrike" u="sng">
                <a:solidFill>
                  <a:srgbClr val="001852"/>
                </a:solidFill>
                <a:uFillTx/>
                <a:latin typeface="Harmony Display"/>
              </a:rPr>
              <a:t>Business Hours:</a:t>
            </a:r>
            <a:endParaRPr b="1" lang="en-US" sz="1600" spc="-1" strike="noStrike">
              <a:solidFill>
                <a:srgbClr val="001852"/>
              </a:solidFill>
              <a:latin typeface="Harmony Display"/>
            </a:endParaRPr>
          </a:p>
          <a:p>
            <a:pPr lvl="1" marL="7682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0" lang="en-AU" sz="16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0" lang="en-AU" sz="1400" spc="-1" strike="noStrike">
                <a:solidFill>
                  <a:srgbClr val="001852"/>
                </a:solidFill>
                <a:latin typeface="Harmony Display"/>
              </a:rPr>
              <a:t>Call ANY mobile or ANY fixed line within Australia for only </a:t>
            </a:r>
            <a:r>
              <a:rPr b="1" i="1" lang="en-AU" sz="1400" spc="-1" strike="noStrike">
                <a:solidFill>
                  <a:srgbClr val="001852"/>
                </a:solidFill>
                <a:latin typeface="Harmony Display"/>
              </a:rPr>
              <a:t>15 cents</a:t>
            </a:r>
            <a:r>
              <a:rPr b="0" lang="en-AU" sz="1400" spc="-1" strike="noStrike">
                <a:solidFill>
                  <a:srgbClr val="001852"/>
                </a:solidFill>
                <a:latin typeface="Harmony Display"/>
              </a:rPr>
              <a:t> per 30 seconds (calls </a:t>
            </a:r>
            <a:r>
              <a:rPr b="0" lang="en-AU" sz="14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0" lang="en-AU" sz="1400" spc="-1" strike="noStrike">
                <a:solidFill>
                  <a:srgbClr val="001852"/>
                </a:solidFill>
                <a:latin typeface="Harmony Display"/>
              </a:rPr>
              <a:t>charged per second plus 15 cent flagfall)</a:t>
            </a:r>
            <a:endParaRPr b="1" lang="en-US" sz="1400" spc="-1" strike="noStrike">
              <a:solidFill>
                <a:srgbClr val="001852"/>
              </a:solidFill>
              <a:latin typeface="Harmony Display"/>
            </a:endParaRPr>
          </a:p>
          <a:p>
            <a:pPr lvl="2" marL="11872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 u="sng">
                <a:solidFill>
                  <a:srgbClr val="001852"/>
                </a:solidFill>
                <a:uFillTx/>
                <a:latin typeface="Harmony Display"/>
              </a:rPr>
              <a:t>Intra – Account:</a:t>
            </a:r>
            <a:endParaRPr b="1" lang="en-US" sz="1600" spc="-1" strike="noStrike">
              <a:solidFill>
                <a:srgbClr val="001852"/>
              </a:solidFill>
              <a:latin typeface="Harmony Display"/>
            </a:endParaRPr>
          </a:p>
          <a:p>
            <a:pPr lvl="1" marL="7682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0" lang="en-AU" sz="16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0" lang="en-AU" sz="1400" spc="-1" strike="noStrike">
                <a:solidFill>
                  <a:srgbClr val="001852"/>
                </a:solidFill>
                <a:latin typeface="Harmony Display"/>
              </a:rPr>
              <a:t>Call ANY mobile within your mobile fleet within Australia for the first 5 minutes </a:t>
            </a:r>
            <a:r>
              <a:rPr b="1" lang="en-AU" sz="1400" spc="-1" strike="noStrike">
                <a:solidFill>
                  <a:srgbClr val="001852"/>
                </a:solidFill>
                <a:latin typeface="Harmony Display"/>
              </a:rPr>
              <a:t>free</a:t>
            </a:r>
            <a:r>
              <a:rPr b="0" lang="en-AU" sz="1400" spc="-1" strike="noStrike">
                <a:solidFill>
                  <a:srgbClr val="001852"/>
                </a:solidFill>
                <a:latin typeface="Harmony Display"/>
              </a:rPr>
              <a:t> then </a:t>
            </a:r>
            <a:r>
              <a:rPr b="1" i="1" lang="en-AU" sz="1400" spc="-1" strike="noStrike">
                <a:solidFill>
                  <a:srgbClr val="001852"/>
                </a:solidFill>
                <a:latin typeface="Harmony Display"/>
              </a:rPr>
              <a:t>5 </a:t>
            </a:r>
            <a:r>
              <a:rPr b="1" i="1" lang="en-AU" sz="14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1" i="1" lang="en-AU" sz="1400" spc="-1" strike="noStrike">
                <a:solidFill>
                  <a:srgbClr val="001852"/>
                </a:solidFill>
                <a:latin typeface="Harmony Display"/>
              </a:rPr>
              <a:t>cents </a:t>
            </a:r>
            <a:r>
              <a:rPr b="0" lang="en-AU" sz="1400" spc="-1" strike="noStrike">
                <a:solidFill>
                  <a:srgbClr val="001852"/>
                </a:solidFill>
                <a:latin typeface="Harmony Display"/>
              </a:rPr>
              <a:t>per 30 seconds (calls charged per second plus 15 cent flagfall)</a:t>
            </a:r>
            <a:endParaRPr b="1" lang="en-US" sz="1400" spc="-1" strike="noStrike">
              <a:solidFill>
                <a:srgbClr val="001852"/>
              </a:solidFill>
              <a:latin typeface="Harmony Display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A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rporate Free Flagfall:</a:t>
            </a:r>
            <a:r>
              <a:rPr b="1" lang="en-AU" sz="1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AU" sz="1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endParaRPr b="1" lang="en-US" sz="1000" spc="-1" strike="noStrike">
              <a:solidFill>
                <a:srgbClr val="001852"/>
              </a:solidFill>
              <a:latin typeface="Harmony Display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No flagfall to all National calls. (fixed &amp; mobile calls)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1000" spc="-1" strike="noStrike">
              <a:solidFill>
                <a:srgbClr val="001852"/>
              </a:solidFill>
              <a:latin typeface="Harmony Display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852"/>
                </a:solidFill>
                <a:latin typeface="Harmony Display"/>
              </a:rPr>
              <a:t>Corporate Net Rate Bonuses Part 2</a:t>
            </a:r>
            <a:endParaRPr b="1" lang="en-US" sz="28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lvl="1" marL="768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lvl="1" marL="768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lvl="1" marL="768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0" lang="en-US" sz="1500" spc="-1" strike="noStrike">
                <a:solidFill>
                  <a:srgbClr val="001852"/>
                </a:solidFill>
                <a:latin typeface="Harmony Display"/>
              </a:rPr>
              <a:t> </a:t>
            </a:r>
            <a:endParaRPr b="1" lang="en-US" sz="1500" spc="-1" strike="noStrike">
              <a:solidFill>
                <a:srgbClr val="001852"/>
              </a:solidFill>
              <a:latin typeface="Harmony Display"/>
            </a:endParaRPr>
          </a:p>
          <a:p>
            <a:pPr lvl="2" marL="1187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557360"/>
            <a:ext cx="8458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lvl="1" marL="506880" indent="-188280">
              <a:lnSpc>
                <a:spcPct val="80000"/>
              </a:lnSpc>
              <a:spcBef>
                <a:spcPts val="1001"/>
              </a:spcBef>
              <a:buClr>
                <a:srgbClr val="001852"/>
              </a:buClr>
              <a:buFont typeface="Harmony Displ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1852"/>
                </a:solidFill>
                <a:latin typeface="Harmony Display"/>
              </a:rPr>
              <a:t>Receive the benefits of Credits on your Account: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5640" indent="-1256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83360" indent="-150840">
              <a:lnSpc>
                <a:spcPct val="80000"/>
              </a:lnSpc>
              <a:spcBef>
                <a:spcPts val="901"/>
              </a:spcBef>
              <a:buClr>
                <a:srgbClr val="fe7d1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1852"/>
                </a:solidFill>
                <a:latin typeface="Harmony Display"/>
              </a:rPr>
              <a:t>Monthly Loyalty Cred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3360" indent="-150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1852"/>
                </a:solidFill>
                <a:latin typeface="Harmony Display"/>
              </a:rPr>
              <a:t>   </a:t>
            </a:r>
            <a:r>
              <a:rPr b="0" lang="en-AU" sz="1800" spc="-1" strike="noStrike">
                <a:solidFill>
                  <a:srgbClr val="001852"/>
                </a:solidFill>
                <a:latin typeface="Harmony Display"/>
              </a:rPr>
              <a:t>Each phone receives a monthly loyalty credit on the 24 month agreement. This credit can either be used to reduce the cost of your bill or to purchase hardware.</a:t>
            </a:r>
            <a:r>
              <a:rPr b="1" lang="en-AU" sz="1800" spc="-1" strike="noStrike">
                <a:solidFill>
                  <a:srgbClr val="001852"/>
                </a:solidFill>
                <a:latin typeface="Harmony Display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3360" indent="-150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1852"/>
                </a:solidFill>
                <a:latin typeface="Harmony Display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3360" indent="-150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1852"/>
                </a:solidFill>
                <a:latin typeface="Harmony Display"/>
              </a:rPr>
              <a:t>   </a:t>
            </a:r>
            <a:r>
              <a:rPr b="1" lang="en-AU" sz="1800" spc="-1" strike="noStrike">
                <a:solidFill>
                  <a:srgbClr val="001852"/>
                </a:solidFill>
                <a:latin typeface="Harmony Display"/>
              </a:rPr>
              <a:t>For 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3360" indent="-150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1852"/>
                </a:solidFill>
                <a:latin typeface="Harmony Display"/>
              </a:rPr>
              <a:t>   </a:t>
            </a:r>
            <a:r>
              <a:rPr b="0" lang="en-AU" sz="1800" spc="-1" strike="noStrike">
                <a:solidFill>
                  <a:srgbClr val="001852"/>
                </a:solidFill>
                <a:latin typeface="Harmony Display"/>
              </a:rPr>
              <a:t>You would receive a $15 credit each month for 24 months on a $70 plan (recommended pla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3360" indent="-150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3360" indent="-150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1852"/>
                </a:solidFill>
                <a:latin typeface="Harmony Display"/>
              </a:rPr>
              <a:t>   </a:t>
            </a:r>
            <a:r>
              <a:rPr b="0" lang="en-AU" sz="1800" spc="-1" strike="noStrike">
                <a:solidFill>
                  <a:srgbClr val="001852"/>
                </a:solidFill>
                <a:latin typeface="Harmony Display"/>
              </a:rPr>
              <a:t>Multiply this by your 31 services (31 x 15 x 24) and you will receive $11,160 in loyalty credits over the term of the agre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3360" indent="-150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880" indent="-1882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880" indent="-1882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880" indent="-1882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880" indent="-1882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1852"/>
                </a:solidFill>
                <a:latin typeface="Harmony Display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880" indent="-1882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1" i="1" lang="en-AU" sz="1800" spc="-1" strike="noStrike">
                <a:solidFill>
                  <a:srgbClr val="ff6600"/>
                </a:solidFill>
                <a:latin typeface="Harmony Display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880" indent="-1882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880" indent="-188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1852"/>
                </a:solidFill>
                <a:latin typeface="Harmony Display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880" indent="-188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0" lang="en-AU" sz="1000" spc="-1" strike="noStrike">
                <a:solidFill>
                  <a:srgbClr val="001852"/>
                </a:solidFill>
                <a:latin typeface="Harmony Display"/>
              </a:rPr>
              <a:t>^monthly loyalty credits are paid in installments per service per month over 24 months based on each individual phone commitment .</a:t>
            </a:r>
            <a:r>
              <a:rPr b="0" lang="en-AU" sz="10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0" lang="en-AU" sz="1000" spc="-1" strike="noStrike">
                <a:solidFill>
                  <a:srgbClr val="001852"/>
                </a:solidFill>
                <a:latin typeface="Harmony Display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24000" y="260280"/>
          <a:ext cx="8076960" cy="5432400"/>
        </p:xfrm>
        <a:graphic>
          <a:graphicData uri="http://schemas.openxmlformats.org/drawingml/2006/table">
            <a:tbl>
              <a:tblPr/>
              <a:tblGrid>
                <a:gridCol w="1619280"/>
                <a:gridCol w="1076040"/>
                <a:gridCol w="1076400"/>
                <a:gridCol w="1076400"/>
                <a:gridCol w="1076400"/>
                <a:gridCol w="1076040"/>
                <a:gridCol w="1076400"/>
              </a:tblGrid>
              <a:tr h="94716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PORATE NET RATE - (24 Month Agreemen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THLY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CLUDED CA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GF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L RATE (per 30 se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thly Loyalty Bon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Month Loyalty 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STOWAL 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Ho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Ho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Ho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Ho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Ho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Ho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852"/>
                </a:solidFill>
                <a:latin typeface="Harmony Display"/>
              </a:rPr>
              <a:t>Hardware</a:t>
            </a:r>
            <a:endParaRPr b="1" lang="en-US" sz="28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Harmony Display"/>
              </a:rPr>
              <a:t>Flexible Options for Purchasing Hardware: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Harmony Display"/>
              </a:rPr>
              <a:t>Monthly Repayment Options: Defer the outright cost of the device by repaying it over a fixed term with no interest. (certain repayment levels apply and some restrictions apply on certain plans.)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Harmony Display"/>
              </a:rPr>
              <a:t>Outright Purchasing: Purchase Hardware in full and the cost can be invoiced to the organisation.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Harmony Display"/>
              </a:rPr>
              <a:t>Delivery: Order direct from Telstra Shop North Sydney and the hardware will be shipped directly to you at no extra charge.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Harmony Display"/>
              </a:rPr>
              <a:t>Telstra Shop North Sydney has a full Range of the latest mobile products on the market including Blackberry.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Harmony Display"/>
              </a:rPr>
              <a:t> 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852"/>
                </a:solidFill>
                <a:latin typeface="Harmony Display"/>
              </a:rPr>
              <a:t>Why Telstra?</a:t>
            </a:r>
            <a:endParaRPr b="1" lang="en-US" sz="28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e7d19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Harmony Display"/>
              </a:rPr>
              <a:t>Telstra has both the largest GSM and CDMA networks in Australia in terms of Network Coverage.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e7d19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Harmony Display"/>
              </a:rPr>
              <a:t>Dedicated Account Management team from Telstra and the team at the Telstra Shop North Sydney.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e7d19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Harmony Display"/>
              </a:rPr>
              <a:t>Leaders in the latest Wireless Data technologies including Blackberry, Push2Talk, CDMA 1X, Wireless PC card.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e7d19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Harmony Display"/>
              </a:rPr>
              <a:t>Convenience of single billing with your fixed line services.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e7d19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Harmony Display"/>
              </a:rPr>
              <a:t>Competitive Pricing with constant reviews.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e7d19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1852"/>
                </a:solidFill>
                <a:latin typeface="Harmony Display"/>
              </a:rPr>
              <a:t>Telstra offers solutions for your telecommunication needs, not just competitive pricing.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marL="34308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  <a:p>
            <a:pPr marL="34308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7:02:39Z</dcterms:created>
  <dc:creator>Amardeep Toor</dc:creator>
  <dc:description/>
  <dc:language>en-US</dc:language>
  <cp:lastModifiedBy> </cp:lastModifiedBy>
  <dcterms:modified xsi:type="dcterms:W3CDTF">2005-01-31T22:56:03Z</dcterms:modified>
  <cp:revision>39</cp:revision>
  <dc:subject/>
  <dc:title>PowerPoint Presentation</dc:title>
</cp:coreProperties>
</file>