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9F9-3A3E-4B6C-92F8-C8FC5575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307-F37C-4E4A-AD0C-9EA325C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4C3-ADFF-4556-90C7-A2933FC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604-3EDC-44D1-B600-CEF2ECC2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F53-B032-47CB-B3D9-A241DDF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21D-A684-4DF2-B9DC-2C2ED54B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DC1-8D74-4408-809E-9C00FAFE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DB0-E4C5-4BFE-B801-060BFB1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887-2182-4D77-86C9-17CA9733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D00-C3BE-4B8E-A966-7043AD3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57E-C043-4922-BC31-80953E3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0A4-14D7-4A15-A2A3-441F31D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DE0-61AA-4BFD-A366-16E39CC6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ng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 Gray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png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27:25Z</dcterms:created>
  <dc:creator/>
  <dc:description/>
  <dc:language>en-US</dc:language>
  <cp:lastModifiedBy>svege</cp:lastModifiedBy>
  <dcterms:modified xsi:type="dcterms:W3CDTF">2010-09-06T10:30:00Z</dcterms:modified>
  <cp:revision>2</cp:revision>
  <dc:subject/>
  <dc:title>Picture Original</dc:title>
</cp:coreProperties>
</file>