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20C-BF25-481A-99F4-3535FE9D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753-BA21-4E8C-9D6E-C9034FF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A25-F6FB-475A-A58B-1FCAC040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D06-567C-4631-9A50-D82CA7D8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0A4-CCD9-4E8D-AABE-DD1EA0C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357-67CB-404E-B9C5-515CBB34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304-FF6D-4B26-AB73-AB324552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24B-B008-4A5E-918A-B4CE455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206-A7D3-4C68-A876-9069FFD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F4F-FB91-41FB-BA35-D4D7391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F36-4CCC-49F3-9898-6A17531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A8A-D13F-443B-8160-82CDB66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462-33B3-4D5F-A7D4-67718645D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Box 5"/>
          <p:cNvSpPr/>
          <p:nvPr/>
        </p:nvSpPr>
        <p:spPr>
          <a:xfrm>
            <a:off x="175248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and white area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yovai</cp:lastModifiedBy>
  <dcterms:modified xsi:type="dcterms:W3CDTF">2010-06-29T06:52:55Z</dcterms:modified>
  <cp:revision>5</cp:revision>
  <dc:subject/>
  <dc:title>PowerPoint Presentation</dc:title>
</cp:coreProperties>
</file>