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B42-0FA0-45FF-B05E-9717F36F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665-B3A8-40FD-BA85-1FC41DB4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46C-5367-44C5-ADB4-340F30EB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7ED-0380-41E8-B147-894B2497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AAA-16F2-4E23-8D04-211ACAF2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B91-024E-4159-92ED-2FF9C46E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171-F9C3-4DAA-AC1E-45E6F8BC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0E0-B0C6-4338-AEC4-48AFE9B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37D-0639-4DD6-B764-E5810620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413-E5AC-4ABC-99DB-9680CD35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92F-AF60-442F-B341-1C3F77E2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22D-34B5-47DC-A332-14D9B215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5333-3D50-4062-B0F9-EF389B4BE0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82600" y="2084400"/>
          <a:ext cx="5645160" cy="409680"/>
        </p:xfrm>
        <a:graphic>
          <a:graphicData uri="http://schemas.openxmlformats.org/drawingml/2006/table">
            <a:tbl>
              <a:tblPr/>
              <a:tblGrid>
                <a:gridCol w="560520"/>
                <a:gridCol w="4627440"/>
                <a:gridCol w="185760"/>
                <a:gridCol w="271440"/>
              </a:tblGrid>
              <a:tr h="369720">
                <a:tc>
                  <a:txBody>
                    <a:bodyPr lIns="72000" rIns="72000" tIns="432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0" rIns="72000" tIns="432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testing a test tex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f9e"/>
                    </a:solidFill>
                  </a:tcPr>
                </a:tc>
                <a:tc gridSpan="2">
                  <a:txBody>
                    <a:bodyPr lIns="72000" rIns="72000" tIns="432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ecf9e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80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00080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0:42Z</dcterms:created>
  <dc:creator>Fridrich Strba</dc:creator>
  <dc:description/>
  <dc:language>en-US</dc:language>
  <cp:lastModifiedBy>Fridrich Strba</cp:lastModifiedBy>
  <dcterms:modified xsi:type="dcterms:W3CDTF">2009-03-19T15:11:51Z</dcterms:modified>
  <cp:revision>1</cp:revision>
  <dc:subject/>
  <dc:title>Slide 1</dc:title>
</cp:coreProperties>
</file>