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0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ftr" idx="7"/>
          </p:nvPr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71440" y="678960"/>
            <a:ext cx="4515120" cy="338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76200" y="328680"/>
            <a:ext cx="4324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T 123 IX.  Synta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76920" y="225360"/>
            <a:ext cx="18288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omework  N 9.</a:t>
            </a:r>
            <a:fld id="{44DD4E3B-0BF1-4B30-B042-CC30889153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73240" y="679320"/>
            <a:ext cx="4511520" cy="33829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78080" y="2387520"/>
            <a:ext cx="444240" cy="4446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3240" y="679320"/>
            <a:ext cx="4511520" cy="33829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15000" y="1219320"/>
            <a:ext cx="533520" cy="5331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29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 9.6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62120" y="2706840"/>
            <a:ext cx="380880" cy="385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1440" y="679320"/>
            <a:ext cx="4515120" cy="33829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82640" y="3073320"/>
            <a:ext cx="444600" cy="4446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73240" y="679320"/>
            <a:ext cx="4511520" cy="33829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73160" y="2387520"/>
            <a:ext cx="444600" cy="4446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73160" y="2997360"/>
            <a:ext cx="444600" cy="4442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29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 9.8c-9.8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3124080"/>
            <a:ext cx="444600" cy="4446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29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 9.8c-9.8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2280" y="1397160"/>
            <a:ext cx="444240" cy="4442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2280" y="2006640"/>
            <a:ext cx="444240" cy="4428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2280" y="2538360"/>
            <a:ext cx="444240" cy="4460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92280" y="2997360"/>
            <a:ext cx="444240" cy="4442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2280" y="3454560"/>
            <a:ext cx="444240" cy="4428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29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 9.8c-9.8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91320" y="1981080"/>
            <a:ext cx="444240" cy="4446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73240" y="679320"/>
            <a:ext cx="4511520" cy="33829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1676520"/>
            <a:ext cx="533520" cy="5331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562720" y="2133720"/>
            <a:ext cx="533160" cy="5331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29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 9.6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2706840"/>
            <a:ext cx="380880" cy="385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73240" y="679320"/>
            <a:ext cx="4511520" cy="33829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11440" y="1625760"/>
            <a:ext cx="444600" cy="4442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11440" y="2082960"/>
            <a:ext cx="444600" cy="4442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25440" y="2692440"/>
            <a:ext cx="444600" cy="4446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45160" y="2616120"/>
            <a:ext cx="444600" cy="4446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73240" y="679320"/>
            <a:ext cx="4511520" cy="33829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3886200"/>
            <a:ext cx="533520" cy="5335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29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 9.6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2706840"/>
            <a:ext cx="380880" cy="385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1440" y="679320"/>
            <a:ext cx="4515120" cy="33829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8080" y="2387520"/>
            <a:ext cx="444240" cy="4446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9E4C-F8FC-4F70-BE51-65607E738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0191-6B63-40FD-AD60-75DB7170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1B01-7475-4A9B-8DBE-B4E3DC0CE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47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4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47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4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2306-CD74-4EE5-A672-22EB4F67D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2DC6-1957-443F-A27B-76C5F41A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51E6-2DFF-4D61-95C1-33A2A985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C31D-FA58-4E47-8328-8D2D6934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7600-2CCE-4E98-B90E-7251F149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D622-7D66-4CEF-B449-E90CEA70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19320" y="209520"/>
            <a:ext cx="777240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2FB3-8BE8-4E73-99DC-0E2F856A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AE62-5B7C-4003-8ABE-21421704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5845-061F-4D5E-997F-252B0E19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91BF-51FE-4C42-B1D5-6D3A5835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5C8E-6A6E-4061-A248-5E064355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1395-ED35-44F6-9260-258A75A6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E6EF-E646-49D3-B55B-62CF92530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47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74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47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74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D814-180E-41CA-997F-00F2C64A1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3BB0-A334-4340-BDF7-872E8D02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B89B-3D2C-49B5-A262-107DCBE8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C390-2498-48B6-A47B-7A3441CC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19320" y="209520"/>
            <a:ext cx="777240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43F5-1CE1-4609-B5CE-2C73924C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9948-6F1A-4DCA-8A47-1BD4A39F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315D-E860-47D3-BFE5-8A588622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FE8C-4B58-4DC6-A63D-CDD42CDF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620640"/>
            <a:ext cx="8786880" cy="6237360"/>
            <a:chOff x="380880" y="620640"/>
            <a:chExt cx="8786880" cy="6237360"/>
          </a:xfrm>
        </p:grpSpPr>
        <p:sp>
          <p:nvSpPr>
            <p:cNvPr id="1" name=""/>
            <p:cNvSpPr/>
            <p:nvPr/>
          </p:nvSpPr>
          <p:spPr>
            <a:xfrm>
              <a:off x="380880" y="1701720"/>
              <a:ext cx="8786880" cy="5156280"/>
            </a:xfrm>
            <a:custGeom>
              <a:avLst/>
              <a:gdLst/>
              <a:ahLst/>
              <a:rect l="l" t="t" r="r" b="b"/>
              <a:pathLst>
                <a:path w="5535" h="3248">
                  <a:moveTo>
                    <a:pt x="5534" y="0"/>
                  </a:moveTo>
                  <a:lnTo>
                    <a:pt x="0" y="0"/>
                  </a:lnTo>
                  <a:lnTo>
                    <a:pt x="0" y="3247"/>
                  </a:lnTo>
                </a:path>
              </a:pathLst>
            </a:custGeom>
            <a:noFill/>
            <a:ln cap="rnd" w="101520">
              <a:solidFill>
                <a:srgbClr val="00cccc"/>
              </a:solidFill>
              <a:round/>
            </a:ln>
            <a:effectLst>
              <a:outerShdw dist="17819" dir="2700000" blurRad="0" rotWithShape="0">
                <a:srgbClr val="0079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80880" y="620640"/>
              <a:ext cx="8786880" cy="6237360"/>
            </a:xfrm>
            <a:custGeom>
              <a:avLst/>
              <a:gdLst/>
              <a:ahLst/>
              <a:rect l="l" t="t" r="r" b="b"/>
              <a:pathLst>
                <a:path w="5535" h="3929">
                  <a:moveTo>
                    <a:pt x="433" y="3928"/>
                  </a:moveTo>
                  <a:lnTo>
                    <a:pt x="433" y="0"/>
                  </a:lnTo>
                  <a:lnTo>
                    <a:pt x="0" y="0"/>
                  </a:lnTo>
                  <a:lnTo>
                    <a:pt x="0" y="486"/>
                  </a:lnTo>
                  <a:lnTo>
                    <a:pt x="5534" y="486"/>
                  </a:lnTo>
                </a:path>
              </a:pathLst>
            </a:custGeom>
            <a:noFill/>
            <a:ln cap="rnd" w="101520">
              <a:solidFill>
                <a:srgbClr val="00cccc"/>
              </a:solidFill>
              <a:round/>
            </a:ln>
            <a:effectLst>
              <a:outerShdw dist="17819" dir="2700000" blurRad="0" rotWithShape="0">
                <a:srgbClr val="0079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33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8517-058C-45F0-95F4-A3DE31CD5A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28680" y="2131920"/>
            <a:ext cx="8839080" cy="4726080"/>
            <a:chOff x="328680" y="2131920"/>
            <a:chExt cx="8839080" cy="4726080"/>
          </a:xfrm>
        </p:grpSpPr>
        <p:sp>
          <p:nvSpPr>
            <p:cNvPr id="45" name=""/>
            <p:cNvSpPr/>
            <p:nvPr/>
          </p:nvSpPr>
          <p:spPr>
            <a:xfrm>
              <a:off x="328680" y="3213000"/>
              <a:ext cx="8823240" cy="3645000"/>
            </a:xfrm>
            <a:custGeom>
              <a:avLst/>
              <a:gdLst/>
              <a:ahLst/>
              <a:rect l="l" t="t" r="r" b="b"/>
              <a:pathLst>
                <a:path w="5558" h="2296">
                  <a:moveTo>
                    <a:pt x="5557" y="0"/>
                  </a:moveTo>
                  <a:lnTo>
                    <a:pt x="0" y="0"/>
                  </a:lnTo>
                  <a:lnTo>
                    <a:pt x="0" y="2295"/>
                  </a:lnTo>
                </a:path>
              </a:pathLst>
            </a:custGeom>
            <a:noFill/>
            <a:ln cap="rnd" w="101520">
              <a:solidFill>
                <a:srgbClr val="00cccc"/>
              </a:solidFill>
              <a:round/>
            </a:ln>
            <a:effectLst>
              <a:outerShdw dist="17819" dir="2700000" blurRad="0" rotWithShape="0">
                <a:srgbClr val="0079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28680" y="2131920"/>
              <a:ext cx="8839080" cy="4726080"/>
            </a:xfrm>
            <a:custGeom>
              <a:avLst/>
              <a:gdLst/>
              <a:ahLst/>
              <a:rect l="l" t="t" r="r" b="b"/>
              <a:pathLst>
                <a:path w="5568" h="2977">
                  <a:moveTo>
                    <a:pt x="436" y="2976"/>
                  </a:moveTo>
                  <a:lnTo>
                    <a:pt x="435" y="0"/>
                  </a:lnTo>
                  <a:lnTo>
                    <a:pt x="0" y="0"/>
                  </a:lnTo>
                  <a:lnTo>
                    <a:pt x="0" y="486"/>
                  </a:lnTo>
                  <a:lnTo>
                    <a:pt x="5567" y="486"/>
                  </a:lnTo>
                </a:path>
              </a:pathLst>
            </a:custGeom>
            <a:noFill/>
            <a:ln cap="rnd" w="101520">
              <a:solidFill>
                <a:srgbClr val="00cccc"/>
              </a:solidFill>
              <a:round/>
            </a:ln>
            <a:effectLst>
              <a:outerShdw dist="17819" dir="2700000" blurRad="0" rotWithShape="0">
                <a:srgbClr val="0079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0817-4685-4CFA-912B-4A172D6D31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9933"/>
              </a:buClr>
              <a:buSzPct val="6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X.  I.  Homework Exercise with Clause Synta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9051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p 2.  </a:t>
            </a: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Evaluat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 Find the Applicable Subs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19320" y="3885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termine which subsections apply to your pas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6680" y="5187960"/>
            <a:ext cx="5778360" cy="1054080"/>
          </a:xfrm>
          <a:prstGeom prst="rect">
            <a:avLst/>
          </a:prstGeom>
          <a:solidFill>
            <a:srgbClr val="99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bout “Negative Assertions,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§§172, 173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1752480"/>
            <a:ext cx="769608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o( a)kolouqw~n e)moi\ ou) mh\ peripath/sh| e)n th|= skoti/a|, a)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 e3cei to\ fw~j th=j zwh=j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2286000"/>
            <a:ext cx="220968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763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Burton,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yntax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, p. 7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609480"/>
            <a:ext cx="8077320" cy="67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72.  The subjunctive in Negative Assertions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The Aorist Subjunctive is used with </a:t>
            </a: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ou) mh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the sense of an emphatic Future Indicative.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1032;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G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136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b. 13:5; </a:t>
            </a: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Ou) mh/ se a)nw~ ou)d' ou) mh/ se e)gkatali/pw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 will in no wise fail thee, neither will I in any wise forsake the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 See also Matt. 5:18; Mark 13:30; Luke 9:27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t freq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Cf.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Gild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.J.P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II. 202f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7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is emphatically predictive Subjunctive is of frequent occurrence in Hellenistic Greek.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229600" y="1066680"/>
            <a:ext cx="762120" cy="1371600"/>
          </a:xfrm>
          <a:prstGeom prst="leftArrow">
            <a:avLst>
              <a:gd name="adj1" fmla="val 54167"/>
              <a:gd name="adj2" fmla="val 2395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46784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 with Clause Synta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229600" y="76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320" y="533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hn 8: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3048120"/>
            <a:ext cx="89917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 1.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earc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 Try to find the relevant section in the gramm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 2.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valu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 Determine what subheading(s) app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 2a.  Are the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ternativ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 3.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cid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 Make a final decis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3809880"/>
            <a:ext cx="990720" cy="838440"/>
          </a:xfrm>
          <a:prstGeom prst="rightArrow">
            <a:avLst>
              <a:gd name="adj1" fmla="val 50000"/>
              <a:gd name="adj2" fmla="val 295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266688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ignment: DETERMINE why </a:t>
            </a:r>
            <a:r>
              <a:rPr b="0" lang="en-US" sz="2800" spc="-1" strike="noStrike">
                <a:solidFill>
                  <a:srgbClr val="ffffff"/>
                </a:solidFill>
                <a:latin typeface="SPIonic"/>
              </a:rPr>
              <a:t>peripath/sh|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subjunct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00200" y="32767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§§160-173, esp. 172-173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4724280"/>
            <a:ext cx="990360" cy="838440"/>
          </a:xfrm>
          <a:prstGeom prst="rightArrow">
            <a:avLst>
              <a:gd name="adj1" fmla="val 50000"/>
              <a:gd name="adj2" fmla="val 2953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39625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§17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480060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rush Script MT"/>
              </a:rPr>
              <a:t>No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4724280"/>
            <a:ext cx="990360" cy="838440"/>
          </a:xfrm>
          <a:prstGeom prst="rightArrow">
            <a:avLst>
              <a:gd name="adj1" fmla="val 50000"/>
              <a:gd name="adj2" fmla="val 2953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5791320"/>
            <a:ext cx="990360" cy="838080"/>
          </a:xfrm>
          <a:prstGeom prst="rightArrow">
            <a:avLst>
              <a:gd name="adj1" fmla="val 50000"/>
              <a:gd name="adj2" fmla="val 29543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3809880"/>
            <a:ext cx="990720" cy="838440"/>
          </a:xfrm>
          <a:prstGeom prst="rightArrow">
            <a:avLst>
              <a:gd name="adj1" fmla="val 50000"/>
              <a:gd name="adj2" fmla="val 29541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76520" y="5867280"/>
            <a:ext cx="746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rush Script MT"/>
              </a:rPr>
              <a:t>Emphatic future: “will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Brush Script MT"/>
              </a:rPr>
              <a:t>not</a:t>
            </a:r>
            <a:r>
              <a:rPr b="1" lang="en-US" sz="4400" spc="-1" strike="noStrike">
                <a:solidFill>
                  <a:srgbClr val="ff0000"/>
                </a:solidFill>
                <a:latin typeface="Brush Script MT"/>
              </a:rPr>
              <a:t> walk.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838080"/>
            <a:ext cx="845820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Pa/lin ou]n au)toi=j e)la/lhsen o(    )Ihsou=j le/gwn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)Egw&amp; ei)mi to\ fw~j tou= ko/smou: o( a)kolouqw~n e)moi\ ou) mh\ peripath/sh| e)n th|= skoti/a|, a)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e3cei to\ fw~j th=j zwh=j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38280" y="2362320"/>
            <a:ext cx="22100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p 2a.  Alternative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ck whether there are any alternative explanations, possibly involving other subsec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63880" y="4502160"/>
            <a:ext cx="3873240" cy="1054080"/>
          </a:xfrm>
          <a:prstGeom prst="rect">
            <a:avLst/>
          </a:prstGeom>
          <a:solidFill>
            <a:srgbClr val="99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p 3.  </a:t>
            </a: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Decid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.  Represent the Meaning in Transl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193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 a translation of the clause that brings out the implications of your analy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25440" y="3435480"/>
            <a:ext cx="7454880" cy="1434960"/>
          </a:xfrm>
          <a:prstGeom prst="roundRect">
            <a:avLst>
              <a:gd name="adj" fmla="val 12495"/>
            </a:avLst>
          </a:prstGeom>
          <a:solidFill>
            <a:srgbClr val="99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rton §172: “The aorist Subjun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used with</a:t>
            </a: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 ou) mh/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e sense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emphatic Future Indicative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225440" y="4959360"/>
            <a:ext cx="7531200" cy="1434960"/>
            <a:chOff x="1225440" y="4959360"/>
            <a:chExt cx="7531200" cy="1434960"/>
          </a:xfrm>
        </p:grpSpPr>
        <p:sp>
          <p:nvSpPr>
            <p:cNvPr id="187" name=""/>
            <p:cNvSpPr/>
            <p:nvPr/>
          </p:nvSpPr>
          <p:spPr>
            <a:xfrm>
              <a:off x="1225440" y="5492880"/>
              <a:ext cx="7531200" cy="9014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“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He will </a:t>
              </a:r>
              <a:r>
                <a:rPr b="0" lang="en-US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not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walk in the darkness …”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666880" y="6172200"/>
              <a:ext cx="21337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68640" y="4959360"/>
              <a:ext cx="978120" cy="444600"/>
            </a:xfrm>
            <a:prstGeom prst="downArrow">
              <a:avLst>
                <a:gd name="adj1" fmla="val 75009"/>
                <a:gd name="adj2" fmla="val 50005"/>
              </a:avLst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143000" y="1752480"/>
            <a:ext cx="7696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o( a)kolouqw~n e)moi\ ou) mh\ peripath/sh|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562720" y="2286000"/>
            <a:ext cx="220968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93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ing Blass-Debrunn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9051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371600" y="837720"/>
            <a:ext cx="46483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II.  SYNT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Subject and Predic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Agre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Use of Gender and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Syntax of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Syntax of Prepos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Syntax of Adject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Syntax of Numer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. The Arti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 Syntax of Pronou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 Syntax of the Ver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. Adverbs and Partic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. Sentence Stru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120" y="1825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Blass-Debrunner, Contents, pp. vi-vi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5029200"/>
            <a:ext cx="76176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04560" y="837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7-425  10. Syntax of the Ver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7-3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Vo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8-3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1-3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ass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6-3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Mid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8-35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9-3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he Present Indic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5-3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he Imperfect and Aorist Indicat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5-3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he Present and Aorist Imperativ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Prohibitive and Adhortative Subjunctiv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he Present and Aorist Infinit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he Present and Aorist Particip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0-34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he Perf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he Pluperf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8-35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he Fu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2-35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eriphrastic Conjug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1825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Blass-Debrunner, Contents, pp. vii-vi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76320" y="990360"/>
            <a:ext cx="899136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7-425  (3) The Mo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8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8-361 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he Indicative of Secondary Tenses in Main Clauses 18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2 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he Future Indicative for Volitive Expressions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Clauses (instead of the Imperative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junctiv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8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3-366  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he Subjunctive in Main Clau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8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7-383  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ndicative and Subjunctive in Subordinate Clau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4-386  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he Opt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9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7  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he Imper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9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8-410  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he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9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1-425  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he Partici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1825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Blass-Debrunner, Contents, p.-vi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6477120" y="2743200"/>
            <a:ext cx="761760" cy="685800"/>
          </a:xfrm>
          <a:prstGeom prst="rightArrow">
            <a:avLst>
              <a:gd name="adj1" fmla="val 50000"/>
              <a:gd name="adj2" fmla="val 27769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85800" y="763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Blass-Debrunner, p. 184, column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1343160"/>
            <a:ext cx="8458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65. </a:t>
            </a:r>
            <a:r>
              <a:rPr b="1" lang="en-US" sz="3200" spc="-1" strike="noStrike">
                <a:solidFill>
                  <a:srgbClr val="ffffff"/>
                </a:solidFill>
                <a:latin typeface="SPIonic"/>
              </a:rPr>
              <a:t>Ou) mh/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with the aorist subjunctive or future indicative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oth of which are classical, i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st definite form of negation regarding th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.  This mode of expression is more commo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e NT and for the most part less emphatic tha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e classical language, but it is virtually limite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quotations from the LXX and sayings of Jesu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Mlt. 187-92 [297-303]).  (1) The only certai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2819520"/>
            <a:ext cx="2743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62720" y="3809880"/>
            <a:ext cx="3124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219320"/>
            <a:ext cx="845820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Pa/lin ou]n au)toi=j e)la/lhsen o(    )Ihsou=j le/gwn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)Egw&amp; ei)mi to\ fw~j tou= ko/smou: o( a)kolouqw~n e)moi\ ou) mh\ peripath/sh| e)n th|= skoti/a|, a)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e3cei to\ fw~j th=j zwh=j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46784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 with Clause Synta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2743200"/>
            <a:ext cx="22100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229600" y="76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914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hn 8: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52280" y="4057560"/>
            <a:ext cx="8991720" cy="2669400"/>
            <a:chOff x="152280" y="4057560"/>
            <a:chExt cx="8991720" cy="2669400"/>
          </a:xfrm>
        </p:grpSpPr>
        <p:sp>
          <p:nvSpPr>
            <p:cNvPr id="104" name=""/>
            <p:cNvSpPr/>
            <p:nvPr/>
          </p:nvSpPr>
          <p:spPr>
            <a:xfrm>
              <a:off x="152280" y="4057560"/>
              <a:ext cx="8991720" cy="26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tep 1.  </a:t>
              </a: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Search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.  Try to find the relevant section in the advanced grammar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tep 2.  </a:t>
              </a: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Evaluate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.  Determine what subheading(s) of the relevant section apply to your passage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tep 3.  </a:t>
              </a: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Decide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.  Make a final decision as to the type and function of your grammatical construction, after you have weighed alternatives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47920" y="4267080"/>
              <a:ext cx="990360" cy="838440"/>
            </a:xfrm>
            <a:prstGeom prst="rightArrow">
              <a:avLst>
                <a:gd name="adj1" fmla="val 50000"/>
                <a:gd name="adj2" fmla="val 2953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52280" y="3154320"/>
            <a:ext cx="8991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ignment: DETERMINE why </a:t>
            </a:r>
            <a:r>
              <a:rPr b="0" lang="en-US" sz="2800" spc="-1" strike="noStrike">
                <a:solidFill>
                  <a:srgbClr val="ffffff"/>
                </a:solidFill>
                <a:latin typeface="SPIonic"/>
              </a:rPr>
              <a:t>peripath/sh|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subjunctive and what contribution it makes to the whole sente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use Syntax in John 8:1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4571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99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termine why </a:t>
            </a: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peripath/sh|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subjunctive and how it contributes to the rest of the sente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1768320"/>
            <a:ext cx="76201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Pa/lin ou]n au)toi=j e)la/lhsen o(    )Ihsou=j le/gwn,    )Egw&amp; ei)mi to\ fw~j tou= ko/smou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o( a)kolouqw~n e)moi\ ou) mh\ peripath/sh| e)n th|= skoti/a|, a)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 )) e3cei to\ fw~j th=j zwh=j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327672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5438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p 1.  </a:t>
            </a: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Search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for Information in Grammar or Lexic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90760" y="2133720"/>
            <a:ext cx="48006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99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xic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99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ex of Su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99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ble of Contents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tax of affix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99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tax of gove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99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ble of Contents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der Sent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99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ex of Pass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4920" y="2133720"/>
            <a:ext cx="45720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99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junc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nical ter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ing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vern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tence as who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clu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8080" y="1758960"/>
            <a:ext cx="1511280" cy="444600"/>
          </a:xfrm>
          <a:prstGeom prst="roundRect">
            <a:avLst>
              <a:gd name="adj" fmla="val 12495"/>
            </a:avLst>
          </a:prstGeom>
          <a:solidFill>
            <a:srgbClr val="99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9360" y="1758960"/>
            <a:ext cx="1511280" cy="444600"/>
          </a:xfrm>
          <a:prstGeom prst="roundRect">
            <a:avLst>
              <a:gd name="adj" fmla="val 12495"/>
            </a:avLst>
          </a:prstGeom>
          <a:solidFill>
            <a:srgbClr val="99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7760" y="1682640"/>
            <a:ext cx="977760" cy="596880"/>
          </a:xfrm>
          <a:prstGeom prst="rightArrow">
            <a:avLst>
              <a:gd name="adj1" fmla="val 75009"/>
              <a:gd name="adj2" fmla="val 81913"/>
            </a:avLst>
          </a:prstGeom>
          <a:solidFill>
            <a:srgbClr val="ff99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43000" y="1752480"/>
            <a:ext cx="769608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o( a)kolouqw~n e)moi\ ou) mh\ peripath/sh| e)n th|= skoti/a|, a)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 e3cei to\ fw~j th=j zwh=j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p 1 for </a:t>
            </a: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peripath/sh|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3809880"/>
            <a:ext cx="45720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99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junc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99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nical ter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99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ing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1760" y="3359160"/>
            <a:ext cx="1511280" cy="444600"/>
          </a:xfrm>
          <a:prstGeom prst="roundRect">
            <a:avLst>
              <a:gd name="adj" fmla="val 12495"/>
            </a:avLst>
          </a:prstGeom>
          <a:solidFill>
            <a:srgbClr val="99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8640" y="3892680"/>
            <a:ext cx="673200" cy="444240"/>
          </a:xfrm>
          <a:prstGeom prst="roundRect">
            <a:avLst>
              <a:gd name="adj" fmla="val 12495"/>
            </a:avLst>
          </a:prstGeom>
          <a:solidFill>
            <a:srgbClr val="ff99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7440" y="3282840"/>
            <a:ext cx="1511280" cy="444600"/>
          </a:xfrm>
          <a:prstGeom prst="roundRect">
            <a:avLst>
              <a:gd name="adj" fmla="val 12495"/>
            </a:avLst>
          </a:prstGeom>
          <a:solidFill>
            <a:srgbClr val="99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21280" y="3282840"/>
            <a:ext cx="596880" cy="520920"/>
          </a:xfrm>
          <a:prstGeom prst="rightArrow">
            <a:avLst>
              <a:gd name="adj1" fmla="val 75009"/>
              <a:gd name="adj2" fmla="val 57296"/>
            </a:avLst>
          </a:prstGeom>
          <a:solidFill>
            <a:srgbClr val="ff99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97240" y="4425840"/>
            <a:ext cx="673200" cy="444600"/>
          </a:xfrm>
          <a:prstGeom prst="roundRect">
            <a:avLst>
              <a:gd name="adj" fmla="val 12495"/>
            </a:avLst>
          </a:prstGeom>
          <a:solidFill>
            <a:srgbClr val="ff99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20880" y="5568840"/>
            <a:ext cx="2882880" cy="520920"/>
          </a:xfrm>
          <a:prstGeom prst="roundRect">
            <a:avLst>
              <a:gd name="adj" fmla="val 12495"/>
            </a:avLst>
          </a:prstGeom>
          <a:solidFill>
            <a:srgbClr val="ff99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jun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197240" y="5562720"/>
            <a:ext cx="5099040" cy="1067400"/>
            <a:chOff x="4197240" y="5562720"/>
            <a:chExt cx="5099040" cy="1067400"/>
          </a:xfrm>
        </p:grpSpPr>
        <p:sp>
          <p:nvSpPr>
            <p:cNvPr id="127" name=""/>
            <p:cNvSpPr/>
            <p:nvPr/>
          </p:nvSpPr>
          <p:spPr>
            <a:xfrm>
              <a:off x="4197240" y="5568840"/>
              <a:ext cx="596880" cy="520920"/>
            </a:xfrm>
            <a:prstGeom prst="rightArrow">
              <a:avLst>
                <a:gd name="adj1" fmla="val 75009"/>
                <a:gd name="adj2" fmla="val 57296"/>
              </a:avLst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00600" y="5562720"/>
              <a:ext cx="4495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99"/>
                </a:spcBef>
                <a:buClr>
                  <a:srgbClr val="ff9933"/>
                </a:buClr>
                <a:buSzPct val="75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Table of Contents,</a:t>
              </a:r>
              <a:br>
                <a:rPr sz="3200"/>
              </a:b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  Subjunctiv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5562720" y="2286000"/>
            <a:ext cx="220968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1522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Burton,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yntax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, Contents, x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685800"/>
            <a:ext cx="8077320" cy="67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MOO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ODS IN PRINCIPAL CLAU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Indicative Mo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 Force of the Indicative .......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8, 15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cative in Qualified Assertions 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Subjunctive Mo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0, 16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rtatory Subjunctive .....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2-16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hibitory Subjunctive ....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8-17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liberative Subjunctive ..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2, 17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junctive in Negative Asser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609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800240" y="6781680"/>
            <a:ext cx="3429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46784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 with Clause Synta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229600" y="76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320" y="762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hn 8: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3352680"/>
            <a:ext cx="8991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 1.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earc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 Try to find the relevant section in the gramm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 2.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valu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 Determine what subheading(s) app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 3.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cid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 Make a final decision as to the type and function of your grammatical construction, after you have weighed alternativ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3657600"/>
            <a:ext cx="990720" cy="838080"/>
          </a:xfrm>
          <a:prstGeom prst="rightArrow">
            <a:avLst>
              <a:gd name="adj1" fmla="val 50000"/>
              <a:gd name="adj2" fmla="val 29553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289548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ignment: DETERMINE why </a:t>
            </a:r>
            <a:r>
              <a:rPr b="0" lang="en-US" sz="2800" spc="-1" strike="noStrike">
                <a:solidFill>
                  <a:srgbClr val="ffffff"/>
                </a:solidFill>
                <a:latin typeface="SPIonic"/>
              </a:rPr>
              <a:t>peripath/sh|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subjunct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00200" y="37530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§§160-173, esp. 172-173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3657600"/>
            <a:ext cx="990720" cy="838080"/>
          </a:xfrm>
          <a:prstGeom prst="rightArrow">
            <a:avLst>
              <a:gd name="adj1" fmla="val 50000"/>
              <a:gd name="adj2" fmla="val 29553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4800600"/>
            <a:ext cx="990720" cy="838080"/>
          </a:xfrm>
          <a:prstGeom prst="rightArrow">
            <a:avLst>
              <a:gd name="adj1" fmla="val 50000"/>
              <a:gd name="adj2" fmla="val 29553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1066680"/>
            <a:ext cx="845820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Pa/lin ou]n au)toi=j e)la/lhsen o(    )Ihsou=j le/gwn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)Egw&amp; ei)mi to\ fw~j tou= ko/smou: o( a)kolouqw~n e)moi\ ou) mh\ peripath/sh| e)n th|= skoti/a|, a)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e3cei to\ fw~j th=j zwh=j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38280" y="2590920"/>
            <a:ext cx="22100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p 2.  </a:t>
            </a: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Evaluat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 Find the Applicable Subs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termine which subsections apply to your pas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30360" y="3435480"/>
            <a:ext cx="6540480" cy="1358640"/>
          </a:xfrm>
          <a:prstGeom prst="rect">
            <a:avLst/>
          </a:prstGeom>
          <a:solidFill>
            <a:srgbClr val="99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ok under uses of subjunctive m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§§160-17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st in Burton, Table of Cont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9320" y="3733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0, 16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rtatory Subjun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2-16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hibitory Subjun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8-17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liberative Subjun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2, 17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junctive in Negative Asser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1752480"/>
            <a:ext cx="769608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o( a)kolouqw~n e)moi\ ou) mh\ peripath/sh| e)n th|= skoti/a|, a)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 e3cei to\ fw~j th=j zwh=j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62720" y="2286000"/>
            <a:ext cx="220968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1T14:48:54Z</dcterms:created>
  <dc:creator>Vern Sheridan Poythress</dc:creator>
  <dc:description/>
  <cp:keywords>hermeneutics syntax structure homework</cp:keywords>
  <dc:language>en-US</dc:language>
  <cp:lastModifiedBy>Vern S. Poythress</cp:lastModifiedBy>
  <cp:lastPrinted>1997-04-02T21:49:20Z</cp:lastPrinted>
  <dcterms:modified xsi:type="dcterms:W3CDTF">2002-04-02T21:12:40Z</dcterms:modified>
  <cp:revision>109</cp:revision>
  <dc:subject>Syntax</dc:subject>
  <dc:title>IX.  Dealing with Syntax: Homework</dc:title>
</cp:coreProperties>
</file>