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9498-5D54-480B-A7DE-7C63B189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856-73BC-4437-BB76-CF2651A7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DCA-3261-41D4-B421-BBA40A22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20CC-F961-4C3A-A8FE-2C992D84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424-6F48-4B1F-93DC-5EC0DBC9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902-0647-4F29-A57D-937D9731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9352-5857-44D5-B662-791A4509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13B-E45B-412E-92E6-6093BD99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089-D165-419E-8096-A51DA720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082-D9FD-4415-B702-BC48EDC6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A68A-B3D1-4D2E-BE9A-A3D219EA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6BDC-7194-4D23-B52E-6DFD6467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094D-345B-44EB-B446-F8598F44A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211680" y="13716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7355680" y="20574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6499680" y="27432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5643680" y="3421368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4787680" y="4114800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709440" y="9489960"/>
            <a:ext cx="268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6120" y="1676412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89600" y="233172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4120" y="3002292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8120" y="3642372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140720" y="438912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-54787680" y="-41151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-45643680" y="-342169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-36576000" y="-273589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-27432000" y="-205009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-18288000" y="-136429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-9144000" y="-6861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51663600" y="-389412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42291000" y="-3147372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33604200" y="-252252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24231600" y="-1760544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4859000" y="-105948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6232680" y="-3321000"/>
            <a:ext cx="268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9144000" y="-6861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039480" y="-4343400"/>
            <a:ext cx="268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17907120" y="-135637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27051120" y="-20574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36195120" y="-272797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7"/>
          <a:stretch/>
        </p:blipFill>
        <p:spPr>
          <a:xfrm>
            <a:off x="45186480" y="-341377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8"/>
          <a:stretch/>
        </p:blipFill>
        <p:spPr>
          <a:xfrm>
            <a:off x="54330480" y="-4107168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031200" y="-1066788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946600" y="-1767852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166920" y="-2461248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539520" y="-3238488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997720" y="-381762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9"/>
          <a:stretch/>
        </p:blipFill>
        <p:spPr>
          <a:xfrm>
            <a:off x="-54787680" y="4107168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0"/>
          <a:stretch/>
        </p:blipFill>
        <p:spPr>
          <a:xfrm>
            <a:off x="-45643680" y="34137720"/>
            <a:ext cx="9144000" cy="6860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1"/>
          <a:stretch/>
        </p:blipFill>
        <p:spPr>
          <a:xfrm>
            <a:off x="-36499680" y="2735568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2"/>
          <a:stretch/>
        </p:blipFill>
        <p:spPr>
          <a:xfrm>
            <a:off x="-27432000" y="20574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3"/>
          <a:stretch/>
        </p:blipFill>
        <p:spPr>
          <a:xfrm>
            <a:off x="-18288000" y="1363968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4"/>
          <a:stretch/>
        </p:blipFill>
        <p:spPr>
          <a:xfrm>
            <a:off x="-9144000" y="685800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-51435000" y="4282452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F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42976800" y="370332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33985080" y="3070872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25069680" y="2369808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5849720" y="16764120"/>
            <a:ext cx="268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6477120" y="8991720"/>
            <a:ext cx="268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6T22:41:52Z</dcterms:created>
  <dc:creator>Omar Jenkins</dc:creator>
  <dc:description/>
  <dc:language>en-US</dc:language>
  <cp:lastModifiedBy>Omar Jenkins</cp:lastModifiedBy>
  <dcterms:modified xsi:type="dcterms:W3CDTF">2005-12-26T23:13:03Z</dcterms:modified>
  <cp:revision>3</cp:revision>
  <dc:subject/>
  <dc:title>PowerPoint Presentation</dc:title>
</cp:coreProperties>
</file>