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A0045-D866-4CB9-8396-5AAE70C987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C47-7AD5-45EE-B24C-DC729103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CC9-4741-4E69-ADA6-2B7E1818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C64-B6AB-4302-9AE8-05551E54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4E7-53A1-446B-8C68-055B9D0F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16B-8AFE-4814-B682-52D86951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4CF-1459-4D38-8E50-78B42ED2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C035-4720-4A17-A759-89166EBD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3A1C-C544-49A6-AFD7-D72FFEE9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984-558E-41C0-82C6-ACE609C4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643-1434-4973-B000-2F82E5D3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826-D844-4F15-8BEF-CF0A1C01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21E-3396-4B76-B48F-AB3BBEFE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8E0C6-1362-4CF4-B41D-C4BF31FDFF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780000" y="179280"/>
            <a:ext cx="180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900000"/>
            <a:ext cx="18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60720" y="2073240"/>
            <a:ext cx="143964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9640" y="2160720"/>
            <a:ext cx="14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9640" y="900000"/>
            <a:ext cx="143964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60360" y="2879640"/>
            <a:ext cx="144000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60360" y="4140360"/>
            <a:ext cx="144000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60720" y="3419640"/>
            <a:ext cx="1260360" cy="90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60720" y="5219640"/>
            <a:ext cx="1800360" cy="90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40360" y="5219640"/>
            <a:ext cx="1800000" cy="90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9640" y="3240000"/>
            <a:ext cx="144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9640" y="4319640"/>
            <a:ext cx="14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9640" y="5400720"/>
            <a:ext cx="14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0" idx="2"/>
            <a:endCxn id="51" idx="0"/>
          </p:cNvCxnSpPr>
          <p:nvPr/>
        </p:nvCxnSpPr>
        <p:spPr>
          <a:xfrm rot="16200000">
            <a:off x="4589640" y="809640"/>
            <a:ext cx="181080" cy="3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4" name=""/>
          <p:cNvCxnSpPr>
            <a:stCxn id="57" idx="0"/>
            <a:endCxn id="52" idx="2"/>
          </p:cNvCxnSpPr>
          <p:nvPr/>
        </p:nvCxnSpPr>
        <p:spPr>
          <a:xfrm flipV="1" rot="16200000">
            <a:off x="2792520" y="2521080"/>
            <a:ext cx="986400" cy="810720"/>
          </a:xfrm>
          <a:prstGeom prst="bentConnector3">
            <a:avLst>
              <a:gd name="adj1" fmla="val 50018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5" name=""/>
          <p:cNvCxnSpPr>
            <a:stCxn id="55" idx="0"/>
            <a:endCxn id="52" idx="2"/>
          </p:cNvCxnSpPr>
          <p:nvPr/>
        </p:nvCxnSpPr>
        <p:spPr>
          <a:xfrm flipH="1" flipV="1" rot="5400000">
            <a:off x="2207160" y="2206440"/>
            <a:ext cx="446400" cy="900360"/>
          </a:xfrm>
          <a:prstGeom prst="bentConnector3">
            <a:avLst>
              <a:gd name="adj1" fmla="val 5004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6" name=""/>
          <p:cNvCxnSpPr>
            <a:stCxn id="52" idx="3"/>
            <a:endCxn id="60" idx="1"/>
          </p:cNvCxnSpPr>
          <p:nvPr/>
        </p:nvCxnSpPr>
        <p:spPr>
          <a:xfrm>
            <a:off x="3600360" y="2253240"/>
            <a:ext cx="3959640" cy="125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7" name=""/>
          <p:cNvCxnSpPr>
            <a:stCxn id="60" idx="2"/>
            <a:endCxn id="61" idx="0"/>
          </p:cNvCxnSpPr>
          <p:nvPr/>
        </p:nvCxnSpPr>
        <p:spPr>
          <a:xfrm rot="16200000">
            <a:off x="8010000" y="4049640"/>
            <a:ext cx="540000" cy="3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8" name=""/>
          <p:cNvCxnSpPr>
            <a:stCxn id="61" idx="2"/>
            <a:endCxn id="62" idx="0"/>
          </p:cNvCxnSpPr>
          <p:nvPr/>
        </p:nvCxnSpPr>
        <p:spPr>
          <a:xfrm rot="16200000">
            <a:off x="8008920" y="5130000"/>
            <a:ext cx="541800" cy="3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9" name=""/>
          <p:cNvCxnSpPr>
            <a:stCxn id="61" idx="1"/>
            <a:endCxn id="58" idx="0"/>
          </p:cNvCxnSpPr>
          <p:nvPr/>
        </p:nvCxnSpPr>
        <p:spPr>
          <a:xfrm flipV="1" rot="10800000">
            <a:off x="3961080" y="4588920"/>
            <a:ext cx="3598920" cy="63072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0" name=""/>
          <p:cNvCxnSpPr>
            <a:stCxn id="59" idx="6"/>
            <a:endCxn id="62" idx="1"/>
          </p:cNvCxnSpPr>
          <p:nvPr/>
        </p:nvCxnSpPr>
        <p:spPr>
          <a:xfrm>
            <a:off x="6840360" y="5669640"/>
            <a:ext cx="719640" cy="1080"/>
          </a:xfrm>
          <a:prstGeom prst="bentConnector3">
            <a:avLst>
              <a:gd name="adj1" fmla="val 5005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71" name=""/>
          <p:cNvSpPr/>
          <p:nvPr/>
        </p:nvSpPr>
        <p:spPr>
          <a:xfrm>
            <a:off x="5219640" y="1728720"/>
            <a:ext cx="1620720" cy="181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71" idx="3"/>
            <a:endCxn id="53" idx="0"/>
          </p:cNvCxnSpPr>
          <p:nvPr/>
        </p:nvCxnSpPr>
        <p:spPr>
          <a:xfrm>
            <a:off x="6840360" y="1819080"/>
            <a:ext cx="1439640" cy="34200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3" name=""/>
          <p:cNvCxnSpPr>
            <a:stCxn id="71" idx="1"/>
            <a:endCxn id="52" idx="0"/>
          </p:cNvCxnSpPr>
          <p:nvPr/>
        </p:nvCxnSpPr>
        <p:spPr>
          <a:xfrm flipV="1" rot="10800000">
            <a:off x="2880360" y="1819080"/>
            <a:ext cx="2339640" cy="25452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4" name=""/>
          <p:cNvCxnSpPr>
            <a:stCxn id="56" idx="3"/>
            <a:endCxn id="57" idx="1"/>
          </p:cNvCxnSpPr>
          <p:nvPr/>
        </p:nvCxnSpPr>
        <p:spPr>
          <a:xfrm flipV="1">
            <a:off x="2700360" y="3869640"/>
            <a:ext cx="360720" cy="63144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5" name=""/>
          <p:cNvCxnSpPr>
            <a:stCxn id="55" idx="3"/>
            <a:endCxn id="57" idx="1"/>
          </p:cNvCxnSpPr>
          <p:nvPr/>
        </p:nvCxnSpPr>
        <p:spPr>
          <a:xfrm>
            <a:off x="2700360" y="3240000"/>
            <a:ext cx="360720" cy="63000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6" name=""/>
          <p:cNvCxnSpPr>
            <a:stCxn id="52" idx="1"/>
            <a:endCxn id="58" idx="2"/>
          </p:cNvCxnSpPr>
          <p:nvPr/>
        </p:nvCxnSpPr>
        <p:spPr>
          <a:xfrm flipH="1" flipV="1" rot="10800000">
            <a:off x="2160720" y="2253240"/>
            <a:ext cx="900360" cy="3416760"/>
          </a:xfrm>
          <a:prstGeom prst="bentConnector3">
            <a:avLst>
              <a:gd name="adj1" fmla="val -2576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7" name=""/>
          <p:cNvCxnSpPr>
            <a:stCxn id="51" idx="2"/>
            <a:endCxn id="71" idx="0"/>
          </p:cNvCxnSpPr>
          <p:nvPr/>
        </p:nvCxnSpPr>
        <p:spPr>
          <a:xfrm flipH="1" rot="16200000">
            <a:off x="5121000" y="819360"/>
            <a:ext cx="468720" cy="135036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8" name=""/>
          <p:cNvCxnSpPr>
            <a:stCxn id="54" idx="2"/>
            <a:endCxn id="71" idx="0"/>
          </p:cNvCxnSpPr>
          <p:nvPr/>
        </p:nvCxnSpPr>
        <p:spPr>
          <a:xfrm rot="5400000">
            <a:off x="6470280" y="819720"/>
            <a:ext cx="468720" cy="134964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