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7CE-16DC-40E0-9995-5F980A7F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644-7626-49D9-A7E5-79704995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7A0-3CA6-43FC-90CE-B7BEC608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490-3831-449B-9A1E-FD3B14E0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BCE-09EF-4DFE-9FF5-F362B2D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3C1-44F0-4771-94F6-1CEF6A5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527-7B3E-402D-9663-501AA18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D30-EB7F-4474-BB8B-4987F17F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8FF-05A5-4D62-90FA-0548910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C13-7677-4EA9-ACB8-CDCA990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60C-E06C-4651-A73A-1C7A927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404-3C40-4D99-B9DA-AC27791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EF5-A2DC-4A20-8EDD-184B77FD7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1384200"/>
          <a:ext cx="8229600" cy="4178520"/>
        </p:xfrm>
        <a:graphic>
          <a:graphicData uri="http://schemas.openxmlformats.org/drawingml/2006/table">
            <a:tbl>
              <a:tblPr/>
              <a:tblGrid>
                <a:gridCol w="1855800"/>
                <a:gridCol w="1295280"/>
                <a:gridCol w="1270080"/>
                <a:gridCol w="1266840"/>
                <a:gridCol w="1274760"/>
                <a:gridCol w="1266840"/>
              </a:tblGrid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8:10:09Z</dcterms:created>
  <dc:creator>Automation</dc:creator>
  <dc:description/>
  <dc:language>en-US</dc:language>
  <cp:lastModifiedBy>Automation</cp:lastModifiedBy>
  <dcterms:modified xsi:type="dcterms:W3CDTF">2010-04-14T08:10:16Z</dcterms:modified>
  <cp:revision>1</cp:revision>
  <dc:subject/>
  <dc:title>Slide 1</dc:title>
</cp:coreProperties>
</file>