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1ED43-17F4-431B-9BFD-43F7AB369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02080" y="9553680"/>
            <a:ext cx="33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F19A2-AE31-4A42-A9A2-9B0C962C4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02080" y="9553680"/>
            <a:ext cx="33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4C5C-494F-40DF-A6E1-6B1539A5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289160" y="755640"/>
            <a:ext cx="519264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WenQuanYi Zen Hei Sharp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DAE-343F-416C-A6B6-09A280D7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4FF-9AB4-4FD9-9A73-983B7AB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041-BB21-41D8-B04C-9D0432D0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192-AB8D-4C3B-A012-4A155A2E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C8B-A663-4FE6-BF30-B77778D3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D0F-9075-482D-BF43-FD3A2A02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E9C-AA34-466D-9893-FDB404C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003-EA00-49B3-8CA2-D577EE5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7AF-A140-4D7A-B711-3857C7E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10A-C618-41F1-8A2C-8806EAA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0FE-4CFF-4CF3-B1CE-0A96900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62A-A9B0-4C74-8826-F7254BC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E262-344E-4814-8E5C-205FC6B65F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36720" y="3141720"/>
          <a:ext cx="6348600" cy="5558400"/>
        </p:xfrm>
        <a:graphic>
          <a:graphicData uri="http://schemas.openxmlformats.org/drawingml/2006/table">
            <a:tbl>
              <a:tblPr/>
              <a:tblGrid>
                <a:gridCol w="3174840"/>
                <a:gridCol w="3173760"/>
              </a:tblGrid>
              <a:tr h="185004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85148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5688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23:51:36Z</dcterms:created>
  <dc:creator>Joel Diaz</dc:creator>
  <dc:description/>
  <dc:language>en-US</dc:language>
  <cp:lastModifiedBy/>
  <cp:revision>1</cp:revision>
  <dc:subject/>
  <dc:title/>
</cp:coreProperties>
</file>