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4C3F9D-A0EC-4282-B020-92A35D09B4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4EA-B7E7-4C29-9FD2-51F4304A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C4F-2A55-4526-9A1B-2B3A5EE1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0F8-BA10-4923-996A-14931427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236-F866-4185-89AE-2F598827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BD1-BACD-44A8-8DF0-5B6A2D82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3FF-5DA9-4F8A-81C4-0F858A75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268-52AF-4C48-8950-683126E7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306-8CEF-4F38-9ABE-0199163F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7D3-3F11-48A9-AD01-C53AC6BE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69E-3C34-44B1-BBA0-AB287AC0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2A1-56B9-4EA0-BB32-D05FF23B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672-7CF0-4570-8601-F1CCA4CE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DF02FB-48F4-4EFC-A82D-46A582DB41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302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mar Jenkins</dc:creator>
  <dc:description/>
  <dc:language>en-US</dc:language>
  <cp:lastModifiedBy>Omar Jenkins</cp:lastModifiedBy>
  <cp:revision>0</cp:revision>
  <dc:subject/>
  <dc:title>PowerPoint Presentation</dc:title>
</cp:coreProperties>
</file>