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038-FD99-4762-BDCE-E7765CA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1B1-3838-4C15-88AD-08C0F1C8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806-B664-488D-9E13-D03890E0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81C-E2F1-443B-80F5-A6EE5CF5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4C5-88DB-4031-B01A-E761212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7A7-E09D-487C-A2AC-D5D1F1F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84F-58D5-4349-828F-960E2A1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5C6-6D05-4798-A65C-3D23E408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1D0-B30A-46D6-AF92-CB09E36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175-EBF0-4DD1-A29E-D1DDDA3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A98-FFEC-431B-B93F-5DABCC8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E34-9879-4216-9377-63BE165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15D-FD3E-47EB-9BA7-3CC5397A3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6720" y="2897280"/>
            <a:ext cx="3591000" cy="2419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БУХВАЛ" descr=""/>
          <p:cNvPicPr/>
          <p:nvPr/>
        </p:nvPicPr>
        <p:blipFill>
          <a:blip r:embed="rId1"/>
          <a:stretch/>
        </p:blipFill>
        <p:spPr>
          <a:xfrm>
            <a:off x="1298520" y="2820960"/>
            <a:ext cx="2209680" cy="1009800"/>
          </a:xfrm>
          <a:prstGeom prst="rect">
            <a:avLst/>
          </a:prstGeom>
          <a:ln w="0">
            <a:noFill/>
          </a:ln>
        </p:spPr>
      </p:pic>
      <p:pic>
        <p:nvPicPr>
          <p:cNvPr id="43" name="Шоя copy" descr=""/>
          <p:cNvPicPr/>
          <p:nvPr/>
        </p:nvPicPr>
        <p:blipFill>
          <a:blip r:embed="rId2"/>
          <a:stretch/>
        </p:blipFill>
        <p:spPr>
          <a:xfrm>
            <a:off x="1784520" y="369720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44" name="ИТАЛИЯ" descr=""/>
          <p:cNvPicPr/>
          <p:nvPr/>
        </p:nvPicPr>
        <p:blipFill>
          <a:blip r:embed="rId3"/>
          <a:stretch/>
        </p:blipFill>
        <p:spPr>
          <a:xfrm>
            <a:off x="1793880" y="401148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user</cp:lastModifiedBy>
  <dcterms:modified xsi:type="dcterms:W3CDTF">2011-11-21T18:47:22Z</dcterms:modified>
  <cp:revision>1</cp:revision>
  <dc:subject/>
  <dc:title>Slide 1</dc:title>
</cp:coreProperties>
</file>