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D1F83-EC18-41A9-B701-D9A3B2D491D9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5F86F-BA6A-4F7D-A66C-5CABD45A92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7B29E-1948-4926-9563-DFB39AF0A2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C984-50BF-427F-B088-C8266A67A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618080"/>
            <a:ext cx="8220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4E12-20F3-4592-888B-8753BA8C8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61808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461808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F45C-8DFE-4F50-B287-0A2CBE450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618080"/>
            <a:ext cx="26467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4618080"/>
            <a:ext cx="26467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4618080"/>
            <a:ext cx="26467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0849-F27B-4400-8325-DE07574C4C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3829-82EF-445D-9F52-468DAADE2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E30D-989D-4A21-B0EE-D83A968CA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C3E1-DF5E-460B-B01D-DFCAA4C09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086A-BE7B-47C8-BFB7-0D252D4E6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1E30-C436-489F-87E3-1E85CA6F3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61808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85D2-1F0E-4F0F-AC47-7AB1AC8CA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461808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9C33-BD11-4294-86FD-CB6754FA0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618080"/>
            <a:ext cx="8220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7917-1C09-41DC-AABD-C59F7F4B6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C6AED-FADB-4FCD-97A7-98DA85E88830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93760"/>
            <a:ext cx="8610480" cy="468360"/>
          </a:xfrm>
          <a:custGeom>
            <a:avLst/>
            <a:gdLst>
              <a:gd name="textAreaLeft" fmla="*/ 0 w 8610480"/>
              <a:gd name="textAreaRight" fmla="*/ 8610480 w 861048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13" y="0"/>
                </a:lnTo>
                <a:lnTo>
                  <a:pt x="21600" y="10800"/>
                </a:lnTo>
                <a:lnTo>
                  <a:pt x="21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mpétences des ressources huma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0360" y="1440000"/>
            <a:ext cx="4059360" cy="1219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OBJECTIFS</a:t>
            </a:r>
            <a:r>
              <a:rPr b="1" i="1" lang="fr-FR" sz="1400" spc="-1" strike="noStrike">
                <a:solidFill>
                  <a:srgbClr val="00b0f0"/>
                </a:solidFill>
                <a:latin typeface="Calibri"/>
                <a:ea typeface="Calibri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: adapter et maintenir durant sa carrière la qualification du personnel  par rapport aux différentes prestations ( celles , entre autres, situées dans le champ de la certification)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10160" y="1619280"/>
            <a:ext cx="4305240" cy="672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DONNÉES D’ENTRÉE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ersonnel en poste et nouvellement recru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atalogue des prestations et demandes particulières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31640" y="2519280"/>
          <a:ext cx="8594640" cy="4248000"/>
        </p:xfrm>
        <a:graphic>
          <a:graphicData uri="http://schemas.openxmlformats.org/drawingml/2006/table">
            <a:tbl>
              <a:tblPr/>
              <a:tblGrid>
                <a:gridCol w="2864880"/>
                <a:gridCol w="2865240"/>
                <a:gridCol w="2864520"/>
              </a:tblGrid>
              <a:tr h="31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EURS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OCUMENTS – ENREGISTR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524520">
                <a:tc>
                  <a:txBody>
                    <a:bodyPr lIns="90000" rIns="90000" tIns="1335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D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12132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Constituer et maintenir à jour les dossiers des agen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1335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Dossiers des agents (détailler conten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019960">
                <a:tc>
                  <a:txBody>
                    <a:bodyPr lIns="90000" rIns="90000" tIns="18792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1 )DRH                  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 )Chefs de servic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DRH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3 )Chefs de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18792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Assurer la formation des agent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 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1 ) Parcours d'adaptation à l'emplo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 )  Maintien et développement du champ des compétences par la formation continu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3 ) Faire le bilan de la form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1335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1) Dossier de l'ag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) Lettre de mission (dossier de l'ag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Attestation de formation(dossier de             formation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3) Entretien annu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721080">
                <a:tc>
                  <a:txBody>
                    <a:bodyPr lIns="90000" rIns="90000" tIns="18792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Directeur et chefs de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18792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Faire le bilan des activités des conseillers l'année  n et réviser les missions  pour  l'année n+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18792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Entretiens annuels de fin d'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Lettres de 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744840">
                <a:tc>
                  <a:txBody>
                    <a:bodyPr lIns="90000" rIns="90000" tIns="18792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Chefs de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18792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Accompagner les personnes nouvellement embauchées jusqu'à l'obtention de leur certificat (certiphyt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33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304920" y="887400"/>
            <a:ext cx="8610480" cy="489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PERIMETRE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: Chefs de services, conseillers et les assistantes impliqués dans les différentes prest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/>
          <p:nvPr/>
        </p:nvCxnSpPr>
        <p:spPr>
          <a:xfrm>
            <a:off x="9026640" y="468648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60" name=""/>
          <p:cNvCxnSpPr/>
          <p:nvPr/>
        </p:nvCxnSpPr>
        <p:spPr>
          <a:xfrm>
            <a:off x="9026640" y="468648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95280"/>
            <a:ext cx="8610480" cy="1616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NÉES DE SORTIE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Dossiers actualisés des agent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Organigramme du personnel avec rôle et responsabili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Tableau de bord des formations pour Certiphy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Fiches d'entretien annu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Lettres de 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10160" y="3408480"/>
            <a:ext cx="4305240" cy="1616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INDICATEURS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Nombre de formations par an ( voir si on scinde en activités??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%  consommation du fond de formation/masse salariale par 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0840" y="3017880"/>
            <a:ext cx="4114800" cy="3534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INTERACTIONS AVEC PROCESSUS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Processus de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buClr>
                <a:srgbClr val="000000"/>
              </a:buClr>
              <a:buFont typeface="Wingdings 3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Politique qualité, orientations stratégiques concernant les prestations, positionnement par rapport à la concur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buClr>
                <a:srgbClr val="000000"/>
              </a:buClr>
              <a:buFont typeface="Wingdings 3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buClr>
                <a:srgbClr val="000000"/>
              </a:buClr>
              <a:buFont typeface="Wingdings 3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Écoute cli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Pilot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Processus Sup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Processus de communication exter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Information et doc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Recouv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Processus de Réal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buClr>
                <a:srgbClr val="000000"/>
              </a:buClr>
              <a:buFont typeface="Wingdings 3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Besoins en personnel qualifié et régulièrement form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0000" y="5400720"/>
            <a:ext cx="4235400" cy="1189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ODALITES DE PILOTAGE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Commissions de 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Revue de process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Revue d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93760"/>
            <a:ext cx="8610480" cy="468360"/>
          </a:xfrm>
          <a:custGeom>
            <a:avLst/>
            <a:gdLst>
              <a:gd name="textAreaLeft" fmla="*/ 0 w 8610480"/>
              <a:gd name="textAreaRight" fmla="*/ 8610480 w 861048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13" y="0"/>
                </a:lnTo>
                <a:lnTo>
                  <a:pt x="21600" y="10800"/>
                </a:lnTo>
                <a:lnTo>
                  <a:pt x="21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REALISER DES ACTIVITES DE CONSE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1280" y="286920"/>
            <a:ext cx="8247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stion des dossiers du personn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01680" y="792000"/>
          <a:ext cx="8257680" cy="5878800"/>
        </p:xfrm>
        <a:graphic>
          <a:graphicData uri="http://schemas.openxmlformats.org/drawingml/2006/table">
            <a:tbl>
              <a:tblPr/>
              <a:tblGrid>
                <a:gridCol w="2068920"/>
                <a:gridCol w="2068920"/>
                <a:gridCol w="2068560"/>
                <a:gridCol w="2051280"/>
              </a:tblGrid>
              <a:tr h="50220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f de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 et modes de preu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3766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40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mento d'accue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sier  papier des salarié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pertoire informatique des formations des salariés par a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pertoire  informatique des lettres de missions et des entretiens annue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gramme de la chambre d'Agricultu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mes des entretiens et des lettres de mission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60360" y="1343160"/>
            <a:ext cx="5904000" cy="360360"/>
          </a:xfrm>
          <a:prstGeom prst="flowChartTerminator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ccueil du nouveau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48000" y="2160720"/>
            <a:ext cx="1728720" cy="72072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ossier du salarié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08360" y="4464000"/>
            <a:ext cx="1656000" cy="64764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ntretien annu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ettre de 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ogramme de 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640" y="4967280"/>
            <a:ext cx="1584360" cy="1152360"/>
          </a:xfrm>
          <a:prstGeom prst="diamond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alidation lettre de mission e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u programme de 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48000" y="3600360"/>
            <a:ext cx="1728720" cy="57636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ctualisation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'organigram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2"/>
            <a:endCxn id="72" idx="0"/>
          </p:cNvCxnSpPr>
          <p:nvPr/>
        </p:nvCxnSpPr>
        <p:spPr>
          <a:xfrm>
            <a:off x="3311640" y="2879640"/>
            <a:ext cx="2160" cy="7214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4" name=""/>
          <p:cNvCxnSpPr>
            <a:stCxn id="70" idx="2"/>
            <a:endCxn id="71" idx="3"/>
          </p:cNvCxnSpPr>
          <p:nvPr/>
        </p:nvCxnSpPr>
        <p:spPr>
          <a:xfrm flipV="1" rot="10800000">
            <a:off x="2015280" y="5111280"/>
            <a:ext cx="3420360" cy="43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1222200" y="4254480"/>
            <a:ext cx="316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49440" y="4762440"/>
            <a:ext cx="1471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évision lettre de 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ou programme de 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71" idx="0"/>
            <a:endCxn id="69" idx="1"/>
          </p:cNvCxnSpPr>
          <p:nvPr/>
        </p:nvCxnSpPr>
        <p:spPr>
          <a:xfrm flipV="1">
            <a:off x="1224000" y="2518920"/>
            <a:ext cx="1224720" cy="24487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8" name=""/>
          <p:cNvCxnSpPr>
            <a:stCxn id="71" idx="0"/>
            <a:endCxn id="70" idx="1"/>
          </p:cNvCxnSpPr>
          <p:nvPr/>
        </p:nvCxnSpPr>
        <p:spPr>
          <a:xfrm flipV="1">
            <a:off x="1223640" y="4787640"/>
            <a:ext cx="3385080" cy="180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9" name=""/>
          <p:cNvCxnSpPr>
            <a:stCxn id="68" idx="2"/>
            <a:endCxn id="69" idx="0"/>
          </p:cNvCxnSpPr>
          <p:nvPr/>
        </p:nvCxnSpPr>
        <p:spPr>
          <a:xfrm>
            <a:off x="3311640" y="170352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>
            <a:off x="4432320" y="7916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4432320" y="7916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elien Bories</cp:lastModifiedBy>
  <dcterms:modified xsi:type="dcterms:W3CDTF">2012-05-15T13:46:21Z</dcterms:modified>
  <cp:revision>1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2127905510</vt:r8>
  </property>
  <property fmtid="{D5CDD505-2E9C-101B-9397-08002B2CF9AE}" pid="4" name="_AuthorEmail">
    <vt:lpwstr>Aurelien.BORIES@socotec.com</vt:lpwstr>
  </property>
  <property fmtid="{D5CDD505-2E9C-101B-9397-08002B2CF9AE}" pid="5" name="_AuthorEmailDisplayName">
    <vt:lpwstr>BORIES Aurelien</vt:lpwstr>
  </property>
  <property fmtid="{D5CDD505-2E9C-101B-9397-08002B2CF9AE}" pid="6" name="_EmailSubject">
    <vt:lpwstr>PROJET ISO 9001 - Documents de travail</vt:lpwstr>
  </property>
</Properties>
</file>