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6B7-759B-4AE1-9DB6-6F48088E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925-B18F-4888-A65C-4902AEE6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2DB-83FD-4DDB-8058-B0B50CCF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8F8-9FE7-4E41-BE00-1BC69E31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0F1-F1CD-4186-8BD5-63B23124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8B2-41EB-477F-B224-F20F8052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C20-9161-46F7-8104-AF7677E8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C56-7DD6-4195-BFEE-54404B3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E02-37D7-4919-87B8-6CBCA22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EEC-EE86-4332-B30A-7598F5FA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B28-C114-4579-8C6D-9FEF8E7C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828-A362-4F3C-8863-5857C366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361F-AE4D-4100-B068-78F2C91C7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557360"/>
            <a:ext cx="1873080" cy="16556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8:24:37Z</dcterms:created>
  <dc:creator>Pierre Martineau</dc:creator>
  <dc:description/>
  <dc:language>en-US</dc:language>
  <cp:lastModifiedBy>Pierre Martineau</cp:lastModifiedBy>
  <dcterms:modified xsi:type="dcterms:W3CDTF">2012-10-13T18:24:41Z</dcterms:modified>
  <cp:revision>1</cp:revision>
  <dc:subject/>
  <dc:title>Diapositive 1</dc:title>
</cp:coreProperties>
</file>