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5B1-8CEE-4A87-BA19-7DF0EB05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F74-B7F1-4265-A57D-27C833C3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FA8-2D8F-4D92-B7A6-E1E9179B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F99-AC76-4B4E-8B01-59175452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85C-E184-4035-8B91-AB453E5E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7E4-8F4C-4657-AC43-7733E0D3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AC0-E63D-49FE-B820-4365DCA6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2B7-C161-4402-AE02-4201A8B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553-0D6F-4761-86D1-4177BA2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61F-86ED-40ED-9CC6-814D76E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E26-68A6-463A-B023-6172396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3E8-682A-4863-A4BD-FD732E0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9EB5-CF61-4E4F-A8BA-D2DA7797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1600200"/>
            <a:ext cx="52102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990720" cy="296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2514600"/>
            <a:ext cx="990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Services and suppor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for persons with an intellectual disability  and their fami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Community Living Sup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Supported Employ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Community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W.J. Griffis Children’s Cen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Monty Parks Cen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16002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87956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Please run this ad on Saturd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65640" y="804960"/>
            <a:ext cx="26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84760" y="380880"/>
            <a:ext cx="268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51240" y="56340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990720" cy="519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5272200"/>
            <a:ext cx="434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800" spc="-1" strike="noStrike">
                <a:solidFill>
                  <a:srgbClr val="000000"/>
                </a:solidFill>
                <a:latin typeface="Arial"/>
              </a:rPr>
              <a:t>We thank all candidates, however, only those selected for an interview will be conta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6304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7:49:42Z</dcterms:created>
  <dc:creator>Computer User3</dc:creator>
  <dc:description/>
  <dc:language>en-US</dc:language>
  <cp:lastModifiedBy>smirowski</cp:lastModifiedBy>
  <dcterms:modified xsi:type="dcterms:W3CDTF">2005-10-13T13:16:40Z</dcterms:modified>
  <cp:revision>95</cp:revision>
  <dc:subject/>
  <dc:title>PowerPoint Presentation</dc:title>
</cp:coreProperties>
</file>