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-360" y="-5172120"/>
            <a:ext cx="360" cy="117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39612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7920" y="3947040"/>
            <a:ext cx="639612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1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15720" y="1600200"/>
            <a:ext cx="3121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7920" y="3947040"/>
            <a:ext cx="3121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15720" y="3947040"/>
            <a:ext cx="3121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2059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0440" y="1600200"/>
            <a:ext cx="2059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62960" y="1600200"/>
            <a:ext cx="2059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7920" y="3947040"/>
            <a:ext cx="2059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0440" y="3947040"/>
            <a:ext cx="2059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62960" y="3947040"/>
            <a:ext cx="2059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428E3-DF1F-4222-902D-35AF0D4C6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437920" y="1600200"/>
            <a:ext cx="63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C22A1-4E87-4D8C-8461-CE787871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3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B8918-1129-4649-970F-001C0A8C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12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715720" y="1600200"/>
            <a:ext cx="31212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AD56F-C39C-45ED-94A0-056B9120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F6B18-BCD8-424B-A561-BD5A9DD5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3961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DAC2D-2304-4CD1-A62D-81BEB3EC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1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5720" y="1600200"/>
            <a:ext cx="31212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437920" y="3947040"/>
            <a:ext cx="3121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8CB30-A9D7-4EA8-B7F7-9C68C104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7920" y="1600200"/>
            <a:ext cx="63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12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5720" y="1600200"/>
            <a:ext cx="3121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715720" y="3947040"/>
            <a:ext cx="3121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A116F-4933-45B2-9276-61494C01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1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5720" y="1600200"/>
            <a:ext cx="3121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437920" y="3947040"/>
            <a:ext cx="639612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29B7E-0092-4993-872E-E5F39938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39612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437920" y="3947040"/>
            <a:ext cx="639612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85A97-01AC-4D7A-9591-F4A098E1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1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715720" y="1600200"/>
            <a:ext cx="3121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437920" y="3947040"/>
            <a:ext cx="3121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715720" y="3947040"/>
            <a:ext cx="3121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AAFD5-8AC0-4B1D-AC55-52C2CEAF1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2059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0440" y="1600200"/>
            <a:ext cx="2059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762960" y="1600200"/>
            <a:ext cx="2059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437920" y="3947040"/>
            <a:ext cx="2059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600440" y="3947040"/>
            <a:ext cx="2059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762960" y="3947040"/>
            <a:ext cx="2059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13E09-ED12-4FF3-A1AB-9FEF28556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3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12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15720" y="1600200"/>
            <a:ext cx="31212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3961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1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15720" y="1600200"/>
            <a:ext cx="31212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7920" y="3947040"/>
            <a:ext cx="3121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12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15720" y="1600200"/>
            <a:ext cx="3121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15720" y="3947040"/>
            <a:ext cx="3121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1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15720" y="1600200"/>
            <a:ext cx="3121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7920" y="3947040"/>
            <a:ext cx="639612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7920" y="1600200"/>
            <a:ext cx="63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280" y="6248520"/>
            <a:ext cx="18972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80360" y="6461280"/>
            <a:ext cx="14396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489B638-17A8-45B3-BADF-E27440326B69}" type="slidenum">
              <a:rPr b="0" lang="en-GB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3"/>
          </p:nvPr>
        </p:nvSpPr>
        <p:spPr>
          <a:xfrm>
            <a:off x="30492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  <a:ea typeface="MingLiU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MingLiU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  <a:ea typeface="MingLiU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MingLiU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5"/>
          </p:nvPr>
        </p:nvSpPr>
        <p:spPr>
          <a:xfrm>
            <a:off x="70099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  <a:ea typeface="MingLiU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46B8C7E-8506-4B3A-8054-B21E0D3FD299}" type="slidenum">
              <a:rPr b="0" lang="en-GB" sz="1000" spc="-1" strike="noStrike">
                <a:solidFill>
                  <a:srgbClr val="000000"/>
                </a:solidFill>
                <a:latin typeface="Times New Roman"/>
                <a:ea typeface="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615440" cy="20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Uvvvvvvvvvvvvvvvvv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vvvvvvvvvvvvvvv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vvvvvvvvvvvvvvvvv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vvvvvvvvvvvvvv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vvvvvvvvvvv vvvvvvv vvvv vvvv vvvvvvvv vvvvvvvvvv vvvvv vvvvvvv vvvvvvvvvvv vvvvvvvv vvvvvv vvvv vvvvvv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t</dc:creator>
  <dc:description/>
  <dc:language>en-US</dc:language>
  <cp:lastModifiedBy/>
  <cp:revision>0</cp:revision>
  <dc:subject/>
  <dc:title>投影片 1</dc:title>
</cp:coreProperties>
</file>