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15A2-7A4F-4224-870E-043B2B31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CF6A-1164-4D10-9125-CAF35F9B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F43F-C754-43B4-8DC7-0C85266C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6C9A-9DAA-4D20-8395-7CEA3C9D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6221-931A-422F-B2B8-1B0D8E5C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0803-CEFF-439B-84E1-4153788D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BB26-86AB-4350-8E8A-0E8E636A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070B-0252-43E6-978D-51CFE31A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33C6-F198-454F-BE4B-5E508C63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BD15-3144-44A7-98E2-CA12F3DF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F8FF-E00E-4AA0-BCBD-562D84AB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833B-E262-4CCC-B350-F7D61E57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BEFA-870E-473D-B285-D60865043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6"/>
          <p:cNvSpPr txBox="1"/>
          <p:nvPr/>
        </p:nvSpPr>
        <p:spPr>
          <a:xfrm>
            <a:off x="971640" y="765000"/>
            <a:ext cx="66294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Out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Shape of  fontwo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s       Ring  Outsi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three line text  te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  fourth   line  t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o many people to do 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WordArt 19"/>
          <p:cNvSpPr txBox="1"/>
          <p:nvPr/>
        </p:nvSpPr>
        <p:spPr>
          <a:xfrm>
            <a:off x="2484360" y="4221000"/>
            <a:ext cx="35118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Out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ing Outsi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5T02:49:03Z</dcterms:created>
  <dc:creator>jiyu</dc:creator>
  <dc:description/>
  <dc:language>en-US</dc:language>
  <cp:lastModifiedBy>IBM_USER</cp:lastModifiedBy>
  <dcterms:modified xsi:type="dcterms:W3CDTF">2012-08-14T02:17:56Z</dcterms:modified>
  <cp:revision>15</cp:revision>
  <dc:subject/>
  <dc:title>Slide 1</dc:title>
</cp:coreProperties>
</file>