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2D7F-72D7-460E-89C3-7C7713F50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9411-0964-4470-8D8A-346BA993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8D85-3177-42C1-8522-1A6720722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D7CD-C2EA-4188-A654-E2CE3E13B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8255-19E1-47A7-8905-41D139F7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8DAB-EB2E-433E-8C62-F1E9C530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3C49-15B7-4B0A-8340-4A7EBAF1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CB93-1C5F-4EC8-A07D-8F41DB36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06FE-CBBB-4C7E-AB05-AD9B040D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DD1B-AF64-471E-87A3-FDBE613B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F701-7F1D-4E72-B84E-A8834BCB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6FAD-910D-452F-9408-34F2AF97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C02A-7C26-4825-A979-1E12E1012DFC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1916280"/>
            <a:ext cx="475164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Slide transi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SLOW BOX 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800" spc="-1" strike="noStrike">
                <a:solidFill>
                  <a:srgbClr val="000000"/>
                </a:solidFill>
                <a:latin typeface="Arial"/>
              </a:rPr>
              <a:t>Slower in OO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800" spc="-1" strike="noStrike">
                <a:solidFill>
                  <a:srgbClr val="000000"/>
                </a:solidFill>
                <a:latin typeface="Arial"/>
              </a:rPr>
              <a:t>than in MS PP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35280" y="1268280"/>
            <a:ext cx="5400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bbe0e3"/>
                </a:solidFill>
                <a:latin typeface="Arial"/>
              </a:rPr>
              <a:t>Slide trans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bbe0e3"/>
                </a:solidFill>
                <a:latin typeface="Arial"/>
              </a:rPr>
              <a:t>FAST BOX 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000" spc="-1" strike="noStrike">
                <a:solidFill>
                  <a:srgbClr val="bbe0e3"/>
                </a:solidFill>
                <a:latin typeface="Arial"/>
              </a:rPr>
              <a:t>Slower in OO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000" spc="-1" strike="noStrike">
                <a:solidFill>
                  <a:srgbClr val="bbe0e3"/>
                </a:solidFill>
                <a:latin typeface="Arial"/>
              </a:rPr>
              <a:t>than in MS 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12:08:04Z</dcterms:created>
  <dc:creator>USER</dc:creator>
  <dc:description/>
  <dc:language>en-US</dc:language>
  <cp:lastModifiedBy>USER</cp:lastModifiedBy>
  <dcterms:modified xsi:type="dcterms:W3CDTF">2005-04-05T12:18:09Z</dcterms:modified>
  <cp:revision>6</cp:revision>
  <dc:subject/>
  <dc:title>Slide 1</dc:title>
</cp:coreProperties>
</file>