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 (Hebrew)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 (Hebrew)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 (Hebrew)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 (Hebrew)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 (Hebrew)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 (Hebrew)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 (Hebrew)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 (Hebrew)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 (Hebrew)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 (Hebrew)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akotter@gmail.com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 (Hebrew)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 (Hebrew)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(Hebrew)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  <a:p>
            <a:pPr lvl="1" marL="743040" indent="-285840" rtl="1">
              <a:spcBef>
                <a:spcPts val="799"/>
              </a:spcBef>
              <a:buClr>
                <a:srgbClr val="ffffff"/>
              </a:buClr>
              <a:buFont typeface="Times New Roman (Hebrew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(Hebrew)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  <a:p>
            <a:pPr lvl="2" marL="1143000" indent="-228600" rtl="1">
              <a:spcBef>
                <a:spcPts val="799"/>
              </a:spcBef>
              <a:buClr>
                <a:srgbClr val="ffffff"/>
              </a:buClr>
              <a:buFont typeface="Times New Roman (Hebrew)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(Hebrew)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  <a:p>
            <a:pPr lvl="3" marL="1600200" indent="-228600" rtl="1">
              <a:spcBef>
                <a:spcPts val="799"/>
              </a:spcBef>
              <a:buClr>
                <a:srgbClr val="fafd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(Hebrew)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  <a:p>
            <a:pPr lvl="4" marL="2057400" indent="-228600" rtl="1">
              <a:spcBef>
                <a:spcPts val="799"/>
              </a:spcBef>
              <a:buClr>
                <a:srgbClr val="ffffff"/>
              </a:buClr>
              <a:buFont typeface="Times New Roman (Hebrew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(Hebrew)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  <a:p>
            <a:pPr lvl="5" marL="2057400" indent="-228600" rtl="1">
              <a:spcBef>
                <a:spcPts val="799"/>
              </a:spcBef>
              <a:buClr>
                <a:srgbClr val="ffffff"/>
              </a:buClr>
              <a:buFont typeface="Times New Roman (Hebrew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(Hebrew)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  <a:p>
            <a:pPr lvl="6" marL="2057400" indent="-228600" rtl="1">
              <a:spcBef>
                <a:spcPts val="799"/>
              </a:spcBef>
              <a:buClr>
                <a:srgbClr val="ffffff"/>
              </a:buClr>
              <a:buFont typeface="Times New Roman (Hebrew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(Hebrew)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 (Hebrew)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6480000"/>
            <a:ext cx="7543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95ab7"/>
                </a:solidFill>
                <a:latin typeface="Tahoma"/>
                <a:ea typeface="Tahoma"/>
              </a:rPr>
              <a:t>KMIS</a:t>
            </a:r>
            <a:r>
              <a:rPr b="0" lang="en-US" sz="1400" spc="-1" strike="noStrike">
                <a:solidFill>
                  <a:srgbClr val="f95ab7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95ab7"/>
                </a:solidFill>
                <a:latin typeface="Times New Roman"/>
              </a:rPr>
              <a:t>Tel: 972 4 9974148  Fax: 972 4 9978174   Cell: 972 5 22812325  Email</a:t>
            </a:r>
            <a:r>
              <a:rPr b="0" lang="en-US" sz="1200" spc="-1" strike="noStrike">
                <a:solidFill>
                  <a:srgbClr val="f95ab7"/>
                </a:solidFill>
                <a:latin typeface="Times New Roman"/>
              </a:rPr>
              <a:t>: </a:t>
            </a:r>
            <a:r>
              <a:rPr b="0" lang="en-US" sz="1200" spc="-1" strike="noStrike" u="sng">
                <a:solidFill>
                  <a:srgbClr val="fc0128"/>
                </a:solidFill>
                <a:uFillTx/>
                <a:latin typeface="Times New Roman"/>
                <a:hlinkClick r:id="rId2"/>
              </a:rPr>
              <a:t>akotter@gmail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304920" y="228600"/>
          <a:ext cx="757080" cy="97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28600"/>
                    <a:ext cx="75708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38862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MS -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rees</a:t>
            </a:r>
            <a:endParaRPr b="0" lang="en-US" sz="3200" spc="-1" strike="noStrike">
              <a:solidFill>
                <a:srgbClr val="fafd00"/>
              </a:solidFill>
              <a:latin typeface="Times New Roman (Hebrew)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276720"/>
            <a:ext cx="83818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 #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2484360" y="3429000"/>
            <a:ext cx="190440" cy="190440"/>
          </a:xfrm>
          <a:custGeom>
            <a:avLst/>
            <a:gdLst>
              <a:gd name="textAreaLeft" fmla="*/ 12240 w 190440"/>
              <a:gd name="textAreaRight" fmla="*/ 178200 w 190440"/>
              <a:gd name="textAreaTop" fmla="*/ 12240 h 190440"/>
              <a:gd name="textAreaBottom" fmla="*/ 1782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276720"/>
            <a:ext cx="83818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 #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2700360" y="3429000"/>
            <a:ext cx="190440" cy="190440"/>
          </a:xfrm>
          <a:custGeom>
            <a:avLst/>
            <a:gdLst>
              <a:gd name="textAreaLeft" fmla="*/ 12240 w 190440"/>
              <a:gd name="textAreaRight" fmla="*/ 178200 w 190440"/>
              <a:gd name="textAreaTop" fmla="*/ 12240 h 190440"/>
              <a:gd name="textAreaBottom" fmla="*/ 1782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276720"/>
            <a:ext cx="83818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 #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8T16:42:24Z</dcterms:created>
  <dc:creator>קוטר מערכות</dc:creator>
  <dc:description/>
  <dc:language>en-US</dc:language>
  <cp:lastModifiedBy>Kotter</cp:lastModifiedBy>
  <dcterms:modified xsi:type="dcterms:W3CDTF">2006-01-25T10:58:44Z</dcterms:modified>
  <cp:revision>429</cp:revision>
  <dc:subject/>
  <dc:title>MMS</dc:title>
</cp:coreProperties>
</file>