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2149-D85A-4513-B79A-F0E4DDED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025-496E-4B6B-AEC8-D8148FF8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8C3-0A93-424D-990E-FD2064ED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626-A696-4609-87B7-AEDB39D7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279-B3DE-4534-B1FD-B6E7759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F68-D503-49C2-A637-DAD45C65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A55-3434-482F-98D5-55917C39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809-962F-4580-8EBC-4E2AEBB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C00-2422-4B77-8195-8CA3186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B1E-278F-46BC-948D-ED4C8A2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C2A-2F4C-417A-9CBE-5F41706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8BB-A331-4EE4-A968-56A329A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E53-A1A2-4047-86A1-FEB022D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8D5-1C70-454A-84A1-5B64982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D3E-00E6-4D0A-8B3C-3DF2F96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50D-DF0F-4DBC-A21C-80F1D515D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Mickey Chopra MD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Health UNIC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Arrow 4"/>
          <p:cNvSpPr/>
          <p:nvPr/>
        </p:nvSpPr>
        <p:spPr>
          <a:xfrm>
            <a:off x="3505320" y="26668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5"/>
          <p:cNvSpPr/>
          <p:nvPr/>
        </p:nvSpPr>
        <p:spPr>
          <a:xfrm>
            <a:off x="4800600" y="281952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6"/>
          <p:cNvSpPr/>
          <p:nvPr/>
        </p:nvSpPr>
        <p:spPr>
          <a:xfrm>
            <a:off x="4800600" y="29718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85800"/>
          <a:ext cx="8300880" cy="3521160"/>
        </p:xfrm>
        <a:graphic>
          <a:graphicData uri="http://schemas.openxmlformats.org/drawingml/2006/table">
            <a:tbl>
              <a:tblPr/>
              <a:tblGrid>
                <a:gridCol w="1066680"/>
                <a:gridCol w="579600"/>
                <a:gridCol w="1020600"/>
                <a:gridCol w="625680"/>
                <a:gridCol w="745920"/>
                <a:gridCol w="609840"/>
                <a:gridCol w="1066680"/>
                <a:gridCol w="117360"/>
                <a:gridCol w="141480"/>
                <a:gridCol w="1417680"/>
                <a:gridCol w="909360"/>
              </a:tblGrid>
              <a:tr h="160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o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le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21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um of Care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Plann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th Spac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Right Arrow 10"/>
          <p:cNvSpPr/>
          <p:nvPr/>
        </p:nvSpPr>
        <p:spPr>
          <a:xfrm>
            <a:off x="1600200" y="1295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11"/>
          <p:cNvSpPr/>
          <p:nvPr/>
        </p:nvSpPr>
        <p:spPr>
          <a:xfrm>
            <a:off x="3276720" y="1295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2"/>
          <p:cNvSpPr/>
          <p:nvPr/>
        </p:nvSpPr>
        <p:spPr>
          <a:xfrm>
            <a:off x="4572000" y="1295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13"/>
          <p:cNvSpPr/>
          <p:nvPr/>
        </p:nvSpPr>
        <p:spPr>
          <a:xfrm>
            <a:off x="5867280" y="129528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17"/>
          <p:cNvSpPr/>
          <p:nvPr/>
        </p:nvSpPr>
        <p:spPr>
          <a:xfrm>
            <a:off x="5105520" y="3352680"/>
            <a:ext cx="1066680" cy="60984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marri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pregnan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irls &lt;20 years in India gave birth to at least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1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ll deliveries occur in these young m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FHS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nal age at childbirth &lt; 20 years, translates into as much a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cess risk of neonatal mortality, compared to a highe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 of NNM possible if adolescent pregnancies are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 43,550 women in 10 facilities (ICMR) showed an MMR among adolescents o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100,000 live births compared wit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4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100,000 births for the age 20-3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[Krishna, 199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3"/>
          <p:cNvSpPr/>
          <p:nvPr/>
        </p:nvSpPr>
        <p:spPr>
          <a:xfrm>
            <a:off x="4114800" y="609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9:12:46Z</dcterms:created>
  <dc:creator/>
  <dc:description/>
  <dc:language>en-US</dc:language>
  <cp:lastModifiedBy/>
  <dcterms:modified xsi:type="dcterms:W3CDTF">2011-04-27T09:12:59Z</dcterms:modified>
  <cp:revision>1</cp:revision>
  <dc:subject/>
  <dc:title/>
</cp:coreProperties>
</file>