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A133-D0E5-416E-8D8C-D5A67370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727-90C0-46A3-B3EA-15516C2D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C5C3-254C-4686-B0FA-21E12D4C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784B-42DC-4FB2-B311-05766349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2317-8DF8-4162-A725-F2D11783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A4A4-4EFD-4788-BCA2-69712E96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166A-FB13-4186-8333-4D6C381C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B7AA-3D3F-4CC4-A26E-0763349C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FC09-D6E6-43F3-B79E-1D1CE03F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29CF-970E-401E-AEAD-5429646B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F9D-F566-4F6D-A244-D76971F9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9198-FC87-424E-BFEA-F0A38C08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70D3-8542-47A5-9C78-C62467EE36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765000"/>
            <a:ext cx="66294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In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Shape of  fontwo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       Ring  Insi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three line text  t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  fourth   line  t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 many people to do 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56000" y="3860640"/>
            <a:ext cx="3511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In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ing Insi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547640" y="3068640"/>
            <a:ext cx="101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In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est font size 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219640" y="3429000"/>
            <a:ext cx="757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In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e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fo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1557360"/>
            <a:ext cx="1224000" cy="1008000"/>
          </a:xfrm>
          <a:prstGeom prst="wedgeRoundRectCallout">
            <a:avLst>
              <a:gd name="adj1" fmla="val -50907"/>
              <a:gd name="adj2" fmla="val 8559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est font size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92720" y="1413000"/>
            <a:ext cx="1224000" cy="1368360"/>
          </a:xfrm>
          <a:prstGeom prst="wedgeRoundRectCallout">
            <a:avLst>
              <a:gd name="adj1" fmla="val -49611"/>
              <a:gd name="adj2" fmla="val 9396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font size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547640" y="3068640"/>
            <a:ext cx="101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In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est font size 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1557360"/>
            <a:ext cx="1224000" cy="1008000"/>
          </a:xfrm>
          <a:prstGeom prst="wedgeRoundRectCallout">
            <a:avLst>
              <a:gd name="adj1" fmla="val -50907"/>
              <a:gd name="adj2" fmla="val 8559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est font type a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564000" y="3284640"/>
            <a:ext cx="101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In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新宋体"/>
              </a:rPr>
              <a:t>test font size 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新宋体"/>
              <a:ea typeface="新宋体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1773360"/>
            <a:ext cx="1224000" cy="1008000"/>
          </a:xfrm>
          <a:prstGeom prst="wedgeRoundRectCallout">
            <a:avLst>
              <a:gd name="adj1" fmla="val -50907"/>
              <a:gd name="adj2" fmla="val 8559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est font typ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宋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588000" y="3139920"/>
            <a:ext cx="1014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In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行楷"/>
              </a:rPr>
              <a:t>test font size 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华文行楷"/>
              <a:ea typeface="华文行楷"/>
            </a:endParaRPr>
          </a:p>
        </p:txBody>
      </p:sp>
      <p:sp>
        <p:nvSpPr>
          <p:cNvPr id="52" name=""/>
          <p:cNvSpPr/>
          <p:nvPr/>
        </p:nvSpPr>
        <p:spPr>
          <a:xfrm>
            <a:off x="6948360" y="1628640"/>
            <a:ext cx="1224000" cy="1008360"/>
          </a:xfrm>
          <a:prstGeom prst="wedgeRoundRectCallout">
            <a:avLst>
              <a:gd name="adj1" fmla="val -50907"/>
              <a:gd name="adj2" fmla="val 8559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est font typ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华文行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5T02:49:03Z</dcterms:created>
  <dc:creator>jiyu</dc:creator>
  <dc:description/>
  <dc:language>en-US</dc:language>
  <cp:lastModifiedBy>sunying</cp:lastModifiedBy>
  <dcterms:modified xsi:type="dcterms:W3CDTF">2012-08-17T06:36:53Z</dcterms:modified>
  <cp:revision>16</cp:revision>
  <dc:subject/>
  <dc:title>Slide 1</dc:title>
</cp:coreProperties>
</file>