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38E-3DCC-4204-9D60-5A81DCB6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9680-C63C-44AB-81B5-BFF7F18E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146E-ADB2-46A3-99DD-83A97D9B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CF87-1889-471D-8AD5-059D846C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53F2-A95C-41FB-A4CA-19A00D8A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EAC9-C0C5-4481-AEAC-EDCF2275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7201-A193-42FA-854F-27E6E74A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7A52-52EA-48E8-9476-B45970B6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676E-949A-455A-ACFE-839CECAB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FDC1-E38D-45D4-AF02-DF27F83D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849D-85C7-431A-874C-5E80DCCE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28EE-437F-421F-9889-D39F6C12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26F9-6364-416D-8E3B-A2842D013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2571840"/>
          <a:ext cx="5511960" cy="42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71840"/>
                    <a:ext cx="551196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10922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Pv4 Allocations from RIRs to LIRs/IS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umulativ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(1 January 1999 – 31 December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362320" y="1600200"/>
            <a:ext cx="2057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028880" y="833400"/>
          <a:ext cx="7086600" cy="602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833400"/>
                    <a:ext cx="70866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0" y="10666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Pv6 Allocations from RIRs to LIRs/IS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umulativ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(1 January 1999 – 31 December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06:42:54Z</dcterms:created>
  <dc:creator>administrator</dc:creator>
  <dc:description/>
  <dc:language>en-US</dc:language>
  <cp:lastModifiedBy>administrator</cp:lastModifiedBy>
  <dcterms:modified xsi:type="dcterms:W3CDTF">2004-05-25T06:46:28Z</dcterms:modified>
  <cp:revision>2</cp:revision>
  <dc:subject/>
  <dc:title>Slide 1</dc:title>
</cp:coreProperties>
</file>