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532-77A0-4638-9656-91008EB3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38C-C087-4B9A-9B23-D38E2D6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7FF-8EDE-48E2-9D06-19B22A2B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2C7-7205-4EEC-8C19-58BC231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387-FAF6-47FB-A6E6-9E91C667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612-1D90-43B4-97CE-2B05A33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DCC-DE9B-4904-A85E-730B1CD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763-0DFC-4195-80F7-C52C16C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6D1-A44F-4CDC-AF05-BD03ABF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C55-AAC2-4818-AD09-09D5420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885-27C5-4194-A3D7-61C6AB2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858-7226-4FCF-AA88-A504F5E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AB5A-5279-4F47-8AF0-67F47B40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295280"/>
            <a:ext cx="457200" cy="91440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6:06:28Z</dcterms:created>
  <dc:creator>cg103521</dc:creator>
  <dc:description/>
  <dc:language>en-US</dc:language>
  <cp:lastModifiedBy>cg103521</cp:lastModifiedBy>
  <dcterms:modified xsi:type="dcterms:W3CDTF">2004-03-31T16:06:33Z</dcterms:modified>
  <cp:revision>1</cp:revision>
  <dc:subject/>
  <dc:title>PowerPoint Presentation</dc:title>
</cp:coreProperties>
</file>