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807-756B-4D62-8B48-C1906312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552-7131-4CD7-B2D2-274BC48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A0D-53C7-4E34-9899-D878E94A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499-88BB-4C26-8849-4FE5BFB9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576-B162-4FBA-B90E-B5A95974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287-011C-42E5-81B5-95C7E195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7213-C379-4080-8726-30AFD0F8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6149-356E-4DEF-BB1E-F811C452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645A-6B99-4A79-BDEF-D8693F0E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9A33-81EB-45A2-AE2B-3789B8E5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20F-C9F7-4B95-98FF-6301427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936-EC36-4563-AC00-FA801C0A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FA24-39BE-49A8-BE1E-0BF1406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7C13-2981-45EC-A5B7-A8B9C63E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80D2-C1BC-4BE2-A444-7FA6F3F2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C109-9276-4E0E-ACB6-C9B9F1D8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2B41-B660-4DA5-BFC9-90828767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A8F-07F6-43EA-8E7A-A880256C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1DA-2FEE-4934-A757-30468FD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263-0760-423D-99B6-B7D0C77A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C17-2D73-4811-92C7-C99781EE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A75-0FCD-49B7-A573-B2A0180A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06E-5935-4E44-910F-C1228CC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3C5-7971-4EAA-8295-80CCB0C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BE4-9F8A-4A66-AC7A-40ED8703801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9C3A-5444-4B38-9155-413DD518B13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[Company Name]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05:52:38Z</dcterms:created>
  <dc:creator>Amit Batra</dc:creator>
  <dc:description/>
  <dc:language>en-US</dc:language>
  <cp:lastModifiedBy>Amit Batra</cp:lastModifiedBy>
  <dcterms:modified xsi:type="dcterms:W3CDTF">2004-01-22T08:39:48Z</dcterms:modified>
  <cp:revision>2</cp:revision>
  <dc:subject/>
  <dc:title>[Company Name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