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0E0-1BA8-4996-A2CC-16E673D3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A96-4417-45ED-A496-16B5F98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19F-7C3E-4D87-8738-1A962C59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A03-6467-4E06-9DC6-E7ACC311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57B-ADF5-4052-97DC-98D1A5D2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A6A-3EB3-449A-B589-C22822DC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E59-0BBA-4F96-8A92-0BB1B8F1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531-ABC4-4C5E-8219-99F9999D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EC8-D869-457D-A70F-B7BADC4F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48D-FC7B-4329-B630-586AA22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825-DDE0-4EAF-AA76-5DF82A7A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056-49F9-46BE-947B-BBD66EC6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F9B0-0ED5-40BB-8E13-9855871C2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 flipV="1">
            <a:off x="3564000" y="2997360"/>
            <a:ext cx="360" cy="380880"/>
          </a:xfrm>
          <a:prstGeom prst="line">
            <a:avLst/>
          </a:prstGeom>
          <a:noFill/>
          <a:ln w="76320">
            <a:solidFill>
              <a:srgbClr val="d11f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6227640" y="3284640"/>
            <a:ext cx="360" cy="457200"/>
          </a:xfrm>
          <a:prstGeom prst="line">
            <a:avLst/>
          </a:prstGeom>
          <a:noFill/>
          <a:ln w="76320">
            <a:solidFill>
              <a:srgbClr val="9eb2c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411280" y="3645000"/>
            <a:ext cx="360" cy="936360"/>
          </a:xfrm>
          <a:prstGeom prst="line">
            <a:avLst/>
          </a:pr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17:38Z</dcterms:created>
  <dc:creator>weihongtao</dc:creator>
  <dc:description/>
  <dc:language>en-US</dc:language>
  <cp:lastModifiedBy>LENOVO USER</cp:lastModifiedBy>
  <dcterms:modified xsi:type="dcterms:W3CDTF">2009-10-16T08:33:10Z</dcterms:modified>
  <cp:revision>1</cp:revision>
  <dc:subject/>
  <dc:title>Slide 1</dc:title>
</cp:coreProperties>
</file>