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4CD-C102-4E37-A2BF-B5BF0871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567-8B15-4734-8280-ABA152AE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00F-BC3A-49B0-9485-ABF5EE03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0DE-73E3-4F2A-A738-0BBC8B78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E8A-426E-4F93-801B-803D569A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544-EAD8-4E40-BE4B-785D322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723-2ADF-43C8-B059-1F2D14B9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C8B-D79F-4DB6-ACE6-E0C8ECB4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5C2-3D59-481F-9278-6D330F2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6EC-46C3-41DC-B156-C3A5BFA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10A-3A24-46C8-AEA2-48C7C024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5D3-F69E-4F16-929F-41F64E3D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DEC4-6C2E-4D12-B6C7-DB3BDE1A1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5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560" y="1392120"/>
          <a:ext cx="7680600" cy="4532400"/>
        </p:xfrm>
        <a:graphic>
          <a:graphicData uri="http://schemas.openxmlformats.org/drawingml/2006/table">
            <a:tbl>
              <a:tblPr/>
              <a:tblGrid>
                <a:gridCol w="7680600"/>
              </a:tblGrid>
              <a:tr h="453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94240">
                        <a:spcBef>
                          <a:spcPts val="700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nd that the partial and the conditional rank correlations are eq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94240">
                        <a:spcBef>
                          <a:spcPts val="700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 the entire procedure many tim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94240">
                        <a:spcBef>
                          <a:spcPts val="700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 the correlation matrix from thes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es and compare with the original correlation matrix </a:t>
                      </a: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0880" y="1670040"/>
            <a:ext cx="2822400" cy="395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16640" y="0"/>
            <a:ext cx="2995560" cy="1592280"/>
          </a:xfrm>
          <a:prstGeom prst="wedgeRoundRectCallout">
            <a:avLst>
              <a:gd name="adj1" fmla="val -64361"/>
              <a:gd name="adj2" fmla="val 38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ase: FFC252FFCSD_Paragraph_Indent_Table0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: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:  Paragraph with certain indent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3:29:02Z</dcterms:created>
  <dc:creator>renyuxia</dc:creator>
  <dc:description/>
  <dc:language>en-US</dc:language>
  <cp:lastModifiedBy>renyuxia</cp:lastModifiedBy>
  <dcterms:modified xsi:type="dcterms:W3CDTF">2005-05-09T00:06:41Z</dcterms:modified>
  <cp:revision>5</cp:revision>
  <dc:subject/>
  <dc:title>Slide 1</dc:title>
</cp:coreProperties>
</file>