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794-9485-4298-8462-BA682A5F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C6A-ABB9-4443-B33E-FB129672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90B-C813-4C20-9ECA-653BFE97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43D-01E1-4BBD-9081-8E249DE7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9A9-9743-40F8-A275-007A6DC8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92A-59B2-4CAC-AB05-888FBA9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E55-B8A0-46C9-AC31-7D6D35D6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5BD-9B24-42C5-8058-AE2D3689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742-A4ED-4FC7-889B-0734A275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F16-B63D-491A-AAEF-E92764C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C8B-8EE1-480E-A136-78A1737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EDD-594B-43BD-B0DD-58FDF68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8E1-3FB4-44FA-A764-6F528148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wanglifeng</cp:lastModifiedBy>
  <dcterms:modified xsi:type="dcterms:W3CDTF">2012-09-11T05:26:00Z</dcterms:modified>
  <cp:revision>6</cp:revision>
  <dc:subject/>
  <dc:title>幻灯片 1</dc:title>
</cp:coreProperties>
</file>