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9396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0B68C0-AE39-4367-8C68-96795A4AB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120" y="692280"/>
            <a:ext cx="4554360" cy="341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3556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548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548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59440" y="374760"/>
            <a:ext cx="3751200" cy="35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523880" y="4038480"/>
          <a:ext cx="6324840" cy="25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38480"/>
                    <a:ext cx="632484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4320" y="1455840"/>
          <a:ext cx="469764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4320" y="1455840"/>
                    <a:ext cx="46976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43320" y="600120"/>
            <a:ext cx="19908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61960" y="2747880"/>
            <a:ext cx="657360" cy="17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66720" y="37152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04840" y="5519880"/>
            <a:ext cx="139536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7819920" y="5295960"/>
            <a:ext cx="109548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681120"/>
          <a:ext cx="892980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81120"/>
                    <a:ext cx="892980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2680" y="539640"/>
          <a:ext cx="83707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539640"/>
                    <a:ext cx="83707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2280"/>
            <a:ext cx="83822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87400" y="3867120"/>
          <a:ext cx="327528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3867120"/>
                    <a:ext cx="327528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32480" y="334800"/>
            <a:ext cx="3260520" cy="34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78040" y="847800"/>
          <a:ext cx="4484520" cy="13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040" y="847800"/>
                    <a:ext cx="44845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87400" y="2782800"/>
          <a:ext cx="446580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7400" y="2782800"/>
                    <a:ext cx="44658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952880" y="3429000"/>
          <a:ext cx="3505320" cy="327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3429000"/>
                    <a:ext cx="35053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in Machin</dc:creator>
  <dc:description/>
  <dc:language>en-US</dc:language>
  <cp:lastModifiedBy>Colin Machin</cp:lastModifiedBy>
  <cp:revision>0</cp:revision>
  <dc:subject/>
  <dc:title>No Slide Title</dc:title>
</cp:coreProperties>
</file>