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7BCF9-11A2-4D7D-80D3-B9FA121956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BAF-DFB1-429C-8EBE-64032FA3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7ED-DF9B-438A-BFEF-2E644A88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A12-1B8C-4F4B-9DD2-AA6727E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948-2A29-4CE8-933F-3198AE7A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D152-D30F-48B8-8520-BE0126E9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7F47-27F5-4F1F-9ED7-62A0D3E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27D2-50F8-4970-8ED2-38EF56D6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6A9A-B29E-4E59-9DCC-7C88CCA8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8CD1-A140-4604-A7CB-A3AD75F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C7D-9A3D-4DAE-BC44-CA44D4C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D1C-E716-41DD-8458-9EB0643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207-6455-445C-8051-519A3E2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D4B-7E41-4DFB-B546-7E848F4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6D7-3BEB-4E50-8403-0180208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1480-4A95-4DFD-9F4C-342400B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98A9-2206-4732-A3E1-D9E7845A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D74-D1DD-4D66-9725-86B6C62D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ECE-2A6D-4D1C-B514-2C9D07A5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D9F-ABCB-4672-A8AC-5E73A043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6C5-1F1B-4AE9-BBDA-3D0A10C8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197-1182-462A-8440-1AD76DEA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307-49C1-4589-9892-D54C78F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DAB-BC19-41A3-B3DC-66E4B65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799-9941-4513-BDA5-8E82AC1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170920" y="0"/>
            <a:ext cx="969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B6331-2582-4D43-9269-3A809F97CBF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C3CEBA-3928-4ECA-8593-BC7009F82A6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Modyfikat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yfikatory dostę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, protected, (domyślny dostęp pakietowy),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łowo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 inne zastosowan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yfikatory ograniczają dostęp na poziomie kodu. To nie jest mechanizm kontroli uprawnień na poziomie obiek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yfikatory dostępu używamy z klasami, interfejsami, atrybutami, metodami, konstruktorami i klasami wewnętrzny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e wszystkie modyfikatory stosują się do każdego zagadnienia, np. klas dotyczą jedyni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domyślny dostęp pakietow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zostałe modyfika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, final, native, static, synchronized, volatile, transient, strict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ek Sro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BDA-857A-4A82-870E-490635FAA15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