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1828-A61D-4282-857B-58A19F40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4326-C9BC-4D7F-8F33-02EAB41D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9096-AC62-4EC1-8525-49D9A887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03F8-FD4C-412B-B7C3-CAC824A38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F758-2858-4A9E-A3BC-148A3344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89C9-C1CD-41DF-855C-761E94D6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F051-44AF-449F-B560-82F44049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A348-0DB4-4848-8E22-A5D89824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F1C9-7349-4108-B6D5-BA56E8D2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35B6-063E-4FD7-BB43-E99D2642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2B15-C353-4FAE-90E2-8181E6C9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05F6-9D03-41FD-84D8-A935E341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25C068-CB91-428E-9048-764CD34BE2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0800000">
            <a:off x="1830240" y="3125880"/>
            <a:ext cx="1097280" cy="977760"/>
          </a:xfrm>
          <a:custGeom>
            <a:avLst/>
            <a:gdLst>
              <a:gd name="textAreaLeft" fmla="*/ 393480 w 1097280"/>
              <a:gd name="textAreaRight" fmla="*/ 703800 w 1097280"/>
              <a:gd name="textAreaTop" fmla="*/ 350640 h 977760"/>
              <a:gd name="textAreaBottom" fmla="*/ 627120 h 9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rot="10800000">
            <a:off x="7957800" y="3125880"/>
            <a:ext cx="1096920" cy="977760"/>
          </a:xfrm>
          <a:custGeom>
            <a:avLst/>
            <a:gdLst>
              <a:gd name="textAreaLeft" fmla="*/ 393480 w 1096920"/>
              <a:gd name="textAreaRight" fmla="*/ 703440 w 1096920"/>
              <a:gd name="textAreaTop" fmla="*/ 350640 h 977760"/>
              <a:gd name="textAreaBottom" fmla="*/ 627120 h 9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4878000" y="3125880"/>
            <a:ext cx="1096920" cy="977760"/>
          </a:xfrm>
          <a:custGeom>
            <a:avLst/>
            <a:gdLst>
              <a:gd name="textAreaLeft" fmla="*/ 393480 w 1096920"/>
              <a:gd name="textAreaRight" fmla="*/ 703440 w 1096920"/>
              <a:gd name="textAreaTop" fmla="*/ 350640 h 977760"/>
              <a:gd name="textAreaBottom" fmla="*/ 627120 h 9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1905120"/>
            <a:ext cx="1096920" cy="977760"/>
          </a:xfrm>
          <a:custGeom>
            <a:avLst/>
            <a:gdLst>
              <a:gd name="textAreaLeft" fmla="*/ 393480 w 1096920"/>
              <a:gd name="textAreaRight" fmla="*/ 703440 w 1096920"/>
              <a:gd name="textAreaTop" fmla="*/ 350640 h 977760"/>
              <a:gd name="textAreaBottom" fmla="*/ 627120 h 9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948440" y="1905120"/>
            <a:ext cx="1097280" cy="977760"/>
          </a:xfrm>
          <a:custGeom>
            <a:avLst/>
            <a:gdLst>
              <a:gd name="textAreaLeft" fmla="*/ 393480 w 1097280"/>
              <a:gd name="textAreaRight" fmla="*/ 703800 w 1097280"/>
              <a:gd name="textAreaTop" fmla="*/ 350640 h 977760"/>
              <a:gd name="textAreaBottom" fmla="*/ 627120 h 9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1905120"/>
            <a:ext cx="1096920" cy="977760"/>
          </a:xfrm>
          <a:custGeom>
            <a:avLst/>
            <a:gdLst>
              <a:gd name="textAreaLeft" fmla="*/ 393480 w 1096920"/>
              <a:gd name="textAreaRight" fmla="*/ 703440 w 1096920"/>
              <a:gd name="textAreaTop" fmla="*/ 350640 h 977760"/>
              <a:gd name="textAreaBottom" fmla="*/ 627120 h 9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3302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75040" y="1916280"/>
            <a:ext cx="64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81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6320" y="2446200"/>
            <a:ext cx="465120" cy="18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92240" y="2162160"/>
            <a:ext cx="776520" cy="14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79720" y="3460680"/>
            <a:ext cx="64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81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43080" y="3544920"/>
            <a:ext cx="469800" cy="14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98720" y="3821040"/>
            <a:ext cx="758880" cy="18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97000" y="2747880"/>
            <a:ext cx="576360" cy="533520"/>
          </a:xfrm>
          <a:prstGeom prst="ellipse">
            <a:avLst/>
          </a:prstGeom>
          <a:solidFill>
            <a:srgbClr val="e1e1e1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38640" y="1916280"/>
            <a:ext cx="64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81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10280" y="2446200"/>
            <a:ext cx="465120" cy="18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56200" y="2162160"/>
            <a:ext cx="776160" cy="14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43680" y="3460680"/>
            <a:ext cx="64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81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07040" y="3544920"/>
            <a:ext cx="469800" cy="14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62680" y="3821040"/>
            <a:ext cx="758520" cy="18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60960" y="2747880"/>
            <a:ext cx="576360" cy="533520"/>
          </a:xfrm>
          <a:prstGeom prst="ellipse">
            <a:avLst/>
          </a:prstGeom>
          <a:solidFill>
            <a:srgbClr val="e1e1e1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199360" y="1905120"/>
            <a:ext cx="64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81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271000" y="2435400"/>
            <a:ext cx="465120" cy="14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116920" y="2151000"/>
            <a:ext cx="776160" cy="18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04040" y="3449520"/>
            <a:ext cx="64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81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67760" y="3533760"/>
            <a:ext cx="469800" cy="14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123400" y="3809880"/>
            <a:ext cx="758520" cy="18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221680" y="2736720"/>
            <a:ext cx="576360" cy="533520"/>
          </a:xfrm>
          <a:prstGeom prst="ellipse">
            <a:avLst/>
          </a:prstGeom>
          <a:solidFill>
            <a:srgbClr val="e1e1e1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than Egge</dc:creator>
  <dc:description/>
  <dc:language>en-US</dc:language>
  <cp:lastModifiedBy>Nathan Egge</cp:lastModifiedBy>
  <cp:revision>0</cp:revision>
  <dc:subject/>
  <dc:title>PowerPoint Presentation</dc:title>
</cp:coreProperties>
</file>