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50667-350E-4171-B291-5358D9BBA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F954D-134F-4CC7-815C-494EDEE359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AB930-88B0-4683-9EB4-E7B9CFE46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62D90-F5A8-4466-9B28-B8E0414127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BADF2-0D72-4113-BFDC-2E54C7CCFA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70AE0-65EA-4FBC-A555-E87ABCA8D0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AB769-C256-425B-AE54-DB8D3B2E5F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7B85B-4D07-463F-BC7A-31D6CC3E73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DD8FB-825C-4676-847D-9122D13CD2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09936-C14F-4094-902E-C6F9B1E60C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2E173-2750-4320-B435-075E420904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3D654-630E-403B-81D1-8EBE94B516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26D6D-F7A7-4CCD-8885-6FC6139CE2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11168-8D56-4B9F-A572-A440B53646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B22BE-A78A-44C9-9AF2-1E3721B0F4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86ABB-9A21-468F-ADD9-ADD2A1B632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ADB43-2889-422C-B531-D5CCAD13386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EB18CC-868F-40D3-8D44-415590C4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AAFF8E-0118-4B2B-94F3-EDFCE99E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637FB6-938F-497C-BD67-BC4950C5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7EF6A8-05ED-4868-8636-FE818D5C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E8446D-A575-4D57-9E32-C0B3399E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05CA9-7313-42C6-AD33-7628D95929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460A97-4E3A-4115-AED5-5320B21E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76F351-6C0D-4B54-B5F2-0F1353AD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B10C3F-B5E7-464E-B020-797133EA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988F1A-6626-4463-B188-705E4881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A55009-DC34-4463-8C0E-8955093D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DEC78D-B7D9-4493-A173-D94F1B29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9D7FF4-E626-4172-811A-9C06CC80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5E608-7D5B-4B6E-8642-59E03D78C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C8A4F-295E-45AA-BC6C-C48451A7E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7B4AE-F85B-48E0-A6F0-12F23B4CD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A3135-0C50-4C3D-BF14-316F40D95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5AB66-5469-4717-B4A7-B79924A0C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A1ADE-2E0E-444C-A41B-66D9D3EF1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026C-91CD-4EF5-95CC-56827ECD2558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C0B3-7301-49F8-B723-5106202A02FA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DFDC-93CE-4D09-ABCB-944F8A174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93800" y="1808280"/>
            <a:ext cx="6189840" cy="1957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164120" y="5022720"/>
            <a:ext cx="1428480" cy="571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08:19:25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10-05-28T08:20:25Z</dcterms:modified>
  <cp:revision>1</cp:revision>
  <dc:subject/>
  <dc:title>Slide 1</dc:title>
</cp:coreProperties>
</file>