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F75-F343-4FCF-B6B8-90F90AC9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515-A1CD-468F-B672-74ED02F4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4E2-660D-4A48-9C38-C10ADEEA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662-0C63-46D8-959A-52DBF6FA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972-2134-409D-900C-3970189D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3DE-68BD-46AE-A60D-6F2F7EB4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860-60C5-40DB-93B4-A1CC4448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880-2F67-4C7B-9B4E-7481AF92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D2F-48C2-4F3D-9375-A011B143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F62-BAB1-4BC6-A3BD-971B3F65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BC7-F19D-4708-8642-DAE7C8B2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D94-C94A-4021-8F38-EE2C8D13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76B8B-2992-432E-B49C-2F8049812AB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lvl="1" marL="8589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s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dsada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329898329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jlkdfjdsfj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lvl="1" marL="8589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sjflkdsjflkdsffDf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j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2:45:03Z</dcterms:created>
  <dc:creator/>
  <dc:description/>
  <dc:language>en-US</dc:language>
  <cp:lastModifiedBy/>
  <dcterms:modified xsi:type="dcterms:W3CDTF">2014-03-07T02:49:53Z</dcterms:modified>
  <cp:revision>4</cp:revision>
  <dc:subject/>
  <dc:title/>
</cp:coreProperties>
</file>