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4C8-3AF1-4FA5-A512-84A3A97B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E15-A5C3-4339-9651-D431F0A5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5DC-3D40-47B8-ACF0-79D4573D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12E-1BD3-4BEE-B145-F27A5C9F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BABC-3087-497E-8647-344C0744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30D9-38AA-4E88-B7CC-9B08E772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7FC9-6365-4DFF-B350-20F6A72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8D93-D959-4EF8-8329-84B2000A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4D85-9430-4F79-A8F0-8FD297DE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96A5-0FFE-42B3-BB98-52E97249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7150-EE1C-4AE3-8B18-AE686CB1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CFD-5415-4A21-B1B6-81B229FE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6A2E-409F-4875-B250-CC70860B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25C8-65FB-4A45-9A90-53A146E5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B5F7-4121-41A9-AAAB-403A87F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1FB0-3702-4E2B-8339-C6C44343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3DCE-D2A1-49CA-B384-E6BA6041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162-825A-41C4-81DC-B4C19C60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9B6-1C69-441A-83DA-C401DDBB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DA7-3A41-42BD-A23C-6D677E9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0FF-C9CF-4D2D-AE93-53F7A318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84C-B691-4ED5-A843-360F1B3D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6B9-A408-47B3-B3E9-A083C1C0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341-444B-4D95-A5B3-CD2ECD0A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e4e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F9EB-627D-478F-A643-9427D1B52989}" type="datetime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9056-3BBB-4367-A65F-432E2CA50D1A}" type="slidenum">
              <a:rPr b="0" lang="he-IL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6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C62-74BD-4827-B4D8-ED254651841C}" type="datetime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D36C-E430-4444-9328-ACB58EE2C9F6}" type="slidenum">
              <a:rPr b="0" lang="he-IL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dc4d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d4d4ce"/>
                </a:solidFill>
                <a:latin typeface="Tahoma"/>
                <a:cs typeface="Narkisim"/>
              </a:rPr>
              <a:t>מדע בדיוני בישראל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876560" y="4611240"/>
            <a:ext cx="425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</a:rPr>
              <a:t>רק אנ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E266-936F-4AA2-A0E4-B6FFEC4685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C63F093-850E-40F7-903C-4AF050F06EE2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d4d4ce"/>
                </a:solidFill>
                <a:latin typeface="Tahoma"/>
                <a:cs typeface="Narkisim"/>
              </a:rPr>
              <a:t>תוכן הענינים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מגזינים בישרא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פורומי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כותבי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כנסי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משחקי תפקידי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קומיק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DD4-4A23-43BA-AA7D-B340080A8B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25A9C-2D6C-4DFC-B89B-19750A1E3C0B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d4d4ce"/>
                </a:solidFill>
                <a:latin typeface="Tahoma"/>
                <a:cs typeface="Narkisim"/>
              </a:rPr>
              <a:t>מגזינים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הטוב, הרע והמכונה- ביקורת סר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BN Pakistan"/>
              </a:rPr>
              <a:t>יש כמה שאלות בחיים שהתשובה עליהן היא לא פשוטה ולעיתים בלתי אפשרית:"מאיפה באנו?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BN Pakistan"/>
              </a:rPr>
              <a:t>ראשית אנו מברכים את עזריאל דגן על הצטרפותו לצוות הכותבי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F77-7A8A-4597-9E94-CD25A24A88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5389B-46DF-41BD-A70F-FC4776F8B17E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d4d4ce"/>
                </a:solidFill>
                <a:latin typeface="Tahoma"/>
              </a:rPr>
              <a:t> </a:t>
            </a:r>
            <a:r>
              <a:rPr b="0" lang="he-IL" sz="4400" spc="-1" strike="noStrike">
                <a:solidFill>
                  <a:srgbClr val="d4d4ce"/>
                </a:solidFill>
                <a:latin typeface="Tahoma"/>
                <a:cs typeface="Narkisim"/>
              </a:rPr>
              <a:t>מילון מושגים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הכוכב הלבן  ספינת חלל ראשונה מסוג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BN Pakistan"/>
              </a:rPr>
              <a:t> שילוב בין טכנולוגייה מינבארית לבין טכנולוגיה אנושית וורלוני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BN Pakistan"/>
              </a:rPr>
              <a:t>הטאורי  כינויים של בני האדם בפי יושבי הגלקסיה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BN Pakistan"/>
              </a:rPr>
              <a:t>היום בו עמדה האדמה מלכת  סרט קולנוע בשחור לבן משנת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BN Pakistan"/>
              </a:rPr>
              <a:t>195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ahoma"/>
                <a:cs typeface="BN Pakistan"/>
              </a:rPr>
              <a:t>כונות החשיבה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BN Pakistan"/>
              </a:rPr>
              <a:t>  אויבי האנושות האימתניים ביותר בכרוניקת הספרים של 'חולית'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97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52A-6806-4629-AFE0-E6F1BD7D2D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6F819-8437-43B2-A428-662C2EAA41F6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d4d4ce"/>
                </a:solidFill>
                <a:latin typeface="Tahoma"/>
                <a:cs typeface="Narkisim"/>
              </a:rPr>
              <a:t>מזל שלכל דבר יש סוף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BN Pakistan"/>
              </a:rPr>
              <a:t> לעולם אל לך להיות בחברתו של מישהו שלא היית רוצה למות עמו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BN Pakist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BN Pakistan"/>
              </a:rPr>
              <a:t> האם אלוהים מוטרד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חטאיו של העולם היו מטרידים כל אחד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107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9C1-6E78-4779-9AEF-D6620EC68B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7017F-56B0-4BED-8F5F-EF89FC93B1D6}" type="datetime1">
              <a:rPr lang="en-US"/>
              <a:t>07/31/26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115" name="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/>
              <a:ahLst/>
              <a:rect l="l" t="t" r="r" b="b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123" name="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/>
              <a:ahLst/>
              <a:rect l="l" t="t" r="r" b="b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131" name="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/>
              <a:ahLst/>
              <a:rect l="l" t="t" r="r" b="b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139" name="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/>
              <a:ahLst/>
              <a:rect l="l" t="t" r="r" b="b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147" name="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/>
              <a:ahLst/>
              <a:rect l="l" t="t" r="r" b="b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155" name="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/>
              <a:ahLst/>
              <a:rect l="l" t="t" r="r" b="b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49747d"/>
          </a:solidFill>
          <a:ln w="12600">
            <a:solidFill>
              <a:srgbClr val="497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163" name="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165" name="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49747d"/>
              </a:solidFill>
              <a:ln w="12600">
                <a:solidFill>
                  <a:srgbClr val="497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49747d"/>
              </a:solidFill>
              <a:ln w="12600">
                <a:solidFill>
                  <a:srgbClr val="497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49747d"/>
              </a:solidFill>
              <a:ln w="12600">
                <a:solidFill>
                  <a:srgbClr val="497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49747d"/>
              </a:solidFill>
              <a:ln w="12600">
                <a:solidFill>
                  <a:srgbClr val="497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49747d"/>
              </a:solidFill>
              <a:ln w="12600">
                <a:solidFill>
                  <a:srgbClr val="497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/>
                <a:ahLst/>
                <a:rect l="l" t="t" r="r" b="b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747d"/>
              </a:solidFill>
              <a:ln w="12600">
                <a:solidFill>
                  <a:srgbClr val="4974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172" name="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/>
              <a:ahLst/>
              <a:rect l="l" t="t" r="r" b="b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C45-D7C6-4597-A319-E380E9BF6A3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6C8A0-D430-4C71-B5F8-63358662B2F3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18:59Z</dcterms:created>
  <dc:creator>null</dc:creator>
  <dc:description/>
  <dc:language>en-US</dc:language>
  <cp:lastModifiedBy>Administrator</cp:lastModifiedBy>
  <dcterms:modified xsi:type="dcterms:W3CDTF">2003-11-17T10:16:14Z</dcterms:modified>
  <cp:revision>7</cp:revision>
  <dc:subject/>
  <dc:title>Creativity Ses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