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D21-7E38-44A7-8178-1C60A794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FC7-1268-4DE9-A1DD-71EBA8C6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09C-4907-48A0-A1F1-5FDBEE43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522-CFC6-4661-8566-BEDF6E3F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FC1-ADAD-4593-9C53-C31E0C96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7F0-506A-409F-8503-25905B46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5BA-08FD-42B0-8339-858321FA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F9D-30D1-46AF-BC84-18B21805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D50-8046-44D7-B6E5-46C2FB19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236-A5E6-4FE9-B332-14663A5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03C-029F-41EF-9D79-F9070B8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74B-2673-4858-84DB-C0202A33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54C-118D-4C6F-8FD8-7B3F4AA879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838080" y="228600"/>
            <a:ext cx="91512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" name=""/>
          <p:cNvCxnSpPr/>
          <p:nvPr/>
        </p:nvCxnSpPr>
        <p:spPr>
          <a:xfrm>
            <a:off x="2362320" y="456840"/>
            <a:ext cx="1219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4343040" y="45684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/>
          <p:nvPr/>
        </p:nvCxnSpPr>
        <p:spPr>
          <a:xfrm flipH="1" rot="16200000">
            <a:off x="456480" y="2361960"/>
            <a:ext cx="838800" cy="68652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" name=""/>
          <p:cNvCxnSpPr/>
          <p:nvPr/>
        </p:nvCxnSpPr>
        <p:spPr>
          <a:xfrm>
            <a:off x="2057040" y="2361960"/>
            <a:ext cx="2134440" cy="1067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/>
          <p:nvPr/>
        </p:nvCxnSpPr>
        <p:spPr>
          <a:xfrm>
            <a:off x="5181120" y="2514600"/>
            <a:ext cx="167724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H="1" rot="16200000">
            <a:off x="608400" y="4190760"/>
            <a:ext cx="1296360" cy="99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/>
          <p:nvPr/>
        </p:nvCxnSpPr>
        <p:spPr>
          <a:xfrm flipH="1" rot="16200000">
            <a:off x="2438280" y="4495320"/>
            <a:ext cx="160092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>
            <a:off x="4876920" y="4495320"/>
            <a:ext cx="1829520" cy="12200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7:59:50Z</dcterms:created>
  <dc:creator>cheng shunyi</dc:creator>
  <dc:description/>
  <dc:language>en-US</dc:language>
  <cp:lastModifiedBy>zxd</cp:lastModifiedBy>
  <dcterms:modified xsi:type="dcterms:W3CDTF">2009-08-20T03:36:56Z</dcterms:modified>
  <cp:revision>1</cp:revision>
  <dc:subject/>
  <dc:title>PowerPoint 演示文稿</dc:title>
</cp:coreProperties>
</file>