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9860-A79C-4A7D-8F8D-5A3E67F27E5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Stelling verder uitwer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Verder verschil tussen beide uitleg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Voorbeeld van bio-ingenieurs gebrui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Onderzoek met bioingenieu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Verband vrees- opleiding uitleg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Een vak dat naast ingenieurswetenschappen sta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Project inleiden, waar, wie, wat wanneer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Andere: scherpt verstand, ontdekken van gebre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B680-991F-41C2-8F9C-D4E19BE9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C4C2-F56E-4A6B-9F56-F9837567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09E0-2710-436D-86C0-38220730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8FF8-4A58-4D2A-BD12-BD37DC6B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AA6D-6ED1-41F6-B119-AFF3C21E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039A-563B-437C-819B-BEEF9CFD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F610-28E0-4D11-A78F-F5CA7103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D322-47A9-4C07-9DD6-AC9AC3D2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E861-EA89-4932-89E2-083A3A42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EDEA-CE34-463C-B2D8-0B30AA52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32DF-B332-4D97-828E-FC41AF42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742E-3CD4-4936-B6DD-D610F062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503F-39D8-4762-8AAE-FF93D9E7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C4D2-EDE8-4EC3-88F5-2BDD4794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4201-E554-403E-9D36-EBFFADA7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3907-BA8B-4713-ACC1-38FB27F9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42E5-4BB7-4D50-B206-22B53056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EA2-DE31-4D68-AC50-023E80FF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0BDC-2105-49BE-883A-483753F0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64B5-E479-41BB-AC0F-46D7311C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6C04-8824-4302-AC5A-AF33A36B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362-7EB5-42E3-B9BF-7968F6E0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4A99-9F39-4F89-B5FB-D8A1738D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C11C-4BA5-4FA8-BC42-6E987882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EF16-AF3F-4600-9208-44381D558571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B599-9159-4652-8C56-00EA2DB2146D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3366"/>
                </a:solidFill>
                <a:latin typeface="Arial"/>
              </a:rPr>
              <a:t>Communicatie en Ingenieur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39369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66"/>
                </a:solidFill>
                <a:latin typeface="Arial"/>
              </a:rPr>
              <a:t>Het belang van communicatie voor ingenieurs in onze moderne samenleving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Beslui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Geïntegreerd aanleren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Noodzaak creëren, leren gebaseerd op uitdag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Intellectual activities lead to skills, but skills do not generate intellectual activitie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Proble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Meeste ingenieursopleidingen niet vak-overschrijdend of project-gebasee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Kosten hoo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Internet-cursuss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Twee Modellen voor toekom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Twee projecten, geïntegreerd met de leerstof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Duidelijke doelen</a:t>
            </a:r>
            <a:br>
              <a:rPr sz="2800"/>
            </a:b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bv: brieven schrijven, presentatie gev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Zonder duidelijke doelen</a:t>
            </a:r>
            <a:br>
              <a:rPr sz="2800"/>
            </a:b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Goede resultaten vereisen dat men zijn 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projecten kan verdedigen, voorstellen,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Taalvaardige ingenieu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Industrie is vragende partij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Scholen geven opleiding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Op een goede mani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En de ingenieurs zelf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Mening ingenieu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16 communicatievaardigheden geëvaluee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Belangrijk:</a:t>
            </a:r>
            <a:br>
              <a:rPr sz="2800"/>
            </a:b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Team-Building, luisteren, motiveren,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Minder Belangrijk:</a:t>
            </a:r>
            <a:br>
              <a:rPr sz="2800"/>
            </a:b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Spreken voor publiek, conflicten oplossen</a:t>
            </a:r>
            <a:br>
              <a:rPr sz="2800"/>
            </a:b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interviewen,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Dagelijks               occasione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971440" y="571500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Vaardigheden ingenieu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Goed in:</a:t>
            </a:r>
            <a:br>
              <a:rPr sz="2800"/>
            </a:b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Team-Building, werken in kleine       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groepen, luisteren,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Minder in:</a:t>
            </a:r>
            <a:br>
              <a:rPr sz="2800"/>
            </a:b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Spreken voor publiek, interviews,                                               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motiveren, bevelen geven,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Communicatievre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Lager geplaatste ingenieurs meer vre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Hoger geplaatste ingenieu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Oudere werknemers meer vrees dan jonge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Door </a:t>
            </a: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opleiding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657600"/>
            <a:ext cx="1066680" cy="0"/>
          </a:xfrm>
          <a:prstGeom prst="line">
            <a:avLst/>
          </a:prstGeom>
          <a:ln w="7632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Opleiding Communicat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Leerplan: Communicatie = basisvaardighe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Studenten: Zien communicatie als </a:t>
            </a: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bijvak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Geïntegreerd aanleren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 via nieuwe projecten (VaNTH ER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Opleiding communicatie vroeg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Twee soorten opleidingen:</a:t>
            </a:r>
            <a:br>
              <a:rPr sz="2800"/>
            </a:b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  1)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Alleenstaande cursussen technisch   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schrijven, zinsbouw</a:t>
            </a:r>
            <a:br>
              <a:rPr sz="2800"/>
            </a:b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Niet doeltreffend</a:t>
            </a:r>
            <a:br>
              <a:rPr sz="2800"/>
            </a:b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  2)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Schrijfcursussen waarin het belang wordt 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uitgelegd voor ingenieurs (WAC)</a:t>
            </a:r>
            <a:br>
              <a:rPr sz="2800"/>
            </a:b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Sommige succesvol, </a:t>
            </a: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meeste </a:t>
            </a: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teleurstelling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4191120"/>
            <a:ext cx="45720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5410080"/>
            <a:ext cx="45720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Nieuwe projec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Engineering Design and Communication (ED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Samenwerking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 tussen vak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Projecten voorstellen, verkopen, proeven samenvatten, presentaties geven,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Resulta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Hogere kwaliteit rapporten dan vorige jar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Beter team-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Studenten zien het belang in</a:t>
            </a:r>
            <a:br>
              <a:rPr sz="2800"/>
            </a:b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(85% zei gigantisch veel bijgeleerd te 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hebb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13:12:54Z</dcterms:created>
  <dc:creator>Ruben Simoens</dc:creator>
  <dc:description/>
  <dc:language>en-US</dc:language>
  <cp:lastModifiedBy>Ruben Simoens</cp:lastModifiedBy>
  <dcterms:modified xsi:type="dcterms:W3CDTF">2005-10-15T13:36:37Z</dcterms:modified>
  <cp:revision>4</cp:revision>
  <dc:subject/>
  <dc:title>Communicatie en Ingenieurs</dc:title>
</cp:coreProperties>
</file>