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F7C-A8A3-4E65-A248-C71A2CF4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55C-B819-4D1E-B10A-8669C297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F45-2660-448B-A06E-39E96C00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267-A27F-485F-8E1A-39AEB62A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081-495D-4448-99EE-8330860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A20-8BFD-44AD-9F14-E3BD03F7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660-8E94-4FA9-A42A-8E74DD80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BD1-5081-42AF-8995-A6BA9082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37A-9113-4C3F-B857-9EA5B7A5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336-5DFB-4A01-B0E9-8DF505C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9AB-BEED-4425-B62C-A46C113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3F5-B542-44C2-BB59-F0ED72A1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8D584-ECF6-466C-A9F6-8B55815CE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2260440" indent="1505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440" indent="1505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440" indent="1505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5:06:51Z</dcterms:created>
  <dc:creator/>
  <dc:description/>
  <dc:language>en-US</dc:language>
  <cp:lastModifiedBy/>
  <cp:revision>1</cp:revision>
  <dc:subject/>
  <dc:title/>
</cp:coreProperties>
</file>