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7760" cy="37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1760" cy="5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72120" cy="5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555120"/>
            <a:ext cx="337176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B0DC66-F18F-459C-B47C-C30DFF62444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B52DCD-34B6-4441-AA89-FEEEFD88F8F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DCFB7-8BF1-4F38-A3CE-02EEEEB98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5CE9A-AC36-4F46-B788-4AEEEE98A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8A950-2CB9-4855-8CE9-91B40B568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F576C-7DEA-4D12-B519-03AD5DD6C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1C130-D72D-4D31-9558-EB31F29D5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E68B8-E308-4CEE-9137-801556230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C9BAD-DCDD-49AD-AFD0-49620C910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DAF92-1F4E-43A6-BB2B-02796E98E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1DB06-275F-42D0-9647-FB54F5150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B73EF-F302-4856-B1A0-8C46F8DAB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E3A70-415F-44E7-9323-D8DFBD6EA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35290-C9B5-4730-B6AC-1B4D7BF7E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A7C091B-7397-4D68-B541-75B76D0713B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Test for transparen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3897360" y="3322800"/>
          <a:ext cx="4495680" cy="1828800"/>
        </p:xfrm>
        <a:graphic>
          <a:graphicData uri="http://schemas.openxmlformats.org/drawingml/2006/table">
            <a:tbl>
              <a:tblPr/>
              <a:tblGrid>
                <a:gridCol w="1498680"/>
                <a:gridCol w="1496880"/>
                <a:gridCol w="1500120"/>
              </a:tblGrid>
              <a:tr h="182880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33cc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06T09:52:40Z</dcterms:created>
  <dc:creator/>
  <dc:description/>
  <dc:language>en-US</dc:language>
  <cp:lastModifiedBy>ldb</cp:lastModifiedBy>
  <dcterms:modified xsi:type="dcterms:W3CDTF">2012-06-07T06:41:57Z</dcterms:modified>
  <cp:revision>4</cp:revision>
  <dc:subject/>
  <dc:title>Slide 1</dc:title>
</cp:coreProperties>
</file>