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3236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072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49840" y="9426600"/>
            <a:ext cx="291456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72A64-3842-44D9-9279-3FBB0FA314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7640" y="744480"/>
            <a:ext cx="495288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086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5A6D-1BC1-4F23-A1FE-A3E93D981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072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6120"/>
            <a:ext cx="82072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27EA-004E-4310-944B-52EABE7D0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272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CB74-2B9F-4B79-B36E-B5A80F553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2080" y="16045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045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61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2080" y="39661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39661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D137-185F-4B83-A1B1-048F13B4F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07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07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072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3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07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0540-8928-492A-93BB-9DBF12730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272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120"/>
            <a:ext cx="82072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072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120"/>
            <a:ext cx="82072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272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2080" y="16045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6960" y="16045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1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2080" y="39661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6960" y="39661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07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0FDC-7AAC-4EEC-8699-DEA8E3822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8CBD-45D1-43EA-80CA-D5C42D624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38A6-55C0-470D-8049-9A4EB6814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072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3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3413-DA7C-45C2-B0E1-9F73D3995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2931-962B-4717-BF89-44B0CE0A9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272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CA6E-98CA-4543-9584-1E48E7CB5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120"/>
            <a:ext cx="82072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9245-E4CA-4AEE-84CC-3A4EDB4BD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00600" y="6413040"/>
            <a:ext cx="460440" cy="3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Times New Roman"/>
              </a:rPr>
              <a:t>Page </a:t>
            </a:r>
            <a:fld id="{C69914AD-F938-46B6-828D-E714BB7B5E1B}" type="slidenum">
              <a:rPr b="1" lang="en-GB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-17640" y="-158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07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28600" y="2889360"/>
            <a:ext cx="2870280" cy="20304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98880" y="2889360"/>
            <a:ext cx="2870280" cy="203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69160" y="2889360"/>
            <a:ext cx="2869920" cy="20304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07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44520" y="5040360"/>
            <a:ext cx="6675480" cy="585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4200" y="3857760"/>
            <a:ext cx="182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814480" y="1305000"/>
            <a:ext cx="3205440" cy="3203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36840" y="5940360"/>
            <a:ext cx="66769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b3b300"/>
                </a:solidFill>
                <a:latin typeface="Arial"/>
              </a:rPr>
              <a:t>любовь               забота              прикосновени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фдфд </cp:lastModifiedBy>
  <dcterms:modified xsi:type="dcterms:W3CDTF">2009-10-30T15:36:07Z</dcterms:modified>
  <cp:revision>0</cp:revision>
  <dc:subject/>
  <dc:title>投影片 1</dc:title>
</cp:coreProperties>
</file>