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42C-F03F-4018-AB35-DE39BA87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2A1-2CF6-4363-9DAF-D1DA4344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A6B-C76A-48AF-941B-00BC9BB1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2C6-37F1-4BFC-ADC0-14B5F80C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E60-9DE4-4062-A1B9-26988088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67B-717C-4C97-B810-EF49AEB9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450-0904-470B-824A-E0641019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A1C-7410-4516-9B71-6331E521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93F-972E-42F3-B343-7F89627A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F93-DD2C-456F-9DE0-EC9CF35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E9C-A472-4D21-A5B4-6D3B6FC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CC4-23B5-4A73-8F11-18203922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DB89-48EC-4A65-AD8A-1558D0F5F9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rmat Object…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lternative text: ” Char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25146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1:58:01Z</dcterms:created>
  <dc:creator>wctsvt</dc:creator>
  <dc:description/>
  <dc:language>en-US</dc:language>
  <cp:lastModifiedBy>wanglifeng</cp:lastModifiedBy>
  <dcterms:modified xsi:type="dcterms:W3CDTF">2012-09-12T02:09:36Z</dcterms:modified>
  <cp:revision>13</cp:revision>
  <dc:subject/>
  <dc:title>Slide 1</dc:title>
</cp:coreProperties>
</file>