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7562850" cy="10688638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2082600" y="744480"/>
            <a:ext cx="26319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lick to move the slide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1680" cy="4464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2"/>
          </p:nvPr>
        </p:nvSpPr>
        <p:spPr>
          <a:xfrm>
            <a:off x="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3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1E22472-BC3A-4A0B-A39A-3274FD55A92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082960" y="744480"/>
            <a:ext cx="2631960" cy="371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1680" cy="4464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o : photo à placer en arrière plan, derrière la bayad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1968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756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180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1968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13756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75880" y="518760"/>
            <a:ext cx="628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968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3756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0180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1968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3756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75880" y="518760"/>
            <a:ext cx="628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1968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3756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0180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01968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3756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75880" y="518760"/>
            <a:ext cx="628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968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3756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0180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01968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13756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75880" y="518760"/>
            <a:ext cx="628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4800" y="271440"/>
            <a:ext cx="4681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707070"/>
                </a:solidFill>
                <a:latin typeface="Arial"/>
              </a:rPr>
              <a:t>Promotion / Publique et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buClr>
                <a:srgbClr val="003c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2" marL="1415880" indent="-228600" algn="just">
              <a:buClr>
                <a:srgbClr val="70707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3" marL="1824120" indent="-228600" algn="just">
              <a:buClr>
                <a:srgbClr val="70707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4" marL="2232000" indent="-228600" algn="just">
              <a:buClr>
                <a:srgbClr val="70707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5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6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25440" y="0"/>
            <a:ext cx="223920" cy="10688760"/>
            <a:chOff x="325440" y="0"/>
            <a:chExt cx="223920" cy="10688760"/>
          </a:xfrm>
        </p:grpSpPr>
        <p:sp>
          <p:nvSpPr>
            <p:cNvPr id="4" name=""/>
            <p:cNvSpPr/>
            <p:nvPr/>
          </p:nvSpPr>
          <p:spPr>
            <a:xfrm>
              <a:off x="333360" y="0"/>
              <a:ext cx="108000" cy="17445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95360" y="0"/>
              <a:ext cx="54000" cy="217800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5440" y="3773520"/>
              <a:ext cx="108000" cy="691524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7440" y="3544920"/>
              <a:ext cx="54000" cy="714384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00280" y="9288360"/>
            <a:ext cx="1658880" cy="119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-1685520" y="8474040"/>
            <a:ext cx="3743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cade Promotion - 35, rue de la Gare 75168 Paris cedex 19 - Capital social 8 911 470,00 € - RCS Paris 339 216 04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5440" y="0"/>
            <a:ext cx="216000" cy="10688760"/>
            <a:chOff x="325440" y="0"/>
            <a:chExt cx="216000" cy="10688760"/>
          </a:xfrm>
        </p:grpSpPr>
        <p:sp>
          <p:nvSpPr>
            <p:cNvPr id="47" name=""/>
            <p:cNvSpPr/>
            <p:nvPr/>
          </p:nvSpPr>
          <p:spPr>
            <a:xfrm>
              <a:off x="325440" y="0"/>
              <a:ext cx="108000" cy="106887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7440" y="0"/>
              <a:ext cx="54000" cy="1068876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01800" y="5057280"/>
            <a:ext cx="6264000" cy="33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buClr>
                <a:srgbClr val="003c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2" marL="1415880" indent="-228600" algn="just">
              <a:buClr>
                <a:srgbClr val="70707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3" marL="1824120" indent="-228600" algn="just">
              <a:buClr>
                <a:srgbClr val="70707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4" marL="2232000" indent="-228600" algn="just">
              <a:buClr>
                <a:srgbClr val="70707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5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6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1800" y="10169640"/>
            <a:ext cx="303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83790"/>
                </a:solidFill>
                <a:latin typeface="Arial"/>
              </a:rPr>
              <a:t>www.icade.f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0280" y="9288360"/>
            <a:ext cx="1658880" cy="119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4800" y="271440"/>
            <a:ext cx="4681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707070"/>
                </a:solidFill>
                <a:latin typeface="Arial"/>
              </a:rPr>
              <a:t>Promotion / Publique et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buClr>
                <a:srgbClr val="003c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2" marL="1415880" indent="-228600" algn="just">
              <a:buClr>
                <a:srgbClr val="70707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3" marL="1824120" indent="-228600" algn="just">
              <a:buClr>
                <a:srgbClr val="70707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4" marL="2232000" indent="-228600" algn="just">
              <a:buClr>
                <a:srgbClr val="70707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5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6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1800" y="10169640"/>
            <a:ext cx="303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83790"/>
                </a:solidFill>
                <a:latin typeface="Arial"/>
              </a:rPr>
              <a:t>www.icade.f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5440" y="0"/>
            <a:ext cx="223920" cy="10688760"/>
            <a:chOff x="325440" y="0"/>
            <a:chExt cx="223920" cy="10688760"/>
          </a:xfrm>
        </p:grpSpPr>
        <p:sp>
          <p:nvSpPr>
            <p:cNvPr id="93" name=""/>
            <p:cNvSpPr/>
            <p:nvPr/>
          </p:nvSpPr>
          <p:spPr>
            <a:xfrm>
              <a:off x="333360" y="0"/>
              <a:ext cx="108000" cy="17445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360" y="0"/>
              <a:ext cx="54000" cy="217800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5440" y="3773520"/>
              <a:ext cx="108000" cy="691524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7440" y="3544920"/>
              <a:ext cx="54000" cy="714384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6200000">
            <a:off x="-1685520" y="8474040"/>
            <a:ext cx="3743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cade Promotion - 35, rue de la Gare 75168 Paris cedex 19 - Capital social 8 911 470,00 € - RCS Paris 339 216 04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0280" y="9288360"/>
            <a:ext cx="1658880" cy="119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4800" y="271440"/>
            <a:ext cx="4681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707070"/>
                </a:solidFill>
                <a:latin typeface="Arial"/>
              </a:rPr>
              <a:t>Promotion / Publique et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buClr>
                <a:srgbClr val="003c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2" marL="1415880" indent="-228600" algn="just">
              <a:buClr>
                <a:srgbClr val="70707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3" marL="1824120" indent="-228600" algn="just">
              <a:buClr>
                <a:srgbClr val="70707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4" marL="2232000" indent="-228600" algn="just">
              <a:buClr>
                <a:srgbClr val="70707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5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6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5440" y="0"/>
            <a:ext cx="223920" cy="10688760"/>
            <a:chOff x="325440" y="0"/>
            <a:chExt cx="223920" cy="10688760"/>
          </a:xfrm>
        </p:grpSpPr>
        <p:sp>
          <p:nvSpPr>
            <p:cNvPr id="139" name=""/>
            <p:cNvSpPr/>
            <p:nvPr/>
          </p:nvSpPr>
          <p:spPr>
            <a:xfrm>
              <a:off x="333360" y="0"/>
              <a:ext cx="108000" cy="17445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360" y="0"/>
              <a:ext cx="54000" cy="217800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440" y="3773520"/>
              <a:ext cx="108000" cy="691524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440" y="3544920"/>
              <a:ext cx="54000" cy="714384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00280" y="9288360"/>
            <a:ext cx="1658880" cy="119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16586" r="0" b="8876"/>
          <a:stretch/>
        </p:blipFill>
        <p:spPr>
          <a:xfrm>
            <a:off x="0" y="1216080"/>
            <a:ext cx="7562880" cy="3335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entre aqualudique - Montluçon (03)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1440" y="4697280"/>
            <a:ext cx="2950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Projet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onstruction d’un centre aqualudique comprenant :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un bassin olympique de 50 m,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des fosses à plongée de 6 m et 20 m,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0" algn="just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et une partie plus ludique, comprenant :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oboggan,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pentagliss,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pataugeoires intérieures et extérieures.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Maître d'ouvrage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ommunauté d’agglomération Montluçonnaise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M. Verbrugghe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él : 04 70 02 56 94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41800" y="4697280"/>
            <a:ext cx="30240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Mission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Assistance à maîtrise d’ouvrage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Maîtrise d’oeuvre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07070"/>
                </a:solidFill>
                <a:latin typeface="Arial"/>
              </a:rPr>
              <a:t>Architecte : Ateliers Architecte Chabanne</a:t>
            </a:r>
            <a:endParaRPr b="0" lang="en-US" sz="9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25 M € TTC comprenant 15 travaux d’aménagement de la zone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Calendrier 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Réalisation des travaux en entreprise générale sur un délai de 16 mois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Livraison été 2006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buNone/>
              <a:tabLst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0" algn="just">
              <a:buNone/>
              <a:tabLst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6240" y="809640"/>
            <a:ext cx="628956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3790"/>
                </a:solidFill>
                <a:latin typeface="Arial"/>
              </a:rPr>
              <a:t>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800" y="9700560"/>
            <a:ext cx="30067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83790"/>
                </a:solidFill>
                <a:latin typeface="Arial"/>
              </a:rPr>
              <a:t>3 allée Pierre de Fe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83790"/>
                </a:solidFill>
                <a:latin typeface="Arial"/>
              </a:rPr>
              <a:t>ZAC des Sauz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83790"/>
                </a:solidFill>
                <a:latin typeface="Arial"/>
              </a:rPr>
              <a:t>63170 Aubiè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5440" y="0"/>
            <a:ext cx="223920" cy="10688760"/>
            <a:chOff x="325440" y="0"/>
            <a:chExt cx="223920" cy="10688760"/>
          </a:xfrm>
        </p:grpSpPr>
        <p:sp>
          <p:nvSpPr>
            <p:cNvPr id="194" name=""/>
            <p:cNvSpPr/>
            <p:nvPr/>
          </p:nvSpPr>
          <p:spPr>
            <a:xfrm>
              <a:off x="333360" y="0"/>
              <a:ext cx="108000" cy="17445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5360" y="0"/>
              <a:ext cx="54000" cy="217800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5440" y="3773520"/>
              <a:ext cx="108000" cy="691524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440" y="3544920"/>
              <a:ext cx="54000" cy="714384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16200000">
            <a:off x="-1586520" y="8439840"/>
            <a:ext cx="3743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ocument et illustrations non contractuels – mars 2009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3:50:19Z</dcterms:created>
  <dc:creator>Danièle Bétis - Montpellier</dc:creator>
  <dc:description>3 mises en pages proposées :
RECTO - VERSO - RECTO SEUL</dc:description>
  <dc:language>en-US</dc:language>
  <cp:lastModifiedBy>Administrateur</cp:lastModifiedBy>
  <cp:lastPrinted>2006-09-20T16:23:14Z</cp:lastPrinted>
  <dcterms:modified xsi:type="dcterms:W3CDTF">2009-04-07T09:48:19Z</dcterms:modified>
  <cp:revision>498</cp:revision>
  <dc:subject>MASQUES BOOK REFERENCES ICADES</dc:subject>
  <dc:title>F7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tivites">
    <vt:lpwstr>Promotion / Publique et santé</vt:lpwstr>
  </property>
  <property fmtid="{D5CDD505-2E9C-101B-9397-08002B2CF9AE}" pid="3" name="Chef de projet">
    <vt:lpwstr/>
  </property>
  <property fmtid="{D5CDD505-2E9C-101B-9397-08002B2CF9AE}" pid="4" name="Client">
    <vt:lpwstr>Communauté d'agglomération Montluçonnaise</vt:lpwstr>
  </property>
  <property fmtid="{D5CDD505-2E9C-101B-9397-08002B2CF9AE}" pid="5" name="CommentaireValidation">
    <vt:lpwstr/>
  </property>
  <property fmtid="{D5CDD505-2E9C-101B-9397-08002B2CF9AE}" pid="6" name="Commentaires">
    <vt:lpwstr>Construction d'un centre aqualudique comprenant :
- un bassin olympique de 50 m
- des fosses à plongée de 6 m et 20 m
et une partie plus ludique, comprenant :
- toboggan
- pentagliss
- pataugeoires intérieures et extérieures</vt:lpwstr>
  </property>
  <property fmtid="{D5CDD505-2E9C-101B-9397-08002B2CF9AE}" pid="7" name="Domaine">
    <vt:lpwstr/>
  </property>
  <property fmtid="{D5CDD505-2E9C-101B-9397-08002B2CF9AE}" pid="8" name="Début réalisation">
    <vt:lpwstr>2004.00000000000</vt:lpwstr>
  </property>
  <property fmtid="{D5CDD505-2E9C-101B-9397-08002B2CF9AE}" pid="9" name="Département">
    <vt:lpwstr>3.00000000000000</vt:lpwstr>
  </property>
  <property fmtid="{D5CDD505-2E9C-101B-9397-08002B2CF9AE}" pid="10" name="Fin réalisation">
    <vt:lpwstr>2006.00000000000</vt:lpwstr>
  </property>
  <property fmtid="{D5CDD505-2E9C-101B-9397-08002B2CF9AE}" pid="11" name="Investissement">
    <vt:lpwstr>25000.0000000000</vt:lpwstr>
  </property>
  <property fmtid="{D5CDD505-2E9C-101B-9397-08002B2CF9AE}" pid="12" name="Maîtrise d'oeuvre">
    <vt:lpwstr>Ateliers Architecte Chabanne</vt:lpwstr>
  </property>
  <property fmtid="{D5CDD505-2E9C-101B-9397-08002B2CF9AE}" pid="13" name="Metiers">
    <vt:lpwstr>Promotion</vt:lpwstr>
  </property>
  <property fmtid="{D5CDD505-2E9C-101B-9397-08002B2CF9AE}" pid="14" name="Missions">
    <vt:lpwstr>Assistance à maîtrise d'ouvrage</vt:lpwstr>
  </property>
  <property fmtid="{D5CDD505-2E9C-101B-9397-08002B2CF9AE}" pid="15" name="Mots clé">
    <vt:lpwstr>équipement sportif / piscine</vt:lpwstr>
  </property>
  <property fmtid="{D5CDD505-2E9C-101B-9397-08002B2CF9AE}" pid="16" name="Opération">
    <vt:lpwstr>Centre aqualudique de La Loue</vt:lpwstr>
  </property>
  <property fmtid="{D5CDD505-2E9C-101B-9397-08002B2CF9AE}" pid="17" name="Pays">
    <vt:lpwstr>France</vt:lpwstr>
  </property>
  <property fmtid="{D5CDD505-2E9C-101B-9397-08002B2CF9AE}" pid="18" name="Référent">
    <vt:lpwstr/>
  </property>
  <property fmtid="{D5CDD505-2E9C-101B-9397-08002B2CF9AE}" pid="19" name="Statut">
    <vt:lpwstr>Active</vt:lpwstr>
  </property>
  <property fmtid="{D5CDD505-2E9C-101B-9397-08002B2CF9AE}" pid="20" name="TypeBudget">
    <vt:lpwstr>TTC</vt:lpwstr>
  </property>
  <property fmtid="{D5CDD505-2E9C-101B-9397-08002B2CF9AE}" pid="21" name="TypeCapacite">
    <vt:lpwstr/>
  </property>
  <property fmtid="{D5CDD505-2E9C-101B-9397-08002B2CF9AE}" pid="22" name="Vignette">
    <vt:lpwstr>http://intranet.icade.fr/GestionBookReferences/Vignettes/03 - Equip - Montluçon - Centre aqualudique image.jpg, http://intranet.icade.fr/GestionBookReferences/Vignettes/03 - Equip - Montluçon - Centre aqualudique image.jpg</vt:lpwstr>
  </property>
  <property fmtid="{D5CDD505-2E9C-101B-9397-08002B2CF9AE}" pid="23" name="Ville">
    <vt:lpwstr>MONTLUCON</vt:lpwstr>
  </property>
</Properties>
</file>