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01E-7C48-4D28-82C3-DCD0C0F7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B59-44A9-4DFF-ACA4-67D78ABE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885-CD88-47C9-A590-5E656A60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474-A904-44DE-8293-72436D26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DA42-231D-4315-84AB-6698E0AB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78D0-8199-4269-9723-64D4ADA3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009C-47A7-4514-8CA2-1B6DFBB8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72F6-F015-46A0-A17E-72932ED2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90BC-599E-4426-AA4C-8084CE5C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0372-7087-4CC5-AB12-EC1505FC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C228-DFD6-4C00-B43E-A560F20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D07-6259-44AF-83F9-2171CE06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8DAE-DCA6-4BD6-8644-AFC83847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FD2E-8380-4B85-8DDA-C5EF0128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543C-D793-4170-AC43-9EDD89CA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A7D5-BE87-42D9-B3E5-74C10C47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245F-AA72-40D4-BD3E-FD8585D8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58F-DE8A-4DEA-94DB-A9EBAF23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448-0ED6-4BB6-81B3-75D2C75A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324-078F-45AF-B8DC-E1F0B00F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B0A-5EE0-413D-95E9-ECBC3ED8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864-C3D0-408C-B354-3140EFB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84E-8A64-4511-BDBA-A76CFE8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E38-3112-4467-95EB-24CE81A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E0FC-6BA9-4ACE-82E4-EBA1B083554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pic>
        <p:nvPicPr>
          <p:cNvPr id="48" name="Picture 102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32CD-4EB9-411F-BECD-D4BACE02566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40404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26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title</a:t>
            </a:r>
            <a:br>
              <a:rPr sz="6000"/>
            </a:br>
            <a:r>
              <a:rPr b="1" lang="en-US" sz="6000" spc="-1" strike="noStrike">
                <a:solidFill>
                  <a:srgbClr val="2a3d7a"/>
                </a:solidFill>
                <a:latin typeface="Times New Roman"/>
              </a:rPr>
              <a:t>title b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027"/>
              <p:cNvSpPr txBox="1"/>
              <p:nvPr/>
            </p:nvSpPr>
            <p:spPr>
              <a:xfrm>
                <a:off x="1066680" y="1523880"/>
                <a:ext cx="47008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028"/>
              <p:cNvSpPr txBox="1"/>
              <p:nvPr/>
            </p:nvSpPr>
            <p:spPr>
              <a:xfrm>
                <a:off x="762120" y="4572000"/>
                <a:ext cx="784836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3T01:55:47Z</dcterms:created>
  <dc:creator>xieshaoai</dc:creator>
  <dc:description/>
  <dc:language>en-US</dc:language>
  <cp:lastModifiedBy>lizhenbo</cp:lastModifiedBy>
  <dcterms:modified xsi:type="dcterms:W3CDTF">2013-11-21T04:34:52Z</dcterms:modified>
  <cp:revision>218</cp:revision>
  <dc:subject/>
  <dc:title>第九章  酸碱反应与酸碱滴定法</dc:title>
</cp:coreProperties>
</file>