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B610-F02B-4EA0-8EDB-446C7ED58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557E-2280-4452-A3B7-186E702C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222B-B693-4025-A8F4-1241E4F7E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B464-649B-4175-8967-BD03CE35D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D46B-46C0-4135-96BC-1CF937C4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EE32-183B-4D87-A8B8-A6CDE5B9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99D7-35D6-43C3-B9EC-549342C3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20B4-72B8-4A6A-B675-6FC4D6EB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4490-DCF5-4C9A-84B8-22B33A14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99C1-B2F8-4B13-9D48-48CCCA46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BBC7-BB2C-4B24-8F83-172FCAE0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717C-DE01-45DC-BA6C-FFCFAF3C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808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8080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808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8080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8080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8080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8080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0FA5-074F-40C1-89C6-C15564748E99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עלויות עסק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85800"/>
            <a:ext cx="914400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80808"/>
                </a:solidFill>
                <a:latin typeface="Times New Roman"/>
                <a:cs typeface="Arial (Hebrew)"/>
              </a:rPr>
              <a:t>הקדמה: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80808"/>
                </a:solidFill>
                <a:latin typeface="Times New Roman"/>
                <a:cs typeface="Arial (Hebrew)"/>
              </a:rPr>
              <a:t>עלויות עסקה לשאלת גודל הפירמה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80808"/>
                </a:solidFill>
                <a:latin typeface="Times New Roman"/>
                <a:cs typeface="Arial (Hebrew)"/>
              </a:rPr>
              <a:t>עלויות עסקה: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1</a:t>
            </a:r>
            <a:r>
              <a:rPr b="0" lang="he-IL" sz="28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) הקדמה ועבודתו של      , </a:t>
            </a:r>
            <a:r>
              <a:rPr b="0" lang="he-IL" sz="28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2</a:t>
            </a:r>
            <a:r>
              <a:rPr b="0" lang="he-IL" sz="28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) מיון עסקאות וחוזים, </a:t>
            </a:r>
            <a:r>
              <a:rPr b="0" lang="he-IL" sz="28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3</a:t>
            </a:r>
            <a:r>
              <a:rPr b="0" lang="he-IL" sz="28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) טיפול פורמלי בבעי, </a:t>
            </a:r>
            <a:r>
              <a:rPr b="0" lang="he-IL" sz="28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4</a:t>
            </a:r>
            <a:r>
              <a:rPr b="0" lang="he-IL" sz="28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) תכנון חוזים לתמריצים פיננסיים,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80808"/>
                </a:solidFill>
                <a:latin typeface="Times New Roman"/>
                <a:cs typeface="Arial (Hebrew)"/>
              </a:rPr>
              <a:t>פתרונות נוספים לבעיית התמריצים: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1</a:t>
            </a:r>
            <a:r>
              <a:rPr b="0" lang="he-IL" sz="28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) תחרות ליצירת אמת מידה, </a:t>
            </a:r>
            <a:r>
              <a:rPr b="0" lang="he-IL" sz="28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2</a:t>
            </a:r>
            <a:r>
              <a:rPr b="0" lang="he-IL" sz="28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) איום השתלטויות, </a:t>
            </a:r>
            <a:r>
              <a:rPr b="0" lang="he-IL" sz="28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3</a:t>
            </a:r>
            <a:r>
              <a:rPr b="0" lang="he-IL" sz="28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) השגחה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80808"/>
                </a:solidFill>
                <a:latin typeface="Times New Roman"/>
                <a:cs typeface="Arial (Hebrew)"/>
              </a:rPr>
              <a:t>מקרי לימוד: 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1</a:t>
            </a:r>
            <a:r>
              <a:rPr b="0" lang="he-IL" sz="28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)</a:t>
            </a:r>
            <a:r>
              <a:rPr b="1" lang="he-IL" sz="28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 </a:t>
            </a:r>
            <a:r>
              <a:rPr b="0" lang="he-IL" sz="2800" spc="-1" strike="noStrike">
                <a:solidFill>
                  <a:srgbClr val="080808"/>
                </a:solidFill>
                <a:latin typeface="Times New Roman"/>
                <a:cs typeface="Arial (Hebrew)"/>
              </a:rPr>
              <a:t>מנהלים בחברות בורסיות, </a:t>
            </a:r>
            <a:r>
              <a:rPr b="0" lang="he-IL" sz="28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2</a:t>
            </a:r>
            <a:r>
              <a:rPr b="0" lang="he-IL" sz="28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) חברות</a:t>
            </a:r>
            <a:r>
              <a:rPr b="1" lang="he-IL" sz="28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 </a:t>
            </a:r>
            <a:r>
              <a:rPr b="0" lang="he-IL" sz="2800" spc="-1" strike="noStrike">
                <a:solidFill>
                  <a:srgbClr val="080808"/>
                </a:solidFill>
                <a:latin typeface="Times New Roman"/>
                <a:cs typeface="Arial (Hebrew)"/>
              </a:rPr>
              <a:t>ליצוא פרי-הדר.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25909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4800" spc="-1" strike="noStrike" u="sng">
                <a:solidFill>
                  <a:srgbClr val="000000"/>
                </a:solidFill>
                <a:uFillTx/>
                <a:latin typeface="Times New Roman"/>
              </a:rPr>
              <a:t>מקורו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09480"/>
            <a:ext cx="914400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1</a:t>
            </a:r>
            <a:r>
              <a:rPr b="1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) </a:t>
            </a:r>
            <a:r>
              <a:rPr b="0" lang="he-IL" sz="3200" spc="-1" strike="noStrike">
                <a:solidFill>
                  <a:srgbClr val="080808"/>
                </a:solidFill>
                <a:latin typeface="Times New Roman"/>
                <a:cs typeface="Arial (Hebrew)"/>
              </a:rPr>
              <a:t>הרצאת הקורס באינטרנט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2</a:t>
            </a:r>
            <a:r>
              <a:rPr b="1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)</a:t>
            </a:r>
            <a:r>
              <a:rPr b="0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 עוז שי: פרק שונים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 </a:t>
            </a:r>
            <a:r>
              <a:rPr b="0" lang="en-US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Oz Shy: “ Industrial Organization, Theory and Applications”, MIT Press, 1995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3</a:t>
            </a:r>
            <a:r>
              <a:rPr b="1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) ג’ין </a:t>
            </a:r>
            <a:r>
              <a:rPr b="0" lang="he-IL" sz="3200" spc="-1" strike="noStrike">
                <a:solidFill>
                  <a:srgbClr val="080808"/>
                </a:solidFill>
                <a:latin typeface="Times New Roman"/>
                <a:cs typeface="Arial (Hebrew)"/>
              </a:rPr>
              <a:t>טירול: פרק </a:t>
            </a:r>
            <a:r>
              <a:rPr b="0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1</a:t>
            </a:r>
            <a:r>
              <a:rPr b="0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Jean Tirole: “The Theory of Industrial Organization”, MIT Press, 1989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4</a:t>
            </a:r>
            <a:r>
              <a:rPr b="1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) </a:t>
            </a:r>
            <a:r>
              <a:rPr b="0" lang="he-IL" sz="3200" spc="-1" strike="noStrike">
                <a:solidFill>
                  <a:srgbClr val="080808"/>
                </a:solidFill>
                <a:latin typeface="Times New Roman"/>
                <a:cs typeface="Arial (Hebrew)"/>
              </a:rPr>
              <a:t>דויד קרפס: פרק </a:t>
            </a:r>
            <a:r>
              <a:rPr b="0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20</a:t>
            </a:r>
            <a:r>
              <a:rPr b="0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David Kreps “ A Course in Microeconomic Theory”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4800" spc="-1" strike="noStrike" u="sng">
                <a:solidFill>
                  <a:srgbClr val="000000"/>
                </a:solidFill>
                <a:uFillTx/>
                <a:latin typeface="Times New Roman"/>
              </a:rPr>
              <a:t>התנהגות הפירמ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3352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80808"/>
                </a:solidFill>
                <a:latin typeface="Times New Roman"/>
                <a:cs typeface="Arial (Hebrew)"/>
              </a:rPr>
              <a:t>כאמור, תת הפרק שיידון בהרצאה הנוכחית יעסוק בקשיים של בעלי הפירמה בהבטחת קיום מטרתם--השאת רווחים.   השאלה המרכזית: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80808"/>
                </a:solidFill>
                <a:latin typeface="Times New Roman"/>
                <a:cs typeface="Arial (Hebrew)"/>
              </a:rPr>
              <a:t>האם “השאת רווחים” הוא מודל התנהגותי סביר לתיאור התנהגותן של פירמות?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80808"/>
                </a:solidFill>
                <a:latin typeface="Times New Roman"/>
                <a:cs typeface="Arial (Hebrew)"/>
              </a:rPr>
              <a:t>עיקרו של הדיון נימוקים בעד ונגד הנחת “השאת הרווחים”.  כמו כן מוזכרות חלופות להנחה לעיל ונדונה שאלת התקפות של התיאוריה הכלכלית כשהנחת “השאת הרווחים אינה מתקיימת”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80808"/>
                </a:solidFill>
                <a:latin typeface="Times New Roman"/>
                <a:cs typeface="Arial (Hebrew)"/>
              </a:rPr>
              <a:t>דגש מיוחד ניתן למנגנונים כלכליים שונים ליצירת תמריצים תואמים למטרות הבעלים בקרב המנהלים והעובדים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4800" spc="-1" strike="noStrike" u="sng">
                <a:solidFill>
                  <a:srgbClr val="000000"/>
                </a:solidFill>
                <a:uFillTx/>
                <a:latin typeface="Times New Roman"/>
              </a:rPr>
              <a:t>חלופות להנחת השאת רווחי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85800"/>
            <a:ext cx="9144000" cy="87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1</a:t>
            </a:r>
            <a:r>
              <a:rPr b="0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) השאת גודל הפירמה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2</a:t>
            </a:r>
            <a:r>
              <a:rPr b="0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) השאת קצב הצמיחה של הפירמה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3</a:t>
            </a:r>
            <a:r>
              <a:rPr b="0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) השאת רווחים תחת מגבלות הנובעות משנאת סיכון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4</a:t>
            </a:r>
            <a:r>
              <a:rPr b="0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) השאת פונקצית המטרה של בעלי החוב-קרי בנקים, מחזיקי אג”ח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5</a:t>
            </a:r>
            <a:r>
              <a:rPr b="0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)תיאוריות אבולוציוניות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6</a:t>
            </a:r>
            <a:r>
              <a:rPr b="0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) פירמות בבעלות העובדים </a:t>
            </a:r>
            <a:r>
              <a:rPr b="0" lang="en-US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LMF</a:t>
            </a:r>
            <a:r>
              <a:rPr b="0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 --השאת הרווח לעובד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7</a:t>
            </a:r>
            <a:r>
              <a:rPr b="0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) פירמות קואופרטיביות (תנובה) --השאת הרווח ליחידת תוצרת שמסופקת ע”י החברים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4800" spc="-1" strike="noStrike" u="sng">
                <a:solidFill>
                  <a:srgbClr val="000000"/>
                </a:solidFill>
                <a:uFillTx/>
                <a:latin typeface="Times New Roman"/>
              </a:rPr>
              <a:t>השאת רווחים ובעלו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094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80808"/>
                </a:solidFill>
                <a:latin typeface="Times New Roman"/>
                <a:cs typeface="Arial (Hebrew)"/>
              </a:rPr>
              <a:t>ע”פ החוק--בעלי המניות הם התובעים השארתים של הפירמה. 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80808"/>
                </a:solidFill>
                <a:latin typeface="Times New Roman"/>
                <a:cs typeface="Arial (Hebrew)"/>
              </a:rPr>
              <a:t>כלומר בעלי המניות הם הזכאים לעודף שנותר מפדיון המכירות לאחר ניכוי ההוצאות השונות.  לכן מטרתם הברורה של בעלי המניות השאת הרווחים.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80808"/>
                </a:solidFill>
                <a:latin typeface="Times New Roman"/>
                <a:cs typeface="Arial (Hebrew)"/>
              </a:rPr>
              <a:t>קיימות הסתייגויות הקשורות לפיזור סיכונים ותצרוכת עצמית.  במשקים מפותחים חשיבות האפקטים הללו זניחה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80808"/>
                </a:solidFill>
                <a:latin typeface="Times New Roman"/>
                <a:cs typeface="Arial (Hebrew)"/>
              </a:rPr>
              <a:t>מכאן אי-השאת רווחים היא תוצאה של הפרדה בין בעלות לבין הניהול והשליטה.  נושא זה מטופל בספרות שעוסקת בשולחים ושליחים:    (</a:t>
            </a:r>
            <a:r>
              <a:rPr b="0" lang="en-US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Principal -Agent Theory</a:t>
            </a:r>
            <a:r>
              <a:rPr b="0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)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4800" spc="-1" strike="noStrike" u="sng">
                <a:solidFill>
                  <a:srgbClr val="000000"/>
                </a:solidFill>
                <a:uFillTx/>
                <a:latin typeface="Times New Roman"/>
              </a:rPr>
              <a:t>עלויות עסק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792000"/>
            <a:ext cx="91440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80808"/>
                </a:solidFill>
                <a:latin typeface="Times New Roman"/>
                <a:cs typeface="Arial (Hebrew)"/>
              </a:rPr>
              <a:t>חלק זה של ההרצאה יוקדש לבעיות הכרוכות בהתקשרות ארוכת טווח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80808"/>
                </a:solidFill>
                <a:latin typeface="Times New Roman"/>
                <a:cs typeface="Arial (Hebrew)"/>
              </a:rPr>
              <a:t>העיסוק בנושא של הוצאות עסקה ומיונן של עסקאות לקטגוריות שונות ותחזית לסוג החוזים שיווצרו נערכה ע”י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Williamson: 1) 1976, Bell Journal of Economics, 2) 1985 “The Economic Institutions of Capitalism” , New York--free press.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7T10:22:57Z</dcterms:created>
  <dc:creator>rulik</dc:creator>
  <dc:description/>
  <dc:language>en-US</dc:language>
  <cp:lastModifiedBy>98</cp:lastModifiedBy>
  <cp:lastPrinted>2001-01-23T09:07:28Z</cp:lastPrinted>
  <dcterms:modified xsi:type="dcterms:W3CDTF">2003-03-24T07:46:25Z</dcterms:modified>
  <cp:revision>802</cp:revision>
  <dc:subject/>
  <dc:title> הסדרת משק המים בישראל: כלי מדיניות ואילוצים פוליטיים</dc:title>
</cp:coreProperties>
</file>