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4AA-573E-436E-B977-5C7F0C59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EA2-6699-405B-B9D8-E06F5437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365-3CF3-429D-A702-F783A811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325-D8CF-477B-ADAE-992381DF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FCC6-2462-4589-8408-80868BE0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CC22-9FC2-4D3F-BD84-3C62E5F5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0062-C4A5-49DA-BDD9-FE05F6BC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D14B-D6C0-4565-A820-6C63C96D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CA0D-FD30-4716-8ACF-3766D2C6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76DF-8F53-4312-A20D-100ACCB0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52F9-964E-40A9-B726-319FF8B2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B2D-4E99-4C01-A60D-0CCD1789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E8C4-C11A-4A9F-B205-DCF1DE9D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378D-CB37-4109-BB73-D9646129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879A-F14C-45ED-AB01-A43C5A02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638A-617A-4EA3-9C4D-4FC4C3FA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1688-19D5-4556-B818-7443EF7C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076-0FBC-4497-9E8D-A0902C56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E71-A48B-47EC-9CBC-28D7E6F4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447-05DE-4408-88A1-D0F90A18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883-A203-4C97-BF22-7BEBB5F1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9B0-FA71-47FA-8D18-D89B755B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505-E553-4CAA-A01A-54F66D17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9E5-D6C0-45EC-B983-6B41FA40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2850-D4C6-49C0-9866-74D243A0FE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3D25-E88B-4408-953B-32E2F01E19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me The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655720" y="2511360"/>
          <a:ext cx="3646800" cy="36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5720" y="2511360"/>
                    <a:ext cx="36468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soner’s dilem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52320" y="1676520"/>
            <a:ext cx="48006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Mullo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60020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for J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429000"/>
            <a:ext cx="1676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f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34340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f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124080"/>
            <a:ext cx="7010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nes: 8 yea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nes:  2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loy:  8 yea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loy:  1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nes:  10 yea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nes:  4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loy:  2 ye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loy:  4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1240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3521400">
            <a:off x="4495320" y="220968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18078600">
            <a:off x="647676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2590920"/>
            <a:ext cx="1676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f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2590920"/>
            <a:ext cx="2895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 not conf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es cheating pay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6720" y="1676520"/>
            <a:ext cx="5029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Far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523880"/>
            <a:ext cx="2057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strate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for Ac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429000"/>
            <a:ext cx="2209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ide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57200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124080"/>
            <a:ext cx="71629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ron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5 mill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ron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-$2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mer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5 mill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mer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8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ron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8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ron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2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mer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-$2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mer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2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1240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3521400">
            <a:off x="4495320" y="220968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rot="18078600">
            <a:off x="647676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2362320"/>
            <a:ext cx="2438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ide by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2666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st-favored-customer clau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7884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pulates that if the firm reduces its price subsequent to a purchase, the early customer will get a rebate so that he or she will pay no more than those buying after the price redu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e types of commit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ince rivals that your firm is committed to a strategic move that it is ma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ince rivals that if they make particular moves, your firm is committed to retaliate swiftly and effectiv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ince rivals that your firm is committed to not make particular threatening moves agains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edible threa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33560" y="1752120"/>
            <a:ext cx="43434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LI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523880"/>
            <a:ext cx="2133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for Gel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429000"/>
            <a:ext cx="2209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w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57200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gh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3124080"/>
            <a:ext cx="71629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lhart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2 mill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lhart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-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lhart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7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lhart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1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11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8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31240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3521400">
            <a:off x="4495320" y="220968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rot="18078600">
            <a:off x="647676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26668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w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666880"/>
            <a:ext cx="289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gh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terence of ent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657240" y="1752120"/>
            <a:ext cx="43434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Sa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523880"/>
            <a:ext cx="1600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strate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for Lo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4290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ist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3434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ist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3124080"/>
            <a:ext cx="71629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tus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3 mill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tus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1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m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6 mill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m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9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tus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4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tus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1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m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12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m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9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31240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3521400">
            <a:off x="4495320" y="220968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rot="18078600">
            <a:off x="647676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26668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ist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2666880"/>
            <a:ext cx="3581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not resist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cision tre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505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1676520"/>
            <a:ext cx="2209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aq = $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P = $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1981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51814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396252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4648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on’t exp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25909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p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752480" y="26668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358128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2514600"/>
            <a:ext cx="685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4648320"/>
            <a:ext cx="685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657600" y="1981080"/>
            <a:ext cx="21337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2895480"/>
            <a:ext cx="22096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657600" y="434340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502920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1752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p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4038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p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33526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on’t exp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5486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on’t exp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28954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aq = $1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P = $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88620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aq = $6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P = $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518148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aq = $8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P = $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me the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s to study decision making in situations where there is a mixture of conflict and co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g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mpetitive situation where two or more persons pursue their own interests and no person can dictate the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s of the g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describe how resources can be employ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 complete specification of what a player will do under each contingency in the playing of the g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off 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set of rewards to players depending upon the outcome of the g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minant strate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ategy that is “best” for one player, regardless of the strategy adopted by the oth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minant strate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33920" y="1828440"/>
            <a:ext cx="48765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Bark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13372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Al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429000"/>
            <a:ext cx="380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2438280"/>
            <a:ext cx="380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419720"/>
            <a:ext cx="380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438280"/>
            <a:ext cx="381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3124080"/>
            <a:ext cx="7010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2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4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4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2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1240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3521400">
            <a:off x="4495320" y="220968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rot="18078600">
            <a:off x="647676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sh equilibri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et of strategies such that each player believes (accurately) that it is doing the best it can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given the strategy of the other player(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o dominant strateg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 Barkle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00400" y="1752120"/>
            <a:ext cx="49528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Possible strategies for Bark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3372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Al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3429000"/>
            <a:ext cx="380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2438280"/>
            <a:ext cx="380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419720"/>
            <a:ext cx="380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2438280"/>
            <a:ext cx="381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3124080"/>
            <a:ext cx="7010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2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4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4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4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1240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3521400">
            <a:off x="4495320" y="220968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rot="18078600">
            <a:off x="647676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wo Nash equilibr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52320" y="1676520"/>
            <a:ext cx="48006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Bark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09680"/>
            <a:ext cx="2819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Al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3429000"/>
            <a:ext cx="380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2438280"/>
            <a:ext cx="380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4419720"/>
            <a:ext cx="380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438280"/>
            <a:ext cx="381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3124080"/>
            <a:ext cx="7010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5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5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5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5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1240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3521400">
            <a:off x="4495320" y="220968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rot="18078600">
            <a:off x="647676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ction curve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rpenter and Hano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967040" y="6238800"/>
            <a:ext cx="6567480" cy="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63244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of Ha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86000"/>
            <a:ext cx="20620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of Carp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5334120"/>
            <a:ext cx="2411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 Black"/>
              </a:rPr>
              <a:t>Carpenter’s reaction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1905120"/>
            <a:ext cx="28954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 Black"/>
              </a:rPr>
              <a:t>Hanover’s reaction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2819520"/>
            <a:ext cx="18288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71880" y="1996920"/>
            <a:ext cx="4640040" cy="385128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1828800"/>
            <a:ext cx="2279520" cy="44038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167652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3T04:53:24Z</dcterms:created>
  <dc:creator>RACK</dc:creator>
  <dc:description/>
  <dc:language>en-US</dc:language>
  <cp:lastModifiedBy>Chunsheng Zhou</cp:lastModifiedBy>
  <dcterms:modified xsi:type="dcterms:W3CDTF">2000-01-31T06:38:31Z</dcterms:modified>
  <cp:revision>7</cp:revision>
  <dc:subject/>
  <dc:title>Chapter 13 Game Theory</dc:title>
</cp:coreProperties>
</file>