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32EA-E3B3-4001-99F4-DFDDC1900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7620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4994-66BF-4D3A-9BA3-EFA3F490D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552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7928-A11D-48C4-BFD2-49B1B3C32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332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332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C5FA-3F65-481F-A3F1-19CB8B33C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983a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655164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983a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983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DABD-1F24-40EB-BA78-A0692AA1C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7620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420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332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420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332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3742-6ABD-4975-B868-41C7481D4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5CFA1-D1A8-4A44-9A79-2A60DD57B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74C5-234F-4AC7-91AD-43642CA4F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655164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983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5209-9113-402E-95C9-C12B5B7E1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804E-DDD4-491D-A0C0-5AE40BA3A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552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DB81-6909-4937-8979-2D27EE252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39C7-2F97-4DBF-8C62-C066E6538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64753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302240" y="6248160"/>
            <a:ext cx="22842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lie </a:t>
            </a:r>
            <a:fld id="{5383D1A6-8172-44D9-BDDA-9293B35D3CDE}" type="slidenum"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8316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10480" y="252360"/>
            <a:ext cx="1079640" cy="7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aab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04920" y="6095880"/>
          <a:ext cx="16570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095880"/>
                    <a:ext cx="16570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62120" y="1687680"/>
            <a:ext cx="183960" cy="396720"/>
          </a:xfrm>
          <a:prstGeom prst="rect">
            <a:avLst/>
          </a:prstGeom>
          <a:solidFill>
            <a:srgbClr val="698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918800"/>
            <a:ext cx="4341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8316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20840" y="1620720"/>
            <a:ext cx="4938480" cy="21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ug einer Rente wegen Incapacidad permanen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ra la profesión habitual ab 1.9.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§ 43 Abs. 4 Ziffer 1 SGB V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ängerung des 5-Jahreszeitraums vom 15.5.2000 bis 14.5.2010 um den Rentenbezugszeitrau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er Zeitrau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15.8.1999 – 14.5.2010: 0 KM mit By-Ze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52280"/>
            <a:ext cx="6553080" cy="914400"/>
          </a:xfrm>
          <a:prstGeom prst="rect">
            <a:avLst/>
          </a:prstGeom>
          <a:solidFill>
            <a:srgbClr val="aab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83163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83163"/>
                </a:solidFill>
                <a:latin typeface="Arial"/>
              </a:rPr>
              <a:t>Verlängerungstatbeständ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160" y="262584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983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F3D2-A59F-45A8-915F-F31886BCA367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ug von Arbeitslosengeld / -hilfe in Span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9.7.1997 – 28.1.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9.6.2001 – 6.9.2004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§ 43 Abs. 4 Nr. 1 i.V.m. Artikel 5 Buchstabe b) VO E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ängerung um insgesamt 70 Monate 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15.10.1993 – 14.5.2010: 40 KM By-Z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6553080" cy="914400"/>
          </a:xfrm>
          <a:prstGeom prst="rect">
            <a:avLst/>
          </a:prstGeom>
          <a:solidFill>
            <a:srgbClr val="aab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83163"/>
                </a:solidFill>
                <a:latin typeface="Arial"/>
              </a:rPr>
              <a:t>Verlängerungstatbestä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C1B8-E346-45EF-9F65-18DF203883DF}" type="slidenum">
              <a:t>2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21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4:30:32Z</dcterms:created>
  <dc:creator/>
  <dc:description/>
  <dc:language>en-US</dc:language>
  <cp:lastModifiedBy/>
  <dcterms:modified xsi:type="dcterms:W3CDTF">2011-03-22T14:57:11Z</dcterms:modified>
  <cp:revision>48</cp:revision>
  <dc:subject/>
  <dc:title>Besonderheiten im Auslandsrentenrecht</dc:title>
</cp:coreProperties>
</file>