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8E23D-6705-47E8-90E8-6BB50CCD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BBE7E-2039-4D3F-9B1B-5908734B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6A51-90FE-43EA-8DC3-056A0238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52ED2-101B-401C-927C-940F0E70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6AB2-24C6-4CDD-8199-24C9A078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7817-BEC8-44C1-AB5F-693D7CC3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5225-DFE4-4DB6-AEEF-9AF94271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4B04-7916-4393-95C3-6861D6BA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BCB2-4BD0-4672-9801-76770092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73548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593C-7096-466B-84DC-5CAECE2C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A821-84E0-4E05-A182-95023CF6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80F78-4F11-490D-910C-E901FF1C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D609-A565-4AA4-BF08-54DED4D8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0663-6779-40C9-8A54-3D0312D7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1BB1-F2F8-42E7-84CA-86053F7C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01A2-80B8-483F-BBEC-5FE6BEC0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D5FF-9B8F-4130-8C79-9672316F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B1B03-E700-45C5-B705-8231B2E5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4A524-589F-414B-88F6-E1950DFB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586F3-94DA-4C43-93D7-A088045D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73548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1D695-D84E-4DCC-AC8D-842D6F4F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E8D26-74C6-4675-B414-460A9F30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CD990-7A04-4FF2-8CC4-26466DFF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9F94B-BDD2-4C70-8FE6-424DC048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ductline E-Mail &amp; Directory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5C81-78D0-46A3-BB4B-EFC82B28AA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12-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12-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ductline E-Mail &amp; Directory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FE88-BB05-48F1-89E0-8530F12B4A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ergave modul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4006800"/>
            <a:ext cx="1008000" cy="64764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32000" y="2854440"/>
            <a:ext cx="1008360" cy="647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4006800"/>
            <a:ext cx="1008000" cy="64764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4006800"/>
            <a:ext cx="1008360" cy="64764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4006800"/>
            <a:ext cx="1008000" cy="6476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37080" y="4006800"/>
            <a:ext cx="1008000" cy="64764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5080" y="5446800"/>
            <a:ext cx="1008000" cy="6476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9080" y="5446800"/>
            <a:ext cx="1008000" cy="6476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5446800"/>
            <a:ext cx="1008000" cy="647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5446800"/>
            <a:ext cx="1008000" cy="6476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1"/>
            <a:endCxn id="109" idx="3"/>
          </p:cNvCxnSpPr>
          <p:nvPr/>
        </p:nvCxnSpPr>
        <p:spPr>
          <a:xfrm flipV="1">
            <a:off x="1323000" y="3502080"/>
            <a:ext cx="2232720" cy="66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0" idx="1"/>
            <a:endCxn id="109" idx="3"/>
          </p:cNvCxnSpPr>
          <p:nvPr/>
        </p:nvCxnSpPr>
        <p:spPr>
          <a:xfrm flipV="1">
            <a:off x="2402640" y="3502080"/>
            <a:ext cx="1153080" cy="66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1" idx="1"/>
            <a:endCxn id="109" idx="3"/>
          </p:cNvCxnSpPr>
          <p:nvPr/>
        </p:nvCxnSpPr>
        <p:spPr>
          <a:xfrm flipV="1">
            <a:off x="3555360" y="3502080"/>
            <a:ext cx="360" cy="66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2" idx="1"/>
            <a:endCxn id="109" idx="3"/>
          </p:cNvCxnSpPr>
          <p:nvPr/>
        </p:nvCxnSpPr>
        <p:spPr>
          <a:xfrm flipH="1" flipV="1">
            <a:off x="3555360" y="3502080"/>
            <a:ext cx="1152720" cy="66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3" idx="1"/>
            <a:endCxn id="109" idx="3"/>
          </p:cNvCxnSpPr>
          <p:nvPr/>
        </p:nvCxnSpPr>
        <p:spPr>
          <a:xfrm flipH="1" flipV="1">
            <a:off x="3555360" y="3502080"/>
            <a:ext cx="2305080" cy="66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4" idx="1"/>
            <a:endCxn id="111" idx="3"/>
          </p:cNvCxnSpPr>
          <p:nvPr/>
        </p:nvCxnSpPr>
        <p:spPr>
          <a:xfrm flipV="1">
            <a:off x="1828080" y="4654440"/>
            <a:ext cx="1727640" cy="954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5" idx="1"/>
            <a:endCxn id="111" idx="3"/>
          </p:cNvCxnSpPr>
          <p:nvPr/>
        </p:nvCxnSpPr>
        <p:spPr>
          <a:xfrm flipV="1">
            <a:off x="3052080" y="4654440"/>
            <a:ext cx="503640" cy="9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1"/>
            <a:endCxn id="111" idx="3"/>
          </p:cNvCxnSpPr>
          <p:nvPr/>
        </p:nvCxnSpPr>
        <p:spPr>
          <a:xfrm flipH="1" flipV="1">
            <a:off x="3555360" y="4654440"/>
            <a:ext cx="648000" cy="9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1"/>
            <a:endCxn id="111" idx="3"/>
          </p:cNvCxnSpPr>
          <p:nvPr/>
        </p:nvCxnSpPr>
        <p:spPr>
          <a:xfrm flipH="1" flipV="1">
            <a:off x="3555360" y="4654440"/>
            <a:ext cx="1873440" cy="9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612720" y="371808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2720" y="52308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77080" y="573408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Cos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479736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59640" y="32860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5080" y="566244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9080" y="566244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566244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5440" y="566244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ahoma"/>
              </a:rPr>
              <a:t>elev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42940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42940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7080" y="42940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42940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32000" y="42940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299880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tw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0560" y="1701720"/>
            <a:ext cx="1008000" cy="647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56536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2133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0560" y="18464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1" idx="0"/>
            <a:endCxn id="142" idx="3"/>
          </p:cNvCxnSpPr>
          <p:nvPr/>
        </p:nvCxnSpPr>
        <p:spPr>
          <a:xfrm flipH="1" flipV="1">
            <a:off x="3553560" y="2349360"/>
            <a:ext cx="1044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ergave flexibi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1916280"/>
            <a:ext cx="1008360" cy="647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3068640"/>
            <a:ext cx="1008360" cy="64764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4508640"/>
            <a:ext cx="1008000" cy="6476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4508640"/>
            <a:ext cx="1008360" cy="6476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4508640"/>
            <a:ext cx="1008000" cy="647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4508640"/>
            <a:ext cx="1008000" cy="6476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49" idx="1"/>
            <a:endCxn id="148" idx="3"/>
          </p:cNvCxnSpPr>
          <p:nvPr/>
        </p:nvCxnSpPr>
        <p:spPr>
          <a:xfrm flipV="1">
            <a:off x="3555720" y="2563560"/>
            <a:ext cx="1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0" idx="1"/>
            <a:endCxn id="149" idx="3"/>
          </p:cNvCxnSpPr>
          <p:nvPr/>
        </p:nvCxnSpPr>
        <p:spPr>
          <a:xfrm flipH="1" flipV="1">
            <a:off x="3555720" y="3715920"/>
            <a:ext cx="216720" cy="954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1" idx="1"/>
            <a:endCxn id="149" idx="3"/>
          </p:cNvCxnSpPr>
          <p:nvPr/>
        </p:nvCxnSpPr>
        <p:spPr>
          <a:xfrm flipV="1">
            <a:off x="2332080" y="3715920"/>
            <a:ext cx="1224720" cy="9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2" idx="1"/>
            <a:endCxn id="149" idx="3"/>
          </p:cNvCxnSpPr>
          <p:nvPr/>
        </p:nvCxnSpPr>
        <p:spPr>
          <a:xfrm flipV="1">
            <a:off x="892080" y="3715920"/>
            <a:ext cx="2664720" cy="9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53" idx="1"/>
            <a:endCxn id="149" idx="3"/>
          </p:cNvCxnSpPr>
          <p:nvPr/>
        </p:nvCxnSpPr>
        <p:spPr>
          <a:xfrm flipH="1" flipV="1">
            <a:off x="3555720" y="3715920"/>
            <a:ext cx="1800720" cy="9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611280" y="285264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2720" y="429264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47959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Cos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385920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Infrastructural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23479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roduc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4724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4724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724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32360" y="472428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ahoma"/>
              </a:rPr>
              <a:t>si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3355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2000" y="20606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84720" y="5950080"/>
            <a:ext cx="1008000" cy="6476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61657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5950080"/>
            <a:ext cx="1008000" cy="6476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6165720"/>
            <a:ext cx="86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Tahoma"/>
              </a:rPr>
              <a:t>n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5950080"/>
            <a:ext cx="1008000" cy="647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6093000"/>
            <a:ext cx="129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sev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Organ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70" idx="1"/>
            <a:endCxn id="153" idx="3"/>
          </p:cNvCxnSpPr>
          <p:nvPr/>
        </p:nvCxnSpPr>
        <p:spPr>
          <a:xfrm flipV="1">
            <a:off x="4708080" y="5155920"/>
            <a:ext cx="648360" cy="95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2" idx="1"/>
            <a:endCxn id="153" idx="3"/>
          </p:cNvCxnSpPr>
          <p:nvPr/>
        </p:nvCxnSpPr>
        <p:spPr>
          <a:xfrm flipH="1" flipV="1">
            <a:off x="5355360" y="5155920"/>
            <a:ext cx="577080" cy="95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4" idx="1"/>
            <a:endCxn id="152" idx="3"/>
          </p:cNvCxnSpPr>
          <p:nvPr/>
        </p:nvCxnSpPr>
        <p:spPr>
          <a:xfrm flipV="1">
            <a:off x="891720" y="5155920"/>
            <a:ext cx="1080" cy="95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3635280" y="2565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1:27:51Z</dcterms:created>
  <dc:creator>Dhr A.J. Boer</dc:creator>
  <dc:description/>
  <dc:language>en-US</dc:language>
  <cp:lastModifiedBy>Frans van Cappellen</cp:lastModifiedBy>
  <dcterms:modified xsi:type="dcterms:W3CDTF">2005-02-01T11:36:14Z</dcterms:modified>
  <cp:revision>8</cp:revision>
  <dc:subject/>
  <dc:title>FKP Model PLEMDS</dc:title>
</cp:coreProperties>
</file>