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A240-9D51-4F7B-945D-1FC28319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6A0E-59CF-4206-B017-45B17484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130B-024A-4CCE-B1F9-634E1FD6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B252-C886-4A3D-940F-0EBAE218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E1AB-5185-479E-BF88-3DAF421D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D2B3-2F46-4EB8-AD6F-DA84E9D1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A1F8-8A3A-4C75-B44A-68812DBB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8FDA-E03F-48AC-BB0B-E247A27C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0217-B802-41FE-8467-23FA7FC9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733F-ECC7-4348-B627-78D44128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4328-8999-411F-8FF5-6AE6AE3E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424A-B7EE-4F5A-BD66-4FB8004C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628B-FCE3-43F5-A74F-0007F6FF80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1219320"/>
            <a:ext cx="22096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5T06:52:19Z</dcterms:created>
  <dc:creator>wanglifeng</dc:creator>
  <dc:description/>
  <dc:language>en-US</dc:language>
  <cp:lastModifiedBy>wanglifeng</cp:lastModifiedBy>
  <dcterms:modified xsi:type="dcterms:W3CDTF">2012-06-05T06:52:26Z</dcterms:modified>
  <cp:revision>1</cp:revision>
  <dc:subject/>
  <dc:title>Slide 1</dc:title>
</cp:coreProperties>
</file>