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CA8E-2931-41CD-8FE8-28CB53B34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BE11-75F7-4F2A-95BA-CE77E9D2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41F5-9903-478B-98E2-6BC81632E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DB6D-8C3F-4547-99A4-45C11677C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7438-807C-4B6F-88C3-330E1CDA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C71C-BDDB-4A18-B3F7-FA21E961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4180-A8E8-4D06-93DC-B61BFE33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EAAF-5869-456C-85D0-F8574C6D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14BC-EBFD-4BC1-B4D3-B453D2F1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42E2-2BBA-43F4-95EA-33C60C63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6158-BFFC-453D-B3E0-BD895231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9C7F-1BAD-4EFC-9E93-78924229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8AC6-73DB-4ED6-965F-AD437576E7F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Hi</a:t>
            </a:r>
            <a:r>
              <a:rPr b="0" lang="he-IL" sz="5000" spc="-1" strike="noStrike">
                <a:solidFill>
                  <a:srgbClr val="000000"/>
                </a:solidFill>
                <a:latin typeface="Arial"/>
              </a:rPr>
              <a:t>!  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Animation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d Square"/>
          <p:cNvSpPr/>
          <p:nvPr/>
        </p:nvSpPr>
        <p:spPr>
          <a:xfrm>
            <a:off x="1828800" y="1828800"/>
            <a:ext cx="2540160" cy="2540160"/>
          </a:xfrm>
          <a:prstGeom prst="flowChartProcess">
            <a:avLst/>
          </a:pr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Bu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4160" y="127080"/>
            <a:ext cx="2539800" cy="2539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Bu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0120" y="1778040"/>
            <a:ext cx="635040" cy="12700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Bu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03840" y="2540160"/>
            <a:ext cx="1270080" cy="2539800"/>
          </a:xfrm>
          <a:prstGeom prst="ellipse">
            <a:avLst/>
          </a:pr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Bu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4064040"/>
            <a:ext cx="380880" cy="888840"/>
          </a:xfrm>
          <a:prstGeom prst="smileyFace">
            <a:avLst>
              <a:gd name="adj" fmla="val 9282"/>
            </a:avLst>
          </a:pr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Bu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5715000"/>
            <a:ext cx="380880" cy="888840"/>
          </a:xfrm>
          <a:custGeom>
            <a:avLst/>
            <a:gdLst>
              <a:gd name="textAreaLeft" fmla="*/ 156960 w 380880"/>
              <a:gd name="textAreaRight" fmla="*/ 223920 w 380880"/>
              <a:gd name="textAreaTop" fmla="*/ 366120 h 888840"/>
              <a:gd name="textAreaBottom" fmla="*/ 522720 h 888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Bu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99440" y="5460840"/>
            <a:ext cx="761040" cy="177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Bu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25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250" autoRev="1" fill="hold"/>
                                        <p:tgtEl>
                                          <p:spTgt spid="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250" autoRev="1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25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Hi</a:t>
            </a:r>
            <a:r>
              <a:rPr b="0" lang="he-IL" sz="5000" spc="-1" strike="noStrike">
                <a:solidFill>
                  <a:srgbClr val="000000"/>
                </a:solidFill>
                <a:latin typeface="Arial"/>
              </a:rPr>
              <a:t>!  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620120" y="3809880"/>
          <a:ext cx="1269720" cy="1035000"/>
        </p:xfrm>
        <a:graphic>
          <a:graphicData uri="http://schemas.openxmlformats.org/drawingml/2006/table">
            <a:tbl>
              <a:tblPr/>
              <a:tblGrid>
                <a:gridCol w="635040"/>
                <a:gridCol w="634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939960" y="2817720"/>
          <a:ext cx="914400" cy="7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281772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" descr=""/>
          <p:cNvPicPr/>
          <p:nvPr/>
        </p:nvPicPr>
        <p:blipFill>
          <a:blip r:embed="rId3"/>
          <a:stretch/>
        </p:blipFill>
        <p:spPr>
          <a:xfrm>
            <a:off x="1270080" y="1270080"/>
            <a:ext cx="888840" cy="88884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4254480" y="552600"/>
            <a:ext cx="482760" cy="416880"/>
            <a:chOff x="4254480" y="552600"/>
            <a:chExt cx="482760" cy="416880"/>
          </a:xfrm>
        </p:grpSpPr>
        <p:sp>
          <p:nvSpPr>
            <p:cNvPr id="57" name="_s3093"/>
            <p:cNvSpPr/>
            <p:nvPr/>
          </p:nvSpPr>
          <p:spPr>
            <a:xfrm flipV="1">
              <a:off x="4375080" y="552600"/>
              <a:ext cx="241200" cy="209520"/>
            </a:xfrm>
            <a:custGeom>
              <a:avLst/>
              <a:gdLst>
                <a:gd name="textAreaLeft" fmla="*/ 86400 w 241200"/>
                <a:gd name="textAreaRight" fmla="*/ 154800 w 241200"/>
                <a:gd name="textAreaTop" fmla="*/ 75240 h 209520"/>
                <a:gd name="textAreaBottom" fmla="*/ 134280 h 20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092"/>
            <p:cNvSpPr/>
            <p:nvPr/>
          </p:nvSpPr>
          <p:spPr>
            <a:xfrm flipV="1">
              <a:off x="4254480" y="761400"/>
              <a:ext cx="482760" cy="207720"/>
            </a:xfrm>
            <a:custGeom>
              <a:avLst/>
              <a:gdLst>
                <a:gd name="textAreaLeft" fmla="*/ 106200 w 482760"/>
                <a:gd name="textAreaRight" fmla="*/ 376560 w 482760"/>
                <a:gd name="textAreaTop" fmla="*/ 45720 h 207720"/>
                <a:gd name="textAreaBottom" fmla="*/ 162000 h 20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40160" y="1270080"/>
            <a:ext cx="190476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ashBul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9960" y="127008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bjects on this slide have the effect -FlashBu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25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25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3T23:43:05Z</dcterms:created>
  <dc:creator>FtpDown</dc:creator>
  <dc:description/>
  <dc:language>en-US</dc:language>
  <cp:lastModifiedBy>FtpDown</cp:lastModifiedBy>
  <dcterms:modified xsi:type="dcterms:W3CDTF">2006-03-03T23:43:06Z</dcterms:modified>
  <cp:revision>1</cp:revision>
  <dc:subject/>
  <dc:title>Hi!  Page </dc:title>
</cp:coreProperties>
</file>