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E3F-4F7A-4EEB-A34F-DF9D01FB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914-6E4C-4451-AA10-58197650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DB7-FDC8-45DE-B917-CCDD7919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46B-4C2F-43CD-8887-A1DE264A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141-66B2-44B2-8E96-09158C2C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F32-4454-497E-9E6C-44620D51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15F-9153-4847-AF66-B9AC7C4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1BD-776A-45FC-B022-094938F1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B7C-B573-4D39-A05E-B82BD324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AFE-D240-4460-A478-C250372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7F8-3757-4802-8F5D-6987DFF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F31-F96D-4B3C-A186-83B02A1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6D9F-51E3-4409-9AA6-9F5C1C71D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hart with combinations poss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1360" y="1932120"/>
            <a:ext cx="4121280" cy="4035240"/>
            <a:chOff x="2511360" y="1932120"/>
            <a:chExt cx="4121280" cy="4035240"/>
          </a:xfrm>
        </p:grpSpPr>
        <p:sp>
          <p:nvSpPr>
            <p:cNvPr id="43" name="_s4101"/>
            <p:cNvSpPr/>
            <p:nvPr/>
          </p:nvSpPr>
          <p:spPr>
            <a:xfrm>
              <a:off x="3730680" y="195120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02"/>
            <p:cNvSpPr/>
            <p:nvPr/>
          </p:nvSpPr>
          <p:spPr>
            <a:xfrm rot="3060000">
              <a:off x="4566960" y="235404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504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03"/>
            <p:cNvSpPr/>
            <p:nvPr/>
          </p:nvSpPr>
          <p:spPr>
            <a:xfrm rot="6180000">
              <a:off x="4773600" y="325908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92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4"/>
            <p:cNvSpPr/>
            <p:nvPr/>
          </p:nvSpPr>
          <p:spPr>
            <a:xfrm rot="9240000">
              <a:off x="4193280" y="3984120"/>
              <a:ext cx="1683000" cy="168300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2046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5"/>
            <p:cNvSpPr/>
            <p:nvPr/>
          </p:nvSpPr>
          <p:spPr>
            <a:xfrm rot="12360000">
              <a:off x="3265560" y="39841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734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06"/>
            <p:cNvSpPr/>
            <p:nvPr/>
          </p:nvSpPr>
          <p:spPr>
            <a:xfrm rot="15420000">
              <a:off x="2685960" y="32587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428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7"/>
            <p:cNvSpPr/>
            <p:nvPr/>
          </p:nvSpPr>
          <p:spPr>
            <a:xfrm rot="18540000">
              <a:off x="2892240" y="2352240"/>
              <a:ext cx="1683000" cy="168264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1116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8"/>
            <p:cNvSpPr/>
            <p:nvPr/>
          </p:nvSpPr>
          <p:spPr>
            <a:xfrm>
              <a:off x="501156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 Black"/>
                </a:rPr>
                <a:t>Akhileshw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9"/>
            <p:cNvSpPr/>
            <p:nvPr/>
          </p:nvSpPr>
          <p:spPr>
            <a:xfrm>
              <a:off x="2511360" y="313704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!2F%h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.(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10"/>
            <p:cNvSpPr/>
            <p:nvPr/>
          </p:nvSpPr>
          <p:spPr>
            <a:xfrm>
              <a:off x="347184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6633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1"/>
            <p:cNvSpPr/>
            <p:nvPr/>
          </p:nvSpPr>
          <p:spPr>
            <a:xfrm>
              <a:off x="2854440" y="4638600"/>
              <a:ext cx="660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1^3*5&amp;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2"/>
            <p:cNvSpPr/>
            <p:nvPr/>
          </p:nvSpPr>
          <p:spPr>
            <a:xfrm>
              <a:off x="4243320" y="5307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66"/>
                  </a:solidFill>
                  <a:latin typeface="Baskerville Old Face"/>
                </a:rPr>
                <a:t>a1d2g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3"/>
            <p:cNvSpPr/>
            <p:nvPr/>
          </p:nvSpPr>
          <p:spPr>
            <a:xfrm>
              <a:off x="5630760" y="463716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!@$#$^&lt;&gt;?}{+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4"/>
            <p:cNvSpPr/>
            <p:nvPr/>
          </p:nvSpPr>
          <p:spPr>
            <a:xfrm>
              <a:off x="5972040" y="3135240"/>
              <a:ext cx="6606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10.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-21.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3045789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1:05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