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85E-CBD1-4A1D-9F4A-4F4DDAA3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466-9589-4C48-899F-CBFEFCD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C68-005F-46EF-9096-786E4174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7F0-DAD3-4C69-9B34-6ABE1DF5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173B-277F-4615-B8F8-6DE05EDF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EE2-2C72-4643-9296-EC421CD2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9AE3-3554-4676-AA4A-A232BDB0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866C-34E6-4F78-BAEE-CA59BD1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618B-07AB-4A69-9239-2957441D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F20E-343F-489A-A264-BA0BB3C6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B769-4786-49E5-9D6B-E231B887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740-5E3B-4A4B-9363-2C97D47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19A3-C2FD-4D39-B205-44943A8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3155-9970-4E82-B501-7273A74E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B81-4B3F-4C4F-9F8E-474550B1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5CC2-3BC5-463E-A3D7-85953C33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6D04-397D-4021-8686-8EAA19B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0FC-ACD6-4A7E-9704-1FED6A2C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18E-6B57-415B-A2D1-B471DA2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75E-FBFA-4E22-953A-D7D51400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9F1-ACAC-49C9-9CF8-3032C573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AF0-88CC-4DB3-8661-6C86B9D3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FF4-22E8-4EA6-AAEF-8D3A8F8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3F6-FC69-491E-9177-D4F129C5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3C36-075F-48C3-B29B-70D327478EE6}" type="datetime">
              <a:rPr b="0" i="1" lang="en-US" sz="14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2A64-7FCD-47A6-A54C-7ADE74B36786}" type="slidenum"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2E77-2BA3-4F18-9BEA-832BCA401608}" type="datetime">
              <a:rPr b="0" i="1" lang="en-US" sz="14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588-A96E-48AE-92F8-FAE34BC90FA5}" type="slidenum"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-85680" y="304920"/>
          <a:ext cx="9229680" cy="61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04920"/>
                    <a:ext cx="92296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980-FD53-4B30-BAB8-822845A2618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02DD5-3B3A-467B-9661-BD08AB393B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9:51:52Z</dcterms:created>
  <dc:creator>CEC</dc:creator>
  <dc:description/>
  <dc:language>en-US</dc:language>
  <cp:lastModifiedBy>dujing</cp:lastModifiedBy>
  <cp:lastPrinted>2002-10-28T19:01:28Z</cp:lastPrinted>
  <dcterms:modified xsi:type="dcterms:W3CDTF">2012-05-30T07:22:33Z</dcterms:modified>
  <cp:revision>65</cp:revision>
  <dc:subject/>
  <dc:title>California Energy Commission’s MTBE Phase out Progress Report </dc:title>
</cp:coreProperties>
</file>