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D4E-7FBF-4BBC-B59B-7BD44CBA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D11F-7D6F-4B7A-9089-91F6C155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D2A6-F39C-439C-82F6-5D7BDA17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42D-4C37-47AA-81D7-C70ABDC6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C0DD-1228-4EB3-9A13-8B31DC2A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AD4E-815A-47EE-B8AC-1E42FAC5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A4D-88C7-4535-A589-891D4900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6E9-5CD4-421F-B4FE-9D7CF577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B5B-1048-47BD-A7E0-C7A25F87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BFD0-1E4B-48B4-ACDD-C8A56C74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C4C-277F-4311-A54E-3890E861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9B0-BB38-4124-9E76-7AA01AED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C6FC-2286-4AB2-B722-8C22E2819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edded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3520" y="1295280"/>
          <a:ext cx="8229600" cy="517536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3680"/>
                <a:gridCol w="822600"/>
                <a:gridCol w="822240"/>
                <a:gridCol w="824040"/>
                <a:gridCol w="822240"/>
                <a:gridCol w="823680"/>
                <a:gridCol w="8226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g Gorman</cp:lastModifiedBy>
  <dcterms:modified xsi:type="dcterms:W3CDTF">2011-11-01T17:47:3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