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A92C-DB71-4D09-8895-C666B6DA7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07F8-C5AA-4D83-A31A-B1DA1F37D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CC7B-A3FD-4EE6-916C-6F552D438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D5BB-4FE7-47E6-9ACA-CE63F9D5E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0242-115D-40AD-94F4-287F49853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8E50-E32C-4E47-8EEF-F1CE94F2B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1260-28E7-4CFB-82F4-F91AE5D3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C0B4-E5A8-4D60-B8BE-9A53ACE94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C325-4714-42BB-A57B-BB476C64C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DADC-95F4-4077-B1AD-8E448EE5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781F-1EB7-4ADF-A4C1-3BE593F8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C121-7AD1-43BE-8B32-3423FA04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F6D14-9108-41EA-81D5-7C074722A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i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ouble Outli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652840" y="1727280"/>
            <a:ext cx="3838320" cy="4267080"/>
            <a:chOff x="2652840" y="1727280"/>
            <a:chExt cx="3838320" cy="4267080"/>
          </a:xfrm>
        </p:grpSpPr>
        <p:sp>
          <p:nvSpPr>
            <p:cNvPr id="43" name="_s6149"/>
            <p:cNvSpPr/>
            <p:nvPr/>
          </p:nvSpPr>
          <p:spPr>
            <a:xfrm flipH="1" flipV="1">
              <a:off x="3647880" y="3327120"/>
              <a:ext cx="463320" cy="26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6150"/>
            <p:cNvSpPr/>
            <p:nvPr/>
          </p:nvSpPr>
          <p:spPr>
            <a:xfrm>
              <a:off x="2652840" y="2527200"/>
              <a:ext cx="1066680" cy="106704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@2#5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_s6151"/>
            <p:cNvSpPr/>
            <p:nvPr/>
          </p:nvSpPr>
          <p:spPr>
            <a:xfrm flipH="1">
              <a:off x="3647880" y="4127400"/>
              <a:ext cx="46332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6152"/>
            <p:cNvSpPr/>
            <p:nvPr/>
          </p:nvSpPr>
          <p:spPr>
            <a:xfrm>
              <a:off x="2652840" y="4127400"/>
              <a:ext cx="1066680" cy="106704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SF!@#$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6153"/>
            <p:cNvSpPr/>
            <p:nvPr/>
          </p:nvSpPr>
          <p:spPr>
            <a:xfrm>
              <a:off x="4572000" y="4392720"/>
              <a:ext cx="0" cy="53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6154"/>
            <p:cNvSpPr/>
            <p:nvPr/>
          </p:nvSpPr>
          <p:spPr>
            <a:xfrm>
              <a:off x="4038480" y="4927680"/>
              <a:ext cx="1067040" cy="106668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!@#$&lt;&gt;?:”}{_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6155"/>
            <p:cNvSpPr/>
            <p:nvPr/>
          </p:nvSpPr>
          <p:spPr>
            <a:xfrm>
              <a:off x="5032440" y="4127400"/>
              <a:ext cx="46332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6156"/>
            <p:cNvSpPr/>
            <p:nvPr/>
          </p:nvSpPr>
          <p:spPr>
            <a:xfrm>
              <a:off x="5424480" y="4127400"/>
              <a:ext cx="1066680" cy="106704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7c80"/>
                  </a:solidFill>
                  <a:latin typeface="Arial"/>
                </a:rPr>
                <a:t>A1g2h3r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6157"/>
            <p:cNvSpPr/>
            <p:nvPr/>
          </p:nvSpPr>
          <p:spPr>
            <a:xfrm flipV="1">
              <a:off x="5032440" y="3327120"/>
              <a:ext cx="463320" cy="26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6158"/>
            <p:cNvSpPr/>
            <p:nvPr/>
          </p:nvSpPr>
          <p:spPr>
            <a:xfrm>
              <a:off x="5424480" y="2527200"/>
              <a:ext cx="1066680" cy="106704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2345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6159"/>
            <p:cNvSpPr/>
            <p:nvPr/>
          </p:nvSpPr>
          <p:spPr>
            <a:xfrm flipV="1">
              <a:off x="4572000" y="2793960"/>
              <a:ext cx="0" cy="53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6160"/>
            <p:cNvSpPr/>
            <p:nvPr/>
          </p:nvSpPr>
          <p:spPr>
            <a:xfrm>
              <a:off x="4038480" y="1727280"/>
              <a:ext cx="1067040" cy="106668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Akhileshwar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6161"/>
            <p:cNvSpPr/>
            <p:nvPr/>
          </p:nvSpPr>
          <p:spPr>
            <a:xfrm>
              <a:off x="4038480" y="3328920"/>
              <a:ext cx="1067040" cy="106704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1@S3%fG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.,?&lt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khkoth</cp:lastModifiedBy>
  <dcterms:modified xsi:type="dcterms:W3CDTF">2009-08-17T08:59:1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