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431D-0D33-459B-9D40-573A54517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81B4-662C-4FA1-A1EE-B8758D59C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9F94-928D-4CBC-A9B5-4B217FDCD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DD48-F134-48E1-9DC1-303D92A5D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7E0B-CBD5-4491-998B-FEC59C8C1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4527-EE53-41A4-A452-BF0489327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0631-617A-4344-9A57-4FE8A0DCE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9CE3-B7AE-4729-886F-0604060B5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3CC2-2B1A-4284-8C89-882968E89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085F-BBB6-4C6F-9FFC-B85E5EF4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422F-D2C1-4E61-84A0-8A60E9C8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84BA-6A13-46D2-9215-727F046C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AE48D-D84E-487D-BBBB-0CBAE4134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109320" y="1619640"/>
            <a:ext cx="3311640" cy="2620440"/>
            <a:chOff x="3109320" y="1619640"/>
            <a:chExt cx="3311640" cy="2620440"/>
          </a:xfrm>
        </p:grpSpPr>
        <p:sp>
          <p:nvSpPr>
            <p:cNvPr id="42" name=""/>
            <p:cNvSpPr/>
            <p:nvPr/>
          </p:nvSpPr>
          <p:spPr>
            <a:xfrm rot="291600">
              <a:off x="4440600" y="1677960"/>
              <a:ext cx="816840" cy="502560"/>
            </a:xfrm>
            <a:prstGeom prst="ellipse">
              <a:avLst/>
            </a:prstGeom>
            <a:solidFill>
              <a:srgbClr val="ff99cc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rot="291600">
              <a:off x="3203640" y="1747440"/>
              <a:ext cx="3122640" cy="2364480"/>
            </a:xfrm>
            <a:custGeom>
              <a:avLst/>
              <a:gdLst/>
              <a:ahLst/>
              <a:rect l="l" t="t" r="r" b="b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solidFill>
              <a:srgbClr val="ff99cc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3096360" y="1625040"/>
            <a:ext cx="3354840" cy="2774880"/>
            <a:chOff x="3096360" y="1625040"/>
            <a:chExt cx="3354840" cy="2774880"/>
          </a:xfrm>
        </p:grpSpPr>
        <p:sp>
          <p:nvSpPr>
            <p:cNvPr id="45" name=""/>
            <p:cNvSpPr/>
            <p:nvPr/>
          </p:nvSpPr>
          <p:spPr>
            <a:xfrm rot="291600">
              <a:off x="4450680" y="1680120"/>
              <a:ext cx="824760" cy="534960"/>
            </a:xfrm>
            <a:prstGeom prst="ellipse">
              <a:avLst/>
            </a:prstGeom>
            <a:solidFill>
              <a:srgbClr val="ff99cc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rot="291600">
              <a:off x="3197160" y="1753920"/>
              <a:ext cx="3152880" cy="2516760"/>
            </a:xfrm>
            <a:custGeom>
              <a:avLst/>
              <a:gdLst/>
              <a:ahLst/>
              <a:rect l="l" t="t" r="r" b="b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solidFill>
              <a:srgbClr val="ff99cc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07:44:38Z</dcterms:created>
  <dc:creator>Automation</dc:creator>
  <dc:description/>
  <dc:language>en-US</dc:language>
  <cp:lastModifiedBy>Automation</cp:lastModifiedBy>
  <dcterms:modified xsi:type="dcterms:W3CDTF">2010-04-19T09:02:31Z</dcterms:modified>
  <cp:revision>4</cp:revision>
  <dc:subject/>
  <dc:title>Slide 1</dc:title>
</cp:coreProperties>
</file>