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89D-F48A-4F58-8817-D7C96500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DA1-E0B4-4C84-88DE-2333C23A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151-B0D4-457A-8BEB-0F85BF3A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5C8-6668-4D74-BD20-0FD67487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77E-D2D0-4A7C-A761-4C76A98A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F24-E8D6-494A-B412-31F88FC5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87F-F2B3-4E98-A3DD-E549742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47F-6DAC-49BF-9543-C1F512B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C09-7D81-4D9E-82AA-7C75576D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66E-00E7-435A-8153-AC54C11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A86-78EC-4E81-899B-50AD482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D40-EED2-4244-8564-9BB205D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2780-37EF-44CC-9B41-79AE957345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3:42:27Z</dcterms:created>
  <dc:creator>张芳向 Netboy</dc:creator>
  <dc:description/>
  <dc:language>en-US</dc:language>
  <cp:lastModifiedBy>张芳向 Netboy</cp:lastModifiedBy>
  <dcterms:modified xsi:type="dcterms:W3CDTF">2004-04-26T03:42:32Z</dcterms:modified>
  <cp:revision>1</cp:revision>
  <dc:subject/>
  <dc:title>幻灯片 1</dc:title>
</cp:coreProperties>
</file>