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8A3-01E2-4D83-9F9F-D3EF828E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C98-D93F-4CB9-BCBB-9ADA5A0E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69C-FAE4-4F5E-8FED-4BB214B8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FF7-5B8A-4DB9-9D1B-DB2DF5F9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234-D527-4F59-8FB6-8021DE85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1E0-7B60-4351-AB37-1E1479B9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BA9-F596-43F9-ACE7-83D75E79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AA2-E083-4504-B3D5-BB72ABC3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492-9A64-45F9-A6DE-C024AED4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B8E-C447-4803-B475-10E513F1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5EC-20F4-41C6-BC39-B5035837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E60-D5A4-45B2-9942-E7138941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310C-DA24-4746-819E-7384DB0C4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ubFunction: Animation\Combination\AutoShape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File Name: FFC261FFCSD_Animation_Combination_AutoShape_0140.ppt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eck Point: Timing\Trigger\With Previous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Please check object: AutoShape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Animations on object: Entrance_Split,Exit_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646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23:19:36Z</dcterms:created>
  <dc:creator>ibm</dc:creator>
  <dc:description/>
  <dc:language>en-US</dc:language>
  <cp:lastModifiedBy>ibm</cp:lastModifiedBy>
  <dcterms:modified xsi:type="dcterms:W3CDTF">2006-04-27T23:19:36Z</dcterms:modified>
  <cp:revision>1</cp:revision>
  <dc:subject/>
  <dc:title>SubFunction: Animation\Combination\AutoShape File Name: FFC261FFCSD_Animation_Combination_AutoShape_0140.ppt Check Point: Timing\Trigger\With Previous Please check object: AutoShape Animations on object: Entrance_Split,Exit_Split</dc:title>
</cp:coreProperties>
</file>