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014-9A5B-4263-840C-35BF092B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492-0CB4-4222-BEBE-809A419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ECF-CA23-449E-A7BB-A3D8F610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AE7-CE6E-4D6E-8851-7A8A3E26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188-0CA6-4365-95FA-A7AA998D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D9D-B814-4CFC-AE8E-EE08E58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A14-9370-4D0E-BE89-AB847C91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81A-FD06-47E0-88C5-964C787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ED6-2C5C-4CCF-BB7F-7AE7F0C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8DE-F97C-46F6-A55A-F93380A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AD6F-7838-4ADD-9D5E-40D852E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5B3-1614-4E40-B270-EADA35CE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575-21E7-4554-8365-AAA9966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9F7-9B53-4456-ACF8-2A17B42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7EF8-EA72-446B-BA23-16E36A5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3A3-AAEB-463C-83C8-3426253B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2B0A-D5A2-4E7D-AA26-222166CC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B9F-2A69-4C77-B2D0-5FC58AA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8BE-6321-417F-9233-27F24025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755-3B6E-4019-B7BE-0E8F848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A36-627B-4A12-9609-39FA501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801-9D80-430D-8EA8-B7FC146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A4B-D5BF-43CF-8526-DEA5923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F1-1FEB-430D-8184-0145F79C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A9D-8AA0-4ABF-BE2E-36972D9E81C7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626A996-AE16-4FD3-8F29-E60B2B76D3BD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3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17D7-6866-44DA-9BE3-F326B4A06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C4B-C1A7-4A7E-BC79-47BBE7FE6B86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4C12003-08BD-41F2-9845-9938DFC46F91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3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356-C523-43AD-A67A-8C29DD74F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886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he-IL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שלבים</a:t>
            </a:r>
            <a:r>
              <a:rPr b="0" lang="he-IL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בהלבנת הו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057400"/>
            <a:ext cx="6705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מיקו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ריבו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y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א</a:t>
            </a: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ינטגרציה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CD2-9560-4BE2-B1DD-AA217AFDCE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E07F99-F31A-4E0E-A0F5-305BF96BA04A}" type="datetime8">
              <a:rPr lang="en-US"/>
              <a:t>07/31/26 05: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17Z</dcterms:modified>
  <cp:revision>36</cp:revision>
  <dc:subject/>
  <dc:title>מצגת של PowerPoint</dc:title>
</cp:coreProperties>
</file>