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8307-6B9E-4456-BC41-A4395818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405-B06B-48FC-B039-30F9A5DF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5CA-A8DF-4E79-B113-CCF0820E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C78B-6694-4826-B3DB-F8E93BF6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8B3-6228-4F43-B030-8C87F67E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F01-580E-4287-B758-3096723A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781-15C3-4C50-97D0-184FF7F8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ACC-214B-4F1C-8031-7A307D29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C94-7FAA-4D3E-96A9-171785DA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C0F-52BC-4F88-87BC-09EBA9A3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780-985E-4A15-8EAD-0022C29C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CA1-0FB6-41D3-8398-6CF00BBA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B39E80-F075-4973-A83E-40D39C0FCF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0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0E40-EDB3-4064-9E2F-4DA5601AB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28455-BA35-48D1-BB6F-EDE79963C45D}" type="datetime13">
              <a:rPr lang="en-US"/>
              <a:t>06:00:18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06:34:43Z</dcterms:created>
  <dc:creator>crystal</dc:creator>
  <dc:description/>
  <dc:language>en-US</dc:language>
  <cp:lastModifiedBy>crystal</cp:lastModifiedBy>
  <dcterms:modified xsi:type="dcterms:W3CDTF">2012-06-20T06:34:52Z</dcterms:modified>
  <cp:revision>1</cp:revision>
  <dc:subject/>
  <dc:title>Slide 1</dc:title>
</cp:coreProperties>
</file>