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7B08-5ED3-4377-A75D-B958CA610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9A86-C1E5-4753-A7CE-E95ED1BC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0142-EAF3-41D8-97DD-BEFDFCE8B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E669-F97F-4518-8C72-D25AD6349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0254-7F4B-42D7-808F-A17F4C17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1A96-9CF3-4268-A21E-11FA8CD9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EEBB-9F0A-42C1-899B-F9762BA1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E6B3-6B73-410B-8015-FB631BD3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607A-BE36-47BB-9959-A8EDBE78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ABC2-94DF-420D-AD87-5D508567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6E55-790A-4A64-BCCF-81BCC59A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FDFB-850E-440E-864C-7D21CEF5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0E02-11DF-486A-ADF8-385A7D91C62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1:31:57Z</dcterms:created>
  <dc:creator>mako</dc:creator>
  <dc:description/>
  <dc:language>en-US</dc:language>
  <cp:lastModifiedBy>mako</cp:lastModifiedBy>
  <dcterms:modified xsi:type="dcterms:W3CDTF">2009-12-21T13:15:55Z</dcterms:modified>
  <cp:revision>12</cp:revision>
  <dc:subject/>
  <dc:title>スライド 1</dc:title>
</cp:coreProperties>
</file>