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F43B-EB5E-4F1F-B525-68C460BA8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2182E-6C89-4053-949D-23C24607F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4E82B-0648-4640-A5B4-6B25ECA77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8914-6EE8-44D4-9DB7-E9F66ACD4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4CA03-3872-4E76-AAED-0A0796C3F1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7EF44-505E-4CD9-92F2-72C6A33624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4F8DA-877B-49BE-92D9-0C9E1F6E16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AC551-FE38-4694-AD22-973F553552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9099B-D88B-4165-B804-DE7F70BC30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FF4AD-42FB-4BF4-AF00-2360ED1135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76966-C000-49E6-8A40-9695CC9761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9365A-4C15-4976-98BF-75DF57BD9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1F47B-A41A-4E7F-BDA5-5250798788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81D69-FD19-480E-AA86-069FDA590B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B9B03-BE58-4C13-9372-46AE82A0CE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82F8A-D1FE-41EB-A3EE-EF969FAED0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AAE3A-44C1-4610-8817-7360C5BCC4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ECFE0B-0473-4C1A-AB3D-97048ED5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B6FE34-6A70-4FE4-BF21-F531A961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D75E9B-9AD9-4FEB-A24B-DC9E83C4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BBB6D5-4BD6-4531-9C2C-9A2F90F5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246405-2DB2-4471-B8FA-D7ECE16C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BB48-94C0-48D6-A0B1-FCA4A86E68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1A37F7-38D0-4067-A5E2-A3526697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0B511B-46EF-4A39-84F1-9307BFCB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5056A3-23D3-481C-BC8D-553BEF57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B487C6-E336-491B-B743-95A45323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D0BF7B-5C60-425F-BAE0-4D525B54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96FAA7-055C-49D4-BBEE-AC2F3D84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844A17-AA5F-4279-9081-2CCBD179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9392-0F7A-4510-9F62-806A70345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A79DD-A890-4F64-9B0F-0834E286D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73BB6-7E2A-4F0E-85E1-6D0F3196E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79061-1964-4AE9-8CE3-E0FFF1E24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35281-314E-47F5-A8A7-6FB8EAD3B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0DB9D-826F-4F91-9434-A0900A0EA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BEF0-D596-4372-BF95-784316607F30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ACD8-2D80-477E-9F13-9F9BB4BC4518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9551-B1B1-4C4A-94B3-6DB1B1424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52760" y="1468440"/>
            <a:ext cx="4371840" cy="1303200"/>
          </a:xfrm>
          <a:prstGeom prst="rect">
            <a:avLst/>
          </a:prstGeom>
        </p:spPr>
        <p:txBody>
          <a:bodyPr wrap="none" lIns="90360" rIns="90360" tIns="44280" bIns="4428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ord Art insert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21080" y="4181400"/>
            <a:ext cx="2867040" cy="779400"/>
          </a:xfrm>
          <a:prstGeom prst="rect">
            <a:avLst/>
          </a:prstGeom>
        </p:spPr>
        <p:txBody>
          <a:bodyPr wrap="none" fromWordArt="1" lIns="90360" rIns="90360" tIns="44280" bIns="4428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 slide 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08:47:52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09-12-31T09:56:24Z</dcterms:modified>
  <cp:revision>3</cp:revision>
  <dc:subject/>
  <dc:title>Slide 1</dc:title>
</cp:coreProperties>
</file>