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34E-52FE-4B94-83CE-EA4E5A56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8AF-14EE-4F6C-B0D4-D679C77A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54B-4243-4B96-AAC9-5A978F7B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C8D-AD95-4117-85B4-11393898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D74-0B86-49EE-B271-40428444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9AF-E67D-4F3A-A37B-0B929E40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150-C650-4013-8266-33F16864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BB2-F2F2-4FAB-B0E2-5C66A23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8E6-4951-4F4E-8838-06A2BD4B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5BA-C0BF-46BB-9DBF-89E92F5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A05-8125-400F-B6A2-1B9D1ED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E77-9462-4F20-B91D-91E94F9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6D845-C941-4F8F-90FB-FBFA80440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94080" y="932040"/>
          <a:ext cx="5073480" cy="1029600"/>
        </p:xfrm>
        <a:graphic>
          <a:graphicData uri="http://schemas.openxmlformats.org/drawingml/2006/table">
            <a:tbl>
              <a:tblPr/>
              <a:tblGrid>
                <a:gridCol w="2536920"/>
                <a:gridCol w="2536560"/>
              </a:tblGrid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3394080" y="2876400"/>
          <a:ext cx="5073480" cy="1029960"/>
        </p:xfrm>
        <a:graphic>
          <a:graphicData uri="http://schemas.openxmlformats.org/drawingml/2006/table">
            <a:tbl>
              <a:tblPr/>
              <a:tblGrid>
                <a:gridCol w="2536920"/>
                <a:gridCol w="2536560"/>
              </a:tblGrid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394080" y="4964040"/>
          <a:ext cx="5073480" cy="1029960"/>
        </p:xfrm>
        <a:graphic>
          <a:graphicData uri="http://schemas.openxmlformats.org/drawingml/2006/table">
            <a:tbl>
              <a:tblPr/>
              <a:tblGrid>
                <a:gridCol w="2536920"/>
                <a:gridCol w="2536560"/>
              </a:tblGrid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265400" y="903240"/>
            <a:ext cx="1500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or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33680" y="2884320"/>
            <a:ext cx="12096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2.5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720" y="4971960"/>
            <a:ext cx="18828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nge 2.5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al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7:57:27Z</dcterms:created>
  <dc:creator/>
  <dc:description/>
  <dc:language>en-US</dc:language>
  <cp:lastModifiedBy/>
  <dcterms:modified xsi:type="dcterms:W3CDTF">2008-08-06T18:25:57Z</dcterms:modified>
  <cp:revision>7</cp:revision>
  <dc:subject/>
  <dc:title/>
</cp:coreProperties>
</file>