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AF1A-EC50-409C-985A-A9EBE4A6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42240"/>
            <a:ext cx="90676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BA2-ED31-495A-95C1-3D846280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4224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24224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C55-C3A6-4E9F-B4EA-35F110FE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42240"/>
            <a:ext cx="2919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242240"/>
            <a:ext cx="2919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242240"/>
            <a:ext cx="2919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74D-A91A-46D5-9951-3410238D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C0F-EDA4-407C-9ADA-FC507056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805-A056-4718-9791-A1F7E6B2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2C8-FF46-4F81-9FD3-641C534E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45F-ADF8-445E-AE3A-1D338066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EBA-6785-4264-B352-1909FB2B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4224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8367-649C-425B-933E-D647DB16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24224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F45-E5FF-47E5-8438-45C96E23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42240"/>
            <a:ext cx="90676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CD5-E27E-4CB6-854B-5F088312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3B37E-5854-4E71-9E7B-53D64FA5AFCC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X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3T00:09:11Z</dcterms:created>
  <dc:creator/>
  <dc:description/>
  <dc:language>en-US</dc:language>
  <cp:lastModifiedBy/>
  <cp:revision>0</cp:revision>
  <dc:subject/>
  <dc:title/>
</cp:coreProperties>
</file>