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1D1-4CC4-4CAE-A8C3-0C68C0A9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A2A-0303-45CE-960A-7977DAD2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D251-01F6-46BF-8C62-05236BA1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5969-E840-4A08-81D4-0FBF7A79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190B-FB3A-4EC0-8B75-176410EA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7103-FBFD-4F4E-914A-38382A15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E6F-82F8-4C8C-97E1-028BEB78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1FE0-3A06-4AC2-9529-BB815D1F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DE5-99BD-4E53-99BD-946FA313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1CE6-AD7E-4DBE-8CE3-CF4AEF9A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3C28-E414-4D4B-B7F5-43FEC3B8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9572-C3B8-479D-90E0-254053BD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1EAF7-0403-4309-9A03-F9BE8BBEA4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4240" y="420840"/>
            <a:ext cx="605160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n-autobiographical “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” in Pa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4240" y="1116000"/>
            <a:ext cx="892332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3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om. 3:5, 7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ut if through my falsehood God’s truthfulness abounds to his glory, why am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still being condemned as a sinner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14240" y="2413080"/>
            <a:ext cx="892332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3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or. 6:12, 6:15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“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ll things are lawful for me,’ but not all things are beneficial. ‘All things are lawful for me,’ but I will not be dominated by anything … Do you not know that your bodies are members of Christ? Should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therefore take the members of Christ and make them members of a prostitute? Nev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4240" y="4716360"/>
            <a:ext cx="89233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3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or. 10:29ff.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or why should my liberty be subject to the judgment of someone else's conscience? I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partake with thankfulness, why should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be denounced because of that for which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give thanks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14240" y="420840"/>
            <a:ext cx="605160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n-autobiographical “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” in Pa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4240" y="2521080"/>
            <a:ext cx="892332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3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or. 14:11, 14, 15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f I do not know the meaning of a sound, I will be a foreigner to the speaker and the speaker a foreigner to me. So with yourselves; since you are eager for spiritual gifts, strive to excel in them for building up the church. Therefore, one who speaks in a tongue should pray for the power to interpret. For i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pray in a tongue, my spirit prays but my mind is unproductive. What should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do then?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will pray with the spirit, bu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will pray with the mind also;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will sing praise with the spirit, bu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will sing praise with the mind als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4240" y="5724360"/>
            <a:ext cx="89233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3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Gal. 2:18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ut i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build up again the very things tha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once tore down, then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demonstrate tha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am a transgresso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4240" y="973080"/>
            <a:ext cx="8923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3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or. 13:1-3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speak with the tongues of men and angels, but have not love …   i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have prophetic powers … i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have all faith… i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give away my possessions, and hand over my body…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gain noth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0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00200" y="363600"/>
            <a:ext cx="9245520" cy="74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e ourselves are Jews by birth and not Gentile sinne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yet we know that a person is justified not by the work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e law but through faith in Jesus Christ. And we ha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e to believe in Christ Jesus, so that we might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justified by faith in Christ, and not by doing the wor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f the law, because no one will be justified by the wor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f the law. But if, in our effort to be justified in Chris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e ourselves have been found to be sinners, is Christ t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 servant of sin? Certainly not! But i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build up aga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very things tha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once tore down, then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demonstrate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am a transgressor. For through the law I died to the law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o that I might live to God. I have been crucified with Chris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nd it is no longer I who live, but it is Christ who lives in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nd the life I now live in the flesh I live by faith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on of God, who loved me and gave himself for 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 do not nullify the grace of God; for if justification co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rough the law, then Christ died for n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14240" y="714240"/>
            <a:ext cx="9007560" cy="41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QH 1.21-2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se things I know by the wisdom which comes from The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for Thou hast unstopped my ears to marvelous myste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nd yet I, a shape of clay kneaded in water, a ground of sh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nd a source of pollution, a melting-pot of wicked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nd an edifice of sin, a straying and perverted spir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f no understanding, fearful of righteous judgements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what can I say that is not foreknown?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(Vermes,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DS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, 3</a:t>
            </a:r>
            <a:r>
              <a:rPr b="0" lang="en-GB" sz="2600" spc="-1" strike="noStrike" baseline="33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2600" spc="-1" strike="noStrike" baseline="41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d., p. 167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 Forbes</dc:creator>
  <dc:description/>
  <dc:language>en-US</dc:language>
  <cp:lastModifiedBy>Chris Forbes</cp:lastModifiedBy>
  <cp:revision>0</cp:revision>
  <dc:subject/>
  <dc:title/>
</cp:coreProperties>
</file>