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7B16-6647-4E5D-BE0B-2060B833E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6DFA-3C58-41DE-80AC-AF2EAD57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2B11-F5F4-4DDA-A07B-4697F77C3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28FD-00E2-4BA2-AC42-A291883B8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EA17-A16F-464D-B173-9AB72F58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807A-9887-4093-B5BF-7C86887B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48E5-F316-4F0D-9B33-2BB00F03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4FB8-0E42-4E5E-9FED-FE06A29B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6828-CD46-46B4-87AD-89D40EAF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7893-7B8A-492C-B2BF-A02FB9F3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E031-5492-4B75-9648-22DD7A16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E625-812E-4E08-B15F-E6A899AD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A4086-BFA4-4050-A519-A88A77AE81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4341960" cy="444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4341960" cy="444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4341960" cy="4446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5:11:46Z</dcterms:created>
  <dc:creator>Robert Regan</dc:creator>
  <dc:description/>
  <dc:language>en-US</dc:language>
  <cp:lastModifiedBy/>
  <cp:revision>1</cp:revision>
  <dc:subject/>
  <dc:title/>
</cp:coreProperties>
</file>