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21-2038-4748-9039-B02F098E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E2D-E3EA-461E-82A0-CF7A145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B2A-BDD8-4607-9624-702B5203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633-ED74-4FF3-82C1-BE6DE48D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D64E-2835-4E29-9B1C-63A69806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94D-FF49-4EB2-820E-ABBFFE0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B29E-E913-4038-BF9E-1DF00DF1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E80-F8D4-4FD1-AC24-2D1F091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D36-A670-46B8-92BA-2606B6B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F059-01E4-4C85-BFE6-705AF482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4B7-7DD0-483B-8161-FA5A0B3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D08-3F01-4063-81E6-E3C68EE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B8E1-7076-4062-B573-ECC5BE7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125-98D2-45B9-BE10-084B1A0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EE9D-8399-4BC7-9608-61E65EC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3370-8D81-4A6F-BF0F-783AC07B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EAAF-E70C-43DB-A69F-EAEC97FA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D6F-F1C1-4C8B-A70E-0DD214E4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8AE-7D58-4B0F-A682-E8399AF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6C0-40F3-490D-9363-9E75B52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369-6FA8-4DB0-BC43-FA5A6B4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68F-738E-45D5-A22C-FDA191B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B84-13F1-4A9C-9502-F34D726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07E-C0D0-466A-8AEB-4C9DC1A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A78-B686-49A4-B0E2-DDBB3B9AC1B8}" type="slidenum"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0"/>
            <a:ext cx="9144000" cy="825480"/>
            <a:chOff x="0" y="0"/>
            <a:chExt cx="9144000" cy="825480"/>
          </a:xfrm>
        </p:grpSpPr>
        <p:sp>
          <p:nvSpPr>
            <p:cNvPr id="11" name=""/>
            <p:cNvSpPr/>
            <p:nvPr/>
          </p:nvSpPr>
          <p:spPr>
            <a:xfrm>
              <a:off x="5257800" y="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</a:rPr>
                <a:t>	</a:t>
              </a: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</a:rPr>
                <a:t>מעבדה לרשתות מחשבים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  <a:cs typeface="Times New Roman (Hebrew)"/>
                </a:rPr>
                <a:t>חורף </a:t>
              </a: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  <a:ea typeface="Times New Roman (Hebrew)"/>
                </a:rPr>
                <a:t>200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0DFC-AC42-4BEE-9F74-C4BA5B71C7C7}" type="slidenum"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ecf6a0"/>
                </a:solidFill>
                <a:latin typeface="Times New Roman"/>
              </a:rPr>
              <a:t>      </a:t>
            </a:r>
            <a:r>
              <a:rPr b="0" i="1" lang="he-IL" sz="6000" spc="-1" strike="noStrike">
                <a:solidFill>
                  <a:srgbClr val="ecf6a0"/>
                </a:solidFill>
                <a:latin typeface="Times New Roman"/>
              </a:rPr>
              <a:t>מצגת אמצע סמסטר</a:t>
            </a: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37339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cc"/>
                </a:solidFill>
                <a:uFillTx/>
                <a:latin typeface="Arial"/>
                <a:cs typeface="Arial (Hebrew)"/>
              </a:rPr>
              <a:t>פרוייקט</a:t>
            </a:r>
            <a:r>
              <a:rPr b="1" lang="he-IL" sz="3200" spc="-1" strike="noStrike">
                <a:solidFill>
                  <a:srgbClr val="ffffcc"/>
                </a:solidFill>
                <a:latin typeface="Arial"/>
                <a:ea typeface="Arial (Hebrew)"/>
              </a:rPr>
              <a:t>: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 (Hebrew)"/>
              </a:rPr>
              <a:t>File Transfer Protoc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מגיש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 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cs typeface="Arial (Hebrew)"/>
              </a:rPr>
              <a:t>ד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cs typeface="Arial (Hebrew)"/>
              </a:rPr>
              <a:t>ותן בר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              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מ</a:t>
            </a:r>
            <a:r>
              <a:rPr b="1" lang="he-IL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נחה</a:t>
            </a:r>
            <a:r>
              <a:rPr b="0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:ניר אר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סביבת העבודה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פלטפורמה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מ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חשב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C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מ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ערכת הפעלה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indows 2k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ת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וכנ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ה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: סימולטור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ש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פות תכנות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 / c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++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מטרות הפרוייקט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לימוד פרוטוקול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TP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לימוד סימולטור ה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מימוש הפרוטוקול תחת הסימולטור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(שרת ולקוח)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ב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דיקות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erformanc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של שרת-לקוח אמיתי ושילובו במודל עבור הסימולטור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02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רקע –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Guttman-Aram"/>
              </a:rPr>
              <a:t>File Transfer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פרוטוקול בא לתת פתרון להעברת (שיתוף) קבצי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בין משתמשים ע"י שימוש במחשבים מקושרים ברשת ללא תלות במערכות הקבצים השונות השומרות את הקבצים בשיטה אופיינית להן (למשל כמה ביטים מייצגים תווי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Narkisim"/>
              </a:rPr>
              <a:t>ASCII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ובין מערכות הפעלה שונות בצורה נוחה ואמינ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07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תקציר –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Guttman-Aram"/>
              </a:rPr>
              <a:t>File Transfer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לקוח מתחבר לשרת אל כתובת ופורט ידועי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בין השרת והלקוח נפתח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control connection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ערוץ שדרכו מועברות הפקודות לביצוע והתשובות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ערוץ עובד בפרוטוקול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Telnet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במידת הצורך נפתח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data connection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שדרכ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מועברים הקבצי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12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Impact"/>
                <a:cs typeface="Times New Roman (Hebrew)"/>
              </a:rPr>
              <a:t>התחברות: לקוח -שרת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Image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161120" cy="31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Impact"/>
                <a:cs typeface="Times New Roman (Hebrew)"/>
              </a:rPr>
              <a:t>התחברות: שרת -שרת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Image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69160" cy="351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לוח זמני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FTP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cs typeface="Times New Roman (Hebrew)"/>
              </a:rPr>
              <a:t>לימוד פרוטוקול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OPNET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cs typeface="Times New Roman (Hebrew)"/>
              </a:rPr>
              <a:t>לימוד הסימולטור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לימוד פרוטוקול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TEL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מימוש מודול עבור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TP – control connection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מימוש מודול עבור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TP – data connection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בדיקת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erformanc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של שרת-לקוח אמיתי ושילוב התוצאות במוד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1T14:13:41Z</dcterms:created>
  <dc:creator>Ari Todtfeld</dc:creator>
  <dc:description/>
  <dc:language>en-US</dc:language>
  <cp:lastModifiedBy>Dotan b.</cp:lastModifiedBy>
  <dcterms:modified xsi:type="dcterms:W3CDTF">2002-01-02T09:44:55Z</dcterms:modified>
  <cp:revision>75</cp:revision>
  <dc:subject/>
  <dc:title>דוח אמצע פרויקט</dc:title>
</cp:coreProperties>
</file>