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8CB1-D46F-4E0A-BEAB-F794504DF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0556-8CF1-4D51-A2AC-1CC1519B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3321-50E4-4066-A7E6-2A6C14604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111B-A401-4C29-910E-9C2AC24D9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DB7C-E3A5-4620-A2CD-7EEC8EFB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D5B4-B7D2-40FC-ABFB-2760E3F2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720B-5CD3-41CF-936A-7F4AEC33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6E5F-0C30-45E6-B710-35E9BB35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EF76-B4A3-43AB-A26E-3BA63FA7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5838-0B76-4E8C-804E-2F5B623D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AB89-FA58-4121-A472-F3BBBD19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69FA-61DC-45EB-B7FF-2AC34231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82BB-04CA-40B3-AEA2-2A79F4F0D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fin des blagues sur les hommes ... Sans rancune Messieurs ..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33040" y="2284560"/>
            <a:ext cx="72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'est-ce qui fait que les hommes courent toujours après les femm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cune intention de se marier 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Arial"/>
              </a:rPr>
              <a:t>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35920" y="2284560"/>
            <a:ext cx="707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même raison qui fait que les chiens poursuivent les voitures sa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ant avoir l'intention de conduire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88840" y="2697120"/>
            <a:ext cx="54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nt les hommes font de l'exercice à la plage 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Arial"/>
              </a:rPr>
              <a:t>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90640" y="2697120"/>
            <a:ext cx="697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rentrant leur ventre à chaque fois qu'ils voient une gonzesse qu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e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84360" y="2971800"/>
            <a:ext cx="59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lle est la meilleure façon de garder un homme au lit 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Arial"/>
              </a:rPr>
              <a:t>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582200" y="2971800"/>
            <a:ext cx="437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tre la télé dans la chambre à coucher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62160" y="2971800"/>
            <a:ext cx="66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quoi les hommes épousent-ils plus volontiers des vierges 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Arial"/>
              </a:rPr>
              <a:t>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58560" y="2971800"/>
            <a:ext cx="434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ce qu'ils ne supportent pas la critique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99480" y="2833560"/>
            <a:ext cx="643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lle est le point commun entre un ex-mari et l'appendicite 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Arial"/>
              </a:rPr>
              <a:t>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97680" y="2833560"/>
            <a:ext cx="696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deux vous ont fait très mal, et après qu'on les ait enlevés, vou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u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dez compte qu'ils ne vous servaient à ri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05440" y="2697120"/>
            <a:ext cx="633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elle est la différence entre un homme et une boîte de pâ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ur chie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Arial"/>
              </a:rPr>
              <a:t>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08080" y="2971800"/>
            <a:ext cx="69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en d'hommes faut-il pour changer un rouleau de papier cul 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Arial"/>
              </a:rPr>
              <a:t>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03040" y="297180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 ne sait : ça n'est jamais arrivé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100160" y="2971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37160" y="2558880"/>
            <a:ext cx="675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un homme ouvre la portière de sa voiture à sa femme, on pe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être sû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'une chose : ou bien c'est la voiture qui est neuve, ou bien c'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m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4724280"/>
            <a:ext cx="1944720" cy="172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!!!!!!!!!!!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00160" y="2971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8840" y="2971800"/>
            <a:ext cx="412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'aurait fait la femme sans l'homme 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Arial"/>
              </a:rPr>
              <a:t>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00160" y="2971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11720" y="2971800"/>
            <a:ext cx="34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e aurait élevé un autre anima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00160" y="2971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10840" y="2833560"/>
            <a:ext cx="632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 un homme, quelle est la différence entre : l'anniversai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sa femme et la cuvette des toilettes 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Arial"/>
              </a:rPr>
              <a:t>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00160" y="2971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08680" y="2833560"/>
            <a:ext cx="458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cune, il passe systématiquement à côté 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00160" y="2971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30120" y="2697120"/>
            <a:ext cx="668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nt reconnaître un homme quand il va dire quelque cho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'intelligent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Arial"/>
              </a:rPr>
              <a:t>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00160" y="2971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24720" y="2697120"/>
            <a:ext cx="551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 phrase commence par " Ma femme m'a dit que 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04000" y="2697120"/>
            <a:ext cx="451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s la boîte, il y a du cerveau et du coeu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94680" y="2833560"/>
            <a:ext cx="715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lle idée se fait l'homme de "donner un coup de main à la maison"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Arial"/>
              </a:rPr>
              <a:t>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3960" y="2833560"/>
            <a:ext cx="65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lever ses jambes pour qu'on passe l'aspirateur par-dess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12440" y="2971800"/>
            <a:ext cx="423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quoi les mecs n'ont pas de règles 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Arial"/>
              </a:rPr>
              <a:t>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14960" y="2971800"/>
            <a:ext cx="73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quoi ça leur servirait ? Ils sont en permanence de mauvaise humeur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348200" y="2971800"/>
            <a:ext cx="644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quoi la ménopause n'existe-t-elle pas chez les hommes 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Arial"/>
              </a:rPr>
              <a:t>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345680" y="2971800"/>
            <a:ext cx="46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ce qu'ils restent coincés à l'adolescence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1:21:07Z</dcterms:created>
  <dc:creator>SoulieP</dc:creator>
  <dc:description/>
  <dc:language>en-US</dc:language>
  <cp:lastModifiedBy>SoulieP</cp:lastModifiedBy>
  <dcterms:modified xsi:type="dcterms:W3CDTF">2004-07-01T11:31:09Z</dcterms:modified>
  <cp:revision>3</cp:revision>
  <dc:subject/>
  <dc:title>Enfin des blagues sur les hommes ... Sans rancune Messieurs .... </dc:title>
</cp:coreProperties>
</file>