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C16-0E31-487B-BD23-60BF551A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354-584C-4F83-BB42-B5264A1C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561-148C-4E10-B128-DD80CC62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2F4-767F-4376-88E0-F9A9114D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620-50BD-49D8-A684-D8DB339B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3BD-EF2C-45BD-B64C-7593685F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1EA-80BE-4D93-8373-91974CC5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19B-3436-4A21-8699-7AB18649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FEA-2FF6-4B99-9FD3-4B70FEAE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CF3-FAA0-4B79-8A4F-232CF909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03F-EAB7-4080-ADB7-B6060D2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463-7DFA-4DB7-BD8C-F9FCEF74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D1E0-AC38-4312-8A30-5590EAA85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werPlusWaterMarkObject3"/>
          <p:cNvSpPr txBox="1"/>
          <p:nvPr/>
        </p:nvSpPr>
        <p:spPr>
          <a:xfrm rot="18900000">
            <a:off x="1042920" y="3068280"/>
            <a:ext cx="782496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ln w="0">
                  <a:noFill/>
                </a:ln>
                <a:solidFill>
                  <a:srgbClr val="c0c0c0">
                    <a:alpha val="50000"/>
                  </a:srgbClr>
                </a:solidFill>
                <a:latin typeface="Arial"/>
              </a:rPr>
              <a:t>Uncontrolled Copy if Printed</a:t>
            </a:r>
            <a:endParaRPr b="0" lang="en-US" sz="100" spc="-1" strike="noStrike">
              <a:ln w="0">
                <a:noFill/>
              </a:ln>
              <a:solidFill>
                <a:srgbClr val="c0c0c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16:29:18Z</dcterms:created>
  <dc:creator>SJ</dc:creator>
  <dc:description/>
  <dc:language>en-US</dc:language>
  <cp:lastModifiedBy>SJ</cp:lastModifiedBy>
  <dcterms:modified xsi:type="dcterms:W3CDTF">2005-11-25T16:29:23Z</dcterms:modified>
  <cp:revision>1</cp:revision>
  <dc:subject/>
  <dc:title>Folie 1</dc:title>
</cp:coreProperties>
</file>