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512-E182-4717-B44A-DBDD7B85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58F3-B62F-4970-A641-2A79A42E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E8E2-05AD-43D9-B949-FC52405F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661-5F23-4837-A845-1A0A9FD6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6B0E-9875-46A7-AE46-538287BA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4F5-24E1-449C-A469-45FB07D0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EB9-BBDC-42D2-B788-1EB059A7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742A-59B5-47B2-867F-622C11A3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307-404B-46A5-BA61-7539F2BA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055-A896-46F1-8A91-720046F4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27C9-6A71-4F0D-A775-DFF807E0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2CB-D4B5-422E-B993-C9D8AB7E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4DA2-D9D0-4CE2-B72E-4CE31DB039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143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205740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27200" y="68580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3"/>
            <a:endCxn id="41" idx="0"/>
          </p:cNvCxnSpPr>
          <p:nvPr/>
        </p:nvCxnSpPr>
        <p:spPr>
          <a:xfrm>
            <a:off x="3192480" y="914400"/>
            <a:ext cx="808200" cy="22896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45" name=""/>
          <p:cNvCxnSpPr>
            <a:stCxn id="42" idx="3"/>
            <a:endCxn id="41" idx="2"/>
          </p:cNvCxnSpPr>
          <p:nvPr/>
        </p:nvCxnSpPr>
        <p:spPr>
          <a:xfrm flipV="1">
            <a:off x="3192480" y="2057400"/>
            <a:ext cx="808200" cy="22896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46" name=""/>
          <p:cNvSpPr/>
          <p:nvPr/>
        </p:nvSpPr>
        <p:spPr>
          <a:xfrm>
            <a:off x="4572000" y="137160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19760" y="1279440"/>
            <a:ext cx="136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818320" y="1371600"/>
            <a:ext cx="1396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15080" y="2617920"/>
            <a:ext cx="13644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813280" y="2709720"/>
            <a:ext cx="1396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33680" y="33498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5640" y="428004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55640" y="290844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3" idx="3"/>
            <a:endCxn id="51" idx="0"/>
          </p:cNvCxnSpPr>
          <p:nvPr/>
        </p:nvCxnSpPr>
        <p:spPr>
          <a:xfrm>
            <a:off x="3220920" y="3137040"/>
            <a:ext cx="784440" cy="21312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5" name=""/>
          <p:cNvCxnSpPr>
            <a:stCxn id="52" idx="3"/>
            <a:endCxn id="51" idx="2"/>
          </p:cNvCxnSpPr>
          <p:nvPr/>
        </p:nvCxnSpPr>
        <p:spPr>
          <a:xfrm flipV="1">
            <a:off x="3220920" y="4264200"/>
            <a:ext cx="784440" cy="24480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56" name=""/>
          <p:cNvSpPr/>
          <p:nvPr/>
        </p:nvSpPr>
        <p:spPr>
          <a:xfrm>
            <a:off x="4579920" y="1811160"/>
            <a:ext cx="406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557520"/>
            <a:ext cx="406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87800" y="1811160"/>
            <a:ext cx="1800" cy="174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87800" y="2709720"/>
            <a:ext cx="965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403236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19760" y="3940200"/>
            <a:ext cx="136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818320" y="4032360"/>
            <a:ext cx="13968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89680" y="1289160"/>
            <a:ext cx="13644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987520" y="1379520"/>
            <a:ext cx="1400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85000" y="2627280"/>
            <a:ext cx="136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985000" y="2717640"/>
            <a:ext cx="1396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89680" y="3948120"/>
            <a:ext cx="136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987520" y="4040280"/>
            <a:ext cx="1400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4880" y="137160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9" idx="3"/>
            <a:endCxn id="41" idx="1"/>
          </p:cNvCxnSpPr>
          <p:nvPr/>
        </p:nvCxnSpPr>
        <p:spPr>
          <a:xfrm>
            <a:off x="3170160" y="1600200"/>
            <a:ext cx="259200" cy="36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71" name=""/>
          <p:cNvSpPr/>
          <p:nvPr/>
        </p:nvSpPr>
        <p:spPr>
          <a:xfrm>
            <a:off x="1662120" y="358308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71" idx="3"/>
            <a:endCxn id="51" idx="1"/>
          </p:cNvCxnSpPr>
          <p:nvPr/>
        </p:nvCxnSpPr>
        <p:spPr>
          <a:xfrm flipV="1">
            <a:off x="3227400" y="3807000"/>
            <a:ext cx="206640" cy="5040"/>
          </a:xfrm>
          <a:prstGeom prst="bentConnector3">
            <a:avLst>
              <a:gd name="adj1" fmla="val 50087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73" name=""/>
          <p:cNvSpPr/>
          <p:nvPr/>
        </p:nvSpPr>
        <p:spPr>
          <a:xfrm>
            <a:off x="2895480" y="4327560"/>
            <a:ext cx="2336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1280" y="4529160"/>
            <a:ext cx="108000" cy="149040"/>
          </a:xfrm>
          <a:custGeom>
            <a:avLst/>
            <a:gdLst/>
            <a:ahLst/>
            <a:rect l="l" t="t" r="r" b="b"/>
            <a:pathLst>
              <a:path w="301" h="415">
                <a:moveTo>
                  <a:pt x="0" y="207"/>
                </a:moveTo>
                <a:cubicBezTo>
                  <a:pt x="92" y="276"/>
                  <a:pt x="184" y="345"/>
                  <a:pt x="277" y="414"/>
                </a:cubicBezTo>
                <a:lnTo>
                  <a:pt x="0" y="207"/>
                </a:lnTo>
                <a:close/>
                <a:moveTo>
                  <a:pt x="23" y="207"/>
                </a:moveTo>
                <a:cubicBezTo>
                  <a:pt x="115" y="138"/>
                  <a:pt x="207" y="69"/>
                  <a:pt x="300" y="0"/>
                </a:cubicBezTo>
                <a:lnTo>
                  <a:pt x="23" y="207"/>
                </a:lnTo>
                <a:close/>
                <a:moveTo>
                  <a:pt x="277" y="22"/>
                </a:moveTo>
                <a:cubicBezTo>
                  <a:pt x="277" y="152"/>
                  <a:pt x="277" y="282"/>
                  <a:pt x="277" y="414"/>
                </a:cubicBezTo>
                <a:lnTo>
                  <a:pt x="277" y="2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60640" y="4537080"/>
            <a:ext cx="180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742840" y="4394160"/>
            <a:ext cx="136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742840" y="4611600"/>
            <a:ext cx="219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51000" y="4603680"/>
            <a:ext cx="82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9120" y="440208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99840" y="4286160"/>
            <a:ext cx="10008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8V to -5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86200" y="4494240"/>
            <a:ext cx="4932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1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5880" y="451332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62360" y="728640"/>
            <a:ext cx="23328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17800" y="928800"/>
            <a:ext cx="108000" cy="149040"/>
          </a:xfrm>
          <a:custGeom>
            <a:avLst/>
            <a:gdLst/>
            <a:ahLst/>
            <a:rect l="l" t="t" r="r" b="b"/>
            <a:pathLst>
              <a:path w="301" h="415">
                <a:moveTo>
                  <a:pt x="300" y="207"/>
                </a:moveTo>
                <a:cubicBezTo>
                  <a:pt x="208" y="276"/>
                  <a:pt x="116" y="345"/>
                  <a:pt x="23" y="414"/>
                </a:cubicBezTo>
                <a:lnTo>
                  <a:pt x="300" y="207"/>
                </a:lnTo>
                <a:close/>
                <a:moveTo>
                  <a:pt x="277" y="207"/>
                </a:moveTo>
                <a:cubicBezTo>
                  <a:pt x="185" y="138"/>
                  <a:pt x="93" y="69"/>
                  <a:pt x="0" y="0"/>
                </a:cubicBezTo>
                <a:lnTo>
                  <a:pt x="277" y="207"/>
                </a:lnTo>
                <a:close/>
                <a:moveTo>
                  <a:pt x="23" y="22"/>
                </a:moveTo>
                <a:cubicBezTo>
                  <a:pt x="23" y="152"/>
                  <a:pt x="23" y="282"/>
                  <a:pt x="23" y="414"/>
                </a:cubicBezTo>
                <a:lnTo>
                  <a:pt x="23" y="2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17880" y="936720"/>
            <a:ext cx="144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709720" y="793800"/>
            <a:ext cx="136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707920" y="101124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17880" y="100332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4200" y="80316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68880" y="685800"/>
            <a:ext cx="10706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28V to +5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3440" y="893880"/>
            <a:ext cx="5281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1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92400" y="91440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86120" y="2951280"/>
            <a:ext cx="23328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43360" y="3151080"/>
            <a:ext cx="107640" cy="149400"/>
          </a:xfrm>
          <a:custGeom>
            <a:avLst/>
            <a:gdLst/>
            <a:ahLst/>
            <a:rect l="l" t="t" r="r" b="b"/>
            <a:pathLst>
              <a:path w="301" h="415">
                <a:moveTo>
                  <a:pt x="300" y="207"/>
                </a:moveTo>
                <a:cubicBezTo>
                  <a:pt x="208" y="276"/>
                  <a:pt x="116" y="345"/>
                  <a:pt x="23" y="414"/>
                </a:cubicBezTo>
                <a:lnTo>
                  <a:pt x="300" y="207"/>
                </a:lnTo>
                <a:close/>
                <a:moveTo>
                  <a:pt x="277" y="207"/>
                </a:moveTo>
                <a:cubicBezTo>
                  <a:pt x="185" y="138"/>
                  <a:pt x="93" y="69"/>
                  <a:pt x="0" y="0"/>
                </a:cubicBezTo>
                <a:lnTo>
                  <a:pt x="277" y="207"/>
                </a:lnTo>
                <a:close/>
                <a:moveTo>
                  <a:pt x="23" y="22"/>
                </a:moveTo>
                <a:cubicBezTo>
                  <a:pt x="23" y="152"/>
                  <a:pt x="23" y="282"/>
                  <a:pt x="23" y="414"/>
                </a:cubicBezTo>
                <a:lnTo>
                  <a:pt x="23" y="2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3080" y="3159000"/>
            <a:ext cx="180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734920" y="3017880"/>
            <a:ext cx="13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733840" y="323532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3080" y="3225960"/>
            <a:ext cx="82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19400" y="302580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94440" y="2909880"/>
            <a:ext cx="10706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28V to +5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79000" y="3117960"/>
            <a:ext cx="5281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1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17960" y="313704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52640" y="2100240"/>
            <a:ext cx="2336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09880" y="2300400"/>
            <a:ext cx="108000" cy="149040"/>
          </a:xfrm>
          <a:custGeom>
            <a:avLst/>
            <a:gdLst/>
            <a:ahLst/>
            <a:rect l="l" t="t" r="r" b="b"/>
            <a:pathLst>
              <a:path w="301" h="415">
                <a:moveTo>
                  <a:pt x="0" y="207"/>
                </a:moveTo>
                <a:cubicBezTo>
                  <a:pt x="92" y="276"/>
                  <a:pt x="184" y="345"/>
                  <a:pt x="277" y="414"/>
                </a:cubicBezTo>
                <a:lnTo>
                  <a:pt x="0" y="207"/>
                </a:lnTo>
                <a:close/>
                <a:moveTo>
                  <a:pt x="23" y="207"/>
                </a:moveTo>
                <a:cubicBezTo>
                  <a:pt x="115" y="138"/>
                  <a:pt x="207" y="69"/>
                  <a:pt x="300" y="0"/>
                </a:cubicBezTo>
                <a:lnTo>
                  <a:pt x="23" y="207"/>
                </a:lnTo>
                <a:close/>
                <a:moveTo>
                  <a:pt x="277" y="22"/>
                </a:moveTo>
                <a:cubicBezTo>
                  <a:pt x="277" y="152"/>
                  <a:pt x="277" y="282"/>
                  <a:pt x="277" y="414"/>
                </a:cubicBezTo>
                <a:lnTo>
                  <a:pt x="277" y="2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17800" y="2308320"/>
            <a:ext cx="144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701800" y="2165400"/>
            <a:ext cx="136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700360" y="238284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09960" y="237492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86280" y="217476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58440" y="2057400"/>
            <a:ext cx="10008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8V to -5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43360" y="2265480"/>
            <a:ext cx="4932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1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84480" y="228600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17080" y="3635280"/>
            <a:ext cx="822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90080" y="1424160"/>
            <a:ext cx="822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44640" y="3625920"/>
            <a:ext cx="807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30240" y="1432080"/>
            <a:ext cx="807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12320" y="3278160"/>
            <a:ext cx="352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59120" y="3735360"/>
            <a:ext cx="282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95040" y="1066680"/>
            <a:ext cx="352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1523880"/>
            <a:ext cx="282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26120" y="1379520"/>
            <a:ext cx="47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8200" y="2717640"/>
            <a:ext cx="473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8200" y="4040280"/>
            <a:ext cx="47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89240" y="290520"/>
            <a:ext cx="502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79800" y="390600"/>
            <a:ext cx="805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92960" y="2717640"/>
            <a:ext cx="191880" cy="304920"/>
          </a:xfrm>
          <a:custGeom>
            <a:avLst/>
            <a:gdLst/>
            <a:ahLst/>
            <a:rect l="l" t="t" r="r" b="b"/>
            <a:pathLst>
              <a:path w="532" h="845">
                <a:moveTo>
                  <a:pt x="277" y="0"/>
                </a:moveTo>
                <a:cubicBezTo>
                  <a:pt x="277" y="192"/>
                  <a:pt x="277" y="384"/>
                  <a:pt x="277" y="578"/>
                </a:cubicBezTo>
                <a:lnTo>
                  <a:pt x="277" y="0"/>
                </a:lnTo>
                <a:close/>
                <a:moveTo>
                  <a:pt x="0" y="578"/>
                </a:moveTo>
                <a:cubicBezTo>
                  <a:pt x="177" y="578"/>
                  <a:pt x="354" y="578"/>
                  <a:pt x="531" y="578"/>
                </a:cubicBezTo>
                <a:lnTo>
                  <a:pt x="0" y="578"/>
                </a:lnTo>
                <a:close/>
                <a:moveTo>
                  <a:pt x="138" y="716"/>
                </a:moveTo>
                <a:cubicBezTo>
                  <a:pt x="230" y="716"/>
                  <a:pt x="322" y="716"/>
                  <a:pt x="415" y="716"/>
                </a:cubicBezTo>
                <a:lnTo>
                  <a:pt x="138" y="716"/>
                </a:lnTo>
                <a:close/>
                <a:moveTo>
                  <a:pt x="209" y="844"/>
                </a:moveTo>
                <a:cubicBezTo>
                  <a:pt x="255" y="844"/>
                  <a:pt x="301" y="844"/>
                  <a:pt x="348" y="844"/>
                </a:cubicBezTo>
                <a:lnTo>
                  <a:pt x="209" y="84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61680" y="3857760"/>
            <a:ext cx="471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±7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51960" y="1255680"/>
            <a:ext cx="471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±7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04680" y="5353200"/>
            <a:ext cx="31525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c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VI adjustabl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±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7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429000" y="1143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27200" y="205740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27200" y="68580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2" idx="3"/>
            <a:endCxn id="130" idx="0"/>
          </p:cNvCxnSpPr>
          <p:nvPr/>
        </p:nvCxnSpPr>
        <p:spPr>
          <a:xfrm>
            <a:off x="3192120" y="914040"/>
            <a:ext cx="8089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34" name=""/>
          <p:cNvCxnSpPr>
            <a:stCxn id="131" idx="3"/>
            <a:endCxn id="130" idx="2"/>
          </p:cNvCxnSpPr>
          <p:nvPr/>
        </p:nvCxnSpPr>
        <p:spPr>
          <a:xfrm flipV="1">
            <a:off x="3192120" y="2056680"/>
            <a:ext cx="8089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35" name=""/>
          <p:cNvSpPr/>
          <p:nvPr/>
        </p:nvSpPr>
        <p:spPr>
          <a:xfrm>
            <a:off x="4572000" y="137160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19760" y="1281240"/>
            <a:ext cx="13644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818320" y="1371600"/>
            <a:ext cx="1396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15080" y="2619360"/>
            <a:ext cx="136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813280" y="2709720"/>
            <a:ext cx="1396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33680" y="33498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55640" y="428148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55640" y="290988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2" idx="3"/>
            <a:endCxn id="140" idx="0"/>
          </p:cNvCxnSpPr>
          <p:nvPr/>
        </p:nvCxnSpPr>
        <p:spPr>
          <a:xfrm>
            <a:off x="3220560" y="3138120"/>
            <a:ext cx="785160" cy="213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44" name=""/>
          <p:cNvCxnSpPr>
            <a:stCxn id="141" idx="3"/>
            <a:endCxn id="140" idx="2"/>
          </p:cNvCxnSpPr>
          <p:nvPr/>
        </p:nvCxnSpPr>
        <p:spPr>
          <a:xfrm flipV="1">
            <a:off x="3220560" y="4263840"/>
            <a:ext cx="785160" cy="244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45" name=""/>
          <p:cNvSpPr/>
          <p:nvPr/>
        </p:nvSpPr>
        <p:spPr>
          <a:xfrm>
            <a:off x="4579920" y="1812960"/>
            <a:ext cx="40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89640" y="3557520"/>
            <a:ext cx="406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87800" y="1812960"/>
            <a:ext cx="1800" cy="174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2709720"/>
            <a:ext cx="965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03236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19760" y="3940200"/>
            <a:ext cx="136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818320" y="4032360"/>
            <a:ext cx="13968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89680" y="1289160"/>
            <a:ext cx="13644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987520" y="1379520"/>
            <a:ext cx="1400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85000" y="2627280"/>
            <a:ext cx="136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985000" y="2717640"/>
            <a:ext cx="1396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89680" y="3948120"/>
            <a:ext cx="136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987520" y="4040280"/>
            <a:ext cx="1400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04880" y="137160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3"/>
            <a:endCxn id="130" idx="1"/>
          </p:cNvCxnSpPr>
          <p:nvPr/>
        </p:nvCxnSpPr>
        <p:spPr>
          <a:xfrm>
            <a:off x="3169800" y="1600200"/>
            <a:ext cx="26100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60" name=""/>
          <p:cNvSpPr/>
          <p:nvPr/>
        </p:nvSpPr>
        <p:spPr>
          <a:xfrm>
            <a:off x="1662120" y="358308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60" idx="3"/>
            <a:endCxn id="140" idx="1"/>
          </p:cNvCxnSpPr>
          <p:nvPr/>
        </p:nvCxnSpPr>
        <p:spPr>
          <a:xfrm flipV="1">
            <a:off x="3227040" y="3806640"/>
            <a:ext cx="20700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62" name=""/>
          <p:cNvSpPr/>
          <p:nvPr/>
        </p:nvSpPr>
        <p:spPr>
          <a:xfrm>
            <a:off x="2768760" y="4397400"/>
            <a:ext cx="3603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51280" y="4529160"/>
            <a:ext cx="108000" cy="149040"/>
          </a:xfrm>
          <a:custGeom>
            <a:avLst/>
            <a:gdLst/>
            <a:ahLst/>
            <a:rect l="l" t="t" r="r" b="b"/>
            <a:pathLst>
              <a:path w="301" h="415">
                <a:moveTo>
                  <a:pt x="0" y="207"/>
                </a:moveTo>
                <a:cubicBezTo>
                  <a:pt x="92" y="276"/>
                  <a:pt x="184" y="345"/>
                  <a:pt x="277" y="414"/>
                </a:cubicBezTo>
                <a:lnTo>
                  <a:pt x="0" y="207"/>
                </a:lnTo>
                <a:close/>
                <a:moveTo>
                  <a:pt x="23" y="207"/>
                </a:moveTo>
                <a:cubicBezTo>
                  <a:pt x="115" y="138"/>
                  <a:pt x="207" y="69"/>
                  <a:pt x="300" y="0"/>
                </a:cubicBezTo>
                <a:lnTo>
                  <a:pt x="23" y="207"/>
                </a:lnTo>
                <a:close/>
                <a:moveTo>
                  <a:pt x="277" y="22"/>
                </a:moveTo>
                <a:cubicBezTo>
                  <a:pt x="277" y="152"/>
                  <a:pt x="277" y="282"/>
                  <a:pt x="277" y="414"/>
                </a:cubicBezTo>
                <a:lnTo>
                  <a:pt x="277" y="2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60640" y="4537080"/>
            <a:ext cx="180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742840" y="4611600"/>
            <a:ext cx="219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51000" y="4603680"/>
            <a:ext cx="82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9120" y="440208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99840" y="4286160"/>
            <a:ext cx="10008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8V to -5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86200" y="4494240"/>
            <a:ext cx="4932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1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5880" y="451332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17640" y="801720"/>
            <a:ext cx="3765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17800" y="928800"/>
            <a:ext cx="108000" cy="149040"/>
          </a:xfrm>
          <a:custGeom>
            <a:avLst/>
            <a:gdLst/>
            <a:ahLst/>
            <a:rect l="l" t="t" r="r" b="b"/>
            <a:pathLst>
              <a:path w="301" h="415">
                <a:moveTo>
                  <a:pt x="300" y="207"/>
                </a:moveTo>
                <a:cubicBezTo>
                  <a:pt x="208" y="276"/>
                  <a:pt x="116" y="345"/>
                  <a:pt x="23" y="414"/>
                </a:cubicBezTo>
                <a:lnTo>
                  <a:pt x="300" y="207"/>
                </a:lnTo>
                <a:close/>
                <a:moveTo>
                  <a:pt x="277" y="207"/>
                </a:moveTo>
                <a:cubicBezTo>
                  <a:pt x="185" y="138"/>
                  <a:pt x="93" y="69"/>
                  <a:pt x="0" y="0"/>
                </a:cubicBezTo>
                <a:lnTo>
                  <a:pt x="277" y="207"/>
                </a:lnTo>
                <a:close/>
                <a:moveTo>
                  <a:pt x="23" y="22"/>
                </a:moveTo>
                <a:cubicBezTo>
                  <a:pt x="23" y="152"/>
                  <a:pt x="23" y="282"/>
                  <a:pt x="23" y="414"/>
                </a:cubicBezTo>
                <a:lnTo>
                  <a:pt x="23" y="2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17880" y="936720"/>
            <a:ext cx="144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07920" y="101124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17880" y="100332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94200" y="80316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68880" y="685800"/>
            <a:ext cx="10706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28V to +5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3440" y="895320"/>
            <a:ext cx="5281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1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92400" y="91440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51120" y="3025800"/>
            <a:ext cx="36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43360" y="3152880"/>
            <a:ext cx="107640" cy="149040"/>
          </a:xfrm>
          <a:custGeom>
            <a:avLst/>
            <a:gdLst/>
            <a:ahLst/>
            <a:rect l="l" t="t" r="r" b="b"/>
            <a:pathLst>
              <a:path w="301" h="415">
                <a:moveTo>
                  <a:pt x="300" y="207"/>
                </a:moveTo>
                <a:cubicBezTo>
                  <a:pt x="208" y="276"/>
                  <a:pt x="116" y="345"/>
                  <a:pt x="23" y="414"/>
                </a:cubicBezTo>
                <a:lnTo>
                  <a:pt x="300" y="207"/>
                </a:lnTo>
                <a:close/>
                <a:moveTo>
                  <a:pt x="277" y="207"/>
                </a:moveTo>
                <a:cubicBezTo>
                  <a:pt x="185" y="138"/>
                  <a:pt x="93" y="69"/>
                  <a:pt x="0" y="0"/>
                </a:cubicBezTo>
                <a:lnTo>
                  <a:pt x="277" y="207"/>
                </a:lnTo>
                <a:close/>
                <a:moveTo>
                  <a:pt x="23" y="22"/>
                </a:moveTo>
                <a:cubicBezTo>
                  <a:pt x="23" y="152"/>
                  <a:pt x="23" y="282"/>
                  <a:pt x="23" y="414"/>
                </a:cubicBezTo>
                <a:lnTo>
                  <a:pt x="23" y="2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3080" y="3160800"/>
            <a:ext cx="180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733840" y="323532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3080" y="3227400"/>
            <a:ext cx="82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19400" y="302580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94440" y="2909880"/>
            <a:ext cx="10706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28V to +5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79000" y="3117960"/>
            <a:ext cx="5281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1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17960" y="313704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25560" y="2170080"/>
            <a:ext cx="360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09880" y="2300400"/>
            <a:ext cx="108000" cy="149040"/>
          </a:xfrm>
          <a:custGeom>
            <a:avLst/>
            <a:gdLst/>
            <a:ahLst/>
            <a:rect l="l" t="t" r="r" b="b"/>
            <a:pathLst>
              <a:path w="301" h="415">
                <a:moveTo>
                  <a:pt x="0" y="207"/>
                </a:moveTo>
                <a:cubicBezTo>
                  <a:pt x="92" y="276"/>
                  <a:pt x="184" y="345"/>
                  <a:pt x="277" y="414"/>
                </a:cubicBezTo>
                <a:lnTo>
                  <a:pt x="0" y="207"/>
                </a:lnTo>
                <a:close/>
                <a:moveTo>
                  <a:pt x="23" y="207"/>
                </a:moveTo>
                <a:cubicBezTo>
                  <a:pt x="115" y="138"/>
                  <a:pt x="207" y="69"/>
                  <a:pt x="300" y="0"/>
                </a:cubicBezTo>
                <a:lnTo>
                  <a:pt x="23" y="207"/>
                </a:lnTo>
                <a:close/>
                <a:moveTo>
                  <a:pt x="277" y="22"/>
                </a:moveTo>
                <a:cubicBezTo>
                  <a:pt x="277" y="152"/>
                  <a:pt x="277" y="282"/>
                  <a:pt x="277" y="414"/>
                </a:cubicBezTo>
                <a:lnTo>
                  <a:pt x="277" y="2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17800" y="2308320"/>
            <a:ext cx="144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700360" y="238284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09960" y="237492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86280" y="217476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58440" y="2057400"/>
            <a:ext cx="10008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8V to -5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43360" y="2266920"/>
            <a:ext cx="4932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1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84480" y="228600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17080" y="3635280"/>
            <a:ext cx="822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90080" y="1424160"/>
            <a:ext cx="822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44640" y="3627360"/>
            <a:ext cx="807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30240" y="1432080"/>
            <a:ext cx="807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12320" y="3278160"/>
            <a:ext cx="352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59120" y="3735360"/>
            <a:ext cx="282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95040" y="1066680"/>
            <a:ext cx="352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3280" y="1523880"/>
            <a:ext cx="282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26120" y="1379520"/>
            <a:ext cx="47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18200" y="2717640"/>
            <a:ext cx="473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18200" y="4040280"/>
            <a:ext cx="47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89240" y="290520"/>
            <a:ext cx="502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79800" y="390600"/>
            <a:ext cx="805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92960" y="2717640"/>
            <a:ext cx="191880" cy="304920"/>
          </a:xfrm>
          <a:custGeom>
            <a:avLst/>
            <a:gdLst/>
            <a:ahLst/>
            <a:rect l="l" t="t" r="r" b="b"/>
            <a:pathLst>
              <a:path w="532" h="845">
                <a:moveTo>
                  <a:pt x="277" y="0"/>
                </a:moveTo>
                <a:cubicBezTo>
                  <a:pt x="277" y="192"/>
                  <a:pt x="277" y="384"/>
                  <a:pt x="277" y="578"/>
                </a:cubicBezTo>
                <a:lnTo>
                  <a:pt x="277" y="0"/>
                </a:lnTo>
                <a:close/>
                <a:moveTo>
                  <a:pt x="0" y="578"/>
                </a:moveTo>
                <a:cubicBezTo>
                  <a:pt x="177" y="578"/>
                  <a:pt x="354" y="578"/>
                  <a:pt x="531" y="578"/>
                </a:cubicBezTo>
                <a:lnTo>
                  <a:pt x="0" y="578"/>
                </a:lnTo>
                <a:close/>
                <a:moveTo>
                  <a:pt x="138" y="716"/>
                </a:moveTo>
                <a:cubicBezTo>
                  <a:pt x="230" y="716"/>
                  <a:pt x="322" y="716"/>
                  <a:pt x="415" y="716"/>
                </a:cubicBezTo>
                <a:lnTo>
                  <a:pt x="138" y="716"/>
                </a:lnTo>
                <a:close/>
                <a:moveTo>
                  <a:pt x="209" y="844"/>
                </a:moveTo>
                <a:cubicBezTo>
                  <a:pt x="255" y="844"/>
                  <a:pt x="301" y="844"/>
                  <a:pt x="348" y="844"/>
                </a:cubicBezTo>
                <a:lnTo>
                  <a:pt x="209" y="84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61320" y="3857760"/>
            <a:ext cx="563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±25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51600" y="1255680"/>
            <a:ext cx="563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±25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03480" y="5370480"/>
            <a:ext cx="45057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tended Basic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VI adjustabl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±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25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il voltages set to +30V and -3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429000" y="1143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27200" y="205740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27200" y="68580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7" idx="3"/>
            <a:endCxn id="215" idx="0"/>
          </p:cNvCxnSpPr>
          <p:nvPr/>
        </p:nvCxnSpPr>
        <p:spPr>
          <a:xfrm>
            <a:off x="3192120" y="914040"/>
            <a:ext cx="8089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19" name=""/>
          <p:cNvCxnSpPr>
            <a:stCxn id="216" idx="3"/>
            <a:endCxn id="215" idx="2"/>
          </p:cNvCxnSpPr>
          <p:nvPr/>
        </p:nvCxnSpPr>
        <p:spPr>
          <a:xfrm flipV="1">
            <a:off x="3192120" y="2056680"/>
            <a:ext cx="8089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20" name=""/>
          <p:cNvSpPr/>
          <p:nvPr/>
        </p:nvSpPr>
        <p:spPr>
          <a:xfrm>
            <a:off x="4572000" y="137160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19760" y="1281240"/>
            <a:ext cx="13644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818320" y="1371600"/>
            <a:ext cx="1396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15080" y="2619360"/>
            <a:ext cx="136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5813280" y="2709720"/>
            <a:ext cx="1396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33680" y="33498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55640" y="428148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55640" y="290988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7" idx="3"/>
            <a:endCxn id="225" idx="0"/>
          </p:cNvCxnSpPr>
          <p:nvPr/>
        </p:nvCxnSpPr>
        <p:spPr>
          <a:xfrm>
            <a:off x="3220560" y="3138120"/>
            <a:ext cx="785160" cy="213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29" name=""/>
          <p:cNvCxnSpPr>
            <a:stCxn id="226" idx="3"/>
            <a:endCxn id="225" idx="2"/>
          </p:cNvCxnSpPr>
          <p:nvPr/>
        </p:nvCxnSpPr>
        <p:spPr>
          <a:xfrm flipV="1">
            <a:off x="3220560" y="4263840"/>
            <a:ext cx="785160" cy="244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30" name=""/>
          <p:cNvSpPr/>
          <p:nvPr/>
        </p:nvSpPr>
        <p:spPr>
          <a:xfrm>
            <a:off x="4579920" y="1812960"/>
            <a:ext cx="40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89640" y="3557520"/>
            <a:ext cx="406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87800" y="1812960"/>
            <a:ext cx="1800" cy="174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87800" y="2709720"/>
            <a:ext cx="965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0" y="403236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19760" y="3940200"/>
            <a:ext cx="136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818320" y="4032360"/>
            <a:ext cx="13968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89680" y="1289160"/>
            <a:ext cx="13644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987520" y="1379520"/>
            <a:ext cx="1400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85000" y="2627280"/>
            <a:ext cx="136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985000" y="2717640"/>
            <a:ext cx="1396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89680" y="3948120"/>
            <a:ext cx="136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987520" y="4040280"/>
            <a:ext cx="1400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4880" y="137160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15" idx="1"/>
          </p:cNvCxnSpPr>
          <p:nvPr/>
        </p:nvCxnSpPr>
        <p:spPr>
          <a:xfrm>
            <a:off x="3169800" y="1600200"/>
            <a:ext cx="26100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45" name=""/>
          <p:cNvSpPr/>
          <p:nvPr/>
        </p:nvSpPr>
        <p:spPr>
          <a:xfrm>
            <a:off x="1662120" y="358308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5" idx="3"/>
            <a:endCxn id="225" idx="1"/>
          </p:cNvCxnSpPr>
          <p:nvPr/>
        </p:nvCxnSpPr>
        <p:spPr>
          <a:xfrm flipV="1">
            <a:off x="3227040" y="3806640"/>
            <a:ext cx="20700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47" name=""/>
          <p:cNvSpPr/>
          <p:nvPr/>
        </p:nvSpPr>
        <p:spPr>
          <a:xfrm>
            <a:off x="2751120" y="4397400"/>
            <a:ext cx="3762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51280" y="4529160"/>
            <a:ext cx="108000" cy="149040"/>
          </a:xfrm>
          <a:custGeom>
            <a:avLst/>
            <a:gdLst/>
            <a:ahLst/>
            <a:rect l="l" t="t" r="r" b="b"/>
            <a:pathLst>
              <a:path w="301" h="415">
                <a:moveTo>
                  <a:pt x="0" y="207"/>
                </a:moveTo>
                <a:cubicBezTo>
                  <a:pt x="92" y="276"/>
                  <a:pt x="184" y="345"/>
                  <a:pt x="277" y="414"/>
                </a:cubicBezTo>
                <a:lnTo>
                  <a:pt x="0" y="207"/>
                </a:lnTo>
                <a:close/>
                <a:moveTo>
                  <a:pt x="23" y="207"/>
                </a:moveTo>
                <a:cubicBezTo>
                  <a:pt x="115" y="138"/>
                  <a:pt x="207" y="69"/>
                  <a:pt x="300" y="0"/>
                </a:cubicBezTo>
                <a:lnTo>
                  <a:pt x="23" y="207"/>
                </a:lnTo>
                <a:close/>
                <a:moveTo>
                  <a:pt x="277" y="22"/>
                </a:moveTo>
                <a:cubicBezTo>
                  <a:pt x="277" y="152"/>
                  <a:pt x="277" y="282"/>
                  <a:pt x="277" y="414"/>
                </a:cubicBezTo>
                <a:lnTo>
                  <a:pt x="277" y="2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60640" y="4537080"/>
            <a:ext cx="180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742840" y="4611600"/>
            <a:ext cx="219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51000" y="4603680"/>
            <a:ext cx="82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9120" y="440208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9840" y="4286160"/>
            <a:ext cx="10008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8V to -5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86200" y="4494240"/>
            <a:ext cx="4932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1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5880" y="451332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701800" y="801720"/>
            <a:ext cx="39384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17800" y="928800"/>
            <a:ext cx="108000" cy="149040"/>
          </a:xfrm>
          <a:custGeom>
            <a:avLst/>
            <a:gdLst/>
            <a:ahLst/>
            <a:rect l="l" t="t" r="r" b="b"/>
            <a:pathLst>
              <a:path w="301" h="415">
                <a:moveTo>
                  <a:pt x="300" y="207"/>
                </a:moveTo>
                <a:cubicBezTo>
                  <a:pt x="208" y="276"/>
                  <a:pt x="116" y="345"/>
                  <a:pt x="23" y="414"/>
                </a:cubicBezTo>
                <a:lnTo>
                  <a:pt x="300" y="207"/>
                </a:lnTo>
                <a:close/>
                <a:moveTo>
                  <a:pt x="277" y="207"/>
                </a:moveTo>
                <a:cubicBezTo>
                  <a:pt x="185" y="138"/>
                  <a:pt x="93" y="69"/>
                  <a:pt x="0" y="0"/>
                </a:cubicBezTo>
                <a:lnTo>
                  <a:pt x="277" y="207"/>
                </a:lnTo>
                <a:close/>
                <a:moveTo>
                  <a:pt x="23" y="22"/>
                </a:moveTo>
                <a:cubicBezTo>
                  <a:pt x="23" y="152"/>
                  <a:pt x="23" y="282"/>
                  <a:pt x="23" y="414"/>
                </a:cubicBezTo>
                <a:lnTo>
                  <a:pt x="23" y="2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17880" y="936720"/>
            <a:ext cx="144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707920" y="101124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17880" y="100332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94200" y="80316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68880" y="685800"/>
            <a:ext cx="10706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28V to +5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53440" y="895320"/>
            <a:ext cx="5281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1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92400" y="91440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43360" y="3152880"/>
            <a:ext cx="107640" cy="149040"/>
          </a:xfrm>
          <a:custGeom>
            <a:avLst/>
            <a:gdLst/>
            <a:ahLst/>
            <a:rect l="l" t="t" r="r" b="b"/>
            <a:pathLst>
              <a:path w="301" h="415">
                <a:moveTo>
                  <a:pt x="300" y="207"/>
                </a:moveTo>
                <a:cubicBezTo>
                  <a:pt x="208" y="276"/>
                  <a:pt x="116" y="345"/>
                  <a:pt x="23" y="414"/>
                </a:cubicBezTo>
                <a:lnTo>
                  <a:pt x="300" y="207"/>
                </a:lnTo>
                <a:close/>
                <a:moveTo>
                  <a:pt x="277" y="207"/>
                </a:moveTo>
                <a:cubicBezTo>
                  <a:pt x="185" y="138"/>
                  <a:pt x="93" y="69"/>
                  <a:pt x="0" y="0"/>
                </a:cubicBezTo>
                <a:lnTo>
                  <a:pt x="277" y="207"/>
                </a:lnTo>
                <a:close/>
                <a:moveTo>
                  <a:pt x="23" y="22"/>
                </a:moveTo>
                <a:cubicBezTo>
                  <a:pt x="23" y="152"/>
                  <a:pt x="23" y="282"/>
                  <a:pt x="23" y="414"/>
                </a:cubicBezTo>
                <a:lnTo>
                  <a:pt x="23" y="2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3080" y="3160800"/>
            <a:ext cx="180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733840" y="323532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3080" y="3227400"/>
            <a:ext cx="82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19400" y="302580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94440" y="2909880"/>
            <a:ext cx="10706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28V to +5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79000" y="3117960"/>
            <a:ext cx="5281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1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17960" y="313704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52640" y="2100240"/>
            <a:ext cx="2336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09880" y="2300400"/>
            <a:ext cx="108000" cy="149040"/>
          </a:xfrm>
          <a:custGeom>
            <a:avLst/>
            <a:gdLst/>
            <a:ahLst/>
            <a:rect l="l" t="t" r="r" b="b"/>
            <a:pathLst>
              <a:path w="301" h="415">
                <a:moveTo>
                  <a:pt x="0" y="207"/>
                </a:moveTo>
                <a:cubicBezTo>
                  <a:pt x="92" y="276"/>
                  <a:pt x="184" y="345"/>
                  <a:pt x="277" y="414"/>
                </a:cubicBezTo>
                <a:lnTo>
                  <a:pt x="0" y="207"/>
                </a:lnTo>
                <a:close/>
                <a:moveTo>
                  <a:pt x="23" y="207"/>
                </a:moveTo>
                <a:cubicBezTo>
                  <a:pt x="115" y="138"/>
                  <a:pt x="207" y="69"/>
                  <a:pt x="300" y="0"/>
                </a:cubicBezTo>
                <a:lnTo>
                  <a:pt x="23" y="207"/>
                </a:lnTo>
                <a:close/>
                <a:moveTo>
                  <a:pt x="277" y="22"/>
                </a:moveTo>
                <a:cubicBezTo>
                  <a:pt x="277" y="152"/>
                  <a:pt x="277" y="282"/>
                  <a:pt x="277" y="414"/>
                </a:cubicBezTo>
                <a:lnTo>
                  <a:pt x="277" y="2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17800" y="2308320"/>
            <a:ext cx="144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701800" y="2166840"/>
            <a:ext cx="136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700360" y="238284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09960" y="237492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86280" y="217476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58440" y="2057400"/>
            <a:ext cx="10008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8V to -5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43360" y="2266920"/>
            <a:ext cx="4932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1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84480" y="228600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17080" y="3635280"/>
            <a:ext cx="822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90080" y="1424160"/>
            <a:ext cx="822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44640" y="3627360"/>
            <a:ext cx="807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30240" y="1432080"/>
            <a:ext cx="807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12320" y="3278160"/>
            <a:ext cx="352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59120" y="3735360"/>
            <a:ext cx="282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95040" y="1066680"/>
            <a:ext cx="352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43280" y="1523880"/>
            <a:ext cx="282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26120" y="1379520"/>
            <a:ext cx="47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18200" y="2717640"/>
            <a:ext cx="473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18200" y="4040280"/>
            <a:ext cx="47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89240" y="290520"/>
            <a:ext cx="502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79800" y="390600"/>
            <a:ext cx="805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92960" y="2717640"/>
            <a:ext cx="191880" cy="304920"/>
          </a:xfrm>
          <a:custGeom>
            <a:avLst/>
            <a:gdLst/>
            <a:ahLst/>
            <a:rect l="l" t="t" r="r" b="b"/>
            <a:pathLst>
              <a:path w="532" h="845">
                <a:moveTo>
                  <a:pt x="277" y="0"/>
                </a:moveTo>
                <a:cubicBezTo>
                  <a:pt x="277" y="192"/>
                  <a:pt x="277" y="384"/>
                  <a:pt x="277" y="578"/>
                </a:cubicBezTo>
                <a:lnTo>
                  <a:pt x="277" y="0"/>
                </a:lnTo>
                <a:close/>
                <a:moveTo>
                  <a:pt x="0" y="578"/>
                </a:moveTo>
                <a:cubicBezTo>
                  <a:pt x="177" y="578"/>
                  <a:pt x="354" y="578"/>
                  <a:pt x="531" y="578"/>
                </a:cubicBezTo>
                <a:lnTo>
                  <a:pt x="0" y="578"/>
                </a:lnTo>
                <a:close/>
                <a:moveTo>
                  <a:pt x="138" y="716"/>
                </a:moveTo>
                <a:cubicBezTo>
                  <a:pt x="230" y="716"/>
                  <a:pt x="322" y="716"/>
                  <a:pt x="415" y="716"/>
                </a:cubicBezTo>
                <a:lnTo>
                  <a:pt x="138" y="716"/>
                </a:lnTo>
                <a:close/>
                <a:moveTo>
                  <a:pt x="209" y="844"/>
                </a:moveTo>
                <a:cubicBezTo>
                  <a:pt x="255" y="844"/>
                  <a:pt x="301" y="844"/>
                  <a:pt x="348" y="844"/>
                </a:cubicBezTo>
                <a:lnTo>
                  <a:pt x="209" y="84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62400" y="3857760"/>
            <a:ext cx="1145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-50V TO +7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66080" y="1247760"/>
            <a:ext cx="105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+50V to -7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78560" y="5361120"/>
            <a:ext cx="51048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 Voltage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_1 adjustable +50V to -7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_2 adjustable -50V to +7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Rail voltage adjusted to +28V to +57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Rail voltage adjusted to -28V to -57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09880" y="2951280"/>
            <a:ext cx="23328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757240" y="3017880"/>
            <a:ext cx="13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_fore</cp:lastModifiedBy>
  <dcterms:modified xsi:type="dcterms:W3CDTF">2005-08-30T20:57:16Z</dcterms:modified>
  <cp:revision>1</cp:revision>
  <dc:subject/>
  <dc:title>PowerPoint Presentation</dc:title>
</cp:coreProperties>
</file>