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6428-D0D2-486A-A72F-90EAEFB7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809784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27240" y="4203000"/>
            <a:ext cx="809784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A0F1-1B82-4B63-8B11-A1B99B59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2724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7696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29CA-A761-4B07-8C3E-BC169F08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5040" y="195732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02840" y="195732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27240" y="420300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5040" y="420300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02840" y="420300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837B-B4E0-473B-9829-3C59250E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27240" y="1957320"/>
            <a:ext cx="809784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B873-67AF-4D72-8FEC-9322914D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809784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2E86-0085-4C3A-8DB5-10484401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2317-7EEE-4AEB-A171-D7AE1EF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C038-7E70-4F85-95D1-66C2DCEC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560" y="960120"/>
            <a:ext cx="908676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3480-61C2-4F58-ACC8-3373658E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724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ED6E-47A7-4E3C-8E60-3943F10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7696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7A1A-F2BD-4677-AA14-58DA83F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27240" y="4203000"/>
            <a:ext cx="809784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DB37-204D-4376-81DB-9F88507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137360"/>
            <a:ext cx="10080720" cy="4222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655640" y="108000"/>
            <a:ext cx="10080360" cy="4222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95520" y="57240"/>
            <a:ext cx="2333520" cy="33660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169920" y="7167240"/>
            <a:ext cx="11080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F2AA9-1BFD-49C2-9C2D-0161A1E9BF6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96960" y="163440"/>
            <a:ext cx="1800" cy="258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96960" y="7137360"/>
            <a:ext cx="1800" cy="21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2"/>
          </p:nvPr>
        </p:nvSpPr>
        <p:spPr>
          <a:xfrm>
            <a:off x="741240" y="7038720"/>
            <a:ext cx="30225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7889f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7889fb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3"/>
          </p:nvPr>
        </p:nvSpPr>
        <p:spPr>
          <a:xfrm>
            <a:off x="6324480" y="7038720"/>
            <a:ext cx="30225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7889fb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7889fb"/>
                </a:solidFill>
                <a:latin typeface="Arial"/>
                <a:ea typeface="MS P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227240" y="1957320"/>
            <a:ext cx="809784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228600" indent="-228600">
              <a:lnSpc>
                <a:spcPct val="96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2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47640" y="1116000"/>
            <a:ext cx="7574040" cy="2455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reakthrough Solution W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; the service will be signed soon at around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was sig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olution Ass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ssessment Tool, harvest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lution service assets have been rolled i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marter Industry Solutions industry solutions and asse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3880" y="3624120"/>
            <a:ext cx="7583400" cy="1263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 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was sig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539280"/>
            <a:ext cx="937584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3880" y="4956120"/>
            <a:ext cx="7583400" cy="11001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WW WAB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Design Wins:  Directly impact (Customer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published customer referen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Successfully run IAAA Partner Day. IDSAFDAFNew Technology and Industry Solution Workshop, with 1000 opportunities identif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Education: 5Q 1rewre02 resources from 322349 BPs trained, certifi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3880" y="6108840"/>
            <a:ext cx="7583400" cy="9460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69920"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ASSFDP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Supported demo on 2111 IMPT in Las, V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Successfully supported the Wsdfadade PoC on d the KdsfaPI monitoring solution asset and incorporate it with the latest IIFsdfa 1.sdfasd4 code. KdfaPI monitoring code will be merged to next release of prod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FEE7-B72F-47C5-911D-ADCC0167BD5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17:30Z</dcterms:created>
  <dc:creator/>
  <dc:description/>
  <dc:language>en-US</dc:language>
  <cp:lastModifiedBy>crystal</cp:lastModifiedBy>
  <cp:lastPrinted>2010-01-29T11:17:30Z</cp:lastPrinted>
  <dcterms:modified xsi:type="dcterms:W3CDTF">2012-07-10T05:48:56Z</dcterms:modified>
  <cp:revision>104</cp:revision>
  <dc:subject/>
  <dc:title>CDL UT All Hands and Celebration 2009</dc:title>
</cp:coreProperties>
</file>