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014-9DF0-4E18-BB4B-A7EAC41F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263-5EF3-455E-B7B6-8589F0D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B88-5CA7-4F43-9258-D4F269D8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234-A4F8-4F29-930E-A170B257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148-97A0-47B8-9380-D764A625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657-9D93-4406-B63C-E443749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CBA-0844-4257-9CB3-1952DF4B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F4C-E600-4A13-82B6-CE714C61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6D7-1F0E-4FEA-8324-5BC3A9B0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48E-BA09-47EC-B33D-135197E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F5A-F8B5-4AA4-AD50-0A1CC04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5B1-0671-4611-A965-4051C875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C4B1-7F96-4A47-AEC3-C990B0E4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636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ああああ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56360" y="3355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あああ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4005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ああああ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45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ＣＪＫあああああああああああああ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3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ＣＪＫああああ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ＣＪＫあああああ。１２３４５６７８９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5:05:59Z</dcterms:created>
  <dc:creator>twotop</dc:creator>
  <dc:description/>
  <dc:language>en-US</dc:language>
  <cp:lastModifiedBy>twotop</cp:lastModifiedBy>
  <dcterms:modified xsi:type="dcterms:W3CDTF">2006-11-08T06:02:55Z</dcterms:modified>
  <cp:revision>8</cp:revision>
  <dc:subject/>
  <dc:title>スライド 1</dc:title>
</cp:coreProperties>
</file>