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CDE-9854-4342-BDD9-4E0B6C7A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EA5-A975-4A79-B43C-D1EC1754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C81-5397-4CCF-A2DC-9839FB72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FE7-6D65-4EA5-9544-49F819BA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3A8-F119-4A49-9F87-74FA0110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363-7B6C-4B8A-98E6-35A768A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2D0-F3F4-4642-9718-CA87FFB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B3D-11AC-4648-ABF9-898D646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9E0-FE15-4EF8-B11B-9EEAB833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6F1-FD42-4216-A4DA-05C4543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B74-4027-40FD-BC4A-278D93E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94F-1D65-44CB-BA4C-2180955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613C-EB28-47B2-B3A3-9A0C62080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7920" y="2565360"/>
            <a:ext cx="297972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bc3f4"/>
                </a:solidFill>
                <a:latin typeface="Arial Black"/>
              </a:rPr>
              <a:t>Bla b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bc3f4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