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838080" y="2666880"/>
            <a:ext cx="8610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ＭＳ 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ＭＳ 明朝"/>
                <a:ea typeface="ＭＳ 明朝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ＭＳ 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ＭＳ 明朝"/>
                <a:ea typeface="ＭＳ 明朝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/>
    <p:sndAc>
      <p:stSnd>
        <p:snd r:embed="rId1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oyuki</cp:lastModifiedBy>
  <dcterms:modified xsi:type="dcterms:W3CDTF">2005-08-16T09:42:18Z</dcterms:modified>
  <cp:revision>11</cp:revision>
  <dc:subject/>
  <dc:title>PowerPoint プレゼンテーション</dc:title>
</cp:coreProperties>
</file>