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96400" y="742680"/>
            <a:ext cx="494676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S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0000" y="4710240"/>
            <a:ext cx="493416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0840" y="514440"/>
            <a:ext cx="640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9680" y="198360"/>
            <a:ext cx="2160720" cy="2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22840" y="9418680"/>
            <a:ext cx="2724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rpoS"/>
              </a:rPr>
              <a:t>&lt;date/time&gt;</a:t>
            </a:r>
            <a:r>
              <a:rPr b="0" lang="en-GB" sz="1200" spc="-1" strike="noStrike">
                <a:solidFill>
                  <a:srgbClr val="000000"/>
                </a:solidFill>
                <a:latin typeface="CorpoS"/>
              </a:rPr>
              <a:t> - Seite/Page </a:t>
            </a:r>
            <a:fld id="{81D03A07-4C52-470F-8E8B-2C99CA34CFD9}" type="slidenum">
              <a:rPr b="0" lang="en-GB" sz="12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" y="9588600"/>
            <a:ext cx="6443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96760" y="74304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00000" y="4709880"/>
            <a:ext cx="49356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DA8A-E616-4FEC-AC5E-85C6F0228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F328-16A2-451C-975C-C9086D110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7DCF-F94B-4970-9FC8-B2263C16A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508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508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C18B-FEC7-4699-B5A8-94A74CF38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80" y="685440"/>
            <a:ext cx="91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37F0-D975-4117-9A0D-AC1E324E4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508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508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B761-1846-4966-A7A0-498954086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2BA1-C434-43C7-8E7C-E5E7DE571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B3DF-C6DE-4288-914E-BCDFD2020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685440"/>
            <a:ext cx="91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8117-9FF6-44FD-8FF6-44D83B2DB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69F9-1F7E-4341-B9B6-ED285F8B7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7C0C-50BC-4B57-86D5-764C6B447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2457-E12E-4530-9242-0B889314D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9720" indent="-36972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2" marL="941400" indent="-282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3" marL="137160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4" marL="177948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5" marL="177948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6" marL="177948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814800" y="6603840"/>
            <a:ext cx="193500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4DE0D-FAF6-4C8A-B330-16ED4FEED767}" type="slidenum">
              <a:rPr b="0" lang="en-GB" sz="10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solidFill>
            <a:srgbClr val="a0c2dc"/>
          </a:solidFill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-3240"/>
            <a:ext cx="1440" cy="68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81120"/>
            <a:ext cx="914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295880"/>
            <a:ext cx="91440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605120"/>
            <a:ext cx="8058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" y="685440"/>
            <a:ext cx="9137520" cy="1143000"/>
          </a:xfrm>
          <a:prstGeom prst="rect">
            <a:avLst/>
          </a:prstGeom>
          <a:solidFill>
            <a:srgbClr val="a0c2dc"/>
          </a:solidFill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poS"/>
              </a:rPr>
              <a:t>bla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41280"/>
            <a:ext cx="82231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9720" indent="-3697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poS"/>
              </a:rPr>
              <a:t>blubb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poS"/>
              </a:rPr>
              <a:t>bbb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poS"/>
              </a:rPr>
              <a:t>ccc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poS"/>
              </a:rPr>
              <a:t>ddd.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DDC3-D270-4E6D-9128-5B556AA1B98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