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92D-B7AA-4F15-A912-0E5726B1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D9F-C0B6-4EDB-A5DC-4ADEB59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EBE-665A-4A6C-97BD-65B7EB87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CC2-693E-4D6D-B0BB-3D042366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84A-DF76-4B6C-BDB1-CF3F04B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071-FE92-4815-9D33-92ADC294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675-9B4A-47C9-8491-5544325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149-E55C-4748-984F-84778F33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822-EDF0-4E36-9327-46E83A9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58F-9939-4857-81C2-D3EA325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F26-D7C5-49AD-AA68-AAEAD92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3DC-561F-4927-A0C5-44C7426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EF3-6A1A-4FE7-807B-94D59572AC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Placeholder 4"/>
          <p:cNvSpPr/>
          <p:nvPr/>
        </p:nvSpPr>
        <p:spPr>
          <a:xfrm>
            <a:off x="785880" y="1643040"/>
            <a:ext cx="5786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ticipation in current operator’s provision of rewards to encourage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creased spend</a:t>
            </a:r>
            <a:r>
              <a:rPr b="1" i="1" lang="en-GB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5" t="0" r="25" b="0"/>
          <a:stretch/>
        </p:blipFill>
        <p:spPr>
          <a:xfrm>
            <a:off x="736560" y="2235240"/>
            <a:ext cx="5956200" cy="290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0" y="214200"/>
            <a:ext cx="75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There is a clear opportunity for reward programmes to gain greater traction and impact subscriber behaviour as most mobile subscribers are not yet part of an operator led rewar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71840" y="13572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hich types of mobile loyalty schemes are most appealing to subscribers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(rank from 1 to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hart 2" descr=""/>
          <p:cNvPicPr/>
          <p:nvPr/>
        </p:nvPicPr>
        <p:blipFill>
          <a:blip r:embed="rId1"/>
          <a:stretch/>
        </p:blipFill>
        <p:spPr>
          <a:xfrm>
            <a:off x="2584440" y="1736640"/>
            <a:ext cx="4187880" cy="44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2142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Don’t assume that the same incentives and scheme structures will work equally well across all markets and subscriber segme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21420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Reward schemes, when done right, have the desired impact on subscriber behaviour – reducing churn in developed markets, increasing spend in emerging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8"/>
          <p:cNvSpPr/>
          <p:nvPr/>
        </p:nvSpPr>
        <p:spPr>
          <a:xfrm>
            <a:off x="1920960" y="127476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b">
            <a:noAutofit/>
          </a:bodyPr>
          <a:p>
            <a:pPr algn="ctr"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 of SIM cards used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rcRect l="0" t="329" r="0" b="329"/>
          <a:stretch/>
        </p:blipFill>
        <p:spPr>
          <a:xfrm>
            <a:off x="1928880" y="1714680"/>
            <a:ext cx="423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2:26:17Z</dcterms:created>
  <dc:creator>hye-joo.kim</dc:creator>
  <dc:description/>
  <dc:language>en-US</dc:language>
  <cp:lastModifiedBy>Italo Vignoli</cp:lastModifiedBy>
  <dcterms:modified xsi:type="dcterms:W3CDTF">2011-06-21T14:41:10Z</dcterms:modified>
  <cp:revision>1</cp:revision>
  <dc:subject/>
  <dc:title>Slide 1</dc:title>
</cp:coreProperties>
</file>