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E8E-B7B4-40B8-8015-F02190E2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C25-60DD-45AB-9493-EEA54FAA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03A-9010-47FB-9BE6-A63BF6EB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54E-5D89-42DC-B171-B78ECD8A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C03-75C5-4F79-BBAE-97B4290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EDC-8B88-47AC-A0D8-BD8D272C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DDD-E536-4CF5-91AB-3B1C8093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829-3EA4-4D6F-AE4F-5969C8A0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2E4-6DBE-4F24-BB7F-69B142B5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EE7-0BE8-4646-9ED8-6B47B07C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24B-F857-4DC8-B5A5-B824DFA8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68D-EC9F-4AF8-95F2-A76C745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12FA-97A8-48C3-A8F5-70C318691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43280" y="1652760"/>
          <a:ext cx="5257800" cy="35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652760"/>
                    <a:ext cx="5257800" cy="35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08:38:56Z</dcterms:created>
  <dc:creator>semicond</dc:creator>
  <dc:description/>
  <dc:language>en-US</dc:language>
  <cp:lastModifiedBy>semicond</cp:lastModifiedBy>
  <dcterms:modified xsi:type="dcterms:W3CDTF">2010-12-24T08:39:10Z</dcterms:modified>
  <cp:revision>1</cp:revision>
  <dc:subject/>
  <dc:title>Слайд 1</dc:title>
</cp:coreProperties>
</file>