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FCF-4D5B-41B9-930C-D73AC30A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6E4-FA0F-4E01-B78C-10BC0802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5C2-071A-44DC-B545-0B36F101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86E-BCCA-4094-ADA9-D67C82FE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4FC-8CB8-428B-8810-7A03D69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575-AED1-4E8E-A42C-7C3F969A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001-B307-49EE-A023-A5DAD0A3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8D7-B330-42DE-A6A2-8D74676A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3B4-4C4A-476A-AB0F-B2E0B9CD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523-0E34-4800-A33C-422D2BAD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187-D4A1-488C-81BA-5735D6EB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CE8-D1C2-40DF-AE06-F9B37DB0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82B4-F5BD-48F4-BA54-CF3B88792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685800"/>
            <a:ext cx="4051080" cy="4267080"/>
          </a:xfrm>
          <a:custGeom>
            <a:avLst/>
            <a:gdLst/>
            <a:ahLst/>
            <a:rect l="l" t="t" r="r" b="b"/>
            <a:pathLst>
              <a:path w="2552" h="2688">
                <a:moveTo>
                  <a:pt x="1504" y="848"/>
                </a:moveTo>
                <a:cubicBezTo>
                  <a:pt x="1280" y="864"/>
                  <a:pt x="1056" y="880"/>
                  <a:pt x="880" y="1088"/>
                </a:cubicBezTo>
                <a:cubicBezTo>
                  <a:pt x="704" y="1296"/>
                  <a:pt x="176" y="1880"/>
                  <a:pt x="448" y="2096"/>
                </a:cubicBezTo>
                <a:cubicBezTo>
                  <a:pt x="720" y="2312"/>
                  <a:pt x="2552" y="2688"/>
                  <a:pt x="2512" y="2384"/>
                </a:cubicBezTo>
                <a:cubicBezTo>
                  <a:pt x="2472" y="2080"/>
                  <a:pt x="416" y="544"/>
                  <a:pt x="208" y="272"/>
                </a:cubicBezTo>
                <a:cubicBezTo>
                  <a:pt x="0" y="0"/>
                  <a:pt x="632" y="376"/>
                  <a:pt x="1264" y="752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62320" y="1905120"/>
            <a:ext cx="4241520" cy="3124080"/>
          </a:xfrm>
          <a:custGeom>
            <a:avLst/>
            <a:gdLst/>
            <a:ahLst/>
            <a:rect l="l" t="t" r="r" b="b"/>
            <a:pathLst>
              <a:path w="2672" h="1968">
                <a:moveTo>
                  <a:pt x="256" y="384"/>
                </a:moveTo>
                <a:cubicBezTo>
                  <a:pt x="128" y="948"/>
                  <a:pt x="0" y="1512"/>
                  <a:pt x="352" y="1728"/>
                </a:cubicBezTo>
                <a:cubicBezTo>
                  <a:pt x="704" y="1944"/>
                  <a:pt x="2064" y="1968"/>
                  <a:pt x="2368" y="1680"/>
                </a:cubicBezTo>
                <a:cubicBezTo>
                  <a:pt x="2672" y="1392"/>
                  <a:pt x="2424" y="696"/>
                  <a:pt x="21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16000" y="1238400"/>
            <a:ext cx="3546720" cy="333360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cce7e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808080"/>
            </a:solidFill>
            <a:prstDash val="lgDash"/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1981080"/>
            <a:ext cx="5397480" cy="1917720"/>
          </a:xfrm>
          <a:custGeom>
            <a:avLst/>
            <a:gdLst/>
            <a:ahLst/>
            <a:rect l="l" t="t" r="r" b="b"/>
            <a:pathLst>
              <a:path w="3400" h="1208">
                <a:moveTo>
                  <a:pt x="24" y="216"/>
                </a:moveTo>
                <a:cubicBezTo>
                  <a:pt x="48" y="136"/>
                  <a:pt x="648" y="624"/>
                  <a:pt x="936" y="600"/>
                </a:cubicBezTo>
                <a:cubicBezTo>
                  <a:pt x="1224" y="576"/>
                  <a:pt x="1480" y="80"/>
                  <a:pt x="1752" y="72"/>
                </a:cubicBezTo>
                <a:cubicBezTo>
                  <a:pt x="2024" y="64"/>
                  <a:pt x="2296" y="552"/>
                  <a:pt x="2568" y="552"/>
                </a:cubicBezTo>
                <a:cubicBezTo>
                  <a:pt x="2840" y="552"/>
                  <a:pt x="3368" y="0"/>
                  <a:pt x="3384" y="72"/>
                </a:cubicBezTo>
                <a:cubicBezTo>
                  <a:pt x="3400" y="144"/>
                  <a:pt x="3096" y="816"/>
                  <a:pt x="2664" y="984"/>
                </a:cubicBezTo>
                <a:cubicBezTo>
                  <a:pt x="2232" y="1152"/>
                  <a:pt x="1232" y="1208"/>
                  <a:pt x="792" y="1080"/>
                </a:cubicBezTo>
                <a:cubicBezTo>
                  <a:pt x="352" y="952"/>
                  <a:pt x="0" y="296"/>
                  <a:pt x="24" y="216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16000" y="452520"/>
            <a:ext cx="3546720" cy="4119480"/>
          </a:xfrm>
          <a:custGeom>
            <a:avLst/>
            <a:gdLst/>
            <a:ahLst/>
            <a:rect l="l" t="t" r="r" b="b"/>
            <a:pathLst>
              <a:path w="2234" h="2595">
                <a:moveTo>
                  <a:pt x="2234" y="501"/>
                </a:moveTo>
                <a:cubicBezTo>
                  <a:pt x="2234" y="1545"/>
                  <a:pt x="2234" y="2595"/>
                  <a:pt x="2234" y="2595"/>
                </a:cubicBezTo>
                <a:lnTo>
                  <a:pt x="991" y="2589"/>
                </a:lnTo>
                <a:cubicBezTo>
                  <a:pt x="823" y="2589"/>
                  <a:pt x="0" y="2349"/>
                  <a:pt x="0" y="1557"/>
                </a:cubicBezTo>
                <a:cubicBezTo>
                  <a:pt x="0" y="765"/>
                  <a:pt x="757" y="495"/>
                  <a:pt x="985" y="501"/>
                </a:cubicBezTo>
                <a:lnTo>
                  <a:pt x="1779" y="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cce7e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808080"/>
            </a:solidFill>
            <a:prstDash val="lgDash"/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16000" y="193680"/>
            <a:ext cx="3546720" cy="4378320"/>
          </a:xfrm>
          <a:custGeom>
            <a:avLst/>
            <a:gdLst/>
            <a:ahLst/>
            <a:rect l="l" t="t" r="r" b="b"/>
            <a:pathLst>
              <a:path w="2234" h="2758">
                <a:moveTo>
                  <a:pt x="2098" y="0"/>
                </a:moveTo>
                <a:cubicBezTo>
                  <a:pt x="2098" y="1044"/>
                  <a:pt x="2234" y="2758"/>
                  <a:pt x="2234" y="2758"/>
                </a:cubicBezTo>
                <a:lnTo>
                  <a:pt x="991" y="2752"/>
                </a:lnTo>
                <a:cubicBezTo>
                  <a:pt x="823" y="2752"/>
                  <a:pt x="0" y="2512"/>
                  <a:pt x="0" y="1720"/>
                </a:cubicBezTo>
                <a:cubicBezTo>
                  <a:pt x="0" y="928"/>
                  <a:pt x="757" y="658"/>
                  <a:pt x="985" y="664"/>
                </a:cubicBezTo>
                <a:lnTo>
                  <a:pt x="1834" y="1403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cce7e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808080"/>
            </a:solidFill>
            <a:prstDash val="lgDash"/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07:05:45Z</dcterms:created>
  <dc:creator>lijiany</dc:creator>
  <dc:description/>
  <dc:language>en-US</dc:language>
  <cp:lastModifiedBy>lijiany</cp:lastModifiedBy>
  <dcterms:modified xsi:type="dcterms:W3CDTF">2012-06-29T07:08:19Z</dcterms:modified>
  <cp:revision>3</cp:revision>
  <dc:subject/>
  <dc:title>Slide 1</dc:title>
</cp:coreProperties>
</file>