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1430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A7AF-6A27-492F-B3E7-F3AA66986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2841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3986280"/>
            <a:ext cx="102841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E0CC-5676-4E92-BB93-0EB4C4DDD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98628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878800" y="398628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43E8-9E6E-4D57-98A0-9AED22F7E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86360" y="159984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63600" y="159984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398628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86360" y="398628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563600" y="398628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5684-DF42-459D-9375-42F82B7E8F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28412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A528-C641-49C3-8603-BE33DF8D09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284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A593-1B8D-432C-9CE5-CE90759D3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E2A1-21C8-4AAF-856E-E4A2BC547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3EF9-C444-412E-983E-8E67B1DC3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99840" y="6480"/>
            <a:ext cx="817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9D79-8756-474B-B8B8-767189AA4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398628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39B5-F55E-4855-BC63-2F1CBD04E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78800" y="398628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E1C6-A26B-4691-981F-589793278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3986280"/>
            <a:ext cx="102841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9B0E-E375-45BB-BC34-CC6B734CC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284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8069400" y="9845640"/>
            <a:ext cx="756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66"/>
              </a:solidFill>
              <a:latin typeface="Berlin Sans FB Dem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0287000" y="6400800"/>
            <a:ext cx="7588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95EF2-D9B7-4941-8789-5C6D0BBEEE28}" type="slidenum">
              <a:rPr b="1" lang="en-GB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800" spc="-1" strike="noStrike">
              <a:solidFill>
                <a:srgbClr val="ffff66"/>
              </a:solidFill>
              <a:latin typeface="Berlin Sans FB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00200" y="152280"/>
            <a:ext cx="817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Example slide</a:t>
            </a:r>
            <a:endParaRPr b="1" lang="en-US" sz="4000" spc="-1" strike="noStrike">
              <a:solidFill>
                <a:srgbClr val="ffff66"/>
              </a:solidFill>
              <a:latin typeface="Berlin Sans FB Demi"/>
            </a:endParaRPr>
          </a:p>
        </p:txBody>
      </p:sp>
      <p:sp>
        <p:nvSpPr>
          <p:cNvPr id="41" name=""/>
          <p:cNvSpPr/>
          <p:nvPr/>
        </p:nvSpPr>
        <p:spPr>
          <a:xfrm>
            <a:off x="609480" y="1600200"/>
            <a:ext cx="10287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This are the bullets defined in the master slide</a:t>
            </a:r>
            <a:endParaRPr b="1" lang="en-US" sz="2600" spc="-1" strike="noStrike">
              <a:solidFill>
                <a:srgbClr val="ffff66"/>
              </a:solidFill>
              <a:latin typeface="Berlin Sans FB Demi"/>
            </a:endParaRPr>
          </a:p>
          <a:p>
            <a:pPr lvl="1" marL="739800" indent="-282600">
              <a:lnSpc>
                <a:spcPct val="100000"/>
              </a:lnSpc>
              <a:spcBef>
                <a:spcPts val="751"/>
              </a:spcBef>
              <a:buClr>
                <a:srgbClr val="99ccff"/>
              </a:buClr>
              <a:buFont typeface="Comic Sans MS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lah blah blah</a:t>
            </a:r>
            <a:endParaRPr b="1" lang="en-US" sz="2800" spc="-1" strike="noStrike">
              <a:solidFill>
                <a:srgbClr val="ffff66"/>
              </a:solidFill>
              <a:latin typeface="Berlin Sans FB Demi"/>
            </a:endParaRPr>
          </a:p>
          <a:p>
            <a:pPr lvl="2" marL="1082520" indent="-225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Blep blep blep</a:t>
            </a:r>
            <a:endParaRPr b="1" lang="en-US" sz="2800" spc="-1" strike="noStrike">
              <a:solidFill>
                <a:srgbClr val="ffff66"/>
              </a:solidFill>
              <a:latin typeface="Berlin Sans FB Dem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endParaRPr b="1" lang="en-US" sz="2800" spc="-1" strike="noStrike">
              <a:solidFill>
                <a:srgbClr val="ffff66"/>
              </a:solidFill>
              <a:latin typeface="Berlin Sans FB Dem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But now it is impossible to use this format anymore...</a:t>
            </a:r>
            <a:endParaRPr b="1" lang="en-US" sz="2800" spc="-1" strike="noStrike">
              <a:solidFill>
                <a:srgbClr val="ffff66"/>
              </a:solidFill>
              <a:latin typeface="Berlin Sans FB De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4320"/>
            <a:ext cx="8174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fter saving and reloading...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2855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s are the bullets in use (and the ones set on the master slide) after saving and reloading the fi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 know the template is ugly (even if I weren't using comic sans) wasn't my choice ;)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35:44Z</dcterms:created>
  <dc:creator>Ian F. Akyildiz</dc:creator>
  <dc:description/>
  <dc:language>en-US</dc:language>
  <cp:lastModifiedBy>Josep Miquel Jornet Montana</cp:lastModifiedBy>
  <dcterms:modified xsi:type="dcterms:W3CDTF">2009-08-27T19:18:02Z</dcterms:modified>
  <cp:revision>1488</cp:revision>
  <dc:subject/>
  <dc:title>SENSOR NETWORKS</dc:title>
</cp:coreProperties>
</file>