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732E-1813-4DCA-8453-BF289BFA6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F132-4831-4BC5-BAED-4F010B588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1F24-9B44-46AB-B390-DAACBBA9E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B080-3907-4D2E-926C-13CAF7D0D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0572A-E208-4DFE-89B5-9B276DBD0E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A9FDD-677F-4F2C-9D3F-598762E771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3C6D2-C55E-49E9-A7BC-74C2675DB7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D5A61-BE8E-443E-8121-8CF6866530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D9C32-A07C-415E-90DF-712FE961DC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33CC0-66EC-4F27-8BF3-C314E692BE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9A112-35DA-4A50-9C1F-5F05A81AF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645E-7182-42F6-A488-174A17C95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433B7-10AE-4A92-BF89-7BF948D61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2E15F-7626-4DEA-B3C3-BD2A9820AF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333A6-3860-4F9C-A657-BA0DE36CD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D8C92-1D69-4F53-AE02-BBB1680D73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9947E-E756-4AC7-ACC1-76EF8B43D0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E0CC9-8303-4C89-B342-37EBAF73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CF9FB-9D6C-40CF-AC46-D951AA7F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13D29-70A3-4385-9801-3AC231A1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766ED-47FA-4515-B6A2-68AFC05E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A3CF08-DBA2-470A-BF34-DA03297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B217-F131-4AF9-9406-A1CE0F669F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17B31-8A8F-482C-BC0D-58DBE66C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AC8C4-130E-474E-9175-678802D0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CCDBDA-A578-4B8D-A8BC-2DF8A9C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35D1D-0E6A-482E-B8B9-D641BE7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9F320-DB35-4178-AD8E-1D25AC1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AB388-ADC8-47FA-B057-5986C6C8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58DB4-52E3-4228-A2EA-94BFB113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F3FC-4859-41FD-9AA1-E3837A52E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E281-22B0-48C2-B3F8-C6586F9EC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0815-3BEC-4E2E-A30A-FB32B527F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ACC4-7EBE-451B-BE22-49CDEFD57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EF93-960F-4627-AE89-850D4A455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02FE-7263-43CE-BCF7-C0D04E790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5195-539E-4D6A-938C-2229AE0DB12E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DCEE-1D8E-4A36-83DF-DA21064BE1D9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EA93-0595-4079-81CF-4A9199E19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header to slide one of the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second header to the second slide of the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Slid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hird slide header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0:18:34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09-12-31T10:20:16Z</dcterms:modified>
  <cp:revision>1</cp:revision>
  <dc:subject/>
  <dc:title>Adding header to slide one of the document</dc:title>
</cp:coreProperties>
</file>