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130-F666-434B-8828-69146F22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0DE-F1A6-4D63-B48E-7EBEEE15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EE3-8CB1-4C9A-A3C4-0FC7924F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F39-EEEC-4B90-A9CD-40A7DEBC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E022-5398-4F8F-AF4D-A199283C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35A6-F4EE-42E7-AA4C-989E8AA9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02D2-9D73-4D81-A41F-1869F71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E8C6-6C17-4CCA-9B79-61FA83A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82E2-8354-4226-9616-2D83ABF8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043A-04FF-4B9D-B177-79BA67B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8F97-7962-4193-AF1C-574ECABD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1D2-1C9D-4297-951C-B0CBD30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B6FB-C01C-4F32-A7BC-983A3B4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48B8-1C9B-4EA0-8E0C-300F560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3E64-5BC4-4205-97CB-9708A97B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4BB-F5B3-4D84-8F41-4AE5325C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6493-6C5C-419F-A7F3-93913D37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3B8-93AA-4685-A19C-455FE006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BB5-17DB-44FC-8BD6-BE48F161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482-1F74-414B-9FD6-AB43DF2C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A1A-0839-4E05-A753-190B55D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CF2-A9B6-4C72-AB99-6BFA28E1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45A-FA9D-4AF3-93FF-33E58681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AF2-8EFE-4FD9-BE89-E70CC2A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B3A3-2CC7-4D81-9CF9-67FCF7D5C947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4CC5-39B8-45F1-B568-ADF8D4A0595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-Straight 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7T07:22:51Z</dcterms:modified>
  <cp:revision>32</cp:revision>
  <dc:subject/>
  <dc:title>PowerPoint Presentation</dc:title>
</cp:coreProperties>
</file>