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322-6458-4F8C-94F6-B2D16B87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241-AE16-40B5-9D9F-BF606BF5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653-634E-4EEB-A3B7-3B08D2D9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74E-1D94-4B1F-A493-699CDF3B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63A-FC71-444C-A427-8FBE3811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DB3-1317-49AE-977C-1C37CF8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D1B-1AFF-4D63-A074-C7F15285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9B9-A73B-401E-AF4B-E612F26A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BB7-CBA5-493A-9B94-1CFCE85B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FFB-FA25-48D6-B898-046142DF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E70-1C95-46EE-AB64-1EF524A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420-277F-404C-A1A4-D62E9EA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B4B9-1526-49AA-969A-C929E22C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-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61160" y="1959120"/>
            <a:ext cx="4665240" cy="4040280"/>
            <a:chOff x="2261160" y="1959120"/>
            <a:chExt cx="4665240" cy="4040280"/>
          </a:xfrm>
        </p:grpSpPr>
        <p:sp>
          <p:nvSpPr>
            <p:cNvPr id="43" name="_s6149"/>
            <p:cNvSpPr/>
            <p:nvPr/>
          </p:nvSpPr>
          <p:spPr>
            <a:xfrm flipV="1">
              <a:off x="2261160" y="5421960"/>
              <a:ext cx="4665240" cy="577080"/>
            </a:xfrm>
            <a:custGeom>
              <a:avLst/>
              <a:gdLst>
                <a:gd name="textAreaLeft" fmla="*/ 563040 w 4665240"/>
                <a:gd name="textAreaRight" fmla="*/ 4102200 w 4665240"/>
                <a:gd name="textAreaTop" fmla="*/ 69480 h 577080"/>
                <a:gd name="textAreaBottom" fmla="*/ 50760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nn!@#123asf@w42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6150"/>
            <p:cNvSpPr/>
            <p:nvPr/>
          </p:nvSpPr>
          <p:spPr>
            <a:xfrm flipV="1">
              <a:off x="2593800" y="4844520"/>
              <a:ext cx="4000320" cy="577080"/>
            </a:xfrm>
            <a:custGeom>
              <a:avLst/>
              <a:gdLst>
                <a:gd name="textAreaLeft" fmla="*/ 509040 w 4000320"/>
                <a:gd name="textAreaRight" fmla="*/ 3491280 w 4000320"/>
                <a:gd name="textAreaTop" fmla="*/ 73440 h 577080"/>
                <a:gd name="textAreaBottom" fmla="*/ 50364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3456789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6151"/>
            <p:cNvSpPr/>
            <p:nvPr/>
          </p:nvSpPr>
          <p:spPr>
            <a:xfrm flipV="1">
              <a:off x="2928240" y="4267440"/>
              <a:ext cx="3331800" cy="577440"/>
            </a:xfrm>
            <a:custGeom>
              <a:avLst/>
              <a:gdLst>
                <a:gd name="textAreaLeft" fmla="*/ 455040 w 3331800"/>
                <a:gd name="textAreaRight" fmla="*/ 2876760 w 3331800"/>
                <a:gd name="textAreaTop" fmla="*/ 78840 h 577440"/>
                <a:gd name="textAreaBottom" fmla="*/ 498600 h 5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d@1asf#@5</a:t>
              </a:r>
              <a:r>
                <a:rPr b="1" lang="en-US" sz="1400" spc="-1" strike="noStrike">
                  <a:solidFill>
                    <a:srgbClr val="000000"/>
                  </a:solidFill>
                  <a:latin typeface="Baskerville Old Face"/>
                </a:rPr>
                <a:t>#@%,./&lt;?&gt;{]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-=/*-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6152"/>
            <p:cNvSpPr/>
            <p:nvPr/>
          </p:nvSpPr>
          <p:spPr>
            <a:xfrm flipV="1">
              <a:off x="3260520" y="3689280"/>
              <a:ext cx="2666880" cy="577080"/>
            </a:xfrm>
            <a:custGeom>
              <a:avLst/>
              <a:gdLst>
                <a:gd name="textAreaLeft" fmla="*/ 401040 w 2666880"/>
                <a:gd name="textAreaRight" fmla="*/ 2265840 w 2666880"/>
                <a:gd name="textAreaTop" fmla="*/ 86760 h 577080"/>
                <a:gd name="textAreaBottom" fmla="*/ 49032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!@##123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@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53"/>
            <p:cNvSpPr/>
            <p:nvPr/>
          </p:nvSpPr>
          <p:spPr>
            <a:xfrm flipV="1">
              <a:off x="3594960" y="3113640"/>
              <a:ext cx="1998360" cy="575640"/>
            </a:xfrm>
            <a:custGeom>
              <a:avLst/>
              <a:gdLst>
                <a:gd name="textAreaLeft" fmla="*/ 346680 w 1998360"/>
                <a:gd name="textAreaRight" fmla="*/ 1651680 w 1998360"/>
                <a:gd name="textAreaTop" fmla="*/ 99720 h 575640"/>
                <a:gd name="textAreaBottom" fmla="*/ 47592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khghodhg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4"/>
            <p:cNvSpPr/>
            <p:nvPr/>
          </p:nvSpPr>
          <p:spPr>
            <a:xfrm flipV="1">
              <a:off x="3927240" y="2536200"/>
              <a:ext cx="1333440" cy="577080"/>
            </a:xfrm>
            <a:custGeom>
              <a:avLst/>
              <a:gdLst>
                <a:gd name="textAreaLeft" fmla="*/ 293040 w 1333440"/>
                <a:gd name="textAreaRight" fmla="*/ 1040400 w 1333440"/>
                <a:gd name="textAreaTop" fmla="*/ 126720 h 577080"/>
                <a:gd name="textAreaBottom" fmla="*/ 45036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12s2ge2t1e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6155"/>
            <p:cNvSpPr/>
            <p:nvPr/>
          </p:nvSpPr>
          <p:spPr>
            <a:xfrm flipV="1">
              <a:off x="4261680" y="1958760"/>
              <a:ext cx="664920" cy="577080"/>
            </a:xfrm>
            <a:custGeom>
              <a:avLst/>
              <a:gdLst>
                <a:gd name="textAreaLeft" fmla="*/ 238680 w 664920"/>
                <a:gd name="textAreaRight" fmla="*/ 426240 w 664920"/>
                <a:gd name="textAreaTop" fmla="*/ 207000 h 577080"/>
                <a:gd name="textAreaBottom" fmla="*/ 37008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!@$#@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09:43:0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