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4697-3AA0-4591-BC4D-F903214DB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1648-6717-48D8-8214-5E9873316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BAA7-406E-473E-8479-324F31F54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22E0-AF39-4304-A7B2-85DC6F469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3B21-8C59-4037-A40B-BB226E8DA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3267-853A-4508-B09C-C9615A0BF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E65D-A028-44F1-A4AB-DF77542E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D2D1-3B6E-474C-8A5B-D67A9A518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5D5D-1432-4B37-8D88-A810ACD8B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BF57-CBF9-49FF-AE10-59DE9F35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E9BB-E91E-4B37-9EDF-18323D8B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56B0-D007-4B8A-A997-BA5A590E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6C200-2F84-4AAA-B8CE-828682A81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12952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1T12:11:55Z</dcterms:created>
  <dc:creator>.</dc:creator>
  <dc:description/>
  <dc:language>en-US</dc:language>
  <cp:lastModifiedBy> Ben Collingsworth</cp:lastModifiedBy>
  <dcterms:modified xsi:type="dcterms:W3CDTF">2005-03-30T12:15:15Z</dcterms:modified>
  <cp:revision>25</cp:revision>
  <dc:subject/>
  <dc:title>x</dc:title>
</cp:coreProperties>
</file>