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8959850" cy="6721475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34800" y="1596960"/>
            <a:ext cx="662004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4"/>
          </p:nvPr>
        </p:nvSpPr>
        <p:spPr>
          <a:xfrm>
            <a:off x="6611400" y="139680"/>
            <a:ext cx="2837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9624600" y="6581160"/>
            <a:ext cx="281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04E9-C79C-43F3-924C-1CFE73B307E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oc id"/>
          <p:cNvSpPr/>
          <p:nvPr/>
        </p:nvSpPr>
        <p:spPr>
          <a:xfrm>
            <a:off x="6611760" y="140040"/>
            <a:ext cx="283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9624960" y="65815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9415-B79B-4190-91A0-7800E7E60E9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135160" y="1596960"/>
            <a:ext cx="6620040" cy="4965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oc id"/>
          <p:cNvSpPr/>
          <p:nvPr/>
        </p:nvSpPr>
        <p:spPr>
          <a:xfrm>
            <a:off x="6611760" y="140040"/>
            <a:ext cx="283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624960" y="65815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94ED-A4A7-4FFC-9836-C378FF20F02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135160" y="1596960"/>
            <a:ext cx="6620040" cy="4965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oc id"/>
          <p:cNvSpPr/>
          <p:nvPr/>
        </p:nvSpPr>
        <p:spPr>
          <a:xfrm>
            <a:off x="6611760" y="140040"/>
            <a:ext cx="283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9624960" y="65815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9BE0-8323-4F40-8EA9-B3C62A5441C8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35160" y="1596960"/>
            <a:ext cx="6620040" cy="4965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oc id"/>
          <p:cNvSpPr/>
          <p:nvPr/>
        </p:nvSpPr>
        <p:spPr>
          <a:xfrm>
            <a:off x="6611760" y="140040"/>
            <a:ext cx="283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9624960" y="65815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3A9E-676F-4DC9-BF79-559929BEFED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135160" y="1596960"/>
            <a:ext cx="6620040" cy="4965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oc id"/>
          <p:cNvSpPr/>
          <p:nvPr/>
        </p:nvSpPr>
        <p:spPr>
          <a:xfrm>
            <a:off x="6611760" y="140040"/>
            <a:ext cx="283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9624960" y="65815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6533-F909-4E67-951D-3C6892227CFA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135160" y="1596960"/>
            <a:ext cx="6620040" cy="4965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3E6E-28BB-4C9E-9AC4-1679F3F45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760" y="227808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CBA0-3E1A-4819-8D3B-E96D6467E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535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E428-1804-4379-B0A6-3FC2B7DC7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432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352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76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7432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352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19784-1D17-47F1-BC8B-9CEF37358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4760" y="228600"/>
            <a:ext cx="869472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4D1E-8234-45C0-B930-342F53A9F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535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4760" y="227808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535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7432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4352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476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7432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4352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B6DA-219B-431B-A4DC-CE5AF7D85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8E1E-93E2-4405-AA52-77895A917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6C36-5459-4693-B667-D36E2FED7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760" y="228600"/>
            <a:ext cx="869472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0622-368A-4C5E-91AA-19DC4BF62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B85EF-436E-4045-A419-837563B1F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535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F8F6-ECCE-43FE-9C6E-36822CEBB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A049-39CD-4FB0-BC34-663BF9A1D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3440" y="75960"/>
            <a:ext cx="36766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6B64-50C8-44ED-A6D6-C0219BB17B8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McK Slide Elements"/>
          <p:cNvGrpSpPr/>
          <p:nvPr/>
        </p:nvGrpSpPr>
        <p:grpSpPr>
          <a:xfrm>
            <a:off x="104760" y="746280"/>
            <a:ext cx="8615520" cy="5965560"/>
            <a:chOff x="104760" y="746280"/>
            <a:chExt cx="8615520" cy="5965560"/>
          </a:xfrm>
        </p:grpSpPr>
        <p:sp>
          <p:nvSpPr>
            <p:cNvPr id="5" name="McK Footnote" hidden="1"/>
            <p:cNvSpPr/>
            <p:nvPr/>
          </p:nvSpPr>
          <p:spPr>
            <a:xfrm>
              <a:off x="104760" y="6199200"/>
              <a:ext cx="86155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28880" indent="-1028880">
                <a:spcAft>
                  <a:spcPts val="201"/>
                </a:spcAft>
                <a:tabLst>
                  <a:tab algn="l" pos="0"/>
                  <a:tab algn="r" pos="89532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28880" indent="-1028880">
                <a:spcAft>
                  <a:spcPts val="201"/>
                </a:spcAft>
                <a:tabLst>
                  <a:tab algn="l" pos="0"/>
                  <a:tab algn="r" pos="89532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McK Measure" hidden="1"/>
            <p:cNvSpPr/>
            <p:nvPr/>
          </p:nvSpPr>
          <p:spPr>
            <a:xfrm>
              <a:off x="104760" y="746280"/>
              <a:ext cx="661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McK Title Elements"/>
          <p:cNvGrpSpPr/>
          <p:nvPr/>
        </p:nvGrpSpPr>
        <p:grpSpPr>
          <a:xfrm>
            <a:off x="2639880" y="2131920"/>
            <a:ext cx="5181840" cy="4518000"/>
            <a:chOff x="2639880" y="2131920"/>
            <a:chExt cx="5181840" cy="4518000"/>
          </a:xfrm>
        </p:grpSpPr>
        <p:sp>
          <p:nvSpPr>
            <p:cNvPr id="44" name="McK Confidential" hidden="1"/>
            <p:cNvSpPr/>
            <p:nvPr/>
          </p:nvSpPr>
          <p:spPr>
            <a:xfrm>
              <a:off x="2639880" y="2131920"/>
              <a:ext cx="249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机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McK Disclaimer" hidden="1"/>
            <p:cNvSpPr/>
            <p:nvPr/>
          </p:nvSpPr>
          <p:spPr>
            <a:xfrm>
              <a:off x="2639880" y="5967360"/>
              <a:ext cx="36561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仿宋体"/>
                </a:rPr>
                <a:t>此报告仅供客户内部使用。未经麦肯锡公司的书面许可，其它任何机构不得擅自传阅、引用或复制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McK Document" hidden="1"/>
            <p:cNvSpPr/>
            <p:nvPr/>
          </p:nvSpPr>
          <p:spPr>
            <a:xfrm>
              <a:off x="2639880" y="4838760"/>
              <a:ext cx="518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McK Date" hidden="1"/>
            <p:cNvSpPr/>
            <p:nvPr/>
          </p:nvSpPr>
          <p:spPr>
            <a:xfrm>
              <a:off x="2639880" y="5106960"/>
              <a:ext cx="217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4933440" y="75960"/>
            <a:ext cx="36766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BUT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2"/>
          <p:cNvSpPr/>
          <p:nvPr/>
        </p:nvSpPr>
        <p:spPr>
          <a:xfrm>
            <a:off x="4933800" y="76320"/>
            <a:ext cx="367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5514702C-310F-41D2-A405-7DF9C8F16B5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reeform 2"/>
          <p:cNvSpPr/>
          <p:nvPr/>
        </p:nvSpPr>
        <p:spPr>
          <a:xfrm flipH="1">
            <a:off x="4497480" y="2003400"/>
            <a:ext cx="3100320" cy="2908440"/>
          </a:xfrm>
          <a:custGeom>
            <a:avLst/>
            <a:gdLst>
              <a:gd name="textAreaLeft" fmla="*/ 360 w 3100320"/>
              <a:gd name="textAreaRight" fmla="*/ 3101040 w 3100320"/>
              <a:gd name="textAreaTop" fmla="*/ 0 h 2908440"/>
              <a:gd name="textAreaBottom" fmla="*/ 2908800 h 2908440"/>
            </a:gdLst>
            <a:ahLst/>
            <a:rect l="textAreaLeft" t="textAreaTop" r="textAreaRight" b="textAreaBottom"/>
            <a:pathLst>
              <a:path w="1953" h="1832">
                <a:moveTo>
                  <a:pt x="0" y="0"/>
                </a:moveTo>
                <a:lnTo>
                  <a:pt x="1653" y="1"/>
                </a:lnTo>
                <a:lnTo>
                  <a:pt x="1953" y="287"/>
                </a:lnTo>
                <a:lnTo>
                  <a:pt x="1953" y="1542"/>
                </a:lnTo>
                <a:lnTo>
                  <a:pt x="1653" y="1828"/>
                </a:lnTo>
                <a:lnTo>
                  <a:pt x="0" y="1832"/>
                </a:lnTo>
              </a:path>
            </a:pathLst>
          </a:custGeom>
          <a:solidFill>
            <a:srgbClr val="33cb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 flipH="1">
            <a:off x="5249160" y="2523960"/>
            <a:ext cx="2336760" cy="1854360"/>
          </a:xfrm>
          <a:custGeom>
            <a:avLst/>
            <a:gdLst>
              <a:gd name="textAreaLeft" fmla="*/ -360 w 2336760"/>
              <a:gd name="textAreaRight" fmla="*/ 2336760 w 233676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1472" h="1168">
                <a:moveTo>
                  <a:pt x="8" y="0"/>
                </a:moveTo>
                <a:lnTo>
                  <a:pt x="1276" y="0"/>
                </a:lnTo>
                <a:lnTo>
                  <a:pt x="1472" y="232"/>
                </a:lnTo>
                <a:lnTo>
                  <a:pt x="1472" y="976"/>
                </a:lnTo>
                <a:lnTo>
                  <a:pt x="1260" y="1168"/>
                </a:lnTo>
                <a:lnTo>
                  <a:pt x="0" y="1168"/>
                </a:ln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4"/>
          <p:cNvSpPr/>
          <p:nvPr/>
        </p:nvSpPr>
        <p:spPr>
          <a:xfrm flipH="1">
            <a:off x="5496840" y="3006720"/>
            <a:ext cx="2082600" cy="898560"/>
          </a:xfrm>
          <a:custGeom>
            <a:avLst/>
            <a:gdLst>
              <a:gd name="textAreaLeft" fmla="*/ -360 w 2082600"/>
              <a:gd name="textAreaRight" fmla="*/ 2082600 w 208260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12" h="566">
                <a:moveTo>
                  <a:pt x="0" y="0"/>
                </a:moveTo>
                <a:lnTo>
                  <a:pt x="1000" y="0"/>
                </a:lnTo>
                <a:lnTo>
                  <a:pt x="1312" y="284"/>
                </a:lnTo>
                <a:lnTo>
                  <a:pt x="1012" y="564"/>
                </a:lnTo>
                <a:lnTo>
                  <a:pt x="0" y="566"/>
                </a:lnTo>
              </a:path>
            </a:pathLst>
          </a:custGeom>
          <a:solidFill>
            <a:srgbClr val="0000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5"/>
          <p:cNvSpPr/>
          <p:nvPr/>
        </p:nvSpPr>
        <p:spPr>
          <a:xfrm>
            <a:off x="1359000" y="2003400"/>
            <a:ext cx="3100320" cy="2908440"/>
          </a:xfrm>
          <a:custGeom>
            <a:avLst/>
            <a:gdLst>
              <a:gd name="textAreaLeft" fmla="*/ 0 w 3100320"/>
              <a:gd name="textAreaRight" fmla="*/ 3100680 w 3100320"/>
              <a:gd name="textAreaTop" fmla="*/ 0 h 2908440"/>
              <a:gd name="textAreaBottom" fmla="*/ 2908800 h 2908440"/>
            </a:gdLst>
            <a:ahLst/>
            <a:rect l="textAreaLeft" t="textAreaTop" r="textAreaRight" b="textAreaBottom"/>
            <a:pathLst>
              <a:path w="1953" h="1832">
                <a:moveTo>
                  <a:pt x="0" y="0"/>
                </a:moveTo>
                <a:lnTo>
                  <a:pt x="1653" y="1"/>
                </a:lnTo>
                <a:lnTo>
                  <a:pt x="1953" y="287"/>
                </a:lnTo>
                <a:lnTo>
                  <a:pt x="1953" y="1542"/>
                </a:lnTo>
                <a:lnTo>
                  <a:pt x="1653" y="1828"/>
                </a:lnTo>
                <a:lnTo>
                  <a:pt x="0" y="1832"/>
                </a:lnTo>
              </a:path>
            </a:pathLst>
          </a:custGeom>
          <a:solidFill>
            <a:srgbClr val="33cb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6"/>
          <p:cNvSpPr/>
          <p:nvPr/>
        </p:nvSpPr>
        <p:spPr>
          <a:xfrm>
            <a:off x="1355760" y="2523960"/>
            <a:ext cx="2336760" cy="1854360"/>
          </a:xfrm>
          <a:custGeom>
            <a:avLst/>
            <a:gdLst>
              <a:gd name="textAreaLeft" fmla="*/ 0 w 2336760"/>
              <a:gd name="textAreaRight" fmla="*/ 2337120 w 233676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1472" h="1168">
                <a:moveTo>
                  <a:pt x="8" y="0"/>
                </a:moveTo>
                <a:lnTo>
                  <a:pt x="1276" y="0"/>
                </a:lnTo>
                <a:lnTo>
                  <a:pt x="1472" y="232"/>
                </a:lnTo>
                <a:lnTo>
                  <a:pt x="1472" y="976"/>
                </a:lnTo>
                <a:lnTo>
                  <a:pt x="1260" y="1168"/>
                </a:lnTo>
                <a:lnTo>
                  <a:pt x="0" y="1168"/>
                </a:ln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1357200" y="3006720"/>
            <a:ext cx="2082960" cy="898560"/>
          </a:xfrm>
          <a:custGeom>
            <a:avLst/>
            <a:gdLst>
              <a:gd name="textAreaLeft" fmla="*/ 0 w 2082960"/>
              <a:gd name="textAreaRight" fmla="*/ 2083320 w 20829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12" h="566">
                <a:moveTo>
                  <a:pt x="0" y="0"/>
                </a:moveTo>
                <a:lnTo>
                  <a:pt x="1000" y="0"/>
                </a:lnTo>
                <a:lnTo>
                  <a:pt x="1312" y="284"/>
                </a:lnTo>
                <a:lnTo>
                  <a:pt x="1012" y="564"/>
                </a:lnTo>
                <a:lnTo>
                  <a:pt x="0" y="566"/>
                </a:lnTo>
              </a:path>
            </a:pathLst>
          </a:custGeom>
          <a:solidFill>
            <a:srgbClr val="0000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3467160" y="2482920"/>
            <a:ext cx="2012760" cy="1955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407960" y="2117880"/>
            <a:ext cx="23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5734080" y="2116080"/>
            <a:ext cx="170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407960" y="2641680"/>
            <a:ext cx="194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734080" y="2638440"/>
            <a:ext cx="166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407960" y="3301200"/>
            <a:ext cx="179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5734080" y="3299760"/>
            <a:ext cx="17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1407960" y="3997440"/>
            <a:ext cx="179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734080" y="3992400"/>
            <a:ext cx="17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1407960" y="4498920"/>
            <a:ext cx="236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734080" y="4495680"/>
            <a:ext cx="17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JOINT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12" name="McK Footnote"/>
          <p:cNvSpPr/>
          <p:nvPr/>
        </p:nvSpPr>
        <p:spPr>
          <a:xfrm>
            <a:off x="104760" y="6199200"/>
            <a:ext cx="8615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资料来源：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McK Measure"/>
          <p:cNvSpPr/>
          <p:nvPr/>
        </p:nvSpPr>
        <p:spPr>
          <a:xfrm>
            <a:off x="104760" y="746280"/>
            <a:ext cx="66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of mea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4933800" y="76320"/>
            <a:ext cx="367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238B5E64-4E40-416A-B82B-67770C7775F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2"/>
          <p:cNvGrpSpPr/>
          <p:nvPr/>
        </p:nvGrpSpPr>
        <p:grpSpPr>
          <a:xfrm>
            <a:off x="1168560" y="2568240"/>
            <a:ext cx="6260760" cy="1295640"/>
            <a:chOff x="1168560" y="2568240"/>
            <a:chExt cx="6260760" cy="1295640"/>
          </a:xfrm>
        </p:grpSpPr>
        <p:sp>
          <p:nvSpPr>
            <p:cNvPr id="117" name="AutoShape 3"/>
            <p:cNvSpPr/>
            <p:nvPr/>
          </p:nvSpPr>
          <p:spPr>
            <a:xfrm flipV="1">
              <a:off x="1168560" y="2796480"/>
              <a:ext cx="2477520" cy="1066680"/>
            </a:xfrm>
            <a:custGeom>
              <a:avLst/>
              <a:gdLst>
                <a:gd name="textAreaLeft" fmla="*/ 52200 w 2477520"/>
                <a:gd name="textAreaRight" fmla="*/ 2425320 w 2477520"/>
                <a:gd name="textAreaTop" fmla="*/ -360 h 1066680"/>
                <a:gd name="textAreaBottom" fmla="*/ 6663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3" y="10799"/>
                  </a:moveTo>
                  <a:cubicBezTo>
                    <a:pt x="1313" y="5559"/>
                    <a:pt x="5560" y="1312"/>
                    <a:pt x="10800" y="1313"/>
                  </a:cubicBezTo>
                  <a:cubicBezTo>
                    <a:pt x="16039" y="1313"/>
                    <a:pt x="20286" y="5559"/>
                    <a:pt x="20286" y="10799"/>
                  </a:cubicBezTo>
                  <a:lnTo>
                    <a:pt x="21599" y="10798"/>
                  </a:lnTo>
                  <a:cubicBezTo>
                    <a:pt x="21599" y="4834"/>
                    <a:pt x="16764" y="-1"/>
                    <a:pt x="10799" y="0"/>
                  </a:cubicBezTo>
                  <a:cubicBezTo>
                    <a:pt x="4835" y="0"/>
                    <a:pt x="0" y="4834"/>
                    <a:pt x="0" y="10798"/>
                  </a:cubicBezTo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4"/>
            <p:cNvSpPr/>
            <p:nvPr/>
          </p:nvSpPr>
          <p:spPr>
            <a:xfrm flipV="1">
              <a:off x="4951800" y="2796480"/>
              <a:ext cx="2477520" cy="1066680"/>
            </a:xfrm>
            <a:custGeom>
              <a:avLst/>
              <a:gdLst>
                <a:gd name="textAreaLeft" fmla="*/ 52200 w 2477520"/>
                <a:gd name="textAreaRight" fmla="*/ 2425320 w 2477520"/>
                <a:gd name="textAreaTop" fmla="*/ -360 h 1066680"/>
                <a:gd name="textAreaBottom" fmla="*/ 6663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3" y="10799"/>
                  </a:moveTo>
                  <a:cubicBezTo>
                    <a:pt x="1313" y="5559"/>
                    <a:pt x="5560" y="1312"/>
                    <a:pt x="10800" y="1313"/>
                  </a:cubicBezTo>
                  <a:cubicBezTo>
                    <a:pt x="16039" y="1313"/>
                    <a:pt x="20286" y="5559"/>
                    <a:pt x="20286" y="10799"/>
                  </a:cubicBezTo>
                  <a:lnTo>
                    <a:pt x="21599" y="10798"/>
                  </a:lnTo>
                  <a:cubicBezTo>
                    <a:pt x="21599" y="4834"/>
                    <a:pt x="16764" y="-1"/>
                    <a:pt x="10799" y="0"/>
                  </a:cubicBezTo>
                  <a:cubicBezTo>
                    <a:pt x="4835" y="0"/>
                    <a:pt x="0" y="4834"/>
                    <a:pt x="0" y="10798"/>
                  </a:cubicBezTo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AutoShape 5"/>
            <p:cNvSpPr/>
            <p:nvPr/>
          </p:nvSpPr>
          <p:spPr>
            <a:xfrm flipV="1">
              <a:off x="3076920" y="2567880"/>
              <a:ext cx="2477520" cy="1066680"/>
            </a:xfrm>
            <a:custGeom>
              <a:avLst/>
              <a:gdLst>
                <a:gd name="textAreaLeft" fmla="*/ 52200 w 2477520"/>
                <a:gd name="textAreaRight" fmla="*/ 2425320 w 2477520"/>
                <a:gd name="textAreaTop" fmla="*/ -360 h 1066680"/>
                <a:gd name="textAreaBottom" fmla="*/ 6663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3" y="10799"/>
                  </a:moveTo>
                  <a:cubicBezTo>
                    <a:pt x="1313" y="5559"/>
                    <a:pt x="5560" y="1312"/>
                    <a:pt x="10800" y="1313"/>
                  </a:cubicBezTo>
                  <a:cubicBezTo>
                    <a:pt x="16039" y="1313"/>
                    <a:pt x="20286" y="5559"/>
                    <a:pt x="20286" y="10799"/>
                  </a:cubicBezTo>
                  <a:lnTo>
                    <a:pt x="21599" y="10798"/>
                  </a:lnTo>
                  <a:cubicBezTo>
                    <a:pt x="21599" y="4834"/>
                    <a:pt x="16764" y="-1"/>
                    <a:pt x="10799" y="0"/>
                  </a:cubicBezTo>
                  <a:cubicBezTo>
                    <a:pt x="4835" y="0"/>
                    <a:pt x="0" y="4834"/>
                    <a:pt x="0" y="10798"/>
                  </a:cubicBezTo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6"/>
            <p:cNvSpPr/>
            <p:nvPr/>
          </p:nvSpPr>
          <p:spPr>
            <a:xfrm>
              <a:off x="3076920" y="2568600"/>
              <a:ext cx="2477520" cy="1066680"/>
            </a:xfrm>
            <a:custGeom>
              <a:avLst/>
              <a:gdLst>
                <a:gd name="textAreaLeft" fmla="*/ 0 w 2477520"/>
                <a:gd name="textAreaRight" fmla="*/ 2477880 w 2477520"/>
                <a:gd name="textAreaTop" fmla="*/ 0 h 1066680"/>
                <a:gd name="textAreaBottom" fmla="*/ 3808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4" y="10800"/>
                  </a:moveTo>
                  <a:cubicBezTo>
                    <a:pt x="1314" y="5561"/>
                    <a:pt x="5561" y="1314"/>
                    <a:pt x="10800" y="1314"/>
                  </a:cubicBezTo>
                  <a:cubicBezTo>
                    <a:pt x="16038" y="1313"/>
                    <a:pt x="20285" y="5561"/>
                    <a:pt x="20286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7"/>
            <p:cNvSpPr/>
            <p:nvPr/>
          </p:nvSpPr>
          <p:spPr>
            <a:xfrm>
              <a:off x="1168560" y="2797200"/>
              <a:ext cx="2477520" cy="1066680"/>
            </a:xfrm>
            <a:custGeom>
              <a:avLst/>
              <a:gdLst>
                <a:gd name="textAreaLeft" fmla="*/ 0 w 2477520"/>
                <a:gd name="textAreaRight" fmla="*/ 2477880 w 2477520"/>
                <a:gd name="textAreaTop" fmla="*/ 0 h 1066680"/>
                <a:gd name="textAreaBottom" fmla="*/ 3808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4" y="10800"/>
                  </a:moveTo>
                  <a:cubicBezTo>
                    <a:pt x="1314" y="5561"/>
                    <a:pt x="5561" y="1314"/>
                    <a:pt x="10800" y="1314"/>
                  </a:cubicBezTo>
                  <a:cubicBezTo>
                    <a:pt x="16038" y="1313"/>
                    <a:pt x="20285" y="5561"/>
                    <a:pt x="20286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8"/>
            <p:cNvSpPr/>
            <p:nvPr/>
          </p:nvSpPr>
          <p:spPr>
            <a:xfrm>
              <a:off x="4951800" y="2797200"/>
              <a:ext cx="2477520" cy="1066680"/>
            </a:xfrm>
            <a:custGeom>
              <a:avLst/>
              <a:gdLst>
                <a:gd name="textAreaLeft" fmla="*/ 0 w 2477520"/>
                <a:gd name="textAreaRight" fmla="*/ 2477880 w 2477520"/>
                <a:gd name="textAreaTop" fmla="*/ 0 h 1066680"/>
                <a:gd name="textAreaBottom" fmla="*/ 3808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4" y="10800"/>
                  </a:moveTo>
                  <a:cubicBezTo>
                    <a:pt x="1314" y="5561"/>
                    <a:pt x="5561" y="1314"/>
                    <a:pt x="10800" y="1314"/>
                  </a:cubicBezTo>
                  <a:cubicBezTo>
                    <a:pt x="16038" y="1313"/>
                    <a:pt x="20285" y="5561"/>
                    <a:pt x="20286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Rectangle 9"/>
          <p:cNvSpPr/>
          <p:nvPr/>
        </p:nvSpPr>
        <p:spPr>
          <a:xfrm>
            <a:off x="1873080" y="2770920"/>
            <a:ext cx="88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760920" y="2633760"/>
            <a:ext cx="104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919840" y="2770920"/>
            <a:ext cx="88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LINKS 3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27" name="McK Footnote"/>
          <p:cNvSpPr/>
          <p:nvPr/>
        </p:nvSpPr>
        <p:spPr>
          <a:xfrm>
            <a:off x="104760" y="6199200"/>
            <a:ext cx="8615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资料来源：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McK Measure"/>
          <p:cNvSpPr/>
          <p:nvPr/>
        </p:nvSpPr>
        <p:spPr>
          <a:xfrm>
            <a:off x="104760" y="746280"/>
            <a:ext cx="66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of mea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2"/>
          <p:cNvSpPr/>
          <p:nvPr/>
        </p:nvSpPr>
        <p:spPr>
          <a:xfrm>
            <a:off x="4933800" y="76320"/>
            <a:ext cx="367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1B5D0305-F76B-4646-B302-50B3210D160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2"/>
          <p:cNvSpPr/>
          <p:nvPr/>
        </p:nvSpPr>
        <p:spPr>
          <a:xfrm flipH="1" flipV="1">
            <a:off x="2036160" y="167076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 flipH="1" flipV="1">
            <a:off x="5241240" y="167076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2014560" y="469728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197320" y="469728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4052880" y="3336840"/>
            <a:ext cx="425520" cy="4129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075040" y="210888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413320" y="2108880"/>
            <a:ext cx="87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163600" y="5106240"/>
            <a:ext cx="87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5351400" y="5106240"/>
            <a:ext cx="87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SPOTLIGHT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41" name="McK Footnote"/>
          <p:cNvSpPr/>
          <p:nvPr/>
        </p:nvSpPr>
        <p:spPr>
          <a:xfrm>
            <a:off x="104760" y="6199200"/>
            <a:ext cx="8615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资料来源：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McK Measure"/>
          <p:cNvSpPr/>
          <p:nvPr/>
        </p:nvSpPr>
        <p:spPr>
          <a:xfrm>
            <a:off x="104760" y="746280"/>
            <a:ext cx="66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of mea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2"/>
          <p:cNvSpPr/>
          <p:nvPr/>
        </p:nvSpPr>
        <p:spPr>
          <a:xfrm>
            <a:off x="4933800" y="76320"/>
            <a:ext cx="367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114E5B6C-3AA0-467D-BB82-2171F9A6B72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647640" y="3243240"/>
            <a:ext cx="1763640" cy="1762200"/>
          </a:xfrm>
          <a:custGeom>
            <a:avLst/>
            <a:gdLst>
              <a:gd name="textAreaLeft" fmla="*/ 258120 w 1763640"/>
              <a:gd name="textAreaRight" fmla="*/ 1505520 w 1763640"/>
              <a:gd name="textAreaTop" fmla="*/ 257760 h 1762200"/>
              <a:gd name="textAreaBottom" fmla="*/ 1504440 h 1762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659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flipH="1">
            <a:off x="7278840" y="4233960"/>
            <a:ext cx="650880" cy="736560"/>
          </a:xfrm>
          <a:custGeom>
            <a:avLst/>
            <a:gdLst>
              <a:gd name="textAreaLeft" fmla="*/ 95040 w 650880"/>
              <a:gd name="textAreaRight" fmla="*/ 555840 w 650880"/>
              <a:gd name="textAreaTop" fmla="*/ 107640 h 736560"/>
              <a:gd name="textAreaBottom" fmla="*/ 628920 h 736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20" y="10800"/>
                </a:moveTo>
                <a:cubicBezTo>
                  <a:pt x="1020" y="16201"/>
                  <a:pt x="5399" y="20580"/>
                  <a:pt x="10800" y="20580"/>
                </a:cubicBezTo>
                <a:cubicBezTo>
                  <a:pt x="16201" y="20580"/>
                  <a:pt x="20580" y="16201"/>
                  <a:pt x="20580" y="10800"/>
                </a:cubicBezTo>
                <a:cubicBezTo>
                  <a:pt x="20580" y="5399"/>
                  <a:pt x="16201" y="1020"/>
                  <a:pt x="10800" y="1020"/>
                </a:cubicBezTo>
                <a:cubicBezTo>
                  <a:pt x="5399" y="1020"/>
                  <a:pt x="1020" y="5399"/>
                  <a:pt x="1020" y="108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flipH="1">
            <a:off x="7726320" y="4233960"/>
            <a:ext cx="650880" cy="736560"/>
          </a:xfrm>
          <a:custGeom>
            <a:avLst/>
            <a:gdLst>
              <a:gd name="textAreaLeft" fmla="*/ 95040 w 650880"/>
              <a:gd name="textAreaRight" fmla="*/ 555840 w 650880"/>
              <a:gd name="textAreaTop" fmla="*/ 107640 h 736560"/>
              <a:gd name="textAreaBottom" fmla="*/ 628920 h 736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20" y="10800"/>
                </a:moveTo>
                <a:cubicBezTo>
                  <a:pt x="1020" y="16201"/>
                  <a:pt x="5399" y="20580"/>
                  <a:pt x="10800" y="20580"/>
                </a:cubicBezTo>
                <a:cubicBezTo>
                  <a:pt x="16201" y="20580"/>
                  <a:pt x="20580" y="16201"/>
                  <a:pt x="20580" y="10800"/>
                </a:cubicBezTo>
                <a:cubicBezTo>
                  <a:pt x="20580" y="5399"/>
                  <a:pt x="16201" y="1020"/>
                  <a:pt x="10800" y="1020"/>
                </a:cubicBezTo>
                <a:cubicBezTo>
                  <a:pt x="5399" y="1020"/>
                  <a:pt x="1020" y="5399"/>
                  <a:pt x="1020" y="108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4489560" y="3063960"/>
            <a:ext cx="1041120" cy="1085760"/>
          </a:xfrm>
          <a:custGeom>
            <a:avLst/>
            <a:gdLst>
              <a:gd name="textAreaLeft" fmla="*/ 152280 w 1041120"/>
              <a:gd name="textAreaRight" fmla="*/ 888840 w 1041120"/>
              <a:gd name="textAreaTop" fmla="*/ 158760 h 1085760"/>
              <a:gd name="textAreaBottom" fmla="*/ 92700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192" y="10800"/>
                </a:moveTo>
                <a:cubicBezTo>
                  <a:pt x="1192" y="16106"/>
                  <a:pt x="5494" y="20408"/>
                  <a:pt x="10800" y="20408"/>
                </a:cubicBezTo>
                <a:cubicBezTo>
                  <a:pt x="16106" y="20408"/>
                  <a:pt x="20408" y="16106"/>
                  <a:pt x="20408" y="10800"/>
                </a:cubicBezTo>
                <a:cubicBezTo>
                  <a:pt x="20408" y="5494"/>
                  <a:pt x="16106" y="1192"/>
                  <a:pt x="10800" y="1192"/>
                </a:cubicBezTo>
                <a:cubicBezTo>
                  <a:pt x="5494" y="1192"/>
                  <a:pt x="1192" y="5494"/>
                  <a:pt x="1192" y="10800"/>
                </a:cubicBezTo>
                <a:close/>
              </a:path>
            </a:pathLst>
          </a:custGeom>
          <a:solidFill>
            <a:srgbClr val="6598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3882960" y="3533760"/>
            <a:ext cx="1851120" cy="1930320"/>
          </a:xfrm>
          <a:custGeom>
            <a:avLst/>
            <a:gdLst>
              <a:gd name="textAreaLeft" fmla="*/ 271080 w 1851120"/>
              <a:gd name="textAreaRight" fmla="*/ 1580040 w 1851120"/>
              <a:gd name="textAreaTop" fmla="*/ 282600 h 1930320"/>
              <a:gd name="textAreaBottom" fmla="*/ 1647720 h 1930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192" y="10800"/>
                </a:moveTo>
                <a:cubicBezTo>
                  <a:pt x="1192" y="16106"/>
                  <a:pt x="5494" y="20408"/>
                  <a:pt x="10800" y="20408"/>
                </a:cubicBezTo>
                <a:cubicBezTo>
                  <a:pt x="16106" y="20408"/>
                  <a:pt x="20408" y="16106"/>
                  <a:pt x="20408" y="10800"/>
                </a:cubicBezTo>
                <a:cubicBezTo>
                  <a:pt x="20408" y="5494"/>
                  <a:pt x="16106" y="1192"/>
                  <a:pt x="10800" y="1192"/>
                </a:cubicBezTo>
                <a:cubicBezTo>
                  <a:pt x="5494" y="1192"/>
                  <a:pt x="1192" y="5494"/>
                  <a:pt x="1192" y="10800"/>
                </a:cubicBezTo>
                <a:close/>
              </a:path>
            </a:pathLst>
          </a:custGeom>
          <a:solidFill>
            <a:srgbClr val="6598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 flipH="1">
            <a:off x="7059600" y="3833640"/>
            <a:ext cx="650880" cy="736920"/>
          </a:xfrm>
          <a:custGeom>
            <a:avLst/>
            <a:gdLst>
              <a:gd name="textAreaLeft" fmla="*/ 95040 w 650880"/>
              <a:gd name="textAreaRight" fmla="*/ 555840 w 650880"/>
              <a:gd name="textAreaTop" fmla="*/ 107640 h 736920"/>
              <a:gd name="textAreaBottom" fmla="*/ 629280 h 73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20" y="10800"/>
                </a:moveTo>
                <a:cubicBezTo>
                  <a:pt x="1020" y="16201"/>
                  <a:pt x="5399" y="20580"/>
                  <a:pt x="10800" y="20580"/>
                </a:cubicBezTo>
                <a:cubicBezTo>
                  <a:pt x="16201" y="20580"/>
                  <a:pt x="20580" y="16201"/>
                  <a:pt x="20580" y="10800"/>
                </a:cubicBezTo>
                <a:cubicBezTo>
                  <a:pt x="20580" y="5399"/>
                  <a:pt x="16201" y="1020"/>
                  <a:pt x="10800" y="1020"/>
                </a:cubicBezTo>
                <a:cubicBezTo>
                  <a:pt x="5399" y="1020"/>
                  <a:pt x="1020" y="5399"/>
                  <a:pt x="1020" y="108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 flipH="1">
            <a:off x="7507440" y="3833640"/>
            <a:ext cx="650880" cy="736920"/>
          </a:xfrm>
          <a:custGeom>
            <a:avLst/>
            <a:gdLst>
              <a:gd name="textAreaLeft" fmla="*/ 95040 w 650880"/>
              <a:gd name="textAreaRight" fmla="*/ 555840 w 650880"/>
              <a:gd name="textAreaTop" fmla="*/ 107640 h 736920"/>
              <a:gd name="textAreaBottom" fmla="*/ 629280 h 73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20" y="10800"/>
                </a:moveTo>
                <a:cubicBezTo>
                  <a:pt x="1020" y="16201"/>
                  <a:pt x="5399" y="20580"/>
                  <a:pt x="10800" y="20580"/>
                </a:cubicBezTo>
                <a:cubicBezTo>
                  <a:pt x="16201" y="20580"/>
                  <a:pt x="20580" y="16201"/>
                  <a:pt x="20580" y="10800"/>
                </a:cubicBezTo>
                <a:cubicBezTo>
                  <a:pt x="20580" y="5399"/>
                  <a:pt x="16201" y="1020"/>
                  <a:pt x="10800" y="1020"/>
                </a:cubicBezTo>
                <a:cubicBezTo>
                  <a:pt x="5399" y="1020"/>
                  <a:pt x="1020" y="5399"/>
                  <a:pt x="1020" y="108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 flipH="1">
            <a:off x="7954920" y="3833640"/>
            <a:ext cx="650880" cy="736920"/>
          </a:xfrm>
          <a:custGeom>
            <a:avLst/>
            <a:gdLst>
              <a:gd name="textAreaLeft" fmla="*/ 95040 w 650880"/>
              <a:gd name="textAreaRight" fmla="*/ 555840 w 650880"/>
              <a:gd name="textAreaTop" fmla="*/ 107640 h 736920"/>
              <a:gd name="textAreaBottom" fmla="*/ 629280 h 73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20" y="10800"/>
                </a:moveTo>
                <a:cubicBezTo>
                  <a:pt x="1020" y="16201"/>
                  <a:pt x="5399" y="20580"/>
                  <a:pt x="10800" y="20580"/>
                </a:cubicBezTo>
                <a:cubicBezTo>
                  <a:pt x="16201" y="20580"/>
                  <a:pt x="20580" y="16201"/>
                  <a:pt x="20580" y="10800"/>
                </a:cubicBezTo>
                <a:cubicBezTo>
                  <a:pt x="20580" y="5399"/>
                  <a:pt x="16201" y="1020"/>
                  <a:pt x="10800" y="1020"/>
                </a:cubicBezTo>
                <a:cubicBezTo>
                  <a:pt x="5399" y="1020"/>
                  <a:pt x="1020" y="5399"/>
                  <a:pt x="1020" y="108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RINGS 3D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54" name="McK Footnote"/>
          <p:cNvSpPr/>
          <p:nvPr/>
        </p:nvSpPr>
        <p:spPr>
          <a:xfrm>
            <a:off x="104760" y="6199200"/>
            <a:ext cx="8615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资料来源：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McK Measure"/>
          <p:cNvSpPr/>
          <p:nvPr/>
        </p:nvSpPr>
        <p:spPr>
          <a:xfrm>
            <a:off x="104760" y="746280"/>
            <a:ext cx="66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of mea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2"/>
          <p:cNvSpPr/>
          <p:nvPr/>
        </p:nvSpPr>
        <p:spPr>
          <a:xfrm>
            <a:off x="4933800" y="76320"/>
            <a:ext cx="367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BFFCEB2C-B9FC-4852-91BD-3472D0D3051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2"/>
          <p:cNvSpPr/>
          <p:nvPr/>
        </p:nvSpPr>
        <p:spPr>
          <a:xfrm>
            <a:off x="6472080" y="4371840"/>
            <a:ext cx="1762200" cy="1762200"/>
          </a:xfrm>
          <a:custGeom>
            <a:avLst/>
            <a:gdLst>
              <a:gd name="textAreaLeft" fmla="*/ 395280 w 1762200"/>
              <a:gd name="textAreaRight" fmla="*/ 1366920 w 1762200"/>
              <a:gd name="textAreaTop" fmla="*/ 395280 h 1762200"/>
              <a:gd name="textAreaBottom" fmla="*/ 1366920 h 1762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2" y="11534"/>
                </a:lnTo>
                <a:lnTo>
                  <a:pt x="198" y="12861"/>
                </a:lnTo>
                <a:lnTo>
                  <a:pt x="2706" y="13121"/>
                </a:lnTo>
                <a:lnTo>
                  <a:pt x="786" y="14846"/>
                </a:lnTo>
                <a:lnTo>
                  <a:pt x="3366" y="14753"/>
                </a:lnTo>
                <a:lnTo>
                  <a:pt x="1742" y="16682"/>
                </a:lnTo>
                <a:lnTo>
                  <a:pt x="4256" y="16099"/>
                </a:lnTo>
                <a:lnTo>
                  <a:pt x="3163" y="18437"/>
                </a:lnTo>
                <a:lnTo>
                  <a:pt x="5388" y="17250"/>
                </a:lnTo>
                <a:lnTo>
                  <a:pt x="4761" y="19754"/>
                </a:lnTo>
                <a:lnTo>
                  <a:pt x="6718" y="18164"/>
                </a:lnTo>
                <a:lnTo>
                  <a:pt x="6580" y="20741"/>
                </a:lnTo>
                <a:lnTo>
                  <a:pt x="8338" y="18852"/>
                </a:lnTo>
                <a:lnTo>
                  <a:pt x="8555" y="21364"/>
                </a:lnTo>
                <a:lnTo>
                  <a:pt x="9920" y="19174"/>
                </a:lnTo>
                <a:lnTo>
                  <a:pt x="10800" y="21600"/>
                </a:lnTo>
                <a:lnTo>
                  <a:pt x="11534" y="19188"/>
                </a:lnTo>
                <a:lnTo>
                  <a:pt x="12861" y="21402"/>
                </a:lnTo>
                <a:lnTo>
                  <a:pt x="13121" y="18894"/>
                </a:lnTo>
                <a:lnTo>
                  <a:pt x="14846" y="20814"/>
                </a:lnTo>
                <a:lnTo>
                  <a:pt x="14753" y="18234"/>
                </a:lnTo>
                <a:lnTo>
                  <a:pt x="16682" y="19858"/>
                </a:lnTo>
                <a:lnTo>
                  <a:pt x="16099" y="17344"/>
                </a:lnTo>
                <a:lnTo>
                  <a:pt x="18437" y="18437"/>
                </a:lnTo>
                <a:lnTo>
                  <a:pt x="17250" y="16212"/>
                </a:lnTo>
                <a:lnTo>
                  <a:pt x="19754" y="16839"/>
                </a:lnTo>
                <a:lnTo>
                  <a:pt x="18164" y="14882"/>
                </a:lnTo>
                <a:lnTo>
                  <a:pt x="20741" y="15020"/>
                </a:lnTo>
                <a:lnTo>
                  <a:pt x="18852" y="13262"/>
                </a:lnTo>
                <a:lnTo>
                  <a:pt x="21364" y="13045"/>
                </a:lnTo>
                <a:lnTo>
                  <a:pt x="19174" y="11680"/>
                </a:lnTo>
                <a:lnTo>
                  <a:pt x="21600" y="10800"/>
                </a:lnTo>
                <a:lnTo>
                  <a:pt x="19188" y="10066"/>
                </a:lnTo>
                <a:lnTo>
                  <a:pt x="21402" y="8739"/>
                </a:lnTo>
                <a:lnTo>
                  <a:pt x="18894" y="8479"/>
                </a:lnTo>
                <a:lnTo>
                  <a:pt x="20814" y="6754"/>
                </a:lnTo>
                <a:lnTo>
                  <a:pt x="18234" y="6847"/>
                </a:lnTo>
                <a:lnTo>
                  <a:pt x="19858" y="4918"/>
                </a:lnTo>
                <a:lnTo>
                  <a:pt x="17344" y="5501"/>
                </a:lnTo>
                <a:lnTo>
                  <a:pt x="18437" y="3163"/>
                </a:lnTo>
                <a:lnTo>
                  <a:pt x="16212" y="4350"/>
                </a:lnTo>
                <a:lnTo>
                  <a:pt x="16839" y="1846"/>
                </a:lnTo>
                <a:lnTo>
                  <a:pt x="14882" y="3436"/>
                </a:lnTo>
                <a:lnTo>
                  <a:pt x="15020" y="859"/>
                </a:lnTo>
                <a:lnTo>
                  <a:pt x="13262" y="2748"/>
                </a:lnTo>
                <a:lnTo>
                  <a:pt x="13045" y="236"/>
                </a:lnTo>
                <a:lnTo>
                  <a:pt x="11680" y="2426"/>
                </a:lnTo>
                <a:lnTo>
                  <a:pt x="10800" y="0"/>
                </a:lnTo>
                <a:lnTo>
                  <a:pt x="10066" y="2412"/>
                </a:lnTo>
                <a:lnTo>
                  <a:pt x="8739" y="198"/>
                </a:lnTo>
                <a:lnTo>
                  <a:pt x="8479" y="2706"/>
                </a:lnTo>
                <a:lnTo>
                  <a:pt x="6754" y="786"/>
                </a:lnTo>
                <a:lnTo>
                  <a:pt x="6847" y="3366"/>
                </a:lnTo>
                <a:lnTo>
                  <a:pt x="4918" y="1742"/>
                </a:lnTo>
                <a:lnTo>
                  <a:pt x="5501" y="4256"/>
                </a:lnTo>
                <a:lnTo>
                  <a:pt x="3163" y="3163"/>
                </a:lnTo>
                <a:lnTo>
                  <a:pt x="4350" y="5388"/>
                </a:lnTo>
                <a:lnTo>
                  <a:pt x="1846" y="4761"/>
                </a:lnTo>
                <a:lnTo>
                  <a:pt x="3436" y="6718"/>
                </a:lnTo>
                <a:lnTo>
                  <a:pt x="859" y="6580"/>
                </a:lnTo>
                <a:lnTo>
                  <a:pt x="2748" y="8338"/>
                </a:lnTo>
                <a:lnTo>
                  <a:pt x="236" y="8555"/>
                </a:lnTo>
                <a:lnTo>
                  <a:pt x="2426" y="992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 flipV="1">
            <a:off x="609480" y="3574440"/>
            <a:ext cx="1454400" cy="1454040"/>
          </a:xfrm>
          <a:custGeom>
            <a:avLst/>
            <a:gdLst>
              <a:gd name="textAreaLeft" fmla="*/ 554400 w 1454400"/>
              <a:gd name="textAreaRight" fmla="*/ 900000 w 1454400"/>
              <a:gd name="textAreaTop" fmla="*/ 554040 h 1454040"/>
              <a:gd name="textAreaBottom" fmla="*/ 900000 h 145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182" y="11117"/>
                </a:lnTo>
                <a:lnTo>
                  <a:pt x="198" y="12861"/>
                </a:lnTo>
                <a:lnTo>
                  <a:pt x="7309" y="11801"/>
                </a:lnTo>
                <a:lnTo>
                  <a:pt x="786" y="14846"/>
                </a:lnTo>
                <a:lnTo>
                  <a:pt x="7593" y="12505"/>
                </a:lnTo>
                <a:lnTo>
                  <a:pt x="1742" y="16682"/>
                </a:lnTo>
                <a:lnTo>
                  <a:pt x="7977" y="13086"/>
                </a:lnTo>
                <a:lnTo>
                  <a:pt x="3163" y="18437"/>
                </a:lnTo>
                <a:lnTo>
                  <a:pt x="8465" y="13582"/>
                </a:lnTo>
                <a:lnTo>
                  <a:pt x="4761" y="19754"/>
                </a:lnTo>
                <a:lnTo>
                  <a:pt x="9039" y="13977"/>
                </a:lnTo>
                <a:lnTo>
                  <a:pt x="6580" y="20741"/>
                </a:lnTo>
                <a:lnTo>
                  <a:pt x="9738" y="14273"/>
                </a:lnTo>
                <a:lnTo>
                  <a:pt x="8555" y="21364"/>
                </a:lnTo>
                <a:lnTo>
                  <a:pt x="10420" y="14412"/>
                </a:lnTo>
                <a:lnTo>
                  <a:pt x="10800" y="21600"/>
                </a:lnTo>
                <a:lnTo>
                  <a:pt x="11117" y="14418"/>
                </a:lnTo>
                <a:lnTo>
                  <a:pt x="12861" y="21402"/>
                </a:lnTo>
                <a:lnTo>
                  <a:pt x="11801" y="14291"/>
                </a:lnTo>
                <a:lnTo>
                  <a:pt x="14846" y="20814"/>
                </a:lnTo>
                <a:lnTo>
                  <a:pt x="12505" y="14007"/>
                </a:lnTo>
                <a:lnTo>
                  <a:pt x="16682" y="19858"/>
                </a:lnTo>
                <a:lnTo>
                  <a:pt x="13086" y="13623"/>
                </a:lnTo>
                <a:lnTo>
                  <a:pt x="18437" y="18437"/>
                </a:lnTo>
                <a:lnTo>
                  <a:pt x="13582" y="13135"/>
                </a:lnTo>
                <a:lnTo>
                  <a:pt x="19754" y="16839"/>
                </a:lnTo>
                <a:lnTo>
                  <a:pt x="13977" y="12561"/>
                </a:lnTo>
                <a:lnTo>
                  <a:pt x="20741" y="15020"/>
                </a:lnTo>
                <a:lnTo>
                  <a:pt x="14273" y="11862"/>
                </a:lnTo>
                <a:lnTo>
                  <a:pt x="21364" y="13045"/>
                </a:lnTo>
                <a:lnTo>
                  <a:pt x="14412" y="11180"/>
                </a:lnTo>
                <a:lnTo>
                  <a:pt x="21600" y="10800"/>
                </a:lnTo>
                <a:lnTo>
                  <a:pt x="14418" y="10483"/>
                </a:lnTo>
                <a:lnTo>
                  <a:pt x="21402" y="8739"/>
                </a:lnTo>
                <a:lnTo>
                  <a:pt x="14291" y="9799"/>
                </a:lnTo>
                <a:lnTo>
                  <a:pt x="20814" y="6754"/>
                </a:lnTo>
                <a:lnTo>
                  <a:pt x="14007" y="9095"/>
                </a:lnTo>
                <a:lnTo>
                  <a:pt x="19858" y="4918"/>
                </a:lnTo>
                <a:lnTo>
                  <a:pt x="13623" y="8514"/>
                </a:lnTo>
                <a:lnTo>
                  <a:pt x="18437" y="3163"/>
                </a:lnTo>
                <a:lnTo>
                  <a:pt x="13135" y="8018"/>
                </a:lnTo>
                <a:lnTo>
                  <a:pt x="16839" y="1846"/>
                </a:lnTo>
                <a:lnTo>
                  <a:pt x="12561" y="7623"/>
                </a:lnTo>
                <a:lnTo>
                  <a:pt x="15020" y="859"/>
                </a:lnTo>
                <a:lnTo>
                  <a:pt x="11862" y="7327"/>
                </a:lnTo>
                <a:lnTo>
                  <a:pt x="13045" y="236"/>
                </a:lnTo>
                <a:lnTo>
                  <a:pt x="11180" y="7188"/>
                </a:lnTo>
                <a:lnTo>
                  <a:pt x="10800" y="0"/>
                </a:lnTo>
                <a:lnTo>
                  <a:pt x="10483" y="7182"/>
                </a:lnTo>
                <a:lnTo>
                  <a:pt x="8739" y="198"/>
                </a:lnTo>
                <a:lnTo>
                  <a:pt x="9799" y="7309"/>
                </a:lnTo>
                <a:lnTo>
                  <a:pt x="6754" y="786"/>
                </a:lnTo>
                <a:lnTo>
                  <a:pt x="9095" y="7593"/>
                </a:lnTo>
                <a:lnTo>
                  <a:pt x="4918" y="1742"/>
                </a:lnTo>
                <a:lnTo>
                  <a:pt x="8514" y="7977"/>
                </a:lnTo>
                <a:lnTo>
                  <a:pt x="3163" y="3163"/>
                </a:lnTo>
                <a:lnTo>
                  <a:pt x="8018" y="8465"/>
                </a:lnTo>
                <a:lnTo>
                  <a:pt x="1846" y="4761"/>
                </a:lnTo>
                <a:lnTo>
                  <a:pt x="7623" y="9039"/>
                </a:lnTo>
                <a:lnTo>
                  <a:pt x="859" y="6580"/>
                </a:lnTo>
                <a:lnTo>
                  <a:pt x="7327" y="9738"/>
                </a:lnTo>
                <a:lnTo>
                  <a:pt x="236" y="8555"/>
                </a:lnTo>
                <a:lnTo>
                  <a:pt x="7188" y="10420"/>
                </a:lnTo>
                <a:lnTo>
                  <a:pt x="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219320" y="380880"/>
            <a:ext cx="3565440" cy="3565800"/>
          </a:xfrm>
          <a:custGeom>
            <a:avLst/>
            <a:gdLst>
              <a:gd name="textAreaLeft" fmla="*/ 799920 w 3565440"/>
              <a:gd name="textAreaRight" fmla="*/ 2765520 w 3565440"/>
              <a:gd name="textAreaTop" fmla="*/ 799920 h 3565800"/>
              <a:gd name="textAreaBottom" fmla="*/ 2765880 h 356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2" y="11534"/>
                </a:lnTo>
                <a:lnTo>
                  <a:pt x="198" y="12861"/>
                </a:lnTo>
                <a:lnTo>
                  <a:pt x="2706" y="13121"/>
                </a:lnTo>
                <a:lnTo>
                  <a:pt x="786" y="14846"/>
                </a:lnTo>
                <a:lnTo>
                  <a:pt x="3366" y="14753"/>
                </a:lnTo>
                <a:lnTo>
                  <a:pt x="1742" y="16682"/>
                </a:lnTo>
                <a:lnTo>
                  <a:pt x="4256" y="16099"/>
                </a:lnTo>
                <a:lnTo>
                  <a:pt x="3163" y="18437"/>
                </a:lnTo>
                <a:lnTo>
                  <a:pt x="5388" y="17250"/>
                </a:lnTo>
                <a:lnTo>
                  <a:pt x="4761" y="19754"/>
                </a:lnTo>
                <a:lnTo>
                  <a:pt x="6718" y="18164"/>
                </a:lnTo>
                <a:lnTo>
                  <a:pt x="6580" y="20741"/>
                </a:lnTo>
                <a:lnTo>
                  <a:pt x="8338" y="18852"/>
                </a:lnTo>
                <a:lnTo>
                  <a:pt x="8555" y="21364"/>
                </a:lnTo>
                <a:lnTo>
                  <a:pt x="9920" y="19174"/>
                </a:lnTo>
                <a:lnTo>
                  <a:pt x="10800" y="21600"/>
                </a:lnTo>
                <a:lnTo>
                  <a:pt x="11534" y="19188"/>
                </a:lnTo>
                <a:lnTo>
                  <a:pt x="12861" y="21402"/>
                </a:lnTo>
                <a:lnTo>
                  <a:pt x="13121" y="18894"/>
                </a:lnTo>
                <a:lnTo>
                  <a:pt x="14846" y="20814"/>
                </a:lnTo>
                <a:lnTo>
                  <a:pt x="14753" y="18234"/>
                </a:lnTo>
                <a:lnTo>
                  <a:pt x="16682" y="19858"/>
                </a:lnTo>
                <a:lnTo>
                  <a:pt x="16099" y="17344"/>
                </a:lnTo>
                <a:lnTo>
                  <a:pt x="18437" y="18437"/>
                </a:lnTo>
                <a:lnTo>
                  <a:pt x="17250" y="16212"/>
                </a:lnTo>
                <a:lnTo>
                  <a:pt x="19754" y="16839"/>
                </a:lnTo>
                <a:lnTo>
                  <a:pt x="18164" y="14882"/>
                </a:lnTo>
                <a:lnTo>
                  <a:pt x="20741" y="15020"/>
                </a:lnTo>
                <a:lnTo>
                  <a:pt x="18852" y="13262"/>
                </a:lnTo>
                <a:lnTo>
                  <a:pt x="21364" y="13045"/>
                </a:lnTo>
                <a:lnTo>
                  <a:pt x="19174" y="11680"/>
                </a:lnTo>
                <a:lnTo>
                  <a:pt x="21600" y="10800"/>
                </a:lnTo>
                <a:lnTo>
                  <a:pt x="19188" y="10066"/>
                </a:lnTo>
                <a:lnTo>
                  <a:pt x="21402" y="8739"/>
                </a:lnTo>
                <a:lnTo>
                  <a:pt x="18894" y="8479"/>
                </a:lnTo>
                <a:lnTo>
                  <a:pt x="20814" y="6754"/>
                </a:lnTo>
                <a:lnTo>
                  <a:pt x="18234" y="6847"/>
                </a:lnTo>
                <a:lnTo>
                  <a:pt x="19858" y="4918"/>
                </a:lnTo>
                <a:lnTo>
                  <a:pt x="17344" y="5501"/>
                </a:lnTo>
                <a:lnTo>
                  <a:pt x="18437" y="3163"/>
                </a:lnTo>
                <a:lnTo>
                  <a:pt x="16212" y="4350"/>
                </a:lnTo>
                <a:lnTo>
                  <a:pt x="16839" y="1846"/>
                </a:lnTo>
                <a:lnTo>
                  <a:pt x="14882" y="3436"/>
                </a:lnTo>
                <a:lnTo>
                  <a:pt x="15020" y="859"/>
                </a:lnTo>
                <a:lnTo>
                  <a:pt x="13262" y="2748"/>
                </a:lnTo>
                <a:lnTo>
                  <a:pt x="13045" y="236"/>
                </a:lnTo>
                <a:lnTo>
                  <a:pt x="11680" y="2426"/>
                </a:lnTo>
                <a:lnTo>
                  <a:pt x="10800" y="0"/>
                </a:lnTo>
                <a:lnTo>
                  <a:pt x="10066" y="2412"/>
                </a:lnTo>
                <a:lnTo>
                  <a:pt x="8739" y="198"/>
                </a:lnTo>
                <a:lnTo>
                  <a:pt x="8479" y="2706"/>
                </a:lnTo>
                <a:lnTo>
                  <a:pt x="6754" y="786"/>
                </a:lnTo>
                <a:lnTo>
                  <a:pt x="6847" y="3366"/>
                </a:lnTo>
                <a:lnTo>
                  <a:pt x="4918" y="1742"/>
                </a:lnTo>
                <a:lnTo>
                  <a:pt x="5501" y="4256"/>
                </a:lnTo>
                <a:lnTo>
                  <a:pt x="3163" y="3163"/>
                </a:lnTo>
                <a:lnTo>
                  <a:pt x="4350" y="5388"/>
                </a:lnTo>
                <a:lnTo>
                  <a:pt x="1846" y="4761"/>
                </a:lnTo>
                <a:lnTo>
                  <a:pt x="3436" y="6718"/>
                </a:lnTo>
                <a:lnTo>
                  <a:pt x="859" y="6580"/>
                </a:lnTo>
                <a:lnTo>
                  <a:pt x="2748" y="8338"/>
                </a:lnTo>
                <a:lnTo>
                  <a:pt x="236" y="8555"/>
                </a:lnTo>
                <a:lnTo>
                  <a:pt x="2426" y="992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b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944960" y="0"/>
            <a:ext cx="3565800" cy="3565440"/>
          </a:xfrm>
          <a:custGeom>
            <a:avLst/>
            <a:gdLst>
              <a:gd name="textAreaLeft" fmla="*/ 1299600 w 3565800"/>
              <a:gd name="textAreaRight" fmla="*/ 2266200 w 3565800"/>
              <a:gd name="textAreaTop" fmla="*/ 1299600 h 3565440"/>
              <a:gd name="textAreaBottom" fmla="*/ 2265840 h 35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677" y="11161"/>
                </a:lnTo>
                <a:lnTo>
                  <a:pt x="198" y="12861"/>
                </a:lnTo>
                <a:lnTo>
                  <a:pt x="6821" y="11941"/>
                </a:lnTo>
                <a:lnTo>
                  <a:pt x="786" y="14846"/>
                </a:lnTo>
                <a:lnTo>
                  <a:pt x="7145" y="12743"/>
                </a:lnTo>
                <a:lnTo>
                  <a:pt x="1742" y="16682"/>
                </a:lnTo>
                <a:lnTo>
                  <a:pt x="7583" y="13405"/>
                </a:lnTo>
                <a:lnTo>
                  <a:pt x="3163" y="18437"/>
                </a:lnTo>
                <a:lnTo>
                  <a:pt x="8140" y="13971"/>
                </a:lnTo>
                <a:lnTo>
                  <a:pt x="4761" y="19754"/>
                </a:lnTo>
                <a:lnTo>
                  <a:pt x="8793" y="14420"/>
                </a:lnTo>
                <a:lnTo>
                  <a:pt x="6580" y="20741"/>
                </a:lnTo>
                <a:lnTo>
                  <a:pt x="9590" y="14758"/>
                </a:lnTo>
                <a:lnTo>
                  <a:pt x="8555" y="21364"/>
                </a:lnTo>
                <a:lnTo>
                  <a:pt x="10367" y="14916"/>
                </a:lnTo>
                <a:lnTo>
                  <a:pt x="10800" y="21600"/>
                </a:lnTo>
                <a:lnTo>
                  <a:pt x="11161" y="14923"/>
                </a:lnTo>
                <a:lnTo>
                  <a:pt x="12861" y="21402"/>
                </a:lnTo>
                <a:lnTo>
                  <a:pt x="11941" y="14779"/>
                </a:lnTo>
                <a:lnTo>
                  <a:pt x="14846" y="20814"/>
                </a:lnTo>
                <a:lnTo>
                  <a:pt x="12743" y="14455"/>
                </a:lnTo>
                <a:lnTo>
                  <a:pt x="16682" y="19858"/>
                </a:lnTo>
                <a:lnTo>
                  <a:pt x="13405" y="14017"/>
                </a:lnTo>
                <a:lnTo>
                  <a:pt x="18437" y="18437"/>
                </a:lnTo>
                <a:lnTo>
                  <a:pt x="13971" y="13460"/>
                </a:lnTo>
                <a:lnTo>
                  <a:pt x="19754" y="16839"/>
                </a:lnTo>
                <a:lnTo>
                  <a:pt x="14420" y="12807"/>
                </a:lnTo>
                <a:lnTo>
                  <a:pt x="20741" y="15020"/>
                </a:lnTo>
                <a:lnTo>
                  <a:pt x="14758" y="12010"/>
                </a:lnTo>
                <a:lnTo>
                  <a:pt x="21364" y="13045"/>
                </a:lnTo>
                <a:lnTo>
                  <a:pt x="14916" y="11233"/>
                </a:lnTo>
                <a:lnTo>
                  <a:pt x="21600" y="10800"/>
                </a:lnTo>
                <a:lnTo>
                  <a:pt x="14923" y="10439"/>
                </a:lnTo>
                <a:lnTo>
                  <a:pt x="21402" y="8739"/>
                </a:lnTo>
                <a:lnTo>
                  <a:pt x="14779" y="9659"/>
                </a:lnTo>
                <a:lnTo>
                  <a:pt x="20814" y="6754"/>
                </a:lnTo>
                <a:lnTo>
                  <a:pt x="14455" y="8857"/>
                </a:lnTo>
                <a:lnTo>
                  <a:pt x="19858" y="4918"/>
                </a:lnTo>
                <a:lnTo>
                  <a:pt x="14017" y="8195"/>
                </a:lnTo>
                <a:lnTo>
                  <a:pt x="18437" y="3163"/>
                </a:lnTo>
                <a:lnTo>
                  <a:pt x="13460" y="7629"/>
                </a:lnTo>
                <a:lnTo>
                  <a:pt x="16839" y="1846"/>
                </a:lnTo>
                <a:lnTo>
                  <a:pt x="12807" y="7180"/>
                </a:lnTo>
                <a:lnTo>
                  <a:pt x="15020" y="859"/>
                </a:lnTo>
                <a:lnTo>
                  <a:pt x="12010" y="6842"/>
                </a:lnTo>
                <a:lnTo>
                  <a:pt x="13045" y="236"/>
                </a:lnTo>
                <a:lnTo>
                  <a:pt x="11233" y="6684"/>
                </a:lnTo>
                <a:lnTo>
                  <a:pt x="10800" y="0"/>
                </a:lnTo>
                <a:lnTo>
                  <a:pt x="10439" y="6677"/>
                </a:lnTo>
                <a:lnTo>
                  <a:pt x="8739" y="198"/>
                </a:lnTo>
                <a:lnTo>
                  <a:pt x="9659" y="6821"/>
                </a:lnTo>
                <a:lnTo>
                  <a:pt x="6754" y="786"/>
                </a:lnTo>
                <a:lnTo>
                  <a:pt x="8857" y="7145"/>
                </a:lnTo>
                <a:lnTo>
                  <a:pt x="4918" y="1742"/>
                </a:lnTo>
                <a:lnTo>
                  <a:pt x="8195" y="7583"/>
                </a:lnTo>
                <a:lnTo>
                  <a:pt x="3163" y="3163"/>
                </a:lnTo>
                <a:lnTo>
                  <a:pt x="7629" y="8140"/>
                </a:lnTo>
                <a:lnTo>
                  <a:pt x="1846" y="4761"/>
                </a:lnTo>
                <a:lnTo>
                  <a:pt x="7180" y="8793"/>
                </a:lnTo>
                <a:lnTo>
                  <a:pt x="859" y="6580"/>
                </a:lnTo>
                <a:lnTo>
                  <a:pt x="6842" y="9590"/>
                </a:lnTo>
                <a:lnTo>
                  <a:pt x="236" y="8555"/>
                </a:lnTo>
                <a:lnTo>
                  <a:pt x="6684" y="1036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419720" y="3962520"/>
            <a:ext cx="2485800" cy="2485800"/>
          </a:xfrm>
          <a:custGeom>
            <a:avLst/>
            <a:gdLst>
              <a:gd name="textAreaLeft" fmla="*/ 557640 w 2485800"/>
              <a:gd name="textAreaRight" fmla="*/ 1928160 w 2485800"/>
              <a:gd name="textAreaTop" fmla="*/ 557640 h 2485800"/>
              <a:gd name="textAreaBottom" fmla="*/ 1928160 h 24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2" y="11534"/>
                </a:lnTo>
                <a:lnTo>
                  <a:pt x="198" y="12861"/>
                </a:lnTo>
                <a:lnTo>
                  <a:pt x="2706" y="13121"/>
                </a:lnTo>
                <a:lnTo>
                  <a:pt x="786" y="14846"/>
                </a:lnTo>
                <a:lnTo>
                  <a:pt x="3366" y="14753"/>
                </a:lnTo>
                <a:lnTo>
                  <a:pt x="1742" y="16682"/>
                </a:lnTo>
                <a:lnTo>
                  <a:pt x="4256" y="16099"/>
                </a:lnTo>
                <a:lnTo>
                  <a:pt x="3163" y="18437"/>
                </a:lnTo>
                <a:lnTo>
                  <a:pt x="5388" y="17250"/>
                </a:lnTo>
                <a:lnTo>
                  <a:pt x="4761" y="19754"/>
                </a:lnTo>
                <a:lnTo>
                  <a:pt x="6718" y="18164"/>
                </a:lnTo>
                <a:lnTo>
                  <a:pt x="6580" y="20741"/>
                </a:lnTo>
                <a:lnTo>
                  <a:pt x="8338" y="18852"/>
                </a:lnTo>
                <a:lnTo>
                  <a:pt x="8555" y="21364"/>
                </a:lnTo>
                <a:lnTo>
                  <a:pt x="9920" y="19174"/>
                </a:lnTo>
                <a:lnTo>
                  <a:pt x="10800" y="21600"/>
                </a:lnTo>
                <a:lnTo>
                  <a:pt x="11534" y="19188"/>
                </a:lnTo>
                <a:lnTo>
                  <a:pt x="12861" y="21402"/>
                </a:lnTo>
                <a:lnTo>
                  <a:pt x="13121" y="18894"/>
                </a:lnTo>
                <a:lnTo>
                  <a:pt x="14846" y="20814"/>
                </a:lnTo>
                <a:lnTo>
                  <a:pt x="14753" y="18234"/>
                </a:lnTo>
                <a:lnTo>
                  <a:pt x="16682" y="19858"/>
                </a:lnTo>
                <a:lnTo>
                  <a:pt x="16099" y="17344"/>
                </a:lnTo>
                <a:lnTo>
                  <a:pt x="18437" y="18437"/>
                </a:lnTo>
                <a:lnTo>
                  <a:pt x="17250" y="16212"/>
                </a:lnTo>
                <a:lnTo>
                  <a:pt x="19754" y="16839"/>
                </a:lnTo>
                <a:lnTo>
                  <a:pt x="18164" y="14882"/>
                </a:lnTo>
                <a:lnTo>
                  <a:pt x="20741" y="15020"/>
                </a:lnTo>
                <a:lnTo>
                  <a:pt x="18852" y="13262"/>
                </a:lnTo>
                <a:lnTo>
                  <a:pt x="21364" y="13045"/>
                </a:lnTo>
                <a:lnTo>
                  <a:pt x="19174" y="11680"/>
                </a:lnTo>
                <a:lnTo>
                  <a:pt x="21600" y="10800"/>
                </a:lnTo>
                <a:lnTo>
                  <a:pt x="19188" y="10066"/>
                </a:lnTo>
                <a:lnTo>
                  <a:pt x="21402" y="8739"/>
                </a:lnTo>
                <a:lnTo>
                  <a:pt x="18894" y="8479"/>
                </a:lnTo>
                <a:lnTo>
                  <a:pt x="20814" y="6754"/>
                </a:lnTo>
                <a:lnTo>
                  <a:pt x="18234" y="6847"/>
                </a:lnTo>
                <a:lnTo>
                  <a:pt x="19858" y="4918"/>
                </a:lnTo>
                <a:lnTo>
                  <a:pt x="17344" y="5501"/>
                </a:lnTo>
                <a:lnTo>
                  <a:pt x="18437" y="3163"/>
                </a:lnTo>
                <a:lnTo>
                  <a:pt x="16212" y="4350"/>
                </a:lnTo>
                <a:lnTo>
                  <a:pt x="16839" y="1846"/>
                </a:lnTo>
                <a:lnTo>
                  <a:pt x="14882" y="3436"/>
                </a:lnTo>
                <a:lnTo>
                  <a:pt x="15020" y="859"/>
                </a:lnTo>
                <a:lnTo>
                  <a:pt x="13262" y="2748"/>
                </a:lnTo>
                <a:lnTo>
                  <a:pt x="13045" y="236"/>
                </a:lnTo>
                <a:lnTo>
                  <a:pt x="11680" y="2426"/>
                </a:lnTo>
                <a:lnTo>
                  <a:pt x="10800" y="0"/>
                </a:lnTo>
                <a:lnTo>
                  <a:pt x="10066" y="2412"/>
                </a:lnTo>
                <a:lnTo>
                  <a:pt x="8739" y="198"/>
                </a:lnTo>
                <a:lnTo>
                  <a:pt x="8479" y="2706"/>
                </a:lnTo>
                <a:lnTo>
                  <a:pt x="6754" y="786"/>
                </a:lnTo>
                <a:lnTo>
                  <a:pt x="6847" y="3366"/>
                </a:lnTo>
                <a:lnTo>
                  <a:pt x="4918" y="1742"/>
                </a:lnTo>
                <a:lnTo>
                  <a:pt x="5501" y="4256"/>
                </a:lnTo>
                <a:lnTo>
                  <a:pt x="3163" y="3163"/>
                </a:lnTo>
                <a:lnTo>
                  <a:pt x="4350" y="5388"/>
                </a:lnTo>
                <a:lnTo>
                  <a:pt x="1846" y="4761"/>
                </a:lnTo>
                <a:lnTo>
                  <a:pt x="3436" y="6718"/>
                </a:lnTo>
                <a:lnTo>
                  <a:pt x="859" y="6580"/>
                </a:lnTo>
                <a:lnTo>
                  <a:pt x="2748" y="8338"/>
                </a:lnTo>
                <a:lnTo>
                  <a:pt x="236" y="8555"/>
                </a:lnTo>
                <a:lnTo>
                  <a:pt x="2426" y="992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6494400" y="1655640"/>
            <a:ext cx="420840" cy="427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798480" y="5168880"/>
            <a:ext cx="2882880" cy="15526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Stars 3D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66" name="McK Footnote"/>
          <p:cNvSpPr/>
          <p:nvPr/>
        </p:nvSpPr>
        <p:spPr>
          <a:xfrm>
            <a:off x="104760" y="6199200"/>
            <a:ext cx="8615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资料来源：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McK Measure"/>
          <p:cNvSpPr/>
          <p:nvPr/>
        </p:nvSpPr>
        <p:spPr>
          <a:xfrm>
            <a:off x="104760" y="746280"/>
            <a:ext cx="66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of mea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4:29:34Z</dcterms:created>
  <dc:creator>GCO</dc:creator>
  <dc:description/>
  <dc:language>en-US</dc:language>
  <cp:lastModifiedBy>Administrator</cp:lastModifiedBy>
  <cp:lastPrinted>1998-04-10T09:21:54Z</cp:lastPrinted>
  <dcterms:modified xsi:type="dcterms:W3CDTF">2009-12-16T05:14:56Z</dcterms:modified>
  <cp:revision>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ID">
    <vt:lpwstr>GBUTtem</vt:lpwstr>
  </property>
  <property fmtid="{D5CDD505-2E9C-101B-9397-08002B2CF9AE}" pid="3" name="DocIDPosition">
    <vt:r8>0</vt:r8>
  </property>
  <property fmtid="{D5CDD505-2E9C-101B-9397-08002B2CF9AE}" pid="4" name="DocIDinSlide">
    <vt:bool>1</vt:bool>
  </property>
  <property fmtid="{D5CDD505-2E9C-101B-9397-08002B2CF9AE}" pid="5" name="DocIDinTitle">
    <vt:bool>1</vt:bool>
  </property>
  <property fmtid="{D5CDD505-2E9C-101B-9397-08002B2CF9AE}" pid="6" name="Universal Objects">
    <vt:bool>1</vt:bool>
  </property>
</Properties>
</file>