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f077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AEF0C-5DEC-45B5-BA1D-917FCD33C8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213984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984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f07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09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GB" sz="1200" spc="-1" strike="noStrike">
                <a:solidFill>
                  <a:srgbClr val="3f077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f077f"/>
                </a:solidFill>
                <a:latin typeface="Times New Roman"/>
                <a:ea typeface="Lucida Sans Unicode"/>
              </a:rPr>
              <a:t>© Cable Television Laboratories, Inc. 2005.  All Rights Reserved.  Proprietary/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0"/>
            <a:ext cx="2438280" cy="152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077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2074680" cy="3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f07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985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3f077f"/>
                </a:solidFill>
                <a:latin typeface="Arial"/>
              </a:rPr>
              <a:t>Edge Resource Management Interface (ERMI)</a:t>
            </a:r>
            <a:br>
              <a:rPr sz="3600"/>
            </a:br>
            <a:r>
              <a:rPr b="1" lang="en-GB" sz="3600" spc="-1" strike="noStrike">
                <a:solidFill>
                  <a:srgbClr val="3f077f"/>
                </a:solidFill>
                <a:latin typeface="Arial"/>
              </a:rPr>
              <a:t>Tutorial</a:t>
            </a: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Xiaomei Liu, Cisco Systems </a:t>
            </a:r>
            <a:br>
              <a:rPr sz="20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xiaoliu@cisco.com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Doc Evans, ARRIS International</a:t>
            </a:r>
            <a:br>
              <a:rPr sz="20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N7DR@arrisi.com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23 August, 2005</a:t>
            </a:r>
            <a:endParaRPr b="0" lang="en-US" sz="20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. R. Evans</dc:creator>
  <dc:description/>
  <dc:language>en-US</dc:language>
  <cp:lastModifiedBy>D. R. Evans</cp:lastModifiedBy>
  <cp:revision>0</cp:revision>
  <dc:subject/>
  <dc:title>ERMI</dc:title>
</cp:coreProperties>
</file>