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4ED-9804-4343-BAC7-D5E15F82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6AC-7315-448A-B3AC-215AF155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298-217B-42B8-B090-72C27C62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CA6-9EDB-44FB-A5B0-BB8C4C7F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1F5-354F-4011-96DC-B680FD05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555-A45F-4D80-BE8E-239FD28B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98F-03D4-492E-A529-C9CEAB9E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722-3B26-4318-8964-DBC92E5D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236-6C71-479B-B20D-99DB1F1A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765-98BD-4EA7-932F-8213A152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FB2-5110-4F22-83A2-AE084776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0E1-565F-494F-A1FF-2FDCC337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1C94-8290-4B05-9BB6-91CF702D0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 flipH="1">
            <a:off x="2629800" y="2225520"/>
            <a:ext cx="3183480" cy="1426320"/>
          </a:xfrm>
          <a:prstGeom prst="curvedConnector5">
            <a:avLst>
              <a:gd name="adj1" fmla="val -7170"/>
              <a:gd name="adj2" fmla="val 59227"/>
              <a:gd name="adj3" fmla="val -717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2:26:47Z</dcterms:created>
  <dc:creator>dmbr</dc:creator>
  <dc:description/>
  <dc:language>en-US</dc:language>
  <cp:lastModifiedBy>dmbr</cp:lastModifiedBy>
  <dcterms:modified xsi:type="dcterms:W3CDTF">2005-10-13T12:26:55Z</dcterms:modified>
  <cp:revision>1</cp:revision>
  <dc:subject/>
  <dc:title>PowerPoint Presentation</dc:title>
</cp:coreProperties>
</file>