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738B-E7F5-49D9-B34E-DB00EABCC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8F2E-8B5E-4AE3-A760-FC83E18A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40C8-C8FB-4694-A14E-C1F9948B5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F324-A98A-4143-ACBF-466E446A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3DB2-4E88-414C-A1CA-7A289C1D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7822-C541-41A2-9F24-55106ADC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8361-308E-4FFE-88F4-C1C6228F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FD8F-E0E7-4FE4-BEC5-09CCBA31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B143-A683-4B4F-8AEC-5F6A8E63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69EE-C46B-4614-A1E1-64D18BC4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B95D-9039-44A0-B1E4-6EE91A59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F403-3E84-4C63-9C36-CDE78720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8CD8-88E3-4CBD-BECB-07F66BACD97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3"/>
          <p:cNvSpPr/>
          <p:nvPr/>
        </p:nvSpPr>
        <p:spPr>
          <a:xfrm>
            <a:off x="500040" y="785880"/>
            <a:ext cx="1857240" cy="1285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Isosceles Triangle 4"/>
          <p:cNvSpPr/>
          <p:nvPr/>
        </p:nvSpPr>
        <p:spPr>
          <a:xfrm>
            <a:off x="214200" y="2000160"/>
            <a:ext cx="1214640" cy="19288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hape 6"/>
          <p:cNvCxnSpPr>
            <a:stCxn id="41" idx="1"/>
            <a:endCxn id="42" idx="5"/>
          </p:cNvCxnSpPr>
          <p:nvPr/>
        </p:nvCxnSpPr>
        <p:spPr>
          <a:xfrm flipH="1" rot="16200000">
            <a:off x="-46440" y="1792440"/>
            <a:ext cx="1990800" cy="353880"/>
          </a:xfrm>
          <a:prstGeom prst="curvedConnector4">
            <a:avLst>
              <a:gd name="adj1" fmla="val -9151"/>
              <a:gd name="adj2" fmla="val 503971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0:33:15Z</dcterms:created>
  <dc:creator>Sun Microsystems GmbH</dc:creator>
  <dc:description/>
  <dc:language>en-US</dc:language>
  <cp:lastModifiedBy>Sun Microsystems GmbH</cp:lastModifiedBy>
  <dcterms:modified xsi:type="dcterms:W3CDTF">2008-09-09T10:34:17Z</dcterms:modified>
  <cp:revision>1</cp:revision>
  <dc:subject/>
  <dc:title>Slide 1</dc:title>
</cp:coreProperties>
</file>