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BE3-AB0A-445E-ABF1-260F86CB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DF7-BFFF-458F-A38D-AC946050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E92-6C2A-4750-87FE-CB46182C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D0A-C015-4E50-9756-2D51701D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05A-D89B-4B6C-AFE0-603AE234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0A7-3D04-4727-BD37-9E93453C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AD7-2A7B-4415-99DA-B45C5F94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72B-DFEA-4470-860C-8EF0F890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4DD-F603-48AC-8C12-99D73DAC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78B-7847-4797-875B-3D97D7B5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E9E-9085-406A-A8C4-30E5F079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6E0-6070-48CB-8E97-7B85BC8B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2495-B2C8-4277-9816-2B21F77D24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905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144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2" idx="3"/>
            <a:endCxn id="41" idx="1"/>
          </p:cNvCxnSpPr>
          <p:nvPr/>
        </p:nvCxnSpPr>
        <p:spPr>
          <a:xfrm>
            <a:off x="1143000" y="1181160"/>
            <a:ext cx="609840" cy="99072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886200" y="990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1981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3"/>
            <a:endCxn id="44" idx="1"/>
          </p:cNvCxnSpPr>
          <p:nvPr/>
        </p:nvCxnSpPr>
        <p:spPr>
          <a:xfrm flipV="1">
            <a:off x="3352680" y="1257120"/>
            <a:ext cx="53388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24382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2133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838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72400" y="2209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838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9" idx="2"/>
            <a:endCxn id="48" idx="0"/>
          </p:cNvCxnSpPr>
          <p:nvPr/>
        </p:nvCxnSpPr>
        <p:spPr>
          <a:xfrm rot="5400000">
            <a:off x="5257440" y="1562040"/>
            <a:ext cx="762480" cy="3812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1" idx="2"/>
            <a:endCxn id="50" idx="0"/>
          </p:cNvCxnSpPr>
          <p:nvPr/>
        </p:nvCxnSpPr>
        <p:spPr>
          <a:xfrm flipH="1" rot="16200000">
            <a:off x="7200720" y="1371240"/>
            <a:ext cx="8384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457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5" idx="1"/>
            <a:endCxn id="54" idx="3"/>
          </p:cNvCxnSpPr>
          <p:nvPr/>
        </p:nvCxnSpPr>
        <p:spPr>
          <a:xfrm flipV="1" rot="10800000">
            <a:off x="990360" y="3695760"/>
            <a:ext cx="609840" cy="12193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7" idx="1"/>
            <a:endCxn id="56" idx="3"/>
          </p:cNvCxnSpPr>
          <p:nvPr/>
        </p:nvCxnSpPr>
        <p:spPr>
          <a:xfrm rot="10800000">
            <a:off x="3504960" y="3695400"/>
            <a:ext cx="609840" cy="11433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181480" y="3276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0"/>
            <a:endCxn id="60" idx="2"/>
          </p:cNvCxnSpPr>
          <p:nvPr/>
        </p:nvCxnSpPr>
        <p:spPr>
          <a:xfrm flipV="1" rot="16200000">
            <a:off x="5410080" y="3847680"/>
            <a:ext cx="838800" cy="762480"/>
          </a:xfrm>
          <a:prstGeom prst="bentConnector3">
            <a:avLst>
              <a:gd name="adj1" fmla="val 500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143000" y="944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057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1371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14479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429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3736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4419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3" idx="0"/>
            <a:endCxn id="62" idx="2"/>
          </p:cNvCxnSpPr>
          <p:nvPr/>
        </p:nvCxnSpPr>
        <p:spPr>
          <a:xfrm flipH="1" flipV="1" rot="5400000">
            <a:off x="7657920" y="4114800"/>
            <a:ext cx="686160" cy="381240"/>
          </a:xfrm>
          <a:prstGeom prst="bentConnector3">
            <a:avLst>
              <a:gd name="adj1" fmla="val 500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382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/>
          <p:nvPr/>
        </p:nvCxnSpPr>
        <p:spPr>
          <a:xfrm flipH="1" rot="16200000">
            <a:off x="761040" y="2438280"/>
            <a:ext cx="1448640" cy="99108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/>
          <p:nvPr/>
        </p:nvCxnSpPr>
        <p:spPr>
          <a:xfrm flipH="1" rot="16200000">
            <a:off x="1904040" y="2438280"/>
            <a:ext cx="1448640" cy="991080"/>
          </a:xfrm>
          <a:prstGeom prst="bentConnector3">
            <a:avLst>
              <a:gd name="adj1" fmla="val 208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/>
          <p:nvPr/>
        </p:nvCxnSpPr>
        <p:spPr>
          <a:xfrm flipH="1" rot="16200000">
            <a:off x="3275640" y="2438280"/>
            <a:ext cx="1448640" cy="991080"/>
          </a:xfrm>
          <a:prstGeom prst="bentConnector3">
            <a:avLst>
              <a:gd name="adj1" fmla="val -3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 rot="16200000">
            <a:off x="4875840" y="2438280"/>
            <a:ext cx="1448640" cy="991080"/>
          </a:xfrm>
          <a:prstGeom prst="bentConnector3">
            <a:avLst>
              <a:gd name="adj1" fmla="val 778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6324480" y="2437920"/>
            <a:ext cx="1448640" cy="991440"/>
          </a:xfrm>
          <a:prstGeom prst="bentConnector3">
            <a:avLst>
              <a:gd name="adj1" fmla="val 892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rot="10800000">
            <a:off x="304200" y="4494960"/>
            <a:ext cx="1296000" cy="6865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837720" y="914400"/>
            <a:ext cx="114372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2133360" y="914400"/>
            <a:ext cx="1143720" cy="838800"/>
          </a:xfrm>
          <a:prstGeom prst="bentConnector3">
            <a:avLst>
              <a:gd name="adj1" fmla="val 20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>
            <a:off x="3352320" y="914400"/>
            <a:ext cx="1143720" cy="838800"/>
          </a:xfrm>
          <a:prstGeom prst="bentConnector3">
            <a:avLst>
              <a:gd name="adj1" fmla="val 17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/>
          <p:nvPr/>
        </p:nvCxnSpPr>
        <p:spPr>
          <a:xfrm>
            <a:off x="4343040" y="914400"/>
            <a:ext cx="1143720" cy="838800"/>
          </a:xfrm>
          <a:prstGeom prst="bentConnector3">
            <a:avLst>
              <a:gd name="adj1" fmla="val 758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>
            <a:off x="5790960" y="914400"/>
            <a:ext cx="1143720" cy="838800"/>
          </a:xfrm>
          <a:prstGeom prst="bentConnector3">
            <a:avLst>
              <a:gd name="adj1" fmla="val 903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 rot="10800000">
            <a:off x="1370880" y="4494960"/>
            <a:ext cx="1296000" cy="686520"/>
          </a:xfrm>
          <a:prstGeom prst="bentConnector3">
            <a:avLst>
              <a:gd name="adj1" fmla="val 74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/>
          <p:nvPr/>
        </p:nvCxnSpPr>
        <p:spPr>
          <a:xfrm rot="10800000">
            <a:off x="2818800" y="4494960"/>
            <a:ext cx="1296000" cy="686520"/>
          </a:xfrm>
          <a:prstGeom prst="bentConnector3">
            <a:avLst>
              <a:gd name="adj1" fmla="val 932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rot="10800000">
            <a:off x="3961800" y="4494960"/>
            <a:ext cx="1296000" cy="686520"/>
          </a:xfrm>
          <a:prstGeom prst="bentConnector3">
            <a:avLst>
              <a:gd name="adj1" fmla="val 134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/>
          <p:nvPr/>
        </p:nvCxnSpPr>
        <p:spPr>
          <a:xfrm rot="10800000">
            <a:off x="5637960" y="4494960"/>
            <a:ext cx="1296360" cy="686520"/>
          </a:xfrm>
          <a:prstGeom prst="bentConnector3">
            <a:avLst>
              <a:gd name="adj1" fmla="val 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/>
          <p:nvPr/>
        </p:nvCxnSpPr>
        <p:spPr>
          <a:xfrm flipH="1" flipV="1" rot="5400000">
            <a:off x="380520" y="5638320"/>
            <a:ext cx="1219680" cy="6102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/>
          <p:nvPr/>
        </p:nvCxnSpPr>
        <p:spPr>
          <a:xfrm flipH="1" flipV="1" rot="5400000">
            <a:off x="1294920" y="5638320"/>
            <a:ext cx="1219680" cy="610200"/>
          </a:xfrm>
          <a:prstGeom prst="bentConnector3">
            <a:avLst>
              <a:gd name="adj1" fmla="val 242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H="1" flipV="1" rot="5400000">
            <a:off x="2361960" y="5638320"/>
            <a:ext cx="1219680" cy="610560"/>
          </a:xfrm>
          <a:prstGeom prst="bentConnector3">
            <a:avLst>
              <a:gd name="adj1" fmla="val 145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 flipH="1" flipV="1" rot="5400000">
            <a:off x="3428640" y="5638320"/>
            <a:ext cx="1219680" cy="610200"/>
          </a:xfrm>
          <a:prstGeom prst="bentConnector3">
            <a:avLst>
              <a:gd name="adj1" fmla="val 798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flipV="1" rot="5400000">
            <a:off x="4571640" y="5638320"/>
            <a:ext cx="1219680" cy="610200"/>
          </a:xfrm>
          <a:prstGeom prst="bentConnector3">
            <a:avLst>
              <a:gd name="adj1" fmla="val 89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H="1" flipV="1" rot="5400000">
            <a:off x="6171840" y="5638320"/>
            <a:ext cx="1219680" cy="610200"/>
          </a:xfrm>
          <a:prstGeom prst="bentConnector3">
            <a:avLst>
              <a:gd name="adj1" fmla="val 10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 flipH="1" flipV="1">
            <a:off x="7391160" y="4494960"/>
            <a:ext cx="1296000" cy="686520"/>
          </a:xfrm>
          <a:prstGeom prst="bentConnector3">
            <a:avLst>
              <a:gd name="adj1" fmla="val -221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H="1" rot="16200000">
            <a:off x="7467480" y="2285640"/>
            <a:ext cx="1448640" cy="991440"/>
          </a:xfrm>
          <a:prstGeom prst="bentConnector3">
            <a:avLst>
              <a:gd name="adj1" fmla="val 1101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7162560" y="914400"/>
            <a:ext cx="1143720" cy="838800"/>
          </a:xfrm>
          <a:prstGeom prst="bentConnector3">
            <a:avLst>
              <a:gd name="adj1" fmla="val 1247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H="1" flipV="1" rot="5400000">
            <a:off x="7162560" y="5866920"/>
            <a:ext cx="1219680" cy="610560"/>
          </a:xfrm>
          <a:prstGeom prst="bentConnector3">
            <a:avLst>
              <a:gd name="adj1" fmla="val 141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5T07:07:40Z</dcterms:created>
  <dc:creator>sunying</dc:creator>
  <dc:description/>
  <dc:language>en-US</dc:language>
  <cp:lastModifiedBy>sunying</cp:lastModifiedBy>
  <dcterms:modified xsi:type="dcterms:W3CDTF">2012-09-21T08:46:06Z</dcterms:modified>
  <cp:revision>35</cp:revision>
  <dc:subject/>
  <dc:title>幻灯片 1</dc:title>
</cp:coreProperties>
</file>