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8931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93160"/>
              <a:gd name="textAreaBottom" fmla="*/ 9892800 h 9893160"/>
            </a:gdLst>
            <a:ahLst/>
            <a:rect l="textAreaLeft" t="textAreaTop" r="textAreaRight" b="textAreaBottom"/>
            <a:pathLst>
              <a:path w="21600" h="31686">
                <a:moveTo>
                  <a:pt x="5" y="0"/>
                </a:moveTo>
                <a:arcTo wR="5" hR="5" stAng="16200000" swAng="-5400000"/>
                <a:lnTo>
                  <a:pt x="0" y="31681"/>
                </a:lnTo>
                <a:arcTo wR="5" hR="5" stAng="10800000" swAng="-5400000"/>
                <a:lnTo>
                  <a:pt x="21595" y="3168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8931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93160"/>
              <a:gd name="textAreaBottom" fmla="*/ 9892800 h 9893160"/>
            </a:gdLst>
            <a:ahLst/>
            <a:rect l="textAreaLeft" t="textAreaTop" r="textAreaRight" b="textAreaBottom"/>
            <a:pathLst>
              <a:path w="21600" h="31686">
                <a:moveTo>
                  <a:pt x="5" y="0"/>
                </a:moveTo>
                <a:arcTo wR="5" hR="5" stAng="16200000" swAng="-5400000"/>
                <a:lnTo>
                  <a:pt x="0" y="31681"/>
                </a:lnTo>
                <a:arcTo wR="5" hR="5" stAng="10800000" swAng="-5400000"/>
                <a:lnTo>
                  <a:pt x="21595" y="3168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21040" y="-360"/>
            <a:ext cx="291960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352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9640" y="4699080"/>
            <a:ext cx="4940280" cy="4449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397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21040" y="9397800"/>
            <a:ext cx="291960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CFCBD-04B6-4703-B9C6-C853069572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21040" y="9398160"/>
            <a:ext cx="29228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1340A-2CF2-4E06-B5F7-E066814956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398160"/>
            <a:ext cx="292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1040" y="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7920" y="74916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00000" y="4698720"/>
            <a:ext cx="49420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5D3D-18E7-4638-89A9-39EB782C0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7739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0480" y="3738240"/>
            <a:ext cx="7739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DB28-554B-46A6-9247-95CED24CD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048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60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0494-0D5D-4465-94BC-09EBF2092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320" y="108540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4160" y="108540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0480" y="373824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320" y="373824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4160" y="373824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C886-933C-4D0E-A3D2-F4F89BFDF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0480" y="1085400"/>
            <a:ext cx="773928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1F69-70FD-4240-9A1E-2EF7B6A97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77392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9A3F-3AFB-459B-9F7C-2FF4063D5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80C7-FB76-484A-9957-16A91124A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71B2-A9B9-4C56-B687-F9D04CB29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70920"/>
            <a:ext cx="75927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8EB1-9B56-46DD-9B71-10F502151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048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7DEE-690F-45C2-8C3B-75C0C8055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60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AD36-65B7-4719-9492-066BA65E3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0480" y="3738240"/>
            <a:ext cx="7739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6632-B24C-4425-91ED-C197157DB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0480" y="1085400"/>
            <a:ext cx="77392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901"/>
              </a:spcBef>
              <a:buClr>
                <a:srgbClr val="808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0120" y="819000"/>
            <a:ext cx="7867440" cy="1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289260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13200" y="6381360"/>
            <a:ext cx="1581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98E07-9FC5-4EC7-915E-B35167A0B7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917280"/>
            <a:ext cx="8050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..............................................................................................................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......................................................................................................................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nhancement: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0A5B-90B6-495D-8A03-D6ABFD8705B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簡報</dc:title>
</cp:coreProperties>
</file>