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974B-7687-498C-B7C9-8AD6392EB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9FC5-FFF7-47DE-BA30-4B7ECAF6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69D3-B4CF-415C-8A62-B9B5B4B83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784F-5D61-4032-9115-F119C78CF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5D1F-E640-4D0C-A99F-EE5B0710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3EB3-67EB-4F3D-B8AE-2BBFF55E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A97C-4197-4057-993E-B7F9F8D6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20FA-CA30-4802-BA8A-5A82784A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D688-9E46-40DB-8BC9-6E7DBC58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DB7C-669A-49FB-9809-3F45FE2F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8D68-DE99-45F2-8666-6F3F52F5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EE2C-CF65-488E-8835-D70DEF00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2533-88B6-43D5-91BC-EEFCCF7FB8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Grid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的发展现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Wingdings"/>
                <a:ea typeface="Wingdings"/>
              </a:rPr>
              <a:t>开放的、层次结构的体系结构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法。这种方法以阿岗实验室的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Globus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为代表。它不构造一个完整的系统，而只是一套底层的开发工具。这种方法借鉴了因特网和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Unix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的开发路线，应用面和影响最广。</a:t>
            </a:r>
            <a:r>
              <a:rPr b="0" lang="zh-CN" sz="3200" spc="-1" strike="noStrike">
                <a:solidFill>
                  <a:srgbClr val="0000cc"/>
                </a:solidFill>
                <a:latin typeface="Wingdings"/>
                <a:ea typeface="Wingdings"/>
              </a:rPr>
              <a:t>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以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Web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为界面的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WebFlow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的三层结构，提倡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Object_Web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，后台使用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Globus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Corba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Dcom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Grid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的发展现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各种应用的开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以数据处理为中心的应用和工具越来越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ri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计算需要全世界的参与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lobe Grid Foru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组织，以及欧洲和亚太地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ri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论坛等起了很大的作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07:25:02Z</dcterms:created>
  <dc:creator>weihongtao</dc:creator>
  <dc:description/>
  <dc:language>en-US</dc:language>
  <cp:lastModifiedBy>weihongtao</cp:lastModifiedBy>
  <dcterms:modified xsi:type="dcterms:W3CDTF">2004-08-26T06:35:09Z</dcterms:modified>
  <cp:revision>2</cp:revision>
  <dc:subject/>
  <dc:title>Grid 的发展现状</dc:title>
</cp:coreProperties>
</file>