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B4E1-A6C3-4D15-A5DB-42C13D48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D7DD-06B0-4CE4-97FF-BEDF8CDF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0473-EF94-4A9F-BDAB-4B945A07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0A03-21A3-42EB-AC06-C0B02993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6674-C808-45E7-8501-1A6B8D24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94CE-F457-43ED-97F4-3DF062DC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6B51-524C-4833-BD43-4663F109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0A0C-887E-4840-ADF5-B5F35AD4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73EA-EF26-4E5C-8DC5-042D1BF2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1AA7-67FB-4F3F-8F65-6DD99262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527F-DEFA-4E53-A755-7F25F3FE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F738-68CB-4EB4-A334-185BCDFA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835F-961E-437E-8CC7-57DB52FB2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c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5661000"/>
            <a:ext cx="82803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Monotype Corsiva"/>
              </a:rPr>
              <a:t>Когда даришь от души, даришь самое лучшее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287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47628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СЕТЬ МАГАЗИНОВ ПОДАРКИ И ОТКРЫ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7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20:39:38Z</dcterms:created>
  <dc:creator>Ханбекова</dc:creator>
  <dc:description/>
  <dc:language>en-US</dc:language>
  <cp:lastModifiedBy>Irina Ivanovna Ovsiankina</cp:lastModifiedBy>
  <dcterms:modified xsi:type="dcterms:W3CDTF">2008-03-31T10:43:43Z</dcterms:modified>
  <cp:revision>77</cp:revision>
  <dc:subject/>
  <dc:title>Слайд 1</dc:title>
</cp:coreProperties>
</file>