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29E-7869-4C98-AA40-85008295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24D-87A7-4DFB-9944-A0E45F66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9F4-21A4-473D-8975-28A6FB1E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427-0F51-4CBA-A1A0-9963827D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18C-6156-4593-B904-17A7CFB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2C4-1F99-4440-BBFF-8DD002A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7D0-6746-4D3B-AC74-BBC3EF2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F5B-2274-482F-BA0C-8917EAD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0E2-932E-4918-BE91-8692666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27D-087D-4957-8B3F-891E747F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470-1061-433A-A977-E3CE6E8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100-0C2A-4364-B659-C2431D4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574-CD49-4A85-9CC4-769B7E2C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5835" t="52668" r="22085" b="21335"/>
          <a:stretch/>
        </p:blipFill>
        <p:spPr>
          <a:xfrm>
            <a:off x="2895480" y="2819520"/>
            <a:ext cx="4419720" cy="223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2" name="Group 69"/>
          <p:cNvGrpSpPr/>
          <p:nvPr/>
        </p:nvGrpSpPr>
        <p:grpSpPr>
          <a:xfrm>
            <a:off x="885960" y="733680"/>
            <a:ext cx="4340520" cy="2304720"/>
            <a:chOff x="885960" y="733680"/>
            <a:chExt cx="4340520" cy="2304720"/>
          </a:xfrm>
        </p:grpSpPr>
        <p:sp>
          <p:nvSpPr>
            <p:cNvPr id="43" name="Right Arrow 70"/>
            <p:cNvSpPr/>
            <p:nvPr/>
          </p:nvSpPr>
          <p:spPr>
            <a:xfrm rot="20112000">
              <a:off x="762120" y="1676160"/>
              <a:ext cx="4587840" cy="419040"/>
            </a:xfrm>
            <a:prstGeom prst="rightArrow">
              <a:avLst>
                <a:gd name="adj1" fmla="val 50000"/>
                <a:gd name="adj2" fmla="val 50180"/>
              </a:avLst>
            </a:prstGeom>
            <a:solidFill>
              <a:srgbClr val="bbe0e3"/>
            </a:solidFill>
            <a:ln w="1260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75"/>
            <p:cNvSpPr/>
            <p:nvPr/>
          </p:nvSpPr>
          <p:spPr>
            <a:xfrm rot="20046000">
              <a:off x="1512360" y="1731600"/>
              <a:ext cx="300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672280" y="502920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bitmap showing what you should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1:59:52Z</dcterms:created>
  <dc:creator>Sepehr Kiani</dc:creator>
  <dc:description/>
  <dc:language>en-US</dc:language>
  <cp:lastModifiedBy>Sepehr Kiani</cp:lastModifiedBy>
  <dcterms:modified xsi:type="dcterms:W3CDTF">2012-03-07T03:43:46Z</dcterms:modified>
  <cp:revision>4</cp:revision>
  <dc:subject/>
  <dc:title>Slide 1</dc:title>
</cp:coreProperties>
</file>