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1B3-63C4-4F1B-B438-C7E7EAD6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296-A63D-4077-A53F-04B4C12D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855-D29B-49D0-80C8-A3FF81DD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5ED-9079-42E4-98B4-D2232EC9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C33-3402-442F-871E-6F63209B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666-3340-4540-B211-D8AF4C42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8EC-D9CD-4C48-B56C-2F28B3B4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92D-1779-4345-B7FE-4256731B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D70-0926-4487-B643-E829E698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772-881A-4CEA-AADF-1B13598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45C-C2A4-4075-9137-D99B9C30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58A-C84F-40A4-B131-CB8B9A0A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CF7E-9EB6-4B95-B2A1-E03A9790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150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dfasdfas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3:06:35Z</dcterms:created>
  <dc:creator>Ученик</dc:creator>
  <dc:description/>
  <dc:language>en-US</dc:language>
  <cp:lastModifiedBy>Ученик</cp:lastModifiedBy>
  <dcterms:modified xsi:type="dcterms:W3CDTF">2012-03-28T13:06:45Z</dcterms:modified>
  <cp:revision>1</cp:revision>
  <dc:subject/>
  <dc:title>Слайд 1</dc:title>
</cp:coreProperties>
</file>