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253-25D0-4113-A46C-51E3D4C7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011-A0E0-4A5E-B142-536D7135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6DE-0FDD-40E9-8DF9-248D865C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8AC-BC5C-4287-95C8-1553FD91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4274-8F0F-4D41-BF42-BCC5FB32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6AD2-B4F8-4134-860A-B83E59F7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A653-B555-47B8-B785-726B75D9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AFBE-C154-413E-AD45-B632515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A667-B1FD-432F-80C9-1B3DE719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F4E5-7E6F-4B9E-A4AD-EEE3F948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6C51-3632-4D2A-B6A1-3500D4D9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98B-2145-4BBC-808D-F798E5B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D40-AC3B-4398-B51D-B5B9EEF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6736-D1A0-4A03-BA02-82A14E9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60BC-50B4-4708-8A99-D3AE9DA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CA98-F6EC-43E1-800D-40C20842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56F9-89B2-418D-B792-0F4DEFB9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1EE-AD99-493D-A360-1B1C058C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7AA-5FA8-4FF1-AC14-7F24BF35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755-9F9E-4F95-91BC-EE97F629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098-4CBC-4BF2-8B43-E8D166FF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42B-C506-4B86-AD63-1B9B323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D3D-3ABB-490E-892D-68C9F3E3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593-446B-4D0D-AC57-6E87D77B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495C-254F-49CE-B616-9CD50DB51AA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C812-F721-4F75-AA05-31F30B39CA6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etworking &amp; Speaking Engagem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Be Interested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Be Interesting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Know Your Goal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Know Your Method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Know Your Messag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Be Interested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Keep It Light-hearted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Use Happy Prob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Be Naturally Curiou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Be Interesting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Play Your Personality Strength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Select Content with car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Use Anecdotes/Stories/Analogi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Be Easy To Enjoy!!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Know Your Goal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Influence Outcom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Influence People’s Attitud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Influence People’s Behavio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Know Your Method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Getting Speaking Engagement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Prepared Bio &amp; Overview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How to Powerfully Introduce Yourself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Getting Attendees to Meet With You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Know Your Message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FUDR Principl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Fee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Understand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Do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Rememb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Know Your Message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Content of Talk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Framing Statemen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Capability Statemen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Let The Questions Begin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D.S. Brown</cp:lastModifiedBy>
  <dcterms:modified xsi:type="dcterms:W3CDTF">2001-07-26T02:15:00Z</dcterms:modified>
  <cp:revision>6</cp:revision>
  <dc:subject/>
  <dc:title>Networking &amp; Speaking Engagements</dc:title>
</cp:coreProperties>
</file>