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C1B-9B08-49F0-97F1-A0F1776D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48D-966E-449B-B04C-910196D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C12-6A45-4519-9C80-F5DD995D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655-B501-4B72-BD03-4AC44105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99F-2F46-4410-B0AE-A8B5C06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2AF-D39F-43F2-B20B-D7EFD78F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E72-A08A-4A11-BFB7-129029B5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926-BCC4-4078-B162-A585418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039-04C6-4766-A50E-C42630D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F12-811A-4FD6-A430-6A8AC20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F55-D2FD-4444-95FD-4361F4D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267-D011-4EB9-AABA-465F1EE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788D4-8D1D-45B5-8438-BC6EB345EA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icture {Enhanced Metafi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4880" y="1774800"/>
            <a:ext cx="305424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sio Drawing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4880" y="2208240"/>
          <a:ext cx="305424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2208240"/>
                    <a:ext cx="305424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84480" y="1789200"/>
            <a:ext cx="2976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ff Zawolkow</dc:creator>
  <dc:description/>
  <dc:language>en-US</dc:language>
  <cp:lastModifiedBy>Geoff Zawolkow</cp:lastModifiedBy>
  <cp:revision>0</cp:revision>
  <dc:subject/>
  <dc:title>Slide 1</dc:title>
</cp:coreProperties>
</file>