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E1D-89F4-4BFB-8AC8-057B42A8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BC3-DE58-406D-9613-8F2D27D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3A3-0399-4621-A683-7D6372F2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F9A-30F6-4DF2-B124-A32050FE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05F-8583-40FF-ADEC-0C2483CD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480-2680-427A-AA25-D675917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1D0-D86A-42DF-98E4-A60686D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403-8D6A-4868-93D2-5760ECB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1D8-F642-45F1-A449-7604BC74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89F-7B4A-407E-B7A2-DF8DD176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FE8-EC0C-4775-A3D9-DBF4ACD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172-9AE7-4040-BE21-3ED23252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F4BC-1B87-4E24-ABA0-34217FFC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87280" y="1600200"/>
          <a:ext cx="7499160" cy="4525560"/>
        </p:xfrm>
        <a:graphic>
          <a:graphicData uri="http://schemas.openxmlformats.org/drawingml/2006/table">
            <a:tbl>
              <a:tblPr/>
              <a:tblGrid>
                <a:gridCol w="1874880"/>
                <a:gridCol w="1874520"/>
                <a:gridCol w="1874880"/>
                <a:gridCol w="187488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>lthan</dc:creator>
  <dc:description/>
  <dc:language>en-US</dc:language>
  <cp:lastModifiedBy>lthan</cp:lastModifiedBy>
  <dcterms:modified xsi:type="dcterms:W3CDTF">2009-08-21T07:26:47Z</dcterms:modified>
  <cp:revision>3</cp:revision>
  <dc:subject/>
  <dc:title>URL Valid </dc:title>
</cp:coreProperties>
</file>