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D4D5-A800-4307-ACA7-FA484F752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BFF5-0415-4B04-8A6C-2569E04BE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1462-87AC-4033-80E6-4AFBBB75B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40B2-EEDA-4BDC-8B95-13784E72D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D309-A29C-4369-8B6E-C94B5BB3F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8BFC-DC9C-4A89-8BB1-08A03A26B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C0C0-B5B8-428C-AB5D-B8B16304C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78C7-DD3B-4C8A-BFB7-CD91A65D4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04EB-BF85-4F51-AAFC-75860DD43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5127-A4FD-4A85-B6F3-7745113CB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F242-B472-4096-BF7E-96C41E560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6000-872B-400E-8F25-84D01431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801BA-3F10-4499-8478-A59D02F36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5834160" y="2427120"/>
            <a:ext cx="533160" cy="812880"/>
          </a:xfrm>
          <a:prstGeom prst="pie">
            <a:avLst/>
          </a:prstGeom>
          <a:gradFill rotWithShape="0">
            <a:gsLst>
              <a:gs pos="0">
                <a:srgbClr val="c247ff"/>
              </a:gs>
              <a:gs pos="100000">
                <a:srgbClr val="9a38c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Freeform 5"/>
          <p:cNvSpPr/>
          <p:nvPr/>
        </p:nvSpPr>
        <p:spPr>
          <a:xfrm>
            <a:off x="4987800" y="2427120"/>
            <a:ext cx="936720" cy="122400"/>
          </a:xfrm>
          <a:prstGeom prst="pie">
            <a:avLst/>
          </a:prstGeom>
          <a:gradFill rotWithShape="0">
            <a:gsLst>
              <a:gs pos="0">
                <a:srgbClr val="632482"/>
              </a:gs>
              <a:gs pos="100000">
                <a:srgbClr val="c247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reeform 6"/>
          <p:cNvSpPr/>
          <p:nvPr/>
        </p:nvSpPr>
        <p:spPr>
          <a:xfrm>
            <a:off x="4619520" y="2548080"/>
            <a:ext cx="1581120" cy="691920"/>
          </a:xfrm>
          <a:prstGeom prst="pie">
            <a:avLst/>
          </a:prstGeom>
          <a:gradFill rotWithShape="0">
            <a:gsLst>
              <a:gs pos="0">
                <a:srgbClr val="c247ff"/>
              </a:gs>
              <a:gs pos="100000">
                <a:srgbClr val="e0a3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4"/>
          <p:cNvSpPr/>
          <p:nvPr/>
        </p:nvSpPr>
        <p:spPr>
          <a:xfrm>
            <a:off x="1866960" y="2322360"/>
            <a:ext cx="2706480" cy="1182960"/>
          </a:xfrm>
          <a:prstGeom prst="pie">
            <a:avLst/>
          </a:prstGeom>
          <a:noFill/>
          <a:ln cap="rnd" w="7632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reeform 5"/>
          <p:cNvSpPr/>
          <p:nvPr/>
        </p:nvSpPr>
        <p:spPr>
          <a:xfrm>
            <a:off x="1866960" y="3541680"/>
            <a:ext cx="2706480" cy="1182600"/>
          </a:xfrm>
          <a:prstGeom prst="pie">
            <a:avLst/>
          </a:prstGeom>
          <a:noFill/>
          <a:ln cap="rnd" w="7632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reeform 6"/>
          <p:cNvSpPr/>
          <p:nvPr/>
        </p:nvSpPr>
        <p:spPr>
          <a:xfrm>
            <a:off x="3124080" y="3192480"/>
            <a:ext cx="1449360" cy="420840"/>
          </a:xfrm>
          <a:prstGeom prst="pie">
            <a:avLst/>
          </a:prstGeom>
          <a:noFill/>
          <a:ln cap="rnd" w="7632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7"/>
          <p:cNvSpPr/>
          <p:nvPr/>
        </p:nvSpPr>
        <p:spPr>
          <a:xfrm>
            <a:off x="3124080" y="3657600"/>
            <a:ext cx="1449360" cy="420840"/>
          </a:xfrm>
          <a:prstGeom prst="pie">
            <a:avLst/>
          </a:prstGeom>
          <a:noFill/>
          <a:ln cap="rnd" w="7632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reeform 4"/>
          <p:cNvSpPr/>
          <p:nvPr/>
        </p:nvSpPr>
        <p:spPr>
          <a:xfrm>
            <a:off x="1676520" y="4226040"/>
            <a:ext cx="2984400" cy="164124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5"/>
          <p:cNvSpPr/>
          <p:nvPr/>
        </p:nvSpPr>
        <p:spPr>
          <a:xfrm>
            <a:off x="2057400" y="1523880"/>
            <a:ext cx="2603520" cy="200340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06:51:46Z</dcterms:created>
  <dc:creator>Automation</dc:creator>
  <dc:description/>
  <dc:language>en-US</dc:language>
  <cp:lastModifiedBy>Harles Paesüld</cp:lastModifiedBy>
  <dcterms:modified xsi:type="dcterms:W3CDTF">2012-06-09T21:28:01Z</dcterms:modified>
  <cp:revision>4</cp:revision>
  <dc:subject/>
  <dc:title>Slide 1</dc:title>
</cp:coreProperties>
</file>