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CE75-E731-4C50-86CE-4264412BC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7120" y="1261800"/>
            <a:ext cx="905976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7120" y="3789360"/>
            <a:ext cx="905976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3292-7CFF-4DCA-BAAA-1AAF7CEE7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7120" y="126180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9320" y="126180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7120" y="378936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9320" y="378936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91FE-87AC-476A-9AB6-9F62B0023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7120" y="1261800"/>
            <a:ext cx="291708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0360" y="1261800"/>
            <a:ext cx="291708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3600" y="1261800"/>
            <a:ext cx="291708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7120" y="3789360"/>
            <a:ext cx="291708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0360" y="3789360"/>
            <a:ext cx="291708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3600" y="3789360"/>
            <a:ext cx="291708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9C18-FA69-4415-9FBE-1540F66F54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7120" y="1261800"/>
            <a:ext cx="90597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6CC1-1ACD-427D-AED7-0B17F834DE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7120" y="1261800"/>
            <a:ext cx="9059760" cy="4838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CE35-594B-44DD-9DB2-FC074D7D7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7120" y="1261800"/>
            <a:ext cx="4420800" cy="4838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9320" y="1261800"/>
            <a:ext cx="4420800" cy="4838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B2CD-9C01-46A1-AD60-95675CADD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9503-1A5D-47BF-9C6F-A4692ACF3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195120" y="176040"/>
            <a:ext cx="990576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9FC3-5D54-4642-97B9-30C756E3C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7120" y="126180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9320" y="1261800"/>
            <a:ext cx="4420800" cy="4838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7120" y="378936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6AC7-388C-49B3-9BBC-1F82AE210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7120" y="1261800"/>
            <a:ext cx="4420800" cy="4838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9320" y="126180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9320" y="378936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6A6C-336E-4CCB-9149-12B8D1E34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7120" y="126180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9320" y="126180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7120" y="3789360"/>
            <a:ext cx="905976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63C1-F573-494B-A431-52F4DD6AC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7120" y="1261800"/>
            <a:ext cx="9059760" cy="4838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w Cen MT Condensed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lvl="1" marL="495360" indent="-152280">
              <a:lnSpc>
                <a:spcPct val="85000"/>
              </a:lnSpc>
              <a:spcBef>
                <a:spcPts val="1500"/>
              </a:spcBef>
              <a:buClr>
                <a:srgbClr val="3467f8"/>
              </a:buClr>
              <a:buSzPct val="120000"/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w Cen MT Condensed"/>
              </a:rPr>
              <a:t>Second Outline Level</a:t>
            </a: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lvl="2" marL="898560" indent="-17640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SzPct val="13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w Cen MT Condensed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lvl="3" marL="1217520" indent="-139680">
              <a:lnSpc>
                <a:spcPct val="85000"/>
              </a:lnSpc>
              <a:spcBef>
                <a:spcPts val="1500"/>
              </a:spcBef>
              <a:buClr>
                <a:srgbClr val="3467f8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w Cen MT Condensed"/>
              </a:rPr>
              <a:t>Fourth Outline Level</a:t>
            </a: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lvl="4" marL="1962000" indent="-228600">
              <a:lnSpc>
                <a:spcPct val="85000"/>
              </a:lnSpc>
              <a:spcBef>
                <a:spcPts val="1500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w Cen MT Condensed"/>
              </a:rPr>
              <a:t>Fifth Outline Level</a:t>
            </a: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lvl="5" marL="1962000" indent="-228600">
              <a:lnSpc>
                <a:spcPct val="85000"/>
              </a:lnSpc>
              <a:spcBef>
                <a:spcPts val="1500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w Cen MT Condensed"/>
              </a:rPr>
              <a:t>Sixth Outline Level</a:t>
            </a: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lvl="6" marL="1962000" indent="-228600">
              <a:lnSpc>
                <a:spcPct val="85000"/>
              </a:lnSpc>
              <a:spcBef>
                <a:spcPts val="1500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w Cen MT Condensed"/>
              </a:rPr>
              <a:t>Seventh Outline Level</a:t>
            </a: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9624600" y="6719400"/>
            <a:ext cx="281160" cy="10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8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A056-B266-4B55-9DC1-6566B4DBD50A}" type="slidenum">
              <a:rPr b="1" lang="fr-FR" sz="8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w Cen MT Condensed"/>
              </a:rPr>
              <a:t>Click to edit the title text format</a:t>
            </a: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" name="Line 137"/>
          <p:cNvSpPr/>
          <p:nvPr/>
        </p:nvSpPr>
        <p:spPr>
          <a:xfrm>
            <a:off x="357120" y="811080"/>
            <a:ext cx="9549000" cy="0"/>
          </a:xfrm>
          <a:prstGeom prst="line">
            <a:avLst/>
          </a:prstGeom>
          <a:ln w="3240">
            <a:solidFill>
              <a:srgbClr val="346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42"/>
          <p:cNvSpPr/>
          <p:nvPr/>
        </p:nvSpPr>
        <p:spPr>
          <a:xfrm>
            <a:off x="7147800" y="6722280"/>
            <a:ext cx="26208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w Cen MT"/>
              </a:rPr>
              <a:t>xxxxxxxxxxxxxxxxxxxxxxxxxxxxxxxxxxxxxx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92929"/>
                </a:solidFill>
                <a:latin typeface="Tw Cen MT Condensed"/>
              </a:rPr>
              <a:t>xxxxxxxxxxxxxxxxxxxxxxxx</a:t>
            </a: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3680" y="1242720"/>
            <a:ext cx="9059760" cy="4838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9557640" y="6719760"/>
            <a:ext cx="5666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503F-689E-480E-B5BB-BFA72C199050}" type="slidenum">
              <a:rPr b="1" lang="fr-FR" sz="800" spc="-1" strike="noStrike">
                <a:solidFill>
                  <a:srgbClr val="292929"/>
                </a:solidFill>
                <a:latin typeface="Arial"/>
              </a:rPr>
              <a:t>1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1052640" y="3317760"/>
            <a:ext cx="2328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292929"/>
                </a:solidFill>
                <a:latin typeface="Arial"/>
              </a:rPr>
              <a:t>ttttt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667480" y="3309840"/>
            <a:ext cx="2838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292929"/>
                </a:solidFill>
                <a:latin typeface="Arial"/>
              </a:rPr>
              <a:t>uuuuuu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13"/>
          <p:cNvSpPr/>
          <p:nvPr/>
        </p:nvSpPr>
        <p:spPr>
          <a:xfrm>
            <a:off x="1073160" y="6029280"/>
            <a:ext cx="2328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292929"/>
                </a:solidFill>
                <a:latin typeface="Arial"/>
              </a:rPr>
              <a:t>öööööö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14"/>
          <p:cNvSpPr/>
          <p:nvPr/>
        </p:nvSpPr>
        <p:spPr>
          <a:xfrm>
            <a:off x="5627520" y="6024600"/>
            <a:ext cx="2840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292929"/>
                </a:solidFill>
                <a:latin typeface="Arial"/>
              </a:rPr>
              <a:t>uuiii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3:00:00Z</dcterms:created>
  <dc:creator/>
  <dc:description/>
  <dc:language>en-US</dc:language>
  <cp:lastModifiedBy/>
  <cp:lastPrinted>1900-12-31T23:00:00Z</cp:lastPrinted>
  <dcterms:modified xsi:type="dcterms:W3CDTF">2010-11-02T12:44:49Z</dcterms:modified>
  <cp:revision>4</cp:revision>
  <dc:subject/>
  <dc:title>xxxxxxxxxxxxxxxxxxxxxxxx</dc:title>
</cp:coreProperties>
</file>