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745020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28320" y="3926520"/>
            <a:ext cx="745020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6120" y="119844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28320" y="392652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46120" y="392652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239868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47240" y="1198440"/>
            <a:ext cx="239868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6160" y="1198440"/>
            <a:ext cx="239868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28320" y="3926520"/>
            <a:ext cx="239868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47240" y="3926520"/>
            <a:ext cx="239868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6160" y="3926520"/>
            <a:ext cx="239868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28320" y="1198440"/>
            <a:ext cx="7450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7450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36356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46120" y="1198440"/>
            <a:ext cx="36356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44160" y="614520"/>
            <a:ext cx="740412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6120" y="1198440"/>
            <a:ext cx="36356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28320" y="392652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36356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6120" y="119844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6120" y="392652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8320" y="119844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6120" y="1198440"/>
            <a:ext cx="363564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28320" y="3926520"/>
            <a:ext cx="7450200" cy="24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184320"/>
            <a:ext cx="114012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1d58"/>
                </a:solidFill>
                <a:latin typeface="Times New Roman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27240" y="1111320"/>
            <a:ext cx="744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44160" y="614520"/>
            <a:ext cx="7404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28320" y="1198440"/>
            <a:ext cx="7450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44520" y="614160"/>
            <a:ext cx="74059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28320" y="1198080"/>
            <a:ext cx="745164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berhard Friedrich</dc:creator>
  <dc:description/>
  <dc:language>en-US</dc:language>
  <cp:lastModifiedBy>Eberhard Friedrich</cp:lastModifiedBy>
  <cp:revision>0</cp:revision>
  <dc:subject/>
  <dc:title/>
</cp:coreProperties>
</file>