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B637-004E-4A95-B6F1-231D7522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C8D-211C-4864-AE70-9C28FEF8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961-36C0-4739-8E88-C8F3A3CA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7C8-6634-4253-9F4F-A0D6919D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EB18-2029-4997-B8E8-544A1A26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A0C7-AE48-440A-8416-DFDBBCEC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A0D6-7ABE-44FD-9DE4-1AC38CA8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7759-C2CB-433A-8265-7E2E355C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92D4-2E63-40FE-A1E1-E5A4FD4A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C028-B48B-45F2-BF06-EC087414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9A88-1462-4932-B965-F53F0191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347-B33E-42D2-8555-064C6706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CF7A-4C24-407B-B549-D7D2879A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A8D6-31B9-4A29-8742-953C3DC5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05F6-63A1-4A45-9E3D-CC2AEE89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5AC2-F32F-4DC6-8217-F8ADC74B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23A0-8089-4C69-86E6-535C4ED2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130-FA62-4DF2-BBC2-A333958E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744-5758-44E1-8162-A3F5C09D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CF4-53C3-4B46-9CCE-A08F746B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249-1C53-4BB6-9DEB-57832242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91F-C595-4812-865D-6463F3DA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FE3-A259-4661-9E9D-98ABE68D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746-150F-4DF5-BDFE-BD6F45E1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AF43-A1D2-4833-B646-3BB06A2A2A29}" type="slidenum">
              <a:rPr b="0" lang="es-E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C88B-1671-4777-936F-381891D27561}" type="slidenum">
              <a:rPr b="0" lang="es-E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Dedica 2 minutos a esta lectura.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s muy bonita!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763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Lo guardaba para una ocasión especial. Bien. Creo que ésta es la ocasión adecuada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522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e acercó a la cama y apoyó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l conjunto al lado de la ropa que llevaría a la funeraria: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u mujer acababa de morir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522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e giró hacia mí y me dijo: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“nunca guardes nada para una ocasión especial,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808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ada día que vives es una ocasión especial”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7632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odavía pienso cómo me han cambiado la vida estas palabra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5228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hora leo más y limpio menos, me siento en la terraza.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049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... y admiro el panorama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in prestar atención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 los hierbajos del jardín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aso más tiempo con mi familia y mis amigos, y menos trabajand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2286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He entendido que la vida es un conjunto de experiencias para gozar, no para sobrevivir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No guardo nada.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Uso los mejores vasos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odos los día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ntes de empezar a leer recuerda que no es una tontería....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522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e pongo el traje nuevo para ir al supermercado si me apetece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763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Ya no guardo mi mejor colonia para fiestas especiales, la uso todas las veces que me apetece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522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Las frases “Un día..” y “uno de estos días...” han desaparecido de mi vocabulari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522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i merece la pena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hacerlo ahora.....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¿por qué esperar?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7632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No sé lo que habría hecho la mujer de mi amigo,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i hubiese sabido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que no estaría aquí mañana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reo que habría llamado a sus familiares y sus amigos más íntimos;</a:t>
            </a: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522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 lo mejor habría llamado a viejos amigos para disculparse por viejas peleas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e gusta pensar que habría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ido a un restaurante chino...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u preferid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286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on estas pequeñas cosas no hechas las que me molestarían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si supiera que tengo las horas contada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2286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an sólo las personas que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ienen un alma noble pueden realmente apreciarla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olesto porque dejaría de ver a los amigos que vería “uno de estos días”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522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olesto por no escribir esas cartas que quería escribir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“algún día”.....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olesto y triste porque no dije a mis hermanos y a mis hijos cuánto les quiero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2286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hora intento no guardar nada que añadiría risa y alegría a nuestras vidas...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522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ada día me digo a mi mismo que éste es un día especial.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ada día, cada hora, cada minuto es especial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i has recibido este mensaje es porque alguien te quiere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i estás demasiado ocupado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ara perder un par de minutos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y enviarlo a otras personas, y piensas “uno de estos días...”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15228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cuerda que ese día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puede estar muy lejos,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o puede que no llegue nunca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1522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ste TANTRA llegó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desde la India....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763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... Ahora, si estás realmente seguro de ti mismo...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mpieza a leer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2286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ontiene mensajes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muy útiles para el alma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s un TOTEM TANTRA NEPALES PARA LA BUENA SUERTE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0492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Ya ha dado la vuelta al mundo diez vece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INSTRUCCIONES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ARA LA VIDA: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2286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ome mucho arroz y dale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 la gente lo que espera de ti,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y hazlo a gust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prende de memoria tu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poesía favorita y no creas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odo lo que oye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763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No gastes todo lo que posees y duerme menos de lo que te gustaría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uando digas "te amo",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dilo de verdad 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uando digas “lo siento",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ira a la otra persona a los ojos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5228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guanta un noviazgo por lo menos 6 meses antes de casarte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uento indio: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ree en el amor a primera vista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y no te rías nunca de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los sueños de los demás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ma profunda y apasionadamente..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7632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uedes salir herido, pero es la única forma de vivir la vida completamente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Habla despacio y piensa rápid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cuerda que el amor más grande, como todos los grandes éxitos, conlleva los riesgos mayore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uando pierdas, aprende;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y recuerda las tres “R”: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speto hacia ti mismo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speto hacia los demás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sponsabilidad por tus acto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2286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No permitas que un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pequeño problema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stropee una gran amistad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uando te des cuenta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de haber cometido un error, corrígelo de inmediat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onríe cuando contestas al teléfono, quien te llame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lo notará en la voz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2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i amigo abrió el cajón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de la mesita de noche de su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ujer y sacó un paquetito envuelto en un papel blanc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522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ásate con una persona con la que te guste conversar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.... cuando llegue la vejez esta habilidad será más importante que cualquier otra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763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asa algún tiempo solo, abre los brazos a los cambios pero no pierdas nunca tus valores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2286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cuerda que a veces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el silencio es la mejor respuesta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049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Lee más libros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y mira menos la tele. 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Vive un vida buena y honrada: cuando seas viejo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y recuerdes el pasado,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3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odrás gozar de ello una segunda vez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onfía en Dios, pero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ierra bien tu casa al salir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Un ambiente de amor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n casa es importante: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haz todo lo que puedas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ara crear un ambiente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ranquilo y armonioso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2286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Éste, dijo, no es un simple paquete, es ropa interior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522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Lee entre líneas y comparte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tus conocimientos.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s una forma de ser inmortal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e bueno con el planeta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522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No interrumpas a alguien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que te demuestra cariñ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reocúpate de tus asunto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522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No confíes en los que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no cierran los ojos al besarte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3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Una vez al año visita un lugar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en el que nunca has estad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i ganas mucho dinero,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yuda a los que lo necesitan mientras viva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522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sta es la mayor riqueza que el dinero te podrá ofrecer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522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cuerda que no obtener lo que quieres a veces es una suerte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763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prende todas las reglas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y luego infringe alguna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iró el papel y observó la preciosa seda del conjunt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cuerda que la mejor relación es aquella donde el amor entre dos personas es más grande que la necesidad  del uno por el otr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7632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Juzga tu éxito en relación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a lo que tienes que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nunciar para ell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522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No guardes este mensaje; el TOTEM TANTRA  tiene que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estar lejos de tus manos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n 96 horas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nvía copias y observa lo que ocurre en los siguientes 4 días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…</a:t>
            </a: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endrás una agradable sorpresa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763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s la verdad aunque no seas supersticios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nvía este mensaje por lo menos a 5 personas y tu vida mejorará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0-4 personas: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u vida mejorará ligeramente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3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5-9 personas: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u vida mejorará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egún tus expectativas!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763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9-14 personas: tendrás por lo menos 5 sorpresas en las próximas tres semana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“</a:t>
            </a: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Lo compró la primera vez que fuimos a New York, hace 8 ó 9 años... Nunca lo usó.”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763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15 o más personas: tu vida mejorará radicalmente......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049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..... y todo lo que siempre has soñado se cumplirá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16:53:44Z</dcterms:created>
  <dc:creator>..........da Magica</dc:creator>
  <dc:description/>
  <dc:language>en-US</dc:language>
  <cp:lastModifiedBy>45490148</cp:lastModifiedBy>
  <dcterms:modified xsi:type="dcterms:W3CDTF">2004-09-06T11:55:45Z</dcterms:modified>
  <cp:revision>25</cp:revision>
  <dc:subject>Tantra e Chakra </dc:subject>
  <dc:title> Dedica due minuti a questa lettura, è molto bella.</dc:title>
</cp:coreProperties>
</file>