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6AF-A8C9-403C-BCCC-445A54CC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9A9-70BF-4F74-911E-01254CEA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2C1-7D95-45CC-B80A-CA54237E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F9E-C360-41D2-877B-5DD63FFF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A78-A5EE-45DD-A668-02B34DA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85A-F7C5-4F88-A5E0-810638FF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52A-6D09-44B4-9018-2F0205D3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AB1-92E2-4C55-AD26-6E8FCA8A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E86-88E9-40B7-8B37-1555B56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9AB-D180-4396-9805-68065E2D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3B8-1461-4748-94D0-3459B46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9FC-C048-4D07-AC88-195A9F2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b"/>
            </a:gs>
            <a:gs pos="50000">
              <a:srgbClr val="ffffcc"/>
            </a:gs>
            <a:gs pos="100000">
              <a:srgbClr val="c1c19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3695-87AD-4023-8C19-1AB367D020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b"/>
            </a:gs>
            <a:gs pos="50000">
              <a:srgbClr val="ffffcc"/>
            </a:gs>
            <a:gs pos="100000">
              <a:srgbClr val="c1c19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gents Diploma Rates by Year of Entry Coh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8640" y="1592280"/>
          <a:ext cx="8075880" cy="42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592280"/>
                    <a:ext cx="80758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7150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7T22:27:14Z</dcterms:created>
  <dc:creator>Carol BurrisHP Authorized Customer</dc:creator>
  <dc:description/>
  <dc:language>en-US</dc:language>
  <cp:lastModifiedBy>zongdj</cp:lastModifiedBy>
  <dcterms:modified xsi:type="dcterms:W3CDTF">2012-06-05T01:18:22Z</dcterms:modified>
  <cp:revision>101</cp:revision>
  <dc:subject/>
  <dc:title>Regents results:</dc:title>
</cp:coreProperties>
</file>