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04C-AB96-4B84-8706-8B3F568F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E78-607F-4EA5-A25D-E0621028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C1D-DD1C-4D63-9D13-7E639A0A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E4C-ECF1-44EC-8A61-A26326E5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271-A304-4B5F-AF27-86276113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8F2-8719-4898-9789-6C5E6636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8EE-48A0-4D2B-B9D9-8F4522A8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8A7-33C4-4FFB-9BCB-7B6EC9CA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D70-B23F-4C89-8BBB-719CA021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35B-6637-41D0-803A-DEC1C8E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6D2-B2E3-4366-9944-BEED0D8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AAB-8F51-4C5D-B08E-D264A77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B24B-73D0-4674-8DEE-911F600409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2883600" y="-712440"/>
            <a:ext cx="7567920" cy="6986880"/>
            <a:chOff x="2883600" y="-712440"/>
            <a:chExt cx="7567920" cy="6986880"/>
          </a:xfrm>
        </p:grpSpPr>
        <p:sp>
          <p:nvSpPr>
            <p:cNvPr id="42" name="Rounded Rectangle 3"/>
            <p:cNvSpPr/>
            <p:nvPr/>
          </p:nvSpPr>
          <p:spPr>
            <a:xfrm rot="3103800">
              <a:off x="4952880" y="-685800"/>
              <a:ext cx="3429000" cy="6934320"/>
            </a:xfrm>
            <a:custGeom>
              <a:avLst/>
              <a:gdLst>
                <a:gd name="textAreaLeft" fmla="*/ 167400 w 3429000"/>
                <a:gd name="textAreaRight" fmla="*/ 3261600 w 3429000"/>
                <a:gd name="textAreaTop" fmla="*/ 167400 h 6934320"/>
                <a:gd name="textAreaBottom" fmla="*/ 6766920 h 6934320"/>
              </a:gdLst>
              <a:ahLst/>
              <a:rect l="textAreaLeft" t="textAreaTop" r="textAreaRight" b="textAreaBottom"/>
              <a:pathLst>
                <a:path w="21600" h="43678">
                  <a:moveTo>
                    <a:pt x="3600" y="0"/>
                  </a:moveTo>
                  <a:arcTo wR="3600" hR="3600" stAng="16200000" swAng="-5400000"/>
                  <a:lnTo>
                    <a:pt x="0" y="40078"/>
                  </a:lnTo>
                  <a:arcTo wR="3600" hR="3600" stAng="10800000" swAng="-5400000"/>
                  <a:lnTo>
                    <a:pt x="18000" y="436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ight Arrow 4"/>
            <p:cNvSpPr/>
            <p:nvPr/>
          </p:nvSpPr>
          <p:spPr>
            <a:xfrm rot="5428800">
              <a:off x="5583960" y="1496520"/>
              <a:ext cx="2438640" cy="2568240"/>
            </a:xfrm>
            <a:prstGeom prst="rightArrow">
              <a:avLst>
                <a:gd name="adj1" fmla="val 50000"/>
                <a:gd name="adj2" fmla="val 156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1:00:09Z</dcterms:created>
  <dc:creator>Fridrich Strba</dc:creator>
  <dc:description/>
  <dc:language>en-US</dc:language>
  <cp:lastModifiedBy>Fridrich Strba</cp:lastModifiedBy>
  <dcterms:modified xsi:type="dcterms:W3CDTF">2009-05-19T17:00:01Z</dcterms:modified>
  <cp:revision>3</cp:revision>
  <dc:subject/>
  <dc:title>Slide 1</dc:title>
</cp:coreProperties>
</file>