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5BA-C583-458D-924D-36A95194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39E-F6D3-447E-A59D-1626CA96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014-C12E-45C4-8B0C-32A98FD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2E1-C255-441F-9561-B4BFC78E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2A4-58AB-4F38-B1B0-73B4870A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C46-B73F-435F-ADC7-445C92B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2D4-E7FA-41D4-8E0F-79A4163D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C8E-043E-41B0-9D0B-14877CB7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328-1B37-47F4-B184-D329D12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9B6-FAF7-4818-9FB8-1228B43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555-C6FB-445D-B6D0-41DF7A88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960-AE23-4ACD-943B-1CF54F9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4307-3253-4EE3-AD04-ACF86861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43280" y="1652760"/>
          <a:ext cx="5257800" cy="35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652760"/>
                    <a:ext cx="5257800" cy="35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8:38:56Z</dcterms:created>
  <dc:creator>semicond</dc:creator>
  <dc:description/>
  <dc:language>en-US</dc:language>
  <cp:lastModifiedBy>semicond</cp:lastModifiedBy>
  <dcterms:modified xsi:type="dcterms:W3CDTF">2010-12-24T08:39:10Z</dcterms:modified>
  <cp:revision>1</cp:revision>
  <dc:subject/>
  <dc:title>Слайд 1</dc:title>
</cp:coreProperties>
</file>