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632-DACF-4645-BFDB-E28B244E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467-078E-4F9C-B7DC-8E31EF79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466-C0B7-4D35-9CF4-F8E3DBA5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159-56D8-4E08-8E76-53908FB0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249-D767-468E-B574-91D5ABA8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6E3-76D5-4B43-980D-D07AF81D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55A-7E43-4709-B8E4-651E977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64E-068F-4F5B-83B7-3F0806FB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F02-7566-4CF3-944D-CD4B6D53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86E-0920-40CF-B6F2-321AADF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8D5-B874-4E56-B1D3-E2F77CB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7D3-22EC-46C6-9058-C463D6D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86A7-EE40-4C4A-8B92-DEC34C3B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295280" cy="1295280"/>
          </a:xfrm>
          <a:prstGeom prst="plus">
            <a:avLst>
              <a:gd name="adj" fmla="val 25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 rot="534600">
            <a:off x="2056680" y="304200"/>
            <a:ext cx="1752480" cy="1600200"/>
          </a:xfrm>
          <a:prstGeom prst="plus">
            <a:avLst>
              <a:gd name="adj" fmla="val 37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609480"/>
            <a:ext cx="914400" cy="914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1905120" cy="1447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609480"/>
            <a:ext cx="914400" cy="91440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780960" y="533520"/>
            <a:ext cx="1143000" cy="99036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857280" y="1676520"/>
            <a:ext cx="1066680" cy="83808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562720" y="1751760"/>
            <a:ext cx="1143000" cy="83844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818800" y="2362320"/>
            <a:ext cx="990360" cy="1447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895480" y="4038480"/>
            <a:ext cx="990720" cy="14479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295280" y="4190400"/>
            <a:ext cx="609840" cy="1447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929200">
            <a:off x="4343040" y="2895120"/>
            <a:ext cx="1905120" cy="14479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352680"/>
            <a:ext cx="457200" cy="914400"/>
          </a:xfrm>
          <a:custGeom>
            <a:avLst/>
            <a:gdLst>
              <a:gd name="textAreaLeft" fmla="*/ 66960 w 457200"/>
              <a:gd name="textAreaRight" fmla="*/ 328680 w 457200"/>
              <a:gd name="textAreaTop" fmla="*/ 218880 h 914400"/>
              <a:gd name="textAreaBottom" fmla="*/ 695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563" y="2785"/>
                  <a:pt x="15525" y="5080"/>
                  <a:pt x="15525" y="10800"/>
                </a:cubicBezTo>
                <a:cubicBezTo>
                  <a:pt x="15525" y="16520"/>
                  <a:pt x="18563" y="1881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771680" y="3352680"/>
            <a:ext cx="76212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88" y="605"/>
                  <a:pt x="3375" y="5080"/>
                  <a:pt x="3375" y="10800"/>
                </a:cubicBezTo>
                <a:cubicBezTo>
                  <a:pt x="3375" y="16520"/>
                  <a:pt x="12488" y="209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848000" y="4799880"/>
            <a:ext cx="6094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28" y="3239"/>
                  <a:pt x="18056" y="5080"/>
                  <a:pt x="18056" y="10800"/>
                </a:cubicBezTo>
                <a:cubicBezTo>
                  <a:pt x="18056" y="16520"/>
                  <a:pt x="19828" y="183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34320" y="4799880"/>
            <a:ext cx="53316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28" y="3239"/>
                  <a:pt x="18056" y="5080"/>
                  <a:pt x="18056" y="10800"/>
                </a:cubicBezTo>
                <a:cubicBezTo>
                  <a:pt x="18056" y="16520"/>
                  <a:pt x="19828" y="183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769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45:19Z</dcterms:created>
  <dc:creator>user</dc:creator>
  <dc:description/>
  <dc:language>en-US</dc:language>
  <cp:lastModifiedBy>user</cp:lastModifiedBy>
  <dcterms:modified xsi:type="dcterms:W3CDTF">2011-05-04T16:33:56Z</dcterms:modified>
  <cp:revision>2</cp:revision>
  <dc:subject/>
  <dc:title>Slide 1</dc:title>
</cp:coreProperties>
</file>