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E3D-6AE2-49D9-B55F-7FA0C4A5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E75-8579-4E45-A10A-ACFA3F2C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7D7-90A0-4918-9D4C-B7981E71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7FB-B189-442B-8DC7-F519B5E3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2D7D8-8E81-4BDE-B412-44DC7044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1F67B-9F19-4B6E-86D7-A31FCC5C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44089-814D-4222-AA7E-95F874AD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A40E7-A978-4E0C-BD2E-FD3784BE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2E057-4445-4E46-8AB5-4D4CD169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014D4-31F0-4CD4-A16F-13FCF680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F86B5-33AC-4016-9405-792DC8DF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E11-EDB5-46AA-A2BD-43CCF16E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D9C5B-084E-4AAA-9CC3-C6F2A7A2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1E42C-392C-42DD-A7E5-6822C07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21A39-4993-473F-9180-90498D0C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9E9D4-DE2C-40CE-BC52-8F188223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67177-E60E-482D-BE6A-53B83929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A72-65E1-4A9F-86F5-6F1B51FB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324-3786-4A52-9994-6647838F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06D-78A5-4BEC-855F-21E2ECAF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F1A-9E08-4F06-A49F-64B60EA8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B8E-3247-4AC1-AD0F-1188AEEB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8DE-07D1-4F97-852F-B94ED9F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E79-C2CB-45B6-A92A-B3A50C67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1A9F-7C52-40F9-B2A9-F3B9D1AB35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11C9-CED7-40F2-9C1C-5C1A417C13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69880" y="6477120"/>
            <a:ext cx="33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宋体"/>
              </a:rPr>
              <a:t>On Demand - Enabling Growth | WMC | IBM internal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876920" y="1600200"/>
            <a:ext cx="3809880" cy="4114800"/>
          </a:xfrm>
          <a:prstGeom prst="rect">
            <a:avLst/>
          </a:prstGeom>
          <a:gradFill rotWithShape="0">
            <a:gsLst>
              <a:gs pos="0">
                <a:srgbClr val="374ef9"/>
              </a:gs>
              <a:gs pos="100000">
                <a:srgbClr val="19237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202e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6960" y="25909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600"/>
                </a:solidFill>
                <a:latin typeface="Arial"/>
                <a:ea typeface="宋体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7320" y="403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600"/>
                </a:solidFill>
                <a:latin typeface="Arial"/>
                <a:ea typeface="宋体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6680" y="2479680"/>
            <a:ext cx="0" cy="300672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20" y="382680"/>
            <a:ext cx="8245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4495680" cy="4114800"/>
          </a:xfrm>
          <a:custGeom>
            <a:avLst/>
            <a:gdLst>
              <a:gd name="textAreaLeft" fmla="*/ 0 w 4495680"/>
              <a:gd name="textAreaRight" fmla="*/ 4496040 w 44956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74ef9"/>
              </a:gs>
              <a:gs pos="100000">
                <a:srgbClr val="19237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202e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3040" y="2093400"/>
            <a:ext cx="3581280" cy="33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8120" indent="0">
              <a:lnSpc>
                <a:spcPct val="95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8120" indent="0">
              <a:lnSpc>
                <a:spcPct val="95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964120" y="25574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8440" y="25480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3760" y="4014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ED0-C6A8-48ED-BAED-BB6D636FE0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18:23:40Z</dcterms:created>
  <dc:creator>IBM_USER</dc:creator>
  <dc:description/>
  <dc:language>en-US</dc:language>
  <cp:lastModifiedBy>crystal</cp:lastModifiedBy>
  <dcterms:modified xsi:type="dcterms:W3CDTF">2012-05-28T08:36:15Z</dcterms:modified>
  <cp:revision>340</cp:revision>
  <dc:subject/>
  <dc:title>Slide 1</dc:title>
</cp:coreProperties>
</file>